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C9CF-08E7-44B1-BB38-17050F4F2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7A99C-EAE8-401D-B882-CBE1E7859E2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what drastic reaction to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instantaneous queu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9042-0840-4A69-9D6C-11EE4D058B4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 fix since otherwise avgq stays high during idle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2756C-594A-485B-A25C-E6E512143C1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765F4-2DA2-4993-9978-6D6EDB4578F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47C53-A575-441D-B6DA-1624D2340CF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9D2B6-150B-4A86-9D5D-1BFBCDFDD4E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BA2FC-4C5C-4550-B30F-031952AB5DB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BD0C9-64A0-47FF-935F-9899BC8F5E2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29941-03EE-4876-81C9-E0328C431EB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(T*Cwnd/RTT) == # of pkts we expect to see from flow in time T… sum on this flow == 1 across all its pk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for additiv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/N in Bwid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 * RTT/N in cwnd over cwnd/rtt pkts…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 RTT^2 / (CWND * 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rea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little easier… for every packet basically want the same rate decrease – i.e. constant * RTT .. Just split across # pkts i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7D7EC-E46C-479F-8B63-9A7207E7005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5D89D-DF67-4231-BC30-396E539AEE3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2327D-515A-4CD9-8287-ACBE619AE9A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FAAE7-875A-41EA-B7C4-4A703FD97AD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F833-6F8A-4944-B0BC-C548FCC6E17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3129120" y="731880"/>
            <a:ext cx="3344760" cy="25081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464840" y="3482640"/>
            <a:ext cx="667692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20A-8644-486E-B3F1-1BF24CF6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FB1-28AF-4E1C-8A78-01D7E276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513-0EC8-4C5A-A34B-32CD8DC7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680-A3CA-4051-8E11-94978BBA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A148-B53D-49A3-B26A-2216F317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AA4-4B83-4604-AE73-B43DBD9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A9EC-9576-492C-BCAF-1E9CCECA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8433-C4DC-4F4F-8F4D-BF302EE0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B964-20A1-4F68-887D-7745C53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A89-101A-462B-9EAD-BDAAC867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69B5-04BD-4473-B54D-3F0185C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8D1-7C6D-490C-BC76-4E774B20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1E5C-3A94-4404-A2F6-62BA23E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6800-D2E4-480A-A578-77078BDC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525-2C09-4773-ABC1-082F25D9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548-B2D5-43DC-BC2A-6A8C544B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B7A-5A07-428E-9712-2920A419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4EB-5D26-45F5-A1CF-81C319B8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AB9-B71B-4C50-BF11-BF950CB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E5B-ED4A-40DE-8AAE-906CCE1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F03-C09C-4F6D-96FA-CAB26B7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F2B-A005-4A36-969D-9F1CAADC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316-D3D9-4957-BD3A-E553598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EB0-FF84-4BAE-B6E2-522967D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5; 10-1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EC21-8C43-45C0-9DE1-172132E3C4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192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Rectangle 193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Rectangle 194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Rectangle 195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Rectangle 196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" name="Rectangle 197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" name="Rectangle 198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Rectangle 199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Rectangle 200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Rectangle 201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Rectangle 202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Rectangle 203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Rectangle 204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Rectangle 205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Rectangle 206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Rectangle 207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Rectangle 208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Rectangle 210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Rectangle 212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Rectangle 213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Rectangle 214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Rectangle 215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Rectangle 216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Rectangle 217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Rectangle 218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Rectangle 219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Rectangle 220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Rectangle 221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Rectangle 222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Rectangle 223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" name="Group 2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23" name="Group 2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24" name="Rectangle 2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27" name="Rectangle 2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30" name="Rectangle 2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33" name="Rectangle 2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" name="Rectangle 2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36" name="Rectangle 2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39" name="Rectangle 2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45" name="Rectangle 2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84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89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90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2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97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8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00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1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06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09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12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3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15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16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19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22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6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28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331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334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337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8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340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341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344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347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350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1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353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356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59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0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62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3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65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6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7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8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9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0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1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2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73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74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5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7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79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0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84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5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7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9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0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2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3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4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5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6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7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8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9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0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1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2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3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5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6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7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09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10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15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16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17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8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20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1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23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4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6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7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29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32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3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35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6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38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9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441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442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3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445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6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448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9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451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2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454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57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8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60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1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63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4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66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67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8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70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1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73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4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76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79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82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85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88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Group 214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91" name="Rectangle 215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2" name="Rectangle 216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3" name="Rectangle 217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4" name="Rectangle 218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5" name="Rectangle 219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96" name="Group 220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97" name="Group 221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98" name="Rectangle 222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9" name="Rectangle 223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24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01" name="Rectangle 22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2" name="Rectangle 226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227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04" name="Rectangle 228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5" name="Rectangle 229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0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07" name="Rectangle 231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8" name="Rectangle 232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33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10" name="Rectangle 234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1" name="Rectangle 235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36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13" name="Rectangle 237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4" name="Rectangle 238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239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6" name="Rectangle 240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7" name="Rectangle 241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42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19" name="Rectangle 243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0" name="Rectangle 244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45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522" name="Group 246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523" name="Rectangle 247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4" name="Rectangle 248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49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526" name="Rectangle 250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7" name="Rectangle 251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52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529" name="Rectangle 253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0" name="Rectangle 254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55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532" name="Rectangle 256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3" name="Rectangle 257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58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535" name="Rectangle 259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6" name="Rectangle 260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61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538" name="Rectangle 262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9" name="Rectangle 263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64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541" name="Rectangle 265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2" name="Rectangle 266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67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544" name="Rectangle 268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5" name="Rectangle 269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270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547" name="Group 271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548" name="Rectangle 272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9" name="Rectangle 273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74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551" name="Rectangle 275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2" name="Rectangle 276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277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554" name="Rectangle 278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5" name="Rectangle 279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80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557" name="Rectangle 281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8" name="Rectangle 282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560" name="Rectangle 284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1" name="Rectangle 285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86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563" name="Rectangle 287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4" name="Rectangle 288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89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566" name="Rectangle 290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7" name="Rectangle 291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92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569" name="Rectangle 293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Rectangle 294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5; 10-1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AD7-EA51-4396-8F2F-A80CA053C95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2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AA4D-A9F7-479D-97B4-A4F905D931F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7F4-1800-4C32-AD59-0D4E0002C8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 Disciplin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some queu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locates both bandwidth and buff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which packet to serve (transmit)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space: which packet to drop next (whe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so affect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06A3-7036-4437-91C5-F2389F1716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Drop Dimen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3733920" y="17985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ggreg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55520" y="2128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connection stat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7089840" y="2052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3" name="Line 7"/>
          <p:cNvSpPr/>
          <p:nvPr/>
        </p:nvSpPr>
        <p:spPr>
          <a:xfrm>
            <a:off x="1219320" y="3200400"/>
            <a:ext cx="67053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Line 8"/>
          <p:cNvSpPr/>
          <p:nvPr/>
        </p:nvSpPr>
        <p:spPr>
          <a:xfrm flipV="1">
            <a:off x="121932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Line 9"/>
          <p:cNvSpPr/>
          <p:nvPr/>
        </p:nvSpPr>
        <p:spPr>
          <a:xfrm flipV="1">
            <a:off x="792468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809520" y="36273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op posi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840960" y="3881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7622280" y="3805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Line 13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Line 14"/>
          <p:cNvSpPr/>
          <p:nvPr/>
        </p:nvSpPr>
        <p:spPr>
          <a:xfrm flipV="1">
            <a:off x="129528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Line 15"/>
          <p:cNvSpPr/>
          <p:nvPr/>
        </p:nvSpPr>
        <p:spPr>
          <a:xfrm flipV="1">
            <a:off x="800100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5240" y="4643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loc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357720" y="28908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459720" y="5737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7165440" y="5737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Line 20"/>
          <p:cNvSpPr/>
          <p:nvPr/>
        </p:nvSpPr>
        <p:spPr>
          <a:xfrm>
            <a:off x="1828800" y="5943600"/>
            <a:ext cx="53341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11F5-F25F-4A2C-940F-BDE2D0F61C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Internet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+ 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(first-in-first-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single class of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ing packets get dropped when queue is full regardless of flow o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: scheduling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tail: drop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32B-7868-41BE-8754-AF7742C04F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FO + Drop-tail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responsibility of congestion control to edges (e.g.,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eparate between differ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ing: send more packe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 mor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: end hosts react to sam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4B25-7C27-4CBA-BF47-A978F5DD4C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Manag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ctive router queue management to aid congest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istinguish between propagation and persistent queuing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ecide on transient congestion, based on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093C-BD8C-44F7-8FE4-FCCE21B017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Desig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–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(Random Early De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 as soon as congestion is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6BD3-A598-4DD5-BC44-2BF14A6646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6EAA-72D2-4164-9436-8ADF814B2C1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re forced to have have large queues to maintain high ut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tects congestion from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network to have long standing queues in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-ou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 routers treat bursty traffic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gets synchronized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a few flows to monopolize the que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0576-E572-46F4-AA21-7AE33A76E2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sign 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roughput high and dela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size should reflect ability to accept bursts rather than steady-state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283-2ADC-45B9-A2A4-9AF23CA832F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e-stateless Fair queu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KS90] Analysis and Simulation of a Fair Queueing Algorithm, Internetworking: Research and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CP] Congestion Control for High Bandwidth-Delay Produc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SZ98] Core-Stateless Fair Queueing: Achieving Approximately Fair Allocations in High Spe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722C-2899-4278-B5D5-F580B4DE37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ck-out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arriving when queue is full causes some random packet to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ull queue, drop packet at head of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 and drop front solve the lock-out problem but not the full-queu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0413-6536-4834-901F-41CFA20ED2E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ull Queues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before queue becomes full (early dr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notify senders of incipient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arly random drop (E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len &gt; drop level, drop each new packet with fixed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ontrol misbeha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C821-2E89-4EFA-8939-222D9AF345F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ndom Early Detection (RE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incipient congestion, allow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power (throughput/delay)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verage queue siz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hosts respond to 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window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mark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ias against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ction against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84E9-C828-462E-9EC0-D249F68DE4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lt;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queuing, send packet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gt;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rop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misbehav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mark packet in a manner proportional to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sources of incipi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5491-5276-4891-B449-B2927B59D35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Ope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Freeform 4"/>
          <p:cNvSpPr/>
          <p:nvPr/>
        </p:nvSpPr>
        <p:spPr>
          <a:xfrm>
            <a:off x="1828800" y="2087640"/>
            <a:ext cx="5638680" cy="9144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552" h="576">
                <a:moveTo>
                  <a:pt x="0" y="0"/>
                </a:moveTo>
                <a:lnTo>
                  <a:pt x="3552" y="0"/>
                </a:lnTo>
                <a:lnTo>
                  <a:pt x="3552" y="57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Line 5"/>
          <p:cNvSpPr/>
          <p:nvPr/>
        </p:nvSpPr>
        <p:spPr>
          <a:xfrm>
            <a:off x="7238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Line 6"/>
          <p:cNvSpPr/>
          <p:nvPr/>
        </p:nvSpPr>
        <p:spPr>
          <a:xfrm>
            <a:off x="6095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5867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6324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6553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6781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7010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5638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Line 13"/>
          <p:cNvSpPr/>
          <p:nvPr/>
        </p:nvSpPr>
        <p:spPr>
          <a:xfrm>
            <a:off x="4495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Line 14"/>
          <p:cNvSpPr/>
          <p:nvPr/>
        </p:nvSpPr>
        <p:spPr>
          <a:xfrm>
            <a:off x="4267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Line 15"/>
          <p:cNvSpPr/>
          <p:nvPr/>
        </p:nvSpPr>
        <p:spPr>
          <a:xfrm>
            <a:off x="4724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952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5181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5410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60958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1240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Line 21"/>
          <p:cNvSpPr/>
          <p:nvPr/>
        </p:nvSpPr>
        <p:spPr>
          <a:xfrm flipV="1">
            <a:off x="4267080" y="300204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Text Box 22"/>
          <p:cNvSpPr/>
          <p:nvPr/>
        </p:nvSpPr>
        <p:spPr>
          <a:xfrm>
            <a:off x="6095520" y="13716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Text Box 23"/>
          <p:cNvSpPr/>
          <p:nvPr/>
        </p:nvSpPr>
        <p:spPr>
          <a:xfrm>
            <a:off x="152280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Text Box 24"/>
          <p:cNvSpPr/>
          <p:nvPr/>
        </p:nvSpPr>
        <p:spPr>
          <a:xfrm>
            <a:off x="3505320" y="34131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Line 25"/>
          <p:cNvSpPr/>
          <p:nvPr/>
        </p:nvSpPr>
        <p:spPr>
          <a:xfrm>
            <a:off x="3124080" y="5845320"/>
            <a:ext cx="3962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Line 26"/>
          <p:cNvSpPr/>
          <p:nvPr/>
        </p:nvSpPr>
        <p:spPr>
          <a:xfrm flipV="1">
            <a:off x="3124080" y="394020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Text Box 27"/>
          <p:cNvSpPr/>
          <p:nvPr/>
        </p:nvSpPr>
        <p:spPr>
          <a:xfrm>
            <a:off x="3213360" y="57913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Text Box 28"/>
          <p:cNvSpPr/>
          <p:nvPr/>
        </p:nvSpPr>
        <p:spPr>
          <a:xfrm>
            <a:off x="4660560" y="5791320"/>
            <a:ext cx="69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Text Box 29"/>
          <p:cNvSpPr/>
          <p:nvPr/>
        </p:nvSpPr>
        <p:spPr>
          <a:xfrm>
            <a:off x="2372400" y="5257800"/>
            <a:ext cx="66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Text Box 30"/>
          <p:cNvSpPr/>
          <p:nvPr/>
        </p:nvSpPr>
        <p:spPr>
          <a:xfrm>
            <a:off x="26690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3124080" y="5464080"/>
            <a:ext cx="763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Line 32"/>
          <p:cNvSpPr/>
          <p:nvPr/>
        </p:nvSpPr>
        <p:spPr>
          <a:xfrm>
            <a:off x="3137040" y="4549680"/>
            <a:ext cx="759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Line 33"/>
          <p:cNvSpPr/>
          <p:nvPr/>
        </p:nvSpPr>
        <p:spPr>
          <a:xfrm flipV="1">
            <a:off x="380988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Line 34"/>
          <p:cNvSpPr/>
          <p:nvPr/>
        </p:nvSpPr>
        <p:spPr>
          <a:xfrm flipV="1">
            <a:off x="502920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Freeform 35"/>
          <p:cNvSpPr/>
          <p:nvPr/>
        </p:nvSpPr>
        <p:spPr>
          <a:xfrm>
            <a:off x="3809880" y="4549680"/>
            <a:ext cx="2133720" cy="1295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344" h="816">
                <a:moveTo>
                  <a:pt x="0" y="816"/>
                </a:moveTo>
                <a:lnTo>
                  <a:pt x="768" y="576"/>
                </a:lnTo>
                <a:lnTo>
                  <a:pt x="768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Text Box 36"/>
          <p:cNvSpPr/>
          <p:nvPr/>
        </p:nvSpPr>
        <p:spPr>
          <a:xfrm>
            <a:off x="6328800" y="58435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g queue leng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Text Box 37"/>
          <p:cNvSpPr/>
          <p:nvPr/>
        </p:nvSpPr>
        <p:spPr>
          <a:xfrm>
            <a:off x="2212920" y="36576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DD4A-6BD2-4F93-8D4E-2AFD0AD2131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mode vs. packet mode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acke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queue size (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gq &lt;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205-047D-4B1E-8BDF-A0F1818F10C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e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WMA: avgq = (1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vgq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ix for idle periods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gnore transient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culate the queue average if a bur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certain burst size does not exceed 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congestion relativel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9896-3A7A-4220-A036-D53D9CDFAD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resho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d by the utilization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queuing delay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nsure that feedback has enough time to make differenc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average queue increase in one R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uggest ratio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ule of thumb is factor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86EF-45C0-45C1-A389-CB9C836CE6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flective of typical lo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uses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is more realist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needs marking of 20-30% then need to buy a better l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variant of RED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drop rate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 as the avgq varies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2*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to setting of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333-44B5-4456-93E3-856EBCA28F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ending RED for Flow Iso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what to do with non-cooperative 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queuing achieves isolation using per-flow state – expensive at backbon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solate unresponsive flows without per-flo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enalty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history for packet drops, identify flows that use disproportionat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and punish thos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91FF-E201-4856-A1BA-6EB5311B48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16A2-AD0A-4727-8C23-E57F056879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bjective as RED Penalty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enalize misbehaving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L hashes with N bi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n keeps track of separate marking rat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s updated using standard technique and a b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uses minimu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L bins it belong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isbehaving flows hopefully belong to at least one bin without a ba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bad flows may cause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FE5-FE03-4716-AAAA-F00206D64B5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can continuously penalize sam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moving hash func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low no longer shares bin with sam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story re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ad flow get to make trouble until detected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can perform hash warmup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31D-D6D8-41F3-867D-639B3A07A2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0F92-6732-49F7-B5DA-4DC61128A9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ness Go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resources fai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does not send explicit feedback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s e2e 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chieve statistical mu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ow can fill entire pipe if no cont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serv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eduler never idles link if it has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A7A-EABC-47A0-AB9B-7AA4825CFF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Fairnes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granu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, connections,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users have different RTTs/links/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t share a link fairly or be TCP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fairness inde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0&lt;fairness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tough question to answer – typically design mechanisms instead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= arbitrary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CF96-C866-48C1-99C9-668568D993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x-min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user with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mand what it wants, evenly divide unused resources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llocated in terms of increasing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urce gets resource share larger than it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with unsatisfied demands get equal share of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7D8B-6BD6-48AE-A07A-19AB5E5699B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x-min Fairness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sources 1..n, with resource demand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channel capacity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/n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f this is more than node 1 wants, divide excess (C/n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other sources: each gets C/n + (C/n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larger than w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s, repea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C379-FF0A-4904-8152-9DE3D7215CF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lementing max-min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processo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round robin among al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simple round ro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leng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get more service by sending bigg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instantaneous servi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rrive just before/after packet dep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C03A-CA56-45AD-8F65-1179A25A88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flow: clock ticks when a bit is transmitted. For packet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ength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rrival time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egin transmit time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inish transm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max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flows: clock ticks when a bit from all active flows is transmitt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lculat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packet if number of flows is know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83A-1D24-4AB7-9B36-3A8BADBA6D8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0" name="Rectangle 11"/>
          <p:cNvSpPr/>
          <p:nvPr/>
        </p:nvSpPr>
        <p:spPr>
          <a:xfrm>
            <a:off x="4876920" y="21337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asible to interleave bits on re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Q simulates bit-by-bit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5410080" y="2819520"/>
            <a:ext cx="914400" cy="4572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6324480" y="2819520"/>
            <a:ext cx="914400" cy="6858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Rectangle 6"/>
          <p:cNvSpPr/>
          <p:nvPr/>
        </p:nvSpPr>
        <p:spPr>
          <a:xfrm>
            <a:off x="5410080" y="3733920"/>
            <a:ext cx="9144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6324480" y="3505320"/>
            <a:ext cx="914400" cy="685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Rectangle 8"/>
          <p:cNvSpPr/>
          <p:nvPr/>
        </p:nvSpPr>
        <p:spPr>
          <a:xfrm>
            <a:off x="7238880" y="2819520"/>
            <a:ext cx="9144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Rectangle 9"/>
          <p:cNvSpPr/>
          <p:nvPr/>
        </p:nvSpPr>
        <p:spPr>
          <a:xfrm>
            <a:off x="5410080" y="3276720"/>
            <a:ext cx="914400" cy="4572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B62-5470-4B8B-A5ED-9AC8931900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b/s lin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300Mbytes of buff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nd write 40 byte packet every 32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: require 4 devices, but too s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AM: require 80 devices, 1kW, $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gets harder at 40G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RLDRAM, FCRA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49D6-14E1-41AA-989B-F0D0CC8D99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bit-by-bit schedule onto packet transmissio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packet with the lowest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any give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omput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762120" y="41911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990720" y="4495680"/>
            <a:ext cx="914400" cy="4572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905120" y="4495680"/>
            <a:ext cx="914400" cy="6858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990720" y="5410080"/>
            <a:ext cx="9144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1905120" y="5181480"/>
            <a:ext cx="914400" cy="685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2819520" y="4495680"/>
            <a:ext cx="9144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990720" y="4952880"/>
            <a:ext cx="914400" cy="4572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Rectangle 12"/>
          <p:cNvSpPr/>
          <p:nvPr/>
        </p:nvSpPr>
        <p:spPr>
          <a:xfrm>
            <a:off x="5029200" y="41911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Rectangle 13"/>
          <p:cNvSpPr/>
          <p:nvPr/>
        </p:nvSpPr>
        <p:spPr>
          <a:xfrm>
            <a:off x="5257800" y="4495680"/>
            <a:ext cx="457200" cy="13716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Rectangle 14"/>
          <p:cNvSpPr/>
          <p:nvPr/>
        </p:nvSpPr>
        <p:spPr>
          <a:xfrm>
            <a:off x="5715000" y="4495680"/>
            <a:ext cx="914400" cy="1371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Rectangle 17"/>
          <p:cNvSpPr/>
          <p:nvPr/>
        </p:nvSpPr>
        <p:spPr>
          <a:xfrm>
            <a:off x="6629400" y="4495680"/>
            <a:ext cx="1371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AutoShape 19"/>
          <p:cNvSpPr/>
          <p:nvPr/>
        </p:nvSpPr>
        <p:spPr>
          <a:xfrm>
            <a:off x="4267080" y="480060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c09e4a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FAD-8D2C-46AF-9EFF-E0253376B4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Rectangle 60"/>
          <p:cNvSpPr/>
          <p:nvPr/>
        </p:nvSpPr>
        <p:spPr>
          <a:xfrm>
            <a:off x="380880" y="1371600"/>
            <a:ext cx="838224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AutoShape 2"/>
          <p:cNvSpPr/>
          <p:nvPr/>
        </p:nvSpPr>
        <p:spPr>
          <a:xfrm flipH="1" rot="10910400">
            <a:off x="6019920" y="2666880"/>
            <a:ext cx="533160" cy="2286000"/>
          </a:xfrm>
          <a:custGeom>
            <a:avLst/>
            <a:gdLst>
              <a:gd name="textAreaLeft" fmla="*/ 0 w 533160"/>
              <a:gd name="textAreaRight" fmla="*/ 150840 w 533160"/>
              <a:gd name="textAreaTop" fmla="*/ 87948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Q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8" name="Freeform 4"/>
          <p:cNvSpPr/>
          <p:nvPr/>
        </p:nvSpPr>
        <p:spPr>
          <a:xfrm>
            <a:off x="3597120" y="171144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Freeform 5"/>
          <p:cNvSpPr/>
          <p:nvPr/>
        </p:nvSpPr>
        <p:spPr>
          <a:xfrm>
            <a:off x="3597120" y="235116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Freeform 6"/>
          <p:cNvSpPr/>
          <p:nvPr/>
        </p:nvSpPr>
        <p:spPr>
          <a:xfrm>
            <a:off x="3597120" y="299088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Freeform 7"/>
          <p:cNvSpPr/>
          <p:nvPr/>
        </p:nvSpPr>
        <p:spPr>
          <a:xfrm>
            <a:off x="3597120" y="364320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Freeform 8"/>
          <p:cNvSpPr/>
          <p:nvPr/>
        </p:nvSpPr>
        <p:spPr>
          <a:xfrm>
            <a:off x="3597120" y="427032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Freeform 9"/>
          <p:cNvSpPr/>
          <p:nvPr/>
        </p:nvSpPr>
        <p:spPr>
          <a:xfrm>
            <a:off x="3597120" y="491184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Line 10"/>
          <p:cNvSpPr/>
          <p:nvPr/>
        </p:nvSpPr>
        <p:spPr>
          <a:xfrm>
            <a:off x="527364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Line 11"/>
          <p:cNvSpPr/>
          <p:nvPr/>
        </p:nvSpPr>
        <p:spPr>
          <a:xfrm>
            <a:off x="466416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Line 12"/>
          <p:cNvSpPr/>
          <p:nvPr/>
        </p:nvSpPr>
        <p:spPr>
          <a:xfrm>
            <a:off x="481644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Line 13"/>
          <p:cNvSpPr/>
          <p:nvPr/>
        </p:nvSpPr>
        <p:spPr>
          <a:xfrm>
            <a:off x="496872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Line 14"/>
          <p:cNvSpPr/>
          <p:nvPr/>
        </p:nvSpPr>
        <p:spPr>
          <a:xfrm>
            <a:off x="512136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Line 15"/>
          <p:cNvSpPr/>
          <p:nvPr/>
        </p:nvSpPr>
        <p:spPr>
          <a:xfrm>
            <a:off x="5273640" y="234648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Line 16"/>
          <p:cNvSpPr/>
          <p:nvPr/>
        </p:nvSpPr>
        <p:spPr>
          <a:xfrm>
            <a:off x="5121360" y="234648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Line 17"/>
          <p:cNvSpPr/>
          <p:nvPr/>
        </p:nvSpPr>
        <p:spPr>
          <a:xfrm>
            <a:off x="527364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Line 18"/>
          <p:cNvSpPr/>
          <p:nvPr/>
        </p:nvSpPr>
        <p:spPr>
          <a:xfrm>
            <a:off x="466416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Line 19"/>
          <p:cNvSpPr/>
          <p:nvPr/>
        </p:nvSpPr>
        <p:spPr>
          <a:xfrm>
            <a:off x="481644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Line 20"/>
          <p:cNvSpPr/>
          <p:nvPr/>
        </p:nvSpPr>
        <p:spPr>
          <a:xfrm>
            <a:off x="496872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Line 21"/>
          <p:cNvSpPr/>
          <p:nvPr/>
        </p:nvSpPr>
        <p:spPr>
          <a:xfrm>
            <a:off x="512136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Line 22"/>
          <p:cNvSpPr/>
          <p:nvPr/>
        </p:nvSpPr>
        <p:spPr>
          <a:xfrm>
            <a:off x="52736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Line 23"/>
          <p:cNvSpPr/>
          <p:nvPr/>
        </p:nvSpPr>
        <p:spPr>
          <a:xfrm>
            <a:off x="46641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Line 24"/>
          <p:cNvSpPr/>
          <p:nvPr/>
        </p:nvSpPr>
        <p:spPr>
          <a:xfrm>
            <a:off x="48164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Line 25"/>
          <p:cNvSpPr/>
          <p:nvPr/>
        </p:nvSpPr>
        <p:spPr>
          <a:xfrm>
            <a:off x="49687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Line 26"/>
          <p:cNvSpPr/>
          <p:nvPr/>
        </p:nvSpPr>
        <p:spPr>
          <a:xfrm>
            <a:off x="51213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Line 27"/>
          <p:cNvSpPr/>
          <p:nvPr/>
        </p:nvSpPr>
        <p:spPr>
          <a:xfrm>
            <a:off x="45115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Line 28"/>
          <p:cNvSpPr/>
          <p:nvPr/>
        </p:nvSpPr>
        <p:spPr>
          <a:xfrm>
            <a:off x="39020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Line 29"/>
          <p:cNvSpPr/>
          <p:nvPr/>
        </p:nvSpPr>
        <p:spPr>
          <a:xfrm>
            <a:off x="40543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Line 30"/>
          <p:cNvSpPr/>
          <p:nvPr/>
        </p:nvSpPr>
        <p:spPr>
          <a:xfrm>
            <a:off x="42069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Line 31"/>
          <p:cNvSpPr/>
          <p:nvPr/>
        </p:nvSpPr>
        <p:spPr>
          <a:xfrm>
            <a:off x="43592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Line 32"/>
          <p:cNvSpPr/>
          <p:nvPr/>
        </p:nvSpPr>
        <p:spPr>
          <a:xfrm>
            <a:off x="527364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Line 33"/>
          <p:cNvSpPr/>
          <p:nvPr/>
        </p:nvSpPr>
        <p:spPr>
          <a:xfrm>
            <a:off x="481644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Line 34"/>
          <p:cNvSpPr/>
          <p:nvPr/>
        </p:nvSpPr>
        <p:spPr>
          <a:xfrm>
            <a:off x="496872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Line 35"/>
          <p:cNvSpPr/>
          <p:nvPr/>
        </p:nvSpPr>
        <p:spPr>
          <a:xfrm>
            <a:off x="512136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Line 36"/>
          <p:cNvSpPr/>
          <p:nvPr/>
        </p:nvSpPr>
        <p:spPr>
          <a:xfrm>
            <a:off x="52736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Line 37"/>
          <p:cNvSpPr/>
          <p:nvPr/>
        </p:nvSpPr>
        <p:spPr>
          <a:xfrm>
            <a:off x="466416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Line 38"/>
          <p:cNvSpPr/>
          <p:nvPr/>
        </p:nvSpPr>
        <p:spPr>
          <a:xfrm>
            <a:off x="48164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Line 39"/>
          <p:cNvSpPr/>
          <p:nvPr/>
        </p:nvSpPr>
        <p:spPr>
          <a:xfrm>
            <a:off x="496872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Line 40"/>
          <p:cNvSpPr/>
          <p:nvPr/>
        </p:nvSpPr>
        <p:spPr>
          <a:xfrm>
            <a:off x="512136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Line 41"/>
          <p:cNvSpPr/>
          <p:nvPr/>
        </p:nvSpPr>
        <p:spPr>
          <a:xfrm>
            <a:off x="451152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6" name="Line 42"/>
          <p:cNvSpPr/>
          <p:nvPr/>
        </p:nvSpPr>
        <p:spPr>
          <a:xfrm>
            <a:off x="43592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7" name="Text Box 43"/>
          <p:cNvSpPr/>
          <p:nvPr/>
        </p:nvSpPr>
        <p:spPr>
          <a:xfrm>
            <a:off x="3624840" y="180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8" name="Text Box 44"/>
          <p:cNvSpPr/>
          <p:nvPr/>
        </p:nvSpPr>
        <p:spPr>
          <a:xfrm>
            <a:off x="3640680" y="2529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9" name="Text Box 45"/>
          <p:cNvSpPr/>
          <p:nvPr/>
        </p:nvSpPr>
        <p:spPr>
          <a:xfrm>
            <a:off x="3488400" y="5043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0" name="Oval 46"/>
          <p:cNvSpPr/>
          <p:nvPr/>
        </p:nvSpPr>
        <p:spPr>
          <a:xfrm>
            <a:off x="6568920" y="3247920"/>
            <a:ext cx="533520" cy="533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1" name="Line 47"/>
          <p:cNvSpPr/>
          <p:nvPr/>
        </p:nvSpPr>
        <p:spPr>
          <a:xfrm flipH="1" flipV="1">
            <a:off x="5502240" y="2016000"/>
            <a:ext cx="1371600" cy="152424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2" name="Line 48"/>
          <p:cNvSpPr/>
          <p:nvPr/>
        </p:nvSpPr>
        <p:spPr>
          <a:xfrm flipH="1">
            <a:off x="5486400" y="3581280"/>
            <a:ext cx="1371600" cy="16002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3" name="Line 49"/>
          <p:cNvSpPr/>
          <p:nvPr/>
        </p:nvSpPr>
        <p:spPr>
          <a:xfrm flipH="1" flipV="1">
            <a:off x="5502240" y="2625840"/>
            <a:ext cx="1371600" cy="9144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4" name="Line 50"/>
          <p:cNvSpPr/>
          <p:nvPr/>
        </p:nvSpPr>
        <p:spPr>
          <a:xfrm flipH="1" flipV="1">
            <a:off x="5425920" y="3234960"/>
            <a:ext cx="1447920" cy="30492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5" name="Line 51"/>
          <p:cNvSpPr/>
          <p:nvPr/>
        </p:nvSpPr>
        <p:spPr>
          <a:xfrm>
            <a:off x="6873840" y="3527280"/>
            <a:ext cx="1600200" cy="0"/>
          </a:xfrm>
          <a:prstGeom prst="line">
            <a:avLst/>
          </a:prstGeom>
          <a:ln w="572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Oval 52"/>
          <p:cNvSpPr/>
          <p:nvPr/>
        </p:nvSpPr>
        <p:spPr>
          <a:xfrm>
            <a:off x="1778040" y="3184560"/>
            <a:ext cx="533520" cy="533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Line 53"/>
          <p:cNvSpPr/>
          <p:nvPr/>
        </p:nvSpPr>
        <p:spPr>
          <a:xfrm>
            <a:off x="609480" y="3463920"/>
            <a:ext cx="1447920" cy="0"/>
          </a:xfrm>
          <a:prstGeom prst="line">
            <a:avLst/>
          </a:prstGeom>
          <a:ln w="572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Line 54"/>
          <p:cNvSpPr/>
          <p:nvPr/>
        </p:nvSpPr>
        <p:spPr>
          <a:xfrm>
            <a:off x="2057400" y="3463920"/>
            <a:ext cx="1752480" cy="38088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Text Box 55"/>
          <p:cNvSpPr/>
          <p:nvPr/>
        </p:nvSpPr>
        <p:spPr>
          <a:xfrm>
            <a:off x="594360" y="28940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Text Box 56"/>
          <p:cNvSpPr/>
          <p:nvPr/>
        </p:nvSpPr>
        <p:spPr>
          <a:xfrm>
            <a:off x="7788960" y="2928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/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57"/>
          <p:cNvSpPr/>
          <p:nvPr/>
        </p:nvSpPr>
        <p:spPr>
          <a:xfrm flipV="1">
            <a:off x="2057400" y="2092320"/>
            <a:ext cx="1523880" cy="13716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58"/>
          <p:cNvSpPr/>
          <p:nvPr/>
        </p:nvSpPr>
        <p:spPr>
          <a:xfrm>
            <a:off x="2057400" y="3463920"/>
            <a:ext cx="1447920" cy="167652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Text Box 59"/>
          <p:cNvSpPr/>
          <p:nvPr/>
        </p:nvSpPr>
        <p:spPr>
          <a:xfrm>
            <a:off x="1831680" y="556272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: Weighted Fair Queuing (WFQ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E3D4-16C0-4E10-920D-6BA610AC214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Rectangle 33"/>
          <p:cNvSpPr/>
          <p:nvPr/>
        </p:nvSpPr>
        <p:spPr>
          <a:xfrm>
            <a:off x="380880" y="1371600"/>
            <a:ext cx="838224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027" name="Group 3"/>
          <p:cNvGrpSpPr/>
          <p:nvPr/>
        </p:nvGrpSpPr>
        <p:grpSpPr>
          <a:xfrm>
            <a:off x="4268520" y="3451320"/>
            <a:ext cx="4295880" cy="2653920"/>
            <a:chOff x="4268520" y="3451320"/>
            <a:chExt cx="4295880" cy="2653920"/>
          </a:xfrm>
        </p:grpSpPr>
        <p:sp>
          <p:nvSpPr>
            <p:cNvPr id="1028" name="Freeform 4"/>
            <p:cNvSpPr/>
            <p:nvPr/>
          </p:nvSpPr>
          <p:spPr>
            <a:xfrm>
              <a:off x="4865400" y="4190760"/>
              <a:ext cx="838440" cy="1904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9" name="Freeform 5"/>
            <p:cNvSpPr/>
            <p:nvPr/>
          </p:nvSpPr>
          <p:spPr>
            <a:xfrm>
              <a:off x="6248160" y="4190760"/>
              <a:ext cx="838440" cy="1904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0" name="Freeform 6"/>
            <p:cNvSpPr/>
            <p:nvPr/>
          </p:nvSpPr>
          <p:spPr>
            <a:xfrm>
              <a:off x="7696080" y="4190760"/>
              <a:ext cx="838080" cy="1904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1" name="Text Box 7"/>
            <p:cNvSpPr/>
            <p:nvPr/>
          </p:nvSpPr>
          <p:spPr>
            <a:xfrm>
              <a:off x="5640120" y="48988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1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2" name="Text Box 8"/>
            <p:cNvSpPr/>
            <p:nvPr/>
          </p:nvSpPr>
          <p:spPr>
            <a:xfrm>
              <a:off x="4803480" y="345132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rriving)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3" name="Text Box 9"/>
            <p:cNvSpPr/>
            <p:nvPr/>
          </p:nvSpPr>
          <p:spPr>
            <a:xfrm>
              <a:off x="6250680" y="345132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mitting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4" name="Text Box 10"/>
            <p:cNvSpPr/>
            <p:nvPr/>
          </p:nvSpPr>
          <p:spPr>
            <a:xfrm>
              <a:off x="7697880" y="3603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5" name="Rectangle 11"/>
            <p:cNvSpPr/>
            <p:nvPr/>
          </p:nvSpPr>
          <p:spPr>
            <a:xfrm>
              <a:off x="4876560" y="5867280"/>
              <a:ext cx="838440" cy="228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6" name="Text Box 12"/>
            <p:cNvSpPr/>
            <p:nvPr/>
          </p:nvSpPr>
          <p:spPr>
            <a:xfrm>
              <a:off x="4268520" y="573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7" name="Rectangle 13"/>
            <p:cNvSpPr/>
            <p:nvPr/>
          </p:nvSpPr>
          <p:spPr>
            <a:xfrm>
              <a:off x="6248160" y="5257440"/>
              <a:ext cx="83844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8" name="Rectangle 14"/>
            <p:cNvSpPr/>
            <p:nvPr/>
          </p:nvSpPr>
          <p:spPr>
            <a:xfrm>
              <a:off x="7696080" y="5257440"/>
              <a:ext cx="83808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9" name="Rectangle 15"/>
            <p:cNvSpPr/>
            <p:nvPr/>
          </p:nvSpPr>
          <p:spPr>
            <a:xfrm>
              <a:off x="7696080" y="5028840"/>
              <a:ext cx="838080" cy="228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40" name="Group 16"/>
          <p:cNvGrpSpPr/>
          <p:nvPr/>
        </p:nvGrpSpPr>
        <p:grpSpPr>
          <a:xfrm>
            <a:off x="381960" y="1622520"/>
            <a:ext cx="4266000" cy="2340000"/>
            <a:chOff x="381960" y="1622520"/>
            <a:chExt cx="4266000" cy="2340000"/>
          </a:xfrm>
        </p:grpSpPr>
        <p:sp>
          <p:nvSpPr>
            <p:cNvPr id="1041" name="Freeform 17"/>
            <p:cNvSpPr/>
            <p:nvPr/>
          </p:nvSpPr>
          <p:spPr>
            <a:xfrm>
              <a:off x="99036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236196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3" name="Freeform 19"/>
            <p:cNvSpPr/>
            <p:nvPr/>
          </p:nvSpPr>
          <p:spPr>
            <a:xfrm>
              <a:off x="380988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4" name="Rectangle 20"/>
            <p:cNvSpPr/>
            <p:nvPr/>
          </p:nvSpPr>
          <p:spPr>
            <a:xfrm>
              <a:off x="990360" y="3581280"/>
              <a:ext cx="838080" cy="38124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5" name="Rectangle 21"/>
            <p:cNvSpPr/>
            <p:nvPr/>
          </p:nvSpPr>
          <p:spPr>
            <a:xfrm>
              <a:off x="990360" y="3352680"/>
              <a:ext cx="83808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6" name="Rectangle 22"/>
            <p:cNvSpPr/>
            <p:nvPr/>
          </p:nvSpPr>
          <p:spPr>
            <a:xfrm>
              <a:off x="2361960" y="3124080"/>
              <a:ext cx="838080" cy="83844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7" name="Rectangle 23"/>
            <p:cNvSpPr/>
            <p:nvPr/>
          </p:nvSpPr>
          <p:spPr>
            <a:xfrm>
              <a:off x="3809880" y="3581280"/>
              <a:ext cx="838080" cy="38124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8" name="Rectangle 24"/>
            <p:cNvSpPr/>
            <p:nvPr/>
          </p:nvSpPr>
          <p:spPr>
            <a:xfrm>
              <a:off x="3809880" y="3352680"/>
              <a:ext cx="83808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9" name="Rectangle 25"/>
            <p:cNvSpPr/>
            <p:nvPr/>
          </p:nvSpPr>
          <p:spPr>
            <a:xfrm>
              <a:off x="3809880" y="2514600"/>
              <a:ext cx="83808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0" name="Text Box 26"/>
            <p:cNvSpPr/>
            <p:nvPr/>
          </p:nvSpPr>
          <p:spPr>
            <a:xfrm>
              <a:off x="381960" y="352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1" name="Text Box 27"/>
            <p:cNvSpPr/>
            <p:nvPr/>
          </p:nvSpPr>
          <p:spPr>
            <a:xfrm>
              <a:off x="381960" y="31464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8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2" name="Text Box 28"/>
            <p:cNvSpPr/>
            <p:nvPr/>
          </p:nvSpPr>
          <p:spPr>
            <a:xfrm>
              <a:off x="1068840" y="1698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3" name="Text Box 29"/>
            <p:cNvSpPr/>
            <p:nvPr/>
          </p:nvSpPr>
          <p:spPr>
            <a:xfrm>
              <a:off x="2364120" y="1698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4" name="Text Box 30"/>
            <p:cNvSpPr/>
            <p:nvPr/>
          </p:nvSpPr>
          <p:spPr>
            <a:xfrm>
              <a:off x="3735360" y="1622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5" name="Text Box 31"/>
            <p:cNvSpPr/>
            <p:nvPr/>
          </p:nvSpPr>
          <p:spPr>
            <a:xfrm>
              <a:off x="1753920" y="28414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1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56" name="Text Box 32"/>
          <p:cNvSpPr/>
          <p:nvPr/>
        </p:nvSpPr>
        <p:spPr>
          <a:xfrm>
            <a:off x="758160" y="477036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eempt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being transmitte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82AC-0A0C-42C6-8EB1-402BAF5B84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 Queuing Tradeoff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Q can control congestion by monitoring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daptive flows can still be a problem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eep queue pe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in routers with many flows (e.g., backbone rou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aggregation is a possibility (e.g. do fairness per dom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into flows may be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eep queues sorted by finish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times change whenever the flow cou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1C47-00A9-44CE-A6F5-74BA1657DF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865F-6333-4523-9D70-8ADCBA6121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-Stateless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oblem with FQ is core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aintain state for 10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f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pdate state at Gbps line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FQ (Core-Stateless FQ)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routers should do complex tasks since they have fewer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routers can do 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-flow state/process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eans that core routers can only decide on dropping packets not on order of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nly provide max-min bandwidth fairness not delay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CA0A-5D16-4428-BEE2-A0FE01E7FA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-Stateless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routers keep state about flows and do computation when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S (Dynamic Packet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routers label packets with the result of state lookup an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routers use DPS and local measurements to control processing of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C2C-BAA5-47C3-ADCC-03B07D7310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dge Router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each flow i to measure its arrival rate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WMA of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nstant EWMA 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T/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 = current interarrival, K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adapt to different packet sizes and arriv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is attached to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6448-6B34-4AD3-A46A-549F49ACF5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 Router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fair share rate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α does not increase load (F) by N *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α) = 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α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oes thi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update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current arriv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pdate α if entire period was congested or un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robability for packet = max(1- α/r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6E1-9445-4215-8D0A-4C265F7187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990720" y="1523880"/>
            <a:ext cx="7315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 vs. Alph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8" name="Line 4"/>
          <p:cNvSpPr/>
          <p:nvPr/>
        </p:nvSpPr>
        <p:spPr>
          <a:xfrm flipV="1">
            <a:off x="1981080" y="1828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9" name="Line 5"/>
          <p:cNvSpPr/>
          <p:nvPr/>
        </p:nvSpPr>
        <p:spPr>
          <a:xfrm>
            <a:off x="198108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0" name="Line 6"/>
          <p:cNvSpPr/>
          <p:nvPr/>
        </p:nvSpPr>
        <p:spPr>
          <a:xfrm>
            <a:off x="1981080" y="2895480"/>
            <a:ext cx="5486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3886200" y="2895480"/>
            <a:ext cx="0" cy="2667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2" name="Line 8"/>
          <p:cNvSpPr/>
          <p:nvPr/>
        </p:nvSpPr>
        <p:spPr>
          <a:xfrm flipV="1">
            <a:off x="1981080" y="2437920"/>
            <a:ext cx="2286000" cy="2667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3281400" y="5486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5565600" y="25290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[linked capacity]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19828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24400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Text Box 13"/>
          <p:cNvSpPr/>
          <p:nvPr/>
        </p:nvSpPr>
        <p:spPr>
          <a:xfrm>
            <a:off x="343080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Line 14"/>
          <p:cNvSpPr/>
          <p:nvPr/>
        </p:nvSpPr>
        <p:spPr>
          <a:xfrm>
            <a:off x="2133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Line 15"/>
          <p:cNvSpPr/>
          <p:nvPr/>
        </p:nvSpPr>
        <p:spPr>
          <a:xfrm>
            <a:off x="25909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Line 16"/>
          <p:cNvSpPr/>
          <p:nvPr/>
        </p:nvSpPr>
        <p:spPr>
          <a:xfrm>
            <a:off x="35812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Line 17"/>
          <p:cNvSpPr/>
          <p:nvPr/>
        </p:nvSpPr>
        <p:spPr>
          <a:xfrm>
            <a:off x="4267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Text Box 18"/>
          <p:cNvSpPr/>
          <p:nvPr/>
        </p:nvSpPr>
        <p:spPr>
          <a:xfrm>
            <a:off x="3889800" y="51814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6632280" y="48909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Line 20"/>
          <p:cNvSpPr/>
          <p:nvPr/>
        </p:nvSpPr>
        <p:spPr>
          <a:xfrm>
            <a:off x="51814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304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22"/>
          <p:cNvSpPr/>
          <p:nvPr/>
        </p:nvSpPr>
        <p:spPr>
          <a:xfrm flipV="1">
            <a:off x="1981080" y="4266720"/>
            <a:ext cx="15264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Line 23"/>
          <p:cNvSpPr/>
          <p:nvPr/>
        </p:nvSpPr>
        <p:spPr>
          <a:xfrm flipH="1">
            <a:off x="2133720" y="3124080"/>
            <a:ext cx="4572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Line 24"/>
          <p:cNvSpPr/>
          <p:nvPr/>
        </p:nvSpPr>
        <p:spPr>
          <a:xfrm flipV="1">
            <a:off x="2590920" y="2514240"/>
            <a:ext cx="99036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Line 25"/>
          <p:cNvSpPr/>
          <p:nvPr/>
        </p:nvSpPr>
        <p:spPr>
          <a:xfrm flipV="1">
            <a:off x="3581280" y="2361960"/>
            <a:ext cx="16002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Line 26"/>
          <p:cNvSpPr/>
          <p:nvPr/>
        </p:nvSpPr>
        <p:spPr>
          <a:xfrm>
            <a:off x="5181480" y="2362320"/>
            <a:ext cx="106704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99F-93DF-4531-80CC-2B933D00927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ule-of-thumb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of-thumb makes sense for o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backbone link has &gt; 20,000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rule-of-thumb still h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116-9BA5-4438-8BEE-8FF482103D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stimating Fair Sha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(α) = capacity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eep map of F(α) valu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quire per flow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F(α) is concave, piecewise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 and F(α) = current accepted rate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α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C/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a mistake wa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into dropping packets due to buffe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queue overflows α is decreased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0488-7E84-4BFA-8566-982D8162275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ing fire-hoses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keep track of in a FQ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al edges in such a sch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trust edges to mark traffic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o some statistical sampling to see if edge was marking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A52-AA4C-49F4-92ED-A1765B0E63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B9C5-9CEF-4F67-B40B-325B5B3259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11" name="Group 2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112" name="Group 3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113" name="Rectangle 4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14" name="Group 5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115" name="Freeform 6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7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8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9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1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2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3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4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5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6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7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8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9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20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21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22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23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24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25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26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27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28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29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30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31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32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33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34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35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Group 36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146" name="Rectangle 37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47" name="Group 38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148" name="Freeform 39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40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41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42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43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44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45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46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47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48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49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50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Freeform 51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54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55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56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57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58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59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0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1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62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63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64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65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66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67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68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Line 69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9" name="Line 70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80" name="Group 71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181" name="AutoShape 72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82" name="Group 73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183" name="Freeform 74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75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5" name="Group 76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186" name="AutoShape 77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87" name="Group 78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188" name="Freeform 79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0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0" name="Line 81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1" name="Line 82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2" name="Line 83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93" name="Group 84"/>
          <p:cNvGrpSpPr/>
          <p:nvPr/>
        </p:nvGrpSpPr>
        <p:grpSpPr>
          <a:xfrm>
            <a:off x="1676520" y="1905120"/>
            <a:ext cx="609480" cy="228600"/>
            <a:chOff x="1676520" y="1905120"/>
            <a:chExt cx="609480" cy="228600"/>
          </a:xfrm>
        </p:grpSpPr>
        <p:sp>
          <p:nvSpPr>
            <p:cNvPr id="1194" name="Rectangle 85"/>
            <p:cNvSpPr/>
            <p:nvPr/>
          </p:nvSpPr>
          <p:spPr>
            <a:xfrm>
              <a:off x="167652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5" name="Rectangle 86"/>
            <p:cNvSpPr/>
            <p:nvPr/>
          </p:nvSpPr>
          <p:spPr>
            <a:xfrm>
              <a:off x="213372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96" name="Group 87"/>
          <p:cNvGrpSpPr/>
          <p:nvPr/>
        </p:nvGrpSpPr>
        <p:grpSpPr>
          <a:xfrm>
            <a:off x="1676520" y="1905120"/>
            <a:ext cx="4182840" cy="3883680"/>
            <a:chOff x="1676520" y="1905120"/>
            <a:chExt cx="4182840" cy="3883680"/>
          </a:xfrm>
        </p:grpSpPr>
        <p:grpSp>
          <p:nvGrpSpPr>
            <p:cNvPr id="1197" name="Group 88"/>
            <p:cNvGrpSpPr/>
            <p:nvPr/>
          </p:nvGrpSpPr>
          <p:grpSpPr>
            <a:xfrm>
              <a:off x="1676520" y="1905120"/>
              <a:ext cx="3581280" cy="3124080"/>
              <a:chOff x="1676520" y="1905120"/>
              <a:chExt cx="3581280" cy="3124080"/>
            </a:xfrm>
          </p:grpSpPr>
          <p:grpSp>
            <p:nvGrpSpPr>
              <p:cNvPr id="1198" name="Group 89"/>
              <p:cNvGrpSpPr/>
              <p:nvPr/>
            </p:nvGrpSpPr>
            <p:grpSpPr>
              <a:xfrm>
                <a:off x="1676520" y="1905120"/>
                <a:ext cx="609480" cy="228600"/>
                <a:chOff x="1676520" y="1905120"/>
                <a:chExt cx="609480" cy="228600"/>
              </a:xfrm>
            </p:grpSpPr>
            <p:sp>
              <p:nvSpPr>
                <p:cNvPr id="1199" name="Rectangle 90"/>
                <p:cNvSpPr/>
                <p:nvPr/>
              </p:nvSpPr>
              <p:spPr>
                <a:xfrm>
                  <a:off x="1676520" y="1905120"/>
                  <a:ext cx="533520" cy="22860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Rectangle 91"/>
                <p:cNvSpPr/>
                <p:nvPr/>
              </p:nvSpPr>
              <p:spPr>
                <a:xfrm>
                  <a:off x="2133720" y="1905120"/>
                  <a:ext cx="152280" cy="228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Group 92"/>
              <p:cNvGrpSpPr/>
              <p:nvPr/>
            </p:nvGrpSpPr>
            <p:grpSpPr>
              <a:xfrm>
                <a:off x="2133720" y="1905120"/>
                <a:ext cx="3124080" cy="3124080"/>
                <a:chOff x="2133720" y="1905120"/>
                <a:chExt cx="3124080" cy="3124080"/>
              </a:xfrm>
            </p:grpSpPr>
            <p:grpSp>
              <p:nvGrpSpPr>
                <p:cNvPr id="1202" name="Group 93"/>
                <p:cNvGrpSpPr/>
                <p:nvPr/>
              </p:nvGrpSpPr>
              <p:grpSpPr>
                <a:xfrm>
                  <a:off x="2438280" y="2895480"/>
                  <a:ext cx="2781360" cy="2133720"/>
                  <a:chOff x="2438280" y="2895480"/>
                  <a:chExt cx="2781360" cy="2133720"/>
                </a:xfrm>
              </p:grpSpPr>
              <p:sp>
                <p:nvSpPr>
                  <p:cNvPr id="1203" name="Text Box 94"/>
                  <p:cNvSpPr/>
                  <p:nvPr/>
                </p:nvSpPr>
                <p:spPr>
                  <a:xfrm>
                    <a:off x="2438280" y="4229280"/>
                    <a:ext cx="2765520" cy="799920"/>
                  </a:xfrm>
                  <a:prstGeom prst="rect">
                    <a:avLst/>
                  </a:prstGeom>
                  <a:solidFill>
                    <a:srgbClr val="c09e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eedback </a:t>
                    </a:r>
                    <a:endParaRPr b="0" lang="en-US" sz="20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4" name="Group 95"/>
                  <p:cNvGrpSpPr/>
                  <p:nvPr/>
                </p:nvGrpSpPr>
                <p:grpSpPr>
                  <a:xfrm>
                    <a:off x="2438280" y="2895480"/>
                    <a:ext cx="2781360" cy="2133360"/>
                    <a:chOff x="2438280" y="2895480"/>
                    <a:chExt cx="2781360" cy="2133360"/>
                  </a:xfrm>
                </p:grpSpPr>
                <p:sp>
                  <p:nvSpPr>
                    <p:cNvPr id="1205" name="Rectangle 96"/>
                    <p:cNvSpPr/>
                    <p:nvPr/>
                  </p:nvSpPr>
                  <p:spPr>
                    <a:xfrm>
                      <a:off x="2438280" y="4206600"/>
                      <a:ext cx="2781360" cy="822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6" name="Group 97"/>
                    <p:cNvGrpSpPr/>
                    <p:nvPr/>
                  </p:nvGrpSpPr>
                  <p:grpSpPr>
                    <a:xfrm>
                      <a:off x="2438280" y="2895480"/>
                      <a:ext cx="2781000" cy="1310760"/>
                      <a:chOff x="2438280" y="2895480"/>
                      <a:chExt cx="2781000" cy="1310760"/>
                    </a:xfrm>
                  </p:grpSpPr>
                  <p:sp>
                    <p:nvSpPr>
                      <p:cNvPr id="1207" name="Rectangle 98"/>
                      <p:cNvSpPr/>
                      <p:nvPr/>
                    </p:nvSpPr>
                    <p:spPr>
                      <a:xfrm>
                        <a:off x="2438280" y="2895480"/>
                        <a:ext cx="2781000" cy="6562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8" name="Rectangle 99"/>
                      <p:cNvSpPr/>
                      <p:nvPr/>
                    </p:nvSpPr>
                    <p:spPr>
                      <a:xfrm>
                        <a:off x="2438280" y="3551760"/>
                        <a:ext cx="2781000" cy="6544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9" name="Text Box 100"/>
                      <p:cNvSpPr/>
                      <p:nvPr/>
                    </p:nvSpPr>
                    <p:spPr>
                      <a:xfrm>
                        <a:off x="2537640" y="302976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ound Trip Time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" name="Text Box 101"/>
                      <p:cNvSpPr/>
                      <p:nvPr/>
                    </p:nvSpPr>
                    <p:spPr>
                      <a:xfrm>
                        <a:off x="2537640" y="368892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ngestion Window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11" name="Line 102"/>
                <p:cNvSpPr/>
                <p:nvPr/>
              </p:nvSpPr>
              <p:spPr>
                <a:xfrm>
                  <a:off x="2133720" y="1905120"/>
                  <a:ext cx="30456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Line 103"/>
                <p:cNvSpPr/>
                <p:nvPr/>
              </p:nvSpPr>
              <p:spPr>
                <a:xfrm>
                  <a:off x="2286000" y="1905120"/>
                  <a:ext cx="297180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104"/>
                <p:cNvSpPr/>
                <p:nvPr/>
              </p:nvSpPr>
              <p:spPr>
                <a:xfrm>
                  <a:off x="2133720" y="2057400"/>
                  <a:ext cx="304560" cy="297180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4" name="Text Box 105"/>
            <p:cNvSpPr/>
            <p:nvPr/>
          </p:nvSpPr>
          <p:spPr>
            <a:xfrm>
              <a:off x="2438280" y="5334120"/>
              <a:ext cx="34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gestion Header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15" name="Group 106"/>
          <p:cNvGrpSpPr/>
          <p:nvPr/>
        </p:nvGrpSpPr>
        <p:grpSpPr>
          <a:xfrm>
            <a:off x="2514600" y="1905120"/>
            <a:ext cx="3581280" cy="3124080"/>
            <a:chOff x="2514600" y="1905120"/>
            <a:chExt cx="3581280" cy="3124080"/>
          </a:xfrm>
        </p:grpSpPr>
        <p:grpSp>
          <p:nvGrpSpPr>
            <p:cNvPr id="1216" name="Group 107"/>
            <p:cNvGrpSpPr/>
            <p:nvPr/>
          </p:nvGrpSpPr>
          <p:grpSpPr>
            <a:xfrm>
              <a:off x="2514600" y="1905120"/>
              <a:ext cx="609480" cy="228600"/>
              <a:chOff x="2514600" y="1905120"/>
              <a:chExt cx="609480" cy="228600"/>
            </a:xfrm>
          </p:grpSpPr>
          <p:sp>
            <p:nvSpPr>
              <p:cNvPr id="1217" name="Rectangle 108"/>
              <p:cNvSpPr/>
              <p:nvPr/>
            </p:nvSpPr>
            <p:spPr>
              <a:xfrm>
                <a:off x="2514600" y="1905120"/>
                <a:ext cx="533520" cy="2286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18" name="Rectangle 109"/>
              <p:cNvSpPr/>
              <p:nvPr/>
            </p:nvSpPr>
            <p:spPr>
              <a:xfrm>
                <a:off x="2971800" y="1905120"/>
                <a:ext cx="152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110"/>
            <p:cNvGrpSpPr/>
            <p:nvPr/>
          </p:nvGrpSpPr>
          <p:grpSpPr>
            <a:xfrm>
              <a:off x="2971800" y="1905120"/>
              <a:ext cx="3124080" cy="3124080"/>
              <a:chOff x="2971800" y="1905120"/>
              <a:chExt cx="3124080" cy="3124080"/>
            </a:xfrm>
          </p:grpSpPr>
          <p:grpSp>
            <p:nvGrpSpPr>
              <p:cNvPr id="1220" name="Group 111"/>
              <p:cNvGrpSpPr/>
              <p:nvPr/>
            </p:nvGrpSpPr>
            <p:grpSpPr>
              <a:xfrm>
                <a:off x="3276360" y="2895480"/>
                <a:ext cx="2781360" cy="2133720"/>
                <a:chOff x="3276360" y="2895480"/>
                <a:chExt cx="2781360" cy="2133720"/>
              </a:xfrm>
            </p:grpSpPr>
            <p:sp>
              <p:nvSpPr>
                <p:cNvPr id="1221" name="Text Box 112"/>
                <p:cNvSpPr/>
                <p:nvPr/>
              </p:nvSpPr>
              <p:spPr>
                <a:xfrm>
                  <a:off x="3276360" y="4229280"/>
                  <a:ext cx="2765520" cy="7999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eedback            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2" name="Group 113"/>
                <p:cNvGrpSpPr/>
                <p:nvPr/>
              </p:nvGrpSpPr>
              <p:grpSpPr>
                <a:xfrm>
                  <a:off x="3276360" y="2895480"/>
                  <a:ext cx="2781360" cy="2133360"/>
                  <a:chOff x="3276360" y="2895480"/>
                  <a:chExt cx="2781360" cy="2133360"/>
                </a:xfrm>
              </p:grpSpPr>
              <p:sp>
                <p:nvSpPr>
                  <p:cNvPr id="1223" name="Rectangle 114"/>
                  <p:cNvSpPr/>
                  <p:nvPr/>
                </p:nvSpPr>
                <p:spPr>
                  <a:xfrm>
                    <a:off x="3276360" y="4206600"/>
                    <a:ext cx="2781360" cy="822240"/>
                  </a:xfrm>
                  <a:prstGeom prst="rect">
                    <a:avLst/>
                  </a:prstGeom>
                  <a:noFill/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4" name="Group 115"/>
                  <p:cNvGrpSpPr/>
                  <p:nvPr/>
                </p:nvGrpSpPr>
                <p:grpSpPr>
                  <a:xfrm>
                    <a:off x="3276360" y="2895480"/>
                    <a:ext cx="2781000" cy="1310760"/>
                    <a:chOff x="3276360" y="2895480"/>
                    <a:chExt cx="2781000" cy="1310760"/>
                  </a:xfrm>
                </p:grpSpPr>
                <p:sp>
                  <p:nvSpPr>
                    <p:cNvPr id="1225" name="Rectangle 116"/>
                    <p:cNvSpPr/>
                    <p:nvPr/>
                  </p:nvSpPr>
                  <p:spPr>
                    <a:xfrm>
                      <a:off x="3276360" y="2895480"/>
                      <a:ext cx="2781000" cy="656280"/>
                    </a:xfrm>
                    <a:prstGeom prst="rect">
                      <a:avLst/>
                    </a:prstGeom>
                    <a:solidFill>
                      <a:srgbClr val="fefed6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Rectangle 117"/>
                    <p:cNvSpPr/>
                    <p:nvPr/>
                  </p:nvSpPr>
                  <p:spPr>
                    <a:xfrm>
                      <a:off x="3276360" y="3551760"/>
                      <a:ext cx="2781000" cy="654480"/>
                    </a:xfrm>
                    <a:prstGeom prst="rect">
                      <a:avLst/>
                    </a:prstGeom>
                    <a:solidFill>
                      <a:srgbClr val="fefed6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Text Box 118"/>
                    <p:cNvSpPr/>
                    <p:nvPr/>
                  </p:nvSpPr>
                  <p:spPr>
                    <a:xfrm>
                      <a:off x="3375720" y="3029760"/>
                      <a:ext cx="248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Trip Tim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Text Box 119"/>
                    <p:cNvSpPr/>
                    <p:nvPr/>
                  </p:nvSpPr>
                  <p:spPr>
                    <a:xfrm>
                      <a:off x="3375720" y="3688920"/>
                      <a:ext cx="248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Window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29" name="Line 120"/>
              <p:cNvSpPr/>
              <p:nvPr/>
            </p:nvSpPr>
            <p:spPr>
              <a:xfrm>
                <a:off x="2971800" y="1905120"/>
                <a:ext cx="30456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30" name="Line 121"/>
              <p:cNvSpPr/>
              <p:nvPr/>
            </p:nvSpPr>
            <p:spPr>
              <a:xfrm>
                <a:off x="3124080" y="1905120"/>
                <a:ext cx="297180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31" name="Line 122"/>
              <p:cNvSpPr/>
              <p:nvPr/>
            </p:nvSpPr>
            <p:spPr>
              <a:xfrm>
                <a:off x="2971800" y="2057400"/>
                <a:ext cx="304560" cy="297180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3" name="Text Box 124"/>
          <p:cNvSpPr/>
          <p:nvPr/>
        </p:nvSpPr>
        <p:spPr>
          <a:xfrm>
            <a:off x="3352680" y="4229280"/>
            <a:ext cx="2667240" cy="7999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 =               + 0.1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E933-9D2D-4959-BF2B-86462367725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235" name="Group 2"/>
          <p:cNvGrpSpPr/>
          <p:nvPr/>
        </p:nvGrpSpPr>
        <p:grpSpPr>
          <a:xfrm>
            <a:off x="4876920" y="1905120"/>
            <a:ext cx="609480" cy="228600"/>
            <a:chOff x="4876920" y="1905120"/>
            <a:chExt cx="609480" cy="228600"/>
          </a:xfrm>
        </p:grpSpPr>
        <p:sp>
          <p:nvSpPr>
            <p:cNvPr id="1236" name="Rectangle 3"/>
            <p:cNvSpPr/>
            <p:nvPr/>
          </p:nvSpPr>
          <p:spPr>
            <a:xfrm>
              <a:off x="487692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7" name="Rectangle 4"/>
            <p:cNvSpPr/>
            <p:nvPr/>
          </p:nvSpPr>
          <p:spPr>
            <a:xfrm>
              <a:off x="533412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38" name="Group 5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239" name="Group 6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240" name="Rectangle 7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41" name="Group 8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242" name="Freeform 9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10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11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12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3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4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15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16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17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18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19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20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21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22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23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24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25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26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27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28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29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30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31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32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33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34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35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36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37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38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2" name="Group 39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273" name="Rectangle 40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74" name="Group 41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275" name="Freeform 42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Freeform 43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Freeform 44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Freeform 45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46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Freeform 47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Freeform 48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49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50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Freeform 51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52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53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Freeform 54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55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56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57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58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59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60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61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62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63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64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65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Freeform 66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Freeform 67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68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69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70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71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5" name="Line 72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6" name="Line 73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307" name="Group 74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308" name="AutoShape 75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09" name="Group 76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310" name="Freeform 77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78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Group 79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313" name="AutoShape 80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14" name="Group 81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315" name="Freeform 82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83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7" name="Line 84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8" name="Line 85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9" name="Line 86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320" name="Group 87"/>
          <p:cNvGrpSpPr/>
          <p:nvPr/>
        </p:nvGrpSpPr>
        <p:grpSpPr>
          <a:xfrm>
            <a:off x="4876920" y="1905120"/>
            <a:ext cx="3581280" cy="3124080"/>
            <a:chOff x="4876920" y="1905120"/>
            <a:chExt cx="3581280" cy="3124080"/>
          </a:xfrm>
        </p:grpSpPr>
        <p:grpSp>
          <p:nvGrpSpPr>
            <p:cNvPr id="1321" name="Group 88"/>
            <p:cNvGrpSpPr/>
            <p:nvPr/>
          </p:nvGrpSpPr>
          <p:grpSpPr>
            <a:xfrm>
              <a:off x="4876920" y="1905120"/>
              <a:ext cx="609480" cy="228600"/>
              <a:chOff x="4876920" y="1905120"/>
              <a:chExt cx="609480" cy="228600"/>
            </a:xfrm>
          </p:grpSpPr>
          <p:sp>
            <p:nvSpPr>
              <p:cNvPr id="1322" name="Rectangle 89"/>
              <p:cNvSpPr/>
              <p:nvPr/>
            </p:nvSpPr>
            <p:spPr>
              <a:xfrm>
                <a:off x="4876920" y="1905120"/>
                <a:ext cx="533520" cy="2286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3" name="Rectangle 90"/>
              <p:cNvSpPr/>
              <p:nvPr/>
            </p:nvSpPr>
            <p:spPr>
              <a:xfrm>
                <a:off x="5334120" y="1905120"/>
                <a:ext cx="152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91"/>
            <p:cNvGrpSpPr/>
            <p:nvPr/>
          </p:nvGrpSpPr>
          <p:grpSpPr>
            <a:xfrm>
              <a:off x="5334120" y="1905120"/>
              <a:ext cx="3124080" cy="3124080"/>
              <a:chOff x="5334120" y="1905120"/>
              <a:chExt cx="3124080" cy="3124080"/>
            </a:xfrm>
          </p:grpSpPr>
          <p:sp>
            <p:nvSpPr>
              <p:cNvPr id="1325" name="Line 92"/>
              <p:cNvSpPr/>
              <p:nvPr/>
            </p:nvSpPr>
            <p:spPr>
              <a:xfrm>
                <a:off x="5486400" y="1905120"/>
                <a:ext cx="297180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26" name="Group 93"/>
              <p:cNvGrpSpPr/>
              <p:nvPr/>
            </p:nvGrpSpPr>
            <p:grpSpPr>
              <a:xfrm>
                <a:off x="5334120" y="1905120"/>
                <a:ext cx="3086280" cy="3124080"/>
                <a:chOff x="5334120" y="1905120"/>
                <a:chExt cx="3086280" cy="3124080"/>
              </a:xfrm>
            </p:grpSpPr>
            <p:grpSp>
              <p:nvGrpSpPr>
                <p:cNvPr id="1327" name="Group 94"/>
                <p:cNvGrpSpPr/>
                <p:nvPr/>
              </p:nvGrpSpPr>
              <p:grpSpPr>
                <a:xfrm>
                  <a:off x="5639040" y="2895480"/>
                  <a:ext cx="2781360" cy="2133720"/>
                  <a:chOff x="5639040" y="2895480"/>
                  <a:chExt cx="2781360" cy="2133720"/>
                </a:xfrm>
              </p:grpSpPr>
              <p:sp>
                <p:nvSpPr>
                  <p:cNvPr id="1328" name="Text Box 95"/>
                  <p:cNvSpPr/>
                  <p:nvPr/>
                </p:nvSpPr>
                <p:spPr>
                  <a:xfrm>
                    <a:off x="5639040" y="4229280"/>
                    <a:ext cx="2765520" cy="799920"/>
                  </a:xfrm>
                  <a:prstGeom prst="rect">
                    <a:avLst/>
                  </a:prstGeom>
                  <a:solidFill>
                    <a:srgbClr val="c09e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eedback =                + 0.1 packet  </a:t>
                    </a:r>
                    <a:endParaRPr b="0" lang="en-US" sz="20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9" name="Group 96"/>
                  <p:cNvGrpSpPr/>
                  <p:nvPr/>
                </p:nvGrpSpPr>
                <p:grpSpPr>
                  <a:xfrm>
                    <a:off x="5639040" y="2895480"/>
                    <a:ext cx="2781360" cy="2133360"/>
                    <a:chOff x="5639040" y="2895480"/>
                    <a:chExt cx="2781360" cy="2133360"/>
                  </a:xfrm>
                </p:grpSpPr>
                <p:sp>
                  <p:nvSpPr>
                    <p:cNvPr id="1330" name="Rectangle 97"/>
                    <p:cNvSpPr/>
                    <p:nvPr/>
                  </p:nvSpPr>
                  <p:spPr>
                    <a:xfrm>
                      <a:off x="5639040" y="4206600"/>
                      <a:ext cx="2781360" cy="822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31" name="Group 98"/>
                    <p:cNvGrpSpPr/>
                    <p:nvPr/>
                  </p:nvGrpSpPr>
                  <p:grpSpPr>
                    <a:xfrm>
                      <a:off x="5639040" y="2895480"/>
                      <a:ext cx="2781000" cy="1310760"/>
                      <a:chOff x="5639040" y="2895480"/>
                      <a:chExt cx="2781000" cy="1310760"/>
                    </a:xfrm>
                  </p:grpSpPr>
                  <p:sp>
                    <p:nvSpPr>
                      <p:cNvPr id="1332" name="Rectangle 99"/>
                      <p:cNvSpPr/>
                      <p:nvPr/>
                    </p:nvSpPr>
                    <p:spPr>
                      <a:xfrm>
                        <a:off x="5639040" y="2895480"/>
                        <a:ext cx="2781000" cy="6562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Rectangle 100"/>
                      <p:cNvSpPr/>
                      <p:nvPr/>
                    </p:nvSpPr>
                    <p:spPr>
                      <a:xfrm>
                        <a:off x="5639040" y="3551760"/>
                        <a:ext cx="2781000" cy="6544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Text Box 101"/>
                      <p:cNvSpPr/>
                      <p:nvPr/>
                    </p:nvSpPr>
                    <p:spPr>
                      <a:xfrm>
                        <a:off x="5738400" y="302976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ound Trip Time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Text Box 102"/>
                      <p:cNvSpPr/>
                      <p:nvPr/>
                    </p:nvSpPr>
                    <p:spPr>
                      <a:xfrm>
                        <a:off x="5738400" y="368892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ngestion Window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36" name="Line 103"/>
                <p:cNvSpPr/>
                <p:nvPr/>
              </p:nvSpPr>
              <p:spPr>
                <a:xfrm>
                  <a:off x="5334120" y="1905120"/>
                  <a:ext cx="30492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104"/>
                <p:cNvSpPr/>
                <p:nvPr/>
              </p:nvSpPr>
              <p:spPr>
                <a:xfrm>
                  <a:off x="5334120" y="2057400"/>
                  <a:ext cx="304920" cy="297180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38" name="Text Box 105"/>
          <p:cNvSpPr/>
          <p:nvPr/>
        </p:nvSpPr>
        <p:spPr>
          <a:xfrm>
            <a:off x="5695920" y="4230720"/>
            <a:ext cx="2666880" cy="7999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 =                - 0.3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71BA-65D0-4BD5-A1BB-0EDEF9F45B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341" name="Group 2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342" name="Group 3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343" name="Rectangle 4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44" name="Group 5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345" name="Freeform 6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7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8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9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10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11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2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13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14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15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6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7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8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9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20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21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22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25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26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27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28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29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5" name="Group 36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376" name="Rectangle 37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7" name="Group 38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378" name="Freeform 39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40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41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42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43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44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52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53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54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55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56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57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58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59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60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61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62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63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64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65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66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Freeform 67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Freeform 68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8" name="Line 69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9" name="Line 70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10" name="Group 71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411" name="AutoShape 72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2" name="Group 73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413" name="Freeform 74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75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Group 76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416" name="AutoShape 77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7" name="Group 78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418" name="Freeform 79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80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0" name="Line 81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1" name="Line 82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2" name="Line 83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3" name="Group 84"/>
          <p:cNvGrpSpPr/>
          <p:nvPr/>
        </p:nvGrpSpPr>
        <p:grpSpPr>
          <a:xfrm>
            <a:off x="2286000" y="2438280"/>
            <a:ext cx="304920" cy="228600"/>
            <a:chOff x="2286000" y="2438280"/>
            <a:chExt cx="304920" cy="228600"/>
          </a:xfrm>
        </p:grpSpPr>
        <p:sp>
          <p:nvSpPr>
            <p:cNvPr id="1424" name="Rectangle 85"/>
            <p:cNvSpPr/>
            <p:nvPr/>
          </p:nvSpPr>
          <p:spPr>
            <a:xfrm>
              <a:off x="243828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5" name="Rectangle 86"/>
            <p:cNvSpPr/>
            <p:nvPr/>
          </p:nvSpPr>
          <p:spPr>
            <a:xfrm>
              <a:off x="228600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6" name="Group 87"/>
          <p:cNvGrpSpPr/>
          <p:nvPr/>
        </p:nvGrpSpPr>
        <p:grpSpPr>
          <a:xfrm>
            <a:off x="4800600" y="2438280"/>
            <a:ext cx="304920" cy="228600"/>
            <a:chOff x="4800600" y="2438280"/>
            <a:chExt cx="304920" cy="228600"/>
          </a:xfrm>
        </p:grpSpPr>
        <p:sp>
          <p:nvSpPr>
            <p:cNvPr id="1427" name="Rectangle 88"/>
            <p:cNvSpPr/>
            <p:nvPr/>
          </p:nvSpPr>
          <p:spPr>
            <a:xfrm>
              <a:off x="495288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8" name="Rectangle 89"/>
            <p:cNvSpPr/>
            <p:nvPr/>
          </p:nvSpPr>
          <p:spPr>
            <a:xfrm>
              <a:off x="480060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9" name="Group 90"/>
          <p:cNvGrpSpPr/>
          <p:nvPr/>
        </p:nvGrpSpPr>
        <p:grpSpPr>
          <a:xfrm>
            <a:off x="6781680" y="2438280"/>
            <a:ext cx="304920" cy="228600"/>
            <a:chOff x="6781680" y="2438280"/>
            <a:chExt cx="304920" cy="228600"/>
          </a:xfrm>
        </p:grpSpPr>
        <p:sp>
          <p:nvSpPr>
            <p:cNvPr id="1430" name="Rectangle 91"/>
            <p:cNvSpPr/>
            <p:nvPr/>
          </p:nvSpPr>
          <p:spPr>
            <a:xfrm>
              <a:off x="693396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1" name="Rectangle 92"/>
            <p:cNvSpPr/>
            <p:nvPr/>
          </p:nvSpPr>
          <p:spPr>
            <a:xfrm>
              <a:off x="678168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32" name="AutoShape 93"/>
          <p:cNvSpPr/>
          <p:nvPr/>
        </p:nvSpPr>
        <p:spPr>
          <a:xfrm>
            <a:off x="357120" y="2922480"/>
            <a:ext cx="7923240" cy="735120"/>
          </a:xfrm>
          <a:prstGeom prst="wedgeRectCallout">
            <a:avLst>
              <a:gd name="adj1" fmla="val -37675"/>
              <a:gd name="adj2" fmla="val -159935"/>
            </a:avLst>
          </a:prstGeom>
          <a:solidFill>
            <a:srgbClr val="c09e4a"/>
          </a:solidFill>
          <a:ln cap="sq"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Window = Congestion Window + Feedb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3" name="Text Box 94"/>
          <p:cNvSpPr/>
          <p:nvPr/>
        </p:nvSpPr>
        <p:spPr>
          <a:xfrm>
            <a:off x="517680" y="4816440"/>
            <a:ext cx="8076960" cy="119124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outers compute feedback without any per-flow state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34" name="Group 95"/>
          <p:cNvGrpSpPr/>
          <p:nvPr/>
        </p:nvGrpSpPr>
        <p:grpSpPr>
          <a:xfrm>
            <a:off x="6400800" y="1905120"/>
            <a:ext cx="609480" cy="228600"/>
            <a:chOff x="6400800" y="1905120"/>
            <a:chExt cx="609480" cy="228600"/>
          </a:xfrm>
        </p:grpSpPr>
        <p:sp>
          <p:nvSpPr>
            <p:cNvPr id="1435" name="Rectangle 96"/>
            <p:cNvSpPr/>
            <p:nvPr/>
          </p:nvSpPr>
          <p:spPr>
            <a:xfrm>
              <a:off x="640080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6" name="Rectangle 97"/>
            <p:cNvSpPr/>
            <p:nvPr/>
          </p:nvSpPr>
          <p:spPr>
            <a:xfrm>
              <a:off x="685800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37" name="Rectangle 98"/>
          <p:cNvSpPr/>
          <p:nvPr/>
        </p:nvSpPr>
        <p:spPr>
          <a:xfrm>
            <a:off x="6248520" y="17524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9" name="Text Box 100"/>
          <p:cNvSpPr/>
          <p:nvPr/>
        </p:nvSpPr>
        <p:spPr>
          <a:xfrm>
            <a:off x="787320" y="3889440"/>
            <a:ext cx="740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CP extends ECN and CSFQ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5F1-B787-40E4-932D-29B9746C4F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n XCP Router Compute the Feedback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2" name="Rectangle 3"/>
          <p:cNvSpPr/>
          <p:nvPr/>
        </p:nvSpPr>
        <p:spPr>
          <a:xfrm>
            <a:off x="228600" y="1328760"/>
            <a:ext cx="4343400" cy="50720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724280" y="1328760"/>
            <a:ext cx="4267440" cy="50720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228600" y="1328760"/>
            <a:ext cx="449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ngestion Controlle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Text Box 6"/>
          <p:cNvSpPr/>
          <p:nvPr/>
        </p:nvSpPr>
        <p:spPr>
          <a:xfrm>
            <a:off x="4800600" y="1295280"/>
            <a:ext cx="411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airness Controlle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46" name="Group 26"/>
          <p:cNvGrpSpPr/>
          <p:nvPr/>
        </p:nvGrpSpPr>
        <p:grpSpPr>
          <a:xfrm>
            <a:off x="4724280" y="2009880"/>
            <a:ext cx="4324320" cy="4625280"/>
            <a:chOff x="4724280" y="2009880"/>
            <a:chExt cx="4324320" cy="4625280"/>
          </a:xfrm>
        </p:grpSpPr>
        <p:sp>
          <p:nvSpPr>
            <p:cNvPr id="1447" name="Text Box 8"/>
            <p:cNvSpPr/>
            <p:nvPr/>
          </p:nvSpPr>
          <p:spPr>
            <a:xfrm>
              <a:off x="4724280" y="2009880"/>
              <a:ext cx="4038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oal: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s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between flows to converge to fairnes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8" name="Text Box 9"/>
            <p:cNvSpPr/>
            <p:nvPr/>
          </p:nvSpPr>
          <p:spPr>
            <a:xfrm>
              <a:off x="4791240" y="3000240"/>
              <a:ext cx="39621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ooks at a flow</a:t>
              </a:r>
              <a:r>
                <a:rPr b="0" lang="ja-JP" sz="22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 state in Congestion Header 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9" name="Text Box 10"/>
            <p:cNvSpPr/>
            <p:nvPr/>
          </p:nvSpPr>
          <p:spPr>
            <a:xfrm>
              <a:off x="4781520" y="3990600"/>
              <a:ext cx="4267080" cy="26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&gt; 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equally between flow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&lt; 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between flows proportionally to their current rate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0" name="Group 11"/>
          <p:cNvGrpSpPr/>
          <p:nvPr/>
        </p:nvGrpSpPr>
        <p:grpSpPr>
          <a:xfrm>
            <a:off x="2228760" y="3508200"/>
            <a:ext cx="6131160" cy="662040"/>
            <a:chOff x="2228760" y="3508200"/>
            <a:chExt cx="6131160" cy="662040"/>
          </a:xfrm>
        </p:grpSpPr>
        <p:sp>
          <p:nvSpPr>
            <p:cNvPr id="1451" name="AutoShape 12"/>
            <p:cNvSpPr/>
            <p:nvPr/>
          </p:nvSpPr>
          <p:spPr>
            <a:xfrm>
              <a:off x="2228760" y="3520800"/>
              <a:ext cx="1590840" cy="649440"/>
            </a:xfrm>
            <a:prstGeom prst="wedgeRectCallout">
              <a:avLst>
                <a:gd name="adj1" fmla="val -85527"/>
                <a:gd name="adj2" fmla="val 60513"/>
              </a:avLst>
            </a:prstGeom>
            <a:solidFill>
              <a:srgbClr val="c09e4a"/>
            </a:solidFill>
            <a:ln cap="sq"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IMD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2" name="AutoShape 13"/>
            <p:cNvSpPr/>
            <p:nvPr/>
          </p:nvSpPr>
          <p:spPr>
            <a:xfrm>
              <a:off x="6769080" y="3508200"/>
              <a:ext cx="1590840" cy="649080"/>
            </a:xfrm>
            <a:prstGeom prst="wedgeRectCallout">
              <a:avLst>
                <a:gd name="adj1" fmla="val -84731"/>
                <a:gd name="adj2" fmla="val 74203"/>
              </a:avLst>
            </a:prstGeom>
            <a:solidFill>
              <a:srgbClr val="c09e4a"/>
            </a:solidFill>
            <a:ln cap="sq"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IMD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3" name="Group 14"/>
          <p:cNvGrpSpPr/>
          <p:nvPr/>
        </p:nvGrpSpPr>
        <p:grpSpPr>
          <a:xfrm>
            <a:off x="228600" y="2090880"/>
            <a:ext cx="4343400" cy="4400280"/>
            <a:chOff x="228600" y="2090880"/>
            <a:chExt cx="4343400" cy="4400280"/>
          </a:xfrm>
        </p:grpSpPr>
        <p:sp>
          <p:nvSpPr>
            <p:cNvPr id="1454" name="Text Box 15"/>
            <p:cNvSpPr/>
            <p:nvPr/>
          </p:nvSpPr>
          <p:spPr>
            <a:xfrm>
              <a:off x="228600" y="2090880"/>
              <a:ext cx="434340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oal: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Matches input traffic to link capacity &amp; drains the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5" name="Text Box 16"/>
            <p:cNvSpPr/>
            <p:nvPr/>
          </p:nvSpPr>
          <p:spPr>
            <a:xfrm>
              <a:off x="228600" y="3097440"/>
              <a:ext cx="3962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ooks at aggregate traffic &amp;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6" name="Text Box 17"/>
            <p:cNvSpPr/>
            <p:nvPr/>
          </p:nvSpPr>
          <p:spPr>
            <a:xfrm>
              <a:off x="228600" y="3996000"/>
              <a:ext cx="4343400" cy="24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ggregate traffic changes by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~ Spare Bandwidth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buClr>
                  <a:srgbClr val="8383ad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~ - Queue Siz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o,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=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d</a:t>
              </a:r>
              <a:r>
                <a:rPr b="0" i="1" lang="en-US" sz="2200" spc="-1" strike="noStrike" baseline="-25000">
                  <a:solidFill>
                    <a:srgbClr val="ff3300"/>
                  </a:solidFill>
                  <a:latin typeface="Comic Sans MS"/>
                </a:rPr>
                <a:t>avg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Spare -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7" name="Group 18"/>
          <p:cNvGrpSpPr/>
          <p:nvPr/>
        </p:nvGrpSpPr>
        <p:grpSpPr>
          <a:xfrm>
            <a:off x="266760" y="1351080"/>
            <a:ext cx="8653320" cy="2049480"/>
            <a:chOff x="266760" y="1351080"/>
            <a:chExt cx="8653320" cy="2049480"/>
          </a:xfrm>
        </p:grpSpPr>
        <p:sp>
          <p:nvSpPr>
            <p:cNvPr id="1458" name="Text Box 19"/>
            <p:cNvSpPr/>
            <p:nvPr/>
          </p:nvSpPr>
          <p:spPr>
            <a:xfrm>
              <a:off x="266760" y="1351080"/>
              <a:ext cx="8653320" cy="2049480"/>
            </a:xfrm>
            <a:prstGeom prst="rect">
              <a:avLst/>
            </a:prstGeom>
            <a:solidFill>
              <a:srgbClr val="790015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9" name="Line 20"/>
            <p:cNvSpPr/>
            <p:nvPr/>
          </p:nvSpPr>
          <p:spPr>
            <a:xfrm>
              <a:off x="3986280" y="2336760"/>
              <a:ext cx="1422360" cy="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0" name="Line 21"/>
            <p:cNvSpPr/>
            <p:nvPr/>
          </p:nvSpPr>
          <p:spPr>
            <a:xfrm>
              <a:off x="7558200" y="2311200"/>
              <a:ext cx="1125360" cy="1224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2040" bIns="-32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1" name="Line 22"/>
            <p:cNvSpPr/>
            <p:nvPr/>
          </p:nvSpPr>
          <p:spPr>
            <a:xfrm flipV="1">
              <a:off x="582480" y="2323440"/>
              <a:ext cx="1140120" cy="1260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1680" bIns="-31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2" name="Text Box 23"/>
            <p:cNvSpPr/>
            <p:nvPr/>
          </p:nvSpPr>
          <p:spPr>
            <a:xfrm>
              <a:off x="4440240" y="1765080"/>
              <a:ext cx="466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3" name="Text Box 24"/>
            <p:cNvSpPr/>
            <p:nvPr/>
          </p:nvSpPr>
          <p:spPr>
            <a:xfrm>
              <a:off x="1762200" y="1866600"/>
              <a:ext cx="2162160" cy="880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Congestion Controller</a:t>
              </a: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4" name="Text Box 25"/>
            <p:cNvSpPr/>
            <p:nvPr/>
          </p:nvSpPr>
          <p:spPr>
            <a:xfrm>
              <a:off x="5446800" y="1866600"/>
              <a:ext cx="2162160" cy="880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Fairness Controller</a:t>
              </a: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30A0-09DA-428D-B6EB-B82B31DB60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66" name="Group 2"/>
          <p:cNvGrpSpPr/>
          <p:nvPr/>
        </p:nvGrpSpPr>
        <p:grpSpPr>
          <a:xfrm>
            <a:off x="200160" y="1914480"/>
            <a:ext cx="4448160" cy="4516200"/>
            <a:chOff x="200160" y="1914480"/>
            <a:chExt cx="4448160" cy="4516200"/>
          </a:xfrm>
        </p:grpSpPr>
        <p:grpSp>
          <p:nvGrpSpPr>
            <p:cNvPr id="1467" name="Group 3"/>
            <p:cNvGrpSpPr/>
            <p:nvPr/>
          </p:nvGrpSpPr>
          <p:grpSpPr>
            <a:xfrm>
              <a:off x="200160" y="1914480"/>
              <a:ext cx="4448160" cy="3240000"/>
              <a:chOff x="200160" y="1914480"/>
              <a:chExt cx="4448160" cy="3240000"/>
            </a:xfrm>
          </p:grpSpPr>
          <p:sp>
            <p:nvSpPr>
              <p:cNvPr id="1468" name="Text Box 4"/>
              <p:cNvSpPr/>
              <p:nvPr/>
            </p:nvSpPr>
            <p:spPr>
              <a:xfrm>
                <a:off x="304920" y="1914480"/>
                <a:ext cx="4343400" cy="87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d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Comic Sans MS"/>
                  </a:rPr>
                  <a:t>avg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Spare -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Queue</a:t>
                </a: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69" name="Group 5"/>
              <p:cNvGrpSpPr/>
              <p:nvPr/>
            </p:nvGrpSpPr>
            <p:grpSpPr>
              <a:xfrm>
                <a:off x="257400" y="4233960"/>
                <a:ext cx="4086360" cy="920520"/>
                <a:chOff x="257400" y="4233960"/>
                <a:chExt cx="4086360" cy="920520"/>
              </a:xfrm>
            </p:grpSpPr>
            <p:sp>
              <p:nvSpPr>
                <p:cNvPr id="1470" name="Rectangle 6"/>
                <p:cNvSpPr/>
                <p:nvPr/>
              </p:nvSpPr>
              <p:spPr>
                <a:xfrm>
                  <a:off x="257400" y="4233960"/>
                  <a:ext cx="4086360" cy="920520"/>
                </a:xfrm>
                <a:prstGeom prst="rect">
                  <a:avLst/>
                </a:prstGeom>
                <a:solidFill>
                  <a:srgbClr val="d0dd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1" name="Object 7"/>
                    <p:cNvSpPr txBox="1"/>
                    <p:nvPr/>
                  </p:nvSpPr>
                  <p:spPr>
                    <a:xfrm>
                      <a:off x="459000" y="4233960"/>
                      <a:ext cx="3727440" cy="850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α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den>
                          </m:f>
                          <m:m>
                            <m:mr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d</m:t>
                                </m:r>
                                <m:m>
                                  <m:mr>
                                    <m:e/>
                                    <m:e>
                                      <m:r>
                                        <m:t xml:space="preserve">β</m:t>
                                      </m:r>
                                      <m:r>
                                        <m:t xml:space="preserve">=</m:t>
                                      </m:r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rad>
                                    </m:e>
                                  </m:mr>
                                </m:m>
                              </m:e>
                            </m:mr>
                          </m:m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472" name="Text Box 8"/>
              <p:cNvSpPr/>
              <p:nvPr/>
            </p:nvSpPr>
            <p:spPr>
              <a:xfrm>
                <a:off x="200160" y="2619360"/>
                <a:ext cx="4200480" cy="14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Theorem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System converges to optimal utilization (i.e., stable) for any link bandwidth, delay, number of sources if:</a:t>
                </a: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Text Box 9"/>
            <p:cNvSpPr/>
            <p:nvPr/>
          </p:nvSpPr>
          <p:spPr>
            <a:xfrm>
              <a:off x="219240" y="5610240"/>
              <a:ext cx="41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Proof based on Nyquist Criterion)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28600" y="18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etting the devil out of the details …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5" name="Rectangle 11"/>
          <p:cNvSpPr/>
          <p:nvPr/>
        </p:nvSpPr>
        <p:spPr>
          <a:xfrm>
            <a:off x="133200" y="1295280"/>
            <a:ext cx="4343400" cy="5218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Rectangle 12"/>
          <p:cNvSpPr/>
          <p:nvPr/>
        </p:nvSpPr>
        <p:spPr>
          <a:xfrm>
            <a:off x="4629240" y="1295280"/>
            <a:ext cx="4314600" cy="5218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Text Box 13"/>
          <p:cNvSpPr/>
          <p:nvPr/>
        </p:nvSpPr>
        <p:spPr>
          <a:xfrm>
            <a:off x="133200" y="1324080"/>
            <a:ext cx="44960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Comic Sans MS"/>
              </a:rPr>
              <a:t>Congestion Controller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Text Box 14"/>
          <p:cNvSpPr/>
          <p:nvPr/>
        </p:nvSpPr>
        <p:spPr>
          <a:xfrm>
            <a:off x="4705200" y="1295280"/>
            <a:ext cx="4114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Comic Sans MS"/>
              </a:rPr>
              <a:t>Fairness Controller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Text Box 15"/>
          <p:cNvSpPr/>
          <p:nvPr/>
        </p:nvSpPr>
        <p:spPr>
          <a:xfrm>
            <a:off x="209520" y="5735520"/>
            <a:ext cx="4105440" cy="100764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o Parameter Tuning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80" name="Group 16"/>
          <p:cNvGrpSpPr/>
          <p:nvPr/>
        </p:nvGrpSpPr>
        <p:grpSpPr>
          <a:xfrm>
            <a:off x="4667400" y="1697040"/>
            <a:ext cx="4476600" cy="4749120"/>
            <a:chOff x="4667400" y="1697040"/>
            <a:chExt cx="4476600" cy="4749120"/>
          </a:xfrm>
        </p:grpSpPr>
        <p:sp>
          <p:nvSpPr>
            <p:cNvPr id="1481" name="Text Box 17"/>
            <p:cNvSpPr/>
            <p:nvPr/>
          </p:nvSpPr>
          <p:spPr>
            <a:xfrm>
              <a:off x="4686480" y="1697040"/>
              <a:ext cx="4267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&gt; 0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equally between flow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&lt; 0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between flows proportionally to their current rate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2" name="Text Box 18"/>
            <p:cNvSpPr/>
            <p:nvPr/>
          </p:nvSpPr>
          <p:spPr>
            <a:xfrm>
              <a:off x="4695840" y="3011400"/>
              <a:ext cx="3962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eed to estimate number of flow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3" name="Object 19"/>
                <p:cNvSpPr txBox="1"/>
                <p:nvPr/>
              </p:nvSpPr>
              <p:spPr>
                <a:xfrm>
                  <a:off x="5016600" y="4145040"/>
                  <a:ext cx="35449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pkts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T</m:t>
                          </m:r>
                        </m:sub>
                        <m:sup/>
                        <m:e>
                          <m:f>
                            <m:num>
                              <m:sSub>
                                <m:e/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  <m:r>
                                <m:t xml:space="preserve">×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wnd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kt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T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kt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484" name="Text Box 20"/>
            <p:cNvSpPr/>
            <p:nvPr/>
          </p:nvSpPr>
          <p:spPr>
            <a:xfrm>
              <a:off x="4667400" y="5344920"/>
              <a:ext cx="4476600" cy="11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pk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Round Trip Time in header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Cwn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pk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Congestion Window in he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Counting Interval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85" name="Text Box 21"/>
          <p:cNvSpPr/>
          <p:nvPr/>
        </p:nvSpPr>
        <p:spPr>
          <a:xfrm>
            <a:off x="4724280" y="5751360"/>
            <a:ext cx="4143600" cy="55080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o Per-Flow State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 vs.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do we need per flow tracking? At what c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Q vs. XCP/CS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arse-grained fairness suffici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behaving routers/trusting the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loyment (and incen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painful is FQ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 vs CSFQ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key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nularity of fair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hanism vs. polic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ll see this in Q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F6E0-5BAD-4E83-BC9A-EF4D7526C2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2E4B-EDE0-4C6A-825F-73C7C3B6D3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ortant Less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CP implement AIM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ding window, slow start &amp; ack c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maintain ack clocking during loss re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st reco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CP fully utilize a lin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of router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being used in new/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hang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1D44-8963-4D8C-A03A-48CCC7948D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f flows are synchroniz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window has sam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buffer occupancy has sam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of-thumb still ho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"/>
          <p:cNvSpPr/>
          <p:nvPr/>
        </p:nvSpPr>
        <p:spPr>
          <a:xfrm>
            <a:off x="2100240" y="1541520"/>
            <a:ext cx="5410080" cy="28954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37" name="Group 5"/>
          <p:cNvGrpSpPr/>
          <p:nvPr/>
        </p:nvGrpSpPr>
        <p:grpSpPr>
          <a:xfrm>
            <a:off x="2481120" y="3294000"/>
            <a:ext cx="4572000" cy="685800"/>
            <a:chOff x="2481120" y="3294000"/>
            <a:chExt cx="4572000" cy="685800"/>
          </a:xfrm>
        </p:grpSpPr>
        <p:grpSp>
          <p:nvGrpSpPr>
            <p:cNvPr id="638" name="Group 6"/>
            <p:cNvGrpSpPr/>
            <p:nvPr/>
          </p:nvGrpSpPr>
          <p:grpSpPr>
            <a:xfrm>
              <a:off x="2481120" y="3294000"/>
              <a:ext cx="1143000" cy="685800"/>
              <a:chOff x="2481120" y="3294000"/>
              <a:chExt cx="1143000" cy="685800"/>
            </a:xfrm>
          </p:grpSpPr>
          <p:sp>
            <p:nvSpPr>
              <p:cNvPr id="639" name="Freeform 7"/>
              <p:cNvSpPr/>
              <p:nvPr/>
            </p:nvSpPr>
            <p:spPr>
              <a:xfrm>
                <a:off x="2481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0" name="Line 8"/>
              <p:cNvSpPr/>
              <p:nvPr/>
            </p:nvSpPr>
            <p:spPr>
              <a:xfrm>
                <a:off x="3547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"/>
            <p:cNvGrpSpPr/>
            <p:nvPr/>
          </p:nvGrpSpPr>
          <p:grpSpPr>
            <a:xfrm>
              <a:off x="3624120" y="3294000"/>
              <a:ext cx="1143000" cy="685800"/>
              <a:chOff x="3624120" y="3294000"/>
              <a:chExt cx="1143000" cy="685800"/>
            </a:xfrm>
          </p:grpSpPr>
          <p:sp>
            <p:nvSpPr>
              <p:cNvPr id="642" name="Freeform 10"/>
              <p:cNvSpPr/>
              <p:nvPr/>
            </p:nvSpPr>
            <p:spPr>
              <a:xfrm>
                <a:off x="3624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3" name="Line 11"/>
              <p:cNvSpPr/>
              <p:nvPr/>
            </p:nvSpPr>
            <p:spPr>
              <a:xfrm>
                <a:off x="4690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2"/>
            <p:cNvGrpSpPr/>
            <p:nvPr/>
          </p:nvGrpSpPr>
          <p:grpSpPr>
            <a:xfrm>
              <a:off x="4767120" y="3294000"/>
              <a:ext cx="1143000" cy="685800"/>
              <a:chOff x="4767120" y="3294000"/>
              <a:chExt cx="1143000" cy="685800"/>
            </a:xfrm>
          </p:grpSpPr>
          <p:sp>
            <p:nvSpPr>
              <p:cNvPr id="645" name="Freeform 13"/>
              <p:cNvSpPr/>
              <p:nvPr/>
            </p:nvSpPr>
            <p:spPr>
              <a:xfrm>
                <a:off x="4767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6" name="Line 14"/>
              <p:cNvSpPr/>
              <p:nvPr/>
            </p:nvSpPr>
            <p:spPr>
              <a:xfrm>
                <a:off x="5833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5"/>
            <p:cNvGrpSpPr/>
            <p:nvPr/>
          </p:nvGrpSpPr>
          <p:grpSpPr>
            <a:xfrm>
              <a:off x="5910120" y="3294000"/>
              <a:ext cx="1143000" cy="685800"/>
              <a:chOff x="5910120" y="3294000"/>
              <a:chExt cx="1143000" cy="685800"/>
            </a:xfrm>
          </p:grpSpPr>
          <p:sp>
            <p:nvSpPr>
              <p:cNvPr id="648" name="Freeform 16"/>
              <p:cNvSpPr/>
              <p:nvPr/>
            </p:nvSpPr>
            <p:spPr>
              <a:xfrm>
                <a:off x="5910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9" name="Line 17"/>
              <p:cNvSpPr/>
              <p:nvPr/>
            </p:nvSpPr>
            <p:spPr>
              <a:xfrm>
                <a:off x="6976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" name="Line 18"/>
          <p:cNvSpPr/>
          <p:nvPr/>
        </p:nvSpPr>
        <p:spPr>
          <a:xfrm>
            <a:off x="1947960" y="329400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Line 19"/>
          <p:cNvSpPr/>
          <p:nvPr/>
        </p:nvSpPr>
        <p:spPr>
          <a:xfrm>
            <a:off x="1947960" y="3979800"/>
            <a:ext cx="167616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1467000" y="3675240"/>
                <a:ext cx="480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Text Box 21"/>
          <p:cNvSpPr/>
          <p:nvPr/>
        </p:nvSpPr>
        <p:spPr>
          <a:xfrm>
            <a:off x="6978600" y="4375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54" name="Group 22"/>
          <p:cNvGrpSpPr/>
          <p:nvPr/>
        </p:nvGrpSpPr>
        <p:grpSpPr>
          <a:xfrm>
            <a:off x="2514600" y="3313080"/>
            <a:ext cx="4572000" cy="685800"/>
            <a:chOff x="2514600" y="3313080"/>
            <a:chExt cx="4572000" cy="685800"/>
          </a:xfrm>
        </p:grpSpPr>
        <p:grpSp>
          <p:nvGrpSpPr>
            <p:cNvPr id="655" name="Group 23"/>
            <p:cNvGrpSpPr/>
            <p:nvPr/>
          </p:nvGrpSpPr>
          <p:grpSpPr>
            <a:xfrm>
              <a:off x="2514600" y="3313080"/>
              <a:ext cx="1143000" cy="685800"/>
              <a:chOff x="2514600" y="3313080"/>
              <a:chExt cx="1143000" cy="685800"/>
            </a:xfrm>
          </p:grpSpPr>
          <p:sp>
            <p:nvSpPr>
              <p:cNvPr id="656" name="Freeform 24"/>
              <p:cNvSpPr/>
              <p:nvPr/>
            </p:nvSpPr>
            <p:spPr>
              <a:xfrm>
                <a:off x="2514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7" name="Line 25"/>
              <p:cNvSpPr/>
              <p:nvPr/>
            </p:nvSpPr>
            <p:spPr>
              <a:xfrm>
                <a:off x="3581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26"/>
            <p:cNvGrpSpPr/>
            <p:nvPr/>
          </p:nvGrpSpPr>
          <p:grpSpPr>
            <a:xfrm>
              <a:off x="3657600" y="3313080"/>
              <a:ext cx="1143000" cy="685800"/>
              <a:chOff x="3657600" y="3313080"/>
              <a:chExt cx="1143000" cy="685800"/>
            </a:xfrm>
          </p:grpSpPr>
          <p:sp>
            <p:nvSpPr>
              <p:cNvPr id="659" name="Freeform 27"/>
              <p:cNvSpPr/>
              <p:nvPr/>
            </p:nvSpPr>
            <p:spPr>
              <a:xfrm>
                <a:off x="3657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0" name="Line 28"/>
              <p:cNvSpPr/>
              <p:nvPr/>
            </p:nvSpPr>
            <p:spPr>
              <a:xfrm>
                <a:off x="4724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29"/>
            <p:cNvGrpSpPr/>
            <p:nvPr/>
          </p:nvGrpSpPr>
          <p:grpSpPr>
            <a:xfrm>
              <a:off x="4800600" y="3313080"/>
              <a:ext cx="1143000" cy="685800"/>
              <a:chOff x="4800600" y="3313080"/>
              <a:chExt cx="1143000" cy="685800"/>
            </a:xfrm>
          </p:grpSpPr>
          <p:sp>
            <p:nvSpPr>
              <p:cNvPr id="662" name="Freeform 30"/>
              <p:cNvSpPr/>
              <p:nvPr/>
            </p:nvSpPr>
            <p:spPr>
              <a:xfrm>
                <a:off x="4800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3" name="Line 31"/>
              <p:cNvSpPr/>
              <p:nvPr/>
            </p:nvSpPr>
            <p:spPr>
              <a:xfrm>
                <a:off x="5867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32"/>
            <p:cNvGrpSpPr/>
            <p:nvPr/>
          </p:nvGrpSpPr>
          <p:grpSpPr>
            <a:xfrm>
              <a:off x="5943600" y="3313080"/>
              <a:ext cx="1143000" cy="685800"/>
              <a:chOff x="5943600" y="3313080"/>
              <a:chExt cx="1143000" cy="685800"/>
            </a:xfrm>
          </p:grpSpPr>
          <p:sp>
            <p:nvSpPr>
              <p:cNvPr id="665" name="Freeform 33"/>
              <p:cNvSpPr/>
              <p:nvPr/>
            </p:nvSpPr>
            <p:spPr>
              <a:xfrm>
                <a:off x="5943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6" name="Line 34"/>
              <p:cNvSpPr/>
              <p:nvPr/>
            </p:nvSpPr>
            <p:spPr>
              <a:xfrm>
                <a:off x="7010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35"/>
          <p:cNvGrpSpPr/>
          <p:nvPr/>
        </p:nvGrpSpPr>
        <p:grpSpPr>
          <a:xfrm>
            <a:off x="2548080" y="3332160"/>
            <a:ext cx="4572000" cy="685800"/>
            <a:chOff x="2548080" y="3332160"/>
            <a:chExt cx="4572000" cy="685800"/>
          </a:xfrm>
        </p:grpSpPr>
        <p:grpSp>
          <p:nvGrpSpPr>
            <p:cNvPr id="668" name="Group 36"/>
            <p:cNvGrpSpPr/>
            <p:nvPr/>
          </p:nvGrpSpPr>
          <p:grpSpPr>
            <a:xfrm>
              <a:off x="2548080" y="3332160"/>
              <a:ext cx="1143000" cy="685800"/>
              <a:chOff x="2548080" y="3332160"/>
              <a:chExt cx="1143000" cy="685800"/>
            </a:xfrm>
          </p:grpSpPr>
          <p:sp>
            <p:nvSpPr>
              <p:cNvPr id="669" name="Freeform 37"/>
              <p:cNvSpPr/>
              <p:nvPr/>
            </p:nvSpPr>
            <p:spPr>
              <a:xfrm>
                <a:off x="2548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0" name="Line 38"/>
              <p:cNvSpPr/>
              <p:nvPr/>
            </p:nvSpPr>
            <p:spPr>
              <a:xfrm>
                <a:off x="3614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39"/>
            <p:cNvGrpSpPr/>
            <p:nvPr/>
          </p:nvGrpSpPr>
          <p:grpSpPr>
            <a:xfrm>
              <a:off x="3691080" y="3332160"/>
              <a:ext cx="1143000" cy="685800"/>
              <a:chOff x="3691080" y="3332160"/>
              <a:chExt cx="1143000" cy="685800"/>
            </a:xfrm>
          </p:grpSpPr>
          <p:sp>
            <p:nvSpPr>
              <p:cNvPr id="672" name="Freeform 40"/>
              <p:cNvSpPr/>
              <p:nvPr/>
            </p:nvSpPr>
            <p:spPr>
              <a:xfrm>
                <a:off x="3691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3" name="Line 41"/>
              <p:cNvSpPr/>
              <p:nvPr/>
            </p:nvSpPr>
            <p:spPr>
              <a:xfrm>
                <a:off x="4757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42"/>
            <p:cNvGrpSpPr/>
            <p:nvPr/>
          </p:nvGrpSpPr>
          <p:grpSpPr>
            <a:xfrm>
              <a:off x="4834080" y="3332160"/>
              <a:ext cx="1143000" cy="685800"/>
              <a:chOff x="4834080" y="3332160"/>
              <a:chExt cx="1143000" cy="685800"/>
            </a:xfrm>
          </p:grpSpPr>
          <p:sp>
            <p:nvSpPr>
              <p:cNvPr id="675" name="Freeform 43"/>
              <p:cNvSpPr/>
              <p:nvPr/>
            </p:nvSpPr>
            <p:spPr>
              <a:xfrm>
                <a:off x="4834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6" name="Line 44"/>
              <p:cNvSpPr/>
              <p:nvPr/>
            </p:nvSpPr>
            <p:spPr>
              <a:xfrm>
                <a:off x="5900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45"/>
            <p:cNvGrpSpPr/>
            <p:nvPr/>
          </p:nvGrpSpPr>
          <p:grpSpPr>
            <a:xfrm>
              <a:off x="5977080" y="3332160"/>
              <a:ext cx="1143000" cy="685800"/>
              <a:chOff x="5977080" y="3332160"/>
              <a:chExt cx="1143000" cy="685800"/>
            </a:xfrm>
          </p:grpSpPr>
          <p:sp>
            <p:nvSpPr>
              <p:cNvPr id="678" name="Freeform 46"/>
              <p:cNvSpPr/>
              <p:nvPr/>
            </p:nvSpPr>
            <p:spPr>
              <a:xfrm>
                <a:off x="5977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9" name="Line 47"/>
              <p:cNvSpPr/>
              <p:nvPr/>
            </p:nvSpPr>
            <p:spPr>
              <a:xfrm>
                <a:off x="7043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Group 48"/>
          <p:cNvGrpSpPr/>
          <p:nvPr/>
        </p:nvGrpSpPr>
        <p:grpSpPr>
          <a:xfrm>
            <a:off x="2581200" y="3351240"/>
            <a:ext cx="4572000" cy="685800"/>
            <a:chOff x="2581200" y="3351240"/>
            <a:chExt cx="4572000" cy="685800"/>
          </a:xfrm>
        </p:grpSpPr>
        <p:grpSp>
          <p:nvGrpSpPr>
            <p:cNvPr id="681" name="Group 49"/>
            <p:cNvGrpSpPr/>
            <p:nvPr/>
          </p:nvGrpSpPr>
          <p:grpSpPr>
            <a:xfrm>
              <a:off x="2581200" y="3351240"/>
              <a:ext cx="1143000" cy="685800"/>
              <a:chOff x="2581200" y="3351240"/>
              <a:chExt cx="1143000" cy="685800"/>
            </a:xfrm>
          </p:grpSpPr>
          <p:sp>
            <p:nvSpPr>
              <p:cNvPr id="682" name="Freeform 50"/>
              <p:cNvSpPr/>
              <p:nvPr/>
            </p:nvSpPr>
            <p:spPr>
              <a:xfrm>
                <a:off x="2581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3" name="Line 51"/>
              <p:cNvSpPr/>
              <p:nvPr/>
            </p:nvSpPr>
            <p:spPr>
              <a:xfrm>
                <a:off x="3647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52"/>
            <p:cNvGrpSpPr/>
            <p:nvPr/>
          </p:nvGrpSpPr>
          <p:grpSpPr>
            <a:xfrm>
              <a:off x="3724200" y="3351240"/>
              <a:ext cx="1143000" cy="685800"/>
              <a:chOff x="3724200" y="3351240"/>
              <a:chExt cx="1143000" cy="685800"/>
            </a:xfrm>
          </p:grpSpPr>
          <p:sp>
            <p:nvSpPr>
              <p:cNvPr id="685" name="Freeform 53"/>
              <p:cNvSpPr/>
              <p:nvPr/>
            </p:nvSpPr>
            <p:spPr>
              <a:xfrm>
                <a:off x="3724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6" name="Line 54"/>
              <p:cNvSpPr/>
              <p:nvPr/>
            </p:nvSpPr>
            <p:spPr>
              <a:xfrm>
                <a:off x="4790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55"/>
            <p:cNvGrpSpPr/>
            <p:nvPr/>
          </p:nvGrpSpPr>
          <p:grpSpPr>
            <a:xfrm>
              <a:off x="4867200" y="3351240"/>
              <a:ext cx="1143000" cy="685800"/>
              <a:chOff x="4867200" y="3351240"/>
              <a:chExt cx="1143000" cy="685800"/>
            </a:xfrm>
          </p:grpSpPr>
          <p:sp>
            <p:nvSpPr>
              <p:cNvPr id="688" name="Freeform 56"/>
              <p:cNvSpPr/>
              <p:nvPr/>
            </p:nvSpPr>
            <p:spPr>
              <a:xfrm>
                <a:off x="4867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9" name="Line 57"/>
              <p:cNvSpPr/>
              <p:nvPr/>
            </p:nvSpPr>
            <p:spPr>
              <a:xfrm>
                <a:off x="5933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58"/>
            <p:cNvGrpSpPr/>
            <p:nvPr/>
          </p:nvGrpSpPr>
          <p:grpSpPr>
            <a:xfrm>
              <a:off x="6010200" y="3351240"/>
              <a:ext cx="1143000" cy="685800"/>
              <a:chOff x="6010200" y="3351240"/>
              <a:chExt cx="1143000" cy="685800"/>
            </a:xfrm>
          </p:grpSpPr>
          <p:sp>
            <p:nvSpPr>
              <p:cNvPr id="691" name="Freeform 59"/>
              <p:cNvSpPr/>
              <p:nvPr/>
            </p:nvSpPr>
            <p:spPr>
              <a:xfrm>
                <a:off x="6010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2" name="Line 60"/>
              <p:cNvSpPr/>
              <p:nvPr/>
            </p:nvSpPr>
            <p:spPr>
              <a:xfrm>
                <a:off x="7076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61"/>
          <p:cNvGrpSpPr/>
          <p:nvPr/>
        </p:nvGrpSpPr>
        <p:grpSpPr>
          <a:xfrm>
            <a:off x="2438280" y="1770120"/>
            <a:ext cx="4572000" cy="1142280"/>
            <a:chOff x="2438280" y="1770120"/>
            <a:chExt cx="4572000" cy="1142280"/>
          </a:xfrm>
        </p:grpSpPr>
        <p:grpSp>
          <p:nvGrpSpPr>
            <p:cNvPr id="694" name="Group 62"/>
            <p:cNvGrpSpPr/>
            <p:nvPr/>
          </p:nvGrpSpPr>
          <p:grpSpPr>
            <a:xfrm>
              <a:off x="2438280" y="1770120"/>
              <a:ext cx="1143000" cy="1142280"/>
              <a:chOff x="2438280" y="1770120"/>
              <a:chExt cx="1143000" cy="1142280"/>
            </a:xfrm>
          </p:grpSpPr>
          <p:sp>
            <p:nvSpPr>
              <p:cNvPr id="695" name="Freeform 63"/>
              <p:cNvSpPr/>
              <p:nvPr/>
            </p:nvSpPr>
            <p:spPr>
              <a:xfrm>
                <a:off x="2438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6" name="Line 64"/>
              <p:cNvSpPr/>
              <p:nvPr/>
            </p:nvSpPr>
            <p:spPr>
              <a:xfrm>
                <a:off x="3504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65"/>
            <p:cNvGrpSpPr/>
            <p:nvPr/>
          </p:nvGrpSpPr>
          <p:grpSpPr>
            <a:xfrm>
              <a:off x="3581280" y="1770120"/>
              <a:ext cx="1143000" cy="1142280"/>
              <a:chOff x="3581280" y="1770120"/>
              <a:chExt cx="1143000" cy="1142280"/>
            </a:xfrm>
          </p:grpSpPr>
          <p:sp>
            <p:nvSpPr>
              <p:cNvPr id="698" name="Freeform 66"/>
              <p:cNvSpPr/>
              <p:nvPr/>
            </p:nvSpPr>
            <p:spPr>
              <a:xfrm>
                <a:off x="3581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9" name="Line 67"/>
              <p:cNvSpPr/>
              <p:nvPr/>
            </p:nvSpPr>
            <p:spPr>
              <a:xfrm>
                <a:off x="4647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68"/>
            <p:cNvGrpSpPr/>
            <p:nvPr/>
          </p:nvGrpSpPr>
          <p:grpSpPr>
            <a:xfrm>
              <a:off x="4724280" y="1770120"/>
              <a:ext cx="1143000" cy="1142280"/>
              <a:chOff x="4724280" y="1770120"/>
              <a:chExt cx="1143000" cy="1142280"/>
            </a:xfrm>
          </p:grpSpPr>
          <p:sp>
            <p:nvSpPr>
              <p:cNvPr id="701" name="Freeform 69"/>
              <p:cNvSpPr/>
              <p:nvPr/>
            </p:nvSpPr>
            <p:spPr>
              <a:xfrm>
                <a:off x="4724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2" name="Line 70"/>
              <p:cNvSpPr/>
              <p:nvPr/>
            </p:nvSpPr>
            <p:spPr>
              <a:xfrm>
                <a:off x="5790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71"/>
            <p:cNvGrpSpPr/>
            <p:nvPr/>
          </p:nvGrpSpPr>
          <p:grpSpPr>
            <a:xfrm>
              <a:off x="5867280" y="1770120"/>
              <a:ext cx="1143000" cy="1142280"/>
              <a:chOff x="5867280" y="1770120"/>
              <a:chExt cx="1143000" cy="1142280"/>
            </a:xfrm>
          </p:grpSpPr>
          <p:sp>
            <p:nvSpPr>
              <p:cNvPr id="704" name="Freeform 72"/>
              <p:cNvSpPr/>
              <p:nvPr/>
            </p:nvSpPr>
            <p:spPr>
              <a:xfrm>
                <a:off x="5867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5" name="Line 73"/>
              <p:cNvSpPr/>
              <p:nvPr/>
            </p:nvSpPr>
            <p:spPr>
              <a:xfrm>
                <a:off x="6933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6" name="Object 74"/>
          <p:cNvGraphicFramePr/>
          <p:nvPr/>
        </p:nvGraphicFramePr>
        <p:xfrm>
          <a:off x="1295280" y="2438280"/>
          <a:ext cx="720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20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75"/>
          <p:cNvGraphicFramePr/>
          <p:nvPr/>
        </p:nvGraphicFramePr>
        <p:xfrm>
          <a:off x="1409760" y="1523880"/>
          <a:ext cx="691920" cy="3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9" name="Object 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1523880"/>
                    <a:ext cx="691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Line 76"/>
          <p:cNvSpPr/>
          <p:nvPr/>
        </p:nvSpPr>
        <p:spPr>
          <a:xfrm>
            <a:off x="1947960" y="177012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1" name="Line 77"/>
          <p:cNvSpPr/>
          <p:nvPr/>
        </p:nvSpPr>
        <p:spPr>
          <a:xfrm>
            <a:off x="2023920" y="291312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8"/>
              <p:cNvSpPr txBox="1"/>
              <p:nvPr/>
            </p:nvSpPr>
            <p:spPr>
              <a:xfrm>
                <a:off x="1473120" y="3159000"/>
                <a:ext cx="430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3908-63E7-4209-AC6E-3C35297D20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ess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 and isolation i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is h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achieve – e.g. do we still need congestion cont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O, drop-tail interacts poorly with 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ous schemes to desynchronize flows and control loss rate (e.g. R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resource allocation to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packet classification and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-stateless FQ &amp; X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rse-grain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ying packet state can reduce complex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A34-7FBC-4495-9D12-8786CAE8E8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: Data center topology/routing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make Ethernet scale to data center siz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land (read 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(sk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e slides are 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17F4-7F0E-4CC8-A883-B2BBDAD4D59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ther FQ var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DDD-E791-4030-B3F9-8463A96B833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lay Allocation in FQ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elay for flows using less than f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finish times for sources whose queues drain tempor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based o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max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max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sation is active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sation is inactive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rmines how much history to take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equent senders do better when history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a hash on each pa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ead of per-flow queue have a queue per hash b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ggressive flow steals traffic from other flows in the same h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es serviced in round-robin fash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problems with packet size unfair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allocation across all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no free buffers, drop packet from longest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A66-3335-4DF4-BB15-8BB595689D3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8D8-00AE-4241-8131-511FD81040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ficit Round Robi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queue is allowed to send Q bytes per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bytes are not sent (because packet is too large) deficit counter of queue keeps track of unused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ueue is empty, deficit counter is reset to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hash bins like Stochastic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behavior as FQ but computationally 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B3AC-D276-4445-8585-39FD2EBFAC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locked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time to make computation of finish tim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with basic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be able to know which flows are really back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not have packet queued because they were serviced earlier in mapping of bit-by-bit to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ecessary to know how bits sent map onto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real time to round is piecewise line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ever slope can change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787-8501-41A9-8DDF-A92C6432A6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locked FQ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inish time of the packet being serviced as the virtu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in this virtual time and the real round number can be unb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service to backlogged flows is bounded by facto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8B2-4233-4FC5-BC12-A72F187C11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art-time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are scheduled in order of their start not finish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lock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rtual time = start time of packet i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advant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handle variable rate service better than other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6A3-5459-4BC5-A73A-3DED8017F6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6781680" y="1736640"/>
            <a:ext cx="584280" cy="717480"/>
          </a:xfrm>
          <a:prstGeom prst="rect">
            <a:avLst/>
          </a:prstGeom>
          <a:solidFill>
            <a:srgbClr val="dddddd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6781680" y="1739880"/>
            <a:ext cx="584280" cy="717480"/>
          </a:xfrm>
          <a:prstGeom prst="rect">
            <a:avLst/>
          </a:prstGeom>
          <a:solidFill>
            <a:srgbClr val="dddddd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f flows are not synchroniz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Freeform 5"/>
          <p:cNvSpPr/>
          <p:nvPr/>
        </p:nvSpPr>
        <p:spPr>
          <a:xfrm>
            <a:off x="1725480" y="1333440"/>
            <a:ext cx="4294440" cy="2895840"/>
          </a:xfrm>
          <a:custGeom>
            <a:avLst/>
            <a:gdLst>
              <a:gd name="textAreaLeft" fmla="*/ 0 w 4294440"/>
              <a:gd name="textAreaRight" fmla="*/ 4294800 w 429444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8" name="Line 6"/>
          <p:cNvSpPr/>
          <p:nvPr/>
        </p:nvSpPr>
        <p:spPr>
          <a:xfrm>
            <a:off x="1573200" y="1947960"/>
            <a:ext cx="536112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1620720" y="2233440"/>
            <a:ext cx="53136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4957920" y="3648240"/>
            <a:ext cx="661680" cy="228600"/>
            <a:chOff x="4957920" y="3648240"/>
            <a:chExt cx="661680" cy="228600"/>
          </a:xfrm>
        </p:grpSpPr>
        <p:sp>
          <p:nvSpPr>
            <p:cNvPr id="721" name="Freeform 9"/>
            <p:cNvSpPr/>
            <p:nvPr/>
          </p:nvSpPr>
          <p:spPr>
            <a:xfrm>
              <a:off x="4957920" y="3648240"/>
              <a:ext cx="661680" cy="22860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Line 10"/>
            <p:cNvSpPr/>
            <p:nvPr/>
          </p:nvSpPr>
          <p:spPr>
            <a:xfrm>
              <a:off x="5619600" y="364824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3" name="Freeform 11"/>
          <p:cNvSpPr/>
          <p:nvPr/>
        </p:nvSpPr>
        <p:spPr>
          <a:xfrm>
            <a:off x="1728720" y="1884240"/>
            <a:ext cx="2157480" cy="46368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144" h="292">
                <a:moveTo>
                  <a:pt x="0" y="181"/>
                </a:moveTo>
                <a:cubicBezTo>
                  <a:pt x="11" y="149"/>
                  <a:pt x="36" y="138"/>
                  <a:pt x="55" y="110"/>
                </a:cubicBezTo>
                <a:cubicBezTo>
                  <a:pt x="99" y="119"/>
                  <a:pt x="119" y="127"/>
                  <a:pt x="150" y="158"/>
                </a:cubicBezTo>
                <a:cubicBezTo>
                  <a:pt x="171" y="219"/>
                  <a:pt x="191" y="148"/>
                  <a:pt x="205" y="126"/>
                </a:cubicBezTo>
                <a:cubicBezTo>
                  <a:pt x="218" y="129"/>
                  <a:pt x="232" y="128"/>
                  <a:pt x="244" y="134"/>
                </a:cubicBezTo>
                <a:cubicBezTo>
                  <a:pt x="289" y="157"/>
                  <a:pt x="249" y="180"/>
                  <a:pt x="300" y="197"/>
                </a:cubicBezTo>
                <a:cubicBezTo>
                  <a:pt x="343" y="164"/>
                  <a:pt x="394" y="139"/>
                  <a:pt x="442" y="110"/>
                </a:cubicBezTo>
                <a:cubicBezTo>
                  <a:pt x="467" y="75"/>
                  <a:pt x="483" y="84"/>
                  <a:pt x="521" y="71"/>
                </a:cubicBezTo>
                <a:cubicBezTo>
                  <a:pt x="550" y="91"/>
                  <a:pt x="571" y="130"/>
                  <a:pt x="592" y="158"/>
                </a:cubicBezTo>
                <a:cubicBezTo>
                  <a:pt x="603" y="173"/>
                  <a:pt x="613" y="189"/>
                  <a:pt x="623" y="205"/>
                </a:cubicBezTo>
                <a:cubicBezTo>
                  <a:pt x="628" y="213"/>
                  <a:pt x="639" y="229"/>
                  <a:pt x="639" y="229"/>
                </a:cubicBezTo>
                <a:cubicBezTo>
                  <a:pt x="675" y="175"/>
                  <a:pt x="660" y="144"/>
                  <a:pt x="734" y="126"/>
                </a:cubicBezTo>
                <a:cubicBezTo>
                  <a:pt x="810" y="137"/>
                  <a:pt x="801" y="146"/>
                  <a:pt x="852" y="189"/>
                </a:cubicBezTo>
                <a:cubicBezTo>
                  <a:pt x="861" y="196"/>
                  <a:pt x="866" y="207"/>
                  <a:pt x="876" y="213"/>
                </a:cubicBezTo>
                <a:cubicBezTo>
                  <a:pt x="890" y="221"/>
                  <a:pt x="923" y="229"/>
                  <a:pt x="923" y="229"/>
                </a:cubicBezTo>
                <a:cubicBezTo>
                  <a:pt x="986" y="208"/>
                  <a:pt x="1031" y="118"/>
                  <a:pt x="1089" y="79"/>
                </a:cubicBezTo>
                <a:cubicBezTo>
                  <a:pt x="1109" y="50"/>
                  <a:pt x="1160" y="0"/>
                  <a:pt x="1160" y="0"/>
                </a:cubicBezTo>
                <a:cubicBezTo>
                  <a:pt x="1196" y="13"/>
                  <a:pt x="1239" y="39"/>
                  <a:pt x="1270" y="63"/>
                </a:cubicBezTo>
                <a:cubicBezTo>
                  <a:pt x="1299" y="85"/>
                  <a:pt x="1312" y="121"/>
                  <a:pt x="1341" y="142"/>
                </a:cubicBezTo>
                <a:cubicBezTo>
                  <a:pt x="1363" y="158"/>
                  <a:pt x="1394" y="172"/>
                  <a:pt x="1420" y="181"/>
                </a:cubicBezTo>
                <a:cubicBezTo>
                  <a:pt x="1446" y="178"/>
                  <a:pt x="1474" y="181"/>
                  <a:pt x="1499" y="173"/>
                </a:cubicBezTo>
                <a:cubicBezTo>
                  <a:pt x="1523" y="166"/>
                  <a:pt x="1528" y="134"/>
                  <a:pt x="1539" y="118"/>
                </a:cubicBezTo>
                <a:cubicBezTo>
                  <a:pt x="1562" y="85"/>
                  <a:pt x="1596" y="79"/>
                  <a:pt x="1633" y="71"/>
                </a:cubicBezTo>
                <a:cubicBezTo>
                  <a:pt x="1644" y="66"/>
                  <a:pt x="1653" y="55"/>
                  <a:pt x="1665" y="55"/>
                </a:cubicBezTo>
                <a:cubicBezTo>
                  <a:pt x="1725" y="55"/>
                  <a:pt x="1773" y="99"/>
                  <a:pt x="1799" y="150"/>
                </a:cubicBezTo>
                <a:cubicBezTo>
                  <a:pt x="1803" y="157"/>
                  <a:pt x="1802" y="167"/>
                  <a:pt x="1807" y="173"/>
                </a:cubicBezTo>
                <a:cubicBezTo>
                  <a:pt x="1815" y="182"/>
                  <a:pt x="1850" y="205"/>
                  <a:pt x="1862" y="213"/>
                </a:cubicBezTo>
                <a:cubicBezTo>
                  <a:pt x="1883" y="210"/>
                  <a:pt x="1905" y="212"/>
                  <a:pt x="1925" y="205"/>
                </a:cubicBezTo>
                <a:cubicBezTo>
                  <a:pt x="1936" y="201"/>
                  <a:pt x="1940" y="188"/>
                  <a:pt x="1949" y="181"/>
                </a:cubicBezTo>
                <a:cubicBezTo>
                  <a:pt x="1998" y="139"/>
                  <a:pt x="2097" y="36"/>
                  <a:pt x="2154" y="24"/>
                </a:cubicBezTo>
                <a:cubicBezTo>
                  <a:pt x="2172" y="29"/>
                  <a:pt x="2193" y="29"/>
                  <a:pt x="2209" y="39"/>
                </a:cubicBezTo>
                <a:cubicBezTo>
                  <a:pt x="2241" y="58"/>
                  <a:pt x="2273" y="97"/>
                  <a:pt x="2296" y="126"/>
                </a:cubicBezTo>
                <a:cubicBezTo>
                  <a:pt x="2304" y="168"/>
                  <a:pt x="2315" y="212"/>
                  <a:pt x="2351" y="237"/>
                </a:cubicBezTo>
                <a:cubicBezTo>
                  <a:pt x="2383" y="205"/>
                  <a:pt x="2401" y="169"/>
                  <a:pt x="2414" y="126"/>
                </a:cubicBezTo>
                <a:cubicBezTo>
                  <a:pt x="2429" y="75"/>
                  <a:pt x="2408" y="69"/>
                  <a:pt x="2462" y="55"/>
                </a:cubicBezTo>
                <a:cubicBezTo>
                  <a:pt x="2499" y="94"/>
                  <a:pt x="2512" y="157"/>
                  <a:pt x="2564" y="173"/>
                </a:cubicBezTo>
                <a:cubicBezTo>
                  <a:pt x="2651" y="155"/>
                  <a:pt x="2636" y="162"/>
                  <a:pt x="2683" y="95"/>
                </a:cubicBezTo>
                <a:cubicBezTo>
                  <a:pt x="2686" y="87"/>
                  <a:pt x="2686" y="65"/>
                  <a:pt x="2691" y="71"/>
                </a:cubicBezTo>
                <a:cubicBezTo>
                  <a:pt x="2707" y="91"/>
                  <a:pt x="2711" y="119"/>
                  <a:pt x="2722" y="142"/>
                </a:cubicBezTo>
                <a:cubicBezTo>
                  <a:pt x="2755" y="208"/>
                  <a:pt x="2779" y="256"/>
                  <a:pt x="2848" y="292"/>
                </a:cubicBezTo>
                <a:cubicBezTo>
                  <a:pt x="2864" y="289"/>
                  <a:pt x="2882" y="291"/>
                  <a:pt x="2896" y="284"/>
                </a:cubicBezTo>
                <a:cubicBezTo>
                  <a:pt x="2911" y="276"/>
                  <a:pt x="2911" y="249"/>
                  <a:pt x="2919" y="237"/>
                </a:cubicBezTo>
                <a:cubicBezTo>
                  <a:pt x="2965" y="165"/>
                  <a:pt x="3016" y="100"/>
                  <a:pt x="3038" y="16"/>
                </a:cubicBezTo>
                <a:cubicBezTo>
                  <a:pt x="3081" y="37"/>
                  <a:pt x="3072" y="48"/>
                  <a:pt x="3101" y="87"/>
                </a:cubicBezTo>
                <a:cubicBezTo>
                  <a:pt x="3104" y="97"/>
                  <a:pt x="3103" y="109"/>
                  <a:pt x="3109" y="118"/>
                </a:cubicBezTo>
                <a:cubicBezTo>
                  <a:pt x="3144" y="168"/>
                  <a:pt x="3140" y="120"/>
                  <a:pt x="3140" y="1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3886200" y="1871640"/>
            <a:ext cx="2157480" cy="46368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144" h="292">
                <a:moveTo>
                  <a:pt x="0" y="181"/>
                </a:moveTo>
                <a:cubicBezTo>
                  <a:pt x="11" y="149"/>
                  <a:pt x="36" y="138"/>
                  <a:pt x="55" y="110"/>
                </a:cubicBezTo>
                <a:cubicBezTo>
                  <a:pt x="99" y="119"/>
                  <a:pt x="119" y="127"/>
                  <a:pt x="150" y="158"/>
                </a:cubicBezTo>
                <a:cubicBezTo>
                  <a:pt x="171" y="219"/>
                  <a:pt x="191" y="148"/>
                  <a:pt x="205" y="126"/>
                </a:cubicBezTo>
                <a:cubicBezTo>
                  <a:pt x="218" y="129"/>
                  <a:pt x="232" y="128"/>
                  <a:pt x="244" y="134"/>
                </a:cubicBezTo>
                <a:cubicBezTo>
                  <a:pt x="289" y="157"/>
                  <a:pt x="249" y="180"/>
                  <a:pt x="300" y="197"/>
                </a:cubicBezTo>
                <a:cubicBezTo>
                  <a:pt x="343" y="164"/>
                  <a:pt x="394" y="139"/>
                  <a:pt x="442" y="110"/>
                </a:cubicBezTo>
                <a:cubicBezTo>
                  <a:pt x="467" y="75"/>
                  <a:pt x="483" y="84"/>
                  <a:pt x="521" y="71"/>
                </a:cubicBezTo>
                <a:cubicBezTo>
                  <a:pt x="550" y="91"/>
                  <a:pt x="571" y="130"/>
                  <a:pt x="592" y="158"/>
                </a:cubicBezTo>
                <a:cubicBezTo>
                  <a:pt x="603" y="173"/>
                  <a:pt x="613" y="189"/>
                  <a:pt x="623" y="205"/>
                </a:cubicBezTo>
                <a:cubicBezTo>
                  <a:pt x="628" y="213"/>
                  <a:pt x="639" y="229"/>
                  <a:pt x="639" y="229"/>
                </a:cubicBezTo>
                <a:cubicBezTo>
                  <a:pt x="675" y="175"/>
                  <a:pt x="660" y="144"/>
                  <a:pt x="734" y="126"/>
                </a:cubicBezTo>
                <a:cubicBezTo>
                  <a:pt x="810" y="137"/>
                  <a:pt x="801" y="146"/>
                  <a:pt x="852" y="189"/>
                </a:cubicBezTo>
                <a:cubicBezTo>
                  <a:pt x="861" y="196"/>
                  <a:pt x="866" y="207"/>
                  <a:pt x="876" y="213"/>
                </a:cubicBezTo>
                <a:cubicBezTo>
                  <a:pt x="890" y="221"/>
                  <a:pt x="923" y="229"/>
                  <a:pt x="923" y="229"/>
                </a:cubicBezTo>
                <a:cubicBezTo>
                  <a:pt x="986" y="208"/>
                  <a:pt x="1031" y="118"/>
                  <a:pt x="1089" y="79"/>
                </a:cubicBezTo>
                <a:cubicBezTo>
                  <a:pt x="1109" y="50"/>
                  <a:pt x="1160" y="0"/>
                  <a:pt x="1160" y="0"/>
                </a:cubicBezTo>
                <a:cubicBezTo>
                  <a:pt x="1196" y="13"/>
                  <a:pt x="1239" y="39"/>
                  <a:pt x="1270" y="63"/>
                </a:cubicBezTo>
                <a:cubicBezTo>
                  <a:pt x="1299" y="85"/>
                  <a:pt x="1312" y="121"/>
                  <a:pt x="1341" y="142"/>
                </a:cubicBezTo>
                <a:cubicBezTo>
                  <a:pt x="1363" y="158"/>
                  <a:pt x="1394" y="172"/>
                  <a:pt x="1420" y="181"/>
                </a:cubicBezTo>
                <a:cubicBezTo>
                  <a:pt x="1446" y="178"/>
                  <a:pt x="1474" y="181"/>
                  <a:pt x="1499" y="173"/>
                </a:cubicBezTo>
                <a:cubicBezTo>
                  <a:pt x="1523" y="166"/>
                  <a:pt x="1528" y="134"/>
                  <a:pt x="1539" y="118"/>
                </a:cubicBezTo>
                <a:cubicBezTo>
                  <a:pt x="1562" y="85"/>
                  <a:pt x="1596" y="79"/>
                  <a:pt x="1633" y="71"/>
                </a:cubicBezTo>
                <a:cubicBezTo>
                  <a:pt x="1644" y="66"/>
                  <a:pt x="1653" y="55"/>
                  <a:pt x="1665" y="55"/>
                </a:cubicBezTo>
                <a:cubicBezTo>
                  <a:pt x="1725" y="55"/>
                  <a:pt x="1773" y="99"/>
                  <a:pt x="1799" y="150"/>
                </a:cubicBezTo>
                <a:cubicBezTo>
                  <a:pt x="1803" y="157"/>
                  <a:pt x="1802" y="167"/>
                  <a:pt x="1807" y="173"/>
                </a:cubicBezTo>
                <a:cubicBezTo>
                  <a:pt x="1815" y="182"/>
                  <a:pt x="1850" y="205"/>
                  <a:pt x="1862" y="213"/>
                </a:cubicBezTo>
                <a:cubicBezTo>
                  <a:pt x="1883" y="210"/>
                  <a:pt x="1905" y="212"/>
                  <a:pt x="1925" y="205"/>
                </a:cubicBezTo>
                <a:cubicBezTo>
                  <a:pt x="1936" y="201"/>
                  <a:pt x="1940" y="188"/>
                  <a:pt x="1949" y="181"/>
                </a:cubicBezTo>
                <a:cubicBezTo>
                  <a:pt x="1998" y="139"/>
                  <a:pt x="2097" y="36"/>
                  <a:pt x="2154" y="24"/>
                </a:cubicBezTo>
                <a:cubicBezTo>
                  <a:pt x="2172" y="29"/>
                  <a:pt x="2193" y="29"/>
                  <a:pt x="2209" y="39"/>
                </a:cubicBezTo>
                <a:cubicBezTo>
                  <a:pt x="2241" y="58"/>
                  <a:pt x="2273" y="97"/>
                  <a:pt x="2296" y="126"/>
                </a:cubicBezTo>
                <a:cubicBezTo>
                  <a:pt x="2304" y="168"/>
                  <a:pt x="2315" y="212"/>
                  <a:pt x="2351" y="237"/>
                </a:cubicBezTo>
                <a:cubicBezTo>
                  <a:pt x="2383" y="205"/>
                  <a:pt x="2401" y="169"/>
                  <a:pt x="2414" y="126"/>
                </a:cubicBezTo>
                <a:cubicBezTo>
                  <a:pt x="2429" y="75"/>
                  <a:pt x="2408" y="69"/>
                  <a:pt x="2462" y="55"/>
                </a:cubicBezTo>
                <a:cubicBezTo>
                  <a:pt x="2499" y="94"/>
                  <a:pt x="2512" y="157"/>
                  <a:pt x="2564" y="173"/>
                </a:cubicBezTo>
                <a:cubicBezTo>
                  <a:pt x="2651" y="155"/>
                  <a:pt x="2636" y="162"/>
                  <a:pt x="2683" y="95"/>
                </a:cubicBezTo>
                <a:cubicBezTo>
                  <a:pt x="2686" y="87"/>
                  <a:pt x="2686" y="65"/>
                  <a:pt x="2691" y="71"/>
                </a:cubicBezTo>
                <a:cubicBezTo>
                  <a:pt x="2707" y="91"/>
                  <a:pt x="2711" y="119"/>
                  <a:pt x="2722" y="142"/>
                </a:cubicBezTo>
                <a:cubicBezTo>
                  <a:pt x="2755" y="208"/>
                  <a:pt x="2779" y="256"/>
                  <a:pt x="2848" y="292"/>
                </a:cubicBezTo>
                <a:cubicBezTo>
                  <a:pt x="2864" y="289"/>
                  <a:pt x="2882" y="291"/>
                  <a:pt x="2896" y="284"/>
                </a:cubicBezTo>
                <a:cubicBezTo>
                  <a:pt x="2911" y="276"/>
                  <a:pt x="2911" y="249"/>
                  <a:pt x="2919" y="237"/>
                </a:cubicBezTo>
                <a:cubicBezTo>
                  <a:pt x="2965" y="165"/>
                  <a:pt x="3016" y="100"/>
                  <a:pt x="3038" y="16"/>
                </a:cubicBezTo>
                <a:cubicBezTo>
                  <a:pt x="3081" y="37"/>
                  <a:pt x="3072" y="48"/>
                  <a:pt x="3101" y="87"/>
                </a:cubicBezTo>
                <a:cubicBezTo>
                  <a:pt x="3104" y="97"/>
                  <a:pt x="3103" y="109"/>
                  <a:pt x="3109" y="118"/>
                </a:cubicBezTo>
                <a:cubicBezTo>
                  <a:pt x="3144" y="168"/>
                  <a:pt x="3140" y="120"/>
                  <a:pt x="3140" y="1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5" name="Group 13"/>
          <p:cNvGrpSpPr/>
          <p:nvPr/>
        </p:nvGrpSpPr>
        <p:grpSpPr>
          <a:xfrm>
            <a:off x="6934320" y="1333440"/>
            <a:ext cx="1368360" cy="3620520"/>
            <a:chOff x="6934320" y="1333440"/>
            <a:chExt cx="1368360" cy="3620520"/>
          </a:xfrm>
        </p:grpSpPr>
        <p:sp>
          <p:nvSpPr>
            <p:cNvPr id="726" name="Freeform 14"/>
            <p:cNvSpPr/>
            <p:nvPr/>
          </p:nvSpPr>
          <p:spPr>
            <a:xfrm>
              <a:off x="6934320" y="1333440"/>
              <a:ext cx="1295280" cy="289548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976" h="960">
                  <a:moveTo>
                    <a:pt x="0" y="0"/>
                  </a:moveTo>
                  <a:lnTo>
                    <a:pt x="0" y="960"/>
                  </a:lnTo>
                  <a:lnTo>
                    <a:pt x="2976" y="960"/>
                  </a:lnTo>
                </a:path>
              </a:pathLst>
            </a:custGeom>
            <a:noFill/>
            <a:ln w="12600">
              <a:solidFill>
                <a:srgbClr val="8383ad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6935760" y="1752480"/>
              <a:ext cx="284040" cy="6109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179" h="182">
                  <a:moveTo>
                    <a:pt x="21" y="0"/>
                  </a:moveTo>
                  <a:cubicBezTo>
                    <a:pt x="0" y="62"/>
                    <a:pt x="65" y="66"/>
                    <a:pt x="108" y="79"/>
                  </a:cubicBezTo>
                  <a:cubicBezTo>
                    <a:pt x="124" y="84"/>
                    <a:pt x="139" y="90"/>
                    <a:pt x="155" y="95"/>
                  </a:cubicBezTo>
                  <a:cubicBezTo>
                    <a:pt x="163" y="98"/>
                    <a:pt x="179" y="103"/>
                    <a:pt x="179" y="103"/>
                  </a:cubicBezTo>
                  <a:cubicBezTo>
                    <a:pt x="136" y="132"/>
                    <a:pt x="171" y="113"/>
                    <a:pt x="100" y="127"/>
                  </a:cubicBezTo>
                  <a:cubicBezTo>
                    <a:pt x="79" y="131"/>
                    <a:pt x="37" y="142"/>
                    <a:pt x="37" y="142"/>
                  </a:cubicBezTo>
                  <a:cubicBezTo>
                    <a:pt x="6" y="162"/>
                    <a:pt x="13" y="148"/>
                    <a:pt x="13" y="1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Line 16"/>
            <p:cNvSpPr/>
            <p:nvPr/>
          </p:nvSpPr>
          <p:spPr>
            <a:xfrm>
              <a:off x="6954840" y="2253960"/>
              <a:ext cx="0" cy="1962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Line 17"/>
            <p:cNvSpPr/>
            <p:nvPr/>
          </p:nvSpPr>
          <p:spPr>
            <a:xfrm flipV="1">
              <a:off x="6967440" y="166320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Text Box 18"/>
            <p:cNvSpPr/>
            <p:nvPr/>
          </p:nvSpPr>
          <p:spPr>
            <a:xfrm>
              <a:off x="6981840" y="4311360"/>
              <a:ext cx="132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robability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Distribu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1265400" y="169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" name="Text Box 20"/>
          <p:cNvSpPr/>
          <p:nvPr/>
        </p:nvSpPr>
        <p:spPr>
          <a:xfrm>
            <a:off x="126396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33" name="Group 21"/>
          <p:cNvGrpSpPr/>
          <p:nvPr/>
        </p:nvGrpSpPr>
        <p:grpSpPr>
          <a:xfrm>
            <a:off x="1719360" y="3762360"/>
            <a:ext cx="709200" cy="228600"/>
            <a:chOff x="1719360" y="3762360"/>
            <a:chExt cx="709200" cy="228600"/>
          </a:xfrm>
        </p:grpSpPr>
        <p:sp>
          <p:nvSpPr>
            <p:cNvPr id="734" name="Freeform 22"/>
            <p:cNvSpPr/>
            <p:nvPr/>
          </p:nvSpPr>
          <p:spPr>
            <a:xfrm>
              <a:off x="1719360" y="3762360"/>
              <a:ext cx="662040" cy="22860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Line 23"/>
            <p:cNvSpPr/>
            <p:nvPr/>
          </p:nvSpPr>
          <p:spPr>
            <a:xfrm>
              <a:off x="2381400" y="3762360"/>
              <a:ext cx="47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36" name="Group 24"/>
          <p:cNvGrpSpPr/>
          <p:nvPr/>
        </p:nvGrpSpPr>
        <p:grpSpPr>
          <a:xfrm>
            <a:off x="2428920" y="3905280"/>
            <a:ext cx="313920" cy="152280"/>
            <a:chOff x="2428920" y="3905280"/>
            <a:chExt cx="313920" cy="152280"/>
          </a:xfrm>
        </p:grpSpPr>
        <p:sp>
          <p:nvSpPr>
            <p:cNvPr id="737" name="Freeform 25"/>
            <p:cNvSpPr/>
            <p:nvPr/>
          </p:nvSpPr>
          <p:spPr>
            <a:xfrm>
              <a:off x="2428920" y="3905280"/>
              <a:ext cx="292320" cy="759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Line 26"/>
            <p:cNvSpPr/>
            <p:nvPr/>
          </p:nvSpPr>
          <p:spPr>
            <a:xfrm>
              <a:off x="2721240" y="3905280"/>
              <a:ext cx="21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39" name="Group 27"/>
          <p:cNvGrpSpPr/>
          <p:nvPr/>
        </p:nvGrpSpPr>
        <p:grpSpPr>
          <a:xfrm>
            <a:off x="3984480" y="3664080"/>
            <a:ext cx="974880" cy="380880"/>
            <a:chOff x="3984480" y="3664080"/>
            <a:chExt cx="974880" cy="380880"/>
          </a:xfrm>
        </p:grpSpPr>
        <p:sp>
          <p:nvSpPr>
            <p:cNvPr id="740" name="Freeform 28"/>
            <p:cNvSpPr/>
            <p:nvPr/>
          </p:nvSpPr>
          <p:spPr>
            <a:xfrm>
              <a:off x="3984480" y="3664080"/>
              <a:ext cx="939960" cy="3808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4924440" y="3664080"/>
              <a:ext cx="3492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2743200" y="3676680"/>
            <a:ext cx="974880" cy="380880"/>
            <a:chOff x="2743200" y="3676680"/>
            <a:chExt cx="974880" cy="380880"/>
          </a:xfrm>
        </p:grpSpPr>
        <p:sp>
          <p:nvSpPr>
            <p:cNvPr id="743" name="Freeform 31"/>
            <p:cNvSpPr/>
            <p:nvPr/>
          </p:nvSpPr>
          <p:spPr>
            <a:xfrm>
              <a:off x="2743200" y="3676680"/>
              <a:ext cx="939960" cy="3808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3683160" y="3676680"/>
              <a:ext cx="3492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5" name="Group 33"/>
          <p:cNvGrpSpPr/>
          <p:nvPr/>
        </p:nvGrpSpPr>
        <p:grpSpPr>
          <a:xfrm>
            <a:off x="3714840" y="3676680"/>
            <a:ext cx="2255760" cy="457200"/>
            <a:chOff x="3714840" y="3676680"/>
            <a:chExt cx="2255760" cy="457200"/>
          </a:xfrm>
        </p:grpSpPr>
        <p:grpSp>
          <p:nvGrpSpPr>
            <p:cNvPr id="746" name="Group 34"/>
            <p:cNvGrpSpPr/>
            <p:nvPr/>
          </p:nvGrpSpPr>
          <p:grpSpPr>
            <a:xfrm>
              <a:off x="4726080" y="3867120"/>
              <a:ext cx="301680" cy="228600"/>
              <a:chOff x="4726080" y="3867120"/>
              <a:chExt cx="301680" cy="228600"/>
            </a:xfrm>
          </p:grpSpPr>
          <p:sp>
            <p:nvSpPr>
              <p:cNvPr id="747" name="Freeform 35"/>
              <p:cNvSpPr/>
              <p:nvPr/>
            </p:nvSpPr>
            <p:spPr>
              <a:xfrm>
                <a:off x="4726080" y="3867120"/>
                <a:ext cx="281160" cy="1526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48" name="Line 36"/>
              <p:cNvSpPr/>
              <p:nvPr/>
            </p:nvSpPr>
            <p:spPr>
              <a:xfrm>
                <a:off x="5007240" y="3867120"/>
                <a:ext cx="205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7"/>
            <p:cNvGrpSpPr/>
            <p:nvPr/>
          </p:nvGrpSpPr>
          <p:grpSpPr>
            <a:xfrm>
              <a:off x="3714840" y="3676680"/>
              <a:ext cx="709200" cy="228600"/>
              <a:chOff x="3714840" y="3676680"/>
              <a:chExt cx="709200" cy="228600"/>
            </a:xfrm>
          </p:grpSpPr>
          <p:sp>
            <p:nvSpPr>
              <p:cNvPr id="750" name="Freeform 38"/>
              <p:cNvSpPr/>
              <p:nvPr/>
            </p:nvSpPr>
            <p:spPr>
              <a:xfrm>
                <a:off x="3714840" y="367668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1" name="Line 39"/>
              <p:cNvSpPr/>
              <p:nvPr/>
            </p:nvSpPr>
            <p:spPr>
              <a:xfrm>
                <a:off x="4376880" y="3676680"/>
                <a:ext cx="4716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4424400" y="3733920"/>
              <a:ext cx="301680" cy="304920"/>
              <a:chOff x="4424400" y="3733920"/>
              <a:chExt cx="301680" cy="304920"/>
            </a:xfrm>
          </p:grpSpPr>
          <p:sp>
            <p:nvSpPr>
              <p:cNvPr id="753" name="Freeform 41"/>
              <p:cNvSpPr/>
              <p:nvPr/>
            </p:nvSpPr>
            <p:spPr>
              <a:xfrm>
                <a:off x="4424400" y="3733920"/>
                <a:ext cx="280800" cy="152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4" name="Line 42"/>
              <p:cNvSpPr/>
              <p:nvPr/>
            </p:nvSpPr>
            <p:spPr>
              <a:xfrm>
                <a:off x="4705200" y="3733920"/>
                <a:ext cx="2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3"/>
            <p:cNvGrpSpPr/>
            <p:nvPr/>
          </p:nvGrpSpPr>
          <p:grpSpPr>
            <a:xfrm>
              <a:off x="5027760" y="3981600"/>
              <a:ext cx="280800" cy="152280"/>
              <a:chOff x="5027760" y="3981600"/>
              <a:chExt cx="280800" cy="152280"/>
            </a:xfrm>
          </p:grpSpPr>
          <p:sp>
            <p:nvSpPr>
              <p:cNvPr id="756" name="Freeform 44"/>
              <p:cNvSpPr/>
              <p:nvPr/>
            </p:nvSpPr>
            <p:spPr>
              <a:xfrm>
                <a:off x="5027760" y="3981600"/>
                <a:ext cx="261720" cy="101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7" name="Line 45"/>
              <p:cNvSpPr/>
              <p:nvPr/>
            </p:nvSpPr>
            <p:spPr>
              <a:xfrm>
                <a:off x="5289480" y="3981600"/>
                <a:ext cx="190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6"/>
            <p:cNvGrpSpPr/>
            <p:nvPr/>
          </p:nvGrpSpPr>
          <p:grpSpPr>
            <a:xfrm>
              <a:off x="5308560" y="3876840"/>
              <a:ext cx="662040" cy="228600"/>
              <a:chOff x="5308560" y="3876840"/>
              <a:chExt cx="662040" cy="228600"/>
            </a:xfrm>
          </p:grpSpPr>
          <p:sp>
            <p:nvSpPr>
              <p:cNvPr id="759" name="Freeform 47"/>
              <p:cNvSpPr/>
              <p:nvPr/>
            </p:nvSpPr>
            <p:spPr>
              <a:xfrm>
                <a:off x="5308560" y="387684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0" name="Line 48"/>
              <p:cNvSpPr/>
              <p:nvPr/>
            </p:nvSpPr>
            <p:spPr>
              <a:xfrm>
                <a:off x="5970600" y="387684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Group 49"/>
          <p:cNvGrpSpPr/>
          <p:nvPr/>
        </p:nvGrpSpPr>
        <p:grpSpPr>
          <a:xfrm>
            <a:off x="1728720" y="3625920"/>
            <a:ext cx="2255760" cy="457200"/>
            <a:chOff x="1728720" y="3625920"/>
            <a:chExt cx="2255760" cy="457200"/>
          </a:xfrm>
        </p:grpSpPr>
        <p:grpSp>
          <p:nvGrpSpPr>
            <p:cNvPr id="762" name="Group 50"/>
            <p:cNvGrpSpPr/>
            <p:nvPr/>
          </p:nvGrpSpPr>
          <p:grpSpPr>
            <a:xfrm>
              <a:off x="2739960" y="3816360"/>
              <a:ext cx="301680" cy="228600"/>
              <a:chOff x="2739960" y="3816360"/>
              <a:chExt cx="301680" cy="228600"/>
            </a:xfrm>
          </p:grpSpPr>
          <p:sp>
            <p:nvSpPr>
              <p:cNvPr id="763" name="Freeform 51"/>
              <p:cNvSpPr/>
              <p:nvPr/>
            </p:nvSpPr>
            <p:spPr>
              <a:xfrm>
                <a:off x="2739960" y="3816360"/>
                <a:ext cx="281160" cy="1526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4" name="Line 52"/>
              <p:cNvSpPr/>
              <p:nvPr/>
            </p:nvSpPr>
            <p:spPr>
              <a:xfrm>
                <a:off x="3021120" y="3816360"/>
                <a:ext cx="205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53"/>
            <p:cNvGrpSpPr/>
            <p:nvPr/>
          </p:nvGrpSpPr>
          <p:grpSpPr>
            <a:xfrm>
              <a:off x="1728720" y="3625920"/>
              <a:ext cx="709200" cy="228600"/>
              <a:chOff x="1728720" y="3625920"/>
              <a:chExt cx="709200" cy="228600"/>
            </a:xfrm>
          </p:grpSpPr>
          <p:sp>
            <p:nvSpPr>
              <p:cNvPr id="766" name="Freeform 54"/>
              <p:cNvSpPr/>
              <p:nvPr/>
            </p:nvSpPr>
            <p:spPr>
              <a:xfrm>
                <a:off x="1728720" y="362592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7" name="Line 55"/>
              <p:cNvSpPr/>
              <p:nvPr/>
            </p:nvSpPr>
            <p:spPr>
              <a:xfrm>
                <a:off x="2390760" y="3625920"/>
                <a:ext cx="4716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56"/>
            <p:cNvGrpSpPr/>
            <p:nvPr/>
          </p:nvGrpSpPr>
          <p:grpSpPr>
            <a:xfrm>
              <a:off x="2438280" y="3683160"/>
              <a:ext cx="301680" cy="304920"/>
              <a:chOff x="2438280" y="3683160"/>
              <a:chExt cx="301680" cy="304920"/>
            </a:xfrm>
          </p:grpSpPr>
          <p:sp>
            <p:nvSpPr>
              <p:cNvPr id="769" name="Freeform 57"/>
              <p:cNvSpPr/>
              <p:nvPr/>
            </p:nvSpPr>
            <p:spPr>
              <a:xfrm>
                <a:off x="2438280" y="3683160"/>
                <a:ext cx="280800" cy="152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0" name="Line 58"/>
              <p:cNvSpPr/>
              <p:nvPr/>
            </p:nvSpPr>
            <p:spPr>
              <a:xfrm>
                <a:off x="2719080" y="3683160"/>
                <a:ext cx="2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59"/>
            <p:cNvGrpSpPr/>
            <p:nvPr/>
          </p:nvGrpSpPr>
          <p:grpSpPr>
            <a:xfrm>
              <a:off x="3041640" y="3930840"/>
              <a:ext cx="280800" cy="152280"/>
              <a:chOff x="3041640" y="3930840"/>
              <a:chExt cx="280800" cy="152280"/>
            </a:xfrm>
          </p:grpSpPr>
          <p:sp>
            <p:nvSpPr>
              <p:cNvPr id="772" name="Freeform 60"/>
              <p:cNvSpPr/>
              <p:nvPr/>
            </p:nvSpPr>
            <p:spPr>
              <a:xfrm>
                <a:off x="3041640" y="3930840"/>
                <a:ext cx="261720" cy="101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3" name="Line 61"/>
              <p:cNvSpPr/>
              <p:nvPr/>
            </p:nvSpPr>
            <p:spPr>
              <a:xfrm>
                <a:off x="3303360" y="3930840"/>
                <a:ext cx="190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62"/>
            <p:cNvGrpSpPr/>
            <p:nvPr/>
          </p:nvGrpSpPr>
          <p:grpSpPr>
            <a:xfrm>
              <a:off x="3322440" y="3826080"/>
              <a:ext cx="662040" cy="228600"/>
              <a:chOff x="3322440" y="3826080"/>
              <a:chExt cx="662040" cy="228600"/>
            </a:xfrm>
          </p:grpSpPr>
          <p:sp>
            <p:nvSpPr>
              <p:cNvPr id="775" name="Freeform 63"/>
              <p:cNvSpPr/>
              <p:nvPr/>
            </p:nvSpPr>
            <p:spPr>
              <a:xfrm>
                <a:off x="3322440" y="382608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6" name="Line 64"/>
              <p:cNvSpPr/>
              <p:nvPr/>
            </p:nvSpPr>
            <p:spPr>
              <a:xfrm>
                <a:off x="3984480" y="382608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7" name="Group 65"/>
          <p:cNvGrpSpPr/>
          <p:nvPr/>
        </p:nvGrpSpPr>
        <p:grpSpPr>
          <a:xfrm>
            <a:off x="457200" y="2570040"/>
            <a:ext cx="6324480" cy="3983040"/>
            <a:chOff x="457200" y="2570040"/>
            <a:chExt cx="6324480" cy="3983040"/>
          </a:xfrm>
        </p:grpSpPr>
        <p:sp>
          <p:nvSpPr>
            <p:cNvPr id="778" name="Rectangle 66"/>
            <p:cNvSpPr/>
            <p:nvPr/>
          </p:nvSpPr>
          <p:spPr>
            <a:xfrm>
              <a:off x="457200" y="2570040"/>
              <a:ext cx="6324480" cy="3983040"/>
            </a:xfrm>
            <a:prstGeom prst="rect">
              <a:avLst/>
            </a:prstGeom>
            <a:solidFill>
              <a:srgbClr val="fefed6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79" name="Picture 67" descr=""/>
            <p:cNvPicPr/>
            <p:nvPr/>
          </p:nvPicPr>
          <p:blipFill>
            <a:blip r:embed="rId1"/>
            <a:stretch/>
          </p:blipFill>
          <p:spPr>
            <a:xfrm>
              <a:off x="577800" y="2808000"/>
              <a:ext cx="5899320" cy="356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Group 68"/>
          <p:cNvGrpSpPr/>
          <p:nvPr/>
        </p:nvGrpSpPr>
        <p:grpSpPr>
          <a:xfrm>
            <a:off x="1828800" y="3306600"/>
            <a:ext cx="3733920" cy="3170160"/>
            <a:chOff x="1828800" y="3306600"/>
            <a:chExt cx="3733920" cy="3170160"/>
          </a:xfrm>
        </p:grpSpPr>
        <p:sp>
          <p:nvSpPr>
            <p:cNvPr id="781" name="Line 69"/>
            <p:cNvSpPr/>
            <p:nvPr/>
          </p:nvSpPr>
          <p:spPr>
            <a:xfrm>
              <a:off x="1828800" y="3306600"/>
              <a:ext cx="0" cy="317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70"/>
            <p:cNvSpPr/>
            <p:nvPr/>
          </p:nvSpPr>
          <p:spPr>
            <a:xfrm>
              <a:off x="5562720" y="3306600"/>
              <a:ext cx="0" cy="317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71"/>
            <p:cNvSpPr/>
            <p:nvPr/>
          </p:nvSpPr>
          <p:spPr>
            <a:xfrm>
              <a:off x="1828800" y="4754520"/>
              <a:ext cx="37339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Text Box 72"/>
            <p:cNvSpPr/>
            <p:nvPr/>
          </p:nvSpPr>
          <p:spPr>
            <a:xfrm>
              <a:off x="3043440" y="43876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Buffer Siz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5" name="Object 73"/>
              <p:cNvSpPr txBox="1"/>
              <p:nvPr/>
            </p:nvSpPr>
            <p:spPr>
              <a:xfrm>
                <a:off x="1212840" y="1273320"/>
                <a:ext cx="506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35833 0.41112 E">
                                      <p:cBhvr>
                                        <p:cTn id="16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7A3A-5D36-45A0-A982-A6653B95BB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Model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congestion behavior of TCP can we predict what type of performance we should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importa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how often window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increase rate and relates BW to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performance during loss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increas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2DD0-A093-462F-BB3F-F1AF2DB1BA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5" name="Rectangle 2"/>
          <p:cNvSpPr/>
          <p:nvPr/>
        </p:nvSpPr>
        <p:spPr>
          <a:xfrm>
            <a:off x="533520" y="2819520"/>
            <a:ext cx="8229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all TCP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7" name="Line 4"/>
          <p:cNvSpPr/>
          <p:nvPr/>
        </p:nvSpPr>
        <p:spPr>
          <a:xfrm>
            <a:off x="2438280" y="5715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8" name="Line 5"/>
          <p:cNvSpPr/>
          <p:nvPr/>
        </p:nvSpPr>
        <p:spPr>
          <a:xfrm flipV="1">
            <a:off x="243828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9" name="Text Box 6"/>
          <p:cNvSpPr/>
          <p:nvPr/>
        </p:nvSpPr>
        <p:spPr>
          <a:xfrm>
            <a:off x="4371120" y="5754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0" name="Text Box 7"/>
          <p:cNvSpPr/>
          <p:nvPr/>
        </p:nvSpPr>
        <p:spPr>
          <a:xfrm>
            <a:off x="1146600" y="39625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31" name="Group 8"/>
          <p:cNvGrpSpPr/>
          <p:nvPr/>
        </p:nvGrpSpPr>
        <p:grpSpPr>
          <a:xfrm>
            <a:off x="2438280" y="3352680"/>
            <a:ext cx="4114080" cy="2361600"/>
            <a:chOff x="2438280" y="3352680"/>
            <a:chExt cx="4114080" cy="2361600"/>
          </a:xfrm>
        </p:grpSpPr>
        <p:sp>
          <p:nvSpPr>
            <p:cNvPr id="1532" name="Freeform 9"/>
            <p:cNvSpPr/>
            <p:nvPr/>
          </p:nvSpPr>
          <p:spPr>
            <a:xfrm>
              <a:off x="2438280" y="3352680"/>
              <a:ext cx="1199880" cy="230508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322" h="539">
                  <a:moveTo>
                    <a:pt x="0" y="539"/>
                  </a:moveTo>
                  <a:cubicBezTo>
                    <a:pt x="30" y="531"/>
                    <a:pt x="132" y="522"/>
                    <a:pt x="178" y="480"/>
                  </a:cubicBezTo>
                  <a:cubicBezTo>
                    <a:pt x="224" y="438"/>
                    <a:pt x="250" y="368"/>
                    <a:pt x="274" y="288"/>
                  </a:cubicBezTo>
                  <a:cubicBezTo>
                    <a:pt x="298" y="208"/>
                    <a:pt x="310" y="104"/>
                    <a:pt x="322" y="0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3" name="Line 10"/>
            <p:cNvSpPr/>
            <p:nvPr/>
          </p:nvSpPr>
          <p:spPr>
            <a:xfrm>
              <a:off x="3660840" y="3454560"/>
              <a:ext cx="0" cy="225972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4" name="Freeform 11"/>
            <p:cNvSpPr/>
            <p:nvPr/>
          </p:nvSpPr>
          <p:spPr>
            <a:xfrm>
              <a:off x="3690360" y="4892400"/>
              <a:ext cx="715680" cy="8215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821520"/>
                <a:gd name="textAreaBottom" fmla="*/ 821880 h 82152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192"/>
                  </a:moveTo>
                  <a:cubicBezTo>
                    <a:pt x="32" y="184"/>
                    <a:pt x="64" y="176"/>
                    <a:pt x="96" y="144"/>
                  </a:cubicBezTo>
                  <a:cubicBezTo>
                    <a:pt x="128" y="112"/>
                    <a:pt x="160" y="56"/>
                    <a:pt x="192" y="0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5" name="Line 12"/>
            <p:cNvSpPr/>
            <p:nvPr/>
          </p:nvSpPr>
          <p:spPr>
            <a:xfrm flipV="1">
              <a:off x="4406040" y="4482000"/>
              <a:ext cx="357120" cy="4104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6" name="Line 13"/>
            <p:cNvSpPr/>
            <p:nvPr/>
          </p:nvSpPr>
          <p:spPr>
            <a:xfrm>
              <a:off x="476352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7" name="Line 14"/>
            <p:cNvSpPr/>
            <p:nvPr/>
          </p:nvSpPr>
          <p:spPr>
            <a:xfrm flipV="1">
              <a:off x="476352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Line 15"/>
            <p:cNvSpPr/>
            <p:nvPr/>
          </p:nvSpPr>
          <p:spPr>
            <a:xfrm>
              <a:off x="512100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Line 16"/>
            <p:cNvSpPr/>
            <p:nvPr/>
          </p:nvSpPr>
          <p:spPr>
            <a:xfrm flipV="1">
              <a:off x="5121000" y="4481640"/>
              <a:ext cx="35820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Line 17"/>
            <p:cNvSpPr/>
            <p:nvPr/>
          </p:nvSpPr>
          <p:spPr>
            <a:xfrm>
              <a:off x="547920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Line 18"/>
            <p:cNvSpPr/>
            <p:nvPr/>
          </p:nvSpPr>
          <p:spPr>
            <a:xfrm flipV="1">
              <a:off x="547920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Line 19"/>
            <p:cNvSpPr/>
            <p:nvPr/>
          </p:nvSpPr>
          <p:spPr>
            <a:xfrm>
              <a:off x="583668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Line 20"/>
            <p:cNvSpPr/>
            <p:nvPr/>
          </p:nvSpPr>
          <p:spPr>
            <a:xfrm flipV="1">
              <a:off x="583668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4" name="Line 21"/>
            <p:cNvSpPr/>
            <p:nvPr/>
          </p:nvSpPr>
          <p:spPr>
            <a:xfrm>
              <a:off x="619416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Line 22"/>
            <p:cNvSpPr/>
            <p:nvPr/>
          </p:nvSpPr>
          <p:spPr>
            <a:xfrm flipV="1">
              <a:off x="6194160" y="4481640"/>
              <a:ext cx="35820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Line 23"/>
            <p:cNvSpPr/>
            <p:nvPr/>
          </p:nvSpPr>
          <p:spPr>
            <a:xfrm>
              <a:off x="655236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547" name="Rectangle 24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8" name="Rectangle 25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ncentrate on steady state behavior with no timeouts and perfect loss recovery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97FA-1BB7-4F62-866C-EA7F68B160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mple TCP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di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R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laye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eady state, TCP losses packet each time window reaches W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drops to W/2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TT window increases by 1 packe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2 * RTT before nex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 = MSS * avg window/RT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S * (W + W/2)/(2 * R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75 * MSS * W /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20F3-3E2F-4CCF-90F0-9E564F0A11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mple Loss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loss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transferred between losse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 BW * tim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75 W/RTT) * (W/2 * RTT) = 3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acket lo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ss rate = p = 8/3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sqrt( 8 / (3 * loss rat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 = .75 * MSS * W / 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W = MSS / (RTT * sqrt (2/3p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E75-6980-4C5F-B93E-B52D9FC2B5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i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TCP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s not go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ew congestion control must compete with TCP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clobber TCP flows and grab bulk of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so be able to hold its own, i.e. grab its fair share, or it will never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quantified/sh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evolved into evaluating loss/throughp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shows 1/sqrt(p) behavior i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this really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902-C088-41D6-A98B-946E2E3456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entral Limit Theorem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457200" y="1806480"/>
            <a:ext cx="82296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57200" y="16002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 tells us that the more variables (Congestion Windows of Flows) we have, the narrower the Gaussian (Fluctuation of sum of windows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Gaussian decreases with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size should also decreases with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5"/>
              <p:cNvSpPr txBox="1"/>
              <p:nvPr/>
            </p:nvSpPr>
            <p:spPr>
              <a:xfrm>
                <a:off x="2744640" y="4038480"/>
                <a:ext cx="3029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6"/>
              <p:cNvSpPr txBox="1"/>
              <p:nvPr/>
            </p:nvSpPr>
            <p:spPr>
              <a:xfrm>
                <a:off x="5943600" y="2805120"/>
                <a:ext cx="430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7"/>
              <p:cNvSpPr txBox="1"/>
              <p:nvPr/>
            </p:nvSpPr>
            <p:spPr>
              <a:xfrm>
                <a:off x="6570720" y="3029040"/>
                <a:ext cx="447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FDAA-2F54-4098-93D0-6832F63C75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794" name="Picture 2" descr="new-simple"/>
          <p:cNvPicPr/>
          <p:nvPr/>
        </p:nvPicPr>
        <p:blipFill>
          <a:blip r:embed="rId1"/>
          <a:stretch/>
        </p:blipFill>
        <p:spPr>
          <a:xfrm>
            <a:off x="457200" y="1077840"/>
            <a:ext cx="7924680" cy="55054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04176"/>
                </a:solidFill>
                <a:latin typeface="Arial"/>
              </a:rPr>
              <a:t>Required buffer siz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796" name="Object 4"/>
          <p:cNvGraphicFramePr/>
          <p:nvPr/>
        </p:nvGraphicFramePr>
        <p:xfrm>
          <a:off x="3540240" y="3505320"/>
          <a:ext cx="844560" cy="75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0240" y="3505320"/>
                    <a:ext cx="84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Line 5"/>
          <p:cNvSpPr/>
          <p:nvPr/>
        </p:nvSpPr>
        <p:spPr>
          <a:xfrm flipV="1">
            <a:off x="3124080" y="5105520"/>
            <a:ext cx="45720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3962520" y="4289400"/>
            <a:ext cx="0" cy="695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2089440" y="5410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5:05:24Z</dcterms:created>
  <dc:creator>Srinivasan Seshan</dc:creator>
  <dc:description/>
  <dc:language>en-US</dc:language>
  <cp:lastModifiedBy>Srinivasan Seshan</cp:lastModifiedBy>
  <dcterms:modified xsi:type="dcterms:W3CDTF">2017-02-22T17:33:11Z</dcterms:modified>
  <cp:revision>73</cp:revision>
  <dc:subject/>
  <dc:title>15-744: Computer Networking</dc:title>
</cp:coreProperties>
</file>