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8.xml.rels" ContentType="application/vnd.openxmlformats-package.relationships+xml"/>
  <Override PartName="/ppt/notesSlides/notesSlide6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FF9C4-6132-4C29-BC2C-1999A94C1D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8FBC8-3E76-473A-82CA-FD5D78EA0528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what drastic reaction to over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instantaneous queu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106D5-71BD-4C0F-A659-8A88C2C52E3A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le fix since otherwise avgq stays high during idle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88DCD-EB19-44E6-9118-DE13005337E6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20E9A-919B-4BB0-B3BD-23AB63A41642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75117-3E62-4A98-AD3E-93B9343A2D52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923DC-76E8-477F-A383-3F250AC6C046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D7212-1DEC-4301-BA86-17650353DB6A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78669-7469-41B3-B919-D82F954509C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29E46-5721-4643-B7FD-4A1CC5430D2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2975040" y="55080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1279440" y="3470040"/>
            <a:ext cx="7042320" cy="3738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is 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(T*Cwnd/RTT) == # of pkts we expect to see from flow in time T… sum on this flow == 1 across all its pk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for additiv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lta/N in Bwidt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lta * RTT/N in cwnd over cwnd/rtt pkts…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lta RTT^2 / (CWND * 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ecreas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 little easier… for every packet basically want the same rate decrease – i.e. constant * RTT .. Just split across # pkts i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8CE92-4C7F-430B-944A-1CC441B7A128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865B1-AEAD-4298-A05A-5A94E562410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E325D-3DFF-49DD-AE31-5F63EE2637EA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90D0D-6005-4E8F-8C82-69832BCE854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03FC4-6D49-42A2-BF75-3E779E270217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3129120" y="731880"/>
            <a:ext cx="3344760" cy="25081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1464840" y="3482640"/>
            <a:ext cx="6676920" cy="27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EFD-82EB-452D-9D54-0E5187AB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728-B5B5-4DEB-8CC2-E7AE5160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AA0-37B8-4F0A-8625-F619C25F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290-8FED-46F2-922B-9557AC44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B26B-E56C-412D-8FEA-E56423E0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A3B4-6E32-4CED-A43D-D4A84E65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55E5-4FEC-46D1-A3E0-F71A8186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3259-058E-4CEF-9AFB-B03641CF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7A6A-2972-4E5C-AA64-8EAA2BC8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BD3E-4399-4DC6-ABD3-6E519763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D058-E118-4653-A351-7A2665C6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290-93DB-4790-9669-939103E3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E002-B34B-4316-9A9F-4DF35237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233E-ACB4-4EE1-BE6E-46753E02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3C5E-291F-41EF-8225-EBC45C6C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7D15-AA2C-4CD9-8739-28A9209F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FF08-406F-4560-8609-0441E2DA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680-01A6-465B-9691-8DE5DF4A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CC5E-8B98-45EF-98E7-EC32EA54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5B1-A043-4037-89CF-568154B3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C14-6F4F-4684-A7BE-387D5089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EDF-61E3-4094-AC27-EE9F34C0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9D9-4677-4271-AC85-69BAC6B0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CDD-77B9-4CEA-9854-B24209B2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5; 10-15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AC06-0C1D-4310-801D-5673465ABB0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1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12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33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1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2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65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66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67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70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73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76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79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82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85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88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Rectangle 192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1" name="Rectangle 193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2" name="Rectangle 194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3" name="Rectangle 195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4" name="Rectangle 196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5" name="Rectangle 197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6" name="Rectangle 198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7" name="Rectangle 199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8" name="Rectangle 200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99" name="Rectangle 201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0" name="Rectangle 202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1" name="Rectangle 203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2" name="Rectangle 204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3" name="Rectangle 205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4" name="Rectangle 206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5" name="Rectangle 207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6" name="Rectangle 208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7" name="Rectangle 209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8" name="Rectangle 210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09" name="Rectangle 211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0" name="Rectangle 212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1" name="Rectangle 213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2" name="Rectangle 214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3" name="Rectangle 215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4" name="Rectangle 216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5" name="Rectangle 217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6" name="Rectangle 218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7" name="Rectangle 219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8" name="Rectangle 220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19" name="Rectangle 221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0" name="Rectangle 222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21" name="Rectangle 223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222" name="Group 224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23" name="Group 225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24" name="Rectangle 226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5" name="Rectangle 227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228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27" name="Rectangle 229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28" name="Rectangle 230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231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30" name="Rectangle 232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1" name="Rectangle 233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234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233" name="Rectangle 235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4" name="Rectangle 236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37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236" name="Rectangle 238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7" name="Rectangle 239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240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239" name="Rectangle 241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0" name="Rectangle 242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243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42" name="Rectangle 244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3" name="Rectangle 245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246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45" name="Rectangle 247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6" name="Rectangle 248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84" name="Rectangle 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89" name="Group 8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90" name="Group 9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91" name="Rectangle 10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2" name="Rectangle 11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12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94" name="Rectangle 13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5" name="Rectangle 14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15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97" name="Rectangle 16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8" name="Rectangle 17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18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300" name="Rectangle 19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1" name="Rectangle 20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21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303" name="Rectangle 22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4" name="Rectangle 23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24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306" name="Rectangle 25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7" name="Rectangle 26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Group 27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309" name="Rectangle 28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29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30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312" name="Rectangle 31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3" name="Rectangle 32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Group 38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315" name="Group 39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316" name="Rectangle 40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7" name="Rectangle 41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Group 42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319" name="Rectangle 43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0" name="Rectangle 44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45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322" name="Rectangle 46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3" name="Rectangle 47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48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325" name="Rectangle 49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6" name="Rectangle 50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Group 51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328" name="Rectangle 52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9" name="Rectangle 53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54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331" name="Rectangle 55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2" name="Rectangle 56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57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334" name="Rectangle 58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5" name="Rectangle 59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Group 60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337" name="Rectangle 61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8" name="Rectangle 62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9" name="Group 63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340" name="Group 64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341" name="Rectangle 65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2" name="Rectangle 66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67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344" name="Rectangle 68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5" name="Rectangle 69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70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347" name="Rectangle 71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48" name="Rectangle 72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73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350" name="Rectangle 74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1" name="Rectangle 75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76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353" name="Rectangle 77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4" name="Rectangle 78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79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356" name="Rectangle 80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57" name="Rectangle 81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82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359" name="Rectangle 83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0" name="Rectangle 84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85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362" name="Rectangle 86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3" name="Rectangle 87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4" name="Group 88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365" name="Line 89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6" name="Freeform 90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7" name="Freeform 91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8" name="Freeform 92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9" name="Freeform 93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0" name="Freeform 94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1" name="Freeform 95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2" name="Freeform 96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373" name="Group 97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374" name="Freeform 98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5" name="Freeform 99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6" name="Freeform 100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7" name="Freeform 101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Group 102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379" name="Freeform 103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0" name="Freeform 104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1" name="Freeform 105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2" name="Freeform 106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107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384" name="Freeform 108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5" name="Freeform 109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6" name="Freeform 110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7" name="Freeform 111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388" name="Freeform 112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9" name="Freeform 113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0" name="Line 114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1" name="Line 115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2" name="Line 116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3" name="Line 117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4" name="Freeform 118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5" name="Freeform 119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6" name="Line 120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7" name="Freeform 121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8" name="Freeform 122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9" name="Line 123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0" name="Line 124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1" name="Line 125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2" name="Line 126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3" name="Line 127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4" name="Line 128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5" name="Line 129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6" name="Freeform 130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7" name="Freeform 131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8" name="Line 132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409" name="Group 133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410" name="Rectangle 134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1" name="Rectangle 135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2" name="Rectangle 136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3" name="Rectangle 137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4" name="Rectangle 138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415" name="Group 139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416" name="Group 140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417" name="Rectangle 141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8" name="Rectangle 142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Group 143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420" name="Rectangle 144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1" name="Rectangle 145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146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423" name="Rectangle 147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4" name="Rectangle 148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9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426" name="Rectangle 150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7" name="Rectangle 151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152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429" name="Rectangle 153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0" name="Rectangle 154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Group 155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432" name="Rectangle 156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3" name="Rectangle 157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158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435" name="Rectangle 159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6" name="Rectangle 160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161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438" name="Rectangle 162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9" name="Rectangle 163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0" name="Group 164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441" name="Group 165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442" name="Rectangle 166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43" name="Rectangle 167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68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445" name="Rectangle 169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46" name="Rectangle 170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71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448" name="Rectangle 172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49" name="Rectangle 173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174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451" name="Rectangle 175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2" name="Rectangle 176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177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454" name="Rectangle 178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5" name="Rectangle 179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180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457" name="Rectangle 181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58" name="Rectangle 182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183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460" name="Rectangle 184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61" name="Rectangle 185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186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463" name="Rectangle 187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64" name="Rectangle 188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Group 189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466" name="Group 190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467" name="Rectangle 191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68" name="Rectangle 192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Group 193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470" name="Rectangle 194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1" name="Rectangle 195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Group 196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473" name="Rectangle 197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4" name="Rectangle 198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Group 199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476" name="Rectangle 200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77" name="Rectangle 201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Group 202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479" name="Rectangle 203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0" name="Rectangle 204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Group 205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482" name="Rectangle 206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3" name="Rectangle 207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208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485" name="Rectangle 209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6" name="Rectangle 210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211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488" name="Rectangle 212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89" name="Rectangle 213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0" name="Group 214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491" name="Rectangle 215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2" name="Rectangle 216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3" name="Rectangle 217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4" name="Rectangle 218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5" name="Rectangle 219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496" name="Group 220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497" name="Group 221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498" name="Rectangle 222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99" name="Rectangle 223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Group 224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01" name="Rectangle 225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2" name="Rectangle 226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Group 227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504" name="Rectangle 228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5" name="Rectangle 229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230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507" name="Rectangle 231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08" name="Rectangle 232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233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510" name="Rectangle 234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11" name="Rectangle 235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236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513" name="Rectangle 237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14" name="Rectangle 238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239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516" name="Rectangle 240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17" name="Rectangle 241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Group 242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519" name="Rectangle 243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0" name="Rectangle 244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1" name="Group 245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522" name="Group 246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523" name="Rectangle 247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4" name="Rectangle 248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49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526" name="Rectangle 250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27" name="Rectangle 251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252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529" name="Rectangle 253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0" name="Rectangle 254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255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532" name="Rectangle 256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3" name="Rectangle 257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258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535" name="Rectangle 259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6" name="Rectangle 260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261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538" name="Rectangle 262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39" name="Rectangle 263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264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541" name="Rectangle 265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2" name="Rectangle 266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267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544" name="Rectangle 268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5" name="Rectangle 269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Group 270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547" name="Group 271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548" name="Rectangle 272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49" name="Rectangle 273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274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551" name="Rectangle 275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2" name="Rectangle 276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Group 277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554" name="Rectangle 278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5" name="Rectangle 279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280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557" name="Rectangle 281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58" name="Rectangle 282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283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560" name="Rectangle 284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1" name="Rectangle 285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286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563" name="Rectangle 287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4" name="Rectangle 288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Group 289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566" name="Rectangle 290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67" name="Rectangle 291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292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569" name="Rectangle 293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570" name="Rectangle 294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5; 10-15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122F-EC37-4F38-BD52-F8740D50C75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12 Queu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e-stateless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AC5B-1F2F-42AF-B2B0-9FA027CF904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5CBD-2CC4-4D63-BDF0-C48FBCAD833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uing Disciplin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outer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lement some queuing disci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ing allocates both bandwidth and buffer 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width: which packet to serve (transmit) n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 space: which packet to drop next (when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ing also affects la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AB0A-2FE0-477B-98DC-D7D244BAC66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8" name="Rectangle 2"/>
          <p:cNvSpPr/>
          <p:nvPr/>
        </p:nvSpPr>
        <p:spPr>
          <a:xfrm>
            <a:off x="152280" y="1371600"/>
            <a:ext cx="876312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Drop Dimens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0" name="Text Box 4"/>
          <p:cNvSpPr/>
          <p:nvPr/>
        </p:nvSpPr>
        <p:spPr>
          <a:xfrm>
            <a:off x="3733920" y="179856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ggreg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1" name="Text Box 5"/>
          <p:cNvSpPr/>
          <p:nvPr/>
        </p:nvSpPr>
        <p:spPr>
          <a:xfrm>
            <a:off x="155520" y="21286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-connection stat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7089840" y="20527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clas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3" name="Line 7"/>
          <p:cNvSpPr/>
          <p:nvPr/>
        </p:nvSpPr>
        <p:spPr>
          <a:xfrm>
            <a:off x="1219320" y="3200400"/>
            <a:ext cx="670536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4" name="Line 8"/>
          <p:cNvSpPr/>
          <p:nvPr/>
        </p:nvSpPr>
        <p:spPr>
          <a:xfrm flipV="1">
            <a:off x="1219320" y="251424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5" name="Line 9"/>
          <p:cNvSpPr/>
          <p:nvPr/>
        </p:nvSpPr>
        <p:spPr>
          <a:xfrm flipV="1">
            <a:off x="7924680" y="251424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809520" y="362736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rop posi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7" name="Text Box 11"/>
          <p:cNvSpPr/>
          <p:nvPr/>
        </p:nvSpPr>
        <p:spPr>
          <a:xfrm>
            <a:off x="840960" y="38815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8" name="Text Box 12"/>
          <p:cNvSpPr/>
          <p:nvPr/>
        </p:nvSpPr>
        <p:spPr>
          <a:xfrm>
            <a:off x="7622280" y="38052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9" name="Line 13"/>
          <p:cNvSpPr/>
          <p:nvPr/>
        </p:nvSpPr>
        <p:spPr>
          <a:xfrm>
            <a:off x="1295280" y="4952880"/>
            <a:ext cx="67057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0" name="Line 14"/>
          <p:cNvSpPr/>
          <p:nvPr/>
        </p:nvSpPr>
        <p:spPr>
          <a:xfrm flipV="1">
            <a:off x="1295280" y="426672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1" name="Line 15"/>
          <p:cNvSpPr/>
          <p:nvPr/>
        </p:nvSpPr>
        <p:spPr>
          <a:xfrm flipV="1">
            <a:off x="8001000" y="426672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2" name="Text Box 16"/>
          <p:cNvSpPr/>
          <p:nvPr/>
        </p:nvSpPr>
        <p:spPr>
          <a:xfrm>
            <a:off x="3585240" y="46432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locatio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3" name="Text Box 17"/>
          <p:cNvSpPr/>
          <p:nvPr/>
        </p:nvSpPr>
        <p:spPr>
          <a:xfrm>
            <a:off x="3357720" y="289080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-based queuing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4" name="Text Box 18"/>
          <p:cNvSpPr/>
          <p:nvPr/>
        </p:nvSpPr>
        <p:spPr>
          <a:xfrm>
            <a:off x="459720" y="57373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drop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5" name="Text Box 19"/>
          <p:cNvSpPr/>
          <p:nvPr/>
        </p:nvSpPr>
        <p:spPr>
          <a:xfrm>
            <a:off x="7165440" y="57373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drop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6" name="Line 20"/>
          <p:cNvSpPr/>
          <p:nvPr/>
        </p:nvSpPr>
        <p:spPr>
          <a:xfrm>
            <a:off x="1828800" y="5943600"/>
            <a:ext cx="53341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7D6C-ABEC-4FB7-97D2-904AA06EDF4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ypical Internet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+ drop-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idely i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(first-in-first-ou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single class of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-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iving packets get dropped when queue is full regardless of flow or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disti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O: scheduling 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-tail: drop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4543-D7C1-4365-A302-1A7F1086BF6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IFO + Drop-tail Proble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s responsibility of congestion control to edges (e.g., 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separate between differen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licing: send more packe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t mor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ization: end hosts react to sam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1C9E-0DDC-48D2-B1DE-336EF655C4A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ctive Queue Managemen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ctive router queue management to aid congestion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can distinguish between propagation and persistent queuing d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can decide on transient congestion, based on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E0D2-753E-4E05-8137-159B936F381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ctive Queue Desig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both router and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bit – congestion bit in packet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router, hosts use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-connection buffer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(Random Early De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 packet or set bit in packet header as soon as congestion is st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e-stateless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569B-3FA1-4CB3-BFAE-C1047FE3543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674B-62BD-45F9-8A9F-0F126BB37E4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rnet Proble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are forced to have have large queues to maintain high uti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detects congestion from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s network to have long standing queues in steady-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-out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-tail routers treat bursty traffic poo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gets synchronized easil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a few flows to monopolize the queu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D114-6003-4E3C-87AC-CC6F73EC320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esign Objectiv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hroughput high and delay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modate bur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 size should reflect ability to accept bursts rather than steady-state queu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TCP performance with minimal hardwar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BA9E-8F38-43CC-BA4D-3A3C4514E6D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ir Queu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re-stateless Fair queu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DKS90] Analysis and Simulation of a Fair Queueing Algorithm, Internetworking: Research and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XCP] Congestion Control for High Bandwidth-Delay Produc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SSZ98] Core-Stateless Fair Queueing: Achieving Approximately Fair Allocations in High Spee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F826-1858-48FC-AB13-0C125D34D9F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ock-out Proble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dr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arriving when queue is full causes some random packet to be dro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full queue, drop packet at head of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drop and drop front solve the lock-out problem but not the full-queues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02D3-38FC-44F4-91CA-7015B1D7A8A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ull Queues Proble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packets before queue becomes full (early dr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 notify senders of incipient co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early random drop (ER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qlen &gt; drop level, drop each new packet with fixed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control misbehaving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2B93-402D-4A08-99BD-79F7BF0458A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andom Early Detection (RED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 incipient congestion, allow bur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power (throughput/delay)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verage queue siz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hosts respond to lost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window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mark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bias against bursty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tection against ill-behav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7E51-919E-439F-92EB-3B2F5638128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D Algorith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running average of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vgq &lt;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queuing, send packets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vgq &gt; 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rop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 from misbehaving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mark packet in a manner proportional to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y sources of incipient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F82A-A7FF-48CD-BDF9-B5FB3E451E0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1" name="Rectangle 2"/>
          <p:cNvSpPr/>
          <p:nvPr/>
        </p:nvSpPr>
        <p:spPr>
          <a:xfrm>
            <a:off x="152280" y="1371600"/>
            <a:ext cx="876312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D Oper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3" name="Freeform 4"/>
          <p:cNvSpPr/>
          <p:nvPr/>
        </p:nvSpPr>
        <p:spPr>
          <a:xfrm>
            <a:off x="1828800" y="2087640"/>
            <a:ext cx="5638680" cy="9144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3552" h="576">
                <a:moveTo>
                  <a:pt x="0" y="0"/>
                </a:moveTo>
                <a:lnTo>
                  <a:pt x="3552" y="0"/>
                </a:lnTo>
                <a:lnTo>
                  <a:pt x="3552" y="576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4" name="Line 5"/>
          <p:cNvSpPr/>
          <p:nvPr/>
        </p:nvSpPr>
        <p:spPr>
          <a:xfrm>
            <a:off x="72388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5" name="Line 6"/>
          <p:cNvSpPr/>
          <p:nvPr/>
        </p:nvSpPr>
        <p:spPr>
          <a:xfrm>
            <a:off x="60958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6" name="Line 7"/>
          <p:cNvSpPr/>
          <p:nvPr/>
        </p:nvSpPr>
        <p:spPr>
          <a:xfrm>
            <a:off x="58672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7" name="Line 8"/>
          <p:cNvSpPr/>
          <p:nvPr/>
        </p:nvSpPr>
        <p:spPr>
          <a:xfrm>
            <a:off x="63244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8" name="Line 9"/>
          <p:cNvSpPr/>
          <p:nvPr/>
        </p:nvSpPr>
        <p:spPr>
          <a:xfrm>
            <a:off x="65530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9" name="Line 10"/>
          <p:cNvSpPr/>
          <p:nvPr/>
        </p:nvSpPr>
        <p:spPr>
          <a:xfrm>
            <a:off x="67816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0" name="Line 11"/>
          <p:cNvSpPr/>
          <p:nvPr/>
        </p:nvSpPr>
        <p:spPr>
          <a:xfrm>
            <a:off x="70102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1" name="Line 12"/>
          <p:cNvSpPr/>
          <p:nvPr/>
        </p:nvSpPr>
        <p:spPr>
          <a:xfrm>
            <a:off x="56386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2" name="Line 13"/>
          <p:cNvSpPr/>
          <p:nvPr/>
        </p:nvSpPr>
        <p:spPr>
          <a:xfrm>
            <a:off x="44956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3" name="Line 14"/>
          <p:cNvSpPr/>
          <p:nvPr/>
        </p:nvSpPr>
        <p:spPr>
          <a:xfrm>
            <a:off x="42670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4" name="Line 15"/>
          <p:cNvSpPr/>
          <p:nvPr/>
        </p:nvSpPr>
        <p:spPr>
          <a:xfrm>
            <a:off x="47242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5" name="Line 16"/>
          <p:cNvSpPr/>
          <p:nvPr/>
        </p:nvSpPr>
        <p:spPr>
          <a:xfrm>
            <a:off x="49528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6" name="Line 17"/>
          <p:cNvSpPr/>
          <p:nvPr/>
        </p:nvSpPr>
        <p:spPr>
          <a:xfrm>
            <a:off x="51814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7" name="Line 18"/>
          <p:cNvSpPr/>
          <p:nvPr/>
        </p:nvSpPr>
        <p:spPr>
          <a:xfrm>
            <a:off x="54100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8" name="Line 19"/>
          <p:cNvSpPr/>
          <p:nvPr/>
        </p:nvSpPr>
        <p:spPr>
          <a:xfrm>
            <a:off x="6095880" y="1554120"/>
            <a:ext cx="0" cy="19051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9" name="Line 20"/>
          <p:cNvSpPr/>
          <p:nvPr/>
        </p:nvSpPr>
        <p:spPr>
          <a:xfrm>
            <a:off x="3124080" y="1554120"/>
            <a:ext cx="0" cy="19051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0" name="Line 21"/>
          <p:cNvSpPr/>
          <p:nvPr/>
        </p:nvSpPr>
        <p:spPr>
          <a:xfrm flipV="1">
            <a:off x="4267080" y="3002040"/>
            <a:ext cx="0" cy="3808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1" name="Text Box 22"/>
          <p:cNvSpPr/>
          <p:nvPr/>
        </p:nvSpPr>
        <p:spPr>
          <a:xfrm>
            <a:off x="6095520" y="137160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 thres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2" name="Text Box 23"/>
          <p:cNvSpPr/>
          <p:nvPr/>
        </p:nvSpPr>
        <p:spPr>
          <a:xfrm>
            <a:off x="1522800" y="14479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thres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3" name="Text Box 24"/>
          <p:cNvSpPr/>
          <p:nvPr/>
        </p:nvSpPr>
        <p:spPr>
          <a:xfrm>
            <a:off x="3505320" y="34131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Queue Lengt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4" name="Line 25"/>
          <p:cNvSpPr/>
          <p:nvPr/>
        </p:nvSpPr>
        <p:spPr>
          <a:xfrm>
            <a:off x="3124080" y="5845320"/>
            <a:ext cx="39625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5" name="Line 26"/>
          <p:cNvSpPr/>
          <p:nvPr/>
        </p:nvSpPr>
        <p:spPr>
          <a:xfrm flipV="1">
            <a:off x="3124080" y="3940200"/>
            <a:ext cx="0" cy="19051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6" name="Text Box 27"/>
          <p:cNvSpPr/>
          <p:nvPr/>
        </p:nvSpPr>
        <p:spPr>
          <a:xfrm>
            <a:off x="3213360" y="57913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7" name="Text Box 28"/>
          <p:cNvSpPr/>
          <p:nvPr/>
        </p:nvSpPr>
        <p:spPr>
          <a:xfrm>
            <a:off x="4660560" y="5791320"/>
            <a:ext cx="69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8" name="Text Box 29"/>
          <p:cNvSpPr/>
          <p:nvPr/>
        </p:nvSpPr>
        <p:spPr>
          <a:xfrm>
            <a:off x="2372400" y="5257800"/>
            <a:ext cx="663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9" name="Text Box 30"/>
          <p:cNvSpPr/>
          <p:nvPr/>
        </p:nvSpPr>
        <p:spPr>
          <a:xfrm>
            <a:off x="2669040" y="4343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0" name="Line 31"/>
          <p:cNvSpPr/>
          <p:nvPr/>
        </p:nvSpPr>
        <p:spPr>
          <a:xfrm>
            <a:off x="3124080" y="5464080"/>
            <a:ext cx="763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1" name="Line 32"/>
          <p:cNvSpPr/>
          <p:nvPr/>
        </p:nvSpPr>
        <p:spPr>
          <a:xfrm>
            <a:off x="3137040" y="4549680"/>
            <a:ext cx="7596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2" name="Line 33"/>
          <p:cNvSpPr/>
          <p:nvPr/>
        </p:nvSpPr>
        <p:spPr>
          <a:xfrm flipV="1">
            <a:off x="3809880" y="5769000"/>
            <a:ext cx="0" cy="763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3" name="Line 34"/>
          <p:cNvSpPr/>
          <p:nvPr/>
        </p:nvSpPr>
        <p:spPr>
          <a:xfrm flipV="1">
            <a:off x="5029200" y="5769000"/>
            <a:ext cx="0" cy="763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4" name="Freeform 35"/>
          <p:cNvSpPr/>
          <p:nvPr/>
        </p:nvSpPr>
        <p:spPr>
          <a:xfrm>
            <a:off x="3809880" y="4549680"/>
            <a:ext cx="2133720" cy="129564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1344" h="816">
                <a:moveTo>
                  <a:pt x="0" y="816"/>
                </a:moveTo>
                <a:lnTo>
                  <a:pt x="768" y="576"/>
                </a:lnTo>
                <a:lnTo>
                  <a:pt x="768" y="0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5" name="Text Box 36"/>
          <p:cNvSpPr/>
          <p:nvPr/>
        </p:nvSpPr>
        <p:spPr>
          <a:xfrm>
            <a:off x="6328800" y="584352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g queue length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6" name="Text Box 37"/>
          <p:cNvSpPr/>
          <p:nvPr/>
        </p:nvSpPr>
        <p:spPr>
          <a:xfrm>
            <a:off x="2212920" y="365760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drop)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2602-FDA9-4A05-9636-3E6E14E385D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D Algorith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running average of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 mode vs. packet mode –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acket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average queue size (av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gq &lt;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robabilit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probabilit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arriving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ma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arriving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6B75-F4E8-4C0F-A01D-8514A3A3DDF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ue Estim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EWMA: avgq = (1-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vgq +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fix for idle periods –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bound o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ignore transient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lculate the queue average if a burst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certain burst size does not exceed 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bound o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ct congestion relatively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78FB-686D-4609-8833-EEC2C36EAEF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hreshol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ermined by the utilization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off between queuing delay and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between 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ensure that feedback has enough time to make difference in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average queue increase in one RT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suggest ratio of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rule of thumb is factor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3C38-6F42-4097-8E67-4CD229F788D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Ma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flective of typical loss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uses 0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 is more realistic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twork needs marking of 20-30% then need to buy a better lin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tle variant of RED (recommen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 drop rate from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1 as the avgq varies from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2*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obust to setting of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14B5-D753-4EC2-9F56-9D22008F576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tending RED for Flow Isol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what to do with non-cooperative flo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queuing achieves isolation using per-flow state – expensive at backbone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isolate unresponsive flows without per-flow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penalty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history for packet drops, identify flows that use disproportionate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 and punish those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e-stateless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008C-E6FC-4E99-A7C3-D4821D4C34F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5583-1A88-458D-AB60-0382160F1C3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ochastic Fair Blu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bjective as RED Penalty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penalize misbehaving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L hashes with N bins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in keeps track of separate marking rat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is updated using standard technique and a b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uses minimum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L bins it belong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isbehaving flows hopefully belong to at least one bin without a ba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numbers of bad flows may cause false pos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6AC9-40C4-444B-8CF9-CFD02EDCE35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ochastic Fair Blu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positives can continuously penalize sam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moving hash function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flow no longer shares bin with same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history rese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bad flow get to make trouble until detected ag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can perform hash warmup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e-stateless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7575-E456-4B96-9BAD-D0DA2B1F0AF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0BF7-4D02-4FEB-B8E8-82819D8F64B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irness Goa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 resources fair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 ill-behav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 does not send explicit feedback to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needs e2e conges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achieve statistical mu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low can fill entire pipe if no cont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conserv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heduler never idles link if it has a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21ED-7887-44B7-8F20-D8FF5364758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s Fairness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what granula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s, connections, domai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users have different RTTs/links/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it share a link fairly or be TCP fa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fairness inde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ness 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0&lt;fairness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ally a tough question to answer – typically design mechanisms instead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= arbitrary gran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D09A-505F-459E-B3EE-C2028F53EB6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x-min Fair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 user with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mand what it wants, evenly divide unused resources t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allocated in terms of increasing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ource gets resource share larger than its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with unsatisfied demands get equal share of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A0D5-DD10-4BF4-A7FF-D6F37E01D9C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ax-min Fairness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sources 1..n, with resource demands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scending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channel capacity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C/n t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if this is more than node 1 wants, divide excess (C/n -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other sources: each gets C/n + (C/n -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larger than wha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nts, repea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DCC0-4740-4694-8352-927C7E6C1FE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mplementing max-min Fair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processor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id fai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wise round robin among all que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t simple round rob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packet lengt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get more service by sending bigg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air instantaneous servic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arrive just before/after packet depa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4A5B-88B8-4FA0-A97A-7B9F1C992F8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-by-bit R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flow: clock ticks when a bit is transmitted. For packet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length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rrival time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egin transmit time,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inish transmi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max 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flows: clock ticks when a bit from all active flows is transmitte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un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alculat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packet if number of flows is know at al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be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7ECD-8DAC-40D7-A97D-55559469C55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0" name="Rectangle 11"/>
          <p:cNvSpPr/>
          <p:nvPr/>
        </p:nvSpPr>
        <p:spPr>
          <a:xfrm>
            <a:off x="4876920" y="2133720"/>
            <a:ext cx="3886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-by-bit RR Illustr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easible to interleave bits on real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Q simulates bit-by-bit 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4"/>
          <p:cNvSpPr/>
          <p:nvPr/>
        </p:nvSpPr>
        <p:spPr>
          <a:xfrm>
            <a:off x="5410080" y="2819520"/>
            <a:ext cx="914400" cy="45720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4" name="Rectangle 5"/>
          <p:cNvSpPr/>
          <p:nvPr/>
        </p:nvSpPr>
        <p:spPr>
          <a:xfrm>
            <a:off x="6324480" y="2819520"/>
            <a:ext cx="914400" cy="6858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5" name="Rectangle 6"/>
          <p:cNvSpPr/>
          <p:nvPr/>
        </p:nvSpPr>
        <p:spPr>
          <a:xfrm>
            <a:off x="5410080" y="3733920"/>
            <a:ext cx="914400" cy="4572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6" name="Rectangle 7"/>
          <p:cNvSpPr/>
          <p:nvPr/>
        </p:nvSpPr>
        <p:spPr>
          <a:xfrm>
            <a:off x="6324480" y="3505320"/>
            <a:ext cx="914400" cy="685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7" name="Rectangle 8"/>
          <p:cNvSpPr/>
          <p:nvPr/>
        </p:nvSpPr>
        <p:spPr>
          <a:xfrm>
            <a:off x="7238880" y="2819520"/>
            <a:ext cx="9144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8" name="Rectangle 9"/>
          <p:cNvSpPr/>
          <p:nvPr/>
        </p:nvSpPr>
        <p:spPr>
          <a:xfrm>
            <a:off x="5410080" y="3276720"/>
            <a:ext cx="914400" cy="4572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3EA9-4B9F-4514-AE2C-31663B041AF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Gb/s line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300Mbytes of buffe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nd write 40 byte packet every 32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M: require 4 devices, but too s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AM: require 80 devices, 1kW, $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gets harder at 40G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 RLDRAM, FCRA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0A64-84B7-4E51-B71C-5B5A90C06FE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ir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ing bit-by-bit schedule onto packet transmission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t packet with the lowest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any give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comput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762120" y="4191120"/>
            <a:ext cx="32004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3" name="Rectangle 6"/>
          <p:cNvSpPr/>
          <p:nvPr/>
        </p:nvSpPr>
        <p:spPr>
          <a:xfrm>
            <a:off x="990720" y="4495680"/>
            <a:ext cx="914400" cy="45720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4" name="Rectangle 7"/>
          <p:cNvSpPr/>
          <p:nvPr/>
        </p:nvSpPr>
        <p:spPr>
          <a:xfrm>
            <a:off x="1905120" y="4495680"/>
            <a:ext cx="914400" cy="6858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5" name="Rectangle 8"/>
          <p:cNvSpPr/>
          <p:nvPr/>
        </p:nvSpPr>
        <p:spPr>
          <a:xfrm>
            <a:off x="990720" y="5410080"/>
            <a:ext cx="914400" cy="4572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6" name="Rectangle 9"/>
          <p:cNvSpPr/>
          <p:nvPr/>
        </p:nvSpPr>
        <p:spPr>
          <a:xfrm>
            <a:off x="1905120" y="5181480"/>
            <a:ext cx="914400" cy="685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7" name="Rectangle 10"/>
          <p:cNvSpPr/>
          <p:nvPr/>
        </p:nvSpPr>
        <p:spPr>
          <a:xfrm>
            <a:off x="2819520" y="4495680"/>
            <a:ext cx="9144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8" name="Rectangle 11"/>
          <p:cNvSpPr/>
          <p:nvPr/>
        </p:nvSpPr>
        <p:spPr>
          <a:xfrm>
            <a:off x="990720" y="4952880"/>
            <a:ext cx="914400" cy="4572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9" name="Rectangle 12"/>
          <p:cNvSpPr/>
          <p:nvPr/>
        </p:nvSpPr>
        <p:spPr>
          <a:xfrm>
            <a:off x="5029200" y="4191120"/>
            <a:ext cx="32004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0" name="Rectangle 13"/>
          <p:cNvSpPr/>
          <p:nvPr/>
        </p:nvSpPr>
        <p:spPr>
          <a:xfrm>
            <a:off x="5257800" y="4495680"/>
            <a:ext cx="457200" cy="137160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1" name="Rectangle 14"/>
          <p:cNvSpPr/>
          <p:nvPr/>
        </p:nvSpPr>
        <p:spPr>
          <a:xfrm>
            <a:off x="5715000" y="4495680"/>
            <a:ext cx="914400" cy="13716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2" name="Rectangle 17"/>
          <p:cNvSpPr/>
          <p:nvPr/>
        </p:nvSpPr>
        <p:spPr>
          <a:xfrm>
            <a:off x="6629400" y="4495680"/>
            <a:ext cx="1371600" cy="13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3" name="AutoShape 19"/>
          <p:cNvSpPr/>
          <p:nvPr/>
        </p:nvSpPr>
        <p:spPr>
          <a:xfrm>
            <a:off x="4267080" y="480060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solidFill>
            <a:srgbClr val="c09e4a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EC28-603D-4ACE-BCE0-B70836502C5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5" name="Rectangle 60"/>
          <p:cNvSpPr/>
          <p:nvPr/>
        </p:nvSpPr>
        <p:spPr>
          <a:xfrm>
            <a:off x="380880" y="1371600"/>
            <a:ext cx="838224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6" name="AutoShape 2"/>
          <p:cNvSpPr/>
          <p:nvPr/>
        </p:nvSpPr>
        <p:spPr>
          <a:xfrm flipH="1" rot="10910400">
            <a:off x="6019920" y="2666880"/>
            <a:ext cx="533160" cy="2286000"/>
          </a:xfrm>
          <a:custGeom>
            <a:avLst/>
            <a:gdLst>
              <a:gd name="textAreaLeft" fmla="*/ 0 w 533160"/>
              <a:gd name="textAreaRight" fmla="*/ 150840 w 533160"/>
              <a:gd name="textAreaTop" fmla="*/ 87948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Q Illustr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68" name="Freeform 4"/>
          <p:cNvSpPr/>
          <p:nvPr/>
        </p:nvSpPr>
        <p:spPr>
          <a:xfrm>
            <a:off x="3597120" y="1711440"/>
            <a:ext cx="1828800" cy="5331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152" h="336">
                <a:moveTo>
                  <a:pt x="0" y="0"/>
                </a:moveTo>
                <a:lnTo>
                  <a:pt x="1152" y="0"/>
                </a:lnTo>
                <a:lnTo>
                  <a:pt x="1152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9" name="Freeform 5"/>
          <p:cNvSpPr/>
          <p:nvPr/>
        </p:nvSpPr>
        <p:spPr>
          <a:xfrm>
            <a:off x="3597120" y="2351160"/>
            <a:ext cx="1828800" cy="5331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152" h="336">
                <a:moveTo>
                  <a:pt x="0" y="0"/>
                </a:moveTo>
                <a:lnTo>
                  <a:pt x="1152" y="0"/>
                </a:lnTo>
                <a:lnTo>
                  <a:pt x="1152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0" name="Freeform 6"/>
          <p:cNvSpPr/>
          <p:nvPr/>
        </p:nvSpPr>
        <p:spPr>
          <a:xfrm>
            <a:off x="3597120" y="2990880"/>
            <a:ext cx="1828800" cy="5335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152" h="336">
                <a:moveTo>
                  <a:pt x="0" y="0"/>
                </a:moveTo>
                <a:lnTo>
                  <a:pt x="1152" y="0"/>
                </a:lnTo>
                <a:lnTo>
                  <a:pt x="1152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1" name="Freeform 7"/>
          <p:cNvSpPr/>
          <p:nvPr/>
        </p:nvSpPr>
        <p:spPr>
          <a:xfrm>
            <a:off x="3597120" y="3643200"/>
            <a:ext cx="1828800" cy="5335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152" h="336">
                <a:moveTo>
                  <a:pt x="0" y="0"/>
                </a:moveTo>
                <a:lnTo>
                  <a:pt x="1152" y="0"/>
                </a:lnTo>
                <a:lnTo>
                  <a:pt x="1152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2" name="Freeform 8"/>
          <p:cNvSpPr/>
          <p:nvPr/>
        </p:nvSpPr>
        <p:spPr>
          <a:xfrm>
            <a:off x="3597120" y="4270320"/>
            <a:ext cx="1828800" cy="5335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152" h="336">
                <a:moveTo>
                  <a:pt x="0" y="0"/>
                </a:moveTo>
                <a:lnTo>
                  <a:pt x="1152" y="0"/>
                </a:lnTo>
                <a:lnTo>
                  <a:pt x="1152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3" name="Freeform 9"/>
          <p:cNvSpPr/>
          <p:nvPr/>
        </p:nvSpPr>
        <p:spPr>
          <a:xfrm>
            <a:off x="3597120" y="4911840"/>
            <a:ext cx="1828800" cy="5331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152" h="336">
                <a:moveTo>
                  <a:pt x="0" y="0"/>
                </a:moveTo>
                <a:lnTo>
                  <a:pt x="1152" y="0"/>
                </a:lnTo>
                <a:lnTo>
                  <a:pt x="1152" y="33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4" name="Line 10"/>
          <p:cNvSpPr/>
          <p:nvPr/>
        </p:nvSpPr>
        <p:spPr>
          <a:xfrm>
            <a:off x="5273640" y="17114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5" name="Line 11"/>
          <p:cNvSpPr/>
          <p:nvPr/>
        </p:nvSpPr>
        <p:spPr>
          <a:xfrm>
            <a:off x="4664160" y="17114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6" name="Line 12"/>
          <p:cNvSpPr/>
          <p:nvPr/>
        </p:nvSpPr>
        <p:spPr>
          <a:xfrm>
            <a:off x="4816440" y="17114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7" name="Line 13"/>
          <p:cNvSpPr/>
          <p:nvPr/>
        </p:nvSpPr>
        <p:spPr>
          <a:xfrm>
            <a:off x="4968720" y="17114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8" name="Line 14"/>
          <p:cNvSpPr/>
          <p:nvPr/>
        </p:nvSpPr>
        <p:spPr>
          <a:xfrm>
            <a:off x="5121360" y="17114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9" name="Line 15"/>
          <p:cNvSpPr/>
          <p:nvPr/>
        </p:nvSpPr>
        <p:spPr>
          <a:xfrm>
            <a:off x="5273640" y="234648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0" name="Line 16"/>
          <p:cNvSpPr/>
          <p:nvPr/>
        </p:nvSpPr>
        <p:spPr>
          <a:xfrm>
            <a:off x="5121360" y="234648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1" name="Line 17"/>
          <p:cNvSpPr/>
          <p:nvPr/>
        </p:nvSpPr>
        <p:spPr>
          <a:xfrm>
            <a:off x="5273640" y="300672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2" name="Line 18"/>
          <p:cNvSpPr/>
          <p:nvPr/>
        </p:nvSpPr>
        <p:spPr>
          <a:xfrm>
            <a:off x="4664160" y="300672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3" name="Line 19"/>
          <p:cNvSpPr/>
          <p:nvPr/>
        </p:nvSpPr>
        <p:spPr>
          <a:xfrm>
            <a:off x="4816440" y="300672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4" name="Line 20"/>
          <p:cNvSpPr/>
          <p:nvPr/>
        </p:nvSpPr>
        <p:spPr>
          <a:xfrm>
            <a:off x="4968720" y="300672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5" name="Line 21"/>
          <p:cNvSpPr/>
          <p:nvPr/>
        </p:nvSpPr>
        <p:spPr>
          <a:xfrm>
            <a:off x="5121360" y="300672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6" name="Line 22"/>
          <p:cNvSpPr/>
          <p:nvPr/>
        </p:nvSpPr>
        <p:spPr>
          <a:xfrm>
            <a:off x="527364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7" name="Line 23"/>
          <p:cNvSpPr/>
          <p:nvPr/>
        </p:nvSpPr>
        <p:spPr>
          <a:xfrm>
            <a:off x="466416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8" name="Line 24"/>
          <p:cNvSpPr/>
          <p:nvPr/>
        </p:nvSpPr>
        <p:spPr>
          <a:xfrm>
            <a:off x="481644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9" name="Line 25"/>
          <p:cNvSpPr/>
          <p:nvPr/>
        </p:nvSpPr>
        <p:spPr>
          <a:xfrm>
            <a:off x="496872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0" name="Line 26"/>
          <p:cNvSpPr/>
          <p:nvPr/>
        </p:nvSpPr>
        <p:spPr>
          <a:xfrm>
            <a:off x="512136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1" name="Line 27"/>
          <p:cNvSpPr/>
          <p:nvPr/>
        </p:nvSpPr>
        <p:spPr>
          <a:xfrm>
            <a:off x="451152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2" name="Line 28"/>
          <p:cNvSpPr/>
          <p:nvPr/>
        </p:nvSpPr>
        <p:spPr>
          <a:xfrm>
            <a:off x="390204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3" name="Line 29"/>
          <p:cNvSpPr/>
          <p:nvPr/>
        </p:nvSpPr>
        <p:spPr>
          <a:xfrm>
            <a:off x="405432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4" name="Line 30"/>
          <p:cNvSpPr/>
          <p:nvPr/>
        </p:nvSpPr>
        <p:spPr>
          <a:xfrm>
            <a:off x="420696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5" name="Line 31"/>
          <p:cNvSpPr/>
          <p:nvPr/>
        </p:nvSpPr>
        <p:spPr>
          <a:xfrm>
            <a:off x="4359240" y="3654360"/>
            <a:ext cx="0" cy="5335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6" name="Line 32"/>
          <p:cNvSpPr/>
          <p:nvPr/>
        </p:nvSpPr>
        <p:spPr>
          <a:xfrm>
            <a:off x="5273640" y="427680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7" name="Line 33"/>
          <p:cNvSpPr/>
          <p:nvPr/>
        </p:nvSpPr>
        <p:spPr>
          <a:xfrm>
            <a:off x="4816440" y="427680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8" name="Line 34"/>
          <p:cNvSpPr/>
          <p:nvPr/>
        </p:nvSpPr>
        <p:spPr>
          <a:xfrm>
            <a:off x="4968720" y="427680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9" name="Line 35"/>
          <p:cNvSpPr/>
          <p:nvPr/>
        </p:nvSpPr>
        <p:spPr>
          <a:xfrm>
            <a:off x="5121360" y="427680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0" name="Line 36"/>
          <p:cNvSpPr/>
          <p:nvPr/>
        </p:nvSpPr>
        <p:spPr>
          <a:xfrm>
            <a:off x="527364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1" name="Line 37"/>
          <p:cNvSpPr/>
          <p:nvPr/>
        </p:nvSpPr>
        <p:spPr>
          <a:xfrm>
            <a:off x="466416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2" name="Line 38"/>
          <p:cNvSpPr/>
          <p:nvPr/>
        </p:nvSpPr>
        <p:spPr>
          <a:xfrm>
            <a:off x="481644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3" name="Line 39"/>
          <p:cNvSpPr/>
          <p:nvPr/>
        </p:nvSpPr>
        <p:spPr>
          <a:xfrm>
            <a:off x="496872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4" name="Line 40"/>
          <p:cNvSpPr/>
          <p:nvPr/>
        </p:nvSpPr>
        <p:spPr>
          <a:xfrm>
            <a:off x="512136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5" name="Line 41"/>
          <p:cNvSpPr/>
          <p:nvPr/>
        </p:nvSpPr>
        <p:spPr>
          <a:xfrm>
            <a:off x="451152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6" name="Line 42"/>
          <p:cNvSpPr/>
          <p:nvPr/>
        </p:nvSpPr>
        <p:spPr>
          <a:xfrm>
            <a:off x="4359240" y="4911840"/>
            <a:ext cx="0" cy="5331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7" name="Text Box 43"/>
          <p:cNvSpPr/>
          <p:nvPr/>
        </p:nvSpPr>
        <p:spPr>
          <a:xfrm>
            <a:off x="3624840" y="1808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8" name="Text Box 44"/>
          <p:cNvSpPr/>
          <p:nvPr/>
        </p:nvSpPr>
        <p:spPr>
          <a:xfrm>
            <a:off x="3640680" y="2529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9" name="Text Box 45"/>
          <p:cNvSpPr/>
          <p:nvPr/>
        </p:nvSpPr>
        <p:spPr>
          <a:xfrm>
            <a:off x="3488400" y="50436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0" name="Oval 46"/>
          <p:cNvSpPr/>
          <p:nvPr/>
        </p:nvSpPr>
        <p:spPr>
          <a:xfrm>
            <a:off x="6568920" y="3247920"/>
            <a:ext cx="533520" cy="533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1" name="Line 47"/>
          <p:cNvSpPr/>
          <p:nvPr/>
        </p:nvSpPr>
        <p:spPr>
          <a:xfrm flipH="1" flipV="1">
            <a:off x="5502240" y="2016000"/>
            <a:ext cx="1371600" cy="152424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2" name="Line 48"/>
          <p:cNvSpPr/>
          <p:nvPr/>
        </p:nvSpPr>
        <p:spPr>
          <a:xfrm flipH="1">
            <a:off x="5486400" y="3581280"/>
            <a:ext cx="1371600" cy="1600200"/>
          </a:xfrm>
          <a:prstGeom prst="line">
            <a:avLst/>
          </a:prstGeom>
          <a:ln w="28440">
            <a:solidFill>
              <a:srgbClr val="8383a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3" name="Line 49"/>
          <p:cNvSpPr/>
          <p:nvPr/>
        </p:nvSpPr>
        <p:spPr>
          <a:xfrm flipH="1" flipV="1">
            <a:off x="5502240" y="2625840"/>
            <a:ext cx="1371600" cy="914400"/>
          </a:xfrm>
          <a:prstGeom prst="line">
            <a:avLst/>
          </a:prstGeom>
          <a:ln w="28440">
            <a:solidFill>
              <a:srgbClr val="8383a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4" name="Line 50"/>
          <p:cNvSpPr/>
          <p:nvPr/>
        </p:nvSpPr>
        <p:spPr>
          <a:xfrm flipH="1" flipV="1">
            <a:off x="5425920" y="3234960"/>
            <a:ext cx="1447920" cy="304920"/>
          </a:xfrm>
          <a:prstGeom prst="line">
            <a:avLst/>
          </a:prstGeom>
          <a:ln w="28440">
            <a:solidFill>
              <a:srgbClr val="8383a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5" name="Line 51"/>
          <p:cNvSpPr/>
          <p:nvPr/>
        </p:nvSpPr>
        <p:spPr>
          <a:xfrm>
            <a:off x="6873840" y="3527280"/>
            <a:ext cx="1600200" cy="0"/>
          </a:xfrm>
          <a:prstGeom prst="line">
            <a:avLst/>
          </a:prstGeom>
          <a:ln w="572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6" name="Oval 52"/>
          <p:cNvSpPr/>
          <p:nvPr/>
        </p:nvSpPr>
        <p:spPr>
          <a:xfrm>
            <a:off x="1778040" y="3184560"/>
            <a:ext cx="533520" cy="5335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7" name="Line 53"/>
          <p:cNvSpPr/>
          <p:nvPr/>
        </p:nvSpPr>
        <p:spPr>
          <a:xfrm>
            <a:off x="609480" y="3463920"/>
            <a:ext cx="1447920" cy="0"/>
          </a:xfrm>
          <a:prstGeom prst="line">
            <a:avLst/>
          </a:prstGeom>
          <a:ln w="572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8" name="Line 54"/>
          <p:cNvSpPr/>
          <p:nvPr/>
        </p:nvSpPr>
        <p:spPr>
          <a:xfrm>
            <a:off x="2057400" y="3463920"/>
            <a:ext cx="1752480" cy="380880"/>
          </a:xfrm>
          <a:prstGeom prst="line">
            <a:avLst/>
          </a:prstGeom>
          <a:ln w="2844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9" name="Text Box 55"/>
          <p:cNvSpPr/>
          <p:nvPr/>
        </p:nvSpPr>
        <p:spPr>
          <a:xfrm>
            <a:off x="594360" y="28940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P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0" name="Text Box 56"/>
          <p:cNvSpPr/>
          <p:nvPr/>
        </p:nvSpPr>
        <p:spPr>
          <a:xfrm>
            <a:off x="7788960" y="29289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/P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1" name="Line 57"/>
          <p:cNvSpPr/>
          <p:nvPr/>
        </p:nvSpPr>
        <p:spPr>
          <a:xfrm flipV="1">
            <a:off x="2057400" y="2092320"/>
            <a:ext cx="1523880" cy="1371600"/>
          </a:xfrm>
          <a:prstGeom prst="line">
            <a:avLst/>
          </a:prstGeom>
          <a:ln w="28440">
            <a:solidFill>
              <a:srgbClr val="8383a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2" name="Line 58"/>
          <p:cNvSpPr/>
          <p:nvPr/>
        </p:nvSpPr>
        <p:spPr>
          <a:xfrm>
            <a:off x="2057400" y="3463920"/>
            <a:ext cx="1447920" cy="1676520"/>
          </a:xfrm>
          <a:prstGeom prst="line">
            <a:avLst/>
          </a:prstGeom>
          <a:ln w="28440">
            <a:solidFill>
              <a:srgbClr val="8383a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3" name="Text Box 59"/>
          <p:cNvSpPr/>
          <p:nvPr/>
        </p:nvSpPr>
        <p:spPr>
          <a:xfrm>
            <a:off x="1831680" y="5562720"/>
            <a:ext cx="56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: Weighted Fair Queuing (WFQ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B942-948D-4A53-9B97-47A5AF87A1B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5" name="Rectangle 33"/>
          <p:cNvSpPr/>
          <p:nvPr/>
        </p:nvSpPr>
        <p:spPr>
          <a:xfrm>
            <a:off x="380880" y="1371600"/>
            <a:ext cx="838224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t-by-bit RR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1027" name="Group 3"/>
          <p:cNvGrpSpPr/>
          <p:nvPr/>
        </p:nvGrpSpPr>
        <p:grpSpPr>
          <a:xfrm>
            <a:off x="4268520" y="3451320"/>
            <a:ext cx="4295880" cy="2653920"/>
            <a:chOff x="4268520" y="3451320"/>
            <a:chExt cx="4295880" cy="2653920"/>
          </a:xfrm>
        </p:grpSpPr>
        <p:sp>
          <p:nvSpPr>
            <p:cNvPr id="1028" name="Freeform 4"/>
            <p:cNvSpPr/>
            <p:nvPr/>
          </p:nvSpPr>
          <p:spPr>
            <a:xfrm>
              <a:off x="4865400" y="4190760"/>
              <a:ext cx="838440" cy="19047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528" h="1200">
                  <a:moveTo>
                    <a:pt x="0" y="0"/>
                  </a:moveTo>
                  <a:lnTo>
                    <a:pt x="0" y="1200"/>
                  </a:lnTo>
                  <a:lnTo>
                    <a:pt x="528" y="120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29" name="Freeform 5"/>
            <p:cNvSpPr/>
            <p:nvPr/>
          </p:nvSpPr>
          <p:spPr>
            <a:xfrm>
              <a:off x="6248160" y="4190760"/>
              <a:ext cx="838440" cy="19047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528" h="1200">
                  <a:moveTo>
                    <a:pt x="0" y="0"/>
                  </a:moveTo>
                  <a:lnTo>
                    <a:pt x="0" y="1200"/>
                  </a:lnTo>
                  <a:lnTo>
                    <a:pt x="528" y="120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0" name="Freeform 6"/>
            <p:cNvSpPr/>
            <p:nvPr/>
          </p:nvSpPr>
          <p:spPr>
            <a:xfrm>
              <a:off x="7696080" y="4190760"/>
              <a:ext cx="838080" cy="190476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904760"/>
                <a:gd name="textAreaBottom" fmla="*/ 1905120 h 1904760"/>
              </a:gdLst>
              <a:ahLst/>
              <a:rect l="textAreaLeft" t="textAreaTop" r="textAreaRight" b="textAreaBottom"/>
              <a:pathLst>
                <a:path w="528" h="1200">
                  <a:moveTo>
                    <a:pt x="0" y="0"/>
                  </a:moveTo>
                  <a:lnTo>
                    <a:pt x="0" y="1200"/>
                  </a:lnTo>
                  <a:lnTo>
                    <a:pt x="528" y="120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1" name="Text Box 7"/>
            <p:cNvSpPr/>
            <p:nvPr/>
          </p:nvSpPr>
          <p:spPr>
            <a:xfrm>
              <a:off x="5640120" y="489888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=10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2" name="Text Box 8"/>
            <p:cNvSpPr/>
            <p:nvPr/>
          </p:nvSpPr>
          <p:spPr>
            <a:xfrm>
              <a:off x="4803480" y="3451320"/>
              <a:ext cx="108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ow 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rriving)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3" name="Text Box 9"/>
            <p:cNvSpPr/>
            <p:nvPr/>
          </p:nvSpPr>
          <p:spPr>
            <a:xfrm>
              <a:off x="6250680" y="3451320"/>
              <a:ext cx="136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ow 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mitting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4" name="Text Box 10"/>
            <p:cNvSpPr/>
            <p:nvPr/>
          </p:nvSpPr>
          <p:spPr>
            <a:xfrm>
              <a:off x="7697880" y="36032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5" name="Rectangle 11"/>
            <p:cNvSpPr/>
            <p:nvPr/>
          </p:nvSpPr>
          <p:spPr>
            <a:xfrm>
              <a:off x="4876560" y="5867280"/>
              <a:ext cx="838440" cy="2282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6" name="Text Box 12"/>
            <p:cNvSpPr/>
            <p:nvPr/>
          </p:nvSpPr>
          <p:spPr>
            <a:xfrm>
              <a:off x="4268520" y="573696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=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7" name="Rectangle 13"/>
            <p:cNvSpPr/>
            <p:nvPr/>
          </p:nvSpPr>
          <p:spPr>
            <a:xfrm>
              <a:off x="6248160" y="5257440"/>
              <a:ext cx="838440" cy="83808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8" name="Rectangle 14"/>
            <p:cNvSpPr/>
            <p:nvPr/>
          </p:nvSpPr>
          <p:spPr>
            <a:xfrm>
              <a:off x="7696080" y="5257440"/>
              <a:ext cx="838080" cy="83808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9" name="Rectangle 15"/>
            <p:cNvSpPr/>
            <p:nvPr/>
          </p:nvSpPr>
          <p:spPr>
            <a:xfrm>
              <a:off x="7696080" y="5028840"/>
              <a:ext cx="838080" cy="2282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040" name="Group 16"/>
          <p:cNvGrpSpPr/>
          <p:nvPr/>
        </p:nvGrpSpPr>
        <p:grpSpPr>
          <a:xfrm>
            <a:off x="381960" y="1622520"/>
            <a:ext cx="4266000" cy="2340000"/>
            <a:chOff x="381960" y="1622520"/>
            <a:chExt cx="4266000" cy="2340000"/>
          </a:xfrm>
        </p:grpSpPr>
        <p:sp>
          <p:nvSpPr>
            <p:cNvPr id="1041" name="Freeform 17"/>
            <p:cNvSpPr/>
            <p:nvPr/>
          </p:nvSpPr>
          <p:spPr>
            <a:xfrm>
              <a:off x="990360" y="2057400"/>
              <a:ext cx="838080" cy="19051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528" h="1200">
                  <a:moveTo>
                    <a:pt x="0" y="0"/>
                  </a:moveTo>
                  <a:lnTo>
                    <a:pt x="0" y="1200"/>
                  </a:lnTo>
                  <a:lnTo>
                    <a:pt x="528" y="120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2" name="Freeform 18"/>
            <p:cNvSpPr/>
            <p:nvPr/>
          </p:nvSpPr>
          <p:spPr>
            <a:xfrm>
              <a:off x="2361960" y="2057400"/>
              <a:ext cx="838080" cy="19051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528" h="1200">
                  <a:moveTo>
                    <a:pt x="0" y="0"/>
                  </a:moveTo>
                  <a:lnTo>
                    <a:pt x="0" y="1200"/>
                  </a:lnTo>
                  <a:lnTo>
                    <a:pt x="528" y="120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3" name="Freeform 19"/>
            <p:cNvSpPr/>
            <p:nvPr/>
          </p:nvSpPr>
          <p:spPr>
            <a:xfrm>
              <a:off x="3809880" y="2057400"/>
              <a:ext cx="838080" cy="19051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528" h="1200">
                  <a:moveTo>
                    <a:pt x="0" y="0"/>
                  </a:moveTo>
                  <a:lnTo>
                    <a:pt x="0" y="1200"/>
                  </a:lnTo>
                  <a:lnTo>
                    <a:pt x="528" y="120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4" name="Rectangle 20"/>
            <p:cNvSpPr/>
            <p:nvPr/>
          </p:nvSpPr>
          <p:spPr>
            <a:xfrm>
              <a:off x="990360" y="3581280"/>
              <a:ext cx="838080" cy="38124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5" name="Rectangle 21"/>
            <p:cNvSpPr/>
            <p:nvPr/>
          </p:nvSpPr>
          <p:spPr>
            <a:xfrm>
              <a:off x="990360" y="3352680"/>
              <a:ext cx="838080" cy="2286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6" name="Rectangle 22"/>
            <p:cNvSpPr/>
            <p:nvPr/>
          </p:nvSpPr>
          <p:spPr>
            <a:xfrm>
              <a:off x="2361960" y="3124080"/>
              <a:ext cx="838080" cy="83844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7" name="Rectangle 23"/>
            <p:cNvSpPr/>
            <p:nvPr/>
          </p:nvSpPr>
          <p:spPr>
            <a:xfrm>
              <a:off x="3809880" y="3581280"/>
              <a:ext cx="838080" cy="38124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8" name="Rectangle 24"/>
            <p:cNvSpPr/>
            <p:nvPr/>
          </p:nvSpPr>
          <p:spPr>
            <a:xfrm>
              <a:off x="3809880" y="3352680"/>
              <a:ext cx="838080" cy="2286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9" name="Rectangle 25"/>
            <p:cNvSpPr/>
            <p:nvPr/>
          </p:nvSpPr>
          <p:spPr>
            <a:xfrm>
              <a:off x="3809880" y="2514600"/>
              <a:ext cx="838080" cy="83808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0" name="Text Box 26"/>
            <p:cNvSpPr/>
            <p:nvPr/>
          </p:nvSpPr>
          <p:spPr>
            <a:xfrm>
              <a:off x="381960" y="35272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=5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1" name="Text Box 27"/>
            <p:cNvSpPr/>
            <p:nvPr/>
          </p:nvSpPr>
          <p:spPr>
            <a:xfrm>
              <a:off x="381960" y="314640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=8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2" name="Text Box 28"/>
            <p:cNvSpPr/>
            <p:nvPr/>
          </p:nvSpPr>
          <p:spPr>
            <a:xfrm>
              <a:off x="1068840" y="16984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ow 1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3" name="Text Box 29"/>
            <p:cNvSpPr/>
            <p:nvPr/>
          </p:nvSpPr>
          <p:spPr>
            <a:xfrm>
              <a:off x="2364120" y="16984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ow 2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4" name="Text Box 30"/>
            <p:cNvSpPr/>
            <p:nvPr/>
          </p:nvSpPr>
          <p:spPr>
            <a:xfrm>
              <a:off x="3735360" y="1622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5" name="Text Box 31"/>
            <p:cNvSpPr/>
            <p:nvPr/>
          </p:nvSpPr>
          <p:spPr>
            <a:xfrm>
              <a:off x="1753920" y="284148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=10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056" name="Text Box 32"/>
          <p:cNvSpPr/>
          <p:nvPr/>
        </p:nvSpPr>
        <p:spPr>
          <a:xfrm>
            <a:off x="758160" y="477036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reempt packe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being transmitte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F6E0-F4BD-4058-9A97-D70D6E78D1C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ir Queuing Tradeoff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Q can control congestion by monitoring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daptive flows can still be a problem –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keep queue per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in routers with many flows (e.g., backbone rou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aggregation is a possibility (e.g. do fairness per dom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into flows may be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keep queues sorted by finish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 times change whenever the flow cou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Core-stateless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7532-2CE5-4643-861B-EE886F12CF0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9495-7A65-4383-BEDF-DA53331AF06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re-Stateless Fair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roblem with FQ is core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maintain state for 100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of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update state at Gbps line sp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FQ (Core-Stateless FQ)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 routers should do complex tasks since they have fewer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routers can do simpl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er-flow state/processin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is means that core routers can only decide on dropping packets not on order of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only provide max-min bandwidth fairness not delay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4450-5697-42C9-974A-DB326189045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re-Stateless Fair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ge routers keep state about flows and do computation when packet arr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S (Dynamic Packet S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routers label packets with the result of state lookup and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routers use DPS and local measurements to control processing of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3CFC-5127-4E29-8EE2-2B4E1077E93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dge Router Behavi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each flow i to measure its arrival rate 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WMA of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constant EWMA const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T/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T = current interarrival, K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adapt to different packet sizes and arrival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is attached to each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D7A8-5C5D-4C61-84E9-86E38B3DEE1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re Router Behavi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rack of fair share rate 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α does not increase load (F) by N * 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α) = 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(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α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does this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ally update 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rack of current arrival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pdate α if entire period was congested or uncong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probability for packet = max(1- α/r,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45ED-149E-4F7A-9228-1600D25CDF9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6" name="Rectangle 2"/>
          <p:cNvSpPr/>
          <p:nvPr/>
        </p:nvSpPr>
        <p:spPr>
          <a:xfrm>
            <a:off x="990720" y="1523880"/>
            <a:ext cx="7315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 vs. Alpha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8" name="Line 4"/>
          <p:cNvSpPr/>
          <p:nvPr/>
        </p:nvSpPr>
        <p:spPr>
          <a:xfrm flipV="1">
            <a:off x="1981080" y="18288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79" name="Line 5"/>
          <p:cNvSpPr/>
          <p:nvPr/>
        </p:nvSpPr>
        <p:spPr>
          <a:xfrm>
            <a:off x="1981080" y="51055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0" name="Line 6"/>
          <p:cNvSpPr/>
          <p:nvPr/>
        </p:nvSpPr>
        <p:spPr>
          <a:xfrm>
            <a:off x="1981080" y="2895480"/>
            <a:ext cx="54864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1" name="Line 7"/>
          <p:cNvSpPr/>
          <p:nvPr/>
        </p:nvSpPr>
        <p:spPr>
          <a:xfrm>
            <a:off x="3886200" y="2895480"/>
            <a:ext cx="0" cy="2667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2" name="Line 8"/>
          <p:cNvSpPr/>
          <p:nvPr/>
        </p:nvSpPr>
        <p:spPr>
          <a:xfrm flipV="1">
            <a:off x="1981080" y="2437920"/>
            <a:ext cx="2286000" cy="2667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3" name="Text Box 9"/>
          <p:cNvSpPr/>
          <p:nvPr/>
        </p:nvSpPr>
        <p:spPr>
          <a:xfrm>
            <a:off x="3281400" y="5486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lpha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4" name="Text Box 10"/>
          <p:cNvSpPr/>
          <p:nvPr/>
        </p:nvSpPr>
        <p:spPr>
          <a:xfrm>
            <a:off x="5565600" y="252900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[linked capacity]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5" name="Text Box 11"/>
          <p:cNvSpPr/>
          <p:nvPr/>
        </p:nvSpPr>
        <p:spPr>
          <a:xfrm>
            <a:off x="1982880" y="5181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6" name="Text Box 12"/>
          <p:cNvSpPr/>
          <p:nvPr/>
        </p:nvSpPr>
        <p:spPr>
          <a:xfrm>
            <a:off x="2440080" y="5181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7" name="Text Box 13"/>
          <p:cNvSpPr/>
          <p:nvPr/>
        </p:nvSpPr>
        <p:spPr>
          <a:xfrm>
            <a:off x="3430800" y="5181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8" name="Line 14"/>
          <p:cNvSpPr/>
          <p:nvPr/>
        </p:nvSpPr>
        <p:spPr>
          <a:xfrm>
            <a:off x="213372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9" name="Line 15"/>
          <p:cNvSpPr/>
          <p:nvPr/>
        </p:nvSpPr>
        <p:spPr>
          <a:xfrm>
            <a:off x="259092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0" name="Line 16"/>
          <p:cNvSpPr/>
          <p:nvPr/>
        </p:nvSpPr>
        <p:spPr>
          <a:xfrm>
            <a:off x="358128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1" name="Line 17"/>
          <p:cNvSpPr/>
          <p:nvPr/>
        </p:nvSpPr>
        <p:spPr>
          <a:xfrm>
            <a:off x="426708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2" name="Text Box 18"/>
          <p:cNvSpPr/>
          <p:nvPr/>
        </p:nvSpPr>
        <p:spPr>
          <a:xfrm>
            <a:off x="3889800" y="518148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alpha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3" name="Text Box 19"/>
          <p:cNvSpPr/>
          <p:nvPr/>
        </p:nvSpPr>
        <p:spPr>
          <a:xfrm>
            <a:off x="6632280" y="489096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4" name="Line 20"/>
          <p:cNvSpPr/>
          <p:nvPr/>
        </p:nvSpPr>
        <p:spPr>
          <a:xfrm>
            <a:off x="518148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304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22"/>
          <p:cNvSpPr/>
          <p:nvPr/>
        </p:nvSpPr>
        <p:spPr>
          <a:xfrm flipV="1">
            <a:off x="1981080" y="4266720"/>
            <a:ext cx="152640" cy="8384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7" name="Line 23"/>
          <p:cNvSpPr/>
          <p:nvPr/>
        </p:nvSpPr>
        <p:spPr>
          <a:xfrm flipH="1">
            <a:off x="2133720" y="3124080"/>
            <a:ext cx="457200" cy="1143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8" name="Line 24"/>
          <p:cNvSpPr/>
          <p:nvPr/>
        </p:nvSpPr>
        <p:spPr>
          <a:xfrm flipV="1">
            <a:off x="2590920" y="2514240"/>
            <a:ext cx="99036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9" name="Line 25"/>
          <p:cNvSpPr/>
          <p:nvPr/>
        </p:nvSpPr>
        <p:spPr>
          <a:xfrm flipV="1">
            <a:off x="3581280" y="2361960"/>
            <a:ext cx="160020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0" name="Line 26"/>
          <p:cNvSpPr/>
          <p:nvPr/>
        </p:nvSpPr>
        <p:spPr>
          <a:xfrm>
            <a:off x="5181480" y="2362320"/>
            <a:ext cx="106704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545A-C664-4FC8-BA4A-5FC710C01FF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ule-of-thumb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-of-thumb makes sense for on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backbone link has &gt; 20,000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rule-of-thumb still h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7D7E-12D8-4931-AB61-FC786455DAE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stimating Fair Sha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(α) = capacity =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keep map of F(α) valu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require per flow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F(α) is concave, piecewise-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0) = 0 and F(α) = current accepted rate =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α) =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C/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a mistake was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d into dropping packets due to buffer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queue overflows α is decreased sligh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02D8-A0F3-4EEB-A5B8-57A39A8826B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ther Issu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shing fire-hoses –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keep track of in a FQ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al edges in such a sche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trust edges to mark traffic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do some statistical sampling to see if edge was marking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e-stateless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F899-16BB-4328-B0E2-5527BD68905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15BB-4FB3-4769-9F97-59C2C31EDB7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111" name="Group 2"/>
          <p:cNvGrpSpPr/>
          <p:nvPr/>
        </p:nvGrpSpPr>
        <p:grpSpPr>
          <a:xfrm>
            <a:off x="990720" y="1905120"/>
            <a:ext cx="6926040" cy="701640"/>
            <a:chOff x="990720" y="1905120"/>
            <a:chExt cx="6926040" cy="701640"/>
          </a:xfrm>
        </p:grpSpPr>
        <p:grpSp>
          <p:nvGrpSpPr>
            <p:cNvPr id="1112" name="Group 3"/>
            <p:cNvGrpSpPr/>
            <p:nvPr/>
          </p:nvGrpSpPr>
          <p:grpSpPr>
            <a:xfrm>
              <a:off x="990720" y="1905120"/>
              <a:ext cx="753840" cy="701640"/>
              <a:chOff x="990720" y="1905120"/>
              <a:chExt cx="753840" cy="701640"/>
            </a:xfrm>
          </p:grpSpPr>
          <p:sp>
            <p:nvSpPr>
              <p:cNvPr id="1113" name="Rectangle 4"/>
              <p:cNvSpPr/>
              <p:nvPr/>
            </p:nvSpPr>
            <p:spPr>
              <a:xfrm>
                <a:off x="1211040" y="2025720"/>
                <a:ext cx="304560" cy="228600"/>
              </a:xfrm>
              <a:prstGeom prst="rect">
                <a:avLst/>
              </a:prstGeom>
              <a:solidFill>
                <a:srgbClr val="40417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14" name="Group 5"/>
              <p:cNvGrpSpPr/>
              <p:nvPr/>
            </p:nvGrpSpPr>
            <p:grpSpPr>
              <a:xfrm>
                <a:off x="990720" y="1905120"/>
                <a:ext cx="753840" cy="701640"/>
                <a:chOff x="990720" y="1905120"/>
                <a:chExt cx="753840" cy="701640"/>
              </a:xfrm>
            </p:grpSpPr>
            <p:sp>
              <p:nvSpPr>
                <p:cNvPr id="1115" name="Freeform 6"/>
                <p:cNvSpPr/>
                <p:nvPr/>
              </p:nvSpPr>
              <p:spPr>
                <a:xfrm>
                  <a:off x="1117440" y="2551320"/>
                  <a:ext cx="585360" cy="5544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05" h="104">
                      <a:moveTo>
                        <a:pt x="872" y="13"/>
                      </a:moveTo>
                      <a:lnTo>
                        <a:pt x="876" y="13"/>
                      </a:lnTo>
                      <a:lnTo>
                        <a:pt x="879" y="13"/>
                      </a:lnTo>
                      <a:lnTo>
                        <a:pt x="883" y="13"/>
                      </a:lnTo>
                      <a:lnTo>
                        <a:pt x="886" y="13"/>
                      </a:lnTo>
                      <a:lnTo>
                        <a:pt x="890" y="13"/>
                      </a:lnTo>
                      <a:lnTo>
                        <a:pt x="893" y="13"/>
                      </a:lnTo>
                      <a:lnTo>
                        <a:pt x="897" y="13"/>
                      </a:lnTo>
                      <a:lnTo>
                        <a:pt x="900" y="13"/>
                      </a:lnTo>
                      <a:lnTo>
                        <a:pt x="904" y="13"/>
                      </a:lnTo>
                      <a:lnTo>
                        <a:pt x="909" y="13"/>
                      </a:lnTo>
                      <a:lnTo>
                        <a:pt x="911" y="13"/>
                      </a:lnTo>
                      <a:lnTo>
                        <a:pt x="916" y="13"/>
                      </a:lnTo>
                      <a:lnTo>
                        <a:pt x="918" y="11"/>
                      </a:lnTo>
                      <a:lnTo>
                        <a:pt x="923" y="11"/>
                      </a:lnTo>
                      <a:lnTo>
                        <a:pt x="927" y="11"/>
                      </a:lnTo>
                      <a:lnTo>
                        <a:pt x="930" y="11"/>
                      </a:lnTo>
                      <a:lnTo>
                        <a:pt x="932" y="10"/>
                      </a:lnTo>
                      <a:lnTo>
                        <a:pt x="936" y="10"/>
                      </a:lnTo>
                      <a:lnTo>
                        <a:pt x="940" y="10"/>
                      </a:lnTo>
                      <a:lnTo>
                        <a:pt x="943" y="10"/>
                      </a:lnTo>
                      <a:lnTo>
                        <a:pt x="947" y="9"/>
                      </a:lnTo>
                      <a:lnTo>
                        <a:pt x="950" y="9"/>
                      </a:lnTo>
                      <a:lnTo>
                        <a:pt x="954" y="8"/>
                      </a:lnTo>
                      <a:lnTo>
                        <a:pt x="957" y="8"/>
                      </a:lnTo>
                      <a:lnTo>
                        <a:pt x="960" y="8"/>
                      </a:lnTo>
                      <a:lnTo>
                        <a:pt x="964" y="8"/>
                      </a:lnTo>
                      <a:lnTo>
                        <a:pt x="967" y="7"/>
                      </a:lnTo>
                      <a:lnTo>
                        <a:pt x="972" y="7"/>
                      </a:lnTo>
                      <a:lnTo>
                        <a:pt x="974" y="5"/>
                      </a:lnTo>
                      <a:lnTo>
                        <a:pt x="978" y="5"/>
                      </a:lnTo>
                      <a:lnTo>
                        <a:pt x="981" y="5"/>
                      </a:lnTo>
                      <a:lnTo>
                        <a:pt x="985" y="5"/>
                      </a:lnTo>
                      <a:lnTo>
                        <a:pt x="988" y="4"/>
                      </a:lnTo>
                      <a:lnTo>
                        <a:pt x="992" y="3"/>
                      </a:lnTo>
                      <a:lnTo>
                        <a:pt x="994" y="3"/>
                      </a:lnTo>
                      <a:lnTo>
                        <a:pt x="998" y="3"/>
                      </a:lnTo>
                      <a:lnTo>
                        <a:pt x="1001" y="3"/>
                      </a:lnTo>
                      <a:lnTo>
                        <a:pt x="1005" y="2"/>
                      </a:lnTo>
                      <a:lnTo>
                        <a:pt x="1007" y="2"/>
                      </a:lnTo>
                      <a:lnTo>
                        <a:pt x="1012" y="2"/>
                      </a:lnTo>
                      <a:lnTo>
                        <a:pt x="1014" y="1"/>
                      </a:lnTo>
                      <a:lnTo>
                        <a:pt x="1018" y="1"/>
                      </a:lnTo>
                      <a:lnTo>
                        <a:pt x="1021" y="1"/>
                      </a:lnTo>
                      <a:lnTo>
                        <a:pt x="1025" y="1"/>
                      </a:lnTo>
                      <a:lnTo>
                        <a:pt x="1029" y="1"/>
                      </a:lnTo>
                      <a:lnTo>
                        <a:pt x="1032" y="1"/>
                      </a:lnTo>
                      <a:lnTo>
                        <a:pt x="1034" y="1"/>
                      </a:lnTo>
                      <a:lnTo>
                        <a:pt x="1039" y="1"/>
                      </a:lnTo>
                      <a:lnTo>
                        <a:pt x="1042" y="0"/>
                      </a:lnTo>
                      <a:lnTo>
                        <a:pt x="1045" y="0"/>
                      </a:lnTo>
                      <a:lnTo>
                        <a:pt x="1048" y="0"/>
                      </a:lnTo>
                      <a:lnTo>
                        <a:pt x="1052" y="0"/>
                      </a:lnTo>
                      <a:lnTo>
                        <a:pt x="1055" y="0"/>
                      </a:lnTo>
                      <a:lnTo>
                        <a:pt x="1058" y="1"/>
                      </a:lnTo>
                      <a:lnTo>
                        <a:pt x="1062" y="1"/>
                      </a:lnTo>
                      <a:lnTo>
                        <a:pt x="1065" y="1"/>
                      </a:lnTo>
                      <a:lnTo>
                        <a:pt x="1068" y="1"/>
                      </a:lnTo>
                      <a:lnTo>
                        <a:pt x="1072" y="2"/>
                      </a:lnTo>
                      <a:lnTo>
                        <a:pt x="1075" y="2"/>
                      </a:lnTo>
                      <a:lnTo>
                        <a:pt x="1078" y="3"/>
                      </a:lnTo>
                      <a:lnTo>
                        <a:pt x="1082" y="3"/>
                      </a:lnTo>
                      <a:lnTo>
                        <a:pt x="1086" y="4"/>
                      </a:lnTo>
                      <a:lnTo>
                        <a:pt x="1089" y="5"/>
                      </a:lnTo>
                      <a:lnTo>
                        <a:pt x="1093" y="7"/>
                      </a:lnTo>
                      <a:lnTo>
                        <a:pt x="1093" y="9"/>
                      </a:lnTo>
                      <a:lnTo>
                        <a:pt x="1094" y="11"/>
                      </a:lnTo>
                      <a:lnTo>
                        <a:pt x="1095" y="14"/>
                      </a:lnTo>
                      <a:lnTo>
                        <a:pt x="1095" y="17"/>
                      </a:lnTo>
                      <a:lnTo>
                        <a:pt x="1096" y="20"/>
                      </a:lnTo>
                      <a:lnTo>
                        <a:pt x="1097" y="22"/>
                      </a:lnTo>
                      <a:lnTo>
                        <a:pt x="1097" y="24"/>
                      </a:lnTo>
                      <a:lnTo>
                        <a:pt x="1099" y="28"/>
                      </a:lnTo>
                      <a:lnTo>
                        <a:pt x="1099" y="30"/>
                      </a:lnTo>
                      <a:lnTo>
                        <a:pt x="1100" y="33"/>
                      </a:lnTo>
                      <a:lnTo>
                        <a:pt x="1101" y="35"/>
                      </a:lnTo>
                      <a:lnTo>
                        <a:pt x="1101" y="39"/>
                      </a:lnTo>
                      <a:lnTo>
                        <a:pt x="1102" y="41"/>
                      </a:lnTo>
                      <a:lnTo>
                        <a:pt x="1103" y="43"/>
                      </a:lnTo>
                      <a:lnTo>
                        <a:pt x="1103" y="46"/>
                      </a:lnTo>
                      <a:lnTo>
                        <a:pt x="1105" y="49"/>
                      </a:lnTo>
                      <a:lnTo>
                        <a:pt x="1099" y="53"/>
                      </a:lnTo>
                      <a:lnTo>
                        <a:pt x="1093" y="57"/>
                      </a:lnTo>
                      <a:lnTo>
                        <a:pt x="1086" y="60"/>
                      </a:lnTo>
                      <a:lnTo>
                        <a:pt x="1077" y="64"/>
                      </a:lnTo>
                      <a:lnTo>
                        <a:pt x="1068" y="66"/>
                      </a:lnTo>
                      <a:lnTo>
                        <a:pt x="1057" y="68"/>
                      </a:lnTo>
                      <a:lnTo>
                        <a:pt x="1048" y="72"/>
                      </a:lnTo>
                      <a:lnTo>
                        <a:pt x="1036" y="76"/>
                      </a:lnTo>
                      <a:lnTo>
                        <a:pt x="1024" y="78"/>
                      </a:lnTo>
                      <a:lnTo>
                        <a:pt x="1011" y="80"/>
                      </a:lnTo>
                      <a:lnTo>
                        <a:pt x="997" y="81"/>
                      </a:lnTo>
                      <a:lnTo>
                        <a:pt x="982" y="84"/>
                      </a:lnTo>
                      <a:lnTo>
                        <a:pt x="968" y="86"/>
                      </a:lnTo>
                      <a:lnTo>
                        <a:pt x="953" y="89"/>
                      </a:lnTo>
                      <a:lnTo>
                        <a:pt x="936" y="90"/>
                      </a:lnTo>
                      <a:lnTo>
                        <a:pt x="921" y="92"/>
                      </a:lnTo>
                      <a:lnTo>
                        <a:pt x="903" y="92"/>
                      </a:lnTo>
                      <a:lnTo>
                        <a:pt x="885" y="95"/>
                      </a:lnTo>
                      <a:lnTo>
                        <a:pt x="866" y="96"/>
                      </a:lnTo>
                      <a:lnTo>
                        <a:pt x="847" y="97"/>
                      </a:lnTo>
                      <a:lnTo>
                        <a:pt x="829" y="98"/>
                      </a:lnTo>
                      <a:lnTo>
                        <a:pt x="809" y="99"/>
                      </a:lnTo>
                      <a:lnTo>
                        <a:pt x="790" y="99"/>
                      </a:lnTo>
                      <a:lnTo>
                        <a:pt x="770" y="102"/>
                      </a:lnTo>
                      <a:lnTo>
                        <a:pt x="750" y="102"/>
                      </a:lnTo>
                      <a:lnTo>
                        <a:pt x="728" y="102"/>
                      </a:lnTo>
                      <a:lnTo>
                        <a:pt x="708" y="102"/>
                      </a:lnTo>
                      <a:lnTo>
                        <a:pt x="688" y="104"/>
                      </a:lnTo>
                      <a:lnTo>
                        <a:pt x="665" y="104"/>
                      </a:lnTo>
                      <a:lnTo>
                        <a:pt x="645" y="104"/>
                      </a:lnTo>
                      <a:lnTo>
                        <a:pt x="623" y="104"/>
                      </a:lnTo>
                      <a:lnTo>
                        <a:pt x="601" y="104"/>
                      </a:lnTo>
                      <a:lnTo>
                        <a:pt x="580" y="104"/>
                      </a:lnTo>
                      <a:lnTo>
                        <a:pt x="558" y="104"/>
                      </a:lnTo>
                      <a:lnTo>
                        <a:pt x="536" y="104"/>
                      </a:lnTo>
                      <a:lnTo>
                        <a:pt x="514" y="104"/>
                      </a:lnTo>
                      <a:lnTo>
                        <a:pt x="492" y="104"/>
                      </a:lnTo>
                      <a:lnTo>
                        <a:pt x="471" y="104"/>
                      </a:lnTo>
                      <a:lnTo>
                        <a:pt x="450" y="104"/>
                      </a:lnTo>
                      <a:lnTo>
                        <a:pt x="427" y="104"/>
                      </a:lnTo>
                      <a:lnTo>
                        <a:pt x="407" y="104"/>
                      </a:lnTo>
                      <a:lnTo>
                        <a:pt x="384" y="104"/>
                      </a:lnTo>
                      <a:lnTo>
                        <a:pt x="363" y="103"/>
                      </a:lnTo>
                      <a:lnTo>
                        <a:pt x="343" y="103"/>
                      </a:lnTo>
                      <a:lnTo>
                        <a:pt x="321" y="102"/>
                      </a:lnTo>
                      <a:lnTo>
                        <a:pt x="301" y="102"/>
                      </a:lnTo>
                      <a:lnTo>
                        <a:pt x="282" y="102"/>
                      </a:lnTo>
                      <a:lnTo>
                        <a:pt x="263" y="102"/>
                      </a:lnTo>
                      <a:lnTo>
                        <a:pt x="243" y="102"/>
                      </a:lnTo>
                      <a:lnTo>
                        <a:pt x="224" y="102"/>
                      </a:lnTo>
                      <a:lnTo>
                        <a:pt x="205" y="100"/>
                      </a:lnTo>
                      <a:lnTo>
                        <a:pt x="187" y="100"/>
                      </a:lnTo>
                      <a:lnTo>
                        <a:pt x="170" y="99"/>
                      </a:lnTo>
                      <a:lnTo>
                        <a:pt x="153" y="99"/>
                      </a:lnTo>
                      <a:lnTo>
                        <a:pt x="136" y="99"/>
                      </a:lnTo>
                      <a:lnTo>
                        <a:pt x="120" y="99"/>
                      </a:lnTo>
                      <a:lnTo>
                        <a:pt x="104" y="99"/>
                      </a:lnTo>
                      <a:lnTo>
                        <a:pt x="89" y="99"/>
                      </a:lnTo>
                      <a:lnTo>
                        <a:pt x="76" y="99"/>
                      </a:lnTo>
                      <a:lnTo>
                        <a:pt x="63" y="99"/>
                      </a:lnTo>
                      <a:lnTo>
                        <a:pt x="49" y="99"/>
                      </a:lnTo>
                      <a:lnTo>
                        <a:pt x="37" y="99"/>
                      </a:lnTo>
                      <a:lnTo>
                        <a:pt x="25" y="99"/>
                      </a:lnTo>
                      <a:lnTo>
                        <a:pt x="15" y="99"/>
                      </a:lnTo>
                      <a:lnTo>
                        <a:pt x="14" y="97"/>
                      </a:lnTo>
                      <a:lnTo>
                        <a:pt x="12" y="93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7" y="83"/>
                      </a:lnTo>
                      <a:lnTo>
                        <a:pt x="6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70"/>
                      </a:lnTo>
                      <a:lnTo>
                        <a:pt x="2" y="67"/>
                      </a:lnTo>
                      <a:lnTo>
                        <a:pt x="2" y="65"/>
                      </a:lnTo>
                      <a:lnTo>
                        <a:pt x="2" y="62"/>
                      </a:lnTo>
                      <a:lnTo>
                        <a:pt x="0" y="59"/>
                      </a:lnTo>
                      <a:lnTo>
                        <a:pt x="0" y="57"/>
                      </a:lnTo>
                      <a:lnTo>
                        <a:pt x="2" y="54"/>
                      </a:lnTo>
                      <a:lnTo>
                        <a:pt x="7" y="51"/>
                      </a:lnTo>
                      <a:lnTo>
                        <a:pt x="9" y="48"/>
                      </a:lnTo>
                      <a:lnTo>
                        <a:pt x="14" y="46"/>
                      </a:lnTo>
                      <a:lnTo>
                        <a:pt x="18" y="42"/>
                      </a:lnTo>
                      <a:lnTo>
                        <a:pt x="21" y="41"/>
                      </a:lnTo>
                      <a:lnTo>
                        <a:pt x="25" y="39"/>
                      </a:lnTo>
                      <a:lnTo>
                        <a:pt x="28" y="36"/>
                      </a:lnTo>
                      <a:lnTo>
                        <a:pt x="32" y="35"/>
                      </a:lnTo>
                      <a:lnTo>
                        <a:pt x="35" y="33"/>
                      </a:lnTo>
                      <a:lnTo>
                        <a:pt x="40" y="32"/>
                      </a:lnTo>
                      <a:lnTo>
                        <a:pt x="44" y="30"/>
                      </a:lnTo>
                      <a:lnTo>
                        <a:pt x="47" y="29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5" y="24"/>
                      </a:lnTo>
                      <a:lnTo>
                        <a:pt x="69" y="23"/>
                      </a:lnTo>
                      <a:lnTo>
                        <a:pt x="73" y="23"/>
                      </a:lnTo>
                      <a:lnTo>
                        <a:pt x="78" y="23"/>
                      </a:lnTo>
                      <a:lnTo>
                        <a:pt x="82" y="22"/>
                      </a:lnTo>
                      <a:lnTo>
                        <a:pt x="85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8" y="21"/>
                      </a:lnTo>
                      <a:lnTo>
                        <a:pt x="103" y="21"/>
                      </a:lnTo>
                      <a:lnTo>
                        <a:pt x="108" y="21"/>
                      </a:lnTo>
                      <a:lnTo>
                        <a:pt x="113" y="21"/>
                      </a:lnTo>
                      <a:lnTo>
                        <a:pt x="116" y="21"/>
                      </a:lnTo>
                      <a:lnTo>
                        <a:pt x="121" y="21"/>
                      </a:lnTo>
                      <a:lnTo>
                        <a:pt x="126" y="21"/>
                      </a:lnTo>
                      <a:lnTo>
                        <a:pt x="130" y="21"/>
                      </a:lnTo>
                      <a:lnTo>
                        <a:pt x="135" y="21"/>
                      </a:lnTo>
                      <a:lnTo>
                        <a:pt x="139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3" y="21"/>
                      </a:lnTo>
                      <a:lnTo>
                        <a:pt x="158" y="22"/>
                      </a:lnTo>
                      <a:lnTo>
                        <a:pt x="161" y="22"/>
                      </a:lnTo>
                      <a:lnTo>
                        <a:pt x="167" y="23"/>
                      </a:lnTo>
                      <a:lnTo>
                        <a:pt x="171" y="23"/>
                      </a:lnTo>
                      <a:lnTo>
                        <a:pt x="175" y="23"/>
                      </a:lnTo>
                      <a:lnTo>
                        <a:pt x="179" y="23"/>
                      </a:lnTo>
                      <a:lnTo>
                        <a:pt x="184" y="23"/>
                      </a:lnTo>
                      <a:lnTo>
                        <a:pt x="190" y="23"/>
                      </a:lnTo>
                      <a:lnTo>
                        <a:pt x="194" y="23"/>
                      </a:lnTo>
                      <a:lnTo>
                        <a:pt x="199" y="23"/>
                      </a:lnTo>
                      <a:lnTo>
                        <a:pt x="203" y="24"/>
                      </a:lnTo>
                      <a:lnTo>
                        <a:pt x="208" y="23"/>
                      </a:lnTo>
                      <a:lnTo>
                        <a:pt x="212" y="2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5" y="23"/>
                      </a:lnTo>
                      <a:lnTo>
                        <a:pt x="230" y="23"/>
                      </a:lnTo>
                      <a:lnTo>
                        <a:pt x="234" y="23"/>
                      </a:lnTo>
                      <a:lnTo>
                        <a:pt x="238" y="23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1" y="21"/>
                      </a:lnTo>
                      <a:lnTo>
                        <a:pt x="256" y="21"/>
                      </a:lnTo>
                      <a:lnTo>
                        <a:pt x="260" y="21"/>
                      </a:lnTo>
                      <a:lnTo>
                        <a:pt x="264" y="20"/>
                      </a:lnTo>
                      <a:lnTo>
                        <a:pt x="269" y="19"/>
                      </a:lnTo>
                      <a:lnTo>
                        <a:pt x="273" y="19"/>
                      </a:lnTo>
                      <a:lnTo>
                        <a:pt x="282" y="17"/>
                      </a:lnTo>
                      <a:lnTo>
                        <a:pt x="291" y="17"/>
                      </a:lnTo>
                      <a:lnTo>
                        <a:pt x="300" y="17"/>
                      </a:lnTo>
                      <a:lnTo>
                        <a:pt x="310" y="17"/>
                      </a:lnTo>
                      <a:lnTo>
                        <a:pt x="319" y="16"/>
                      </a:lnTo>
                      <a:lnTo>
                        <a:pt x="329" y="16"/>
                      </a:lnTo>
                      <a:lnTo>
                        <a:pt x="337" y="16"/>
                      </a:lnTo>
                      <a:lnTo>
                        <a:pt x="346" y="16"/>
                      </a:lnTo>
                      <a:lnTo>
                        <a:pt x="356" y="16"/>
                      </a:lnTo>
                      <a:lnTo>
                        <a:pt x="365" y="16"/>
                      </a:lnTo>
                      <a:lnTo>
                        <a:pt x="374" y="16"/>
                      </a:lnTo>
                      <a:lnTo>
                        <a:pt x="384" y="16"/>
                      </a:lnTo>
                      <a:lnTo>
                        <a:pt x="394" y="16"/>
                      </a:lnTo>
                      <a:lnTo>
                        <a:pt x="402" y="16"/>
                      </a:lnTo>
                      <a:lnTo>
                        <a:pt x="412" y="16"/>
                      </a:lnTo>
                      <a:lnTo>
                        <a:pt x="422" y="17"/>
                      </a:lnTo>
                      <a:lnTo>
                        <a:pt x="431" y="17"/>
                      </a:lnTo>
                      <a:lnTo>
                        <a:pt x="440" y="17"/>
                      </a:lnTo>
                      <a:lnTo>
                        <a:pt x="450" y="17"/>
                      </a:lnTo>
                      <a:lnTo>
                        <a:pt x="459" y="17"/>
                      </a:lnTo>
                      <a:lnTo>
                        <a:pt x="469" y="17"/>
                      </a:lnTo>
                      <a:lnTo>
                        <a:pt x="478" y="17"/>
                      </a:lnTo>
                      <a:lnTo>
                        <a:pt x="488" y="17"/>
                      </a:lnTo>
                      <a:lnTo>
                        <a:pt x="498" y="17"/>
                      </a:lnTo>
                      <a:lnTo>
                        <a:pt x="507" y="17"/>
                      </a:lnTo>
                      <a:lnTo>
                        <a:pt x="516" y="17"/>
                      </a:lnTo>
                      <a:lnTo>
                        <a:pt x="525" y="17"/>
                      </a:lnTo>
                      <a:lnTo>
                        <a:pt x="536" y="17"/>
                      </a:lnTo>
                      <a:lnTo>
                        <a:pt x="544" y="17"/>
                      </a:lnTo>
                      <a:lnTo>
                        <a:pt x="554" y="17"/>
                      </a:lnTo>
                      <a:lnTo>
                        <a:pt x="563" y="17"/>
                      </a:lnTo>
                      <a:lnTo>
                        <a:pt x="574" y="19"/>
                      </a:lnTo>
                      <a:lnTo>
                        <a:pt x="582" y="17"/>
                      </a:lnTo>
                      <a:lnTo>
                        <a:pt x="592" y="17"/>
                      </a:lnTo>
                      <a:lnTo>
                        <a:pt x="601" y="17"/>
                      </a:lnTo>
                      <a:lnTo>
                        <a:pt x="611" y="17"/>
                      </a:lnTo>
                      <a:lnTo>
                        <a:pt x="619" y="17"/>
                      </a:lnTo>
                      <a:lnTo>
                        <a:pt x="630" y="17"/>
                      </a:lnTo>
                      <a:lnTo>
                        <a:pt x="639" y="17"/>
                      </a:lnTo>
                      <a:lnTo>
                        <a:pt x="649" y="17"/>
                      </a:lnTo>
                      <a:lnTo>
                        <a:pt x="657" y="17"/>
                      </a:lnTo>
                      <a:lnTo>
                        <a:pt x="668" y="17"/>
                      </a:lnTo>
                      <a:lnTo>
                        <a:pt x="677" y="17"/>
                      </a:lnTo>
                      <a:lnTo>
                        <a:pt x="687" y="17"/>
                      </a:lnTo>
                      <a:lnTo>
                        <a:pt x="695" y="17"/>
                      </a:lnTo>
                      <a:lnTo>
                        <a:pt x="706" y="17"/>
                      </a:lnTo>
                      <a:lnTo>
                        <a:pt x="715" y="17"/>
                      </a:lnTo>
                      <a:lnTo>
                        <a:pt x="724" y="17"/>
                      </a:lnTo>
                      <a:lnTo>
                        <a:pt x="733" y="16"/>
                      </a:lnTo>
                      <a:lnTo>
                        <a:pt x="743" y="16"/>
                      </a:lnTo>
                      <a:lnTo>
                        <a:pt x="751" y="16"/>
                      </a:lnTo>
                      <a:lnTo>
                        <a:pt x="762" y="16"/>
                      </a:lnTo>
                      <a:lnTo>
                        <a:pt x="770" y="16"/>
                      </a:lnTo>
                      <a:lnTo>
                        <a:pt x="779" y="16"/>
                      </a:lnTo>
                      <a:lnTo>
                        <a:pt x="789" y="15"/>
                      </a:lnTo>
                      <a:lnTo>
                        <a:pt x="798" y="15"/>
                      </a:lnTo>
                      <a:lnTo>
                        <a:pt x="807" y="15"/>
                      </a:lnTo>
                      <a:lnTo>
                        <a:pt x="817" y="14"/>
                      </a:lnTo>
                      <a:lnTo>
                        <a:pt x="824" y="14"/>
                      </a:lnTo>
                      <a:lnTo>
                        <a:pt x="835" y="14"/>
                      </a:lnTo>
                      <a:lnTo>
                        <a:pt x="843" y="13"/>
                      </a:lnTo>
                      <a:lnTo>
                        <a:pt x="853" y="13"/>
                      </a:lnTo>
                      <a:lnTo>
                        <a:pt x="862" y="13"/>
                      </a:lnTo>
                      <a:lnTo>
                        <a:pt x="872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Freeform 7"/>
                <p:cNvSpPr/>
                <p:nvPr/>
              </p:nvSpPr>
              <p:spPr>
                <a:xfrm>
                  <a:off x="1117440" y="1905120"/>
                  <a:ext cx="499680" cy="61920"/>
                </a:xfrm>
                <a:custGeom>
                  <a:avLst/>
                  <a:gdLst>
                    <a:gd name="textAreaLeft" fmla="*/ 0 w 499680"/>
                    <a:gd name="textAreaRight" fmla="*/ 500040 w 499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43" h="116">
                      <a:moveTo>
                        <a:pt x="435" y="0"/>
                      </a:moveTo>
                      <a:lnTo>
                        <a:pt x="442" y="0"/>
                      </a:lnTo>
                      <a:lnTo>
                        <a:pt x="450" y="1"/>
                      </a:lnTo>
                      <a:lnTo>
                        <a:pt x="458" y="1"/>
                      </a:lnTo>
                      <a:lnTo>
                        <a:pt x="465" y="1"/>
                      </a:lnTo>
                      <a:lnTo>
                        <a:pt x="472" y="1"/>
                      </a:lnTo>
                      <a:lnTo>
                        <a:pt x="480" y="1"/>
                      </a:lnTo>
                      <a:lnTo>
                        <a:pt x="488" y="1"/>
                      </a:lnTo>
                      <a:lnTo>
                        <a:pt x="496" y="2"/>
                      </a:lnTo>
                      <a:lnTo>
                        <a:pt x="503" y="2"/>
                      </a:lnTo>
                      <a:lnTo>
                        <a:pt x="510" y="2"/>
                      </a:lnTo>
                      <a:lnTo>
                        <a:pt x="518" y="2"/>
                      </a:lnTo>
                      <a:lnTo>
                        <a:pt x="525" y="4"/>
                      </a:lnTo>
                      <a:lnTo>
                        <a:pt x="533" y="4"/>
                      </a:lnTo>
                      <a:lnTo>
                        <a:pt x="540" y="5"/>
                      </a:lnTo>
                      <a:lnTo>
                        <a:pt x="548" y="5"/>
                      </a:lnTo>
                      <a:lnTo>
                        <a:pt x="555" y="5"/>
                      </a:lnTo>
                      <a:lnTo>
                        <a:pt x="562" y="5"/>
                      </a:lnTo>
                      <a:lnTo>
                        <a:pt x="571" y="5"/>
                      </a:lnTo>
                      <a:lnTo>
                        <a:pt x="578" y="5"/>
                      </a:lnTo>
                      <a:lnTo>
                        <a:pt x="586" y="5"/>
                      </a:lnTo>
                      <a:lnTo>
                        <a:pt x="593" y="5"/>
                      </a:lnTo>
                      <a:lnTo>
                        <a:pt x="600" y="6"/>
                      </a:lnTo>
                      <a:lnTo>
                        <a:pt x="609" y="6"/>
                      </a:lnTo>
                      <a:lnTo>
                        <a:pt x="616" y="7"/>
                      </a:lnTo>
                      <a:lnTo>
                        <a:pt x="623" y="7"/>
                      </a:lnTo>
                      <a:lnTo>
                        <a:pt x="630" y="7"/>
                      </a:lnTo>
                      <a:lnTo>
                        <a:pt x="638" y="7"/>
                      </a:lnTo>
                      <a:lnTo>
                        <a:pt x="645" y="7"/>
                      </a:lnTo>
                      <a:lnTo>
                        <a:pt x="652" y="7"/>
                      </a:lnTo>
                      <a:lnTo>
                        <a:pt x="661" y="8"/>
                      </a:lnTo>
                      <a:lnTo>
                        <a:pt x="668" y="9"/>
                      </a:lnTo>
                      <a:lnTo>
                        <a:pt x="676" y="9"/>
                      </a:lnTo>
                      <a:lnTo>
                        <a:pt x="683" y="9"/>
                      </a:lnTo>
                      <a:lnTo>
                        <a:pt x="690" y="9"/>
                      </a:lnTo>
                      <a:lnTo>
                        <a:pt x="699" y="9"/>
                      </a:lnTo>
                      <a:lnTo>
                        <a:pt x="706" y="11"/>
                      </a:lnTo>
                      <a:lnTo>
                        <a:pt x="713" y="11"/>
                      </a:lnTo>
                      <a:lnTo>
                        <a:pt x="720" y="12"/>
                      </a:lnTo>
                      <a:lnTo>
                        <a:pt x="728" y="12"/>
                      </a:lnTo>
                      <a:lnTo>
                        <a:pt x="735" y="12"/>
                      </a:lnTo>
                      <a:lnTo>
                        <a:pt x="743" y="12"/>
                      </a:lnTo>
                      <a:lnTo>
                        <a:pt x="750" y="13"/>
                      </a:lnTo>
                      <a:lnTo>
                        <a:pt x="757" y="14"/>
                      </a:lnTo>
                      <a:lnTo>
                        <a:pt x="765" y="14"/>
                      </a:lnTo>
                      <a:lnTo>
                        <a:pt x="772" y="15"/>
                      </a:lnTo>
                      <a:lnTo>
                        <a:pt x="779" y="17"/>
                      </a:lnTo>
                      <a:lnTo>
                        <a:pt x="787" y="17"/>
                      </a:lnTo>
                      <a:lnTo>
                        <a:pt x="795" y="18"/>
                      </a:lnTo>
                      <a:lnTo>
                        <a:pt x="802" y="18"/>
                      </a:lnTo>
                      <a:lnTo>
                        <a:pt x="809" y="19"/>
                      </a:lnTo>
                      <a:lnTo>
                        <a:pt x="816" y="19"/>
                      </a:lnTo>
                      <a:lnTo>
                        <a:pt x="824" y="20"/>
                      </a:lnTo>
                      <a:lnTo>
                        <a:pt x="832" y="23"/>
                      </a:lnTo>
                      <a:lnTo>
                        <a:pt x="839" y="23"/>
                      </a:lnTo>
                      <a:lnTo>
                        <a:pt x="846" y="24"/>
                      </a:lnTo>
                      <a:lnTo>
                        <a:pt x="853" y="25"/>
                      </a:lnTo>
                      <a:lnTo>
                        <a:pt x="860" y="26"/>
                      </a:lnTo>
                      <a:lnTo>
                        <a:pt x="867" y="27"/>
                      </a:lnTo>
                      <a:lnTo>
                        <a:pt x="876" y="28"/>
                      </a:lnTo>
                      <a:lnTo>
                        <a:pt x="883" y="30"/>
                      </a:lnTo>
                      <a:lnTo>
                        <a:pt x="890" y="31"/>
                      </a:lnTo>
                      <a:lnTo>
                        <a:pt x="897" y="32"/>
                      </a:lnTo>
                      <a:lnTo>
                        <a:pt x="904" y="34"/>
                      </a:lnTo>
                      <a:lnTo>
                        <a:pt x="912" y="36"/>
                      </a:lnTo>
                      <a:lnTo>
                        <a:pt x="916" y="39"/>
                      </a:lnTo>
                      <a:lnTo>
                        <a:pt x="919" y="44"/>
                      </a:lnTo>
                      <a:lnTo>
                        <a:pt x="923" y="49"/>
                      </a:lnTo>
                      <a:lnTo>
                        <a:pt x="928" y="52"/>
                      </a:lnTo>
                      <a:lnTo>
                        <a:pt x="931" y="57"/>
                      </a:lnTo>
                      <a:lnTo>
                        <a:pt x="934" y="62"/>
                      </a:lnTo>
                      <a:lnTo>
                        <a:pt x="938" y="65"/>
                      </a:lnTo>
                      <a:lnTo>
                        <a:pt x="943" y="70"/>
                      </a:lnTo>
                      <a:lnTo>
                        <a:pt x="940" y="75"/>
                      </a:lnTo>
                      <a:lnTo>
                        <a:pt x="936" y="78"/>
                      </a:lnTo>
                      <a:lnTo>
                        <a:pt x="934" y="83"/>
                      </a:lnTo>
                      <a:lnTo>
                        <a:pt x="931" y="88"/>
                      </a:lnTo>
                      <a:lnTo>
                        <a:pt x="929" y="91"/>
                      </a:lnTo>
                      <a:lnTo>
                        <a:pt x="927" y="95"/>
                      </a:lnTo>
                      <a:lnTo>
                        <a:pt x="925" y="101"/>
                      </a:lnTo>
                      <a:lnTo>
                        <a:pt x="923" y="106"/>
                      </a:lnTo>
                      <a:lnTo>
                        <a:pt x="918" y="106"/>
                      </a:lnTo>
                      <a:lnTo>
                        <a:pt x="915" y="106"/>
                      </a:lnTo>
                      <a:lnTo>
                        <a:pt x="911" y="106"/>
                      </a:lnTo>
                      <a:lnTo>
                        <a:pt x="906" y="106"/>
                      </a:lnTo>
                      <a:lnTo>
                        <a:pt x="902" y="106"/>
                      </a:lnTo>
                      <a:lnTo>
                        <a:pt x="898" y="106"/>
                      </a:lnTo>
                      <a:lnTo>
                        <a:pt x="893" y="106"/>
                      </a:lnTo>
                      <a:lnTo>
                        <a:pt x="889" y="106"/>
                      </a:lnTo>
                      <a:lnTo>
                        <a:pt x="885" y="106"/>
                      </a:lnTo>
                      <a:lnTo>
                        <a:pt x="880" y="106"/>
                      </a:lnTo>
                      <a:lnTo>
                        <a:pt x="876" y="106"/>
                      </a:lnTo>
                      <a:lnTo>
                        <a:pt x="872" y="106"/>
                      </a:lnTo>
                      <a:lnTo>
                        <a:pt x="867" y="106"/>
                      </a:lnTo>
                      <a:lnTo>
                        <a:pt x="864" y="106"/>
                      </a:lnTo>
                      <a:lnTo>
                        <a:pt x="859" y="106"/>
                      </a:lnTo>
                      <a:lnTo>
                        <a:pt x="855" y="106"/>
                      </a:lnTo>
                      <a:lnTo>
                        <a:pt x="851" y="104"/>
                      </a:lnTo>
                      <a:lnTo>
                        <a:pt x="847" y="104"/>
                      </a:lnTo>
                      <a:lnTo>
                        <a:pt x="842" y="103"/>
                      </a:lnTo>
                      <a:lnTo>
                        <a:pt x="838" y="103"/>
                      </a:lnTo>
                      <a:lnTo>
                        <a:pt x="834" y="103"/>
                      </a:lnTo>
                      <a:lnTo>
                        <a:pt x="829" y="102"/>
                      </a:lnTo>
                      <a:lnTo>
                        <a:pt x="826" y="102"/>
                      </a:lnTo>
                      <a:lnTo>
                        <a:pt x="822" y="102"/>
                      </a:lnTo>
                      <a:lnTo>
                        <a:pt x="817" y="101"/>
                      </a:lnTo>
                      <a:lnTo>
                        <a:pt x="814" y="101"/>
                      </a:lnTo>
                      <a:lnTo>
                        <a:pt x="809" y="100"/>
                      </a:lnTo>
                      <a:lnTo>
                        <a:pt x="806" y="100"/>
                      </a:lnTo>
                      <a:lnTo>
                        <a:pt x="801" y="100"/>
                      </a:lnTo>
                      <a:lnTo>
                        <a:pt x="797" y="99"/>
                      </a:lnTo>
                      <a:lnTo>
                        <a:pt x="792" y="99"/>
                      </a:lnTo>
                      <a:lnTo>
                        <a:pt x="789" y="99"/>
                      </a:lnTo>
                      <a:lnTo>
                        <a:pt x="784" y="97"/>
                      </a:lnTo>
                      <a:lnTo>
                        <a:pt x="781" y="97"/>
                      </a:lnTo>
                      <a:lnTo>
                        <a:pt x="776" y="96"/>
                      </a:lnTo>
                      <a:lnTo>
                        <a:pt x="772" y="95"/>
                      </a:lnTo>
                      <a:lnTo>
                        <a:pt x="768" y="95"/>
                      </a:lnTo>
                      <a:lnTo>
                        <a:pt x="764" y="95"/>
                      </a:lnTo>
                      <a:lnTo>
                        <a:pt x="759" y="94"/>
                      </a:lnTo>
                      <a:lnTo>
                        <a:pt x="756" y="94"/>
                      </a:lnTo>
                      <a:lnTo>
                        <a:pt x="751" y="93"/>
                      </a:lnTo>
                      <a:lnTo>
                        <a:pt x="746" y="93"/>
                      </a:lnTo>
                      <a:lnTo>
                        <a:pt x="743" y="93"/>
                      </a:lnTo>
                      <a:lnTo>
                        <a:pt x="739" y="93"/>
                      </a:lnTo>
                      <a:lnTo>
                        <a:pt x="734" y="91"/>
                      </a:lnTo>
                      <a:lnTo>
                        <a:pt x="731" y="91"/>
                      </a:lnTo>
                      <a:lnTo>
                        <a:pt x="726" y="91"/>
                      </a:lnTo>
                      <a:lnTo>
                        <a:pt x="722" y="91"/>
                      </a:lnTo>
                      <a:lnTo>
                        <a:pt x="719" y="90"/>
                      </a:lnTo>
                      <a:lnTo>
                        <a:pt x="713" y="90"/>
                      </a:lnTo>
                      <a:lnTo>
                        <a:pt x="709" y="90"/>
                      </a:lnTo>
                      <a:lnTo>
                        <a:pt x="706" y="90"/>
                      </a:lnTo>
                      <a:lnTo>
                        <a:pt x="701" y="89"/>
                      </a:lnTo>
                      <a:lnTo>
                        <a:pt x="696" y="89"/>
                      </a:lnTo>
                      <a:lnTo>
                        <a:pt x="693" y="89"/>
                      </a:lnTo>
                      <a:lnTo>
                        <a:pt x="688" y="89"/>
                      </a:lnTo>
                      <a:lnTo>
                        <a:pt x="684" y="89"/>
                      </a:lnTo>
                      <a:lnTo>
                        <a:pt x="680" y="89"/>
                      </a:lnTo>
                      <a:lnTo>
                        <a:pt x="675" y="89"/>
                      </a:lnTo>
                      <a:lnTo>
                        <a:pt x="671" y="89"/>
                      </a:lnTo>
                      <a:lnTo>
                        <a:pt x="667" y="89"/>
                      </a:lnTo>
                      <a:lnTo>
                        <a:pt x="663" y="89"/>
                      </a:lnTo>
                      <a:lnTo>
                        <a:pt x="658" y="89"/>
                      </a:lnTo>
                      <a:lnTo>
                        <a:pt x="655" y="90"/>
                      </a:lnTo>
                      <a:lnTo>
                        <a:pt x="650" y="89"/>
                      </a:lnTo>
                      <a:lnTo>
                        <a:pt x="645" y="88"/>
                      </a:lnTo>
                      <a:lnTo>
                        <a:pt x="641" y="88"/>
                      </a:lnTo>
                      <a:lnTo>
                        <a:pt x="636" y="88"/>
                      </a:lnTo>
                      <a:lnTo>
                        <a:pt x="632" y="87"/>
                      </a:lnTo>
                      <a:lnTo>
                        <a:pt x="628" y="87"/>
                      </a:lnTo>
                      <a:lnTo>
                        <a:pt x="623" y="85"/>
                      </a:lnTo>
                      <a:lnTo>
                        <a:pt x="619" y="85"/>
                      </a:lnTo>
                      <a:lnTo>
                        <a:pt x="614" y="85"/>
                      </a:lnTo>
                      <a:lnTo>
                        <a:pt x="610" y="84"/>
                      </a:lnTo>
                      <a:lnTo>
                        <a:pt x="605" y="84"/>
                      </a:lnTo>
                      <a:lnTo>
                        <a:pt x="600" y="84"/>
                      </a:lnTo>
                      <a:lnTo>
                        <a:pt x="595" y="83"/>
                      </a:lnTo>
                      <a:lnTo>
                        <a:pt x="592" y="83"/>
                      </a:lnTo>
                      <a:lnTo>
                        <a:pt x="587" y="83"/>
                      </a:lnTo>
                      <a:lnTo>
                        <a:pt x="582" y="83"/>
                      </a:lnTo>
                      <a:lnTo>
                        <a:pt x="578" y="82"/>
                      </a:lnTo>
                      <a:lnTo>
                        <a:pt x="573" y="82"/>
                      </a:lnTo>
                      <a:lnTo>
                        <a:pt x="568" y="81"/>
                      </a:lnTo>
                      <a:lnTo>
                        <a:pt x="563" y="81"/>
                      </a:lnTo>
                      <a:lnTo>
                        <a:pt x="559" y="81"/>
                      </a:lnTo>
                      <a:lnTo>
                        <a:pt x="554" y="81"/>
                      </a:lnTo>
                      <a:lnTo>
                        <a:pt x="549" y="81"/>
                      </a:lnTo>
                      <a:lnTo>
                        <a:pt x="544" y="81"/>
                      </a:lnTo>
                      <a:lnTo>
                        <a:pt x="540" y="81"/>
                      </a:lnTo>
                      <a:lnTo>
                        <a:pt x="536" y="81"/>
                      </a:lnTo>
                      <a:lnTo>
                        <a:pt x="531" y="81"/>
                      </a:lnTo>
                      <a:lnTo>
                        <a:pt x="525" y="81"/>
                      </a:lnTo>
                      <a:lnTo>
                        <a:pt x="521" y="81"/>
                      </a:lnTo>
                      <a:lnTo>
                        <a:pt x="516" y="81"/>
                      </a:lnTo>
                      <a:lnTo>
                        <a:pt x="512" y="81"/>
                      </a:lnTo>
                      <a:lnTo>
                        <a:pt x="508" y="82"/>
                      </a:lnTo>
                      <a:lnTo>
                        <a:pt x="501" y="81"/>
                      </a:lnTo>
                      <a:lnTo>
                        <a:pt x="493" y="81"/>
                      </a:lnTo>
                      <a:lnTo>
                        <a:pt x="485" y="81"/>
                      </a:lnTo>
                      <a:lnTo>
                        <a:pt x="479" y="81"/>
                      </a:lnTo>
                      <a:lnTo>
                        <a:pt x="472" y="80"/>
                      </a:lnTo>
                      <a:lnTo>
                        <a:pt x="465" y="80"/>
                      </a:lnTo>
                      <a:lnTo>
                        <a:pt x="458" y="80"/>
                      </a:lnTo>
                      <a:lnTo>
                        <a:pt x="451" y="80"/>
                      </a:lnTo>
                      <a:lnTo>
                        <a:pt x="444" y="78"/>
                      </a:lnTo>
                      <a:lnTo>
                        <a:pt x="438" y="78"/>
                      </a:lnTo>
                      <a:lnTo>
                        <a:pt x="429" y="78"/>
                      </a:lnTo>
                      <a:lnTo>
                        <a:pt x="422" y="78"/>
                      </a:lnTo>
                      <a:lnTo>
                        <a:pt x="415" y="78"/>
                      </a:lnTo>
                      <a:lnTo>
                        <a:pt x="409" y="78"/>
                      </a:lnTo>
                      <a:lnTo>
                        <a:pt x="402" y="78"/>
                      </a:lnTo>
                      <a:lnTo>
                        <a:pt x="395" y="78"/>
                      </a:lnTo>
                      <a:lnTo>
                        <a:pt x="387" y="78"/>
                      </a:lnTo>
                      <a:lnTo>
                        <a:pt x="381" y="78"/>
                      </a:lnTo>
                      <a:lnTo>
                        <a:pt x="374" y="78"/>
                      </a:lnTo>
                      <a:lnTo>
                        <a:pt x="366" y="78"/>
                      </a:lnTo>
                      <a:lnTo>
                        <a:pt x="359" y="78"/>
                      </a:lnTo>
                      <a:lnTo>
                        <a:pt x="352" y="78"/>
                      </a:lnTo>
                      <a:lnTo>
                        <a:pt x="345" y="80"/>
                      </a:lnTo>
                      <a:lnTo>
                        <a:pt x="339" y="80"/>
                      </a:lnTo>
                      <a:lnTo>
                        <a:pt x="331" y="80"/>
                      </a:lnTo>
                      <a:lnTo>
                        <a:pt x="325" y="80"/>
                      </a:lnTo>
                      <a:lnTo>
                        <a:pt x="318" y="81"/>
                      </a:lnTo>
                      <a:lnTo>
                        <a:pt x="311" y="81"/>
                      </a:lnTo>
                      <a:lnTo>
                        <a:pt x="304" y="81"/>
                      </a:lnTo>
                      <a:lnTo>
                        <a:pt x="298" y="82"/>
                      </a:lnTo>
                      <a:lnTo>
                        <a:pt x="291" y="82"/>
                      </a:lnTo>
                      <a:lnTo>
                        <a:pt x="283" y="83"/>
                      </a:lnTo>
                      <a:lnTo>
                        <a:pt x="276" y="83"/>
                      </a:lnTo>
                      <a:lnTo>
                        <a:pt x="269" y="83"/>
                      </a:lnTo>
                      <a:lnTo>
                        <a:pt x="263" y="84"/>
                      </a:lnTo>
                      <a:lnTo>
                        <a:pt x="256" y="84"/>
                      </a:lnTo>
                      <a:lnTo>
                        <a:pt x="249" y="85"/>
                      </a:lnTo>
                      <a:lnTo>
                        <a:pt x="242" y="85"/>
                      </a:lnTo>
                      <a:lnTo>
                        <a:pt x="235" y="87"/>
                      </a:lnTo>
                      <a:lnTo>
                        <a:pt x="229" y="88"/>
                      </a:lnTo>
                      <a:lnTo>
                        <a:pt x="222" y="88"/>
                      </a:lnTo>
                      <a:lnTo>
                        <a:pt x="215" y="89"/>
                      </a:lnTo>
                      <a:lnTo>
                        <a:pt x="208" y="90"/>
                      </a:lnTo>
                      <a:lnTo>
                        <a:pt x="202" y="90"/>
                      </a:lnTo>
                      <a:lnTo>
                        <a:pt x="194" y="91"/>
                      </a:lnTo>
                      <a:lnTo>
                        <a:pt x="187" y="93"/>
                      </a:lnTo>
                      <a:lnTo>
                        <a:pt x="181" y="94"/>
                      </a:lnTo>
                      <a:lnTo>
                        <a:pt x="174" y="95"/>
                      </a:lnTo>
                      <a:lnTo>
                        <a:pt x="167" y="95"/>
                      </a:lnTo>
                      <a:lnTo>
                        <a:pt x="161" y="96"/>
                      </a:lnTo>
                      <a:lnTo>
                        <a:pt x="154" y="97"/>
                      </a:lnTo>
                      <a:lnTo>
                        <a:pt x="147" y="99"/>
                      </a:lnTo>
                      <a:lnTo>
                        <a:pt x="141" y="100"/>
                      </a:lnTo>
                      <a:lnTo>
                        <a:pt x="134" y="101"/>
                      </a:lnTo>
                      <a:lnTo>
                        <a:pt x="127" y="103"/>
                      </a:lnTo>
                      <a:lnTo>
                        <a:pt x="121" y="104"/>
                      </a:lnTo>
                      <a:lnTo>
                        <a:pt x="114" y="106"/>
                      </a:lnTo>
                      <a:lnTo>
                        <a:pt x="108" y="107"/>
                      </a:lnTo>
                      <a:lnTo>
                        <a:pt x="101" y="108"/>
                      </a:lnTo>
                      <a:lnTo>
                        <a:pt x="95" y="110"/>
                      </a:lnTo>
                      <a:lnTo>
                        <a:pt x="88" y="112"/>
                      </a:lnTo>
                      <a:lnTo>
                        <a:pt x="82" y="113"/>
                      </a:lnTo>
                      <a:lnTo>
                        <a:pt x="76" y="115"/>
                      </a:lnTo>
                      <a:lnTo>
                        <a:pt x="69" y="116"/>
                      </a:lnTo>
                      <a:lnTo>
                        <a:pt x="65" y="115"/>
                      </a:lnTo>
                      <a:lnTo>
                        <a:pt x="62" y="115"/>
                      </a:lnTo>
                      <a:lnTo>
                        <a:pt x="58" y="114"/>
                      </a:lnTo>
                      <a:lnTo>
                        <a:pt x="56" y="114"/>
                      </a:lnTo>
                      <a:lnTo>
                        <a:pt x="52" y="113"/>
                      </a:lnTo>
                      <a:lnTo>
                        <a:pt x="49" y="113"/>
                      </a:lnTo>
                      <a:lnTo>
                        <a:pt x="45" y="113"/>
                      </a:lnTo>
                      <a:lnTo>
                        <a:pt x="43" y="113"/>
                      </a:lnTo>
                      <a:lnTo>
                        <a:pt x="39" y="113"/>
                      </a:lnTo>
                      <a:lnTo>
                        <a:pt x="37" y="113"/>
                      </a:lnTo>
                      <a:lnTo>
                        <a:pt x="33" y="113"/>
                      </a:lnTo>
                      <a:lnTo>
                        <a:pt x="31" y="113"/>
                      </a:lnTo>
                      <a:lnTo>
                        <a:pt x="27" y="113"/>
                      </a:lnTo>
                      <a:lnTo>
                        <a:pt x="25" y="113"/>
                      </a:lnTo>
                      <a:lnTo>
                        <a:pt x="22" y="113"/>
                      </a:lnTo>
                      <a:lnTo>
                        <a:pt x="19" y="113"/>
                      </a:lnTo>
                      <a:lnTo>
                        <a:pt x="18" y="109"/>
                      </a:lnTo>
                      <a:lnTo>
                        <a:pt x="16" y="107"/>
                      </a:lnTo>
                      <a:lnTo>
                        <a:pt x="15" y="103"/>
                      </a:lnTo>
                      <a:lnTo>
                        <a:pt x="14" y="101"/>
                      </a:lnTo>
                      <a:lnTo>
                        <a:pt x="12" y="95"/>
                      </a:lnTo>
                      <a:lnTo>
                        <a:pt x="9" y="91"/>
                      </a:lnTo>
                      <a:lnTo>
                        <a:pt x="7" y="87"/>
                      </a:lnTo>
                      <a:lnTo>
                        <a:pt x="5" y="83"/>
                      </a:lnTo>
                      <a:lnTo>
                        <a:pt x="2" y="78"/>
                      </a:lnTo>
                      <a:lnTo>
                        <a:pt x="0" y="75"/>
                      </a:lnTo>
                      <a:lnTo>
                        <a:pt x="2" y="70"/>
                      </a:lnTo>
                      <a:lnTo>
                        <a:pt x="6" y="68"/>
                      </a:lnTo>
                      <a:lnTo>
                        <a:pt x="8" y="64"/>
                      </a:lnTo>
                      <a:lnTo>
                        <a:pt x="12" y="61"/>
                      </a:lnTo>
                      <a:lnTo>
                        <a:pt x="14" y="58"/>
                      </a:lnTo>
                      <a:lnTo>
                        <a:pt x="18" y="55"/>
                      </a:lnTo>
                      <a:lnTo>
                        <a:pt x="21" y="52"/>
                      </a:lnTo>
                      <a:lnTo>
                        <a:pt x="25" y="51"/>
                      </a:lnTo>
                      <a:lnTo>
                        <a:pt x="27" y="49"/>
                      </a:lnTo>
                      <a:lnTo>
                        <a:pt x="31" y="46"/>
                      </a:lnTo>
                      <a:lnTo>
                        <a:pt x="34" y="44"/>
                      </a:lnTo>
                      <a:lnTo>
                        <a:pt x="38" y="43"/>
                      </a:lnTo>
                      <a:lnTo>
                        <a:pt x="41" y="40"/>
                      </a:lnTo>
                      <a:lnTo>
                        <a:pt x="45" y="39"/>
                      </a:lnTo>
                      <a:lnTo>
                        <a:pt x="49" y="38"/>
                      </a:lnTo>
                      <a:lnTo>
                        <a:pt x="53" y="37"/>
                      </a:lnTo>
                      <a:lnTo>
                        <a:pt x="56" y="34"/>
                      </a:lnTo>
                      <a:lnTo>
                        <a:pt x="60" y="33"/>
                      </a:lnTo>
                      <a:lnTo>
                        <a:pt x="64" y="32"/>
                      </a:lnTo>
                      <a:lnTo>
                        <a:pt x="67" y="31"/>
                      </a:lnTo>
                      <a:lnTo>
                        <a:pt x="71" y="30"/>
                      </a:lnTo>
                      <a:lnTo>
                        <a:pt x="76" y="30"/>
                      </a:lnTo>
                      <a:lnTo>
                        <a:pt x="79" y="28"/>
                      </a:lnTo>
                      <a:lnTo>
                        <a:pt x="83" y="27"/>
                      </a:lnTo>
                      <a:lnTo>
                        <a:pt x="88" y="27"/>
                      </a:lnTo>
                      <a:lnTo>
                        <a:pt x="91" y="26"/>
                      </a:lnTo>
                      <a:lnTo>
                        <a:pt x="95" y="25"/>
                      </a:lnTo>
                      <a:lnTo>
                        <a:pt x="98" y="25"/>
                      </a:lnTo>
                      <a:lnTo>
                        <a:pt x="103" y="25"/>
                      </a:lnTo>
                      <a:lnTo>
                        <a:pt x="107" y="25"/>
                      </a:lnTo>
                      <a:lnTo>
                        <a:pt x="111" y="24"/>
                      </a:lnTo>
                      <a:lnTo>
                        <a:pt x="116" y="24"/>
                      </a:lnTo>
                      <a:lnTo>
                        <a:pt x="120" y="23"/>
                      </a:lnTo>
                      <a:lnTo>
                        <a:pt x="123" y="23"/>
                      </a:lnTo>
                      <a:lnTo>
                        <a:pt x="127" y="23"/>
                      </a:lnTo>
                      <a:lnTo>
                        <a:pt x="132" y="23"/>
                      </a:lnTo>
                      <a:lnTo>
                        <a:pt x="135" y="23"/>
                      </a:lnTo>
                      <a:lnTo>
                        <a:pt x="140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2" y="20"/>
                      </a:lnTo>
                      <a:lnTo>
                        <a:pt x="156" y="20"/>
                      </a:lnTo>
                      <a:lnTo>
                        <a:pt x="161" y="20"/>
                      </a:lnTo>
                      <a:lnTo>
                        <a:pt x="165" y="20"/>
                      </a:lnTo>
                      <a:lnTo>
                        <a:pt x="170" y="19"/>
                      </a:lnTo>
                      <a:lnTo>
                        <a:pt x="173" y="19"/>
                      </a:lnTo>
                      <a:lnTo>
                        <a:pt x="177" y="19"/>
                      </a:lnTo>
                      <a:lnTo>
                        <a:pt x="181" y="19"/>
                      </a:lnTo>
                      <a:lnTo>
                        <a:pt x="186" y="19"/>
                      </a:lnTo>
                      <a:lnTo>
                        <a:pt x="190" y="19"/>
                      </a:lnTo>
                      <a:lnTo>
                        <a:pt x="194" y="18"/>
                      </a:lnTo>
                      <a:lnTo>
                        <a:pt x="198" y="18"/>
                      </a:lnTo>
                      <a:lnTo>
                        <a:pt x="202" y="17"/>
                      </a:lnTo>
                      <a:lnTo>
                        <a:pt x="206" y="17"/>
                      </a:lnTo>
                      <a:lnTo>
                        <a:pt x="210" y="15"/>
                      </a:lnTo>
                      <a:lnTo>
                        <a:pt x="215" y="15"/>
                      </a:lnTo>
                      <a:lnTo>
                        <a:pt x="218" y="14"/>
                      </a:lnTo>
                      <a:lnTo>
                        <a:pt x="222" y="14"/>
                      </a:lnTo>
                      <a:lnTo>
                        <a:pt x="225" y="13"/>
                      </a:lnTo>
                      <a:lnTo>
                        <a:pt x="230" y="12"/>
                      </a:lnTo>
                      <a:lnTo>
                        <a:pt x="234" y="12"/>
                      </a:lnTo>
                      <a:lnTo>
                        <a:pt x="237" y="11"/>
                      </a:lnTo>
                      <a:lnTo>
                        <a:pt x="242" y="9"/>
                      </a:lnTo>
                      <a:lnTo>
                        <a:pt x="245" y="9"/>
                      </a:lnTo>
                      <a:lnTo>
                        <a:pt x="249" y="7"/>
                      </a:lnTo>
                      <a:lnTo>
                        <a:pt x="251" y="7"/>
                      </a:lnTo>
                      <a:lnTo>
                        <a:pt x="255" y="7"/>
                      </a:lnTo>
                      <a:lnTo>
                        <a:pt x="257" y="7"/>
                      </a:lnTo>
                      <a:lnTo>
                        <a:pt x="260" y="7"/>
                      </a:lnTo>
                      <a:lnTo>
                        <a:pt x="263" y="6"/>
                      </a:lnTo>
                      <a:lnTo>
                        <a:pt x="266" y="6"/>
                      </a:lnTo>
                      <a:lnTo>
                        <a:pt x="269" y="6"/>
                      </a:lnTo>
                      <a:lnTo>
                        <a:pt x="272" y="5"/>
                      </a:lnTo>
                      <a:lnTo>
                        <a:pt x="275" y="5"/>
                      </a:lnTo>
                      <a:lnTo>
                        <a:pt x="278" y="5"/>
                      </a:lnTo>
                      <a:lnTo>
                        <a:pt x="281" y="5"/>
                      </a:lnTo>
                      <a:lnTo>
                        <a:pt x="283" y="5"/>
                      </a:lnTo>
                      <a:lnTo>
                        <a:pt x="287" y="5"/>
                      </a:lnTo>
                      <a:lnTo>
                        <a:pt x="289" y="5"/>
                      </a:lnTo>
                      <a:lnTo>
                        <a:pt x="293" y="5"/>
                      </a:lnTo>
                      <a:lnTo>
                        <a:pt x="295" y="5"/>
                      </a:lnTo>
                      <a:lnTo>
                        <a:pt x="298" y="5"/>
                      </a:lnTo>
                      <a:lnTo>
                        <a:pt x="301" y="5"/>
                      </a:lnTo>
                      <a:lnTo>
                        <a:pt x="304" y="5"/>
                      </a:lnTo>
                      <a:lnTo>
                        <a:pt x="307" y="5"/>
                      </a:lnTo>
                      <a:lnTo>
                        <a:pt x="311" y="5"/>
                      </a:lnTo>
                      <a:lnTo>
                        <a:pt x="313" y="5"/>
                      </a:lnTo>
                      <a:lnTo>
                        <a:pt x="315" y="5"/>
                      </a:lnTo>
                      <a:lnTo>
                        <a:pt x="319" y="5"/>
                      </a:lnTo>
                      <a:lnTo>
                        <a:pt x="321" y="5"/>
                      </a:lnTo>
                      <a:lnTo>
                        <a:pt x="325" y="5"/>
                      </a:lnTo>
                      <a:lnTo>
                        <a:pt x="329" y="5"/>
                      </a:lnTo>
                      <a:lnTo>
                        <a:pt x="331" y="5"/>
                      </a:lnTo>
                      <a:lnTo>
                        <a:pt x="333" y="5"/>
                      </a:lnTo>
                      <a:lnTo>
                        <a:pt x="337" y="5"/>
                      </a:lnTo>
                      <a:lnTo>
                        <a:pt x="340" y="6"/>
                      </a:lnTo>
                      <a:lnTo>
                        <a:pt x="343" y="5"/>
                      </a:lnTo>
                      <a:lnTo>
                        <a:pt x="346" y="5"/>
                      </a:lnTo>
                      <a:lnTo>
                        <a:pt x="349" y="5"/>
                      </a:lnTo>
                      <a:lnTo>
                        <a:pt x="351" y="5"/>
                      </a:lnTo>
                      <a:lnTo>
                        <a:pt x="355" y="5"/>
                      </a:lnTo>
                      <a:lnTo>
                        <a:pt x="357" y="5"/>
                      </a:lnTo>
                      <a:lnTo>
                        <a:pt x="361" y="5"/>
                      </a:lnTo>
                      <a:lnTo>
                        <a:pt x="364" y="5"/>
                      </a:lnTo>
                      <a:lnTo>
                        <a:pt x="366" y="5"/>
                      </a:lnTo>
                      <a:lnTo>
                        <a:pt x="369" y="5"/>
                      </a:lnTo>
                      <a:lnTo>
                        <a:pt x="371" y="5"/>
                      </a:lnTo>
                      <a:lnTo>
                        <a:pt x="376" y="5"/>
                      </a:lnTo>
                      <a:lnTo>
                        <a:pt x="378" y="5"/>
                      </a:lnTo>
                      <a:lnTo>
                        <a:pt x="382" y="5"/>
                      </a:lnTo>
                      <a:lnTo>
                        <a:pt x="384" y="5"/>
                      </a:lnTo>
                      <a:lnTo>
                        <a:pt x="387" y="5"/>
                      </a:lnTo>
                      <a:lnTo>
                        <a:pt x="390" y="5"/>
                      </a:lnTo>
                      <a:lnTo>
                        <a:pt x="394" y="5"/>
                      </a:lnTo>
                      <a:lnTo>
                        <a:pt x="396" y="5"/>
                      </a:lnTo>
                      <a:lnTo>
                        <a:pt x="400" y="5"/>
                      </a:lnTo>
                      <a:lnTo>
                        <a:pt x="402" y="5"/>
                      </a:lnTo>
                      <a:lnTo>
                        <a:pt x="404" y="5"/>
                      </a:lnTo>
                      <a:lnTo>
                        <a:pt x="407" y="4"/>
                      </a:lnTo>
                      <a:lnTo>
                        <a:pt x="410" y="4"/>
                      </a:lnTo>
                      <a:lnTo>
                        <a:pt x="414" y="2"/>
                      </a:lnTo>
                      <a:lnTo>
                        <a:pt x="418" y="2"/>
                      </a:lnTo>
                      <a:lnTo>
                        <a:pt x="420" y="1"/>
                      </a:lnTo>
                      <a:lnTo>
                        <a:pt x="422" y="1"/>
                      </a:lnTo>
                      <a:lnTo>
                        <a:pt x="426" y="1"/>
                      </a:lnTo>
                      <a:lnTo>
                        <a:pt x="428" y="1"/>
                      </a:lnTo>
                      <a:lnTo>
                        <a:pt x="432" y="0"/>
                      </a:lnTo>
                      <a:lnTo>
                        <a:pt x="435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Freeform 8"/>
                <p:cNvSpPr/>
                <p:nvPr/>
              </p:nvSpPr>
              <p:spPr>
                <a:xfrm>
                  <a:off x="1182600" y="2009880"/>
                  <a:ext cx="56880" cy="263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07" h="499">
                      <a:moveTo>
                        <a:pt x="54" y="0"/>
                      </a:moveTo>
                      <a:lnTo>
                        <a:pt x="57" y="2"/>
                      </a:lnTo>
                      <a:lnTo>
                        <a:pt x="61" y="4"/>
                      </a:lnTo>
                      <a:lnTo>
                        <a:pt x="64" y="5"/>
                      </a:lnTo>
                      <a:lnTo>
                        <a:pt x="69" y="7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6" y="12"/>
                      </a:lnTo>
                      <a:lnTo>
                        <a:pt x="80" y="15"/>
                      </a:lnTo>
                      <a:lnTo>
                        <a:pt x="85" y="19"/>
                      </a:lnTo>
                      <a:lnTo>
                        <a:pt x="88" y="24"/>
                      </a:lnTo>
                      <a:lnTo>
                        <a:pt x="89" y="26"/>
                      </a:lnTo>
                      <a:lnTo>
                        <a:pt x="92" y="30"/>
                      </a:lnTo>
                      <a:lnTo>
                        <a:pt x="92" y="32"/>
                      </a:lnTo>
                      <a:lnTo>
                        <a:pt x="94" y="36"/>
                      </a:lnTo>
                      <a:lnTo>
                        <a:pt x="94" y="38"/>
                      </a:lnTo>
                      <a:lnTo>
                        <a:pt x="95" y="40"/>
                      </a:lnTo>
                      <a:lnTo>
                        <a:pt x="95" y="44"/>
                      </a:lnTo>
                      <a:lnTo>
                        <a:pt x="96" y="46"/>
                      </a:lnTo>
                      <a:lnTo>
                        <a:pt x="96" y="50"/>
                      </a:lnTo>
                      <a:lnTo>
                        <a:pt x="96" y="53"/>
                      </a:lnTo>
                      <a:lnTo>
                        <a:pt x="96" y="56"/>
                      </a:lnTo>
                      <a:lnTo>
                        <a:pt x="98" y="59"/>
                      </a:lnTo>
                      <a:lnTo>
                        <a:pt x="96" y="63"/>
                      </a:lnTo>
                      <a:lnTo>
                        <a:pt x="96" y="65"/>
                      </a:lnTo>
                      <a:lnTo>
                        <a:pt x="96" y="69"/>
                      </a:lnTo>
                      <a:lnTo>
                        <a:pt x="96" y="74"/>
                      </a:lnTo>
                      <a:lnTo>
                        <a:pt x="95" y="76"/>
                      </a:lnTo>
                      <a:lnTo>
                        <a:pt x="95" y="81"/>
                      </a:lnTo>
                      <a:lnTo>
                        <a:pt x="94" y="83"/>
                      </a:lnTo>
                      <a:lnTo>
                        <a:pt x="94" y="88"/>
                      </a:lnTo>
                      <a:lnTo>
                        <a:pt x="93" y="90"/>
                      </a:lnTo>
                      <a:lnTo>
                        <a:pt x="92" y="94"/>
                      </a:lnTo>
                      <a:lnTo>
                        <a:pt x="92" y="97"/>
                      </a:lnTo>
                      <a:lnTo>
                        <a:pt x="90" y="101"/>
                      </a:lnTo>
                      <a:lnTo>
                        <a:pt x="89" y="105"/>
                      </a:lnTo>
                      <a:lnTo>
                        <a:pt x="89" y="108"/>
                      </a:lnTo>
                      <a:lnTo>
                        <a:pt x="87" y="112"/>
                      </a:lnTo>
                      <a:lnTo>
                        <a:pt x="87" y="116"/>
                      </a:lnTo>
                      <a:lnTo>
                        <a:pt x="86" y="119"/>
                      </a:lnTo>
                      <a:lnTo>
                        <a:pt x="85" y="122"/>
                      </a:lnTo>
                      <a:lnTo>
                        <a:pt x="85" y="126"/>
                      </a:lnTo>
                      <a:lnTo>
                        <a:pt x="83" y="129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0"/>
                      </a:lnTo>
                      <a:lnTo>
                        <a:pt x="80" y="144"/>
                      </a:lnTo>
                      <a:lnTo>
                        <a:pt x="79" y="147"/>
                      </a:lnTo>
                      <a:lnTo>
                        <a:pt x="77" y="151"/>
                      </a:lnTo>
                      <a:lnTo>
                        <a:pt x="76" y="154"/>
                      </a:lnTo>
                      <a:lnTo>
                        <a:pt x="76" y="158"/>
                      </a:lnTo>
                      <a:lnTo>
                        <a:pt x="76" y="162"/>
                      </a:lnTo>
                      <a:lnTo>
                        <a:pt x="76" y="165"/>
                      </a:lnTo>
                      <a:lnTo>
                        <a:pt x="75" y="169"/>
                      </a:lnTo>
                      <a:lnTo>
                        <a:pt x="75" y="172"/>
                      </a:lnTo>
                      <a:lnTo>
                        <a:pt x="74" y="175"/>
                      </a:lnTo>
                      <a:lnTo>
                        <a:pt x="74" y="178"/>
                      </a:lnTo>
                      <a:lnTo>
                        <a:pt x="74" y="182"/>
                      </a:lnTo>
                      <a:lnTo>
                        <a:pt x="75" y="184"/>
                      </a:lnTo>
                      <a:lnTo>
                        <a:pt x="75" y="188"/>
                      </a:lnTo>
                      <a:lnTo>
                        <a:pt x="76" y="191"/>
                      </a:lnTo>
                      <a:lnTo>
                        <a:pt x="76" y="195"/>
                      </a:lnTo>
                      <a:lnTo>
                        <a:pt x="77" y="197"/>
                      </a:lnTo>
                      <a:lnTo>
                        <a:pt x="76" y="202"/>
                      </a:lnTo>
                      <a:lnTo>
                        <a:pt x="76" y="207"/>
                      </a:lnTo>
                      <a:lnTo>
                        <a:pt x="76" y="210"/>
                      </a:lnTo>
                      <a:lnTo>
                        <a:pt x="76" y="215"/>
                      </a:lnTo>
                      <a:lnTo>
                        <a:pt x="75" y="220"/>
                      </a:lnTo>
                      <a:lnTo>
                        <a:pt x="74" y="224"/>
                      </a:lnTo>
                      <a:lnTo>
                        <a:pt x="74" y="228"/>
                      </a:lnTo>
                      <a:lnTo>
                        <a:pt x="74" y="233"/>
                      </a:lnTo>
                      <a:lnTo>
                        <a:pt x="74" y="237"/>
                      </a:lnTo>
                      <a:lnTo>
                        <a:pt x="74" y="241"/>
                      </a:lnTo>
                      <a:lnTo>
                        <a:pt x="74" y="246"/>
                      </a:lnTo>
                      <a:lnTo>
                        <a:pt x="74" y="251"/>
                      </a:lnTo>
                      <a:lnTo>
                        <a:pt x="74" y="255"/>
                      </a:lnTo>
                      <a:lnTo>
                        <a:pt x="74" y="259"/>
                      </a:lnTo>
                      <a:lnTo>
                        <a:pt x="74" y="264"/>
                      </a:lnTo>
                      <a:lnTo>
                        <a:pt x="74" y="268"/>
                      </a:lnTo>
                      <a:lnTo>
                        <a:pt x="74" y="272"/>
                      </a:lnTo>
                      <a:lnTo>
                        <a:pt x="74" y="277"/>
                      </a:lnTo>
                      <a:lnTo>
                        <a:pt x="74" y="281"/>
                      </a:lnTo>
                      <a:lnTo>
                        <a:pt x="74" y="285"/>
                      </a:lnTo>
                      <a:lnTo>
                        <a:pt x="74" y="290"/>
                      </a:lnTo>
                      <a:lnTo>
                        <a:pt x="75" y="293"/>
                      </a:lnTo>
                      <a:lnTo>
                        <a:pt x="76" y="298"/>
                      </a:lnTo>
                      <a:lnTo>
                        <a:pt x="76" y="303"/>
                      </a:lnTo>
                      <a:lnTo>
                        <a:pt x="76" y="306"/>
                      </a:lnTo>
                      <a:lnTo>
                        <a:pt x="76" y="311"/>
                      </a:lnTo>
                      <a:lnTo>
                        <a:pt x="76" y="316"/>
                      </a:lnTo>
                      <a:lnTo>
                        <a:pt x="76" y="319"/>
                      </a:lnTo>
                      <a:lnTo>
                        <a:pt x="77" y="324"/>
                      </a:lnTo>
                      <a:lnTo>
                        <a:pt x="77" y="329"/>
                      </a:lnTo>
                      <a:lnTo>
                        <a:pt x="79" y="332"/>
                      </a:lnTo>
                      <a:lnTo>
                        <a:pt x="79" y="336"/>
                      </a:lnTo>
                      <a:lnTo>
                        <a:pt x="79" y="341"/>
                      </a:lnTo>
                      <a:lnTo>
                        <a:pt x="80" y="346"/>
                      </a:lnTo>
                      <a:lnTo>
                        <a:pt x="80" y="349"/>
                      </a:lnTo>
                      <a:lnTo>
                        <a:pt x="81" y="354"/>
                      </a:lnTo>
                      <a:lnTo>
                        <a:pt x="82" y="357"/>
                      </a:lnTo>
                      <a:lnTo>
                        <a:pt x="82" y="362"/>
                      </a:lnTo>
                      <a:lnTo>
                        <a:pt x="82" y="366"/>
                      </a:lnTo>
                      <a:lnTo>
                        <a:pt x="85" y="369"/>
                      </a:lnTo>
                      <a:lnTo>
                        <a:pt x="85" y="374"/>
                      </a:lnTo>
                      <a:lnTo>
                        <a:pt x="85" y="378"/>
                      </a:lnTo>
                      <a:lnTo>
                        <a:pt x="86" y="382"/>
                      </a:lnTo>
                      <a:lnTo>
                        <a:pt x="87" y="387"/>
                      </a:lnTo>
                      <a:lnTo>
                        <a:pt x="87" y="391"/>
                      </a:lnTo>
                      <a:lnTo>
                        <a:pt x="89" y="395"/>
                      </a:lnTo>
                      <a:lnTo>
                        <a:pt x="89" y="400"/>
                      </a:lnTo>
                      <a:lnTo>
                        <a:pt x="90" y="404"/>
                      </a:lnTo>
                      <a:lnTo>
                        <a:pt x="92" y="407"/>
                      </a:lnTo>
                      <a:lnTo>
                        <a:pt x="92" y="412"/>
                      </a:lnTo>
                      <a:lnTo>
                        <a:pt x="93" y="416"/>
                      </a:lnTo>
                      <a:lnTo>
                        <a:pt x="94" y="420"/>
                      </a:lnTo>
                      <a:lnTo>
                        <a:pt x="94" y="424"/>
                      </a:lnTo>
                      <a:lnTo>
                        <a:pt x="95" y="429"/>
                      </a:lnTo>
                      <a:lnTo>
                        <a:pt x="96" y="433"/>
                      </a:lnTo>
                      <a:lnTo>
                        <a:pt x="98" y="437"/>
                      </a:lnTo>
                      <a:lnTo>
                        <a:pt x="99" y="440"/>
                      </a:lnTo>
                      <a:lnTo>
                        <a:pt x="100" y="445"/>
                      </a:lnTo>
                      <a:lnTo>
                        <a:pt x="101" y="449"/>
                      </a:lnTo>
                      <a:lnTo>
                        <a:pt x="102" y="454"/>
                      </a:lnTo>
                      <a:lnTo>
                        <a:pt x="103" y="458"/>
                      </a:lnTo>
                      <a:lnTo>
                        <a:pt x="105" y="462"/>
                      </a:lnTo>
                      <a:lnTo>
                        <a:pt x="106" y="467"/>
                      </a:lnTo>
                      <a:lnTo>
                        <a:pt x="107" y="471"/>
                      </a:lnTo>
                      <a:lnTo>
                        <a:pt x="103" y="474"/>
                      </a:lnTo>
                      <a:lnTo>
                        <a:pt x="99" y="477"/>
                      </a:lnTo>
                      <a:lnTo>
                        <a:pt x="94" y="481"/>
                      </a:lnTo>
                      <a:lnTo>
                        <a:pt x="90" y="484"/>
                      </a:lnTo>
                      <a:lnTo>
                        <a:pt x="87" y="488"/>
                      </a:lnTo>
                      <a:lnTo>
                        <a:pt x="82" y="492"/>
                      </a:lnTo>
                      <a:lnTo>
                        <a:pt x="77" y="494"/>
                      </a:lnTo>
                      <a:lnTo>
                        <a:pt x="74" y="499"/>
                      </a:lnTo>
                      <a:lnTo>
                        <a:pt x="68" y="495"/>
                      </a:lnTo>
                      <a:lnTo>
                        <a:pt x="64" y="493"/>
                      </a:lnTo>
                      <a:lnTo>
                        <a:pt x="58" y="489"/>
                      </a:lnTo>
                      <a:lnTo>
                        <a:pt x="55" y="487"/>
                      </a:lnTo>
                      <a:lnTo>
                        <a:pt x="51" y="483"/>
                      </a:lnTo>
                      <a:lnTo>
                        <a:pt x="48" y="481"/>
                      </a:lnTo>
                      <a:lnTo>
                        <a:pt x="44" y="477"/>
                      </a:lnTo>
                      <a:lnTo>
                        <a:pt x="41" y="475"/>
                      </a:lnTo>
                      <a:lnTo>
                        <a:pt x="37" y="471"/>
                      </a:lnTo>
                      <a:lnTo>
                        <a:pt x="33" y="467"/>
                      </a:lnTo>
                      <a:lnTo>
                        <a:pt x="31" y="463"/>
                      </a:lnTo>
                      <a:lnTo>
                        <a:pt x="29" y="459"/>
                      </a:lnTo>
                      <a:lnTo>
                        <a:pt x="26" y="456"/>
                      </a:lnTo>
                      <a:lnTo>
                        <a:pt x="23" y="451"/>
                      </a:lnTo>
                      <a:lnTo>
                        <a:pt x="20" y="448"/>
                      </a:lnTo>
                      <a:lnTo>
                        <a:pt x="19" y="444"/>
                      </a:lnTo>
                      <a:lnTo>
                        <a:pt x="17" y="439"/>
                      </a:lnTo>
                      <a:lnTo>
                        <a:pt x="16" y="435"/>
                      </a:lnTo>
                      <a:lnTo>
                        <a:pt x="13" y="430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9" y="417"/>
                      </a:lnTo>
                      <a:lnTo>
                        <a:pt x="9" y="412"/>
                      </a:lnTo>
                      <a:lnTo>
                        <a:pt x="7" y="407"/>
                      </a:lnTo>
                      <a:lnTo>
                        <a:pt x="6" y="402"/>
                      </a:lnTo>
                      <a:lnTo>
                        <a:pt x="5" y="398"/>
                      </a:lnTo>
                      <a:lnTo>
                        <a:pt x="4" y="392"/>
                      </a:lnTo>
                      <a:lnTo>
                        <a:pt x="4" y="387"/>
                      </a:lnTo>
                      <a:lnTo>
                        <a:pt x="3" y="382"/>
                      </a:lnTo>
                      <a:lnTo>
                        <a:pt x="3" y="378"/>
                      </a:lnTo>
                      <a:lnTo>
                        <a:pt x="1" y="372"/>
                      </a:lnTo>
                      <a:lnTo>
                        <a:pt x="1" y="367"/>
                      </a:lnTo>
                      <a:lnTo>
                        <a:pt x="1" y="362"/>
                      </a:lnTo>
                      <a:lnTo>
                        <a:pt x="0" y="357"/>
                      </a:lnTo>
                      <a:lnTo>
                        <a:pt x="0" y="351"/>
                      </a:lnTo>
                      <a:lnTo>
                        <a:pt x="0" y="347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19"/>
                      </a:lnTo>
                      <a:lnTo>
                        <a:pt x="0" y="313"/>
                      </a:lnTo>
                      <a:lnTo>
                        <a:pt x="0" y="309"/>
                      </a:lnTo>
                      <a:lnTo>
                        <a:pt x="0" y="304"/>
                      </a:lnTo>
                      <a:lnTo>
                        <a:pt x="0" y="298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1" y="281"/>
                      </a:lnTo>
                      <a:lnTo>
                        <a:pt x="1" y="275"/>
                      </a:lnTo>
                      <a:lnTo>
                        <a:pt x="1" y="271"/>
                      </a:lnTo>
                      <a:lnTo>
                        <a:pt x="1" y="266"/>
                      </a:lnTo>
                      <a:lnTo>
                        <a:pt x="1" y="260"/>
                      </a:lnTo>
                      <a:lnTo>
                        <a:pt x="1" y="255"/>
                      </a:lnTo>
                      <a:lnTo>
                        <a:pt x="1" y="251"/>
                      </a:lnTo>
                      <a:lnTo>
                        <a:pt x="1" y="245"/>
                      </a:lnTo>
                      <a:lnTo>
                        <a:pt x="1" y="240"/>
                      </a:lnTo>
                      <a:lnTo>
                        <a:pt x="1" y="235"/>
                      </a:lnTo>
                      <a:lnTo>
                        <a:pt x="1" y="230"/>
                      </a:lnTo>
                      <a:lnTo>
                        <a:pt x="1" y="224"/>
                      </a:lnTo>
                      <a:lnTo>
                        <a:pt x="1" y="220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0" y="205"/>
                      </a:lnTo>
                      <a:lnTo>
                        <a:pt x="0" y="201"/>
                      </a:lnTo>
                      <a:lnTo>
                        <a:pt x="0" y="197"/>
                      </a:lnTo>
                      <a:lnTo>
                        <a:pt x="0" y="194"/>
                      </a:lnTo>
                      <a:lnTo>
                        <a:pt x="0" y="190"/>
                      </a:lnTo>
                      <a:lnTo>
                        <a:pt x="0" y="188"/>
                      </a:lnTo>
                      <a:lnTo>
                        <a:pt x="0" y="183"/>
                      </a:lnTo>
                      <a:lnTo>
                        <a:pt x="1" y="181"/>
                      </a:lnTo>
                      <a:lnTo>
                        <a:pt x="1" y="177"/>
                      </a:lnTo>
                      <a:lnTo>
                        <a:pt x="1" y="173"/>
                      </a:lnTo>
                      <a:lnTo>
                        <a:pt x="1" y="170"/>
                      </a:lnTo>
                      <a:lnTo>
                        <a:pt x="1" y="166"/>
                      </a:lnTo>
                      <a:lnTo>
                        <a:pt x="1" y="163"/>
                      </a:lnTo>
                      <a:lnTo>
                        <a:pt x="3" y="159"/>
                      </a:lnTo>
                      <a:lnTo>
                        <a:pt x="3" y="156"/>
                      </a:lnTo>
                      <a:lnTo>
                        <a:pt x="3" y="153"/>
                      </a:lnTo>
                      <a:lnTo>
                        <a:pt x="3" y="150"/>
                      </a:lnTo>
                      <a:lnTo>
                        <a:pt x="3" y="146"/>
                      </a:lnTo>
                      <a:lnTo>
                        <a:pt x="3" y="143"/>
                      </a:lnTo>
                      <a:lnTo>
                        <a:pt x="3" y="139"/>
                      </a:lnTo>
                      <a:lnTo>
                        <a:pt x="3" y="135"/>
                      </a:lnTo>
                      <a:lnTo>
                        <a:pt x="4" y="132"/>
                      </a:lnTo>
                      <a:lnTo>
                        <a:pt x="4" y="129"/>
                      </a:lnTo>
                      <a:lnTo>
                        <a:pt x="4" y="126"/>
                      </a:lnTo>
                      <a:lnTo>
                        <a:pt x="4" y="121"/>
                      </a:lnTo>
                      <a:lnTo>
                        <a:pt x="5" y="119"/>
                      </a:lnTo>
                      <a:lnTo>
                        <a:pt x="5" y="115"/>
                      </a:lnTo>
                      <a:lnTo>
                        <a:pt x="5" y="112"/>
                      </a:lnTo>
                      <a:lnTo>
                        <a:pt x="6" y="108"/>
                      </a:lnTo>
                      <a:lnTo>
                        <a:pt x="6" y="106"/>
                      </a:lnTo>
                      <a:lnTo>
                        <a:pt x="6" y="101"/>
                      </a:lnTo>
                      <a:lnTo>
                        <a:pt x="6" y="99"/>
                      </a:lnTo>
                      <a:lnTo>
                        <a:pt x="7" y="95"/>
                      </a:lnTo>
                      <a:lnTo>
                        <a:pt x="9" y="91"/>
                      </a:lnTo>
                      <a:lnTo>
                        <a:pt x="9" y="88"/>
                      </a:lnTo>
                      <a:lnTo>
                        <a:pt x="9" y="86"/>
                      </a:lnTo>
                      <a:lnTo>
                        <a:pt x="9" y="81"/>
                      </a:lnTo>
                      <a:lnTo>
                        <a:pt x="10" y="78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2" y="68"/>
                      </a:lnTo>
                      <a:lnTo>
                        <a:pt x="13" y="65"/>
                      </a:lnTo>
                      <a:lnTo>
                        <a:pt x="13" y="62"/>
                      </a:lnTo>
                      <a:lnTo>
                        <a:pt x="14" y="59"/>
                      </a:lnTo>
                      <a:lnTo>
                        <a:pt x="16" y="56"/>
                      </a:lnTo>
                      <a:lnTo>
                        <a:pt x="17" y="53"/>
                      </a:lnTo>
                      <a:lnTo>
                        <a:pt x="18" y="50"/>
                      </a:lnTo>
                      <a:lnTo>
                        <a:pt x="19" y="48"/>
                      </a:lnTo>
                      <a:lnTo>
                        <a:pt x="20" y="44"/>
                      </a:lnTo>
                      <a:lnTo>
                        <a:pt x="22" y="42"/>
                      </a:lnTo>
                      <a:lnTo>
                        <a:pt x="23" y="38"/>
                      </a:lnTo>
                      <a:lnTo>
                        <a:pt x="24" y="36"/>
                      </a:lnTo>
                      <a:lnTo>
                        <a:pt x="26" y="32"/>
                      </a:lnTo>
                      <a:lnTo>
                        <a:pt x="28" y="30"/>
                      </a:lnTo>
                      <a:lnTo>
                        <a:pt x="29" y="27"/>
                      </a:lnTo>
                      <a:lnTo>
                        <a:pt x="31" y="24"/>
                      </a:lnTo>
                      <a:lnTo>
                        <a:pt x="32" y="21"/>
                      </a:lnTo>
                      <a:lnTo>
                        <a:pt x="35" y="19"/>
                      </a:lnTo>
                      <a:lnTo>
                        <a:pt x="38" y="14"/>
                      </a:lnTo>
                      <a:lnTo>
                        <a:pt x="44" y="10"/>
                      </a:lnTo>
                      <a:lnTo>
                        <a:pt x="45" y="7"/>
                      </a:lnTo>
                      <a:lnTo>
                        <a:pt x="48" y="5"/>
                      </a:lnTo>
                      <a:lnTo>
                        <a:pt x="51" y="2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Freeform 9"/>
                <p:cNvSpPr/>
                <p:nvPr/>
              </p:nvSpPr>
              <p:spPr>
                <a:xfrm>
                  <a:off x="1547640" y="1928880"/>
                  <a:ext cx="83880" cy="419400"/>
                </a:xfrm>
                <a:custGeom>
                  <a:avLst/>
                  <a:gdLst>
                    <a:gd name="textAreaLeft" fmla="*/ 0 w 83880"/>
                    <a:gd name="textAreaRight" fmla="*/ 83880 w 8388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w="159" h="792">
                      <a:moveTo>
                        <a:pt x="144" y="0"/>
                      </a:moveTo>
                      <a:lnTo>
                        <a:pt x="58" y="8"/>
                      </a:lnTo>
                      <a:lnTo>
                        <a:pt x="60" y="23"/>
                      </a:lnTo>
                      <a:lnTo>
                        <a:pt x="60" y="38"/>
                      </a:lnTo>
                      <a:lnTo>
                        <a:pt x="63" y="52"/>
                      </a:lnTo>
                      <a:lnTo>
                        <a:pt x="64" y="67"/>
                      </a:lnTo>
                      <a:lnTo>
                        <a:pt x="65" y="81"/>
                      </a:lnTo>
                      <a:lnTo>
                        <a:pt x="65" y="95"/>
                      </a:lnTo>
                      <a:lnTo>
                        <a:pt x="66" y="109"/>
                      </a:lnTo>
                      <a:lnTo>
                        <a:pt x="67" y="124"/>
                      </a:lnTo>
                      <a:lnTo>
                        <a:pt x="68" y="137"/>
                      </a:lnTo>
                      <a:lnTo>
                        <a:pt x="70" y="151"/>
                      </a:lnTo>
                      <a:lnTo>
                        <a:pt x="70" y="165"/>
                      </a:lnTo>
                      <a:lnTo>
                        <a:pt x="71" y="179"/>
                      </a:lnTo>
                      <a:lnTo>
                        <a:pt x="71" y="192"/>
                      </a:lnTo>
                      <a:lnTo>
                        <a:pt x="72" y="205"/>
                      </a:lnTo>
                      <a:lnTo>
                        <a:pt x="72" y="219"/>
                      </a:lnTo>
                      <a:lnTo>
                        <a:pt x="73" y="233"/>
                      </a:lnTo>
                      <a:lnTo>
                        <a:pt x="73" y="246"/>
                      </a:lnTo>
                      <a:lnTo>
                        <a:pt x="73" y="258"/>
                      </a:lnTo>
                      <a:lnTo>
                        <a:pt x="73" y="271"/>
                      </a:lnTo>
                      <a:lnTo>
                        <a:pt x="73" y="284"/>
                      </a:lnTo>
                      <a:lnTo>
                        <a:pt x="73" y="297"/>
                      </a:lnTo>
                      <a:lnTo>
                        <a:pt x="73" y="310"/>
                      </a:lnTo>
                      <a:lnTo>
                        <a:pt x="73" y="322"/>
                      </a:lnTo>
                      <a:lnTo>
                        <a:pt x="73" y="335"/>
                      </a:lnTo>
                      <a:lnTo>
                        <a:pt x="72" y="347"/>
                      </a:lnTo>
                      <a:lnTo>
                        <a:pt x="72" y="360"/>
                      </a:lnTo>
                      <a:lnTo>
                        <a:pt x="71" y="372"/>
                      </a:lnTo>
                      <a:lnTo>
                        <a:pt x="71" y="385"/>
                      </a:lnTo>
                      <a:lnTo>
                        <a:pt x="70" y="395"/>
                      </a:lnTo>
                      <a:lnTo>
                        <a:pt x="70" y="407"/>
                      </a:lnTo>
                      <a:lnTo>
                        <a:pt x="68" y="420"/>
                      </a:lnTo>
                      <a:lnTo>
                        <a:pt x="68" y="432"/>
                      </a:lnTo>
                      <a:lnTo>
                        <a:pt x="67" y="443"/>
                      </a:lnTo>
                      <a:lnTo>
                        <a:pt x="66" y="455"/>
                      </a:lnTo>
                      <a:lnTo>
                        <a:pt x="65" y="467"/>
                      </a:lnTo>
                      <a:lnTo>
                        <a:pt x="64" y="479"/>
                      </a:lnTo>
                      <a:lnTo>
                        <a:pt x="63" y="488"/>
                      </a:lnTo>
                      <a:lnTo>
                        <a:pt x="61" y="500"/>
                      </a:lnTo>
                      <a:lnTo>
                        <a:pt x="60" y="512"/>
                      </a:lnTo>
                      <a:lnTo>
                        <a:pt x="58" y="522"/>
                      </a:lnTo>
                      <a:lnTo>
                        <a:pt x="57" y="533"/>
                      </a:lnTo>
                      <a:lnTo>
                        <a:pt x="54" y="544"/>
                      </a:lnTo>
                      <a:lnTo>
                        <a:pt x="53" y="554"/>
                      </a:lnTo>
                      <a:lnTo>
                        <a:pt x="52" y="565"/>
                      </a:lnTo>
                      <a:lnTo>
                        <a:pt x="49" y="576"/>
                      </a:lnTo>
                      <a:lnTo>
                        <a:pt x="47" y="587"/>
                      </a:lnTo>
                      <a:lnTo>
                        <a:pt x="46" y="597"/>
                      </a:lnTo>
                      <a:lnTo>
                        <a:pt x="45" y="608"/>
                      </a:lnTo>
                      <a:lnTo>
                        <a:pt x="42" y="617"/>
                      </a:lnTo>
                      <a:lnTo>
                        <a:pt x="40" y="628"/>
                      </a:lnTo>
                      <a:lnTo>
                        <a:pt x="38" y="638"/>
                      </a:lnTo>
                      <a:lnTo>
                        <a:pt x="34" y="648"/>
                      </a:lnTo>
                      <a:lnTo>
                        <a:pt x="32" y="658"/>
                      </a:lnTo>
                      <a:lnTo>
                        <a:pt x="29" y="667"/>
                      </a:lnTo>
                      <a:lnTo>
                        <a:pt x="27" y="677"/>
                      </a:lnTo>
                      <a:lnTo>
                        <a:pt x="25" y="686"/>
                      </a:lnTo>
                      <a:lnTo>
                        <a:pt x="21" y="696"/>
                      </a:lnTo>
                      <a:lnTo>
                        <a:pt x="19" y="706"/>
                      </a:lnTo>
                      <a:lnTo>
                        <a:pt x="15" y="715"/>
                      </a:lnTo>
                      <a:lnTo>
                        <a:pt x="11" y="724"/>
                      </a:lnTo>
                      <a:lnTo>
                        <a:pt x="9" y="734"/>
                      </a:lnTo>
                      <a:lnTo>
                        <a:pt x="6" y="743"/>
                      </a:lnTo>
                      <a:lnTo>
                        <a:pt x="2" y="752"/>
                      </a:lnTo>
                      <a:lnTo>
                        <a:pt x="0" y="762"/>
                      </a:lnTo>
                      <a:lnTo>
                        <a:pt x="80" y="792"/>
                      </a:lnTo>
                      <a:lnTo>
                        <a:pt x="83" y="782"/>
                      </a:lnTo>
                      <a:lnTo>
                        <a:pt x="86" y="773"/>
                      </a:lnTo>
                      <a:lnTo>
                        <a:pt x="90" y="763"/>
                      </a:lnTo>
                      <a:lnTo>
                        <a:pt x="93" y="754"/>
                      </a:lnTo>
                      <a:lnTo>
                        <a:pt x="96" y="743"/>
                      </a:lnTo>
                      <a:lnTo>
                        <a:pt x="99" y="734"/>
                      </a:lnTo>
                      <a:lnTo>
                        <a:pt x="103" y="723"/>
                      </a:lnTo>
                      <a:lnTo>
                        <a:pt x="105" y="714"/>
                      </a:lnTo>
                      <a:lnTo>
                        <a:pt x="108" y="703"/>
                      </a:lnTo>
                      <a:lnTo>
                        <a:pt x="111" y="692"/>
                      </a:lnTo>
                      <a:lnTo>
                        <a:pt x="115" y="682"/>
                      </a:lnTo>
                      <a:lnTo>
                        <a:pt x="117" y="671"/>
                      </a:lnTo>
                      <a:lnTo>
                        <a:pt x="119" y="661"/>
                      </a:lnTo>
                      <a:lnTo>
                        <a:pt x="122" y="651"/>
                      </a:lnTo>
                      <a:lnTo>
                        <a:pt x="124" y="640"/>
                      </a:lnTo>
                      <a:lnTo>
                        <a:pt x="128" y="629"/>
                      </a:lnTo>
                      <a:lnTo>
                        <a:pt x="129" y="617"/>
                      </a:lnTo>
                      <a:lnTo>
                        <a:pt x="131" y="607"/>
                      </a:lnTo>
                      <a:lnTo>
                        <a:pt x="134" y="595"/>
                      </a:lnTo>
                      <a:lnTo>
                        <a:pt x="136" y="584"/>
                      </a:lnTo>
                      <a:lnTo>
                        <a:pt x="137" y="572"/>
                      </a:lnTo>
                      <a:lnTo>
                        <a:pt x="138" y="562"/>
                      </a:lnTo>
                      <a:lnTo>
                        <a:pt x="141" y="550"/>
                      </a:lnTo>
                      <a:lnTo>
                        <a:pt x="143" y="539"/>
                      </a:lnTo>
                      <a:lnTo>
                        <a:pt x="144" y="526"/>
                      </a:lnTo>
                      <a:lnTo>
                        <a:pt x="146" y="515"/>
                      </a:lnTo>
                      <a:lnTo>
                        <a:pt x="147" y="503"/>
                      </a:lnTo>
                      <a:lnTo>
                        <a:pt x="149" y="492"/>
                      </a:lnTo>
                      <a:lnTo>
                        <a:pt x="150" y="480"/>
                      </a:lnTo>
                      <a:lnTo>
                        <a:pt x="151" y="468"/>
                      </a:lnTo>
                      <a:lnTo>
                        <a:pt x="153" y="456"/>
                      </a:lnTo>
                      <a:lnTo>
                        <a:pt x="154" y="443"/>
                      </a:lnTo>
                      <a:lnTo>
                        <a:pt x="154" y="430"/>
                      </a:lnTo>
                      <a:lnTo>
                        <a:pt x="156" y="418"/>
                      </a:lnTo>
                      <a:lnTo>
                        <a:pt x="156" y="405"/>
                      </a:lnTo>
                      <a:lnTo>
                        <a:pt x="156" y="393"/>
                      </a:lnTo>
                      <a:lnTo>
                        <a:pt x="157" y="380"/>
                      </a:lnTo>
                      <a:lnTo>
                        <a:pt x="157" y="367"/>
                      </a:lnTo>
                      <a:lnTo>
                        <a:pt x="159" y="354"/>
                      </a:lnTo>
                      <a:lnTo>
                        <a:pt x="159" y="342"/>
                      </a:lnTo>
                      <a:lnTo>
                        <a:pt x="159" y="328"/>
                      </a:lnTo>
                      <a:lnTo>
                        <a:pt x="159" y="315"/>
                      </a:lnTo>
                      <a:lnTo>
                        <a:pt x="159" y="302"/>
                      </a:lnTo>
                      <a:lnTo>
                        <a:pt x="159" y="289"/>
                      </a:lnTo>
                      <a:lnTo>
                        <a:pt x="159" y="274"/>
                      </a:lnTo>
                      <a:lnTo>
                        <a:pt x="159" y="260"/>
                      </a:lnTo>
                      <a:lnTo>
                        <a:pt x="159" y="248"/>
                      </a:lnTo>
                      <a:lnTo>
                        <a:pt x="159" y="234"/>
                      </a:lnTo>
                      <a:lnTo>
                        <a:pt x="159" y="220"/>
                      </a:lnTo>
                      <a:lnTo>
                        <a:pt x="159" y="205"/>
                      </a:lnTo>
                      <a:lnTo>
                        <a:pt x="157" y="191"/>
                      </a:lnTo>
                      <a:lnTo>
                        <a:pt x="157" y="177"/>
                      </a:lnTo>
                      <a:lnTo>
                        <a:pt x="156" y="163"/>
                      </a:lnTo>
                      <a:lnTo>
                        <a:pt x="156" y="148"/>
                      </a:lnTo>
                      <a:lnTo>
                        <a:pt x="154" y="134"/>
                      </a:lnTo>
                      <a:lnTo>
                        <a:pt x="154" y="120"/>
                      </a:lnTo>
                      <a:lnTo>
                        <a:pt x="153" y="105"/>
                      </a:lnTo>
                      <a:lnTo>
                        <a:pt x="151" y="90"/>
                      </a:lnTo>
                      <a:lnTo>
                        <a:pt x="151" y="76"/>
                      </a:lnTo>
                      <a:lnTo>
                        <a:pt x="149" y="61"/>
                      </a:lnTo>
                      <a:lnTo>
                        <a:pt x="148" y="45"/>
                      </a:lnTo>
                      <a:lnTo>
                        <a:pt x="147" y="30"/>
                      </a:lnTo>
                      <a:lnTo>
                        <a:pt x="146" y="1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Freeform 10"/>
                <p:cNvSpPr/>
                <p:nvPr/>
              </p:nvSpPr>
              <p:spPr>
                <a:xfrm>
                  <a:off x="1085760" y="1938600"/>
                  <a:ext cx="504360" cy="4269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954" h="808">
                      <a:moveTo>
                        <a:pt x="932" y="710"/>
                      </a:moveTo>
                      <a:lnTo>
                        <a:pt x="916" y="711"/>
                      </a:lnTo>
                      <a:lnTo>
                        <a:pt x="899" y="711"/>
                      </a:lnTo>
                      <a:lnTo>
                        <a:pt x="882" y="712"/>
                      </a:lnTo>
                      <a:lnTo>
                        <a:pt x="865" y="712"/>
                      </a:lnTo>
                      <a:lnTo>
                        <a:pt x="849" y="713"/>
                      </a:lnTo>
                      <a:lnTo>
                        <a:pt x="832" y="714"/>
                      </a:lnTo>
                      <a:lnTo>
                        <a:pt x="814" y="714"/>
                      </a:lnTo>
                      <a:lnTo>
                        <a:pt x="799" y="716"/>
                      </a:lnTo>
                      <a:lnTo>
                        <a:pt x="782" y="716"/>
                      </a:lnTo>
                      <a:lnTo>
                        <a:pt x="764" y="717"/>
                      </a:lnTo>
                      <a:lnTo>
                        <a:pt x="748" y="717"/>
                      </a:lnTo>
                      <a:lnTo>
                        <a:pt x="731" y="717"/>
                      </a:lnTo>
                      <a:lnTo>
                        <a:pt x="715" y="717"/>
                      </a:lnTo>
                      <a:lnTo>
                        <a:pt x="698" y="718"/>
                      </a:lnTo>
                      <a:lnTo>
                        <a:pt x="681" y="718"/>
                      </a:lnTo>
                      <a:lnTo>
                        <a:pt x="666" y="719"/>
                      </a:lnTo>
                      <a:lnTo>
                        <a:pt x="648" y="719"/>
                      </a:lnTo>
                      <a:lnTo>
                        <a:pt x="633" y="720"/>
                      </a:lnTo>
                      <a:lnTo>
                        <a:pt x="615" y="720"/>
                      </a:lnTo>
                      <a:lnTo>
                        <a:pt x="600" y="720"/>
                      </a:lnTo>
                      <a:lnTo>
                        <a:pt x="583" y="720"/>
                      </a:lnTo>
                      <a:lnTo>
                        <a:pt x="566" y="720"/>
                      </a:lnTo>
                      <a:lnTo>
                        <a:pt x="552" y="720"/>
                      </a:lnTo>
                      <a:lnTo>
                        <a:pt x="535" y="721"/>
                      </a:lnTo>
                      <a:lnTo>
                        <a:pt x="520" y="721"/>
                      </a:lnTo>
                      <a:lnTo>
                        <a:pt x="503" y="721"/>
                      </a:lnTo>
                      <a:lnTo>
                        <a:pt x="488" y="721"/>
                      </a:lnTo>
                      <a:lnTo>
                        <a:pt x="474" y="721"/>
                      </a:lnTo>
                      <a:lnTo>
                        <a:pt x="458" y="721"/>
                      </a:lnTo>
                      <a:lnTo>
                        <a:pt x="444" y="721"/>
                      </a:lnTo>
                      <a:lnTo>
                        <a:pt x="430" y="721"/>
                      </a:lnTo>
                      <a:lnTo>
                        <a:pt x="414" y="721"/>
                      </a:lnTo>
                      <a:lnTo>
                        <a:pt x="400" y="721"/>
                      </a:lnTo>
                      <a:lnTo>
                        <a:pt x="387" y="720"/>
                      </a:lnTo>
                      <a:lnTo>
                        <a:pt x="372" y="720"/>
                      </a:lnTo>
                      <a:lnTo>
                        <a:pt x="359" y="720"/>
                      </a:lnTo>
                      <a:lnTo>
                        <a:pt x="346" y="720"/>
                      </a:lnTo>
                      <a:lnTo>
                        <a:pt x="333" y="719"/>
                      </a:lnTo>
                      <a:lnTo>
                        <a:pt x="320" y="719"/>
                      </a:lnTo>
                      <a:lnTo>
                        <a:pt x="308" y="719"/>
                      </a:lnTo>
                      <a:lnTo>
                        <a:pt x="295" y="718"/>
                      </a:lnTo>
                      <a:lnTo>
                        <a:pt x="283" y="717"/>
                      </a:lnTo>
                      <a:lnTo>
                        <a:pt x="271" y="717"/>
                      </a:lnTo>
                      <a:lnTo>
                        <a:pt x="260" y="717"/>
                      </a:lnTo>
                      <a:lnTo>
                        <a:pt x="248" y="716"/>
                      </a:lnTo>
                      <a:lnTo>
                        <a:pt x="238" y="714"/>
                      </a:lnTo>
                      <a:lnTo>
                        <a:pt x="228" y="714"/>
                      </a:lnTo>
                      <a:lnTo>
                        <a:pt x="219" y="714"/>
                      </a:lnTo>
                      <a:lnTo>
                        <a:pt x="208" y="713"/>
                      </a:lnTo>
                      <a:lnTo>
                        <a:pt x="200" y="712"/>
                      </a:lnTo>
                      <a:lnTo>
                        <a:pt x="190" y="711"/>
                      </a:lnTo>
                      <a:lnTo>
                        <a:pt x="182" y="711"/>
                      </a:lnTo>
                      <a:lnTo>
                        <a:pt x="174" y="710"/>
                      </a:lnTo>
                      <a:lnTo>
                        <a:pt x="166" y="708"/>
                      </a:lnTo>
                      <a:lnTo>
                        <a:pt x="159" y="707"/>
                      </a:lnTo>
                      <a:lnTo>
                        <a:pt x="152" y="707"/>
                      </a:lnTo>
                      <a:lnTo>
                        <a:pt x="145" y="705"/>
                      </a:lnTo>
                      <a:lnTo>
                        <a:pt x="139" y="705"/>
                      </a:lnTo>
                      <a:lnTo>
                        <a:pt x="134" y="702"/>
                      </a:lnTo>
                      <a:lnTo>
                        <a:pt x="128" y="702"/>
                      </a:lnTo>
                      <a:lnTo>
                        <a:pt x="125" y="700"/>
                      </a:lnTo>
                      <a:lnTo>
                        <a:pt x="120" y="699"/>
                      </a:lnTo>
                      <a:lnTo>
                        <a:pt x="117" y="698"/>
                      </a:lnTo>
                      <a:lnTo>
                        <a:pt x="114" y="697"/>
                      </a:lnTo>
                      <a:lnTo>
                        <a:pt x="113" y="693"/>
                      </a:lnTo>
                      <a:lnTo>
                        <a:pt x="111" y="689"/>
                      </a:lnTo>
                      <a:lnTo>
                        <a:pt x="110" y="687"/>
                      </a:lnTo>
                      <a:lnTo>
                        <a:pt x="108" y="682"/>
                      </a:lnTo>
                      <a:lnTo>
                        <a:pt x="107" y="678"/>
                      </a:lnTo>
                      <a:lnTo>
                        <a:pt x="106" y="674"/>
                      </a:lnTo>
                      <a:lnTo>
                        <a:pt x="105" y="668"/>
                      </a:lnTo>
                      <a:lnTo>
                        <a:pt x="104" y="663"/>
                      </a:lnTo>
                      <a:lnTo>
                        <a:pt x="102" y="656"/>
                      </a:lnTo>
                      <a:lnTo>
                        <a:pt x="101" y="650"/>
                      </a:lnTo>
                      <a:lnTo>
                        <a:pt x="101" y="644"/>
                      </a:lnTo>
                      <a:lnTo>
                        <a:pt x="100" y="636"/>
                      </a:lnTo>
                      <a:lnTo>
                        <a:pt x="99" y="629"/>
                      </a:lnTo>
                      <a:lnTo>
                        <a:pt x="99" y="622"/>
                      </a:lnTo>
                      <a:lnTo>
                        <a:pt x="98" y="613"/>
                      </a:lnTo>
                      <a:lnTo>
                        <a:pt x="96" y="606"/>
                      </a:lnTo>
                      <a:lnTo>
                        <a:pt x="95" y="597"/>
                      </a:lnTo>
                      <a:lnTo>
                        <a:pt x="95" y="589"/>
                      </a:lnTo>
                      <a:lnTo>
                        <a:pt x="94" y="578"/>
                      </a:lnTo>
                      <a:lnTo>
                        <a:pt x="93" y="570"/>
                      </a:lnTo>
                      <a:lnTo>
                        <a:pt x="93" y="559"/>
                      </a:lnTo>
                      <a:lnTo>
                        <a:pt x="92" y="549"/>
                      </a:lnTo>
                      <a:lnTo>
                        <a:pt x="91" y="540"/>
                      </a:lnTo>
                      <a:lnTo>
                        <a:pt x="91" y="529"/>
                      </a:lnTo>
                      <a:lnTo>
                        <a:pt x="91" y="517"/>
                      </a:lnTo>
                      <a:lnTo>
                        <a:pt x="89" y="507"/>
                      </a:lnTo>
                      <a:lnTo>
                        <a:pt x="89" y="496"/>
                      </a:lnTo>
                      <a:lnTo>
                        <a:pt x="89" y="484"/>
                      </a:lnTo>
                      <a:lnTo>
                        <a:pt x="88" y="473"/>
                      </a:lnTo>
                      <a:lnTo>
                        <a:pt x="88" y="462"/>
                      </a:lnTo>
                      <a:lnTo>
                        <a:pt x="88" y="450"/>
                      </a:lnTo>
                      <a:lnTo>
                        <a:pt x="88" y="438"/>
                      </a:lnTo>
                      <a:lnTo>
                        <a:pt x="87" y="425"/>
                      </a:lnTo>
                      <a:lnTo>
                        <a:pt x="87" y="413"/>
                      </a:lnTo>
                      <a:lnTo>
                        <a:pt x="86" y="400"/>
                      </a:lnTo>
                      <a:lnTo>
                        <a:pt x="86" y="388"/>
                      </a:lnTo>
                      <a:lnTo>
                        <a:pt x="86" y="374"/>
                      </a:lnTo>
                      <a:lnTo>
                        <a:pt x="86" y="361"/>
                      </a:lnTo>
                      <a:lnTo>
                        <a:pt x="86" y="348"/>
                      </a:lnTo>
                      <a:lnTo>
                        <a:pt x="86" y="334"/>
                      </a:lnTo>
                      <a:lnTo>
                        <a:pt x="85" y="320"/>
                      </a:lnTo>
                      <a:lnTo>
                        <a:pt x="85" y="307"/>
                      </a:lnTo>
                      <a:lnTo>
                        <a:pt x="85" y="294"/>
                      </a:lnTo>
                      <a:lnTo>
                        <a:pt x="85" y="280"/>
                      </a:lnTo>
                      <a:lnTo>
                        <a:pt x="85" y="267"/>
                      </a:lnTo>
                      <a:lnTo>
                        <a:pt x="85" y="253"/>
                      </a:lnTo>
                      <a:lnTo>
                        <a:pt x="85" y="238"/>
                      </a:lnTo>
                      <a:lnTo>
                        <a:pt x="86" y="226"/>
                      </a:lnTo>
                      <a:lnTo>
                        <a:pt x="86" y="211"/>
                      </a:lnTo>
                      <a:lnTo>
                        <a:pt x="86" y="198"/>
                      </a:lnTo>
                      <a:lnTo>
                        <a:pt x="86" y="184"/>
                      </a:lnTo>
                      <a:lnTo>
                        <a:pt x="86" y="169"/>
                      </a:lnTo>
                      <a:lnTo>
                        <a:pt x="86" y="155"/>
                      </a:lnTo>
                      <a:lnTo>
                        <a:pt x="86" y="141"/>
                      </a:lnTo>
                      <a:lnTo>
                        <a:pt x="86" y="127"/>
                      </a:lnTo>
                      <a:lnTo>
                        <a:pt x="87" y="114"/>
                      </a:lnTo>
                      <a:lnTo>
                        <a:pt x="87" y="99"/>
                      </a:lnTo>
                      <a:lnTo>
                        <a:pt x="87" y="85"/>
                      </a:lnTo>
                      <a:lnTo>
                        <a:pt x="87" y="71"/>
                      </a:lnTo>
                      <a:lnTo>
                        <a:pt x="88" y="58"/>
                      </a:lnTo>
                      <a:lnTo>
                        <a:pt x="88" y="44"/>
                      </a:lnTo>
                      <a:lnTo>
                        <a:pt x="88" y="31"/>
                      </a:lnTo>
                      <a:lnTo>
                        <a:pt x="89" y="18"/>
                      </a:lnTo>
                      <a:lnTo>
                        <a:pt x="91" y="4"/>
                      </a:lnTo>
                      <a:lnTo>
                        <a:pt x="88" y="2"/>
                      </a:lnTo>
                      <a:lnTo>
                        <a:pt x="86" y="1"/>
                      </a:lnTo>
                      <a:lnTo>
                        <a:pt x="83" y="1"/>
                      </a:lnTo>
                      <a:lnTo>
                        <a:pt x="81" y="1"/>
                      </a:lnTo>
                      <a:lnTo>
                        <a:pt x="79" y="1"/>
                      </a:lnTo>
                      <a:lnTo>
                        <a:pt x="76" y="1"/>
                      </a:lnTo>
                      <a:lnTo>
                        <a:pt x="73" y="0"/>
                      </a:lnTo>
                      <a:lnTo>
                        <a:pt x="69" y="0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50" y="1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38" y="1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2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3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3" y="46"/>
                      </a:lnTo>
                      <a:lnTo>
                        <a:pt x="3" y="50"/>
                      </a:lnTo>
                      <a:lnTo>
                        <a:pt x="3" y="53"/>
                      </a:lnTo>
                      <a:lnTo>
                        <a:pt x="3" y="58"/>
                      </a:lnTo>
                      <a:lnTo>
                        <a:pt x="3" y="61"/>
                      </a:lnTo>
                      <a:lnTo>
                        <a:pt x="3" y="66"/>
                      </a:lnTo>
                      <a:lnTo>
                        <a:pt x="3" y="72"/>
                      </a:lnTo>
                      <a:lnTo>
                        <a:pt x="2" y="77"/>
                      </a:lnTo>
                      <a:lnTo>
                        <a:pt x="2" y="82"/>
                      </a:lnTo>
                      <a:lnTo>
                        <a:pt x="2" y="86"/>
                      </a:lnTo>
                      <a:lnTo>
                        <a:pt x="2" y="92"/>
                      </a:lnTo>
                      <a:lnTo>
                        <a:pt x="2" y="98"/>
                      </a:lnTo>
                      <a:lnTo>
                        <a:pt x="2" y="104"/>
                      </a:lnTo>
                      <a:lnTo>
                        <a:pt x="2" y="110"/>
                      </a:lnTo>
                      <a:lnTo>
                        <a:pt x="2" y="117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0" y="134"/>
                      </a:lnTo>
                      <a:lnTo>
                        <a:pt x="0" y="141"/>
                      </a:lnTo>
                      <a:lnTo>
                        <a:pt x="0" y="147"/>
                      </a:lnTo>
                      <a:lnTo>
                        <a:pt x="0" y="154"/>
                      </a:lnTo>
                      <a:lnTo>
                        <a:pt x="0" y="160"/>
                      </a:lnTo>
                      <a:lnTo>
                        <a:pt x="0" y="167"/>
                      </a:lnTo>
                      <a:lnTo>
                        <a:pt x="0" y="174"/>
                      </a:lnTo>
                      <a:lnTo>
                        <a:pt x="0" y="181"/>
                      </a:lnTo>
                      <a:lnTo>
                        <a:pt x="0" y="188"/>
                      </a:lnTo>
                      <a:lnTo>
                        <a:pt x="0" y="196"/>
                      </a:lnTo>
                      <a:lnTo>
                        <a:pt x="0" y="203"/>
                      </a:lnTo>
                      <a:lnTo>
                        <a:pt x="0" y="210"/>
                      </a:lnTo>
                      <a:lnTo>
                        <a:pt x="0" y="218"/>
                      </a:lnTo>
                      <a:lnTo>
                        <a:pt x="0" y="225"/>
                      </a:lnTo>
                      <a:lnTo>
                        <a:pt x="0" y="232"/>
                      </a:lnTo>
                      <a:lnTo>
                        <a:pt x="0" y="240"/>
                      </a:lnTo>
                      <a:lnTo>
                        <a:pt x="0" y="247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0" y="269"/>
                      </a:lnTo>
                      <a:lnTo>
                        <a:pt x="0" y="278"/>
                      </a:lnTo>
                      <a:lnTo>
                        <a:pt x="0" y="286"/>
                      </a:lnTo>
                      <a:lnTo>
                        <a:pt x="0" y="293"/>
                      </a:lnTo>
                      <a:lnTo>
                        <a:pt x="0" y="301"/>
                      </a:lnTo>
                      <a:lnTo>
                        <a:pt x="0" y="308"/>
                      </a:lnTo>
                      <a:lnTo>
                        <a:pt x="0" y="317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40"/>
                      </a:lnTo>
                      <a:lnTo>
                        <a:pt x="0" y="349"/>
                      </a:lnTo>
                      <a:lnTo>
                        <a:pt x="0" y="364"/>
                      </a:lnTo>
                      <a:lnTo>
                        <a:pt x="0" y="381"/>
                      </a:lnTo>
                      <a:lnTo>
                        <a:pt x="0" y="395"/>
                      </a:lnTo>
                      <a:lnTo>
                        <a:pt x="0" y="410"/>
                      </a:lnTo>
                      <a:lnTo>
                        <a:pt x="0" y="424"/>
                      </a:lnTo>
                      <a:lnTo>
                        <a:pt x="2" y="439"/>
                      </a:lnTo>
                      <a:lnTo>
                        <a:pt x="2" y="452"/>
                      </a:lnTo>
                      <a:lnTo>
                        <a:pt x="3" y="465"/>
                      </a:lnTo>
                      <a:lnTo>
                        <a:pt x="3" y="478"/>
                      </a:lnTo>
                      <a:lnTo>
                        <a:pt x="3" y="490"/>
                      </a:lnTo>
                      <a:lnTo>
                        <a:pt x="3" y="502"/>
                      </a:lnTo>
                      <a:lnTo>
                        <a:pt x="4" y="514"/>
                      </a:lnTo>
                      <a:lnTo>
                        <a:pt x="4" y="524"/>
                      </a:lnTo>
                      <a:lnTo>
                        <a:pt x="5" y="535"/>
                      </a:lnTo>
                      <a:lnTo>
                        <a:pt x="5" y="546"/>
                      </a:lnTo>
                      <a:lnTo>
                        <a:pt x="6" y="556"/>
                      </a:lnTo>
                      <a:lnTo>
                        <a:pt x="6" y="565"/>
                      </a:lnTo>
                      <a:lnTo>
                        <a:pt x="7" y="575"/>
                      </a:lnTo>
                      <a:lnTo>
                        <a:pt x="7" y="584"/>
                      </a:lnTo>
                      <a:lnTo>
                        <a:pt x="9" y="593"/>
                      </a:lnTo>
                      <a:lnTo>
                        <a:pt x="10" y="600"/>
                      </a:lnTo>
                      <a:lnTo>
                        <a:pt x="10" y="609"/>
                      </a:lnTo>
                      <a:lnTo>
                        <a:pt x="11" y="617"/>
                      </a:lnTo>
                      <a:lnTo>
                        <a:pt x="12" y="625"/>
                      </a:lnTo>
                      <a:lnTo>
                        <a:pt x="12" y="631"/>
                      </a:lnTo>
                      <a:lnTo>
                        <a:pt x="13" y="638"/>
                      </a:lnTo>
                      <a:lnTo>
                        <a:pt x="15" y="646"/>
                      </a:lnTo>
                      <a:lnTo>
                        <a:pt x="15" y="651"/>
                      </a:lnTo>
                      <a:lnTo>
                        <a:pt x="16" y="657"/>
                      </a:lnTo>
                      <a:lnTo>
                        <a:pt x="17" y="663"/>
                      </a:lnTo>
                      <a:lnTo>
                        <a:pt x="17" y="669"/>
                      </a:lnTo>
                      <a:lnTo>
                        <a:pt x="19" y="674"/>
                      </a:lnTo>
                      <a:lnTo>
                        <a:pt x="21" y="679"/>
                      </a:lnTo>
                      <a:lnTo>
                        <a:pt x="21" y="685"/>
                      </a:lnTo>
                      <a:lnTo>
                        <a:pt x="22" y="689"/>
                      </a:lnTo>
                      <a:lnTo>
                        <a:pt x="23" y="693"/>
                      </a:lnTo>
                      <a:lnTo>
                        <a:pt x="23" y="697"/>
                      </a:lnTo>
                      <a:lnTo>
                        <a:pt x="25" y="701"/>
                      </a:lnTo>
                      <a:lnTo>
                        <a:pt x="25" y="705"/>
                      </a:lnTo>
                      <a:lnTo>
                        <a:pt x="26" y="708"/>
                      </a:lnTo>
                      <a:lnTo>
                        <a:pt x="28" y="712"/>
                      </a:lnTo>
                      <a:lnTo>
                        <a:pt x="28" y="714"/>
                      </a:lnTo>
                      <a:lnTo>
                        <a:pt x="29" y="718"/>
                      </a:lnTo>
                      <a:lnTo>
                        <a:pt x="30" y="720"/>
                      </a:lnTo>
                      <a:lnTo>
                        <a:pt x="30" y="723"/>
                      </a:lnTo>
                      <a:lnTo>
                        <a:pt x="32" y="726"/>
                      </a:lnTo>
                      <a:lnTo>
                        <a:pt x="32" y="729"/>
                      </a:lnTo>
                      <a:lnTo>
                        <a:pt x="34" y="731"/>
                      </a:lnTo>
                      <a:lnTo>
                        <a:pt x="35" y="735"/>
                      </a:lnTo>
                      <a:lnTo>
                        <a:pt x="37" y="738"/>
                      </a:lnTo>
                      <a:lnTo>
                        <a:pt x="38" y="740"/>
                      </a:lnTo>
                      <a:lnTo>
                        <a:pt x="41" y="744"/>
                      </a:lnTo>
                      <a:lnTo>
                        <a:pt x="43" y="749"/>
                      </a:lnTo>
                      <a:lnTo>
                        <a:pt x="48" y="752"/>
                      </a:lnTo>
                      <a:lnTo>
                        <a:pt x="50" y="757"/>
                      </a:lnTo>
                      <a:lnTo>
                        <a:pt x="55" y="762"/>
                      </a:lnTo>
                      <a:lnTo>
                        <a:pt x="56" y="763"/>
                      </a:lnTo>
                      <a:lnTo>
                        <a:pt x="61" y="765"/>
                      </a:lnTo>
                      <a:lnTo>
                        <a:pt x="63" y="768"/>
                      </a:lnTo>
                      <a:lnTo>
                        <a:pt x="68" y="771"/>
                      </a:lnTo>
                      <a:lnTo>
                        <a:pt x="70" y="773"/>
                      </a:lnTo>
                      <a:lnTo>
                        <a:pt x="73" y="774"/>
                      </a:lnTo>
                      <a:lnTo>
                        <a:pt x="75" y="775"/>
                      </a:lnTo>
                      <a:lnTo>
                        <a:pt x="79" y="775"/>
                      </a:lnTo>
                      <a:lnTo>
                        <a:pt x="81" y="777"/>
                      </a:lnTo>
                      <a:lnTo>
                        <a:pt x="85" y="778"/>
                      </a:lnTo>
                      <a:lnTo>
                        <a:pt x="88" y="780"/>
                      </a:lnTo>
                      <a:lnTo>
                        <a:pt x="92" y="781"/>
                      </a:lnTo>
                      <a:lnTo>
                        <a:pt x="96" y="782"/>
                      </a:lnTo>
                      <a:lnTo>
                        <a:pt x="100" y="783"/>
                      </a:lnTo>
                      <a:lnTo>
                        <a:pt x="105" y="784"/>
                      </a:lnTo>
                      <a:lnTo>
                        <a:pt x="110" y="786"/>
                      </a:lnTo>
                      <a:lnTo>
                        <a:pt x="114" y="786"/>
                      </a:lnTo>
                      <a:lnTo>
                        <a:pt x="119" y="788"/>
                      </a:lnTo>
                      <a:lnTo>
                        <a:pt x="125" y="788"/>
                      </a:lnTo>
                      <a:lnTo>
                        <a:pt x="131" y="790"/>
                      </a:lnTo>
                      <a:lnTo>
                        <a:pt x="137" y="790"/>
                      </a:lnTo>
                      <a:lnTo>
                        <a:pt x="144" y="793"/>
                      </a:lnTo>
                      <a:lnTo>
                        <a:pt x="150" y="793"/>
                      </a:lnTo>
                      <a:lnTo>
                        <a:pt x="157" y="794"/>
                      </a:lnTo>
                      <a:lnTo>
                        <a:pt x="164" y="795"/>
                      </a:lnTo>
                      <a:lnTo>
                        <a:pt x="172" y="796"/>
                      </a:lnTo>
                      <a:lnTo>
                        <a:pt x="181" y="796"/>
                      </a:lnTo>
                      <a:lnTo>
                        <a:pt x="190" y="799"/>
                      </a:lnTo>
                      <a:lnTo>
                        <a:pt x="198" y="799"/>
                      </a:lnTo>
                      <a:lnTo>
                        <a:pt x="208" y="800"/>
                      </a:lnTo>
                      <a:lnTo>
                        <a:pt x="217" y="800"/>
                      </a:lnTo>
                      <a:lnTo>
                        <a:pt x="228" y="801"/>
                      </a:lnTo>
                      <a:lnTo>
                        <a:pt x="238" y="801"/>
                      </a:lnTo>
                      <a:lnTo>
                        <a:pt x="250" y="802"/>
                      </a:lnTo>
                      <a:lnTo>
                        <a:pt x="260" y="803"/>
                      </a:lnTo>
                      <a:lnTo>
                        <a:pt x="273" y="803"/>
                      </a:lnTo>
                      <a:lnTo>
                        <a:pt x="284" y="803"/>
                      </a:lnTo>
                      <a:lnTo>
                        <a:pt x="297" y="805"/>
                      </a:lnTo>
                      <a:lnTo>
                        <a:pt x="310" y="806"/>
                      </a:lnTo>
                      <a:lnTo>
                        <a:pt x="324" y="806"/>
                      </a:lnTo>
                      <a:lnTo>
                        <a:pt x="339" y="806"/>
                      </a:lnTo>
                      <a:lnTo>
                        <a:pt x="352" y="806"/>
                      </a:lnTo>
                      <a:lnTo>
                        <a:pt x="367" y="807"/>
                      </a:lnTo>
                      <a:lnTo>
                        <a:pt x="384" y="808"/>
                      </a:lnTo>
                      <a:lnTo>
                        <a:pt x="399" y="808"/>
                      </a:lnTo>
                      <a:lnTo>
                        <a:pt x="416" y="808"/>
                      </a:lnTo>
                      <a:lnTo>
                        <a:pt x="432" y="808"/>
                      </a:lnTo>
                      <a:lnTo>
                        <a:pt x="451" y="808"/>
                      </a:lnTo>
                      <a:lnTo>
                        <a:pt x="470" y="808"/>
                      </a:lnTo>
                      <a:lnTo>
                        <a:pt x="488" y="808"/>
                      </a:lnTo>
                      <a:lnTo>
                        <a:pt x="508" y="808"/>
                      </a:lnTo>
                      <a:lnTo>
                        <a:pt x="528" y="808"/>
                      </a:lnTo>
                      <a:lnTo>
                        <a:pt x="538" y="808"/>
                      </a:lnTo>
                      <a:lnTo>
                        <a:pt x="546" y="808"/>
                      </a:lnTo>
                      <a:lnTo>
                        <a:pt x="557" y="807"/>
                      </a:lnTo>
                      <a:lnTo>
                        <a:pt x="566" y="807"/>
                      </a:lnTo>
                      <a:lnTo>
                        <a:pt x="575" y="806"/>
                      </a:lnTo>
                      <a:lnTo>
                        <a:pt x="585" y="806"/>
                      </a:lnTo>
                      <a:lnTo>
                        <a:pt x="595" y="806"/>
                      </a:lnTo>
                      <a:lnTo>
                        <a:pt x="604" y="806"/>
                      </a:lnTo>
                      <a:lnTo>
                        <a:pt x="614" y="806"/>
                      </a:lnTo>
                      <a:lnTo>
                        <a:pt x="622" y="806"/>
                      </a:lnTo>
                      <a:lnTo>
                        <a:pt x="632" y="806"/>
                      </a:lnTo>
                      <a:lnTo>
                        <a:pt x="641" y="806"/>
                      </a:lnTo>
                      <a:lnTo>
                        <a:pt x="651" y="806"/>
                      </a:lnTo>
                      <a:lnTo>
                        <a:pt x="660" y="806"/>
                      </a:lnTo>
                      <a:lnTo>
                        <a:pt x="668" y="806"/>
                      </a:lnTo>
                      <a:lnTo>
                        <a:pt x="678" y="806"/>
                      </a:lnTo>
                      <a:lnTo>
                        <a:pt x="686" y="805"/>
                      </a:lnTo>
                      <a:lnTo>
                        <a:pt x="696" y="803"/>
                      </a:lnTo>
                      <a:lnTo>
                        <a:pt x="704" y="803"/>
                      </a:lnTo>
                      <a:lnTo>
                        <a:pt x="713" y="803"/>
                      </a:lnTo>
                      <a:lnTo>
                        <a:pt x="722" y="803"/>
                      </a:lnTo>
                      <a:lnTo>
                        <a:pt x="730" y="803"/>
                      </a:lnTo>
                      <a:lnTo>
                        <a:pt x="738" y="803"/>
                      </a:lnTo>
                      <a:lnTo>
                        <a:pt x="747" y="803"/>
                      </a:lnTo>
                      <a:lnTo>
                        <a:pt x="755" y="802"/>
                      </a:lnTo>
                      <a:lnTo>
                        <a:pt x="763" y="801"/>
                      </a:lnTo>
                      <a:lnTo>
                        <a:pt x="772" y="801"/>
                      </a:lnTo>
                      <a:lnTo>
                        <a:pt x="780" y="801"/>
                      </a:lnTo>
                      <a:lnTo>
                        <a:pt x="787" y="801"/>
                      </a:lnTo>
                      <a:lnTo>
                        <a:pt x="794" y="801"/>
                      </a:lnTo>
                      <a:lnTo>
                        <a:pt x="802" y="801"/>
                      </a:lnTo>
                      <a:lnTo>
                        <a:pt x="810" y="801"/>
                      </a:lnTo>
                      <a:lnTo>
                        <a:pt x="817" y="801"/>
                      </a:lnTo>
                      <a:lnTo>
                        <a:pt x="824" y="800"/>
                      </a:lnTo>
                      <a:lnTo>
                        <a:pt x="830" y="800"/>
                      </a:lnTo>
                      <a:lnTo>
                        <a:pt x="838" y="800"/>
                      </a:lnTo>
                      <a:lnTo>
                        <a:pt x="844" y="799"/>
                      </a:lnTo>
                      <a:lnTo>
                        <a:pt x="850" y="799"/>
                      </a:lnTo>
                      <a:lnTo>
                        <a:pt x="856" y="799"/>
                      </a:lnTo>
                      <a:lnTo>
                        <a:pt x="863" y="799"/>
                      </a:lnTo>
                      <a:lnTo>
                        <a:pt x="868" y="797"/>
                      </a:lnTo>
                      <a:lnTo>
                        <a:pt x="875" y="797"/>
                      </a:lnTo>
                      <a:lnTo>
                        <a:pt x="881" y="797"/>
                      </a:lnTo>
                      <a:lnTo>
                        <a:pt x="885" y="797"/>
                      </a:lnTo>
                      <a:lnTo>
                        <a:pt x="890" y="796"/>
                      </a:lnTo>
                      <a:lnTo>
                        <a:pt x="896" y="796"/>
                      </a:lnTo>
                      <a:lnTo>
                        <a:pt x="901" y="796"/>
                      </a:lnTo>
                      <a:lnTo>
                        <a:pt x="906" y="796"/>
                      </a:lnTo>
                      <a:lnTo>
                        <a:pt x="909" y="796"/>
                      </a:lnTo>
                      <a:lnTo>
                        <a:pt x="914" y="795"/>
                      </a:lnTo>
                      <a:lnTo>
                        <a:pt x="919" y="795"/>
                      </a:lnTo>
                      <a:lnTo>
                        <a:pt x="921" y="795"/>
                      </a:lnTo>
                      <a:lnTo>
                        <a:pt x="925" y="794"/>
                      </a:lnTo>
                      <a:lnTo>
                        <a:pt x="928" y="794"/>
                      </a:lnTo>
                      <a:lnTo>
                        <a:pt x="932" y="794"/>
                      </a:lnTo>
                      <a:lnTo>
                        <a:pt x="935" y="794"/>
                      </a:lnTo>
                      <a:lnTo>
                        <a:pt x="940" y="794"/>
                      </a:lnTo>
                      <a:lnTo>
                        <a:pt x="944" y="794"/>
                      </a:lnTo>
                      <a:lnTo>
                        <a:pt x="947" y="794"/>
                      </a:lnTo>
                      <a:lnTo>
                        <a:pt x="950" y="794"/>
                      </a:lnTo>
                      <a:lnTo>
                        <a:pt x="952" y="793"/>
                      </a:lnTo>
                      <a:lnTo>
                        <a:pt x="954" y="790"/>
                      </a:lnTo>
                      <a:lnTo>
                        <a:pt x="954" y="788"/>
                      </a:lnTo>
                      <a:lnTo>
                        <a:pt x="954" y="786"/>
                      </a:lnTo>
                      <a:lnTo>
                        <a:pt x="954" y="783"/>
                      </a:lnTo>
                      <a:lnTo>
                        <a:pt x="954" y="781"/>
                      </a:lnTo>
                      <a:lnTo>
                        <a:pt x="954" y="777"/>
                      </a:lnTo>
                      <a:lnTo>
                        <a:pt x="953" y="774"/>
                      </a:lnTo>
                      <a:lnTo>
                        <a:pt x="952" y="770"/>
                      </a:lnTo>
                      <a:lnTo>
                        <a:pt x="952" y="767"/>
                      </a:lnTo>
                      <a:lnTo>
                        <a:pt x="951" y="763"/>
                      </a:lnTo>
                      <a:lnTo>
                        <a:pt x="950" y="759"/>
                      </a:lnTo>
                      <a:lnTo>
                        <a:pt x="950" y="755"/>
                      </a:lnTo>
                      <a:lnTo>
                        <a:pt x="948" y="751"/>
                      </a:lnTo>
                      <a:lnTo>
                        <a:pt x="946" y="748"/>
                      </a:lnTo>
                      <a:lnTo>
                        <a:pt x="945" y="743"/>
                      </a:lnTo>
                      <a:lnTo>
                        <a:pt x="944" y="739"/>
                      </a:lnTo>
                      <a:lnTo>
                        <a:pt x="942" y="736"/>
                      </a:lnTo>
                      <a:lnTo>
                        <a:pt x="941" y="732"/>
                      </a:lnTo>
                      <a:lnTo>
                        <a:pt x="939" y="729"/>
                      </a:lnTo>
                      <a:lnTo>
                        <a:pt x="939" y="725"/>
                      </a:lnTo>
                      <a:lnTo>
                        <a:pt x="938" y="723"/>
                      </a:lnTo>
                      <a:lnTo>
                        <a:pt x="937" y="720"/>
                      </a:lnTo>
                      <a:lnTo>
                        <a:pt x="934" y="717"/>
                      </a:lnTo>
                      <a:lnTo>
                        <a:pt x="934" y="714"/>
                      </a:lnTo>
                      <a:lnTo>
                        <a:pt x="934" y="713"/>
                      </a:lnTo>
                      <a:lnTo>
                        <a:pt x="932" y="711"/>
                      </a:lnTo>
                      <a:lnTo>
                        <a:pt x="932" y="71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Freeform 11"/>
                <p:cNvSpPr/>
                <p:nvPr/>
              </p:nvSpPr>
              <p:spPr>
                <a:xfrm>
                  <a:off x="1187280" y="1990800"/>
                  <a:ext cx="320400" cy="61920"/>
                </a:xfrm>
                <a:custGeom>
                  <a:avLst/>
                  <a:gdLst>
                    <a:gd name="textAreaLeft" fmla="*/ 0 w 320400"/>
                    <a:gd name="textAreaRight" fmla="*/ 320760 w 3204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05" h="119">
                      <a:moveTo>
                        <a:pt x="0" y="34"/>
                      </a:moveTo>
                      <a:lnTo>
                        <a:pt x="14" y="119"/>
                      </a:lnTo>
                      <a:lnTo>
                        <a:pt x="23" y="117"/>
                      </a:lnTo>
                      <a:lnTo>
                        <a:pt x="34" y="114"/>
                      </a:lnTo>
                      <a:lnTo>
                        <a:pt x="42" y="112"/>
                      </a:lnTo>
                      <a:lnTo>
                        <a:pt x="52" y="111"/>
                      </a:lnTo>
                      <a:lnTo>
                        <a:pt x="62" y="110"/>
                      </a:lnTo>
                      <a:lnTo>
                        <a:pt x="72" y="108"/>
                      </a:lnTo>
                      <a:lnTo>
                        <a:pt x="80" y="106"/>
                      </a:lnTo>
                      <a:lnTo>
                        <a:pt x="91" y="105"/>
                      </a:lnTo>
                      <a:lnTo>
                        <a:pt x="100" y="104"/>
                      </a:lnTo>
                      <a:lnTo>
                        <a:pt x="110" y="101"/>
                      </a:lnTo>
                      <a:lnTo>
                        <a:pt x="119" y="101"/>
                      </a:lnTo>
                      <a:lnTo>
                        <a:pt x="129" y="99"/>
                      </a:lnTo>
                      <a:lnTo>
                        <a:pt x="138" y="98"/>
                      </a:lnTo>
                      <a:lnTo>
                        <a:pt x="148" y="97"/>
                      </a:lnTo>
                      <a:lnTo>
                        <a:pt x="156" y="97"/>
                      </a:lnTo>
                      <a:lnTo>
                        <a:pt x="166" y="95"/>
                      </a:lnTo>
                      <a:lnTo>
                        <a:pt x="176" y="94"/>
                      </a:lnTo>
                      <a:lnTo>
                        <a:pt x="185" y="94"/>
                      </a:lnTo>
                      <a:lnTo>
                        <a:pt x="194" y="93"/>
                      </a:lnTo>
                      <a:lnTo>
                        <a:pt x="204" y="92"/>
                      </a:lnTo>
                      <a:lnTo>
                        <a:pt x="212" y="92"/>
                      </a:lnTo>
                      <a:lnTo>
                        <a:pt x="221" y="91"/>
                      </a:lnTo>
                      <a:lnTo>
                        <a:pt x="231" y="89"/>
                      </a:lnTo>
                      <a:lnTo>
                        <a:pt x="239" y="89"/>
                      </a:lnTo>
                      <a:lnTo>
                        <a:pt x="249" y="89"/>
                      </a:lnTo>
                      <a:lnTo>
                        <a:pt x="257" y="88"/>
                      </a:lnTo>
                      <a:lnTo>
                        <a:pt x="268" y="88"/>
                      </a:lnTo>
                      <a:lnTo>
                        <a:pt x="276" y="88"/>
                      </a:lnTo>
                      <a:lnTo>
                        <a:pt x="286" y="87"/>
                      </a:lnTo>
                      <a:lnTo>
                        <a:pt x="294" y="87"/>
                      </a:lnTo>
                      <a:lnTo>
                        <a:pt x="303" y="87"/>
                      </a:lnTo>
                      <a:lnTo>
                        <a:pt x="313" y="87"/>
                      </a:lnTo>
                      <a:lnTo>
                        <a:pt x="321" y="86"/>
                      </a:lnTo>
                      <a:lnTo>
                        <a:pt x="329" y="86"/>
                      </a:lnTo>
                      <a:lnTo>
                        <a:pt x="339" y="86"/>
                      </a:lnTo>
                      <a:lnTo>
                        <a:pt x="347" y="86"/>
                      </a:lnTo>
                      <a:lnTo>
                        <a:pt x="356" y="86"/>
                      </a:lnTo>
                      <a:lnTo>
                        <a:pt x="365" y="86"/>
                      </a:lnTo>
                      <a:lnTo>
                        <a:pt x="373" y="86"/>
                      </a:lnTo>
                      <a:lnTo>
                        <a:pt x="383" y="87"/>
                      </a:lnTo>
                      <a:lnTo>
                        <a:pt x="391" y="87"/>
                      </a:lnTo>
                      <a:lnTo>
                        <a:pt x="399" y="88"/>
                      </a:lnTo>
                      <a:lnTo>
                        <a:pt x="409" y="88"/>
                      </a:lnTo>
                      <a:lnTo>
                        <a:pt x="417" y="89"/>
                      </a:lnTo>
                      <a:lnTo>
                        <a:pt x="427" y="89"/>
                      </a:lnTo>
                      <a:lnTo>
                        <a:pt x="435" y="91"/>
                      </a:lnTo>
                      <a:lnTo>
                        <a:pt x="443" y="91"/>
                      </a:lnTo>
                      <a:lnTo>
                        <a:pt x="453" y="92"/>
                      </a:lnTo>
                      <a:lnTo>
                        <a:pt x="461" y="92"/>
                      </a:lnTo>
                      <a:lnTo>
                        <a:pt x="469" y="93"/>
                      </a:lnTo>
                      <a:lnTo>
                        <a:pt x="478" y="94"/>
                      </a:lnTo>
                      <a:lnTo>
                        <a:pt x="487" y="95"/>
                      </a:lnTo>
                      <a:lnTo>
                        <a:pt x="496" y="97"/>
                      </a:lnTo>
                      <a:lnTo>
                        <a:pt x="503" y="97"/>
                      </a:lnTo>
                      <a:lnTo>
                        <a:pt x="512" y="98"/>
                      </a:lnTo>
                      <a:lnTo>
                        <a:pt x="520" y="99"/>
                      </a:lnTo>
                      <a:lnTo>
                        <a:pt x="529" y="100"/>
                      </a:lnTo>
                      <a:lnTo>
                        <a:pt x="537" y="101"/>
                      </a:lnTo>
                      <a:lnTo>
                        <a:pt x="545" y="104"/>
                      </a:lnTo>
                      <a:lnTo>
                        <a:pt x="555" y="104"/>
                      </a:lnTo>
                      <a:lnTo>
                        <a:pt x="563" y="106"/>
                      </a:lnTo>
                      <a:lnTo>
                        <a:pt x="571" y="107"/>
                      </a:lnTo>
                      <a:lnTo>
                        <a:pt x="580" y="110"/>
                      </a:lnTo>
                      <a:lnTo>
                        <a:pt x="589" y="111"/>
                      </a:lnTo>
                      <a:lnTo>
                        <a:pt x="605" y="25"/>
                      </a:lnTo>
                      <a:lnTo>
                        <a:pt x="594" y="23"/>
                      </a:lnTo>
                      <a:lnTo>
                        <a:pt x="586" y="22"/>
                      </a:lnTo>
                      <a:lnTo>
                        <a:pt x="576" y="21"/>
                      </a:lnTo>
                      <a:lnTo>
                        <a:pt x="568" y="18"/>
                      </a:lnTo>
                      <a:lnTo>
                        <a:pt x="558" y="18"/>
                      </a:lnTo>
                      <a:lnTo>
                        <a:pt x="550" y="16"/>
                      </a:lnTo>
                      <a:lnTo>
                        <a:pt x="541" y="15"/>
                      </a:lnTo>
                      <a:lnTo>
                        <a:pt x="532" y="14"/>
                      </a:lnTo>
                      <a:lnTo>
                        <a:pt x="523" y="12"/>
                      </a:lnTo>
                      <a:lnTo>
                        <a:pt x="513" y="11"/>
                      </a:lnTo>
                      <a:lnTo>
                        <a:pt x="505" y="10"/>
                      </a:lnTo>
                      <a:lnTo>
                        <a:pt x="496" y="9"/>
                      </a:lnTo>
                      <a:lnTo>
                        <a:pt x="487" y="8"/>
                      </a:lnTo>
                      <a:lnTo>
                        <a:pt x="478" y="8"/>
                      </a:lnTo>
                      <a:lnTo>
                        <a:pt x="468" y="6"/>
                      </a:lnTo>
                      <a:lnTo>
                        <a:pt x="460" y="5"/>
                      </a:lnTo>
                      <a:lnTo>
                        <a:pt x="450" y="4"/>
                      </a:lnTo>
                      <a:lnTo>
                        <a:pt x="441" y="4"/>
                      </a:lnTo>
                      <a:lnTo>
                        <a:pt x="431" y="3"/>
                      </a:lnTo>
                      <a:lnTo>
                        <a:pt x="423" y="3"/>
                      </a:lnTo>
                      <a:lnTo>
                        <a:pt x="414" y="2"/>
                      </a:lnTo>
                      <a:lnTo>
                        <a:pt x="404" y="2"/>
                      </a:lnTo>
                      <a:lnTo>
                        <a:pt x="395" y="0"/>
                      </a:lnTo>
                      <a:lnTo>
                        <a:pt x="386" y="0"/>
                      </a:lnTo>
                      <a:lnTo>
                        <a:pt x="377" y="0"/>
                      </a:lnTo>
                      <a:lnTo>
                        <a:pt x="369" y="0"/>
                      </a:lnTo>
                      <a:lnTo>
                        <a:pt x="359" y="0"/>
                      </a:lnTo>
                      <a:lnTo>
                        <a:pt x="350" y="0"/>
                      </a:lnTo>
                      <a:lnTo>
                        <a:pt x="340" y="0"/>
                      </a:lnTo>
                      <a:lnTo>
                        <a:pt x="331" y="0"/>
                      </a:lnTo>
                      <a:lnTo>
                        <a:pt x="321" y="0"/>
                      </a:lnTo>
                      <a:lnTo>
                        <a:pt x="312" y="0"/>
                      </a:lnTo>
                      <a:lnTo>
                        <a:pt x="302" y="0"/>
                      </a:lnTo>
                      <a:lnTo>
                        <a:pt x="293" y="0"/>
                      </a:lnTo>
                      <a:lnTo>
                        <a:pt x="283" y="0"/>
                      </a:lnTo>
                      <a:lnTo>
                        <a:pt x="274" y="0"/>
                      </a:lnTo>
                      <a:lnTo>
                        <a:pt x="264" y="0"/>
                      </a:lnTo>
                      <a:lnTo>
                        <a:pt x="255" y="2"/>
                      </a:lnTo>
                      <a:lnTo>
                        <a:pt x="245" y="2"/>
                      </a:lnTo>
                      <a:lnTo>
                        <a:pt x="236" y="3"/>
                      </a:lnTo>
                      <a:lnTo>
                        <a:pt x="226" y="3"/>
                      </a:lnTo>
                      <a:lnTo>
                        <a:pt x="217" y="4"/>
                      </a:lnTo>
                      <a:lnTo>
                        <a:pt x="207" y="5"/>
                      </a:lnTo>
                      <a:lnTo>
                        <a:pt x="197" y="5"/>
                      </a:lnTo>
                      <a:lnTo>
                        <a:pt x="187" y="6"/>
                      </a:lnTo>
                      <a:lnTo>
                        <a:pt x="178" y="8"/>
                      </a:lnTo>
                      <a:lnTo>
                        <a:pt x="168" y="8"/>
                      </a:lnTo>
                      <a:lnTo>
                        <a:pt x="159" y="10"/>
                      </a:lnTo>
                      <a:lnTo>
                        <a:pt x="149" y="10"/>
                      </a:lnTo>
                      <a:lnTo>
                        <a:pt x="138" y="11"/>
                      </a:lnTo>
                      <a:lnTo>
                        <a:pt x="128" y="14"/>
                      </a:lnTo>
                      <a:lnTo>
                        <a:pt x="118" y="14"/>
                      </a:lnTo>
                      <a:lnTo>
                        <a:pt x="109" y="16"/>
                      </a:lnTo>
                      <a:lnTo>
                        <a:pt x="99" y="17"/>
                      </a:lnTo>
                      <a:lnTo>
                        <a:pt x="89" y="18"/>
                      </a:lnTo>
                      <a:lnTo>
                        <a:pt x="80" y="19"/>
                      </a:lnTo>
                      <a:lnTo>
                        <a:pt x="70" y="21"/>
                      </a:lnTo>
                      <a:lnTo>
                        <a:pt x="60" y="23"/>
                      </a:lnTo>
                      <a:lnTo>
                        <a:pt x="49" y="24"/>
                      </a:lnTo>
                      <a:lnTo>
                        <a:pt x="40" y="25"/>
                      </a:lnTo>
                      <a:lnTo>
                        <a:pt x="29" y="28"/>
                      </a:lnTo>
                      <a:lnTo>
                        <a:pt x="20" y="29"/>
                      </a:lnTo>
                      <a:lnTo>
                        <a:pt x="9" y="3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Freeform 12"/>
                <p:cNvSpPr/>
                <p:nvPr/>
              </p:nvSpPr>
              <p:spPr>
                <a:xfrm>
                  <a:off x="1074600" y="2376720"/>
                  <a:ext cx="603000" cy="52560"/>
                </a:xfrm>
                <a:custGeom>
                  <a:avLst/>
                  <a:gdLst>
                    <a:gd name="textAreaLeft" fmla="*/ 0 w 603000"/>
                    <a:gd name="textAreaRight" fmla="*/ 603360 w 6030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140" h="99">
                      <a:moveTo>
                        <a:pt x="0" y="13"/>
                      </a:moveTo>
                      <a:lnTo>
                        <a:pt x="3" y="99"/>
                      </a:lnTo>
                      <a:lnTo>
                        <a:pt x="19" y="97"/>
                      </a:lnTo>
                      <a:lnTo>
                        <a:pt x="35" y="97"/>
                      </a:lnTo>
                      <a:lnTo>
                        <a:pt x="52" y="97"/>
                      </a:lnTo>
                      <a:lnTo>
                        <a:pt x="69" y="96"/>
                      </a:lnTo>
                      <a:lnTo>
                        <a:pt x="86" y="94"/>
                      </a:lnTo>
                      <a:lnTo>
                        <a:pt x="102" y="94"/>
                      </a:lnTo>
                      <a:lnTo>
                        <a:pt x="120" y="94"/>
                      </a:lnTo>
                      <a:lnTo>
                        <a:pt x="137" y="94"/>
                      </a:lnTo>
                      <a:lnTo>
                        <a:pt x="154" y="93"/>
                      </a:lnTo>
                      <a:lnTo>
                        <a:pt x="171" y="92"/>
                      </a:lnTo>
                      <a:lnTo>
                        <a:pt x="188" y="92"/>
                      </a:lnTo>
                      <a:lnTo>
                        <a:pt x="204" y="92"/>
                      </a:lnTo>
                      <a:lnTo>
                        <a:pt x="222" y="92"/>
                      </a:lnTo>
                      <a:lnTo>
                        <a:pt x="240" y="91"/>
                      </a:lnTo>
                      <a:lnTo>
                        <a:pt x="256" y="91"/>
                      </a:lnTo>
                      <a:lnTo>
                        <a:pt x="274" y="91"/>
                      </a:lnTo>
                      <a:lnTo>
                        <a:pt x="291" y="90"/>
                      </a:lnTo>
                      <a:lnTo>
                        <a:pt x="309" y="90"/>
                      </a:lnTo>
                      <a:lnTo>
                        <a:pt x="326" y="90"/>
                      </a:lnTo>
                      <a:lnTo>
                        <a:pt x="343" y="90"/>
                      </a:lnTo>
                      <a:lnTo>
                        <a:pt x="361" y="89"/>
                      </a:lnTo>
                      <a:lnTo>
                        <a:pt x="379" y="89"/>
                      </a:lnTo>
                      <a:lnTo>
                        <a:pt x="395" y="87"/>
                      </a:lnTo>
                      <a:lnTo>
                        <a:pt x="413" y="87"/>
                      </a:lnTo>
                      <a:lnTo>
                        <a:pt x="430" y="87"/>
                      </a:lnTo>
                      <a:lnTo>
                        <a:pt x="447" y="87"/>
                      </a:lnTo>
                      <a:lnTo>
                        <a:pt x="465" y="87"/>
                      </a:lnTo>
                      <a:lnTo>
                        <a:pt x="483" y="87"/>
                      </a:lnTo>
                      <a:lnTo>
                        <a:pt x="501" y="87"/>
                      </a:lnTo>
                      <a:lnTo>
                        <a:pt x="519" y="87"/>
                      </a:lnTo>
                      <a:lnTo>
                        <a:pt x="536" y="87"/>
                      </a:lnTo>
                      <a:lnTo>
                        <a:pt x="554" y="87"/>
                      </a:lnTo>
                      <a:lnTo>
                        <a:pt x="572" y="86"/>
                      </a:lnTo>
                      <a:lnTo>
                        <a:pt x="590" y="86"/>
                      </a:lnTo>
                      <a:lnTo>
                        <a:pt x="606" y="86"/>
                      </a:lnTo>
                      <a:lnTo>
                        <a:pt x="625" y="86"/>
                      </a:lnTo>
                      <a:lnTo>
                        <a:pt x="643" y="86"/>
                      </a:lnTo>
                      <a:lnTo>
                        <a:pt x="661" y="86"/>
                      </a:lnTo>
                      <a:lnTo>
                        <a:pt x="679" y="86"/>
                      </a:lnTo>
                      <a:lnTo>
                        <a:pt x="698" y="87"/>
                      </a:lnTo>
                      <a:lnTo>
                        <a:pt x="714" y="87"/>
                      </a:lnTo>
                      <a:lnTo>
                        <a:pt x="733" y="87"/>
                      </a:lnTo>
                      <a:lnTo>
                        <a:pt x="751" y="87"/>
                      </a:lnTo>
                      <a:lnTo>
                        <a:pt x="769" y="87"/>
                      </a:lnTo>
                      <a:lnTo>
                        <a:pt x="787" y="87"/>
                      </a:lnTo>
                      <a:lnTo>
                        <a:pt x="805" y="87"/>
                      </a:lnTo>
                      <a:lnTo>
                        <a:pt x="824" y="87"/>
                      </a:lnTo>
                      <a:lnTo>
                        <a:pt x="843" y="89"/>
                      </a:lnTo>
                      <a:lnTo>
                        <a:pt x="860" y="89"/>
                      </a:lnTo>
                      <a:lnTo>
                        <a:pt x="878" y="89"/>
                      </a:lnTo>
                      <a:lnTo>
                        <a:pt x="896" y="90"/>
                      </a:lnTo>
                      <a:lnTo>
                        <a:pt x="915" y="90"/>
                      </a:lnTo>
                      <a:lnTo>
                        <a:pt x="934" y="90"/>
                      </a:lnTo>
                      <a:lnTo>
                        <a:pt x="952" y="91"/>
                      </a:lnTo>
                      <a:lnTo>
                        <a:pt x="970" y="91"/>
                      </a:lnTo>
                      <a:lnTo>
                        <a:pt x="989" y="92"/>
                      </a:lnTo>
                      <a:lnTo>
                        <a:pt x="1006" y="92"/>
                      </a:lnTo>
                      <a:lnTo>
                        <a:pt x="1024" y="93"/>
                      </a:lnTo>
                      <a:lnTo>
                        <a:pt x="1043" y="94"/>
                      </a:lnTo>
                      <a:lnTo>
                        <a:pt x="1062" y="94"/>
                      </a:lnTo>
                      <a:lnTo>
                        <a:pt x="1080" y="96"/>
                      </a:lnTo>
                      <a:lnTo>
                        <a:pt x="1099" y="97"/>
                      </a:lnTo>
                      <a:lnTo>
                        <a:pt x="1118" y="97"/>
                      </a:lnTo>
                      <a:lnTo>
                        <a:pt x="1136" y="99"/>
                      </a:lnTo>
                      <a:lnTo>
                        <a:pt x="1140" y="13"/>
                      </a:lnTo>
                      <a:lnTo>
                        <a:pt x="1121" y="11"/>
                      </a:lnTo>
                      <a:lnTo>
                        <a:pt x="1102" y="10"/>
                      </a:lnTo>
                      <a:lnTo>
                        <a:pt x="1083" y="9"/>
                      </a:lnTo>
                      <a:lnTo>
                        <a:pt x="1066" y="9"/>
                      </a:lnTo>
                      <a:lnTo>
                        <a:pt x="1047" y="8"/>
                      </a:lnTo>
                      <a:lnTo>
                        <a:pt x="1028" y="7"/>
                      </a:lnTo>
                      <a:lnTo>
                        <a:pt x="1010" y="7"/>
                      </a:lnTo>
                      <a:lnTo>
                        <a:pt x="991" y="7"/>
                      </a:lnTo>
                      <a:lnTo>
                        <a:pt x="972" y="4"/>
                      </a:lnTo>
                      <a:lnTo>
                        <a:pt x="954" y="4"/>
                      </a:lnTo>
                      <a:lnTo>
                        <a:pt x="936" y="4"/>
                      </a:lnTo>
                      <a:lnTo>
                        <a:pt x="917" y="4"/>
                      </a:lnTo>
                      <a:lnTo>
                        <a:pt x="898" y="3"/>
                      </a:lnTo>
                      <a:lnTo>
                        <a:pt x="881" y="2"/>
                      </a:lnTo>
                      <a:lnTo>
                        <a:pt x="863" y="2"/>
                      </a:lnTo>
                      <a:lnTo>
                        <a:pt x="844" y="2"/>
                      </a:lnTo>
                      <a:lnTo>
                        <a:pt x="825" y="1"/>
                      </a:lnTo>
                      <a:lnTo>
                        <a:pt x="807" y="1"/>
                      </a:lnTo>
                      <a:lnTo>
                        <a:pt x="789" y="1"/>
                      </a:lnTo>
                      <a:lnTo>
                        <a:pt x="771" y="1"/>
                      </a:lnTo>
                      <a:lnTo>
                        <a:pt x="752" y="1"/>
                      </a:lnTo>
                      <a:lnTo>
                        <a:pt x="733" y="1"/>
                      </a:lnTo>
                      <a:lnTo>
                        <a:pt x="716" y="1"/>
                      </a:lnTo>
                      <a:lnTo>
                        <a:pt x="698" y="1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43" y="0"/>
                      </a:lnTo>
                      <a:lnTo>
                        <a:pt x="625" y="0"/>
                      </a:lnTo>
                      <a:lnTo>
                        <a:pt x="608" y="0"/>
                      </a:lnTo>
                      <a:lnTo>
                        <a:pt x="590" y="0"/>
                      </a:lnTo>
                      <a:lnTo>
                        <a:pt x="572" y="0"/>
                      </a:lnTo>
                      <a:lnTo>
                        <a:pt x="554" y="1"/>
                      </a:lnTo>
                      <a:lnTo>
                        <a:pt x="536" y="1"/>
                      </a:lnTo>
                      <a:lnTo>
                        <a:pt x="519" y="1"/>
                      </a:lnTo>
                      <a:lnTo>
                        <a:pt x="501" y="1"/>
                      </a:lnTo>
                      <a:lnTo>
                        <a:pt x="483" y="1"/>
                      </a:lnTo>
                      <a:lnTo>
                        <a:pt x="465" y="1"/>
                      </a:lnTo>
                      <a:lnTo>
                        <a:pt x="447" y="1"/>
                      </a:lnTo>
                      <a:lnTo>
                        <a:pt x="430" y="1"/>
                      </a:lnTo>
                      <a:lnTo>
                        <a:pt x="412" y="1"/>
                      </a:lnTo>
                      <a:lnTo>
                        <a:pt x="394" y="1"/>
                      </a:lnTo>
                      <a:lnTo>
                        <a:pt x="376" y="2"/>
                      </a:lnTo>
                      <a:lnTo>
                        <a:pt x="359" y="2"/>
                      </a:lnTo>
                      <a:lnTo>
                        <a:pt x="342" y="3"/>
                      </a:lnTo>
                      <a:lnTo>
                        <a:pt x="324" y="3"/>
                      </a:lnTo>
                      <a:lnTo>
                        <a:pt x="307" y="4"/>
                      </a:lnTo>
                      <a:lnTo>
                        <a:pt x="291" y="4"/>
                      </a:lnTo>
                      <a:lnTo>
                        <a:pt x="273" y="4"/>
                      </a:lnTo>
                      <a:lnTo>
                        <a:pt x="255" y="4"/>
                      </a:lnTo>
                      <a:lnTo>
                        <a:pt x="237" y="4"/>
                      </a:lnTo>
                      <a:lnTo>
                        <a:pt x="221" y="5"/>
                      </a:lnTo>
                      <a:lnTo>
                        <a:pt x="203" y="7"/>
                      </a:lnTo>
                      <a:lnTo>
                        <a:pt x="186" y="7"/>
                      </a:lnTo>
                      <a:lnTo>
                        <a:pt x="169" y="7"/>
                      </a:lnTo>
                      <a:lnTo>
                        <a:pt x="151" y="7"/>
                      </a:lnTo>
                      <a:lnTo>
                        <a:pt x="135" y="8"/>
                      </a:lnTo>
                      <a:lnTo>
                        <a:pt x="118" y="8"/>
                      </a:lnTo>
                      <a:lnTo>
                        <a:pt x="101" y="9"/>
                      </a:lnTo>
                      <a:lnTo>
                        <a:pt x="83" y="9"/>
                      </a:lnTo>
                      <a:lnTo>
                        <a:pt x="68" y="9"/>
                      </a:lnTo>
                      <a:lnTo>
                        <a:pt x="50" y="10"/>
                      </a:lnTo>
                      <a:lnTo>
                        <a:pt x="33" y="11"/>
                      </a:lnTo>
                      <a:lnTo>
                        <a:pt x="17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Freeform 13"/>
                <p:cNvSpPr/>
                <p:nvPr/>
              </p:nvSpPr>
              <p:spPr>
                <a:xfrm>
                  <a:off x="990720" y="2381400"/>
                  <a:ext cx="106200" cy="20340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02" h="383">
                      <a:moveTo>
                        <a:pt x="109" y="6"/>
                      </a:moveTo>
                      <a:lnTo>
                        <a:pt x="104" y="13"/>
                      </a:lnTo>
                      <a:lnTo>
                        <a:pt x="101" y="20"/>
                      </a:lnTo>
                      <a:lnTo>
                        <a:pt x="98" y="27"/>
                      </a:lnTo>
                      <a:lnTo>
                        <a:pt x="96" y="34"/>
                      </a:lnTo>
                      <a:lnTo>
                        <a:pt x="94" y="42"/>
                      </a:lnTo>
                      <a:lnTo>
                        <a:pt x="90" y="49"/>
                      </a:lnTo>
                      <a:lnTo>
                        <a:pt x="88" y="56"/>
                      </a:lnTo>
                      <a:lnTo>
                        <a:pt x="85" y="63"/>
                      </a:lnTo>
                      <a:lnTo>
                        <a:pt x="82" y="69"/>
                      </a:lnTo>
                      <a:lnTo>
                        <a:pt x="79" y="76"/>
                      </a:lnTo>
                      <a:lnTo>
                        <a:pt x="77" y="82"/>
                      </a:lnTo>
                      <a:lnTo>
                        <a:pt x="75" y="88"/>
                      </a:lnTo>
                      <a:lnTo>
                        <a:pt x="72" y="95"/>
                      </a:lnTo>
                      <a:lnTo>
                        <a:pt x="70" y="101"/>
                      </a:lnTo>
                      <a:lnTo>
                        <a:pt x="68" y="108"/>
                      </a:lnTo>
                      <a:lnTo>
                        <a:pt x="65" y="114"/>
                      </a:lnTo>
                      <a:lnTo>
                        <a:pt x="63" y="121"/>
                      </a:lnTo>
                      <a:lnTo>
                        <a:pt x="61" y="126"/>
                      </a:lnTo>
                      <a:lnTo>
                        <a:pt x="58" y="133"/>
                      </a:lnTo>
                      <a:lnTo>
                        <a:pt x="56" y="139"/>
                      </a:lnTo>
                      <a:lnTo>
                        <a:pt x="53" y="145"/>
                      </a:lnTo>
                      <a:lnTo>
                        <a:pt x="52" y="152"/>
                      </a:lnTo>
                      <a:lnTo>
                        <a:pt x="50" y="157"/>
                      </a:lnTo>
                      <a:lnTo>
                        <a:pt x="49" y="164"/>
                      </a:lnTo>
                      <a:lnTo>
                        <a:pt x="46" y="170"/>
                      </a:lnTo>
                      <a:lnTo>
                        <a:pt x="45" y="175"/>
                      </a:lnTo>
                      <a:lnTo>
                        <a:pt x="43" y="180"/>
                      </a:lnTo>
                      <a:lnTo>
                        <a:pt x="42" y="186"/>
                      </a:lnTo>
                      <a:lnTo>
                        <a:pt x="39" y="192"/>
                      </a:lnTo>
                      <a:lnTo>
                        <a:pt x="38" y="198"/>
                      </a:lnTo>
                      <a:lnTo>
                        <a:pt x="37" y="204"/>
                      </a:lnTo>
                      <a:lnTo>
                        <a:pt x="36" y="210"/>
                      </a:lnTo>
                      <a:lnTo>
                        <a:pt x="33" y="215"/>
                      </a:lnTo>
                      <a:lnTo>
                        <a:pt x="32" y="221"/>
                      </a:lnTo>
                      <a:lnTo>
                        <a:pt x="31" y="226"/>
                      </a:lnTo>
                      <a:lnTo>
                        <a:pt x="28" y="232"/>
                      </a:lnTo>
                      <a:lnTo>
                        <a:pt x="28" y="237"/>
                      </a:lnTo>
                      <a:lnTo>
                        <a:pt x="26" y="243"/>
                      </a:lnTo>
                      <a:lnTo>
                        <a:pt x="25" y="248"/>
                      </a:lnTo>
                      <a:lnTo>
                        <a:pt x="23" y="253"/>
                      </a:lnTo>
                      <a:lnTo>
                        <a:pt x="21" y="259"/>
                      </a:lnTo>
                      <a:lnTo>
                        <a:pt x="20" y="264"/>
                      </a:lnTo>
                      <a:lnTo>
                        <a:pt x="20" y="269"/>
                      </a:lnTo>
                      <a:lnTo>
                        <a:pt x="18" y="275"/>
                      </a:lnTo>
                      <a:lnTo>
                        <a:pt x="18" y="281"/>
                      </a:lnTo>
                      <a:lnTo>
                        <a:pt x="15" y="286"/>
                      </a:lnTo>
                      <a:lnTo>
                        <a:pt x="15" y="291"/>
                      </a:lnTo>
                      <a:lnTo>
                        <a:pt x="14" y="297"/>
                      </a:lnTo>
                      <a:lnTo>
                        <a:pt x="13" y="302"/>
                      </a:lnTo>
                      <a:lnTo>
                        <a:pt x="12" y="307"/>
                      </a:lnTo>
                      <a:lnTo>
                        <a:pt x="11" y="312"/>
                      </a:lnTo>
                      <a:lnTo>
                        <a:pt x="11" y="319"/>
                      </a:lnTo>
                      <a:lnTo>
                        <a:pt x="8" y="324"/>
                      </a:lnTo>
                      <a:lnTo>
                        <a:pt x="7" y="329"/>
                      </a:lnTo>
                      <a:lnTo>
                        <a:pt x="7" y="334"/>
                      </a:lnTo>
                      <a:lnTo>
                        <a:pt x="7" y="340"/>
                      </a:lnTo>
                      <a:lnTo>
                        <a:pt x="5" y="345"/>
                      </a:lnTo>
                      <a:lnTo>
                        <a:pt x="5" y="350"/>
                      </a:lnTo>
                      <a:lnTo>
                        <a:pt x="5" y="356"/>
                      </a:lnTo>
                      <a:lnTo>
                        <a:pt x="4" y="362"/>
                      </a:lnTo>
                      <a:lnTo>
                        <a:pt x="2" y="367"/>
                      </a:lnTo>
                      <a:lnTo>
                        <a:pt x="2" y="372"/>
                      </a:lnTo>
                      <a:lnTo>
                        <a:pt x="1" y="378"/>
                      </a:lnTo>
                      <a:lnTo>
                        <a:pt x="0" y="383"/>
                      </a:lnTo>
                      <a:lnTo>
                        <a:pt x="93" y="383"/>
                      </a:lnTo>
                      <a:lnTo>
                        <a:pt x="93" y="378"/>
                      </a:lnTo>
                      <a:lnTo>
                        <a:pt x="94" y="372"/>
                      </a:lnTo>
                      <a:lnTo>
                        <a:pt x="94" y="367"/>
                      </a:lnTo>
                      <a:lnTo>
                        <a:pt x="95" y="362"/>
                      </a:lnTo>
                      <a:lnTo>
                        <a:pt x="96" y="357"/>
                      </a:lnTo>
                      <a:lnTo>
                        <a:pt x="96" y="351"/>
                      </a:lnTo>
                      <a:lnTo>
                        <a:pt x="98" y="347"/>
                      </a:lnTo>
                      <a:lnTo>
                        <a:pt x="98" y="342"/>
                      </a:lnTo>
                      <a:lnTo>
                        <a:pt x="100" y="336"/>
                      </a:lnTo>
                      <a:lnTo>
                        <a:pt x="101" y="331"/>
                      </a:lnTo>
                      <a:lnTo>
                        <a:pt x="101" y="325"/>
                      </a:lnTo>
                      <a:lnTo>
                        <a:pt x="103" y="321"/>
                      </a:lnTo>
                      <a:lnTo>
                        <a:pt x="104" y="315"/>
                      </a:lnTo>
                      <a:lnTo>
                        <a:pt x="107" y="310"/>
                      </a:lnTo>
                      <a:lnTo>
                        <a:pt x="107" y="304"/>
                      </a:lnTo>
                      <a:lnTo>
                        <a:pt x="109" y="299"/>
                      </a:lnTo>
                      <a:lnTo>
                        <a:pt x="109" y="293"/>
                      </a:lnTo>
                      <a:lnTo>
                        <a:pt x="112" y="288"/>
                      </a:lnTo>
                      <a:lnTo>
                        <a:pt x="113" y="284"/>
                      </a:lnTo>
                      <a:lnTo>
                        <a:pt x="114" y="278"/>
                      </a:lnTo>
                      <a:lnTo>
                        <a:pt x="116" y="272"/>
                      </a:lnTo>
                      <a:lnTo>
                        <a:pt x="117" y="266"/>
                      </a:lnTo>
                      <a:lnTo>
                        <a:pt x="119" y="261"/>
                      </a:lnTo>
                      <a:lnTo>
                        <a:pt x="121" y="255"/>
                      </a:lnTo>
                      <a:lnTo>
                        <a:pt x="122" y="249"/>
                      </a:lnTo>
                      <a:lnTo>
                        <a:pt x="125" y="243"/>
                      </a:lnTo>
                      <a:lnTo>
                        <a:pt x="126" y="237"/>
                      </a:lnTo>
                      <a:lnTo>
                        <a:pt x="127" y="233"/>
                      </a:lnTo>
                      <a:lnTo>
                        <a:pt x="129" y="227"/>
                      </a:lnTo>
                      <a:lnTo>
                        <a:pt x="132" y="221"/>
                      </a:lnTo>
                      <a:lnTo>
                        <a:pt x="133" y="215"/>
                      </a:lnTo>
                      <a:lnTo>
                        <a:pt x="134" y="209"/>
                      </a:lnTo>
                      <a:lnTo>
                        <a:pt x="136" y="203"/>
                      </a:lnTo>
                      <a:lnTo>
                        <a:pt x="138" y="197"/>
                      </a:lnTo>
                      <a:lnTo>
                        <a:pt x="140" y="190"/>
                      </a:lnTo>
                      <a:lnTo>
                        <a:pt x="142" y="185"/>
                      </a:lnTo>
                      <a:lnTo>
                        <a:pt x="144" y="178"/>
                      </a:lnTo>
                      <a:lnTo>
                        <a:pt x="145" y="172"/>
                      </a:lnTo>
                      <a:lnTo>
                        <a:pt x="147" y="166"/>
                      </a:lnTo>
                      <a:lnTo>
                        <a:pt x="150" y="160"/>
                      </a:lnTo>
                      <a:lnTo>
                        <a:pt x="152" y="154"/>
                      </a:lnTo>
                      <a:lnTo>
                        <a:pt x="153" y="147"/>
                      </a:lnTo>
                      <a:lnTo>
                        <a:pt x="155" y="141"/>
                      </a:lnTo>
                      <a:lnTo>
                        <a:pt x="158" y="134"/>
                      </a:lnTo>
                      <a:lnTo>
                        <a:pt x="159" y="128"/>
                      </a:lnTo>
                      <a:lnTo>
                        <a:pt x="163" y="121"/>
                      </a:lnTo>
                      <a:lnTo>
                        <a:pt x="164" y="116"/>
                      </a:lnTo>
                      <a:lnTo>
                        <a:pt x="166" y="109"/>
                      </a:lnTo>
                      <a:lnTo>
                        <a:pt x="168" y="103"/>
                      </a:lnTo>
                      <a:lnTo>
                        <a:pt x="171" y="96"/>
                      </a:lnTo>
                      <a:lnTo>
                        <a:pt x="172" y="89"/>
                      </a:lnTo>
                      <a:lnTo>
                        <a:pt x="174" y="83"/>
                      </a:lnTo>
                      <a:lnTo>
                        <a:pt x="177" y="76"/>
                      </a:lnTo>
                      <a:lnTo>
                        <a:pt x="179" y="70"/>
                      </a:lnTo>
                      <a:lnTo>
                        <a:pt x="182" y="63"/>
                      </a:lnTo>
                      <a:lnTo>
                        <a:pt x="184" y="56"/>
                      </a:lnTo>
                      <a:lnTo>
                        <a:pt x="185" y="49"/>
                      </a:lnTo>
                      <a:lnTo>
                        <a:pt x="187" y="43"/>
                      </a:lnTo>
                      <a:lnTo>
                        <a:pt x="190" y="36"/>
                      </a:lnTo>
                      <a:lnTo>
                        <a:pt x="192" y="29"/>
                      </a:lnTo>
                      <a:lnTo>
                        <a:pt x="195" y="21"/>
                      </a:lnTo>
                      <a:lnTo>
                        <a:pt x="197" y="15"/>
                      </a:lnTo>
                      <a:lnTo>
                        <a:pt x="198" y="7"/>
                      </a:lnTo>
                      <a:lnTo>
                        <a:pt x="202" y="0"/>
                      </a:lnTo>
                      <a:lnTo>
                        <a:pt x="109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Freeform 14"/>
                <p:cNvSpPr/>
                <p:nvPr/>
              </p:nvSpPr>
              <p:spPr>
                <a:xfrm>
                  <a:off x="1641240" y="2383200"/>
                  <a:ext cx="101520" cy="1965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193" h="372">
                      <a:moveTo>
                        <a:pt x="74" y="0"/>
                      </a:moveTo>
                      <a:lnTo>
                        <a:pt x="0" y="49"/>
                      </a:lnTo>
                      <a:lnTo>
                        <a:pt x="3" y="54"/>
                      </a:lnTo>
                      <a:lnTo>
                        <a:pt x="5" y="60"/>
                      </a:lnTo>
                      <a:lnTo>
                        <a:pt x="9" y="66"/>
                      </a:lnTo>
                      <a:lnTo>
                        <a:pt x="11" y="72"/>
                      </a:lnTo>
                      <a:lnTo>
                        <a:pt x="15" y="76"/>
                      </a:lnTo>
                      <a:lnTo>
                        <a:pt x="17" y="82"/>
                      </a:lnTo>
                      <a:lnTo>
                        <a:pt x="21" y="88"/>
                      </a:lnTo>
                      <a:lnTo>
                        <a:pt x="23" y="94"/>
                      </a:lnTo>
                      <a:lnTo>
                        <a:pt x="25" y="99"/>
                      </a:lnTo>
                      <a:lnTo>
                        <a:pt x="28" y="104"/>
                      </a:lnTo>
                      <a:lnTo>
                        <a:pt x="30" y="110"/>
                      </a:lnTo>
                      <a:lnTo>
                        <a:pt x="34" y="114"/>
                      </a:lnTo>
                      <a:lnTo>
                        <a:pt x="36" y="120"/>
                      </a:lnTo>
                      <a:lnTo>
                        <a:pt x="38" y="126"/>
                      </a:lnTo>
                      <a:lnTo>
                        <a:pt x="41" y="131"/>
                      </a:lnTo>
                      <a:lnTo>
                        <a:pt x="43" y="137"/>
                      </a:lnTo>
                      <a:lnTo>
                        <a:pt x="45" y="142"/>
                      </a:lnTo>
                      <a:lnTo>
                        <a:pt x="48" y="148"/>
                      </a:lnTo>
                      <a:lnTo>
                        <a:pt x="50" y="152"/>
                      </a:lnTo>
                      <a:lnTo>
                        <a:pt x="53" y="157"/>
                      </a:lnTo>
                      <a:lnTo>
                        <a:pt x="54" y="162"/>
                      </a:lnTo>
                      <a:lnTo>
                        <a:pt x="56" y="168"/>
                      </a:lnTo>
                      <a:lnTo>
                        <a:pt x="59" y="173"/>
                      </a:lnTo>
                      <a:lnTo>
                        <a:pt x="61" y="178"/>
                      </a:lnTo>
                      <a:lnTo>
                        <a:pt x="63" y="183"/>
                      </a:lnTo>
                      <a:lnTo>
                        <a:pt x="64" y="188"/>
                      </a:lnTo>
                      <a:lnTo>
                        <a:pt x="66" y="194"/>
                      </a:lnTo>
                      <a:lnTo>
                        <a:pt x="68" y="199"/>
                      </a:lnTo>
                      <a:lnTo>
                        <a:pt x="70" y="203"/>
                      </a:lnTo>
                      <a:lnTo>
                        <a:pt x="72" y="209"/>
                      </a:lnTo>
                      <a:lnTo>
                        <a:pt x="74" y="214"/>
                      </a:lnTo>
                      <a:lnTo>
                        <a:pt x="76" y="220"/>
                      </a:lnTo>
                      <a:lnTo>
                        <a:pt x="78" y="225"/>
                      </a:lnTo>
                      <a:lnTo>
                        <a:pt x="79" y="230"/>
                      </a:lnTo>
                      <a:lnTo>
                        <a:pt x="80" y="234"/>
                      </a:lnTo>
                      <a:lnTo>
                        <a:pt x="81" y="239"/>
                      </a:lnTo>
                      <a:lnTo>
                        <a:pt x="83" y="244"/>
                      </a:lnTo>
                      <a:lnTo>
                        <a:pt x="85" y="248"/>
                      </a:lnTo>
                      <a:lnTo>
                        <a:pt x="86" y="253"/>
                      </a:lnTo>
                      <a:lnTo>
                        <a:pt x="87" y="259"/>
                      </a:lnTo>
                      <a:lnTo>
                        <a:pt x="89" y="264"/>
                      </a:lnTo>
                      <a:lnTo>
                        <a:pt x="89" y="269"/>
                      </a:lnTo>
                      <a:lnTo>
                        <a:pt x="92" y="273"/>
                      </a:lnTo>
                      <a:lnTo>
                        <a:pt x="92" y="278"/>
                      </a:lnTo>
                      <a:lnTo>
                        <a:pt x="93" y="283"/>
                      </a:lnTo>
                      <a:lnTo>
                        <a:pt x="94" y="288"/>
                      </a:lnTo>
                      <a:lnTo>
                        <a:pt x="95" y="292"/>
                      </a:lnTo>
                      <a:lnTo>
                        <a:pt x="97" y="297"/>
                      </a:lnTo>
                      <a:lnTo>
                        <a:pt x="97" y="302"/>
                      </a:lnTo>
                      <a:lnTo>
                        <a:pt x="98" y="307"/>
                      </a:lnTo>
                      <a:lnTo>
                        <a:pt x="99" y="311"/>
                      </a:lnTo>
                      <a:lnTo>
                        <a:pt x="99" y="316"/>
                      </a:lnTo>
                      <a:lnTo>
                        <a:pt x="100" y="320"/>
                      </a:lnTo>
                      <a:lnTo>
                        <a:pt x="101" y="324"/>
                      </a:lnTo>
                      <a:lnTo>
                        <a:pt x="101" y="329"/>
                      </a:lnTo>
                      <a:lnTo>
                        <a:pt x="102" y="335"/>
                      </a:lnTo>
                      <a:lnTo>
                        <a:pt x="102" y="339"/>
                      </a:lnTo>
                      <a:lnTo>
                        <a:pt x="104" y="343"/>
                      </a:lnTo>
                      <a:lnTo>
                        <a:pt x="104" y="348"/>
                      </a:lnTo>
                      <a:lnTo>
                        <a:pt x="104" y="353"/>
                      </a:lnTo>
                      <a:lnTo>
                        <a:pt x="105" y="358"/>
                      </a:lnTo>
                      <a:lnTo>
                        <a:pt x="105" y="362"/>
                      </a:lnTo>
                      <a:lnTo>
                        <a:pt x="106" y="367"/>
                      </a:lnTo>
                      <a:lnTo>
                        <a:pt x="106" y="372"/>
                      </a:lnTo>
                      <a:lnTo>
                        <a:pt x="193" y="366"/>
                      </a:lnTo>
                      <a:lnTo>
                        <a:pt x="191" y="360"/>
                      </a:lnTo>
                      <a:lnTo>
                        <a:pt x="191" y="355"/>
                      </a:lnTo>
                      <a:lnTo>
                        <a:pt x="190" y="349"/>
                      </a:lnTo>
                      <a:lnTo>
                        <a:pt x="190" y="345"/>
                      </a:lnTo>
                      <a:lnTo>
                        <a:pt x="190" y="340"/>
                      </a:lnTo>
                      <a:lnTo>
                        <a:pt x="189" y="334"/>
                      </a:lnTo>
                      <a:lnTo>
                        <a:pt x="188" y="329"/>
                      </a:lnTo>
                      <a:lnTo>
                        <a:pt x="188" y="323"/>
                      </a:lnTo>
                      <a:lnTo>
                        <a:pt x="188" y="317"/>
                      </a:lnTo>
                      <a:lnTo>
                        <a:pt x="186" y="313"/>
                      </a:lnTo>
                      <a:lnTo>
                        <a:pt x="186" y="307"/>
                      </a:lnTo>
                      <a:lnTo>
                        <a:pt x="186" y="302"/>
                      </a:lnTo>
                      <a:lnTo>
                        <a:pt x="183" y="297"/>
                      </a:lnTo>
                      <a:lnTo>
                        <a:pt x="182" y="291"/>
                      </a:lnTo>
                      <a:lnTo>
                        <a:pt x="182" y="286"/>
                      </a:lnTo>
                      <a:lnTo>
                        <a:pt x="182" y="282"/>
                      </a:lnTo>
                      <a:lnTo>
                        <a:pt x="180" y="276"/>
                      </a:lnTo>
                      <a:lnTo>
                        <a:pt x="180" y="269"/>
                      </a:lnTo>
                      <a:lnTo>
                        <a:pt x="177" y="264"/>
                      </a:lnTo>
                      <a:lnTo>
                        <a:pt x="177" y="259"/>
                      </a:lnTo>
                      <a:lnTo>
                        <a:pt x="175" y="253"/>
                      </a:lnTo>
                      <a:lnTo>
                        <a:pt x="174" y="247"/>
                      </a:lnTo>
                      <a:lnTo>
                        <a:pt x="172" y="241"/>
                      </a:lnTo>
                      <a:lnTo>
                        <a:pt x="171" y="235"/>
                      </a:lnTo>
                      <a:lnTo>
                        <a:pt x="170" y="231"/>
                      </a:lnTo>
                      <a:lnTo>
                        <a:pt x="168" y="225"/>
                      </a:lnTo>
                      <a:lnTo>
                        <a:pt x="167" y="219"/>
                      </a:lnTo>
                      <a:lnTo>
                        <a:pt x="165" y="214"/>
                      </a:lnTo>
                      <a:lnTo>
                        <a:pt x="163" y="208"/>
                      </a:lnTo>
                      <a:lnTo>
                        <a:pt x="162" y="203"/>
                      </a:lnTo>
                      <a:lnTo>
                        <a:pt x="159" y="197"/>
                      </a:lnTo>
                      <a:lnTo>
                        <a:pt x="158" y="192"/>
                      </a:lnTo>
                      <a:lnTo>
                        <a:pt x="156" y="186"/>
                      </a:lnTo>
                      <a:lnTo>
                        <a:pt x="155" y="180"/>
                      </a:lnTo>
                      <a:lnTo>
                        <a:pt x="152" y="175"/>
                      </a:lnTo>
                      <a:lnTo>
                        <a:pt x="150" y="169"/>
                      </a:lnTo>
                      <a:lnTo>
                        <a:pt x="148" y="163"/>
                      </a:lnTo>
                      <a:lnTo>
                        <a:pt x="146" y="157"/>
                      </a:lnTo>
                      <a:lnTo>
                        <a:pt x="144" y="152"/>
                      </a:lnTo>
                      <a:lnTo>
                        <a:pt x="142" y="145"/>
                      </a:lnTo>
                      <a:lnTo>
                        <a:pt x="139" y="139"/>
                      </a:lnTo>
                      <a:lnTo>
                        <a:pt x="137" y="135"/>
                      </a:lnTo>
                      <a:lnTo>
                        <a:pt x="134" y="127"/>
                      </a:lnTo>
                      <a:lnTo>
                        <a:pt x="132" y="121"/>
                      </a:lnTo>
                      <a:lnTo>
                        <a:pt x="130" y="116"/>
                      </a:lnTo>
                      <a:lnTo>
                        <a:pt x="127" y="110"/>
                      </a:lnTo>
                      <a:lnTo>
                        <a:pt x="125" y="104"/>
                      </a:lnTo>
                      <a:lnTo>
                        <a:pt x="123" y="99"/>
                      </a:lnTo>
                      <a:lnTo>
                        <a:pt x="119" y="92"/>
                      </a:lnTo>
                      <a:lnTo>
                        <a:pt x="117" y="86"/>
                      </a:lnTo>
                      <a:lnTo>
                        <a:pt x="114" y="80"/>
                      </a:lnTo>
                      <a:lnTo>
                        <a:pt x="111" y="74"/>
                      </a:lnTo>
                      <a:lnTo>
                        <a:pt x="108" y="68"/>
                      </a:lnTo>
                      <a:lnTo>
                        <a:pt x="105" y="62"/>
                      </a:lnTo>
                      <a:lnTo>
                        <a:pt x="102" y="56"/>
                      </a:lnTo>
                      <a:lnTo>
                        <a:pt x="99" y="50"/>
                      </a:lnTo>
                      <a:lnTo>
                        <a:pt x="97" y="43"/>
                      </a:lnTo>
                      <a:lnTo>
                        <a:pt x="93" y="37"/>
                      </a:lnTo>
                      <a:lnTo>
                        <a:pt x="89" y="31"/>
                      </a:lnTo>
                      <a:lnTo>
                        <a:pt x="86" y="25"/>
                      </a:lnTo>
                      <a:lnTo>
                        <a:pt x="83" y="18"/>
                      </a:lnTo>
                      <a:lnTo>
                        <a:pt x="80" y="12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Freeform 15"/>
                <p:cNvSpPr/>
                <p:nvPr/>
              </p:nvSpPr>
              <p:spPr>
                <a:xfrm>
                  <a:off x="1111320" y="2443320"/>
                  <a:ext cx="39240" cy="414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9">
                      <a:moveTo>
                        <a:pt x="38" y="79"/>
                      </a:moveTo>
                      <a:lnTo>
                        <a:pt x="41" y="78"/>
                      </a:lnTo>
                      <a:lnTo>
                        <a:pt x="45" y="78"/>
                      </a:lnTo>
                      <a:lnTo>
                        <a:pt x="49" y="76"/>
                      </a:lnTo>
                      <a:lnTo>
                        <a:pt x="53" y="75"/>
                      </a:lnTo>
                      <a:lnTo>
                        <a:pt x="57" y="73"/>
                      </a:lnTo>
                      <a:lnTo>
                        <a:pt x="59" y="72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3"/>
                      </a:lnTo>
                      <a:lnTo>
                        <a:pt x="70" y="61"/>
                      </a:lnTo>
                      <a:lnTo>
                        <a:pt x="72" y="57"/>
                      </a:lnTo>
                      <a:lnTo>
                        <a:pt x="74" y="55"/>
                      </a:lnTo>
                      <a:lnTo>
                        <a:pt x="74" y="51"/>
                      </a:lnTo>
                      <a:lnTo>
                        <a:pt x="77" y="47"/>
                      </a:lnTo>
                      <a:lnTo>
                        <a:pt x="77" y="43"/>
                      </a:lnTo>
                      <a:lnTo>
                        <a:pt x="77" y="40"/>
                      </a:lnTo>
                      <a:lnTo>
                        <a:pt x="77" y="36"/>
                      </a:lnTo>
                      <a:lnTo>
                        <a:pt x="77" y="31"/>
                      </a:lnTo>
                      <a:lnTo>
                        <a:pt x="74" y="28"/>
                      </a:lnTo>
                      <a:lnTo>
                        <a:pt x="74" y="24"/>
                      </a:lnTo>
                      <a:lnTo>
                        <a:pt x="72" y="21"/>
                      </a:lnTo>
                      <a:lnTo>
                        <a:pt x="70" y="18"/>
                      </a:lnTo>
                      <a:lnTo>
                        <a:pt x="67" y="15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9" y="7"/>
                      </a:lnTo>
                      <a:lnTo>
                        <a:pt x="57" y="5"/>
                      </a:lnTo>
                      <a:lnTo>
                        <a:pt x="53" y="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3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1" y="47"/>
                      </a:lnTo>
                      <a:lnTo>
                        <a:pt x="1" y="51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8" y="63"/>
                      </a:lnTo>
                      <a:lnTo>
                        <a:pt x="11" y="67"/>
                      </a:lnTo>
                      <a:lnTo>
                        <a:pt x="14" y="69"/>
                      </a:lnTo>
                      <a:lnTo>
                        <a:pt x="16" y="72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8"/>
                      </a:lnTo>
                      <a:lnTo>
                        <a:pt x="34" y="78"/>
                      </a:lnTo>
                      <a:lnTo>
                        <a:pt x="38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Freeform 16"/>
                <p:cNvSpPr/>
                <p:nvPr/>
              </p:nvSpPr>
              <p:spPr>
                <a:xfrm>
                  <a:off x="1191960" y="244656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3" y="76"/>
                      </a:lnTo>
                      <a:lnTo>
                        <a:pt x="46" y="76"/>
                      </a:lnTo>
                      <a:lnTo>
                        <a:pt x="50" y="75"/>
                      </a:lnTo>
                      <a:lnTo>
                        <a:pt x="53" y="74"/>
                      </a:lnTo>
                      <a:lnTo>
                        <a:pt x="56" y="71"/>
                      </a:lnTo>
                      <a:lnTo>
                        <a:pt x="59" y="70"/>
                      </a:lnTo>
                      <a:lnTo>
                        <a:pt x="63" y="68"/>
                      </a:lnTo>
                      <a:lnTo>
                        <a:pt x="67" y="65"/>
                      </a:lnTo>
                      <a:lnTo>
                        <a:pt x="69" y="62"/>
                      </a:lnTo>
                      <a:lnTo>
                        <a:pt x="71" y="59"/>
                      </a:lnTo>
                      <a:lnTo>
                        <a:pt x="72" y="56"/>
                      </a:lnTo>
                      <a:lnTo>
                        <a:pt x="74" y="54"/>
                      </a:lnTo>
                      <a:lnTo>
                        <a:pt x="75" y="49"/>
                      </a:lnTo>
                      <a:lnTo>
                        <a:pt x="76" y="46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76" y="31"/>
                      </a:lnTo>
                      <a:lnTo>
                        <a:pt x="75" y="26"/>
                      </a:lnTo>
                      <a:lnTo>
                        <a:pt x="74" y="23"/>
                      </a:lnTo>
                      <a:lnTo>
                        <a:pt x="72" y="19"/>
                      </a:lnTo>
                      <a:lnTo>
                        <a:pt x="71" y="16"/>
                      </a:lnTo>
                      <a:lnTo>
                        <a:pt x="69" y="13"/>
                      </a:lnTo>
                      <a:lnTo>
                        <a:pt x="67" y="11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3" y="2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2" y="54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5"/>
                      </a:lnTo>
                      <a:lnTo>
                        <a:pt x="13" y="68"/>
                      </a:lnTo>
                      <a:lnTo>
                        <a:pt x="17" y="70"/>
                      </a:lnTo>
                      <a:lnTo>
                        <a:pt x="20" y="71"/>
                      </a:lnTo>
                      <a:lnTo>
                        <a:pt x="23" y="74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Freeform 17"/>
                <p:cNvSpPr/>
                <p:nvPr/>
              </p:nvSpPr>
              <p:spPr>
                <a:xfrm>
                  <a:off x="126972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41" y="77"/>
                      </a:moveTo>
                      <a:lnTo>
                        <a:pt x="43" y="76"/>
                      </a:lnTo>
                      <a:lnTo>
                        <a:pt x="48" y="76"/>
                      </a:lnTo>
                      <a:lnTo>
                        <a:pt x="51" y="75"/>
                      </a:lnTo>
                      <a:lnTo>
                        <a:pt x="55" y="73"/>
                      </a:lnTo>
                      <a:lnTo>
                        <a:pt x="57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1" y="59"/>
                      </a:lnTo>
                      <a:lnTo>
                        <a:pt x="74" y="56"/>
                      </a:lnTo>
                      <a:lnTo>
                        <a:pt x="75" y="53"/>
                      </a:lnTo>
                      <a:lnTo>
                        <a:pt x="76" y="48"/>
                      </a:lnTo>
                      <a:lnTo>
                        <a:pt x="77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7" y="31"/>
                      </a:lnTo>
                      <a:lnTo>
                        <a:pt x="76" y="26"/>
                      </a:lnTo>
                      <a:lnTo>
                        <a:pt x="75" y="22"/>
                      </a:lnTo>
                      <a:lnTo>
                        <a:pt x="74" y="19"/>
                      </a:lnTo>
                      <a:lnTo>
                        <a:pt x="71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4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1" y="0"/>
                      </a:lnTo>
                      <a:lnTo>
                        <a:pt x="48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7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7" y="15"/>
                      </a:lnTo>
                      <a:lnTo>
                        <a:pt x="5" y="19"/>
                      </a:lnTo>
                      <a:lnTo>
                        <a:pt x="4" y="22"/>
                      </a:lnTo>
                      <a:lnTo>
                        <a:pt x="3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8"/>
                      </a:lnTo>
                      <a:lnTo>
                        <a:pt x="4" y="53"/>
                      </a:lnTo>
                      <a:lnTo>
                        <a:pt x="5" y="56"/>
                      </a:lnTo>
                      <a:lnTo>
                        <a:pt x="7" y="59"/>
                      </a:lnTo>
                      <a:lnTo>
                        <a:pt x="10" y="61"/>
                      </a:lnTo>
                      <a:lnTo>
                        <a:pt x="13" y="65"/>
                      </a:lnTo>
                      <a:lnTo>
                        <a:pt x="16" y="67"/>
                      </a:lnTo>
                      <a:lnTo>
                        <a:pt x="18" y="70"/>
                      </a:lnTo>
                      <a:lnTo>
                        <a:pt x="20" y="71"/>
                      </a:lnTo>
                      <a:lnTo>
                        <a:pt x="25" y="73"/>
                      </a:lnTo>
                      <a:lnTo>
                        <a:pt x="27" y="75"/>
                      </a:lnTo>
                      <a:lnTo>
                        <a:pt x="31" y="76"/>
                      </a:lnTo>
                      <a:lnTo>
                        <a:pt x="36" y="76"/>
                      </a:lnTo>
                      <a:lnTo>
                        <a:pt x="41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Freeform 18"/>
                <p:cNvSpPr/>
                <p:nvPr/>
              </p:nvSpPr>
              <p:spPr>
                <a:xfrm>
                  <a:off x="13492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6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7"/>
                      </a:lnTo>
                      <a:lnTo>
                        <a:pt x="50" y="76"/>
                      </a:lnTo>
                      <a:lnTo>
                        <a:pt x="53" y="75"/>
                      </a:lnTo>
                      <a:lnTo>
                        <a:pt x="55" y="73"/>
                      </a:lnTo>
                      <a:lnTo>
                        <a:pt x="59" y="71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4"/>
                      </a:lnTo>
                      <a:lnTo>
                        <a:pt x="70" y="61"/>
                      </a:lnTo>
                      <a:lnTo>
                        <a:pt x="71" y="57"/>
                      </a:lnTo>
                      <a:lnTo>
                        <a:pt x="73" y="55"/>
                      </a:lnTo>
                      <a:lnTo>
                        <a:pt x="74" y="51"/>
                      </a:lnTo>
                      <a:lnTo>
                        <a:pt x="76" y="46"/>
                      </a:lnTo>
                      <a:lnTo>
                        <a:pt x="76" y="43"/>
                      </a:lnTo>
                      <a:lnTo>
                        <a:pt x="76" y="39"/>
                      </a:lnTo>
                      <a:lnTo>
                        <a:pt x="76" y="36"/>
                      </a:lnTo>
                      <a:lnTo>
                        <a:pt x="76" y="31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7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7"/>
                      </a:lnTo>
                      <a:lnTo>
                        <a:pt x="55" y="5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2"/>
                      </a:lnTo>
                      <a:lnTo>
                        <a:pt x="22" y="2"/>
                      </a:lnTo>
                      <a:lnTo>
                        <a:pt x="19" y="5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6" y="17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1" y="51"/>
                      </a:lnTo>
                      <a:lnTo>
                        <a:pt x="2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7" y="64"/>
                      </a:lnTo>
                      <a:lnTo>
                        <a:pt x="10" y="67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7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Freeform 19"/>
                <p:cNvSpPr/>
                <p:nvPr/>
              </p:nvSpPr>
              <p:spPr>
                <a:xfrm>
                  <a:off x="142704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9" y="77"/>
                      </a:moveTo>
                      <a:lnTo>
                        <a:pt x="42" y="76"/>
                      </a:lnTo>
                      <a:lnTo>
                        <a:pt x="46" y="76"/>
                      </a:lnTo>
                      <a:lnTo>
                        <a:pt x="49" y="75"/>
                      </a:lnTo>
                      <a:lnTo>
                        <a:pt x="53" y="73"/>
                      </a:lnTo>
                      <a:lnTo>
                        <a:pt x="55" y="71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6" y="65"/>
                      </a:lnTo>
                      <a:lnTo>
                        <a:pt x="67" y="61"/>
                      </a:lnTo>
                      <a:lnTo>
                        <a:pt x="70" y="59"/>
                      </a:lnTo>
                      <a:lnTo>
                        <a:pt x="72" y="56"/>
                      </a:lnTo>
                      <a:lnTo>
                        <a:pt x="73" y="53"/>
                      </a:lnTo>
                      <a:lnTo>
                        <a:pt x="74" y="48"/>
                      </a:lnTo>
                      <a:lnTo>
                        <a:pt x="77" y="45"/>
                      </a:lnTo>
                      <a:lnTo>
                        <a:pt x="77" y="41"/>
                      </a:lnTo>
                      <a:lnTo>
                        <a:pt x="77" y="38"/>
                      </a:lnTo>
                      <a:lnTo>
                        <a:pt x="77" y="34"/>
                      </a:lnTo>
                      <a:lnTo>
                        <a:pt x="77" y="31"/>
                      </a:lnTo>
                      <a:lnTo>
                        <a:pt x="74" y="26"/>
                      </a:lnTo>
                      <a:lnTo>
                        <a:pt x="73" y="22"/>
                      </a:lnTo>
                      <a:lnTo>
                        <a:pt x="72" y="19"/>
                      </a:lnTo>
                      <a:lnTo>
                        <a:pt x="70" y="15"/>
                      </a:lnTo>
                      <a:lnTo>
                        <a:pt x="67" y="13"/>
                      </a:lnTo>
                      <a:lnTo>
                        <a:pt x="66" y="10"/>
                      </a:lnTo>
                      <a:lnTo>
                        <a:pt x="63" y="7"/>
                      </a:lnTo>
                      <a:lnTo>
                        <a:pt x="59" y="4"/>
                      </a:lnTo>
                      <a:lnTo>
                        <a:pt x="55" y="3"/>
                      </a:lnTo>
                      <a:lnTo>
                        <a:pt x="53" y="2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1" y="48"/>
                      </a:lnTo>
                      <a:lnTo>
                        <a:pt x="3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8" y="61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1"/>
                      </a:lnTo>
                      <a:lnTo>
                        <a:pt x="23" y="73"/>
                      </a:lnTo>
                      <a:lnTo>
                        <a:pt x="27" y="75"/>
                      </a:lnTo>
                      <a:lnTo>
                        <a:pt x="30" y="76"/>
                      </a:lnTo>
                      <a:lnTo>
                        <a:pt x="35" y="76"/>
                      </a:lnTo>
                      <a:lnTo>
                        <a:pt x="39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Freeform 20"/>
                <p:cNvSpPr/>
                <p:nvPr/>
              </p:nvSpPr>
              <p:spPr>
                <a:xfrm>
                  <a:off x="15094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39" y="78"/>
                      </a:moveTo>
                      <a:lnTo>
                        <a:pt x="43" y="77"/>
                      </a:lnTo>
                      <a:lnTo>
                        <a:pt x="46" y="77"/>
                      </a:lnTo>
                      <a:lnTo>
                        <a:pt x="50" y="76"/>
                      </a:lnTo>
                      <a:lnTo>
                        <a:pt x="55" y="75"/>
                      </a:lnTo>
                      <a:lnTo>
                        <a:pt x="57" y="73"/>
                      </a:lnTo>
                      <a:lnTo>
                        <a:pt x="61" y="71"/>
                      </a:lnTo>
                      <a:lnTo>
                        <a:pt x="63" y="69"/>
                      </a:lnTo>
                      <a:lnTo>
                        <a:pt x="67" y="67"/>
                      </a:lnTo>
                      <a:lnTo>
                        <a:pt x="68" y="64"/>
                      </a:lnTo>
                      <a:lnTo>
                        <a:pt x="70" y="61"/>
                      </a:lnTo>
                      <a:lnTo>
                        <a:pt x="74" y="57"/>
                      </a:lnTo>
                      <a:lnTo>
                        <a:pt x="75" y="55"/>
                      </a:lnTo>
                      <a:lnTo>
                        <a:pt x="76" y="51"/>
                      </a:lnTo>
                      <a:lnTo>
                        <a:pt x="77" y="46"/>
                      </a:lnTo>
                      <a:lnTo>
                        <a:pt x="78" y="43"/>
                      </a:lnTo>
                      <a:lnTo>
                        <a:pt x="78" y="39"/>
                      </a:lnTo>
                      <a:lnTo>
                        <a:pt x="78" y="36"/>
                      </a:lnTo>
                      <a:lnTo>
                        <a:pt x="77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4" y="20"/>
                      </a:lnTo>
                      <a:lnTo>
                        <a:pt x="70" y="17"/>
                      </a:lnTo>
                      <a:lnTo>
                        <a:pt x="68" y="14"/>
                      </a:lnTo>
                      <a:lnTo>
                        <a:pt x="67" y="12"/>
                      </a:lnTo>
                      <a:lnTo>
                        <a:pt x="63" y="8"/>
                      </a:lnTo>
                      <a:lnTo>
                        <a:pt x="61" y="7"/>
                      </a:lnTo>
                      <a:lnTo>
                        <a:pt x="57" y="5"/>
                      </a:lnTo>
                      <a:lnTo>
                        <a:pt x="55" y="2"/>
                      </a:lnTo>
                      <a:lnTo>
                        <a:pt x="50" y="2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5" y="20"/>
                      </a:lnTo>
                      <a:lnTo>
                        <a:pt x="4" y="24"/>
                      </a:lnTo>
                      <a:lnTo>
                        <a:pt x="2" y="27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1" y="46"/>
                      </a:lnTo>
                      <a:lnTo>
                        <a:pt x="2" y="51"/>
                      </a:lnTo>
                      <a:lnTo>
                        <a:pt x="4" y="55"/>
                      </a:lnTo>
                      <a:lnTo>
                        <a:pt x="5" y="57"/>
                      </a:lnTo>
                      <a:lnTo>
                        <a:pt x="7" y="61"/>
                      </a:lnTo>
                      <a:lnTo>
                        <a:pt x="8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8" y="71"/>
                      </a:lnTo>
                      <a:lnTo>
                        <a:pt x="20" y="73"/>
                      </a:lnTo>
                      <a:lnTo>
                        <a:pt x="24" y="75"/>
                      </a:lnTo>
                      <a:lnTo>
                        <a:pt x="27" y="76"/>
                      </a:lnTo>
                      <a:lnTo>
                        <a:pt x="31" y="77"/>
                      </a:lnTo>
                      <a:lnTo>
                        <a:pt x="36" y="77"/>
                      </a:lnTo>
                      <a:lnTo>
                        <a:pt x="39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Freeform 21"/>
                <p:cNvSpPr/>
                <p:nvPr/>
              </p:nvSpPr>
              <p:spPr>
                <a:xfrm>
                  <a:off x="1589040" y="2445120"/>
                  <a:ext cx="39240" cy="41040"/>
                </a:xfrm>
                <a:custGeom>
                  <a:avLst/>
                  <a:gdLst>
                    <a:gd name="textAreaLeft" fmla="*/ 0 w 39240"/>
                    <a:gd name="textAreaRight" fmla="*/ 39240 w 392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5" h="78">
                      <a:moveTo>
                        <a:pt x="38" y="78"/>
                      </a:moveTo>
                      <a:lnTo>
                        <a:pt x="41" y="78"/>
                      </a:lnTo>
                      <a:lnTo>
                        <a:pt x="45" y="77"/>
                      </a:lnTo>
                      <a:lnTo>
                        <a:pt x="48" y="76"/>
                      </a:lnTo>
                      <a:lnTo>
                        <a:pt x="52" y="75"/>
                      </a:lnTo>
                      <a:lnTo>
                        <a:pt x="54" y="72"/>
                      </a:lnTo>
                      <a:lnTo>
                        <a:pt x="58" y="71"/>
                      </a:lnTo>
                      <a:lnTo>
                        <a:pt x="61" y="69"/>
                      </a:lnTo>
                      <a:lnTo>
                        <a:pt x="65" y="66"/>
                      </a:lnTo>
                      <a:lnTo>
                        <a:pt x="66" y="63"/>
                      </a:lnTo>
                      <a:lnTo>
                        <a:pt x="68" y="60"/>
                      </a:lnTo>
                      <a:lnTo>
                        <a:pt x="70" y="57"/>
                      </a:lnTo>
                      <a:lnTo>
                        <a:pt x="72" y="53"/>
                      </a:lnTo>
                      <a:lnTo>
                        <a:pt x="73" y="51"/>
                      </a:lnTo>
                      <a:lnTo>
                        <a:pt x="75" y="46"/>
                      </a:lnTo>
                      <a:lnTo>
                        <a:pt x="75" y="42"/>
                      </a:lnTo>
                      <a:lnTo>
                        <a:pt x="75" y="39"/>
                      </a:lnTo>
                      <a:lnTo>
                        <a:pt x="75" y="35"/>
                      </a:lnTo>
                      <a:lnTo>
                        <a:pt x="75" y="31"/>
                      </a:lnTo>
                      <a:lnTo>
                        <a:pt x="73" y="26"/>
                      </a:lnTo>
                      <a:lnTo>
                        <a:pt x="72" y="23"/>
                      </a:lnTo>
                      <a:lnTo>
                        <a:pt x="70" y="20"/>
                      </a:lnTo>
                      <a:lnTo>
                        <a:pt x="68" y="18"/>
                      </a:lnTo>
                      <a:lnTo>
                        <a:pt x="66" y="14"/>
                      </a:lnTo>
                      <a:lnTo>
                        <a:pt x="65" y="12"/>
                      </a:lnTo>
                      <a:lnTo>
                        <a:pt x="61" y="9"/>
                      </a:lnTo>
                      <a:lnTo>
                        <a:pt x="58" y="7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19" y="4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1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6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2"/>
                      </a:lnTo>
                      <a:lnTo>
                        <a:pt x="22" y="75"/>
                      </a:lnTo>
                      <a:lnTo>
                        <a:pt x="24" y="76"/>
                      </a:lnTo>
                      <a:lnTo>
                        <a:pt x="29" y="77"/>
                      </a:lnTo>
                      <a:lnTo>
                        <a:pt x="33" y="78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Freeform 22"/>
                <p:cNvSpPr/>
                <p:nvPr/>
              </p:nvSpPr>
              <p:spPr>
                <a:xfrm>
                  <a:off x="115092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50" y="76"/>
                      </a:lnTo>
                      <a:lnTo>
                        <a:pt x="53" y="73"/>
                      </a:lnTo>
                      <a:lnTo>
                        <a:pt x="56" y="72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5" y="65"/>
                      </a:lnTo>
                      <a:lnTo>
                        <a:pt x="67" y="63"/>
                      </a:lnTo>
                      <a:lnTo>
                        <a:pt x="70" y="60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6"/>
                      </a:lnTo>
                      <a:lnTo>
                        <a:pt x="76" y="42"/>
                      </a:lnTo>
                      <a:lnTo>
                        <a:pt x="77" y="39"/>
                      </a:lnTo>
                      <a:lnTo>
                        <a:pt x="76" y="35"/>
                      </a:lnTo>
                      <a:lnTo>
                        <a:pt x="76" y="29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6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5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50"/>
                      </a:lnTo>
                      <a:lnTo>
                        <a:pt x="2" y="53"/>
                      </a:lnTo>
                      <a:lnTo>
                        <a:pt x="3" y="56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2"/>
                      </a:lnTo>
                      <a:lnTo>
                        <a:pt x="22" y="73"/>
                      </a:lnTo>
                      <a:lnTo>
                        <a:pt x="26" y="76"/>
                      </a:lnTo>
                      <a:lnTo>
                        <a:pt x="31" y="76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Freeform 23"/>
                <p:cNvSpPr/>
                <p:nvPr/>
              </p:nvSpPr>
              <p:spPr>
                <a:xfrm>
                  <a:off x="1233360" y="2492640"/>
                  <a:ext cx="42480" cy="3960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9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6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2" y="58"/>
                      </a:lnTo>
                      <a:lnTo>
                        <a:pt x="73" y="56"/>
                      </a:lnTo>
                      <a:lnTo>
                        <a:pt x="74" y="53"/>
                      </a:lnTo>
                      <a:lnTo>
                        <a:pt x="76" y="48"/>
                      </a:lnTo>
                      <a:lnTo>
                        <a:pt x="76" y="45"/>
                      </a:lnTo>
                      <a:lnTo>
                        <a:pt x="77" y="40"/>
                      </a:lnTo>
                      <a:lnTo>
                        <a:pt x="79" y="38"/>
                      </a:lnTo>
                      <a:lnTo>
                        <a:pt x="77" y="33"/>
                      </a:lnTo>
                      <a:lnTo>
                        <a:pt x="76" y="29"/>
                      </a:lnTo>
                      <a:lnTo>
                        <a:pt x="76" y="25"/>
                      </a:lnTo>
                      <a:lnTo>
                        <a:pt x="74" y="22"/>
                      </a:lnTo>
                      <a:lnTo>
                        <a:pt x="73" y="19"/>
                      </a:lnTo>
                      <a:lnTo>
                        <a:pt x="72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5"/>
                      </a:lnTo>
                      <a:lnTo>
                        <a:pt x="56" y="3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5" y="19"/>
                      </a:lnTo>
                      <a:lnTo>
                        <a:pt x="3" y="22"/>
                      </a:lnTo>
                      <a:lnTo>
                        <a:pt x="2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5"/>
                      </a:lnTo>
                      <a:lnTo>
                        <a:pt x="2" y="48"/>
                      </a:lnTo>
                      <a:lnTo>
                        <a:pt x="3" y="53"/>
                      </a:lnTo>
                      <a:lnTo>
                        <a:pt x="5" y="56"/>
                      </a:lnTo>
                      <a:lnTo>
                        <a:pt x="6" y="58"/>
                      </a:lnTo>
                      <a:lnTo>
                        <a:pt x="9" y="61"/>
                      </a:lnTo>
                      <a:lnTo>
                        <a:pt x="12" y="65"/>
                      </a:lnTo>
                      <a:lnTo>
                        <a:pt x="15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8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Freeform 24"/>
                <p:cNvSpPr/>
                <p:nvPr/>
              </p:nvSpPr>
              <p:spPr>
                <a:xfrm>
                  <a:off x="1311120" y="2491200"/>
                  <a:ext cx="42480" cy="4104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9" h="79">
                      <a:moveTo>
                        <a:pt x="40" y="79"/>
                      </a:moveTo>
                      <a:lnTo>
                        <a:pt x="43" y="79"/>
                      </a:lnTo>
                      <a:lnTo>
                        <a:pt x="47" y="78"/>
                      </a:lnTo>
                      <a:lnTo>
                        <a:pt x="52" y="76"/>
                      </a:lnTo>
                      <a:lnTo>
                        <a:pt x="54" y="75"/>
                      </a:lnTo>
                      <a:lnTo>
                        <a:pt x="57" y="73"/>
                      </a:lnTo>
                      <a:lnTo>
                        <a:pt x="61" y="70"/>
                      </a:lnTo>
                      <a:lnTo>
                        <a:pt x="63" y="68"/>
                      </a:lnTo>
                      <a:lnTo>
                        <a:pt x="67" y="67"/>
                      </a:lnTo>
                      <a:lnTo>
                        <a:pt x="69" y="63"/>
                      </a:lnTo>
                      <a:lnTo>
                        <a:pt x="72" y="61"/>
                      </a:lnTo>
                      <a:lnTo>
                        <a:pt x="73" y="59"/>
                      </a:lnTo>
                      <a:lnTo>
                        <a:pt x="75" y="55"/>
                      </a:lnTo>
                      <a:lnTo>
                        <a:pt x="76" y="50"/>
                      </a:lnTo>
                      <a:lnTo>
                        <a:pt x="78" y="48"/>
                      </a:lnTo>
                      <a:lnTo>
                        <a:pt x="78" y="43"/>
                      </a:lnTo>
                      <a:lnTo>
                        <a:pt x="79" y="41"/>
                      </a:lnTo>
                      <a:lnTo>
                        <a:pt x="78" y="35"/>
                      </a:lnTo>
                      <a:lnTo>
                        <a:pt x="78" y="31"/>
                      </a:lnTo>
                      <a:lnTo>
                        <a:pt x="76" y="28"/>
                      </a:lnTo>
                      <a:lnTo>
                        <a:pt x="75" y="25"/>
                      </a:lnTo>
                      <a:lnTo>
                        <a:pt x="73" y="21"/>
                      </a:lnTo>
                      <a:lnTo>
                        <a:pt x="72" y="18"/>
                      </a:lnTo>
                      <a:lnTo>
                        <a:pt x="69" y="15"/>
                      </a:lnTo>
                      <a:lnTo>
                        <a:pt x="67" y="12"/>
                      </a:lnTo>
                      <a:lnTo>
                        <a:pt x="63" y="10"/>
                      </a:lnTo>
                      <a:lnTo>
                        <a:pt x="61" y="8"/>
                      </a:lnTo>
                      <a:lnTo>
                        <a:pt x="57" y="5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47" y="2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2"/>
                      </a:lnTo>
                      <a:lnTo>
                        <a:pt x="28" y="3"/>
                      </a:lnTo>
                      <a:lnTo>
                        <a:pt x="24" y="4"/>
                      </a:lnTo>
                      <a:lnTo>
                        <a:pt x="21" y="5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2" y="12"/>
                      </a:lnTo>
                      <a:lnTo>
                        <a:pt x="10" y="15"/>
                      </a:lnTo>
                      <a:lnTo>
                        <a:pt x="8" y="18"/>
                      </a:lnTo>
                      <a:lnTo>
                        <a:pt x="5" y="21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2" y="31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4" y="55"/>
                      </a:lnTo>
                      <a:lnTo>
                        <a:pt x="5" y="59"/>
                      </a:lnTo>
                      <a:lnTo>
                        <a:pt x="8" y="61"/>
                      </a:lnTo>
                      <a:lnTo>
                        <a:pt x="10" y="63"/>
                      </a:lnTo>
                      <a:lnTo>
                        <a:pt x="12" y="67"/>
                      </a:lnTo>
                      <a:lnTo>
                        <a:pt x="15" y="68"/>
                      </a:lnTo>
                      <a:lnTo>
                        <a:pt x="18" y="70"/>
                      </a:lnTo>
                      <a:lnTo>
                        <a:pt x="21" y="73"/>
                      </a:lnTo>
                      <a:lnTo>
                        <a:pt x="24" y="75"/>
                      </a:lnTo>
                      <a:lnTo>
                        <a:pt x="28" y="76"/>
                      </a:lnTo>
                      <a:lnTo>
                        <a:pt x="31" y="78"/>
                      </a:lnTo>
                      <a:lnTo>
                        <a:pt x="36" y="79"/>
                      </a:lnTo>
                      <a:lnTo>
                        <a:pt x="40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Freeform 25"/>
                <p:cNvSpPr/>
                <p:nvPr/>
              </p:nvSpPr>
              <p:spPr>
                <a:xfrm>
                  <a:off x="1388880" y="249264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8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7" y="71"/>
                      </a:lnTo>
                      <a:lnTo>
                        <a:pt x="60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8" y="63"/>
                      </a:lnTo>
                      <a:lnTo>
                        <a:pt x="70" y="59"/>
                      </a:lnTo>
                      <a:lnTo>
                        <a:pt x="73" y="56"/>
                      </a:lnTo>
                      <a:lnTo>
                        <a:pt x="75" y="53"/>
                      </a:lnTo>
                      <a:lnTo>
                        <a:pt x="75" y="50"/>
                      </a:lnTo>
                      <a:lnTo>
                        <a:pt x="78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8" y="29"/>
                      </a:lnTo>
                      <a:lnTo>
                        <a:pt x="75" y="26"/>
                      </a:lnTo>
                      <a:lnTo>
                        <a:pt x="75" y="22"/>
                      </a:lnTo>
                      <a:lnTo>
                        <a:pt x="73" y="19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0" y="6"/>
                      </a:lnTo>
                      <a:lnTo>
                        <a:pt x="57" y="3"/>
                      </a:lnTo>
                      <a:lnTo>
                        <a:pt x="54" y="2"/>
                      </a:lnTo>
                      <a:lnTo>
                        <a:pt x="50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6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5"/>
                      </a:lnTo>
                      <a:lnTo>
                        <a:pt x="2" y="50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9" y="63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7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Freeform 26"/>
                <p:cNvSpPr/>
                <p:nvPr/>
              </p:nvSpPr>
              <p:spPr>
                <a:xfrm>
                  <a:off x="147168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38" y="77"/>
                      </a:moveTo>
                      <a:lnTo>
                        <a:pt x="41" y="76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3" y="72"/>
                      </a:lnTo>
                      <a:lnTo>
                        <a:pt x="56" y="71"/>
                      </a:lnTo>
                      <a:lnTo>
                        <a:pt x="60" y="69"/>
                      </a:lnTo>
                      <a:lnTo>
                        <a:pt x="63" y="66"/>
                      </a:lnTo>
                      <a:lnTo>
                        <a:pt x="65" y="64"/>
                      </a:lnTo>
                      <a:lnTo>
                        <a:pt x="67" y="62"/>
                      </a:lnTo>
                      <a:lnTo>
                        <a:pt x="70" y="59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6" y="49"/>
                      </a:lnTo>
                      <a:lnTo>
                        <a:pt x="76" y="45"/>
                      </a:lnTo>
                      <a:lnTo>
                        <a:pt x="77" y="41"/>
                      </a:lnTo>
                      <a:lnTo>
                        <a:pt x="78" y="38"/>
                      </a:lnTo>
                      <a:lnTo>
                        <a:pt x="77" y="34"/>
                      </a:lnTo>
                      <a:lnTo>
                        <a:pt x="76" y="28"/>
                      </a:lnTo>
                      <a:lnTo>
                        <a:pt x="76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3" y="8"/>
                      </a:lnTo>
                      <a:lnTo>
                        <a:pt x="60" y="6"/>
                      </a:lnTo>
                      <a:lnTo>
                        <a:pt x="56" y="4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7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9"/>
                      </a:lnTo>
                      <a:lnTo>
                        <a:pt x="2" y="53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4"/>
                      </a:lnTo>
                      <a:lnTo>
                        <a:pt x="13" y="66"/>
                      </a:lnTo>
                      <a:lnTo>
                        <a:pt x="16" y="69"/>
                      </a:lnTo>
                      <a:lnTo>
                        <a:pt x="20" y="71"/>
                      </a:lnTo>
                      <a:lnTo>
                        <a:pt x="22" y="72"/>
                      </a:lnTo>
                      <a:lnTo>
                        <a:pt x="26" y="75"/>
                      </a:lnTo>
                      <a:lnTo>
                        <a:pt x="31" y="75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Freeform 27"/>
                <p:cNvSpPr/>
                <p:nvPr/>
              </p:nvSpPr>
              <p:spPr>
                <a:xfrm>
                  <a:off x="1552320" y="2494080"/>
                  <a:ext cx="39600" cy="399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48" y="75"/>
                      </a:lnTo>
                      <a:lnTo>
                        <a:pt x="53" y="75"/>
                      </a:lnTo>
                      <a:lnTo>
                        <a:pt x="56" y="73"/>
                      </a:lnTo>
                      <a:lnTo>
                        <a:pt x="59" y="70"/>
                      </a:lnTo>
                      <a:lnTo>
                        <a:pt x="61" y="67"/>
                      </a:lnTo>
                      <a:lnTo>
                        <a:pt x="65" y="66"/>
                      </a:lnTo>
                      <a:lnTo>
                        <a:pt x="67" y="62"/>
                      </a:lnTo>
                      <a:lnTo>
                        <a:pt x="70" y="60"/>
                      </a:lnTo>
                      <a:lnTo>
                        <a:pt x="71" y="57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5"/>
                      </a:lnTo>
                      <a:lnTo>
                        <a:pt x="76" y="42"/>
                      </a:lnTo>
                      <a:lnTo>
                        <a:pt x="77" y="38"/>
                      </a:lnTo>
                      <a:lnTo>
                        <a:pt x="76" y="35"/>
                      </a:lnTo>
                      <a:lnTo>
                        <a:pt x="76" y="30"/>
                      </a:lnTo>
                      <a:lnTo>
                        <a:pt x="74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1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5" y="6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2"/>
                      </a:lnTo>
                      <a:lnTo>
                        <a:pt x="10" y="66"/>
                      </a:lnTo>
                      <a:lnTo>
                        <a:pt x="13" y="67"/>
                      </a:lnTo>
                      <a:lnTo>
                        <a:pt x="15" y="70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3" y="77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Freeform 28"/>
                <p:cNvSpPr/>
                <p:nvPr/>
              </p:nvSpPr>
              <p:spPr>
                <a:xfrm>
                  <a:off x="1317600" y="1908360"/>
                  <a:ext cx="29880" cy="14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6" h="27">
                      <a:moveTo>
                        <a:pt x="51" y="0"/>
                      </a:moveTo>
                      <a:lnTo>
                        <a:pt x="51" y="4"/>
                      </a:lnTo>
                      <a:lnTo>
                        <a:pt x="51" y="8"/>
                      </a:lnTo>
                      <a:lnTo>
                        <a:pt x="51" y="12"/>
                      </a:lnTo>
                      <a:lnTo>
                        <a:pt x="53" y="15"/>
                      </a:lnTo>
                      <a:lnTo>
                        <a:pt x="53" y="19"/>
                      </a:lnTo>
                      <a:lnTo>
                        <a:pt x="54" y="22"/>
                      </a:lnTo>
                      <a:lnTo>
                        <a:pt x="55" y="25"/>
                      </a:lnTo>
                      <a:lnTo>
                        <a:pt x="56" y="27"/>
                      </a:lnTo>
                      <a:lnTo>
                        <a:pt x="51" y="27"/>
                      </a:lnTo>
                      <a:lnTo>
                        <a:pt x="48" y="27"/>
                      </a:lnTo>
                      <a:lnTo>
                        <a:pt x="44" y="27"/>
                      </a:lnTo>
                      <a:lnTo>
                        <a:pt x="41" y="27"/>
                      </a:lnTo>
                      <a:lnTo>
                        <a:pt x="37" y="26"/>
                      </a:lnTo>
                      <a:lnTo>
                        <a:pt x="34" y="25"/>
                      </a:lnTo>
                      <a:lnTo>
                        <a:pt x="29" y="23"/>
                      </a:lnTo>
                      <a:lnTo>
                        <a:pt x="26" y="22"/>
                      </a:lnTo>
                      <a:lnTo>
                        <a:pt x="23" y="20"/>
                      </a:lnTo>
                      <a:lnTo>
                        <a:pt x="19" y="18"/>
                      </a:lnTo>
                      <a:lnTo>
                        <a:pt x="16" y="14"/>
                      </a:lnTo>
                      <a:lnTo>
                        <a:pt x="13" y="12"/>
                      </a:lnTo>
                      <a:lnTo>
                        <a:pt x="9" y="9"/>
                      </a:lnTo>
                      <a:lnTo>
                        <a:pt x="6" y="7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9" y="1"/>
                      </a:lnTo>
                      <a:lnTo>
                        <a:pt x="23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Freeform 29"/>
                <p:cNvSpPr/>
                <p:nvPr/>
              </p:nvSpPr>
              <p:spPr>
                <a:xfrm>
                  <a:off x="1100160" y="1908360"/>
                  <a:ext cx="516960" cy="74520"/>
                </a:xfrm>
                <a:custGeom>
                  <a:avLst/>
                  <a:gdLst>
                    <a:gd name="textAreaLeft" fmla="*/ 0 w 516960"/>
                    <a:gd name="textAreaRight" fmla="*/ 517320 w 5169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976" h="139">
                      <a:moveTo>
                        <a:pt x="811" y="11"/>
                      </a:moveTo>
                      <a:lnTo>
                        <a:pt x="812" y="11"/>
                      </a:lnTo>
                      <a:lnTo>
                        <a:pt x="816" y="11"/>
                      </a:lnTo>
                      <a:lnTo>
                        <a:pt x="818" y="11"/>
                      </a:lnTo>
                      <a:lnTo>
                        <a:pt x="822" y="12"/>
                      </a:lnTo>
                      <a:lnTo>
                        <a:pt x="824" y="12"/>
                      </a:lnTo>
                      <a:lnTo>
                        <a:pt x="829" y="12"/>
                      </a:lnTo>
                      <a:lnTo>
                        <a:pt x="827" y="13"/>
                      </a:lnTo>
                      <a:lnTo>
                        <a:pt x="824" y="14"/>
                      </a:lnTo>
                      <a:lnTo>
                        <a:pt x="821" y="16"/>
                      </a:lnTo>
                      <a:lnTo>
                        <a:pt x="818" y="18"/>
                      </a:lnTo>
                      <a:lnTo>
                        <a:pt x="816" y="18"/>
                      </a:lnTo>
                      <a:lnTo>
                        <a:pt x="812" y="20"/>
                      </a:lnTo>
                      <a:lnTo>
                        <a:pt x="810" y="21"/>
                      </a:lnTo>
                      <a:lnTo>
                        <a:pt x="808" y="23"/>
                      </a:lnTo>
                      <a:lnTo>
                        <a:pt x="804" y="24"/>
                      </a:lnTo>
                      <a:lnTo>
                        <a:pt x="802" y="25"/>
                      </a:lnTo>
                      <a:lnTo>
                        <a:pt x="798" y="26"/>
                      </a:lnTo>
                      <a:lnTo>
                        <a:pt x="795" y="27"/>
                      </a:lnTo>
                      <a:lnTo>
                        <a:pt x="792" y="29"/>
                      </a:lnTo>
                      <a:lnTo>
                        <a:pt x="790" y="30"/>
                      </a:lnTo>
                      <a:lnTo>
                        <a:pt x="785" y="31"/>
                      </a:lnTo>
                      <a:lnTo>
                        <a:pt x="783" y="32"/>
                      </a:lnTo>
                      <a:lnTo>
                        <a:pt x="779" y="33"/>
                      </a:lnTo>
                      <a:lnTo>
                        <a:pt x="777" y="33"/>
                      </a:lnTo>
                      <a:lnTo>
                        <a:pt x="772" y="35"/>
                      </a:lnTo>
                      <a:lnTo>
                        <a:pt x="770" y="36"/>
                      </a:lnTo>
                      <a:lnTo>
                        <a:pt x="766" y="36"/>
                      </a:lnTo>
                      <a:lnTo>
                        <a:pt x="764" y="36"/>
                      </a:lnTo>
                      <a:lnTo>
                        <a:pt x="761" y="36"/>
                      </a:lnTo>
                      <a:lnTo>
                        <a:pt x="758" y="36"/>
                      </a:lnTo>
                      <a:lnTo>
                        <a:pt x="755" y="35"/>
                      </a:lnTo>
                      <a:lnTo>
                        <a:pt x="752" y="33"/>
                      </a:lnTo>
                      <a:lnTo>
                        <a:pt x="750" y="32"/>
                      </a:lnTo>
                      <a:lnTo>
                        <a:pt x="748" y="31"/>
                      </a:lnTo>
                      <a:lnTo>
                        <a:pt x="746" y="29"/>
                      </a:lnTo>
                      <a:lnTo>
                        <a:pt x="744" y="26"/>
                      </a:lnTo>
                      <a:lnTo>
                        <a:pt x="741" y="24"/>
                      </a:lnTo>
                      <a:lnTo>
                        <a:pt x="740" y="21"/>
                      </a:lnTo>
                      <a:lnTo>
                        <a:pt x="735" y="24"/>
                      </a:lnTo>
                      <a:lnTo>
                        <a:pt x="732" y="25"/>
                      </a:lnTo>
                      <a:lnTo>
                        <a:pt x="727" y="27"/>
                      </a:lnTo>
                      <a:lnTo>
                        <a:pt x="723" y="30"/>
                      </a:lnTo>
                      <a:lnTo>
                        <a:pt x="721" y="32"/>
                      </a:lnTo>
                      <a:lnTo>
                        <a:pt x="719" y="33"/>
                      </a:lnTo>
                      <a:lnTo>
                        <a:pt x="716" y="36"/>
                      </a:lnTo>
                      <a:lnTo>
                        <a:pt x="715" y="38"/>
                      </a:lnTo>
                      <a:lnTo>
                        <a:pt x="712" y="40"/>
                      </a:lnTo>
                      <a:lnTo>
                        <a:pt x="710" y="43"/>
                      </a:lnTo>
                      <a:lnTo>
                        <a:pt x="708" y="45"/>
                      </a:lnTo>
                      <a:lnTo>
                        <a:pt x="707" y="46"/>
                      </a:lnTo>
                      <a:lnTo>
                        <a:pt x="704" y="46"/>
                      </a:lnTo>
                      <a:lnTo>
                        <a:pt x="702" y="46"/>
                      </a:lnTo>
                      <a:lnTo>
                        <a:pt x="698" y="44"/>
                      </a:lnTo>
                      <a:lnTo>
                        <a:pt x="695" y="42"/>
                      </a:lnTo>
                      <a:lnTo>
                        <a:pt x="691" y="39"/>
                      </a:lnTo>
                      <a:lnTo>
                        <a:pt x="688" y="38"/>
                      </a:lnTo>
                      <a:lnTo>
                        <a:pt x="684" y="36"/>
                      </a:lnTo>
                      <a:lnTo>
                        <a:pt x="681" y="32"/>
                      </a:lnTo>
                      <a:lnTo>
                        <a:pt x="678" y="31"/>
                      </a:lnTo>
                      <a:lnTo>
                        <a:pt x="676" y="30"/>
                      </a:lnTo>
                      <a:lnTo>
                        <a:pt x="672" y="27"/>
                      </a:lnTo>
                      <a:lnTo>
                        <a:pt x="670" y="26"/>
                      </a:lnTo>
                      <a:lnTo>
                        <a:pt x="666" y="24"/>
                      </a:lnTo>
                      <a:lnTo>
                        <a:pt x="664" y="23"/>
                      </a:lnTo>
                      <a:lnTo>
                        <a:pt x="661" y="20"/>
                      </a:lnTo>
                      <a:lnTo>
                        <a:pt x="658" y="18"/>
                      </a:lnTo>
                      <a:lnTo>
                        <a:pt x="656" y="23"/>
                      </a:lnTo>
                      <a:lnTo>
                        <a:pt x="653" y="29"/>
                      </a:lnTo>
                      <a:lnTo>
                        <a:pt x="652" y="32"/>
                      </a:lnTo>
                      <a:lnTo>
                        <a:pt x="650" y="38"/>
                      </a:lnTo>
                      <a:lnTo>
                        <a:pt x="650" y="42"/>
                      </a:lnTo>
                      <a:lnTo>
                        <a:pt x="649" y="45"/>
                      </a:lnTo>
                      <a:lnTo>
                        <a:pt x="647" y="49"/>
                      </a:lnTo>
                      <a:lnTo>
                        <a:pt x="647" y="52"/>
                      </a:lnTo>
                      <a:lnTo>
                        <a:pt x="647" y="55"/>
                      </a:lnTo>
                      <a:lnTo>
                        <a:pt x="647" y="58"/>
                      </a:lnTo>
                      <a:lnTo>
                        <a:pt x="647" y="61"/>
                      </a:lnTo>
                      <a:lnTo>
                        <a:pt x="650" y="63"/>
                      </a:lnTo>
                      <a:lnTo>
                        <a:pt x="650" y="67"/>
                      </a:lnTo>
                      <a:lnTo>
                        <a:pt x="653" y="70"/>
                      </a:lnTo>
                      <a:lnTo>
                        <a:pt x="657" y="71"/>
                      </a:lnTo>
                      <a:lnTo>
                        <a:pt x="661" y="74"/>
                      </a:lnTo>
                      <a:lnTo>
                        <a:pt x="664" y="74"/>
                      </a:lnTo>
                      <a:lnTo>
                        <a:pt x="669" y="74"/>
                      </a:lnTo>
                      <a:lnTo>
                        <a:pt x="671" y="74"/>
                      </a:lnTo>
                      <a:lnTo>
                        <a:pt x="674" y="74"/>
                      </a:lnTo>
                      <a:lnTo>
                        <a:pt x="677" y="74"/>
                      </a:lnTo>
                      <a:lnTo>
                        <a:pt x="681" y="74"/>
                      </a:lnTo>
                      <a:lnTo>
                        <a:pt x="683" y="73"/>
                      </a:lnTo>
                      <a:lnTo>
                        <a:pt x="685" y="73"/>
                      </a:lnTo>
                      <a:lnTo>
                        <a:pt x="688" y="71"/>
                      </a:lnTo>
                      <a:lnTo>
                        <a:pt x="691" y="71"/>
                      </a:lnTo>
                      <a:lnTo>
                        <a:pt x="695" y="70"/>
                      </a:lnTo>
                      <a:lnTo>
                        <a:pt x="697" y="69"/>
                      </a:lnTo>
                      <a:lnTo>
                        <a:pt x="701" y="68"/>
                      </a:lnTo>
                      <a:lnTo>
                        <a:pt x="704" y="67"/>
                      </a:lnTo>
                      <a:lnTo>
                        <a:pt x="707" y="65"/>
                      </a:lnTo>
                      <a:lnTo>
                        <a:pt x="710" y="65"/>
                      </a:lnTo>
                      <a:lnTo>
                        <a:pt x="714" y="64"/>
                      </a:lnTo>
                      <a:lnTo>
                        <a:pt x="717" y="63"/>
                      </a:lnTo>
                      <a:lnTo>
                        <a:pt x="720" y="62"/>
                      </a:lnTo>
                      <a:lnTo>
                        <a:pt x="723" y="61"/>
                      </a:lnTo>
                      <a:lnTo>
                        <a:pt x="726" y="59"/>
                      </a:lnTo>
                      <a:lnTo>
                        <a:pt x="729" y="58"/>
                      </a:lnTo>
                      <a:lnTo>
                        <a:pt x="733" y="58"/>
                      </a:lnTo>
                      <a:lnTo>
                        <a:pt x="736" y="57"/>
                      </a:lnTo>
                      <a:lnTo>
                        <a:pt x="739" y="56"/>
                      </a:lnTo>
                      <a:lnTo>
                        <a:pt x="741" y="56"/>
                      </a:lnTo>
                      <a:lnTo>
                        <a:pt x="744" y="55"/>
                      </a:lnTo>
                      <a:lnTo>
                        <a:pt x="747" y="55"/>
                      </a:lnTo>
                      <a:lnTo>
                        <a:pt x="751" y="54"/>
                      </a:lnTo>
                      <a:lnTo>
                        <a:pt x="753" y="54"/>
                      </a:lnTo>
                      <a:lnTo>
                        <a:pt x="758" y="52"/>
                      </a:lnTo>
                      <a:lnTo>
                        <a:pt x="763" y="54"/>
                      </a:lnTo>
                      <a:lnTo>
                        <a:pt x="766" y="54"/>
                      </a:lnTo>
                      <a:lnTo>
                        <a:pt x="770" y="55"/>
                      </a:lnTo>
                      <a:lnTo>
                        <a:pt x="772" y="56"/>
                      </a:lnTo>
                      <a:lnTo>
                        <a:pt x="774" y="59"/>
                      </a:lnTo>
                      <a:lnTo>
                        <a:pt x="774" y="63"/>
                      </a:lnTo>
                      <a:lnTo>
                        <a:pt x="777" y="65"/>
                      </a:lnTo>
                      <a:lnTo>
                        <a:pt x="777" y="68"/>
                      </a:lnTo>
                      <a:lnTo>
                        <a:pt x="779" y="71"/>
                      </a:lnTo>
                      <a:lnTo>
                        <a:pt x="780" y="74"/>
                      </a:lnTo>
                      <a:lnTo>
                        <a:pt x="782" y="77"/>
                      </a:lnTo>
                      <a:lnTo>
                        <a:pt x="784" y="80"/>
                      </a:lnTo>
                      <a:lnTo>
                        <a:pt x="786" y="82"/>
                      </a:lnTo>
                      <a:lnTo>
                        <a:pt x="790" y="83"/>
                      </a:lnTo>
                      <a:lnTo>
                        <a:pt x="792" y="86"/>
                      </a:lnTo>
                      <a:lnTo>
                        <a:pt x="795" y="87"/>
                      </a:lnTo>
                      <a:lnTo>
                        <a:pt x="798" y="88"/>
                      </a:lnTo>
                      <a:lnTo>
                        <a:pt x="801" y="88"/>
                      </a:lnTo>
                      <a:lnTo>
                        <a:pt x="804" y="90"/>
                      </a:lnTo>
                      <a:lnTo>
                        <a:pt x="808" y="90"/>
                      </a:lnTo>
                      <a:lnTo>
                        <a:pt x="812" y="92"/>
                      </a:lnTo>
                      <a:lnTo>
                        <a:pt x="816" y="92"/>
                      </a:lnTo>
                      <a:lnTo>
                        <a:pt x="820" y="92"/>
                      </a:lnTo>
                      <a:lnTo>
                        <a:pt x="823" y="90"/>
                      </a:lnTo>
                      <a:lnTo>
                        <a:pt x="828" y="89"/>
                      </a:lnTo>
                      <a:lnTo>
                        <a:pt x="831" y="88"/>
                      </a:lnTo>
                      <a:lnTo>
                        <a:pt x="836" y="86"/>
                      </a:lnTo>
                      <a:lnTo>
                        <a:pt x="840" y="83"/>
                      </a:lnTo>
                      <a:lnTo>
                        <a:pt x="846" y="82"/>
                      </a:lnTo>
                      <a:lnTo>
                        <a:pt x="849" y="78"/>
                      </a:lnTo>
                      <a:lnTo>
                        <a:pt x="853" y="76"/>
                      </a:lnTo>
                      <a:lnTo>
                        <a:pt x="857" y="71"/>
                      </a:lnTo>
                      <a:lnTo>
                        <a:pt x="862" y="68"/>
                      </a:lnTo>
                      <a:lnTo>
                        <a:pt x="867" y="63"/>
                      </a:lnTo>
                      <a:lnTo>
                        <a:pt x="871" y="58"/>
                      </a:lnTo>
                      <a:lnTo>
                        <a:pt x="873" y="56"/>
                      </a:lnTo>
                      <a:lnTo>
                        <a:pt x="875" y="54"/>
                      </a:lnTo>
                      <a:lnTo>
                        <a:pt x="878" y="50"/>
                      </a:lnTo>
                      <a:lnTo>
                        <a:pt x="880" y="48"/>
                      </a:lnTo>
                      <a:lnTo>
                        <a:pt x="878" y="45"/>
                      </a:lnTo>
                      <a:lnTo>
                        <a:pt x="875" y="44"/>
                      </a:lnTo>
                      <a:lnTo>
                        <a:pt x="873" y="43"/>
                      </a:lnTo>
                      <a:lnTo>
                        <a:pt x="868" y="43"/>
                      </a:lnTo>
                      <a:lnTo>
                        <a:pt x="865" y="43"/>
                      </a:lnTo>
                      <a:lnTo>
                        <a:pt x="860" y="43"/>
                      </a:lnTo>
                      <a:lnTo>
                        <a:pt x="855" y="43"/>
                      </a:lnTo>
                      <a:lnTo>
                        <a:pt x="850" y="43"/>
                      </a:lnTo>
                      <a:lnTo>
                        <a:pt x="847" y="43"/>
                      </a:lnTo>
                      <a:lnTo>
                        <a:pt x="844" y="43"/>
                      </a:lnTo>
                      <a:lnTo>
                        <a:pt x="842" y="43"/>
                      </a:lnTo>
                      <a:lnTo>
                        <a:pt x="840" y="44"/>
                      </a:lnTo>
                      <a:lnTo>
                        <a:pt x="835" y="44"/>
                      </a:lnTo>
                      <a:lnTo>
                        <a:pt x="830" y="44"/>
                      </a:lnTo>
                      <a:lnTo>
                        <a:pt x="825" y="43"/>
                      </a:lnTo>
                      <a:lnTo>
                        <a:pt x="823" y="43"/>
                      </a:lnTo>
                      <a:lnTo>
                        <a:pt x="820" y="40"/>
                      </a:lnTo>
                      <a:lnTo>
                        <a:pt x="820" y="39"/>
                      </a:lnTo>
                      <a:lnTo>
                        <a:pt x="821" y="37"/>
                      </a:lnTo>
                      <a:lnTo>
                        <a:pt x="822" y="33"/>
                      </a:lnTo>
                      <a:lnTo>
                        <a:pt x="824" y="31"/>
                      </a:lnTo>
                      <a:lnTo>
                        <a:pt x="827" y="30"/>
                      </a:lnTo>
                      <a:lnTo>
                        <a:pt x="829" y="25"/>
                      </a:lnTo>
                      <a:lnTo>
                        <a:pt x="833" y="23"/>
                      </a:lnTo>
                      <a:lnTo>
                        <a:pt x="834" y="19"/>
                      </a:lnTo>
                      <a:lnTo>
                        <a:pt x="836" y="17"/>
                      </a:lnTo>
                      <a:lnTo>
                        <a:pt x="837" y="14"/>
                      </a:lnTo>
                      <a:lnTo>
                        <a:pt x="839" y="12"/>
                      </a:lnTo>
                      <a:lnTo>
                        <a:pt x="842" y="12"/>
                      </a:lnTo>
                      <a:lnTo>
                        <a:pt x="847" y="12"/>
                      </a:lnTo>
                      <a:lnTo>
                        <a:pt x="852" y="12"/>
                      </a:lnTo>
                      <a:lnTo>
                        <a:pt x="857" y="13"/>
                      </a:lnTo>
                      <a:lnTo>
                        <a:pt x="860" y="13"/>
                      </a:lnTo>
                      <a:lnTo>
                        <a:pt x="862" y="13"/>
                      </a:lnTo>
                      <a:lnTo>
                        <a:pt x="865" y="13"/>
                      </a:lnTo>
                      <a:lnTo>
                        <a:pt x="868" y="13"/>
                      </a:lnTo>
                      <a:lnTo>
                        <a:pt x="871" y="13"/>
                      </a:lnTo>
                      <a:lnTo>
                        <a:pt x="873" y="14"/>
                      </a:lnTo>
                      <a:lnTo>
                        <a:pt x="875" y="14"/>
                      </a:lnTo>
                      <a:lnTo>
                        <a:pt x="879" y="16"/>
                      </a:lnTo>
                      <a:lnTo>
                        <a:pt x="881" y="16"/>
                      </a:lnTo>
                      <a:lnTo>
                        <a:pt x="885" y="16"/>
                      </a:lnTo>
                      <a:lnTo>
                        <a:pt x="888" y="16"/>
                      </a:lnTo>
                      <a:lnTo>
                        <a:pt x="891" y="16"/>
                      </a:lnTo>
                      <a:lnTo>
                        <a:pt x="893" y="16"/>
                      </a:lnTo>
                      <a:lnTo>
                        <a:pt x="895" y="16"/>
                      </a:lnTo>
                      <a:lnTo>
                        <a:pt x="899" y="16"/>
                      </a:lnTo>
                      <a:lnTo>
                        <a:pt x="901" y="16"/>
                      </a:lnTo>
                      <a:lnTo>
                        <a:pt x="904" y="16"/>
                      </a:lnTo>
                      <a:lnTo>
                        <a:pt x="907" y="16"/>
                      </a:lnTo>
                      <a:lnTo>
                        <a:pt x="910" y="16"/>
                      </a:lnTo>
                      <a:lnTo>
                        <a:pt x="913" y="16"/>
                      </a:lnTo>
                      <a:lnTo>
                        <a:pt x="916" y="16"/>
                      </a:lnTo>
                      <a:lnTo>
                        <a:pt x="918" y="17"/>
                      </a:lnTo>
                      <a:lnTo>
                        <a:pt x="922" y="17"/>
                      </a:lnTo>
                      <a:lnTo>
                        <a:pt x="924" y="18"/>
                      </a:lnTo>
                      <a:lnTo>
                        <a:pt x="929" y="18"/>
                      </a:lnTo>
                      <a:lnTo>
                        <a:pt x="935" y="18"/>
                      </a:lnTo>
                      <a:lnTo>
                        <a:pt x="939" y="18"/>
                      </a:lnTo>
                      <a:lnTo>
                        <a:pt x="944" y="18"/>
                      </a:lnTo>
                      <a:lnTo>
                        <a:pt x="949" y="18"/>
                      </a:lnTo>
                      <a:lnTo>
                        <a:pt x="954" y="18"/>
                      </a:lnTo>
                      <a:lnTo>
                        <a:pt x="956" y="18"/>
                      </a:lnTo>
                      <a:lnTo>
                        <a:pt x="961" y="19"/>
                      </a:lnTo>
                      <a:lnTo>
                        <a:pt x="964" y="19"/>
                      </a:lnTo>
                      <a:lnTo>
                        <a:pt x="967" y="19"/>
                      </a:lnTo>
                      <a:lnTo>
                        <a:pt x="969" y="19"/>
                      </a:lnTo>
                      <a:lnTo>
                        <a:pt x="971" y="20"/>
                      </a:lnTo>
                      <a:lnTo>
                        <a:pt x="974" y="20"/>
                      </a:lnTo>
                      <a:lnTo>
                        <a:pt x="976" y="20"/>
                      </a:lnTo>
                      <a:lnTo>
                        <a:pt x="973" y="106"/>
                      </a:lnTo>
                      <a:lnTo>
                        <a:pt x="806" y="97"/>
                      </a:lnTo>
                      <a:lnTo>
                        <a:pt x="793" y="96"/>
                      </a:lnTo>
                      <a:lnTo>
                        <a:pt x="782" y="96"/>
                      </a:lnTo>
                      <a:lnTo>
                        <a:pt x="770" y="95"/>
                      </a:lnTo>
                      <a:lnTo>
                        <a:pt x="757" y="95"/>
                      </a:lnTo>
                      <a:lnTo>
                        <a:pt x="744" y="94"/>
                      </a:lnTo>
                      <a:lnTo>
                        <a:pt x="732" y="94"/>
                      </a:lnTo>
                      <a:lnTo>
                        <a:pt x="719" y="93"/>
                      </a:lnTo>
                      <a:lnTo>
                        <a:pt x="706" y="92"/>
                      </a:lnTo>
                      <a:lnTo>
                        <a:pt x="694" y="92"/>
                      </a:lnTo>
                      <a:lnTo>
                        <a:pt x="681" y="90"/>
                      </a:lnTo>
                      <a:lnTo>
                        <a:pt x="668" y="89"/>
                      </a:lnTo>
                      <a:lnTo>
                        <a:pt x="656" y="88"/>
                      </a:lnTo>
                      <a:lnTo>
                        <a:pt x="643" y="88"/>
                      </a:lnTo>
                      <a:lnTo>
                        <a:pt x="630" y="88"/>
                      </a:lnTo>
                      <a:lnTo>
                        <a:pt x="618" y="87"/>
                      </a:lnTo>
                      <a:lnTo>
                        <a:pt x="606" y="87"/>
                      </a:lnTo>
                      <a:lnTo>
                        <a:pt x="593" y="86"/>
                      </a:lnTo>
                      <a:lnTo>
                        <a:pt x="580" y="86"/>
                      </a:lnTo>
                      <a:lnTo>
                        <a:pt x="568" y="86"/>
                      </a:lnTo>
                      <a:lnTo>
                        <a:pt x="555" y="86"/>
                      </a:lnTo>
                      <a:lnTo>
                        <a:pt x="543" y="84"/>
                      </a:lnTo>
                      <a:lnTo>
                        <a:pt x="530" y="84"/>
                      </a:lnTo>
                      <a:lnTo>
                        <a:pt x="518" y="84"/>
                      </a:lnTo>
                      <a:lnTo>
                        <a:pt x="505" y="84"/>
                      </a:lnTo>
                      <a:lnTo>
                        <a:pt x="492" y="84"/>
                      </a:lnTo>
                      <a:lnTo>
                        <a:pt x="480" y="84"/>
                      </a:lnTo>
                      <a:lnTo>
                        <a:pt x="468" y="84"/>
                      </a:lnTo>
                      <a:lnTo>
                        <a:pt x="455" y="84"/>
                      </a:lnTo>
                      <a:lnTo>
                        <a:pt x="442" y="84"/>
                      </a:lnTo>
                      <a:lnTo>
                        <a:pt x="430" y="84"/>
                      </a:lnTo>
                      <a:lnTo>
                        <a:pt x="418" y="86"/>
                      </a:lnTo>
                      <a:lnTo>
                        <a:pt x="407" y="86"/>
                      </a:lnTo>
                      <a:lnTo>
                        <a:pt x="394" y="86"/>
                      </a:lnTo>
                      <a:lnTo>
                        <a:pt x="382" y="86"/>
                      </a:lnTo>
                      <a:lnTo>
                        <a:pt x="369" y="86"/>
                      </a:lnTo>
                      <a:lnTo>
                        <a:pt x="357" y="87"/>
                      </a:lnTo>
                      <a:lnTo>
                        <a:pt x="344" y="87"/>
                      </a:lnTo>
                      <a:lnTo>
                        <a:pt x="332" y="88"/>
                      </a:lnTo>
                      <a:lnTo>
                        <a:pt x="320" y="88"/>
                      </a:lnTo>
                      <a:lnTo>
                        <a:pt x="308" y="90"/>
                      </a:lnTo>
                      <a:lnTo>
                        <a:pt x="295" y="90"/>
                      </a:lnTo>
                      <a:lnTo>
                        <a:pt x="283" y="92"/>
                      </a:lnTo>
                      <a:lnTo>
                        <a:pt x="270" y="93"/>
                      </a:lnTo>
                      <a:lnTo>
                        <a:pt x="258" y="94"/>
                      </a:lnTo>
                      <a:lnTo>
                        <a:pt x="245" y="95"/>
                      </a:lnTo>
                      <a:lnTo>
                        <a:pt x="235" y="96"/>
                      </a:lnTo>
                      <a:lnTo>
                        <a:pt x="223" y="99"/>
                      </a:lnTo>
                      <a:lnTo>
                        <a:pt x="210" y="100"/>
                      </a:lnTo>
                      <a:lnTo>
                        <a:pt x="198" y="101"/>
                      </a:lnTo>
                      <a:lnTo>
                        <a:pt x="186" y="103"/>
                      </a:lnTo>
                      <a:lnTo>
                        <a:pt x="174" y="105"/>
                      </a:lnTo>
                      <a:lnTo>
                        <a:pt x="162" y="106"/>
                      </a:lnTo>
                      <a:lnTo>
                        <a:pt x="150" y="108"/>
                      </a:lnTo>
                      <a:lnTo>
                        <a:pt x="138" y="111"/>
                      </a:lnTo>
                      <a:lnTo>
                        <a:pt x="127" y="113"/>
                      </a:lnTo>
                      <a:lnTo>
                        <a:pt x="116" y="115"/>
                      </a:lnTo>
                      <a:lnTo>
                        <a:pt x="103" y="118"/>
                      </a:lnTo>
                      <a:lnTo>
                        <a:pt x="92" y="120"/>
                      </a:lnTo>
                      <a:lnTo>
                        <a:pt x="80" y="124"/>
                      </a:lnTo>
                      <a:lnTo>
                        <a:pt x="70" y="126"/>
                      </a:lnTo>
                      <a:lnTo>
                        <a:pt x="58" y="130"/>
                      </a:lnTo>
                      <a:lnTo>
                        <a:pt x="46" y="132"/>
                      </a:lnTo>
                      <a:lnTo>
                        <a:pt x="35" y="134"/>
                      </a:lnTo>
                      <a:lnTo>
                        <a:pt x="23" y="139"/>
                      </a:lnTo>
                      <a:lnTo>
                        <a:pt x="0" y="56"/>
                      </a:lnTo>
                      <a:lnTo>
                        <a:pt x="4" y="54"/>
                      </a:lnTo>
                      <a:lnTo>
                        <a:pt x="10" y="52"/>
                      </a:lnTo>
                      <a:lnTo>
                        <a:pt x="13" y="51"/>
                      </a:lnTo>
                      <a:lnTo>
                        <a:pt x="15" y="50"/>
                      </a:lnTo>
                      <a:lnTo>
                        <a:pt x="17" y="50"/>
                      </a:lnTo>
                      <a:lnTo>
                        <a:pt x="21" y="49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3" y="45"/>
                      </a:lnTo>
                      <a:lnTo>
                        <a:pt x="36" y="45"/>
                      </a:lnTo>
                      <a:lnTo>
                        <a:pt x="39" y="44"/>
                      </a:lnTo>
                      <a:lnTo>
                        <a:pt x="42" y="44"/>
                      </a:lnTo>
                      <a:lnTo>
                        <a:pt x="45" y="43"/>
                      </a:lnTo>
                      <a:lnTo>
                        <a:pt x="47" y="43"/>
                      </a:lnTo>
                      <a:lnTo>
                        <a:pt x="49" y="42"/>
                      </a:lnTo>
                      <a:lnTo>
                        <a:pt x="53" y="40"/>
                      </a:lnTo>
                      <a:lnTo>
                        <a:pt x="55" y="40"/>
                      </a:lnTo>
                      <a:lnTo>
                        <a:pt x="58" y="39"/>
                      </a:lnTo>
                      <a:lnTo>
                        <a:pt x="60" y="38"/>
                      </a:lnTo>
                      <a:lnTo>
                        <a:pt x="64" y="38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71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5"/>
                      </a:lnTo>
                      <a:lnTo>
                        <a:pt x="83" y="33"/>
                      </a:lnTo>
                      <a:lnTo>
                        <a:pt x="86" y="33"/>
                      </a:lnTo>
                      <a:lnTo>
                        <a:pt x="89" y="32"/>
                      </a:lnTo>
                      <a:lnTo>
                        <a:pt x="91" y="32"/>
                      </a:lnTo>
                      <a:lnTo>
                        <a:pt x="93" y="31"/>
                      </a:lnTo>
                      <a:lnTo>
                        <a:pt x="96" y="31"/>
                      </a:lnTo>
                      <a:lnTo>
                        <a:pt x="98" y="30"/>
                      </a:lnTo>
                      <a:lnTo>
                        <a:pt x="100" y="30"/>
                      </a:lnTo>
                      <a:lnTo>
                        <a:pt x="104" y="29"/>
                      </a:lnTo>
                      <a:lnTo>
                        <a:pt x="108" y="29"/>
                      </a:lnTo>
                      <a:lnTo>
                        <a:pt x="110" y="27"/>
                      </a:lnTo>
                      <a:lnTo>
                        <a:pt x="112" y="27"/>
                      </a:lnTo>
                      <a:lnTo>
                        <a:pt x="115" y="27"/>
                      </a:lnTo>
                      <a:lnTo>
                        <a:pt x="118" y="26"/>
                      </a:lnTo>
                      <a:lnTo>
                        <a:pt x="121" y="26"/>
                      </a:lnTo>
                      <a:lnTo>
                        <a:pt x="123" y="25"/>
                      </a:lnTo>
                      <a:lnTo>
                        <a:pt x="127" y="25"/>
                      </a:lnTo>
                      <a:lnTo>
                        <a:pt x="129" y="25"/>
                      </a:lnTo>
                      <a:lnTo>
                        <a:pt x="131" y="24"/>
                      </a:lnTo>
                      <a:lnTo>
                        <a:pt x="134" y="24"/>
                      </a:lnTo>
                      <a:lnTo>
                        <a:pt x="136" y="23"/>
                      </a:lnTo>
                      <a:lnTo>
                        <a:pt x="140" y="23"/>
                      </a:lnTo>
                      <a:lnTo>
                        <a:pt x="142" y="21"/>
                      </a:lnTo>
                      <a:lnTo>
                        <a:pt x="144" y="21"/>
                      </a:lnTo>
                      <a:lnTo>
                        <a:pt x="148" y="20"/>
                      </a:lnTo>
                      <a:lnTo>
                        <a:pt x="150" y="20"/>
                      </a:lnTo>
                      <a:lnTo>
                        <a:pt x="153" y="20"/>
                      </a:lnTo>
                      <a:lnTo>
                        <a:pt x="156" y="20"/>
                      </a:lnTo>
                      <a:lnTo>
                        <a:pt x="159" y="20"/>
                      </a:lnTo>
                      <a:lnTo>
                        <a:pt x="162" y="20"/>
                      </a:lnTo>
                      <a:lnTo>
                        <a:pt x="165" y="19"/>
                      </a:lnTo>
                      <a:lnTo>
                        <a:pt x="167" y="18"/>
                      </a:lnTo>
                      <a:lnTo>
                        <a:pt x="170" y="18"/>
                      </a:lnTo>
                      <a:lnTo>
                        <a:pt x="173" y="18"/>
                      </a:lnTo>
                      <a:lnTo>
                        <a:pt x="173" y="20"/>
                      </a:lnTo>
                      <a:lnTo>
                        <a:pt x="174" y="24"/>
                      </a:lnTo>
                      <a:lnTo>
                        <a:pt x="175" y="26"/>
                      </a:lnTo>
                      <a:lnTo>
                        <a:pt x="176" y="30"/>
                      </a:lnTo>
                      <a:lnTo>
                        <a:pt x="176" y="32"/>
                      </a:lnTo>
                      <a:lnTo>
                        <a:pt x="178" y="36"/>
                      </a:lnTo>
                      <a:lnTo>
                        <a:pt x="179" y="38"/>
                      </a:lnTo>
                      <a:lnTo>
                        <a:pt x="179" y="43"/>
                      </a:lnTo>
                      <a:lnTo>
                        <a:pt x="184" y="43"/>
                      </a:lnTo>
                      <a:lnTo>
                        <a:pt x="187" y="43"/>
                      </a:lnTo>
                      <a:lnTo>
                        <a:pt x="192" y="43"/>
                      </a:lnTo>
                      <a:lnTo>
                        <a:pt x="197" y="43"/>
                      </a:lnTo>
                      <a:lnTo>
                        <a:pt x="200" y="43"/>
                      </a:lnTo>
                      <a:lnTo>
                        <a:pt x="205" y="43"/>
                      </a:lnTo>
                      <a:lnTo>
                        <a:pt x="210" y="43"/>
                      </a:lnTo>
                      <a:lnTo>
                        <a:pt x="214" y="43"/>
                      </a:lnTo>
                      <a:lnTo>
                        <a:pt x="214" y="39"/>
                      </a:lnTo>
                      <a:lnTo>
                        <a:pt x="217" y="36"/>
                      </a:lnTo>
                      <a:lnTo>
                        <a:pt x="219" y="33"/>
                      </a:lnTo>
                      <a:lnTo>
                        <a:pt x="220" y="32"/>
                      </a:lnTo>
                      <a:lnTo>
                        <a:pt x="224" y="27"/>
                      </a:lnTo>
                      <a:lnTo>
                        <a:pt x="227" y="25"/>
                      </a:lnTo>
                      <a:lnTo>
                        <a:pt x="230" y="24"/>
                      </a:lnTo>
                      <a:lnTo>
                        <a:pt x="233" y="23"/>
                      </a:lnTo>
                      <a:lnTo>
                        <a:pt x="237" y="23"/>
                      </a:lnTo>
                      <a:lnTo>
                        <a:pt x="241" y="23"/>
                      </a:lnTo>
                      <a:lnTo>
                        <a:pt x="243" y="23"/>
                      </a:lnTo>
                      <a:lnTo>
                        <a:pt x="245" y="25"/>
                      </a:lnTo>
                      <a:lnTo>
                        <a:pt x="248" y="26"/>
                      </a:lnTo>
                      <a:lnTo>
                        <a:pt x="250" y="30"/>
                      </a:lnTo>
                      <a:lnTo>
                        <a:pt x="252" y="32"/>
                      </a:lnTo>
                      <a:lnTo>
                        <a:pt x="256" y="36"/>
                      </a:lnTo>
                      <a:lnTo>
                        <a:pt x="258" y="38"/>
                      </a:lnTo>
                      <a:lnTo>
                        <a:pt x="262" y="43"/>
                      </a:lnTo>
                      <a:lnTo>
                        <a:pt x="264" y="46"/>
                      </a:lnTo>
                      <a:lnTo>
                        <a:pt x="267" y="50"/>
                      </a:lnTo>
                      <a:lnTo>
                        <a:pt x="269" y="54"/>
                      </a:lnTo>
                      <a:lnTo>
                        <a:pt x="273" y="58"/>
                      </a:lnTo>
                      <a:lnTo>
                        <a:pt x="275" y="62"/>
                      </a:lnTo>
                      <a:lnTo>
                        <a:pt x="277" y="65"/>
                      </a:lnTo>
                      <a:lnTo>
                        <a:pt x="281" y="69"/>
                      </a:lnTo>
                      <a:lnTo>
                        <a:pt x="284" y="73"/>
                      </a:lnTo>
                      <a:lnTo>
                        <a:pt x="287" y="75"/>
                      </a:lnTo>
                      <a:lnTo>
                        <a:pt x="290" y="78"/>
                      </a:lnTo>
                      <a:lnTo>
                        <a:pt x="293" y="81"/>
                      </a:lnTo>
                      <a:lnTo>
                        <a:pt x="297" y="82"/>
                      </a:lnTo>
                      <a:lnTo>
                        <a:pt x="301" y="83"/>
                      </a:lnTo>
                      <a:lnTo>
                        <a:pt x="305" y="83"/>
                      </a:lnTo>
                      <a:lnTo>
                        <a:pt x="308" y="83"/>
                      </a:lnTo>
                      <a:lnTo>
                        <a:pt x="314" y="83"/>
                      </a:lnTo>
                      <a:lnTo>
                        <a:pt x="315" y="81"/>
                      </a:lnTo>
                      <a:lnTo>
                        <a:pt x="316" y="77"/>
                      </a:lnTo>
                      <a:lnTo>
                        <a:pt x="319" y="75"/>
                      </a:lnTo>
                      <a:lnTo>
                        <a:pt x="320" y="73"/>
                      </a:lnTo>
                      <a:lnTo>
                        <a:pt x="321" y="70"/>
                      </a:lnTo>
                      <a:lnTo>
                        <a:pt x="321" y="67"/>
                      </a:lnTo>
                      <a:lnTo>
                        <a:pt x="322" y="64"/>
                      </a:lnTo>
                      <a:lnTo>
                        <a:pt x="324" y="62"/>
                      </a:lnTo>
                      <a:lnTo>
                        <a:pt x="324" y="59"/>
                      </a:lnTo>
                      <a:lnTo>
                        <a:pt x="324" y="57"/>
                      </a:lnTo>
                      <a:lnTo>
                        <a:pt x="324" y="54"/>
                      </a:lnTo>
                      <a:lnTo>
                        <a:pt x="324" y="51"/>
                      </a:lnTo>
                      <a:lnTo>
                        <a:pt x="324" y="46"/>
                      </a:lnTo>
                      <a:lnTo>
                        <a:pt x="324" y="42"/>
                      </a:lnTo>
                      <a:lnTo>
                        <a:pt x="321" y="36"/>
                      </a:lnTo>
                      <a:lnTo>
                        <a:pt x="320" y="31"/>
                      </a:lnTo>
                      <a:lnTo>
                        <a:pt x="318" y="26"/>
                      </a:lnTo>
                      <a:lnTo>
                        <a:pt x="315" y="21"/>
                      </a:lnTo>
                      <a:lnTo>
                        <a:pt x="311" y="18"/>
                      </a:lnTo>
                      <a:lnTo>
                        <a:pt x="308" y="12"/>
                      </a:lnTo>
                      <a:lnTo>
                        <a:pt x="303" y="8"/>
                      </a:lnTo>
                      <a:lnTo>
                        <a:pt x="300" y="5"/>
                      </a:lnTo>
                      <a:lnTo>
                        <a:pt x="303" y="5"/>
                      </a:lnTo>
                      <a:lnTo>
                        <a:pt x="307" y="4"/>
                      </a:lnTo>
                      <a:lnTo>
                        <a:pt x="309" y="2"/>
                      </a:lnTo>
                      <a:lnTo>
                        <a:pt x="314" y="2"/>
                      </a:lnTo>
                      <a:lnTo>
                        <a:pt x="316" y="2"/>
                      </a:lnTo>
                      <a:lnTo>
                        <a:pt x="320" y="2"/>
                      </a:lnTo>
                      <a:lnTo>
                        <a:pt x="324" y="2"/>
                      </a:lnTo>
                      <a:lnTo>
                        <a:pt x="327" y="2"/>
                      </a:lnTo>
                      <a:lnTo>
                        <a:pt x="331" y="2"/>
                      </a:lnTo>
                      <a:lnTo>
                        <a:pt x="334" y="2"/>
                      </a:lnTo>
                      <a:lnTo>
                        <a:pt x="337" y="1"/>
                      </a:lnTo>
                      <a:lnTo>
                        <a:pt x="341" y="1"/>
                      </a:lnTo>
                      <a:lnTo>
                        <a:pt x="344" y="1"/>
                      </a:lnTo>
                      <a:lnTo>
                        <a:pt x="347" y="1"/>
                      </a:lnTo>
                      <a:lnTo>
                        <a:pt x="351" y="1"/>
                      </a:lnTo>
                      <a:lnTo>
                        <a:pt x="354" y="1"/>
                      </a:lnTo>
                      <a:lnTo>
                        <a:pt x="353" y="4"/>
                      </a:lnTo>
                      <a:lnTo>
                        <a:pt x="352" y="6"/>
                      </a:lnTo>
                      <a:lnTo>
                        <a:pt x="350" y="10"/>
                      </a:lnTo>
                      <a:lnTo>
                        <a:pt x="348" y="13"/>
                      </a:lnTo>
                      <a:lnTo>
                        <a:pt x="353" y="16"/>
                      </a:lnTo>
                      <a:lnTo>
                        <a:pt x="357" y="18"/>
                      </a:lnTo>
                      <a:lnTo>
                        <a:pt x="360" y="19"/>
                      </a:lnTo>
                      <a:lnTo>
                        <a:pt x="364" y="21"/>
                      </a:lnTo>
                      <a:lnTo>
                        <a:pt x="366" y="23"/>
                      </a:lnTo>
                      <a:lnTo>
                        <a:pt x="370" y="26"/>
                      </a:lnTo>
                      <a:lnTo>
                        <a:pt x="373" y="27"/>
                      </a:lnTo>
                      <a:lnTo>
                        <a:pt x="378" y="31"/>
                      </a:lnTo>
                      <a:lnTo>
                        <a:pt x="379" y="33"/>
                      </a:lnTo>
                      <a:lnTo>
                        <a:pt x="382" y="37"/>
                      </a:lnTo>
                      <a:lnTo>
                        <a:pt x="384" y="39"/>
                      </a:lnTo>
                      <a:lnTo>
                        <a:pt x="386" y="43"/>
                      </a:lnTo>
                      <a:lnTo>
                        <a:pt x="391" y="48"/>
                      </a:lnTo>
                      <a:lnTo>
                        <a:pt x="396" y="52"/>
                      </a:lnTo>
                      <a:lnTo>
                        <a:pt x="401" y="56"/>
                      </a:lnTo>
                      <a:lnTo>
                        <a:pt x="407" y="58"/>
                      </a:lnTo>
                      <a:lnTo>
                        <a:pt x="409" y="59"/>
                      </a:lnTo>
                      <a:lnTo>
                        <a:pt x="411" y="61"/>
                      </a:lnTo>
                      <a:lnTo>
                        <a:pt x="415" y="62"/>
                      </a:lnTo>
                      <a:lnTo>
                        <a:pt x="417" y="63"/>
                      </a:lnTo>
                      <a:lnTo>
                        <a:pt x="420" y="63"/>
                      </a:lnTo>
                      <a:lnTo>
                        <a:pt x="422" y="64"/>
                      </a:lnTo>
                      <a:lnTo>
                        <a:pt x="424" y="64"/>
                      </a:lnTo>
                      <a:lnTo>
                        <a:pt x="428" y="64"/>
                      </a:lnTo>
                      <a:lnTo>
                        <a:pt x="430" y="64"/>
                      </a:lnTo>
                      <a:lnTo>
                        <a:pt x="434" y="64"/>
                      </a:lnTo>
                      <a:lnTo>
                        <a:pt x="436" y="64"/>
                      </a:lnTo>
                      <a:lnTo>
                        <a:pt x="440" y="65"/>
                      </a:lnTo>
                      <a:lnTo>
                        <a:pt x="442" y="64"/>
                      </a:lnTo>
                      <a:lnTo>
                        <a:pt x="445" y="64"/>
                      </a:lnTo>
                      <a:lnTo>
                        <a:pt x="448" y="63"/>
                      </a:lnTo>
                      <a:lnTo>
                        <a:pt x="451" y="63"/>
                      </a:lnTo>
                      <a:lnTo>
                        <a:pt x="453" y="62"/>
                      </a:lnTo>
                      <a:lnTo>
                        <a:pt x="455" y="62"/>
                      </a:lnTo>
                      <a:lnTo>
                        <a:pt x="458" y="61"/>
                      </a:lnTo>
                      <a:lnTo>
                        <a:pt x="461" y="61"/>
                      </a:lnTo>
                      <a:lnTo>
                        <a:pt x="466" y="57"/>
                      </a:lnTo>
                      <a:lnTo>
                        <a:pt x="471" y="55"/>
                      </a:lnTo>
                      <a:lnTo>
                        <a:pt x="475" y="52"/>
                      </a:lnTo>
                      <a:lnTo>
                        <a:pt x="480" y="49"/>
                      </a:lnTo>
                      <a:lnTo>
                        <a:pt x="485" y="45"/>
                      </a:lnTo>
                      <a:lnTo>
                        <a:pt x="488" y="42"/>
                      </a:lnTo>
                      <a:lnTo>
                        <a:pt x="493" y="38"/>
                      </a:lnTo>
                      <a:lnTo>
                        <a:pt x="497" y="35"/>
                      </a:lnTo>
                      <a:lnTo>
                        <a:pt x="499" y="30"/>
                      </a:lnTo>
                      <a:lnTo>
                        <a:pt x="503" y="25"/>
                      </a:lnTo>
                      <a:lnTo>
                        <a:pt x="505" y="21"/>
                      </a:lnTo>
                      <a:lnTo>
                        <a:pt x="507" y="18"/>
                      </a:lnTo>
                      <a:lnTo>
                        <a:pt x="509" y="12"/>
                      </a:lnTo>
                      <a:lnTo>
                        <a:pt x="510" y="7"/>
                      </a:lnTo>
                      <a:lnTo>
                        <a:pt x="511" y="4"/>
                      </a:lnTo>
                      <a:lnTo>
                        <a:pt x="511" y="0"/>
                      </a:lnTo>
                      <a:lnTo>
                        <a:pt x="515" y="0"/>
                      </a:lnTo>
                      <a:lnTo>
                        <a:pt x="518" y="0"/>
                      </a:lnTo>
                      <a:lnTo>
                        <a:pt x="523" y="0"/>
                      </a:lnTo>
                      <a:lnTo>
                        <a:pt x="528" y="0"/>
                      </a:lnTo>
                      <a:lnTo>
                        <a:pt x="531" y="0"/>
                      </a:lnTo>
                      <a:lnTo>
                        <a:pt x="535" y="0"/>
                      </a:lnTo>
                      <a:lnTo>
                        <a:pt x="538" y="0"/>
                      </a:lnTo>
                      <a:lnTo>
                        <a:pt x="544" y="0"/>
                      </a:lnTo>
                      <a:lnTo>
                        <a:pt x="538" y="2"/>
                      </a:lnTo>
                      <a:lnTo>
                        <a:pt x="536" y="5"/>
                      </a:lnTo>
                      <a:lnTo>
                        <a:pt x="534" y="7"/>
                      </a:lnTo>
                      <a:lnTo>
                        <a:pt x="531" y="10"/>
                      </a:lnTo>
                      <a:lnTo>
                        <a:pt x="526" y="16"/>
                      </a:lnTo>
                      <a:lnTo>
                        <a:pt x="522" y="20"/>
                      </a:lnTo>
                      <a:lnTo>
                        <a:pt x="518" y="24"/>
                      </a:lnTo>
                      <a:lnTo>
                        <a:pt x="517" y="29"/>
                      </a:lnTo>
                      <a:lnTo>
                        <a:pt x="516" y="33"/>
                      </a:lnTo>
                      <a:lnTo>
                        <a:pt x="516" y="38"/>
                      </a:lnTo>
                      <a:lnTo>
                        <a:pt x="516" y="40"/>
                      </a:lnTo>
                      <a:lnTo>
                        <a:pt x="516" y="45"/>
                      </a:lnTo>
                      <a:lnTo>
                        <a:pt x="518" y="48"/>
                      </a:lnTo>
                      <a:lnTo>
                        <a:pt x="521" y="51"/>
                      </a:lnTo>
                      <a:lnTo>
                        <a:pt x="523" y="54"/>
                      </a:lnTo>
                      <a:lnTo>
                        <a:pt x="525" y="57"/>
                      </a:lnTo>
                      <a:lnTo>
                        <a:pt x="529" y="59"/>
                      </a:lnTo>
                      <a:lnTo>
                        <a:pt x="534" y="62"/>
                      </a:lnTo>
                      <a:lnTo>
                        <a:pt x="536" y="63"/>
                      </a:lnTo>
                      <a:lnTo>
                        <a:pt x="541" y="65"/>
                      </a:lnTo>
                      <a:lnTo>
                        <a:pt x="545" y="67"/>
                      </a:lnTo>
                      <a:lnTo>
                        <a:pt x="549" y="68"/>
                      </a:lnTo>
                      <a:lnTo>
                        <a:pt x="554" y="69"/>
                      </a:lnTo>
                      <a:lnTo>
                        <a:pt x="558" y="70"/>
                      </a:lnTo>
                      <a:lnTo>
                        <a:pt x="564" y="70"/>
                      </a:lnTo>
                      <a:lnTo>
                        <a:pt x="569" y="71"/>
                      </a:lnTo>
                      <a:lnTo>
                        <a:pt x="573" y="71"/>
                      </a:lnTo>
                      <a:lnTo>
                        <a:pt x="577" y="71"/>
                      </a:lnTo>
                      <a:lnTo>
                        <a:pt x="582" y="71"/>
                      </a:lnTo>
                      <a:lnTo>
                        <a:pt x="586" y="71"/>
                      </a:lnTo>
                      <a:lnTo>
                        <a:pt x="589" y="70"/>
                      </a:lnTo>
                      <a:lnTo>
                        <a:pt x="593" y="70"/>
                      </a:lnTo>
                      <a:lnTo>
                        <a:pt x="595" y="69"/>
                      </a:lnTo>
                      <a:lnTo>
                        <a:pt x="599" y="68"/>
                      </a:lnTo>
                      <a:lnTo>
                        <a:pt x="598" y="64"/>
                      </a:lnTo>
                      <a:lnTo>
                        <a:pt x="596" y="61"/>
                      </a:lnTo>
                      <a:lnTo>
                        <a:pt x="596" y="58"/>
                      </a:lnTo>
                      <a:lnTo>
                        <a:pt x="596" y="56"/>
                      </a:lnTo>
                      <a:lnTo>
                        <a:pt x="595" y="52"/>
                      </a:lnTo>
                      <a:lnTo>
                        <a:pt x="595" y="50"/>
                      </a:lnTo>
                      <a:lnTo>
                        <a:pt x="594" y="48"/>
                      </a:lnTo>
                      <a:lnTo>
                        <a:pt x="594" y="45"/>
                      </a:lnTo>
                      <a:lnTo>
                        <a:pt x="593" y="40"/>
                      </a:lnTo>
                      <a:lnTo>
                        <a:pt x="592" y="37"/>
                      </a:lnTo>
                      <a:lnTo>
                        <a:pt x="591" y="33"/>
                      </a:lnTo>
                      <a:lnTo>
                        <a:pt x="591" y="31"/>
                      </a:lnTo>
                      <a:lnTo>
                        <a:pt x="589" y="27"/>
                      </a:lnTo>
                      <a:lnTo>
                        <a:pt x="588" y="26"/>
                      </a:lnTo>
                      <a:lnTo>
                        <a:pt x="587" y="24"/>
                      </a:lnTo>
                      <a:lnTo>
                        <a:pt x="586" y="23"/>
                      </a:lnTo>
                      <a:lnTo>
                        <a:pt x="583" y="20"/>
                      </a:lnTo>
                      <a:lnTo>
                        <a:pt x="582" y="19"/>
                      </a:lnTo>
                      <a:lnTo>
                        <a:pt x="577" y="18"/>
                      </a:lnTo>
                      <a:lnTo>
                        <a:pt x="575" y="17"/>
                      </a:lnTo>
                      <a:lnTo>
                        <a:pt x="572" y="16"/>
                      </a:lnTo>
                      <a:lnTo>
                        <a:pt x="569" y="14"/>
                      </a:lnTo>
                      <a:lnTo>
                        <a:pt x="564" y="12"/>
                      </a:lnTo>
                      <a:lnTo>
                        <a:pt x="562" y="8"/>
                      </a:lnTo>
                      <a:lnTo>
                        <a:pt x="558" y="6"/>
                      </a:lnTo>
                      <a:lnTo>
                        <a:pt x="556" y="5"/>
                      </a:lnTo>
                      <a:lnTo>
                        <a:pt x="554" y="2"/>
                      </a:lnTo>
                      <a:lnTo>
                        <a:pt x="551" y="0"/>
                      </a:lnTo>
                      <a:lnTo>
                        <a:pt x="556" y="0"/>
                      </a:lnTo>
                      <a:lnTo>
                        <a:pt x="560" y="0"/>
                      </a:lnTo>
                      <a:lnTo>
                        <a:pt x="564" y="0"/>
                      </a:lnTo>
                      <a:lnTo>
                        <a:pt x="568" y="0"/>
                      </a:lnTo>
                      <a:lnTo>
                        <a:pt x="572" y="0"/>
                      </a:lnTo>
                      <a:lnTo>
                        <a:pt x="576" y="0"/>
                      </a:lnTo>
                      <a:lnTo>
                        <a:pt x="580" y="0"/>
                      </a:lnTo>
                      <a:lnTo>
                        <a:pt x="585" y="0"/>
                      </a:lnTo>
                      <a:lnTo>
                        <a:pt x="588" y="0"/>
                      </a:lnTo>
                      <a:lnTo>
                        <a:pt x="592" y="0"/>
                      </a:lnTo>
                      <a:lnTo>
                        <a:pt x="596" y="0"/>
                      </a:lnTo>
                      <a:lnTo>
                        <a:pt x="600" y="0"/>
                      </a:lnTo>
                      <a:lnTo>
                        <a:pt x="605" y="0"/>
                      </a:lnTo>
                      <a:lnTo>
                        <a:pt x="608" y="0"/>
                      </a:lnTo>
                      <a:lnTo>
                        <a:pt x="612" y="0"/>
                      </a:lnTo>
                      <a:lnTo>
                        <a:pt x="617" y="1"/>
                      </a:lnTo>
                      <a:lnTo>
                        <a:pt x="620" y="1"/>
                      </a:lnTo>
                      <a:lnTo>
                        <a:pt x="625" y="1"/>
                      </a:lnTo>
                      <a:lnTo>
                        <a:pt x="628" y="1"/>
                      </a:lnTo>
                      <a:lnTo>
                        <a:pt x="632" y="2"/>
                      </a:lnTo>
                      <a:lnTo>
                        <a:pt x="637" y="2"/>
                      </a:lnTo>
                      <a:lnTo>
                        <a:pt x="640" y="2"/>
                      </a:lnTo>
                      <a:lnTo>
                        <a:pt x="645" y="2"/>
                      </a:lnTo>
                      <a:lnTo>
                        <a:pt x="650" y="2"/>
                      </a:lnTo>
                      <a:lnTo>
                        <a:pt x="652" y="2"/>
                      </a:lnTo>
                      <a:lnTo>
                        <a:pt x="657" y="2"/>
                      </a:lnTo>
                      <a:lnTo>
                        <a:pt x="661" y="2"/>
                      </a:lnTo>
                      <a:lnTo>
                        <a:pt x="665" y="2"/>
                      </a:lnTo>
                      <a:lnTo>
                        <a:pt x="669" y="2"/>
                      </a:lnTo>
                      <a:lnTo>
                        <a:pt x="672" y="4"/>
                      </a:lnTo>
                      <a:lnTo>
                        <a:pt x="678" y="4"/>
                      </a:lnTo>
                      <a:lnTo>
                        <a:pt x="682" y="5"/>
                      </a:lnTo>
                      <a:lnTo>
                        <a:pt x="685" y="5"/>
                      </a:lnTo>
                      <a:lnTo>
                        <a:pt x="689" y="5"/>
                      </a:lnTo>
                      <a:lnTo>
                        <a:pt x="694" y="5"/>
                      </a:lnTo>
                      <a:lnTo>
                        <a:pt x="697" y="5"/>
                      </a:lnTo>
                      <a:lnTo>
                        <a:pt x="701" y="5"/>
                      </a:lnTo>
                      <a:lnTo>
                        <a:pt x="706" y="5"/>
                      </a:lnTo>
                      <a:lnTo>
                        <a:pt x="709" y="5"/>
                      </a:lnTo>
                      <a:lnTo>
                        <a:pt x="714" y="5"/>
                      </a:lnTo>
                      <a:lnTo>
                        <a:pt x="717" y="5"/>
                      </a:lnTo>
                      <a:lnTo>
                        <a:pt x="721" y="5"/>
                      </a:lnTo>
                      <a:lnTo>
                        <a:pt x="726" y="6"/>
                      </a:lnTo>
                      <a:lnTo>
                        <a:pt x="731" y="6"/>
                      </a:lnTo>
                      <a:lnTo>
                        <a:pt x="734" y="6"/>
                      </a:lnTo>
                      <a:lnTo>
                        <a:pt x="738" y="6"/>
                      </a:lnTo>
                      <a:lnTo>
                        <a:pt x="741" y="7"/>
                      </a:lnTo>
                      <a:lnTo>
                        <a:pt x="746" y="7"/>
                      </a:lnTo>
                      <a:lnTo>
                        <a:pt x="751" y="7"/>
                      </a:lnTo>
                      <a:lnTo>
                        <a:pt x="754" y="7"/>
                      </a:lnTo>
                      <a:lnTo>
                        <a:pt x="759" y="7"/>
                      </a:lnTo>
                      <a:lnTo>
                        <a:pt x="763" y="7"/>
                      </a:lnTo>
                      <a:lnTo>
                        <a:pt x="766" y="7"/>
                      </a:lnTo>
                      <a:lnTo>
                        <a:pt x="770" y="8"/>
                      </a:lnTo>
                      <a:lnTo>
                        <a:pt x="774" y="8"/>
                      </a:lnTo>
                      <a:lnTo>
                        <a:pt x="779" y="10"/>
                      </a:lnTo>
                      <a:lnTo>
                        <a:pt x="783" y="10"/>
                      </a:lnTo>
                      <a:lnTo>
                        <a:pt x="786" y="10"/>
                      </a:lnTo>
                      <a:lnTo>
                        <a:pt x="791" y="10"/>
                      </a:lnTo>
                      <a:lnTo>
                        <a:pt x="795" y="10"/>
                      </a:lnTo>
                      <a:lnTo>
                        <a:pt x="799" y="10"/>
                      </a:lnTo>
                      <a:lnTo>
                        <a:pt x="803" y="10"/>
                      </a:lnTo>
                      <a:lnTo>
                        <a:pt x="808" y="11"/>
                      </a:lnTo>
                      <a:lnTo>
                        <a:pt x="811" y="1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Freeform 30"/>
                <p:cNvSpPr/>
                <p:nvPr/>
              </p:nvSpPr>
              <p:spPr>
                <a:xfrm>
                  <a:off x="1522440" y="2149560"/>
                  <a:ext cx="5760" cy="64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3" h="14">
                      <a:moveTo>
                        <a:pt x="13" y="14"/>
                      </a:moveTo>
                      <a:lnTo>
                        <a:pt x="8" y="11"/>
                      </a:lnTo>
                      <a:lnTo>
                        <a:pt x="5" y="8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31"/>
                <p:cNvSpPr/>
                <p:nvPr/>
              </p:nvSpPr>
              <p:spPr>
                <a:xfrm>
                  <a:off x="990720" y="2549880"/>
                  <a:ext cx="753840" cy="56880"/>
                </a:xfrm>
                <a:custGeom>
                  <a:avLst/>
                  <a:gdLst>
                    <a:gd name="textAreaLeft" fmla="*/ 0 w 753840"/>
                    <a:gd name="textAreaRight" fmla="*/ 754200 w 7538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425" h="109">
                      <a:moveTo>
                        <a:pt x="13" y="6"/>
                      </a:move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4" y="6"/>
                      </a:lnTo>
                      <a:lnTo>
                        <a:pt x="28" y="7"/>
                      </a:lnTo>
                      <a:lnTo>
                        <a:pt x="31" y="7"/>
                      </a:lnTo>
                      <a:lnTo>
                        <a:pt x="34" y="8"/>
                      </a:lnTo>
                      <a:lnTo>
                        <a:pt x="37" y="8"/>
                      </a:lnTo>
                      <a:lnTo>
                        <a:pt x="40" y="8"/>
                      </a:lnTo>
                      <a:lnTo>
                        <a:pt x="44" y="8"/>
                      </a:lnTo>
                      <a:lnTo>
                        <a:pt x="47" y="9"/>
                      </a:lnTo>
                      <a:lnTo>
                        <a:pt x="51" y="9"/>
                      </a:lnTo>
                      <a:lnTo>
                        <a:pt x="55" y="10"/>
                      </a:lnTo>
                      <a:lnTo>
                        <a:pt x="58" y="10"/>
                      </a:lnTo>
                      <a:lnTo>
                        <a:pt x="63" y="10"/>
                      </a:lnTo>
                      <a:lnTo>
                        <a:pt x="68" y="10"/>
                      </a:lnTo>
                      <a:lnTo>
                        <a:pt x="71" y="12"/>
                      </a:lnTo>
                      <a:lnTo>
                        <a:pt x="76" y="12"/>
                      </a:lnTo>
                      <a:lnTo>
                        <a:pt x="81" y="13"/>
                      </a:lnTo>
                      <a:lnTo>
                        <a:pt x="85" y="13"/>
                      </a:lnTo>
                      <a:lnTo>
                        <a:pt x="90" y="13"/>
                      </a:lnTo>
                      <a:lnTo>
                        <a:pt x="95" y="14"/>
                      </a:lnTo>
                      <a:lnTo>
                        <a:pt x="101" y="14"/>
                      </a:lnTo>
                      <a:lnTo>
                        <a:pt x="104" y="15"/>
                      </a:lnTo>
                      <a:lnTo>
                        <a:pt x="112" y="15"/>
                      </a:lnTo>
                      <a:lnTo>
                        <a:pt x="116" y="15"/>
                      </a:lnTo>
                      <a:lnTo>
                        <a:pt x="121" y="16"/>
                      </a:lnTo>
                      <a:lnTo>
                        <a:pt x="126" y="16"/>
                      </a:lnTo>
                      <a:lnTo>
                        <a:pt x="132" y="18"/>
                      </a:lnTo>
                      <a:lnTo>
                        <a:pt x="136" y="18"/>
                      </a:lnTo>
                      <a:lnTo>
                        <a:pt x="142" y="18"/>
                      </a:lnTo>
                      <a:lnTo>
                        <a:pt x="147" y="18"/>
                      </a:lnTo>
                      <a:lnTo>
                        <a:pt x="153" y="19"/>
                      </a:lnTo>
                      <a:lnTo>
                        <a:pt x="159" y="19"/>
                      </a:lnTo>
                      <a:lnTo>
                        <a:pt x="165" y="19"/>
                      </a:lnTo>
                      <a:lnTo>
                        <a:pt x="170" y="20"/>
                      </a:lnTo>
                      <a:lnTo>
                        <a:pt x="176" y="20"/>
                      </a:lnTo>
                      <a:lnTo>
                        <a:pt x="182" y="20"/>
                      </a:lnTo>
                      <a:lnTo>
                        <a:pt x="187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204" y="21"/>
                      </a:lnTo>
                      <a:lnTo>
                        <a:pt x="210" y="21"/>
                      </a:lnTo>
                      <a:lnTo>
                        <a:pt x="215" y="21"/>
                      </a:lnTo>
                      <a:lnTo>
                        <a:pt x="221" y="22"/>
                      </a:lnTo>
                      <a:lnTo>
                        <a:pt x="225" y="22"/>
                      </a:lnTo>
                      <a:lnTo>
                        <a:pt x="231" y="22"/>
                      </a:lnTo>
                      <a:lnTo>
                        <a:pt x="237" y="22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3" y="22"/>
                      </a:lnTo>
                      <a:lnTo>
                        <a:pt x="259" y="22"/>
                      </a:lnTo>
                      <a:lnTo>
                        <a:pt x="263" y="22"/>
                      </a:lnTo>
                      <a:lnTo>
                        <a:pt x="268" y="22"/>
                      </a:lnTo>
                      <a:lnTo>
                        <a:pt x="274" y="22"/>
                      </a:lnTo>
                      <a:lnTo>
                        <a:pt x="279" y="22"/>
                      </a:lnTo>
                      <a:lnTo>
                        <a:pt x="284" y="22"/>
                      </a:lnTo>
                      <a:lnTo>
                        <a:pt x="288" y="21"/>
                      </a:lnTo>
                      <a:lnTo>
                        <a:pt x="292" y="21"/>
                      </a:lnTo>
                      <a:lnTo>
                        <a:pt x="294" y="21"/>
                      </a:lnTo>
                      <a:lnTo>
                        <a:pt x="297" y="21"/>
                      </a:lnTo>
                      <a:lnTo>
                        <a:pt x="299" y="21"/>
                      </a:lnTo>
                      <a:lnTo>
                        <a:pt x="303" y="21"/>
                      </a:lnTo>
                      <a:lnTo>
                        <a:pt x="305" y="20"/>
                      </a:lnTo>
                      <a:lnTo>
                        <a:pt x="306" y="20"/>
                      </a:lnTo>
                      <a:lnTo>
                        <a:pt x="310" y="20"/>
                      </a:lnTo>
                      <a:lnTo>
                        <a:pt x="313" y="20"/>
                      </a:lnTo>
                      <a:lnTo>
                        <a:pt x="316" y="20"/>
                      </a:lnTo>
                      <a:lnTo>
                        <a:pt x="319" y="20"/>
                      </a:lnTo>
                      <a:lnTo>
                        <a:pt x="322" y="20"/>
                      </a:lnTo>
                      <a:lnTo>
                        <a:pt x="324" y="20"/>
                      </a:lnTo>
                      <a:lnTo>
                        <a:pt x="327" y="19"/>
                      </a:lnTo>
                      <a:lnTo>
                        <a:pt x="330" y="19"/>
                      </a:lnTo>
                      <a:lnTo>
                        <a:pt x="335" y="19"/>
                      </a:lnTo>
                      <a:lnTo>
                        <a:pt x="337" y="19"/>
                      </a:lnTo>
                      <a:lnTo>
                        <a:pt x="339" y="19"/>
                      </a:lnTo>
                      <a:lnTo>
                        <a:pt x="344" y="19"/>
                      </a:lnTo>
                      <a:lnTo>
                        <a:pt x="346" y="19"/>
                      </a:lnTo>
                      <a:lnTo>
                        <a:pt x="351" y="19"/>
                      </a:lnTo>
                      <a:lnTo>
                        <a:pt x="355" y="18"/>
                      </a:lnTo>
                      <a:lnTo>
                        <a:pt x="357" y="18"/>
                      </a:lnTo>
                      <a:lnTo>
                        <a:pt x="361" y="18"/>
                      </a:lnTo>
                      <a:lnTo>
                        <a:pt x="364" y="18"/>
                      </a:lnTo>
                      <a:lnTo>
                        <a:pt x="369" y="18"/>
                      </a:lnTo>
                      <a:lnTo>
                        <a:pt x="373" y="18"/>
                      </a:lnTo>
                      <a:lnTo>
                        <a:pt x="376" y="18"/>
                      </a:lnTo>
                      <a:lnTo>
                        <a:pt x="381" y="18"/>
                      </a:lnTo>
                      <a:lnTo>
                        <a:pt x="384" y="18"/>
                      </a:lnTo>
                      <a:lnTo>
                        <a:pt x="388" y="18"/>
                      </a:lnTo>
                      <a:lnTo>
                        <a:pt x="392" y="18"/>
                      </a:lnTo>
                      <a:lnTo>
                        <a:pt x="396" y="18"/>
                      </a:lnTo>
                      <a:lnTo>
                        <a:pt x="400" y="16"/>
                      </a:lnTo>
                      <a:lnTo>
                        <a:pt x="403" y="16"/>
                      </a:lnTo>
                      <a:lnTo>
                        <a:pt x="408" y="16"/>
                      </a:lnTo>
                      <a:lnTo>
                        <a:pt x="412" y="16"/>
                      </a:lnTo>
                      <a:lnTo>
                        <a:pt x="415" y="16"/>
                      </a:lnTo>
                      <a:lnTo>
                        <a:pt x="420" y="16"/>
                      </a:lnTo>
                      <a:lnTo>
                        <a:pt x="425" y="16"/>
                      </a:lnTo>
                      <a:lnTo>
                        <a:pt x="428" y="16"/>
                      </a:lnTo>
                      <a:lnTo>
                        <a:pt x="433" y="16"/>
                      </a:lnTo>
                      <a:lnTo>
                        <a:pt x="438" y="16"/>
                      </a:lnTo>
                      <a:lnTo>
                        <a:pt x="441" y="16"/>
                      </a:lnTo>
                      <a:lnTo>
                        <a:pt x="446" y="16"/>
                      </a:lnTo>
                      <a:lnTo>
                        <a:pt x="451" y="15"/>
                      </a:lnTo>
                      <a:lnTo>
                        <a:pt x="456" y="15"/>
                      </a:lnTo>
                      <a:lnTo>
                        <a:pt x="459" y="15"/>
                      </a:lnTo>
                      <a:lnTo>
                        <a:pt x="463" y="15"/>
                      </a:lnTo>
                      <a:lnTo>
                        <a:pt x="469" y="15"/>
                      </a:lnTo>
                      <a:lnTo>
                        <a:pt x="472" y="15"/>
                      </a:lnTo>
                      <a:lnTo>
                        <a:pt x="477" y="15"/>
                      </a:lnTo>
                      <a:lnTo>
                        <a:pt x="482" y="15"/>
                      </a:lnTo>
                      <a:lnTo>
                        <a:pt x="486" y="15"/>
                      </a:lnTo>
                      <a:lnTo>
                        <a:pt x="490" y="15"/>
                      </a:lnTo>
                      <a:lnTo>
                        <a:pt x="495" y="15"/>
                      </a:lnTo>
                      <a:lnTo>
                        <a:pt x="500" y="15"/>
                      </a:lnTo>
                      <a:lnTo>
                        <a:pt x="504" y="15"/>
                      </a:lnTo>
                      <a:lnTo>
                        <a:pt x="509" y="15"/>
                      </a:lnTo>
                      <a:lnTo>
                        <a:pt x="514" y="15"/>
                      </a:lnTo>
                      <a:lnTo>
                        <a:pt x="519" y="15"/>
                      </a:lnTo>
                      <a:lnTo>
                        <a:pt x="516" y="16"/>
                      </a:lnTo>
                      <a:lnTo>
                        <a:pt x="513" y="18"/>
                      </a:lnTo>
                      <a:lnTo>
                        <a:pt x="510" y="18"/>
                      </a:lnTo>
                      <a:lnTo>
                        <a:pt x="507" y="20"/>
                      </a:lnTo>
                      <a:lnTo>
                        <a:pt x="504" y="21"/>
                      </a:lnTo>
                      <a:lnTo>
                        <a:pt x="501" y="21"/>
                      </a:lnTo>
                      <a:lnTo>
                        <a:pt x="498" y="24"/>
                      </a:lnTo>
                      <a:lnTo>
                        <a:pt x="497" y="25"/>
                      </a:lnTo>
                      <a:lnTo>
                        <a:pt x="491" y="27"/>
                      </a:lnTo>
                      <a:lnTo>
                        <a:pt x="488" y="29"/>
                      </a:lnTo>
                      <a:lnTo>
                        <a:pt x="483" y="33"/>
                      </a:lnTo>
                      <a:lnTo>
                        <a:pt x="479" y="37"/>
                      </a:lnTo>
                      <a:lnTo>
                        <a:pt x="476" y="40"/>
                      </a:lnTo>
                      <a:lnTo>
                        <a:pt x="473" y="45"/>
                      </a:lnTo>
                      <a:lnTo>
                        <a:pt x="471" y="46"/>
                      </a:lnTo>
                      <a:lnTo>
                        <a:pt x="471" y="48"/>
                      </a:lnTo>
                      <a:lnTo>
                        <a:pt x="470" y="51"/>
                      </a:lnTo>
                      <a:lnTo>
                        <a:pt x="469" y="54"/>
                      </a:lnTo>
                      <a:lnTo>
                        <a:pt x="469" y="56"/>
                      </a:lnTo>
                      <a:lnTo>
                        <a:pt x="469" y="59"/>
                      </a:lnTo>
                      <a:lnTo>
                        <a:pt x="467" y="62"/>
                      </a:lnTo>
                      <a:lnTo>
                        <a:pt x="467" y="65"/>
                      </a:lnTo>
                      <a:lnTo>
                        <a:pt x="467" y="69"/>
                      </a:lnTo>
                      <a:lnTo>
                        <a:pt x="467" y="71"/>
                      </a:lnTo>
                      <a:lnTo>
                        <a:pt x="469" y="75"/>
                      </a:lnTo>
                      <a:lnTo>
                        <a:pt x="469" y="79"/>
                      </a:lnTo>
                      <a:lnTo>
                        <a:pt x="471" y="78"/>
                      </a:lnTo>
                      <a:lnTo>
                        <a:pt x="473" y="78"/>
                      </a:lnTo>
                      <a:lnTo>
                        <a:pt x="476" y="77"/>
                      </a:lnTo>
                      <a:lnTo>
                        <a:pt x="479" y="77"/>
                      </a:lnTo>
                      <a:lnTo>
                        <a:pt x="482" y="76"/>
                      </a:lnTo>
                      <a:lnTo>
                        <a:pt x="484" y="76"/>
                      </a:lnTo>
                      <a:lnTo>
                        <a:pt x="486" y="76"/>
                      </a:lnTo>
                      <a:lnTo>
                        <a:pt x="490" y="75"/>
                      </a:lnTo>
                      <a:lnTo>
                        <a:pt x="495" y="73"/>
                      </a:lnTo>
                      <a:lnTo>
                        <a:pt x="500" y="71"/>
                      </a:lnTo>
                      <a:lnTo>
                        <a:pt x="504" y="71"/>
                      </a:lnTo>
                      <a:lnTo>
                        <a:pt x="510" y="70"/>
                      </a:lnTo>
                      <a:lnTo>
                        <a:pt x="515" y="67"/>
                      </a:lnTo>
                      <a:lnTo>
                        <a:pt x="519" y="66"/>
                      </a:lnTo>
                      <a:lnTo>
                        <a:pt x="524" y="64"/>
                      </a:lnTo>
                      <a:lnTo>
                        <a:pt x="529" y="63"/>
                      </a:lnTo>
                      <a:lnTo>
                        <a:pt x="534" y="60"/>
                      </a:lnTo>
                      <a:lnTo>
                        <a:pt x="539" y="59"/>
                      </a:lnTo>
                      <a:lnTo>
                        <a:pt x="543" y="56"/>
                      </a:lnTo>
                      <a:lnTo>
                        <a:pt x="548" y="54"/>
                      </a:lnTo>
                      <a:lnTo>
                        <a:pt x="552" y="52"/>
                      </a:lnTo>
                      <a:lnTo>
                        <a:pt x="556" y="51"/>
                      </a:lnTo>
                      <a:lnTo>
                        <a:pt x="562" y="48"/>
                      </a:lnTo>
                      <a:lnTo>
                        <a:pt x="567" y="46"/>
                      </a:lnTo>
                      <a:lnTo>
                        <a:pt x="571" y="44"/>
                      </a:lnTo>
                      <a:lnTo>
                        <a:pt x="577" y="41"/>
                      </a:lnTo>
                      <a:lnTo>
                        <a:pt x="581" y="39"/>
                      </a:lnTo>
                      <a:lnTo>
                        <a:pt x="586" y="38"/>
                      </a:lnTo>
                      <a:lnTo>
                        <a:pt x="591" y="35"/>
                      </a:lnTo>
                      <a:lnTo>
                        <a:pt x="596" y="34"/>
                      </a:lnTo>
                      <a:lnTo>
                        <a:pt x="600" y="33"/>
                      </a:lnTo>
                      <a:lnTo>
                        <a:pt x="606" y="31"/>
                      </a:lnTo>
                      <a:lnTo>
                        <a:pt x="611" y="29"/>
                      </a:lnTo>
                      <a:lnTo>
                        <a:pt x="616" y="28"/>
                      </a:lnTo>
                      <a:lnTo>
                        <a:pt x="619" y="27"/>
                      </a:lnTo>
                      <a:lnTo>
                        <a:pt x="622" y="27"/>
                      </a:lnTo>
                      <a:lnTo>
                        <a:pt x="625" y="26"/>
                      </a:lnTo>
                      <a:lnTo>
                        <a:pt x="628" y="26"/>
                      </a:lnTo>
                      <a:lnTo>
                        <a:pt x="625" y="24"/>
                      </a:lnTo>
                      <a:lnTo>
                        <a:pt x="624" y="21"/>
                      </a:lnTo>
                      <a:lnTo>
                        <a:pt x="621" y="18"/>
                      </a:lnTo>
                      <a:lnTo>
                        <a:pt x="618" y="14"/>
                      </a:lnTo>
                      <a:lnTo>
                        <a:pt x="621" y="13"/>
                      </a:lnTo>
                      <a:lnTo>
                        <a:pt x="625" y="13"/>
                      </a:lnTo>
                      <a:lnTo>
                        <a:pt x="628" y="13"/>
                      </a:lnTo>
                      <a:lnTo>
                        <a:pt x="632" y="13"/>
                      </a:lnTo>
                      <a:lnTo>
                        <a:pt x="637" y="13"/>
                      </a:lnTo>
                      <a:lnTo>
                        <a:pt x="641" y="13"/>
                      </a:lnTo>
                      <a:lnTo>
                        <a:pt x="644" y="13"/>
                      </a:lnTo>
                      <a:lnTo>
                        <a:pt x="648" y="13"/>
                      </a:lnTo>
                      <a:lnTo>
                        <a:pt x="651" y="13"/>
                      </a:lnTo>
                      <a:lnTo>
                        <a:pt x="656" y="13"/>
                      </a:lnTo>
                      <a:lnTo>
                        <a:pt x="660" y="13"/>
                      </a:lnTo>
                      <a:lnTo>
                        <a:pt x="663" y="13"/>
                      </a:lnTo>
                      <a:lnTo>
                        <a:pt x="667" y="13"/>
                      </a:lnTo>
                      <a:lnTo>
                        <a:pt x="670" y="13"/>
                      </a:lnTo>
                      <a:lnTo>
                        <a:pt x="674" y="13"/>
                      </a:lnTo>
                      <a:lnTo>
                        <a:pt x="679" y="13"/>
                      </a:lnTo>
                      <a:lnTo>
                        <a:pt x="682" y="13"/>
                      </a:lnTo>
                      <a:lnTo>
                        <a:pt x="686" y="13"/>
                      </a:lnTo>
                      <a:lnTo>
                        <a:pt x="689" y="13"/>
                      </a:lnTo>
                      <a:lnTo>
                        <a:pt x="693" y="13"/>
                      </a:lnTo>
                      <a:lnTo>
                        <a:pt x="696" y="13"/>
                      </a:lnTo>
                      <a:lnTo>
                        <a:pt x="700" y="13"/>
                      </a:lnTo>
                      <a:lnTo>
                        <a:pt x="704" y="13"/>
                      </a:lnTo>
                      <a:lnTo>
                        <a:pt x="707" y="13"/>
                      </a:lnTo>
                      <a:lnTo>
                        <a:pt x="711" y="13"/>
                      </a:lnTo>
                      <a:lnTo>
                        <a:pt x="714" y="13"/>
                      </a:lnTo>
                      <a:lnTo>
                        <a:pt x="718" y="13"/>
                      </a:lnTo>
                      <a:lnTo>
                        <a:pt x="721" y="13"/>
                      </a:lnTo>
                      <a:lnTo>
                        <a:pt x="724" y="13"/>
                      </a:lnTo>
                      <a:lnTo>
                        <a:pt x="729" y="13"/>
                      </a:lnTo>
                      <a:lnTo>
                        <a:pt x="731" y="13"/>
                      </a:lnTo>
                      <a:lnTo>
                        <a:pt x="734" y="14"/>
                      </a:lnTo>
                      <a:lnTo>
                        <a:pt x="738" y="14"/>
                      </a:lnTo>
                      <a:lnTo>
                        <a:pt x="742" y="14"/>
                      </a:lnTo>
                      <a:lnTo>
                        <a:pt x="744" y="14"/>
                      </a:lnTo>
                      <a:lnTo>
                        <a:pt x="746" y="14"/>
                      </a:lnTo>
                      <a:lnTo>
                        <a:pt x="750" y="14"/>
                      </a:lnTo>
                      <a:lnTo>
                        <a:pt x="753" y="14"/>
                      </a:lnTo>
                      <a:lnTo>
                        <a:pt x="756" y="14"/>
                      </a:lnTo>
                      <a:lnTo>
                        <a:pt x="759" y="14"/>
                      </a:lnTo>
                      <a:lnTo>
                        <a:pt x="762" y="14"/>
                      </a:lnTo>
                      <a:lnTo>
                        <a:pt x="764" y="14"/>
                      </a:lnTo>
                      <a:lnTo>
                        <a:pt x="766" y="14"/>
                      </a:lnTo>
                      <a:lnTo>
                        <a:pt x="770" y="15"/>
                      </a:lnTo>
                      <a:lnTo>
                        <a:pt x="772" y="15"/>
                      </a:lnTo>
                      <a:lnTo>
                        <a:pt x="775" y="15"/>
                      </a:lnTo>
                      <a:lnTo>
                        <a:pt x="778" y="15"/>
                      </a:lnTo>
                      <a:lnTo>
                        <a:pt x="781" y="15"/>
                      </a:lnTo>
                      <a:lnTo>
                        <a:pt x="785" y="15"/>
                      </a:lnTo>
                      <a:lnTo>
                        <a:pt x="790" y="15"/>
                      </a:lnTo>
                      <a:lnTo>
                        <a:pt x="795" y="15"/>
                      </a:lnTo>
                      <a:lnTo>
                        <a:pt x="800" y="16"/>
                      </a:lnTo>
                      <a:lnTo>
                        <a:pt x="804" y="16"/>
                      </a:lnTo>
                      <a:lnTo>
                        <a:pt x="808" y="16"/>
                      </a:lnTo>
                      <a:lnTo>
                        <a:pt x="813" y="18"/>
                      </a:lnTo>
                      <a:lnTo>
                        <a:pt x="816" y="18"/>
                      </a:lnTo>
                      <a:lnTo>
                        <a:pt x="815" y="21"/>
                      </a:lnTo>
                      <a:lnTo>
                        <a:pt x="816" y="25"/>
                      </a:lnTo>
                      <a:lnTo>
                        <a:pt x="816" y="28"/>
                      </a:lnTo>
                      <a:lnTo>
                        <a:pt x="818" y="33"/>
                      </a:lnTo>
                      <a:lnTo>
                        <a:pt x="820" y="37"/>
                      </a:lnTo>
                      <a:lnTo>
                        <a:pt x="821" y="41"/>
                      </a:lnTo>
                      <a:lnTo>
                        <a:pt x="823" y="45"/>
                      </a:lnTo>
                      <a:lnTo>
                        <a:pt x="827" y="48"/>
                      </a:lnTo>
                      <a:lnTo>
                        <a:pt x="829" y="52"/>
                      </a:lnTo>
                      <a:lnTo>
                        <a:pt x="833" y="56"/>
                      </a:lnTo>
                      <a:lnTo>
                        <a:pt x="835" y="59"/>
                      </a:lnTo>
                      <a:lnTo>
                        <a:pt x="840" y="64"/>
                      </a:lnTo>
                      <a:lnTo>
                        <a:pt x="842" y="66"/>
                      </a:lnTo>
                      <a:lnTo>
                        <a:pt x="847" y="70"/>
                      </a:lnTo>
                      <a:lnTo>
                        <a:pt x="852" y="73"/>
                      </a:lnTo>
                      <a:lnTo>
                        <a:pt x="855" y="76"/>
                      </a:lnTo>
                      <a:lnTo>
                        <a:pt x="860" y="79"/>
                      </a:lnTo>
                      <a:lnTo>
                        <a:pt x="865" y="82"/>
                      </a:lnTo>
                      <a:lnTo>
                        <a:pt x="870" y="83"/>
                      </a:lnTo>
                      <a:lnTo>
                        <a:pt x="874" y="85"/>
                      </a:lnTo>
                      <a:lnTo>
                        <a:pt x="878" y="86"/>
                      </a:lnTo>
                      <a:lnTo>
                        <a:pt x="884" y="89"/>
                      </a:lnTo>
                      <a:lnTo>
                        <a:pt x="889" y="89"/>
                      </a:lnTo>
                      <a:lnTo>
                        <a:pt x="893" y="91"/>
                      </a:lnTo>
                      <a:lnTo>
                        <a:pt x="898" y="91"/>
                      </a:lnTo>
                      <a:lnTo>
                        <a:pt x="902" y="91"/>
                      </a:lnTo>
                      <a:lnTo>
                        <a:pt x="906" y="91"/>
                      </a:lnTo>
                      <a:lnTo>
                        <a:pt x="911" y="91"/>
                      </a:lnTo>
                      <a:lnTo>
                        <a:pt x="915" y="89"/>
                      </a:lnTo>
                      <a:lnTo>
                        <a:pt x="920" y="89"/>
                      </a:lnTo>
                      <a:lnTo>
                        <a:pt x="923" y="86"/>
                      </a:lnTo>
                      <a:lnTo>
                        <a:pt x="927" y="85"/>
                      </a:lnTo>
                      <a:lnTo>
                        <a:pt x="925" y="83"/>
                      </a:lnTo>
                      <a:lnTo>
                        <a:pt x="924" y="79"/>
                      </a:lnTo>
                      <a:lnTo>
                        <a:pt x="923" y="77"/>
                      </a:lnTo>
                      <a:lnTo>
                        <a:pt x="922" y="75"/>
                      </a:lnTo>
                      <a:lnTo>
                        <a:pt x="920" y="70"/>
                      </a:lnTo>
                      <a:lnTo>
                        <a:pt x="917" y="65"/>
                      </a:lnTo>
                      <a:lnTo>
                        <a:pt x="915" y="62"/>
                      </a:lnTo>
                      <a:lnTo>
                        <a:pt x="911" y="56"/>
                      </a:lnTo>
                      <a:lnTo>
                        <a:pt x="909" y="52"/>
                      </a:lnTo>
                      <a:lnTo>
                        <a:pt x="906" y="48"/>
                      </a:lnTo>
                      <a:lnTo>
                        <a:pt x="902" y="44"/>
                      </a:lnTo>
                      <a:lnTo>
                        <a:pt x="898" y="40"/>
                      </a:lnTo>
                      <a:lnTo>
                        <a:pt x="895" y="37"/>
                      </a:lnTo>
                      <a:lnTo>
                        <a:pt x="891" y="33"/>
                      </a:lnTo>
                      <a:lnTo>
                        <a:pt x="889" y="31"/>
                      </a:lnTo>
                      <a:lnTo>
                        <a:pt x="884" y="27"/>
                      </a:lnTo>
                      <a:lnTo>
                        <a:pt x="879" y="25"/>
                      </a:lnTo>
                      <a:lnTo>
                        <a:pt x="876" y="22"/>
                      </a:lnTo>
                      <a:lnTo>
                        <a:pt x="878" y="22"/>
                      </a:lnTo>
                      <a:lnTo>
                        <a:pt x="880" y="22"/>
                      </a:lnTo>
                      <a:lnTo>
                        <a:pt x="884" y="22"/>
                      </a:lnTo>
                      <a:lnTo>
                        <a:pt x="886" y="22"/>
                      </a:lnTo>
                      <a:lnTo>
                        <a:pt x="890" y="22"/>
                      </a:lnTo>
                      <a:lnTo>
                        <a:pt x="892" y="22"/>
                      </a:lnTo>
                      <a:lnTo>
                        <a:pt x="896" y="22"/>
                      </a:lnTo>
                      <a:lnTo>
                        <a:pt x="898" y="22"/>
                      </a:lnTo>
                      <a:lnTo>
                        <a:pt x="902" y="22"/>
                      </a:lnTo>
                      <a:lnTo>
                        <a:pt x="904" y="22"/>
                      </a:lnTo>
                      <a:lnTo>
                        <a:pt x="908" y="22"/>
                      </a:lnTo>
                      <a:lnTo>
                        <a:pt x="911" y="22"/>
                      </a:lnTo>
                      <a:lnTo>
                        <a:pt x="915" y="22"/>
                      </a:lnTo>
                      <a:lnTo>
                        <a:pt x="918" y="22"/>
                      </a:lnTo>
                      <a:lnTo>
                        <a:pt x="922" y="22"/>
                      </a:lnTo>
                      <a:lnTo>
                        <a:pt x="925" y="22"/>
                      </a:lnTo>
                      <a:lnTo>
                        <a:pt x="928" y="21"/>
                      </a:lnTo>
                      <a:lnTo>
                        <a:pt x="931" y="21"/>
                      </a:lnTo>
                      <a:lnTo>
                        <a:pt x="935" y="21"/>
                      </a:lnTo>
                      <a:lnTo>
                        <a:pt x="940" y="21"/>
                      </a:lnTo>
                      <a:lnTo>
                        <a:pt x="942" y="21"/>
                      </a:lnTo>
                      <a:lnTo>
                        <a:pt x="947" y="21"/>
                      </a:lnTo>
                      <a:lnTo>
                        <a:pt x="949" y="21"/>
                      </a:lnTo>
                      <a:lnTo>
                        <a:pt x="954" y="21"/>
                      </a:lnTo>
                      <a:lnTo>
                        <a:pt x="956" y="21"/>
                      </a:lnTo>
                      <a:lnTo>
                        <a:pt x="961" y="21"/>
                      </a:lnTo>
                      <a:lnTo>
                        <a:pt x="965" y="21"/>
                      </a:lnTo>
                      <a:lnTo>
                        <a:pt x="969" y="21"/>
                      </a:lnTo>
                      <a:lnTo>
                        <a:pt x="972" y="21"/>
                      </a:lnTo>
                      <a:lnTo>
                        <a:pt x="976" y="21"/>
                      </a:lnTo>
                      <a:lnTo>
                        <a:pt x="980" y="21"/>
                      </a:lnTo>
                      <a:lnTo>
                        <a:pt x="985" y="21"/>
                      </a:lnTo>
                      <a:lnTo>
                        <a:pt x="988" y="21"/>
                      </a:lnTo>
                      <a:lnTo>
                        <a:pt x="992" y="21"/>
                      </a:lnTo>
                      <a:lnTo>
                        <a:pt x="995" y="21"/>
                      </a:lnTo>
                      <a:lnTo>
                        <a:pt x="1000" y="21"/>
                      </a:lnTo>
                      <a:lnTo>
                        <a:pt x="1004" y="20"/>
                      </a:lnTo>
                      <a:lnTo>
                        <a:pt x="1007" y="20"/>
                      </a:lnTo>
                      <a:lnTo>
                        <a:pt x="1012" y="20"/>
                      </a:lnTo>
                      <a:lnTo>
                        <a:pt x="1017" y="20"/>
                      </a:lnTo>
                      <a:lnTo>
                        <a:pt x="1020" y="20"/>
                      </a:lnTo>
                      <a:lnTo>
                        <a:pt x="1025" y="20"/>
                      </a:lnTo>
                      <a:lnTo>
                        <a:pt x="1029" y="20"/>
                      </a:lnTo>
                      <a:lnTo>
                        <a:pt x="1033" y="20"/>
                      </a:lnTo>
                      <a:lnTo>
                        <a:pt x="1038" y="20"/>
                      </a:lnTo>
                      <a:lnTo>
                        <a:pt x="1042" y="20"/>
                      </a:lnTo>
                      <a:lnTo>
                        <a:pt x="1047" y="20"/>
                      </a:lnTo>
                      <a:lnTo>
                        <a:pt x="1050" y="20"/>
                      </a:lnTo>
                      <a:lnTo>
                        <a:pt x="1055" y="19"/>
                      </a:lnTo>
                      <a:lnTo>
                        <a:pt x="1060" y="19"/>
                      </a:lnTo>
                      <a:lnTo>
                        <a:pt x="1063" y="19"/>
                      </a:lnTo>
                      <a:lnTo>
                        <a:pt x="1068" y="19"/>
                      </a:lnTo>
                      <a:lnTo>
                        <a:pt x="1073" y="19"/>
                      </a:lnTo>
                      <a:lnTo>
                        <a:pt x="1076" y="19"/>
                      </a:lnTo>
                      <a:lnTo>
                        <a:pt x="1081" y="19"/>
                      </a:lnTo>
                      <a:lnTo>
                        <a:pt x="1084" y="19"/>
                      </a:lnTo>
                      <a:lnTo>
                        <a:pt x="1089" y="18"/>
                      </a:lnTo>
                      <a:lnTo>
                        <a:pt x="1094" y="18"/>
                      </a:lnTo>
                      <a:lnTo>
                        <a:pt x="1099" y="18"/>
                      </a:lnTo>
                      <a:lnTo>
                        <a:pt x="1102" y="18"/>
                      </a:lnTo>
                      <a:lnTo>
                        <a:pt x="1107" y="18"/>
                      </a:lnTo>
                      <a:lnTo>
                        <a:pt x="1112" y="18"/>
                      </a:lnTo>
                      <a:lnTo>
                        <a:pt x="1115" y="18"/>
                      </a:lnTo>
                      <a:lnTo>
                        <a:pt x="1120" y="18"/>
                      </a:lnTo>
                      <a:lnTo>
                        <a:pt x="1118" y="21"/>
                      </a:lnTo>
                      <a:lnTo>
                        <a:pt x="1115" y="24"/>
                      </a:lnTo>
                      <a:lnTo>
                        <a:pt x="1113" y="27"/>
                      </a:lnTo>
                      <a:lnTo>
                        <a:pt x="1112" y="31"/>
                      </a:lnTo>
                      <a:lnTo>
                        <a:pt x="1108" y="34"/>
                      </a:lnTo>
                      <a:lnTo>
                        <a:pt x="1106" y="38"/>
                      </a:lnTo>
                      <a:lnTo>
                        <a:pt x="1103" y="41"/>
                      </a:lnTo>
                      <a:lnTo>
                        <a:pt x="1103" y="44"/>
                      </a:lnTo>
                      <a:lnTo>
                        <a:pt x="1107" y="44"/>
                      </a:lnTo>
                      <a:lnTo>
                        <a:pt x="1113" y="45"/>
                      </a:lnTo>
                      <a:lnTo>
                        <a:pt x="1117" y="46"/>
                      </a:lnTo>
                      <a:lnTo>
                        <a:pt x="1122" y="47"/>
                      </a:lnTo>
                      <a:lnTo>
                        <a:pt x="1127" y="48"/>
                      </a:lnTo>
                      <a:lnTo>
                        <a:pt x="1132" y="50"/>
                      </a:lnTo>
                      <a:lnTo>
                        <a:pt x="1137" y="52"/>
                      </a:lnTo>
                      <a:lnTo>
                        <a:pt x="1141" y="54"/>
                      </a:lnTo>
                      <a:lnTo>
                        <a:pt x="1146" y="56"/>
                      </a:lnTo>
                      <a:lnTo>
                        <a:pt x="1151" y="59"/>
                      </a:lnTo>
                      <a:lnTo>
                        <a:pt x="1156" y="60"/>
                      </a:lnTo>
                      <a:lnTo>
                        <a:pt x="1160" y="64"/>
                      </a:lnTo>
                      <a:lnTo>
                        <a:pt x="1164" y="66"/>
                      </a:lnTo>
                      <a:lnTo>
                        <a:pt x="1170" y="69"/>
                      </a:lnTo>
                      <a:lnTo>
                        <a:pt x="1175" y="71"/>
                      </a:lnTo>
                      <a:lnTo>
                        <a:pt x="1179" y="73"/>
                      </a:lnTo>
                      <a:lnTo>
                        <a:pt x="1184" y="75"/>
                      </a:lnTo>
                      <a:lnTo>
                        <a:pt x="1189" y="76"/>
                      </a:lnTo>
                      <a:lnTo>
                        <a:pt x="1194" y="78"/>
                      </a:lnTo>
                      <a:lnTo>
                        <a:pt x="1198" y="81"/>
                      </a:lnTo>
                      <a:lnTo>
                        <a:pt x="1202" y="82"/>
                      </a:lnTo>
                      <a:lnTo>
                        <a:pt x="1208" y="82"/>
                      </a:lnTo>
                      <a:lnTo>
                        <a:pt x="1213" y="83"/>
                      </a:lnTo>
                      <a:lnTo>
                        <a:pt x="1217" y="83"/>
                      </a:lnTo>
                      <a:lnTo>
                        <a:pt x="1221" y="83"/>
                      </a:lnTo>
                      <a:lnTo>
                        <a:pt x="1227" y="82"/>
                      </a:lnTo>
                      <a:lnTo>
                        <a:pt x="1230" y="81"/>
                      </a:lnTo>
                      <a:lnTo>
                        <a:pt x="1236" y="79"/>
                      </a:lnTo>
                      <a:lnTo>
                        <a:pt x="1241" y="76"/>
                      </a:lnTo>
                      <a:lnTo>
                        <a:pt x="1246" y="73"/>
                      </a:lnTo>
                      <a:lnTo>
                        <a:pt x="1251" y="71"/>
                      </a:lnTo>
                      <a:lnTo>
                        <a:pt x="1257" y="67"/>
                      </a:lnTo>
                      <a:lnTo>
                        <a:pt x="1251" y="64"/>
                      </a:lnTo>
                      <a:lnTo>
                        <a:pt x="1246" y="59"/>
                      </a:lnTo>
                      <a:lnTo>
                        <a:pt x="1241" y="56"/>
                      </a:lnTo>
                      <a:lnTo>
                        <a:pt x="1236" y="52"/>
                      </a:lnTo>
                      <a:lnTo>
                        <a:pt x="1232" y="48"/>
                      </a:lnTo>
                      <a:lnTo>
                        <a:pt x="1227" y="45"/>
                      </a:lnTo>
                      <a:lnTo>
                        <a:pt x="1222" y="41"/>
                      </a:lnTo>
                      <a:lnTo>
                        <a:pt x="1217" y="38"/>
                      </a:lnTo>
                      <a:lnTo>
                        <a:pt x="1213" y="34"/>
                      </a:lnTo>
                      <a:lnTo>
                        <a:pt x="1208" y="31"/>
                      </a:lnTo>
                      <a:lnTo>
                        <a:pt x="1202" y="28"/>
                      </a:lnTo>
                      <a:lnTo>
                        <a:pt x="1197" y="26"/>
                      </a:lnTo>
                      <a:lnTo>
                        <a:pt x="1192" y="22"/>
                      </a:lnTo>
                      <a:lnTo>
                        <a:pt x="1188" y="20"/>
                      </a:lnTo>
                      <a:lnTo>
                        <a:pt x="1182" y="18"/>
                      </a:lnTo>
                      <a:lnTo>
                        <a:pt x="1177" y="15"/>
                      </a:lnTo>
                      <a:lnTo>
                        <a:pt x="1182" y="15"/>
                      </a:lnTo>
                      <a:lnTo>
                        <a:pt x="1187" y="15"/>
                      </a:lnTo>
                      <a:lnTo>
                        <a:pt x="1190" y="14"/>
                      </a:lnTo>
                      <a:lnTo>
                        <a:pt x="1195" y="14"/>
                      </a:lnTo>
                      <a:lnTo>
                        <a:pt x="1200" y="14"/>
                      </a:lnTo>
                      <a:lnTo>
                        <a:pt x="1203" y="14"/>
                      </a:lnTo>
                      <a:lnTo>
                        <a:pt x="1208" y="13"/>
                      </a:lnTo>
                      <a:lnTo>
                        <a:pt x="1213" y="13"/>
                      </a:lnTo>
                      <a:lnTo>
                        <a:pt x="1217" y="13"/>
                      </a:lnTo>
                      <a:lnTo>
                        <a:pt x="1221" y="13"/>
                      </a:lnTo>
                      <a:lnTo>
                        <a:pt x="1226" y="13"/>
                      </a:lnTo>
                      <a:lnTo>
                        <a:pt x="1230" y="13"/>
                      </a:lnTo>
                      <a:lnTo>
                        <a:pt x="1234" y="12"/>
                      </a:lnTo>
                      <a:lnTo>
                        <a:pt x="1239" y="12"/>
                      </a:lnTo>
                      <a:lnTo>
                        <a:pt x="1243" y="12"/>
                      </a:lnTo>
                      <a:lnTo>
                        <a:pt x="1247" y="12"/>
                      </a:lnTo>
                      <a:lnTo>
                        <a:pt x="1251" y="12"/>
                      </a:lnTo>
                      <a:lnTo>
                        <a:pt x="1255" y="10"/>
                      </a:lnTo>
                      <a:lnTo>
                        <a:pt x="1260" y="10"/>
                      </a:lnTo>
                      <a:lnTo>
                        <a:pt x="1264" y="10"/>
                      </a:lnTo>
                      <a:lnTo>
                        <a:pt x="1268" y="10"/>
                      </a:lnTo>
                      <a:lnTo>
                        <a:pt x="1272" y="10"/>
                      </a:lnTo>
                      <a:lnTo>
                        <a:pt x="1275" y="9"/>
                      </a:lnTo>
                      <a:lnTo>
                        <a:pt x="1280" y="9"/>
                      </a:lnTo>
                      <a:lnTo>
                        <a:pt x="1284" y="9"/>
                      </a:lnTo>
                      <a:lnTo>
                        <a:pt x="1289" y="9"/>
                      </a:lnTo>
                      <a:lnTo>
                        <a:pt x="1291" y="8"/>
                      </a:lnTo>
                      <a:lnTo>
                        <a:pt x="1296" y="8"/>
                      </a:lnTo>
                      <a:lnTo>
                        <a:pt x="1300" y="8"/>
                      </a:lnTo>
                      <a:lnTo>
                        <a:pt x="1304" y="8"/>
                      </a:lnTo>
                      <a:lnTo>
                        <a:pt x="1309" y="8"/>
                      </a:lnTo>
                      <a:lnTo>
                        <a:pt x="1312" y="8"/>
                      </a:lnTo>
                      <a:lnTo>
                        <a:pt x="1316" y="8"/>
                      </a:lnTo>
                      <a:lnTo>
                        <a:pt x="1319" y="7"/>
                      </a:lnTo>
                      <a:lnTo>
                        <a:pt x="1323" y="7"/>
                      </a:lnTo>
                      <a:lnTo>
                        <a:pt x="1327" y="7"/>
                      </a:lnTo>
                      <a:lnTo>
                        <a:pt x="1330" y="6"/>
                      </a:lnTo>
                      <a:lnTo>
                        <a:pt x="1334" y="6"/>
                      </a:lnTo>
                      <a:lnTo>
                        <a:pt x="1338" y="6"/>
                      </a:lnTo>
                      <a:lnTo>
                        <a:pt x="1342" y="6"/>
                      </a:lnTo>
                      <a:lnTo>
                        <a:pt x="1346" y="6"/>
                      </a:lnTo>
                      <a:lnTo>
                        <a:pt x="1349" y="5"/>
                      </a:lnTo>
                      <a:lnTo>
                        <a:pt x="1351" y="5"/>
                      </a:lnTo>
                      <a:lnTo>
                        <a:pt x="1356" y="5"/>
                      </a:lnTo>
                      <a:lnTo>
                        <a:pt x="1359" y="5"/>
                      </a:lnTo>
                      <a:lnTo>
                        <a:pt x="1362" y="3"/>
                      </a:lnTo>
                      <a:lnTo>
                        <a:pt x="1366" y="3"/>
                      </a:lnTo>
                      <a:lnTo>
                        <a:pt x="1369" y="3"/>
                      </a:lnTo>
                      <a:lnTo>
                        <a:pt x="1372" y="3"/>
                      </a:lnTo>
                      <a:lnTo>
                        <a:pt x="1375" y="3"/>
                      </a:lnTo>
                      <a:lnTo>
                        <a:pt x="1379" y="3"/>
                      </a:lnTo>
                      <a:lnTo>
                        <a:pt x="1382" y="3"/>
                      </a:lnTo>
                      <a:lnTo>
                        <a:pt x="1385" y="2"/>
                      </a:lnTo>
                      <a:lnTo>
                        <a:pt x="1387" y="2"/>
                      </a:lnTo>
                      <a:lnTo>
                        <a:pt x="1389" y="1"/>
                      </a:lnTo>
                      <a:lnTo>
                        <a:pt x="1393" y="1"/>
                      </a:lnTo>
                      <a:lnTo>
                        <a:pt x="1395" y="1"/>
                      </a:lnTo>
                      <a:lnTo>
                        <a:pt x="1398" y="0"/>
                      </a:lnTo>
                      <a:lnTo>
                        <a:pt x="1401" y="0"/>
                      </a:lnTo>
                      <a:lnTo>
                        <a:pt x="1405" y="0"/>
                      </a:lnTo>
                      <a:lnTo>
                        <a:pt x="1407" y="0"/>
                      </a:lnTo>
                      <a:lnTo>
                        <a:pt x="1410" y="0"/>
                      </a:lnTo>
                      <a:lnTo>
                        <a:pt x="1412" y="0"/>
                      </a:lnTo>
                      <a:lnTo>
                        <a:pt x="1416" y="0"/>
                      </a:lnTo>
                      <a:lnTo>
                        <a:pt x="1425" y="84"/>
                      </a:lnTo>
                      <a:lnTo>
                        <a:pt x="1424" y="84"/>
                      </a:lnTo>
                      <a:lnTo>
                        <a:pt x="1421" y="84"/>
                      </a:lnTo>
                      <a:lnTo>
                        <a:pt x="1420" y="84"/>
                      </a:lnTo>
                      <a:lnTo>
                        <a:pt x="1416" y="84"/>
                      </a:lnTo>
                      <a:lnTo>
                        <a:pt x="1412" y="85"/>
                      </a:lnTo>
                      <a:lnTo>
                        <a:pt x="1407" y="85"/>
                      </a:lnTo>
                      <a:lnTo>
                        <a:pt x="1402" y="86"/>
                      </a:lnTo>
                      <a:lnTo>
                        <a:pt x="1400" y="86"/>
                      </a:lnTo>
                      <a:lnTo>
                        <a:pt x="1397" y="86"/>
                      </a:lnTo>
                      <a:lnTo>
                        <a:pt x="1393" y="86"/>
                      </a:lnTo>
                      <a:lnTo>
                        <a:pt x="1389" y="88"/>
                      </a:lnTo>
                      <a:lnTo>
                        <a:pt x="1387" y="88"/>
                      </a:lnTo>
                      <a:lnTo>
                        <a:pt x="1383" y="89"/>
                      </a:lnTo>
                      <a:lnTo>
                        <a:pt x="1380" y="89"/>
                      </a:lnTo>
                      <a:lnTo>
                        <a:pt x="1376" y="89"/>
                      </a:lnTo>
                      <a:lnTo>
                        <a:pt x="1372" y="89"/>
                      </a:lnTo>
                      <a:lnTo>
                        <a:pt x="1368" y="90"/>
                      </a:lnTo>
                      <a:lnTo>
                        <a:pt x="1363" y="90"/>
                      </a:lnTo>
                      <a:lnTo>
                        <a:pt x="1360" y="91"/>
                      </a:lnTo>
                      <a:lnTo>
                        <a:pt x="1354" y="91"/>
                      </a:lnTo>
                      <a:lnTo>
                        <a:pt x="1350" y="91"/>
                      </a:lnTo>
                      <a:lnTo>
                        <a:pt x="1346" y="92"/>
                      </a:lnTo>
                      <a:lnTo>
                        <a:pt x="1341" y="94"/>
                      </a:lnTo>
                      <a:lnTo>
                        <a:pt x="1335" y="94"/>
                      </a:lnTo>
                      <a:lnTo>
                        <a:pt x="1329" y="94"/>
                      </a:lnTo>
                      <a:lnTo>
                        <a:pt x="1324" y="94"/>
                      </a:lnTo>
                      <a:lnTo>
                        <a:pt x="1319" y="95"/>
                      </a:lnTo>
                      <a:lnTo>
                        <a:pt x="1312" y="96"/>
                      </a:lnTo>
                      <a:lnTo>
                        <a:pt x="1306" y="96"/>
                      </a:lnTo>
                      <a:lnTo>
                        <a:pt x="1302" y="97"/>
                      </a:lnTo>
                      <a:lnTo>
                        <a:pt x="1296" y="97"/>
                      </a:lnTo>
                      <a:lnTo>
                        <a:pt x="1289" y="97"/>
                      </a:lnTo>
                      <a:lnTo>
                        <a:pt x="1283" y="97"/>
                      </a:lnTo>
                      <a:lnTo>
                        <a:pt x="1275" y="98"/>
                      </a:lnTo>
                      <a:lnTo>
                        <a:pt x="1270" y="100"/>
                      </a:lnTo>
                      <a:lnTo>
                        <a:pt x="1262" y="100"/>
                      </a:lnTo>
                      <a:lnTo>
                        <a:pt x="1255" y="100"/>
                      </a:lnTo>
                      <a:lnTo>
                        <a:pt x="1249" y="100"/>
                      </a:lnTo>
                      <a:lnTo>
                        <a:pt x="1242" y="102"/>
                      </a:lnTo>
                      <a:lnTo>
                        <a:pt x="1235" y="102"/>
                      </a:lnTo>
                      <a:lnTo>
                        <a:pt x="1228" y="102"/>
                      </a:lnTo>
                      <a:lnTo>
                        <a:pt x="1220" y="102"/>
                      </a:lnTo>
                      <a:lnTo>
                        <a:pt x="1213" y="102"/>
                      </a:lnTo>
                      <a:lnTo>
                        <a:pt x="1205" y="103"/>
                      </a:lnTo>
                      <a:lnTo>
                        <a:pt x="1197" y="104"/>
                      </a:lnTo>
                      <a:lnTo>
                        <a:pt x="1190" y="104"/>
                      </a:lnTo>
                      <a:lnTo>
                        <a:pt x="1182" y="104"/>
                      </a:lnTo>
                      <a:lnTo>
                        <a:pt x="1173" y="104"/>
                      </a:lnTo>
                      <a:lnTo>
                        <a:pt x="1165" y="104"/>
                      </a:lnTo>
                      <a:lnTo>
                        <a:pt x="1157" y="105"/>
                      </a:lnTo>
                      <a:lnTo>
                        <a:pt x="1149" y="107"/>
                      </a:lnTo>
                      <a:lnTo>
                        <a:pt x="1140" y="107"/>
                      </a:lnTo>
                      <a:lnTo>
                        <a:pt x="1132" y="107"/>
                      </a:lnTo>
                      <a:lnTo>
                        <a:pt x="1122" y="107"/>
                      </a:lnTo>
                      <a:lnTo>
                        <a:pt x="1114" y="107"/>
                      </a:lnTo>
                      <a:lnTo>
                        <a:pt x="1112" y="103"/>
                      </a:lnTo>
                      <a:lnTo>
                        <a:pt x="1108" y="100"/>
                      </a:lnTo>
                      <a:lnTo>
                        <a:pt x="1106" y="95"/>
                      </a:lnTo>
                      <a:lnTo>
                        <a:pt x="1102" y="91"/>
                      </a:lnTo>
                      <a:lnTo>
                        <a:pt x="1099" y="89"/>
                      </a:lnTo>
                      <a:lnTo>
                        <a:pt x="1096" y="85"/>
                      </a:lnTo>
                      <a:lnTo>
                        <a:pt x="1094" y="82"/>
                      </a:lnTo>
                      <a:lnTo>
                        <a:pt x="1090" y="79"/>
                      </a:lnTo>
                      <a:lnTo>
                        <a:pt x="1086" y="76"/>
                      </a:lnTo>
                      <a:lnTo>
                        <a:pt x="1083" y="73"/>
                      </a:lnTo>
                      <a:lnTo>
                        <a:pt x="1080" y="71"/>
                      </a:lnTo>
                      <a:lnTo>
                        <a:pt x="1076" y="70"/>
                      </a:lnTo>
                      <a:lnTo>
                        <a:pt x="1074" y="67"/>
                      </a:lnTo>
                      <a:lnTo>
                        <a:pt x="1070" y="65"/>
                      </a:lnTo>
                      <a:lnTo>
                        <a:pt x="1065" y="64"/>
                      </a:lnTo>
                      <a:lnTo>
                        <a:pt x="1063" y="62"/>
                      </a:lnTo>
                      <a:lnTo>
                        <a:pt x="1060" y="60"/>
                      </a:lnTo>
                      <a:lnTo>
                        <a:pt x="1056" y="58"/>
                      </a:lnTo>
                      <a:lnTo>
                        <a:pt x="1051" y="56"/>
                      </a:lnTo>
                      <a:lnTo>
                        <a:pt x="1048" y="56"/>
                      </a:lnTo>
                      <a:lnTo>
                        <a:pt x="1044" y="53"/>
                      </a:lnTo>
                      <a:lnTo>
                        <a:pt x="1041" y="52"/>
                      </a:lnTo>
                      <a:lnTo>
                        <a:pt x="1037" y="51"/>
                      </a:lnTo>
                      <a:lnTo>
                        <a:pt x="1033" y="50"/>
                      </a:lnTo>
                      <a:lnTo>
                        <a:pt x="1030" y="48"/>
                      </a:lnTo>
                      <a:lnTo>
                        <a:pt x="1026" y="46"/>
                      </a:lnTo>
                      <a:lnTo>
                        <a:pt x="1022" y="45"/>
                      </a:lnTo>
                      <a:lnTo>
                        <a:pt x="1018" y="44"/>
                      </a:lnTo>
                      <a:lnTo>
                        <a:pt x="1014" y="43"/>
                      </a:lnTo>
                      <a:lnTo>
                        <a:pt x="1011" y="41"/>
                      </a:lnTo>
                      <a:lnTo>
                        <a:pt x="1007" y="39"/>
                      </a:lnTo>
                      <a:lnTo>
                        <a:pt x="1004" y="38"/>
                      </a:lnTo>
                      <a:lnTo>
                        <a:pt x="1001" y="38"/>
                      </a:lnTo>
                      <a:lnTo>
                        <a:pt x="1000" y="39"/>
                      </a:lnTo>
                      <a:lnTo>
                        <a:pt x="998" y="40"/>
                      </a:lnTo>
                      <a:lnTo>
                        <a:pt x="994" y="41"/>
                      </a:lnTo>
                      <a:lnTo>
                        <a:pt x="990" y="43"/>
                      </a:lnTo>
                      <a:lnTo>
                        <a:pt x="987" y="45"/>
                      </a:lnTo>
                      <a:lnTo>
                        <a:pt x="982" y="47"/>
                      </a:lnTo>
                      <a:lnTo>
                        <a:pt x="980" y="51"/>
                      </a:lnTo>
                      <a:lnTo>
                        <a:pt x="974" y="53"/>
                      </a:lnTo>
                      <a:lnTo>
                        <a:pt x="971" y="56"/>
                      </a:lnTo>
                      <a:lnTo>
                        <a:pt x="967" y="58"/>
                      </a:lnTo>
                      <a:lnTo>
                        <a:pt x="962" y="60"/>
                      </a:lnTo>
                      <a:lnTo>
                        <a:pt x="959" y="62"/>
                      </a:lnTo>
                      <a:lnTo>
                        <a:pt x="956" y="64"/>
                      </a:lnTo>
                      <a:lnTo>
                        <a:pt x="952" y="65"/>
                      </a:lnTo>
                      <a:lnTo>
                        <a:pt x="950" y="67"/>
                      </a:lnTo>
                      <a:lnTo>
                        <a:pt x="952" y="69"/>
                      </a:lnTo>
                      <a:lnTo>
                        <a:pt x="955" y="71"/>
                      </a:lnTo>
                      <a:lnTo>
                        <a:pt x="959" y="76"/>
                      </a:lnTo>
                      <a:lnTo>
                        <a:pt x="962" y="79"/>
                      </a:lnTo>
                      <a:lnTo>
                        <a:pt x="965" y="82"/>
                      </a:lnTo>
                      <a:lnTo>
                        <a:pt x="969" y="85"/>
                      </a:lnTo>
                      <a:lnTo>
                        <a:pt x="972" y="88"/>
                      </a:lnTo>
                      <a:lnTo>
                        <a:pt x="974" y="91"/>
                      </a:lnTo>
                      <a:lnTo>
                        <a:pt x="976" y="89"/>
                      </a:lnTo>
                      <a:lnTo>
                        <a:pt x="980" y="86"/>
                      </a:lnTo>
                      <a:lnTo>
                        <a:pt x="982" y="85"/>
                      </a:lnTo>
                      <a:lnTo>
                        <a:pt x="985" y="84"/>
                      </a:lnTo>
                      <a:lnTo>
                        <a:pt x="987" y="83"/>
                      </a:lnTo>
                      <a:lnTo>
                        <a:pt x="990" y="83"/>
                      </a:lnTo>
                      <a:lnTo>
                        <a:pt x="992" y="82"/>
                      </a:lnTo>
                      <a:lnTo>
                        <a:pt x="995" y="82"/>
                      </a:lnTo>
                      <a:lnTo>
                        <a:pt x="1000" y="82"/>
                      </a:lnTo>
                      <a:lnTo>
                        <a:pt x="1005" y="83"/>
                      </a:lnTo>
                      <a:lnTo>
                        <a:pt x="1010" y="84"/>
                      </a:lnTo>
                      <a:lnTo>
                        <a:pt x="1014" y="85"/>
                      </a:lnTo>
                      <a:lnTo>
                        <a:pt x="1018" y="86"/>
                      </a:lnTo>
                      <a:lnTo>
                        <a:pt x="1023" y="89"/>
                      </a:lnTo>
                      <a:lnTo>
                        <a:pt x="1026" y="91"/>
                      </a:lnTo>
                      <a:lnTo>
                        <a:pt x="1031" y="96"/>
                      </a:lnTo>
                      <a:lnTo>
                        <a:pt x="1035" y="98"/>
                      </a:lnTo>
                      <a:lnTo>
                        <a:pt x="1038" y="102"/>
                      </a:lnTo>
                      <a:lnTo>
                        <a:pt x="1043" y="104"/>
                      </a:lnTo>
                      <a:lnTo>
                        <a:pt x="1047" y="109"/>
                      </a:lnTo>
                      <a:lnTo>
                        <a:pt x="1042" y="109"/>
                      </a:lnTo>
                      <a:lnTo>
                        <a:pt x="1037" y="109"/>
                      </a:lnTo>
                      <a:lnTo>
                        <a:pt x="1032" y="109"/>
                      </a:lnTo>
                      <a:lnTo>
                        <a:pt x="1028" y="109"/>
                      </a:lnTo>
                      <a:lnTo>
                        <a:pt x="1022" y="109"/>
                      </a:lnTo>
                      <a:lnTo>
                        <a:pt x="1018" y="109"/>
                      </a:lnTo>
                      <a:lnTo>
                        <a:pt x="1012" y="109"/>
                      </a:lnTo>
                      <a:lnTo>
                        <a:pt x="1007" y="109"/>
                      </a:lnTo>
                      <a:lnTo>
                        <a:pt x="1003" y="108"/>
                      </a:lnTo>
                      <a:lnTo>
                        <a:pt x="998" y="108"/>
                      </a:lnTo>
                      <a:lnTo>
                        <a:pt x="992" y="108"/>
                      </a:lnTo>
                      <a:lnTo>
                        <a:pt x="987" y="108"/>
                      </a:lnTo>
                      <a:lnTo>
                        <a:pt x="982" y="108"/>
                      </a:lnTo>
                      <a:lnTo>
                        <a:pt x="978" y="108"/>
                      </a:lnTo>
                      <a:lnTo>
                        <a:pt x="973" y="108"/>
                      </a:lnTo>
                      <a:lnTo>
                        <a:pt x="968" y="108"/>
                      </a:lnTo>
                      <a:lnTo>
                        <a:pt x="965" y="107"/>
                      </a:lnTo>
                      <a:lnTo>
                        <a:pt x="962" y="107"/>
                      </a:lnTo>
                      <a:lnTo>
                        <a:pt x="960" y="107"/>
                      </a:lnTo>
                      <a:lnTo>
                        <a:pt x="958" y="107"/>
                      </a:lnTo>
                      <a:lnTo>
                        <a:pt x="954" y="107"/>
                      </a:lnTo>
                      <a:lnTo>
                        <a:pt x="952" y="107"/>
                      </a:lnTo>
                      <a:lnTo>
                        <a:pt x="949" y="107"/>
                      </a:lnTo>
                      <a:lnTo>
                        <a:pt x="947" y="107"/>
                      </a:lnTo>
                      <a:lnTo>
                        <a:pt x="944" y="107"/>
                      </a:lnTo>
                      <a:lnTo>
                        <a:pt x="942" y="107"/>
                      </a:lnTo>
                      <a:lnTo>
                        <a:pt x="940" y="107"/>
                      </a:lnTo>
                      <a:lnTo>
                        <a:pt x="936" y="107"/>
                      </a:lnTo>
                      <a:lnTo>
                        <a:pt x="931" y="107"/>
                      </a:lnTo>
                      <a:lnTo>
                        <a:pt x="927" y="107"/>
                      </a:lnTo>
                      <a:lnTo>
                        <a:pt x="924" y="107"/>
                      </a:lnTo>
                      <a:lnTo>
                        <a:pt x="921" y="107"/>
                      </a:lnTo>
                      <a:lnTo>
                        <a:pt x="918" y="107"/>
                      </a:lnTo>
                      <a:lnTo>
                        <a:pt x="916" y="107"/>
                      </a:lnTo>
                      <a:lnTo>
                        <a:pt x="914" y="107"/>
                      </a:lnTo>
                      <a:lnTo>
                        <a:pt x="910" y="107"/>
                      </a:lnTo>
                      <a:lnTo>
                        <a:pt x="908" y="107"/>
                      </a:lnTo>
                      <a:lnTo>
                        <a:pt x="905" y="107"/>
                      </a:lnTo>
                      <a:lnTo>
                        <a:pt x="903" y="105"/>
                      </a:lnTo>
                      <a:lnTo>
                        <a:pt x="899" y="105"/>
                      </a:lnTo>
                      <a:lnTo>
                        <a:pt x="897" y="105"/>
                      </a:lnTo>
                      <a:lnTo>
                        <a:pt x="895" y="105"/>
                      </a:lnTo>
                      <a:lnTo>
                        <a:pt x="892" y="105"/>
                      </a:lnTo>
                      <a:lnTo>
                        <a:pt x="889" y="105"/>
                      </a:lnTo>
                      <a:lnTo>
                        <a:pt x="886" y="105"/>
                      </a:lnTo>
                      <a:lnTo>
                        <a:pt x="884" y="105"/>
                      </a:lnTo>
                      <a:lnTo>
                        <a:pt x="880" y="104"/>
                      </a:lnTo>
                      <a:lnTo>
                        <a:pt x="877" y="104"/>
                      </a:lnTo>
                      <a:lnTo>
                        <a:pt x="873" y="104"/>
                      </a:lnTo>
                      <a:lnTo>
                        <a:pt x="870" y="104"/>
                      </a:lnTo>
                      <a:lnTo>
                        <a:pt x="866" y="104"/>
                      </a:lnTo>
                      <a:lnTo>
                        <a:pt x="863" y="104"/>
                      </a:lnTo>
                      <a:lnTo>
                        <a:pt x="858" y="104"/>
                      </a:lnTo>
                      <a:lnTo>
                        <a:pt x="855" y="104"/>
                      </a:lnTo>
                      <a:lnTo>
                        <a:pt x="852" y="104"/>
                      </a:lnTo>
                      <a:lnTo>
                        <a:pt x="848" y="104"/>
                      </a:lnTo>
                      <a:lnTo>
                        <a:pt x="845" y="104"/>
                      </a:lnTo>
                      <a:lnTo>
                        <a:pt x="840" y="104"/>
                      </a:lnTo>
                      <a:lnTo>
                        <a:pt x="838" y="104"/>
                      </a:lnTo>
                      <a:lnTo>
                        <a:pt x="834" y="104"/>
                      </a:lnTo>
                      <a:lnTo>
                        <a:pt x="831" y="104"/>
                      </a:lnTo>
                      <a:lnTo>
                        <a:pt x="827" y="104"/>
                      </a:lnTo>
                      <a:lnTo>
                        <a:pt x="826" y="100"/>
                      </a:lnTo>
                      <a:lnTo>
                        <a:pt x="826" y="96"/>
                      </a:lnTo>
                      <a:lnTo>
                        <a:pt x="825" y="91"/>
                      </a:lnTo>
                      <a:lnTo>
                        <a:pt x="823" y="89"/>
                      </a:lnTo>
                      <a:lnTo>
                        <a:pt x="822" y="84"/>
                      </a:lnTo>
                      <a:lnTo>
                        <a:pt x="822" y="81"/>
                      </a:lnTo>
                      <a:lnTo>
                        <a:pt x="821" y="76"/>
                      </a:lnTo>
                      <a:lnTo>
                        <a:pt x="821" y="73"/>
                      </a:lnTo>
                      <a:lnTo>
                        <a:pt x="818" y="73"/>
                      </a:lnTo>
                      <a:lnTo>
                        <a:pt x="814" y="76"/>
                      </a:lnTo>
                      <a:lnTo>
                        <a:pt x="810" y="76"/>
                      </a:lnTo>
                      <a:lnTo>
                        <a:pt x="807" y="78"/>
                      </a:lnTo>
                      <a:lnTo>
                        <a:pt x="803" y="78"/>
                      </a:lnTo>
                      <a:lnTo>
                        <a:pt x="800" y="78"/>
                      </a:lnTo>
                      <a:lnTo>
                        <a:pt x="797" y="76"/>
                      </a:lnTo>
                      <a:lnTo>
                        <a:pt x="795" y="76"/>
                      </a:lnTo>
                      <a:lnTo>
                        <a:pt x="793" y="75"/>
                      </a:lnTo>
                      <a:lnTo>
                        <a:pt x="790" y="73"/>
                      </a:lnTo>
                      <a:lnTo>
                        <a:pt x="787" y="71"/>
                      </a:lnTo>
                      <a:lnTo>
                        <a:pt x="784" y="70"/>
                      </a:lnTo>
                      <a:lnTo>
                        <a:pt x="780" y="66"/>
                      </a:lnTo>
                      <a:lnTo>
                        <a:pt x="775" y="62"/>
                      </a:lnTo>
                      <a:lnTo>
                        <a:pt x="772" y="59"/>
                      </a:lnTo>
                      <a:lnTo>
                        <a:pt x="770" y="56"/>
                      </a:lnTo>
                      <a:lnTo>
                        <a:pt x="766" y="53"/>
                      </a:lnTo>
                      <a:lnTo>
                        <a:pt x="765" y="51"/>
                      </a:lnTo>
                      <a:lnTo>
                        <a:pt x="761" y="46"/>
                      </a:lnTo>
                      <a:lnTo>
                        <a:pt x="756" y="41"/>
                      </a:lnTo>
                      <a:lnTo>
                        <a:pt x="753" y="39"/>
                      </a:lnTo>
                      <a:lnTo>
                        <a:pt x="751" y="38"/>
                      </a:lnTo>
                      <a:lnTo>
                        <a:pt x="748" y="35"/>
                      </a:lnTo>
                      <a:lnTo>
                        <a:pt x="745" y="34"/>
                      </a:lnTo>
                      <a:lnTo>
                        <a:pt x="742" y="33"/>
                      </a:lnTo>
                      <a:lnTo>
                        <a:pt x="739" y="33"/>
                      </a:lnTo>
                      <a:lnTo>
                        <a:pt x="737" y="32"/>
                      </a:lnTo>
                      <a:lnTo>
                        <a:pt x="733" y="32"/>
                      </a:lnTo>
                      <a:lnTo>
                        <a:pt x="729" y="37"/>
                      </a:lnTo>
                      <a:lnTo>
                        <a:pt x="726" y="41"/>
                      </a:lnTo>
                      <a:lnTo>
                        <a:pt x="724" y="46"/>
                      </a:lnTo>
                      <a:lnTo>
                        <a:pt x="721" y="52"/>
                      </a:lnTo>
                      <a:lnTo>
                        <a:pt x="720" y="56"/>
                      </a:lnTo>
                      <a:lnTo>
                        <a:pt x="720" y="62"/>
                      </a:lnTo>
                      <a:lnTo>
                        <a:pt x="721" y="66"/>
                      </a:lnTo>
                      <a:lnTo>
                        <a:pt x="723" y="71"/>
                      </a:lnTo>
                      <a:lnTo>
                        <a:pt x="724" y="73"/>
                      </a:lnTo>
                      <a:lnTo>
                        <a:pt x="726" y="79"/>
                      </a:lnTo>
                      <a:lnTo>
                        <a:pt x="729" y="83"/>
                      </a:lnTo>
                      <a:lnTo>
                        <a:pt x="732" y="86"/>
                      </a:lnTo>
                      <a:lnTo>
                        <a:pt x="734" y="91"/>
                      </a:lnTo>
                      <a:lnTo>
                        <a:pt x="739" y="94"/>
                      </a:lnTo>
                      <a:lnTo>
                        <a:pt x="744" y="97"/>
                      </a:lnTo>
                      <a:lnTo>
                        <a:pt x="749" y="102"/>
                      </a:lnTo>
                      <a:lnTo>
                        <a:pt x="744" y="102"/>
                      </a:lnTo>
                      <a:lnTo>
                        <a:pt x="742" y="102"/>
                      </a:lnTo>
                      <a:lnTo>
                        <a:pt x="739" y="102"/>
                      </a:lnTo>
                      <a:lnTo>
                        <a:pt x="737" y="102"/>
                      </a:lnTo>
                      <a:lnTo>
                        <a:pt x="733" y="101"/>
                      </a:lnTo>
                      <a:lnTo>
                        <a:pt x="730" y="101"/>
                      </a:lnTo>
                      <a:lnTo>
                        <a:pt x="726" y="101"/>
                      </a:lnTo>
                      <a:lnTo>
                        <a:pt x="724" y="101"/>
                      </a:lnTo>
                      <a:lnTo>
                        <a:pt x="721" y="101"/>
                      </a:lnTo>
                      <a:lnTo>
                        <a:pt x="719" y="101"/>
                      </a:lnTo>
                      <a:lnTo>
                        <a:pt x="715" y="101"/>
                      </a:lnTo>
                      <a:lnTo>
                        <a:pt x="713" y="101"/>
                      </a:lnTo>
                      <a:lnTo>
                        <a:pt x="710" y="101"/>
                      </a:lnTo>
                      <a:lnTo>
                        <a:pt x="707" y="101"/>
                      </a:lnTo>
                      <a:lnTo>
                        <a:pt x="704" y="101"/>
                      </a:lnTo>
                      <a:lnTo>
                        <a:pt x="701" y="101"/>
                      </a:lnTo>
                      <a:lnTo>
                        <a:pt x="699" y="100"/>
                      </a:lnTo>
                      <a:lnTo>
                        <a:pt x="695" y="100"/>
                      </a:lnTo>
                      <a:lnTo>
                        <a:pt x="693" y="100"/>
                      </a:lnTo>
                      <a:lnTo>
                        <a:pt x="689" y="100"/>
                      </a:lnTo>
                      <a:lnTo>
                        <a:pt x="687" y="100"/>
                      </a:lnTo>
                      <a:lnTo>
                        <a:pt x="683" y="100"/>
                      </a:lnTo>
                      <a:lnTo>
                        <a:pt x="681" y="100"/>
                      </a:lnTo>
                      <a:lnTo>
                        <a:pt x="679" y="100"/>
                      </a:lnTo>
                      <a:lnTo>
                        <a:pt x="676" y="100"/>
                      </a:lnTo>
                      <a:lnTo>
                        <a:pt x="673" y="100"/>
                      </a:lnTo>
                      <a:lnTo>
                        <a:pt x="669" y="100"/>
                      </a:lnTo>
                      <a:lnTo>
                        <a:pt x="667" y="100"/>
                      </a:lnTo>
                      <a:lnTo>
                        <a:pt x="664" y="100"/>
                      </a:lnTo>
                      <a:lnTo>
                        <a:pt x="662" y="100"/>
                      </a:lnTo>
                      <a:lnTo>
                        <a:pt x="659" y="100"/>
                      </a:lnTo>
                      <a:lnTo>
                        <a:pt x="656" y="100"/>
                      </a:lnTo>
                      <a:lnTo>
                        <a:pt x="661" y="96"/>
                      </a:lnTo>
                      <a:lnTo>
                        <a:pt x="666" y="91"/>
                      </a:lnTo>
                      <a:lnTo>
                        <a:pt x="670" y="86"/>
                      </a:lnTo>
                      <a:lnTo>
                        <a:pt x="675" y="82"/>
                      </a:lnTo>
                      <a:lnTo>
                        <a:pt x="676" y="79"/>
                      </a:lnTo>
                      <a:lnTo>
                        <a:pt x="679" y="76"/>
                      </a:lnTo>
                      <a:lnTo>
                        <a:pt x="679" y="72"/>
                      </a:lnTo>
                      <a:lnTo>
                        <a:pt x="681" y="70"/>
                      </a:lnTo>
                      <a:lnTo>
                        <a:pt x="682" y="66"/>
                      </a:lnTo>
                      <a:lnTo>
                        <a:pt x="683" y="63"/>
                      </a:lnTo>
                      <a:lnTo>
                        <a:pt x="685" y="59"/>
                      </a:lnTo>
                      <a:lnTo>
                        <a:pt x="686" y="56"/>
                      </a:lnTo>
                      <a:lnTo>
                        <a:pt x="683" y="53"/>
                      </a:lnTo>
                      <a:lnTo>
                        <a:pt x="680" y="52"/>
                      </a:lnTo>
                      <a:lnTo>
                        <a:pt x="677" y="51"/>
                      </a:lnTo>
                      <a:lnTo>
                        <a:pt x="674" y="51"/>
                      </a:lnTo>
                      <a:lnTo>
                        <a:pt x="670" y="50"/>
                      </a:lnTo>
                      <a:lnTo>
                        <a:pt x="668" y="50"/>
                      </a:lnTo>
                      <a:lnTo>
                        <a:pt x="664" y="50"/>
                      </a:lnTo>
                      <a:lnTo>
                        <a:pt x="662" y="50"/>
                      </a:lnTo>
                      <a:lnTo>
                        <a:pt x="659" y="48"/>
                      </a:lnTo>
                      <a:lnTo>
                        <a:pt x="656" y="48"/>
                      </a:lnTo>
                      <a:lnTo>
                        <a:pt x="651" y="50"/>
                      </a:lnTo>
                      <a:lnTo>
                        <a:pt x="649" y="50"/>
                      </a:lnTo>
                      <a:lnTo>
                        <a:pt x="645" y="50"/>
                      </a:lnTo>
                      <a:lnTo>
                        <a:pt x="643" y="51"/>
                      </a:lnTo>
                      <a:lnTo>
                        <a:pt x="640" y="51"/>
                      </a:lnTo>
                      <a:lnTo>
                        <a:pt x="636" y="52"/>
                      </a:lnTo>
                      <a:lnTo>
                        <a:pt x="632" y="52"/>
                      </a:lnTo>
                      <a:lnTo>
                        <a:pt x="630" y="52"/>
                      </a:lnTo>
                      <a:lnTo>
                        <a:pt x="625" y="52"/>
                      </a:lnTo>
                      <a:lnTo>
                        <a:pt x="623" y="53"/>
                      </a:lnTo>
                      <a:lnTo>
                        <a:pt x="619" y="53"/>
                      </a:lnTo>
                      <a:lnTo>
                        <a:pt x="616" y="53"/>
                      </a:lnTo>
                      <a:lnTo>
                        <a:pt x="612" y="53"/>
                      </a:lnTo>
                      <a:lnTo>
                        <a:pt x="610" y="53"/>
                      </a:lnTo>
                      <a:lnTo>
                        <a:pt x="607" y="52"/>
                      </a:lnTo>
                      <a:lnTo>
                        <a:pt x="604" y="52"/>
                      </a:lnTo>
                      <a:lnTo>
                        <a:pt x="600" y="51"/>
                      </a:lnTo>
                      <a:lnTo>
                        <a:pt x="598" y="51"/>
                      </a:lnTo>
                      <a:lnTo>
                        <a:pt x="594" y="48"/>
                      </a:lnTo>
                      <a:lnTo>
                        <a:pt x="592" y="47"/>
                      </a:lnTo>
                      <a:lnTo>
                        <a:pt x="589" y="46"/>
                      </a:lnTo>
                      <a:lnTo>
                        <a:pt x="586" y="44"/>
                      </a:lnTo>
                      <a:lnTo>
                        <a:pt x="585" y="46"/>
                      </a:lnTo>
                      <a:lnTo>
                        <a:pt x="585" y="48"/>
                      </a:lnTo>
                      <a:lnTo>
                        <a:pt x="584" y="51"/>
                      </a:lnTo>
                      <a:lnTo>
                        <a:pt x="583" y="53"/>
                      </a:lnTo>
                      <a:lnTo>
                        <a:pt x="583" y="56"/>
                      </a:lnTo>
                      <a:lnTo>
                        <a:pt x="581" y="60"/>
                      </a:lnTo>
                      <a:lnTo>
                        <a:pt x="580" y="64"/>
                      </a:lnTo>
                      <a:lnTo>
                        <a:pt x="580" y="69"/>
                      </a:lnTo>
                      <a:lnTo>
                        <a:pt x="579" y="72"/>
                      </a:lnTo>
                      <a:lnTo>
                        <a:pt x="579" y="76"/>
                      </a:lnTo>
                      <a:lnTo>
                        <a:pt x="578" y="81"/>
                      </a:lnTo>
                      <a:lnTo>
                        <a:pt x="577" y="85"/>
                      </a:lnTo>
                      <a:lnTo>
                        <a:pt x="577" y="89"/>
                      </a:lnTo>
                      <a:lnTo>
                        <a:pt x="577" y="92"/>
                      </a:lnTo>
                      <a:lnTo>
                        <a:pt x="575" y="97"/>
                      </a:lnTo>
                      <a:lnTo>
                        <a:pt x="575" y="101"/>
                      </a:lnTo>
                      <a:lnTo>
                        <a:pt x="572" y="101"/>
                      </a:lnTo>
                      <a:lnTo>
                        <a:pt x="570" y="101"/>
                      </a:lnTo>
                      <a:lnTo>
                        <a:pt x="567" y="101"/>
                      </a:lnTo>
                      <a:lnTo>
                        <a:pt x="564" y="101"/>
                      </a:lnTo>
                      <a:lnTo>
                        <a:pt x="560" y="101"/>
                      </a:lnTo>
                      <a:lnTo>
                        <a:pt x="556" y="101"/>
                      </a:lnTo>
                      <a:lnTo>
                        <a:pt x="554" y="101"/>
                      </a:lnTo>
                      <a:lnTo>
                        <a:pt x="552" y="101"/>
                      </a:lnTo>
                      <a:lnTo>
                        <a:pt x="549" y="101"/>
                      </a:lnTo>
                      <a:lnTo>
                        <a:pt x="546" y="101"/>
                      </a:lnTo>
                      <a:lnTo>
                        <a:pt x="542" y="101"/>
                      </a:lnTo>
                      <a:lnTo>
                        <a:pt x="540" y="101"/>
                      </a:lnTo>
                      <a:lnTo>
                        <a:pt x="536" y="101"/>
                      </a:lnTo>
                      <a:lnTo>
                        <a:pt x="534" y="101"/>
                      </a:lnTo>
                      <a:lnTo>
                        <a:pt x="532" y="101"/>
                      </a:lnTo>
                      <a:lnTo>
                        <a:pt x="529" y="101"/>
                      </a:lnTo>
                      <a:lnTo>
                        <a:pt x="526" y="101"/>
                      </a:lnTo>
                      <a:lnTo>
                        <a:pt x="523" y="101"/>
                      </a:lnTo>
                      <a:lnTo>
                        <a:pt x="520" y="101"/>
                      </a:lnTo>
                      <a:lnTo>
                        <a:pt x="516" y="101"/>
                      </a:lnTo>
                      <a:lnTo>
                        <a:pt x="514" y="101"/>
                      </a:lnTo>
                      <a:lnTo>
                        <a:pt x="511" y="101"/>
                      </a:lnTo>
                      <a:lnTo>
                        <a:pt x="509" y="101"/>
                      </a:lnTo>
                      <a:lnTo>
                        <a:pt x="507" y="101"/>
                      </a:lnTo>
                      <a:lnTo>
                        <a:pt x="503" y="101"/>
                      </a:lnTo>
                      <a:lnTo>
                        <a:pt x="501" y="101"/>
                      </a:lnTo>
                      <a:lnTo>
                        <a:pt x="497" y="101"/>
                      </a:lnTo>
                      <a:lnTo>
                        <a:pt x="495" y="101"/>
                      </a:lnTo>
                      <a:lnTo>
                        <a:pt x="492" y="101"/>
                      </a:lnTo>
                      <a:lnTo>
                        <a:pt x="490" y="101"/>
                      </a:lnTo>
                      <a:lnTo>
                        <a:pt x="486" y="101"/>
                      </a:lnTo>
                      <a:lnTo>
                        <a:pt x="484" y="102"/>
                      </a:lnTo>
                      <a:lnTo>
                        <a:pt x="482" y="102"/>
                      </a:lnTo>
                      <a:lnTo>
                        <a:pt x="478" y="102"/>
                      </a:lnTo>
                      <a:lnTo>
                        <a:pt x="476" y="102"/>
                      </a:lnTo>
                      <a:lnTo>
                        <a:pt x="473" y="102"/>
                      </a:lnTo>
                      <a:lnTo>
                        <a:pt x="471" y="102"/>
                      </a:lnTo>
                      <a:lnTo>
                        <a:pt x="469" y="102"/>
                      </a:lnTo>
                      <a:lnTo>
                        <a:pt x="466" y="102"/>
                      </a:lnTo>
                      <a:lnTo>
                        <a:pt x="463" y="102"/>
                      </a:lnTo>
                      <a:lnTo>
                        <a:pt x="460" y="102"/>
                      </a:lnTo>
                      <a:lnTo>
                        <a:pt x="457" y="102"/>
                      </a:lnTo>
                      <a:lnTo>
                        <a:pt x="456" y="102"/>
                      </a:lnTo>
                      <a:lnTo>
                        <a:pt x="453" y="102"/>
                      </a:lnTo>
                      <a:lnTo>
                        <a:pt x="447" y="102"/>
                      </a:lnTo>
                      <a:lnTo>
                        <a:pt x="443" y="102"/>
                      </a:lnTo>
                      <a:lnTo>
                        <a:pt x="440" y="102"/>
                      </a:lnTo>
                      <a:lnTo>
                        <a:pt x="437" y="102"/>
                      </a:lnTo>
                      <a:lnTo>
                        <a:pt x="434" y="102"/>
                      </a:lnTo>
                      <a:lnTo>
                        <a:pt x="432" y="102"/>
                      </a:lnTo>
                      <a:lnTo>
                        <a:pt x="427" y="102"/>
                      </a:lnTo>
                      <a:lnTo>
                        <a:pt x="422" y="102"/>
                      </a:lnTo>
                      <a:lnTo>
                        <a:pt x="416" y="102"/>
                      </a:lnTo>
                      <a:lnTo>
                        <a:pt x="413" y="103"/>
                      </a:lnTo>
                      <a:lnTo>
                        <a:pt x="407" y="103"/>
                      </a:lnTo>
                      <a:lnTo>
                        <a:pt x="402" y="104"/>
                      </a:lnTo>
                      <a:lnTo>
                        <a:pt x="405" y="100"/>
                      </a:lnTo>
                      <a:lnTo>
                        <a:pt x="405" y="97"/>
                      </a:lnTo>
                      <a:lnTo>
                        <a:pt x="407" y="94"/>
                      </a:lnTo>
                      <a:lnTo>
                        <a:pt x="408" y="91"/>
                      </a:lnTo>
                      <a:lnTo>
                        <a:pt x="408" y="86"/>
                      </a:lnTo>
                      <a:lnTo>
                        <a:pt x="409" y="84"/>
                      </a:lnTo>
                      <a:lnTo>
                        <a:pt x="408" y="82"/>
                      </a:lnTo>
                      <a:lnTo>
                        <a:pt x="408" y="78"/>
                      </a:lnTo>
                      <a:lnTo>
                        <a:pt x="407" y="76"/>
                      </a:lnTo>
                      <a:lnTo>
                        <a:pt x="405" y="73"/>
                      </a:lnTo>
                      <a:lnTo>
                        <a:pt x="403" y="71"/>
                      </a:lnTo>
                      <a:lnTo>
                        <a:pt x="402" y="69"/>
                      </a:lnTo>
                      <a:lnTo>
                        <a:pt x="399" y="67"/>
                      </a:lnTo>
                      <a:lnTo>
                        <a:pt x="395" y="66"/>
                      </a:lnTo>
                      <a:lnTo>
                        <a:pt x="392" y="66"/>
                      </a:lnTo>
                      <a:lnTo>
                        <a:pt x="387" y="67"/>
                      </a:lnTo>
                      <a:lnTo>
                        <a:pt x="383" y="71"/>
                      </a:lnTo>
                      <a:lnTo>
                        <a:pt x="381" y="73"/>
                      </a:lnTo>
                      <a:lnTo>
                        <a:pt x="378" y="76"/>
                      </a:lnTo>
                      <a:lnTo>
                        <a:pt x="375" y="79"/>
                      </a:lnTo>
                      <a:lnTo>
                        <a:pt x="375" y="83"/>
                      </a:lnTo>
                      <a:lnTo>
                        <a:pt x="375" y="86"/>
                      </a:lnTo>
                      <a:lnTo>
                        <a:pt x="375" y="89"/>
                      </a:lnTo>
                      <a:lnTo>
                        <a:pt x="375" y="94"/>
                      </a:lnTo>
                      <a:lnTo>
                        <a:pt x="375" y="96"/>
                      </a:lnTo>
                      <a:lnTo>
                        <a:pt x="375" y="100"/>
                      </a:lnTo>
                      <a:lnTo>
                        <a:pt x="375" y="102"/>
                      </a:lnTo>
                      <a:lnTo>
                        <a:pt x="376" y="104"/>
                      </a:lnTo>
                      <a:lnTo>
                        <a:pt x="373" y="104"/>
                      </a:lnTo>
                      <a:lnTo>
                        <a:pt x="369" y="104"/>
                      </a:lnTo>
                      <a:lnTo>
                        <a:pt x="365" y="104"/>
                      </a:lnTo>
                      <a:lnTo>
                        <a:pt x="363" y="104"/>
                      </a:lnTo>
                      <a:lnTo>
                        <a:pt x="360" y="104"/>
                      </a:lnTo>
                      <a:lnTo>
                        <a:pt x="357" y="104"/>
                      </a:lnTo>
                      <a:lnTo>
                        <a:pt x="355" y="104"/>
                      </a:lnTo>
                      <a:lnTo>
                        <a:pt x="351" y="104"/>
                      </a:lnTo>
                      <a:lnTo>
                        <a:pt x="348" y="104"/>
                      </a:lnTo>
                      <a:lnTo>
                        <a:pt x="344" y="104"/>
                      </a:lnTo>
                      <a:lnTo>
                        <a:pt x="342" y="104"/>
                      </a:lnTo>
                      <a:lnTo>
                        <a:pt x="339" y="104"/>
                      </a:lnTo>
                      <a:lnTo>
                        <a:pt x="337" y="104"/>
                      </a:lnTo>
                      <a:lnTo>
                        <a:pt x="333" y="104"/>
                      </a:lnTo>
                      <a:lnTo>
                        <a:pt x="330" y="104"/>
                      </a:lnTo>
                      <a:lnTo>
                        <a:pt x="327" y="104"/>
                      </a:lnTo>
                      <a:lnTo>
                        <a:pt x="324" y="104"/>
                      </a:lnTo>
                      <a:lnTo>
                        <a:pt x="322" y="104"/>
                      </a:lnTo>
                      <a:lnTo>
                        <a:pt x="319" y="104"/>
                      </a:lnTo>
                      <a:lnTo>
                        <a:pt x="317" y="104"/>
                      </a:lnTo>
                      <a:lnTo>
                        <a:pt x="313" y="104"/>
                      </a:lnTo>
                      <a:lnTo>
                        <a:pt x="311" y="104"/>
                      </a:lnTo>
                      <a:lnTo>
                        <a:pt x="307" y="104"/>
                      </a:lnTo>
                      <a:lnTo>
                        <a:pt x="305" y="104"/>
                      </a:lnTo>
                      <a:lnTo>
                        <a:pt x="303" y="104"/>
                      </a:lnTo>
                      <a:lnTo>
                        <a:pt x="299" y="104"/>
                      </a:lnTo>
                      <a:lnTo>
                        <a:pt x="297" y="104"/>
                      </a:lnTo>
                      <a:lnTo>
                        <a:pt x="294" y="104"/>
                      </a:lnTo>
                      <a:lnTo>
                        <a:pt x="288" y="104"/>
                      </a:lnTo>
                      <a:lnTo>
                        <a:pt x="284" y="105"/>
                      </a:lnTo>
                      <a:lnTo>
                        <a:pt x="281" y="105"/>
                      </a:lnTo>
                      <a:lnTo>
                        <a:pt x="279" y="105"/>
                      </a:lnTo>
                      <a:lnTo>
                        <a:pt x="276" y="105"/>
                      </a:lnTo>
                      <a:lnTo>
                        <a:pt x="273" y="105"/>
                      </a:lnTo>
                      <a:lnTo>
                        <a:pt x="268" y="105"/>
                      </a:lnTo>
                      <a:lnTo>
                        <a:pt x="263" y="105"/>
                      </a:lnTo>
                      <a:lnTo>
                        <a:pt x="259" y="105"/>
                      </a:lnTo>
                      <a:lnTo>
                        <a:pt x="253" y="105"/>
                      </a:lnTo>
                      <a:lnTo>
                        <a:pt x="249" y="105"/>
                      </a:lnTo>
                      <a:lnTo>
                        <a:pt x="246" y="105"/>
                      </a:lnTo>
                      <a:lnTo>
                        <a:pt x="241" y="105"/>
                      </a:lnTo>
                      <a:lnTo>
                        <a:pt x="235" y="105"/>
                      </a:lnTo>
                      <a:lnTo>
                        <a:pt x="230" y="105"/>
                      </a:lnTo>
                      <a:lnTo>
                        <a:pt x="227" y="105"/>
                      </a:lnTo>
                      <a:lnTo>
                        <a:pt x="223" y="105"/>
                      </a:lnTo>
                      <a:lnTo>
                        <a:pt x="218" y="105"/>
                      </a:lnTo>
                      <a:lnTo>
                        <a:pt x="215" y="105"/>
                      </a:lnTo>
                      <a:lnTo>
                        <a:pt x="210" y="105"/>
                      </a:lnTo>
                      <a:lnTo>
                        <a:pt x="204" y="104"/>
                      </a:lnTo>
                      <a:lnTo>
                        <a:pt x="198" y="104"/>
                      </a:lnTo>
                      <a:lnTo>
                        <a:pt x="192" y="104"/>
                      </a:lnTo>
                      <a:lnTo>
                        <a:pt x="187" y="104"/>
                      </a:lnTo>
                      <a:lnTo>
                        <a:pt x="182" y="104"/>
                      </a:lnTo>
                      <a:lnTo>
                        <a:pt x="176" y="104"/>
                      </a:lnTo>
                      <a:lnTo>
                        <a:pt x="170" y="104"/>
                      </a:lnTo>
                      <a:lnTo>
                        <a:pt x="165" y="104"/>
                      </a:lnTo>
                      <a:lnTo>
                        <a:pt x="159" y="103"/>
                      </a:lnTo>
                      <a:lnTo>
                        <a:pt x="153" y="102"/>
                      </a:lnTo>
                      <a:lnTo>
                        <a:pt x="148" y="102"/>
                      </a:lnTo>
                      <a:lnTo>
                        <a:pt x="144" y="102"/>
                      </a:lnTo>
                      <a:lnTo>
                        <a:pt x="138" y="102"/>
                      </a:lnTo>
                      <a:lnTo>
                        <a:pt x="134" y="102"/>
                      </a:lnTo>
                      <a:lnTo>
                        <a:pt x="128" y="102"/>
                      </a:lnTo>
                      <a:lnTo>
                        <a:pt x="125" y="102"/>
                      </a:lnTo>
                      <a:lnTo>
                        <a:pt x="119" y="102"/>
                      </a:lnTo>
                      <a:lnTo>
                        <a:pt x="114" y="101"/>
                      </a:lnTo>
                      <a:lnTo>
                        <a:pt x="109" y="100"/>
                      </a:lnTo>
                      <a:lnTo>
                        <a:pt x="104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1" y="100"/>
                      </a:lnTo>
                      <a:lnTo>
                        <a:pt x="88" y="100"/>
                      </a:lnTo>
                      <a:lnTo>
                        <a:pt x="83" y="100"/>
                      </a:lnTo>
                      <a:lnTo>
                        <a:pt x="78" y="98"/>
                      </a:lnTo>
                      <a:lnTo>
                        <a:pt x="75" y="97"/>
                      </a:lnTo>
                      <a:lnTo>
                        <a:pt x="71" y="97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1" y="97"/>
                      </a:lnTo>
                      <a:lnTo>
                        <a:pt x="57" y="97"/>
                      </a:lnTo>
                      <a:lnTo>
                        <a:pt x="53" y="97"/>
                      </a:lnTo>
                      <a:lnTo>
                        <a:pt x="50" y="96"/>
                      </a:lnTo>
                      <a:lnTo>
                        <a:pt x="46" y="96"/>
                      </a:lnTo>
                      <a:lnTo>
                        <a:pt x="44" y="96"/>
                      </a:lnTo>
                      <a:lnTo>
                        <a:pt x="40" y="95"/>
                      </a:lnTo>
                      <a:lnTo>
                        <a:pt x="38" y="94"/>
                      </a:lnTo>
                      <a:lnTo>
                        <a:pt x="34" y="94"/>
                      </a:lnTo>
                      <a:lnTo>
                        <a:pt x="33" y="94"/>
                      </a:lnTo>
                      <a:lnTo>
                        <a:pt x="30" y="94"/>
                      </a:lnTo>
                      <a:lnTo>
                        <a:pt x="26" y="94"/>
                      </a:lnTo>
                      <a:lnTo>
                        <a:pt x="24" y="94"/>
                      </a:lnTo>
                      <a:lnTo>
                        <a:pt x="23" y="94"/>
                      </a:lnTo>
                      <a:lnTo>
                        <a:pt x="18" y="91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7" y="91"/>
                      </a:lnTo>
                      <a:lnTo>
                        <a:pt x="5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Freeform 32"/>
                <p:cNvSpPr/>
                <p:nvPr/>
              </p:nvSpPr>
              <p:spPr>
                <a:xfrm>
                  <a:off x="1204920" y="2133720"/>
                  <a:ext cx="18720" cy="493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6" h="91">
                      <a:moveTo>
                        <a:pt x="36" y="91"/>
                      </a:moveTo>
                      <a:lnTo>
                        <a:pt x="33" y="91"/>
                      </a:lnTo>
                      <a:lnTo>
                        <a:pt x="29" y="91"/>
                      </a:lnTo>
                      <a:lnTo>
                        <a:pt x="27" y="89"/>
                      </a:lnTo>
                      <a:lnTo>
                        <a:pt x="23" y="89"/>
                      </a:lnTo>
                      <a:lnTo>
                        <a:pt x="17" y="88"/>
                      </a:lnTo>
                      <a:lnTo>
                        <a:pt x="15" y="87"/>
                      </a:lnTo>
                      <a:lnTo>
                        <a:pt x="10" y="85"/>
                      </a:lnTo>
                      <a:lnTo>
                        <a:pt x="8" y="83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5"/>
                      </a:lnTo>
                      <a:lnTo>
                        <a:pt x="6" y="51"/>
                      </a:lnTo>
                      <a:lnTo>
                        <a:pt x="7" y="48"/>
                      </a:lnTo>
                      <a:lnTo>
                        <a:pt x="9" y="45"/>
                      </a:lnTo>
                      <a:lnTo>
                        <a:pt x="11" y="41"/>
                      </a:lnTo>
                      <a:lnTo>
                        <a:pt x="13" y="37"/>
                      </a:lnTo>
                      <a:lnTo>
                        <a:pt x="15" y="34"/>
                      </a:lnTo>
                      <a:lnTo>
                        <a:pt x="19" y="30"/>
                      </a:lnTo>
                      <a:lnTo>
                        <a:pt x="20" y="26"/>
                      </a:lnTo>
                      <a:lnTo>
                        <a:pt x="23" y="23"/>
                      </a:lnTo>
                      <a:lnTo>
                        <a:pt x="26" y="19"/>
                      </a:lnTo>
                      <a:lnTo>
                        <a:pt x="28" y="15"/>
                      </a:lnTo>
                      <a:lnTo>
                        <a:pt x="30" y="12"/>
                      </a:lnTo>
                      <a:lnTo>
                        <a:pt x="32" y="7"/>
                      </a:lnTo>
                      <a:lnTo>
                        <a:pt x="33" y="4"/>
                      </a:lnTo>
                      <a:lnTo>
                        <a:pt x="35" y="0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5" y="10"/>
                      </a:lnTo>
                      <a:lnTo>
                        <a:pt x="35" y="12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5" y="20"/>
                      </a:lnTo>
                      <a:lnTo>
                        <a:pt x="35" y="23"/>
                      </a:lnTo>
                      <a:lnTo>
                        <a:pt x="35" y="26"/>
                      </a:lnTo>
                      <a:lnTo>
                        <a:pt x="35" y="30"/>
                      </a:lnTo>
                      <a:lnTo>
                        <a:pt x="35" y="32"/>
                      </a:lnTo>
                      <a:lnTo>
                        <a:pt x="35" y="35"/>
                      </a:lnTo>
                      <a:lnTo>
                        <a:pt x="35" y="37"/>
                      </a:lnTo>
                      <a:lnTo>
                        <a:pt x="35" y="41"/>
                      </a:lnTo>
                      <a:lnTo>
                        <a:pt x="35" y="43"/>
                      </a:lnTo>
                      <a:lnTo>
                        <a:pt x="35" y="47"/>
                      </a:lnTo>
                      <a:lnTo>
                        <a:pt x="35" y="49"/>
                      </a:lnTo>
                      <a:lnTo>
                        <a:pt x="35" y="53"/>
                      </a:lnTo>
                      <a:lnTo>
                        <a:pt x="35" y="55"/>
                      </a:lnTo>
                      <a:lnTo>
                        <a:pt x="35" y="57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7"/>
                      </a:lnTo>
                      <a:lnTo>
                        <a:pt x="35" y="69"/>
                      </a:lnTo>
                      <a:lnTo>
                        <a:pt x="35" y="72"/>
                      </a:lnTo>
                      <a:lnTo>
                        <a:pt x="35" y="75"/>
                      </a:lnTo>
                      <a:lnTo>
                        <a:pt x="35" y="77"/>
                      </a:lnTo>
                      <a:lnTo>
                        <a:pt x="35" y="80"/>
                      </a:lnTo>
                      <a:lnTo>
                        <a:pt x="35" y="82"/>
                      </a:lnTo>
                      <a:lnTo>
                        <a:pt x="35" y="86"/>
                      </a:lnTo>
                      <a:lnTo>
                        <a:pt x="35" y="88"/>
                      </a:lnTo>
                      <a:lnTo>
                        <a:pt x="36" y="9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Freeform 33"/>
                <p:cNvSpPr/>
                <p:nvPr/>
              </p:nvSpPr>
              <p:spPr>
                <a:xfrm>
                  <a:off x="1176120" y="2005200"/>
                  <a:ext cx="353880" cy="28116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667" h="531">
                      <a:moveTo>
                        <a:pt x="22" y="4"/>
                      </a:moveTo>
                      <a:lnTo>
                        <a:pt x="105" y="26"/>
                      </a:lnTo>
                      <a:lnTo>
                        <a:pt x="105" y="27"/>
                      </a:lnTo>
                      <a:lnTo>
                        <a:pt x="105" y="29"/>
                      </a:lnTo>
                      <a:lnTo>
                        <a:pt x="104" y="30"/>
                      </a:lnTo>
                      <a:lnTo>
                        <a:pt x="104" y="33"/>
                      </a:lnTo>
                      <a:lnTo>
                        <a:pt x="104" y="35"/>
                      </a:lnTo>
                      <a:lnTo>
                        <a:pt x="104" y="38"/>
                      </a:lnTo>
                      <a:lnTo>
                        <a:pt x="104" y="41"/>
                      </a:lnTo>
                      <a:lnTo>
                        <a:pt x="104" y="45"/>
                      </a:lnTo>
                      <a:lnTo>
                        <a:pt x="102" y="48"/>
                      </a:lnTo>
                      <a:lnTo>
                        <a:pt x="101" y="53"/>
                      </a:lnTo>
                      <a:lnTo>
                        <a:pt x="101" y="54"/>
                      </a:lnTo>
                      <a:lnTo>
                        <a:pt x="101" y="57"/>
                      </a:lnTo>
                      <a:lnTo>
                        <a:pt x="101" y="59"/>
                      </a:lnTo>
                      <a:lnTo>
                        <a:pt x="101" y="62"/>
                      </a:lnTo>
                      <a:lnTo>
                        <a:pt x="101" y="65"/>
                      </a:lnTo>
                      <a:lnTo>
                        <a:pt x="101" y="67"/>
                      </a:lnTo>
                      <a:lnTo>
                        <a:pt x="101" y="71"/>
                      </a:lnTo>
                      <a:lnTo>
                        <a:pt x="101" y="73"/>
                      </a:lnTo>
                      <a:lnTo>
                        <a:pt x="100" y="76"/>
                      </a:lnTo>
                      <a:lnTo>
                        <a:pt x="99" y="79"/>
                      </a:lnTo>
                      <a:lnTo>
                        <a:pt x="99" y="81"/>
                      </a:lnTo>
                      <a:lnTo>
                        <a:pt x="99" y="85"/>
                      </a:lnTo>
                      <a:lnTo>
                        <a:pt x="99" y="87"/>
                      </a:lnTo>
                      <a:lnTo>
                        <a:pt x="99" y="90"/>
                      </a:lnTo>
                      <a:lnTo>
                        <a:pt x="99" y="95"/>
                      </a:lnTo>
                      <a:lnTo>
                        <a:pt x="99" y="97"/>
                      </a:lnTo>
                      <a:lnTo>
                        <a:pt x="98" y="100"/>
                      </a:lnTo>
                      <a:lnTo>
                        <a:pt x="97" y="105"/>
                      </a:lnTo>
                      <a:lnTo>
                        <a:pt x="97" y="108"/>
                      </a:lnTo>
                      <a:lnTo>
                        <a:pt x="97" y="112"/>
                      </a:lnTo>
                      <a:lnTo>
                        <a:pt x="97" y="115"/>
                      </a:lnTo>
                      <a:lnTo>
                        <a:pt x="97" y="119"/>
                      </a:lnTo>
                      <a:lnTo>
                        <a:pt x="97" y="123"/>
                      </a:lnTo>
                      <a:lnTo>
                        <a:pt x="97" y="128"/>
                      </a:lnTo>
                      <a:lnTo>
                        <a:pt x="95" y="131"/>
                      </a:lnTo>
                      <a:lnTo>
                        <a:pt x="94" y="135"/>
                      </a:lnTo>
                      <a:lnTo>
                        <a:pt x="94" y="138"/>
                      </a:lnTo>
                      <a:lnTo>
                        <a:pt x="94" y="143"/>
                      </a:lnTo>
                      <a:lnTo>
                        <a:pt x="94" y="148"/>
                      </a:lnTo>
                      <a:lnTo>
                        <a:pt x="94" y="152"/>
                      </a:lnTo>
                      <a:lnTo>
                        <a:pt x="93" y="156"/>
                      </a:lnTo>
                      <a:lnTo>
                        <a:pt x="93" y="161"/>
                      </a:lnTo>
                      <a:lnTo>
                        <a:pt x="92" y="165"/>
                      </a:lnTo>
                      <a:lnTo>
                        <a:pt x="92" y="169"/>
                      </a:lnTo>
                      <a:lnTo>
                        <a:pt x="91" y="173"/>
                      </a:lnTo>
                      <a:lnTo>
                        <a:pt x="91" y="179"/>
                      </a:lnTo>
                      <a:lnTo>
                        <a:pt x="91" y="182"/>
                      </a:lnTo>
                      <a:lnTo>
                        <a:pt x="91" y="187"/>
                      </a:lnTo>
                      <a:lnTo>
                        <a:pt x="91" y="192"/>
                      </a:lnTo>
                      <a:lnTo>
                        <a:pt x="91" y="198"/>
                      </a:lnTo>
                      <a:lnTo>
                        <a:pt x="89" y="201"/>
                      </a:lnTo>
                      <a:lnTo>
                        <a:pt x="89" y="207"/>
                      </a:lnTo>
                      <a:lnTo>
                        <a:pt x="89" y="211"/>
                      </a:lnTo>
                      <a:lnTo>
                        <a:pt x="89" y="217"/>
                      </a:lnTo>
                      <a:lnTo>
                        <a:pt x="88" y="214"/>
                      </a:lnTo>
                      <a:lnTo>
                        <a:pt x="86" y="211"/>
                      </a:lnTo>
                      <a:lnTo>
                        <a:pt x="83" y="207"/>
                      </a:lnTo>
                      <a:lnTo>
                        <a:pt x="80" y="205"/>
                      </a:lnTo>
                      <a:lnTo>
                        <a:pt x="76" y="201"/>
                      </a:lnTo>
                      <a:lnTo>
                        <a:pt x="70" y="199"/>
                      </a:lnTo>
                      <a:lnTo>
                        <a:pt x="68" y="198"/>
                      </a:lnTo>
                      <a:lnTo>
                        <a:pt x="66" y="197"/>
                      </a:lnTo>
                      <a:lnTo>
                        <a:pt x="63" y="197"/>
                      </a:lnTo>
                      <a:lnTo>
                        <a:pt x="61" y="195"/>
                      </a:lnTo>
                      <a:lnTo>
                        <a:pt x="60" y="197"/>
                      </a:lnTo>
                      <a:lnTo>
                        <a:pt x="59" y="199"/>
                      </a:lnTo>
                      <a:lnTo>
                        <a:pt x="59" y="201"/>
                      </a:lnTo>
                      <a:lnTo>
                        <a:pt x="57" y="206"/>
                      </a:lnTo>
                      <a:lnTo>
                        <a:pt x="56" y="208"/>
                      </a:lnTo>
                      <a:lnTo>
                        <a:pt x="55" y="213"/>
                      </a:lnTo>
                      <a:lnTo>
                        <a:pt x="54" y="218"/>
                      </a:lnTo>
                      <a:lnTo>
                        <a:pt x="54" y="222"/>
                      </a:lnTo>
                      <a:lnTo>
                        <a:pt x="53" y="226"/>
                      </a:lnTo>
                      <a:lnTo>
                        <a:pt x="53" y="231"/>
                      </a:lnTo>
                      <a:lnTo>
                        <a:pt x="53" y="235"/>
                      </a:lnTo>
                      <a:lnTo>
                        <a:pt x="53" y="239"/>
                      </a:lnTo>
                      <a:lnTo>
                        <a:pt x="53" y="243"/>
                      </a:lnTo>
                      <a:lnTo>
                        <a:pt x="53" y="246"/>
                      </a:lnTo>
                      <a:lnTo>
                        <a:pt x="54" y="250"/>
                      </a:lnTo>
                      <a:lnTo>
                        <a:pt x="56" y="254"/>
                      </a:lnTo>
                      <a:lnTo>
                        <a:pt x="51" y="255"/>
                      </a:lnTo>
                      <a:lnTo>
                        <a:pt x="48" y="257"/>
                      </a:lnTo>
                      <a:lnTo>
                        <a:pt x="44" y="257"/>
                      </a:lnTo>
                      <a:lnTo>
                        <a:pt x="41" y="260"/>
                      </a:lnTo>
                      <a:lnTo>
                        <a:pt x="38" y="262"/>
                      </a:lnTo>
                      <a:lnTo>
                        <a:pt x="35" y="263"/>
                      </a:lnTo>
                      <a:lnTo>
                        <a:pt x="32" y="264"/>
                      </a:lnTo>
                      <a:lnTo>
                        <a:pt x="30" y="267"/>
                      </a:lnTo>
                      <a:lnTo>
                        <a:pt x="25" y="271"/>
                      </a:lnTo>
                      <a:lnTo>
                        <a:pt x="22" y="275"/>
                      </a:lnTo>
                      <a:lnTo>
                        <a:pt x="19" y="280"/>
                      </a:lnTo>
                      <a:lnTo>
                        <a:pt x="17" y="284"/>
                      </a:lnTo>
                      <a:lnTo>
                        <a:pt x="15" y="289"/>
                      </a:lnTo>
                      <a:lnTo>
                        <a:pt x="13" y="294"/>
                      </a:lnTo>
                      <a:lnTo>
                        <a:pt x="12" y="299"/>
                      </a:lnTo>
                      <a:lnTo>
                        <a:pt x="12" y="303"/>
                      </a:lnTo>
                      <a:lnTo>
                        <a:pt x="12" y="306"/>
                      </a:lnTo>
                      <a:lnTo>
                        <a:pt x="12" y="308"/>
                      </a:lnTo>
                      <a:lnTo>
                        <a:pt x="12" y="312"/>
                      </a:lnTo>
                      <a:lnTo>
                        <a:pt x="13" y="314"/>
                      </a:lnTo>
                      <a:lnTo>
                        <a:pt x="13" y="317"/>
                      </a:lnTo>
                      <a:lnTo>
                        <a:pt x="15" y="319"/>
                      </a:lnTo>
                      <a:lnTo>
                        <a:pt x="15" y="322"/>
                      </a:lnTo>
                      <a:lnTo>
                        <a:pt x="17" y="325"/>
                      </a:lnTo>
                      <a:lnTo>
                        <a:pt x="18" y="330"/>
                      </a:lnTo>
                      <a:lnTo>
                        <a:pt x="21" y="336"/>
                      </a:lnTo>
                      <a:lnTo>
                        <a:pt x="21" y="338"/>
                      </a:lnTo>
                      <a:lnTo>
                        <a:pt x="23" y="340"/>
                      </a:lnTo>
                      <a:lnTo>
                        <a:pt x="24" y="343"/>
                      </a:lnTo>
                      <a:lnTo>
                        <a:pt x="25" y="345"/>
                      </a:lnTo>
                      <a:lnTo>
                        <a:pt x="28" y="351"/>
                      </a:lnTo>
                      <a:lnTo>
                        <a:pt x="31" y="356"/>
                      </a:lnTo>
                      <a:lnTo>
                        <a:pt x="32" y="358"/>
                      </a:lnTo>
                      <a:lnTo>
                        <a:pt x="35" y="360"/>
                      </a:lnTo>
                      <a:lnTo>
                        <a:pt x="36" y="364"/>
                      </a:lnTo>
                      <a:lnTo>
                        <a:pt x="38" y="368"/>
                      </a:lnTo>
                      <a:lnTo>
                        <a:pt x="42" y="372"/>
                      </a:lnTo>
                      <a:lnTo>
                        <a:pt x="45" y="376"/>
                      </a:lnTo>
                      <a:lnTo>
                        <a:pt x="49" y="381"/>
                      </a:lnTo>
                      <a:lnTo>
                        <a:pt x="53" y="387"/>
                      </a:lnTo>
                      <a:lnTo>
                        <a:pt x="56" y="391"/>
                      </a:lnTo>
                      <a:lnTo>
                        <a:pt x="60" y="396"/>
                      </a:lnTo>
                      <a:lnTo>
                        <a:pt x="63" y="400"/>
                      </a:lnTo>
                      <a:lnTo>
                        <a:pt x="67" y="404"/>
                      </a:lnTo>
                      <a:lnTo>
                        <a:pt x="68" y="401"/>
                      </a:lnTo>
                      <a:lnTo>
                        <a:pt x="70" y="396"/>
                      </a:lnTo>
                      <a:lnTo>
                        <a:pt x="73" y="394"/>
                      </a:lnTo>
                      <a:lnTo>
                        <a:pt x="74" y="391"/>
                      </a:lnTo>
                      <a:lnTo>
                        <a:pt x="76" y="388"/>
                      </a:lnTo>
                      <a:lnTo>
                        <a:pt x="78" y="384"/>
                      </a:lnTo>
                      <a:lnTo>
                        <a:pt x="79" y="381"/>
                      </a:lnTo>
                      <a:lnTo>
                        <a:pt x="81" y="378"/>
                      </a:lnTo>
                      <a:lnTo>
                        <a:pt x="81" y="374"/>
                      </a:lnTo>
                      <a:lnTo>
                        <a:pt x="83" y="371"/>
                      </a:lnTo>
                      <a:lnTo>
                        <a:pt x="86" y="366"/>
                      </a:lnTo>
                      <a:lnTo>
                        <a:pt x="87" y="363"/>
                      </a:lnTo>
                      <a:lnTo>
                        <a:pt x="88" y="358"/>
                      </a:lnTo>
                      <a:lnTo>
                        <a:pt x="91" y="356"/>
                      </a:lnTo>
                      <a:lnTo>
                        <a:pt x="91" y="359"/>
                      </a:lnTo>
                      <a:lnTo>
                        <a:pt x="91" y="363"/>
                      </a:lnTo>
                      <a:lnTo>
                        <a:pt x="91" y="366"/>
                      </a:lnTo>
                      <a:lnTo>
                        <a:pt x="91" y="370"/>
                      </a:lnTo>
                      <a:lnTo>
                        <a:pt x="91" y="374"/>
                      </a:lnTo>
                      <a:lnTo>
                        <a:pt x="91" y="376"/>
                      </a:lnTo>
                      <a:lnTo>
                        <a:pt x="92" y="379"/>
                      </a:lnTo>
                      <a:lnTo>
                        <a:pt x="92" y="383"/>
                      </a:lnTo>
                      <a:lnTo>
                        <a:pt x="92" y="387"/>
                      </a:lnTo>
                      <a:lnTo>
                        <a:pt x="93" y="389"/>
                      </a:lnTo>
                      <a:lnTo>
                        <a:pt x="94" y="391"/>
                      </a:lnTo>
                      <a:lnTo>
                        <a:pt x="94" y="396"/>
                      </a:lnTo>
                      <a:lnTo>
                        <a:pt x="94" y="398"/>
                      </a:lnTo>
                      <a:lnTo>
                        <a:pt x="94" y="401"/>
                      </a:lnTo>
                      <a:lnTo>
                        <a:pt x="94" y="404"/>
                      </a:lnTo>
                      <a:lnTo>
                        <a:pt x="95" y="407"/>
                      </a:lnTo>
                      <a:lnTo>
                        <a:pt x="92" y="408"/>
                      </a:lnTo>
                      <a:lnTo>
                        <a:pt x="88" y="409"/>
                      </a:lnTo>
                      <a:lnTo>
                        <a:pt x="83" y="411"/>
                      </a:lnTo>
                      <a:lnTo>
                        <a:pt x="81" y="414"/>
                      </a:lnTo>
                      <a:lnTo>
                        <a:pt x="76" y="416"/>
                      </a:lnTo>
                      <a:lnTo>
                        <a:pt x="70" y="419"/>
                      </a:lnTo>
                      <a:lnTo>
                        <a:pt x="66" y="421"/>
                      </a:lnTo>
                      <a:lnTo>
                        <a:pt x="62" y="425"/>
                      </a:lnTo>
                      <a:lnTo>
                        <a:pt x="57" y="427"/>
                      </a:lnTo>
                      <a:lnTo>
                        <a:pt x="53" y="429"/>
                      </a:lnTo>
                      <a:lnTo>
                        <a:pt x="48" y="432"/>
                      </a:lnTo>
                      <a:lnTo>
                        <a:pt x="44" y="435"/>
                      </a:lnTo>
                      <a:lnTo>
                        <a:pt x="40" y="438"/>
                      </a:lnTo>
                      <a:lnTo>
                        <a:pt x="37" y="440"/>
                      </a:lnTo>
                      <a:lnTo>
                        <a:pt x="34" y="442"/>
                      </a:lnTo>
                      <a:lnTo>
                        <a:pt x="32" y="445"/>
                      </a:lnTo>
                      <a:lnTo>
                        <a:pt x="36" y="445"/>
                      </a:lnTo>
                      <a:lnTo>
                        <a:pt x="41" y="445"/>
                      </a:lnTo>
                      <a:lnTo>
                        <a:pt x="44" y="445"/>
                      </a:lnTo>
                      <a:lnTo>
                        <a:pt x="48" y="445"/>
                      </a:lnTo>
                      <a:lnTo>
                        <a:pt x="53" y="445"/>
                      </a:lnTo>
                      <a:lnTo>
                        <a:pt x="56" y="445"/>
                      </a:lnTo>
                      <a:lnTo>
                        <a:pt x="61" y="445"/>
                      </a:lnTo>
                      <a:lnTo>
                        <a:pt x="66" y="445"/>
                      </a:lnTo>
                      <a:lnTo>
                        <a:pt x="66" y="447"/>
                      </a:lnTo>
                      <a:lnTo>
                        <a:pt x="68" y="449"/>
                      </a:lnTo>
                      <a:lnTo>
                        <a:pt x="69" y="452"/>
                      </a:lnTo>
                      <a:lnTo>
                        <a:pt x="70" y="454"/>
                      </a:lnTo>
                      <a:lnTo>
                        <a:pt x="74" y="457"/>
                      </a:lnTo>
                      <a:lnTo>
                        <a:pt x="78" y="460"/>
                      </a:lnTo>
                      <a:lnTo>
                        <a:pt x="81" y="461"/>
                      </a:lnTo>
                      <a:lnTo>
                        <a:pt x="85" y="463"/>
                      </a:lnTo>
                      <a:lnTo>
                        <a:pt x="88" y="463"/>
                      </a:lnTo>
                      <a:lnTo>
                        <a:pt x="92" y="463"/>
                      </a:lnTo>
                      <a:lnTo>
                        <a:pt x="94" y="461"/>
                      </a:lnTo>
                      <a:lnTo>
                        <a:pt x="99" y="459"/>
                      </a:lnTo>
                      <a:lnTo>
                        <a:pt x="101" y="458"/>
                      </a:lnTo>
                      <a:lnTo>
                        <a:pt x="104" y="455"/>
                      </a:lnTo>
                      <a:lnTo>
                        <a:pt x="107" y="452"/>
                      </a:lnTo>
                      <a:lnTo>
                        <a:pt x="110" y="449"/>
                      </a:lnTo>
                      <a:lnTo>
                        <a:pt x="112" y="446"/>
                      </a:lnTo>
                      <a:lnTo>
                        <a:pt x="114" y="442"/>
                      </a:lnTo>
                      <a:lnTo>
                        <a:pt x="117" y="442"/>
                      </a:lnTo>
                      <a:lnTo>
                        <a:pt x="121" y="444"/>
                      </a:lnTo>
                      <a:lnTo>
                        <a:pt x="125" y="445"/>
                      </a:lnTo>
                      <a:lnTo>
                        <a:pt x="130" y="446"/>
                      </a:lnTo>
                      <a:lnTo>
                        <a:pt x="133" y="446"/>
                      </a:lnTo>
                      <a:lnTo>
                        <a:pt x="138" y="446"/>
                      </a:lnTo>
                      <a:lnTo>
                        <a:pt x="142" y="446"/>
                      </a:lnTo>
                      <a:lnTo>
                        <a:pt x="146" y="447"/>
                      </a:lnTo>
                      <a:lnTo>
                        <a:pt x="149" y="446"/>
                      </a:lnTo>
                      <a:lnTo>
                        <a:pt x="152" y="446"/>
                      </a:lnTo>
                      <a:lnTo>
                        <a:pt x="156" y="446"/>
                      </a:lnTo>
                      <a:lnTo>
                        <a:pt x="158" y="446"/>
                      </a:lnTo>
                      <a:lnTo>
                        <a:pt x="162" y="446"/>
                      </a:lnTo>
                      <a:lnTo>
                        <a:pt x="164" y="446"/>
                      </a:lnTo>
                      <a:lnTo>
                        <a:pt x="175" y="446"/>
                      </a:lnTo>
                      <a:lnTo>
                        <a:pt x="184" y="447"/>
                      </a:lnTo>
                      <a:lnTo>
                        <a:pt x="195" y="447"/>
                      </a:lnTo>
                      <a:lnTo>
                        <a:pt x="204" y="447"/>
                      </a:lnTo>
                      <a:lnTo>
                        <a:pt x="215" y="447"/>
                      </a:lnTo>
                      <a:lnTo>
                        <a:pt x="225" y="447"/>
                      </a:lnTo>
                      <a:lnTo>
                        <a:pt x="235" y="447"/>
                      </a:lnTo>
                      <a:lnTo>
                        <a:pt x="246" y="447"/>
                      </a:lnTo>
                      <a:lnTo>
                        <a:pt x="255" y="447"/>
                      </a:lnTo>
                      <a:lnTo>
                        <a:pt x="265" y="447"/>
                      </a:lnTo>
                      <a:lnTo>
                        <a:pt x="274" y="447"/>
                      </a:lnTo>
                      <a:lnTo>
                        <a:pt x="285" y="447"/>
                      </a:lnTo>
                      <a:lnTo>
                        <a:pt x="293" y="447"/>
                      </a:lnTo>
                      <a:lnTo>
                        <a:pt x="304" y="447"/>
                      </a:lnTo>
                      <a:lnTo>
                        <a:pt x="314" y="447"/>
                      </a:lnTo>
                      <a:lnTo>
                        <a:pt x="323" y="447"/>
                      </a:lnTo>
                      <a:lnTo>
                        <a:pt x="331" y="447"/>
                      </a:lnTo>
                      <a:lnTo>
                        <a:pt x="341" y="446"/>
                      </a:lnTo>
                      <a:lnTo>
                        <a:pt x="349" y="446"/>
                      </a:lnTo>
                      <a:lnTo>
                        <a:pt x="359" y="446"/>
                      </a:lnTo>
                      <a:lnTo>
                        <a:pt x="367" y="445"/>
                      </a:lnTo>
                      <a:lnTo>
                        <a:pt x="377" y="445"/>
                      </a:lnTo>
                      <a:lnTo>
                        <a:pt x="385" y="445"/>
                      </a:lnTo>
                      <a:lnTo>
                        <a:pt x="393" y="445"/>
                      </a:lnTo>
                      <a:lnTo>
                        <a:pt x="401" y="445"/>
                      </a:lnTo>
                      <a:lnTo>
                        <a:pt x="410" y="444"/>
                      </a:lnTo>
                      <a:lnTo>
                        <a:pt x="417" y="444"/>
                      </a:lnTo>
                      <a:lnTo>
                        <a:pt x="425" y="444"/>
                      </a:lnTo>
                      <a:lnTo>
                        <a:pt x="432" y="442"/>
                      </a:lnTo>
                      <a:lnTo>
                        <a:pt x="441" y="442"/>
                      </a:lnTo>
                      <a:lnTo>
                        <a:pt x="448" y="442"/>
                      </a:lnTo>
                      <a:lnTo>
                        <a:pt x="455" y="442"/>
                      </a:lnTo>
                      <a:lnTo>
                        <a:pt x="462" y="441"/>
                      </a:lnTo>
                      <a:lnTo>
                        <a:pt x="468" y="441"/>
                      </a:lnTo>
                      <a:lnTo>
                        <a:pt x="475" y="440"/>
                      </a:lnTo>
                      <a:lnTo>
                        <a:pt x="482" y="440"/>
                      </a:lnTo>
                      <a:lnTo>
                        <a:pt x="488" y="439"/>
                      </a:lnTo>
                      <a:lnTo>
                        <a:pt x="494" y="439"/>
                      </a:lnTo>
                      <a:lnTo>
                        <a:pt x="500" y="439"/>
                      </a:lnTo>
                      <a:lnTo>
                        <a:pt x="506" y="439"/>
                      </a:lnTo>
                      <a:lnTo>
                        <a:pt x="512" y="438"/>
                      </a:lnTo>
                      <a:lnTo>
                        <a:pt x="517" y="438"/>
                      </a:lnTo>
                      <a:lnTo>
                        <a:pt x="521" y="436"/>
                      </a:lnTo>
                      <a:lnTo>
                        <a:pt x="526" y="436"/>
                      </a:lnTo>
                      <a:lnTo>
                        <a:pt x="532" y="436"/>
                      </a:lnTo>
                      <a:lnTo>
                        <a:pt x="537" y="436"/>
                      </a:lnTo>
                      <a:lnTo>
                        <a:pt x="540" y="435"/>
                      </a:lnTo>
                      <a:lnTo>
                        <a:pt x="545" y="435"/>
                      </a:lnTo>
                      <a:lnTo>
                        <a:pt x="549" y="435"/>
                      </a:lnTo>
                      <a:lnTo>
                        <a:pt x="552" y="434"/>
                      </a:lnTo>
                      <a:lnTo>
                        <a:pt x="556" y="434"/>
                      </a:lnTo>
                      <a:lnTo>
                        <a:pt x="559" y="434"/>
                      </a:lnTo>
                      <a:lnTo>
                        <a:pt x="562" y="434"/>
                      </a:lnTo>
                      <a:lnTo>
                        <a:pt x="564" y="433"/>
                      </a:lnTo>
                      <a:lnTo>
                        <a:pt x="566" y="433"/>
                      </a:lnTo>
                      <a:lnTo>
                        <a:pt x="570" y="433"/>
                      </a:lnTo>
                      <a:lnTo>
                        <a:pt x="572" y="433"/>
                      </a:lnTo>
                      <a:lnTo>
                        <a:pt x="576" y="433"/>
                      </a:lnTo>
                      <a:lnTo>
                        <a:pt x="577" y="433"/>
                      </a:lnTo>
                      <a:lnTo>
                        <a:pt x="578" y="433"/>
                      </a:lnTo>
                      <a:lnTo>
                        <a:pt x="578" y="432"/>
                      </a:lnTo>
                      <a:lnTo>
                        <a:pt x="578" y="428"/>
                      </a:lnTo>
                      <a:lnTo>
                        <a:pt x="578" y="425"/>
                      </a:lnTo>
                      <a:lnTo>
                        <a:pt x="578" y="422"/>
                      </a:lnTo>
                      <a:lnTo>
                        <a:pt x="578" y="419"/>
                      </a:lnTo>
                      <a:lnTo>
                        <a:pt x="578" y="415"/>
                      </a:lnTo>
                      <a:lnTo>
                        <a:pt x="578" y="410"/>
                      </a:lnTo>
                      <a:lnTo>
                        <a:pt x="578" y="406"/>
                      </a:lnTo>
                      <a:lnTo>
                        <a:pt x="578" y="402"/>
                      </a:lnTo>
                      <a:lnTo>
                        <a:pt x="578" y="400"/>
                      </a:lnTo>
                      <a:lnTo>
                        <a:pt x="578" y="397"/>
                      </a:lnTo>
                      <a:lnTo>
                        <a:pt x="578" y="395"/>
                      </a:lnTo>
                      <a:lnTo>
                        <a:pt x="578" y="391"/>
                      </a:lnTo>
                      <a:lnTo>
                        <a:pt x="578" y="389"/>
                      </a:lnTo>
                      <a:lnTo>
                        <a:pt x="578" y="385"/>
                      </a:lnTo>
                      <a:lnTo>
                        <a:pt x="578" y="383"/>
                      </a:lnTo>
                      <a:lnTo>
                        <a:pt x="578" y="378"/>
                      </a:lnTo>
                      <a:lnTo>
                        <a:pt x="578" y="376"/>
                      </a:lnTo>
                      <a:lnTo>
                        <a:pt x="578" y="372"/>
                      </a:lnTo>
                      <a:lnTo>
                        <a:pt x="579" y="369"/>
                      </a:lnTo>
                      <a:lnTo>
                        <a:pt x="578" y="364"/>
                      </a:lnTo>
                      <a:lnTo>
                        <a:pt x="578" y="360"/>
                      </a:lnTo>
                      <a:lnTo>
                        <a:pt x="578" y="357"/>
                      </a:lnTo>
                      <a:lnTo>
                        <a:pt x="578" y="353"/>
                      </a:lnTo>
                      <a:lnTo>
                        <a:pt x="578" y="349"/>
                      </a:lnTo>
                      <a:lnTo>
                        <a:pt x="578" y="344"/>
                      </a:lnTo>
                      <a:lnTo>
                        <a:pt x="578" y="340"/>
                      </a:lnTo>
                      <a:lnTo>
                        <a:pt x="578" y="336"/>
                      </a:lnTo>
                      <a:lnTo>
                        <a:pt x="578" y="331"/>
                      </a:lnTo>
                      <a:lnTo>
                        <a:pt x="578" y="327"/>
                      </a:lnTo>
                      <a:lnTo>
                        <a:pt x="578" y="322"/>
                      </a:lnTo>
                      <a:lnTo>
                        <a:pt x="578" y="318"/>
                      </a:lnTo>
                      <a:lnTo>
                        <a:pt x="578" y="313"/>
                      </a:lnTo>
                      <a:lnTo>
                        <a:pt x="578" y="308"/>
                      </a:lnTo>
                      <a:lnTo>
                        <a:pt x="578" y="303"/>
                      </a:lnTo>
                      <a:lnTo>
                        <a:pt x="578" y="300"/>
                      </a:lnTo>
                      <a:lnTo>
                        <a:pt x="578" y="294"/>
                      </a:lnTo>
                      <a:lnTo>
                        <a:pt x="578" y="290"/>
                      </a:lnTo>
                      <a:lnTo>
                        <a:pt x="578" y="284"/>
                      </a:lnTo>
                      <a:lnTo>
                        <a:pt x="578" y="280"/>
                      </a:lnTo>
                      <a:lnTo>
                        <a:pt x="578" y="275"/>
                      </a:lnTo>
                      <a:lnTo>
                        <a:pt x="578" y="269"/>
                      </a:lnTo>
                      <a:lnTo>
                        <a:pt x="578" y="264"/>
                      </a:lnTo>
                      <a:lnTo>
                        <a:pt x="578" y="260"/>
                      </a:lnTo>
                      <a:lnTo>
                        <a:pt x="578" y="254"/>
                      </a:lnTo>
                      <a:lnTo>
                        <a:pt x="578" y="249"/>
                      </a:lnTo>
                      <a:lnTo>
                        <a:pt x="578" y="243"/>
                      </a:lnTo>
                      <a:lnTo>
                        <a:pt x="578" y="237"/>
                      </a:lnTo>
                      <a:lnTo>
                        <a:pt x="578" y="232"/>
                      </a:lnTo>
                      <a:lnTo>
                        <a:pt x="578" y="226"/>
                      </a:lnTo>
                      <a:lnTo>
                        <a:pt x="578" y="222"/>
                      </a:lnTo>
                      <a:lnTo>
                        <a:pt x="578" y="217"/>
                      </a:lnTo>
                      <a:lnTo>
                        <a:pt x="578" y="211"/>
                      </a:lnTo>
                      <a:lnTo>
                        <a:pt x="578" y="205"/>
                      </a:lnTo>
                      <a:lnTo>
                        <a:pt x="577" y="200"/>
                      </a:lnTo>
                      <a:lnTo>
                        <a:pt x="577" y="195"/>
                      </a:lnTo>
                      <a:lnTo>
                        <a:pt x="577" y="190"/>
                      </a:lnTo>
                      <a:lnTo>
                        <a:pt x="577" y="185"/>
                      </a:lnTo>
                      <a:lnTo>
                        <a:pt x="577" y="180"/>
                      </a:lnTo>
                      <a:lnTo>
                        <a:pt x="577" y="176"/>
                      </a:lnTo>
                      <a:lnTo>
                        <a:pt x="576" y="171"/>
                      </a:lnTo>
                      <a:lnTo>
                        <a:pt x="576" y="166"/>
                      </a:lnTo>
                      <a:lnTo>
                        <a:pt x="575" y="162"/>
                      </a:lnTo>
                      <a:lnTo>
                        <a:pt x="575" y="159"/>
                      </a:lnTo>
                      <a:lnTo>
                        <a:pt x="575" y="154"/>
                      </a:lnTo>
                      <a:lnTo>
                        <a:pt x="575" y="150"/>
                      </a:lnTo>
                      <a:lnTo>
                        <a:pt x="575" y="146"/>
                      </a:lnTo>
                      <a:lnTo>
                        <a:pt x="575" y="143"/>
                      </a:lnTo>
                      <a:lnTo>
                        <a:pt x="573" y="138"/>
                      </a:lnTo>
                      <a:lnTo>
                        <a:pt x="573" y="135"/>
                      </a:lnTo>
                      <a:lnTo>
                        <a:pt x="572" y="131"/>
                      </a:lnTo>
                      <a:lnTo>
                        <a:pt x="572" y="128"/>
                      </a:lnTo>
                      <a:lnTo>
                        <a:pt x="571" y="125"/>
                      </a:lnTo>
                      <a:lnTo>
                        <a:pt x="571" y="122"/>
                      </a:lnTo>
                      <a:lnTo>
                        <a:pt x="570" y="118"/>
                      </a:lnTo>
                      <a:lnTo>
                        <a:pt x="570" y="116"/>
                      </a:lnTo>
                      <a:lnTo>
                        <a:pt x="570" y="112"/>
                      </a:lnTo>
                      <a:lnTo>
                        <a:pt x="570" y="110"/>
                      </a:lnTo>
                      <a:lnTo>
                        <a:pt x="569" y="108"/>
                      </a:lnTo>
                      <a:lnTo>
                        <a:pt x="569" y="105"/>
                      </a:lnTo>
                      <a:lnTo>
                        <a:pt x="568" y="100"/>
                      </a:lnTo>
                      <a:lnTo>
                        <a:pt x="566" y="95"/>
                      </a:lnTo>
                      <a:lnTo>
                        <a:pt x="565" y="90"/>
                      </a:lnTo>
                      <a:lnTo>
                        <a:pt x="565" y="87"/>
                      </a:lnTo>
                      <a:lnTo>
                        <a:pt x="564" y="83"/>
                      </a:lnTo>
                      <a:lnTo>
                        <a:pt x="563" y="79"/>
                      </a:lnTo>
                      <a:lnTo>
                        <a:pt x="562" y="77"/>
                      </a:lnTo>
                      <a:lnTo>
                        <a:pt x="562" y="74"/>
                      </a:lnTo>
                      <a:lnTo>
                        <a:pt x="560" y="71"/>
                      </a:lnTo>
                      <a:lnTo>
                        <a:pt x="560" y="70"/>
                      </a:lnTo>
                      <a:lnTo>
                        <a:pt x="559" y="66"/>
                      </a:lnTo>
                      <a:lnTo>
                        <a:pt x="558" y="64"/>
                      </a:lnTo>
                      <a:lnTo>
                        <a:pt x="557" y="62"/>
                      </a:lnTo>
                      <a:lnTo>
                        <a:pt x="626" y="0"/>
                      </a:lnTo>
                      <a:lnTo>
                        <a:pt x="628" y="3"/>
                      </a:lnTo>
                      <a:lnTo>
                        <a:pt x="633" y="8"/>
                      </a:lnTo>
                      <a:lnTo>
                        <a:pt x="634" y="10"/>
                      </a:lnTo>
                      <a:lnTo>
                        <a:pt x="635" y="13"/>
                      </a:lnTo>
                      <a:lnTo>
                        <a:pt x="638" y="16"/>
                      </a:lnTo>
                      <a:lnTo>
                        <a:pt x="640" y="19"/>
                      </a:lnTo>
                      <a:lnTo>
                        <a:pt x="640" y="21"/>
                      </a:lnTo>
                      <a:lnTo>
                        <a:pt x="642" y="24"/>
                      </a:lnTo>
                      <a:lnTo>
                        <a:pt x="643" y="28"/>
                      </a:lnTo>
                      <a:lnTo>
                        <a:pt x="646" y="32"/>
                      </a:lnTo>
                      <a:lnTo>
                        <a:pt x="646" y="34"/>
                      </a:lnTo>
                      <a:lnTo>
                        <a:pt x="648" y="39"/>
                      </a:lnTo>
                      <a:lnTo>
                        <a:pt x="648" y="41"/>
                      </a:lnTo>
                      <a:lnTo>
                        <a:pt x="651" y="46"/>
                      </a:lnTo>
                      <a:lnTo>
                        <a:pt x="651" y="49"/>
                      </a:lnTo>
                      <a:lnTo>
                        <a:pt x="652" y="53"/>
                      </a:lnTo>
                      <a:lnTo>
                        <a:pt x="653" y="58"/>
                      </a:lnTo>
                      <a:lnTo>
                        <a:pt x="653" y="62"/>
                      </a:lnTo>
                      <a:lnTo>
                        <a:pt x="654" y="66"/>
                      </a:lnTo>
                      <a:lnTo>
                        <a:pt x="655" y="71"/>
                      </a:lnTo>
                      <a:lnTo>
                        <a:pt x="655" y="74"/>
                      </a:lnTo>
                      <a:lnTo>
                        <a:pt x="657" y="79"/>
                      </a:lnTo>
                      <a:lnTo>
                        <a:pt x="658" y="83"/>
                      </a:lnTo>
                      <a:lnTo>
                        <a:pt x="658" y="87"/>
                      </a:lnTo>
                      <a:lnTo>
                        <a:pt x="658" y="92"/>
                      </a:lnTo>
                      <a:lnTo>
                        <a:pt x="659" y="97"/>
                      </a:lnTo>
                      <a:lnTo>
                        <a:pt x="660" y="100"/>
                      </a:lnTo>
                      <a:lnTo>
                        <a:pt x="660" y="105"/>
                      </a:lnTo>
                      <a:lnTo>
                        <a:pt x="660" y="110"/>
                      </a:lnTo>
                      <a:lnTo>
                        <a:pt x="661" y="115"/>
                      </a:lnTo>
                      <a:lnTo>
                        <a:pt x="661" y="121"/>
                      </a:lnTo>
                      <a:lnTo>
                        <a:pt x="662" y="124"/>
                      </a:lnTo>
                      <a:lnTo>
                        <a:pt x="662" y="129"/>
                      </a:lnTo>
                      <a:lnTo>
                        <a:pt x="662" y="134"/>
                      </a:lnTo>
                      <a:lnTo>
                        <a:pt x="662" y="138"/>
                      </a:lnTo>
                      <a:lnTo>
                        <a:pt x="664" y="142"/>
                      </a:lnTo>
                      <a:lnTo>
                        <a:pt x="664" y="147"/>
                      </a:lnTo>
                      <a:lnTo>
                        <a:pt x="664" y="152"/>
                      </a:lnTo>
                      <a:lnTo>
                        <a:pt x="664" y="156"/>
                      </a:lnTo>
                      <a:lnTo>
                        <a:pt x="664" y="161"/>
                      </a:lnTo>
                      <a:lnTo>
                        <a:pt x="664" y="165"/>
                      </a:lnTo>
                      <a:lnTo>
                        <a:pt x="664" y="169"/>
                      </a:lnTo>
                      <a:lnTo>
                        <a:pt x="664" y="173"/>
                      </a:lnTo>
                      <a:lnTo>
                        <a:pt x="664" y="178"/>
                      </a:lnTo>
                      <a:lnTo>
                        <a:pt x="664" y="182"/>
                      </a:lnTo>
                      <a:lnTo>
                        <a:pt x="665" y="186"/>
                      </a:lnTo>
                      <a:lnTo>
                        <a:pt x="665" y="191"/>
                      </a:lnTo>
                      <a:lnTo>
                        <a:pt x="665" y="193"/>
                      </a:lnTo>
                      <a:lnTo>
                        <a:pt x="665" y="198"/>
                      </a:lnTo>
                      <a:lnTo>
                        <a:pt x="665" y="201"/>
                      </a:lnTo>
                      <a:lnTo>
                        <a:pt x="665" y="205"/>
                      </a:lnTo>
                      <a:lnTo>
                        <a:pt x="665" y="208"/>
                      </a:lnTo>
                      <a:lnTo>
                        <a:pt x="665" y="212"/>
                      </a:lnTo>
                      <a:lnTo>
                        <a:pt x="665" y="217"/>
                      </a:lnTo>
                      <a:lnTo>
                        <a:pt x="665" y="219"/>
                      </a:lnTo>
                      <a:lnTo>
                        <a:pt x="665" y="222"/>
                      </a:lnTo>
                      <a:lnTo>
                        <a:pt x="665" y="224"/>
                      </a:lnTo>
                      <a:lnTo>
                        <a:pt x="666" y="229"/>
                      </a:lnTo>
                      <a:lnTo>
                        <a:pt x="666" y="231"/>
                      </a:lnTo>
                      <a:lnTo>
                        <a:pt x="666" y="233"/>
                      </a:lnTo>
                      <a:lnTo>
                        <a:pt x="666" y="236"/>
                      </a:lnTo>
                      <a:lnTo>
                        <a:pt x="666" y="239"/>
                      </a:lnTo>
                      <a:lnTo>
                        <a:pt x="666" y="241"/>
                      </a:lnTo>
                      <a:lnTo>
                        <a:pt x="666" y="243"/>
                      </a:lnTo>
                      <a:lnTo>
                        <a:pt x="666" y="246"/>
                      </a:lnTo>
                      <a:lnTo>
                        <a:pt x="666" y="249"/>
                      </a:lnTo>
                      <a:lnTo>
                        <a:pt x="666" y="252"/>
                      </a:lnTo>
                      <a:lnTo>
                        <a:pt x="666" y="256"/>
                      </a:lnTo>
                      <a:lnTo>
                        <a:pt x="666" y="260"/>
                      </a:lnTo>
                      <a:lnTo>
                        <a:pt x="666" y="264"/>
                      </a:lnTo>
                      <a:lnTo>
                        <a:pt x="666" y="267"/>
                      </a:lnTo>
                      <a:lnTo>
                        <a:pt x="666" y="273"/>
                      </a:lnTo>
                      <a:lnTo>
                        <a:pt x="666" y="276"/>
                      </a:lnTo>
                      <a:lnTo>
                        <a:pt x="666" y="281"/>
                      </a:lnTo>
                      <a:lnTo>
                        <a:pt x="666" y="284"/>
                      </a:lnTo>
                      <a:lnTo>
                        <a:pt x="666" y="290"/>
                      </a:lnTo>
                      <a:lnTo>
                        <a:pt x="666" y="295"/>
                      </a:lnTo>
                      <a:lnTo>
                        <a:pt x="667" y="301"/>
                      </a:lnTo>
                      <a:lnTo>
                        <a:pt x="666" y="306"/>
                      </a:lnTo>
                      <a:lnTo>
                        <a:pt x="666" y="311"/>
                      </a:lnTo>
                      <a:lnTo>
                        <a:pt x="666" y="317"/>
                      </a:lnTo>
                      <a:lnTo>
                        <a:pt x="666" y="322"/>
                      </a:lnTo>
                      <a:lnTo>
                        <a:pt x="666" y="328"/>
                      </a:lnTo>
                      <a:lnTo>
                        <a:pt x="666" y="334"/>
                      </a:lnTo>
                      <a:lnTo>
                        <a:pt x="666" y="340"/>
                      </a:lnTo>
                      <a:lnTo>
                        <a:pt x="666" y="345"/>
                      </a:lnTo>
                      <a:lnTo>
                        <a:pt x="666" y="351"/>
                      </a:lnTo>
                      <a:lnTo>
                        <a:pt x="666" y="357"/>
                      </a:lnTo>
                      <a:lnTo>
                        <a:pt x="666" y="363"/>
                      </a:lnTo>
                      <a:lnTo>
                        <a:pt x="666" y="370"/>
                      </a:lnTo>
                      <a:lnTo>
                        <a:pt x="666" y="376"/>
                      </a:lnTo>
                      <a:lnTo>
                        <a:pt x="666" y="381"/>
                      </a:lnTo>
                      <a:lnTo>
                        <a:pt x="666" y="387"/>
                      </a:lnTo>
                      <a:lnTo>
                        <a:pt x="666" y="394"/>
                      </a:lnTo>
                      <a:lnTo>
                        <a:pt x="665" y="398"/>
                      </a:lnTo>
                      <a:lnTo>
                        <a:pt x="665" y="404"/>
                      </a:lnTo>
                      <a:lnTo>
                        <a:pt x="665" y="411"/>
                      </a:lnTo>
                      <a:lnTo>
                        <a:pt x="665" y="416"/>
                      </a:lnTo>
                      <a:lnTo>
                        <a:pt x="665" y="421"/>
                      </a:lnTo>
                      <a:lnTo>
                        <a:pt x="665" y="427"/>
                      </a:lnTo>
                      <a:lnTo>
                        <a:pt x="665" y="433"/>
                      </a:lnTo>
                      <a:lnTo>
                        <a:pt x="665" y="439"/>
                      </a:lnTo>
                      <a:lnTo>
                        <a:pt x="664" y="444"/>
                      </a:lnTo>
                      <a:lnTo>
                        <a:pt x="664" y="448"/>
                      </a:lnTo>
                      <a:lnTo>
                        <a:pt x="664" y="453"/>
                      </a:lnTo>
                      <a:lnTo>
                        <a:pt x="664" y="459"/>
                      </a:lnTo>
                      <a:lnTo>
                        <a:pt x="664" y="464"/>
                      </a:lnTo>
                      <a:lnTo>
                        <a:pt x="664" y="468"/>
                      </a:lnTo>
                      <a:lnTo>
                        <a:pt x="664" y="472"/>
                      </a:lnTo>
                      <a:lnTo>
                        <a:pt x="664" y="477"/>
                      </a:lnTo>
                      <a:lnTo>
                        <a:pt x="664" y="482"/>
                      </a:lnTo>
                      <a:lnTo>
                        <a:pt x="664" y="485"/>
                      </a:lnTo>
                      <a:lnTo>
                        <a:pt x="664" y="489"/>
                      </a:lnTo>
                      <a:lnTo>
                        <a:pt x="664" y="492"/>
                      </a:lnTo>
                      <a:lnTo>
                        <a:pt x="664" y="495"/>
                      </a:lnTo>
                      <a:lnTo>
                        <a:pt x="664" y="498"/>
                      </a:lnTo>
                      <a:lnTo>
                        <a:pt x="664" y="501"/>
                      </a:lnTo>
                      <a:lnTo>
                        <a:pt x="664" y="504"/>
                      </a:lnTo>
                      <a:lnTo>
                        <a:pt x="664" y="508"/>
                      </a:lnTo>
                      <a:lnTo>
                        <a:pt x="664" y="510"/>
                      </a:lnTo>
                      <a:lnTo>
                        <a:pt x="664" y="512"/>
                      </a:lnTo>
                      <a:lnTo>
                        <a:pt x="664" y="514"/>
                      </a:lnTo>
                      <a:lnTo>
                        <a:pt x="659" y="515"/>
                      </a:lnTo>
                      <a:lnTo>
                        <a:pt x="655" y="515"/>
                      </a:lnTo>
                      <a:lnTo>
                        <a:pt x="652" y="515"/>
                      </a:lnTo>
                      <a:lnTo>
                        <a:pt x="649" y="516"/>
                      </a:lnTo>
                      <a:lnTo>
                        <a:pt x="647" y="517"/>
                      </a:lnTo>
                      <a:lnTo>
                        <a:pt x="645" y="518"/>
                      </a:lnTo>
                      <a:lnTo>
                        <a:pt x="641" y="518"/>
                      </a:lnTo>
                      <a:lnTo>
                        <a:pt x="638" y="518"/>
                      </a:lnTo>
                      <a:lnTo>
                        <a:pt x="635" y="518"/>
                      </a:lnTo>
                      <a:lnTo>
                        <a:pt x="632" y="520"/>
                      </a:lnTo>
                      <a:lnTo>
                        <a:pt x="628" y="520"/>
                      </a:lnTo>
                      <a:lnTo>
                        <a:pt x="624" y="521"/>
                      </a:lnTo>
                      <a:lnTo>
                        <a:pt x="620" y="521"/>
                      </a:lnTo>
                      <a:lnTo>
                        <a:pt x="617" y="521"/>
                      </a:lnTo>
                      <a:lnTo>
                        <a:pt x="613" y="521"/>
                      </a:lnTo>
                      <a:lnTo>
                        <a:pt x="608" y="522"/>
                      </a:lnTo>
                      <a:lnTo>
                        <a:pt x="604" y="522"/>
                      </a:lnTo>
                      <a:lnTo>
                        <a:pt x="600" y="523"/>
                      </a:lnTo>
                      <a:lnTo>
                        <a:pt x="596" y="523"/>
                      </a:lnTo>
                      <a:lnTo>
                        <a:pt x="591" y="523"/>
                      </a:lnTo>
                      <a:lnTo>
                        <a:pt x="588" y="523"/>
                      </a:lnTo>
                      <a:lnTo>
                        <a:pt x="583" y="524"/>
                      </a:lnTo>
                      <a:lnTo>
                        <a:pt x="578" y="524"/>
                      </a:lnTo>
                      <a:lnTo>
                        <a:pt x="575" y="524"/>
                      </a:lnTo>
                      <a:lnTo>
                        <a:pt x="570" y="524"/>
                      </a:lnTo>
                      <a:lnTo>
                        <a:pt x="565" y="525"/>
                      </a:lnTo>
                      <a:lnTo>
                        <a:pt x="560" y="525"/>
                      </a:lnTo>
                      <a:lnTo>
                        <a:pt x="556" y="525"/>
                      </a:lnTo>
                      <a:lnTo>
                        <a:pt x="552" y="525"/>
                      </a:lnTo>
                      <a:lnTo>
                        <a:pt x="547" y="525"/>
                      </a:lnTo>
                      <a:lnTo>
                        <a:pt x="543" y="525"/>
                      </a:lnTo>
                      <a:lnTo>
                        <a:pt x="538" y="525"/>
                      </a:lnTo>
                      <a:lnTo>
                        <a:pt x="534" y="525"/>
                      </a:lnTo>
                      <a:lnTo>
                        <a:pt x="528" y="527"/>
                      </a:lnTo>
                      <a:lnTo>
                        <a:pt x="525" y="527"/>
                      </a:lnTo>
                      <a:lnTo>
                        <a:pt x="521" y="527"/>
                      </a:lnTo>
                      <a:lnTo>
                        <a:pt x="517" y="527"/>
                      </a:lnTo>
                      <a:lnTo>
                        <a:pt x="513" y="528"/>
                      </a:lnTo>
                      <a:lnTo>
                        <a:pt x="508" y="528"/>
                      </a:lnTo>
                      <a:lnTo>
                        <a:pt x="503" y="528"/>
                      </a:lnTo>
                      <a:lnTo>
                        <a:pt x="501" y="528"/>
                      </a:lnTo>
                      <a:lnTo>
                        <a:pt x="498" y="528"/>
                      </a:lnTo>
                      <a:lnTo>
                        <a:pt x="494" y="528"/>
                      </a:lnTo>
                      <a:lnTo>
                        <a:pt x="490" y="528"/>
                      </a:lnTo>
                      <a:lnTo>
                        <a:pt x="486" y="528"/>
                      </a:lnTo>
                      <a:lnTo>
                        <a:pt x="483" y="528"/>
                      </a:lnTo>
                      <a:lnTo>
                        <a:pt x="481" y="528"/>
                      </a:lnTo>
                      <a:lnTo>
                        <a:pt x="477" y="528"/>
                      </a:lnTo>
                      <a:lnTo>
                        <a:pt x="475" y="528"/>
                      </a:lnTo>
                      <a:lnTo>
                        <a:pt x="473" y="529"/>
                      </a:lnTo>
                      <a:lnTo>
                        <a:pt x="468" y="529"/>
                      </a:lnTo>
                      <a:lnTo>
                        <a:pt x="463" y="530"/>
                      </a:lnTo>
                      <a:lnTo>
                        <a:pt x="461" y="530"/>
                      </a:lnTo>
                      <a:lnTo>
                        <a:pt x="458" y="530"/>
                      </a:lnTo>
                      <a:lnTo>
                        <a:pt x="456" y="530"/>
                      </a:lnTo>
                      <a:lnTo>
                        <a:pt x="445" y="530"/>
                      </a:lnTo>
                      <a:lnTo>
                        <a:pt x="436" y="530"/>
                      </a:lnTo>
                      <a:lnTo>
                        <a:pt x="425" y="530"/>
                      </a:lnTo>
                      <a:lnTo>
                        <a:pt x="414" y="530"/>
                      </a:lnTo>
                      <a:lnTo>
                        <a:pt x="405" y="530"/>
                      </a:lnTo>
                      <a:lnTo>
                        <a:pt x="394" y="530"/>
                      </a:lnTo>
                      <a:lnTo>
                        <a:pt x="385" y="530"/>
                      </a:lnTo>
                      <a:lnTo>
                        <a:pt x="374" y="531"/>
                      </a:lnTo>
                      <a:lnTo>
                        <a:pt x="365" y="530"/>
                      </a:lnTo>
                      <a:lnTo>
                        <a:pt x="354" y="530"/>
                      </a:lnTo>
                      <a:lnTo>
                        <a:pt x="344" y="530"/>
                      </a:lnTo>
                      <a:lnTo>
                        <a:pt x="336" y="530"/>
                      </a:lnTo>
                      <a:lnTo>
                        <a:pt x="327" y="530"/>
                      </a:lnTo>
                      <a:lnTo>
                        <a:pt x="317" y="530"/>
                      </a:lnTo>
                      <a:lnTo>
                        <a:pt x="309" y="530"/>
                      </a:lnTo>
                      <a:lnTo>
                        <a:pt x="299" y="530"/>
                      </a:lnTo>
                      <a:lnTo>
                        <a:pt x="291" y="530"/>
                      </a:lnTo>
                      <a:lnTo>
                        <a:pt x="280" y="530"/>
                      </a:lnTo>
                      <a:lnTo>
                        <a:pt x="273" y="529"/>
                      </a:lnTo>
                      <a:lnTo>
                        <a:pt x="264" y="529"/>
                      </a:lnTo>
                      <a:lnTo>
                        <a:pt x="255" y="528"/>
                      </a:lnTo>
                      <a:lnTo>
                        <a:pt x="247" y="528"/>
                      </a:lnTo>
                      <a:lnTo>
                        <a:pt x="239" y="528"/>
                      </a:lnTo>
                      <a:lnTo>
                        <a:pt x="232" y="528"/>
                      </a:lnTo>
                      <a:lnTo>
                        <a:pt x="223" y="527"/>
                      </a:lnTo>
                      <a:lnTo>
                        <a:pt x="215" y="527"/>
                      </a:lnTo>
                      <a:lnTo>
                        <a:pt x="208" y="525"/>
                      </a:lnTo>
                      <a:lnTo>
                        <a:pt x="201" y="525"/>
                      </a:lnTo>
                      <a:lnTo>
                        <a:pt x="194" y="525"/>
                      </a:lnTo>
                      <a:lnTo>
                        <a:pt x="187" y="525"/>
                      </a:lnTo>
                      <a:lnTo>
                        <a:pt x="180" y="524"/>
                      </a:lnTo>
                      <a:lnTo>
                        <a:pt x="174" y="524"/>
                      </a:lnTo>
                      <a:lnTo>
                        <a:pt x="167" y="523"/>
                      </a:lnTo>
                      <a:lnTo>
                        <a:pt x="161" y="523"/>
                      </a:lnTo>
                      <a:lnTo>
                        <a:pt x="155" y="522"/>
                      </a:lnTo>
                      <a:lnTo>
                        <a:pt x="149" y="522"/>
                      </a:lnTo>
                      <a:lnTo>
                        <a:pt x="142" y="521"/>
                      </a:lnTo>
                      <a:lnTo>
                        <a:pt x="137" y="521"/>
                      </a:lnTo>
                      <a:lnTo>
                        <a:pt x="131" y="520"/>
                      </a:lnTo>
                      <a:lnTo>
                        <a:pt x="126" y="520"/>
                      </a:lnTo>
                      <a:lnTo>
                        <a:pt x="120" y="518"/>
                      </a:lnTo>
                      <a:lnTo>
                        <a:pt x="115" y="518"/>
                      </a:lnTo>
                      <a:lnTo>
                        <a:pt x="110" y="518"/>
                      </a:lnTo>
                      <a:lnTo>
                        <a:pt x="106" y="518"/>
                      </a:lnTo>
                      <a:lnTo>
                        <a:pt x="101" y="517"/>
                      </a:lnTo>
                      <a:lnTo>
                        <a:pt x="97" y="517"/>
                      </a:lnTo>
                      <a:lnTo>
                        <a:pt x="94" y="516"/>
                      </a:lnTo>
                      <a:lnTo>
                        <a:pt x="89" y="516"/>
                      </a:lnTo>
                      <a:lnTo>
                        <a:pt x="86" y="515"/>
                      </a:lnTo>
                      <a:lnTo>
                        <a:pt x="82" y="515"/>
                      </a:lnTo>
                      <a:lnTo>
                        <a:pt x="80" y="515"/>
                      </a:lnTo>
                      <a:lnTo>
                        <a:pt x="76" y="515"/>
                      </a:lnTo>
                      <a:lnTo>
                        <a:pt x="73" y="514"/>
                      </a:lnTo>
                      <a:lnTo>
                        <a:pt x="70" y="512"/>
                      </a:lnTo>
                      <a:lnTo>
                        <a:pt x="68" y="512"/>
                      </a:lnTo>
                      <a:lnTo>
                        <a:pt x="63" y="512"/>
                      </a:lnTo>
                      <a:lnTo>
                        <a:pt x="61" y="512"/>
                      </a:lnTo>
                      <a:lnTo>
                        <a:pt x="60" y="512"/>
                      </a:lnTo>
                      <a:lnTo>
                        <a:pt x="56" y="509"/>
                      </a:lnTo>
                      <a:lnTo>
                        <a:pt x="51" y="506"/>
                      </a:lnTo>
                      <a:lnTo>
                        <a:pt x="48" y="503"/>
                      </a:lnTo>
                      <a:lnTo>
                        <a:pt x="44" y="499"/>
                      </a:lnTo>
                      <a:lnTo>
                        <a:pt x="41" y="495"/>
                      </a:lnTo>
                      <a:lnTo>
                        <a:pt x="37" y="490"/>
                      </a:lnTo>
                      <a:lnTo>
                        <a:pt x="34" y="485"/>
                      </a:lnTo>
                      <a:lnTo>
                        <a:pt x="31" y="480"/>
                      </a:lnTo>
                      <a:lnTo>
                        <a:pt x="30" y="477"/>
                      </a:lnTo>
                      <a:lnTo>
                        <a:pt x="28" y="473"/>
                      </a:lnTo>
                      <a:lnTo>
                        <a:pt x="26" y="470"/>
                      </a:lnTo>
                      <a:lnTo>
                        <a:pt x="25" y="467"/>
                      </a:lnTo>
                      <a:lnTo>
                        <a:pt x="24" y="464"/>
                      </a:lnTo>
                      <a:lnTo>
                        <a:pt x="23" y="460"/>
                      </a:lnTo>
                      <a:lnTo>
                        <a:pt x="22" y="457"/>
                      </a:lnTo>
                      <a:lnTo>
                        <a:pt x="21" y="454"/>
                      </a:lnTo>
                      <a:lnTo>
                        <a:pt x="19" y="451"/>
                      </a:lnTo>
                      <a:lnTo>
                        <a:pt x="18" y="447"/>
                      </a:lnTo>
                      <a:lnTo>
                        <a:pt x="17" y="444"/>
                      </a:lnTo>
                      <a:lnTo>
                        <a:pt x="16" y="440"/>
                      </a:lnTo>
                      <a:lnTo>
                        <a:pt x="15" y="436"/>
                      </a:lnTo>
                      <a:lnTo>
                        <a:pt x="15" y="433"/>
                      </a:lnTo>
                      <a:lnTo>
                        <a:pt x="13" y="429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11" y="417"/>
                      </a:lnTo>
                      <a:lnTo>
                        <a:pt x="10" y="414"/>
                      </a:lnTo>
                      <a:lnTo>
                        <a:pt x="9" y="409"/>
                      </a:lnTo>
                      <a:lnTo>
                        <a:pt x="8" y="404"/>
                      </a:lnTo>
                      <a:lnTo>
                        <a:pt x="8" y="401"/>
                      </a:lnTo>
                      <a:lnTo>
                        <a:pt x="6" y="397"/>
                      </a:lnTo>
                      <a:lnTo>
                        <a:pt x="6" y="394"/>
                      </a:lnTo>
                      <a:lnTo>
                        <a:pt x="5" y="389"/>
                      </a:lnTo>
                      <a:lnTo>
                        <a:pt x="5" y="384"/>
                      </a:lnTo>
                      <a:lnTo>
                        <a:pt x="5" y="381"/>
                      </a:lnTo>
                      <a:lnTo>
                        <a:pt x="5" y="376"/>
                      </a:lnTo>
                      <a:lnTo>
                        <a:pt x="4" y="372"/>
                      </a:lnTo>
                      <a:lnTo>
                        <a:pt x="3" y="369"/>
                      </a:lnTo>
                      <a:lnTo>
                        <a:pt x="3" y="363"/>
                      </a:lnTo>
                      <a:lnTo>
                        <a:pt x="3" y="360"/>
                      </a:lnTo>
                      <a:lnTo>
                        <a:pt x="3" y="356"/>
                      </a:lnTo>
                      <a:lnTo>
                        <a:pt x="2" y="351"/>
                      </a:lnTo>
                      <a:lnTo>
                        <a:pt x="0" y="347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21"/>
                      </a:lnTo>
                      <a:lnTo>
                        <a:pt x="0" y="317"/>
                      </a:lnTo>
                      <a:lnTo>
                        <a:pt x="0" y="313"/>
                      </a:lnTo>
                      <a:lnTo>
                        <a:pt x="0" y="308"/>
                      </a:lnTo>
                      <a:lnTo>
                        <a:pt x="0" y="303"/>
                      </a:lnTo>
                      <a:lnTo>
                        <a:pt x="0" y="300"/>
                      </a:lnTo>
                      <a:lnTo>
                        <a:pt x="0" y="295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3" y="281"/>
                      </a:lnTo>
                      <a:lnTo>
                        <a:pt x="6" y="280"/>
                      </a:lnTo>
                      <a:lnTo>
                        <a:pt x="10" y="277"/>
                      </a:lnTo>
                      <a:lnTo>
                        <a:pt x="15" y="275"/>
                      </a:lnTo>
                      <a:lnTo>
                        <a:pt x="18" y="271"/>
                      </a:lnTo>
                      <a:lnTo>
                        <a:pt x="22" y="268"/>
                      </a:lnTo>
                      <a:lnTo>
                        <a:pt x="24" y="264"/>
                      </a:lnTo>
                      <a:lnTo>
                        <a:pt x="28" y="260"/>
                      </a:lnTo>
                      <a:lnTo>
                        <a:pt x="30" y="255"/>
                      </a:lnTo>
                      <a:lnTo>
                        <a:pt x="31" y="250"/>
                      </a:lnTo>
                      <a:lnTo>
                        <a:pt x="32" y="246"/>
                      </a:lnTo>
                      <a:lnTo>
                        <a:pt x="32" y="242"/>
                      </a:lnTo>
                      <a:lnTo>
                        <a:pt x="31" y="238"/>
                      </a:lnTo>
                      <a:lnTo>
                        <a:pt x="29" y="235"/>
                      </a:lnTo>
                      <a:lnTo>
                        <a:pt x="26" y="233"/>
                      </a:lnTo>
                      <a:lnTo>
                        <a:pt x="25" y="231"/>
                      </a:lnTo>
                      <a:lnTo>
                        <a:pt x="23" y="231"/>
                      </a:lnTo>
                      <a:lnTo>
                        <a:pt x="21" y="230"/>
                      </a:lnTo>
                      <a:lnTo>
                        <a:pt x="16" y="235"/>
                      </a:lnTo>
                      <a:lnTo>
                        <a:pt x="11" y="239"/>
                      </a:lnTo>
                      <a:lnTo>
                        <a:pt x="8" y="242"/>
                      </a:lnTo>
                      <a:lnTo>
                        <a:pt x="5" y="244"/>
                      </a:lnTo>
                      <a:lnTo>
                        <a:pt x="3" y="246"/>
                      </a:lnTo>
                      <a:lnTo>
                        <a:pt x="0" y="249"/>
                      </a:lnTo>
                      <a:lnTo>
                        <a:pt x="0" y="246"/>
                      </a:lnTo>
                      <a:lnTo>
                        <a:pt x="0" y="244"/>
                      </a:lnTo>
                      <a:lnTo>
                        <a:pt x="0" y="242"/>
                      </a:lnTo>
                      <a:lnTo>
                        <a:pt x="0" y="239"/>
                      </a:lnTo>
                      <a:lnTo>
                        <a:pt x="0" y="236"/>
                      </a:lnTo>
                      <a:lnTo>
                        <a:pt x="0" y="233"/>
                      </a:lnTo>
                      <a:lnTo>
                        <a:pt x="0" y="231"/>
                      </a:lnTo>
                      <a:lnTo>
                        <a:pt x="2" y="229"/>
                      </a:lnTo>
                      <a:lnTo>
                        <a:pt x="2" y="225"/>
                      </a:lnTo>
                      <a:lnTo>
                        <a:pt x="2" y="223"/>
                      </a:lnTo>
                      <a:lnTo>
                        <a:pt x="2" y="219"/>
                      </a:lnTo>
                      <a:lnTo>
                        <a:pt x="3" y="217"/>
                      </a:lnTo>
                      <a:lnTo>
                        <a:pt x="3" y="214"/>
                      </a:lnTo>
                      <a:lnTo>
                        <a:pt x="3" y="211"/>
                      </a:lnTo>
                      <a:lnTo>
                        <a:pt x="3" y="208"/>
                      </a:lnTo>
                      <a:lnTo>
                        <a:pt x="3" y="206"/>
                      </a:lnTo>
                      <a:lnTo>
                        <a:pt x="3" y="204"/>
                      </a:lnTo>
                      <a:lnTo>
                        <a:pt x="3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3" y="192"/>
                      </a:lnTo>
                      <a:lnTo>
                        <a:pt x="4" y="190"/>
                      </a:lnTo>
                      <a:lnTo>
                        <a:pt x="5" y="186"/>
                      </a:lnTo>
                      <a:lnTo>
                        <a:pt x="5" y="184"/>
                      </a:lnTo>
                      <a:lnTo>
                        <a:pt x="5" y="181"/>
                      </a:lnTo>
                      <a:lnTo>
                        <a:pt x="5" y="178"/>
                      </a:lnTo>
                      <a:lnTo>
                        <a:pt x="5" y="175"/>
                      </a:lnTo>
                      <a:lnTo>
                        <a:pt x="5" y="172"/>
                      </a:lnTo>
                      <a:lnTo>
                        <a:pt x="5" y="169"/>
                      </a:lnTo>
                      <a:lnTo>
                        <a:pt x="5" y="166"/>
                      </a:lnTo>
                      <a:lnTo>
                        <a:pt x="6" y="163"/>
                      </a:lnTo>
                      <a:lnTo>
                        <a:pt x="6" y="161"/>
                      </a:lnTo>
                      <a:lnTo>
                        <a:pt x="8" y="165"/>
                      </a:lnTo>
                      <a:lnTo>
                        <a:pt x="11" y="167"/>
                      </a:lnTo>
                      <a:lnTo>
                        <a:pt x="13" y="167"/>
                      </a:lnTo>
                      <a:lnTo>
                        <a:pt x="16" y="168"/>
                      </a:lnTo>
                      <a:lnTo>
                        <a:pt x="19" y="168"/>
                      </a:lnTo>
                      <a:lnTo>
                        <a:pt x="23" y="168"/>
                      </a:lnTo>
                      <a:lnTo>
                        <a:pt x="25" y="166"/>
                      </a:lnTo>
                      <a:lnTo>
                        <a:pt x="29" y="166"/>
                      </a:lnTo>
                      <a:lnTo>
                        <a:pt x="32" y="163"/>
                      </a:lnTo>
                      <a:lnTo>
                        <a:pt x="36" y="162"/>
                      </a:lnTo>
                      <a:lnTo>
                        <a:pt x="40" y="160"/>
                      </a:lnTo>
                      <a:lnTo>
                        <a:pt x="43" y="159"/>
                      </a:lnTo>
                      <a:lnTo>
                        <a:pt x="47" y="155"/>
                      </a:lnTo>
                      <a:lnTo>
                        <a:pt x="50" y="153"/>
                      </a:lnTo>
                      <a:lnTo>
                        <a:pt x="53" y="150"/>
                      </a:lnTo>
                      <a:lnTo>
                        <a:pt x="56" y="147"/>
                      </a:lnTo>
                      <a:lnTo>
                        <a:pt x="59" y="143"/>
                      </a:lnTo>
                      <a:lnTo>
                        <a:pt x="61" y="141"/>
                      </a:lnTo>
                      <a:lnTo>
                        <a:pt x="62" y="136"/>
                      </a:lnTo>
                      <a:lnTo>
                        <a:pt x="64" y="133"/>
                      </a:lnTo>
                      <a:lnTo>
                        <a:pt x="66" y="129"/>
                      </a:lnTo>
                      <a:lnTo>
                        <a:pt x="66" y="125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3" y="114"/>
                      </a:lnTo>
                      <a:lnTo>
                        <a:pt x="62" y="110"/>
                      </a:lnTo>
                      <a:lnTo>
                        <a:pt x="59" y="105"/>
                      </a:lnTo>
                      <a:lnTo>
                        <a:pt x="56" y="102"/>
                      </a:lnTo>
                      <a:lnTo>
                        <a:pt x="51" y="97"/>
                      </a:lnTo>
                      <a:lnTo>
                        <a:pt x="47" y="95"/>
                      </a:lnTo>
                      <a:lnTo>
                        <a:pt x="44" y="97"/>
                      </a:lnTo>
                      <a:lnTo>
                        <a:pt x="42" y="99"/>
                      </a:lnTo>
                      <a:lnTo>
                        <a:pt x="40" y="103"/>
                      </a:lnTo>
                      <a:lnTo>
                        <a:pt x="38" y="105"/>
                      </a:lnTo>
                      <a:lnTo>
                        <a:pt x="35" y="110"/>
                      </a:lnTo>
                      <a:lnTo>
                        <a:pt x="32" y="112"/>
                      </a:lnTo>
                      <a:lnTo>
                        <a:pt x="30" y="115"/>
                      </a:lnTo>
                      <a:lnTo>
                        <a:pt x="29" y="117"/>
                      </a:lnTo>
                      <a:lnTo>
                        <a:pt x="25" y="121"/>
                      </a:lnTo>
                      <a:lnTo>
                        <a:pt x="24" y="123"/>
                      </a:lnTo>
                      <a:lnTo>
                        <a:pt x="22" y="125"/>
                      </a:lnTo>
                      <a:lnTo>
                        <a:pt x="19" y="129"/>
                      </a:lnTo>
                      <a:lnTo>
                        <a:pt x="16" y="134"/>
                      </a:lnTo>
                      <a:lnTo>
                        <a:pt x="13" y="138"/>
                      </a:lnTo>
                      <a:lnTo>
                        <a:pt x="10" y="142"/>
                      </a:lnTo>
                      <a:lnTo>
                        <a:pt x="9" y="147"/>
                      </a:lnTo>
                      <a:lnTo>
                        <a:pt x="8" y="150"/>
                      </a:lnTo>
                      <a:lnTo>
                        <a:pt x="8" y="154"/>
                      </a:lnTo>
                      <a:lnTo>
                        <a:pt x="8" y="150"/>
                      </a:lnTo>
                      <a:lnTo>
                        <a:pt x="8" y="147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5"/>
                      </a:lnTo>
                      <a:lnTo>
                        <a:pt x="9" y="133"/>
                      </a:lnTo>
                      <a:lnTo>
                        <a:pt x="9" y="128"/>
                      </a:lnTo>
                      <a:lnTo>
                        <a:pt x="10" y="125"/>
                      </a:lnTo>
                      <a:lnTo>
                        <a:pt x="10" y="121"/>
                      </a:lnTo>
                      <a:lnTo>
                        <a:pt x="10" y="117"/>
                      </a:lnTo>
                      <a:lnTo>
                        <a:pt x="10" y="115"/>
                      </a:lnTo>
                      <a:lnTo>
                        <a:pt x="10" y="110"/>
                      </a:lnTo>
                      <a:lnTo>
                        <a:pt x="10" y="108"/>
                      </a:lnTo>
                      <a:lnTo>
                        <a:pt x="11" y="104"/>
                      </a:lnTo>
                      <a:lnTo>
                        <a:pt x="11" y="100"/>
                      </a:lnTo>
                      <a:lnTo>
                        <a:pt x="12" y="97"/>
                      </a:lnTo>
                      <a:lnTo>
                        <a:pt x="12" y="95"/>
                      </a:lnTo>
                      <a:lnTo>
                        <a:pt x="12" y="91"/>
                      </a:lnTo>
                      <a:lnTo>
                        <a:pt x="12" y="87"/>
                      </a:lnTo>
                      <a:lnTo>
                        <a:pt x="12" y="85"/>
                      </a:lnTo>
                      <a:lnTo>
                        <a:pt x="12" y="81"/>
                      </a:lnTo>
                      <a:lnTo>
                        <a:pt x="13" y="78"/>
                      </a:lnTo>
                      <a:lnTo>
                        <a:pt x="13" y="74"/>
                      </a:lnTo>
                      <a:lnTo>
                        <a:pt x="15" y="72"/>
                      </a:lnTo>
                      <a:lnTo>
                        <a:pt x="15" y="70"/>
                      </a:lnTo>
                      <a:lnTo>
                        <a:pt x="15" y="67"/>
                      </a:lnTo>
                      <a:lnTo>
                        <a:pt x="15" y="64"/>
                      </a:lnTo>
                      <a:lnTo>
                        <a:pt x="15" y="61"/>
                      </a:lnTo>
                      <a:lnTo>
                        <a:pt x="15" y="58"/>
                      </a:lnTo>
                      <a:lnTo>
                        <a:pt x="16" y="55"/>
                      </a:lnTo>
                      <a:lnTo>
                        <a:pt x="16" y="53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5"/>
                      </a:lnTo>
                      <a:lnTo>
                        <a:pt x="17" y="41"/>
                      </a:lnTo>
                      <a:lnTo>
                        <a:pt x="17" y="40"/>
                      </a:lnTo>
                      <a:lnTo>
                        <a:pt x="18" y="35"/>
                      </a:lnTo>
                      <a:lnTo>
                        <a:pt x="18" y="32"/>
                      </a:lnTo>
                      <a:lnTo>
                        <a:pt x="18" y="27"/>
                      </a:lnTo>
                      <a:lnTo>
                        <a:pt x="19" y="23"/>
                      </a:lnTo>
                      <a:lnTo>
                        <a:pt x="19" y="20"/>
                      </a:lnTo>
                      <a:lnTo>
                        <a:pt x="21" y="16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21" y="9"/>
                      </a:lnTo>
                      <a:lnTo>
                        <a:pt x="21" y="8"/>
                      </a:lnTo>
                      <a:lnTo>
                        <a:pt x="21" y="5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Freeform 34"/>
                <p:cNvSpPr/>
                <p:nvPr/>
              </p:nvSpPr>
              <p:spPr>
                <a:xfrm>
                  <a:off x="1265040" y="2557800"/>
                  <a:ext cx="21960" cy="158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0" y="0"/>
                      </a:moveTo>
                      <a:lnTo>
                        <a:pt x="43" y="3"/>
                      </a:lnTo>
                      <a:lnTo>
                        <a:pt x="42" y="6"/>
                      </a:lnTo>
                      <a:lnTo>
                        <a:pt x="41" y="9"/>
                      </a:lnTo>
                      <a:lnTo>
                        <a:pt x="40" y="11"/>
                      </a:lnTo>
                      <a:lnTo>
                        <a:pt x="37" y="13"/>
                      </a:lnTo>
                      <a:lnTo>
                        <a:pt x="37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26" y="29"/>
                      </a:lnTo>
                      <a:lnTo>
                        <a:pt x="20" y="31"/>
                      </a:lnTo>
                      <a:lnTo>
                        <a:pt x="16" y="30"/>
                      </a:lnTo>
                      <a:lnTo>
                        <a:pt x="13" y="28"/>
                      </a:lnTo>
                      <a:lnTo>
                        <a:pt x="13" y="24"/>
                      </a:lnTo>
                      <a:lnTo>
                        <a:pt x="13" y="20"/>
                      </a:lnTo>
                      <a:lnTo>
                        <a:pt x="13" y="17"/>
                      </a:lnTo>
                      <a:lnTo>
                        <a:pt x="13" y="13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Freeform 35"/>
                <p:cNvSpPr/>
                <p:nvPr/>
              </p:nvSpPr>
              <p:spPr>
                <a:xfrm>
                  <a:off x="1311120" y="25909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7" h="22">
                      <a:moveTo>
                        <a:pt x="57" y="19"/>
                      </a:moveTo>
                      <a:lnTo>
                        <a:pt x="0" y="22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3"/>
                      </a:lnTo>
                      <a:lnTo>
                        <a:pt x="29" y="4"/>
                      </a:lnTo>
                      <a:lnTo>
                        <a:pt x="32" y="6"/>
                      </a:lnTo>
                      <a:lnTo>
                        <a:pt x="36" y="7"/>
                      </a:lnTo>
                      <a:lnTo>
                        <a:pt x="39" y="8"/>
                      </a:lnTo>
                      <a:lnTo>
                        <a:pt x="43" y="11"/>
                      </a:lnTo>
                      <a:lnTo>
                        <a:pt x="45" y="13"/>
                      </a:lnTo>
                      <a:lnTo>
                        <a:pt x="49" y="13"/>
                      </a:lnTo>
                      <a:lnTo>
                        <a:pt x="51" y="16"/>
                      </a:lnTo>
                      <a:lnTo>
                        <a:pt x="56" y="18"/>
                      </a:lnTo>
                      <a:lnTo>
                        <a:pt x="57" y="1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5" name="Group 36"/>
            <p:cNvGrpSpPr/>
            <p:nvPr/>
          </p:nvGrpSpPr>
          <p:grpSpPr>
            <a:xfrm>
              <a:off x="7162920" y="1905120"/>
              <a:ext cx="753840" cy="701640"/>
              <a:chOff x="7162920" y="1905120"/>
              <a:chExt cx="753840" cy="701640"/>
            </a:xfrm>
          </p:grpSpPr>
          <p:sp>
            <p:nvSpPr>
              <p:cNvPr id="1146" name="Rectangle 37"/>
              <p:cNvSpPr/>
              <p:nvPr/>
            </p:nvSpPr>
            <p:spPr>
              <a:xfrm>
                <a:off x="7383240" y="2025720"/>
                <a:ext cx="304560" cy="228600"/>
              </a:xfrm>
              <a:prstGeom prst="rect">
                <a:avLst/>
              </a:prstGeom>
              <a:solidFill>
                <a:srgbClr val="40417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47" name="Group 38"/>
              <p:cNvGrpSpPr/>
              <p:nvPr/>
            </p:nvGrpSpPr>
            <p:grpSpPr>
              <a:xfrm>
                <a:off x="7162920" y="1905120"/>
                <a:ext cx="753840" cy="701640"/>
                <a:chOff x="7162920" y="1905120"/>
                <a:chExt cx="753840" cy="701640"/>
              </a:xfrm>
            </p:grpSpPr>
            <p:sp>
              <p:nvSpPr>
                <p:cNvPr id="1148" name="Freeform 39"/>
                <p:cNvSpPr/>
                <p:nvPr/>
              </p:nvSpPr>
              <p:spPr>
                <a:xfrm>
                  <a:off x="7289640" y="2551320"/>
                  <a:ext cx="585360" cy="5544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05" h="104">
                      <a:moveTo>
                        <a:pt x="872" y="13"/>
                      </a:moveTo>
                      <a:lnTo>
                        <a:pt x="876" y="13"/>
                      </a:lnTo>
                      <a:lnTo>
                        <a:pt x="879" y="13"/>
                      </a:lnTo>
                      <a:lnTo>
                        <a:pt x="883" y="13"/>
                      </a:lnTo>
                      <a:lnTo>
                        <a:pt x="886" y="13"/>
                      </a:lnTo>
                      <a:lnTo>
                        <a:pt x="890" y="13"/>
                      </a:lnTo>
                      <a:lnTo>
                        <a:pt x="893" y="13"/>
                      </a:lnTo>
                      <a:lnTo>
                        <a:pt x="897" y="13"/>
                      </a:lnTo>
                      <a:lnTo>
                        <a:pt x="900" y="13"/>
                      </a:lnTo>
                      <a:lnTo>
                        <a:pt x="904" y="13"/>
                      </a:lnTo>
                      <a:lnTo>
                        <a:pt x="909" y="13"/>
                      </a:lnTo>
                      <a:lnTo>
                        <a:pt x="911" y="13"/>
                      </a:lnTo>
                      <a:lnTo>
                        <a:pt x="916" y="13"/>
                      </a:lnTo>
                      <a:lnTo>
                        <a:pt x="918" y="11"/>
                      </a:lnTo>
                      <a:lnTo>
                        <a:pt x="923" y="11"/>
                      </a:lnTo>
                      <a:lnTo>
                        <a:pt x="927" y="11"/>
                      </a:lnTo>
                      <a:lnTo>
                        <a:pt x="930" y="11"/>
                      </a:lnTo>
                      <a:lnTo>
                        <a:pt x="932" y="10"/>
                      </a:lnTo>
                      <a:lnTo>
                        <a:pt x="936" y="10"/>
                      </a:lnTo>
                      <a:lnTo>
                        <a:pt x="940" y="10"/>
                      </a:lnTo>
                      <a:lnTo>
                        <a:pt x="943" y="10"/>
                      </a:lnTo>
                      <a:lnTo>
                        <a:pt x="947" y="9"/>
                      </a:lnTo>
                      <a:lnTo>
                        <a:pt x="950" y="9"/>
                      </a:lnTo>
                      <a:lnTo>
                        <a:pt x="954" y="8"/>
                      </a:lnTo>
                      <a:lnTo>
                        <a:pt x="957" y="8"/>
                      </a:lnTo>
                      <a:lnTo>
                        <a:pt x="960" y="8"/>
                      </a:lnTo>
                      <a:lnTo>
                        <a:pt x="964" y="8"/>
                      </a:lnTo>
                      <a:lnTo>
                        <a:pt x="967" y="7"/>
                      </a:lnTo>
                      <a:lnTo>
                        <a:pt x="972" y="7"/>
                      </a:lnTo>
                      <a:lnTo>
                        <a:pt x="974" y="5"/>
                      </a:lnTo>
                      <a:lnTo>
                        <a:pt x="978" y="5"/>
                      </a:lnTo>
                      <a:lnTo>
                        <a:pt x="981" y="5"/>
                      </a:lnTo>
                      <a:lnTo>
                        <a:pt x="985" y="5"/>
                      </a:lnTo>
                      <a:lnTo>
                        <a:pt x="988" y="4"/>
                      </a:lnTo>
                      <a:lnTo>
                        <a:pt x="992" y="3"/>
                      </a:lnTo>
                      <a:lnTo>
                        <a:pt x="994" y="3"/>
                      </a:lnTo>
                      <a:lnTo>
                        <a:pt x="998" y="3"/>
                      </a:lnTo>
                      <a:lnTo>
                        <a:pt x="1001" y="3"/>
                      </a:lnTo>
                      <a:lnTo>
                        <a:pt x="1005" y="2"/>
                      </a:lnTo>
                      <a:lnTo>
                        <a:pt x="1007" y="2"/>
                      </a:lnTo>
                      <a:lnTo>
                        <a:pt x="1012" y="2"/>
                      </a:lnTo>
                      <a:lnTo>
                        <a:pt x="1014" y="1"/>
                      </a:lnTo>
                      <a:lnTo>
                        <a:pt x="1018" y="1"/>
                      </a:lnTo>
                      <a:lnTo>
                        <a:pt x="1021" y="1"/>
                      </a:lnTo>
                      <a:lnTo>
                        <a:pt x="1025" y="1"/>
                      </a:lnTo>
                      <a:lnTo>
                        <a:pt x="1029" y="1"/>
                      </a:lnTo>
                      <a:lnTo>
                        <a:pt x="1032" y="1"/>
                      </a:lnTo>
                      <a:lnTo>
                        <a:pt x="1034" y="1"/>
                      </a:lnTo>
                      <a:lnTo>
                        <a:pt x="1039" y="1"/>
                      </a:lnTo>
                      <a:lnTo>
                        <a:pt x="1042" y="0"/>
                      </a:lnTo>
                      <a:lnTo>
                        <a:pt x="1045" y="0"/>
                      </a:lnTo>
                      <a:lnTo>
                        <a:pt x="1048" y="0"/>
                      </a:lnTo>
                      <a:lnTo>
                        <a:pt x="1052" y="0"/>
                      </a:lnTo>
                      <a:lnTo>
                        <a:pt x="1055" y="0"/>
                      </a:lnTo>
                      <a:lnTo>
                        <a:pt x="1058" y="1"/>
                      </a:lnTo>
                      <a:lnTo>
                        <a:pt x="1062" y="1"/>
                      </a:lnTo>
                      <a:lnTo>
                        <a:pt x="1065" y="1"/>
                      </a:lnTo>
                      <a:lnTo>
                        <a:pt x="1068" y="1"/>
                      </a:lnTo>
                      <a:lnTo>
                        <a:pt x="1072" y="2"/>
                      </a:lnTo>
                      <a:lnTo>
                        <a:pt x="1075" y="2"/>
                      </a:lnTo>
                      <a:lnTo>
                        <a:pt x="1078" y="3"/>
                      </a:lnTo>
                      <a:lnTo>
                        <a:pt x="1082" y="3"/>
                      </a:lnTo>
                      <a:lnTo>
                        <a:pt x="1086" y="4"/>
                      </a:lnTo>
                      <a:lnTo>
                        <a:pt x="1089" y="5"/>
                      </a:lnTo>
                      <a:lnTo>
                        <a:pt x="1093" y="7"/>
                      </a:lnTo>
                      <a:lnTo>
                        <a:pt x="1093" y="9"/>
                      </a:lnTo>
                      <a:lnTo>
                        <a:pt x="1094" y="11"/>
                      </a:lnTo>
                      <a:lnTo>
                        <a:pt x="1095" y="14"/>
                      </a:lnTo>
                      <a:lnTo>
                        <a:pt x="1095" y="17"/>
                      </a:lnTo>
                      <a:lnTo>
                        <a:pt x="1096" y="20"/>
                      </a:lnTo>
                      <a:lnTo>
                        <a:pt x="1097" y="22"/>
                      </a:lnTo>
                      <a:lnTo>
                        <a:pt x="1097" y="24"/>
                      </a:lnTo>
                      <a:lnTo>
                        <a:pt x="1099" y="28"/>
                      </a:lnTo>
                      <a:lnTo>
                        <a:pt x="1099" y="30"/>
                      </a:lnTo>
                      <a:lnTo>
                        <a:pt x="1100" y="33"/>
                      </a:lnTo>
                      <a:lnTo>
                        <a:pt x="1101" y="35"/>
                      </a:lnTo>
                      <a:lnTo>
                        <a:pt x="1101" y="39"/>
                      </a:lnTo>
                      <a:lnTo>
                        <a:pt x="1102" y="41"/>
                      </a:lnTo>
                      <a:lnTo>
                        <a:pt x="1103" y="43"/>
                      </a:lnTo>
                      <a:lnTo>
                        <a:pt x="1103" y="46"/>
                      </a:lnTo>
                      <a:lnTo>
                        <a:pt x="1105" y="49"/>
                      </a:lnTo>
                      <a:lnTo>
                        <a:pt x="1099" y="53"/>
                      </a:lnTo>
                      <a:lnTo>
                        <a:pt x="1093" y="57"/>
                      </a:lnTo>
                      <a:lnTo>
                        <a:pt x="1086" y="60"/>
                      </a:lnTo>
                      <a:lnTo>
                        <a:pt x="1077" y="64"/>
                      </a:lnTo>
                      <a:lnTo>
                        <a:pt x="1068" y="66"/>
                      </a:lnTo>
                      <a:lnTo>
                        <a:pt x="1057" y="68"/>
                      </a:lnTo>
                      <a:lnTo>
                        <a:pt x="1048" y="72"/>
                      </a:lnTo>
                      <a:lnTo>
                        <a:pt x="1036" y="76"/>
                      </a:lnTo>
                      <a:lnTo>
                        <a:pt x="1024" y="78"/>
                      </a:lnTo>
                      <a:lnTo>
                        <a:pt x="1011" y="80"/>
                      </a:lnTo>
                      <a:lnTo>
                        <a:pt x="997" y="81"/>
                      </a:lnTo>
                      <a:lnTo>
                        <a:pt x="982" y="84"/>
                      </a:lnTo>
                      <a:lnTo>
                        <a:pt x="968" y="86"/>
                      </a:lnTo>
                      <a:lnTo>
                        <a:pt x="953" y="89"/>
                      </a:lnTo>
                      <a:lnTo>
                        <a:pt x="936" y="90"/>
                      </a:lnTo>
                      <a:lnTo>
                        <a:pt x="921" y="92"/>
                      </a:lnTo>
                      <a:lnTo>
                        <a:pt x="903" y="92"/>
                      </a:lnTo>
                      <a:lnTo>
                        <a:pt x="885" y="95"/>
                      </a:lnTo>
                      <a:lnTo>
                        <a:pt x="866" y="96"/>
                      </a:lnTo>
                      <a:lnTo>
                        <a:pt x="847" y="97"/>
                      </a:lnTo>
                      <a:lnTo>
                        <a:pt x="829" y="98"/>
                      </a:lnTo>
                      <a:lnTo>
                        <a:pt x="809" y="99"/>
                      </a:lnTo>
                      <a:lnTo>
                        <a:pt x="790" y="99"/>
                      </a:lnTo>
                      <a:lnTo>
                        <a:pt x="770" y="102"/>
                      </a:lnTo>
                      <a:lnTo>
                        <a:pt x="750" y="102"/>
                      </a:lnTo>
                      <a:lnTo>
                        <a:pt x="728" y="102"/>
                      </a:lnTo>
                      <a:lnTo>
                        <a:pt x="708" y="102"/>
                      </a:lnTo>
                      <a:lnTo>
                        <a:pt x="688" y="104"/>
                      </a:lnTo>
                      <a:lnTo>
                        <a:pt x="665" y="104"/>
                      </a:lnTo>
                      <a:lnTo>
                        <a:pt x="645" y="104"/>
                      </a:lnTo>
                      <a:lnTo>
                        <a:pt x="623" y="104"/>
                      </a:lnTo>
                      <a:lnTo>
                        <a:pt x="601" y="104"/>
                      </a:lnTo>
                      <a:lnTo>
                        <a:pt x="580" y="104"/>
                      </a:lnTo>
                      <a:lnTo>
                        <a:pt x="558" y="104"/>
                      </a:lnTo>
                      <a:lnTo>
                        <a:pt x="536" y="104"/>
                      </a:lnTo>
                      <a:lnTo>
                        <a:pt x="514" y="104"/>
                      </a:lnTo>
                      <a:lnTo>
                        <a:pt x="492" y="104"/>
                      </a:lnTo>
                      <a:lnTo>
                        <a:pt x="471" y="104"/>
                      </a:lnTo>
                      <a:lnTo>
                        <a:pt x="450" y="104"/>
                      </a:lnTo>
                      <a:lnTo>
                        <a:pt x="427" y="104"/>
                      </a:lnTo>
                      <a:lnTo>
                        <a:pt x="407" y="104"/>
                      </a:lnTo>
                      <a:lnTo>
                        <a:pt x="384" y="104"/>
                      </a:lnTo>
                      <a:lnTo>
                        <a:pt x="363" y="103"/>
                      </a:lnTo>
                      <a:lnTo>
                        <a:pt x="343" y="103"/>
                      </a:lnTo>
                      <a:lnTo>
                        <a:pt x="321" y="102"/>
                      </a:lnTo>
                      <a:lnTo>
                        <a:pt x="301" y="102"/>
                      </a:lnTo>
                      <a:lnTo>
                        <a:pt x="282" y="102"/>
                      </a:lnTo>
                      <a:lnTo>
                        <a:pt x="263" y="102"/>
                      </a:lnTo>
                      <a:lnTo>
                        <a:pt x="243" y="102"/>
                      </a:lnTo>
                      <a:lnTo>
                        <a:pt x="224" y="102"/>
                      </a:lnTo>
                      <a:lnTo>
                        <a:pt x="205" y="100"/>
                      </a:lnTo>
                      <a:lnTo>
                        <a:pt x="187" y="100"/>
                      </a:lnTo>
                      <a:lnTo>
                        <a:pt x="170" y="99"/>
                      </a:lnTo>
                      <a:lnTo>
                        <a:pt x="153" y="99"/>
                      </a:lnTo>
                      <a:lnTo>
                        <a:pt x="136" y="99"/>
                      </a:lnTo>
                      <a:lnTo>
                        <a:pt x="120" y="99"/>
                      </a:lnTo>
                      <a:lnTo>
                        <a:pt x="104" y="99"/>
                      </a:lnTo>
                      <a:lnTo>
                        <a:pt x="89" y="99"/>
                      </a:lnTo>
                      <a:lnTo>
                        <a:pt x="76" y="99"/>
                      </a:lnTo>
                      <a:lnTo>
                        <a:pt x="63" y="99"/>
                      </a:lnTo>
                      <a:lnTo>
                        <a:pt x="49" y="99"/>
                      </a:lnTo>
                      <a:lnTo>
                        <a:pt x="37" y="99"/>
                      </a:lnTo>
                      <a:lnTo>
                        <a:pt x="25" y="99"/>
                      </a:lnTo>
                      <a:lnTo>
                        <a:pt x="15" y="99"/>
                      </a:lnTo>
                      <a:lnTo>
                        <a:pt x="14" y="97"/>
                      </a:lnTo>
                      <a:lnTo>
                        <a:pt x="12" y="93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7" y="83"/>
                      </a:lnTo>
                      <a:lnTo>
                        <a:pt x="6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70"/>
                      </a:lnTo>
                      <a:lnTo>
                        <a:pt x="2" y="67"/>
                      </a:lnTo>
                      <a:lnTo>
                        <a:pt x="2" y="65"/>
                      </a:lnTo>
                      <a:lnTo>
                        <a:pt x="2" y="62"/>
                      </a:lnTo>
                      <a:lnTo>
                        <a:pt x="0" y="59"/>
                      </a:lnTo>
                      <a:lnTo>
                        <a:pt x="0" y="57"/>
                      </a:lnTo>
                      <a:lnTo>
                        <a:pt x="2" y="54"/>
                      </a:lnTo>
                      <a:lnTo>
                        <a:pt x="7" y="51"/>
                      </a:lnTo>
                      <a:lnTo>
                        <a:pt x="9" y="48"/>
                      </a:lnTo>
                      <a:lnTo>
                        <a:pt x="14" y="46"/>
                      </a:lnTo>
                      <a:lnTo>
                        <a:pt x="18" y="42"/>
                      </a:lnTo>
                      <a:lnTo>
                        <a:pt x="21" y="41"/>
                      </a:lnTo>
                      <a:lnTo>
                        <a:pt x="25" y="39"/>
                      </a:lnTo>
                      <a:lnTo>
                        <a:pt x="28" y="36"/>
                      </a:lnTo>
                      <a:lnTo>
                        <a:pt x="32" y="35"/>
                      </a:lnTo>
                      <a:lnTo>
                        <a:pt x="35" y="33"/>
                      </a:lnTo>
                      <a:lnTo>
                        <a:pt x="40" y="32"/>
                      </a:lnTo>
                      <a:lnTo>
                        <a:pt x="44" y="30"/>
                      </a:lnTo>
                      <a:lnTo>
                        <a:pt x="47" y="29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5" y="24"/>
                      </a:lnTo>
                      <a:lnTo>
                        <a:pt x="69" y="23"/>
                      </a:lnTo>
                      <a:lnTo>
                        <a:pt x="73" y="23"/>
                      </a:lnTo>
                      <a:lnTo>
                        <a:pt x="78" y="23"/>
                      </a:lnTo>
                      <a:lnTo>
                        <a:pt x="82" y="22"/>
                      </a:lnTo>
                      <a:lnTo>
                        <a:pt x="85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8" y="21"/>
                      </a:lnTo>
                      <a:lnTo>
                        <a:pt x="103" y="21"/>
                      </a:lnTo>
                      <a:lnTo>
                        <a:pt x="108" y="21"/>
                      </a:lnTo>
                      <a:lnTo>
                        <a:pt x="113" y="21"/>
                      </a:lnTo>
                      <a:lnTo>
                        <a:pt x="116" y="21"/>
                      </a:lnTo>
                      <a:lnTo>
                        <a:pt x="121" y="21"/>
                      </a:lnTo>
                      <a:lnTo>
                        <a:pt x="126" y="21"/>
                      </a:lnTo>
                      <a:lnTo>
                        <a:pt x="130" y="21"/>
                      </a:lnTo>
                      <a:lnTo>
                        <a:pt x="135" y="21"/>
                      </a:lnTo>
                      <a:lnTo>
                        <a:pt x="139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3" y="21"/>
                      </a:lnTo>
                      <a:lnTo>
                        <a:pt x="158" y="22"/>
                      </a:lnTo>
                      <a:lnTo>
                        <a:pt x="161" y="22"/>
                      </a:lnTo>
                      <a:lnTo>
                        <a:pt x="167" y="23"/>
                      </a:lnTo>
                      <a:lnTo>
                        <a:pt x="171" y="23"/>
                      </a:lnTo>
                      <a:lnTo>
                        <a:pt x="175" y="23"/>
                      </a:lnTo>
                      <a:lnTo>
                        <a:pt x="179" y="23"/>
                      </a:lnTo>
                      <a:lnTo>
                        <a:pt x="184" y="23"/>
                      </a:lnTo>
                      <a:lnTo>
                        <a:pt x="190" y="23"/>
                      </a:lnTo>
                      <a:lnTo>
                        <a:pt x="194" y="23"/>
                      </a:lnTo>
                      <a:lnTo>
                        <a:pt x="199" y="23"/>
                      </a:lnTo>
                      <a:lnTo>
                        <a:pt x="203" y="24"/>
                      </a:lnTo>
                      <a:lnTo>
                        <a:pt x="208" y="23"/>
                      </a:lnTo>
                      <a:lnTo>
                        <a:pt x="212" y="2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5" y="23"/>
                      </a:lnTo>
                      <a:lnTo>
                        <a:pt x="230" y="23"/>
                      </a:lnTo>
                      <a:lnTo>
                        <a:pt x="234" y="23"/>
                      </a:lnTo>
                      <a:lnTo>
                        <a:pt x="238" y="23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1" y="21"/>
                      </a:lnTo>
                      <a:lnTo>
                        <a:pt x="256" y="21"/>
                      </a:lnTo>
                      <a:lnTo>
                        <a:pt x="260" y="21"/>
                      </a:lnTo>
                      <a:lnTo>
                        <a:pt x="264" y="20"/>
                      </a:lnTo>
                      <a:lnTo>
                        <a:pt x="269" y="19"/>
                      </a:lnTo>
                      <a:lnTo>
                        <a:pt x="273" y="19"/>
                      </a:lnTo>
                      <a:lnTo>
                        <a:pt x="282" y="17"/>
                      </a:lnTo>
                      <a:lnTo>
                        <a:pt x="291" y="17"/>
                      </a:lnTo>
                      <a:lnTo>
                        <a:pt x="300" y="17"/>
                      </a:lnTo>
                      <a:lnTo>
                        <a:pt x="310" y="17"/>
                      </a:lnTo>
                      <a:lnTo>
                        <a:pt x="319" y="16"/>
                      </a:lnTo>
                      <a:lnTo>
                        <a:pt x="329" y="16"/>
                      </a:lnTo>
                      <a:lnTo>
                        <a:pt x="337" y="16"/>
                      </a:lnTo>
                      <a:lnTo>
                        <a:pt x="346" y="16"/>
                      </a:lnTo>
                      <a:lnTo>
                        <a:pt x="356" y="16"/>
                      </a:lnTo>
                      <a:lnTo>
                        <a:pt x="365" y="16"/>
                      </a:lnTo>
                      <a:lnTo>
                        <a:pt x="374" y="16"/>
                      </a:lnTo>
                      <a:lnTo>
                        <a:pt x="384" y="16"/>
                      </a:lnTo>
                      <a:lnTo>
                        <a:pt x="394" y="16"/>
                      </a:lnTo>
                      <a:lnTo>
                        <a:pt x="402" y="16"/>
                      </a:lnTo>
                      <a:lnTo>
                        <a:pt x="412" y="16"/>
                      </a:lnTo>
                      <a:lnTo>
                        <a:pt x="422" y="17"/>
                      </a:lnTo>
                      <a:lnTo>
                        <a:pt x="431" y="17"/>
                      </a:lnTo>
                      <a:lnTo>
                        <a:pt x="440" y="17"/>
                      </a:lnTo>
                      <a:lnTo>
                        <a:pt x="450" y="17"/>
                      </a:lnTo>
                      <a:lnTo>
                        <a:pt x="459" y="17"/>
                      </a:lnTo>
                      <a:lnTo>
                        <a:pt x="469" y="17"/>
                      </a:lnTo>
                      <a:lnTo>
                        <a:pt x="478" y="17"/>
                      </a:lnTo>
                      <a:lnTo>
                        <a:pt x="488" y="17"/>
                      </a:lnTo>
                      <a:lnTo>
                        <a:pt x="498" y="17"/>
                      </a:lnTo>
                      <a:lnTo>
                        <a:pt x="507" y="17"/>
                      </a:lnTo>
                      <a:lnTo>
                        <a:pt x="516" y="17"/>
                      </a:lnTo>
                      <a:lnTo>
                        <a:pt x="525" y="17"/>
                      </a:lnTo>
                      <a:lnTo>
                        <a:pt x="536" y="17"/>
                      </a:lnTo>
                      <a:lnTo>
                        <a:pt x="544" y="17"/>
                      </a:lnTo>
                      <a:lnTo>
                        <a:pt x="554" y="17"/>
                      </a:lnTo>
                      <a:lnTo>
                        <a:pt x="563" y="17"/>
                      </a:lnTo>
                      <a:lnTo>
                        <a:pt x="574" y="19"/>
                      </a:lnTo>
                      <a:lnTo>
                        <a:pt x="582" y="17"/>
                      </a:lnTo>
                      <a:lnTo>
                        <a:pt x="592" y="17"/>
                      </a:lnTo>
                      <a:lnTo>
                        <a:pt x="601" y="17"/>
                      </a:lnTo>
                      <a:lnTo>
                        <a:pt x="611" y="17"/>
                      </a:lnTo>
                      <a:lnTo>
                        <a:pt x="619" y="17"/>
                      </a:lnTo>
                      <a:lnTo>
                        <a:pt x="630" y="17"/>
                      </a:lnTo>
                      <a:lnTo>
                        <a:pt x="639" y="17"/>
                      </a:lnTo>
                      <a:lnTo>
                        <a:pt x="649" y="17"/>
                      </a:lnTo>
                      <a:lnTo>
                        <a:pt x="657" y="17"/>
                      </a:lnTo>
                      <a:lnTo>
                        <a:pt x="668" y="17"/>
                      </a:lnTo>
                      <a:lnTo>
                        <a:pt x="677" y="17"/>
                      </a:lnTo>
                      <a:lnTo>
                        <a:pt x="687" y="17"/>
                      </a:lnTo>
                      <a:lnTo>
                        <a:pt x="695" y="17"/>
                      </a:lnTo>
                      <a:lnTo>
                        <a:pt x="706" y="17"/>
                      </a:lnTo>
                      <a:lnTo>
                        <a:pt x="715" y="17"/>
                      </a:lnTo>
                      <a:lnTo>
                        <a:pt x="724" y="17"/>
                      </a:lnTo>
                      <a:lnTo>
                        <a:pt x="733" y="16"/>
                      </a:lnTo>
                      <a:lnTo>
                        <a:pt x="743" y="16"/>
                      </a:lnTo>
                      <a:lnTo>
                        <a:pt x="751" y="16"/>
                      </a:lnTo>
                      <a:lnTo>
                        <a:pt x="762" y="16"/>
                      </a:lnTo>
                      <a:lnTo>
                        <a:pt x="770" y="16"/>
                      </a:lnTo>
                      <a:lnTo>
                        <a:pt x="779" y="16"/>
                      </a:lnTo>
                      <a:lnTo>
                        <a:pt x="789" y="15"/>
                      </a:lnTo>
                      <a:lnTo>
                        <a:pt x="798" y="15"/>
                      </a:lnTo>
                      <a:lnTo>
                        <a:pt x="807" y="15"/>
                      </a:lnTo>
                      <a:lnTo>
                        <a:pt x="817" y="14"/>
                      </a:lnTo>
                      <a:lnTo>
                        <a:pt x="824" y="14"/>
                      </a:lnTo>
                      <a:lnTo>
                        <a:pt x="835" y="14"/>
                      </a:lnTo>
                      <a:lnTo>
                        <a:pt x="843" y="13"/>
                      </a:lnTo>
                      <a:lnTo>
                        <a:pt x="853" y="13"/>
                      </a:lnTo>
                      <a:lnTo>
                        <a:pt x="862" y="13"/>
                      </a:lnTo>
                      <a:lnTo>
                        <a:pt x="872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Freeform 40"/>
                <p:cNvSpPr/>
                <p:nvPr/>
              </p:nvSpPr>
              <p:spPr>
                <a:xfrm>
                  <a:off x="7289640" y="1905120"/>
                  <a:ext cx="499680" cy="61920"/>
                </a:xfrm>
                <a:custGeom>
                  <a:avLst/>
                  <a:gdLst>
                    <a:gd name="textAreaLeft" fmla="*/ 0 w 499680"/>
                    <a:gd name="textAreaRight" fmla="*/ 500040 w 499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43" h="116">
                      <a:moveTo>
                        <a:pt x="435" y="0"/>
                      </a:moveTo>
                      <a:lnTo>
                        <a:pt x="442" y="0"/>
                      </a:lnTo>
                      <a:lnTo>
                        <a:pt x="450" y="1"/>
                      </a:lnTo>
                      <a:lnTo>
                        <a:pt x="458" y="1"/>
                      </a:lnTo>
                      <a:lnTo>
                        <a:pt x="465" y="1"/>
                      </a:lnTo>
                      <a:lnTo>
                        <a:pt x="472" y="1"/>
                      </a:lnTo>
                      <a:lnTo>
                        <a:pt x="480" y="1"/>
                      </a:lnTo>
                      <a:lnTo>
                        <a:pt x="488" y="1"/>
                      </a:lnTo>
                      <a:lnTo>
                        <a:pt x="496" y="2"/>
                      </a:lnTo>
                      <a:lnTo>
                        <a:pt x="503" y="2"/>
                      </a:lnTo>
                      <a:lnTo>
                        <a:pt x="510" y="2"/>
                      </a:lnTo>
                      <a:lnTo>
                        <a:pt x="518" y="2"/>
                      </a:lnTo>
                      <a:lnTo>
                        <a:pt x="525" y="4"/>
                      </a:lnTo>
                      <a:lnTo>
                        <a:pt x="533" y="4"/>
                      </a:lnTo>
                      <a:lnTo>
                        <a:pt x="540" y="5"/>
                      </a:lnTo>
                      <a:lnTo>
                        <a:pt x="548" y="5"/>
                      </a:lnTo>
                      <a:lnTo>
                        <a:pt x="555" y="5"/>
                      </a:lnTo>
                      <a:lnTo>
                        <a:pt x="562" y="5"/>
                      </a:lnTo>
                      <a:lnTo>
                        <a:pt x="571" y="5"/>
                      </a:lnTo>
                      <a:lnTo>
                        <a:pt x="578" y="5"/>
                      </a:lnTo>
                      <a:lnTo>
                        <a:pt x="586" y="5"/>
                      </a:lnTo>
                      <a:lnTo>
                        <a:pt x="593" y="5"/>
                      </a:lnTo>
                      <a:lnTo>
                        <a:pt x="600" y="6"/>
                      </a:lnTo>
                      <a:lnTo>
                        <a:pt x="609" y="6"/>
                      </a:lnTo>
                      <a:lnTo>
                        <a:pt x="616" y="7"/>
                      </a:lnTo>
                      <a:lnTo>
                        <a:pt x="623" y="7"/>
                      </a:lnTo>
                      <a:lnTo>
                        <a:pt x="630" y="7"/>
                      </a:lnTo>
                      <a:lnTo>
                        <a:pt x="638" y="7"/>
                      </a:lnTo>
                      <a:lnTo>
                        <a:pt x="645" y="7"/>
                      </a:lnTo>
                      <a:lnTo>
                        <a:pt x="652" y="7"/>
                      </a:lnTo>
                      <a:lnTo>
                        <a:pt x="661" y="8"/>
                      </a:lnTo>
                      <a:lnTo>
                        <a:pt x="668" y="9"/>
                      </a:lnTo>
                      <a:lnTo>
                        <a:pt x="676" y="9"/>
                      </a:lnTo>
                      <a:lnTo>
                        <a:pt x="683" y="9"/>
                      </a:lnTo>
                      <a:lnTo>
                        <a:pt x="690" y="9"/>
                      </a:lnTo>
                      <a:lnTo>
                        <a:pt x="699" y="9"/>
                      </a:lnTo>
                      <a:lnTo>
                        <a:pt x="706" y="11"/>
                      </a:lnTo>
                      <a:lnTo>
                        <a:pt x="713" y="11"/>
                      </a:lnTo>
                      <a:lnTo>
                        <a:pt x="720" y="12"/>
                      </a:lnTo>
                      <a:lnTo>
                        <a:pt x="728" y="12"/>
                      </a:lnTo>
                      <a:lnTo>
                        <a:pt x="735" y="12"/>
                      </a:lnTo>
                      <a:lnTo>
                        <a:pt x="743" y="12"/>
                      </a:lnTo>
                      <a:lnTo>
                        <a:pt x="750" y="13"/>
                      </a:lnTo>
                      <a:lnTo>
                        <a:pt x="757" y="14"/>
                      </a:lnTo>
                      <a:lnTo>
                        <a:pt x="765" y="14"/>
                      </a:lnTo>
                      <a:lnTo>
                        <a:pt x="772" y="15"/>
                      </a:lnTo>
                      <a:lnTo>
                        <a:pt x="779" y="17"/>
                      </a:lnTo>
                      <a:lnTo>
                        <a:pt x="787" y="17"/>
                      </a:lnTo>
                      <a:lnTo>
                        <a:pt x="795" y="18"/>
                      </a:lnTo>
                      <a:lnTo>
                        <a:pt x="802" y="18"/>
                      </a:lnTo>
                      <a:lnTo>
                        <a:pt x="809" y="19"/>
                      </a:lnTo>
                      <a:lnTo>
                        <a:pt x="816" y="19"/>
                      </a:lnTo>
                      <a:lnTo>
                        <a:pt x="824" y="20"/>
                      </a:lnTo>
                      <a:lnTo>
                        <a:pt x="832" y="23"/>
                      </a:lnTo>
                      <a:lnTo>
                        <a:pt x="839" y="23"/>
                      </a:lnTo>
                      <a:lnTo>
                        <a:pt x="846" y="24"/>
                      </a:lnTo>
                      <a:lnTo>
                        <a:pt x="853" y="25"/>
                      </a:lnTo>
                      <a:lnTo>
                        <a:pt x="860" y="26"/>
                      </a:lnTo>
                      <a:lnTo>
                        <a:pt x="867" y="27"/>
                      </a:lnTo>
                      <a:lnTo>
                        <a:pt x="876" y="28"/>
                      </a:lnTo>
                      <a:lnTo>
                        <a:pt x="883" y="30"/>
                      </a:lnTo>
                      <a:lnTo>
                        <a:pt x="890" y="31"/>
                      </a:lnTo>
                      <a:lnTo>
                        <a:pt x="897" y="32"/>
                      </a:lnTo>
                      <a:lnTo>
                        <a:pt x="904" y="34"/>
                      </a:lnTo>
                      <a:lnTo>
                        <a:pt x="912" y="36"/>
                      </a:lnTo>
                      <a:lnTo>
                        <a:pt x="916" y="39"/>
                      </a:lnTo>
                      <a:lnTo>
                        <a:pt x="919" y="44"/>
                      </a:lnTo>
                      <a:lnTo>
                        <a:pt x="923" y="49"/>
                      </a:lnTo>
                      <a:lnTo>
                        <a:pt x="928" y="52"/>
                      </a:lnTo>
                      <a:lnTo>
                        <a:pt x="931" y="57"/>
                      </a:lnTo>
                      <a:lnTo>
                        <a:pt x="934" y="62"/>
                      </a:lnTo>
                      <a:lnTo>
                        <a:pt x="938" y="65"/>
                      </a:lnTo>
                      <a:lnTo>
                        <a:pt x="943" y="70"/>
                      </a:lnTo>
                      <a:lnTo>
                        <a:pt x="940" y="75"/>
                      </a:lnTo>
                      <a:lnTo>
                        <a:pt x="936" y="78"/>
                      </a:lnTo>
                      <a:lnTo>
                        <a:pt x="934" y="83"/>
                      </a:lnTo>
                      <a:lnTo>
                        <a:pt x="931" y="88"/>
                      </a:lnTo>
                      <a:lnTo>
                        <a:pt x="929" y="91"/>
                      </a:lnTo>
                      <a:lnTo>
                        <a:pt x="927" y="95"/>
                      </a:lnTo>
                      <a:lnTo>
                        <a:pt x="925" y="101"/>
                      </a:lnTo>
                      <a:lnTo>
                        <a:pt x="923" y="106"/>
                      </a:lnTo>
                      <a:lnTo>
                        <a:pt x="918" y="106"/>
                      </a:lnTo>
                      <a:lnTo>
                        <a:pt x="915" y="106"/>
                      </a:lnTo>
                      <a:lnTo>
                        <a:pt x="911" y="106"/>
                      </a:lnTo>
                      <a:lnTo>
                        <a:pt x="906" y="106"/>
                      </a:lnTo>
                      <a:lnTo>
                        <a:pt x="902" y="106"/>
                      </a:lnTo>
                      <a:lnTo>
                        <a:pt x="898" y="106"/>
                      </a:lnTo>
                      <a:lnTo>
                        <a:pt x="893" y="106"/>
                      </a:lnTo>
                      <a:lnTo>
                        <a:pt x="889" y="106"/>
                      </a:lnTo>
                      <a:lnTo>
                        <a:pt x="885" y="106"/>
                      </a:lnTo>
                      <a:lnTo>
                        <a:pt x="880" y="106"/>
                      </a:lnTo>
                      <a:lnTo>
                        <a:pt x="876" y="106"/>
                      </a:lnTo>
                      <a:lnTo>
                        <a:pt x="872" y="106"/>
                      </a:lnTo>
                      <a:lnTo>
                        <a:pt x="867" y="106"/>
                      </a:lnTo>
                      <a:lnTo>
                        <a:pt x="864" y="106"/>
                      </a:lnTo>
                      <a:lnTo>
                        <a:pt x="859" y="106"/>
                      </a:lnTo>
                      <a:lnTo>
                        <a:pt x="855" y="106"/>
                      </a:lnTo>
                      <a:lnTo>
                        <a:pt x="851" y="104"/>
                      </a:lnTo>
                      <a:lnTo>
                        <a:pt x="847" y="104"/>
                      </a:lnTo>
                      <a:lnTo>
                        <a:pt x="842" y="103"/>
                      </a:lnTo>
                      <a:lnTo>
                        <a:pt x="838" y="103"/>
                      </a:lnTo>
                      <a:lnTo>
                        <a:pt x="834" y="103"/>
                      </a:lnTo>
                      <a:lnTo>
                        <a:pt x="829" y="102"/>
                      </a:lnTo>
                      <a:lnTo>
                        <a:pt x="826" y="102"/>
                      </a:lnTo>
                      <a:lnTo>
                        <a:pt x="822" y="102"/>
                      </a:lnTo>
                      <a:lnTo>
                        <a:pt x="817" y="101"/>
                      </a:lnTo>
                      <a:lnTo>
                        <a:pt x="814" y="101"/>
                      </a:lnTo>
                      <a:lnTo>
                        <a:pt x="809" y="100"/>
                      </a:lnTo>
                      <a:lnTo>
                        <a:pt x="806" y="100"/>
                      </a:lnTo>
                      <a:lnTo>
                        <a:pt x="801" y="100"/>
                      </a:lnTo>
                      <a:lnTo>
                        <a:pt x="797" y="99"/>
                      </a:lnTo>
                      <a:lnTo>
                        <a:pt x="792" y="99"/>
                      </a:lnTo>
                      <a:lnTo>
                        <a:pt x="789" y="99"/>
                      </a:lnTo>
                      <a:lnTo>
                        <a:pt x="784" y="97"/>
                      </a:lnTo>
                      <a:lnTo>
                        <a:pt x="781" y="97"/>
                      </a:lnTo>
                      <a:lnTo>
                        <a:pt x="776" y="96"/>
                      </a:lnTo>
                      <a:lnTo>
                        <a:pt x="772" y="95"/>
                      </a:lnTo>
                      <a:lnTo>
                        <a:pt x="768" y="95"/>
                      </a:lnTo>
                      <a:lnTo>
                        <a:pt x="764" y="95"/>
                      </a:lnTo>
                      <a:lnTo>
                        <a:pt x="759" y="94"/>
                      </a:lnTo>
                      <a:lnTo>
                        <a:pt x="756" y="94"/>
                      </a:lnTo>
                      <a:lnTo>
                        <a:pt x="751" y="93"/>
                      </a:lnTo>
                      <a:lnTo>
                        <a:pt x="746" y="93"/>
                      </a:lnTo>
                      <a:lnTo>
                        <a:pt x="743" y="93"/>
                      </a:lnTo>
                      <a:lnTo>
                        <a:pt x="739" y="93"/>
                      </a:lnTo>
                      <a:lnTo>
                        <a:pt x="734" y="91"/>
                      </a:lnTo>
                      <a:lnTo>
                        <a:pt x="731" y="91"/>
                      </a:lnTo>
                      <a:lnTo>
                        <a:pt x="726" y="91"/>
                      </a:lnTo>
                      <a:lnTo>
                        <a:pt x="722" y="91"/>
                      </a:lnTo>
                      <a:lnTo>
                        <a:pt x="719" y="90"/>
                      </a:lnTo>
                      <a:lnTo>
                        <a:pt x="713" y="90"/>
                      </a:lnTo>
                      <a:lnTo>
                        <a:pt x="709" y="90"/>
                      </a:lnTo>
                      <a:lnTo>
                        <a:pt x="706" y="90"/>
                      </a:lnTo>
                      <a:lnTo>
                        <a:pt x="701" y="89"/>
                      </a:lnTo>
                      <a:lnTo>
                        <a:pt x="696" y="89"/>
                      </a:lnTo>
                      <a:lnTo>
                        <a:pt x="693" y="89"/>
                      </a:lnTo>
                      <a:lnTo>
                        <a:pt x="688" y="89"/>
                      </a:lnTo>
                      <a:lnTo>
                        <a:pt x="684" y="89"/>
                      </a:lnTo>
                      <a:lnTo>
                        <a:pt x="680" y="89"/>
                      </a:lnTo>
                      <a:lnTo>
                        <a:pt x="675" y="89"/>
                      </a:lnTo>
                      <a:lnTo>
                        <a:pt x="671" y="89"/>
                      </a:lnTo>
                      <a:lnTo>
                        <a:pt x="667" y="89"/>
                      </a:lnTo>
                      <a:lnTo>
                        <a:pt x="663" y="89"/>
                      </a:lnTo>
                      <a:lnTo>
                        <a:pt x="658" y="89"/>
                      </a:lnTo>
                      <a:lnTo>
                        <a:pt x="655" y="90"/>
                      </a:lnTo>
                      <a:lnTo>
                        <a:pt x="650" y="89"/>
                      </a:lnTo>
                      <a:lnTo>
                        <a:pt x="645" y="88"/>
                      </a:lnTo>
                      <a:lnTo>
                        <a:pt x="641" y="88"/>
                      </a:lnTo>
                      <a:lnTo>
                        <a:pt x="636" y="88"/>
                      </a:lnTo>
                      <a:lnTo>
                        <a:pt x="632" y="87"/>
                      </a:lnTo>
                      <a:lnTo>
                        <a:pt x="628" y="87"/>
                      </a:lnTo>
                      <a:lnTo>
                        <a:pt x="623" y="85"/>
                      </a:lnTo>
                      <a:lnTo>
                        <a:pt x="619" y="85"/>
                      </a:lnTo>
                      <a:lnTo>
                        <a:pt x="614" y="85"/>
                      </a:lnTo>
                      <a:lnTo>
                        <a:pt x="610" y="84"/>
                      </a:lnTo>
                      <a:lnTo>
                        <a:pt x="605" y="84"/>
                      </a:lnTo>
                      <a:lnTo>
                        <a:pt x="600" y="84"/>
                      </a:lnTo>
                      <a:lnTo>
                        <a:pt x="595" y="83"/>
                      </a:lnTo>
                      <a:lnTo>
                        <a:pt x="592" y="83"/>
                      </a:lnTo>
                      <a:lnTo>
                        <a:pt x="587" y="83"/>
                      </a:lnTo>
                      <a:lnTo>
                        <a:pt x="582" y="83"/>
                      </a:lnTo>
                      <a:lnTo>
                        <a:pt x="578" y="82"/>
                      </a:lnTo>
                      <a:lnTo>
                        <a:pt x="573" y="82"/>
                      </a:lnTo>
                      <a:lnTo>
                        <a:pt x="568" y="81"/>
                      </a:lnTo>
                      <a:lnTo>
                        <a:pt x="563" y="81"/>
                      </a:lnTo>
                      <a:lnTo>
                        <a:pt x="559" y="81"/>
                      </a:lnTo>
                      <a:lnTo>
                        <a:pt x="554" y="81"/>
                      </a:lnTo>
                      <a:lnTo>
                        <a:pt x="549" y="81"/>
                      </a:lnTo>
                      <a:lnTo>
                        <a:pt x="544" y="81"/>
                      </a:lnTo>
                      <a:lnTo>
                        <a:pt x="540" y="81"/>
                      </a:lnTo>
                      <a:lnTo>
                        <a:pt x="536" y="81"/>
                      </a:lnTo>
                      <a:lnTo>
                        <a:pt x="531" y="81"/>
                      </a:lnTo>
                      <a:lnTo>
                        <a:pt x="525" y="81"/>
                      </a:lnTo>
                      <a:lnTo>
                        <a:pt x="521" y="81"/>
                      </a:lnTo>
                      <a:lnTo>
                        <a:pt x="516" y="81"/>
                      </a:lnTo>
                      <a:lnTo>
                        <a:pt x="512" y="81"/>
                      </a:lnTo>
                      <a:lnTo>
                        <a:pt x="508" y="82"/>
                      </a:lnTo>
                      <a:lnTo>
                        <a:pt x="501" y="81"/>
                      </a:lnTo>
                      <a:lnTo>
                        <a:pt x="493" y="81"/>
                      </a:lnTo>
                      <a:lnTo>
                        <a:pt x="485" y="81"/>
                      </a:lnTo>
                      <a:lnTo>
                        <a:pt x="479" y="81"/>
                      </a:lnTo>
                      <a:lnTo>
                        <a:pt x="472" y="80"/>
                      </a:lnTo>
                      <a:lnTo>
                        <a:pt x="465" y="80"/>
                      </a:lnTo>
                      <a:lnTo>
                        <a:pt x="458" y="80"/>
                      </a:lnTo>
                      <a:lnTo>
                        <a:pt x="451" y="80"/>
                      </a:lnTo>
                      <a:lnTo>
                        <a:pt x="444" y="78"/>
                      </a:lnTo>
                      <a:lnTo>
                        <a:pt x="438" y="78"/>
                      </a:lnTo>
                      <a:lnTo>
                        <a:pt x="429" y="78"/>
                      </a:lnTo>
                      <a:lnTo>
                        <a:pt x="422" y="78"/>
                      </a:lnTo>
                      <a:lnTo>
                        <a:pt x="415" y="78"/>
                      </a:lnTo>
                      <a:lnTo>
                        <a:pt x="409" y="78"/>
                      </a:lnTo>
                      <a:lnTo>
                        <a:pt x="402" y="78"/>
                      </a:lnTo>
                      <a:lnTo>
                        <a:pt x="395" y="78"/>
                      </a:lnTo>
                      <a:lnTo>
                        <a:pt x="387" y="78"/>
                      </a:lnTo>
                      <a:lnTo>
                        <a:pt x="381" y="78"/>
                      </a:lnTo>
                      <a:lnTo>
                        <a:pt x="374" y="78"/>
                      </a:lnTo>
                      <a:lnTo>
                        <a:pt x="366" y="78"/>
                      </a:lnTo>
                      <a:lnTo>
                        <a:pt x="359" y="78"/>
                      </a:lnTo>
                      <a:lnTo>
                        <a:pt x="352" y="78"/>
                      </a:lnTo>
                      <a:lnTo>
                        <a:pt x="345" y="80"/>
                      </a:lnTo>
                      <a:lnTo>
                        <a:pt x="339" y="80"/>
                      </a:lnTo>
                      <a:lnTo>
                        <a:pt x="331" y="80"/>
                      </a:lnTo>
                      <a:lnTo>
                        <a:pt x="325" y="80"/>
                      </a:lnTo>
                      <a:lnTo>
                        <a:pt x="318" y="81"/>
                      </a:lnTo>
                      <a:lnTo>
                        <a:pt x="311" y="81"/>
                      </a:lnTo>
                      <a:lnTo>
                        <a:pt x="304" y="81"/>
                      </a:lnTo>
                      <a:lnTo>
                        <a:pt x="298" y="82"/>
                      </a:lnTo>
                      <a:lnTo>
                        <a:pt x="291" y="82"/>
                      </a:lnTo>
                      <a:lnTo>
                        <a:pt x="283" y="83"/>
                      </a:lnTo>
                      <a:lnTo>
                        <a:pt x="276" y="83"/>
                      </a:lnTo>
                      <a:lnTo>
                        <a:pt x="269" y="83"/>
                      </a:lnTo>
                      <a:lnTo>
                        <a:pt x="263" y="84"/>
                      </a:lnTo>
                      <a:lnTo>
                        <a:pt x="256" y="84"/>
                      </a:lnTo>
                      <a:lnTo>
                        <a:pt x="249" y="85"/>
                      </a:lnTo>
                      <a:lnTo>
                        <a:pt x="242" y="85"/>
                      </a:lnTo>
                      <a:lnTo>
                        <a:pt x="235" y="87"/>
                      </a:lnTo>
                      <a:lnTo>
                        <a:pt x="229" y="88"/>
                      </a:lnTo>
                      <a:lnTo>
                        <a:pt x="222" y="88"/>
                      </a:lnTo>
                      <a:lnTo>
                        <a:pt x="215" y="89"/>
                      </a:lnTo>
                      <a:lnTo>
                        <a:pt x="208" y="90"/>
                      </a:lnTo>
                      <a:lnTo>
                        <a:pt x="202" y="90"/>
                      </a:lnTo>
                      <a:lnTo>
                        <a:pt x="194" y="91"/>
                      </a:lnTo>
                      <a:lnTo>
                        <a:pt x="187" y="93"/>
                      </a:lnTo>
                      <a:lnTo>
                        <a:pt x="181" y="94"/>
                      </a:lnTo>
                      <a:lnTo>
                        <a:pt x="174" y="95"/>
                      </a:lnTo>
                      <a:lnTo>
                        <a:pt x="167" y="95"/>
                      </a:lnTo>
                      <a:lnTo>
                        <a:pt x="161" y="96"/>
                      </a:lnTo>
                      <a:lnTo>
                        <a:pt x="154" y="97"/>
                      </a:lnTo>
                      <a:lnTo>
                        <a:pt x="147" y="99"/>
                      </a:lnTo>
                      <a:lnTo>
                        <a:pt x="141" y="100"/>
                      </a:lnTo>
                      <a:lnTo>
                        <a:pt x="134" y="101"/>
                      </a:lnTo>
                      <a:lnTo>
                        <a:pt x="127" y="103"/>
                      </a:lnTo>
                      <a:lnTo>
                        <a:pt x="121" y="104"/>
                      </a:lnTo>
                      <a:lnTo>
                        <a:pt x="114" y="106"/>
                      </a:lnTo>
                      <a:lnTo>
                        <a:pt x="108" y="107"/>
                      </a:lnTo>
                      <a:lnTo>
                        <a:pt x="101" y="108"/>
                      </a:lnTo>
                      <a:lnTo>
                        <a:pt x="95" y="110"/>
                      </a:lnTo>
                      <a:lnTo>
                        <a:pt x="88" y="112"/>
                      </a:lnTo>
                      <a:lnTo>
                        <a:pt x="82" y="113"/>
                      </a:lnTo>
                      <a:lnTo>
                        <a:pt x="76" y="115"/>
                      </a:lnTo>
                      <a:lnTo>
                        <a:pt x="69" y="116"/>
                      </a:lnTo>
                      <a:lnTo>
                        <a:pt x="65" y="115"/>
                      </a:lnTo>
                      <a:lnTo>
                        <a:pt x="62" y="115"/>
                      </a:lnTo>
                      <a:lnTo>
                        <a:pt x="58" y="114"/>
                      </a:lnTo>
                      <a:lnTo>
                        <a:pt x="56" y="114"/>
                      </a:lnTo>
                      <a:lnTo>
                        <a:pt x="52" y="113"/>
                      </a:lnTo>
                      <a:lnTo>
                        <a:pt x="49" y="113"/>
                      </a:lnTo>
                      <a:lnTo>
                        <a:pt x="45" y="113"/>
                      </a:lnTo>
                      <a:lnTo>
                        <a:pt x="43" y="113"/>
                      </a:lnTo>
                      <a:lnTo>
                        <a:pt x="39" y="113"/>
                      </a:lnTo>
                      <a:lnTo>
                        <a:pt x="37" y="113"/>
                      </a:lnTo>
                      <a:lnTo>
                        <a:pt x="33" y="113"/>
                      </a:lnTo>
                      <a:lnTo>
                        <a:pt x="31" y="113"/>
                      </a:lnTo>
                      <a:lnTo>
                        <a:pt x="27" y="113"/>
                      </a:lnTo>
                      <a:lnTo>
                        <a:pt x="25" y="113"/>
                      </a:lnTo>
                      <a:lnTo>
                        <a:pt x="22" y="113"/>
                      </a:lnTo>
                      <a:lnTo>
                        <a:pt x="19" y="113"/>
                      </a:lnTo>
                      <a:lnTo>
                        <a:pt x="18" y="109"/>
                      </a:lnTo>
                      <a:lnTo>
                        <a:pt x="16" y="107"/>
                      </a:lnTo>
                      <a:lnTo>
                        <a:pt x="15" y="103"/>
                      </a:lnTo>
                      <a:lnTo>
                        <a:pt x="14" y="101"/>
                      </a:lnTo>
                      <a:lnTo>
                        <a:pt x="12" y="95"/>
                      </a:lnTo>
                      <a:lnTo>
                        <a:pt x="9" y="91"/>
                      </a:lnTo>
                      <a:lnTo>
                        <a:pt x="7" y="87"/>
                      </a:lnTo>
                      <a:lnTo>
                        <a:pt x="5" y="83"/>
                      </a:lnTo>
                      <a:lnTo>
                        <a:pt x="2" y="78"/>
                      </a:lnTo>
                      <a:lnTo>
                        <a:pt x="0" y="75"/>
                      </a:lnTo>
                      <a:lnTo>
                        <a:pt x="2" y="70"/>
                      </a:lnTo>
                      <a:lnTo>
                        <a:pt x="6" y="68"/>
                      </a:lnTo>
                      <a:lnTo>
                        <a:pt x="8" y="64"/>
                      </a:lnTo>
                      <a:lnTo>
                        <a:pt x="12" y="61"/>
                      </a:lnTo>
                      <a:lnTo>
                        <a:pt x="14" y="58"/>
                      </a:lnTo>
                      <a:lnTo>
                        <a:pt x="18" y="55"/>
                      </a:lnTo>
                      <a:lnTo>
                        <a:pt x="21" y="52"/>
                      </a:lnTo>
                      <a:lnTo>
                        <a:pt x="25" y="51"/>
                      </a:lnTo>
                      <a:lnTo>
                        <a:pt x="27" y="49"/>
                      </a:lnTo>
                      <a:lnTo>
                        <a:pt x="31" y="46"/>
                      </a:lnTo>
                      <a:lnTo>
                        <a:pt x="34" y="44"/>
                      </a:lnTo>
                      <a:lnTo>
                        <a:pt x="38" y="43"/>
                      </a:lnTo>
                      <a:lnTo>
                        <a:pt x="41" y="40"/>
                      </a:lnTo>
                      <a:lnTo>
                        <a:pt x="45" y="39"/>
                      </a:lnTo>
                      <a:lnTo>
                        <a:pt x="49" y="38"/>
                      </a:lnTo>
                      <a:lnTo>
                        <a:pt x="53" y="37"/>
                      </a:lnTo>
                      <a:lnTo>
                        <a:pt x="56" y="34"/>
                      </a:lnTo>
                      <a:lnTo>
                        <a:pt x="60" y="33"/>
                      </a:lnTo>
                      <a:lnTo>
                        <a:pt x="64" y="32"/>
                      </a:lnTo>
                      <a:lnTo>
                        <a:pt x="67" y="31"/>
                      </a:lnTo>
                      <a:lnTo>
                        <a:pt x="71" y="30"/>
                      </a:lnTo>
                      <a:lnTo>
                        <a:pt x="76" y="30"/>
                      </a:lnTo>
                      <a:lnTo>
                        <a:pt x="79" y="28"/>
                      </a:lnTo>
                      <a:lnTo>
                        <a:pt x="83" y="27"/>
                      </a:lnTo>
                      <a:lnTo>
                        <a:pt x="88" y="27"/>
                      </a:lnTo>
                      <a:lnTo>
                        <a:pt x="91" y="26"/>
                      </a:lnTo>
                      <a:lnTo>
                        <a:pt x="95" y="25"/>
                      </a:lnTo>
                      <a:lnTo>
                        <a:pt x="98" y="25"/>
                      </a:lnTo>
                      <a:lnTo>
                        <a:pt x="103" y="25"/>
                      </a:lnTo>
                      <a:lnTo>
                        <a:pt x="107" y="25"/>
                      </a:lnTo>
                      <a:lnTo>
                        <a:pt x="111" y="24"/>
                      </a:lnTo>
                      <a:lnTo>
                        <a:pt x="116" y="24"/>
                      </a:lnTo>
                      <a:lnTo>
                        <a:pt x="120" y="23"/>
                      </a:lnTo>
                      <a:lnTo>
                        <a:pt x="123" y="23"/>
                      </a:lnTo>
                      <a:lnTo>
                        <a:pt x="127" y="23"/>
                      </a:lnTo>
                      <a:lnTo>
                        <a:pt x="132" y="23"/>
                      </a:lnTo>
                      <a:lnTo>
                        <a:pt x="135" y="23"/>
                      </a:lnTo>
                      <a:lnTo>
                        <a:pt x="140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2" y="20"/>
                      </a:lnTo>
                      <a:lnTo>
                        <a:pt x="156" y="20"/>
                      </a:lnTo>
                      <a:lnTo>
                        <a:pt x="161" y="20"/>
                      </a:lnTo>
                      <a:lnTo>
                        <a:pt x="165" y="20"/>
                      </a:lnTo>
                      <a:lnTo>
                        <a:pt x="170" y="19"/>
                      </a:lnTo>
                      <a:lnTo>
                        <a:pt x="173" y="19"/>
                      </a:lnTo>
                      <a:lnTo>
                        <a:pt x="177" y="19"/>
                      </a:lnTo>
                      <a:lnTo>
                        <a:pt x="181" y="19"/>
                      </a:lnTo>
                      <a:lnTo>
                        <a:pt x="186" y="19"/>
                      </a:lnTo>
                      <a:lnTo>
                        <a:pt x="190" y="19"/>
                      </a:lnTo>
                      <a:lnTo>
                        <a:pt x="194" y="18"/>
                      </a:lnTo>
                      <a:lnTo>
                        <a:pt x="198" y="18"/>
                      </a:lnTo>
                      <a:lnTo>
                        <a:pt x="202" y="17"/>
                      </a:lnTo>
                      <a:lnTo>
                        <a:pt x="206" y="17"/>
                      </a:lnTo>
                      <a:lnTo>
                        <a:pt x="210" y="15"/>
                      </a:lnTo>
                      <a:lnTo>
                        <a:pt x="215" y="15"/>
                      </a:lnTo>
                      <a:lnTo>
                        <a:pt x="218" y="14"/>
                      </a:lnTo>
                      <a:lnTo>
                        <a:pt x="222" y="14"/>
                      </a:lnTo>
                      <a:lnTo>
                        <a:pt x="225" y="13"/>
                      </a:lnTo>
                      <a:lnTo>
                        <a:pt x="230" y="12"/>
                      </a:lnTo>
                      <a:lnTo>
                        <a:pt x="234" y="12"/>
                      </a:lnTo>
                      <a:lnTo>
                        <a:pt x="237" y="11"/>
                      </a:lnTo>
                      <a:lnTo>
                        <a:pt x="242" y="9"/>
                      </a:lnTo>
                      <a:lnTo>
                        <a:pt x="245" y="9"/>
                      </a:lnTo>
                      <a:lnTo>
                        <a:pt x="249" y="7"/>
                      </a:lnTo>
                      <a:lnTo>
                        <a:pt x="251" y="7"/>
                      </a:lnTo>
                      <a:lnTo>
                        <a:pt x="255" y="7"/>
                      </a:lnTo>
                      <a:lnTo>
                        <a:pt x="257" y="7"/>
                      </a:lnTo>
                      <a:lnTo>
                        <a:pt x="260" y="7"/>
                      </a:lnTo>
                      <a:lnTo>
                        <a:pt x="263" y="6"/>
                      </a:lnTo>
                      <a:lnTo>
                        <a:pt x="266" y="6"/>
                      </a:lnTo>
                      <a:lnTo>
                        <a:pt x="269" y="6"/>
                      </a:lnTo>
                      <a:lnTo>
                        <a:pt x="272" y="5"/>
                      </a:lnTo>
                      <a:lnTo>
                        <a:pt x="275" y="5"/>
                      </a:lnTo>
                      <a:lnTo>
                        <a:pt x="278" y="5"/>
                      </a:lnTo>
                      <a:lnTo>
                        <a:pt x="281" y="5"/>
                      </a:lnTo>
                      <a:lnTo>
                        <a:pt x="283" y="5"/>
                      </a:lnTo>
                      <a:lnTo>
                        <a:pt x="287" y="5"/>
                      </a:lnTo>
                      <a:lnTo>
                        <a:pt x="289" y="5"/>
                      </a:lnTo>
                      <a:lnTo>
                        <a:pt x="293" y="5"/>
                      </a:lnTo>
                      <a:lnTo>
                        <a:pt x="295" y="5"/>
                      </a:lnTo>
                      <a:lnTo>
                        <a:pt x="298" y="5"/>
                      </a:lnTo>
                      <a:lnTo>
                        <a:pt x="301" y="5"/>
                      </a:lnTo>
                      <a:lnTo>
                        <a:pt x="304" y="5"/>
                      </a:lnTo>
                      <a:lnTo>
                        <a:pt x="307" y="5"/>
                      </a:lnTo>
                      <a:lnTo>
                        <a:pt x="311" y="5"/>
                      </a:lnTo>
                      <a:lnTo>
                        <a:pt x="313" y="5"/>
                      </a:lnTo>
                      <a:lnTo>
                        <a:pt x="315" y="5"/>
                      </a:lnTo>
                      <a:lnTo>
                        <a:pt x="319" y="5"/>
                      </a:lnTo>
                      <a:lnTo>
                        <a:pt x="321" y="5"/>
                      </a:lnTo>
                      <a:lnTo>
                        <a:pt x="325" y="5"/>
                      </a:lnTo>
                      <a:lnTo>
                        <a:pt x="329" y="5"/>
                      </a:lnTo>
                      <a:lnTo>
                        <a:pt x="331" y="5"/>
                      </a:lnTo>
                      <a:lnTo>
                        <a:pt x="333" y="5"/>
                      </a:lnTo>
                      <a:lnTo>
                        <a:pt x="337" y="5"/>
                      </a:lnTo>
                      <a:lnTo>
                        <a:pt x="340" y="6"/>
                      </a:lnTo>
                      <a:lnTo>
                        <a:pt x="343" y="5"/>
                      </a:lnTo>
                      <a:lnTo>
                        <a:pt x="346" y="5"/>
                      </a:lnTo>
                      <a:lnTo>
                        <a:pt x="349" y="5"/>
                      </a:lnTo>
                      <a:lnTo>
                        <a:pt x="351" y="5"/>
                      </a:lnTo>
                      <a:lnTo>
                        <a:pt x="355" y="5"/>
                      </a:lnTo>
                      <a:lnTo>
                        <a:pt x="357" y="5"/>
                      </a:lnTo>
                      <a:lnTo>
                        <a:pt x="361" y="5"/>
                      </a:lnTo>
                      <a:lnTo>
                        <a:pt x="364" y="5"/>
                      </a:lnTo>
                      <a:lnTo>
                        <a:pt x="366" y="5"/>
                      </a:lnTo>
                      <a:lnTo>
                        <a:pt x="369" y="5"/>
                      </a:lnTo>
                      <a:lnTo>
                        <a:pt x="371" y="5"/>
                      </a:lnTo>
                      <a:lnTo>
                        <a:pt x="376" y="5"/>
                      </a:lnTo>
                      <a:lnTo>
                        <a:pt x="378" y="5"/>
                      </a:lnTo>
                      <a:lnTo>
                        <a:pt x="382" y="5"/>
                      </a:lnTo>
                      <a:lnTo>
                        <a:pt x="384" y="5"/>
                      </a:lnTo>
                      <a:lnTo>
                        <a:pt x="387" y="5"/>
                      </a:lnTo>
                      <a:lnTo>
                        <a:pt x="390" y="5"/>
                      </a:lnTo>
                      <a:lnTo>
                        <a:pt x="394" y="5"/>
                      </a:lnTo>
                      <a:lnTo>
                        <a:pt x="396" y="5"/>
                      </a:lnTo>
                      <a:lnTo>
                        <a:pt x="400" y="5"/>
                      </a:lnTo>
                      <a:lnTo>
                        <a:pt x="402" y="5"/>
                      </a:lnTo>
                      <a:lnTo>
                        <a:pt x="404" y="5"/>
                      </a:lnTo>
                      <a:lnTo>
                        <a:pt x="407" y="4"/>
                      </a:lnTo>
                      <a:lnTo>
                        <a:pt x="410" y="4"/>
                      </a:lnTo>
                      <a:lnTo>
                        <a:pt x="414" y="2"/>
                      </a:lnTo>
                      <a:lnTo>
                        <a:pt x="418" y="2"/>
                      </a:lnTo>
                      <a:lnTo>
                        <a:pt x="420" y="1"/>
                      </a:lnTo>
                      <a:lnTo>
                        <a:pt x="422" y="1"/>
                      </a:lnTo>
                      <a:lnTo>
                        <a:pt x="426" y="1"/>
                      </a:lnTo>
                      <a:lnTo>
                        <a:pt x="428" y="1"/>
                      </a:lnTo>
                      <a:lnTo>
                        <a:pt x="432" y="0"/>
                      </a:lnTo>
                      <a:lnTo>
                        <a:pt x="435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Freeform 41"/>
                <p:cNvSpPr/>
                <p:nvPr/>
              </p:nvSpPr>
              <p:spPr>
                <a:xfrm>
                  <a:off x="7354800" y="2009880"/>
                  <a:ext cx="56880" cy="263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07" h="499">
                      <a:moveTo>
                        <a:pt x="54" y="0"/>
                      </a:moveTo>
                      <a:lnTo>
                        <a:pt x="57" y="2"/>
                      </a:lnTo>
                      <a:lnTo>
                        <a:pt x="61" y="4"/>
                      </a:lnTo>
                      <a:lnTo>
                        <a:pt x="64" y="5"/>
                      </a:lnTo>
                      <a:lnTo>
                        <a:pt x="69" y="7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6" y="12"/>
                      </a:lnTo>
                      <a:lnTo>
                        <a:pt x="80" y="15"/>
                      </a:lnTo>
                      <a:lnTo>
                        <a:pt x="85" y="19"/>
                      </a:lnTo>
                      <a:lnTo>
                        <a:pt x="88" y="24"/>
                      </a:lnTo>
                      <a:lnTo>
                        <a:pt x="89" y="26"/>
                      </a:lnTo>
                      <a:lnTo>
                        <a:pt x="92" y="30"/>
                      </a:lnTo>
                      <a:lnTo>
                        <a:pt x="92" y="32"/>
                      </a:lnTo>
                      <a:lnTo>
                        <a:pt x="94" y="36"/>
                      </a:lnTo>
                      <a:lnTo>
                        <a:pt x="94" y="38"/>
                      </a:lnTo>
                      <a:lnTo>
                        <a:pt x="95" y="40"/>
                      </a:lnTo>
                      <a:lnTo>
                        <a:pt x="95" y="44"/>
                      </a:lnTo>
                      <a:lnTo>
                        <a:pt x="96" y="46"/>
                      </a:lnTo>
                      <a:lnTo>
                        <a:pt x="96" y="50"/>
                      </a:lnTo>
                      <a:lnTo>
                        <a:pt x="96" y="53"/>
                      </a:lnTo>
                      <a:lnTo>
                        <a:pt x="96" y="56"/>
                      </a:lnTo>
                      <a:lnTo>
                        <a:pt x="98" y="59"/>
                      </a:lnTo>
                      <a:lnTo>
                        <a:pt x="96" y="63"/>
                      </a:lnTo>
                      <a:lnTo>
                        <a:pt x="96" y="65"/>
                      </a:lnTo>
                      <a:lnTo>
                        <a:pt x="96" y="69"/>
                      </a:lnTo>
                      <a:lnTo>
                        <a:pt x="96" y="74"/>
                      </a:lnTo>
                      <a:lnTo>
                        <a:pt x="95" y="76"/>
                      </a:lnTo>
                      <a:lnTo>
                        <a:pt x="95" y="81"/>
                      </a:lnTo>
                      <a:lnTo>
                        <a:pt x="94" y="83"/>
                      </a:lnTo>
                      <a:lnTo>
                        <a:pt x="94" y="88"/>
                      </a:lnTo>
                      <a:lnTo>
                        <a:pt x="93" y="90"/>
                      </a:lnTo>
                      <a:lnTo>
                        <a:pt x="92" y="94"/>
                      </a:lnTo>
                      <a:lnTo>
                        <a:pt x="92" y="97"/>
                      </a:lnTo>
                      <a:lnTo>
                        <a:pt x="90" y="101"/>
                      </a:lnTo>
                      <a:lnTo>
                        <a:pt x="89" y="105"/>
                      </a:lnTo>
                      <a:lnTo>
                        <a:pt x="89" y="108"/>
                      </a:lnTo>
                      <a:lnTo>
                        <a:pt x="87" y="112"/>
                      </a:lnTo>
                      <a:lnTo>
                        <a:pt x="87" y="116"/>
                      </a:lnTo>
                      <a:lnTo>
                        <a:pt x="86" y="119"/>
                      </a:lnTo>
                      <a:lnTo>
                        <a:pt x="85" y="122"/>
                      </a:lnTo>
                      <a:lnTo>
                        <a:pt x="85" y="126"/>
                      </a:lnTo>
                      <a:lnTo>
                        <a:pt x="83" y="129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0"/>
                      </a:lnTo>
                      <a:lnTo>
                        <a:pt x="80" y="144"/>
                      </a:lnTo>
                      <a:lnTo>
                        <a:pt x="79" y="147"/>
                      </a:lnTo>
                      <a:lnTo>
                        <a:pt x="77" y="151"/>
                      </a:lnTo>
                      <a:lnTo>
                        <a:pt x="76" y="154"/>
                      </a:lnTo>
                      <a:lnTo>
                        <a:pt x="76" y="158"/>
                      </a:lnTo>
                      <a:lnTo>
                        <a:pt x="76" y="162"/>
                      </a:lnTo>
                      <a:lnTo>
                        <a:pt x="76" y="165"/>
                      </a:lnTo>
                      <a:lnTo>
                        <a:pt x="75" y="169"/>
                      </a:lnTo>
                      <a:lnTo>
                        <a:pt x="75" y="172"/>
                      </a:lnTo>
                      <a:lnTo>
                        <a:pt x="74" y="175"/>
                      </a:lnTo>
                      <a:lnTo>
                        <a:pt x="74" y="178"/>
                      </a:lnTo>
                      <a:lnTo>
                        <a:pt x="74" y="182"/>
                      </a:lnTo>
                      <a:lnTo>
                        <a:pt x="75" y="184"/>
                      </a:lnTo>
                      <a:lnTo>
                        <a:pt x="75" y="188"/>
                      </a:lnTo>
                      <a:lnTo>
                        <a:pt x="76" y="191"/>
                      </a:lnTo>
                      <a:lnTo>
                        <a:pt x="76" y="195"/>
                      </a:lnTo>
                      <a:lnTo>
                        <a:pt x="77" y="197"/>
                      </a:lnTo>
                      <a:lnTo>
                        <a:pt x="76" y="202"/>
                      </a:lnTo>
                      <a:lnTo>
                        <a:pt x="76" y="207"/>
                      </a:lnTo>
                      <a:lnTo>
                        <a:pt x="76" y="210"/>
                      </a:lnTo>
                      <a:lnTo>
                        <a:pt x="76" y="215"/>
                      </a:lnTo>
                      <a:lnTo>
                        <a:pt x="75" y="220"/>
                      </a:lnTo>
                      <a:lnTo>
                        <a:pt x="74" y="224"/>
                      </a:lnTo>
                      <a:lnTo>
                        <a:pt x="74" y="228"/>
                      </a:lnTo>
                      <a:lnTo>
                        <a:pt x="74" y="233"/>
                      </a:lnTo>
                      <a:lnTo>
                        <a:pt x="74" y="237"/>
                      </a:lnTo>
                      <a:lnTo>
                        <a:pt x="74" y="241"/>
                      </a:lnTo>
                      <a:lnTo>
                        <a:pt x="74" y="246"/>
                      </a:lnTo>
                      <a:lnTo>
                        <a:pt x="74" y="251"/>
                      </a:lnTo>
                      <a:lnTo>
                        <a:pt x="74" y="255"/>
                      </a:lnTo>
                      <a:lnTo>
                        <a:pt x="74" y="259"/>
                      </a:lnTo>
                      <a:lnTo>
                        <a:pt x="74" y="264"/>
                      </a:lnTo>
                      <a:lnTo>
                        <a:pt x="74" y="268"/>
                      </a:lnTo>
                      <a:lnTo>
                        <a:pt x="74" y="272"/>
                      </a:lnTo>
                      <a:lnTo>
                        <a:pt x="74" y="277"/>
                      </a:lnTo>
                      <a:lnTo>
                        <a:pt x="74" y="281"/>
                      </a:lnTo>
                      <a:lnTo>
                        <a:pt x="74" y="285"/>
                      </a:lnTo>
                      <a:lnTo>
                        <a:pt x="74" y="290"/>
                      </a:lnTo>
                      <a:lnTo>
                        <a:pt x="75" y="293"/>
                      </a:lnTo>
                      <a:lnTo>
                        <a:pt x="76" y="298"/>
                      </a:lnTo>
                      <a:lnTo>
                        <a:pt x="76" y="303"/>
                      </a:lnTo>
                      <a:lnTo>
                        <a:pt x="76" y="306"/>
                      </a:lnTo>
                      <a:lnTo>
                        <a:pt x="76" y="311"/>
                      </a:lnTo>
                      <a:lnTo>
                        <a:pt x="76" y="316"/>
                      </a:lnTo>
                      <a:lnTo>
                        <a:pt x="76" y="319"/>
                      </a:lnTo>
                      <a:lnTo>
                        <a:pt x="77" y="324"/>
                      </a:lnTo>
                      <a:lnTo>
                        <a:pt x="77" y="329"/>
                      </a:lnTo>
                      <a:lnTo>
                        <a:pt x="79" y="332"/>
                      </a:lnTo>
                      <a:lnTo>
                        <a:pt x="79" y="336"/>
                      </a:lnTo>
                      <a:lnTo>
                        <a:pt x="79" y="341"/>
                      </a:lnTo>
                      <a:lnTo>
                        <a:pt x="80" y="346"/>
                      </a:lnTo>
                      <a:lnTo>
                        <a:pt x="80" y="349"/>
                      </a:lnTo>
                      <a:lnTo>
                        <a:pt x="81" y="354"/>
                      </a:lnTo>
                      <a:lnTo>
                        <a:pt x="82" y="357"/>
                      </a:lnTo>
                      <a:lnTo>
                        <a:pt x="82" y="362"/>
                      </a:lnTo>
                      <a:lnTo>
                        <a:pt x="82" y="366"/>
                      </a:lnTo>
                      <a:lnTo>
                        <a:pt x="85" y="369"/>
                      </a:lnTo>
                      <a:lnTo>
                        <a:pt x="85" y="374"/>
                      </a:lnTo>
                      <a:lnTo>
                        <a:pt x="85" y="378"/>
                      </a:lnTo>
                      <a:lnTo>
                        <a:pt x="86" y="382"/>
                      </a:lnTo>
                      <a:lnTo>
                        <a:pt x="87" y="387"/>
                      </a:lnTo>
                      <a:lnTo>
                        <a:pt x="87" y="391"/>
                      </a:lnTo>
                      <a:lnTo>
                        <a:pt x="89" y="395"/>
                      </a:lnTo>
                      <a:lnTo>
                        <a:pt x="89" y="400"/>
                      </a:lnTo>
                      <a:lnTo>
                        <a:pt x="90" y="404"/>
                      </a:lnTo>
                      <a:lnTo>
                        <a:pt x="92" y="407"/>
                      </a:lnTo>
                      <a:lnTo>
                        <a:pt x="92" y="412"/>
                      </a:lnTo>
                      <a:lnTo>
                        <a:pt x="93" y="416"/>
                      </a:lnTo>
                      <a:lnTo>
                        <a:pt x="94" y="420"/>
                      </a:lnTo>
                      <a:lnTo>
                        <a:pt x="94" y="424"/>
                      </a:lnTo>
                      <a:lnTo>
                        <a:pt x="95" y="429"/>
                      </a:lnTo>
                      <a:lnTo>
                        <a:pt x="96" y="433"/>
                      </a:lnTo>
                      <a:lnTo>
                        <a:pt x="98" y="437"/>
                      </a:lnTo>
                      <a:lnTo>
                        <a:pt x="99" y="440"/>
                      </a:lnTo>
                      <a:lnTo>
                        <a:pt x="100" y="445"/>
                      </a:lnTo>
                      <a:lnTo>
                        <a:pt x="101" y="449"/>
                      </a:lnTo>
                      <a:lnTo>
                        <a:pt x="102" y="454"/>
                      </a:lnTo>
                      <a:lnTo>
                        <a:pt x="103" y="458"/>
                      </a:lnTo>
                      <a:lnTo>
                        <a:pt x="105" y="462"/>
                      </a:lnTo>
                      <a:lnTo>
                        <a:pt x="106" y="467"/>
                      </a:lnTo>
                      <a:lnTo>
                        <a:pt x="107" y="471"/>
                      </a:lnTo>
                      <a:lnTo>
                        <a:pt x="103" y="474"/>
                      </a:lnTo>
                      <a:lnTo>
                        <a:pt x="99" y="477"/>
                      </a:lnTo>
                      <a:lnTo>
                        <a:pt x="94" y="481"/>
                      </a:lnTo>
                      <a:lnTo>
                        <a:pt x="90" y="484"/>
                      </a:lnTo>
                      <a:lnTo>
                        <a:pt x="87" y="488"/>
                      </a:lnTo>
                      <a:lnTo>
                        <a:pt x="82" y="492"/>
                      </a:lnTo>
                      <a:lnTo>
                        <a:pt x="77" y="494"/>
                      </a:lnTo>
                      <a:lnTo>
                        <a:pt x="74" y="499"/>
                      </a:lnTo>
                      <a:lnTo>
                        <a:pt x="68" y="495"/>
                      </a:lnTo>
                      <a:lnTo>
                        <a:pt x="64" y="493"/>
                      </a:lnTo>
                      <a:lnTo>
                        <a:pt x="58" y="489"/>
                      </a:lnTo>
                      <a:lnTo>
                        <a:pt x="55" y="487"/>
                      </a:lnTo>
                      <a:lnTo>
                        <a:pt x="51" y="483"/>
                      </a:lnTo>
                      <a:lnTo>
                        <a:pt x="48" y="481"/>
                      </a:lnTo>
                      <a:lnTo>
                        <a:pt x="44" y="477"/>
                      </a:lnTo>
                      <a:lnTo>
                        <a:pt x="41" y="475"/>
                      </a:lnTo>
                      <a:lnTo>
                        <a:pt x="37" y="471"/>
                      </a:lnTo>
                      <a:lnTo>
                        <a:pt x="33" y="467"/>
                      </a:lnTo>
                      <a:lnTo>
                        <a:pt x="31" y="463"/>
                      </a:lnTo>
                      <a:lnTo>
                        <a:pt x="29" y="459"/>
                      </a:lnTo>
                      <a:lnTo>
                        <a:pt x="26" y="456"/>
                      </a:lnTo>
                      <a:lnTo>
                        <a:pt x="23" y="451"/>
                      </a:lnTo>
                      <a:lnTo>
                        <a:pt x="20" y="448"/>
                      </a:lnTo>
                      <a:lnTo>
                        <a:pt x="19" y="444"/>
                      </a:lnTo>
                      <a:lnTo>
                        <a:pt x="17" y="439"/>
                      </a:lnTo>
                      <a:lnTo>
                        <a:pt x="16" y="435"/>
                      </a:lnTo>
                      <a:lnTo>
                        <a:pt x="13" y="430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9" y="417"/>
                      </a:lnTo>
                      <a:lnTo>
                        <a:pt x="9" y="412"/>
                      </a:lnTo>
                      <a:lnTo>
                        <a:pt x="7" y="407"/>
                      </a:lnTo>
                      <a:lnTo>
                        <a:pt x="6" y="402"/>
                      </a:lnTo>
                      <a:lnTo>
                        <a:pt x="5" y="398"/>
                      </a:lnTo>
                      <a:lnTo>
                        <a:pt x="4" y="392"/>
                      </a:lnTo>
                      <a:lnTo>
                        <a:pt x="4" y="387"/>
                      </a:lnTo>
                      <a:lnTo>
                        <a:pt x="3" y="382"/>
                      </a:lnTo>
                      <a:lnTo>
                        <a:pt x="3" y="378"/>
                      </a:lnTo>
                      <a:lnTo>
                        <a:pt x="1" y="372"/>
                      </a:lnTo>
                      <a:lnTo>
                        <a:pt x="1" y="367"/>
                      </a:lnTo>
                      <a:lnTo>
                        <a:pt x="1" y="362"/>
                      </a:lnTo>
                      <a:lnTo>
                        <a:pt x="0" y="357"/>
                      </a:lnTo>
                      <a:lnTo>
                        <a:pt x="0" y="351"/>
                      </a:lnTo>
                      <a:lnTo>
                        <a:pt x="0" y="347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19"/>
                      </a:lnTo>
                      <a:lnTo>
                        <a:pt x="0" y="313"/>
                      </a:lnTo>
                      <a:lnTo>
                        <a:pt x="0" y="309"/>
                      </a:lnTo>
                      <a:lnTo>
                        <a:pt x="0" y="304"/>
                      </a:lnTo>
                      <a:lnTo>
                        <a:pt x="0" y="298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1" y="281"/>
                      </a:lnTo>
                      <a:lnTo>
                        <a:pt x="1" y="275"/>
                      </a:lnTo>
                      <a:lnTo>
                        <a:pt x="1" y="271"/>
                      </a:lnTo>
                      <a:lnTo>
                        <a:pt x="1" y="266"/>
                      </a:lnTo>
                      <a:lnTo>
                        <a:pt x="1" y="260"/>
                      </a:lnTo>
                      <a:lnTo>
                        <a:pt x="1" y="255"/>
                      </a:lnTo>
                      <a:lnTo>
                        <a:pt x="1" y="251"/>
                      </a:lnTo>
                      <a:lnTo>
                        <a:pt x="1" y="245"/>
                      </a:lnTo>
                      <a:lnTo>
                        <a:pt x="1" y="240"/>
                      </a:lnTo>
                      <a:lnTo>
                        <a:pt x="1" y="235"/>
                      </a:lnTo>
                      <a:lnTo>
                        <a:pt x="1" y="230"/>
                      </a:lnTo>
                      <a:lnTo>
                        <a:pt x="1" y="224"/>
                      </a:lnTo>
                      <a:lnTo>
                        <a:pt x="1" y="220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0" y="205"/>
                      </a:lnTo>
                      <a:lnTo>
                        <a:pt x="0" y="201"/>
                      </a:lnTo>
                      <a:lnTo>
                        <a:pt x="0" y="197"/>
                      </a:lnTo>
                      <a:lnTo>
                        <a:pt x="0" y="194"/>
                      </a:lnTo>
                      <a:lnTo>
                        <a:pt x="0" y="190"/>
                      </a:lnTo>
                      <a:lnTo>
                        <a:pt x="0" y="188"/>
                      </a:lnTo>
                      <a:lnTo>
                        <a:pt x="0" y="183"/>
                      </a:lnTo>
                      <a:lnTo>
                        <a:pt x="1" y="181"/>
                      </a:lnTo>
                      <a:lnTo>
                        <a:pt x="1" y="177"/>
                      </a:lnTo>
                      <a:lnTo>
                        <a:pt x="1" y="173"/>
                      </a:lnTo>
                      <a:lnTo>
                        <a:pt x="1" y="170"/>
                      </a:lnTo>
                      <a:lnTo>
                        <a:pt x="1" y="166"/>
                      </a:lnTo>
                      <a:lnTo>
                        <a:pt x="1" y="163"/>
                      </a:lnTo>
                      <a:lnTo>
                        <a:pt x="3" y="159"/>
                      </a:lnTo>
                      <a:lnTo>
                        <a:pt x="3" y="156"/>
                      </a:lnTo>
                      <a:lnTo>
                        <a:pt x="3" y="153"/>
                      </a:lnTo>
                      <a:lnTo>
                        <a:pt x="3" y="150"/>
                      </a:lnTo>
                      <a:lnTo>
                        <a:pt x="3" y="146"/>
                      </a:lnTo>
                      <a:lnTo>
                        <a:pt x="3" y="143"/>
                      </a:lnTo>
                      <a:lnTo>
                        <a:pt x="3" y="139"/>
                      </a:lnTo>
                      <a:lnTo>
                        <a:pt x="3" y="135"/>
                      </a:lnTo>
                      <a:lnTo>
                        <a:pt x="4" y="132"/>
                      </a:lnTo>
                      <a:lnTo>
                        <a:pt x="4" y="129"/>
                      </a:lnTo>
                      <a:lnTo>
                        <a:pt x="4" y="126"/>
                      </a:lnTo>
                      <a:lnTo>
                        <a:pt x="4" y="121"/>
                      </a:lnTo>
                      <a:lnTo>
                        <a:pt x="5" y="119"/>
                      </a:lnTo>
                      <a:lnTo>
                        <a:pt x="5" y="115"/>
                      </a:lnTo>
                      <a:lnTo>
                        <a:pt x="5" y="112"/>
                      </a:lnTo>
                      <a:lnTo>
                        <a:pt x="6" y="108"/>
                      </a:lnTo>
                      <a:lnTo>
                        <a:pt x="6" y="106"/>
                      </a:lnTo>
                      <a:lnTo>
                        <a:pt x="6" y="101"/>
                      </a:lnTo>
                      <a:lnTo>
                        <a:pt x="6" y="99"/>
                      </a:lnTo>
                      <a:lnTo>
                        <a:pt x="7" y="95"/>
                      </a:lnTo>
                      <a:lnTo>
                        <a:pt x="9" y="91"/>
                      </a:lnTo>
                      <a:lnTo>
                        <a:pt x="9" y="88"/>
                      </a:lnTo>
                      <a:lnTo>
                        <a:pt x="9" y="86"/>
                      </a:lnTo>
                      <a:lnTo>
                        <a:pt x="9" y="81"/>
                      </a:lnTo>
                      <a:lnTo>
                        <a:pt x="10" y="78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2" y="68"/>
                      </a:lnTo>
                      <a:lnTo>
                        <a:pt x="13" y="65"/>
                      </a:lnTo>
                      <a:lnTo>
                        <a:pt x="13" y="62"/>
                      </a:lnTo>
                      <a:lnTo>
                        <a:pt x="14" y="59"/>
                      </a:lnTo>
                      <a:lnTo>
                        <a:pt x="16" y="56"/>
                      </a:lnTo>
                      <a:lnTo>
                        <a:pt x="17" y="53"/>
                      </a:lnTo>
                      <a:lnTo>
                        <a:pt x="18" y="50"/>
                      </a:lnTo>
                      <a:lnTo>
                        <a:pt x="19" y="48"/>
                      </a:lnTo>
                      <a:lnTo>
                        <a:pt x="20" y="44"/>
                      </a:lnTo>
                      <a:lnTo>
                        <a:pt x="22" y="42"/>
                      </a:lnTo>
                      <a:lnTo>
                        <a:pt x="23" y="38"/>
                      </a:lnTo>
                      <a:lnTo>
                        <a:pt x="24" y="36"/>
                      </a:lnTo>
                      <a:lnTo>
                        <a:pt x="26" y="32"/>
                      </a:lnTo>
                      <a:lnTo>
                        <a:pt x="28" y="30"/>
                      </a:lnTo>
                      <a:lnTo>
                        <a:pt x="29" y="27"/>
                      </a:lnTo>
                      <a:lnTo>
                        <a:pt x="31" y="24"/>
                      </a:lnTo>
                      <a:lnTo>
                        <a:pt x="32" y="21"/>
                      </a:lnTo>
                      <a:lnTo>
                        <a:pt x="35" y="19"/>
                      </a:lnTo>
                      <a:lnTo>
                        <a:pt x="38" y="14"/>
                      </a:lnTo>
                      <a:lnTo>
                        <a:pt x="44" y="10"/>
                      </a:lnTo>
                      <a:lnTo>
                        <a:pt x="45" y="7"/>
                      </a:lnTo>
                      <a:lnTo>
                        <a:pt x="48" y="5"/>
                      </a:lnTo>
                      <a:lnTo>
                        <a:pt x="51" y="2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Freeform 42"/>
                <p:cNvSpPr/>
                <p:nvPr/>
              </p:nvSpPr>
              <p:spPr>
                <a:xfrm>
                  <a:off x="7719840" y="1928880"/>
                  <a:ext cx="83880" cy="419400"/>
                </a:xfrm>
                <a:custGeom>
                  <a:avLst/>
                  <a:gdLst>
                    <a:gd name="textAreaLeft" fmla="*/ 0 w 83880"/>
                    <a:gd name="textAreaRight" fmla="*/ 83880 w 8388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w="159" h="792">
                      <a:moveTo>
                        <a:pt x="144" y="0"/>
                      </a:moveTo>
                      <a:lnTo>
                        <a:pt x="58" y="8"/>
                      </a:lnTo>
                      <a:lnTo>
                        <a:pt x="60" y="23"/>
                      </a:lnTo>
                      <a:lnTo>
                        <a:pt x="60" y="38"/>
                      </a:lnTo>
                      <a:lnTo>
                        <a:pt x="63" y="52"/>
                      </a:lnTo>
                      <a:lnTo>
                        <a:pt x="64" y="67"/>
                      </a:lnTo>
                      <a:lnTo>
                        <a:pt x="65" y="81"/>
                      </a:lnTo>
                      <a:lnTo>
                        <a:pt x="65" y="95"/>
                      </a:lnTo>
                      <a:lnTo>
                        <a:pt x="66" y="109"/>
                      </a:lnTo>
                      <a:lnTo>
                        <a:pt x="67" y="124"/>
                      </a:lnTo>
                      <a:lnTo>
                        <a:pt x="68" y="137"/>
                      </a:lnTo>
                      <a:lnTo>
                        <a:pt x="70" y="151"/>
                      </a:lnTo>
                      <a:lnTo>
                        <a:pt x="70" y="165"/>
                      </a:lnTo>
                      <a:lnTo>
                        <a:pt x="71" y="179"/>
                      </a:lnTo>
                      <a:lnTo>
                        <a:pt x="71" y="192"/>
                      </a:lnTo>
                      <a:lnTo>
                        <a:pt x="72" y="205"/>
                      </a:lnTo>
                      <a:lnTo>
                        <a:pt x="72" y="219"/>
                      </a:lnTo>
                      <a:lnTo>
                        <a:pt x="73" y="233"/>
                      </a:lnTo>
                      <a:lnTo>
                        <a:pt x="73" y="246"/>
                      </a:lnTo>
                      <a:lnTo>
                        <a:pt x="73" y="258"/>
                      </a:lnTo>
                      <a:lnTo>
                        <a:pt x="73" y="271"/>
                      </a:lnTo>
                      <a:lnTo>
                        <a:pt x="73" y="284"/>
                      </a:lnTo>
                      <a:lnTo>
                        <a:pt x="73" y="297"/>
                      </a:lnTo>
                      <a:lnTo>
                        <a:pt x="73" y="310"/>
                      </a:lnTo>
                      <a:lnTo>
                        <a:pt x="73" y="322"/>
                      </a:lnTo>
                      <a:lnTo>
                        <a:pt x="73" y="335"/>
                      </a:lnTo>
                      <a:lnTo>
                        <a:pt x="72" y="347"/>
                      </a:lnTo>
                      <a:lnTo>
                        <a:pt x="72" y="360"/>
                      </a:lnTo>
                      <a:lnTo>
                        <a:pt x="71" y="372"/>
                      </a:lnTo>
                      <a:lnTo>
                        <a:pt x="71" y="385"/>
                      </a:lnTo>
                      <a:lnTo>
                        <a:pt x="70" y="395"/>
                      </a:lnTo>
                      <a:lnTo>
                        <a:pt x="70" y="407"/>
                      </a:lnTo>
                      <a:lnTo>
                        <a:pt x="68" y="420"/>
                      </a:lnTo>
                      <a:lnTo>
                        <a:pt x="68" y="432"/>
                      </a:lnTo>
                      <a:lnTo>
                        <a:pt x="67" y="443"/>
                      </a:lnTo>
                      <a:lnTo>
                        <a:pt x="66" y="455"/>
                      </a:lnTo>
                      <a:lnTo>
                        <a:pt x="65" y="467"/>
                      </a:lnTo>
                      <a:lnTo>
                        <a:pt x="64" y="479"/>
                      </a:lnTo>
                      <a:lnTo>
                        <a:pt x="63" y="488"/>
                      </a:lnTo>
                      <a:lnTo>
                        <a:pt x="61" y="500"/>
                      </a:lnTo>
                      <a:lnTo>
                        <a:pt x="60" y="512"/>
                      </a:lnTo>
                      <a:lnTo>
                        <a:pt x="58" y="522"/>
                      </a:lnTo>
                      <a:lnTo>
                        <a:pt x="57" y="533"/>
                      </a:lnTo>
                      <a:lnTo>
                        <a:pt x="54" y="544"/>
                      </a:lnTo>
                      <a:lnTo>
                        <a:pt x="53" y="554"/>
                      </a:lnTo>
                      <a:lnTo>
                        <a:pt x="52" y="565"/>
                      </a:lnTo>
                      <a:lnTo>
                        <a:pt x="49" y="576"/>
                      </a:lnTo>
                      <a:lnTo>
                        <a:pt x="47" y="587"/>
                      </a:lnTo>
                      <a:lnTo>
                        <a:pt x="46" y="597"/>
                      </a:lnTo>
                      <a:lnTo>
                        <a:pt x="45" y="608"/>
                      </a:lnTo>
                      <a:lnTo>
                        <a:pt x="42" y="617"/>
                      </a:lnTo>
                      <a:lnTo>
                        <a:pt x="40" y="628"/>
                      </a:lnTo>
                      <a:lnTo>
                        <a:pt x="38" y="638"/>
                      </a:lnTo>
                      <a:lnTo>
                        <a:pt x="34" y="648"/>
                      </a:lnTo>
                      <a:lnTo>
                        <a:pt x="32" y="658"/>
                      </a:lnTo>
                      <a:lnTo>
                        <a:pt x="29" y="667"/>
                      </a:lnTo>
                      <a:lnTo>
                        <a:pt x="27" y="677"/>
                      </a:lnTo>
                      <a:lnTo>
                        <a:pt x="25" y="686"/>
                      </a:lnTo>
                      <a:lnTo>
                        <a:pt x="21" y="696"/>
                      </a:lnTo>
                      <a:lnTo>
                        <a:pt x="19" y="706"/>
                      </a:lnTo>
                      <a:lnTo>
                        <a:pt x="15" y="715"/>
                      </a:lnTo>
                      <a:lnTo>
                        <a:pt x="11" y="724"/>
                      </a:lnTo>
                      <a:lnTo>
                        <a:pt x="9" y="734"/>
                      </a:lnTo>
                      <a:lnTo>
                        <a:pt x="6" y="743"/>
                      </a:lnTo>
                      <a:lnTo>
                        <a:pt x="2" y="752"/>
                      </a:lnTo>
                      <a:lnTo>
                        <a:pt x="0" y="762"/>
                      </a:lnTo>
                      <a:lnTo>
                        <a:pt x="80" y="792"/>
                      </a:lnTo>
                      <a:lnTo>
                        <a:pt x="83" y="782"/>
                      </a:lnTo>
                      <a:lnTo>
                        <a:pt x="86" y="773"/>
                      </a:lnTo>
                      <a:lnTo>
                        <a:pt x="90" y="763"/>
                      </a:lnTo>
                      <a:lnTo>
                        <a:pt x="93" y="754"/>
                      </a:lnTo>
                      <a:lnTo>
                        <a:pt x="96" y="743"/>
                      </a:lnTo>
                      <a:lnTo>
                        <a:pt x="99" y="734"/>
                      </a:lnTo>
                      <a:lnTo>
                        <a:pt x="103" y="723"/>
                      </a:lnTo>
                      <a:lnTo>
                        <a:pt x="105" y="714"/>
                      </a:lnTo>
                      <a:lnTo>
                        <a:pt x="108" y="703"/>
                      </a:lnTo>
                      <a:lnTo>
                        <a:pt x="111" y="692"/>
                      </a:lnTo>
                      <a:lnTo>
                        <a:pt x="115" y="682"/>
                      </a:lnTo>
                      <a:lnTo>
                        <a:pt x="117" y="671"/>
                      </a:lnTo>
                      <a:lnTo>
                        <a:pt x="119" y="661"/>
                      </a:lnTo>
                      <a:lnTo>
                        <a:pt x="122" y="651"/>
                      </a:lnTo>
                      <a:lnTo>
                        <a:pt x="124" y="640"/>
                      </a:lnTo>
                      <a:lnTo>
                        <a:pt x="128" y="629"/>
                      </a:lnTo>
                      <a:lnTo>
                        <a:pt x="129" y="617"/>
                      </a:lnTo>
                      <a:lnTo>
                        <a:pt x="131" y="607"/>
                      </a:lnTo>
                      <a:lnTo>
                        <a:pt x="134" y="595"/>
                      </a:lnTo>
                      <a:lnTo>
                        <a:pt x="136" y="584"/>
                      </a:lnTo>
                      <a:lnTo>
                        <a:pt x="137" y="572"/>
                      </a:lnTo>
                      <a:lnTo>
                        <a:pt x="138" y="562"/>
                      </a:lnTo>
                      <a:lnTo>
                        <a:pt x="141" y="550"/>
                      </a:lnTo>
                      <a:lnTo>
                        <a:pt x="143" y="539"/>
                      </a:lnTo>
                      <a:lnTo>
                        <a:pt x="144" y="526"/>
                      </a:lnTo>
                      <a:lnTo>
                        <a:pt x="146" y="515"/>
                      </a:lnTo>
                      <a:lnTo>
                        <a:pt x="147" y="503"/>
                      </a:lnTo>
                      <a:lnTo>
                        <a:pt x="149" y="492"/>
                      </a:lnTo>
                      <a:lnTo>
                        <a:pt x="150" y="480"/>
                      </a:lnTo>
                      <a:lnTo>
                        <a:pt x="151" y="468"/>
                      </a:lnTo>
                      <a:lnTo>
                        <a:pt x="153" y="456"/>
                      </a:lnTo>
                      <a:lnTo>
                        <a:pt x="154" y="443"/>
                      </a:lnTo>
                      <a:lnTo>
                        <a:pt x="154" y="430"/>
                      </a:lnTo>
                      <a:lnTo>
                        <a:pt x="156" y="418"/>
                      </a:lnTo>
                      <a:lnTo>
                        <a:pt x="156" y="405"/>
                      </a:lnTo>
                      <a:lnTo>
                        <a:pt x="156" y="393"/>
                      </a:lnTo>
                      <a:lnTo>
                        <a:pt x="157" y="380"/>
                      </a:lnTo>
                      <a:lnTo>
                        <a:pt x="157" y="367"/>
                      </a:lnTo>
                      <a:lnTo>
                        <a:pt x="159" y="354"/>
                      </a:lnTo>
                      <a:lnTo>
                        <a:pt x="159" y="342"/>
                      </a:lnTo>
                      <a:lnTo>
                        <a:pt x="159" y="328"/>
                      </a:lnTo>
                      <a:lnTo>
                        <a:pt x="159" y="315"/>
                      </a:lnTo>
                      <a:lnTo>
                        <a:pt x="159" y="302"/>
                      </a:lnTo>
                      <a:lnTo>
                        <a:pt x="159" y="289"/>
                      </a:lnTo>
                      <a:lnTo>
                        <a:pt x="159" y="274"/>
                      </a:lnTo>
                      <a:lnTo>
                        <a:pt x="159" y="260"/>
                      </a:lnTo>
                      <a:lnTo>
                        <a:pt x="159" y="248"/>
                      </a:lnTo>
                      <a:lnTo>
                        <a:pt x="159" y="234"/>
                      </a:lnTo>
                      <a:lnTo>
                        <a:pt x="159" y="220"/>
                      </a:lnTo>
                      <a:lnTo>
                        <a:pt x="159" y="205"/>
                      </a:lnTo>
                      <a:lnTo>
                        <a:pt x="157" y="191"/>
                      </a:lnTo>
                      <a:lnTo>
                        <a:pt x="157" y="177"/>
                      </a:lnTo>
                      <a:lnTo>
                        <a:pt x="156" y="163"/>
                      </a:lnTo>
                      <a:lnTo>
                        <a:pt x="156" y="148"/>
                      </a:lnTo>
                      <a:lnTo>
                        <a:pt x="154" y="134"/>
                      </a:lnTo>
                      <a:lnTo>
                        <a:pt x="154" y="120"/>
                      </a:lnTo>
                      <a:lnTo>
                        <a:pt x="153" y="105"/>
                      </a:lnTo>
                      <a:lnTo>
                        <a:pt x="151" y="90"/>
                      </a:lnTo>
                      <a:lnTo>
                        <a:pt x="151" y="76"/>
                      </a:lnTo>
                      <a:lnTo>
                        <a:pt x="149" y="61"/>
                      </a:lnTo>
                      <a:lnTo>
                        <a:pt x="148" y="45"/>
                      </a:lnTo>
                      <a:lnTo>
                        <a:pt x="147" y="30"/>
                      </a:lnTo>
                      <a:lnTo>
                        <a:pt x="146" y="1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Freeform 43"/>
                <p:cNvSpPr/>
                <p:nvPr/>
              </p:nvSpPr>
              <p:spPr>
                <a:xfrm>
                  <a:off x="7257960" y="1938600"/>
                  <a:ext cx="504360" cy="4269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954" h="808">
                      <a:moveTo>
                        <a:pt x="932" y="710"/>
                      </a:moveTo>
                      <a:lnTo>
                        <a:pt x="916" y="711"/>
                      </a:lnTo>
                      <a:lnTo>
                        <a:pt x="899" y="711"/>
                      </a:lnTo>
                      <a:lnTo>
                        <a:pt x="882" y="712"/>
                      </a:lnTo>
                      <a:lnTo>
                        <a:pt x="865" y="712"/>
                      </a:lnTo>
                      <a:lnTo>
                        <a:pt x="849" y="713"/>
                      </a:lnTo>
                      <a:lnTo>
                        <a:pt x="832" y="714"/>
                      </a:lnTo>
                      <a:lnTo>
                        <a:pt x="814" y="714"/>
                      </a:lnTo>
                      <a:lnTo>
                        <a:pt x="799" y="716"/>
                      </a:lnTo>
                      <a:lnTo>
                        <a:pt x="782" y="716"/>
                      </a:lnTo>
                      <a:lnTo>
                        <a:pt x="764" y="717"/>
                      </a:lnTo>
                      <a:lnTo>
                        <a:pt x="748" y="717"/>
                      </a:lnTo>
                      <a:lnTo>
                        <a:pt x="731" y="717"/>
                      </a:lnTo>
                      <a:lnTo>
                        <a:pt x="715" y="717"/>
                      </a:lnTo>
                      <a:lnTo>
                        <a:pt x="698" y="718"/>
                      </a:lnTo>
                      <a:lnTo>
                        <a:pt x="681" y="718"/>
                      </a:lnTo>
                      <a:lnTo>
                        <a:pt x="666" y="719"/>
                      </a:lnTo>
                      <a:lnTo>
                        <a:pt x="648" y="719"/>
                      </a:lnTo>
                      <a:lnTo>
                        <a:pt x="633" y="720"/>
                      </a:lnTo>
                      <a:lnTo>
                        <a:pt x="615" y="720"/>
                      </a:lnTo>
                      <a:lnTo>
                        <a:pt x="600" y="720"/>
                      </a:lnTo>
                      <a:lnTo>
                        <a:pt x="583" y="720"/>
                      </a:lnTo>
                      <a:lnTo>
                        <a:pt x="566" y="720"/>
                      </a:lnTo>
                      <a:lnTo>
                        <a:pt x="552" y="720"/>
                      </a:lnTo>
                      <a:lnTo>
                        <a:pt x="535" y="721"/>
                      </a:lnTo>
                      <a:lnTo>
                        <a:pt x="520" y="721"/>
                      </a:lnTo>
                      <a:lnTo>
                        <a:pt x="503" y="721"/>
                      </a:lnTo>
                      <a:lnTo>
                        <a:pt x="488" y="721"/>
                      </a:lnTo>
                      <a:lnTo>
                        <a:pt x="474" y="721"/>
                      </a:lnTo>
                      <a:lnTo>
                        <a:pt x="458" y="721"/>
                      </a:lnTo>
                      <a:lnTo>
                        <a:pt x="444" y="721"/>
                      </a:lnTo>
                      <a:lnTo>
                        <a:pt x="430" y="721"/>
                      </a:lnTo>
                      <a:lnTo>
                        <a:pt x="414" y="721"/>
                      </a:lnTo>
                      <a:lnTo>
                        <a:pt x="400" y="721"/>
                      </a:lnTo>
                      <a:lnTo>
                        <a:pt x="387" y="720"/>
                      </a:lnTo>
                      <a:lnTo>
                        <a:pt x="372" y="720"/>
                      </a:lnTo>
                      <a:lnTo>
                        <a:pt x="359" y="720"/>
                      </a:lnTo>
                      <a:lnTo>
                        <a:pt x="346" y="720"/>
                      </a:lnTo>
                      <a:lnTo>
                        <a:pt x="333" y="719"/>
                      </a:lnTo>
                      <a:lnTo>
                        <a:pt x="320" y="719"/>
                      </a:lnTo>
                      <a:lnTo>
                        <a:pt x="308" y="719"/>
                      </a:lnTo>
                      <a:lnTo>
                        <a:pt x="295" y="718"/>
                      </a:lnTo>
                      <a:lnTo>
                        <a:pt x="283" y="717"/>
                      </a:lnTo>
                      <a:lnTo>
                        <a:pt x="271" y="717"/>
                      </a:lnTo>
                      <a:lnTo>
                        <a:pt x="260" y="717"/>
                      </a:lnTo>
                      <a:lnTo>
                        <a:pt x="248" y="716"/>
                      </a:lnTo>
                      <a:lnTo>
                        <a:pt x="238" y="714"/>
                      </a:lnTo>
                      <a:lnTo>
                        <a:pt x="228" y="714"/>
                      </a:lnTo>
                      <a:lnTo>
                        <a:pt x="219" y="714"/>
                      </a:lnTo>
                      <a:lnTo>
                        <a:pt x="208" y="713"/>
                      </a:lnTo>
                      <a:lnTo>
                        <a:pt x="200" y="712"/>
                      </a:lnTo>
                      <a:lnTo>
                        <a:pt x="190" y="711"/>
                      </a:lnTo>
                      <a:lnTo>
                        <a:pt x="182" y="711"/>
                      </a:lnTo>
                      <a:lnTo>
                        <a:pt x="174" y="710"/>
                      </a:lnTo>
                      <a:lnTo>
                        <a:pt x="166" y="708"/>
                      </a:lnTo>
                      <a:lnTo>
                        <a:pt x="159" y="707"/>
                      </a:lnTo>
                      <a:lnTo>
                        <a:pt x="152" y="707"/>
                      </a:lnTo>
                      <a:lnTo>
                        <a:pt x="145" y="705"/>
                      </a:lnTo>
                      <a:lnTo>
                        <a:pt x="139" y="705"/>
                      </a:lnTo>
                      <a:lnTo>
                        <a:pt x="134" y="702"/>
                      </a:lnTo>
                      <a:lnTo>
                        <a:pt x="128" y="702"/>
                      </a:lnTo>
                      <a:lnTo>
                        <a:pt x="125" y="700"/>
                      </a:lnTo>
                      <a:lnTo>
                        <a:pt x="120" y="699"/>
                      </a:lnTo>
                      <a:lnTo>
                        <a:pt x="117" y="698"/>
                      </a:lnTo>
                      <a:lnTo>
                        <a:pt x="114" y="697"/>
                      </a:lnTo>
                      <a:lnTo>
                        <a:pt x="113" y="693"/>
                      </a:lnTo>
                      <a:lnTo>
                        <a:pt x="111" y="689"/>
                      </a:lnTo>
                      <a:lnTo>
                        <a:pt x="110" y="687"/>
                      </a:lnTo>
                      <a:lnTo>
                        <a:pt x="108" y="682"/>
                      </a:lnTo>
                      <a:lnTo>
                        <a:pt x="107" y="678"/>
                      </a:lnTo>
                      <a:lnTo>
                        <a:pt x="106" y="674"/>
                      </a:lnTo>
                      <a:lnTo>
                        <a:pt x="105" y="668"/>
                      </a:lnTo>
                      <a:lnTo>
                        <a:pt x="104" y="663"/>
                      </a:lnTo>
                      <a:lnTo>
                        <a:pt x="102" y="656"/>
                      </a:lnTo>
                      <a:lnTo>
                        <a:pt x="101" y="650"/>
                      </a:lnTo>
                      <a:lnTo>
                        <a:pt x="101" y="644"/>
                      </a:lnTo>
                      <a:lnTo>
                        <a:pt x="100" y="636"/>
                      </a:lnTo>
                      <a:lnTo>
                        <a:pt x="99" y="629"/>
                      </a:lnTo>
                      <a:lnTo>
                        <a:pt x="99" y="622"/>
                      </a:lnTo>
                      <a:lnTo>
                        <a:pt x="98" y="613"/>
                      </a:lnTo>
                      <a:lnTo>
                        <a:pt x="96" y="606"/>
                      </a:lnTo>
                      <a:lnTo>
                        <a:pt x="95" y="597"/>
                      </a:lnTo>
                      <a:lnTo>
                        <a:pt x="95" y="589"/>
                      </a:lnTo>
                      <a:lnTo>
                        <a:pt x="94" y="578"/>
                      </a:lnTo>
                      <a:lnTo>
                        <a:pt x="93" y="570"/>
                      </a:lnTo>
                      <a:lnTo>
                        <a:pt x="93" y="559"/>
                      </a:lnTo>
                      <a:lnTo>
                        <a:pt x="92" y="549"/>
                      </a:lnTo>
                      <a:lnTo>
                        <a:pt x="91" y="540"/>
                      </a:lnTo>
                      <a:lnTo>
                        <a:pt x="91" y="529"/>
                      </a:lnTo>
                      <a:lnTo>
                        <a:pt x="91" y="517"/>
                      </a:lnTo>
                      <a:lnTo>
                        <a:pt x="89" y="507"/>
                      </a:lnTo>
                      <a:lnTo>
                        <a:pt x="89" y="496"/>
                      </a:lnTo>
                      <a:lnTo>
                        <a:pt x="89" y="484"/>
                      </a:lnTo>
                      <a:lnTo>
                        <a:pt x="88" y="473"/>
                      </a:lnTo>
                      <a:lnTo>
                        <a:pt x="88" y="462"/>
                      </a:lnTo>
                      <a:lnTo>
                        <a:pt x="88" y="450"/>
                      </a:lnTo>
                      <a:lnTo>
                        <a:pt x="88" y="438"/>
                      </a:lnTo>
                      <a:lnTo>
                        <a:pt x="87" y="425"/>
                      </a:lnTo>
                      <a:lnTo>
                        <a:pt x="87" y="413"/>
                      </a:lnTo>
                      <a:lnTo>
                        <a:pt x="86" y="400"/>
                      </a:lnTo>
                      <a:lnTo>
                        <a:pt x="86" y="388"/>
                      </a:lnTo>
                      <a:lnTo>
                        <a:pt x="86" y="374"/>
                      </a:lnTo>
                      <a:lnTo>
                        <a:pt x="86" y="361"/>
                      </a:lnTo>
                      <a:lnTo>
                        <a:pt x="86" y="348"/>
                      </a:lnTo>
                      <a:lnTo>
                        <a:pt x="86" y="334"/>
                      </a:lnTo>
                      <a:lnTo>
                        <a:pt x="85" y="320"/>
                      </a:lnTo>
                      <a:lnTo>
                        <a:pt x="85" y="307"/>
                      </a:lnTo>
                      <a:lnTo>
                        <a:pt x="85" y="294"/>
                      </a:lnTo>
                      <a:lnTo>
                        <a:pt x="85" y="280"/>
                      </a:lnTo>
                      <a:lnTo>
                        <a:pt x="85" y="267"/>
                      </a:lnTo>
                      <a:lnTo>
                        <a:pt x="85" y="253"/>
                      </a:lnTo>
                      <a:lnTo>
                        <a:pt x="85" y="238"/>
                      </a:lnTo>
                      <a:lnTo>
                        <a:pt x="86" y="226"/>
                      </a:lnTo>
                      <a:lnTo>
                        <a:pt x="86" y="211"/>
                      </a:lnTo>
                      <a:lnTo>
                        <a:pt x="86" y="198"/>
                      </a:lnTo>
                      <a:lnTo>
                        <a:pt x="86" y="184"/>
                      </a:lnTo>
                      <a:lnTo>
                        <a:pt x="86" y="169"/>
                      </a:lnTo>
                      <a:lnTo>
                        <a:pt x="86" y="155"/>
                      </a:lnTo>
                      <a:lnTo>
                        <a:pt x="86" y="141"/>
                      </a:lnTo>
                      <a:lnTo>
                        <a:pt x="86" y="127"/>
                      </a:lnTo>
                      <a:lnTo>
                        <a:pt x="87" y="114"/>
                      </a:lnTo>
                      <a:lnTo>
                        <a:pt x="87" y="99"/>
                      </a:lnTo>
                      <a:lnTo>
                        <a:pt x="87" y="85"/>
                      </a:lnTo>
                      <a:lnTo>
                        <a:pt x="87" y="71"/>
                      </a:lnTo>
                      <a:lnTo>
                        <a:pt x="88" y="58"/>
                      </a:lnTo>
                      <a:lnTo>
                        <a:pt x="88" y="44"/>
                      </a:lnTo>
                      <a:lnTo>
                        <a:pt x="88" y="31"/>
                      </a:lnTo>
                      <a:lnTo>
                        <a:pt x="89" y="18"/>
                      </a:lnTo>
                      <a:lnTo>
                        <a:pt x="91" y="4"/>
                      </a:lnTo>
                      <a:lnTo>
                        <a:pt x="88" y="2"/>
                      </a:lnTo>
                      <a:lnTo>
                        <a:pt x="86" y="1"/>
                      </a:lnTo>
                      <a:lnTo>
                        <a:pt x="83" y="1"/>
                      </a:lnTo>
                      <a:lnTo>
                        <a:pt x="81" y="1"/>
                      </a:lnTo>
                      <a:lnTo>
                        <a:pt x="79" y="1"/>
                      </a:lnTo>
                      <a:lnTo>
                        <a:pt x="76" y="1"/>
                      </a:lnTo>
                      <a:lnTo>
                        <a:pt x="73" y="0"/>
                      </a:lnTo>
                      <a:lnTo>
                        <a:pt x="69" y="0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50" y="1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38" y="1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2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3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3" y="46"/>
                      </a:lnTo>
                      <a:lnTo>
                        <a:pt x="3" y="50"/>
                      </a:lnTo>
                      <a:lnTo>
                        <a:pt x="3" y="53"/>
                      </a:lnTo>
                      <a:lnTo>
                        <a:pt x="3" y="58"/>
                      </a:lnTo>
                      <a:lnTo>
                        <a:pt x="3" y="61"/>
                      </a:lnTo>
                      <a:lnTo>
                        <a:pt x="3" y="66"/>
                      </a:lnTo>
                      <a:lnTo>
                        <a:pt x="3" y="72"/>
                      </a:lnTo>
                      <a:lnTo>
                        <a:pt x="2" y="77"/>
                      </a:lnTo>
                      <a:lnTo>
                        <a:pt x="2" y="82"/>
                      </a:lnTo>
                      <a:lnTo>
                        <a:pt x="2" y="86"/>
                      </a:lnTo>
                      <a:lnTo>
                        <a:pt x="2" y="92"/>
                      </a:lnTo>
                      <a:lnTo>
                        <a:pt x="2" y="98"/>
                      </a:lnTo>
                      <a:lnTo>
                        <a:pt x="2" y="104"/>
                      </a:lnTo>
                      <a:lnTo>
                        <a:pt x="2" y="110"/>
                      </a:lnTo>
                      <a:lnTo>
                        <a:pt x="2" y="117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0" y="134"/>
                      </a:lnTo>
                      <a:lnTo>
                        <a:pt x="0" y="141"/>
                      </a:lnTo>
                      <a:lnTo>
                        <a:pt x="0" y="147"/>
                      </a:lnTo>
                      <a:lnTo>
                        <a:pt x="0" y="154"/>
                      </a:lnTo>
                      <a:lnTo>
                        <a:pt x="0" y="160"/>
                      </a:lnTo>
                      <a:lnTo>
                        <a:pt x="0" y="167"/>
                      </a:lnTo>
                      <a:lnTo>
                        <a:pt x="0" y="174"/>
                      </a:lnTo>
                      <a:lnTo>
                        <a:pt x="0" y="181"/>
                      </a:lnTo>
                      <a:lnTo>
                        <a:pt x="0" y="188"/>
                      </a:lnTo>
                      <a:lnTo>
                        <a:pt x="0" y="196"/>
                      </a:lnTo>
                      <a:lnTo>
                        <a:pt x="0" y="203"/>
                      </a:lnTo>
                      <a:lnTo>
                        <a:pt x="0" y="210"/>
                      </a:lnTo>
                      <a:lnTo>
                        <a:pt x="0" y="218"/>
                      </a:lnTo>
                      <a:lnTo>
                        <a:pt x="0" y="225"/>
                      </a:lnTo>
                      <a:lnTo>
                        <a:pt x="0" y="232"/>
                      </a:lnTo>
                      <a:lnTo>
                        <a:pt x="0" y="240"/>
                      </a:lnTo>
                      <a:lnTo>
                        <a:pt x="0" y="247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0" y="269"/>
                      </a:lnTo>
                      <a:lnTo>
                        <a:pt x="0" y="278"/>
                      </a:lnTo>
                      <a:lnTo>
                        <a:pt x="0" y="286"/>
                      </a:lnTo>
                      <a:lnTo>
                        <a:pt x="0" y="293"/>
                      </a:lnTo>
                      <a:lnTo>
                        <a:pt x="0" y="301"/>
                      </a:lnTo>
                      <a:lnTo>
                        <a:pt x="0" y="308"/>
                      </a:lnTo>
                      <a:lnTo>
                        <a:pt x="0" y="317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40"/>
                      </a:lnTo>
                      <a:lnTo>
                        <a:pt x="0" y="349"/>
                      </a:lnTo>
                      <a:lnTo>
                        <a:pt x="0" y="364"/>
                      </a:lnTo>
                      <a:lnTo>
                        <a:pt x="0" y="381"/>
                      </a:lnTo>
                      <a:lnTo>
                        <a:pt x="0" y="395"/>
                      </a:lnTo>
                      <a:lnTo>
                        <a:pt x="0" y="410"/>
                      </a:lnTo>
                      <a:lnTo>
                        <a:pt x="0" y="424"/>
                      </a:lnTo>
                      <a:lnTo>
                        <a:pt x="2" y="439"/>
                      </a:lnTo>
                      <a:lnTo>
                        <a:pt x="2" y="452"/>
                      </a:lnTo>
                      <a:lnTo>
                        <a:pt x="3" y="465"/>
                      </a:lnTo>
                      <a:lnTo>
                        <a:pt x="3" y="478"/>
                      </a:lnTo>
                      <a:lnTo>
                        <a:pt x="3" y="490"/>
                      </a:lnTo>
                      <a:lnTo>
                        <a:pt x="3" y="502"/>
                      </a:lnTo>
                      <a:lnTo>
                        <a:pt x="4" y="514"/>
                      </a:lnTo>
                      <a:lnTo>
                        <a:pt x="4" y="524"/>
                      </a:lnTo>
                      <a:lnTo>
                        <a:pt x="5" y="535"/>
                      </a:lnTo>
                      <a:lnTo>
                        <a:pt x="5" y="546"/>
                      </a:lnTo>
                      <a:lnTo>
                        <a:pt x="6" y="556"/>
                      </a:lnTo>
                      <a:lnTo>
                        <a:pt x="6" y="565"/>
                      </a:lnTo>
                      <a:lnTo>
                        <a:pt x="7" y="575"/>
                      </a:lnTo>
                      <a:lnTo>
                        <a:pt x="7" y="584"/>
                      </a:lnTo>
                      <a:lnTo>
                        <a:pt x="9" y="593"/>
                      </a:lnTo>
                      <a:lnTo>
                        <a:pt x="10" y="600"/>
                      </a:lnTo>
                      <a:lnTo>
                        <a:pt x="10" y="609"/>
                      </a:lnTo>
                      <a:lnTo>
                        <a:pt x="11" y="617"/>
                      </a:lnTo>
                      <a:lnTo>
                        <a:pt x="12" y="625"/>
                      </a:lnTo>
                      <a:lnTo>
                        <a:pt x="12" y="631"/>
                      </a:lnTo>
                      <a:lnTo>
                        <a:pt x="13" y="638"/>
                      </a:lnTo>
                      <a:lnTo>
                        <a:pt x="15" y="646"/>
                      </a:lnTo>
                      <a:lnTo>
                        <a:pt x="15" y="651"/>
                      </a:lnTo>
                      <a:lnTo>
                        <a:pt x="16" y="657"/>
                      </a:lnTo>
                      <a:lnTo>
                        <a:pt x="17" y="663"/>
                      </a:lnTo>
                      <a:lnTo>
                        <a:pt x="17" y="669"/>
                      </a:lnTo>
                      <a:lnTo>
                        <a:pt x="19" y="674"/>
                      </a:lnTo>
                      <a:lnTo>
                        <a:pt x="21" y="679"/>
                      </a:lnTo>
                      <a:lnTo>
                        <a:pt x="21" y="685"/>
                      </a:lnTo>
                      <a:lnTo>
                        <a:pt x="22" y="689"/>
                      </a:lnTo>
                      <a:lnTo>
                        <a:pt x="23" y="693"/>
                      </a:lnTo>
                      <a:lnTo>
                        <a:pt x="23" y="697"/>
                      </a:lnTo>
                      <a:lnTo>
                        <a:pt x="25" y="701"/>
                      </a:lnTo>
                      <a:lnTo>
                        <a:pt x="25" y="705"/>
                      </a:lnTo>
                      <a:lnTo>
                        <a:pt x="26" y="708"/>
                      </a:lnTo>
                      <a:lnTo>
                        <a:pt x="28" y="712"/>
                      </a:lnTo>
                      <a:lnTo>
                        <a:pt x="28" y="714"/>
                      </a:lnTo>
                      <a:lnTo>
                        <a:pt x="29" y="718"/>
                      </a:lnTo>
                      <a:lnTo>
                        <a:pt x="30" y="720"/>
                      </a:lnTo>
                      <a:lnTo>
                        <a:pt x="30" y="723"/>
                      </a:lnTo>
                      <a:lnTo>
                        <a:pt x="32" y="726"/>
                      </a:lnTo>
                      <a:lnTo>
                        <a:pt x="32" y="729"/>
                      </a:lnTo>
                      <a:lnTo>
                        <a:pt x="34" y="731"/>
                      </a:lnTo>
                      <a:lnTo>
                        <a:pt x="35" y="735"/>
                      </a:lnTo>
                      <a:lnTo>
                        <a:pt x="37" y="738"/>
                      </a:lnTo>
                      <a:lnTo>
                        <a:pt x="38" y="740"/>
                      </a:lnTo>
                      <a:lnTo>
                        <a:pt x="41" y="744"/>
                      </a:lnTo>
                      <a:lnTo>
                        <a:pt x="43" y="749"/>
                      </a:lnTo>
                      <a:lnTo>
                        <a:pt x="48" y="752"/>
                      </a:lnTo>
                      <a:lnTo>
                        <a:pt x="50" y="757"/>
                      </a:lnTo>
                      <a:lnTo>
                        <a:pt x="55" y="762"/>
                      </a:lnTo>
                      <a:lnTo>
                        <a:pt x="56" y="763"/>
                      </a:lnTo>
                      <a:lnTo>
                        <a:pt x="61" y="765"/>
                      </a:lnTo>
                      <a:lnTo>
                        <a:pt x="63" y="768"/>
                      </a:lnTo>
                      <a:lnTo>
                        <a:pt x="68" y="771"/>
                      </a:lnTo>
                      <a:lnTo>
                        <a:pt x="70" y="773"/>
                      </a:lnTo>
                      <a:lnTo>
                        <a:pt x="73" y="774"/>
                      </a:lnTo>
                      <a:lnTo>
                        <a:pt x="75" y="775"/>
                      </a:lnTo>
                      <a:lnTo>
                        <a:pt x="79" y="775"/>
                      </a:lnTo>
                      <a:lnTo>
                        <a:pt x="81" y="777"/>
                      </a:lnTo>
                      <a:lnTo>
                        <a:pt x="85" y="778"/>
                      </a:lnTo>
                      <a:lnTo>
                        <a:pt x="88" y="780"/>
                      </a:lnTo>
                      <a:lnTo>
                        <a:pt x="92" y="781"/>
                      </a:lnTo>
                      <a:lnTo>
                        <a:pt x="96" y="782"/>
                      </a:lnTo>
                      <a:lnTo>
                        <a:pt x="100" y="783"/>
                      </a:lnTo>
                      <a:lnTo>
                        <a:pt x="105" y="784"/>
                      </a:lnTo>
                      <a:lnTo>
                        <a:pt x="110" y="786"/>
                      </a:lnTo>
                      <a:lnTo>
                        <a:pt x="114" y="786"/>
                      </a:lnTo>
                      <a:lnTo>
                        <a:pt x="119" y="788"/>
                      </a:lnTo>
                      <a:lnTo>
                        <a:pt x="125" y="788"/>
                      </a:lnTo>
                      <a:lnTo>
                        <a:pt x="131" y="790"/>
                      </a:lnTo>
                      <a:lnTo>
                        <a:pt x="137" y="790"/>
                      </a:lnTo>
                      <a:lnTo>
                        <a:pt x="144" y="793"/>
                      </a:lnTo>
                      <a:lnTo>
                        <a:pt x="150" y="793"/>
                      </a:lnTo>
                      <a:lnTo>
                        <a:pt x="157" y="794"/>
                      </a:lnTo>
                      <a:lnTo>
                        <a:pt x="164" y="795"/>
                      </a:lnTo>
                      <a:lnTo>
                        <a:pt x="172" y="796"/>
                      </a:lnTo>
                      <a:lnTo>
                        <a:pt x="181" y="796"/>
                      </a:lnTo>
                      <a:lnTo>
                        <a:pt x="190" y="799"/>
                      </a:lnTo>
                      <a:lnTo>
                        <a:pt x="198" y="799"/>
                      </a:lnTo>
                      <a:lnTo>
                        <a:pt x="208" y="800"/>
                      </a:lnTo>
                      <a:lnTo>
                        <a:pt x="217" y="800"/>
                      </a:lnTo>
                      <a:lnTo>
                        <a:pt x="228" y="801"/>
                      </a:lnTo>
                      <a:lnTo>
                        <a:pt x="238" y="801"/>
                      </a:lnTo>
                      <a:lnTo>
                        <a:pt x="250" y="802"/>
                      </a:lnTo>
                      <a:lnTo>
                        <a:pt x="260" y="803"/>
                      </a:lnTo>
                      <a:lnTo>
                        <a:pt x="273" y="803"/>
                      </a:lnTo>
                      <a:lnTo>
                        <a:pt x="284" y="803"/>
                      </a:lnTo>
                      <a:lnTo>
                        <a:pt x="297" y="805"/>
                      </a:lnTo>
                      <a:lnTo>
                        <a:pt x="310" y="806"/>
                      </a:lnTo>
                      <a:lnTo>
                        <a:pt x="324" y="806"/>
                      </a:lnTo>
                      <a:lnTo>
                        <a:pt x="339" y="806"/>
                      </a:lnTo>
                      <a:lnTo>
                        <a:pt x="352" y="806"/>
                      </a:lnTo>
                      <a:lnTo>
                        <a:pt x="367" y="807"/>
                      </a:lnTo>
                      <a:lnTo>
                        <a:pt x="384" y="808"/>
                      </a:lnTo>
                      <a:lnTo>
                        <a:pt x="399" y="808"/>
                      </a:lnTo>
                      <a:lnTo>
                        <a:pt x="416" y="808"/>
                      </a:lnTo>
                      <a:lnTo>
                        <a:pt x="432" y="808"/>
                      </a:lnTo>
                      <a:lnTo>
                        <a:pt x="451" y="808"/>
                      </a:lnTo>
                      <a:lnTo>
                        <a:pt x="470" y="808"/>
                      </a:lnTo>
                      <a:lnTo>
                        <a:pt x="488" y="808"/>
                      </a:lnTo>
                      <a:lnTo>
                        <a:pt x="508" y="808"/>
                      </a:lnTo>
                      <a:lnTo>
                        <a:pt x="528" y="808"/>
                      </a:lnTo>
                      <a:lnTo>
                        <a:pt x="538" y="808"/>
                      </a:lnTo>
                      <a:lnTo>
                        <a:pt x="546" y="808"/>
                      </a:lnTo>
                      <a:lnTo>
                        <a:pt x="557" y="807"/>
                      </a:lnTo>
                      <a:lnTo>
                        <a:pt x="566" y="807"/>
                      </a:lnTo>
                      <a:lnTo>
                        <a:pt x="575" y="806"/>
                      </a:lnTo>
                      <a:lnTo>
                        <a:pt x="585" y="806"/>
                      </a:lnTo>
                      <a:lnTo>
                        <a:pt x="595" y="806"/>
                      </a:lnTo>
                      <a:lnTo>
                        <a:pt x="604" y="806"/>
                      </a:lnTo>
                      <a:lnTo>
                        <a:pt x="614" y="806"/>
                      </a:lnTo>
                      <a:lnTo>
                        <a:pt x="622" y="806"/>
                      </a:lnTo>
                      <a:lnTo>
                        <a:pt x="632" y="806"/>
                      </a:lnTo>
                      <a:lnTo>
                        <a:pt x="641" y="806"/>
                      </a:lnTo>
                      <a:lnTo>
                        <a:pt x="651" y="806"/>
                      </a:lnTo>
                      <a:lnTo>
                        <a:pt x="660" y="806"/>
                      </a:lnTo>
                      <a:lnTo>
                        <a:pt x="668" y="806"/>
                      </a:lnTo>
                      <a:lnTo>
                        <a:pt x="678" y="806"/>
                      </a:lnTo>
                      <a:lnTo>
                        <a:pt x="686" y="805"/>
                      </a:lnTo>
                      <a:lnTo>
                        <a:pt x="696" y="803"/>
                      </a:lnTo>
                      <a:lnTo>
                        <a:pt x="704" y="803"/>
                      </a:lnTo>
                      <a:lnTo>
                        <a:pt x="713" y="803"/>
                      </a:lnTo>
                      <a:lnTo>
                        <a:pt x="722" y="803"/>
                      </a:lnTo>
                      <a:lnTo>
                        <a:pt x="730" y="803"/>
                      </a:lnTo>
                      <a:lnTo>
                        <a:pt x="738" y="803"/>
                      </a:lnTo>
                      <a:lnTo>
                        <a:pt x="747" y="803"/>
                      </a:lnTo>
                      <a:lnTo>
                        <a:pt x="755" y="802"/>
                      </a:lnTo>
                      <a:lnTo>
                        <a:pt x="763" y="801"/>
                      </a:lnTo>
                      <a:lnTo>
                        <a:pt x="772" y="801"/>
                      </a:lnTo>
                      <a:lnTo>
                        <a:pt x="780" y="801"/>
                      </a:lnTo>
                      <a:lnTo>
                        <a:pt x="787" y="801"/>
                      </a:lnTo>
                      <a:lnTo>
                        <a:pt x="794" y="801"/>
                      </a:lnTo>
                      <a:lnTo>
                        <a:pt x="802" y="801"/>
                      </a:lnTo>
                      <a:lnTo>
                        <a:pt x="810" y="801"/>
                      </a:lnTo>
                      <a:lnTo>
                        <a:pt x="817" y="801"/>
                      </a:lnTo>
                      <a:lnTo>
                        <a:pt x="824" y="800"/>
                      </a:lnTo>
                      <a:lnTo>
                        <a:pt x="830" y="800"/>
                      </a:lnTo>
                      <a:lnTo>
                        <a:pt x="838" y="800"/>
                      </a:lnTo>
                      <a:lnTo>
                        <a:pt x="844" y="799"/>
                      </a:lnTo>
                      <a:lnTo>
                        <a:pt x="850" y="799"/>
                      </a:lnTo>
                      <a:lnTo>
                        <a:pt x="856" y="799"/>
                      </a:lnTo>
                      <a:lnTo>
                        <a:pt x="863" y="799"/>
                      </a:lnTo>
                      <a:lnTo>
                        <a:pt x="868" y="797"/>
                      </a:lnTo>
                      <a:lnTo>
                        <a:pt x="875" y="797"/>
                      </a:lnTo>
                      <a:lnTo>
                        <a:pt x="881" y="797"/>
                      </a:lnTo>
                      <a:lnTo>
                        <a:pt x="885" y="797"/>
                      </a:lnTo>
                      <a:lnTo>
                        <a:pt x="890" y="796"/>
                      </a:lnTo>
                      <a:lnTo>
                        <a:pt x="896" y="796"/>
                      </a:lnTo>
                      <a:lnTo>
                        <a:pt x="901" y="796"/>
                      </a:lnTo>
                      <a:lnTo>
                        <a:pt x="906" y="796"/>
                      </a:lnTo>
                      <a:lnTo>
                        <a:pt x="909" y="796"/>
                      </a:lnTo>
                      <a:lnTo>
                        <a:pt x="914" y="795"/>
                      </a:lnTo>
                      <a:lnTo>
                        <a:pt x="919" y="795"/>
                      </a:lnTo>
                      <a:lnTo>
                        <a:pt x="921" y="795"/>
                      </a:lnTo>
                      <a:lnTo>
                        <a:pt x="925" y="794"/>
                      </a:lnTo>
                      <a:lnTo>
                        <a:pt x="928" y="794"/>
                      </a:lnTo>
                      <a:lnTo>
                        <a:pt x="932" y="794"/>
                      </a:lnTo>
                      <a:lnTo>
                        <a:pt x="935" y="794"/>
                      </a:lnTo>
                      <a:lnTo>
                        <a:pt x="940" y="794"/>
                      </a:lnTo>
                      <a:lnTo>
                        <a:pt x="944" y="794"/>
                      </a:lnTo>
                      <a:lnTo>
                        <a:pt x="947" y="794"/>
                      </a:lnTo>
                      <a:lnTo>
                        <a:pt x="950" y="794"/>
                      </a:lnTo>
                      <a:lnTo>
                        <a:pt x="952" y="793"/>
                      </a:lnTo>
                      <a:lnTo>
                        <a:pt x="954" y="790"/>
                      </a:lnTo>
                      <a:lnTo>
                        <a:pt x="954" y="788"/>
                      </a:lnTo>
                      <a:lnTo>
                        <a:pt x="954" y="786"/>
                      </a:lnTo>
                      <a:lnTo>
                        <a:pt x="954" y="783"/>
                      </a:lnTo>
                      <a:lnTo>
                        <a:pt x="954" y="781"/>
                      </a:lnTo>
                      <a:lnTo>
                        <a:pt x="954" y="777"/>
                      </a:lnTo>
                      <a:lnTo>
                        <a:pt x="953" y="774"/>
                      </a:lnTo>
                      <a:lnTo>
                        <a:pt x="952" y="770"/>
                      </a:lnTo>
                      <a:lnTo>
                        <a:pt x="952" y="767"/>
                      </a:lnTo>
                      <a:lnTo>
                        <a:pt x="951" y="763"/>
                      </a:lnTo>
                      <a:lnTo>
                        <a:pt x="950" y="759"/>
                      </a:lnTo>
                      <a:lnTo>
                        <a:pt x="950" y="755"/>
                      </a:lnTo>
                      <a:lnTo>
                        <a:pt x="948" y="751"/>
                      </a:lnTo>
                      <a:lnTo>
                        <a:pt x="946" y="748"/>
                      </a:lnTo>
                      <a:lnTo>
                        <a:pt x="945" y="743"/>
                      </a:lnTo>
                      <a:lnTo>
                        <a:pt x="944" y="739"/>
                      </a:lnTo>
                      <a:lnTo>
                        <a:pt x="942" y="736"/>
                      </a:lnTo>
                      <a:lnTo>
                        <a:pt x="941" y="732"/>
                      </a:lnTo>
                      <a:lnTo>
                        <a:pt x="939" y="729"/>
                      </a:lnTo>
                      <a:lnTo>
                        <a:pt x="939" y="725"/>
                      </a:lnTo>
                      <a:lnTo>
                        <a:pt x="938" y="723"/>
                      </a:lnTo>
                      <a:lnTo>
                        <a:pt x="937" y="720"/>
                      </a:lnTo>
                      <a:lnTo>
                        <a:pt x="934" y="717"/>
                      </a:lnTo>
                      <a:lnTo>
                        <a:pt x="934" y="714"/>
                      </a:lnTo>
                      <a:lnTo>
                        <a:pt x="934" y="713"/>
                      </a:lnTo>
                      <a:lnTo>
                        <a:pt x="932" y="711"/>
                      </a:lnTo>
                      <a:lnTo>
                        <a:pt x="932" y="71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Freeform 44"/>
                <p:cNvSpPr/>
                <p:nvPr/>
              </p:nvSpPr>
              <p:spPr>
                <a:xfrm>
                  <a:off x="7359480" y="1990800"/>
                  <a:ext cx="320400" cy="61920"/>
                </a:xfrm>
                <a:custGeom>
                  <a:avLst/>
                  <a:gdLst>
                    <a:gd name="textAreaLeft" fmla="*/ 0 w 320400"/>
                    <a:gd name="textAreaRight" fmla="*/ 320760 w 3204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05" h="119">
                      <a:moveTo>
                        <a:pt x="0" y="34"/>
                      </a:moveTo>
                      <a:lnTo>
                        <a:pt x="14" y="119"/>
                      </a:lnTo>
                      <a:lnTo>
                        <a:pt x="23" y="117"/>
                      </a:lnTo>
                      <a:lnTo>
                        <a:pt x="34" y="114"/>
                      </a:lnTo>
                      <a:lnTo>
                        <a:pt x="42" y="112"/>
                      </a:lnTo>
                      <a:lnTo>
                        <a:pt x="52" y="111"/>
                      </a:lnTo>
                      <a:lnTo>
                        <a:pt x="62" y="110"/>
                      </a:lnTo>
                      <a:lnTo>
                        <a:pt x="72" y="108"/>
                      </a:lnTo>
                      <a:lnTo>
                        <a:pt x="80" y="106"/>
                      </a:lnTo>
                      <a:lnTo>
                        <a:pt x="91" y="105"/>
                      </a:lnTo>
                      <a:lnTo>
                        <a:pt x="100" y="104"/>
                      </a:lnTo>
                      <a:lnTo>
                        <a:pt x="110" y="101"/>
                      </a:lnTo>
                      <a:lnTo>
                        <a:pt x="119" y="101"/>
                      </a:lnTo>
                      <a:lnTo>
                        <a:pt x="129" y="99"/>
                      </a:lnTo>
                      <a:lnTo>
                        <a:pt x="138" y="98"/>
                      </a:lnTo>
                      <a:lnTo>
                        <a:pt x="148" y="97"/>
                      </a:lnTo>
                      <a:lnTo>
                        <a:pt x="156" y="97"/>
                      </a:lnTo>
                      <a:lnTo>
                        <a:pt x="166" y="95"/>
                      </a:lnTo>
                      <a:lnTo>
                        <a:pt x="176" y="94"/>
                      </a:lnTo>
                      <a:lnTo>
                        <a:pt x="185" y="94"/>
                      </a:lnTo>
                      <a:lnTo>
                        <a:pt x="194" y="93"/>
                      </a:lnTo>
                      <a:lnTo>
                        <a:pt x="204" y="92"/>
                      </a:lnTo>
                      <a:lnTo>
                        <a:pt x="212" y="92"/>
                      </a:lnTo>
                      <a:lnTo>
                        <a:pt x="221" y="91"/>
                      </a:lnTo>
                      <a:lnTo>
                        <a:pt x="231" y="89"/>
                      </a:lnTo>
                      <a:lnTo>
                        <a:pt x="239" y="89"/>
                      </a:lnTo>
                      <a:lnTo>
                        <a:pt x="249" y="89"/>
                      </a:lnTo>
                      <a:lnTo>
                        <a:pt x="257" y="88"/>
                      </a:lnTo>
                      <a:lnTo>
                        <a:pt x="268" y="88"/>
                      </a:lnTo>
                      <a:lnTo>
                        <a:pt x="276" y="88"/>
                      </a:lnTo>
                      <a:lnTo>
                        <a:pt x="286" y="87"/>
                      </a:lnTo>
                      <a:lnTo>
                        <a:pt x="294" y="87"/>
                      </a:lnTo>
                      <a:lnTo>
                        <a:pt x="303" y="87"/>
                      </a:lnTo>
                      <a:lnTo>
                        <a:pt x="313" y="87"/>
                      </a:lnTo>
                      <a:lnTo>
                        <a:pt x="321" y="86"/>
                      </a:lnTo>
                      <a:lnTo>
                        <a:pt x="329" y="86"/>
                      </a:lnTo>
                      <a:lnTo>
                        <a:pt x="339" y="86"/>
                      </a:lnTo>
                      <a:lnTo>
                        <a:pt x="347" y="86"/>
                      </a:lnTo>
                      <a:lnTo>
                        <a:pt x="356" y="86"/>
                      </a:lnTo>
                      <a:lnTo>
                        <a:pt x="365" y="86"/>
                      </a:lnTo>
                      <a:lnTo>
                        <a:pt x="373" y="86"/>
                      </a:lnTo>
                      <a:lnTo>
                        <a:pt x="383" y="87"/>
                      </a:lnTo>
                      <a:lnTo>
                        <a:pt x="391" y="87"/>
                      </a:lnTo>
                      <a:lnTo>
                        <a:pt x="399" y="88"/>
                      </a:lnTo>
                      <a:lnTo>
                        <a:pt x="409" y="88"/>
                      </a:lnTo>
                      <a:lnTo>
                        <a:pt x="417" y="89"/>
                      </a:lnTo>
                      <a:lnTo>
                        <a:pt x="427" y="89"/>
                      </a:lnTo>
                      <a:lnTo>
                        <a:pt x="435" y="91"/>
                      </a:lnTo>
                      <a:lnTo>
                        <a:pt x="443" y="91"/>
                      </a:lnTo>
                      <a:lnTo>
                        <a:pt x="453" y="92"/>
                      </a:lnTo>
                      <a:lnTo>
                        <a:pt x="461" y="92"/>
                      </a:lnTo>
                      <a:lnTo>
                        <a:pt x="469" y="93"/>
                      </a:lnTo>
                      <a:lnTo>
                        <a:pt x="478" y="94"/>
                      </a:lnTo>
                      <a:lnTo>
                        <a:pt x="487" y="95"/>
                      </a:lnTo>
                      <a:lnTo>
                        <a:pt x="496" y="97"/>
                      </a:lnTo>
                      <a:lnTo>
                        <a:pt x="503" y="97"/>
                      </a:lnTo>
                      <a:lnTo>
                        <a:pt x="512" y="98"/>
                      </a:lnTo>
                      <a:lnTo>
                        <a:pt x="520" y="99"/>
                      </a:lnTo>
                      <a:lnTo>
                        <a:pt x="529" y="100"/>
                      </a:lnTo>
                      <a:lnTo>
                        <a:pt x="537" y="101"/>
                      </a:lnTo>
                      <a:lnTo>
                        <a:pt x="545" y="104"/>
                      </a:lnTo>
                      <a:lnTo>
                        <a:pt x="555" y="104"/>
                      </a:lnTo>
                      <a:lnTo>
                        <a:pt x="563" y="106"/>
                      </a:lnTo>
                      <a:lnTo>
                        <a:pt x="571" y="107"/>
                      </a:lnTo>
                      <a:lnTo>
                        <a:pt x="580" y="110"/>
                      </a:lnTo>
                      <a:lnTo>
                        <a:pt x="589" y="111"/>
                      </a:lnTo>
                      <a:lnTo>
                        <a:pt x="605" y="25"/>
                      </a:lnTo>
                      <a:lnTo>
                        <a:pt x="594" y="23"/>
                      </a:lnTo>
                      <a:lnTo>
                        <a:pt x="586" y="22"/>
                      </a:lnTo>
                      <a:lnTo>
                        <a:pt x="576" y="21"/>
                      </a:lnTo>
                      <a:lnTo>
                        <a:pt x="568" y="18"/>
                      </a:lnTo>
                      <a:lnTo>
                        <a:pt x="558" y="18"/>
                      </a:lnTo>
                      <a:lnTo>
                        <a:pt x="550" y="16"/>
                      </a:lnTo>
                      <a:lnTo>
                        <a:pt x="541" y="15"/>
                      </a:lnTo>
                      <a:lnTo>
                        <a:pt x="532" y="14"/>
                      </a:lnTo>
                      <a:lnTo>
                        <a:pt x="523" y="12"/>
                      </a:lnTo>
                      <a:lnTo>
                        <a:pt x="513" y="11"/>
                      </a:lnTo>
                      <a:lnTo>
                        <a:pt x="505" y="10"/>
                      </a:lnTo>
                      <a:lnTo>
                        <a:pt x="496" y="9"/>
                      </a:lnTo>
                      <a:lnTo>
                        <a:pt x="487" y="8"/>
                      </a:lnTo>
                      <a:lnTo>
                        <a:pt x="478" y="8"/>
                      </a:lnTo>
                      <a:lnTo>
                        <a:pt x="468" y="6"/>
                      </a:lnTo>
                      <a:lnTo>
                        <a:pt x="460" y="5"/>
                      </a:lnTo>
                      <a:lnTo>
                        <a:pt x="450" y="4"/>
                      </a:lnTo>
                      <a:lnTo>
                        <a:pt x="441" y="4"/>
                      </a:lnTo>
                      <a:lnTo>
                        <a:pt x="431" y="3"/>
                      </a:lnTo>
                      <a:lnTo>
                        <a:pt x="423" y="3"/>
                      </a:lnTo>
                      <a:lnTo>
                        <a:pt x="414" y="2"/>
                      </a:lnTo>
                      <a:lnTo>
                        <a:pt x="404" y="2"/>
                      </a:lnTo>
                      <a:lnTo>
                        <a:pt x="395" y="0"/>
                      </a:lnTo>
                      <a:lnTo>
                        <a:pt x="386" y="0"/>
                      </a:lnTo>
                      <a:lnTo>
                        <a:pt x="377" y="0"/>
                      </a:lnTo>
                      <a:lnTo>
                        <a:pt x="369" y="0"/>
                      </a:lnTo>
                      <a:lnTo>
                        <a:pt x="359" y="0"/>
                      </a:lnTo>
                      <a:lnTo>
                        <a:pt x="350" y="0"/>
                      </a:lnTo>
                      <a:lnTo>
                        <a:pt x="340" y="0"/>
                      </a:lnTo>
                      <a:lnTo>
                        <a:pt x="331" y="0"/>
                      </a:lnTo>
                      <a:lnTo>
                        <a:pt x="321" y="0"/>
                      </a:lnTo>
                      <a:lnTo>
                        <a:pt x="312" y="0"/>
                      </a:lnTo>
                      <a:lnTo>
                        <a:pt x="302" y="0"/>
                      </a:lnTo>
                      <a:lnTo>
                        <a:pt x="293" y="0"/>
                      </a:lnTo>
                      <a:lnTo>
                        <a:pt x="283" y="0"/>
                      </a:lnTo>
                      <a:lnTo>
                        <a:pt x="274" y="0"/>
                      </a:lnTo>
                      <a:lnTo>
                        <a:pt x="264" y="0"/>
                      </a:lnTo>
                      <a:lnTo>
                        <a:pt x="255" y="2"/>
                      </a:lnTo>
                      <a:lnTo>
                        <a:pt x="245" y="2"/>
                      </a:lnTo>
                      <a:lnTo>
                        <a:pt x="236" y="3"/>
                      </a:lnTo>
                      <a:lnTo>
                        <a:pt x="226" y="3"/>
                      </a:lnTo>
                      <a:lnTo>
                        <a:pt x="217" y="4"/>
                      </a:lnTo>
                      <a:lnTo>
                        <a:pt x="207" y="5"/>
                      </a:lnTo>
                      <a:lnTo>
                        <a:pt x="197" y="5"/>
                      </a:lnTo>
                      <a:lnTo>
                        <a:pt x="187" y="6"/>
                      </a:lnTo>
                      <a:lnTo>
                        <a:pt x="178" y="8"/>
                      </a:lnTo>
                      <a:lnTo>
                        <a:pt x="168" y="8"/>
                      </a:lnTo>
                      <a:lnTo>
                        <a:pt x="159" y="10"/>
                      </a:lnTo>
                      <a:lnTo>
                        <a:pt x="149" y="10"/>
                      </a:lnTo>
                      <a:lnTo>
                        <a:pt x="138" y="11"/>
                      </a:lnTo>
                      <a:lnTo>
                        <a:pt x="128" y="14"/>
                      </a:lnTo>
                      <a:lnTo>
                        <a:pt x="118" y="14"/>
                      </a:lnTo>
                      <a:lnTo>
                        <a:pt x="109" y="16"/>
                      </a:lnTo>
                      <a:lnTo>
                        <a:pt x="99" y="17"/>
                      </a:lnTo>
                      <a:lnTo>
                        <a:pt x="89" y="18"/>
                      </a:lnTo>
                      <a:lnTo>
                        <a:pt x="80" y="19"/>
                      </a:lnTo>
                      <a:lnTo>
                        <a:pt x="70" y="21"/>
                      </a:lnTo>
                      <a:lnTo>
                        <a:pt x="60" y="23"/>
                      </a:lnTo>
                      <a:lnTo>
                        <a:pt x="49" y="24"/>
                      </a:lnTo>
                      <a:lnTo>
                        <a:pt x="40" y="25"/>
                      </a:lnTo>
                      <a:lnTo>
                        <a:pt x="29" y="28"/>
                      </a:lnTo>
                      <a:lnTo>
                        <a:pt x="20" y="29"/>
                      </a:lnTo>
                      <a:lnTo>
                        <a:pt x="9" y="3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Freeform 45"/>
                <p:cNvSpPr/>
                <p:nvPr/>
              </p:nvSpPr>
              <p:spPr>
                <a:xfrm>
                  <a:off x="7246800" y="2376720"/>
                  <a:ext cx="603000" cy="52560"/>
                </a:xfrm>
                <a:custGeom>
                  <a:avLst/>
                  <a:gdLst>
                    <a:gd name="textAreaLeft" fmla="*/ 0 w 603000"/>
                    <a:gd name="textAreaRight" fmla="*/ 603360 w 6030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140" h="99">
                      <a:moveTo>
                        <a:pt x="0" y="13"/>
                      </a:moveTo>
                      <a:lnTo>
                        <a:pt x="3" y="99"/>
                      </a:lnTo>
                      <a:lnTo>
                        <a:pt x="19" y="97"/>
                      </a:lnTo>
                      <a:lnTo>
                        <a:pt x="35" y="97"/>
                      </a:lnTo>
                      <a:lnTo>
                        <a:pt x="52" y="97"/>
                      </a:lnTo>
                      <a:lnTo>
                        <a:pt x="69" y="96"/>
                      </a:lnTo>
                      <a:lnTo>
                        <a:pt x="86" y="94"/>
                      </a:lnTo>
                      <a:lnTo>
                        <a:pt x="102" y="94"/>
                      </a:lnTo>
                      <a:lnTo>
                        <a:pt x="120" y="94"/>
                      </a:lnTo>
                      <a:lnTo>
                        <a:pt x="137" y="94"/>
                      </a:lnTo>
                      <a:lnTo>
                        <a:pt x="154" y="93"/>
                      </a:lnTo>
                      <a:lnTo>
                        <a:pt x="171" y="92"/>
                      </a:lnTo>
                      <a:lnTo>
                        <a:pt x="188" y="92"/>
                      </a:lnTo>
                      <a:lnTo>
                        <a:pt x="204" y="92"/>
                      </a:lnTo>
                      <a:lnTo>
                        <a:pt x="222" y="92"/>
                      </a:lnTo>
                      <a:lnTo>
                        <a:pt x="240" y="91"/>
                      </a:lnTo>
                      <a:lnTo>
                        <a:pt x="256" y="91"/>
                      </a:lnTo>
                      <a:lnTo>
                        <a:pt x="274" y="91"/>
                      </a:lnTo>
                      <a:lnTo>
                        <a:pt x="291" y="90"/>
                      </a:lnTo>
                      <a:lnTo>
                        <a:pt x="309" y="90"/>
                      </a:lnTo>
                      <a:lnTo>
                        <a:pt x="326" y="90"/>
                      </a:lnTo>
                      <a:lnTo>
                        <a:pt x="343" y="90"/>
                      </a:lnTo>
                      <a:lnTo>
                        <a:pt x="361" y="89"/>
                      </a:lnTo>
                      <a:lnTo>
                        <a:pt x="379" y="89"/>
                      </a:lnTo>
                      <a:lnTo>
                        <a:pt x="395" y="87"/>
                      </a:lnTo>
                      <a:lnTo>
                        <a:pt x="413" y="87"/>
                      </a:lnTo>
                      <a:lnTo>
                        <a:pt x="430" y="87"/>
                      </a:lnTo>
                      <a:lnTo>
                        <a:pt x="447" y="87"/>
                      </a:lnTo>
                      <a:lnTo>
                        <a:pt x="465" y="87"/>
                      </a:lnTo>
                      <a:lnTo>
                        <a:pt x="483" y="87"/>
                      </a:lnTo>
                      <a:lnTo>
                        <a:pt x="501" y="87"/>
                      </a:lnTo>
                      <a:lnTo>
                        <a:pt x="519" y="87"/>
                      </a:lnTo>
                      <a:lnTo>
                        <a:pt x="536" y="87"/>
                      </a:lnTo>
                      <a:lnTo>
                        <a:pt x="554" y="87"/>
                      </a:lnTo>
                      <a:lnTo>
                        <a:pt x="572" y="86"/>
                      </a:lnTo>
                      <a:lnTo>
                        <a:pt x="590" y="86"/>
                      </a:lnTo>
                      <a:lnTo>
                        <a:pt x="606" y="86"/>
                      </a:lnTo>
                      <a:lnTo>
                        <a:pt x="625" y="86"/>
                      </a:lnTo>
                      <a:lnTo>
                        <a:pt x="643" y="86"/>
                      </a:lnTo>
                      <a:lnTo>
                        <a:pt x="661" y="86"/>
                      </a:lnTo>
                      <a:lnTo>
                        <a:pt x="679" y="86"/>
                      </a:lnTo>
                      <a:lnTo>
                        <a:pt x="698" y="87"/>
                      </a:lnTo>
                      <a:lnTo>
                        <a:pt x="714" y="87"/>
                      </a:lnTo>
                      <a:lnTo>
                        <a:pt x="733" y="87"/>
                      </a:lnTo>
                      <a:lnTo>
                        <a:pt x="751" y="87"/>
                      </a:lnTo>
                      <a:lnTo>
                        <a:pt x="769" y="87"/>
                      </a:lnTo>
                      <a:lnTo>
                        <a:pt x="787" y="87"/>
                      </a:lnTo>
                      <a:lnTo>
                        <a:pt x="805" y="87"/>
                      </a:lnTo>
                      <a:lnTo>
                        <a:pt x="824" y="87"/>
                      </a:lnTo>
                      <a:lnTo>
                        <a:pt x="843" y="89"/>
                      </a:lnTo>
                      <a:lnTo>
                        <a:pt x="860" y="89"/>
                      </a:lnTo>
                      <a:lnTo>
                        <a:pt x="878" y="89"/>
                      </a:lnTo>
                      <a:lnTo>
                        <a:pt x="896" y="90"/>
                      </a:lnTo>
                      <a:lnTo>
                        <a:pt x="915" y="90"/>
                      </a:lnTo>
                      <a:lnTo>
                        <a:pt x="934" y="90"/>
                      </a:lnTo>
                      <a:lnTo>
                        <a:pt x="952" y="91"/>
                      </a:lnTo>
                      <a:lnTo>
                        <a:pt x="970" y="91"/>
                      </a:lnTo>
                      <a:lnTo>
                        <a:pt x="989" y="92"/>
                      </a:lnTo>
                      <a:lnTo>
                        <a:pt x="1006" y="92"/>
                      </a:lnTo>
                      <a:lnTo>
                        <a:pt x="1024" y="93"/>
                      </a:lnTo>
                      <a:lnTo>
                        <a:pt x="1043" y="94"/>
                      </a:lnTo>
                      <a:lnTo>
                        <a:pt x="1062" y="94"/>
                      </a:lnTo>
                      <a:lnTo>
                        <a:pt x="1080" y="96"/>
                      </a:lnTo>
                      <a:lnTo>
                        <a:pt x="1099" y="97"/>
                      </a:lnTo>
                      <a:lnTo>
                        <a:pt x="1118" y="97"/>
                      </a:lnTo>
                      <a:lnTo>
                        <a:pt x="1136" y="99"/>
                      </a:lnTo>
                      <a:lnTo>
                        <a:pt x="1140" y="13"/>
                      </a:lnTo>
                      <a:lnTo>
                        <a:pt x="1121" y="11"/>
                      </a:lnTo>
                      <a:lnTo>
                        <a:pt x="1102" y="10"/>
                      </a:lnTo>
                      <a:lnTo>
                        <a:pt x="1083" y="9"/>
                      </a:lnTo>
                      <a:lnTo>
                        <a:pt x="1066" y="9"/>
                      </a:lnTo>
                      <a:lnTo>
                        <a:pt x="1047" y="8"/>
                      </a:lnTo>
                      <a:lnTo>
                        <a:pt x="1028" y="7"/>
                      </a:lnTo>
                      <a:lnTo>
                        <a:pt x="1010" y="7"/>
                      </a:lnTo>
                      <a:lnTo>
                        <a:pt x="991" y="7"/>
                      </a:lnTo>
                      <a:lnTo>
                        <a:pt x="972" y="4"/>
                      </a:lnTo>
                      <a:lnTo>
                        <a:pt x="954" y="4"/>
                      </a:lnTo>
                      <a:lnTo>
                        <a:pt x="936" y="4"/>
                      </a:lnTo>
                      <a:lnTo>
                        <a:pt x="917" y="4"/>
                      </a:lnTo>
                      <a:lnTo>
                        <a:pt x="898" y="3"/>
                      </a:lnTo>
                      <a:lnTo>
                        <a:pt x="881" y="2"/>
                      </a:lnTo>
                      <a:lnTo>
                        <a:pt x="863" y="2"/>
                      </a:lnTo>
                      <a:lnTo>
                        <a:pt x="844" y="2"/>
                      </a:lnTo>
                      <a:lnTo>
                        <a:pt x="825" y="1"/>
                      </a:lnTo>
                      <a:lnTo>
                        <a:pt x="807" y="1"/>
                      </a:lnTo>
                      <a:lnTo>
                        <a:pt x="789" y="1"/>
                      </a:lnTo>
                      <a:lnTo>
                        <a:pt x="771" y="1"/>
                      </a:lnTo>
                      <a:lnTo>
                        <a:pt x="752" y="1"/>
                      </a:lnTo>
                      <a:lnTo>
                        <a:pt x="733" y="1"/>
                      </a:lnTo>
                      <a:lnTo>
                        <a:pt x="716" y="1"/>
                      </a:lnTo>
                      <a:lnTo>
                        <a:pt x="698" y="1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43" y="0"/>
                      </a:lnTo>
                      <a:lnTo>
                        <a:pt x="625" y="0"/>
                      </a:lnTo>
                      <a:lnTo>
                        <a:pt x="608" y="0"/>
                      </a:lnTo>
                      <a:lnTo>
                        <a:pt x="590" y="0"/>
                      </a:lnTo>
                      <a:lnTo>
                        <a:pt x="572" y="0"/>
                      </a:lnTo>
                      <a:lnTo>
                        <a:pt x="554" y="1"/>
                      </a:lnTo>
                      <a:lnTo>
                        <a:pt x="536" y="1"/>
                      </a:lnTo>
                      <a:lnTo>
                        <a:pt x="519" y="1"/>
                      </a:lnTo>
                      <a:lnTo>
                        <a:pt x="501" y="1"/>
                      </a:lnTo>
                      <a:lnTo>
                        <a:pt x="483" y="1"/>
                      </a:lnTo>
                      <a:lnTo>
                        <a:pt x="465" y="1"/>
                      </a:lnTo>
                      <a:lnTo>
                        <a:pt x="447" y="1"/>
                      </a:lnTo>
                      <a:lnTo>
                        <a:pt x="430" y="1"/>
                      </a:lnTo>
                      <a:lnTo>
                        <a:pt x="412" y="1"/>
                      </a:lnTo>
                      <a:lnTo>
                        <a:pt x="394" y="1"/>
                      </a:lnTo>
                      <a:lnTo>
                        <a:pt x="376" y="2"/>
                      </a:lnTo>
                      <a:lnTo>
                        <a:pt x="359" y="2"/>
                      </a:lnTo>
                      <a:lnTo>
                        <a:pt x="342" y="3"/>
                      </a:lnTo>
                      <a:lnTo>
                        <a:pt x="324" y="3"/>
                      </a:lnTo>
                      <a:lnTo>
                        <a:pt x="307" y="4"/>
                      </a:lnTo>
                      <a:lnTo>
                        <a:pt x="291" y="4"/>
                      </a:lnTo>
                      <a:lnTo>
                        <a:pt x="273" y="4"/>
                      </a:lnTo>
                      <a:lnTo>
                        <a:pt x="255" y="4"/>
                      </a:lnTo>
                      <a:lnTo>
                        <a:pt x="237" y="4"/>
                      </a:lnTo>
                      <a:lnTo>
                        <a:pt x="221" y="5"/>
                      </a:lnTo>
                      <a:lnTo>
                        <a:pt x="203" y="7"/>
                      </a:lnTo>
                      <a:lnTo>
                        <a:pt x="186" y="7"/>
                      </a:lnTo>
                      <a:lnTo>
                        <a:pt x="169" y="7"/>
                      </a:lnTo>
                      <a:lnTo>
                        <a:pt x="151" y="7"/>
                      </a:lnTo>
                      <a:lnTo>
                        <a:pt x="135" y="8"/>
                      </a:lnTo>
                      <a:lnTo>
                        <a:pt x="118" y="8"/>
                      </a:lnTo>
                      <a:lnTo>
                        <a:pt x="101" y="9"/>
                      </a:lnTo>
                      <a:lnTo>
                        <a:pt x="83" y="9"/>
                      </a:lnTo>
                      <a:lnTo>
                        <a:pt x="68" y="9"/>
                      </a:lnTo>
                      <a:lnTo>
                        <a:pt x="50" y="10"/>
                      </a:lnTo>
                      <a:lnTo>
                        <a:pt x="33" y="11"/>
                      </a:lnTo>
                      <a:lnTo>
                        <a:pt x="17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Freeform 46"/>
                <p:cNvSpPr/>
                <p:nvPr/>
              </p:nvSpPr>
              <p:spPr>
                <a:xfrm>
                  <a:off x="7162920" y="2381400"/>
                  <a:ext cx="106200" cy="20340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02" h="383">
                      <a:moveTo>
                        <a:pt x="109" y="6"/>
                      </a:moveTo>
                      <a:lnTo>
                        <a:pt x="104" y="13"/>
                      </a:lnTo>
                      <a:lnTo>
                        <a:pt x="101" y="20"/>
                      </a:lnTo>
                      <a:lnTo>
                        <a:pt x="98" y="27"/>
                      </a:lnTo>
                      <a:lnTo>
                        <a:pt x="96" y="34"/>
                      </a:lnTo>
                      <a:lnTo>
                        <a:pt x="94" y="42"/>
                      </a:lnTo>
                      <a:lnTo>
                        <a:pt x="90" y="49"/>
                      </a:lnTo>
                      <a:lnTo>
                        <a:pt x="88" y="56"/>
                      </a:lnTo>
                      <a:lnTo>
                        <a:pt x="85" y="63"/>
                      </a:lnTo>
                      <a:lnTo>
                        <a:pt x="82" y="69"/>
                      </a:lnTo>
                      <a:lnTo>
                        <a:pt x="79" y="76"/>
                      </a:lnTo>
                      <a:lnTo>
                        <a:pt x="77" y="82"/>
                      </a:lnTo>
                      <a:lnTo>
                        <a:pt x="75" y="88"/>
                      </a:lnTo>
                      <a:lnTo>
                        <a:pt x="72" y="95"/>
                      </a:lnTo>
                      <a:lnTo>
                        <a:pt x="70" y="101"/>
                      </a:lnTo>
                      <a:lnTo>
                        <a:pt x="68" y="108"/>
                      </a:lnTo>
                      <a:lnTo>
                        <a:pt x="65" y="114"/>
                      </a:lnTo>
                      <a:lnTo>
                        <a:pt x="63" y="121"/>
                      </a:lnTo>
                      <a:lnTo>
                        <a:pt x="61" y="126"/>
                      </a:lnTo>
                      <a:lnTo>
                        <a:pt x="58" y="133"/>
                      </a:lnTo>
                      <a:lnTo>
                        <a:pt x="56" y="139"/>
                      </a:lnTo>
                      <a:lnTo>
                        <a:pt x="53" y="145"/>
                      </a:lnTo>
                      <a:lnTo>
                        <a:pt x="52" y="152"/>
                      </a:lnTo>
                      <a:lnTo>
                        <a:pt x="50" y="157"/>
                      </a:lnTo>
                      <a:lnTo>
                        <a:pt x="49" y="164"/>
                      </a:lnTo>
                      <a:lnTo>
                        <a:pt x="46" y="170"/>
                      </a:lnTo>
                      <a:lnTo>
                        <a:pt x="45" y="175"/>
                      </a:lnTo>
                      <a:lnTo>
                        <a:pt x="43" y="180"/>
                      </a:lnTo>
                      <a:lnTo>
                        <a:pt x="42" y="186"/>
                      </a:lnTo>
                      <a:lnTo>
                        <a:pt x="39" y="192"/>
                      </a:lnTo>
                      <a:lnTo>
                        <a:pt x="38" y="198"/>
                      </a:lnTo>
                      <a:lnTo>
                        <a:pt x="37" y="204"/>
                      </a:lnTo>
                      <a:lnTo>
                        <a:pt x="36" y="210"/>
                      </a:lnTo>
                      <a:lnTo>
                        <a:pt x="33" y="215"/>
                      </a:lnTo>
                      <a:lnTo>
                        <a:pt x="32" y="221"/>
                      </a:lnTo>
                      <a:lnTo>
                        <a:pt x="31" y="226"/>
                      </a:lnTo>
                      <a:lnTo>
                        <a:pt x="28" y="232"/>
                      </a:lnTo>
                      <a:lnTo>
                        <a:pt x="28" y="237"/>
                      </a:lnTo>
                      <a:lnTo>
                        <a:pt x="26" y="243"/>
                      </a:lnTo>
                      <a:lnTo>
                        <a:pt x="25" y="248"/>
                      </a:lnTo>
                      <a:lnTo>
                        <a:pt x="23" y="253"/>
                      </a:lnTo>
                      <a:lnTo>
                        <a:pt x="21" y="259"/>
                      </a:lnTo>
                      <a:lnTo>
                        <a:pt x="20" y="264"/>
                      </a:lnTo>
                      <a:lnTo>
                        <a:pt x="20" y="269"/>
                      </a:lnTo>
                      <a:lnTo>
                        <a:pt x="18" y="275"/>
                      </a:lnTo>
                      <a:lnTo>
                        <a:pt x="18" y="281"/>
                      </a:lnTo>
                      <a:lnTo>
                        <a:pt x="15" y="286"/>
                      </a:lnTo>
                      <a:lnTo>
                        <a:pt x="15" y="291"/>
                      </a:lnTo>
                      <a:lnTo>
                        <a:pt x="14" y="297"/>
                      </a:lnTo>
                      <a:lnTo>
                        <a:pt x="13" y="302"/>
                      </a:lnTo>
                      <a:lnTo>
                        <a:pt x="12" y="307"/>
                      </a:lnTo>
                      <a:lnTo>
                        <a:pt x="11" y="312"/>
                      </a:lnTo>
                      <a:lnTo>
                        <a:pt x="11" y="319"/>
                      </a:lnTo>
                      <a:lnTo>
                        <a:pt x="8" y="324"/>
                      </a:lnTo>
                      <a:lnTo>
                        <a:pt x="7" y="329"/>
                      </a:lnTo>
                      <a:lnTo>
                        <a:pt x="7" y="334"/>
                      </a:lnTo>
                      <a:lnTo>
                        <a:pt x="7" y="340"/>
                      </a:lnTo>
                      <a:lnTo>
                        <a:pt x="5" y="345"/>
                      </a:lnTo>
                      <a:lnTo>
                        <a:pt x="5" y="350"/>
                      </a:lnTo>
                      <a:lnTo>
                        <a:pt x="5" y="356"/>
                      </a:lnTo>
                      <a:lnTo>
                        <a:pt x="4" y="362"/>
                      </a:lnTo>
                      <a:lnTo>
                        <a:pt x="2" y="367"/>
                      </a:lnTo>
                      <a:lnTo>
                        <a:pt x="2" y="372"/>
                      </a:lnTo>
                      <a:lnTo>
                        <a:pt x="1" y="378"/>
                      </a:lnTo>
                      <a:lnTo>
                        <a:pt x="0" y="383"/>
                      </a:lnTo>
                      <a:lnTo>
                        <a:pt x="93" y="383"/>
                      </a:lnTo>
                      <a:lnTo>
                        <a:pt x="93" y="378"/>
                      </a:lnTo>
                      <a:lnTo>
                        <a:pt x="94" y="372"/>
                      </a:lnTo>
                      <a:lnTo>
                        <a:pt x="94" y="367"/>
                      </a:lnTo>
                      <a:lnTo>
                        <a:pt x="95" y="362"/>
                      </a:lnTo>
                      <a:lnTo>
                        <a:pt x="96" y="357"/>
                      </a:lnTo>
                      <a:lnTo>
                        <a:pt x="96" y="351"/>
                      </a:lnTo>
                      <a:lnTo>
                        <a:pt x="98" y="347"/>
                      </a:lnTo>
                      <a:lnTo>
                        <a:pt x="98" y="342"/>
                      </a:lnTo>
                      <a:lnTo>
                        <a:pt x="100" y="336"/>
                      </a:lnTo>
                      <a:lnTo>
                        <a:pt x="101" y="331"/>
                      </a:lnTo>
                      <a:lnTo>
                        <a:pt x="101" y="325"/>
                      </a:lnTo>
                      <a:lnTo>
                        <a:pt x="103" y="321"/>
                      </a:lnTo>
                      <a:lnTo>
                        <a:pt x="104" y="315"/>
                      </a:lnTo>
                      <a:lnTo>
                        <a:pt x="107" y="310"/>
                      </a:lnTo>
                      <a:lnTo>
                        <a:pt x="107" y="304"/>
                      </a:lnTo>
                      <a:lnTo>
                        <a:pt x="109" y="299"/>
                      </a:lnTo>
                      <a:lnTo>
                        <a:pt x="109" y="293"/>
                      </a:lnTo>
                      <a:lnTo>
                        <a:pt x="112" y="288"/>
                      </a:lnTo>
                      <a:lnTo>
                        <a:pt x="113" y="284"/>
                      </a:lnTo>
                      <a:lnTo>
                        <a:pt x="114" y="278"/>
                      </a:lnTo>
                      <a:lnTo>
                        <a:pt x="116" y="272"/>
                      </a:lnTo>
                      <a:lnTo>
                        <a:pt x="117" y="266"/>
                      </a:lnTo>
                      <a:lnTo>
                        <a:pt x="119" y="261"/>
                      </a:lnTo>
                      <a:lnTo>
                        <a:pt x="121" y="255"/>
                      </a:lnTo>
                      <a:lnTo>
                        <a:pt x="122" y="249"/>
                      </a:lnTo>
                      <a:lnTo>
                        <a:pt x="125" y="243"/>
                      </a:lnTo>
                      <a:lnTo>
                        <a:pt x="126" y="237"/>
                      </a:lnTo>
                      <a:lnTo>
                        <a:pt x="127" y="233"/>
                      </a:lnTo>
                      <a:lnTo>
                        <a:pt x="129" y="227"/>
                      </a:lnTo>
                      <a:lnTo>
                        <a:pt x="132" y="221"/>
                      </a:lnTo>
                      <a:lnTo>
                        <a:pt x="133" y="215"/>
                      </a:lnTo>
                      <a:lnTo>
                        <a:pt x="134" y="209"/>
                      </a:lnTo>
                      <a:lnTo>
                        <a:pt x="136" y="203"/>
                      </a:lnTo>
                      <a:lnTo>
                        <a:pt x="138" y="197"/>
                      </a:lnTo>
                      <a:lnTo>
                        <a:pt x="140" y="190"/>
                      </a:lnTo>
                      <a:lnTo>
                        <a:pt x="142" y="185"/>
                      </a:lnTo>
                      <a:lnTo>
                        <a:pt x="144" y="178"/>
                      </a:lnTo>
                      <a:lnTo>
                        <a:pt x="145" y="172"/>
                      </a:lnTo>
                      <a:lnTo>
                        <a:pt x="147" y="166"/>
                      </a:lnTo>
                      <a:lnTo>
                        <a:pt x="150" y="160"/>
                      </a:lnTo>
                      <a:lnTo>
                        <a:pt x="152" y="154"/>
                      </a:lnTo>
                      <a:lnTo>
                        <a:pt x="153" y="147"/>
                      </a:lnTo>
                      <a:lnTo>
                        <a:pt x="155" y="141"/>
                      </a:lnTo>
                      <a:lnTo>
                        <a:pt x="158" y="134"/>
                      </a:lnTo>
                      <a:lnTo>
                        <a:pt x="159" y="128"/>
                      </a:lnTo>
                      <a:lnTo>
                        <a:pt x="163" y="121"/>
                      </a:lnTo>
                      <a:lnTo>
                        <a:pt x="164" y="116"/>
                      </a:lnTo>
                      <a:lnTo>
                        <a:pt x="166" y="109"/>
                      </a:lnTo>
                      <a:lnTo>
                        <a:pt x="168" y="103"/>
                      </a:lnTo>
                      <a:lnTo>
                        <a:pt x="171" y="96"/>
                      </a:lnTo>
                      <a:lnTo>
                        <a:pt x="172" y="89"/>
                      </a:lnTo>
                      <a:lnTo>
                        <a:pt x="174" y="83"/>
                      </a:lnTo>
                      <a:lnTo>
                        <a:pt x="177" y="76"/>
                      </a:lnTo>
                      <a:lnTo>
                        <a:pt x="179" y="70"/>
                      </a:lnTo>
                      <a:lnTo>
                        <a:pt x="182" y="63"/>
                      </a:lnTo>
                      <a:lnTo>
                        <a:pt x="184" y="56"/>
                      </a:lnTo>
                      <a:lnTo>
                        <a:pt x="185" y="49"/>
                      </a:lnTo>
                      <a:lnTo>
                        <a:pt x="187" y="43"/>
                      </a:lnTo>
                      <a:lnTo>
                        <a:pt x="190" y="36"/>
                      </a:lnTo>
                      <a:lnTo>
                        <a:pt x="192" y="29"/>
                      </a:lnTo>
                      <a:lnTo>
                        <a:pt x="195" y="21"/>
                      </a:lnTo>
                      <a:lnTo>
                        <a:pt x="197" y="15"/>
                      </a:lnTo>
                      <a:lnTo>
                        <a:pt x="198" y="7"/>
                      </a:lnTo>
                      <a:lnTo>
                        <a:pt x="202" y="0"/>
                      </a:lnTo>
                      <a:lnTo>
                        <a:pt x="109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Freeform 47"/>
                <p:cNvSpPr/>
                <p:nvPr/>
              </p:nvSpPr>
              <p:spPr>
                <a:xfrm>
                  <a:off x="7813440" y="2383200"/>
                  <a:ext cx="101520" cy="1965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193" h="372">
                      <a:moveTo>
                        <a:pt x="74" y="0"/>
                      </a:moveTo>
                      <a:lnTo>
                        <a:pt x="0" y="49"/>
                      </a:lnTo>
                      <a:lnTo>
                        <a:pt x="3" y="54"/>
                      </a:lnTo>
                      <a:lnTo>
                        <a:pt x="5" y="60"/>
                      </a:lnTo>
                      <a:lnTo>
                        <a:pt x="9" y="66"/>
                      </a:lnTo>
                      <a:lnTo>
                        <a:pt x="11" y="72"/>
                      </a:lnTo>
                      <a:lnTo>
                        <a:pt x="15" y="76"/>
                      </a:lnTo>
                      <a:lnTo>
                        <a:pt x="17" y="82"/>
                      </a:lnTo>
                      <a:lnTo>
                        <a:pt x="21" y="88"/>
                      </a:lnTo>
                      <a:lnTo>
                        <a:pt x="23" y="94"/>
                      </a:lnTo>
                      <a:lnTo>
                        <a:pt x="25" y="99"/>
                      </a:lnTo>
                      <a:lnTo>
                        <a:pt x="28" y="104"/>
                      </a:lnTo>
                      <a:lnTo>
                        <a:pt x="30" y="110"/>
                      </a:lnTo>
                      <a:lnTo>
                        <a:pt x="34" y="114"/>
                      </a:lnTo>
                      <a:lnTo>
                        <a:pt x="36" y="120"/>
                      </a:lnTo>
                      <a:lnTo>
                        <a:pt x="38" y="126"/>
                      </a:lnTo>
                      <a:lnTo>
                        <a:pt x="41" y="131"/>
                      </a:lnTo>
                      <a:lnTo>
                        <a:pt x="43" y="137"/>
                      </a:lnTo>
                      <a:lnTo>
                        <a:pt x="45" y="142"/>
                      </a:lnTo>
                      <a:lnTo>
                        <a:pt x="48" y="148"/>
                      </a:lnTo>
                      <a:lnTo>
                        <a:pt x="50" y="152"/>
                      </a:lnTo>
                      <a:lnTo>
                        <a:pt x="53" y="157"/>
                      </a:lnTo>
                      <a:lnTo>
                        <a:pt x="54" y="162"/>
                      </a:lnTo>
                      <a:lnTo>
                        <a:pt x="56" y="168"/>
                      </a:lnTo>
                      <a:lnTo>
                        <a:pt x="59" y="173"/>
                      </a:lnTo>
                      <a:lnTo>
                        <a:pt x="61" y="178"/>
                      </a:lnTo>
                      <a:lnTo>
                        <a:pt x="63" y="183"/>
                      </a:lnTo>
                      <a:lnTo>
                        <a:pt x="64" y="188"/>
                      </a:lnTo>
                      <a:lnTo>
                        <a:pt x="66" y="194"/>
                      </a:lnTo>
                      <a:lnTo>
                        <a:pt x="68" y="199"/>
                      </a:lnTo>
                      <a:lnTo>
                        <a:pt x="70" y="203"/>
                      </a:lnTo>
                      <a:lnTo>
                        <a:pt x="72" y="209"/>
                      </a:lnTo>
                      <a:lnTo>
                        <a:pt x="74" y="214"/>
                      </a:lnTo>
                      <a:lnTo>
                        <a:pt x="76" y="220"/>
                      </a:lnTo>
                      <a:lnTo>
                        <a:pt x="78" y="225"/>
                      </a:lnTo>
                      <a:lnTo>
                        <a:pt x="79" y="230"/>
                      </a:lnTo>
                      <a:lnTo>
                        <a:pt x="80" y="234"/>
                      </a:lnTo>
                      <a:lnTo>
                        <a:pt x="81" y="239"/>
                      </a:lnTo>
                      <a:lnTo>
                        <a:pt x="83" y="244"/>
                      </a:lnTo>
                      <a:lnTo>
                        <a:pt x="85" y="248"/>
                      </a:lnTo>
                      <a:lnTo>
                        <a:pt x="86" y="253"/>
                      </a:lnTo>
                      <a:lnTo>
                        <a:pt x="87" y="259"/>
                      </a:lnTo>
                      <a:lnTo>
                        <a:pt x="89" y="264"/>
                      </a:lnTo>
                      <a:lnTo>
                        <a:pt x="89" y="269"/>
                      </a:lnTo>
                      <a:lnTo>
                        <a:pt x="92" y="273"/>
                      </a:lnTo>
                      <a:lnTo>
                        <a:pt x="92" y="278"/>
                      </a:lnTo>
                      <a:lnTo>
                        <a:pt x="93" y="283"/>
                      </a:lnTo>
                      <a:lnTo>
                        <a:pt x="94" y="288"/>
                      </a:lnTo>
                      <a:lnTo>
                        <a:pt x="95" y="292"/>
                      </a:lnTo>
                      <a:lnTo>
                        <a:pt x="97" y="297"/>
                      </a:lnTo>
                      <a:lnTo>
                        <a:pt x="97" y="302"/>
                      </a:lnTo>
                      <a:lnTo>
                        <a:pt x="98" y="307"/>
                      </a:lnTo>
                      <a:lnTo>
                        <a:pt x="99" y="311"/>
                      </a:lnTo>
                      <a:lnTo>
                        <a:pt x="99" y="316"/>
                      </a:lnTo>
                      <a:lnTo>
                        <a:pt x="100" y="320"/>
                      </a:lnTo>
                      <a:lnTo>
                        <a:pt x="101" y="324"/>
                      </a:lnTo>
                      <a:lnTo>
                        <a:pt x="101" y="329"/>
                      </a:lnTo>
                      <a:lnTo>
                        <a:pt x="102" y="335"/>
                      </a:lnTo>
                      <a:lnTo>
                        <a:pt x="102" y="339"/>
                      </a:lnTo>
                      <a:lnTo>
                        <a:pt x="104" y="343"/>
                      </a:lnTo>
                      <a:lnTo>
                        <a:pt x="104" y="348"/>
                      </a:lnTo>
                      <a:lnTo>
                        <a:pt x="104" y="353"/>
                      </a:lnTo>
                      <a:lnTo>
                        <a:pt x="105" y="358"/>
                      </a:lnTo>
                      <a:lnTo>
                        <a:pt x="105" y="362"/>
                      </a:lnTo>
                      <a:lnTo>
                        <a:pt x="106" y="367"/>
                      </a:lnTo>
                      <a:lnTo>
                        <a:pt x="106" y="372"/>
                      </a:lnTo>
                      <a:lnTo>
                        <a:pt x="193" y="366"/>
                      </a:lnTo>
                      <a:lnTo>
                        <a:pt x="191" y="360"/>
                      </a:lnTo>
                      <a:lnTo>
                        <a:pt x="191" y="355"/>
                      </a:lnTo>
                      <a:lnTo>
                        <a:pt x="190" y="349"/>
                      </a:lnTo>
                      <a:lnTo>
                        <a:pt x="190" y="345"/>
                      </a:lnTo>
                      <a:lnTo>
                        <a:pt x="190" y="340"/>
                      </a:lnTo>
                      <a:lnTo>
                        <a:pt x="189" y="334"/>
                      </a:lnTo>
                      <a:lnTo>
                        <a:pt x="188" y="329"/>
                      </a:lnTo>
                      <a:lnTo>
                        <a:pt x="188" y="323"/>
                      </a:lnTo>
                      <a:lnTo>
                        <a:pt x="188" y="317"/>
                      </a:lnTo>
                      <a:lnTo>
                        <a:pt x="186" y="313"/>
                      </a:lnTo>
                      <a:lnTo>
                        <a:pt x="186" y="307"/>
                      </a:lnTo>
                      <a:lnTo>
                        <a:pt x="186" y="302"/>
                      </a:lnTo>
                      <a:lnTo>
                        <a:pt x="183" y="297"/>
                      </a:lnTo>
                      <a:lnTo>
                        <a:pt x="182" y="291"/>
                      </a:lnTo>
                      <a:lnTo>
                        <a:pt x="182" y="286"/>
                      </a:lnTo>
                      <a:lnTo>
                        <a:pt x="182" y="282"/>
                      </a:lnTo>
                      <a:lnTo>
                        <a:pt x="180" y="276"/>
                      </a:lnTo>
                      <a:lnTo>
                        <a:pt x="180" y="269"/>
                      </a:lnTo>
                      <a:lnTo>
                        <a:pt x="177" y="264"/>
                      </a:lnTo>
                      <a:lnTo>
                        <a:pt x="177" y="259"/>
                      </a:lnTo>
                      <a:lnTo>
                        <a:pt x="175" y="253"/>
                      </a:lnTo>
                      <a:lnTo>
                        <a:pt x="174" y="247"/>
                      </a:lnTo>
                      <a:lnTo>
                        <a:pt x="172" y="241"/>
                      </a:lnTo>
                      <a:lnTo>
                        <a:pt x="171" y="235"/>
                      </a:lnTo>
                      <a:lnTo>
                        <a:pt x="170" y="231"/>
                      </a:lnTo>
                      <a:lnTo>
                        <a:pt x="168" y="225"/>
                      </a:lnTo>
                      <a:lnTo>
                        <a:pt x="167" y="219"/>
                      </a:lnTo>
                      <a:lnTo>
                        <a:pt x="165" y="214"/>
                      </a:lnTo>
                      <a:lnTo>
                        <a:pt x="163" y="208"/>
                      </a:lnTo>
                      <a:lnTo>
                        <a:pt x="162" y="203"/>
                      </a:lnTo>
                      <a:lnTo>
                        <a:pt x="159" y="197"/>
                      </a:lnTo>
                      <a:lnTo>
                        <a:pt x="158" y="192"/>
                      </a:lnTo>
                      <a:lnTo>
                        <a:pt x="156" y="186"/>
                      </a:lnTo>
                      <a:lnTo>
                        <a:pt x="155" y="180"/>
                      </a:lnTo>
                      <a:lnTo>
                        <a:pt x="152" y="175"/>
                      </a:lnTo>
                      <a:lnTo>
                        <a:pt x="150" y="169"/>
                      </a:lnTo>
                      <a:lnTo>
                        <a:pt x="148" y="163"/>
                      </a:lnTo>
                      <a:lnTo>
                        <a:pt x="146" y="157"/>
                      </a:lnTo>
                      <a:lnTo>
                        <a:pt x="144" y="152"/>
                      </a:lnTo>
                      <a:lnTo>
                        <a:pt x="142" y="145"/>
                      </a:lnTo>
                      <a:lnTo>
                        <a:pt x="139" y="139"/>
                      </a:lnTo>
                      <a:lnTo>
                        <a:pt x="137" y="135"/>
                      </a:lnTo>
                      <a:lnTo>
                        <a:pt x="134" y="127"/>
                      </a:lnTo>
                      <a:lnTo>
                        <a:pt x="132" y="121"/>
                      </a:lnTo>
                      <a:lnTo>
                        <a:pt x="130" y="116"/>
                      </a:lnTo>
                      <a:lnTo>
                        <a:pt x="127" y="110"/>
                      </a:lnTo>
                      <a:lnTo>
                        <a:pt x="125" y="104"/>
                      </a:lnTo>
                      <a:lnTo>
                        <a:pt x="123" y="99"/>
                      </a:lnTo>
                      <a:lnTo>
                        <a:pt x="119" y="92"/>
                      </a:lnTo>
                      <a:lnTo>
                        <a:pt x="117" y="86"/>
                      </a:lnTo>
                      <a:lnTo>
                        <a:pt x="114" y="80"/>
                      </a:lnTo>
                      <a:lnTo>
                        <a:pt x="111" y="74"/>
                      </a:lnTo>
                      <a:lnTo>
                        <a:pt x="108" y="68"/>
                      </a:lnTo>
                      <a:lnTo>
                        <a:pt x="105" y="62"/>
                      </a:lnTo>
                      <a:lnTo>
                        <a:pt x="102" y="56"/>
                      </a:lnTo>
                      <a:lnTo>
                        <a:pt x="99" y="50"/>
                      </a:lnTo>
                      <a:lnTo>
                        <a:pt x="97" y="43"/>
                      </a:lnTo>
                      <a:lnTo>
                        <a:pt x="93" y="37"/>
                      </a:lnTo>
                      <a:lnTo>
                        <a:pt x="89" y="31"/>
                      </a:lnTo>
                      <a:lnTo>
                        <a:pt x="86" y="25"/>
                      </a:lnTo>
                      <a:lnTo>
                        <a:pt x="83" y="18"/>
                      </a:lnTo>
                      <a:lnTo>
                        <a:pt x="80" y="12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Freeform 48"/>
                <p:cNvSpPr/>
                <p:nvPr/>
              </p:nvSpPr>
              <p:spPr>
                <a:xfrm>
                  <a:off x="7283520" y="2443320"/>
                  <a:ext cx="39240" cy="414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9">
                      <a:moveTo>
                        <a:pt x="38" y="79"/>
                      </a:moveTo>
                      <a:lnTo>
                        <a:pt x="41" y="78"/>
                      </a:lnTo>
                      <a:lnTo>
                        <a:pt x="45" y="78"/>
                      </a:lnTo>
                      <a:lnTo>
                        <a:pt x="49" y="76"/>
                      </a:lnTo>
                      <a:lnTo>
                        <a:pt x="53" y="75"/>
                      </a:lnTo>
                      <a:lnTo>
                        <a:pt x="57" y="73"/>
                      </a:lnTo>
                      <a:lnTo>
                        <a:pt x="59" y="72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3"/>
                      </a:lnTo>
                      <a:lnTo>
                        <a:pt x="70" y="61"/>
                      </a:lnTo>
                      <a:lnTo>
                        <a:pt x="72" y="57"/>
                      </a:lnTo>
                      <a:lnTo>
                        <a:pt x="74" y="55"/>
                      </a:lnTo>
                      <a:lnTo>
                        <a:pt x="74" y="51"/>
                      </a:lnTo>
                      <a:lnTo>
                        <a:pt x="77" y="47"/>
                      </a:lnTo>
                      <a:lnTo>
                        <a:pt x="77" y="43"/>
                      </a:lnTo>
                      <a:lnTo>
                        <a:pt x="77" y="40"/>
                      </a:lnTo>
                      <a:lnTo>
                        <a:pt x="77" y="36"/>
                      </a:lnTo>
                      <a:lnTo>
                        <a:pt x="77" y="31"/>
                      </a:lnTo>
                      <a:lnTo>
                        <a:pt x="74" y="28"/>
                      </a:lnTo>
                      <a:lnTo>
                        <a:pt x="74" y="24"/>
                      </a:lnTo>
                      <a:lnTo>
                        <a:pt x="72" y="21"/>
                      </a:lnTo>
                      <a:lnTo>
                        <a:pt x="70" y="18"/>
                      </a:lnTo>
                      <a:lnTo>
                        <a:pt x="67" y="15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9" y="7"/>
                      </a:lnTo>
                      <a:lnTo>
                        <a:pt x="57" y="5"/>
                      </a:lnTo>
                      <a:lnTo>
                        <a:pt x="53" y="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3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1" y="47"/>
                      </a:lnTo>
                      <a:lnTo>
                        <a:pt x="1" y="51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8" y="63"/>
                      </a:lnTo>
                      <a:lnTo>
                        <a:pt x="11" y="67"/>
                      </a:lnTo>
                      <a:lnTo>
                        <a:pt x="14" y="69"/>
                      </a:lnTo>
                      <a:lnTo>
                        <a:pt x="16" y="72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8"/>
                      </a:lnTo>
                      <a:lnTo>
                        <a:pt x="34" y="78"/>
                      </a:lnTo>
                      <a:lnTo>
                        <a:pt x="38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Freeform 49"/>
                <p:cNvSpPr/>
                <p:nvPr/>
              </p:nvSpPr>
              <p:spPr>
                <a:xfrm>
                  <a:off x="7364160" y="244656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3" y="76"/>
                      </a:lnTo>
                      <a:lnTo>
                        <a:pt x="46" y="76"/>
                      </a:lnTo>
                      <a:lnTo>
                        <a:pt x="50" y="75"/>
                      </a:lnTo>
                      <a:lnTo>
                        <a:pt x="53" y="74"/>
                      </a:lnTo>
                      <a:lnTo>
                        <a:pt x="56" y="71"/>
                      </a:lnTo>
                      <a:lnTo>
                        <a:pt x="59" y="70"/>
                      </a:lnTo>
                      <a:lnTo>
                        <a:pt x="63" y="68"/>
                      </a:lnTo>
                      <a:lnTo>
                        <a:pt x="67" y="65"/>
                      </a:lnTo>
                      <a:lnTo>
                        <a:pt x="69" y="62"/>
                      </a:lnTo>
                      <a:lnTo>
                        <a:pt x="71" y="59"/>
                      </a:lnTo>
                      <a:lnTo>
                        <a:pt x="72" y="56"/>
                      </a:lnTo>
                      <a:lnTo>
                        <a:pt x="74" y="54"/>
                      </a:lnTo>
                      <a:lnTo>
                        <a:pt x="75" y="49"/>
                      </a:lnTo>
                      <a:lnTo>
                        <a:pt x="76" y="46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76" y="31"/>
                      </a:lnTo>
                      <a:lnTo>
                        <a:pt x="75" y="26"/>
                      </a:lnTo>
                      <a:lnTo>
                        <a:pt x="74" y="23"/>
                      </a:lnTo>
                      <a:lnTo>
                        <a:pt x="72" y="19"/>
                      </a:lnTo>
                      <a:lnTo>
                        <a:pt x="71" y="16"/>
                      </a:lnTo>
                      <a:lnTo>
                        <a:pt x="69" y="13"/>
                      </a:lnTo>
                      <a:lnTo>
                        <a:pt x="67" y="11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3" y="2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2" y="54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5"/>
                      </a:lnTo>
                      <a:lnTo>
                        <a:pt x="13" y="68"/>
                      </a:lnTo>
                      <a:lnTo>
                        <a:pt x="17" y="70"/>
                      </a:lnTo>
                      <a:lnTo>
                        <a:pt x="20" y="71"/>
                      </a:lnTo>
                      <a:lnTo>
                        <a:pt x="23" y="74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Freeform 50"/>
                <p:cNvSpPr/>
                <p:nvPr/>
              </p:nvSpPr>
              <p:spPr>
                <a:xfrm>
                  <a:off x="744192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41" y="77"/>
                      </a:moveTo>
                      <a:lnTo>
                        <a:pt x="43" y="76"/>
                      </a:lnTo>
                      <a:lnTo>
                        <a:pt x="48" y="76"/>
                      </a:lnTo>
                      <a:lnTo>
                        <a:pt x="51" y="75"/>
                      </a:lnTo>
                      <a:lnTo>
                        <a:pt x="55" y="73"/>
                      </a:lnTo>
                      <a:lnTo>
                        <a:pt x="57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1" y="59"/>
                      </a:lnTo>
                      <a:lnTo>
                        <a:pt x="74" y="56"/>
                      </a:lnTo>
                      <a:lnTo>
                        <a:pt x="75" y="53"/>
                      </a:lnTo>
                      <a:lnTo>
                        <a:pt x="76" y="48"/>
                      </a:lnTo>
                      <a:lnTo>
                        <a:pt x="77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7" y="31"/>
                      </a:lnTo>
                      <a:lnTo>
                        <a:pt x="76" y="26"/>
                      </a:lnTo>
                      <a:lnTo>
                        <a:pt x="75" y="22"/>
                      </a:lnTo>
                      <a:lnTo>
                        <a:pt x="74" y="19"/>
                      </a:lnTo>
                      <a:lnTo>
                        <a:pt x="71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4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1" y="0"/>
                      </a:lnTo>
                      <a:lnTo>
                        <a:pt x="48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7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7" y="15"/>
                      </a:lnTo>
                      <a:lnTo>
                        <a:pt x="5" y="19"/>
                      </a:lnTo>
                      <a:lnTo>
                        <a:pt x="4" y="22"/>
                      </a:lnTo>
                      <a:lnTo>
                        <a:pt x="3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8"/>
                      </a:lnTo>
                      <a:lnTo>
                        <a:pt x="4" y="53"/>
                      </a:lnTo>
                      <a:lnTo>
                        <a:pt x="5" y="56"/>
                      </a:lnTo>
                      <a:lnTo>
                        <a:pt x="7" y="59"/>
                      </a:lnTo>
                      <a:lnTo>
                        <a:pt x="10" y="61"/>
                      </a:lnTo>
                      <a:lnTo>
                        <a:pt x="13" y="65"/>
                      </a:lnTo>
                      <a:lnTo>
                        <a:pt x="16" y="67"/>
                      </a:lnTo>
                      <a:lnTo>
                        <a:pt x="18" y="70"/>
                      </a:lnTo>
                      <a:lnTo>
                        <a:pt x="20" y="71"/>
                      </a:lnTo>
                      <a:lnTo>
                        <a:pt x="25" y="73"/>
                      </a:lnTo>
                      <a:lnTo>
                        <a:pt x="27" y="75"/>
                      </a:lnTo>
                      <a:lnTo>
                        <a:pt x="31" y="76"/>
                      </a:lnTo>
                      <a:lnTo>
                        <a:pt x="36" y="76"/>
                      </a:lnTo>
                      <a:lnTo>
                        <a:pt x="41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Freeform 51"/>
                <p:cNvSpPr/>
                <p:nvPr/>
              </p:nvSpPr>
              <p:spPr>
                <a:xfrm>
                  <a:off x="75214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6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7"/>
                      </a:lnTo>
                      <a:lnTo>
                        <a:pt x="50" y="76"/>
                      </a:lnTo>
                      <a:lnTo>
                        <a:pt x="53" y="75"/>
                      </a:lnTo>
                      <a:lnTo>
                        <a:pt x="55" y="73"/>
                      </a:lnTo>
                      <a:lnTo>
                        <a:pt x="59" y="71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4"/>
                      </a:lnTo>
                      <a:lnTo>
                        <a:pt x="70" y="61"/>
                      </a:lnTo>
                      <a:lnTo>
                        <a:pt x="71" y="57"/>
                      </a:lnTo>
                      <a:lnTo>
                        <a:pt x="73" y="55"/>
                      </a:lnTo>
                      <a:lnTo>
                        <a:pt x="74" y="51"/>
                      </a:lnTo>
                      <a:lnTo>
                        <a:pt x="76" y="46"/>
                      </a:lnTo>
                      <a:lnTo>
                        <a:pt x="76" y="43"/>
                      </a:lnTo>
                      <a:lnTo>
                        <a:pt x="76" y="39"/>
                      </a:lnTo>
                      <a:lnTo>
                        <a:pt x="76" y="36"/>
                      </a:lnTo>
                      <a:lnTo>
                        <a:pt x="76" y="31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7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7"/>
                      </a:lnTo>
                      <a:lnTo>
                        <a:pt x="55" y="5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2"/>
                      </a:lnTo>
                      <a:lnTo>
                        <a:pt x="22" y="2"/>
                      </a:lnTo>
                      <a:lnTo>
                        <a:pt x="19" y="5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6" y="17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1" y="51"/>
                      </a:lnTo>
                      <a:lnTo>
                        <a:pt x="2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7" y="64"/>
                      </a:lnTo>
                      <a:lnTo>
                        <a:pt x="10" y="67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7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Freeform 52"/>
                <p:cNvSpPr/>
                <p:nvPr/>
              </p:nvSpPr>
              <p:spPr>
                <a:xfrm>
                  <a:off x="759924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9" y="77"/>
                      </a:moveTo>
                      <a:lnTo>
                        <a:pt x="42" y="76"/>
                      </a:lnTo>
                      <a:lnTo>
                        <a:pt x="46" y="76"/>
                      </a:lnTo>
                      <a:lnTo>
                        <a:pt x="49" y="75"/>
                      </a:lnTo>
                      <a:lnTo>
                        <a:pt x="53" y="73"/>
                      </a:lnTo>
                      <a:lnTo>
                        <a:pt x="55" y="71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6" y="65"/>
                      </a:lnTo>
                      <a:lnTo>
                        <a:pt x="67" y="61"/>
                      </a:lnTo>
                      <a:lnTo>
                        <a:pt x="70" y="59"/>
                      </a:lnTo>
                      <a:lnTo>
                        <a:pt x="72" y="56"/>
                      </a:lnTo>
                      <a:lnTo>
                        <a:pt x="73" y="53"/>
                      </a:lnTo>
                      <a:lnTo>
                        <a:pt x="74" y="48"/>
                      </a:lnTo>
                      <a:lnTo>
                        <a:pt x="77" y="45"/>
                      </a:lnTo>
                      <a:lnTo>
                        <a:pt x="77" y="41"/>
                      </a:lnTo>
                      <a:lnTo>
                        <a:pt x="77" y="38"/>
                      </a:lnTo>
                      <a:lnTo>
                        <a:pt x="77" y="34"/>
                      </a:lnTo>
                      <a:lnTo>
                        <a:pt x="77" y="31"/>
                      </a:lnTo>
                      <a:lnTo>
                        <a:pt x="74" y="26"/>
                      </a:lnTo>
                      <a:lnTo>
                        <a:pt x="73" y="22"/>
                      </a:lnTo>
                      <a:lnTo>
                        <a:pt x="72" y="19"/>
                      </a:lnTo>
                      <a:lnTo>
                        <a:pt x="70" y="15"/>
                      </a:lnTo>
                      <a:lnTo>
                        <a:pt x="67" y="13"/>
                      </a:lnTo>
                      <a:lnTo>
                        <a:pt x="66" y="10"/>
                      </a:lnTo>
                      <a:lnTo>
                        <a:pt x="63" y="7"/>
                      </a:lnTo>
                      <a:lnTo>
                        <a:pt x="59" y="4"/>
                      </a:lnTo>
                      <a:lnTo>
                        <a:pt x="55" y="3"/>
                      </a:lnTo>
                      <a:lnTo>
                        <a:pt x="53" y="2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1" y="48"/>
                      </a:lnTo>
                      <a:lnTo>
                        <a:pt x="3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8" y="61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1"/>
                      </a:lnTo>
                      <a:lnTo>
                        <a:pt x="23" y="73"/>
                      </a:lnTo>
                      <a:lnTo>
                        <a:pt x="27" y="75"/>
                      </a:lnTo>
                      <a:lnTo>
                        <a:pt x="30" y="76"/>
                      </a:lnTo>
                      <a:lnTo>
                        <a:pt x="35" y="76"/>
                      </a:lnTo>
                      <a:lnTo>
                        <a:pt x="39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Freeform 53"/>
                <p:cNvSpPr/>
                <p:nvPr/>
              </p:nvSpPr>
              <p:spPr>
                <a:xfrm>
                  <a:off x="76816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39" y="78"/>
                      </a:moveTo>
                      <a:lnTo>
                        <a:pt x="43" y="77"/>
                      </a:lnTo>
                      <a:lnTo>
                        <a:pt x="46" y="77"/>
                      </a:lnTo>
                      <a:lnTo>
                        <a:pt x="50" y="76"/>
                      </a:lnTo>
                      <a:lnTo>
                        <a:pt x="55" y="75"/>
                      </a:lnTo>
                      <a:lnTo>
                        <a:pt x="57" y="73"/>
                      </a:lnTo>
                      <a:lnTo>
                        <a:pt x="61" y="71"/>
                      </a:lnTo>
                      <a:lnTo>
                        <a:pt x="63" y="69"/>
                      </a:lnTo>
                      <a:lnTo>
                        <a:pt x="67" y="67"/>
                      </a:lnTo>
                      <a:lnTo>
                        <a:pt x="68" y="64"/>
                      </a:lnTo>
                      <a:lnTo>
                        <a:pt x="70" y="61"/>
                      </a:lnTo>
                      <a:lnTo>
                        <a:pt x="74" y="57"/>
                      </a:lnTo>
                      <a:lnTo>
                        <a:pt x="75" y="55"/>
                      </a:lnTo>
                      <a:lnTo>
                        <a:pt x="76" y="51"/>
                      </a:lnTo>
                      <a:lnTo>
                        <a:pt x="77" y="46"/>
                      </a:lnTo>
                      <a:lnTo>
                        <a:pt x="78" y="43"/>
                      </a:lnTo>
                      <a:lnTo>
                        <a:pt x="78" y="39"/>
                      </a:lnTo>
                      <a:lnTo>
                        <a:pt x="78" y="36"/>
                      </a:lnTo>
                      <a:lnTo>
                        <a:pt x="77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4" y="20"/>
                      </a:lnTo>
                      <a:lnTo>
                        <a:pt x="70" y="17"/>
                      </a:lnTo>
                      <a:lnTo>
                        <a:pt x="68" y="14"/>
                      </a:lnTo>
                      <a:lnTo>
                        <a:pt x="67" y="12"/>
                      </a:lnTo>
                      <a:lnTo>
                        <a:pt x="63" y="8"/>
                      </a:lnTo>
                      <a:lnTo>
                        <a:pt x="61" y="7"/>
                      </a:lnTo>
                      <a:lnTo>
                        <a:pt x="57" y="5"/>
                      </a:lnTo>
                      <a:lnTo>
                        <a:pt x="55" y="2"/>
                      </a:lnTo>
                      <a:lnTo>
                        <a:pt x="50" y="2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5" y="20"/>
                      </a:lnTo>
                      <a:lnTo>
                        <a:pt x="4" y="24"/>
                      </a:lnTo>
                      <a:lnTo>
                        <a:pt x="2" y="27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1" y="46"/>
                      </a:lnTo>
                      <a:lnTo>
                        <a:pt x="2" y="51"/>
                      </a:lnTo>
                      <a:lnTo>
                        <a:pt x="4" y="55"/>
                      </a:lnTo>
                      <a:lnTo>
                        <a:pt x="5" y="57"/>
                      </a:lnTo>
                      <a:lnTo>
                        <a:pt x="7" y="61"/>
                      </a:lnTo>
                      <a:lnTo>
                        <a:pt x="8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8" y="71"/>
                      </a:lnTo>
                      <a:lnTo>
                        <a:pt x="20" y="73"/>
                      </a:lnTo>
                      <a:lnTo>
                        <a:pt x="24" y="75"/>
                      </a:lnTo>
                      <a:lnTo>
                        <a:pt x="27" y="76"/>
                      </a:lnTo>
                      <a:lnTo>
                        <a:pt x="31" y="77"/>
                      </a:lnTo>
                      <a:lnTo>
                        <a:pt x="36" y="77"/>
                      </a:lnTo>
                      <a:lnTo>
                        <a:pt x="39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Freeform 54"/>
                <p:cNvSpPr/>
                <p:nvPr/>
              </p:nvSpPr>
              <p:spPr>
                <a:xfrm>
                  <a:off x="7761240" y="2445120"/>
                  <a:ext cx="39240" cy="41040"/>
                </a:xfrm>
                <a:custGeom>
                  <a:avLst/>
                  <a:gdLst>
                    <a:gd name="textAreaLeft" fmla="*/ 0 w 39240"/>
                    <a:gd name="textAreaRight" fmla="*/ 39240 w 392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5" h="78">
                      <a:moveTo>
                        <a:pt x="38" y="78"/>
                      </a:moveTo>
                      <a:lnTo>
                        <a:pt x="41" y="78"/>
                      </a:lnTo>
                      <a:lnTo>
                        <a:pt x="45" y="77"/>
                      </a:lnTo>
                      <a:lnTo>
                        <a:pt x="48" y="76"/>
                      </a:lnTo>
                      <a:lnTo>
                        <a:pt x="52" y="75"/>
                      </a:lnTo>
                      <a:lnTo>
                        <a:pt x="54" y="72"/>
                      </a:lnTo>
                      <a:lnTo>
                        <a:pt x="58" y="71"/>
                      </a:lnTo>
                      <a:lnTo>
                        <a:pt x="61" y="69"/>
                      </a:lnTo>
                      <a:lnTo>
                        <a:pt x="65" y="66"/>
                      </a:lnTo>
                      <a:lnTo>
                        <a:pt x="66" y="63"/>
                      </a:lnTo>
                      <a:lnTo>
                        <a:pt x="68" y="60"/>
                      </a:lnTo>
                      <a:lnTo>
                        <a:pt x="70" y="57"/>
                      </a:lnTo>
                      <a:lnTo>
                        <a:pt x="72" y="53"/>
                      </a:lnTo>
                      <a:lnTo>
                        <a:pt x="73" y="51"/>
                      </a:lnTo>
                      <a:lnTo>
                        <a:pt x="75" y="46"/>
                      </a:lnTo>
                      <a:lnTo>
                        <a:pt x="75" y="42"/>
                      </a:lnTo>
                      <a:lnTo>
                        <a:pt x="75" y="39"/>
                      </a:lnTo>
                      <a:lnTo>
                        <a:pt x="75" y="35"/>
                      </a:lnTo>
                      <a:lnTo>
                        <a:pt x="75" y="31"/>
                      </a:lnTo>
                      <a:lnTo>
                        <a:pt x="73" y="26"/>
                      </a:lnTo>
                      <a:lnTo>
                        <a:pt x="72" y="23"/>
                      </a:lnTo>
                      <a:lnTo>
                        <a:pt x="70" y="20"/>
                      </a:lnTo>
                      <a:lnTo>
                        <a:pt x="68" y="18"/>
                      </a:lnTo>
                      <a:lnTo>
                        <a:pt x="66" y="14"/>
                      </a:lnTo>
                      <a:lnTo>
                        <a:pt x="65" y="12"/>
                      </a:lnTo>
                      <a:lnTo>
                        <a:pt x="61" y="9"/>
                      </a:lnTo>
                      <a:lnTo>
                        <a:pt x="58" y="7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19" y="4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1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6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2"/>
                      </a:lnTo>
                      <a:lnTo>
                        <a:pt x="22" y="75"/>
                      </a:lnTo>
                      <a:lnTo>
                        <a:pt x="24" y="76"/>
                      </a:lnTo>
                      <a:lnTo>
                        <a:pt x="29" y="77"/>
                      </a:lnTo>
                      <a:lnTo>
                        <a:pt x="33" y="78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Freeform 55"/>
                <p:cNvSpPr/>
                <p:nvPr/>
              </p:nvSpPr>
              <p:spPr>
                <a:xfrm>
                  <a:off x="732312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50" y="76"/>
                      </a:lnTo>
                      <a:lnTo>
                        <a:pt x="53" y="73"/>
                      </a:lnTo>
                      <a:lnTo>
                        <a:pt x="56" y="72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5" y="65"/>
                      </a:lnTo>
                      <a:lnTo>
                        <a:pt x="67" y="63"/>
                      </a:lnTo>
                      <a:lnTo>
                        <a:pt x="70" y="60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6"/>
                      </a:lnTo>
                      <a:lnTo>
                        <a:pt x="76" y="42"/>
                      </a:lnTo>
                      <a:lnTo>
                        <a:pt x="77" y="39"/>
                      </a:lnTo>
                      <a:lnTo>
                        <a:pt x="76" y="35"/>
                      </a:lnTo>
                      <a:lnTo>
                        <a:pt x="76" y="29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6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5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50"/>
                      </a:lnTo>
                      <a:lnTo>
                        <a:pt x="2" y="53"/>
                      </a:lnTo>
                      <a:lnTo>
                        <a:pt x="3" y="56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2"/>
                      </a:lnTo>
                      <a:lnTo>
                        <a:pt x="22" y="73"/>
                      </a:lnTo>
                      <a:lnTo>
                        <a:pt x="26" y="76"/>
                      </a:lnTo>
                      <a:lnTo>
                        <a:pt x="31" y="76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Freeform 56"/>
                <p:cNvSpPr/>
                <p:nvPr/>
              </p:nvSpPr>
              <p:spPr>
                <a:xfrm>
                  <a:off x="7405560" y="2492640"/>
                  <a:ext cx="42480" cy="3960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9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6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2" y="58"/>
                      </a:lnTo>
                      <a:lnTo>
                        <a:pt x="73" y="56"/>
                      </a:lnTo>
                      <a:lnTo>
                        <a:pt x="74" y="53"/>
                      </a:lnTo>
                      <a:lnTo>
                        <a:pt x="76" y="48"/>
                      </a:lnTo>
                      <a:lnTo>
                        <a:pt x="76" y="45"/>
                      </a:lnTo>
                      <a:lnTo>
                        <a:pt x="77" y="40"/>
                      </a:lnTo>
                      <a:lnTo>
                        <a:pt x="79" y="38"/>
                      </a:lnTo>
                      <a:lnTo>
                        <a:pt x="77" y="33"/>
                      </a:lnTo>
                      <a:lnTo>
                        <a:pt x="76" y="29"/>
                      </a:lnTo>
                      <a:lnTo>
                        <a:pt x="76" y="25"/>
                      </a:lnTo>
                      <a:lnTo>
                        <a:pt x="74" y="22"/>
                      </a:lnTo>
                      <a:lnTo>
                        <a:pt x="73" y="19"/>
                      </a:lnTo>
                      <a:lnTo>
                        <a:pt x="72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5"/>
                      </a:lnTo>
                      <a:lnTo>
                        <a:pt x="56" y="3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5" y="19"/>
                      </a:lnTo>
                      <a:lnTo>
                        <a:pt x="3" y="22"/>
                      </a:lnTo>
                      <a:lnTo>
                        <a:pt x="2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5"/>
                      </a:lnTo>
                      <a:lnTo>
                        <a:pt x="2" y="48"/>
                      </a:lnTo>
                      <a:lnTo>
                        <a:pt x="3" y="53"/>
                      </a:lnTo>
                      <a:lnTo>
                        <a:pt x="5" y="56"/>
                      </a:lnTo>
                      <a:lnTo>
                        <a:pt x="6" y="58"/>
                      </a:lnTo>
                      <a:lnTo>
                        <a:pt x="9" y="61"/>
                      </a:lnTo>
                      <a:lnTo>
                        <a:pt x="12" y="65"/>
                      </a:lnTo>
                      <a:lnTo>
                        <a:pt x="15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8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Freeform 57"/>
                <p:cNvSpPr/>
                <p:nvPr/>
              </p:nvSpPr>
              <p:spPr>
                <a:xfrm>
                  <a:off x="7483320" y="2491200"/>
                  <a:ext cx="42480" cy="4104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9" h="79">
                      <a:moveTo>
                        <a:pt x="40" y="79"/>
                      </a:moveTo>
                      <a:lnTo>
                        <a:pt x="43" y="79"/>
                      </a:lnTo>
                      <a:lnTo>
                        <a:pt x="47" y="78"/>
                      </a:lnTo>
                      <a:lnTo>
                        <a:pt x="52" y="76"/>
                      </a:lnTo>
                      <a:lnTo>
                        <a:pt x="54" y="75"/>
                      </a:lnTo>
                      <a:lnTo>
                        <a:pt x="57" y="73"/>
                      </a:lnTo>
                      <a:lnTo>
                        <a:pt x="61" y="70"/>
                      </a:lnTo>
                      <a:lnTo>
                        <a:pt x="63" y="68"/>
                      </a:lnTo>
                      <a:lnTo>
                        <a:pt x="67" y="67"/>
                      </a:lnTo>
                      <a:lnTo>
                        <a:pt x="69" y="63"/>
                      </a:lnTo>
                      <a:lnTo>
                        <a:pt x="72" y="61"/>
                      </a:lnTo>
                      <a:lnTo>
                        <a:pt x="73" y="59"/>
                      </a:lnTo>
                      <a:lnTo>
                        <a:pt x="75" y="55"/>
                      </a:lnTo>
                      <a:lnTo>
                        <a:pt x="76" y="50"/>
                      </a:lnTo>
                      <a:lnTo>
                        <a:pt x="78" y="48"/>
                      </a:lnTo>
                      <a:lnTo>
                        <a:pt x="78" y="43"/>
                      </a:lnTo>
                      <a:lnTo>
                        <a:pt x="79" y="41"/>
                      </a:lnTo>
                      <a:lnTo>
                        <a:pt x="78" y="35"/>
                      </a:lnTo>
                      <a:lnTo>
                        <a:pt x="78" y="31"/>
                      </a:lnTo>
                      <a:lnTo>
                        <a:pt x="76" y="28"/>
                      </a:lnTo>
                      <a:lnTo>
                        <a:pt x="75" y="25"/>
                      </a:lnTo>
                      <a:lnTo>
                        <a:pt x="73" y="21"/>
                      </a:lnTo>
                      <a:lnTo>
                        <a:pt x="72" y="18"/>
                      </a:lnTo>
                      <a:lnTo>
                        <a:pt x="69" y="15"/>
                      </a:lnTo>
                      <a:lnTo>
                        <a:pt x="67" y="12"/>
                      </a:lnTo>
                      <a:lnTo>
                        <a:pt x="63" y="10"/>
                      </a:lnTo>
                      <a:lnTo>
                        <a:pt x="61" y="8"/>
                      </a:lnTo>
                      <a:lnTo>
                        <a:pt x="57" y="5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47" y="2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2"/>
                      </a:lnTo>
                      <a:lnTo>
                        <a:pt x="28" y="3"/>
                      </a:lnTo>
                      <a:lnTo>
                        <a:pt x="24" y="4"/>
                      </a:lnTo>
                      <a:lnTo>
                        <a:pt x="21" y="5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2" y="12"/>
                      </a:lnTo>
                      <a:lnTo>
                        <a:pt x="10" y="15"/>
                      </a:lnTo>
                      <a:lnTo>
                        <a:pt x="8" y="18"/>
                      </a:lnTo>
                      <a:lnTo>
                        <a:pt x="5" y="21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2" y="31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4" y="55"/>
                      </a:lnTo>
                      <a:lnTo>
                        <a:pt x="5" y="59"/>
                      </a:lnTo>
                      <a:lnTo>
                        <a:pt x="8" y="61"/>
                      </a:lnTo>
                      <a:lnTo>
                        <a:pt x="10" y="63"/>
                      </a:lnTo>
                      <a:lnTo>
                        <a:pt x="12" y="67"/>
                      </a:lnTo>
                      <a:lnTo>
                        <a:pt x="15" y="68"/>
                      </a:lnTo>
                      <a:lnTo>
                        <a:pt x="18" y="70"/>
                      </a:lnTo>
                      <a:lnTo>
                        <a:pt x="21" y="73"/>
                      </a:lnTo>
                      <a:lnTo>
                        <a:pt x="24" y="75"/>
                      </a:lnTo>
                      <a:lnTo>
                        <a:pt x="28" y="76"/>
                      </a:lnTo>
                      <a:lnTo>
                        <a:pt x="31" y="78"/>
                      </a:lnTo>
                      <a:lnTo>
                        <a:pt x="36" y="79"/>
                      </a:lnTo>
                      <a:lnTo>
                        <a:pt x="40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Freeform 58"/>
                <p:cNvSpPr/>
                <p:nvPr/>
              </p:nvSpPr>
              <p:spPr>
                <a:xfrm>
                  <a:off x="7561080" y="249264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8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7" y="71"/>
                      </a:lnTo>
                      <a:lnTo>
                        <a:pt x="60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8" y="63"/>
                      </a:lnTo>
                      <a:lnTo>
                        <a:pt x="70" y="59"/>
                      </a:lnTo>
                      <a:lnTo>
                        <a:pt x="73" y="56"/>
                      </a:lnTo>
                      <a:lnTo>
                        <a:pt x="75" y="53"/>
                      </a:lnTo>
                      <a:lnTo>
                        <a:pt x="75" y="50"/>
                      </a:lnTo>
                      <a:lnTo>
                        <a:pt x="78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8" y="29"/>
                      </a:lnTo>
                      <a:lnTo>
                        <a:pt x="75" y="26"/>
                      </a:lnTo>
                      <a:lnTo>
                        <a:pt x="75" y="22"/>
                      </a:lnTo>
                      <a:lnTo>
                        <a:pt x="73" y="19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0" y="6"/>
                      </a:lnTo>
                      <a:lnTo>
                        <a:pt x="57" y="3"/>
                      </a:lnTo>
                      <a:lnTo>
                        <a:pt x="54" y="2"/>
                      </a:lnTo>
                      <a:lnTo>
                        <a:pt x="50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6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5"/>
                      </a:lnTo>
                      <a:lnTo>
                        <a:pt x="2" y="50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9" y="63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7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59"/>
                <p:cNvSpPr/>
                <p:nvPr/>
              </p:nvSpPr>
              <p:spPr>
                <a:xfrm>
                  <a:off x="764388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38" y="77"/>
                      </a:moveTo>
                      <a:lnTo>
                        <a:pt x="41" y="76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3" y="72"/>
                      </a:lnTo>
                      <a:lnTo>
                        <a:pt x="56" y="71"/>
                      </a:lnTo>
                      <a:lnTo>
                        <a:pt x="60" y="69"/>
                      </a:lnTo>
                      <a:lnTo>
                        <a:pt x="63" y="66"/>
                      </a:lnTo>
                      <a:lnTo>
                        <a:pt x="65" y="64"/>
                      </a:lnTo>
                      <a:lnTo>
                        <a:pt x="67" y="62"/>
                      </a:lnTo>
                      <a:lnTo>
                        <a:pt x="70" y="59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6" y="49"/>
                      </a:lnTo>
                      <a:lnTo>
                        <a:pt x="76" y="45"/>
                      </a:lnTo>
                      <a:lnTo>
                        <a:pt x="77" y="41"/>
                      </a:lnTo>
                      <a:lnTo>
                        <a:pt x="78" y="38"/>
                      </a:lnTo>
                      <a:lnTo>
                        <a:pt x="77" y="34"/>
                      </a:lnTo>
                      <a:lnTo>
                        <a:pt x="76" y="28"/>
                      </a:lnTo>
                      <a:lnTo>
                        <a:pt x="76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3" y="8"/>
                      </a:lnTo>
                      <a:lnTo>
                        <a:pt x="60" y="6"/>
                      </a:lnTo>
                      <a:lnTo>
                        <a:pt x="56" y="4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7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9"/>
                      </a:lnTo>
                      <a:lnTo>
                        <a:pt x="2" y="53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4"/>
                      </a:lnTo>
                      <a:lnTo>
                        <a:pt x="13" y="66"/>
                      </a:lnTo>
                      <a:lnTo>
                        <a:pt x="16" y="69"/>
                      </a:lnTo>
                      <a:lnTo>
                        <a:pt x="20" y="71"/>
                      </a:lnTo>
                      <a:lnTo>
                        <a:pt x="22" y="72"/>
                      </a:lnTo>
                      <a:lnTo>
                        <a:pt x="26" y="75"/>
                      </a:lnTo>
                      <a:lnTo>
                        <a:pt x="31" y="75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60"/>
                <p:cNvSpPr/>
                <p:nvPr/>
              </p:nvSpPr>
              <p:spPr>
                <a:xfrm>
                  <a:off x="7724520" y="2494080"/>
                  <a:ext cx="39600" cy="399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48" y="75"/>
                      </a:lnTo>
                      <a:lnTo>
                        <a:pt x="53" y="75"/>
                      </a:lnTo>
                      <a:lnTo>
                        <a:pt x="56" y="73"/>
                      </a:lnTo>
                      <a:lnTo>
                        <a:pt x="59" y="70"/>
                      </a:lnTo>
                      <a:lnTo>
                        <a:pt x="61" y="67"/>
                      </a:lnTo>
                      <a:lnTo>
                        <a:pt x="65" y="66"/>
                      </a:lnTo>
                      <a:lnTo>
                        <a:pt x="67" y="62"/>
                      </a:lnTo>
                      <a:lnTo>
                        <a:pt x="70" y="60"/>
                      </a:lnTo>
                      <a:lnTo>
                        <a:pt x="71" y="57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5"/>
                      </a:lnTo>
                      <a:lnTo>
                        <a:pt x="76" y="42"/>
                      </a:lnTo>
                      <a:lnTo>
                        <a:pt x="77" y="38"/>
                      </a:lnTo>
                      <a:lnTo>
                        <a:pt x="76" y="35"/>
                      </a:lnTo>
                      <a:lnTo>
                        <a:pt x="76" y="30"/>
                      </a:lnTo>
                      <a:lnTo>
                        <a:pt x="74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1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5" y="6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2"/>
                      </a:lnTo>
                      <a:lnTo>
                        <a:pt x="10" y="66"/>
                      </a:lnTo>
                      <a:lnTo>
                        <a:pt x="13" y="67"/>
                      </a:lnTo>
                      <a:lnTo>
                        <a:pt x="15" y="70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3" y="77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Freeform 61"/>
                <p:cNvSpPr/>
                <p:nvPr/>
              </p:nvSpPr>
              <p:spPr>
                <a:xfrm>
                  <a:off x="7489800" y="1908360"/>
                  <a:ext cx="29880" cy="14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6" h="27">
                      <a:moveTo>
                        <a:pt x="51" y="0"/>
                      </a:moveTo>
                      <a:lnTo>
                        <a:pt x="51" y="4"/>
                      </a:lnTo>
                      <a:lnTo>
                        <a:pt x="51" y="8"/>
                      </a:lnTo>
                      <a:lnTo>
                        <a:pt x="51" y="12"/>
                      </a:lnTo>
                      <a:lnTo>
                        <a:pt x="53" y="15"/>
                      </a:lnTo>
                      <a:lnTo>
                        <a:pt x="53" y="19"/>
                      </a:lnTo>
                      <a:lnTo>
                        <a:pt x="54" y="22"/>
                      </a:lnTo>
                      <a:lnTo>
                        <a:pt x="55" y="25"/>
                      </a:lnTo>
                      <a:lnTo>
                        <a:pt x="56" y="27"/>
                      </a:lnTo>
                      <a:lnTo>
                        <a:pt x="51" y="27"/>
                      </a:lnTo>
                      <a:lnTo>
                        <a:pt x="48" y="27"/>
                      </a:lnTo>
                      <a:lnTo>
                        <a:pt x="44" y="27"/>
                      </a:lnTo>
                      <a:lnTo>
                        <a:pt x="41" y="27"/>
                      </a:lnTo>
                      <a:lnTo>
                        <a:pt x="37" y="26"/>
                      </a:lnTo>
                      <a:lnTo>
                        <a:pt x="34" y="25"/>
                      </a:lnTo>
                      <a:lnTo>
                        <a:pt x="29" y="23"/>
                      </a:lnTo>
                      <a:lnTo>
                        <a:pt x="26" y="22"/>
                      </a:lnTo>
                      <a:lnTo>
                        <a:pt x="23" y="20"/>
                      </a:lnTo>
                      <a:lnTo>
                        <a:pt x="19" y="18"/>
                      </a:lnTo>
                      <a:lnTo>
                        <a:pt x="16" y="14"/>
                      </a:lnTo>
                      <a:lnTo>
                        <a:pt x="13" y="12"/>
                      </a:lnTo>
                      <a:lnTo>
                        <a:pt x="9" y="9"/>
                      </a:lnTo>
                      <a:lnTo>
                        <a:pt x="6" y="7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9" y="1"/>
                      </a:lnTo>
                      <a:lnTo>
                        <a:pt x="23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Freeform 62"/>
                <p:cNvSpPr/>
                <p:nvPr/>
              </p:nvSpPr>
              <p:spPr>
                <a:xfrm>
                  <a:off x="7272360" y="1908360"/>
                  <a:ext cx="516960" cy="74520"/>
                </a:xfrm>
                <a:custGeom>
                  <a:avLst/>
                  <a:gdLst>
                    <a:gd name="textAreaLeft" fmla="*/ 0 w 516960"/>
                    <a:gd name="textAreaRight" fmla="*/ 517320 w 5169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976" h="139">
                      <a:moveTo>
                        <a:pt x="811" y="11"/>
                      </a:moveTo>
                      <a:lnTo>
                        <a:pt x="812" y="11"/>
                      </a:lnTo>
                      <a:lnTo>
                        <a:pt x="816" y="11"/>
                      </a:lnTo>
                      <a:lnTo>
                        <a:pt x="818" y="11"/>
                      </a:lnTo>
                      <a:lnTo>
                        <a:pt x="822" y="12"/>
                      </a:lnTo>
                      <a:lnTo>
                        <a:pt x="824" y="12"/>
                      </a:lnTo>
                      <a:lnTo>
                        <a:pt x="829" y="12"/>
                      </a:lnTo>
                      <a:lnTo>
                        <a:pt x="827" y="13"/>
                      </a:lnTo>
                      <a:lnTo>
                        <a:pt x="824" y="14"/>
                      </a:lnTo>
                      <a:lnTo>
                        <a:pt x="821" y="16"/>
                      </a:lnTo>
                      <a:lnTo>
                        <a:pt x="818" y="18"/>
                      </a:lnTo>
                      <a:lnTo>
                        <a:pt x="816" y="18"/>
                      </a:lnTo>
                      <a:lnTo>
                        <a:pt x="812" y="20"/>
                      </a:lnTo>
                      <a:lnTo>
                        <a:pt x="810" y="21"/>
                      </a:lnTo>
                      <a:lnTo>
                        <a:pt x="808" y="23"/>
                      </a:lnTo>
                      <a:lnTo>
                        <a:pt x="804" y="24"/>
                      </a:lnTo>
                      <a:lnTo>
                        <a:pt x="802" y="25"/>
                      </a:lnTo>
                      <a:lnTo>
                        <a:pt x="798" y="26"/>
                      </a:lnTo>
                      <a:lnTo>
                        <a:pt x="795" y="27"/>
                      </a:lnTo>
                      <a:lnTo>
                        <a:pt x="792" y="29"/>
                      </a:lnTo>
                      <a:lnTo>
                        <a:pt x="790" y="30"/>
                      </a:lnTo>
                      <a:lnTo>
                        <a:pt x="785" y="31"/>
                      </a:lnTo>
                      <a:lnTo>
                        <a:pt x="783" y="32"/>
                      </a:lnTo>
                      <a:lnTo>
                        <a:pt x="779" y="33"/>
                      </a:lnTo>
                      <a:lnTo>
                        <a:pt x="777" y="33"/>
                      </a:lnTo>
                      <a:lnTo>
                        <a:pt x="772" y="35"/>
                      </a:lnTo>
                      <a:lnTo>
                        <a:pt x="770" y="36"/>
                      </a:lnTo>
                      <a:lnTo>
                        <a:pt x="766" y="36"/>
                      </a:lnTo>
                      <a:lnTo>
                        <a:pt x="764" y="36"/>
                      </a:lnTo>
                      <a:lnTo>
                        <a:pt x="761" y="36"/>
                      </a:lnTo>
                      <a:lnTo>
                        <a:pt x="758" y="36"/>
                      </a:lnTo>
                      <a:lnTo>
                        <a:pt x="755" y="35"/>
                      </a:lnTo>
                      <a:lnTo>
                        <a:pt x="752" y="33"/>
                      </a:lnTo>
                      <a:lnTo>
                        <a:pt x="750" y="32"/>
                      </a:lnTo>
                      <a:lnTo>
                        <a:pt x="748" y="31"/>
                      </a:lnTo>
                      <a:lnTo>
                        <a:pt x="746" y="29"/>
                      </a:lnTo>
                      <a:lnTo>
                        <a:pt x="744" y="26"/>
                      </a:lnTo>
                      <a:lnTo>
                        <a:pt x="741" y="24"/>
                      </a:lnTo>
                      <a:lnTo>
                        <a:pt x="740" y="21"/>
                      </a:lnTo>
                      <a:lnTo>
                        <a:pt x="735" y="24"/>
                      </a:lnTo>
                      <a:lnTo>
                        <a:pt x="732" y="25"/>
                      </a:lnTo>
                      <a:lnTo>
                        <a:pt x="727" y="27"/>
                      </a:lnTo>
                      <a:lnTo>
                        <a:pt x="723" y="30"/>
                      </a:lnTo>
                      <a:lnTo>
                        <a:pt x="721" y="32"/>
                      </a:lnTo>
                      <a:lnTo>
                        <a:pt x="719" y="33"/>
                      </a:lnTo>
                      <a:lnTo>
                        <a:pt x="716" y="36"/>
                      </a:lnTo>
                      <a:lnTo>
                        <a:pt x="715" y="38"/>
                      </a:lnTo>
                      <a:lnTo>
                        <a:pt x="712" y="40"/>
                      </a:lnTo>
                      <a:lnTo>
                        <a:pt x="710" y="43"/>
                      </a:lnTo>
                      <a:lnTo>
                        <a:pt x="708" y="45"/>
                      </a:lnTo>
                      <a:lnTo>
                        <a:pt x="707" y="46"/>
                      </a:lnTo>
                      <a:lnTo>
                        <a:pt x="704" y="46"/>
                      </a:lnTo>
                      <a:lnTo>
                        <a:pt x="702" y="46"/>
                      </a:lnTo>
                      <a:lnTo>
                        <a:pt x="698" y="44"/>
                      </a:lnTo>
                      <a:lnTo>
                        <a:pt x="695" y="42"/>
                      </a:lnTo>
                      <a:lnTo>
                        <a:pt x="691" y="39"/>
                      </a:lnTo>
                      <a:lnTo>
                        <a:pt x="688" y="38"/>
                      </a:lnTo>
                      <a:lnTo>
                        <a:pt x="684" y="36"/>
                      </a:lnTo>
                      <a:lnTo>
                        <a:pt x="681" y="32"/>
                      </a:lnTo>
                      <a:lnTo>
                        <a:pt x="678" y="31"/>
                      </a:lnTo>
                      <a:lnTo>
                        <a:pt x="676" y="30"/>
                      </a:lnTo>
                      <a:lnTo>
                        <a:pt x="672" y="27"/>
                      </a:lnTo>
                      <a:lnTo>
                        <a:pt x="670" y="26"/>
                      </a:lnTo>
                      <a:lnTo>
                        <a:pt x="666" y="24"/>
                      </a:lnTo>
                      <a:lnTo>
                        <a:pt x="664" y="23"/>
                      </a:lnTo>
                      <a:lnTo>
                        <a:pt x="661" y="20"/>
                      </a:lnTo>
                      <a:lnTo>
                        <a:pt x="658" y="18"/>
                      </a:lnTo>
                      <a:lnTo>
                        <a:pt x="656" y="23"/>
                      </a:lnTo>
                      <a:lnTo>
                        <a:pt x="653" y="29"/>
                      </a:lnTo>
                      <a:lnTo>
                        <a:pt x="652" y="32"/>
                      </a:lnTo>
                      <a:lnTo>
                        <a:pt x="650" y="38"/>
                      </a:lnTo>
                      <a:lnTo>
                        <a:pt x="650" y="42"/>
                      </a:lnTo>
                      <a:lnTo>
                        <a:pt x="649" y="45"/>
                      </a:lnTo>
                      <a:lnTo>
                        <a:pt x="647" y="49"/>
                      </a:lnTo>
                      <a:lnTo>
                        <a:pt x="647" y="52"/>
                      </a:lnTo>
                      <a:lnTo>
                        <a:pt x="647" y="55"/>
                      </a:lnTo>
                      <a:lnTo>
                        <a:pt x="647" y="58"/>
                      </a:lnTo>
                      <a:lnTo>
                        <a:pt x="647" y="61"/>
                      </a:lnTo>
                      <a:lnTo>
                        <a:pt x="650" y="63"/>
                      </a:lnTo>
                      <a:lnTo>
                        <a:pt x="650" y="67"/>
                      </a:lnTo>
                      <a:lnTo>
                        <a:pt x="653" y="70"/>
                      </a:lnTo>
                      <a:lnTo>
                        <a:pt x="657" y="71"/>
                      </a:lnTo>
                      <a:lnTo>
                        <a:pt x="661" y="74"/>
                      </a:lnTo>
                      <a:lnTo>
                        <a:pt x="664" y="74"/>
                      </a:lnTo>
                      <a:lnTo>
                        <a:pt x="669" y="74"/>
                      </a:lnTo>
                      <a:lnTo>
                        <a:pt x="671" y="74"/>
                      </a:lnTo>
                      <a:lnTo>
                        <a:pt x="674" y="74"/>
                      </a:lnTo>
                      <a:lnTo>
                        <a:pt x="677" y="74"/>
                      </a:lnTo>
                      <a:lnTo>
                        <a:pt x="681" y="74"/>
                      </a:lnTo>
                      <a:lnTo>
                        <a:pt x="683" y="73"/>
                      </a:lnTo>
                      <a:lnTo>
                        <a:pt x="685" y="73"/>
                      </a:lnTo>
                      <a:lnTo>
                        <a:pt x="688" y="71"/>
                      </a:lnTo>
                      <a:lnTo>
                        <a:pt x="691" y="71"/>
                      </a:lnTo>
                      <a:lnTo>
                        <a:pt x="695" y="70"/>
                      </a:lnTo>
                      <a:lnTo>
                        <a:pt x="697" y="69"/>
                      </a:lnTo>
                      <a:lnTo>
                        <a:pt x="701" y="68"/>
                      </a:lnTo>
                      <a:lnTo>
                        <a:pt x="704" y="67"/>
                      </a:lnTo>
                      <a:lnTo>
                        <a:pt x="707" y="65"/>
                      </a:lnTo>
                      <a:lnTo>
                        <a:pt x="710" y="65"/>
                      </a:lnTo>
                      <a:lnTo>
                        <a:pt x="714" y="64"/>
                      </a:lnTo>
                      <a:lnTo>
                        <a:pt x="717" y="63"/>
                      </a:lnTo>
                      <a:lnTo>
                        <a:pt x="720" y="62"/>
                      </a:lnTo>
                      <a:lnTo>
                        <a:pt x="723" y="61"/>
                      </a:lnTo>
                      <a:lnTo>
                        <a:pt x="726" y="59"/>
                      </a:lnTo>
                      <a:lnTo>
                        <a:pt x="729" y="58"/>
                      </a:lnTo>
                      <a:lnTo>
                        <a:pt x="733" y="58"/>
                      </a:lnTo>
                      <a:lnTo>
                        <a:pt x="736" y="57"/>
                      </a:lnTo>
                      <a:lnTo>
                        <a:pt x="739" y="56"/>
                      </a:lnTo>
                      <a:lnTo>
                        <a:pt x="741" y="56"/>
                      </a:lnTo>
                      <a:lnTo>
                        <a:pt x="744" y="55"/>
                      </a:lnTo>
                      <a:lnTo>
                        <a:pt x="747" y="55"/>
                      </a:lnTo>
                      <a:lnTo>
                        <a:pt x="751" y="54"/>
                      </a:lnTo>
                      <a:lnTo>
                        <a:pt x="753" y="54"/>
                      </a:lnTo>
                      <a:lnTo>
                        <a:pt x="758" y="52"/>
                      </a:lnTo>
                      <a:lnTo>
                        <a:pt x="763" y="54"/>
                      </a:lnTo>
                      <a:lnTo>
                        <a:pt x="766" y="54"/>
                      </a:lnTo>
                      <a:lnTo>
                        <a:pt x="770" y="55"/>
                      </a:lnTo>
                      <a:lnTo>
                        <a:pt x="772" y="56"/>
                      </a:lnTo>
                      <a:lnTo>
                        <a:pt x="774" y="59"/>
                      </a:lnTo>
                      <a:lnTo>
                        <a:pt x="774" y="63"/>
                      </a:lnTo>
                      <a:lnTo>
                        <a:pt x="777" y="65"/>
                      </a:lnTo>
                      <a:lnTo>
                        <a:pt x="777" y="68"/>
                      </a:lnTo>
                      <a:lnTo>
                        <a:pt x="779" y="71"/>
                      </a:lnTo>
                      <a:lnTo>
                        <a:pt x="780" y="74"/>
                      </a:lnTo>
                      <a:lnTo>
                        <a:pt x="782" y="77"/>
                      </a:lnTo>
                      <a:lnTo>
                        <a:pt x="784" y="80"/>
                      </a:lnTo>
                      <a:lnTo>
                        <a:pt x="786" y="82"/>
                      </a:lnTo>
                      <a:lnTo>
                        <a:pt x="790" y="83"/>
                      </a:lnTo>
                      <a:lnTo>
                        <a:pt x="792" y="86"/>
                      </a:lnTo>
                      <a:lnTo>
                        <a:pt x="795" y="87"/>
                      </a:lnTo>
                      <a:lnTo>
                        <a:pt x="798" y="88"/>
                      </a:lnTo>
                      <a:lnTo>
                        <a:pt x="801" y="88"/>
                      </a:lnTo>
                      <a:lnTo>
                        <a:pt x="804" y="90"/>
                      </a:lnTo>
                      <a:lnTo>
                        <a:pt x="808" y="90"/>
                      </a:lnTo>
                      <a:lnTo>
                        <a:pt x="812" y="92"/>
                      </a:lnTo>
                      <a:lnTo>
                        <a:pt x="816" y="92"/>
                      </a:lnTo>
                      <a:lnTo>
                        <a:pt x="820" y="92"/>
                      </a:lnTo>
                      <a:lnTo>
                        <a:pt x="823" y="90"/>
                      </a:lnTo>
                      <a:lnTo>
                        <a:pt x="828" y="89"/>
                      </a:lnTo>
                      <a:lnTo>
                        <a:pt x="831" y="88"/>
                      </a:lnTo>
                      <a:lnTo>
                        <a:pt x="836" y="86"/>
                      </a:lnTo>
                      <a:lnTo>
                        <a:pt x="840" y="83"/>
                      </a:lnTo>
                      <a:lnTo>
                        <a:pt x="846" y="82"/>
                      </a:lnTo>
                      <a:lnTo>
                        <a:pt x="849" y="78"/>
                      </a:lnTo>
                      <a:lnTo>
                        <a:pt x="853" y="76"/>
                      </a:lnTo>
                      <a:lnTo>
                        <a:pt x="857" y="71"/>
                      </a:lnTo>
                      <a:lnTo>
                        <a:pt x="862" y="68"/>
                      </a:lnTo>
                      <a:lnTo>
                        <a:pt x="867" y="63"/>
                      </a:lnTo>
                      <a:lnTo>
                        <a:pt x="871" y="58"/>
                      </a:lnTo>
                      <a:lnTo>
                        <a:pt x="873" y="56"/>
                      </a:lnTo>
                      <a:lnTo>
                        <a:pt x="875" y="54"/>
                      </a:lnTo>
                      <a:lnTo>
                        <a:pt x="878" y="50"/>
                      </a:lnTo>
                      <a:lnTo>
                        <a:pt x="880" y="48"/>
                      </a:lnTo>
                      <a:lnTo>
                        <a:pt x="878" y="45"/>
                      </a:lnTo>
                      <a:lnTo>
                        <a:pt x="875" y="44"/>
                      </a:lnTo>
                      <a:lnTo>
                        <a:pt x="873" y="43"/>
                      </a:lnTo>
                      <a:lnTo>
                        <a:pt x="868" y="43"/>
                      </a:lnTo>
                      <a:lnTo>
                        <a:pt x="865" y="43"/>
                      </a:lnTo>
                      <a:lnTo>
                        <a:pt x="860" y="43"/>
                      </a:lnTo>
                      <a:lnTo>
                        <a:pt x="855" y="43"/>
                      </a:lnTo>
                      <a:lnTo>
                        <a:pt x="850" y="43"/>
                      </a:lnTo>
                      <a:lnTo>
                        <a:pt x="847" y="43"/>
                      </a:lnTo>
                      <a:lnTo>
                        <a:pt x="844" y="43"/>
                      </a:lnTo>
                      <a:lnTo>
                        <a:pt x="842" y="43"/>
                      </a:lnTo>
                      <a:lnTo>
                        <a:pt x="840" y="44"/>
                      </a:lnTo>
                      <a:lnTo>
                        <a:pt x="835" y="44"/>
                      </a:lnTo>
                      <a:lnTo>
                        <a:pt x="830" y="44"/>
                      </a:lnTo>
                      <a:lnTo>
                        <a:pt x="825" y="43"/>
                      </a:lnTo>
                      <a:lnTo>
                        <a:pt x="823" y="43"/>
                      </a:lnTo>
                      <a:lnTo>
                        <a:pt x="820" y="40"/>
                      </a:lnTo>
                      <a:lnTo>
                        <a:pt x="820" y="39"/>
                      </a:lnTo>
                      <a:lnTo>
                        <a:pt x="821" y="37"/>
                      </a:lnTo>
                      <a:lnTo>
                        <a:pt x="822" y="33"/>
                      </a:lnTo>
                      <a:lnTo>
                        <a:pt x="824" y="31"/>
                      </a:lnTo>
                      <a:lnTo>
                        <a:pt x="827" y="30"/>
                      </a:lnTo>
                      <a:lnTo>
                        <a:pt x="829" y="25"/>
                      </a:lnTo>
                      <a:lnTo>
                        <a:pt x="833" y="23"/>
                      </a:lnTo>
                      <a:lnTo>
                        <a:pt x="834" y="19"/>
                      </a:lnTo>
                      <a:lnTo>
                        <a:pt x="836" y="17"/>
                      </a:lnTo>
                      <a:lnTo>
                        <a:pt x="837" y="14"/>
                      </a:lnTo>
                      <a:lnTo>
                        <a:pt x="839" y="12"/>
                      </a:lnTo>
                      <a:lnTo>
                        <a:pt x="842" y="12"/>
                      </a:lnTo>
                      <a:lnTo>
                        <a:pt x="847" y="12"/>
                      </a:lnTo>
                      <a:lnTo>
                        <a:pt x="852" y="12"/>
                      </a:lnTo>
                      <a:lnTo>
                        <a:pt x="857" y="13"/>
                      </a:lnTo>
                      <a:lnTo>
                        <a:pt x="860" y="13"/>
                      </a:lnTo>
                      <a:lnTo>
                        <a:pt x="862" y="13"/>
                      </a:lnTo>
                      <a:lnTo>
                        <a:pt x="865" y="13"/>
                      </a:lnTo>
                      <a:lnTo>
                        <a:pt x="868" y="13"/>
                      </a:lnTo>
                      <a:lnTo>
                        <a:pt x="871" y="13"/>
                      </a:lnTo>
                      <a:lnTo>
                        <a:pt x="873" y="14"/>
                      </a:lnTo>
                      <a:lnTo>
                        <a:pt x="875" y="14"/>
                      </a:lnTo>
                      <a:lnTo>
                        <a:pt x="879" y="16"/>
                      </a:lnTo>
                      <a:lnTo>
                        <a:pt x="881" y="16"/>
                      </a:lnTo>
                      <a:lnTo>
                        <a:pt x="885" y="16"/>
                      </a:lnTo>
                      <a:lnTo>
                        <a:pt x="888" y="16"/>
                      </a:lnTo>
                      <a:lnTo>
                        <a:pt x="891" y="16"/>
                      </a:lnTo>
                      <a:lnTo>
                        <a:pt x="893" y="16"/>
                      </a:lnTo>
                      <a:lnTo>
                        <a:pt x="895" y="16"/>
                      </a:lnTo>
                      <a:lnTo>
                        <a:pt x="899" y="16"/>
                      </a:lnTo>
                      <a:lnTo>
                        <a:pt x="901" y="16"/>
                      </a:lnTo>
                      <a:lnTo>
                        <a:pt x="904" y="16"/>
                      </a:lnTo>
                      <a:lnTo>
                        <a:pt x="907" y="16"/>
                      </a:lnTo>
                      <a:lnTo>
                        <a:pt x="910" y="16"/>
                      </a:lnTo>
                      <a:lnTo>
                        <a:pt x="913" y="16"/>
                      </a:lnTo>
                      <a:lnTo>
                        <a:pt x="916" y="16"/>
                      </a:lnTo>
                      <a:lnTo>
                        <a:pt x="918" y="17"/>
                      </a:lnTo>
                      <a:lnTo>
                        <a:pt x="922" y="17"/>
                      </a:lnTo>
                      <a:lnTo>
                        <a:pt x="924" y="18"/>
                      </a:lnTo>
                      <a:lnTo>
                        <a:pt x="929" y="18"/>
                      </a:lnTo>
                      <a:lnTo>
                        <a:pt x="935" y="18"/>
                      </a:lnTo>
                      <a:lnTo>
                        <a:pt x="939" y="18"/>
                      </a:lnTo>
                      <a:lnTo>
                        <a:pt x="944" y="18"/>
                      </a:lnTo>
                      <a:lnTo>
                        <a:pt x="949" y="18"/>
                      </a:lnTo>
                      <a:lnTo>
                        <a:pt x="954" y="18"/>
                      </a:lnTo>
                      <a:lnTo>
                        <a:pt x="956" y="18"/>
                      </a:lnTo>
                      <a:lnTo>
                        <a:pt x="961" y="19"/>
                      </a:lnTo>
                      <a:lnTo>
                        <a:pt x="964" y="19"/>
                      </a:lnTo>
                      <a:lnTo>
                        <a:pt x="967" y="19"/>
                      </a:lnTo>
                      <a:lnTo>
                        <a:pt x="969" y="19"/>
                      </a:lnTo>
                      <a:lnTo>
                        <a:pt x="971" y="20"/>
                      </a:lnTo>
                      <a:lnTo>
                        <a:pt x="974" y="20"/>
                      </a:lnTo>
                      <a:lnTo>
                        <a:pt x="976" y="20"/>
                      </a:lnTo>
                      <a:lnTo>
                        <a:pt x="973" y="106"/>
                      </a:lnTo>
                      <a:lnTo>
                        <a:pt x="806" y="97"/>
                      </a:lnTo>
                      <a:lnTo>
                        <a:pt x="793" y="96"/>
                      </a:lnTo>
                      <a:lnTo>
                        <a:pt x="782" y="96"/>
                      </a:lnTo>
                      <a:lnTo>
                        <a:pt x="770" y="95"/>
                      </a:lnTo>
                      <a:lnTo>
                        <a:pt x="757" y="95"/>
                      </a:lnTo>
                      <a:lnTo>
                        <a:pt x="744" y="94"/>
                      </a:lnTo>
                      <a:lnTo>
                        <a:pt x="732" y="94"/>
                      </a:lnTo>
                      <a:lnTo>
                        <a:pt x="719" y="93"/>
                      </a:lnTo>
                      <a:lnTo>
                        <a:pt x="706" y="92"/>
                      </a:lnTo>
                      <a:lnTo>
                        <a:pt x="694" y="92"/>
                      </a:lnTo>
                      <a:lnTo>
                        <a:pt x="681" y="90"/>
                      </a:lnTo>
                      <a:lnTo>
                        <a:pt x="668" y="89"/>
                      </a:lnTo>
                      <a:lnTo>
                        <a:pt x="656" y="88"/>
                      </a:lnTo>
                      <a:lnTo>
                        <a:pt x="643" y="88"/>
                      </a:lnTo>
                      <a:lnTo>
                        <a:pt x="630" y="88"/>
                      </a:lnTo>
                      <a:lnTo>
                        <a:pt x="618" y="87"/>
                      </a:lnTo>
                      <a:lnTo>
                        <a:pt x="606" y="87"/>
                      </a:lnTo>
                      <a:lnTo>
                        <a:pt x="593" y="86"/>
                      </a:lnTo>
                      <a:lnTo>
                        <a:pt x="580" y="86"/>
                      </a:lnTo>
                      <a:lnTo>
                        <a:pt x="568" y="86"/>
                      </a:lnTo>
                      <a:lnTo>
                        <a:pt x="555" y="86"/>
                      </a:lnTo>
                      <a:lnTo>
                        <a:pt x="543" y="84"/>
                      </a:lnTo>
                      <a:lnTo>
                        <a:pt x="530" y="84"/>
                      </a:lnTo>
                      <a:lnTo>
                        <a:pt x="518" y="84"/>
                      </a:lnTo>
                      <a:lnTo>
                        <a:pt x="505" y="84"/>
                      </a:lnTo>
                      <a:lnTo>
                        <a:pt x="492" y="84"/>
                      </a:lnTo>
                      <a:lnTo>
                        <a:pt x="480" y="84"/>
                      </a:lnTo>
                      <a:lnTo>
                        <a:pt x="468" y="84"/>
                      </a:lnTo>
                      <a:lnTo>
                        <a:pt x="455" y="84"/>
                      </a:lnTo>
                      <a:lnTo>
                        <a:pt x="442" y="84"/>
                      </a:lnTo>
                      <a:lnTo>
                        <a:pt x="430" y="84"/>
                      </a:lnTo>
                      <a:lnTo>
                        <a:pt x="418" y="86"/>
                      </a:lnTo>
                      <a:lnTo>
                        <a:pt x="407" y="86"/>
                      </a:lnTo>
                      <a:lnTo>
                        <a:pt x="394" y="86"/>
                      </a:lnTo>
                      <a:lnTo>
                        <a:pt x="382" y="86"/>
                      </a:lnTo>
                      <a:lnTo>
                        <a:pt x="369" y="86"/>
                      </a:lnTo>
                      <a:lnTo>
                        <a:pt x="357" y="87"/>
                      </a:lnTo>
                      <a:lnTo>
                        <a:pt x="344" y="87"/>
                      </a:lnTo>
                      <a:lnTo>
                        <a:pt x="332" y="88"/>
                      </a:lnTo>
                      <a:lnTo>
                        <a:pt x="320" y="88"/>
                      </a:lnTo>
                      <a:lnTo>
                        <a:pt x="308" y="90"/>
                      </a:lnTo>
                      <a:lnTo>
                        <a:pt x="295" y="90"/>
                      </a:lnTo>
                      <a:lnTo>
                        <a:pt x="283" y="92"/>
                      </a:lnTo>
                      <a:lnTo>
                        <a:pt x="270" y="93"/>
                      </a:lnTo>
                      <a:lnTo>
                        <a:pt x="258" y="94"/>
                      </a:lnTo>
                      <a:lnTo>
                        <a:pt x="245" y="95"/>
                      </a:lnTo>
                      <a:lnTo>
                        <a:pt x="235" y="96"/>
                      </a:lnTo>
                      <a:lnTo>
                        <a:pt x="223" y="99"/>
                      </a:lnTo>
                      <a:lnTo>
                        <a:pt x="210" y="100"/>
                      </a:lnTo>
                      <a:lnTo>
                        <a:pt x="198" y="101"/>
                      </a:lnTo>
                      <a:lnTo>
                        <a:pt x="186" y="103"/>
                      </a:lnTo>
                      <a:lnTo>
                        <a:pt x="174" y="105"/>
                      </a:lnTo>
                      <a:lnTo>
                        <a:pt x="162" y="106"/>
                      </a:lnTo>
                      <a:lnTo>
                        <a:pt x="150" y="108"/>
                      </a:lnTo>
                      <a:lnTo>
                        <a:pt x="138" y="111"/>
                      </a:lnTo>
                      <a:lnTo>
                        <a:pt x="127" y="113"/>
                      </a:lnTo>
                      <a:lnTo>
                        <a:pt x="116" y="115"/>
                      </a:lnTo>
                      <a:lnTo>
                        <a:pt x="103" y="118"/>
                      </a:lnTo>
                      <a:lnTo>
                        <a:pt x="92" y="120"/>
                      </a:lnTo>
                      <a:lnTo>
                        <a:pt x="80" y="124"/>
                      </a:lnTo>
                      <a:lnTo>
                        <a:pt x="70" y="126"/>
                      </a:lnTo>
                      <a:lnTo>
                        <a:pt x="58" y="130"/>
                      </a:lnTo>
                      <a:lnTo>
                        <a:pt x="46" y="132"/>
                      </a:lnTo>
                      <a:lnTo>
                        <a:pt x="35" y="134"/>
                      </a:lnTo>
                      <a:lnTo>
                        <a:pt x="23" y="139"/>
                      </a:lnTo>
                      <a:lnTo>
                        <a:pt x="0" y="56"/>
                      </a:lnTo>
                      <a:lnTo>
                        <a:pt x="4" y="54"/>
                      </a:lnTo>
                      <a:lnTo>
                        <a:pt x="10" y="52"/>
                      </a:lnTo>
                      <a:lnTo>
                        <a:pt x="13" y="51"/>
                      </a:lnTo>
                      <a:lnTo>
                        <a:pt x="15" y="50"/>
                      </a:lnTo>
                      <a:lnTo>
                        <a:pt x="17" y="50"/>
                      </a:lnTo>
                      <a:lnTo>
                        <a:pt x="21" y="49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3" y="45"/>
                      </a:lnTo>
                      <a:lnTo>
                        <a:pt x="36" y="45"/>
                      </a:lnTo>
                      <a:lnTo>
                        <a:pt x="39" y="44"/>
                      </a:lnTo>
                      <a:lnTo>
                        <a:pt x="42" y="44"/>
                      </a:lnTo>
                      <a:lnTo>
                        <a:pt x="45" y="43"/>
                      </a:lnTo>
                      <a:lnTo>
                        <a:pt x="47" y="43"/>
                      </a:lnTo>
                      <a:lnTo>
                        <a:pt x="49" y="42"/>
                      </a:lnTo>
                      <a:lnTo>
                        <a:pt x="53" y="40"/>
                      </a:lnTo>
                      <a:lnTo>
                        <a:pt x="55" y="40"/>
                      </a:lnTo>
                      <a:lnTo>
                        <a:pt x="58" y="39"/>
                      </a:lnTo>
                      <a:lnTo>
                        <a:pt x="60" y="38"/>
                      </a:lnTo>
                      <a:lnTo>
                        <a:pt x="64" y="38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71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5"/>
                      </a:lnTo>
                      <a:lnTo>
                        <a:pt x="83" y="33"/>
                      </a:lnTo>
                      <a:lnTo>
                        <a:pt x="86" y="33"/>
                      </a:lnTo>
                      <a:lnTo>
                        <a:pt x="89" y="32"/>
                      </a:lnTo>
                      <a:lnTo>
                        <a:pt x="91" y="32"/>
                      </a:lnTo>
                      <a:lnTo>
                        <a:pt x="93" y="31"/>
                      </a:lnTo>
                      <a:lnTo>
                        <a:pt x="96" y="31"/>
                      </a:lnTo>
                      <a:lnTo>
                        <a:pt x="98" y="30"/>
                      </a:lnTo>
                      <a:lnTo>
                        <a:pt x="100" y="30"/>
                      </a:lnTo>
                      <a:lnTo>
                        <a:pt x="104" y="29"/>
                      </a:lnTo>
                      <a:lnTo>
                        <a:pt x="108" y="29"/>
                      </a:lnTo>
                      <a:lnTo>
                        <a:pt x="110" y="27"/>
                      </a:lnTo>
                      <a:lnTo>
                        <a:pt x="112" y="27"/>
                      </a:lnTo>
                      <a:lnTo>
                        <a:pt x="115" y="27"/>
                      </a:lnTo>
                      <a:lnTo>
                        <a:pt x="118" y="26"/>
                      </a:lnTo>
                      <a:lnTo>
                        <a:pt x="121" y="26"/>
                      </a:lnTo>
                      <a:lnTo>
                        <a:pt x="123" y="25"/>
                      </a:lnTo>
                      <a:lnTo>
                        <a:pt x="127" y="25"/>
                      </a:lnTo>
                      <a:lnTo>
                        <a:pt x="129" y="25"/>
                      </a:lnTo>
                      <a:lnTo>
                        <a:pt x="131" y="24"/>
                      </a:lnTo>
                      <a:lnTo>
                        <a:pt x="134" y="24"/>
                      </a:lnTo>
                      <a:lnTo>
                        <a:pt x="136" y="23"/>
                      </a:lnTo>
                      <a:lnTo>
                        <a:pt x="140" y="23"/>
                      </a:lnTo>
                      <a:lnTo>
                        <a:pt x="142" y="21"/>
                      </a:lnTo>
                      <a:lnTo>
                        <a:pt x="144" y="21"/>
                      </a:lnTo>
                      <a:lnTo>
                        <a:pt x="148" y="20"/>
                      </a:lnTo>
                      <a:lnTo>
                        <a:pt x="150" y="20"/>
                      </a:lnTo>
                      <a:lnTo>
                        <a:pt x="153" y="20"/>
                      </a:lnTo>
                      <a:lnTo>
                        <a:pt x="156" y="20"/>
                      </a:lnTo>
                      <a:lnTo>
                        <a:pt x="159" y="20"/>
                      </a:lnTo>
                      <a:lnTo>
                        <a:pt x="162" y="20"/>
                      </a:lnTo>
                      <a:lnTo>
                        <a:pt x="165" y="19"/>
                      </a:lnTo>
                      <a:lnTo>
                        <a:pt x="167" y="18"/>
                      </a:lnTo>
                      <a:lnTo>
                        <a:pt x="170" y="18"/>
                      </a:lnTo>
                      <a:lnTo>
                        <a:pt x="173" y="18"/>
                      </a:lnTo>
                      <a:lnTo>
                        <a:pt x="173" y="20"/>
                      </a:lnTo>
                      <a:lnTo>
                        <a:pt x="174" y="24"/>
                      </a:lnTo>
                      <a:lnTo>
                        <a:pt x="175" y="26"/>
                      </a:lnTo>
                      <a:lnTo>
                        <a:pt x="176" y="30"/>
                      </a:lnTo>
                      <a:lnTo>
                        <a:pt x="176" y="32"/>
                      </a:lnTo>
                      <a:lnTo>
                        <a:pt x="178" y="36"/>
                      </a:lnTo>
                      <a:lnTo>
                        <a:pt x="179" y="38"/>
                      </a:lnTo>
                      <a:lnTo>
                        <a:pt x="179" y="43"/>
                      </a:lnTo>
                      <a:lnTo>
                        <a:pt x="184" y="43"/>
                      </a:lnTo>
                      <a:lnTo>
                        <a:pt x="187" y="43"/>
                      </a:lnTo>
                      <a:lnTo>
                        <a:pt x="192" y="43"/>
                      </a:lnTo>
                      <a:lnTo>
                        <a:pt x="197" y="43"/>
                      </a:lnTo>
                      <a:lnTo>
                        <a:pt x="200" y="43"/>
                      </a:lnTo>
                      <a:lnTo>
                        <a:pt x="205" y="43"/>
                      </a:lnTo>
                      <a:lnTo>
                        <a:pt x="210" y="43"/>
                      </a:lnTo>
                      <a:lnTo>
                        <a:pt x="214" y="43"/>
                      </a:lnTo>
                      <a:lnTo>
                        <a:pt x="214" y="39"/>
                      </a:lnTo>
                      <a:lnTo>
                        <a:pt x="217" y="36"/>
                      </a:lnTo>
                      <a:lnTo>
                        <a:pt x="219" y="33"/>
                      </a:lnTo>
                      <a:lnTo>
                        <a:pt x="220" y="32"/>
                      </a:lnTo>
                      <a:lnTo>
                        <a:pt x="224" y="27"/>
                      </a:lnTo>
                      <a:lnTo>
                        <a:pt x="227" y="25"/>
                      </a:lnTo>
                      <a:lnTo>
                        <a:pt x="230" y="24"/>
                      </a:lnTo>
                      <a:lnTo>
                        <a:pt x="233" y="23"/>
                      </a:lnTo>
                      <a:lnTo>
                        <a:pt x="237" y="23"/>
                      </a:lnTo>
                      <a:lnTo>
                        <a:pt x="241" y="23"/>
                      </a:lnTo>
                      <a:lnTo>
                        <a:pt x="243" y="23"/>
                      </a:lnTo>
                      <a:lnTo>
                        <a:pt x="245" y="25"/>
                      </a:lnTo>
                      <a:lnTo>
                        <a:pt x="248" y="26"/>
                      </a:lnTo>
                      <a:lnTo>
                        <a:pt x="250" y="30"/>
                      </a:lnTo>
                      <a:lnTo>
                        <a:pt x="252" y="32"/>
                      </a:lnTo>
                      <a:lnTo>
                        <a:pt x="256" y="36"/>
                      </a:lnTo>
                      <a:lnTo>
                        <a:pt x="258" y="38"/>
                      </a:lnTo>
                      <a:lnTo>
                        <a:pt x="262" y="43"/>
                      </a:lnTo>
                      <a:lnTo>
                        <a:pt x="264" y="46"/>
                      </a:lnTo>
                      <a:lnTo>
                        <a:pt x="267" y="50"/>
                      </a:lnTo>
                      <a:lnTo>
                        <a:pt x="269" y="54"/>
                      </a:lnTo>
                      <a:lnTo>
                        <a:pt x="273" y="58"/>
                      </a:lnTo>
                      <a:lnTo>
                        <a:pt x="275" y="62"/>
                      </a:lnTo>
                      <a:lnTo>
                        <a:pt x="277" y="65"/>
                      </a:lnTo>
                      <a:lnTo>
                        <a:pt x="281" y="69"/>
                      </a:lnTo>
                      <a:lnTo>
                        <a:pt x="284" y="73"/>
                      </a:lnTo>
                      <a:lnTo>
                        <a:pt x="287" y="75"/>
                      </a:lnTo>
                      <a:lnTo>
                        <a:pt x="290" y="78"/>
                      </a:lnTo>
                      <a:lnTo>
                        <a:pt x="293" y="81"/>
                      </a:lnTo>
                      <a:lnTo>
                        <a:pt x="297" y="82"/>
                      </a:lnTo>
                      <a:lnTo>
                        <a:pt x="301" y="83"/>
                      </a:lnTo>
                      <a:lnTo>
                        <a:pt x="305" y="83"/>
                      </a:lnTo>
                      <a:lnTo>
                        <a:pt x="308" y="83"/>
                      </a:lnTo>
                      <a:lnTo>
                        <a:pt x="314" y="83"/>
                      </a:lnTo>
                      <a:lnTo>
                        <a:pt x="315" y="81"/>
                      </a:lnTo>
                      <a:lnTo>
                        <a:pt x="316" y="77"/>
                      </a:lnTo>
                      <a:lnTo>
                        <a:pt x="319" y="75"/>
                      </a:lnTo>
                      <a:lnTo>
                        <a:pt x="320" y="73"/>
                      </a:lnTo>
                      <a:lnTo>
                        <a:pt x="321" y="70"/>
                      </a:lnTo>
                      <a:lnTo>
                        <a:pt x="321" y="67"/>
                      </a:lnTo>
                      <a:lnTo>
                        <a:pt x="322" y="64"/>
                      </a:lnTo>
                      <a:lnTo>
                        <a:pt x="324" y="62"/>
                      </a:lnTo>
                      <a:lnTo>
                        <a:pt x="324" y="59"/>
                      </a:lnTo>
                      <a:lnTo>
                        <a:pt x="324" y="57"/>
                      </a:lnTo>
                      <a:lnTo>
                        <a:pt x="324" y="54"/>
                      </a:lnTo>
                      <a:lnTo>
                        <a:pt x="324" y="51"/>
                      </a:lnTo>
                      <a:lnTo>
                        <a:pt x="324" y="46"/>
                      </a:lnTo>
                      <a:lnTo>
                        <a:pt x="324" y="42"/>
                      </a:lnTo>
                      <a:lnTo>
                        <a:pt x="321" y="36"/>
                      </a:lnTo>
                      <a:lnTo>
                        <a:pt x="320" y="31"/>
                      </a:lnTo>
                      <a:lnTo>
                        <a:pt x="318" y="26"/>
                      </a:lnTo>
                      <a:lnTo>
                        <a:pt x="315" y="21"/>
                      </a:lnTo>
                      <a:lnTo>
                        <a:pt x="311" y="18"/>
                      </a:lnTo>
                      <a:lnTo>
                        <a:pt x="308" y="12"/>
                      </a:lnTo>
                      <a:lnTo>
                        <a:pt x="303" y="8"/>
                      </a:lnTo>
                      <a:lnTo>
                        <a:pt x="300" y="5"/>
                      </a:lnTo>
                      <a:lnTo>
                        <a:pt x="303" y="5"/>
                      </a:lnTo>
                      <a:lnTo>
                        <a:pt x="307" y="4"/>
                      </a:lnTo>
                      <a:lnTo>
                        <a:pt x="309" y="2"/>
                      </a:lnTo>
                      <a:lnTo>
                        <a:pt x="314" y="2"/>
                      </a:lnTo>
                      <a:lnTo>
                        <a:pt x="316" y="2"/>
                      </a:lnTo>
                      <a:lnTo>
                        <a:pt x="320" y="2"/>
                      </a:lnTo>
                      <a:lnTo>
                        <a:pt x="324" y="2"/>
                      </a:lnTo>
                      <a:lnTo>
                        <a:pt x="327" y="2"/>
                      </a:lnTo>
                      <a:lnTo>
                        <a:pt x="331" y="2"/>
                      </a:lnTo>
                      <a:lnTo>
                        <a:pt x="334" y="2"/>
                      </a:lnTo>
                      <a:lnTo>
                        <a:pt x="337" y="1"/>
                      </a:lnTo>
                      <a:lnTo>
                        <a:pt x="341" y="1"/>
                      </a:lnTo>
                      <a:lnTo>
                        <a:pt x="344" y="1"/>
                      </a:lnTo>
                      <a:lnTo>
                        <a:pt x="347" y="1"/>
                      </a:lnTo>
                      <a:lnTo>
                        <a:pt x="351" y="1"/>
                      </a:lnTo>
                      <a:lnTo>
                        <a:pt x="354" y="1"/>
                      </a:lnTo>
                      <a:lnTo>
                        <a:pt x="353" y="4"/>
                      </a:lnTo>
                      <a:lnTo>
                        <a:pt x="352" y="6"/>
                      </a:lnTo>
                      <a:lnTo>
                        <a:pt x="350" y="10"/>
                      </a:lnTo>
                      <a:lnTo>
                        <a:pt x="348" y="13"/>
                      </a:lnTo>
                      <a:lnTo>
                        <a:pt x="353" y="16"/>
                      </a:lnTo>
                      <a:lnTo>
                        <a:pt x="357" y="18"/>
                      </a:lnTo>
                      <a:lnTo>
                        <a:pt x="360" y="19"/>
                      </a:lnTo>
                      <a:lnTo>
                        <a:pt x="364" y="21"/>
                      </a:lnTo>
                      <a:lnTo>
                        <a:pt x="366" y="23"/>
                      </a:lnTo>
                      <a:lnTo>
                        <a:pt x="370" y="26"/>
                      </a:lnTo>
                      <a:lnTo>
                        <a:pt x="373" y="27"/>
                      </a:lnTo>
                      <a:lnTo>
                        <a:pt x="378" y="31"/>
                      </a:lnTo>
                      <a:lnTo>
                        <a:pt x="379" y="33"/>
                      </a:lnTo>
                      <a:lnTo>
                        <a:pt x="382" y="37"/>
                      </a:lnTo>
                      <a:lnTo>
                        <a:pt x="384" y="39"/>
                      </a:lnTo>
                      <a:lnTo>
                        <a:pt x="386" y="43"/>
                      </a:lnTo>
                      <a:lnTo>
                        <a:pt x="391" y="48"/>
                      </a:lnTo>
                      <a:lnTo>
                        <a:pt x="396" y="52"/>
                      </a:lnTo>
                      <a:lnTo>
                        <a:pt x="401" y="56"/>
                      </a:lnTo>
                      <a:lnTo>
                        <a:pt x="407" y="58"/>
                      </a:lnTo>
                      <a:lnTo>
                        <a:pt x="409" y="59"/>
                      </a:lnTo>
                      <a:lnTo>
                        <a:pt x="411" y="61"/>
                      </a:lnTo>
                      <a:lnTo>
                        <a:pt x="415" y="62"/>
                      </a:lnTo>
                      <a:lnTo>
                        <a:pt x="417" y="63"/>
                      </a:lnTo>
                      <a:lnTo>
                        <a:pt x="420" y="63"/>
                      </a:lnTo>
                      <a:lnTo>
                        <a:pt x="422" y="64"/>
                      </a:lnTo>
                      <a:lnTo>
                        <a:pt x="424" y="64"/>
                      </a:lnTo>
                      <a:lnTo>
                        <a:pt x="428" y="64"/>
                      </a:lnTo>
                      <a:lnTo>
                        <a:pt x="430" y="64"/>
                      </a:lnTo>
                      <a:lnTo>
                        <a:pt x="434" y="64"/>
                      </a:lnTo>
                      <a:lnTo>
                        <a:pt x="436" y="64"/>
                      </a:lnTo>
                      <a:lnTo>
                        <a:pt x="440" y="65"/>
                      </a:lnTo>
                      <a:lnTo>
                        <a:pt x="442" y="64"/>
                      </a:lnTo>
                      <a:lnTo>
                        <a:pt x="445" y="64"/>
                      </a:lnTo>
                      <a:lnTo>
                        <a:pt x="448" y="63"/>
                      </a:lnTo>
                      <a:lnTo>
                        <a:pt x="451" y="63"/>
                      </a:lnTo>
                      <a:lnTo>
                        <a:pt x="453" y="62"/>
                      </a:lnTo>
                      <a:lnTo>
                        <a:pt x="455" y="62"/>
                      </a:lnTo>
                      <a:lnTo>
                        <a:pt x="458" y="61"/>
                      </a:lnTo>
                      <a:lnTo>
                        <a:pt x="461" y="61"/>
                      </a:lnTo>
                      <a:lnTo>
                        <a:pt x="466" y="57"/>
                      </a:lnTo>
                      <a:lnTo>
                        <a:pt x="471" y="55"/>
                      </a:lnTo>
                      <a:lnTo>
                        <a:pt x="475" y="52"/>
                      </a:lnTo>
                      <a:lnTo>
                        <a:pt x="480" y="49"/>
                      </a:lnTo>
                      <a:lnTo>
                        <a:pt x="485" y="45"/>
                      </a:lnTo>
                      <a:lnTo>
                        <a:pt x="488" y="42"/>
                      </a:lnTo>
                      <a:lnTo>
                        <a:pt x="493" y="38"/>
                      </a:lnTo>
                      <a:lnTo>
                        <a:pt x="497" y="35"/>
                      </a:lnTo>
                      <a:lnTo>
                        <a:pt x="499" y="30"/>
                      </a:lnTo>
                      <a:lnTo>
                        <a:pt x="503" y="25"/>
                      </a:lnTo>
                      <a:lnTo>
                        <a:pt x="505" y="21"/>
                      </a:lnTo>
                      <a:lnTo>
                        <a:pt x="507" y="18"/>
                      </a:lnTo>
                      <a:lnTo>
                        <a:pt x="509" y="12"/>
                      </a:lnTo>
                      <a:lnTo>
                        <a:pt x="510" y="7"/>
                      </a:lnTo>
                      <a:lnTo>
                        <a:pt x="511" y="4"/>
                      </a:lnTo>
                      <a:lnTo>
                        <a:pt x="511" y="0"/>
                      </a:lnTo>
                      <a:lnTo>
                        <a:pt x="515" y="0"/>
                      </a:lnTo>
                      <a:lnTo>
                        <a:pt x="518" y="0"/>
                      </a:lnTo>
                      <a:lnTo>
                        <a:pt x="523" y="0"/>
                      </a:lnTo>
                      <a:lnTo>
                        <a:pt x="528" y="0"/>
                      </a:lnTo>
                      <a:lnTo>
                        <a:pt x="531" y="0"/>
                      </a:lnTo>
                      <a:lnTo>
                        <a:pt x="535" y="0"/>
                      </a:lnTo>
                      <a:lnTo>
                        <a:pt x="538" y="0"/>
                      </a:lnTo>
                      <a:lnTo>
                        <a:pt x="544" y="0"/>
                      </a:lnTo>
                      <a:lnTo>
                        <a:pt x="538" y="2"/>
                      </a:lnTo>
                      <a:lnTo>
                        <a:pt x="536" y="5"/>
                      </a:lnTo>
                      <a:lnTo>
                        <a:pt x="534" y="7"/>
                      </a:lnTo>
                      <a:lnTo>
                        <a:pt x="531" y="10"/>
                      </a:lnTo>
                      <a:lnTo>
                        <a:pt x="526" y="16"/>
                      </a:lnTo>
                      <a:lnTo>
                        <a:pt x="522" y="20"/>
                      </a:lnTo>
                      <a:lnTo>
                        <a:pt x="518" y="24"/>
                      </a:lnTo>
                      <a:lnTo>
                        <a:pt x="517" y="29"/>
                      </a:lnTo>
                      <a:lnTo>
                        <a:pt x="516" y="33"/>
                      </a:lnTo>
                      <a:lnTo>
                        <a:pt x="516" y="38"/>
                      </a:lnTo>
                      <a:lnTo>
                        <a:pt x="516" y="40"/>
                      </a:lnTo>
                      <a:lnTo>
                        <a:pt x="516" y="45"/>
                      </a:lnTo>
                      <a:lnTo>
                        <a:pt x="518" y="48"/>
                      </a:lnTo>
                      <a:lnTo>
                        <a:pt x="521" y="51"/>
                      </a:lnTo>
                      <a:lnTo>
                        <a:pt x="523" y="54"/>
                      </a:lnTo>
                      <a:lnTo>
                        <a:pt x="525" y="57"/>
                      </a:lnTo>
                      <a:lnTo>
                        <a:pt x="529" y="59"/>
                      </a:lnTo>
                      <a:lnTo>
                        <a:pt x="534" y="62"/>
                      </a:lnTo>
                      <a:lnTo>
                        <a:pt x="536" y="63"/>
                      </a:lnTo>
                      <a:lnTo>
                        <a:pt x="541" y="65"/>
                      </a:lnTo>
                      <a:lnTo>
                        <a:pt x="545" y="67"/>
                      </a:lnTo>
                      <a:lnTo>
                        <a:pt x="549" y="68"/>
                      </a:lnTo>
                      <a:lnTo>
                        <a:pt x="554" y="69"/>
                      </a:lnTo>
                      <a:lnTo>
                        <a:pt x="558" y="70"/>
                      </a:lnTo>
                      <a:lnTo>
                        <a:pt x="564" y="70"/>
                      </a:lnTo>
                      <a:lnTo>
                        <a:pt x="569" y="71"/>
                      </a:lnTo>
                      <a:lnTo>
                        <a:pt x="573" y="71"/>
                      </a:lnTo>
                      <a:lnTo>
                        <a:pt x="577" y="71"/>
                      </a:lnTo>
                      <a:lnTo>
                        <a:pt x="582" y="71"/>
                      </a:lnTo>
                      <a:lnTo>
                        <a:pt x="586" y="71"/>
                      </a:lnTo>
                      <a:lnTo>
                        <a:pt x="589" y="70"/>
                      </a:lnTo>
                      <a:lnTo>
                        <a:pt x="593" y="70"/>
                      </a:lnTo>
                      <a:lnTo>
                        <a:pt x="595" y="69"/>
                      </a:lnTo>
                      <a:lnTo>
                        <a:pt x="599" y="68"/>
                      </a:lnTo>
                      <a:lnTo>
                        <a:pt x="598" y="64"/>
                      </a:lnTo>
                      <a:lnTo>
                        <a:pt x="596" y="61"/>
                      </a:lnTo>
                      <a:lnTo>
                        <a:pt x="596" y="58"/>
                      </a:lnTo>
                      <a:lnTo>
                        <a:pt x="596" y="56"/>
                      </a:lnTo>
                      <a:lnTo>
                        <a:pt x="595" y="52"/>
                      </a:lnTo>
                      <a:lnTo>
                        <a:pt x="595" y="50"/>
                      </a:lnTo>
                      <a:lnTo>
                        <a:pt x="594" y="48"/>
                      </a:lnTo>
                      <a:lnTo>
                        <a:pt x="594" y="45"/>
                      </a:lnTo>
                      <a:lnTo>
                        <a:pt x="593" y="40"/>
                      </a:lnTo>
                      <a:lnTo>
                        <a:pt x="592" y="37"/>
                      </a:lnTo>
                      <a:lnTo>
                        <a:pt x="591" y="33"/>
                      </a:lnTo>
                      <a:lnTo>
                        <a:pt x="591" y="31"/>
                      </a:lnTo>
                      <a:lnTo>
                        <a:pt x="589" y="27"/>
                      </a:lnTo>
                      <a:lnTo>
                        <a:pt x="588" y="26"/>
                      </a:lnTo>
                      <a:lnTo>
                        <a:pt x="587" y="24"/>
                      </a:lnTo>
                      <a:lnTo>
                        <a:pt x="586" y="23"/>
                      </a:lnTo>
                      <a:lnTo>
                        <a:pt x="583" y="20"/>
                      </a:lnTo>
                      <a:lnTo>
                        <a:pt x="582" y="19"/>
                      </a:lnTo>
                      <a:lnTo>
                        <a:pt x="577" y="18"/>
                      </a:lnTo>
                      <a:lnTo>
                        <a:pt x="575" y="17"/>
                      </a:lnTo>
                      <a:lnTo>
                        <a:pt x="572" y="16"/>
                      </a:lnTo>
                      <a:lnTo>
                        <a:pt x="569" y="14"/>
                      </a:lnTo>
                      <a:lnTo>
                        <a:pt x="564" y="12"/>
                      </a:lnTo>
                      <a:lnTo>
                        <a:pt x="562" y="8"/>
                      </a:lnTo>
                      <a:lnTo>
                        <a:pt x="558" y="6"/>
                      </a:lnTo>
                      <a:lnTo>
                        <a:pt x="556" y="5"/>
                      </a:lnTo>
                      <a:lnTo>
                        <a:pt x="554" y="2"/>
                      </a:lnTo>
                      <a:lnTo>
                        <a:pt x="551" y="0"/>
                      </a:lnTo>
                      <a:lnTo>
                        <a:pt x="556" y="0"/>
                      </a:lnTo>
                      <a:lnTo>
                        <a:pt x="560" y="0"/>
                      </a:lnTo>
                      <a:lnTo>
                        <a:pt x="564" y="0"/>
                      </a:lnTo>
                      <a:lnTo>
                        <a:pt x="568" y="0"/>
                      </a:lnTo>
                      <a:lnTo>
                        <a:pt x="572" y="0"/>
                      </a:lnTo>
                      <a:lnTo>
                        <a:pt x="576" y="0"/>
                      </a:lnTo>
                      <a:lnTo>
                        <a:pt x="580" y="0"/>
                      </a:lnTo>
                      <a:lnTo>
                        <a:pt x="585" y="0"/>
                      </a:lnTo>
                      <a:lnTo>
                        <a:pt x="588" y="0"/>
                      </a:lnTo>
                      <a:lnTo>
                        <a:pt x="592" y="0"/>
                      </a:lnTo>
                      <a:lnTo>
                        <a:pt x="596" y="0"/>
                      </a:lnTo>
                      <a:lnTo>
                        <a:pt x="600" y="0"/>
                      </a:lnTo>
                      <a:lnTo>
                        <a:pt x="605" y="0"/>
                      </a:lnTo>
                      <a:lnTo>
                        <a:pt x="608" y="0"/>
                      </a:lnTo>
                      <a:lnTo>
                        <a:pt x="612" y="0"/>
                      </a:lnTo>
                      <a:lnTo>
                        <a:pt x="617" y="1"/>
                      </a:lnTo>
                      <a:lnTo>
                        <a:pt x="620" y="1"/>
                      </a:lnTo>
                      <a:lnTo>
                        <a:pt x="625" y="1"/>
                      </a:lnTo>
                      <a:lnTo>
                        <a:pt x="628" y="1"/>
                      </a:lnTo>
                      <a:lnTo>
                        <a:pt x="632" y="2"/>
                      </a:lnTo>
                      <a:lnTo>
                        <a:pt x="637" y="2"/>
                      </a:lnTo>
                      <a:lnTo>
                        <a:pt x="640" y="2"/>
                      </a:lnTo>
                      <a:lnTo>
                        <a:pt x="645" y="2"/>
                      </a:lnTo>
                      <a:lnTo>
                        <a:pt x="650" y="2"/>
                      </a:lnTo>
                      <a:lnTo>
                        <a:pt x="652" y="2"/>
                      </a:lnTo>
                      <a:lnTo>
                        <a:pt x="657" y="2"/>
                      </a:lnTo>
                      <a:lnTo>
                        <a:pt x="661" y="2"/>
                      </a:lnTo>
                      <a:lnTo>
                        <a:pt x="665" y="2"/>
                      </a:lnTo>
                      <a:lnTo>
                        <a:pt x="669" y="2"/>
                      </a:lnTo>
                      <a:lnTo>
                        <a:pt x="672" y="4"/>
                      </a:lnTo>
                      <a:lnTo>
                        <a:pt x="678" y="4"/>
                      </a:lnTo>
                      <a:lnTo>
                        <a:pt x="682" y="5"/>
                      </a:lnTo>
                      <a:lnTo>
                        <a:pt x="685" y="5"/>
                      </a:lnTo>
                      <a:lnTo>
                        <a:pt x="689" y="5"/>
                      </a:lnTo>
                      <a:lnTo>
                        <a:pt x="694" y="5"/>
                      </a:lnTo>
                      <a:lnTo>
                        <a:pt x="697" y="5"/>
                      </a:lnTo>
                      <a:lnTo>
                        <a:pt x="701" y="5"/>
                      </a:lnTo>
                      <a:lnTo>
                        <a:pt x="706" y="5"/>
                      </a:lnTo>
                      <a:lnTo>
                        <a:pt x="709" y="5"/>
                      </a:lnTo>
                      <a:lnTo>
                        <a:pt x="714" y="5"/>
                      </a:lnTo>
                      <a:lnTo>
                        <a:pt x="717" y="5"/>
                      </a:lnTo>
                      <a:lnTo>
                        <a:pt x="721" y="5"/>
                      </a:lnTo>
                      <a:lnTo>
                        <a:pt x="726" y="6"/>
                      </a:lnTo>
                      <a:lnTo>
                        <a:pt x="731" y="6"/>
                      </a:lnTo>
                      <a:lnTo>
                        <a:pt x="734" y="6"/>
                      </a:lnTo>
                      <a:lnTo>
                        <a:pt x="738" y="6"/>
                      </a:lnTo>
                      <a:lnTo>
                        <a:pt x="741" y="7"/>
                      </a:lnTo>
                      <a:lnTo>
                        <a:pt x="746" y="7"/>
                      </a:lnTo>
                      <a:lnTo>
                        <a:pt x="751" y="7"/>
                      </a:lnTo>
                      <a:lnTo>
                        <a:pt x="754" y="7"/>
                      </a:lnTo>
                      <a:lnTo>
                        <a:pt x="759" y="7"/>
                      </a:lnTo>
                      <a:lnTo>
                        <a:pt x="763" y="7"/>
                      </a:lnTo>
                      <a:lnTo>
                        <a:pt x="766" y="7"/>
                      </a:lnTo>
                      <a:lnTo>
                        <a:pt x="770" y="8"/>
                      </a:lnTo>
                      <a:lnTo>
                        <a:pt x="774" y="8"/>
                      </a:lnTo>
                      <a:lnTo>
                        <a:pt x="779" y="10"/>
                      </a:lnTo>
                      <a:lnTo>
                        <a:pt x="783" y="10"/>
                      </a:lnTo>
                      <a:lnTo>
                        <a:pt x="786" y="10"/>
                      </a:lnTo>
                      <a:lnTo>
                        <a:pt x="791" y="10"/>
                      </a:lnTo>
                      <a:lnTo>
                        <a:pt x="795" y="10"/>
                      </a:lnTo>
                      <a:lnTo>
                        <a:pt x="799" y="10"/>
                      </a:lnTo>
                      <a:lnTo>
                        <a:pt x="803" y="10"/>
                      </a:lnTo>
                      <a:lnTo>
                        <a:pt x="808" y="11"/>
                      </a:lnTo>
                      <a:lnTo>
                        <a:pt x="811" y="1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Freeform 63"/>
                <p:cNvSpPr/>
                <p:nvPr/>
              </p:nvSpPr>
              <p:spPr>
                <a:xfrm>
                  <a:off x="7694640" y="2149560"/>
                  <a:ext cx="5760" cy="64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3" h="14">
                      <a:moveTo>
                        <a:pt x="13" y="14"/>
                      </a:moveTo>
                      <a:lnTo>
                        <a:pt x="8" y="11"/>
                      </a:lnTo>
                      <a:lnTo>
                        <a:pt x="5" y="8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Freeform 64"/>
                <p:cNvSpPr/>
                <p:nvPr/>
              </p:nvSpPr>
              <p:spPr>
                <a:xfrm>
                  <a:off x="7162920" y="2549880"/>
                  <a:ext cx="753840" cy="56880"/>
                </a:xfrm>
                <a:custGeom>
                  <a:avLst/>
                  <a:gdLst>
                    <a:gd name="textAreaLeft" fmla="*/ 0 w 753840"/>
                    <a:gd name="textAreaRight" fmla="*/ 754200 w 7538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425" h="109">
                      <a:moveTo>
                        <a:pt x="13" y="6"/>
                      </a:move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4" y="6"/>
                      </a:lnTo>
                      <a:lnTo>
                        <a:pt x="28" y="7"/>
                      </a:lnTo>
                      <a:lnTo>
                        <a:pt x="31" y="7"/>
                      </a:lnTo>
                      <a:lnTo>
                        <a:pt x="34" y="8"/>
                      </a:lnTo>
                      <a:lnTo>
                        <a:pt x="37" y="8"/>
                      </a:lnTo>
                      <a:lnTo>
                        <a:pt x="40" y="8"/>
                      </a:lnTo>
                      <a:lnTo>
                        <a:pt x="44" y="8"/>
                      </a:lnTo>
                      <a:lnTo>
                        <a:pt x="47" y="9"/>
                      </a:lnTo>
                      <a:lnTo>
                        <a:pt x="51" y="9"/>
                      </a:lnTo>
                      <a:lnTo>
                        <a:pt x="55" y="10"/>
                      </a:lnTo>
                      <a:lnTo>
                        <a:pt x="58" y="10"/>
                      </a:lnTo>
                      <a:lnTo>
                        <a:pt x="63" y="10"/>
                      </a:lnTo>
                      <a:lnTo>
                        <a:pt x="68" y="10"/>
                      </a:lnTo>
                      <a:lnTo>
                        <a:pt x="71" y="12"/>
                      </a:lnTo>
                      <a:lnTo>
                        <a:pt x="76" y="12"/>
                      </a:lnTo>
                      <a:lnTo>
                        <a:pt x="81" y="13"/>
                      </a:lnTo>
                      <a:lnTo>
                        <a:pt x="85" y="13"/>
                      </a:lnTo>
                      <a:lnTo>
                        <a:pt x="90" y="13"/>
                      </a:lnTo>
                      <a:lnTo>
                        <a:pt x="95" y="14"/>
                      </a:lnTo>
                      <a:lnTo>
                        <a:pt x="101" y="14"/>
                      </a:lnTo>
                      <a:lnTo>
                        <a:pt x="104" y="15"/>
                      </a:lnTo>
                      <a:lnTo>
                        <a:pt x="112" y="15"/>
                      </a:lnTo>
                      <a:lnTo>
                        <a:pt x="116" y="15"/>
                      </a:lnTo>
                      <a:lnTo>
                        <a:pt x="121" y="16"/>
                      </a:lnTo>
                      <a:lnTo>
                        <a:pt x="126" y="16"/>
                      </a:lnTo>
                      <a:lnTo>
                        <a:pt x="132" y="18"/>
                      </a:lnTo>
                      <a:lnTo>
                        <a:pt x="136" y="18"/>
                      </a:lnTo>
                      <a:lnTo>
                        <a:pt x="142" y="18"/>
                      </a:lnTo>
                      <a:lnTo>
                        <a:pt x="147" y="18"/>
                      </a:lnTo>
                      <a:lnTo>
                        <a:pt x="153" y="19"/>
                      </a:lnTo>
                      <a:lnTo>
                        <a:pt x="159" y="19"/>
                      </a:lnTo>
                      <a:lnTo>
                        <a:pt x="165" y="19"/>
                      </a:lnTo>
                      <a:lnTo>
                        <a:pt x="170" y="20"/>
                      </a:lnTo>
                      <a:lnTo>
                        <a:pt x="176" y="20"/>
                      </a:lnTo>
                      <a:lnTo>
                        <a:pt x="182" y="20"/>
                      </a:lnTo>
                      <a:lnTo>
                        <a:pt x="187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204" y="21"/>
                      </a:lnTo>
                      <a:lnTo>
                        <a:pt x="210" y="21"/>
                      </a:lnTo>
                      <a:lnTo>
                        <a:pt x="215" y="21"/>
                      </a:lnTo>
                      <a:lnTo>
                        <a:pt x="221" y="22"/>
                      </a:lnTo>
                      <a:lnTo>
                        <a:pt x="225" y="22"/>
                      </a:lnTo>
                      <a:lnTo>
                        <a:pt x="231" y="22"/>
                      </a:lnTo>
                      <a:lnTo>
                        <a:pt x="237" y="22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3" y="22"/>
                      </a:lnTo>
                      <a:lnTo>
                        <a:pt x="259" y="22"/>
                      </a:lnTo>
                      <a:lnTo>
                        <a:pt x="263" y="22"/>
                      </a:lnTo>
                      <a:lnTo>
                        <a:pt x="268" y="22"/>
                      </a:lnTo>
                      <a:lnTo>
                        <a:pt x="274" y="22"/>
                      </a:lnTo>
                      <a:lnTo>
                        <a:pt x="279" y="22"/>
                      </a:lnTo>
                      <a:lnTo>
                        <a:pt x="284" y="22"/>
                      </a:lnTo>
                      <a:lnTo>
                        <a:pt x="288" y="21"/>
                      </a:lnTo>
                      <a:lnTo>
                        <a:pt x="292" y="21"/>
                      </a:lnTo>
                      <a:lnTo>
                        <a:pt x="294" y="21"/>
                      </a:lnTo>
                      <a:lnTo>
                        <a:pt x="297" y="21"/>
                      </a:lnTo>
                      <a:lnTo>
                        <a:pt x="299" y="21"/>
                      </a:lnTo>
                      <a:lnTo>
                        <a:pt x="303" y="21"/>
                      </a:lnTo>
                      <a:lnTo>
                        <a:pt x="305" y="20"/>
                      </a:lnTo>
                      <a:lnTo>
                        <a:pt x="306" y="20"/>
                      </a:lnTo>
                      <a:lnTo>
                        <a:pt x="310" y="20"/>
                      </a:lnTo>
                      <a:lnTo>
                        <a:pt x="313" y="20"/>
                      </a:lnTo>
                      <a:lnTo>
                        <a:pt x="316" y="20"/>
                      </a:lnTo>
                      <a:lnTo>
                        <a:pt x="319" y="20"/>
                      </a:lnTo>
                      <a:lnTo>
                        <a:pt x="322" y="20"/>
                      </a:lnTo>
                      <a:lnTo>
                        <a:pt x="324" y="20"/>
                      </a:lnTo>
                      <a:lnTo>
                        <a:pt x="327" y="19"/>
                      </a:lnTo>
                      <a:lnTo>
                        <a:pt x="330" y="19"/>
                      </a:lnTo>
                      <a:lnTo>
                        <a:pt x="335" y="19"/>
                      </a:lnTo>
                      <a:lnTo>
                        <a:pt x="337" y="19"/>
                      </a:lnTo>
                      <a:lnTo>
                        <a:pt x="339" y="19"/>
                      </a:lnTo>
                      <a:lnTo>
                        <a:pt x="344" y="19"/>
                      </a:lnTo>
                      <a:lnTo>
                        <a:pt x="346" y="19"/>
                      </a:lnTo>
                      <a:lnTo>
                        <a:pt x="351" y="19"/>
                      </a:lnTo>
                      <a:lnTo>
                        <a:pt x="355" y="18"/>
                      </a:lnTo>
                      <a:lnTo>
                        <a:pt x="357" y="18"/>
                      </a:lnTo>
                      <a:lnTo>
                        <a:pt x="361" y="18"/>
                      </a:lnTo>
                      <a:lnTo>
                        <a:pt x="364" y="18"/>
                      </a:lnTo>
                      <a:lnTo>
                        <a:pt x="369" y="18"/>
                      </a:lnTo>
                      <a:lnTo>
                        <a:pt x="373" y="18"/>
                      </a:lnTo>
                      <a:lnTo>
                        <a:pt x="376" y="18"/>
                      </a:lnTo>
                      <a:lnTo>
                        <a:pt x="381" y="18"/>
                      </a:lnTo>
                      <a:lnTo>
                        <a:pt x="384" y="18"/>
                      </a:lnTo>
                      <a:lnTo>
                        <a:pt x="388" y="18"/>
                      </a:lnTo>
                      <a:lnTo>
                        <a:pt x="392" y="18"/>
                      </a:lnTo>
                      <a:lnTo>
                        <a:pt x="396" y="18"/>
                      </a:lnTo>
                      <a:lnTo>
                        <a:pt x="400" y="16"/>
                      </a:lnTo>
                      <a:lnTo>
                        <a:pt x="403" y="16"/>
                      </a:lnTo>
                      <a:lnTo>
                        <a:pt x="408" y="16"/>
                      </a:lnTo>
                      <a:lnTo>
                        <a:pt x="412" y="16"/>
                      </a:lnTo>
                      <a:lnTo>
                        <a:pt x="415" y="16"/>
                      </a:lnTo>
                      <a:lnTo>
                        <a:pt x="420" y="16"/>
                      </a:lnTo>
                      <a:lnTo>
                        <a:pt x="425" y="16"/>
                      </a:lnTo>
                      <a:lnTo>
                        <a:pt x="428" y="16"/>
                      </a:lnTo>
                      <a:lnTo>
                        <a:pt x="433" y="16"/>
                      </a:lnTo>
                      <a:lnTo>
                        <a:pt x="438" y="16"/>
                      </a:lnTo>
                      <a:lnTo>
                        <a:pt x="441" y="16"/>
                      </a:lnTo>
                      <a:lnTo>
                        <a:pt x="446" y="16"/>
                      </a:lnTo>
                      <a:lnTo>
                        <a:pt x="451" y="15"/>
                      </a:lnTo>
                      <a:lnTo>
                        <a:pt x="456" y="15"/>
                      </a:lnTo>
                      <a:lnTo>
                        <a:pt x="459" y="15"/>
                      </a:lnTo>
                      <a:lnTo>
                        <a:pt x="463" y="15"/>
                      </a:lnTo>
                      <a:lnTo>
                        <a:pt x="469" y="15"/>
                      </a:lnTo>
                      <a:lnTo>
                        <a:pt x="472" y="15"/>
                      </a:lnTo>
                      <a:lnTo>
                        <a:pt x="477" y="15"/>
                      </a:lnTo>
                      <a:lnTo>
                        <a:pt x="482" y="15"/>
                      </a:lnTo>
                      <a:lnTo>
                        <a:pt x="486" y="15"/>
                      </a:lnTo>
                      <a:lnTo>
                        <a:pt x="490" y="15"/>
                      </a:lnTo>
                      <a:lnTo>
                        <a:pt x="495" y="15"/>
                      </a:lnTo>
                      <a:lnTo>
                        <a:pt x="500" y="15"/>
                      </a:lnTo>
                      <a:lnTo>
                        <a:pt x="504" y="15"/>
                      </a:lnTo>
                      <a:lnTo>
                        <a:pt x="509" y="15"/>
                      </a:lnTo>
                      <a:lnTo>
                        <a:pt x="514" y="15"/>
                      </a:lnTo>
                      <a:lnTo>
                        <a:pt x="519" y="15"/>
                      </a:lnTo>
                      <a:lnTo>
                        <a:pt x="516" y="16"/>
                      </a:lnTo>
                      <a:lnTo>
                        <a:pt x="513" y="18"/>
                      </a:lnTo>
                      <a:lnTo>
                        <a:pt x="510" y="18"/>
                      </a:lnTo>
                      <a:lnTo>
                        <a:pt x="507" y="20"/>
                      </a:lnTo>
                      <a:lnTo>
                        <a:pt x="504" y="21"/>
                      </a:lnTo>
                      <a:lnTo>
                        <a:pt x="501" y="21"/>
                      </a:lnTo>
                      <a:lnTo>
                        <a:pt x="498" y="24"/>
                      </a:lnTo>
                      <a:lnTo>
                        <a:pt x="497" y="25"/>
                      </a:lnTo>
                      <a:lnTo>
                        <a:pt x="491" y="27"/>
                      </a:lnTo>
                      <a:lnTo>
                        <a:pt x="488" y="29"/>
                      </a:lnTo>
                      <a:lnTo>
                        <a:pt x="483" y="33"/>
                      </a:lnTo>
                      <a:lnTo>
                        <a:pt x="479" y="37"/>
                      </a:lnTo>
                      <a:lnTo>
                        <a:pt x="476" y="40"/>
                      </a:lnTo>
                      <a:lnTo>
                        <a:pt x="473" y="45"/>
                      </a:lnTo>
                      <a:lnTo>
                        <a:pt x="471" y="46"/>
                      </a:lnTo>
                      <a:lnTo>
                        <a:pt x="471" y="48"/>
                      </a:lnTo>
                      <a:lnTo>
                        <a:pt x="470" y="51"/>
                      </a:lnTo>
                      <a:lnTo>
                        <a:pt x="469" y="54"/>
                      </a:lnTo>
                      <a:lnTo>
                        <a:pt x="469" y="56"/>
                      </a:lnTo>
                      <a:lnTo>
                        <a:pt x="469" y="59"/>
                      </a:lnTo>
                      <a:lnTo>
                        <a:pt x="467" y="62"/>
                      </a:lnTo>
                      <a:lnTo>
                        <a:pt x="467" y="65"/>
                      </a:lnTo>
                      <a:lnTo>
                        <a:pt x="467" y="69"/>
                      </a:lnTo>
                      <a:lnTo>
                        <a:pt x="467" y="71"/>
                      </a:lnTo>
                      <a:lnTo>
                        <a:pt x="469" y="75"/>
                      </a:lnTo>
                      <a:lnTo>
                        <a:pt x="469" y="79"/>
                      </a:lnTo>
                      <a:lnTo>
                        <a:pt x="471" y="78"/>
                      </a:lnTo>
                      <a:lnTo>
                        <a:pt x="473" y="78"/>
                      </a:lnTo>
                      <a:lnTo>
                        <a:pt x="476" y="77"/>
                      </a:lnTo>
                      <a:lnTo>
                        <a:pt x="479" y="77"/>
                      </a:lnTo>
                      <a:lnTo>
                        <a:pt x="482" y="76"/>
                      </a:lnTo>
                      <a:lnTo>
                        <a:pt x="484" y="76"/>
                      </a:lnTo>
                      <a:lnTo>
                        <a:pt x="486" y="76"/>
                      </a:lnTo>
                      <a:lnTo>
                        <a:pt x="490" y="75"/>
                      </a:lnTo>
                      <a:lnTo>
                        <a:pt x="495" y="73"/>
                      </a:lnTo>
                      <a:lnTo>
                        <a:pt x="500" y="71"/>
                      </a:lnTo>
                      <a:lnTo>
                        <a:pt x="504" y="71"/>
                      </a:lnTo>
                      <a:lnTo>
                        <a:pt x="510" y="70"/>
                      </a:lnTo>
                      <a:lnTo>
                        <a:pt x="515" y="67"/>
                      </a:lnTo>
                      <a:lnTo>
                        <a:pt x="519" y="66"/>
                      </a:lnTo>
                      <a:lnTo>
                        <a:pt x="524" y="64"/>
                      </a:lnTo>
                      <a:lnTo>
                        <a:pt x="529" y="63"/>
                      </a:lnTo>
                      <a:lnTo>
                        <a:pt x="534" y="60"/>
                      </a:lnTo>
                      <a:lnTo>
                        <a:pt x="539" y="59"/>
                      </a:lnTo>
                      <a:lnTo>
                        <a:pt x="543" y="56"/>
                      </a:lnTo>
                      <a:lnTo>
                        <a:pt x="548" y="54"/>
                      </a:lnTo>
                      <a:lnTo>
                        <a:pt x="552" y="52"/>
                      </a:lnTo>
                      <a:lnTo>
                        <a:pt x="556" y="51"/>
                      </a:lnTo>
                      <a:lnTo>
                        <a:pt x="562" y="48"/>
                      </a:lnTo>
                      <a:lnTo>
                        <a:pt x="567" y="46"/>
                      </a:lnTo>
                      <a:lnTo>
                        <a:pt x="571" y="44"/>
                      </a:lnTo>
                      <a:lnTo>
                        <a:pt x="577" y="41"/>
                      </a:lnTo>
                      <a:lnTo>
                        <a:pt x="581" y="39"/>
                      </a:lnTo>
                      <a:lnTo>
                        <a:pt x="586" y="38"/>
                      </a:lnTo>
                      <a:lnTo>
                        <a:pt x="591" y="35"/>
                      </a:lnTo>
                      <a:lnTo>
                        <a:pt x="596" y="34"/>
                      </a:lnTo>
                      <a:lnTo>
                        <a:pt x="600" y="33"/>
                      </a:lnTo>
                      <a:lnTo>
                        <a:pt x="606" y="31"/>
                      </a:lnTo>
                      <a:lnTo>
                        <a:pt x="611" y="29"/>
                      </a:lnTo>
                      <a:lnTo>
                        <a:pt x="616" y="28"/>
                      </a:lnTo>
                      <a:lnTo>
                        <a:pt x="619" y="27"/>
                      </a:lnTo>
                      <a:lnTo>
                        <a:pt x="622" y="27"/>
                      </a:lnTo>
                      <a:lnTo>
                        <a:pt x="625" y="26"/>
                      </a:lnTo>
                      <a:lnTo>
                        <a:pt x="628" y="26"/>
                      </a:lnTo>
                      <a:lnTo>
                        <a:pt x="625" y="24"/>
                      </a:lnTo>
                      <a:lnTo>
                        <a:pt x="624" y="21"/>
                      </a:lnTo>
                      <a:lnTo>
                        <a:pt x="621" y="18"/>
                      </a:lnTo>
                      <a:lnTo>
                        <a:pt x="618" y="14"/>
                      </a:lnTo>
                      <a:lnTo>
                        <a:pt x="621" y="13"/>
                      </a:lnTo>
                      <a:lnTo>
                        <a:pt x="625" y="13"/>
                      </a:lnTo>
                      <a:lnTo>
                        <a:pt x="628" y="13"/>
                      </a:lnTo>
                      <a:lnTo>
                        <a:pt x="632" y="13"/>
                      </a:lnTo>
                      <a:lnTo>
                        <a:pt x="637" y="13"/>
                      </a:lnTo>
                      <a:lnTo>
                        <a:pt x="641" y="13"/>
                      </a:lnTo>
                      <a:lnTo>
                        <a:pt x="644" y="13"/>
                      </a:lnTo>
                      <a:lnTo>
                        <a:pt x="648" y="13"/>
                      </a:lnTo>
                      <a:lnTo>
                        <a:pt x="651" y="13"/>
                      </a:lnTo>
                      <a:lnTo>
                        <a:pt x="656" y="13"/>
                      </a:lnTo>
                      <a:lnTo>
                        <a:pt x="660" y="13"/>
                      </a:lnTo>
                      <a:lnTo>
                        <a:pt x="663" y="13"/>
                      </a:lnTo>
                      <a:lnTo>
                        <a:pt x="667" y="13"/>
                      </a:lnTo>
                      <a:lnTo>
                        <a:pt x="670" y="13"/>
                      </a:lnTo>
                      <a:lnTo>
                        <a:pt x="674" y="13"/>
                      </a:lnTo>
                      <a:lnTo>
                        <a:pt x="679" y="13"/>
                      </a:lnTo>
                      <a:lnTo>
                        <a:pt x="682" y="13"/>
                      </a:lnTo>
                      <a:lnTo>
                        <a:pt x="686" y="13"/>
                      </a:lnTo>
                      <a:lnTo>
                        <a:pt x="689" y="13"/>
                      </a:lnTo>
                      <a:lnTo>
                        <a:pt x="693" y="13"/>
                      </a:lnTo>
                      <a:lnTo>
                        <a:pt x="696" y="13"/>
                      </a:lnTo>
                      <a:lnTo>
                        <a:pt x="700" y="13"/>
                      </a:lnTo>
                      <a:lnTo>
                        <a:pt x="704" y="13"/>
                      </a:lnTo>
                      <a:lnTo>
                        <a:pt x="707" y="13"/>
                      </a:lnTo>
                      <a:lnTo>
                        <a:pt x="711" y="13"/>
                      </a:lnTo>
                      <a:lnTo>
                        <a:pt x="714" y="13"/>
                      </a:lnTo>
                      <a:lnTo>
                        <a:pt x="718" y="13"/>
                      </a:lnTo>
                      <a:lnTo>
                        <a:pt x="721" y="13"/>
                      </a:lnTo>
                      <a:lnTo>
                        <a:pt x="724" y="13"/>
                      </a:lnTo>
                      <a:lnTo>
                        <a:pt x="729" y="13"/>
                      </a:lnTo>
                      <a:lnTo>
                        <a:pt x="731" y="13"/>
                      </a:lnTo>
                      <a:lnTo>
                        <a:pt x="734" y="14"/>
                      </a:lnTo>
                      <a:lnTo>
                        <a:pt x="738" y="14"/>
                      </a:lnTo>
                      <a:lnTo>
                        <a:pt x="742" y="14"/>
                      </a:lnTo>
                      <a:lnTo>
                        <a:pt x="744" y="14"/>
                      </a:lnTo>
                      <a:lnTo>
                        <a:pt x="746" y="14"/>
                      </a:lnTo>
                      <a:lnTo>
                        <a:pt x="750" y="14"/>
                      </a:lnTo>
                      <a:lnTo>
                        <a:pt x="753" y="14"/>
                      </a:lnTo>
                      <a:lnTo>
                        <a:pt x="756" y="14"/>
                      </a:lnTo>
                      <a:lnTo>
                        <a:pt x="759" y="14"/>
                      </a:lnTo>
                      <a:lnTo>
                        <a:pt x="762" y="14"/>
                      </a:lnTo>
                      <a:lnTo>
                        <a:pt x="764" y="14"/>
                      </a:lnTo>
                      <a:lnTo>
                        <a:pt x="766" y="14"/>
                      </a:lnTo>
                      <a:lnTo>
                        <a:pt x="770" y="15"/>
                      </a:lnTo>
                      <a:lnTo>
                        <a:pt x="772" y="15"/>
                      </a:lnTo>
                      <a:lnTo>
                        <a:pt x="775" y="15"/>
                      </a:lnTo>
                      <a:lnTo>
                        <a:pt x="778" y="15"/>
                      </a:lnTo>
                      <a:lnTo>
                        <a:pt x="781" y="15"/>
                      </a:lnTo>
                      <a:lnTo>
                        <a:pt x="785" y="15"/>
                      </a:lnTo>
                      <a:lnTo>
                        <a:pt x="790" y="15"/>
                      </a:lnTo>
                      <a:lnTo>
                        <a:pt x="795" y="15"/>
                      </a:lnTo>
                      <a:lnTo>
                        <a:pt x="800" y="16"/>
                      </a:lnTo>
                      <a:lnTo>
                        <a:pt x="804" y="16"/>
                      </a:lnTo>
                      <a:lnTo>
                        <a:pt x="808" y="16"/>
                      </a:lnTo>
                      <a:lnTo>
                        <a:pt x="813" y="18"/>
                      </a:lnTo>
                      <a:lnTo>
                        <a:pt x="816" y="18"/>
                      </a:lnTo>
                      <a:lnTo>
                        <a:pt x="815" y="21"/>
                      </a:lnTo>
                      <a:lnTo>
                        <a:pt x="816" y="25"/>
                      </a:lnTo>
                      <a:lnTo>
                        <a:pt x="816" y="28"/>
                      </a:lnTo>
                      <a:lnTo>
                        <a:pt x="818" y="33"/>
                      </a:lnTo>
                      <a:lnTo>
                        <a:pt x="820" y="37"/>
                      </a:lnTo>
                      <a:lnTo>
                        <a:pt x="821" y="41"/>
                      </a:lnTo>
                      <a:lnTo>
                        <a:pt x="823" y="45"/>
                      </a:lnTo>
                      <a:lnTo>
                        <a:pt x="827" y="48"/>
                      </a:lnTo>
                      <a:lnTo>
                        <a:pt x="829" y="52"/>
                      </a:lnTo>
                      <a:lnTo>
                        <a:pt x="833" y="56"/>
                      </a:lnTo>
                      <a:lnTo>
                        <a:pt x="835" y="59"/>
                      </a:lnTo>
                      <a:lnTo>
                        <a:pt x="840" y="64"/>
                      </a:lnTo>
                      <a:lnTo>
                        <a:pt x="842" y="66"/>
                      </a:lnTo>
                      <a:lnTo>
                        <a:pt x="847" y="70"/>
                      </a:lnTo>
                      <a:lnTo>
                        <a:pt x="852" y="73"/>
                      </a:lnTo>
                      <a:lnTo>
                        <a:pt x="855" y="76"/>
                      </a:lnTo>
                      <a:lnTo>
                        <a:pt x="860" y="79"/>
                      </a:lnTo>
                      <a:lnTo>
                        <a:pt x="865" y="82"/>
                      </a:lnTo>
                      <a:lnTo>
                        <a:pt x="870" y="83"/>
                      </a:lnTo>
                      <a:lnTo>
                        <a:pt x="874" y="85"/>
                      </a:lnTo>
                      <a:lnTo>
                        <a:pt x="878" y="86"/>
                      </a:lnTo>
                      <a:lnTo>
                        <a:pt x="884" y="89"/>
                      </a:lnTo>
                      <a:lnTo>
                        <a:pt x="889" y="89"/>
                      </a:lnTo>
                      <a:lnTo>
                        <a:pt x="893" y="91"/>
                      </a:lnTo>
                      <a:lnTo>
                        <a:pt x="898" y="91"/>
                      </a:lnTo>
                      <a:lnTo>
                        <a:pt x="902" y="91"/>
                      </a:lnTo>
                      <a:lnTo>
                        <a:pt x="906" y="91"/>
                      </a:lnTo>
                      <a:lnTo>
                        <a:pt x="911" y="91"/>
                      </a:lnTo>
                      <a:lnTo>
                        <a:pt x="915" y="89"/>
                      </a:lnTo>
                      <a:lnTo>
                        <a:pt x="920" y="89"/>
                      </a:lnTo>
                      <a:lnTo>
                        <a:pt x="923" y="86"/>
                      </a:lnTo>
                      <a:lnTo>
                        <a:pt x="927" y="85"/>
                      </a:lnTo>
                      <a:lnTo>
                        <a:pt x="925" y="83"/>
                      </a:lnTo>
                      <a:lnTo>
                        <a:pt x="924" y="79"/>
                      </a:lnTo>
                      <a:lnTo>
                        <a:pt x="923" y="77"/>
                      </a:lnTo>
                      <a:lnTo>
                        <a:pt x="922" y="75"/>
                      </a:lnTo>
                      <a:lnTo>
                        <a:pt x="920" y="70"/>
                      </a:lnTo>
                      <a:lnTo>
                        <a:pt x="917" y="65"/>
                      </a:lnTo>
                      <a:lnTo>
                        <a:pt x="915" y="62"/>
                      </a:lnTo>
                      <a:lnTo>
                        <a:pt x="911" y="56"/>
                      </a:lnTo>
                      <a:lnTo>
                        <a:pt x="909" y="52"/>
                      </a:lnTo>
                      <a:lnTo>
                        <a:pt x="906" y="48"/>
                      </a:lnTo>
                      <a:lnTo>
                        <a:pt x="902" y="44"/>
                      </a:lnTo>
                      <a:lnTo>
                        <a:pt x="898" y="40"/>
                      </a:lnTo>
                      <a:lnTo>
                        <a:pt x="895" y="37"/>
                      </a:lnTo>
                      <a:lnTo>
                        <a:pt x="891" y="33"/>
                      </a:lnTo>
                      <a:lnTo>
                        <a:pt x="889" y="31"/>
                      </a:lnTo>
                      <a:lnTo>
                        <a:pt x="884" y="27"/>
                      </a:lnTo>
                      <a:lnTo>
                        <a:pt x="879" y="25"/>
                      </a:lnTo>
                      <a:lnTo>
                        <a:pt x="876" y="22"/>
                      </a:lnTo>
                      <a:lnTo>
                        <a:pt x="878" y="22"/>
                      </a:lnTo>
                      <a:lnTo>
                        <a:pt x="880" y="22"/>
                      </a:lnTo>
                      <a:lnTo>
                        <a:pt x="884" y="22"/>
                      </a:lnTo>
                      <a:lnTo>
                        <a:pt x="886" y="22"/>
                      </a:lnTo>
                      <a:lnTo>
                        <a:pt x="890" y="22"/>
                      </a:lnTo>
                      <a:lnTo>
                        <a:pt x="892" y="22"/>
                      </a:lnTo>
                      <a:lnTo>
                        <a:pt x="896" y="22"/>
                      </a:lnTo>
                      <a:lnTo>
                        <a:pt x="898" y="22"/>
                      </a:lnTo>
                      <a:lnTo>
                        <a:pt x="902" y="22"/>
                      </a:lnTo>
                      <a:lnTo>
                        <a:pt x="904" y="22"/>
                      </a:lnTo>
                      <a:lnTo>
                        <a:pt x="908" y="22"/>
                      </a:lnTo>
                      <a:lnTo>
                        <a:pt x="911" y="22"/>
                      </a:lnTo>
                      <a:lnTo>
                        <a:pt x="915" y="22"/>
                      </a:lnTo>
                      <a:lnTo>
                        <a:pt x="918" y="22"/>
                      </a:lnTo>
                      <a:lnTo>
                        <a:pt x="922" y="22"/>
                      </a:lnTo>
                      <a:lnTo>
                        <a:pt x="925" y="22"/>
                      </a:lnTo>
                      <a:lnTo>
                        <a:pt x="928" y="21"/>
                      </a:lnTo>
                      <a:lnTo>
                        <a:pt x="931" y="21"/>
                      </a:lnTo>
                      <a:lnTo>
                        <a:pt x="935" y="21"/>
                      </a:lnTo>
                      <a:lnTo>
                        <a:pt x="940" y="21"/>
                      </a:lnTo>
                      <a:lnTo>
                        <a:pt x="942" y="21"/>
                      </a:lnTo>
                      <a:lnTo>
                        <a:pt x="947" y="21"/>
                      </a:lnTo>
                      <a:lnTo>
                        <a:pt x="949" y="21"/>
                      </a:lnTo>
                      <a:lnTo>
                        <a:pt x="954" y="21"/>
                      </a:lnTo>
                      <a:lnTo>
                        <a:pt x="956" y="21"/>
                      </a:lnTo>
                      <a:lnTo>
                        <a:pt x="961" y="21"/>
                      </a:lnTo>
                      <a:lnTo>
                        <a:pt x="965" y="21"/>
                      </a:lnTo>
                      <a:lnTo>
                        <a:pt x="969" y="21"/>
                      </a:lnTo>
                      <a:lnTo>
                        <a:pt x="972" y="21"/>
                      </a:lnTo>
                      <a:lnTo>
                        <a:pt x="976" y="21"/>
                      </a:lnTo>
                      <a:lnTo>
                        <a:pt x="980" y="21"/>
                      </a:lnTo>
                      <a:lnTo>
                        <a:pt x="985" y="21"/>
                      </a:lnTo>
                      <a:lnTo>
                        <a:pt x="988" y="21"/>
                      </a:lnTo>
                      <a:lnTo>
                        <a:pt x="992" y="21"/>
                      </a:lnTo>
                      <a:lnTo>
                        <a:pt x="995" y="21"/>
                      </a:lnTo>
                      <a:lnTo>
                        <a:pt x="1000" y="21"/>
                      </a:lnTo>
                      <a:lnTo>
                        <a:pt x="1004" y="20"/>
                      </a:lnTo>
                      <a:lnTo>
                        <a:pt x="1007" y="20"/>
                      </a:lnTo>
                      <a:lnTo>
                        <a:pt x="1012" y="20"/>
                      </a:lnTo>
                      <a:lnTo>
                        <a:pt x="1017" y="20"/>
                      </a:lnTo>
                      <a:lnTo>
                        <a:pt x="1020" y="20"/>
                      </a:lnTo>
                      <a:lnTo>
                        <a:pt x="1025" y="20"/>
                      </a:lnTo>
                      <a:lnTo>
                        <a:pt x="1029" y="20"/>
                      </a:lnTo>
                      <a:lnTo>
                        <a:pt x="1033" y="20"/>
                      </a:lnTo>
                      <a:lnTo>
                        <a:pt x="1038" y="20"/>
                      </a:lnTo>
                      <a:lnTo>
                        <a:pt x="1042" y="20"/>
                      </a:lnTo>
                      <a:lnTo>
                        <a:pt x="1047" y="20"/>
                      </a:lnTo>
                      <a:lnTo>
                        <a:pt x="1050" y="20"/>
                      </a:lnTo>
                      <a:lnTo>
                        <a:pt x="1055" y="19"/>
                      </a:lnTo>
                      <a:lnTo>
                        <a:pt x="1060" y="19"/>
                      </a:lnTo>
                      <a:lnTo>
                        <a:pt x="1063" y="19"/>
                      </a:lnTo>
                      <a:lnTo>
                        <a:pt x="1068" y="19"/>
                      </a:lnTo>
                      <a:lnTo>
                        <a:pt x="1073" y="19"/>
                      </a:lnTo>
                      <a:lnTo>
                        <a:pt x="1076" y="19"/>
                      </a:lnTo>
                      <a:lnTo>
                        <a:pt x="1081" y="19"/>
                      </a:lnTo>
                      <a:lnTo>
                        <a:pt x="1084" y="19"/>
                      </a:lnTo>
                      <a:lnTo>
                        <a:pt x="1089" y="18"/>
                      </a:lnTo>
                      <a:lnTo>
                        <a:pt x="1094" y="18"/>
                      </a:lnTo>
                      <a:lnTo>
                        <a:pt x="1099" y="18"/>
                      </a:lnTo>
                      <a:lnTo>
                        <a:pt x="1102" y="18"/>
                      </a:lnTo>
                      <a:lnTo>
                        <a:pt x="1107" y="18"/>
                      </a:lnTo>
                      <a:lnTo>
                        <a:pt x="1112" y="18"/>
                      </a:lnTo>
                      <a:lnTo>
                        <a:pt x="1115" y="18"/>
                      </a:lnTo>
                      <a:lnTo>
                        <a:pt x="1120" y="18"/>
                      </a:lnTo>
                      <a:lnTo>
                        <a:pt x="1118" y="21"/>
                      </a:lnTo>
                      <a:lnTo>
                        <a:pt x="1115" y="24"/>
                      </a:lnTo>
                      <a:lnTo>
                        <a:pt x="1113" y="27"/>
                      </a:lnTo>
                      <a:lnTo>
                        <a:pt x="1112" y="31"/>
                      </a:lnTo>
                      <a:lnTo>
                        <a:pt x="1108" y="34"/>
                      </a:lnTo>
                      <a:lnTo>
                        <a:pt x="1106" y="38"/>
                      </a:lnTo>
                      <a:lnTo>
                        <a:pt x="1103" y="41"/>
                      </a:lnTo>
                      <a:lnTo>
                        <a:pt x="1103" y="44"/>
                      </a:lnTo>
                      <a:lnTo>
                        <a:pt x="1107" y="44"/>
                      </a:lnTo>
                      <a:lnTo>
                        <a:pt x="1113" y="45"/>
                      </a:lnTo>
                      <a:lnTo>
                        <a:pt x="1117" y="46"/>
                      </a:lnTo>
                      <a:lnTo>
                        <a:pt x="1122" y="47"/>
                      </a:lnTo>
                      <a:lnTo>
                        <a:pt x="1127" y="48"/>
                      </a:lnTo>
                      <a:lnTo>
                        <a:pt x="1132" y="50"/>
                      </a:lnTo>
                      <a:lnTo>
                        <a:pt x="1137" y="52"/>
                      </a:lnTo>
                      <a:lnTo>
                        <a:pt x="1141" y="54"/>
                      </a:lnTo>
                      <a:lnTo>
                        <a:pt x="1146" y="56"/>
                      </a:lnTo>
                      <a:lnTo>
                        <a:pt x="1151" y="59"/>
                      </a:lnTo>
                      <a:lnTo>
                        <a:pt x="1156" y="60"/>
                      </a:lnTo>
                      <a:lnTo>
                        <a:pt x="1160" y="64"/>
                      </a:lnTo>
                      <a:lnTo>
                        <a:pt x="1164" y="66"/>
                      </a:lnTo>
                      <a:lnTo>
                        <a:pt x="1170" y="69"/>
                      </a:lnTo>
                      <a:lnTo>
                        <a:pt x="1175" y="71"/>
                      </a:lnTo>
                      <a:lnTo>
                        <a:pt x="1179" y="73"/>
                      </a:lnTo>
                      <a:lnTo>
                        <a:pt x="1184" y="75"/>
                      </a:lnTo>
                      <a:lnTo>
                        <a:pt x="1189" y="76"/>
                      </a:lnTo>
                      <a:lnTo>
                        <a:pt x="1194" y="78"/>
                      </a:lnTo>
                      <a:lnTo>
                        <a:pt x="1198" y="81"/>
                      </a:lnTo>
                      <a:lnTo>
                        <a:pt x="1202" y="82"/>
                      </a:lnTo>
                      <a:lnTo>
                        <a:pt x="1208" y="82"/>
                      </a:lnTo>
                      <a:lnTo>
                        <a:pt x="1213" y="83"/>
                      </a:lnTo>
                      <a:lnTo>
                        <a:pt x="1217" y="83"/>
                      </a:lnTo>
                      <a:lnTo>
                        <a:pt x="1221" y="83"/>
                      </a:lnTo>
                      <a:lnTo>
                        <a:pt x="1227" y="82"/>
                      </a:lnTo>
                      <a:lnTo>
                        <a:pt x="1230" y="81"/>
                      </a:lnTo>
                      <a:lnTo>
                        <a:pt x="1236" y="79"/>
                      </a:lnTo>
                      <a:lnTo>
                        <a:pt x="1241" y="76"/>
                      </a:lnTo>
                      <a:lnTo>
                        <a:pt x="1246" y="73"/>
                      </a:lnTo>
                      <a:lnTo>
                        <a:pt x="1251" y="71"/>
                      </a:lnTo>
                      <a:lnTo>
                        <a:pt x="1257" y="67"/>
                      </a:lnTo>
                      <a:lnTo>
                        <a:pt x="1251" y="64"/>
                      </a:lnTo>
                      <a:lnTo>
                        <a:pt x="1246" y="59"/>
                      </a:lnTo>
                      <a:lnTo>
                        <a:pt x="1241" y="56"/>
                      </a:lnTo>
                      <a:lnTo>
                        <a:pt x="1236" y="52"/>
                      </a:lnTo>
                      <a:lnTo>
                        <a:pt x="1232" y="48"/>
                      </a:lnTo>
                      <a:lnTo>
                        <a:pt x="1227" y="45"/>
                      </a:lnTo>
                      <a:lnTo>
                        <a:pt x="1222" y="41"/>
                      </a:lnTo>
                      <a:lnTo>
                        <a:pt x="1217" y="38"/>
                      </a:lnTo>
                      <a:lnTo>
                        <a:pt x="1213" y="34"/>
                      </a:lnTo>
                      <a:lnTo>
                        <a:pt x="1208" y="31"/>
                      </a:lnTo>
                      <a:lnTo>
                        <a:pt x="1202" y="28"/>
                      </a:lnTo>
                      <a:lnTo>
                        <a:pt x="1197" y="26"/>
                      </a:lnTo>
                      <a:lnTo>
                        <a:pt x="1192" y="22"/>
                      </a:lnTo>
                      <a:lnTo>
                        <a:pt x="1188" y="20"/>
                      </a:lnTo>
                      <a:lnTo>
                        <a:pt x="1182" y="18"/>
                      </a:lnTo>
                      <a:lnTo>
                        <a:pt x="1177" y="15"/>
                      </a:lnTo>
                      <a:lnTo>
                        <a:pt x="1182" y="15"/>
                      </a:lnTo>
                      <a:lnTo>
                        <a:pt x="1187" y="15"/>
                      </a:lnTo>
                      <a:lnTo>
                        <a:pt x="1190" y="14"/>
                      </a:lnTo>
                      <a:lnTo>
                        <a:pt x="1195" y="14"/>
                      </a:lnTo>
                      <a:lnTo>
                        <a:pt x="1200" y="14"/>
                      </a:lnTo>
                      <a:lnTo>
                        <a:pt x="1203" y="14"/>
                      </a:lnTo>
                      <a:lnTo>
                        <a:pt x="1208" y="13"/>
                      </a:lnTo>
                      <a:lnTo>
                        <a:pt x="1213" y="13"/>
                      </a:lnTo>
                      <a:lnTo>
                        <a:pt x="1217" y="13"/>
                      </a:lnTo>
                      <a:lnTo>
                        <a:pt x="1221" y="13"/>
                      </a:lnTo>
                      <a:lnTo>
                        <a:pt x="1226" y="13"/>
                      </a:lnTo>
                      <a:lnTo>
                        <a:pt x="1230" y="13"/>
                      </a:lnTo>
                      <a:lnTo>
                        <a:pt x="1234" y="12"/>
                      </a:lnTo>
                      <a:lnTo>
                        <a:pt x="1239" y="12"/>
                      </a:lnTo>
                      <a:lnTo>
                        <a:pt x="1243" y="12"/>
                      </a:lnTo>
                      <a:lnTo>
                        <a:pt x="1247" y="12"/>
                      </a:lnTo>
                      <a:lnTo>
                        <a:pt x="1251" y="12"/>
                      </a:lnTo>
                      <a:lnTo>
                        <a:pt x="1255" y="10"/>
                      </a:lnTo>
                      <a:lnTo>
                        <a:pt x="1260" y="10"/>
                      </a:lnTo>
                      <a:lnTo>
                        <a:pt x="1264" y="10"/>
                      </a:lnTo>
                      <a:lnTo>
                        <a:pt x="1268" y="10"/>
                      </a:lnTo>
                      <a:lnTo>
                        <a:pt x="1272" y="10"/>
                      </a:lnTo>
                      <a:lnTo>
                        <a:pt x="1275" y="9"/>
                      </a:lnTo>
                      <a:lnTo>
                        <a:pt x="1280" y="9"/>
                      </a:lnTo>
                      <a:lnTo>
                        <a:pt x="1284" y="9"/>
                      </a:lnTo>
                      <a:lnTo>
                        <a:pt x="1289" y="9"/>
                      </a:lnTo>
                      <a:lnTo>
                        <a:pt x="1291" y="8"/>
                      </a:lnTo>
                      <a:lnTo>
                        <a:pt x="1296" y="8"/>
                      </a:lnTo>
                      <a:lnTo>
                        <a:pt x="1300" y="8"/>
                      </a:lnTo>
                      <a:lnTo>
                        <a:pt x="1304" y="8"/>
                      </a:lnTo>
                      <a:lnTo>
                        <a:pt x="1309" y="8"/>
                      </a:lnTo>
                      <a:lnTo>
                        <a:pt x="1312" y="8"/>
                      </a:lnTo>
                      <a:lnTo>
                        <a:pt x="1316" y="8"/>
                      </a:lnTo>
                      <a:lnTo>
                        <a:pt x="1319" y="7"/>
                      </a:lnTo>
                      <a:lnTo>
                        <a:pt x="1323" y="7"/>
                      </a:lnTo>
                      <a:lnTo>
                        <a:pt x="1327" y="7"/>
                      </a:lnTo>
                      <a:lnTo>
                        <a:pt x="1330" y="6"/>
                      </a:lnTo>
                      <a:lnTo>
                        <a:pt x="1334" y="6"/>
                      </a:lnTo>
                      <a:lnTo>
                        <a:pt x="1338" y="6"/>
                      </a:lnTo>
                      <a:lnTo>
                        <a:pt x="1342" y="6"/>
                      </a:lnTo>
                      <a:lnTo>
                        <a:pt x="1346" y="6"/>
                      </a:lnTo>
                      <a:lnTo>
                        <a:pt x="1349" y="5"/>
                      </a:lnTo>
                      <a:lnTo>
                        <a:pt x="1351" y="5"/>
                      </a:lnTo>
                      <a:lnTo>
                        <a:pt x="1356" y="5"/>
                      </a:lnTo>
                      <a:lnTo>
                        <a:pt x="1359" y="5"/>
                      </a:lnTo>
                      <a:lnTo>
                        <a:pt x="1362" y="3"/>
                      </a:lnTo>
                      <a:lnTo>
                        <a:pt x="1366" y="3"/>
                      </a:lnTo>
                      <a:lnTo>
                        <a:pt x="1369" y="3"/>
                      </a:lnTo>
                      <a:lnTo>
                        <a:pt x="1372" y="3"/>
                      </a:lnTo>
                      <a:lnTo>
                        <a:pt x="1375" y="3"/>
                      </a:lnTo>
                      <a:lnTo>
                        <a:pt x="1379" y="3"/>
                      </a:lnTo>
                      <a:lnTo>
                        <a:pt x="1382" y="3"/>
                      </a:lnTo>
                      <a:lnTo>
                        <a:pt x="1385" y="2"/>
                      </a:lnTo>
                      <a:lnTo>
                        <a:pt x="1387" y="2"/>
                      </a:lnTo>
                      <a:lnTo>
                        <a:pt x="1389" y="1"/>
                      </a:lnTo>
                      <a:lnTo>
                        <a:pt x="1393" y="1"/>
                      </a:lnTo>
                      <a:lnTo>
                        <a:pt x="1395" y="1"/>
                      </a:lnTo>
                      <a:lnTo>
                        <a:pt x="1398" y="0"/>
                      </a:lnTo>
                      <a:lnTo>
                        <a:pt x="1401" y="0"/>
                      </a:lnTo>
                      <a:lnTo>
                        <a:pt x="1405" y="0"/>
                      </a:lnTo>
                      <a:lnTo>
                        <a:pt x="1407" y="0"/>
                      </a:lnTo>
                      <a:lnTo>
                        <a:pt x="1410" y="0"/>
                      </a:lnTo>
                      <a:lnTo>
                        <a:pt x="1412" y="0"/>
                      </a:lnTo>
                      <a:lnTo>
                        <a:pt x="1416" y="0"/>
                      </a:lnTo>
                      <a:lnTo>
                        <a:pt x="1425" y="84"/>
                      </a:lnTo>
                      <a:lnTo>
                        <a:pt x="1424" y="84"/>
                      </a:lnTo>
                      <a:lnTo>
                        <a:pt x="1421" y="84"/>
                      </a:lnTo>
                      <a:lnTo>
                        <a:pt x="1420" y="84"/>
                      </a:lnTo>
                      <a:lnTo>
                        <a:pt x="1416" y="84"/>
                      </a:lnTo>
                      <a:lnTo>
                        <a:pt x="1412" y="85"/>
                      </a:lnTo>
                      <a:lnTo>
                        <a:pt x="1407" y="85"/>
                      </a:lnTo>
                      <a:lnTo>
                        <a:pt x="1402" y="86"/>
                      </a:lnTo>
                      <a:lnTo>
                        <a:pt x="1400" y="86"/>
                      </a:lnTo>
                      <a:lnTo>
                        <a:pt x="1397" y="86"/>
                      </a:lnTo>
                      <a:lnTo>
                        <a:pt x="1393" y="86"/>
                      </a:lnTo>
                      <a:lnTo>
                        <a:pt x="1389" y="88"/>
                      </a:lnTo>
                      <a:lnTo>
                        <a:pt x="1387" y="88"/>
                      </a:lnTo>
                      <a:lnTo>
                        <a:pt x="1383" y="89"/>
                      </a:lnTo>
                      <a:lnTo>
                        <a:pt x="1380" y="89"/>
                      </a:lnTo>
                      <a:lnTo>
                        <a:pt x="1376" y="89"/>
                      </a:lnTo>
                      <a:lnTo>
                        <a:pt x="1372" y="89"/>
                      </a:lnTo>
                      <a:lnTo>
                        <a:pt x="1368" y="90"/>
                      </a:lnTo>
                      <a:lnTo>
                        <a:pt x="1363" y="90"/>
                      </a:lnTo>
                      <a:lnTo>
                        <a:pt x="1360" y="91"/>
                      </a:lnTo>
                      <a:lnTo>
                        <a:pt x="1354" y="91"/>
                      </a:lnTo>
                      <a:lnTo>
                        <a:pt x="1350" y="91"/>
                      </a:lnTo>
                      <a:lnTo>
                        <a:pt x="1346" y="92"/>
                      </a:lnTo>
                      <a:lnTo>
                        <a:pt x="1341" y="94"/>
                      </a:lnTo>
                      <a:lnTo>
                        <a:pt x="1335" y="94"/>
                      </a:lnTo>
                      <a:lnTo>
                        <a:pt x="1329" y="94"/>
                      </a:lnTo>
                      <a:lnTo>
                        <a:pt x="1324" y="94"/>
                      </a:lnTo>
                      <a:lnTo>
                        <a:pt x="1319" y="95"/>
                      </a:lnTo>
                      <a:lnTo>
                        <a:pt x="1312" y="96"/>
                      </a:lnTo>
                      <a:lnTo>
                        <a:pt x="1306" y="96"/>
                      </a:lnTo>
                      <a:lnTo>
                        <a:pt x="1302" y="97"/>
                      </a:lnTo>
                      <a:lnTo>
                        <a:pt x="1296" y="97"/>
                      </a:lnTo>
                      <a:lnTo>
                        <a:pt x="1289" y="97"/>
                      </a:lnTo>
                      <a:lnTo>
                        <a:pt x="1283" y="97"/>
                      </a:lnTo>
                      <a:lnTo>
                        <a:pt x="1275" y="98"/>
                      </a:lnTo>
                      <a:lnTo>
                        <a:pt x="1270" y="100"/>
                      </a:lnTo>
                      <a:lnTo>
                        <a:pt x="1262" y="100"/>
                      </a:lnTo>
                      <a:lnTo>
                        <a:pt x="1255" y="100"/>
                      </a:lnTo>
                      <a:lnTo>
                        <a:pt x="1249" y="100"/>
                      </a:lnTo>
                      <a:lnTo>
                        <a:pt x="1242" y="102"/>
                      </a:lnTo>
                      <a:lnTo>
                        <a:pt x="1235" y="102"/>
                      </a:lnTo>
                      <a:lnTo>
                        <a:pt x="1228" y="102"/>
                      </a:lnTo>
                      <a:lnTo>
                        <a:pt x="1220" y="102"/>
                      </a:lnTo>
                      <a:lnTo>
                        <a:pt x="1213" y="102"/>
                      </a:lnTo>
                      <a:lnTo>
                        <a:pt x="1205" y="103"/>
                      </a:lnTo>
                      <a:lnTo>
                        <a:pt x="1197" y="104"/>
                      </a:lnTo>
                      <a:lnTo>
                        <a:pt x="1190" y="104"/>
                      </a:lnTo>
                      <a:lnTo>
                        <a:pt x="1182" y="104"/>
                      </a:lnTo>
                      <a:lnTo>
                        <a:pt x="1173" y="104"/>
                      </a:lnTo>
                      <a:lnTo>
                        <a:pt x="1165" y="104"/>
                      </a:lnTo>
                      <a:lnTo>
                        <a:pt x="1157" y="105"/>
                      </a:lnTo>
                      <a:lnTo>
                        <a:pt x="1149" y="107"/>
                      </a:lnTo>
                      <a:lnTo>
                        <a:pt x="1140" y="107"/>
                      </a:lnTo>
                      <a:lnTo>
                        <a:pt x="1132" y="107"/>
                      </a:lnTo>
                      <a:lnTo>
                        <a:pt x="1122" y="107"/>
                      </a:lnTo>
                      <a:lnTo>
                        <a:pt x="1114" y="107"/>
                      </a:lnTo>
                      <a:lnTo>
                        <a:pt x="1112" y="103"/>
                      </a:lnTo>
                      <a:lnTo>
                        <a:pt x="1108" y="100"/>
                      </a:lnTo>
                      <a:lnTo>
                        <a:pt x="1106" y="95"/>
                      </a:lnTo>
                      <a:lnTo>
                        <a:pt x="1102" y="91"/>
                      </a:lnTo>
                      <a:lnTo>
                        <a:pt x="1099" y="89"/>
                      </a:lnTo>
                      <a:lnTo>
                        <a:pt x="1096" y="85"/>
                      </a:lnTo>
                      <a:lnTo>
                        <a:pt x="1094" y="82"/>
                      </a:lnTo>
                      <a:lnTo>
                        <a:pt x="1090" y="79"/>
                      </a:lnTo>
                      <a:lnTo>
                        <a:pt x="1086" y="76"/>
                      </a:lnTo>
                      <a:lnTo>
                        <a:pt x="1083" y="73"/>
                      </a:lnTo>
                      <a:lnTo>
                        <a:pt x="1080" y="71"/>
                      </a:lnTo>
                      <a:lnTo>
                        <a:pt x="1076" y="70"/>
                      </a:lnTo>
                      <a:lnTo>
                        <a:pt x="1074" y="67"/>
                      </a:lnTo>
                      <a:lnTo>
                        <a:pt x="1070" y="65"/>
                      </a:lnTo>
                      <a:lnTo>
                        <a:pt x="1065" y="64"/>
                      </a:lnTo>
                      <a:lnTo>
                        <a:pt x="1063" y="62"/>
                      </a:lnTo>
                      <a:lnTo>
                        <a:pt x="1060" y="60"/>
                      </a:lnTo>
                      <a:lnTo>
                        <a:pt x="1056" y="58"/>
                      </a:lnTo>
                      <a:lnTo>
                        <a:pt x="1051" y="56"/>
                      </a:lnTo>
                      <a:lnTo>
                        <a:pt x="1048" y="56"/>
                      </a:lnTo>
                      <a:lnTo>
                        <a:pt x="1044" y="53"/>
                      </a:lnTo>
                      <a:lnTo>
                        <a:pt x="1041" y="52"/>
                      </a:lnTo>
                      <a:lnTo>
                        <a:pt x="1037" y="51"/>
                      </a:lnTo>
                      <a:lnTo>
                        <a:pt x="1033" y="50"/>
                      </a:lnTo>
                      <a:lnTo>
                        <a:pt x="1030" y="48"/>
                      </a:lnTo>
                      <a:lnTo>
                        <a:pt x="1026" y="46"/>
                      </a:lnTo>
                      <a:lnTo>
                        <a:pt x="1022" y="45"/>
                      </a:lnTo>
                      <a:lnTo>
                        <a:pt x="1018" y="44"/>
                      </a:lnTo>
                      <a:lnTo>
                        <a:pt x="1014" y="43"/>
                      </a:lnTo>
                      <a:lnTo>
                        <a:pt x="1011" y="41"/>
                      </a:lnTo>
                      <a:lnTo>
                        <a:pt x="1007" y="39"/>
                      </a:lnTo>
                      <a:lnTo>
                        <a:pt x="1004" y="38"/>
                      </a:lnTo>
                      <a:lnTo>
                        <a:pt x="1001" y="38"/>
                      </a:lnTo>
                      <a:lnTo>
                        <a:pt x="1000" y="39"/>
                      </a:lnTo>
                      <a:lnTo>
                        <a:pt x="998" y="40"/>
                      </a:lnTo>
                      <a:lnTo>
                        <a:pt x="994" y="41"/>
                      </a:lnTo>
                      <a:lnTo>
                        <a:pt x="990" y="43"/>
                      </a:lnTo>
                      <a:lnTo>
                        <a:pt x="987" y="45"/>
                      </a:lnTo>
                      <a:lnTo>
                        <a:pt x="982" y="47"/>
                      </a:lnTo>
                      <a:lnTo>
                        <a:pt x="980" y="51"/>
                      </a:lnTo>
                      <a:lnTo>
                        <a:pt x="974" y="53"/>
                      </a:lnTo>
                      <a:lnTo>
                        <a:pt x="971" y="56"/>
                      </a:lnTo>
                      <a:lnTo>
                        <a:pt x="967" y="58"/>
                      </a:lnTo>
                      <a:lnTo>
                        <a:pt x="962" y="60"/>
                      </a:lnTo>
                      <a:lnTo>
                        <a:pt x="959" y="62"/>
                      </a:lnTo>
                      <a:lnTo>
                        <a:pt x="956" y="64"/>
                      </a:lnTo>
                      <a:lnTo>
                        <a:pt x="952" y="65"/>
                      </a:lnTo>
                      <a:lnTo>
                        <a:pt x="950" y="67"/>
                      </a:lnTo>
                      <a:lnTo>
                        <a:pt x="952" y="69"/>
                      </a:lnTo>
                      <a:lnTo>
                        <a:pt x="955" y="71"/>
                      </a:lnTo>
                      <a:lnTo>
                        <a:pt x="959" y="76"/>
                      </a:lnTo>
                      <a:lnTo>
                        <a:pt x="962" y="79"/>
                      </a:lnTo>
                      <a:lnTo>
                        <a:pt x="965" y="82"/>
                      </a:lnTo>
                      <a:lnTo>
                        <a:pt x="969" y="85"/>
                      </a:lnTo>
                      <a:lnTo>
                        <a:pt x="972" y="88"/>
                      </a:lnTo>
                      <a:lnTo>
                        <a:pt x="974" y="91"/>
                      </a:lnTo>
                      <a:lnTo>
                        <a:pt x="976" y="89"/>
                      </a:lnTo>
                      <a:lnTo>
                        <a:pt x="980" y="86"/>
                      </a:lnTo>
                      <a:lnTo>
                        <a:pt x="982" y="85"/>
                      </a:lnTo>
                      <a:lnTo>
                        <a:pt x="985" y="84"/>
                      </a:lnTo>
                      <a:lnTo>
                        <a:pt x="987" y="83"/>
                      </a:lnTo>
                      <a:lnTo>
                        <a:pt x="990" y="83"/>
                      </a:lnTo>
                      <a:lnTo>
                        <a:pt x="992" y="82"/>
                      </a:lnTo>
                      <a:lnTo>
                        <a:pt x="995" y="82"/>
                      </a:lnTo>
                      <a:lnTo>
                        <a:pt x="1000" y="82"/>
                      </a:lnTo>
                      <a:lnTo>
                        <a:pt x="1005" y="83"/>
                      </a:lnTo>
                      <a:lnTo>
                        <a:pt x="1010" y="84"/>
                      </a:lnTo>
                      <a:lnTo>
                        <a:pt x="1014" y="85"/>
                      </a:lnTo>
                      <a:lnTo>
                        <a:pt x="1018" y="86"/>
                      </a:lnTo>
                      <a:lnTo>
                        <a:pt x="1023" y="89"/>
                      </a:lnTo>
                      <a:lnTo>
                        <a:pt x="1026" y="91"/>
                      </a:lnTo>
                      <a:lnTo>
                        <a:pt x="1031" y="96"/>
                      </a:lnTo>
                      <a:lnTo>
                        <a:pt x="1035" y="98"/>
                      </a:lnTo>
                      <a:lnTo>
                        <a:pt x="1038" y="102"/>
                      </a:lnTo>
                      <a:lnTo>
                        <a:pt x="1043" y="104"/>
                      </a:lnTo>
                      <a:lnTo>
                        <a:pt x="1047" y="109"/>
                      </a:lnTo>
                      <a:lnTo>
                        <a:pt x="1042" y="109"/>
                      </a:lnTo>
                      <a:lnTo>
                        <a:pt x="1037" y="109"/>
                      </a:lnTo>
                      <a:lnTo>
                        <a:pt x="1032" y="109"/>
                      </a:lnTo>
                      <a:lnTo>
                        <a:pt x="1028" y="109"/>
                      </a:lnTo>
                      <a:lnTo>
                        <a:pt x="1022" y="109"/>
                      </a:lnTo>
                      <a:lnTo>
                        <a:pt x="1018" y="109"/>
                      </a:lnTo>
                      <a:lnTo>
                        <a:pt x="1012" y="109"/>
                      </a:lnTo>
                      <a:lnTo>
                        <a:pt x="1007" y="109"/>
                      </a:lnTo>
                      <a:lnTo>
                        <a:pt x="1003" y="108"/>
                      </a:lnTo>
                      <a:lnTo>
                        <a:pt x="998" y="108"/>
                      </a:lnTo>
                      <a:lnTo>
                        <a:pt x="992" y="108"/>
                      </a:lnTo>
                      <a:lnTo>
                        <a:pt x="987" y="108"/>
                      </a:lnTo>
                      <a:lnTo>
                        <a:pt x="982" y="108"/>
                      </a:lnTo>
                      <a:lnTo>
                        <a:pt x="978" y="108"/>
                      </a:lnTo>
                      <a:lnTo>
                        <a:pt x="973" y="108"/>
                      </a:lnTo>
                      <a:lnTo>
                        <a:pt x="968" y="108"/>
                      </a:lnTo>
                      <a:lnTo>
                        <a:pt x="965" y="107"/>
                      </a:lnTo>
                      <a:lnTo>
                        <a:pt x="962" y="107"/>
                      </a:lnTo>
                      <a:lnTo>
                        <a:pt x="960" y="107"/>
                      </a:lnTo>
                      <a:lnTo>
                        <a:pt x="958" y="107"/>
                      </a:lnTo>
                      <a:lnTo>
                        <a:pt x="954" y="107"/>
                      </a:lnTo>
                      <a:lnTo>
                        <a:pt x="952" y="107"/>
                      </a:lnTo>
                      <a:lnTo>
                        <a:pt x="949" y="107"/>
                      </a:lnTo>
                      <a:lnTo>
                        <a:pt x="947" y="107"/>
                      </a:lnTo>
                      <a:lnTo>
                        <a:pt x="944" y="107"/>
                      </a:lnTo>
                      <a:lnTo>
                        <a:pt x="942" y="107"/>
                      </a:lnTo>
                      <a:lnTo>
                        <a:pt x="940" y="107"/>
                      </a:lnTo>
                      <a:lnTo>
                        <a:pt x="936" y="107"/>
                      </a:lnTo>
                      <a:lnTo>
                        <a:pt x="931" y="107"/>
                      </a:lnTo>
                      <a:lnTo>
                        <a:pt x="927" y="107"/>
                      </a:lnTo>
                      <a:lnTo>
                        <a:pt x="924" y="107"/>
                      </a:lnTo>
                      <a:lnTo>
                        <a:pt x="921" y="107"/>
                      </a:lnTo>
                      <a:lnTo>
                        <a:pt x="918" y="107"/>
                      </a:lnTo>
                      <a:lnTo>
                        <a:pt x="916" y="107"/>
                      </a:lnTo>
                      <a:lnTo>
                        <a:pt x="914" y="107"/>
                      </a:lnTo>
                      <a:lnTo>
                        <a:pt x="910" y="107"/>
                      </a:lnTo>
                      <a:lnTo>
                        <a:pt x="908" y="107"/>
                      </a:lnTo>
                      <a:lnTo>
                        <a:pt x="905" y="107"/>
                      </a:lnTo>
                      <a:lnTo>
                        <a:pt x="903" y="105"/>
                      </a:lnTo>
                      <a:lnTo>
                        <a:pt x="899" y="105"/>
                      </a:lnTo>
                      <a:lnTo>
                        <a:pt x="897" y="105"/>
                      </a:lnTo>
                      <a:lnTo>
                        <a:pt x="895" y="105"/>
                      </a:lnTo>
                      <a:lnTo>
                        <a:pt x="892" y="105"/>
                      </a:lnTo>
                      <a:lnTo>
                        <a:pt x="889" y="105"/>
                      </a:lnTo>
                      <a:lnTo>
                        <a:pt x="886" y="105"/>
                      </a:lnTo>
                      <a:lnTo>
                        <a:pt x="884" y="105"/>
                      </a:lnTo>
                      <a:lnTo>
                        <a:pt x="880" y="104"/>
                      </a:lnTo>
                      <a:lnTo>
                        <a:pt x="877" y="104"/>
                      </a:lnTo>
                      <a:lnTo>
                        <a:pt x="873" y="104"/>
                      </a:lnTo>
                      <a:lnTo>
                        <a:pt x="870" y="104"/>
                      </a:lnTo>
                      <a:lnTo>
                        <a:pt x="866" y="104"/>
                      </a:lnTo>
                      <a:lnTo>
                        <a:pt x="863" y="104"/>
                      </a:lnTo>
                      <a:lnTo>
                        <a:pt x="858" y="104"/>
                      </a:lnTo>
                      <a:lnTo>
                        <a:pt x="855" y="104"/>
                      </a:lnTo>
                      <a:lnTo>
                        <a:pt x="852" y="104"/>
                      </a:lnTo>
                      <a:lnTo>
                        <a:pt x="848" y="104"/>
                      </a:lnTo>
                      <a:lnTo>
                        <a:pt x="845" y="104"/>
                      </a:lnTo>
                      <a:lnTo>
                        <a:pt x="840" y="104"/>
                      </a:lnTo>
                      <a:lnTo>
                        <a:pt x="838" y="104"/>
                      </a:lnTo>
                      <a:lnTo>
                        <a:pt x="834" y="104"/>
                      </a:lnTo>
                      <a:lnTo>
                        <a:pt x="831" y="104"/>
                      </a:lnTo>
                      <a:lnTo>
                        <a:pt x="827" y="104"/>
                      </a:lnTo>
                      <a:lnTo>
                        <a:pt x="826" y="100"/>
                      </a:lnTo>
                      <a:lnTo>
                        <a:pt x="826" y="96"/>
                      </a:lnTo>
                      <a:lnTo>
                        <a:pt x="825" y="91"/>
                      </a:lnTo>
                      <a:lnTo>
                        <a:pt x="823" y="89"/>
                      </a:lnTo>
                      <a:lnTo>
                        <a:pt x="822" y="84"/>
                      </a:lnTo>
                      <a:lnTo>
                        <a:pt x="822" y="81"/>
                      </a:lnTo>
                      <a:lnTo>
                        <a:pt x="821" y="76"/>
                      </a:lnTo>
                      <a:lnTo>
                        <a:pt x="821" y="73"/>
                      </a:lnTo>
                      <a:lnTo>
                        <a:pt x="818" y="73"/>
                      </a:lnTo>
                      <a:lnTo>
                        <a:pt x="814" y="76"/>
                      </a:lnTo>
                      <a:lnTo>
                        <a:pt x="810" y="76"/>
                      </a:lnTo>
                      <a:lnTo>
                        <a:pt x="807" y="78"/>
                      </a:lnTo>
                      <a:lnTo>
                        <a:pt x="803" y="78"/>
                      </a:lnTo>
                      <a:lnTo>
                        <a:pt x="800" y="78"/>
                      </a:lnTo>
                      <a:lnTo>
                        <a:pt x="797" y="76"/>
                      </a:lnTo>
                      <a:lnTo>
                        <a:pt x="795" y="76"/>
                      </a:lnTo>
                      <a:lnTo>
                        <a:pt x="793" y="75"/>
                      </a:lnTo>
                      <a:lnTo>
                        <a:pt x="790" y="73"/>
                      </a:lnTo>
                      <a:lnTo>
                        <a:pt x="787" y="71"/>
                      </a:lnTo>
                      <a:lnTo>
                        <a:pt x="784" y="70"/>
                      </a:lnTo>
                      <a:lnTo>
                        <a:pt x="780" y="66"/>
                      </a:lnTo>
                      <a:lnTo>
                        <a:pt x="775" y="62"/>
                      </a:lnTo>
                      <a:lnTo>
                        <a:pt x="772" y="59"/>
                      </a:lnTo>
                      <a:lnTo>
                        <a:pt x="770" y="56"/>
                      </a:lnTo>
                      <a:lnTo>
                        <a:pt x="766" y="53"/>
                      </a:lnTo>
                      <a:lnTo>
                        <a:pt x="765" y="51"/>
                      </a:lnTo>
                      <a:lnTo>
                        <a:pt x="761" y="46"/>
                      </a:lnTo>
                      <a:lnTo>
                        <a:pt x="756" y="41"/>
                      </a:lnTo>
                      <a:lnTo>
                        <a:pt x="753" y="39"/>
                      </a:lnTo>
                      <a:lnTo>
                        <a:pt x="751" y="38"/>
                      </a:lnTo>
                      <a:lnTo>
                        <a:pt x="748" y="35"/>
                      </a:lnTo>
                      <a:lnTo>
                        <a:pt x="745" y="34"/>
                      </a:lnTo>
                      <a:lnTo>
                        <a:pt x="742" y="33"/>
                      </a:lnTo>
                      <a:lnTo>
                        <a:pt x="739" y="33"/>
                      </a:lnTo>
                      <a:lnTo>
                        <a:pt x="737" y="32"/>
                      </a:lnTo>
                      <a:lnTo>
                        <a:pt x="733" y="32"/>
                      </a:lnTo>
                      <a:lnTo>
                        <a:pt x="729" y="37"/>
                      </a:lnTo>
                      <a:lnTo>
                        <a:pt x="726" y="41"/>
                      </a:lnTo>
                      <a:lnTo>
                        <a:pt x="724" y="46"/>
                      </a:lnTo>
                      <a:lnTo>
                        <a:pt x="721" y="52"/>
                      </a:lnTo>
                      <a:lnTo>
                        <a:pt x="720" y="56"/>
                      </a:lnTo>
                      <a:lnTo>
                        <a:pt x="720" y="62"/>
                      </a:lnTo>
                      <a:lnTo>
                        <a:pt x="721" y="66"/>
                      </a:lnTo>
                      <a:lnTo>
                        <a:pt x="723" y="71"/>
                      </a:lnTo>
                      <a:lnTo>
                        <a:pt x="724" y="73"/>
                      </a:lnTo>
                      <a:lnTo>
                        <a:pt x="726" y="79"/>
                      </a:lnTo>
                      <a:lnTo>
                        <a:pt x="729" y="83"/>
                      </a:lnTo>
                      <a:lnTo>
                        <a:pt x="732" y="86"/>
                      </a:lnTo>
                      <a:lnTo>
                        <a:pt x="734" y="91"/>
                      </a:lnTo>
                      <a:lnTo>
                        <a:pt x="739" y="94"/>
                      </a:lnTo>
                      <a:lnTo>
                        <a:pt x="744" y="97"/>
                      </a:lnTo>
                      <a:lnTo>
                        <a:pt x="749" y="102"/>
                      </a:lnTo>
                      <a:lnTo>
                        <a:pt x="744" y="102"/>
                      </a:lnTo>
                      <a:lnTo>
                        <a:pt x="742" y="102"/>
                      </a:lnTo>
                      <a:lnTo>
                        <a:pt x="739" y="102"/>
                      </a:lnTo>
                      <a:lnTo>
                        <a:pt x="737" y="102"/>
                      </a:lnTo>
                      <a:lnTo>
                        <a:pt x="733" y="101"/>
                      </a:lnTo>
                      <a:lnTo>
                        <a:pt x="730" y="101"/>
                      </a:lnTo>
                      <a:lnTo>
                        <a:pt x="726" y="101"/>
                      </a:lnTo>
                      <a:lnTo>
                        <a:pt x="724" y="101"/>
                      </a:lnTo>
                      <a:lnTo>
                        <a:pt x="721" y="101"/>
                      </a:lnTo>
                      <a:lnTo>
                        <a:pt x="719" y="101"/>
                      </a:lnTo>
                      <a:lnTo>
                        <a:pt x="715" y="101"/>
                      </a:lnTo>
                      <a:lnTo>
                        <a:pt x="713" y="101"/>
                      </a:lnTo>
                      <a:lnTo>
                        <a:pt x="710" y="101"/>
                      </a:lnTo>
                      <a:lnTo>
                        <a:pt x="707" y="101"/>
                      </a:lnTo>
                      <a:lnTo>
                        <a:pt x="704" y="101"/>
                      </a:lnTo>
                      <a:lnTo>
                        <a:pt x="701" y="101"/>
                      </a:lnTo>
                      <a:lnTo>
                        <a:pt x="699" y="100"/>
                      </a:lnTo>
                      <a:lnTo>
                        <a:pt x="695" y="100"/>
                      </a:lnTo>
                      <a:lnTo>
                        <a:pt x="693" y="100"/>
                      </a:lnTo>
                      <a:lnTo>
                        <a:pt x="689" y="100"/>
                      </a:lnTo>
                      <a:lnTo>
                        <a:pt x="687" y="100"/>
                      </a:lnTo>
                      <a:lnTo>
                        <a:pt x="683" y="100"/>
                      </a:lnTo>
                      <a:lnTo>
                        <a:pt x="681" y="100"/>
                      </a:lnTo>
                      <a:lnTo>
                        <a:pt x="679" y="100"/>
                      </a:lnTo>
                      <a:lnTo>
                        <a:pt x="676" y="100"/>
                      </a:lnTo>
                      <a:lnTo>
                        <a:pt x="673" y="100"/>
                      </a:lnTo>
                      <a:lnTo>
                        <a:pt x="669" y="100"/>
                      </a:lnTo>
                      <a:lnTo>
                        <a:pt x="667" y="100"/>
                      </a:lnTo>
                      <a:lnTo>
                        <a:pt x="664" y="100"/>
                      </a:lnTo>
                      <a:lnTo>
                        <a:pt x="662" y="100"/>
                      </a:lnTo>
                      <a:lnTo>
                        <a:pt x="659" y="100"/>
                      </a:lnTo>
                      <a:lnTo>
                        <a:pt x="656" y="100"/>
                      </a:lnTo>
                      <a:lnTo>
                        <a:pt x="661" y="96"/>
                      </a:lnTo>
                      <a:lnTo>
                        <a:pt x="666" y="91"/>
                      </a:lnTo>
                      <a:lnTo>
                        <a:pt x="670" y="86"/>
                      </a:lnTo>
                      <a:lnTo>
                        <a:pt x="675" y="82"/>
                      </a:lnTo>
                      <a:lnTo>
                        <a:pt x="676" y="79"/>
                      </a:lnTo>
                      <a:lnTo>
                        <a:pt x="679" y="76"/>
                      </a:lnTo>
                      <a:lnTo>
                        <a:pt x="679" y="72"/>
                      </a:lnTo>
                      <a:lnTo>
                        <a:pt x="681" y="70"/>
                      </a:lnTo>
                      <a:lnTo>
                        <a:pt x="682" y="66"/>
                      </a:lnTo>
                      <a:lnTo>
                        <a:pt x="683" y="63"/>
                      </a:lnTo>
                      <a:lnTo>
                        <a:pt x="685" y="59"/>
                      </a:lnTo>
                      <a:lnTo>
                        <a:pt x="686" y="56"/>
                      </a:lnTo>
                      <a:lnTo>
                        <a:pt x="683" y="53"/>
                      </a:lnTo>
                      <a:lnTo>
                        <a:pt x="680" y="52"/>
                      </a:lnTo>
                      <a:lnTo>
                        <a:pt x="677" y="51"/>
                      </a:lnTo>
                      <a:lnTo>
                        <a:pt x="674" y="51"/>
                      </a:lnTo>
                      <a:lnTo>
                        <a:pt x="670" y="50"/>
                      </a:lnTo>
                      <a:lnTo>
                        <a:pt x="668" y="50"/>
                      </a:lnTo>
                      <a:lnTo>
                        <a:pt x="664" y="50"/>
                      </a:lnTo>
                      <a:lnTo>
                        <a:pt x="662" y="50"/>
                      </a:lnTo>
                      <a:lnTo>
                        <a:pt x="659" y="48"/>
                      </a:lnTo>
                      <a:lnTo>
                        <a:pt x="656" y="48"/>
                      </a:lnTo>
                      <a:lnTo>
                        <a:pt x="651" y="50"/>
                      </a:lnTo>
                      <a:lnTo>
                        <a:pt x="649" y="50"/>
                      </a:lnTo>
                      <a:lnTo>
                        <a:pt x="645" y="50"/>
                      </a:lnTo>
                      <a:lnTo>
                        <a:pt x="643" y="51"/>
                      </a:lnTo>
                      <a:lnTo>
                        <a:pt x="640" y="51"/>
                      </a:lnTo>
                      <a:lnTo>
                        <a:pt x="636" y="52"/>
                      </a:lnTo>
                      <a:lnTo>
                        <a:pt x="632" y="52"/>
                      </a:lnTo>
                      <a:lnTo>
                        <a:pt x="630" y="52"/>
                      </a:lnTo>
                      <a:lnTo>
                        <a:pt x="625" y="52"/>
                      </a:lnTo>
                      <a:lnTo>
                        <a:pt x="623" y="53"/>
                      </a:lnTo>
                      <a:lnTo>
                        <a:pt x="619" y="53"/>
                      </a:lnTo>
                      <a:lnTo>
                        <a:pt x="616" y="53"/>
                      </a:lnTo>
                      <a:lnTo>
                        <a:pt x="612" y="53"/>
                      </a:lnTo>
                      <a:lnTo>
                        <a:pt x="610" y="53"/>
                      </a:lnTo>
                      <a:lnTo>
                        <a:pt x="607" y="52"/>
                      </a:lnTo>
                      <a:lnTo>
                        <a:pt x="604" y="52"/>
                      </a:lnTo>
                      <a:lnTo>
                        <a:pt x="600" y="51"/>
                      </a:lnTo>
                      <a:lnTo>
                        <a:pt x="598" y="51"/>
                      </a:lnTo>
                      <a:lnTo>
                        <a:pt x="594" y="48"/>
                      </a:lnTo>
                      <a:lnTo>
                        <a:pt x="592" y="47"/>
                      </a:lnTo>
                      <a:lnTo>
                        <a:pt x="589" y="46"/>
                      </a:lnTo>
                      <a:lnTo>
                        <a:pt x="586" y="44"/>
                      </a:lnTo>
                      <a:lnTo>
                        <a:pt x="585" y="46"/>
                      </a:lnTo>
                      <a:lnTo>
                        <a:pt x="585" y="48"/>
                      </a:lnTo>
                      <a:lnTo>
                        <a:pt x="584" y="51"/>
                      </a:lnTo>
                      <a:lnTo>
                        <a:pt x="583" y="53"/>
                      </a:lnTo>
                      <a:lnTo>
                        <a:pt x="583" y="56"/>
                      </a:lnTo>
                      <a:lnTo>
                        <a:pt x="581" y="60"/>
                      </a:lnTo>
                      <a:lnTo>
                        <a:pt x="580" y="64"/>
                      </a:lnTo>
                      <a:lnTo>
                        <a:pt x="580" y="69"/>
                      </a:lnTo>
                      <a:lnTo>
                        <a:pt x="579" y="72"/>
                      </a:lnTo>
                      <a:lnTo>
                        <a:pt x="579" y="76"/>
                      </a:lnTo>
                      <a:lnTo>
                        <a:pt x="578" y="81"/>
                      </a:lnTo>
                      <a:lnTo>
                        <a:pt x="577" y="85"/>
                      </a:lnTo>
                      <a:lnTo>
                        <a:pt x="577" y="89"/>
                      </a:lnTo>
                      <a:lnTo>
                        <a:pt x="577" y="92"/>
                      </a:lnTo>
                      <a:lnTo>
                        <a:pt x="575" y="97"/>
                      </a:lnTo>
                      <a:lnTo>
                        <a:pt x="575" y="101"/>
                      </a:lnTo>
                      <a:lnTo>
                        <a:pt x="572" y="101"/>
                      </a:lnTo>
                      <a:lnTo>
                        <a:pt x="570" y="101"/>
                      </a:lnTo>
                      <a:lnTo>
                        <a:pt x="567" y="101"/>
                      </a:lnTo>
                      <a:lnTo>
                        <a:pt x="564" y="101"/>
                      </a:lnTo>
                      <a:lnTo>
                        <a:pt x="560" y="101"/>
                      </a:lnTo>
                      <a:lnTo>
                        <a:pt x="556" y="101"/>
                      </a:lnTo>
                      <a:lnTo>
                        <a:pt x="554" y="101"/>
                      </a:lnTo>
                      <a:lnTo>
                        <a:pt x="552" y="101"/>
                      </a:lnTo>
                      <a:lnTo>
                        <a:pt x="549" y="101"/>
                      </a:lnTo>
                      <a:lnTo>
                        <a:pt x="546" y="101"/>
                      </a:lnTo>
                      <a:lnTo>
                        <a:pt x="542" y="101"/>
                      </a:lnTo>
                      <a:lnTo>
                        <a:pt x="540" y="101"/>
                      </a:lnTo>
                      <a:lnTo>
                        <a:pt x="536" y="101"/>
                      </a:lnTo>
                      <a:lnTo>
                        <a:pt x="534" y="101"/>
                      </a:lnTo>
                      <a:lnTo>
                        <a:pt x="532" y="101"/>
                      </a:lnTo>
                      <a:lnTo>
                        <a:pt x="529" y="101"/>
                      </a:lnTo>
                      <a:lnTo>
                        <a:pt x="526" y="101"/>
                      </a:lnTo>
                      <a:lnTo>
                        <a:pt x="523" y="101"/>
                      </a:lnTo>
                      <a:lnTo>
                        <a:pt x="520" y="101"/>
                      </a:lnTo>
                      <a:lnTo>
                        <a:pt x="516" y="101"/>
                      </a:lnTo>
                      <a:lnTo>
                        <a:pt x="514" y="101"/>
                      </a:lnTo>
                      <a:lnTo>
                        <a:pt x="511" y="101"/>
                      </a:lnTo>
                      <a:lnTo>
                        <a:pt x="509" y="101"/>
                      </a:lnTo>
                      <a:lnTo>
                        <a:pt x="507" y="101"/>
                      </a:lnTo>
                      <a:lnTo>
                        <a:pt x="503" y="101"/>
                      </a:lnTo>
                      <a:lnTo>
                        <a:pt x="501" y="101"/>
                      </a:lnTo>
                      <a:lnTo>
                        <a:pt x="497" y="101"/>
                      </a:lnTo>
                      <a:lnTo>
                        <a:pt x="495" y="101"/>
                      </a:lnTo>
                      <a:lnTo>
                        <a:pt x="492" y="101"/>
                      </a:lnTo>
                      <a:lnTo>
                        <a:pt x="490" y="101"/>
                      </a:lnTo>
                      <a:lnTo>
                        <a:pt x="486" y="101"/>
                      </a:lnTo>
                      <a:lnTo>
                        <a:pt x="484" y="102"/>
                      </a:lnTo>
                      <a:lnTo>
                        <a:pt x="482" y="102"/>
                      </a:lnTo>
                      <a:lnTo>
                        <a:pt x="478" y="102"/>
                      </a:lnTo>
                      <a:lnTo>
                        <a:pt x="476" y="102"/>
                      </a:lnTo>
                      <a:lnTo>
                        <a:pt x="473" y="102"/>
                      </a:lnTo>
                      <a:lnTo>
                        <a:pt x="471" y="102"/>
                      </a:lnTo>
                      <a:lnTo>
                        <a:pt x="469" y="102"/>
                      </a:lnTo>
                      <a:lnTo>
                        <a:pt x="466" y="102"/>
                      </a:lnTo>
                      <a:lnTo>
                        <a:pt x="463" y="102"/>
                      </a:lnTo>
                      <a:lnTo>
                        <a:pt x="460" y="102"/>
                      </a:lnTo>
                      <a:lnTo>
                        <a:pt x="457" y="102"/>
                      </a:lnTo>
                      <a:lnTo>
                        <a:pt x="456" y="102"/>
                      </a:lnTo>
                      <a:lnTo>
                        <a:pt x="453" y="102"/>
                      </a:lnTo>
                      <a:lnTo>
                        <a:pt x="447" y="102"/>
                      </a:lnTo>
                      <a:lnTo>
                        <a:pt x="443" y="102"/>
                      </a:lnTo>
                      <a:lnTo>
                        <a:pt x="440" y="102"/>
                      </a:lnTo>
                      <a:lnTo>
                        <a:pt x="437" y="102"/>
                      </a:lnTo>
                      <a:lnTo>
                        <a:pt x="434" y="102"/>
                      </a:lnTo>
                      <a:lnTo>
                        <a:pt x="432" y="102"/>
                      </a:lnTo>
                      <a:lnTo>
                        <a:pt x="427" y="102"/>
                      </a:lnTo>
                      <a:lnTo>
                        <a:pt x="422" y="102"/>
                      </a:lnTo>
                      <a:lnTo>
                        <a:pt x="416" y="102"/>
                      </a:lnTo>
                      <a:lnTo>
                        <a:pt x="413" y="103"/>
                      </a:lnTo>
                      <a:lnTo>
                        <a:pt x="407" y="103"/>
                      </a:lnTo>
                      <a:lnTo>
                        <a:pt x="402" y="104"/>
                      </a:lnTo>
                      <a:lnTo>
                        <a:pt x="405" y="100"/>
                      </a:lnTo>
                      <a:lnTo>
                        <a:pt x="405" y="97"/>
                      </a:lnTo>
                      <a:lnTo>
                        <a:pt x="407" y="94"/>
                      </a:lnTo>
                      <a:lnTo>
                        <a:pt x="408" y="91"/>
                      </a:lnTo>
                      <a:lnTo>
                        <a:pt x="408" y="86"/>
                      </a:lnTo>
                      <a:lnTo>
                        <a:pt x="409" y="84"/>
                      </a:lnTo>
                      <a:lnTo>
                        <a:pt x="408" y="82"/>
                      </a:lnTo>
                      <a:lnTo>
                        <a:pt x="408" y="78"/>
                      </a:lnTo>
                      <a:lnTo>
                        <a:pt x="407" y="76"/>
                      </a:lnTo>
                      <a:lnTo>
                        <a:pt x="405" y="73"/>
                      </a:lnTo>
                      <a:lnTo>
                        <a:pt x="403" y="71"/>
                      </a:lnTo>
                      <a:lnTo>
                        <a:pt x="402" y="69"/>
                      </a:lnTo>
                      <a:lnTo>
                        <a:pt x="399" y="67"/>
                      </a:lnTo>
                      <a:lnTo>
                        <a:pt x="395" y="66"/>
                      </a:lnTo>
                      <a:lnTo>
                        <a:pt x="392" y="66"/>
                      </a:lnTo>
                      <a:lnTo>
                        <a:pt x="387" y="67"/>
                      </a:lnTo>
                      <a:lnTo>
                        <a:pt x="383" y="71"/>
                      </a:lnTo>
                      <a:lnTo>
                        <a:pt x="381" y="73"/>
                      </a:lnTo>
                      <a:lnTo>
                        <a:pt x="378" y="76"/>
                      </a:lnTo>
                      <a:lnTo>
                        <a:pt x="375" y="79"/>
                      </a:lnTo>
                      <a:lnTo>
                        <a:pt x="375" y="83"/>
                      </a:lnTo>
                      <a:lnTo>
                        <a:pt x="375" y="86"/>
                      </a:lnTo>
                      <a:lnTo>
                        <a:pt x="375" y="89"/>
                      </a:lnTo>
                      <a:lnTo>
                        <a:pt x="375" y="94"/>
                      </a:lnTo>
                      <a:lnTo>
                        <a:pt x="375" y="96"/>
                      </a:lnTo>
                      <a:lnTo>
                        <a:pt x="375" y="100"/>
                      </a:lnTo>
                      <a:lnTo>
                        <a:pt x="375" y="102"/>
                      </a:lnTo>
                      <a:lnTo>
                        <a:pt x="376" y="104"/>
                      </a:lnTo>
                      <a:lnTo>
                        <a:pt x="373" y="104"/>
                      </a:lnTo>
                      <a:lnTo>
                        <a:pt x="369" y="104"/>
                      </a:lnTo>
                      <a:lnTo>
                        <a:pt x="365" y="104"/>
                      </a:lnTo>
                      <a:lnTo>
                        <a:pt x="363" y="104"/>
                      </a:lnTo>
                      <a:lnTo>
                        <a:pt x="360" y="104"/>
                      </a:lnTo>
                      <a:lnTo>
                        <a:pt x="357" y="104"/>
                      </a:lnTo>
                      <a:lnTo>
                        <a:pt x="355" y="104"/>
                      </a:lnTo>
                      <a:lnTo>
                        <a:pt x="351" y="104"/>
                      </a:lnTo>
                      <a:lnTo>
                        <a:pt x="348" y="104"/>
                      </a:lnTo>
                      <a:lnTo>
                        <a:pt x="344" y="104"/>
                      </a:lnTo>
                      <a:lnTo>
                        <a:pt x="342" y="104"/>
                      </a:lnTo>
                      <a:lnTo>
                        <a:pt x="339" y="104"/>
                      </a:lnTo>
                      <a:lnTo>
                        <a:pt x="337" y="104"/>
                      </a:lnTo>
                      <a:lnTo>
                        <a:pt x="333" y="104"/>
                      </a:lnTo>
                      <a:lnTo>
                        <a:pt x="330" y="104"/>
                      </a:lnTo>
                      <a:lnTo>
                        <a:pt x="327" y="104"/>
                      </a:lnTo>
                      <a:lnTo>
                        <a:pt x="324" y="104"/>
                      </a:lnTo>
                      <a:lnTo>
                        <a:pt x="322" y="104"/>
                      </a:lnTo>
                      <a:lnTo>
                        <a:pt x="319" y="104"/>
                      </a:lnTo>
                      <a:lnTo>
                        <a:pt x="317" y="104"/>
                      </a:lnTo>
                      <a:lnTo>
                        <a:pt x="313" y="104"/>
                      </a:lnTo>
                      <a:lnTo>
                        <a:pt x="311" y="104"/>
                      </a:lnTo>
                      <a:lnTo>
                        <a:pt x="307" y="104"/>
                      </a:lnTo>
                      <a:lnTo>
                        <a:pt x="305" y="104"/>
                      </a:lnTo>
                      <a:lnTo>
                        <a:pt x="303" y="104"/>
                      </a:lnTo>
                      <a:lnTo>
                        <a:pt x="299" y="104"/>
                      </a:lnTo>
                      <a:lnTo>
                        <a:pt x="297" y="104"/>
                      </a:lnTo>
                      <a:lnTo>
                        <a:pt x="294" y="104"/>
                      </a:lnTo>
                      <a:lnTo>
                        <a:pt x="288" y="104"/>
                      </a:lnTo>
                      <a:lnTo>
                        <a:pt x="284" y="105"/>
                      </a:lnTo>
                      <a:lnTo>
                        <a:pt x="281" y="105"/>
                      </a:lnTo>
                      <a:lnTo>
                        <a:pt x="279" y="105"/>
                      </a:lnTo>
                      <a:lnTo>
                        <a:pt x="276" y="105"/>
                      </a:lnTo>
                      <a:lnTo>
                        <a:pt x="273" y="105"/>
                      </a:lnTo>
                      <a:lnTo>
                        <a:pt x="268" y="105"/>
                      </a:lnTo>
                      <a:lnTo>
                        <a:pt x="263" y="105"/>
                      </a:lnTo>
                      <a:lnTo>
                        <a:pt x="259" y="105"/>
                      </a:lnTo>
                      <a:lnTo>
                        <a:pt x="253" y="105"/>
                      </a:lnTo>
                      <a:lnTo>
                        <a:pt x="249" y="105"/>
                      </a:lnTo>
                      <a:lnTo>
                        <a:pt x="246" y="105"/>
                      </a:lnTo>
                      <a:lnTo>
                        <a:pt x="241" y="105"/>
                      </a:lnTo>
                      <a:lnTo>
                        <a:pt x="235" y="105"/>
                      </a:lnTo>
                      <a:lnTo>
                        <a:pt x="230" y="105"/>
                      </a:lnTo>
                      <a:lnTo>
                        <a:pt x="227" y="105"/>
                      </a:lnTo>
                      <a:lnTo>
                        <a:pt x="223" y="105"/>
                      </a:lnTo>
                      <a:lnTo>
                        <a:pt x="218" y="105"/>
                      </a:lnTo>
                      <a:lnTo>
                        <a:pt x="215" y="105"/>
                      </a:lnTo>
                      <a:lnTo>
                        <a:pt x="210" y="105"/>
                      </a:lnTo>
                      <a:lnTo>
                        <a:pt x="204" y="104"/>
                      </a:lnTo>
                      <a:lnTo>
                        <a:pt x="198" y="104"/>
                      </a:lnTo>
                      <a:lnTo>
                        <a:pt x="192" y="104"/>
                      </a:lnTo>
                      <a:lnTo>
                        <a:pt x="187" y="104"/>
                      </a:lnTo>
                      <a:lnTo>
                        <a:pt x="182" y="104"/>
                      </a:lnTo>
                      <a:lnTo>
                        <a:pt x="176" y="104"/>
                      </a:lnTo>
                      <a:lnTo>
                        <a:pt x="170" y="104"/>
                      </a:lnTo>
                      <a:lnTo>
                        <a:pt x="165" y="104"/>
                      </a:lnTo>
                      <a:lnTo>
                        <a:pt x="159" y="103"/>
                      </a:lnTo>
                      <a:lnTo>
                        <a:pt x="153" y="102"/>
                      </a:lnTo>
                      <a:lnTo>
                        <a:pt x="148" y="102"/>
                      </a:lnTo>
                      <a:lnTo>
                        <a:pt x="144" y="102"/>
                      </a:lnTo>
                      <a:lnTo>
                        <a:pt x="138" y="102"/>
                      </a:lnTo>
                      <a:lnTo>
                        <a:pt x="134" y="102"/>
                      </a:lnTo>
                      <a:lnTo>
                        <a:pt x="128" y="102"/>
                      </a:lnTo>
                      <a:lnTo>
                        <a:pt x="125" y="102"/>
                      </a:lnTo>
                      <a:lnTo>
                        <a:pt x="119" y="102"/>
                      </a:lnTo>
                      <a:lnTo>
                        <a:pt x="114" y="101"/>
                      </a:lnTo>
                      <a:lnTo>
                        <a:pt x="109" y="100"/>
                      </a:lnTo>
                      <a:lnTo>
                        <a:pt x="104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1" y="100"/>
                      </a:lnTo>
                      <a:lnTo>
                        <a:pt x="88" y="100"/>
                      </a:lnTo>
                      <a:lnTo>
                        <a:pt x="83" y="100"/>
                      </a:lnTo>
                      <a:lnTo>
                        <a:pt x="78" y="98"/>
                      </a:lnTo>
                      <a:lnTo>
                        <a:pt x="75" y="97"/>
                      </a:lnTo>
                      <a:lnTo>
                        <a:pt x="71" y="97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1" y="97"/>
                      </a:lnTo>
                      <a:lnTo>
                        <a:pt x="57" y="97"/>
                      </a:lnTo>
                      <a:lnTo>
                        <a:pt x="53" y="97"/>
                      </a:lnTo>
                      <a:lnTo>
                        <a:pt x="50" y="96"/>
                      </a:lnTo>
                      <a:lnTo>
                        <a:pt x="46" y="96"/>
                      </a:lnTo>
                      <a:lnTo>
                        <a:pt x="44" y="96"/>
                      </a:lnTo>
                      <a:lnTo>
                        <a:pt x="40" y="95"/>
                      </a:lnTo>
                      <a:lnTo>
                        <a:pt x="38" y="94"/>
                      </a:lnTo>
                      <a:lnTo>
                        <a:pt x="34" y="94"/>
                      </a:lnTo>
                      <a:lnTo>
                        <a:pt x="33" y="94"/>
                      </a:lnTo>
                      <a:lnTo>
                        <a:pt x="30" y="94"/>
                      </a:lnTo>
                      <a:lnTo>
                        <a:pt x="26" y="94"/>
                      </a:lnTo>
                      <a:lnTo>
                        <a:pt x="24" y="94"/>
                      </a:lnTo>
                      <a:lnTo>
                        <a:pt x="23" y="94"/>
                      </a:lnTo>
                      <a:lnTo>
                        <a:pt x="18" y="91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7" y="91"/>
                      </a:lnTo>
                      <a:lnTo>
                        <a:pt x="5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Freeform 65"/>
                <p:cNvSpPr/>
                <p:nvPr/>
              </p:nvSpPr>
              <p:spPr>
                <a:xfrm>
                  <a:off x="7377120" y="2133720"/>
                  <a:ext cx="18720" cy="493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6" h="91">
                      <a:moveTo>
                        <a:pt x="36" y="91"/>
                      </a:moveTo>
                      <a:lnTo>
                        <a:pt x="33" y="91"/>
                      </a:lnTo>
                      <a:lnTo>
                        <a:pt x="29" y="91"/>
                      </a:lnTo>
                      <a:lnTo>
                        <a:pt x="27" y="89"/>
                      </a:lnTo>
                      <a:lnTo>
                        <a:pt x="23" y="89"/>
                      </a:lnTo>
                      <a:lnTo>
                        <a:pt x="17" y="88"/>
                      </a:lnTo>
                      <a:lnTo>
                        <a:pt x="15" y="87"/>
                      </a:lnTo>
                      <a:lnTo>
                        <a:pt x="10" y="85"/>
                      </a:lnTo>
                      <a:lnTo>
                        <a:pt x="8" y="83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5"/>
                      </a:lnTo>
                      <a:lnTo>
                        <a:pt x="6" y="51"/>
                      </a:lnTo>
                      <a:lnTo>
                        <a:pt x="7" y="48"/>
                      </a:lnTo>
                      <a:lnTo>
                        <a:pt x="9" y="45"/>
                      </a:lnTo>
                      <a:lnTo>
                        <a:pt x="11" y="41"/>
                      </a:lnTo>
                      <a:lnTo>
                        <a:pt x="13" y="37"/>
                      </a:lnTo>
                      <a:lnTo>
                        <a:pt x="15" y="34"/>
                      </a:lnTo>
                      <a:lnTo>
                        <a:pt x="19" y="30"/>
                      </a:lnTo>
                      <a:lnTo>
                        <a:pt x="20" y="26"/>
                      </a:lnTo>
                      <a:lnTo>
                        <a:pt x="23" y="23"/>
                      </a:lnTo>
                      <a:lnTo>
                        <a:pt x="26" y="19"/>
                      </a:lnTo>
                      <a:lnTo>
                        <a:pt x="28" y="15"/>
                      </a:lnTo>
                      <a:lnTo>
                        <a:pt x="30" y="12"/>
                      </a:lnTo>
                      <a:lnTo>
                        <a:pt x="32" y="7"/>
                      </a:lnTo>
                      <a:lnTo>
                        <a:pt x="33" y="4"/>
                      </a:lnTo>
                      <a:lnTo>
                        <a:pt x="35" y="0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5" y="10"/>
                      </a:lnTo>
                      <a:lnTo>
                        <a:pt x="35" y="12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5" y="20"/>
                      </a:lnTo>
                      <a:lnTo>
                        <a:pt x="35" y="23"/>
                      </a:lnTo>
                      <a:lnTo>
                        <a:pt x="35" y="26"/>
                      </a:lnTo>
                      <a:lnTo>
                        <a:pt x="35" y="30"/>
                      </a:lnTo>
                      <a:lnTo>
                        <a:pt x="35" y="32"/>
                      </a:lnTo>
                      <a:lnTo>
                        <a:pt x="35" y="35"/>
                      </a:lnTo>
                      <a:lnTo>
                        <a:pt x="35" y="37"/>
                      </a:lnTo>
                      <a:lnTo>
                        <a:pt x="35" y="41"/>
                      </a:lnTo>
                      <a:lnTo>
                        <a:pt x="35" y="43"/>
                      </a:lnTo>
                      <a:lnTo>
                        <a:pt x="35" y="47"/>
                      </a:lnTo>
                      <a:lnTo>
                        <a:pt x="35" y="49"/>
                      </a:lnTo>
                      <a:lnTo>
                        <a:pt x="35" y="53"/>
                      </a:lnTo>
                      <a:lnTo>
                        <a:pt x="35" y="55"/>
                      </a:lnTo>
                      <a:lnTo>
                        <a:pt x="35" y="57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7"/>
                      </a:lnTo>
                      <a:lnTo>
                        <a:pt x="35" y="69"/>
                      </a:lnTo>
                      <a:lnTo>
                        <a:pt x="35" y="72"/>
                      </a:lnTo>
                      <a:lnTo>
                        <a:pt x="35" y="75"/>
                      </a:lnTo>
                      <a:lnTo>
                        <a:pt x="35" y="77"/>
                      </a:lnTo>
                      <a:lnTo>
                        <a:pt x="35" y="80"/>
                      </a:lnTo>
                      <a:lnTo>
                        <a:pt x="35" y="82"/>
                      </a:lnTo>
                      <a:lnTo>
                        <a:pt x="35" y="86"/>
                      </a:lnTo>
                      <a:lnTo>
                        <a:pt x="35" y="88"/>
                      </a:lnTo>
                      <a:lnTo>
                        <a:pt x="36" y="9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66"/>
                <p:cNvSpPr/>
                <p:nvPr/>
              </p:nvSpPr>
              <p:spPr>
                <a:xfrm>
                  <a:off x="7348320" y="2005200"/>
                  <a:ext cx="353880" cy="28116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667" h="531">
                      <a:moveTo>
                        <a:pt x="22" y="4"/>
                      </a:moveTo>
                      <a:lnTo>
                        <a:pt x="105" y="26"/>
                      </a:lnTo>
                      <a:lnTo>
                        <a:pt x="105" y="27"/>
                      </a:lnTo>
                      <a:lnTo>
                        <a:pt x="105" y="29"/>
                      </a:lnTo>
                      <a:lnTo>
                        <a:pt x="104" y="30"/>
                      </a:lnTo>
                      <a:lnTo>
                        <a:pt x="104" y="33"/>
                      </a:lnTo>
                      <a:lnTo>
                        <a:pt x="104" y="35"/>
                      </a:lnTo>
                      <a:lnTo>
                        <a:pt x="104" y="38"/>
                      </a:lnTo>
                      <a:lnTo>
                        <a:pt x="104" y="41"/>
                      </a:lnTo>
                      <a:lnTo>
                        <a:pt x="104" y="45"/>
                      </a:lnTo>
                      <a:lnTo>
                        <a:pt x="102" y="48"/>
                      </a:lnTo>
                      <a:lnTo>
                        <a:pt x="101" y="53"/>
                      </a:lnTo>
                      <a:lnTo>
                        <a:pt x="101" y="54"/>
                      </a:lnTo>
                      <a:lnTo>
                        <a:pt x="101" y="57"/>
                      </a:lnTo>
                      <a:lnTo>
                        <a:pt x="101" y="59"/>
                      </a:lnTo>
                      <a:lnTo>
                        <a:pt x="101" y="62"/>
                      </a:lnTo>
                      <a:lnTo>
                        <a:pt x="101" y="65"/>
                      </a:lnTo>
                      <a:lnTo>
                        <a:pt x="101" y="67"/>
                      </a:lnTo>
                      <a:lnTo>
                        <a:pt x="101" y="71"/>
                      </a:lnTo>
                      <a:lnTo>
                        <a:pt x="101" y="73"/>
                      </a:lnTo>
                      <a:lnTo>
                        <a:pt x="100" y="76"/>
                      </a:lnTo>
                      <a:lnTo>
                        <a:pt x="99" y="79"/>
                      </a:lnTo>
                      <a:lnTo>
                        <a:pt x="99" y="81"/>
                      </a:lnTo>
                      <a:lnTo>
                        <a:pt x="99" y="85"/>
                      </a:lnTo>
                      <a:lnTo>
                        <a:pt x="99" y="87"/>
                      </a:lnTo>
                      <a:lnTo>
                        <a:pt x="99" y="90"/>
                      </a:lnTo>
                      <a:lnTo>
                        <a:pt x="99" y="95"/>
                      </a:lnTo>
                      <a:lnTo>
                        <a:pt x="99" y="97"/>
                      </a:lnTo>
                      <a:lnTo>
                        <a:pt x="98" y="100"/>
                      </a:lnTo>
                      <a:lnTo>
                        <a:pt x="97" y="105"/>
                      </a:lnTo>
                      <a:lnTo>
                        <a:pt x="97" y="108"/>
                      </a:lnTo>
                      <a:lnTo>
                        <a:pt x="97" y="112"/>
                      </a:lnTo>
                      <a:lnTo>
                        <a:pt x="97" y="115"/>
                      </a:lnTo>
                      <a:lnTo>
                        <a:pt x="97" y="119"/>
                      </a:lnTo>
                      <a:lnTo>
                        <a:pt x="97" y="123"/>
                      </a:lnTo>
                      <a:lnTo>
                        <a:pt x="97" y="128"/>
                      </a:lnTo>
                      <a:lnTo>
                        <a:pt x="95" y="131"/>
                      </a:lnTo>
                      <a:lnTo>
                        <a:pt x="94" y="135"/>
                      </a:lnTo>
                      <a:lnTo>
                        <a:pt x="94" y="138"/>
                      </a:lnTo>
                      <a:lnTo>
                        <a:pt x="94" y="143"/>
                      </a:lnTo>
                      <a:lnTo>
                        <a:pt x="94" y="148"/>
                      </a:lnTo>
                      <a:lnTo>
                        <a:pt x="94" y="152"/>
                      </a:lnTo>
                      <a:lnTo>
                        <a:pt x="93" y="156"/>
                      </a:lnTo>
                      <a:lnTo>
                        <a:pt x="93" y="161"/>
                      </a:lnTo>
                      <a:lnTo>
                        <a:pt x="92" y="165"/>
                      </a:lnTo>
                      <a:lnTo>
                        <a:pt x="92" y="169"/>
                      </a:lnTo>
                      <a:lnTo>
                        <a:pt x="91" y="173"/>
                      </a:lnTo>
                      <a:lnTo>
                        <a:pt x="91" y="179"/>
                      </a:lnTo>
                      <a:lnTo>
                        <a:pt x="91" y="182"/>
                      </a:lnTo>
                      <a:lnTo>
                        <a:pt x="91" y="187"/>
                      </a:lnTo>
                      <a:lnTo>
                        <a:pt x="91" y="192"/>
                      </a:lnTo>
                      <a:lnTo>
                        <a:pt x="91" y="198"/>
                      </a:lnTo>
                      <a:lnTo>
                        <a:pt x="89" y="201"/>
                      </a:lnTo>
                      <a:lnTo>
                        <a:pt x="89" y="207"/>
                      </a:lnTo>
                      <a:lnTo>
                        <a:pt x="89" y="211"/>
                      </a:lnTo>
                      <a:lnTo>
                        <a:pt x="89" y="217"/>
                      </a:lnTo>
                      <a:lnTo>
                        <a:pt x="88" y="214"/>
                      </a:lnTo>
                      <a:lnTo>
                        <a:pt x="86" y="211"/>
                      </a:lnTo>
                      <a:lnTo>
                        <a:pt x="83" y="207"/>
                      </a:lnTo>
                      <a:lnTo>
                        <a:pt x="80" y="205"/>
                      </a:lnTo>
                      <a:lnTo>
                        <a:pt x="76" y="201"/>
                      </a:lnTo>
                      <a:lnTo>
                        <a:pt x="70" y="199"/>
                      </a:lnTo>
                      <a:lnTo>
                        <a:pt x="68" y="198"/>
                      </a:lnTo>
                      <a:lnTo>
                        <a:pt x="66" y="197"/>
                      </a:lnTo>
                      <a:lnTo>
                        <a:pt x="63" y="197"/>
                      </a:lnTo>
                      <a:lnTo>
                        <a:pt x="61" y="195"/>
                      </a:lnTo>
                      <a:lnTo>
                        <a:pt x="60" y="197"/>
                      </a:lnTo>
                      <a:lnTo>
                        <a:pt x="59" y="199"/>
                      </a:lnTo>
                      <a:lnTo>
                        <a:pt x="59" y="201"/>
                      </a:lnTo>
                      <a:lnTo>
                        <a:pt x="57" y="206"/>
                      </a:lnTo>
                      <a:lnTo>
                        <a:pt x="56" y="208"/>
                      </a:lnTo>
                      <a:lnTo>
                        <a:pt x="55" y="213"/>
                      </a:lnTo>
                      <a:lnTo>
                        <a:pt x="54" y="218"/>
                      </a:lnTo>
                      <a:lnTo>
                        <a:pt x="54" y="222"/>
                      </a:lnTo>
                      <a:lnTo>
                        <a:pt x="53" y="226"/>
                      </a:lnTo>
                      <a:lnTo>
                        <a:pt x="53" y="231"/>
                      </a:lnTo>
                      <a:lnTo>
                        <a:pt x="53" y="235"/>
                      </a:lnTo>
                      <a:lnTo>
                        <a:pt x="53" y="239"/>
                      </a:lnTo>
                      <a:lnTo>
                        <a:pt x="53" y="243"/>
                      </a:lnTo>
                      <a:lnTo>
                        <a:pt x="53" y="246"/>
                      </a:lnTo>
                      <a:lnTo>
                        <a:pt x="54" y="250"/>
                      </a:lnTo>
                      <a:lnTo>
                        <a:pt x="56" y="254"/>
                      </a:lnTo>
                      <a:lnTo>
                        <a:pt x="51" y="255"/>
                      </a:lnTo>
                      <a:lnTo>
                        <a:pt x="48" y="257"/>
                      </a:lnTo>
                      <a:lnTo>
                        <a:pt x="44" y="257"/>
                      </a:lnTo>
                      <a:lnTo>
                        <a:pt x="41" y="260"/>
                      </a:lnTo>
                      <a:lnTo>
                        <a:pt x="38" y="262"/>
                      </a:lnTo>
                      <a:lnTo>
                        <a:pt x="35" y="263"/>
                      </a:lnTo>
                      <a:lnTo>
                        <a:pt x="32" y="264"/>
                      </a:lnTo>
                      <a:lnTo>
                        <a:pt x="30" y="267"/>
                      </a:lnTo>
                      <a:lnTo>
                        <a:pt x="25" y="271"/>
                      </a:lnTo>
                      <a:lnTo>
                        <a:pt x="22" y="275"/>
                      </a:lnTo>
                      <a:lnTo>
                        <a:pt x="19" y="280"/>
                      </a:lnTo>
                      <a:lnTo>
                        <a:pt x="17" y="284"/>
                      </a:lnTo>
                      <a:lnTo>
                        <a:pt x="15" y="289"/>
                      </a:lnTo>
                      <a:lnTo>
                        <a:pt x="13" y="294"/>
                      </a:lnTo>
                      <a:lnTo>
                        <a:pt x="12" y="299"/>
                      </a:lnTo>
                      <a:lnTo>
                        <a:pt x="12" y="303"/>
                      </a:lnTo>
                      <a:lnTo>
                        <a:pt x="12" y="306"/>
                      </a:lnTo>
                      <a:lnTo>
                        <a:pt x="12" y="308"/>
                      </a:lnTo>
                      <a:lnTo>
                        <a:pt x="12" y="312"/>
                      </a:lnTo>
                      <a:lnTo>
                        <a:pt x="13" y="314"/>
                      </a:lnTo>
                      <a:lnTo>
                        <a:pt x="13" y="317"/>
                      </a:lnTo>
                      <a:lnTo>
                        <a:pt x="15" y="319"/>
                      </a:lnTo>
                      <a:lnTo>
                        <a:pt x="15" y="322"/>
                      </a:lnTo>
                      <a:lnTo>
                        <a:pt x="17" y="325"/>
                      </a:lnTo>
                      <a:lnTo>
                        <a:pt x="18" y="330"/>
                      </a:lnTo>
                      <a:lnTo>
                        <a:pt x="21" y="336"/>
                      </a:lnTo>
                      <a:lnTo>
                        <a:pt x="21" y="338"/>
                      </a:lnTo>
                      <a:lnTo>
                        <a:pt x="23" y="340"/>
                      </a:lnTo>
                      <a:lnTo>
                        <a:pt x="24" y="343"/>
                      </a:lnTo>
                      <a:lnTo>
                        <a:pt x="25" y="345"/>
                      </a:lnTo>
                      <a:lnTo>
                        <a:pt x="28" y="351"/>
                      </a:lnTo>
                      <a:lnTo>
                        <a:pt x="31" y="356"/>
                      </a:lnTo>
                      <a:lnTo>
                        <a:pt x="32" y="358"/>
                      </a:lnTo>
                      <a:lnTo>
                        <a:pt x="35" y="360"/>
                      </a:lnTo>
                      <a:lnTo>
                        <a:pt x="36" y="364"/>
                      </a:lnTo>
                      <a:lnTo>
                        <a:pt x="38" y="368"/>
                      </a:lnTo>
                      <a:lnTo>
                        <a:pt x="42" y="372"/>
                      </a:lnTo>
                      <a:lnTo>
                        <a:pt x="45" y="376"/>
                      </a:lnTo>
                      <a:lnTo>
                        <a:pt x="49" y="381"/>
                      </a:lnTo>
                      <a:lnTo>
                        <a:pt x="53" y="387"/>
                      </a:lnTo>
                      <a:lnTo>
                        <a:pt x="56" y="391"/>
                      </a:lnTo>
                      <a:lnTo>
                        <a:pt x="60" y="396"/>
                      </a:lnTo>
                      <a:lnTo>
                        <a:pt x="63" y="400"/>
                      </a:lnTo>
                      <a:lnTo>
                        <a:pt x="67" y="404"/>
                      </a:lnTo>
                      <a:lnTo>
                        <a:pt x="68" y="401"/>
                      </a:lnTo>
                      <a:lnTo>
                        <a:pt x="70" y="396"/>
                      </a:lnTo>
                      <a:lnTo>
                        <a:pt x="73" y="394"/>
                      </a:lnTo>
                      <a:lnTo>
                        <a:pt x="74" y="391"/>
                      </a:lnTo>
                      <a:lnTo>
                        <a:pt x="76" y="388"/>
                      </a:lnTo>
                      <a:lnTo>
                        <a:pt x="78" y="384"/>
                      </a:lnTo>
                      <a:lnTo>
                        <a:pt x="79" y="381"/>
                      </a:lnTo>
                      <a:lnTo>
                        <a:pt x="81" y="378"/>
                      </a:lnTo>
                      <a:lnTo>
                        <a:pt x="81" y="374"/>
                      </a:lnTo>
                      <a:lnTo>
                        <a:pt x="83" y="371"/>
                      </a:lnTo>
                      <a:lnTo>
                        <a:pt x="86" y="366"/>
                      </a:lnTo>
                      <a:lnTo>
                        <a:pt x="87" y="363"/>
                      </a:lnTo>
                      <a:lnTo>
                        <a:pt x="88" y="358"/>
                      </a:lnTo>
                      <a:lnTo>
                        <a:pt x="91" y="356"/>
                      </a:lnTo>
                      <a:lnTo>
                        <a:pt x="91" y="359"/>
                      </a:lnTo>
                      <a:lnTo>
                        <a:pt x="91" y="363"/>
                      </a:lnTo>
                      <a:lnTo>
                        <a:pt x="91" y="366"/>
                      </a:lnTo>
                      <a:lnTo>
                        <a:pt x="91" y="370"/>
                      </a:lnTo>
                      <a:lnTo>
                        <a:pt x="91" y="374"/>
                      </a:lnTo>
                      <a:lnTo>
                        <a:pt x="91" y="376"/>
                      </a:lnTo>
                      <a:lnTo>
                        <a:pt x="92" y="379"/>
                      </a:lnTo>
                      <a:lnTo>
                        <a:pt x="92" y="383"/>
                      </a:lnTo>
                      <a:lnTo>
                        <a:pt x="92" y="387"/>
                      </a:lnTo>
                      <a:lnTo>
                        <a:pt x="93" y="389"/>
                      </a:lnTo>
                      <a:lnTo>
                        <a:pt x="94" y="391"/>
                      </a:lnTo>
                      <a:lnTo>
                        <a:pt x="94" y="396"/>
                      </a:lnTo>
                      <a:lnTo>
                        <a:pt x="94" y="398"/>
                      </a:lnTo>
                      <a:lnTo>
                        <a:pt x="94" y="401"/>
                      </a:lnTo>
                      <a:lnTo>
                        <a:pt x="94" y="404"/>
                      </a:lnTo>
                      <a:lnTo>
                        <a:pt x="95" y="407"/>
                      </a:lnTo>
                      <a:lnTo>
                        <a:pt x="92" y="408"/>
                      </a:lnTo>
                      <a:lnTo>
                        <a:pt x="88" y="409"/>
                      </a:lnTo>
                      <a:lnTo>
                        <a:pt x="83" y="411"/>
                      </a:lnTo>
                      <a:lnTo>
                        <a:pt x="81" y="414"/>
                      </a:lnTo>
                      <a:lnTo>
                        <a:pt x="76" y="416"/>
                      </a:lnTo>
                      <a:lnTo>
                        <a:pt x="70" y="419"/>
                      </a:lnTo>
                      <a:lnTo>
                        <a:pt x="66" y="421"/>
                      </a:lnTo>
                      <a:lnTo>
                        <a:pt x="62" y="425"/>
                      </a:lnTo>
                      <a:lnTo>
                        <a:pt x="57" y="427"/>
                      </a:lnTo>
                      <a:lnTo>
                        <a:pt x="53" y="429"/>
                      </a:lnTo>
                      <a:lnTo>
                        <a:pt x="48" y="432"/>
                      </a:lnTo>
                      <a:lnTo>
                        <a:pt x="44" y="435"/>
                      </a:lnTo>
                      <a:lnTo>
                        <a:pt x="40" y="438"/>
                      </a:lnTo>
                      <a:lnTo>
                        <a:pt x="37" y="440"/>
                      </a:lnTo>
                      <a:lnTo>
                        <a:pt x="34" y="442"/>
                      </a:lnTo>
                      <a:lnTo>
                        <a:pt x="32" y="445"/>
                      </a:lnTo>
                      <a:lnTo>
                        <a:pt x="36" y="445"/>
                      </a:lnTo>
                      <a:lnTo>
                        <a:pt x="41" y="445"/>
                      </a:lnTo>
                      <a:lnTo>
                        <a:pt x="44" y="445"/>
                      </a:lnTo>
                      <a:lnTo>
                        <a:pt x="48" y="445"/>
                      </a:lnTo>
                      <a:lnTo>
                        <a:pt x="53" y="445"/>
                      </a:lnTo>
                      <a:lnTo>
                        <a:pt x="56" y="445"/>
                      </a:lnTo>
                      <a:lnTo>
                        <a:pt x="61" y="445"/>
                      </a:lnTo>
                      <a:lnTo>
                        <a:pt x="66" y="445"/>
                      </a:lnTo>
                      <a:lnTo>
                        <a:pt x="66" y="447"/>
                      </a:lnTo>
                      <a:lnTo>
                        <a:pt x="68" y="449"/>
                      </a:lnTo>
                      <a:lnTo>
                        <a:pt x="69" y="452"/>
                      </a:lnTo>
                      <a:lnTo>
                        <a:pt x="70" y="454"/>
                      </a:lnTo>
                      <a:lnTo>
                        <a:pt x="74" y="457"/>
                      </a:lnTo>
                      <a:lnTo>
                        <a:pt x="78" y="460"/>
                      </a:lnTo>
                      <a:lnTo>
                        <a:pt x="81" y="461"/>
                      </a:lnTo>
                      <a:lnTo>
                        <a:pt x="85" y="463"/>
                      </a:lnTo>
                      <a:lnTo>
                        <a:pt x="88" y="463"/>
                      </a:lnTo>
                      <a:lnTo>
                        <a:pt x="92" y="463"/>
                      </a:lnTo>
                      <a:lnTo>
                        <a:pt x="94" y="461"/>
                      </a:lnTo>
                      <a:lnTo>
                        <a:pt x="99" y="459"/>
                      </a:lnTo>
                      <a:lnTo>
                        <a:pt x="101" y="458"/>
                      </a:lnTo>
                      <a:lnTo>
                        <a:pt x="104" y="455"/>
                      </a:lnTo>
                      <a:lnTo>
                        <a:pt x="107" y="452"/>
                      </a:lnTo>
                      <a:lnTo>
                        <a:pt x="110" y="449"/>
                      </a:lnTo>
                      <a:lnTo>
                        <a:pt x="112" y="446"/>
                      </a:lnTo>
                      <a:lnTo>
                        <a:pt x="114" y="442"/>
                      </a:lnTo>
                      <a:lnTo>
                        <a:pt x="117" y="442"/>
                      </a:lnTo>
                      <a:lnTo>
                        <a:pt x="121" y="444"/>
                      </a:lnTo>
                      <a:lnTo>
                        <a:pt x="125" y="445"/>
                      </a:lnTo>
                      <a:lnTo>
                        <a:pt x="130" y="446"/>
                      </a:lnTo>
                      <a:lnTo>
                        <a:pt x="133" y="446"/>
                      </a:lnTo>
                      <a:lnTo>
                        <a:pt x="138" y="446"/>
                      </a:lnTo>
                      <a:lnTo>
                        <a:pt x="142" y="446"/>
                      </a:lnTo>
                      <a:lnTo>
                        <a:pt x="146" y="447"/>
                      </a:lnTo>
                      <a:lnTo>
                        <a:pt x="149" y="446"/>
                      </a:lnTo>
                      <a:lnTo>
                        <a:pt x="152" y="446"/>
                      </a:lnTo>
                      <a:lnTo>
                        <a:pt x="156" y="446"/>
                      </a:lnTo>
                      <a:lnTo>
                        <a:pt x="158" y="446"/>
                      </a:lnTo>
                      <a:lnTo>
                        <a:pt x="162" y="446"/>
                      </a:lnTo>
                      <a:lnTo>
                        <a:pt x="164" y="446"/>
                      </a:lnTo>
                      <a:lnTo>
                        <a:pt x="175" y="446"/>
                      </a:lnTo>
                      <a:lnTo>
                        <a:pt x="184" y="447"/>
                      </a:lnTo>
                      <a:lnTo>
                        <a:pt x="195" y="447"/>
                      </a:lnTo>
                      <a:lnTo>
                        <a:pt x="204" y="447"/>
                      </a:lnTo>
                      <a:lnTo>
                        <a:pt x="215" y="447"/>
                      </a:lnTo>
                      <a:lnTo>
                        <a:pt x="225" y="447"/>
                      </a:lnTo>
                      <a:lnTo>
                        <a:pt x="235" y="447"/>
                      </a:lnTo>
                      <a:lnTo>
                        <a:pt x="246" y="447"/>
                      </a:lnTo>
                      <a:lnTo>
                        <a:pt x="255" y="447"/>
                      </a:lnTo>
                      <a:lnTo>
                        <a:pt x="265" y="447"/>
                      </a:lnTo>
                      <a:lnTo>
                        <a:pt x="274" y="447"/>
                      </a:lnTo>
                      <a:lnTo>
                        <a:pt x="285" y="447"/>
                      </a:lnTo>
                      <a:lnTo>
                        <a:pt x="293" y="447"/>
                      </a:lnTo>
                      <a:lnTo>
                        <a:pt x="304" y="447"/>
                      </a:lnTo>
                      <a:lnTo>
                        <a:pt x="314" y="447"/>
                      </a:lnTo>
                      <a:lnTo>
                        <a:pt x="323" y="447"/>
                      </a:lnTo>
                      <a:lnTo>
                        <a:pt x="331" y="447"/>
                      </a:lnTo>
                      <a:lnTo>
                        <a:pt x="341" y="446"/>
                      </a:lnTo>
                      <a:lnTo>
                        <a:pt x="349" y="446"/>
                      </a:lnTo>
                      <a:lnTo>
                        <a:pt x="359" y="446"/>
                      </a:lnTo>
                      <a:lnTo>
                        <a:pt x="367" y="445"/>
                      </a:lnTo>
                      <a:lnTo>
                        <a:pt x="377" y="445"/>
                      </a:lnTo>
                      <a:lnTo>
                        <a:pt x="385" y="445"/>
                      </a:lnTo>
                      <a:lnTo>
                        <a:pt x="393" y="445"/>
                      </a:lnTo>
                      <a:lnTo>
                        <a:pt x="401" y="445"/>
                      </a:lnTo>
                      <a:lnTo>
                        <a:pt x="410" y="444"/>
                      </a:lnTo>
                      <a:lnTo>
                        <a:pt x="417" y="444"/>
                      </a:lnTo>
                      <a:lnTo>
                        <a:pt x="425" y="444"/>
                      </a:lnTo>
                      <a:lnTo>
                        <a:pt x="432" y="442"/>
                      </a:lnTo>
                      <a:lnTo>
                        <a:pt x="441" y="442"/>
                      </a:lnTo>
                      <a:lnTo>
                        <a:pt x="448" y="442"/>
                      </a:lnTo>
                      <a:lnTo>
                        <a:pt x="455" y="442"/>
                      </a:lnTo>
                      <a:lnTo>
                        <a:pt x="462" y="441"/>
                      </a:lnTo>
                      <a:lnTo>
                        <a:pt x="468" y="441"/>
                      </a:lnTo>
                      <a:lnTo>
                        <a:pt x="475" y="440"/>
                      </a:lnTo>
                      <a:lnTo>
                        <a:pt x="482" y="440"/>
                      </a:lnTo>
                      <a:lnTo>
                        <a:pt x="488" y="439"/>
                      </a:lnTo>
                      <a:lnTo>
                        <a:pt x="494" y="439"/>
                      </a:lnTo>
                      <a:lnTo>
                        <a:pt x="500" y="439"/>
                      </a:lnTo>
                      <a:lnTo>
                        <a:pt x="506" y="439"/>
                      </a:lnTo>
                      <a:lnTo>
                        <a:pt x="512" y="438"/>
                      </a:lnTo>
                      <a:lnTo>
                        <a:pt x="517" y="438"/>
                      </a:lnTo>
                      <a:lnTo>
                        <a:pt x="521" y="436"/>
                      </a:lnTo>
                      <a:lnTo>
                        <a:pt x="526" y="436"/>
                      </a:lnTo>
                      <a:lnTo>
                        <a:pt x="532" y="436"/>
                      </a:lnTo>
                      <a:lnTo>
                        <a:pt x="537" y="436"/>
                      </a:lnTo>
                      <a:lnTo>
                        <a:pt x="540" y="435"/>
                      </a:lnTo>
                      <a:lnTo>
                        <a:pt x="545" y="435"/>
                      </a:lnTo>
                      <a:lnTo>
                        <a:pt x="549" y="435"/>
                      </a:lnTo>
                      <a:lnTo>
                        <a:pt x="552" y="434"/>
                      </a:lnTo>
                      <a:lnTo>
                        <a:pt x="556" y="434"/>
                      </a:lnTo>
                      <a:lnTo>
                        <a:pt x="559" y="434"/>
                      </a:lnTo>
                      <a:lnTo>
                        <a:pt x="562" y="434"/>
                      </a:lnTo>
                      <a:lnTo>
                        <a:pt x="564" y="433"/>
                      </a:lnTo>
                      <a:lnTo>
                        <a:pt x="566" y="433"/>
                      </a:lnTo>
                      <a:lnTo>
                        <a:pt x="570" y="433"/>
                      </a:lnTo>
                      <a:lnTo>
                        <a:pt x="572" y="433"/>
                      </a:lnTo>
                      <a:lnTo>
                        <a:pt x="576" y="433"/>
                      </a:lnTo>
                      <a:lnTo>
                        <a:pt x="577" y="433"/>
                      </a:lnTo>
                      <a:lnTo>
                        <a:pt x="578" y="433"/>
                      </a:lnTo>
                      <a:lnTo>
                        <a:pt x="578" y="432"/>
                      </a:lnTo>
                      <a:lnTo>
                        <a:pt x="578" y="428"/>
                      </a:lnTo>
                      <a:lnTo>
                        <a:pt x="578" y="425"/>
                      </a:lnTo>
                      <a:lnTo>
                        <a:pt x="578" y="422"/>
                      </a:lnTo>
                      <a:lnTo>
                        <a:pt x="578" y="419"/>
                      </a:lnTo>
                      <a:lnTo>
                        <a:pt x="578" y="415"/>
                      </a:lnTo>
                      <a:lnTo>
                        <a:pt x="578" y="410"/>
                      </a:lnTo>
                      <a:lnTo>
                        <a:pt x="578" y="406"/>
                      </a:lnTo>
                      <a:lnTo>
                        <a:pt x="578" y="402"/>
                      </a:lnTo>
                      <a:lnTo>
                        <a:pt x="578" y="400"/>
                      </a:lnTo>
                      <a:lnTo>
                        <a:pt x="578" y="397"/>
                      </a:lnTo>
                      <a:lnTo>
                        <a:pt x="578" y="395"/>
                      </a:lnTo>
                      <a:lnTo>
                        <a:pt x="578" y="391"/>
                      </a:lnTo>
                      <a:lnTo>
                        <a:pt x="578" y="389"/>
                      </a:lnTo>
                      <a:lnTo>
                        <a:pt x="578" y="385"/>
                      </a:lnTo>
                      <a:lnTo>
                        <a:pt x="578" y="383"/>
                      </a:lnTo>
                      <a:lnTo>
                        <a:pt x="578" y="378"/>
                      </a:lnTo>
                      <a:lnTo>
                        <a:pt x="578" y="376"/>
                      </a:lnTo>
                      <a:lnTo>
                        <a:pt x="578" y="372"/>
                      </a:lnTo>
                      <a:lnTo>
                        <a:pt x="579" y="369"/>
                      </a:lnTo>
                      <a:lnTo>
                        <a:pt x="578" y="364"/>
                      </a:lnTo>
                      <a:lnTo>
                        <a:pt x="578" y="360"/>
                      </a:lnTo>
                      <a:lnTo>
                        <a:pt x="578" y="357"/>
                      </a:lnTo>
                      <a:lnTo>
                        <a:pt x="578" y="353"/>
                      </a:lnTo>
                      <a:lnTo>
                        <a:pt x="578" y="349"/>
                      </a:lnTo>
                      <a:lnTo>
                        <a:pt x="578" y="344"/>
                      </a:lnTo>
                      <a:lnTo>
                        <a:pt x="578" y="340"/>
                      </a:lnTo>
                      <a:lnTo>
                        <a:pt x="578" y="336"/>
                      </a:lnTo>
                      <a:lnTo>
                        <a:pt x="578" y="331"/>
                      </a:lnTo>
                      <a:lnTo>
                        <a:pt x="578" y="327"/>
                      </a:lnTo>
                      <a:lnTo>
                        <a:pt x="578" y="322"/>
                      </a:lnTo>
                      <a:lnTo>
                        <a:pt x="578" y="318"/>
                      </a:lnTo>
                      <a:lnTo>
                        <a:pt x="578" y="313"/>
                      </a:lnTo>
                      <a:lnTo>
                        <a:pt x="578" y="308"/>
                      </a:lnTo>
                      <a:lnTo>
                        <a:pt x="578" y="303"/>
                      </a:lnTo>
                      <a:lnTo>
                        <a:pt x="578" y="300"/>
                      </a:lnTo>
                      <a:lnTo>
                        <a:pt x="578" y="294"/>
                      </a:lnTo>
                      <a:lnTo>
                        <a:pt x="578" y="290"/>
                      </a:lnTo>
                      <a:lnTo>
                        <a:pt x="578" y="284"/>
                      </a:lnTo>
                      <a:lnTo>
                        <a:pt x="578" y="280"/>
                      </a:lnTo>
                      <a:lnTo>
                        <a:pt x="578" y="275"/>
                      </a:lnTo>
                      <a:lnTo>
                        <a:pt x="578" y="269"/>
                      </a:lnTo>
                      <a:lnTo>
                        <a:pt x="578" y="264"/>
                      </a:lnTo>
                      <a:lnTo>
                        <a:pt x="578" y="260"/>
                      </a:lnTo>
                      <a:lnTo>
                        <a:pt x="578" y="254"/>
                      </a:lnTo>
                      <a:lnTo>
                        <a:pt x="578" y="249"/>
                      </a:lnTo>
                      <a:lnTo>
                        <a:pt x="578" y="243"/>
                      </a:lnTo>
                      <a:lnTo>
                        <a:pt x="578" y="237"/>
                      </a:lnTo>
                      <a:lnTo>
                        <a:pt x="578" y="232"/>
                      </a:lnTo>
                      <a:lnTo>
                        <a:pt x="578" y="226"/>
                      </a:lnTo>
                      <a:lnTo>
                        <a:pt x="578" y="222"/>
                      </a:lnTo>
                      <a:lnTo>
                        <a:pt x="578" y="217"/>
                      </a:lnTo>
                      <a:lnTo>
                        <a:pt x="578" y="211"/>
                      </a:lnTo>
                      <a:lnTo>
                        <a:pt x="578" y="205"/>
                      </a:lnTo>
                      <a:lnTo>
                        <a:pt x="577" y="200"/>
                      </a:lnTo>
                      <a:lnTo>
                        <a:pt x="577" y="195"/>
                      </a:lnTo>
                      <a:lnTo>
                        <a:pt x="577" y="190"/>
                      </a:lnTo>
                      <a:lnTo>
                        <a:pt x="577" y="185"/>
                      </a:lnTo>
                      <a:lnTo>
                        <a:pt x="577" y="180"/>
                      </a:lnTo>
                      <a:lnTo>
                        <a:pt x="577" y="176"/>
                      </a:lnTo>
                      <a:lnTo>
                        <a:pt x="576" y="171"/>
                      </a:lnTo>
                      <a:lnTo>
                        <a:pt x="576" y="166"/>
                      </a:lnTo>
                      <a:lnTo>
                        <a:pt x="575" y="162"/>
                      </a:lnTo>
                      <a:lnTo>
                        <a:pt x="575" y="159"/>
                      </a:lnTo>
                      <a:lnTo>
                        <a:pt x="575" y="154"/>
                      </a:lnTo>
                      <a:lnTo>
                        <a:pt x="575" y="150"/>
                      </a:lnTo>
                      <a:lnTo>
                        <a:pt x="575" y="146"/>
                      </a:lnTo>
                      <a:lnTo>
                        <a:pt x="575" y="143"/>
                      </a:lnTo>
                      <a:lnTo>
                        <a:pt x="573" y="138"/>
                      </a:lnTo>
                      <a:lnTo>
                        <a:pt x="573" y="135"/>
                      </a:lnTo>
                      <a:lnTo>
                        <a:pt x="572" y="131"/>
                      </a:lnTo>
                      <a:lnTo>
                        <a:pt x="572" y="128"/>
                      </a:lnTo>
                      <a:lnTo>
                        <a:pt x="571" y="125"/>
                      </a:lnTo>
                      <a:lnTo>
                        <a:pt x="571" y="122"/>
                      </a:lnTo>
                      <a:lnTo>
                        <a:pt x="570" y="118"/>
                      </a:lnTo>
                      <a:lnTo>
                        <a:pt x="570" y="116"/>
                      </a:lnTo>
                      <a:lnTo>
                        <a:pt x="570" y="112"/>
                      </a:lnTo>
                      <a:lnTo>
                        <a:pt x="570" y="110"/>
                      </a:lnTo>
                      <a:lnTo>
                        <a:pt x="569" y="108"/>
                      </a:lnTo>
                      <a:lnTo>
                        <a:pt x="569" y="105"/>
                      </a:lnTo>
                      <a:lnTo>
                        <a:pt x="568" y="100"/>
                      </a:lnTo>
                      <a:lnTo>
                        <a:pt x="566" y="95"/>
                      </a:lnTo>
                      <a:lnTo>
                        <a:pt x="565" y="90"/>
                      </a:lnTo>
                      <a:lnTo>
                        <a:pt x="565" y="87"/>
                      </a:lnTo>
                      <a:lnTo>
                        <a:pt x="564" y="83"/>
                      </a:lnTo>
                      <a:lnTo>
                        <a:pt x="563" y="79"/>
                      </a:lnTo>
                      <a:lnTo>
                        <a:pt x="562" y="77"/>
                      </a:lnTo>
                      <a:lnTo>
                        <a:pt x="562" y="74"/>
                      </a:lnTo>
                      <a:lnTo>
                        <a:pt x="560" y="71"/>
                      </a:lnTo>
                      <a:lnTo>
                        <a:pt x="560" y="70"/>
                      </a:lnTo>
                      <a:lnTo>
                        <a:pt x="559" y="66"/>
                      </a:lnTo>
                      <a:lnTo>
                        <a:pt x="558" y="64"/>
                      </a:lnTo>
                      <a:lnTo>
                        <a:pt x="557" y="62"/>
                      </a:lnTo>
                      <a:lnTo>
                        <a:pt x="626" y="0"/>
                      </a:lnTo>
                      <a:lnTo>
                        <a:pt x="628" y="3"/>
                      </a:lnTo>
                      <a:lnTo>
                        <a:pt x="633" y="8"/>
                      </a:lnTo>
                      <a:lnTo>
                        <a:pt x="634" y="10"/>
                      </a:lnTo>
                      <a:lnTo>
                        <a:pt x="635" y="13"/>
                      </a:lnTo>
                      <a:lnTo>
                        <a:pt x="638" y="16"/>
                      </a:lnTo>
                      <a:lnTo>
                        <a:pt x="640" y="19"/>
                      </a:lnTo>
                      <a:lnTo>
                        <a:pt x="640" y="21"/>
                      </a:lnTo>
                      <a:lnTo>
                        <a:pt x="642" y="24"/>
                      </a:lnTo>
                      <a:lnTo>
                        <a:pt x="643" y="28"/>
                      </a:lnTo>
                      <a:lnTo>
                        <a:pt x="646" y="32"/>
                      </a:lnTo>
                      <a:lnTo>
                        <a:pt x="646" y="34"/>
                      </a:lnTo>
                      <a:lnTo>
                        <a:pt x="648" y="39"/>
                      </a:lnTo>
                      <a:lnTo>
                        <a:pt x="648" y="41"/>
                      </a:lnTo>
                      <a:lnTo>
                        <a:pt x="651" y="46"/>
                      </a:lnTo>
                      <a:lnTo>
                        <a:pt x="651" y="49"/>
                      </a:lnTo>
                      <a:lnTo>
                        <a:pt x="652" y="53"/>
                      </a:lnTo>
                      <a:lnTo>
                        <a:pt x="653" y="58"/>
                      </a:lnTo>
                      <a:lnTo>
                        <a:pt x="653" y="62"/>
                      </a:lnTo>
                      <a:lnTo>
                        <a:pt x="654" y="66"/>
                      </a:lnTo>
                      <a:lnTo>
                        <a:pt x="655" y="71"/>
                      </a:lnTo>
                      <a:lnTo>
                        <a:pt x="655" y="74"/>
                      </a:lnTo>
                      <a:lnTo>
                        <a:pt x="657" y="79"/>
                      </a:lnTo>
                      <a:lnTo>
                        <a:pt x="658" y="83"/>
                      </a:lnTo>
                      <a:lnTo>
                        <a:pt x="658" y="87"/>
                      </a:lnTo>
                      <a:lnTo>
                        <a:pt x="658" y="92"/>
                      </a:lnTo>
                      <a:lnTo>
                        <a:pt x="659" y="97"/>
                      </a:lnTo>
                      <a:lnTo>
                        <a:pt x="660" y="100"/>
                      </a:lnTo>
                      <a:lnTo>
                        <a:pt x="660" y="105"/>
                      </a:lnTo>
                      <a:lnTo>
                        <a:pt x="660" y="110"/>
                      </a:lnTo>
                      <a:lnTo>
                        <a:pt x="661" y="115"/>
                      </a:lnTo>
                      <a:lnTo>
                        <a:pt x="661" y="121"/>
                      </a:lnTo>
                      <a:lnTo>
                        <a:pt x="662" y="124"/>
                      </a:lnTo>
                      <a:lnTo>
                        <a:pt x="662" y="129"/>
                      </a:lnTo>
                      <a:lnTo>
                        <a:pt x="662" y="134"/>
                      </a:lnTo>
                      <a:lnTo>
                        <a:pt x="662" y="138"/>
                      </a:lnTo>
                      <a:lnTo>
                        <a:pt x="664" y="142"/>
                      </a:lnTo>
                      <a:lnTo>
                        <a:pt x="664" y="147"/>
                      </a:lnTo>
                      <a:lnTo>
                        <a:pt x="664" y="152"/>
                      </a:lnTo>
                      <a:lnTo>
                        <a:pt x="664" y="156"/>
                      </a:lnTo>
                      <a:lnTo>
                        <a:pt x="664" y="161"/>
                      </a:lnTo>
                      <a:lnTo>
                        <a:pt x="664" y="165"/>
                      </a:lnTo>
                      <a:lnTo>
                        <a:pt x="664" y="169"/>
                      </a:lnTo>
                      <a:lnTo>
                        <a:pt x="664" y="173"/>
                      </a:lnTo>
                      <a:lnTo>
                        <a:pt x="664" y="178"/>
                      </a:lnTo>
                      <a:lnTo>
                        <a:pt x="664" y="182"/>
                      </a:lnTo>
                      <a:lnTo>
                        <a:pt x="665" y="186"/>
                      </a:lnTo>
                      <a:lnTo>
                        <a:pt x="665" y="191"/>
                      </a:lnTo>
                      <a:lnTo>
                        <a:pt x="665" y="193"/>
                      </a:lnTo>
                      <a:lnTo>
                        <a:pt x="665" y="198"/>
                      </a:lnTo>
                      <a:lnTo>
                        <a:pt x="665" y="201"/>
                      </a:lnTo>
                      <a:lnTo>
                        <a:pt x="665" y="205"/>
                      </a:lnTo>
                      <a:lnTo>
                        <a:pt x="665" y="208"/>
                      </a:lnTo>
                      <a:lnTo>
                        <a:pt x="665" y="212"/>
                      </a:lnTo>
                      <a:lnTo>
                        <a:pt x="665" y="217"/>
                      </a:lnTo>
                      <a:lnTo>
                        <a:pt x="665" y="219"/>
                      </a:lnTo>
                      <a:lnTo>
                        <a:pt x="665" y="222"/>
                      </a:lnTo>
                      <a:lnTo>
                        <a:pt x="665" y="224"/>
                      </a:lnTo>
                      <a:lnTo>
                        <a:pt x="666" y="229"/>
                      </a:lnTo>
                      <a:lnTo>
                        <a:pt x="666" y="231"/>
                      </a:lnTo>
                      <a:lnTo>
                        <a:pt x="666" y="233"/>
                      </a:lnTo>
                      <a:lnTo>
                        <a:pt x="666" y="236"/>
                      </a:lnTo>
                      <a:lnTo>
                        <a:pt x="666" y="239"/>
                      </a:lnTo>
                      <a:lnTo>
                        <a:pt x="666" y="241"/>
                      </a:lnTo>
                      <a:lnTo>
                        <a:pt x="666" y="243"/>
                      </a:lnTo>
                      <a:lnTo>
                        <a:pt x="666" y="246"/>
                      </a:lnTo>
                      <a:lnTo>
                        <a:pt x="666" y="249"/>
                      </a:lnTo>
                      <a:lnTo>
                        <a:pt x="666" y="252"/>
                      </a:lnTo>
                      <a:lnTo>
                        <a:pt x="666" y="256"/>
                      </a:lnTo>
                      <a:lnTo>
                        <a:pt x="666" y="260"/>
                      </a:lnTo>
                      <a:lnTo>
                        <a:pt x="666" y="264"/>
                      </a:lnTo>
                      <a:lnTo>
                        <a:pt x="666" y="267"/>
                      </a:lnTo>
                      <a:lnTo>
                        <a:pt x="666" y="273"/>
                      </a:lnTo>
                      <a:lnTo>
                        <a:pt x="666" y="276"/>
                      </a:lnTo>
                      <a:lnTo>
                        <a:pt x="666" y="281"/>
                      </a:lnTo>
                      <a:lnTo>
                        <a:pt x="666" y="284"/>
                      </a:lnTo>
                      <a:lnTo>
                        <a:pt x="666" y="290"/>
                      </a:lnTo>
                      <a:lnTo>
                        <a:pt x="666" y="295"/>
                      </a:lnTo>
                      <a:lnTo>
                        <a:pt x="667" y="301"/>
                      </a:lnTo>
                      <a:lnTo>
                        <a:pt x="666" y="306"/>
                      </a:lnTo>
                      <a:lnTo>
                        <a:pt x="666" y="311"/>
                      </a:lnTo>
                      <a:lnTo>
                        <a:pt x="666" y="317"/>
                      </a:lnTo>
                      <a:lnTo>
                        <a:pt x="666" y="322"/>
                      </a:lnTo>
                      <a:lnTo>
                        <a:pt x="666" y="328"/>
                      </a:lnTo>
                      <a:lnTo>
                        <a:pt x="666" y="334"/>
                      </a:lnTo>
                      <a:lnTo>
                        <a:pt x="666" y="340"/>
                      </a:lnTo>
                      <a:lnTo>
                        <a:pt x="666" y="345"/>
                      </a:lnTo>
                      <a:lnTo>
                        <a:pt x="666" y="351"/>
                      </a:lnTo>
                      <a:lnTo>
                        <a:pt x="666" y="357"/>
                      </a:lnTo>
                      <a:lnTo>
                        <a:pt x="666" y="363"/>
                      </a:lnTo>
                      <a:lnTo>
                        <a:pt x="666" y="370"/>
                      </a:lnTo>
                      <a:lnTo>
                        <a:pt x="666" y="376"/>
                      </a:lnTo>
                      <a:lnTo>
                        <a:pt x="666" y="381"/>
                      </a:lnTo>
                      <a:lnTo>
                        <a:pt x="666" y="387"/>
                      </a:lnTo>
                      <a:lnTo>
                        <a:pt x="666" y="394"/>
                      </a:lnTo>
                      <a:lnTo>
                        <a:pt x="665" y="398"/>
                      </a:lnTo>
                      <a:lnTo>
                        <a:pt x="665" y="404"/>
                      </a:lnTo>
                      <a:lnTo>
                        <a:pt x="665" y="411"/>
                      </a:lnTo>
                      <a:lnTo>
                        <a:pt x="665" y="416"/>
                      </a:lnTo>
                      <a:lnTo>
                        <a:pt x="665" y="421"/>
                      </a:lnTo>
                      <a:lnTo>
                        <a:pt x="665" y="427"/>
                      </a:lnTo>
                      <a:lnTo>
                        <a:pt x="665" y="433"/>
                      </a:lnTo>
                      <a:lnTo>
                        <a:pt x="665" y="439"/>
                      </a:lnTo>
                      <a:lnTo>
                        <a:pt x="664" y="444"/>
                      </a:lnTo>
                      <a:lnTo>
                        <a:pt x="664" y="448"/>
                      </a:lnTo>
                      <a:lnTo>
                        <a:pt x="664" y="453"/>
                      </a:lnTo>
                      <a:lnTo>
                        <a:pt x="664" y="459"/>
                      </a:lnTo>
                      <a:lnTo>
                        <a:pt x="664" y="464"/>
                      </a:lnTo>
                      <a:lnTo>
                        <a:pt x="664" y="468"/>
                      </a:lnTo>
                      <a:lnTo>
                        <a:pt x="664" y="472"/>
                      </a:lnTo>
                      <a:lnTo>
                        <a:pt x="664" y="477"/>
                      </a:lnTo>
                      <a:lnTo>
                        <a:pt x="664" y="482"/>
                      </a:lnTo>
                      <a:lnTo>
                        <a:pt x="664" y="485"/>
                      </a:lnTo>
                      <a:lnTo>
                        <a:pt x="664" y="489"/>
                      </a:lnTo>
                      <a:lnTo>
                        <a:pt x="664" y="492"/>
                      </a:lnTo>
                      <a:lnTo>
                        <a:pt x="664" y="495"/>
                      </a:lnTo>
                      <a:lnTo>
                        <a:pt x="664" y="498"/>
                      </a:lnTo>
                      <a:lnTo>
                        <a:pt x="664" y="501"/>
                      </a:lnTo>
                      <a:lnTo>
                        <a:pt x="664" y="504"/>
                      </a:lnTo>
                      <a:lnTo>
                        <a:pt x="664" y="508"/>
                      </a:lnTo>
                      <a:lnTo>
                        <a:pt x="664" y="510"/>
                      </a:lnTo>
                      <a:lnTo>
                        <a:pt x="664" y="512"/>
                      </a:lnTo>
                      <a:lnTo>
                        <a:pt x="664" y="514"/>
                      </a:lnTo>
                      <a:lnTo>
                        <a:pt x="659" y="515"/>
                      </a:lnTo>
                      <a:lnTo>
                        <a:pt x="655" y="515"/>
                      </a:lnTo>
                      <a:lnTo>
                        <a:pt x="652" y="515"/>
                      </a:lnTo>
                      <a:lnTo>
                        <a:pt x="649" y="516"/>
                      </a:lnTo>
                      <a:lnTo>
                        <a:pt x="647" y="517"/>
                      </a:lnTo>
                      <a:lnTo>
                        <a:pt x="645" y="518"/>
                      </a:lnTo>
                      <a:lnTo>
                        <a:pt x="641" y="518"/>
                      </a:lnTo>
                      <a:lnTo>
                        <a:pt x="638" y="518"/>
                      </a:lnTo>
                      <a:lnTo>
                        <a:pt x="635" y="518"/>
                      </a:lnTo>
                      <a:lnTo>
                        <a:pt x="632" y="520"/>
                      </a:lnTo>
                      <a:lnTo>
                        <a:pt x="628" y="520"/>
                      </a:lnTo>
                      <a:lnTo>
                        <a:pt x="624" y="521"/>
                      </a:lnTo>
                      <a:lnTo>
                        <a:pt x="620" y="521"/>
                      </a:lnTo>
                      <a:lnTo>
                        <a:pt x="617" y="521"/>
                      </a:lnTo>
                      <a:lnTo>
                        <a:pt x="613" y="521"/>
                      </a:lnTo>
                      <a:lnTo>
                        <a:pt x="608" y="522"/>
                      </a:lnTo>
                      <a:lnTo>
                        <a:pt x="604" y="522"/>
                      </a:lnTo>
                      <a:lnTo>
                        <a:pt x="600" y="523"/>
                      </a:lnTo>
                      <a:lnTo>
                        <a:pt x="596" y="523"/>
                      </a:lnTo>
                      <a:lnTo>
                        <a:pt x="591" y="523"/>
                      </a:lnTo>
                      <a:lnTo>
                        <a:pt x="588" y="523"/>
                      </a:lnTo>
                      <a:lnTo>
                        <a:pt x="583" y="524"/>
                      </a:lnTo>
                      <a:lnTo>
                        <a:pt x="578" y="524"/>
                      </a:lnTo>
                      <a:lnTo>
                        <a:pt x="575" y="524"/>
                      </a:lnTo>
                      <a:lnTo>
                        <a:pt x="570" y="524"/>
                      </a:lnTo>
                      <a:lnTo>
                        <a:pt x="565" y="525"/>
                      </a:lnTo>
                      <a:lnTo>
                        <a:pt x="560" y="525"/>
                      </a:lnTo>
                      <a:lnTo>
                        <a:pt x="556" y="525"/>
                      </a:lnTo>
                      <a:lnTo>
                        <a:pt x="552" y="525"/>
                      </a:lnTo>
                      <a:lnTo>
                        <a:pt x="547" y="525"/>
                      </a:lnTo>
                      <a:lnTo>
                        <a:pt x="543" y="525"/>
                      </a:lnTo>
                      <a:lnTo>
                        <a:pt x="538" y="525"/>
                      </a:lnTo>
                      <a:lnTo>
                        <a:pt x="534" y="525"/>
                      </a:lnTo>
                      <a:lnTo>
                        <a:pt x="528" y="527"/>
                      </a:lnTo>
                      <a:lnTo>
                        <a:pt x="525" y="527"/>
                      </a:lnTo>
                      <a:lnTo>
                        <a:pt x="521" y="527"/>
                      </a:lnTo>
                      <a:lnTo>
                        <a:pt x="517" y="527"/>
                      </a:lnTo>
                      <a:lnTo>
                        <a:pt x="513" y="528"/>
                      </a:lnTo>
                      <a:lnTo>
                        <a:pt x="508" y="528"/>
                      </a:lnTo>
                      <a:lnTo>
                        <a:pt x="503" y="528"/>
                      </a:lnTo>
                      <a:lnTo>
                        <a:pt x="501" y="528"/>
                      </a:lnTo>
                      <a:lnTo>
                        <a:pt x="498" y="528"/>
                      </a:lnTo>
                      <a:lnTo>
                        <a:pt x="494" y="528"/>
                      </a:lnTo>
                      <a:lnTo>
                        <a:pt x="490" y="528"/>
                      </a:lnTo>
                      <a:lnTo>
                        <a:pt x="486" y="528"/>
                      </a:lnTo>
                      <a:lnTo>
                        <a:pt x="483" y="528"/>
                      </a:lnTo>
                      <a:lnTo>
                        <a:pt x="481" y="528"/>
                      </a:lnTo>
                      <a:lnTo>
                        <a:pt x="477" y="528"/>
                      </a:lnTo>
                      <a:lnTo>
                        <a:pt x="475" y="528"/>
                      </a:lnTo>
                      <a:lnTo>
                        <a:pt x="473" y="529"/>
                      </a:lnTo>
                      <a:lnTo>
                        <a:pt x="468" y="529"/>
                      </a:lnTo>
                      <a:lnTo>
                        <a:pt x="463" y="530"/>
                      </a:lnTo>
                      <a:lnTo>
                        <a:pt x="461" y="530"/>
                      </a:lnTo>
                      <a:lnTo>
                        <a:pt x="458" y="530"/>
                      </a:lnTo>
                      <a:lnTo>
                        <a:pt x="456" y="530"/>
                      </a:lnTo>
                      <a:lnTo>
                        <a:pt x="445" y="530"/>
                      </a:lnTo>
                      <a:lnTo>
                        <a:pt x="436" y="530"/>
                      </a:lnTo>
                      <a:lnTo>
                        <a:pt x="425" y="530"/>
                      </a:lnTo>
                      <a:lnTo>
                        <a:pt x="414" y="530"/>
                      </a:lnTo>
                      <a:lnTo>
                        <a:pt x="405" y="530"/>
                      </a:lnTo>
                      <a:lnTo>
                        <a:pt x="394" y="530"/>
                      </a:lnTo>
                      <a:lnTo>
                        <a:pt x="385" y="530"/>
                      </a:lnTo>
                      <a:lnTo>
                        <a:pt x="374" y="531"/>
                      </a:lnTo>
                      <a:lnTo>
                        <a:pt x="365" y="530"/>
                      </a:lnTo>
                      <a:lnTo>
                        <a:pt x="354" y="530"/>
                      </a:lnTo>
                      <a:lnTo>
                        <a:pt x="344" y="530"/>
                      </a:lnTo>
                      <a:lnTo>
                        <a:pt x="336" y="530"/>
                      </a:lnTo>
                      <a:lnTo>
                        <a:pt x="327" y="530"/>
                      </a:lnTo>
                      <a:lnTo>
                        <a:pt x="317" y="530"/>
                      </a:lnTo>
                      <a:lnTo>
                        <a:pt x="309" y="530"/>
                      </a:lnTo>
                      <a:lnTo>
                        <a:pt x="299" y="530"/>
                      </a:lnTo>
                      <a:lnTo>
                        <a:pt x="291" y="530"/>
                      </a:lnTo>
                      <a:lnTo>
                        <a:pt x="280" y="530"/>
                      </a:lnTo>
                      <a:lnTo>
                        <a:pt x="273" y="529"/>
                      </a:lnTo>
                      <a:lnTo>
                        <a:pt x="264" y="529"/>
                      </a:lnTo>
                      <a:lnTo>
                        <a:pt x="255" y="528"/>
                      </a:lnTo>
                      <a:lnTo>
                        <a:pt x="247" y="528"/>
                      </a:lnTo>
                      <a:lnTo>
                        <a:pt x="239" y="528"/>
                      </a:lnTo>
                      <a:lnTo>
                        <a:pt x="232" y="528"/>
                      </a:lnTo>
                      <a:lnTo>
                        <a:pt x="223" y="527"/>
                      </a:lnTo>
                      <a:lnTo>
                        <a:pt x="215" y="527"/>
                      </a:lnTo>
                      <a:lnTo>
                        <a:pt x="208" y="525"/>
                      </a:lnTo>
                      <a:lnTo>
                        <a:pt x="201" y="525"/>
                      </a:lnTo>
                      <a:lnTo>
                        <a:pt x="194" y="525"/>
                      </a:lnTo>
                      <a:lnTo>
                        <a:pt x="187" y="525"/>
                      </a:lnTo>
                      <a:lnTo>
                        <a:pt x="180" y="524"/>
                      </a:lnTo>
                      <a:lnTo>
                        <a:pt x="174" y="524"/>
                      </a:lnTo>
                      <a:lnTo>
                        <a:pt x="167" y="523"/>
                      </a:lnTo>
                      <a:lnTo>
                        <a:pt x="161" y="523"/>
                      </a:lnTo>
                      <a:lnTo>
                        <a:pt x="155" y="522"/>
                      </a:lnTo>
                      <a:lnTo>
                        <a:pt x="149" y="522"/>
                      </a:lnTo>
                      <a:lnTo>
                        <a:pt x="142" y="521"/>
                      </a:lnTo>
                      <a:lnTo>
                        <a:pt x="137" y="521"/>
                      </a:lnTo>
                      <a:lnTo>
                        <a:pt x="131" y="520"/>
                      </a:lnTo>
                      <a:lnTo>
                        <a:pt x="126" y="520"/>
                      </a:lnTo>
                      <a:lnTo>
                        <a:pt x="120" y="518"/>
                      </a:lnTo>
                      <a:lnTo>
                        <a:pt x="115" y="518"/>
                      </a:lnTo>
                      <a:lnTo>
                        <a:pt x="110" y="518"/>
                      </a:lnTo>
                      <a:lnTo>
                        <a:pt x="106" y="518"/>
                      </a:lnTo>
                      <a:lnTo>
                        <a:pt x="101" y="517"/>
                      </a:lnTo>
                      <a:lnTo>
                        <a:pt x="97" y="517"/>
                      </a:lnTo>
                      <a:lnTo>
                        <a:pt x="94" y="516"/>
                      </a:lnTo>
                      <a:lnTo>
                        <a:pt x="89" y="516"/>
                      </a:lnTo>
                      <a:lnTo>
                        <a:pt x="86" y="515"/>
                      </a:lnTo>
                      <a:lnTo>
                        <a:pt x="82" y="515"/>
                      </a:lnTo>
                      <a:lnTo>
                        <a:pt x="80" y="515"/>
                      </a:lnTo>
                      <a:lnTo>
                        <a:pt x="76" y="515"/>
                      </a:lnTo>
                      <a:lnTo>
                        <a:pt x="73" y="514"/>
                      </a:lnTo>
                      <a:lnTo>
                        <a:pt x="70" y="512"/>
                      </a:lnTo>
                      <a:lnTo>
                        <a:pt x="68" y="512"/>
                      </a:lnTo>
                      <a:lnTo>
                        <a:pt x="63" y="512"/>
                      </a:lnTo>
                      <a:lnTo>
                        <a:pt x="61" y="512"/>
                      </a:lnTo>
                      <a:lnTo>
                        <a:pt x="60" y="512"/>
                      </a:lnTo>
                      <a:lnTo>
                        <a:pt x="56" y="509"/>
                      </a:lnTo>
                      <a:lnTo>
                        <a:pt x="51" y="506"/>
                      </a:lnTo>
                      <a:lnTo>
                        <a:pt x="48" y="503"/>
                      </a:lnTo>
                      <a:lnTo>
                        <a:pt x="44" y="499"/>
                      </a:lnTo>
                      <a:lnTo>
                        <a:pt x="41" y="495"/>
                      </a:lnTo>
                      <a:lnTo>
                        <a:pt x="37" y="490"/>
                      </a:lnTo>
                      <a:lnTo>
                        <a:pt x="34" y="485"/>
                      </a:lnTo>
                      <a:lnTo>
                        <a:pt x="31" y="480"/>
                      </a:lnTo>
                      <a:lnTo>
                        <a:pt x="30" y="477"/>
                      </a:lnTo>
                      <a:lnTo>
                        <a:pt x="28" y="473"/>
                      </a:lnTo>
                      <a:lnTo>
                        <a:pt x="26" y="470"/>
                      </a:lnTo>
                      <a:lnTo>
                        <a:pt x="25" y="467"/>
                      </a:lnTo>
                      <a:lnTo>
                        <a:pt x="24" y="464"/>
                      </a:lnTo>
                      <a:lnTo>
                        <a:pt x="23" y="460"/>
                      </a:lnTo>
                      <a:lnTo>
                        <a:pt x="22" y="457"/>
                      </a:lnTo>
                      <a:lnTo>
                        <a:pt x="21" y="454"/>
                      </a:lnTo>
                      <a:lnTo>
                        <a:pt x="19" y="451"/>
                      </a:lnTo>
                      <a:lnTo>
                        <a:pt x="18" y="447"/>
                      </a:lnTo>
                      <a:lnTo>
                        <a:pt x="17" y="444"/>
                      </a:lnTo>
                      <a:lnTo>
                        <a:pt x="16" y="440"/>
                      </a:lnTo>
                      <a:lnTo>
                        <a:pt x="15" y="436"/>
                      </a:lnTo>
                      <a:lnTo>
                        <a:pt x="15" y="433"/>
                      </a:lnTo>
                      <a:lnTo>
                        <a:pt x="13" y="429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11" y="417"/>
                      </a:lnTo>
                      <a:lnTo>
                        <a:pt x="10" y="414"/>
                      </a:lnTo>
                      <a:lnTo>
                        <a:pt x="9" y="409"/>
                      </a:lnTo>
                      <a:lnTo>
                        <a:pt x="8" y="404"/>
                      </a:lnTo>
                      <a:lnTo>
                        <a:pt x="8" y="401"/>
                      </a:lnTo>
                      <a:lnTo>
                        <a:pt x="6" y="397"/>
                      </a:lnTo>
                      <a:lnTo>
                        <a:pt x="6" y="394"/>
                      </a:lnTo>
                      <a:lnTo>
                        <a:pt x="5" y="389"/>
                      </a:lnTo>
                      <a:lnTo>
                        <a:pt x="5" y="384"/>
                      </a:lnTo>
                      <a:lnTo>
                        <a:pt x="5" y="381"/>
                      </a:lnTo>
                      <a:lnTo>
                        <a:pt x="5" y="376"/>
                      </a:lnTo>
                      <a:lnTo>
                        <a:pt x="4" y="372"/>
                      </a:lnTo>
                      <a:lnTo>
                        <a:pt x="3" y="369"/>
                      </a:lnTo>
                      <a:lnTo>
                        <a:pt x="3" y="363"/>
                      </a:lnTo>
                      <a:lnTo>
                        <a:pt x="3" y="360"/>
                      </a:lnTo>
                      <a:lnTo>
                        <a:pt x="3" y="356"/>
                      </a:lnTo>
                      <a:lnTo>
                        <a:pt x="2" y="351"/>
                      </a:lnTo>
                      <a:lnTo>
                        <a:pt x="0" y="347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21"/>
                      </a:lnTo>
                      <a:lnTo>
                        <a:pt x="0" y="317"/>
                      </a:lnTo>
                      <a:lnTo>
                        <a:pt x="0" y="313"/>
                      </a:lnTo>
                      <a:lnTo>
                        <a:pt x="0" y="308"/>
                      </a:lnTo>
                      <a:lnTo>
                        <a:pt x="0" y="303"/>
                      </a:lnTo>
                      <a:lnTo>
                        <a:pt x="0" y="300"/>
                      </a:lnTo>
                      <a:lnTo>
                        <a:pt x="0" y="295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3" y="281"/>
                      </a:lnTo>
                      <a:lnTo>
                        <a:pt x="6" y="280"/>
                      </a:lnTo>
                      <a:lnTo>
                        <a:pt x="10" y="277"/>
                      </a:lnTo>
                      <a:lnTo>
                        <a:pt x="15" y="275"/>
                      </a:lnTo>
                      <a:lnTo>
                        <a:pt x="18" y="271"/>
                      </a:lnTo>
                      <a:lnTo>
                        <a:pt x="22" y="268"/>
                      </a:lnTo>
                      <a:lnTo>
                        <a:pt x="24" y="264"/>
                      </a:lnTo>
                      <a:lnTo>
                        <a:pt x="28" y="260"/>
                      </a:lnTo>
                      <a:lnTo>
                        <a:pt x="30" y="255"/>
                      </a:lnTo>
                      <a:lnTo>
                        <a:pt x="31" y="250"/>
                      </a:lnTo>
                      <a:lnTo>
                        <a:pt x="32" y="246"/>
                      </a:lnTo>
                      <a:lnTo>
                        <a:pt x="32" y="242"/>
                      </a:lnTo>
                      <a:lnTo>
                        <a:pt x="31" y="238"/>
                      </a:lnTo>
                      <a:lnTo>
                        <a:pt x="29" y="235"/>
                      </a:lnTo>
                      <a:lnTo>
                        <a:pt x="26" y="233"/>
                      </a:lnTo>
                      <a:lnTo>
                        <a:pt x="25" y="231"/>
                      </a:lnTo>
                      <a:lnTo>
                        <a:pt x="23" y="231"/>
                      </a:lnTo>
                      <a:lnTo>
                        <a:pt x="21" y="230"/>
                      </a:lnTo>
                      <a:lnTo>
                        <a:pt x="16" y="235"/>
                      </a:lnTo>
                      <a:lnTo>
                        <a:pt x="11" y="239"/>
                      </a:lnTo>
                      <a:lnTo>
                        <a:pt x="8" y="242"/>
                      </a:lnTo>
                      <a:lnTo>
                        <a:pt x="5" y="244"/>
                      </a:lnTo>
                      <a:lnTo>
                        <a:pt x="3" y="246"/>
                      </a:lnTo>
                      <a:lnTo>
                        <a:pt x="0" y="249"/>
                      </a:lnTo>
                      <a:lnTo>
                        <a:pt x="0" y="246"/>
                      </a:lnTo>
                      <a:lnTo>
                        <a:pt x="0" y="244"/>
                      </a:lnTo>
                      <a:lnTo>
                        <a:pt x="0" y="242"/>
                      </a:lnTo>
                      <a:lnTo>
                        <a:pt x="0" y="239"/>
                      </a:lnTo>
                      <a:lnTo>
                        <a:pt x="0" y="236"/>
                      </a:lnTo>
                      <a:lnTo>
                        <a:pt x="0" y="233"/>
                      </a:lnTo>
                      <a:lnTo>
                        <a:pt x="0" y="231"/>
                      </a:lnTo>
                      <a:lnTo>
                        <a:pt x="2" y="229"/>
                      </a:lnTo>
                      <a:lnTo>
                        <a:pt x="2" y="225"/>
                      </a:lnTo>
                      <a:lnTo>
                        <a:pt x="2" y="223"/>
                      </a:lnTo>
                      <a:lnTo>
                        <a:pt x="2" y="219"/>
                      </a:lnTo>
                      <a:lnTo>
                        <a:pt x="3" y="217"/>
                      </a:lnTo>
                      <a:lnTo>
                        <a:pt x="3" y="214"/>
                      </a:lnTo>
                      <a:lnTo>
                        <a:pt x="3" y="211"/>
                      </a:lnTo>
                      <a:lnTo>
                        <a:pt x="3" y="208"/>
                      </a:lnTo>
                      <a:lnTo>
                        <a:pt x="3" y="206"/>
                      </a:lnTo>
                      <a:lnTo>
                        <a:pt x="3" y="204"/>
                      </a:lnTo>
                      <a:lnTo>
                        <a:pt x="3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3" y="192"/>
                      </a:lnTo>
                      <a:lnTo>
                        <a:pt x="4" y="190"/>
                      </a:lnTo>
                      <a:lnTo>
                        <a:pt x="5" y="186"/>
                      </a:lnTo>
                      <a:lnTo>
                        <a:pt x="5" y="184"/>
                      </a:lnTo>
                      <a:lnTo>
                        <a:pt x="5" y="181"/>
                      </a:lnTo>
                      <a:lnTo>
                        <a:pt x="5" y="178"/>
                      </a:lnTo>
                      <a:lnTo>
                        <a:pt x="5" y="175"/>
                      </a:lnTo>
                      <a:lnTo>
                        <a:pt x="5" y="172"/>
                      </a:lnTo>
                      <a:lnTo>
                        <a:pt x="5" y="169"/>
                      </a:lnTo>
                      <a:lnTo>
                        <a:pt x="5" y="166"/>
                      </a:lnTo>
                      <a:lnTo>
                        <a:pt x="6" y="163"/>
                      </a:lnTo>
                      <a:lnTo>
                        <a:pt x="6" y="161"/>
                      </a:lnTo>
                      <a:lnTo>
                        <a:pt x="8" y="165"/>
                      </a:lnTo>
                      <a:lnTo>
                        <a:pt x="11" y="167"/>
                      </a:lnTo>
                      <a:lnTo>
                        <a:pt x="13" y="167"/>
                      </a:lnTo>
                      <a:lnTo>
                        <a:pt x="16" y="168"/>
                      </a:lnTo>
                      <a:lnTo>
                        <a:pt x="19" y="168"/>
                      </a:lnTo>
                      <a:lnTo>
                        <a:pt x="23" y="168"/>
                      </a:lnTo>
                      <a:lnTo>
                        <a:pt x="25" y="166"/>
                      </a:lnTo>
                      <a:lnTo>
                        <a:pt x="29" y="166"/>
                      </a:lnTo>
                      <a:lnTo>
                        <a:pt x="32" y="163"/>
                      </a:lnTo>
                      <a:lnTo>
                        <a:pt x="36" y="162"/>
                      </a:lnTo>
                      <a:lnTo>
                        <a:pt x="40" y="160"/>
                      </a:lnTo>
                      <a:lnTo>
                        <a:pt x="43" y="159"/>
                      </a:lnTo>
                      <a:lnTo>
                        <a:pt x="47" y="155"/>
                      </a:lnTo>
                      <a:lnTo>
                        <a:pt x="50" y="153"/>
                      </a:lnTo>
                      <a:lnTo>
                        <a:pt x="53" y="150"/>
                      </a:lnTo>
                      <a:lnTo>
                        <a:pt x="56" y="147"/>
                      </a:lnTo>
                      <a:lnTo>
                        <a:pt x="59" y="143"/>
                      </a:lnTo>
                      <a:lnTo>
                        <a:pt x="61" y="141"/>
                      </a:lnTo>
                      <a:lnTo>
                        <a:pt x="62" y="136"/>
                      </a:lnTo>
                      <a:lnTo>
                        <a:pt x="64" y="133"/>
                      </a:lnTo>
                      <a:lnTo>
                        <a:pt x="66" y="129"/>
                      </a:lnTo>
                      <a:lnTo>
                        <a:pt x="66" y="125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3" y="114"/>
                      </a:lnTo>
                      <a:lnTo>
                        <a:pt x="62" y="110"/>
                      </a:lnTo>
                      <a:lnTo>
                        <a:pt x="59" y="105"/>
                      </a:lnTo>
                      <a:lnTo>
                        <a:pt x="56" y="102"/>
                      </a:lnTo>
                      <a:lnTo>
                        <a:pt x="51" y="97"/>
                      </a:lnTo>
                      <a:lnTo>
                        <a:pt x="47" y="95"/>
                      </a:lnTo>
                      <a:lnTo>
                        <a:pt x="44" y="97"/>
                      </a:lnTo>
                      <a:lnTo>
                        <a:pt x="42" y="99"/>
                      </a:lnTo>
                      <a:lnTo>
                        <a:pt x="40" y="103"/>
                      </a:lnTo>
                      <a:lnTo>
                        <a:pt x="38" y="105"/>
                      </a:lnTo>
                      <a:lnTo>
                        <a:pt x="35" y="110"/>
                      </a:lnTo>
                      <a:lnTo>
                        <a:pt x="32" y="112"/>
                      </a:lnTo>
                      <a:lnTo>
                        <a:pt x="30" y="115"/>
                      </a:lnTo>
                      <a:lnTo>
                        <a:pt x="29" y="117"/>
                      </a:lnTo>
                      <a:lnTo>
                        <a:pt x="25" y="121"/>
                      </a:lnTo>
                      <a:lnTo>
                        <a:pt x="24" y="123"/>
                      </a:lnTo>
                      <a:lnTo>
                        <a:pt x="22" y="125"/>
                      </a:lnTo>
                      <a:lnTo>
                        <a:pt x="19" y="129"/>
                      </a:lnTo>
                      <a:lnTo>
                        <a:pt x="16" y="134"/>
                      </a:lnTo>
                      <a:lnTo>
                        <a:pt x="13" y="138"/>
                      </a:lnTo>
                      <a:lnTo>
                        <a:pt x="10" y="142"/>
                      </a:lnTo>
                      <a:lnTo>
                        <a:pt x="9" y="147"/>
                      </a:lnTo>
                      <a:lnTo>
                        <a:pt x="8" y="150"/>
                      </a:lnTo>
                      <a:lnTo>
                        <a:pt x="8" y="154"/>
                      </a:lnTo>
                      <a:lnTo>
                        <a:pt x="8" y="150"/>
                      </a:lnTo>
                      <a:lnTo>
                        <a:pt x="8" y="147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5"/>
                      </a:lnTo>
                      <a:lnTo>
                        <a:pt x="9" y="133"/>
                      </a:lnTo>
                      <a:lnTo>
                        <a:pt x="9" y="128"/>
                      </a:lnTo>
                      <a:lnTo>
                        <a:pt x="10" y="125"/>
                      </a:lnTo>
                      <a:lnTo>
                        <a:pt x="10" y="121"/>
                      </a:lnTo>
                      <a:lnTo>
                        <a:pt x="10" y="117"/>
                      </a:lnTo>
                      <a:lnTo>
                        <a:pt x="10" y="115"/>
                      </a:lnTo>
                      <a:lnTo>
                        <a:pt x="10" y="110"/>
                      </a:lnTo>
                      <a:lnTo>
                        <a:pt x="10" y="108"/>
                      </a:lnTo>
                      <a:lnTo>
                        <a:pt x="11" y="104"/>
                      </a:lnTo>
                      <a:lnTo>
                        <a:pt x="11" y="100"/>
                      </a:lnTo>
                      <a:lnTo>
                        <a:pt x="12" y="97"/>
                      </a:lnTo>
                      <a:lnTo>
                        <a:pt x="12" y="95"/>
                      </a:lnTo>
                      <a:lnTo>
                        <a:pt x="12" y="91"/>
                      </a:lnTo>
                      <a:lnTo>
                        <a:pt x="12" y="87"/>
                      </a:lnTo>
                      <a:lnTo>
                        <a:pt x="12" y="85"/>
                      </a:lnTo>
                      <a:lnTo>
                        <a:pt x="12" y="81"/>
                      </a:lnTo>
                      <a:lnTo>
                        <a:pt x="13" y="78"/>
                      </a:lnTo>
                      <a:lnTo>
                        <a:pt x="13" y="74"/>
                      </a:lnTo>
                      <a:lnTo>
                        <a:pt x="15" y="72"/>
                      </a:lnTo>
                      <a:lnTo>
                        <a:pt x="15" y="70"/>
                      </a:lnTo>
                      <a:lnTo>
                        <a:pt x="15" y="67"/>
                      </a:lnTo>
                      <a:lnTo>
                        <a:pt x="15" y="64"/>
                      </a:lnTo>
                      <a:lnTo>
                        <a:pt x="15" y="61"/>
                      </a:lnTo>
                      <a:lnTo>
                        <a:pt x="15" y="58"/>
                      </a:lnTo>
                      <a:lnTo>
                        <a:pt x="16" y="55"/>
                      </a:lnTo>
                      <a:lnTo>
                        <a:pt x="16" y="53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5"/>
                      </a:lnTo>
                      <a:lnTo>
                        <a:pt x="17" y="41"/>
                      </a:lnTo>
                      <a:lnTo>
                        <a:pt x="17" y="40"/>
                      </a:lnTo>
                      <a:lnTo>
                        <a:pt x="18" y="35"/>
                      </a:lnTo>
                      <a:lnTo>
                        <a:pt x="18" y="32"/>
                      </a:lnTo>
                      <a:lnTo>
                        <a:pt x="18" y="27"/>
                      </a:lnTo>
                      <a:lnTo>
                        <a:pt x="19" y="23"/>
                      </a:lnTo>
                      <a:lnTo>
                        <a:pt x="19" y="20"/>
                      </a:lnTo>
                      <a:lnTo>
                        <a:pt x="21" y="16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21" y="9"/>
                      </a:lnTo>
                      <a:lnTo>
                        <a:pt x="21" y="8"/>
                      </a:lnTo>
                      <a:lnTo>
                        <a:pt x="21" y="5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Freeform 67"/>
                <p:cNvSpPr/>
                <p:nvPr/>
              </p:nvSpPr>
              <p:spPr>
                <a:xfrm>
                  <a:off x="7437240" y="2557800"/>
                  <a:ext cx="21960" cy="158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0" y="0"/>
                      </a:moveTo>
                      <a:lnTo>
                        <a:pt x="43" y="3"/>
                      </a:lnTo>
                      <a:lnTo>
                        <a:pt x="42" y="6"/>
                      </a:lnTo>
                      <a:lnTo>
                        <a:pt x="41" y="9"/>
                      </a:lnTo>
                      <a:lnTo>
                        <a:pt x="40" y="11"/>
                      </a:lnTo>
                      <a:lnTo>
                        <a:pt x="37" y="13"/>
                      </a:lnTo>
                      <a:lnTo>
                        <a:pt x="37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26" y="29"/>
                      </a:lnTo>
                      <a:lnTo>
                        <a:pt x="20" y="31"/>
                      </a:lnTo>
                      <a:lnTo>
                        <a:pt x="16" y="30"/>
                      </a:lnTo>
                      <a:lnTo>
                        <a:pt x="13" y="28"/>
                      </a:lnTo>
                      <a:lnTo>
                        <a:pt x="13" y="24"/>
                      </a:lnTo>
                      <a:lnTo>
                        <a:pt x="13" y="20"/>
                      </a:lnTo>
                      <a:lnTo>
                        <a:pt x="13" y="17"/>
                      </a:lnTo>
                      <a:lnTo>
                        <a:pt x="13" y="13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Freeform 68"/>
                <p:cNvSpPr/>
                <p:nvPr/>
              </p:nvSpPr>
              <p:spPr>
                <a:xfrm>
                  <a:off x="7483320" y="25909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7" h="22">
                      <a:moveTo>
                        <a:pt x="57" y="19"/>
                      </a:moveTo>
                      <a:lnTo>
                        <a:pt x="0" y="22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3"/>
                      </a:lnTo>
                      <a:lnTo>
                        <a:pt x="29" y="4"/>
                      </a:lnTo>
                      <a:lnTo>
                        <a:pt x="32" y="6"/>
                      </a:lnTo>
                      <a:lnTo>
                        <a:pt x="36" y="7"/>
                      </a:lnTo>
                      <a:lnTo>
                        <a:pt x="39" y="8"/>
                      </a:lnTo>
                      <a:lnTo>
                        <a:pt x="43" y="11"/>
                      </a:lnTo>
                      <a:lnTo>
                        <a:pt x="45" y="13"/>
                      </a:lnTo>
                      <a:lnTo>
                        <a:pt x="49" y="13"/>
                      </a:lnTo>
                      <a:lnTo>
                        <a:pt x="51" y="16"/>
                      </a:lnTo>
                      <a:lnTo>
                        <a:pt x="56" y="18"/>
                      </a:lnTo>
                      <a:lnTo>
                        <a:pt x="57" y="1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8" name="Line 69"/>
            <p:cNvSpPr/>
            <p:nvPr/>
          </p:nvSpPr>
          <p:spPr>
            <a:xfrm>
              <a:off x="1600200" y="2286000"/>
              <a:ext cx="144792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9" name="Line 70"/>
            <p:cNvSpPr/>
            <p:nvPr/>
          </p:nvSpPr>
          <p:spPr>
            <a:xfrm>
              <a:off x="5867280" y="2286000"/>
              <a:ext cx="129564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180" name="Group 71"/>
            <p:cNvGrpSpPr/>
            <p:nvPr/>
          </p:nvGrpSpPr>
          <p:grpSpPr>
            <a:xfrm>
              <a:off x="3048120" y="1981080"/>
              <a:ext cx="576000" cy="585720"/>
              <a:chOff x="3048120" y="1981080"/>
              <a:chExt cx="576000" cy="585720"/>
            </a:xfrm>
          </p:grpSpPr>
          <p:sp>
            <p:nvSpPr>
              <p:cNvPr id="1181" name="AutoShape 72"/>
              <p:cNvSpPr/>
              <p:nvPr/>
            </p:nvSpPr>
            <p:spPr>
              <a:xfrm>
                <a:off x="3048120" y="1981080"/>
                <a:ext cx="576000" cy="5857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64801"/>
                  </a:gs>
                  <a:gs pos="100000">
                    <a:srgbClr val="fe9b03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82" name="Group 73"/>
              <p:cNvGrpSpPr/>
              <p:nvPr/>
            </p:nvGrpSpPr>
            <p:grpSpPr>
              <a:xfrm>
                <a:off x="3124080" y="2062080"/>
                <a:ext cx="443160" cy="127800"/>
                <a:chOff x="3124080" y="2062080"/>
                <a:chExt cx="443160" cy="127800"/>
              </a:xfrm>
            </p:grpSpPr>
            <p:sp>
              <p:nvSpPr>
                <p:cNvPr id="1183" name="Freeform 74"/>
                <p:cNvSpPr/>
                <p:nvPr/>
              </p:nvSpPr>
              <p:spPr>
                <a:xfrm>
                  <a:off x="3133800" y="206208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Freeform 75"/>
                <p:cNvSpPr/>
                <p:nvPr/>
              </p:nvSpPr>
              <p:spPr>
                <a:xfrm flipV="1">
                  <a:off x="3124080" y="206532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-360 h 124200"/>
                    <a:gd name="textAreaBottom" fmla="*/ 12420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5" name="Group 76"/>
            <p:cNvGrpSpPr/>
            <p:nvPr/>
          </p:nvGrpSpPr>
          <p:grpSpPr>
            <a:xfrm>
              <a:off x="5562720" y="1981080"/>
              <a:ext cx="576000" cy="585720"/>
              <a:chOff x="5562720" y="1981080"/>
              <a:chExt cx="576000" cy="585720"/>
            </a:xfrm>
          </p:grpSpPr>
          <p:sp>
            <p:nvSpPr>
              <p:cNvPr id="1186" name="AutoShape 77"/>
              <p:cNvSpPr/>
              <p:nvPr/>
            </p:nvSpPr>
            <p:spPr>
              <a:xfrm>
                <a:off x="5562720" y="1981080"/>
                <a:ext cx="576000" cy="5857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64801"/>
                  </a:gs>
                  <a:gs pos="100000">
                    <a:srgbClr val="fe9b03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187" name="Group 78"/>
              <p:cNvGrpSpPr/>
              <p:nvPr/>
            </p:nvGrpSpPr>
            <p:grpSpPr>
              <a:xfrm>
                <a:off x="5638680" y="2062080"/>
                <a:ext cx="443160" cy="127800"/>
                <a:chOff x="5638680" y="2062080"/>
                <a:chExt cx="443160" cy="127800"/>
              </a:xfrm>
            </p:grpSpPr>
            <p:sp>
              <p:nvSpPr>
                <p:cNvPr id="1188" name="Freeform 79"/>
                <p:cNvSpPr/>
                <p:nvPr/>
              </p:nvSpPr>
              <p:spPr>
                <a:xfrm>
                  <a:off x="5648400" y="206208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Freeform 80"/>
                <p:cNvSpPr/>
                <p:nvPr/>
              </p:nvSpPr>
              <p:spPr>
                <a:xfrm flipV="1">
                  <a:off x="5638680" y="206532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-360 h 124200"/>
                    <a:gd name="textAreaBottom" fmla="*/ 12420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0" name="Line 81"/>
            <p:cNvSpPr/>
            <p:nvPr/>
          </p:nvSpPr>
          <p:spPr>
            <a:xfrm>
              <a:off x="3657600" y="2286000"/>
              <a:ext cx="38088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1" name="Line 82"/>
            <p:cNvSpPr/>
            <p:nvPr/>
          </p:nvSpPr>
          <p:spPr>
            <a:xfrm>
              <a:off x="4114800" y="2286000"/>
              <a:ext cx="1066680" cy="0"/>
            </a:xfrm>
            <a:prstGeom prst="line">
              <a:avLst/>
            </a:prstGeom>
            <a:ln w="19080">
              <a:solidFill>
                <a:srgbClr val="8383a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2" name="Line 83"/>
            <p:cNvSpPr/>
            <p:nvPr/>
          </p:nvSpPr>
          <p:spPr>
            <a:xfrm>
              <a:off x="5181480" y="2286000"/>
              <a:ext cx="38124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93" name="Group 84"/>
          <p:cNvGrpSpPr/>
          <p:nvPr/>
        </p:nvGrpSpPr>
        <p:grpSpPr>
          <a:xfrm>
            <a:off x="1676520" y="1905120"/>
            <a:ext cx="609480" cy="228600"/>
            <a:chOff x="1676520" y="1905120"/>
            <a:chExt cx="609480" cy="228600"/>
          </a:xfrm>
        </p:grpSpPr>
        <p:sp>
          <p:nvSpPr>
            <p:cNvPr id="1194" name="Rectangle 85"/>
            <p:cNvSpPr/>
            <p:nvPr/>
          </p:nvSpPr>
          <p:spPr>
            <a:xfrm>
              <a:off x="1676520" y="1905120"/>
              <a:ext cx="533520" cy="2286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5" name="Rectangle 86"/>
            <p:cNvSpPr/>
            <p:nvPr/>
          </p:nvSpPr>
          <p:spPr>
            <a:xfrm>
              <a:off x="2133720" y="1905120"/>
              <a:ext cx="15228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96" name="Group 87"/>
          <p:cNvGrpSpPr/>
          <p:nvPr/>
        </p:nvGrpSpPr>
        <p:grpSpPr>
          <a:xfrm>
            <a:off x="1676520" y="1905120"/>
            <a:ext cx="4182840" cy="3883680"/>
            <a:chOff x="1676520" y="1905120"/>
            <a:chExt cx="4182840" cy="3883680"/>
          </a:xfrm>
        </p:grpSpPr>
        <p:grpSp>
          <p:nvGrpSpPr>
            <p:cNvPr id="1197" name="Group 88"/>
            <p:cNvGrpSpPr/>
            <p:nvPr/>
          </p:nvGrpSpPr>
          <p:grpSpPr>
            <a:xfrm>
              <a:off x="1676520" y="1905120"/>
              <a:ext cx="3581280" cy="3124080"/>
              <a:chOff x="1676520" y="1905120"/>
              <a:chExt cx="3581280" cy="3124080"/>
            </a:xfrm>
          </p:grpSpPr>
          <p:grpSp>
            <p:nvGrpSpPr>
              <p:cNvPr id="1198" name="Group 89"/>
              <p:cNvGrpSpPr/>
              <p:nvPr/>
            </p:nvGrpSpPr>
            <p:grpSpPr>
              <a:xfrm>
                <a:off x="1676520" y="1905120"/>
                <a:ext cx="609480" cy="228600"/>
                <a:chOff x="1676520" y="1905120"/>
                <a:chExt cx="609480" cy="228600"/>
              </a:xfrm>
            </p:grpSpPr>
            <p:sp>
              <p:nvSpPr>
                <p:cNvPr id="1199" name="Rectangle 90"/>
                <p:cNvSpPr/>
                <p:nvPr/>
              </p:nvSpPr>
              <p:spPr>
                <a:xfrm>
                  <a:off x="1676520" y="1905120"/>
                  <a:ext cx="533520" cy="228600"/>
                </a:xfrm>
                <a:prstGeom prst="rect">
                  <a:avLst/>
                </a:pr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Rectangle 91"/>
                <p:cNvSpPr/>
                <p:nvPr/>
              </p:nvSpPr>
              <p:spPr>
                <a:xfrm>
                  <a:off x="2133720" y="1905120"/>
                  <a:ext cx="152280" cy="2286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Group 92"/>
              <p:cNvGrpSpPr/>
              <p:nvPr/>
            </p:nvGrpSpPr>
            <p:grpSpPr>
              <a:xfrm>
                <a:off x="2133720" y="1905120"/>
                <a:ext cx="3124080" cy="3124080"/>
                <a:chOff x="2133720" y="1905120"/>
                <a:chExt cx="3124080" cy="3124080"/>
              </a:xfrm>
            </p:grpSpPr>
            <p:grpSp>
              <p:nvGrpSpPr>
                <p:cNvPr id="1202" name="Group 93"/>
                <p:cNvGrpSpPr/>
                <p:nvPr/>
              </p:nvGrpSpPr>
              <p:grpSpPr>
                <a:xfrm>
                  <a:off x="2438280" y="2895480"/>
                  <a:ext cx="2781360" cy="2133720"/>
                  <a:chOff x="2438280" y="2895480"/>
                  <a:chExt cx="2781360" cy="2133720"/>
                </a:xfrm>
              </p:grpSpPr>
              <p:sp>
                <p:nvSpPr>
                  <p:cNvPr id="1203" name="Text Box 94"/>
                  <p:cNvSpPr/>
                  <p:nvPr/>
                </p:nvSpPr>
                <p:spPr>
                  <a:xfrm>
                    <a:off x="2438280" y="4229280"/>
                    <a:ext cx="2765520" cy="799920"/>
                  </a:xfrm>
                  <a:prstGeom prst="rect">
                    <a:avLst/>
                  </a:prstGeom>
                  <a:solidFill>
                    <a:srgbClr val="c09e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Feedback </a:t>
                    </a:r>
                    <a:endParaRPr b="0" lang="en-US" sz="20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04" name="Group 95"/>
                  <p:cNvGrpSpPr/>
                  <p:nvPr/>
                </p:nvGrpSpPr>
                <p:grpSpPr>
                  <a:xfrm>
                    <a:off x="2438280" y="2895480"/>
                    <a:ext cx="2781360" cy="2133360"/>
                    <a:chOff x="2438280" y="2895480"/>
                    <a:chExt cx="2781360" cy="2133360"/>
                  </a:xfrm>
                </p:grpSpPr>
                <p:sp>
                  <p:nvSpPr>
                    <p:cNvPr id="1205" name="Rectangle 96"/>
                    <p:cNvSpPr/>
                    <p:nvPr/>
                  </p:nvSpPr>
                  <p:spPr>
                    <a:xfrm>
                      <a:off x="2438280" y="4206600"/>
                      <a:ext cx="2781360" cy="8222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06" name="Group 97"/>
                    <p:cNvGrpSpPr/>
                    <p:nvPr/>
                  </p:nvGrpSpPr>
                  <p:grpSpPr>
                    <a:xfrm>
                      <a:off x="2438280" y="2895480"/>
                      <a:ext cx="2781000" cy="1310760"/>
                      <a:chOff x="2438280" y="2895480"/>
                      <a:chExt cx="2781000" cy="1310760"/>
                    </a:xfrm>
                  </p:grpSpPr>
                  <p:sp>
                    <p:nvSpPr>
                      <p:cNvPr id="1207" name="Rectangle 98"/>
                      <p:cNvSpPr/>
                      <p:nvPr/>
                    </p:nvSpPr>
                    <p:spPr>
                      <a:xfrm>
                        <a:off x="2438280" y="2895480"/>
                        <a:ext cx="2781000" cy="656280"/>
                      </a:xfrm>
                      <a:prstGeom prst="rect">
                        <a:avLst/>
                      </a:prstGeom>
                      <a:solidFill>
                        <a:srgbClr val="fefed6"/>
                      </a:solidFill>
                      <a:ln w="12600">
                        <a:solidFill>
                          <a:srgbClr val="8383a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8" name="Rectangle 99"/>
                      <p:cNvSpPr/>
                      <p:nvPr/>
                    </p:nvSpPr>
                    <p:spPr>
                      <a:xfrm>
                        <a:off x="2438280" y="3551760"/>
                        <a:ext cx="2781000" cy="654480"/>
                      </a:xfrm>
                      <a:prstGeom prst="rect">
                        <a:avLst/>
                      </a:prstGeom>
                      <a:solidFill>
                        <a:srgbClr val="fefed6"/>
                      </a:solidFill>
                      <a:ln w="12600">
                        <a:solidFill>
                          <a:srgbClr val="8383a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9" name="Text Box 100"/>
                      <p:cNvSpPr/>
                      <p:nvPr/>
                    </p:nvSpPr>
                    <p:spPr>
                      <a:xfrm>
                        <a:off x="2537640" y="3029760"/>
                        <a:ext cx="24825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ound Trip Time</a:t>
                        </a:r>
                        <a:endParaRPr b="0" lang="en-US" sz="20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0" name="Text Box 101"/>
                      <p:cNvSpPr/>
                      <p:nvPr/>
                    </p:nvSpPr>
                    <p:spPr>
                      <a:xfrm>
                        <a:off x="2537640" y="3688920"/>
                        <a:ext cx="24825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ongestion Window</a:t>
                        </a:r>
                        <a:endParaRPr b="0" lang="en-US" sz="20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211" name="Line 102"/>
                <p:cNvSpPr/>
                <p:nvPr/>
              </p:nvSpPr>
              <p:spPr>
                <a:xfrm>
                  <a:off x="2133720" y="1905120"/>
                  <a:ext cx="304560" cy="990360"/>
                </a:xfrm>
                <a:prstGeom prst="line">
                  <a:avLst/>
                </a:prstGeom>
                <a:ln cap="sq"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Line 103"/>
                <p:cNvSpPr/>
                <p:nvPr/>
              </p:nvSpPr>
              <p:spPr>
                <a:xfrm>
                  <a:off x="2286000" y="1905120"/>
                  <a:ext cx="2971800" cy="990360"/>
                </a:xfrm>
                <a:prstGeom prst="line">
                  <a:avLst/>
                </a:prstGeom>
                <a:ln cap="sq"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Line 104"/>
                <p:cNvSpPr/>
                <p:nvPr/>
              </p:nvSpPr>
              <p:spPr>
                <a:xfrm>
                  <a:off x="2133720" y="2057400"/>
                  <a:ext cx="304560" cy="2971800"/>
                </a:xfrm>
                <a:prstGeom prst="line">
                  <a:avLst/>
                </a:prstGeom>
                <a:ln cap="sq"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4" name="Text Box 105"/>
            <p:cNvSpPr/>
            <p:nvPr/>
          </p:nvSpPr>
          <p:spPr>
            <a:xfrm>
              <a:off x="2438280" y="5334120"/>
              <a:ext cx="3421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gestion Header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215" name="Group 106"/>
          <p:cNvGrpSpPr/>
          <p:nvPr/>
        </p:nvGrpSpPr>
        <p:grpSpPr>
          <a:xfrm>
            <a:off x="2514600" y="1905120"/>
            <a:ext cx="3581280" cy="3124080"/>
            <a:chOff x="2514600" y="1905120"/>
            <a:chExt cx="3581280" cy="3124080"/>
          </a:xfrm>
        </p:grpSpPr>
        <p:grpSp>
          <p:nvGrpSpPr>
            <p:cNvPr id="1216" name="Group 107"/>
            <p:cNvGrpSpPr/>
            <p:nvPr/>
          </p:nvGrpSpPr>
          <p:grpSpPr>
            <a:xfrm>
              <a:off x="2514600" y="1905120"/>
              <a:ext cx="609480" cy="228600"/>
              <a:chOff x="2514600" y="1905120"/>
              <a:chExt cx="609480" cy="228600"/>
            </a:xfrm>
          </p:grpSpPr>
          <p:sp>
            <p:nvSpPr>
              <p:cNvPr id="1217" name="Rectangle 108"/>
              <p:cNvSpPr/>
              <p:nvPr/>
            </p:nvSpPr>
            <p:spPr>
              <a:xfrm>
                <a:off x="2514600" y="1905120"/>
                <a:ext cx="533520" cy="2286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18" name="Rectangle 109"/>
              <p:cNvSpPr/>
              <p:nvPr/>
            </p:nvSpPr>
            <p:spPr>
              <a:xfrm>
                <a:off x="2971800" y="1905120"/>
                <a:ext cx="152280" cy="22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Group 110"/>
            <p:cNvGrpSpPr/>
            <p:nvPr/>
          </p:nvGrpSpPr>
          <p:grpSpPr>
            <a:xfrm>
              <a:off x="2971800" y="1905120"/>
              <a:ext cx="3124080" cy="3124080"/>
              <a:chOff x="2971800" y="1905120"/>
              <a:chExt cx="3124080" cy="3124080"/>
            </a:xfrm>
          </p:grpSpPr>
          <p:grpSp>
            <p:nvGrpSpPr>
              <p:cNvPr id="1220" name="Group 111"/>
              <p:cNvGrpSpPr/>
              <p:nvPr/>
            </p:nvGrpSpPr>
            <p:grpSpPr>
              <a:xfrm>
                <a:off x="3276360" y="2895480"/>
                <a:ext cx="2781360" cy="2133720"/>
                <a:chOff x="3276360" y="2895480"/>
                <a:chExt cx="2781360" cy="2133720"/>
              </a:xfrm>
            </p:grpSpPr>
            <p:sp>
              <p:nvSpPr>
                <p:cNvPr id="1221" name="Text Box 112"/>
                <p:cNvSpPr/>
                <p:nvPr/>
              </p:nvSpPr>
              <p:spPr>
                <a:xfrm>
                  <a:off x="3276360" y="4229280"/>
                  <a:ext cx="2765520" cy="7999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Feedback            </a:t>
                  </a:r>
                  <a:endParaRPr b="0" lang="en-US" sz="20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2" name="Group 113"/>
                <p:cNvGrpSpPr/>
                <p:nvPr/>
              </p:nvGrpSpPr>
              <p:grpSpPr>
                <a:xfrm>
                  <a:off x="3276360" y="2895480"/>
                  <a:ext cx="2781360" cy="2133360"/>
                  <a:chOff x="3276360" y="2895480"/>
                  <a:chExt cx="2781360" cy="2133360"/>
                </a:xfrm>
              </p:grpSpPr>
              <p:sp>
                <p:nvSpPr>
                  <p:cNvPr id="1223" name="Rectangle 114"/>
                  <p:cNvSpPr/>
                  <p:nvPr/>
                </p:nvSpPr>
                <p:spPr>
                  <a:xfrm>
                    <a:off x="3276360" y="4206600"/>
                    <a:ext cx="2781360" cy="822240"/>
                  </a:xfrm>
                  <a:prstGeom prst="rect">
                    <a:avLst/>
                  </a:prstGeom>
                  <a:noFill/>
                  <a:ln w="12600">
                    <a:solidFill>
                      <a:srgbClr val="8383a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24" name="Group 115"/>
                  <p:cNvGrpSpPr/>
                  <p:nvPr/>
                </p:nvGrpSpPr>
                <p:grpSpPr>
                  <a:xfrm>
                    <a:off x="3276360" y="2895480"/>
                    <a:ext cx="2781000" cy="1310760"/>
                    <a:chOff x="3276360" y="2895480"/>
                    <a:chExt cx="2781000" cy="1310760"/>
                  </a:xfrm>
                </p:grpSpPr>
                <p:sp>
                  <p:nvSpPr>
                    <p:cNvPr id="1225" name="Rectangle 116"/>
                    <p:cNvSpPr/>
                    <p:nvPr/>
                  </p:nvSpPr>
                  <p:spPr>
                    <a:xfrm>
                      <a:off x="3276360" y="2895480"/>
                      <a:ext cx="2781000" cy="656280"/>
                    </a:xfrm>
                    <a:prstGeom prst="rect">
                      <a:avLst/>
                    </a:prstGeom>
                    <a:solidFill>
                      <a:srgbClr val="fefed6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6" name="Rectangle 117"/>
                    <p:cNvSpPr/>
                    <p:nvPr/>
                  </p:nvSpPr>
                  <p:spPr>
                    <a:xfrm>
                      <a:off x="3276360" y="3551760"/>
                      <a:ext cx="2781000" cy="654480"/>
                    </a:xfrm>
                    <a:prstGeom prst="rect">
                      <a:avLst/>
                    </a:prstGeom>
                    <a:solidFill>
                      <a:srgbClr val="fefed6"/>
                    </a:solidFill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7" name="Text Box 118"/>
                    <p:cNvSpPr/>
                    <p:nvPr/>
                  </p:nvSpPr>
                  <p:spPr>
                    <a:xfrm>
                      <a:off x="3375720" y="3029760"/>
                      <a:ext cx="24825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Trip Time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8" name="Text Box 119"/>
                    <p:cNvSpPr/>
                    <p:nvPr/>
                  </p:nvSpPr>
                  <p:spPr>
                    <a:xfrm>
                      <a:off x="3375720" y="3688920"/>
                      <a:ext cx="24825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 Window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229" name="Line 120"/>
              <p:cNvSpPr/>
              <p:nvPr/>
            </p:nvSpPr>
            <p:spPr>
              <a:xfrm>
                <a:off x="2971800" y="1905120"/>
                <a:ext cx="304560" cy="990360"/>
              </a:xfrm>
              <a:prstGeom prst="line">
                <a:avLst/>
              </a:prstGeom>
              <a:ln cap="sq"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30" name="Line 121"/>
              <p:cNvSpPr/>
              <p:nvPr/>
            </p:nvSpPr>
            <p:spPr>
              <a:xfrm>
                <a:off x="3124080" y="1905120"/>
                <a:ext cx="2971800" cy="990360"/>
              </a:xfrm>
              <a:prstGeom prst="line">
                <a:avLst/>
              </a:prstGeom>
              <a:ln cap="sq"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31" name="Line 122"/>
              <p:cNvSpPr/>
              <p:nvPr/>
            </p:nvSpPr>
            <p:spPr>
              <a:xfrm>
                <a:off x="2971800" y="2057400"/>
                <a:ext cx="304560" cy="2971800"/>
              </a:xfrm>
              <a:prstGeom prst="line">
                <a:avLst/>
              </a:prstGeom>
              <a:ln cap="sq"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does XCP Work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33" name="Text Box 124"/>
          <p:cNvSpPr/>
          <p:nvPr/>
        </p:nvSpPr>
        <p:spPr>
          <a:xfrm>
            <a:off x="3352680" y="4229280"/>
            <a:ext cx="2667240" cy="7999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  =               + 0.1 packe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AF86-373B-402F-839F-8C29FDE6360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235" name="Group 2"/>
          <p:cNvGrpSpPr/>
          <p:nvPr/>
        </p:nvGrpSpPr>
        <p:grpSpPr>
          <a:xfrm>
            <a:off x="4876920" y="1905120"/>
            <a:ext cx="609480" cy="228600"/>
            <a:chOff x="4876920" y="1905120"/>
            <a:chExt cx="609480" cy="228600"/>
          </a:xfrm>
        </p:grpSpPr>
        <p:sp>
          <p:nvSpPr>
            <p:cNvPr id="1236" name="Rectangle 3"/>
            <p:cNvSpPr/>
            <p:nvPr/>
          </p:nvSpPr>
          <p:spPr>
            <a:xfrm>
              <a:off x="4876920" y="1905120"/>
              <a:ext cx="533520" cy="2286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7" name="Rectangle 4"/>
            <p:cNvSpPr/>
            <p:nvPr/>
          </p:nvSpPr>
          <p:spPr>
            <a:xfrm>
              <a:off x="5334120" y="1905120"/>
              <a:ext cx="15228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238" name="Group 5"/>
          <p:cNvGrpSpPr/>
          <p:nvPr/>
        </p:nvGrpSpPr>
        <p:grpSpPr>
          <a:xfrm>
            <a:off x="990720" y="1905120"/>
            <a:ext cx="6926040" cy="701640"/>
            <a:chOff x="990720" y="1905120"/>
            <a:chExt cx="6926040" cy="701640"/>
          </a:xfrm>
        </p:grpSpPr>
        <p:grpSp>
          <p:nvGrpSpPr>
            <p:cNvPr id="1239" name="Group 6"/>
            <p:cNvGrpSpPr/>
            <p:nvPr/>
          </p:nvGrpSpPr>
          <p:grpSpPr>
            <a:xfrm>
              <a:off x="990720" y="1905120"/>
              <a:ext cx="753840" cy="701640"/>
              <a:chOff x="990720" y="1905120"/>
              <a:chExt cx="753840" cy="701640"/>
            </a:xfrm>
          </p:grpSpPr>
          <p:sp>
            <p:nvSpPr>
              <p:cNvPr id="1240" name="Rectangle 7"/>
              <p:cNvSpPr/>
              <p:nvPr/>
            </p:nvSpPr>
            <p:spPr>
              <a:xfrm>
                <a:off x="1211040" y="2025720"/>
                <a:ext cx="304560" cy="228600"/>
              </a:xfrm>
              <a:prstGeom prst="rect">
                <a:avLst/>
              </a:prstGeom>
              <a:solidFill>
                <a:srgbClr val="40417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241" name="Group 8"/>
              <p:cNvGrpSpPr/>
              <p:nvPr/>
            </p:nvGrpSpPr>
            <p:grpSpPr>
              <a:xfrm>
                <a:off x="990720" y="1905120"/>
                <a:ext cx="753840" cy="701640"/>
                <a:chOff x="990720" y="1905120"/>
                <a:chExt cx="753840" cy="701640"/>
              </a:xfrm>
            </p:grpSpPr>
            <p:sp>
              <p:nvSpPr>
                <p:cNvPr id="1242" name="Freeform 9"/>
                <p:cNvSpPr/>
                <p:nvPr/>
              </p:nvSpPr>
              <p:spPr>
                <a:xfrm>
                  <a:off x="1117440" y="2551320"/>
                  <a:ext cx="585360" cy="5544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05" h="104">
                      <a:moveTo>
                        <a:pt x="872" y="13"/>
                      </a:moveTo>
                      <a:lnTo>
                        <a:pt x="876" y="13"/>
                      </a:lnTo>
                      <a:lnTo>
                        <a:pt x="879" y="13"/>
                      </a:lnTo>
                      <a:lnTo>
                        <a:pt x="883" y="13"/>
                      </a:lnTo>
                      <a:lnTo>
                        <a:pt x="886" y="13"/>
                      </a:lnTo>
                      <a:lnTo>
                        <a:pt x="890" y="13"/>
                      </a:lnTo>
                      <a:lnTo>
                        <a:pt x="893" y="13"/>
                      </a:lnTo>
                      <a:lnTo>
                        <a:pt x="897" y="13"/>
                      </a:lnTo>
                      <a:lnTo>
                        <a:pt x="900" y="13"/>
                      </a:lnTo>
                      <a:lnTo>
                        <a:pt x="904" y="13"/>
                      </a:lnTo>
                      <a:lnTo>
                        <a:pt x="909" y="13"/>
                      </a:lnTo>
                      <a:lnTo>
                        <a:pt x="911" y="13"/>
                      </a:lnTo>
                      <a:lnTo>
                        <a:pt x="916" y="13"/>
                      </a:lnTo>
                      <a:lnTo>
                        <a:pt x="918" y="11"/>
                      </a:lnTo>
                      <a:lnTo>
                        <a:pt x="923" y="11"/>
                      </a:lnTo>
                      <a:lnTo>
                        <a:pt x="927" y="11"/>
                      </a:lnTo>
                      <a:lnTo>
                        <a:pt x="930" y="11"/>
                      </a:lnTo>
                      <a:lnTo>
                        <a:pt x="932" y="10"/>
                      </a:lnTo>
                      <a:lnTo>
                        <a:pt x="936" y="10"/>
                      </a:lnTo>
                      <a:lnTo>
                        <a:pt x="940" y="10"/>
                      </a:lnTo>
                      <a:lnTo>
                        <a:pt x="943" y="10"/>
                      </a:lnTo>
                      <a:lnTo>
                        <a:pt x="947" y="9"/>
                      </a:lnTo>
                      <a:lnTo>
                        <a:pt x="950" y="9"/>
                      </a:lnTo>
                      <a:lnTo>
                        <a:pt x="954" y="8"/>
                      </a:lnTo>
                      <a:lnTo>
                        <a:pt x="957" y="8"/>
                      </a:lnTo>
                      <a:lnTo>
                        <a:pt x="960" y="8"/>
                      </a:lnTo>
                      <a:lnTo>
                        <a:pt x="964" y="8"/>
                      </a:lnTo>
                      <a:lnTo>
                        <a:pt x="967" y="7"/>
                      </a:lnTo>
                      <a:lnTo>
                        <a:pt x="972" y="7"/>
                      </a:lnTo>
                      <a:lnTo>
                        <a:pt x="974" y="5"/>
                      </a:lnTo>
                      <a:lnTo>
                        <a:pt x="978" y="5"/>
                      </a:lnTo>
                      <a:lnTo>
                        <a:pt x="981" y="5"/>
                      </a:lnTo>
                      <a:lnTo>
                        <a:pt x="985" y="5"/>
                      </a:lnTo>
                      <a:lnTo>
                        <a:pt x="988" y="4"/>
                      </a:lnTo>
                      <a:lnTo>
                        <a:pt x="992" y="3"/>
                      </a:lnTo>
                      <a:lnTo>
                        <a:pt x="994" y="3"/>
                      </a:lnTo>
                      <a:lnTo>
                        <a:pt x="998" y="3"/>
                      </a:lnTo>
                      <a:lnTo>
                        <a:pt x="1001" y="3"/>
                      </a:lnTo>
                      <a:lnTo>
                        <a:pt x="1005" y="2"/>
                      </a:lnTo>
                      <a:lnTo>
                        <a:pt x="1007" y="2"/>
                      </a:lnTo>
                      <a:lnTo>
                        <a:pt x="1012" y="2"/>
                      </a:lnTo>
                      <a:lnTo>
                        <a:pt x="1014" y="1"/>
                      </a:lnTo>
                      <a:lnTo>
                        <a:pt x="1018" y="1"/>
                      </a:lnTo>
                      <a:lnTo>
                        <a:pt x="1021" y="1"/>
                      </a:lnTo>
                      <a:lnTo>
                        <a:pt x="1025" y="1"/>
                      </a:lnTo>
                      <a:lnTo>
                        <a:pt x="1029" y="1"/>
                      </a:lnTo>
                      <a:lnTo>
                        <a:pt x="1032" y="1"/>
                      </a:lnTo>
                      <a:lnTo>
                        <a:pt x="1034" y="1"/>
                      </a:lnTo>
                      <a:lnTo>
                        <a:pt x="1039" y="1"/>
                      </a:lnTo>
                      <a:lnTo>
                        <a:pt x="1042" y="0"/>
                      </a:lnTo>
                      <a:lnTo>
                        <a:pt x="1045" y="0"/>
                      </a:lnTo>
                      <a:lnTo>
                        <a:pt x="1048" y="0"/>
                      </a:lnTo>
                      <a:lnTo>
                        <a:pt x="1052" y="0"/>
                      </a:lnTo>
                      <a:lnTo>
                        <a:pt x="1055" y="0"/>
                      </a:lnTo>
                      <a:lnTo>
                        <a:pt x="1058" y="1"/>
                      </a:lnTo>
                      <a:lnTo>
                        <a:pt x="1062" y="1"/>
                      </a:lnTo>
                      <a:lnTo>
                        <a:pt x="1065" y="1"/>
                      </a:lnTo>
                      <a:lnTo>
                        <a:pt x="1068" y="1"/>
                      </a:lnTo>
                      <a:lnTo>
                        <a:pt x="1072" y="2"/>
                      </a:lnTo>
                      <a:lnTo>
                        <a:pt x="1075" y="2"/>
                      </a:lnTo>
                      <a:lnTo>
                        <a:pt x="1078" y="3"/>
                      </a:lnTo>
                      <a:lnTo>
                        <a:pt x="1082" y="3"/>
                      </a:lnTo>
                      <a:lnTo>
                        <a:pt x="1086" y="4"/>
                      </a:lnTo>
                      <a:lnTo>
                        <a:pt x="1089" y="5"/>
                      </a:lnTo>
                      <a:lnTo>
                        <a:pt x="1093" y="7"/>
                      </a:lnTo>
                      <a:lnTo>
                        <a:pt x="1093" y="9"/>
                      </a:lnTo>
                      <a:lnTo>
                        <a:pt x="1094" y="11"/>
                      </a:lnTo>
                      <a:lnTo>
                        <a:pt x="1095" y="14"/>
                      </a:lnTo>
                      <a:lnTo>
                        <a:pt x="1095" y="17"/>
                      </a:lnTo>
                      <a:lnTo>
                        <a:pt x="1096" y="20"/>
                      </a:lnTo>
                      <a:lnTo>
                        <a:pt x="1097" y="22"/>
                      </a:lnTo>
                      <a:lnTo>
                        <a:pt x="1097" y="24"/>
                      </a:lnTo>
                      <a:lnTo>
                        <a:pt x="1099" y="28"/>
                      </a:lnTo>
                      <a:lnTo>
                        <a:pt x="1099" y="30"/>
                      </a:lnTo>
                      <a:lnTo>
                        <a:pt x="1100" y="33"/>
                      </a:lnTo>
                      <a:lnTo>
                        <a:pt x="1101" y="35"/>
                      </a:lnTo>
                      <a:lnTo>
                        <a:pt x="1101" y="39"/>
                      </a:lnTo>
                      <a:lnTo>
                        <a:pt x="1102" y="41"/>
                      </a:lnTo>
                      <a:lnTo>
                        <a:pt x="1103" y="43"/>
                      </a:lnTo>
                      <a:lnTo>
                        <a:pt x="1103" y="46"/>
                      </a:lnTo>
                      <a:lnTo>
                        <a:pt x="1105" y="49"/>
                      </a:lnTo>
                      <a:lnTo>
                        <a:pt x="1099" y="53"/>
                      </a:lnTo>
                      <a:lnTo>
                        <a:pt x="1093" y="57"/>
                      </a:lnTo>
                      <a:lnTo>
                        <a:pt x="1086" y="60"/>
                      </a:lnTo>
                      <a:lnTo>
                        <a:pt x="1077" y="64"/>
                      </a:lnTo>
                      <a:lnTo>
                        <a:pt x="1068" y="66"/>
                      </a:lnTo>
                      <a:lnTo>
                        <a:pt x="1057" y="68"/>
                      </a:lnTo>
                      <a:lnTo>
                        <a:pt x="1048" y="72"/>
                      </a:lnTo>
                      <a:lnTo>
                        <a:pt x="1036" y="76"/>
                      </a:lnTo>
                      <a:lnTo>
                        <a:pt x="1024" y="78"/>
                      </a:lnTo>
                      <a:lnTo>
                        <a:pt x="1011" y="80"/>
                      </a:lnTo>
                      <a:lnTo>
                        <a:pt x="997" y="81"/>
                      </a:lnTo>
                      <a:lnTo>
                        <a:pt x="982" y="84"/>
                      </a:lnTo>
                      <a:lnTo>
                        <a:pt x="968" y="86"/>
                      </a:lnTo>
                      <a:lnTo>
                        <a:pt x="953" y="89"/>
                      </a:lnTo>
                      <a:lnTo>
                        <a:pt x="936" y="90"/>
                      </a:lnTo>
                      <a:lnTo>
                        <a:pt x="921" y="92"/>
                      </a:lnTo>
                      <a:lnTo>
                        <a:pt x="903" y="92"/>
                      </a:lnTo>
                      <a:lnTo>
                        <a:pt x="885" y="95"/>
                      </a:lnTo>
                      <a:lnTo>
                        <a:pt x="866" y="96"/>
                      </a:lnTo>
                      <a:lnTo>
                        <a:pt x="847" y="97"/>
                      </a:lnTo>
                      <a:lnTo>
                        <a:pt x="829" y="98"/>
                      </a:lnTo>
                      <a:lnTo>
                        <a:pt x="809" y="99"/>
                      </a:lnTo>
                      <a:lnTo>
                        <a:pt x="790" y="99"/>
                      </a:lnTo>
                      <a:lnTo>
                        <a:pt x="770" y="102"/>
                      </a:lnTo>
                      <a:lnTo>
                        <a:pt x="750" y="102"/>
                      </a:lnTo>
                      <a:lnTo>
                        <a:pt x="728" y="102"/>
                      </a:lnTo>
                      <a:lnTo>
                        <a:pt x="708" y="102"/>
                      </a:lnTo>
                      <a:lnTo>
                        <a:pt x="688" y="104"/>
                      </a:lnTo>
                      <a:lnTo>
                        <a:pt x="665" y="104"/>
                      </a:lnTo>
                      <a:lnTo>
                        <a:pt x="645" y="104"/>
                      </a:lnTo>
                      <a:lnTo>
                        <a:pt x="623" y="104"/>
                      </a:lnTo>
                      <a:lnTo>
                        <a:pt x="601" y="104"/>
                      </a:lnTo>
                      <a:lnTo>
                        <a:pt x="580" y="104"/>
                      </a:lnTo>
                      <a:lnTo>
                        <a:pt x="558" y="104"/>
                      </a:lnTo>
                      <a:lnTo>
                        <a:pt x="536" y="104"/>
                      </a:lnTo>
                      <a:lnTo>
                        <a:pt x="514" y="104"/>
                      </a:lnTo>
                      <a:lnTo>
                        <a:pt x="492" y="104"/>
                      </a:lnTo>
                      <a:lnTo>
                        <a:pt x="471" y="104"/>
                      </a:lnTo>
                      <a:lnTo>
                        <a:pt x="450" y="104"/>
                      </a:lnTo>
                      <a:lnTo>
                        <a:pt x="427" y="104"/>
                      </a:lnTo>
                      <a:lnTo>
                        <a:pt x="407" y="104"/>
                      </a:lnTo>
                      <a:lnTo>
                        <a:pt x="384" y="104"/>
                      </a:lnTo>
                      <a:lnTo>
                        <a:pt x="363" y="103"/>
                      </a:lnTo>
                      <a:lnTo>
                        <a:pt x="343" y="103"/>
                      </a:lnTo>
                      <a:lnTo>
                        <a:pt x="321" y="102"/>
                      </a:lnTo>
                      <a:lnTo>
                        <a:pt x="301" y="102"/>
                      </a:lnTo>
                      <a:lnTo>
                        <a:pt x="282" y="102"/>
                      </a:lnTo>
                      <a:lnTo>
                        <a:pt x="263" y="102"/>
                      </a:lnTo>
                      <a:lnTo>
                        <a:pt x="243" y="102"/>
                      </a:lnTo>
                      <a:lnTo>
                        <a:pt x="224" y="102"/>
                      </a:lnTo>
                      <a:lnTo>
                        <a:pt x="205" y="100"/>
                      </a:lnTo>
                      <a:lnTo>
                        <a:pt x="187" y="100"/>
                      </a:lnTo>
                      <a:lnTo>
                        <a:pt x="170" y="99"/>
                      </a:lnTo>
                      <a:lnTo>
                        <a:pt x="153" y="99"/>
                      </a:lnTo>
                      <a:lnTo>
                        <a:pt x="136" y="99"/>
                      </a:lnTo>
                      <a:lnTo>
                        <a:pt x="120" y="99"/>
                      </a:lnTo>
                      <a:lnTo>
                        <a:pt x="104" y="99"/>
                      </a:lnTo>
                      <a:lnTo>
                        <a:pt x="89" y="99"/>
                      </a:lnTo>
                      <a:lnTo>
                        <a:pt x="76" y="99"/>
                      </a:lnTo>
                      <a:lnTo>
                        <a:pt x="63" y="99"/>
                      </a:lnTo>
                      <a:lnTo>
                        <a:pt x="49" y="99"/>
                      </a:lnTo>
                      <a:lnTo>
                        <a:pt x="37" y="99"/>
                      </a:lnTo>
                      <a:lnTo>
                        <a:pt x="25" y="99"/>
                      </a:lnTo>
                      <a:lnTo>
                        <a:pt x="15" y="99"/>
                      </a:lnTo>
                      <a:lnTo>
                        <a:pt x="14" y="97"/>
                      </a:lnTo>
                      <a:lnTo>
                        <a:pt x="12" y="93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7" y="83"/>
                      </a:lnTo>
                      <a:lnTo>
                        <a:pt x="6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70"/>
                      </a:lnTo>
                      <a:lnTo>
                        <a:pt x="2" y="67"/>
                      </a:lnTo>
                      <a:lnTo>
                        <a:pt x="2" y="65"/>
                      </a:lnTo>
                      <a:lnTo>
                        <a:pt x="2" y="62"/>
                      </a:lnTo>
                      <a:lnTo>
                        <a:pt x="0" y="59"/>
                      </a:lnTo>
                      <a:lnTo>
                        <a:pt x="0" y="57"/>
                      </a:lnTo>
                      <a:lnTo>
                        <a:pt x="2" y="54"/>
                      </a:lnTo>
                      <a:lnTo>
                        <a:pt x="7" y="51"/>
                      </a:lnTo>
                      <a:lnTo>
                        <a:pt x="9" y="48"/>
                      </a:lnTo>
                      <a:lnTo>
                        <a:pt x="14" y="46"/>
                      </a:lnTo>
                      <a:lnTo>
                        <a:pt x="18" y="42"/>
                      </a:lnTo>
                      <a:lnTo>
                        <a:pt x="21" y="41"/>
                      </a:lnTo>
                      <a:lnTo>
                        <a:pt x="25" y="39"/>
                      </a:lnTo>
                      <a:lnTo>
                        <a:pt x="28" y="36"/>
                      </a:lnTo>
                      <a:lnTo>
                        <a:pt x="32" y="35"/>
                      </a:lnTo>
                      <a:lnTo>
                        <a:pt x="35" y="33"/>
                      </a:lnTo>
                      <a:lnTo>
                        <a:pt x="40" y="32"/>
                      </a:lnTo>
                      <a:lnTo>
                        <a:pt x="44" y="30"/>
                      </a:lnTo>
                      <a:lnTo>
                        <a:pt x="47" y="29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5" y="24"/>
                      </a:lnTo>
                      <a:lnTo>
                        <a:pt x="69" y="23"/>
                      </a:lnTo>
                      <a:lnTo>
                        <a:pt x="73" y="23"/>
                      </a:lnTo>
                      <a:lnTo>
                        <a:pt x="78" y="23"/>
                      </a:lnTo>
                      <a:lnTo>
                        <a:pt x="82" y="22"/>
                      </a:lnTo>
                      <a:lnTo>
                        <a:pt x="85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8" y="21"/>
                      </a:lnTo>
                      <a:lnTo>
                        <a:pt x="103" y="21"/>
                      </a:lnTo>
                      <a:lnTo>
                        <a:pt x="108" y="21"/>
                      </a:lnTo>
                      <a:lnTo>
                        <a:pt x="113" y="21"/>
                      </a:lnTo>
                      <a:lnTo>
                        <a:pt x="116" y="21"/>
                      </a:lnTo>
                      <a:lnTo>
                        <a:pt x="121" y="21"/>
                      </a:lnTo>
                      <a:lnTo>
                        <a:pt x="126" y="21"/>
                      </a:lnTo>
                      <a:lnTo>
                        <a:pt x="130" y="21"/>
                      </a:lnTo>
                      <a:lnTo>
                        <a:pt x="135" y="21"/>
                      </a:lnTo>
                      <a:lnTo>
                        <a:pt x="139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3" y="21"/>
                      </a:lnTo>
                      <a:lnTo>
                        <a:pt x="158" y="22"/>
                      </a:lnTo>
                      <a:lnTo>
                        <a:pt x="161" y="22"/>
                      </a:lnTo>
                      <a:lnTo>
                        <a:pt x="167" y="23"/>
                      </a:lnTo>
                      <a:lnTo>
                        <a:pt x="171" y="23"/>
                      </a:lnTo>
                      <a:lnTo>
                        <a:pt x="175" y="23"/>
                      </a:lnTo>
                      <a:lnTo>
                        <a:pt x="179" y="23"/>
                      </a:lnTo>
                      <a:lnTo>
                        <a:pt x="184" y="23"/>
                      </a:lnTo>
                      <a:lnTo>
                        <a:pt x="190" y="23"/>
                      </a:lnTo>
                      <a:lnTo>
                        <a:pt x="194" y="23"/>
                      </a:lnTo>
                      <a:lnTo>
                        <a:pt x="199" y="23"/>
                      </a:lnTo>
                      <a:lnTo>
                        <a:pt x="203" y="24"/>
                      </a:lnTo>
                      <a:lnTo>
                        <a:pt x="208" y="23"/>
                      </a:lnTo>
                      <a:lnTo>
                        <a:pt x="212" y="2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5" y="23"/>
                      </a:lnTo>
                      <a:lnTo>
                        <a:pt x="230" y="23"/>
                      </a:lnTo>
                      <a:lnTo>
                        <a:pt x="234" y="23"/>
                      </a:lnTo>
                      <a:lnTo>
                        <a:pt x="238" y="23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1" y="21"/>
                      </a:lnTo>
                      <a:lnTo>
                        <a:pt x="256" y="21"/>
                      </a:lnTo>
                      <a:lnTo>
                        <a:pt x="260" y="21"/>
                      </a:lnTo>
                      <a:lnTo>
                        <a:pt x="264" y="20"/>
                      </a:lnTo>
                      <a:lnTo>
                        <a:pt x="269" y="19"/>
                      </a:lnTo>
                      <a:lnTo>
                        <a:pt x="273" y="19"/>
                      </a:lnTo>
                      <a:lnTo>
                        <a:pt x="282" y="17"/>
                      </a:lnTo>
                      <a:lnTo>
                        <a:pt x="291" y="17"/>
                      </a:lnTo>
                      <a:lnTo>
                        <a:pt x="300" y="17"/>
                      </a:lnTo>
                      <a:lnTo>
                        <a:pt x="310" y="17"/>
                      </a:lnTo>
                      <a:lnTo>
                        <a:pt x="319" y="16"/>
                      </a:lnTo>
                      <a:lnTo>
                        <a:pt x="329" y="16"/>
                      </a:lnTo>
                      <a:lnTo>
                        <a:pt x="337" y="16"/>
                      </a:lnTo>
                      <a:lnTo>
                        <a:pt x="346" y="16"/>
                      </a:lnTo>
                      <a:lnTo>
                        <a:pt x="356" y="16"/>
                      </a:lnTo>
                      <a:lnTo>
                        <a:pt x="365" y="16"/>
                      </a:lnTo>
                      <a:lnTo>
                        <a:pt x="374" y="16"/>
                      </a:lnTo>
                      <a:lnTo>
                        <a:pt x="384" y="16"/>
                      </a:lnTo>
                      <a:lnTo>
                        <a:pt x="394" y="16"/>
                      </a:lnTo>
                      <a:lnTo>
                        <a:pt x="402" y="16"/>
                      </a:lnTo>
                      <a:lnTo>
                        <a:pt x="412" y="16"/>
                      </a:lnTo>
                      <a:lnTo>
                        <a:pt x="422" y="17"/>
                      </a:lnTo>
                      <a:lnTo>
                        <a:pt x="431" y="17"/>
                      </a:lnTo>
                      <a:lnTo>
                        <a:pt x="440" y="17"/>
                      </a:lnTo>
                      <a:lnTo>
                        <a:pt x="450" y="17"/>
                      </a:lnTo>
                      <a:lnTo>
                        <a:pt x="459" y="17"/>
                      </a:lnTo>
                      <a:lnTo>
                        <a:pt x="469" y="17"/>
                      </a:lnTo>
                      <a:lnTo>
                        <a:pt x="478" y="17"/>
                      </a:lnTo>
                      <a:lnTo>
                        <a:pt x="488" y="17"/>
                      </a:lnTo>
                      <a:lnTo>
                        <a:pt x="498" y="17"/>
                      </a:lnTo>
                      <a:lnTo>
                        <a:pt x="507" y="17"/>
                      </a:lnTo>
                      <a:lnTo>
                        <a:pt x="516" y="17"/>
                      </a:lnTo>
                      <a:lnTo>
                        <a:pt x="525" y="17"/>
                      </a:lnTo>
                      <a:lnTo>
                        <a:pt x="536" y="17"/>
                      </a:lnTo>
                      <a:lnTo>
                        <a:pt x="544" y="17"/>
                      </a:lnTo>
                      <a:lnTo>
                        <a:pt x="554" y="17"/>
                      </a:lnTo>
                      <a:lnTo>
                        <a:pt x="563" y="17"/>
                      </a:lnTo>
                      <a:lnTo>
                        <a:pt x="574" y="19"/>
                      </a:lnTo>
                      <a:lnTo>
                        <a:pt x="582" y="17"/>
                      </a:lnTo>
                      <a:lnTo>
                        <a:pt x="592" y="17"/>
                      </a:lnTo>
                      <a:lnTo>
                        <a:pt x="601" y="17"/>
                      </a:lnTo>
                      <a:lnTo>
                        <a:pt x="611" y="17"/>
                      </a:lnTo>
                      <a:lnTo>
                        <a:pt x="619" y="17"/>
                      </a:lnTo>
                      <a:lnTo>
                        <a:pt x="630" y="17"/>
                      </a:lnTo>
                      <a:lnTo>
                        <a:pt x="639" y="17"/>
                      </a:lnTo>
                      <a:lnTo>
                        <a:pt x="649" y="17"/>
                      </a:lnTo>
                      <a:lnTo>
                        <a:pt x="657" y="17"/>
                      </a:lnTo>
                      <a:lnTo>
                        <a:pt x="668" y="17"/>
                      </a:lnTo>
                      <a:lnTo>
                        <a:pt x="677" y="17"/>
                      </a:lnTo>
                      <a:lnTo>
                        <a:pt x="687" y="17"/>
                      </a:lnTo>
                      <a:lnTo>
                        <a:pt x="695" y="17"/>
                      </a:lnTo>
                      <a:lnTo>
                        <a:pt x="706" y="17"/>
                      </a:lnTo>
                      <a:lnTo>
                        <a:pt x="715" y="17"/>
                      </a:lnTo>
                      <a:lnTo>
                        <a:pt x="724" y="17"/>
                      </a:lnTo>
                      <a:lnTo>
                        <a:pt x="733" y="16"/>
                      </a:lnTo>
                      <a:lnTo>
                        <a:pt x="743" y="16"/>
                      </a:lnTo>
                      <a:lnTo>
                        <a:pt x="751" y="16"/>
                      </a:lnTo>
                      <a:lnTo>
                        <a:pt x="762" y="16"/>
                      </a:lnTo>
                      <a:lnTo>
                        <a:pt x="770" y="16"/>
                      </a:lnTo>
                      <a:lnTo>
                        <a:pt x="779" y="16"/>
                      </a:lnTo>
                      <a:lnTo>
                        <a:pt x="789" y="15"/>
                      </a:lnTo>
                      <a:lnTo>
                        <a:pt x="798" y="15"/>
                      </a:lnTo>
                      <a:lnTo>
                        <a:pt x="807" y="15"/>
                      </a:lnTo>
                      <a:lnTo>
                        <a:pt x="817" y="14"/>
                      </a:lnTo>
                      <a:lnTo>
                        <a:pt x="824" y="14"/>
                      </a:lnTo>
                      <a:lnTo>
                        <a:pt x="835" y="14"/>
                      </a:lnTo>
                      <a:lnTo>
                        <a:pt x="843" y="13"/>
                      </a:lnTo>
                      <a:lnTo>
                        <a:pt x="853" y="13"/>
                      </a:lnTo>
                      <a:lnTo>
                        <a:pt x="862" y="13"/>
                      </a:lnTo>
                      <a:lnTo>
                        <a:pt x="872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Freeform 10"/>
                <p:cNvSpPr/>
                <p:nvPr/>
              </p:nvSpPr>
              <p:spPr>
                <a:xfrm>
                  <a:off x="1117440" y="1905120"/>
                  <a:ext cx="499680" cy="61920"/>
                </a:xfrm>
                <a:custGeom>
                  <a:avLst/>
                  <a:gdLst>
                    <a:gd name="textAreaLeft" fmla="*/ 0 w 499680"/>
                    <a:gd name="textAreaRight" fmla="*/ 500040 w 499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43" h="116">
                      <a:moveTo>
                        <a:pt x="435" y="0"/>
                      </a:moveTo>
                      <a:lnTo>
                        <a:pt x="442" y="0"/>
                      </a:lnTo>
                      <a:lnTo>
                        <a:pt x="450" y="1"/>
                      </a:lnTo>
                      <a:lnTo>
                        <a:pt x="458" y="1"/>
                      </a:lnTo>
                      <a:lnTo>
                        <a:pt x="465" y="1"/>
                      </a:lnTo>
                      <a:lnTo>
                        <a:pt x="472" y="1"/>
                      </a:lnTo>
                      <a:lnTo>
                        <a:pt x="480" y="1"/>
                      </a:lnTo>
                      <a:lnTo>
                        <a:pt x="488" y="1"/>
                      </a:lnTo>
                      <a:lnTo>
                        <a:pt x="496" y="2"/>
                      </a:lnTo>
                      <a:lnTo>
                        <a:pt x="503" y="2"/>
                      </a:lnTo>
                      <a:lnTo>
                        <a:pt x="510" y="2"/>
                      </a:lnTo>
                      <a:lnTo>
                        <a:pt x="518" y="2"/>
                      </a:lnTo>
                      <a:lnTo>
                        <a:pt x="525" y="4"/>
                      </a:lnTo>
                      <a:lnTo>
                        <a:pt x="533" y="4"/>
                      </a:lnTo>
                      <a:lnTo>
                        <a:pt x="540" y="5"/>
                      </a:lnTo>
                      <a:lnTo>
                        <a:pt x="548" y="5"/>
                      </a:lnTo>
                      <a:lnTo>
                        <a:pt x="555" y="5"/>
                      </a:lnTo>
                      <a:lnTo>
                        <a:pt x="562" y="5"/>
                      </a:lnTo>
                      <a:lnTo>
                        <a:pt x="571" y="5"/>
                      </a:lnTo>
                      <a:lnTo>
                        <a:pt x="578" y="5"/>
                      </a:lnTo>
                      <a:lnTo>
                        <a:pt x="586" y="5"/>
                      </a:lnTo>
                      <a:lnTo>
                        <a:pt x="593" y="5"/>
                      </a:lnTo>
                      <a:lnTo>
                        <a:pt x="600" y="6"/>
                      </a:lnTo>
                      <a:lnTo>
                        <a:pt x="609" y="6"/>
                      </a:lnTo>
                      <a:lnTo>
                        <a:pt x="616" y="7"/>
                      </a:lnTo>
                      <a:lnTo>
                        <a:pt x="623" y="7"/>
                      </a:lnTo>
                      <a:lnTo>
                        <a:pt x="630" y="7"/>
                      </a:lnTo>
                      <a:lnTo>
                        <a:pt x="638" y="7"/>
                      </a:lnTo>
                      <a:lnTo>
                        <a:pt x="645" y="7"/>
                      </a:lnTo>
                      <a:lnTo>
                        <a:pt x="652" y="7"/>
                      </a:lnTo>
                      <a:lnTo>
                        <a:pt x="661" y="8"/>
                      </a:lnTo>
                      <a:lnTo>
                        <a:pt x="668" y="9"/>
                      </a:lnTo>
                      <a:lnTo>
                        <a:pt x="676" y="9"/>
                      </a:lnTo>
                      <a:lnTo>
                        <a:pt x="683" y="9"/>
                      </a:lnTo>
                      <a:lnTo>
                        <a:pt x="690" y="9"/>
                      </a:lnTo>
                      <a:lnTo>
                        <a:pt x="699" y="9"/>
                      </a:lnTo>
                      <a:lnTo>
                        <a:pt x="706" y="11"/>
                      </a:lnTo>
                      <a:lnTo>
                        <a:pt x="713" y="11"/>
                      </a:lnTo>
                      <a:lnTo>
                        <a:pt x="720" y="12"/>
                      </a:lnTo>
                      <a:lnTo>
                        <a:pt x="728" y="12"/>
                      </a:lnTo>
                      <a:lnTo>
                        <a:pt x="735" y="12"/>
                      </a:lnTo>
                      <a:lnTo>
                        <a:pt x="743" y="12"/>
                      </a:lnTo>
                      <a:lnTo>
                        <a:pt x="750" y="13"/>
                      </a:lnTo>
                      <a:lnTo>
                        <a:pt x="757" y="14"/>
                      </a:lnTo>
                      <a:lnTo>
                        <a:pt x="765" y="14"/>
                      </a:lnTo>
                      <a:lnTo>
                        <a:pt x="772" y="15"/>
                      </a:lnTo>
                      <a:lnTo>
                        <a:pt x="779" y="17"/>
                      </a:lnTo>
                      <a:lnTo>
                        <a:pt x="787" y="17"/>
                      </a:lnTo>
                      <a:lnTo>
                        <a:pt x="795" y="18"/>
                      </a:lnTo>
                      <a:lnTo>
                        <a:pt x="802" y="18"/>
                      </a:lnTo>
                      <a:lnTo>
                        <a:pt x="809" y="19"/>
                      </a:lnTo>
                      <a:lnTo>
                        <a:pt x="816" y="19"/>
                      </a:lnTo>
                      <a:lnTo>
                        <a:pt x="824" y="20"/>
                      </a:lnTo>
                      <a:lnTo>
                        <a:pt x="832" y="23"/>
                      </a:lnTo>
                      <a:lnTo>
                        <a:pt x="839" y="23"/>
                      </a:lnTo>
                      <a:lnTo>
                        <a:pt x="846" y="24"/>
                      </a:lnTo>
                      <a:lnTo>
                        <a:pt x="853" y="25"/>
                      </a:lnTo>
                      <a:lnTo>
                        <a:pt x="860" y="26"/>
                      </a:lnTo>
                      <a:lnTo>
                        <a:pt x="867" y="27"/>
                      </a:lnTo>
                      <a:lnTo>
                        <a:pt x="876" y="28"/>
                      </a:lnTo>
                      <a:lnTo>
                        <a:pt x="883" y="30"/>
                      </a:lnTo>
                      <a:lnTo>
                        <a:pt x="890" y="31"/>
                      </a:lnTo>
                      <a:lnTo>
                        <a:pt x="897" y="32"/>
                      </a:lnTo>
                      <a:lnTo>
                        <a:pt x="904" y="34"/>
                      </a:lnTo>
                      <a:lnTo>
                        <a:pt x="912" y="36"/>
                      </a:lnTo>
                      <a:lnTo>
                        <a:pt x="916" y="39"/>
                      </a:lnTo>
                      <a:lnTo>
                        <a:pt x="919" y="44"/>
                      </a:lnTo>
                      <a:lnTo>
                        <a:pt x="923" y="49"/>
                      </a:lnTo>
                      <a:lnTo>
                        <a:pt x="928" y="52"/>
                      </a:lnTo>
                      <a:lnTo>
                        <a:pt x="931" y="57"/>
                      </a:lnTo>
                      <a:lnTo>
                        <a:pt x="934" y="62"/>
                      </a:lnTo>
                      <a:lnTo>
                        <a:pt x="938" y="65"/>
                      </a:lnTo>
                      <a:lnTo>
                        <a:pt x="943" y="70"/>
                      </a:lnTo>
                      <a:lnTo>
                        <a:pt x="940" y="75"/>
                      </a:lnTo>
                      <a:lnTo>
                        <a:pt x="936" y="78"/>
                      </a:lnTo>
                      <a:lnTo>
                        <a:pt x="934" y="83"/>
                      </a:lnTo>
                      <a:lnTo>
                        <a:pt x="931" y="88"/>
                      </a:lnTo>
                      <a:lnTo>
                        <a:pt x="929" y="91"/>
                      </a:lnTo>
                      <a:lnTo>
                        <a:pt x="927" y="95"/>
                      </a:lnTo>
                      <a:lnTo>
                        <a:pt x="925" y="101"/>
                      </a:lnTo>
                      <a:lnTo>
                        <a:pt x="923" y="106"/>
                      </a:lnTo>
                      <a:lnTo>
                        <a:pt x="918" y="106"/>
                      </a:lnTo>
                      <a:lnTo>
                        <a:pt x="915" y="106"/>
                      </a:lnTo>
                      <a:lnTo>
                        <a:pt x="911" y="106"/>
                      </a:lnTo>
                      <a:lnTo>
                        <a:pt x="906" y="106"/>
                      </a:lnTo>
                      <a:lnTo>
                        <a:pt x="902" y="106"/>
                      </a:lnTo>
                      <a:lnTo>
                        <a:pt x="898" y="106"/>
                      </a:lnTo>
                      <a:lnTo>
                        <a:pt x="893" y="106"/>
                      </a:lnTo>
                      <a:lnTo>
                        <a:pt x="889" y="106"/>
                      </a:lnTo>
                      <a:lnTo>
                        <a:pt x="885" y="106"/>
                      </a:lnTo>
                      <a:lnTo>
                        <a:pt x="880" y="106"/>
                      </a:lnTo>
                      <a:lnTo>
                        <a:pt x="876" y="106"/>
                      </a:lnTo>
                      <a:lnTo>
                        <a:pt x="872" y="106"/>
                      </a:lnTo>
                      <a:lnTo>
                        <a:pt x="867" y="106"/>
                      </a:lnTo>
                      <a:lnTo>
                        <a:pt x="864" y="106"/>
                      </a:lnTo>
                      <a:lnTo>
                        <a:pt x="859" y="106"/>
                      </a:lnTo>
                      <a:lnTo>
                        <a:pt x="855" y="106"/>
                      </a:lnTo>
                      <a:lnTo>
                        <a:pt x="851" y="104"/>
                      </a:lnTo>
                      <a:lnTo>
                        <a:pt x="847" y="104"/>
                      </a:lnTo>
                      <a:lnTo>
                        <a:pt x="842" y="103"/>
                      </a:lnTo>
                      <a:lnTo>
                        <a:pt x="838" y="103"/>
                      </a:lnTo>
                      <a:lnTo>
                        <a:pt x="834" y="103"/>
                      </a:lnTo>
                      <a:lnTo>
                        <a:pt x="829" y="102"/>
                      </a:lnTo>
                      <a:lnTo>
                        <a:pt x="826" y="102"/>
                      </a:lnTo>
                      <a:lnTo>
                        <a:pt x="822" y="102"/>
                      </a:lnTo>
                      <a:lnTo>
                        <a:pt x="817" y="101"/>
                      </a:lnTo>
                      <a:lnTo>
                        <a:pt x="814" y="101"/>
                      </a:lnTo>
                      <a:lnTo>
                        <a:pt x="809" y="100"/>
                      </a:lnTo>
                      <a:lnTo>
                        <a:pt x="806" y="100"/>
                      </a:lnTo>
                      <a:lnTo>
                        <a:pt x="801" y="100"/>
                      </a:lnTo>
                      <a:lnTo>
                        <a:pt x="797" y="99"/>
                      </a:lnTo>
                      <a:lnTo>
                        <a:pt x="792" y="99"/>
                      </a:lnTo>
                      <a:lnTo>
                        <a:pt x="789" y="99"/>
                      </a:lnTo>
                      <a:lnTo>
                        <a:pt x="784" y="97"/>
                      </a:lnTo>
                      <a:lnTo>
                        <a:pt x="781" y="97"/>
                      </a:lnTo>
                      <a:lnTo>
                        <a:pt x="776" y="96"/>
                      </a:lnTo>
                      <a:lnTo>
                        <a:pt x="772" y="95"/>
                      </a:lnTo>
                      <a:lnTo>
                        <a:pt x="768" y="95"/>
                      </a:lnTo>
                      <a:lnTo>
                        <a:pt x="764" y="95"/>
                      </a:lnTo>
                      <a:lnTo>
                        <a:pt x="759" y="94"/>
                      </a:lnTo>
                      <a:lnTo>
                        <a:pt x="756" y="94"/>
                      </a:lnTo>
                      <a:lnTo>
                        <a:pt x="751" y="93"/>
                      </a:lnTo>
                      <a:lnTo>
                        <a:pt x="746" y="93"/>
                      </a:lnTo>
                      <a:lnTo>
                        <a:pt x="743" y="93"/>
                      </a:lnTo>
                      <a:lnTo>
                        <a:pt x="739" y="93"/>
                      </a:lnTo>
                      <a:lnTo>
                        <a:pt x="734" y="91"/>
                      </a:lnTo>
                      <a:lnTo>
                        <a:pt x="731" y="91"/>
                      </a:lnTo>
                      <a:lnTo>
                        <a:pt x="726" y="91"/>
                      </a:lnTo>
                      <a:lnTo>
                        <a:pt x="722" y="91"/>
                      </a:lnTo>
                      <a:lnTo>
                        <a:pt x="719" y="90"/>
                      </a:lnTo>
                      <a:lnTo>
                        <a:pt x="713" y="90"/>
                      </a:lnTo>
                      <a:lnTo>
                        <a:pt x="709" y="90"/>
                      </a:lnTo>
                      <a:lnTo>
                        <a:pt x="706" y="90"/>
                      </a:lnTo>
                      <a:lnTo>
                        <a:pt x="701" y="89"/>
                      </a:lnTo>
                      <a:lnTo>
                        <a:pt x="696" y="89"/>
                      </a:lnTo>
                      <a:lnTo>
                        <a:pt x="693" y="89"/>
                      </a:lnTo>
                      <a:lnTo>
                        <a:pt x="688" y="89"/>
                      </a:lnTo>
                      <a:lnTo>
                        <a:pt x="684" y="89"/>
                      </a:lnTo>
                      <a:lnTo>
                        <a:pt x="680" y="89"/>
                      </a:lnTo>
                      <a:lnTo>
                        <a:pt x="675" y="89"/>
                      </a:lnTo>
                      <a:lnTo>
                        <a:pt x="671" y="89"/>
                      </a:lnTo>
                      <a:lnTo>
                        <a:pt x="667" y="89"/>
                      </a:lnTo>
                      <a:lnTo>
                        <a:pt x="663" y="89"/>
                      </a:lnTo>
                      <a:lnTo>
                        <a:pt x="658" y="89"/>
                      </a:lnTo>
                      <a:lnTo>
                        <a:pt x="655" y="90"/>
                      </a:lnTo>
                      <a:lnTo>
                        <a:pt x="650" y="89"/>
                      </a:lnTo>
                      <a:lnTo>
                        <a:pt x="645" y="88"/>
                      </a:lnTo>
                      <a:lnTo>
                        <a:pt x="641" y="88"/>
                      </a:lnTo>
                      <a:lnTo>
                        <a:pt x="636" y="88"/>
                      </a:lnTo>
                      <a:lnTo>
                        <a:pt x="632" y="87"/>
                      </a:lnTo>
                      <a:lnTo>
                        <a:pt x="628" y="87"/>
                      </a:lnTo>
                      <a:lnTo>
                        <a:pt x="623" y="85"/>
                      </a:lnTo>
                      <a:lnTo>
                        <a:pt x="619" y="85"/>
                      </a:lnTo>
                      <a:lnTo>
                        <a:pt x="614" y="85"/>
                      </a:lnTo>
                      <a:lnTo>
                        <a:pt x="610" y="84"/>
                      </a:lnTo>
                      <a:lnTo>
                        <a:pt x="605" y="84"/>
                      </a:lnTo>
                      <a:lnTo>
                        <a:pt x="600" y="84"/>
                      </a:lnTo>
                      <a:lnTo>
                        <a:pt x="595" y="83"/>
                      </a:lnTo>
                      <a:lnTo>
                        <a:pt x="592" y="83"/>
                      </a:lnTo>
                      <a:lnTo>
                        <a:pt x="587" y="83"/>
                      </a:lnTo>
                      <a:lnTo>
                        <a:pt x="582" y="83"/>
                      </a:lnTo>
                      <a:lnTo>
                        <a:pt x="578" y="82"/>
                      </a:lnTo>
                      <a:lnTo>
                        <a:pt x="573" y="82"/>
                      </a:lnTo>
                      <a:lnTo>
                        <a:pt x="568" y="81"/>
                      </a:lnTo>
                      <a:lnTo>
                        <a:pt x="563" y="81"/>
                      </a:lnTo>
                      <a:lnTo>
                        <a:pt x="559" y="81"/>
                      </a:lnTo>
                      <a:lnTo>
                        <a:pt x="554" y="81"/>
                      </a:lnTo>
                      <a:lnTo>
                        <a:pt x="549" y="81"/>
                      </a:lnTo>
                      <a:lnTo>
                        <a:pt x="544" y="81"/>
                      </a:lnTo>
                      <a:lnTo>
                        <a:pt x="540" y="81"/>
                      </a:lnTo>
                      <a:lnTo>
                        <a:pt x="536" y="81"/>
                      </a:lnTo>
                      <a:lnTo>
                        <a:pt x="531" y="81"/>
                      </a:lnTo>
                      <a:lnTo>
                        <a:pt x="525" y="81"/>
                      </a:lnTo>
                      <a:lnTo>
                        <a:pt x="521" y="81"/>
                      </a:lnTo>
                      <a:lnTo>
                        <a:pt x="516" y="81"/>
                      </a:lnTo>
                      <a:lnTo>
                        <a:pt x="512" y="81"/>
                      </a:lnTo>
                      <a:lnTo>
                        <a:pt x="508" y="82"/>
                      </a:lnTo>
                      <a:lnTo>
                        <a:pt x="501" y="81"/>
                      </a:lnTo>
                      <a:lnTo>
                        <a:pt x="493" y="81"/>
                      </a:lnTo>
                      <a:lnTo>
                        <a:pt x="485" y="81"/>
                      </a:lnTo>
                      <a:lnTo>
                        <a:pt x="479" y="81"/>
                      </a:lnTo>
                      <a:lnTo>
                        <a:pt x="472" y="80"/>
                      </a:lnTo>
                      <a:lnTo>
                        <a:pt x="465" y="80"/>
                      </a:lnTo>
                      <a:lnTo>
                        <a:pt x="458" y="80"/>
                      </a:lnTo>
                      <a:lnTo>
                        <a:pt x="451" y="80"/>
                      </a:lnTo>
                      <a:lnTo>
                        <a:pt x="444" y="78"/>
                      </a:lnTo>
                      <a:lnTo>
                        <a:pt x="438" y="78"/>
                      </a:lnTo>
                      <a:lnTo>
                        <a:pt x="429" y="78"/>
                      </a:lnTo>
                      <a:lnTo>
                        <a:pt x="422" y="78"/>
                      </a:lnTo>
                      <a:lnTo>
                        <a:pt x="415" y="78"/>
                      </a:lnTo>
                      <a:lnTo>
                        <a:pt x="409" y="78"/>
                      </a:lnTo>
                      <a:lnTo>
                        <a:pt x="402" y="78"/>
                      </a:lnTo>
                      <a:lnTo>
                        <a:pt x="395" y="78"/>
                      </a:lnTo>
                      <a:lnTo>
                        <a:pt x="387" y="78"/>
                      </a:lnTo>
                      <a:lnTo>
                        <a:pt x="381" y="78"/>
                      </a:lnTo>
                      <a:lnTo>
                        <a:pt x="374" y="78"/>
                      </a:lnTo>
                      <a:lnTo>
                        <a:pt x="366" y="78"/>
                      </a:lnTo>
                      <a:lnTo>
                        <a:pt x="359" y="78"/>
                      </a:lnTo>
                      <a:lnTo>
                        <a:pt x="352" y="78"/>
                      </a:lnTo>
                      <a:lnTo>
                        <a:pt x="345" y="80"/>
                      </a:lnTo>
                      <a:lnTo>
                        <a:pt x="339" y="80"/>
                      </a:lnTo>
                      <a:lnTo>
                        <a:pt x="331" y="80"/>
                      </a:lnTo>
                      <a:lnTo>
                        <a:pt x="325" y="80"/>
                      </a:lnTo>
                      <a:lnTo>
                        <a:pt x="318" y="81"/>
                      </a:lnTo>
                      <a:lnTo>
                        <a:pt x="311" y="81"/>
                      </a:lnTo>
                      <a:lnTo>
                        <a:pt x="304" y="81"/>
                      </a:lnTo>
                      <a:lnTo>
                        <a:pt x="298" y="82"/>
                      </a:lnTo>
                      <a:lnTo>
                        <a:pt x="291" y="82"/>
                      </a:lnTo>
                      <a:lnTo>
                        <a:pt x="283" y="83"/>
                      </a:lnTo>
                      <a:lnTo>
                        <a:pt x="276" y="83"/>
                      </a:lnTo>
                      <a:lnTo>
                        <a:pt x="269" y="83"/>
                      </a:lnTo>
                      <a:lnTo>
                        <a:pt x="263" y="84"/>
                      </a:lnTo>
                      <a:lnTo>
                        <a:pt x="256" y="84"/>
                      </a:lnTo>
                      <a:lnTo>
                        <a:pt x="249" y="85"/>
                      </a:lnTo>
                      <a:lnTo>
                        <a:pt x="242" y="85"/>
                      </a:lnTo>
                      <a:lnTo>
                        <a:pt x="235" y="87"/>
                      </a:lnTo>
                      <a:lnTo>
                        <a:pt x="229" y="88"/>
                      </a:lnTo>
                      <a:lnTo>
                        <a:pt x="222" y="88"/>
                      </a:lnTo>
                      <a:lnTo>
                        <a:pt x="215" y="89"/>
                      </a:lnTo>
                      <a:lnTo>
                        <a:pt x="208" y="90"/>
                      </a:lnTo>
                      <a:lnTo>
                        <a:pt x="202" y="90"/>
                      </a:lnTo>
                      <a:lnTo>
                        <a:pt x="194" y="91"/>
                      </a:lnTo>
                      <a:lnTo>
                        <a:pt x="187" y="93"/>
                      </a:lnTo>
                      <a:lnTo>
                        <a:pt x="181" y="94"/>
                      </a:lnTo>
                      <a:lnTo>
                        <a:pt x="174" y="95"/>
                      </a:lnTo>
                      <a:lnTo>
                        <a:pt x="167" y="95"/>
                      </a:lnTo>
                      <a:lnTo>
                        <a:pt x="161" y="96"/>
                      </a:lnTo>
                      <a:lnTo>
                        <a:pt x="154" y="97"/>
                      </a:lnTo>
                      <a:lnTo>
                        <a:pt x="147" y="99"/>
                      </a:lnTo>
                      <a:lnTo>
                        <a:pt x="141" y="100"/>
                      </a:lnTo>
                      <a:lnTo>
                        <a:pt x="134" y="101"/>
                      </a:lnTo>
                      <a:lnTo>
                        <a:pt x="127" y="103"/>
                      </a:lnTo>
                      <a:lnTo>
                        <a:pt x="121" y="104"/>
                      </a:lnTo>
                      <a:lnTo>
                        <a:pt x="114" y="106"/>
                      </a:lnTo>
                      <a:lnTo>
                        <a:pt x="108" y="107"/>
                      </a:lnTo>
                      <a:lnTo>
                        <a:pt x="101" y="108"/>
                      </a:lnTo>
                      <a:lnTo>
                        <a:pt x="95" y="110"/>
                      </a:lnTo>
                      <a:lnTo>
                        <a:pt x="88" y="112"/>
                      </a:lnTo>
                      <a:lnTo>
                        <a:pt x="82" y="113"/>
                      </a:lnTo>
                      <a:lnTo>
                        <a:pt x="76" y="115"/>
                      </a:lnTo>
                      <a:lnTo>
                        <a:pt x="69" y="116"/>
                      </a:lnTo>
                      <a:lnTo>
                        <a:pt x="65" y="115"/>
                      </a:lnTo>
                      <a:lnTo>
                        <a:pt x="62" y="115"/>
                      </a:lnTo>
                      <a:lnTo>
                        <a:pt x="58" y="114"/>
                      </a:lnTo>
                      <a:lnTo>
                        <a:pt x="56" y="114"/>
                      </a:lnTo>
                      <a:lnTo>
                        <a:pt x="52" y="113"/>
                      </a:lnTo>
                      <a:lnTo>
                        <a:pt x="49" y="113"/>
                      </a:lnTo>
                      <a:lnTo>
                        <a:pt x="45" y="113"/>
                      </a:lnTo>
                      <a:lnTo>
                        <a:pt x="43" y="113"/>
                      </a:lnTo>
                      <a:lnTo>
                        <a:pt x="39" y="113"/>
                      </a:lnTo>
                      <a:lnTo>
                        <a:pt x="37" y="113"/>
                      </a:lnTo>
                      <a:lnTo>
                        <a:pt x="33" y="113"/>
                      </a:lnTo>
                      <a:lnTo>
                        <a:pt x="31" y="113"/>
                      </a:lnTo>
                      <a:lnTo>
                        <a:pt x="27" y="113"/>
                      </a:lnTo>
                      <a:lnTo>
                        <a:pt x="25" y="113"/>
                      </a:lnTo>
                      <a:lnTo>
                        <a:pt x="22" y="113"/>
                      </a:lnTo>
                      <a:lnTo>
                        <a:pt x="19" y="113"/>
                      </a:lnTo>
                      <a:lnTo>
                        <a:pt x="18" y="109"/>
                      </a:lnTo>
                      <a:lnTo>
                        <a:pt x="16" y="107"/>
                      </a:lnTo>
                      <a:lnTo>
                        <a:pt x="15" y="103"/>
                      </a:lnTo>
                      <a:lnTo>
                        <a:pt x="14" y="101"/>
                      </a:lnTo>
                      <a:lnTo>
                        <a:pt x="12" y="95"/>
                      </a:lnTo>
                      <a:lnTo>
                        <a:pt x="9" y="91"/>
                      </a:lnTo>
                      <a:lnTo>
                        <a:pt x="7" y="87"/>
                      </a:lnTo>
                      <a:lnTo>
                        <a:pt x="5" y="83"/>
                      </a:lnTo>
                      <a:lnTo>
                        <a:pt x="2" y="78"/>
                      </a:lnTo>
                      <a:lnTo>
                        <a:pt x="0" y="75"/>
                      </a:lnTo>
                      <a:lnTo>
                        <a:pt x="2" y="70"/>
                      </a:lnTo>
                      <a:lnTo>
                        <a:pt x="6" y="68"/>
                      </a:lnTo>
                      <a:lnTo>
                        <a:pt x="8" y="64"/>
                      </a:lnTo>
                      <a:lnTo>
                        <a:pt x="12" y="61"/>
                      </a:lnTo>
                      <a:lnTo>
                        <a:pt x="14" y="58"/>
                      </a:lnTo>
                      <a:lnTo>
                        <a:pt x="18" y="55"/>
                      </a:lnTo>
                      <a:lnTo>
                        <a:pt x="21" y="52"/>
                      </a:lnTo>
                      <a:lnTo>
                        <a:pt x="25" y="51"/>
                      </a:lnTo>
                      <a:lnTo>
                        <a:pt x="27" y="49"/>
                      </a:lnTo>
                      <a:lnTo>
                        <a:pt x="31" y="46"/>
                      </a:lnTo>
                      <a:lnTo>
                        <a:pt x="34" y="44"/>
                      </a:lnTo>
                      <a:lnTo>
                        <a:pt x="38" y="43"/>
                      </a:lnTo>
                      <a:lnTo>
                        <a:pt x="41" y="40"/>
                      </a:lnTo>
                      <a:lnTo>
                        <a:pt x="45" y="39"/>
                      </a:lnTo>
                      <a:lnTo>
                        <a:pt x="49" y="38"/>
                      </a:lnTo>
                      <a:lnTo>
                        <a:pt x="53" y="37"/>
                      </a:lnTo>
                      <a:lnTo>
                        <a:pt x="56" y="34"/>
                      </a:lnTo>
                      <a:lnTo>
                        <a:pt x="60" y="33"/>
                      </a:lnTo>
                      <a:lnTo>
                        <a:pt x="64" y="32"/>
                      </a:lnTo>
                      <a:lnTo>
                        <a:pt x="67" y="31"/>
                      </a:lnTo>
                      <a:lnTo>
                        <a:pt x="71" y="30"/>
                      </a:lnTo>
                      <a:lnTo>
                        <a:pt x="76" y="30"/>
                      </a:lnTo>
                      <a:lnTo>
                        <a:pt x="79" y="28"/>
                      </a:lnTo>
                      <a:lnTo>
                        <a:pt x="83" y="27"/>
                      </a:lnTo>
                      <a:lnTo>
                        <a:pt x="88" y="27"/>
                      </a:lnTo>
                      <a:lnTo>
                        <a:pt x="91" y="26"/>
                      </a:lnTo>
                      <a:lnTo>
                        <a:pt x="95" y="25"/>
                      </a:lnTo>
                      <a:lnTo>
                        <a:pt x="98" y="25"/>
                      </a:lnTo>
                      <a:lnTo>
                        <a:pt x="103" y="25"/>
                      </a:lnTo>
                      <a:lnTo>
                        <a:pt x="107" y="25"/>
                      </a:lnTo>
                      <a:lnTo>
                        <a:pt x="111" y="24"/>
                      </a:lnTo>
                      <a:lnTo>
                        <a:pt x="116" y="24"/>
                      </a:lnTo>
                      <a:lnTo>
                        <a:pt x="120" y="23"/>
                      </a:lnTo>
                      <a:lnTo>
                        <a:pt x="123" y="23"/>
                      </a:lnTo>
                      <a:lnTo>
                        <a:pt x="127" y="23"/>
                      </a:lnTo>
                      <a:lnTo>
                        <a:pt x="132" y="23"/>
                      </a:lnTo>
                      <a:lnTo>
                        <a:pt x="135" y="23"/>
                      </a:lnTo>
                      <a:lnTo>
                        <a:pt x="140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2" y="20"/>
                      </a:lnTo>
                      <a:lnTo>
                        <a:pt x="156" y="20"/>
                      </a:lnTo>
                      <a:lnTo>
                        <a:pt x="161" y="20"/>
                      </a:lnTo>
                      <a:lnTo>
                        <a:pt x="165" y="20"/>
                      </a:lnTo>
                      <a:lnTo>
                        <a:pt x="170" y="19"/>
                      </a:lnTo>
                      <a:lnTo>
                        <a:pt x="173" y="19"/>
                      </a:lnTo>
                      <a:lnTo>
                        <a:pt x="177" y="19"/>
                      </a:lnTo>
                      <a:lnTo>
                        <a:pt x="181" y="19"/>
                      </a:lnTo>
                      <a:lnTo>
                        <a:pt x="186" y="19"/>
                      </a:lnTo>
                      <a:lnTo>
                        <a:pt x="190" y="19"/>
                      </a:lnTo>
                      <a:lnTo>
                        <a:pt x="194" y="18"/>
                      </a:lnTo>
                      <a:lnTo>
                        <a:pt x="198" y="18"/>
                      </a:lnTo>
                      <a:lnTo>
                        <a:pt x="202" y="17"/>
                      </a:lnTo>
                      <a:lnTo>
                        <a:pt x="206" y="17"/>
                      </a:lnTo>
                      <a:lnTo>
                        <a:pt x="210" y="15"/>
                      </a:lnTo>
                      <a:lnTo>
                        <a:pt x="215" y="15"/>
                      </a:lnTo>
                      <a:lnTo>
                        <a:pt x="218" y="14"/>
                      </a:lnTo>
                      <a:lnTo>
                        <a:pt x="222" y="14"/>
                      </a:lnTo>
                      <a:lnTo>
                        <a:pt x="225" y="13"/>
                      </a:lnTo>
                      <a:lnTo>
                        <a:pt x="230" y="12"/>
                      </a:lnTo>
                      <a:lnTo>
                        <a:pt x="234" y="12"/>
                      </a:lnTo>
                      <a:lnTo>
                        <a:pt x="237" y="11"/>
                      </a:lnTo>
                      <a:lnTo>
                        <a:pt x="242" y="9"/>
                      </a:lnTo>
                      <a:lnTo>
                        <a:pt x="245" y="9"/>
                      </a:lnTo>
                      <a:lnTo>
                        <a:pt x="249" y="7"/>
                      </a:lnTo>
                      <a:lnTo>
                        <a:pt x="251" y="7"/>
                      </a:lnTo>
                      <a:lnTo>
                        <a:pt x="255" y="7"/>
                      </a:lnTo>
                      <a:lnTo>
                        <a:pt x="257" y="7"/>
                      </a:lnTo>
                      <a:lnTo>
                        <a:pt x="260" y="7"/>
                      </a:lnTo>
                      <a:lnTo>
                        <a:pt x="263" y="6"/>
                      </a:lnTo>
                      <a:lnTo>
                        <a:pt x="266" y="6"/>
                      </a:lnTo>
                      <a:lnTo>
                        <a:pt x="269" y="6"/>
                      </a:lnTo>
                      <a:lnTo>
                        <a:pt x="272" y="5"/>
                      </a:lnTo>
                      <a:lnTo>
                        <a:pt x="275" y="5"/>
                      </a:lnTo>
                      <a:lnTo>
                        <a:pt x="278" y="5"/>
                      </a:lnTo>
                      <a:lnTo>
                        <a:pt x="281" y="5"/>
                      </a:lnTo>
                      <a:lnTo>
                        <a:pt x="283" y="5"/>
                      </a:lnTo>
                      <a:lnTo>
                        <a:pt x="287" y="5"/>
                      </a:lnTo>
                      <a:lnTo>
                        <a:pt x="289" y="5"/>
                      </a:lnTo>
                      <a:lnTo>
                        <a:pt x="293" y="5"/>
                      </a:lnTo>
                      <a:lnTo>
                        <a:pt x="295" y="5"/>
                      </a:lnTo>
                      <a:lnTo>
                        <a:pt x="298" y="5"/>
                      </a:lnTo>
                      <a:lnTo>
                        <a:pt x="301" y="5"/>
                      </a:lnTo>
                      <a:lnTo>
                        <a:pt x="304" y="5"/>
                      </a:lnTo>
                      <a:lnTo>
                        <a:pt x="307" y="5"/>
                      </a:lnTo>
                      <a:lnTo>
                        <a:pt x="311" y="5"/>
                      </a:lnTo>
                      <a:lnTo>
                        <a:pt x="313" y="5"/>
                      </a:lnTo>
                      <a:lnTo>
                        <a:pt x="315" y="5"/>
                      </a:lnTo>
                      <a:lnTo>
                        <a:pt x="319" y="5"/>
                      </a:lnTo>
                      <a:lnTo>
                        <a:pt x="321" y="5"/>
                      </a:lnTo>
                      <a:lnTo>
                        <a:pt x="325" y="5"/>
                      </a:lnTo>
                      <a:lnTo>
                        <a:pt x="329" y="5"/>
                      </a:lnTo>
                      <a:lnTo>
                        <a:pt x="331" y="5"/>
                      </a:lnTo>
                      <a:lnTo>
                        <a:pt x="333" y="5"/>
                      </a:lnTo>
                      <a:lnTo>
                        <a:pt x="337" y="5"/>
                      </a:lnTo>
                      <a:lnTo>
                        <a:pt x="340" y="6"/>
                      </a:lnTo>
                      <a:lnTo>
                        <a:pt x="343" y="5"/>
                      </a:lnTo>
                      <a:lnTo>
                        <a:pt x="346" y="5"/>
                      </a:lnTo>
                      <a:lnTo>
                        <a:pt x="349" y="5"/>
                      </a:lnTo>
                      <a:lnTo>
                        <a:pt x="351" y="5"/>
                      </a:lnTo>
                      <a:lnTo>
                        <a:pt x="355" y="5"/>
                      </a:lnTo>
                      <a:lnTo>
                        <a:pt x="357" y="5"/>
                      </a:lnTo>
                      <a:lnTo>
                        <a:pt x="361" y="5"/>
                      </a:lnTo>
                      <a:lnTo>
                        <a:pt x="364" y="5"/>
                      </a:lnTo>
                      <a:lnTo>
                        <a:pt x="366" y="5"/>
                      </a:lnTo>
                      <a:lnTo>
                        <a:pt x="369" y="5"/>
                      </a:lnTo>
                      <a:lnTo>
                        <a:pt x="371" y="5"/>
                      </a:lnTo>
                      <a:lnTo>
                        <a:pt x="376" y="5"/>
                      </a:lnTo>
                      <a:lnTo>
                        <a:pt x="378" y="5"/>
                      </a:lnTo>
                      <a:lnTo>
                        <a:pt x="382" y="5"/>
                      </a:lnTo>
                      <a:lnTo>
                        <a:pt x="384" y="5"/>
                      </a:lnTo>
                      <a:lnTo>
                        <a:pt x="387" y="5"/>
                      </a:lnTo>
                      <a:lnTo>
                        <a:pt x="390" y="5"/>
                      </a:lnTo>
                      <a:lnTo>
                        <a:pt x="394" y="5"/>
                      </a:lnTo>
                      <a:lnTo>
                        <a:pt x="396" y="5"/>
                      </a:lnTo>
                      <a:lnTo>
                        <a:pt x="400" y="5"/>
                      </a:lnTo>
                      <a:lnTo>
                        <a:pt x="402" y="5"/>
                      </a:lnTo>
                      <a:lnTo>
                        <a:pt x="404" y="5"/>
                      </a:lnTo>
                      <a:lnTo>
                        <a:pt x="407" y="4"/>
                      </a:lnTo>
                      <a:lnTo>
                        <a:pt x="410" y="4"/>
                      </a:lnTo>
                      <a:lnTo>
                        <a:pt x="414" y="2"/>
                      </a:lnTo>
                      <a:lnTo>
                        <a:pt x="418" y="2"/>
                      </a:lnTo>
                      <a:lnTo>
                        <a:pt x="420" y="1"/>
                      </a:lnTo>
                      <a:lnTo>
                        <a:pt x="422" y="1"/>
                      </a:lnTo>
                      <a:lnTo>
                        <a:pt x="426" y="1"/>
                      </a:lnTo>
                      <a:lnTo>
                        <a:pt x="428" y="1"/>
                      </a:lnTo>
                      <a:lnTo>
                        <a:pt x="432" y="0"/>
                      </a:lnTo>
                      <a:lnTo>
                        <a:pt x="435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Freeform 11"/>
                <p:cNvSpPr/>
                <p:nvPr/>
              </p:nvSpPr>
              <p:spPr>
                <a:xfrm>
                  <a:off x="1182600" y="2009880"/>
                  <a:ext cx="56880" cy="263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07" h="499">
                      <a:moveTo>
                        <a:pt x="54" y="0"/>
                      </a:moveTo>
                      <a:lnTo>
                        <a:pt x="57" y="2"/>
                      </a:lnTo>
                      <a:lnTo>
                        <a:pt x="61" y="4"/>
                      </a:lnTo>
                      <a:lnTo>
                        <a:pt x="64" y="5"/>
                      </a:lnTo>
                      <a:lnTo>
                        <a:pt x="69" y="7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6" y="12"/>
                      </a:lnTo>
                      <a:lnTo>
                        <a:pt x="80" y="15"/>
                      </a:lnTo>
                      <a:lnTo>
                        <a:pt x="85" y="19"/>
                      </a:lnTo>
                      <a:lnTo>
                        <a:pt x="88" y="24"/>
                      </a:lnTo>
                      <a:lnTo>
                        <a:pt x="89" y="26"/>
                      </a:lnTo>
                      <a:lnTo>
                        <a:pt x="92" y="30"/>
                      </a:lnTo>
                      <a:lnTo>
                        <a:pt x="92" y="32"/>
                      </a:lnTo>
                      <a:lnTo>
                        <a:pt x="94" y="36"/>
                      </a:lnTo>
                      <a:lnTo>
                        <a:pt x="94" y="38"/>
                      </a:lnTo>
                      <a:lnTo>
                        <a:pt x="95" y="40"/>
                      </a:lnTo>
                      <a:lnTo>
                        <a:pt x="95" y="44"/>
                      </a:lnTo>
                      <a:lnTo>
                        <a:pt x="96" y="46"/>
                      </a:lnTo>
                      <a:lnTo>
                        <a:pt x="96" y="50"/>
                      </a:lnTo>
                      <a:lnTo>
                        <a:pt x="96" y="53"/>
                      </a:lnTo>
                      <a:lnTo>
                        <a:pt x="96" y="56"/>
                      </a:lnTo>
                      <a:lnTo>
                        <a:pt x="98" y="59"/>
                      </a:lnTo>
                      <a:lnTo>
                        <a:pt x="96" y="63"/>
                      </a:lnTo>
                      <a:lnTo>
                        <a:pt x="96" y="65"/>
                      </a:lnTo>
                      <a:lnTo>
                        <a:pt x="96" y="69"/>
                      </a:lnTo>
                      <a:lnTo>
                        <a:pt x="96" y="74"/>
                      </a:lnTo>
                      <a:lnTo>
                        <a:pt x="95" y="76"/>
                      </a:lnTo>
                      <a:lnTo>
                        <a:pt x="95" y="81"/>
                      </a:lnTo>
                      <a:lnTo>
                        <a:pt x="94" y="83"/>
                      </a:lnTo>
                      <a:lnTo>
                        <a:pt x="94" y="88"/>
                      </a:lnTo>
                      <a:lnTo>
                        <a:pt x="93" y="90"/>
                      </a:lnTo>
                      <a:lnTo>
                        <a:pt x="92" y="94"/>
                      </a:lnTo>
                      <a:lnTo>
                        <a:pt x="92" y="97"/>
                      </a:lnTo>
                      <a:lnTo>
                        <a:pt x="90" y="101"/>
                      </a:lnTo>
                      <a:lnTo>
                        <a:pt x="89" y="105"/>
                      </a:lnTo>
                      <a:lnTo>
                        <a:pt x="89" y="108"/>
                      </a:lnTo>
                      <a:lnTo>
                        <a:pt x="87" y="112"/>
                      </a:lnTo>
                      <a:lnTo>
                        <a:pt x="87" y="116"/>
                      </a:lnTo>
                      <a:lnTo>
                        <a:pt x="86" y="119"/>
                      </a:lnTo>
                      <a:lnTo>
                        <a:pt x="85" y="122"/>
                      </a:lnTo>
                      <a:lnTo>
                        <a:pt x="85" y="126"/>
                      </a:lnTo>
                      <a:lnTo>
                        <a:pt x="83" y="129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0"/>
                      </a:lnTo>
                      <a:lnTo>
                        <a:pt x="80" y="144"/>
                      </a:lnTo>
                      <a:lnTo>
                        <a:pt x="79" y="147"/>
                      </a:lnTo>
                      <a:lnTo>
                        <a:pt x="77" y="151"/>
                      </a:lnTo>
                      <a:lnTo>
                        <a:pt x="76" y="154"/>
                      </a:lnTo>
                      <a:lnTo>
                        <a:pt x="76" y="158"/>
                      </a:lnTo>
                      <a:lnTo>
                        <a:pt x="76" y="162"/>
                      </a:lnTo>
                      <a:lnTo>
                        <a:pt x="76" y="165"/>
                      </a:lnTo>
                      <a:lnTo>
                        <a:pt x="75" y="169"/>
                      </a:lnTo>
                      <a:lnTo>
                        <a:pt x="75" y="172"/>
                      </a:lnTo>
                      <a:lnTo>
                        <a:pt x="74" y="175"/>
                      </a:lnTo>
                      <a:lnTo>
                        <a:pt x="74" y="178"/>
                      </a:lnTo>
                      <a:lnTo>
                        <a:pt x="74" y="182"/>
                      </a:lnTo>
                      <a:lnTo>
                        <a:pt x="75" y="184"/>
                      </a:lnTo>
                      <a:lnTo>
                        <a:pt x="75" y="188"/>
                      </a:lnTo>
                      <a:lnTo>
                        <a:pt x="76" y="191"/>
                      </a:lnTo>
                      <a:lnTo>
                        <a:pt x="76" y="195"/>
                      </a:lnTo>
                      <a:lnTo>
                        <a:pt x="77" y="197"/>
                      </a:lnTo>
                      <a:lnTo>
                        <a:pt x="76" y="202"/>
                      </a:lnTo>
                      <a:lnTo>
                        <a:pt x="76" y="207"/>
                      </a:lnTo>
                      <a:lnTo>
                        <a:pt x="76" y="210"/>
                      </a:lnTo>
                      <a:lnTo>
                        <a:pt x="76" y="215"/>
                      </a:lnTo>
                      <a:lnTo>
                        <a:pt x="75" y="220"/>
                      </a:lnTo>
                      <a:lnTo>
                        <a:pt x="74" y="224"/>
                      </a:lnTo>
                      <a:lnTo>
                        <a:pt x="74" y="228"/>
                      </a:lnTo>
                      <a:lnTo>
                        <a:pt x="74" y="233"/>
                      </a:lnTo>
                      <a:lnTo>
                        <a:pt x="74" y="237"/>
                      </a:lnTo>
                      <a:lnTo>
                        <a:pt x="74" y="241"/>
                      </a:lnTo>
                      <a:lnTo>
                        <a:pt x="74" y="246"/>
                      </a:lnTo>
                      <a:lnTo>
                        <a:pt x="74" y="251"/>
                      </a:lnTo>
                      <a:lnTo>
                        <a:pt x="74" y="255"/>
                      </a:lnTo>
                      <a:lnTo>
                        <a:pt x="74" y="259"/>
                      </a:lnTo>
                      <a:lnTo>
                        <a:pt x="74" y="264"/>
                      </a:lnTo>
                      <a:lnTo>
                        <a:pt x="74" y="268"/>
                      </a:lnTo>
                      <a:lnTo>
                        <a:pt x="74" y="272"/>
                      </a:lnTo>
                      <a:lnTo>
                        <a:pt x="74" y="277"/>
                      </a:lnTo>
                      <a:lnTo>
                        <a:pt x="74" y="281"/>
                      </a:lnTo>
                      <a:lnTo>
                        <a:pt x="74" y="285"/>
                      </a:lnTo>
                      <a:lnTo>
                        <a:pt x="74" y="290"/>
                      </a:lnTo>
                      <a:lnTo>
                        <a:pt x="75" y="293"/>
                      </a:lnTo>
                      <a:lnTo>
                        <a:pt x="76" y="298"/>
                      </a:lnTo>
                      <a:lnTo>
                        <a:pt x="76" y="303"/>
                      </a:lnTo>
                      <a:lnTo>
                        <a:pt x="76" y="306"/>
                      </a:lnTo>
                      <a:lnTo>
                        <a:pt x="76" y="311"/>
                      </a:lnTo>
                      <a:lnTo>
                        <a:pt x="76" y="316"/>
                      </a:lnTo>
                      <a:lnTo>
                        <a:pt x="76" y="319"/>
                      </a:lnTo>
                      <a:lnTo>
                        <a:pt x="77" y="324"/>
                      </a:lnTo>
                      <a:lnTo>
                        <a:pt x="77" y="329"/>
                      </a:lnTo>
                      <a:lnTo>
                        <a:pt x="79" y="332"/>
                      </a:lnTo>
                      <a:lnTo>
                        <a:pt x="79" y="336"/>
                      </a:lnTo>
                      <a:lnTo>
                        <a:pt x="79" y="341"/>
                      </a:lnTo>
                      <a:lnTo>
                        <a:pt x="80" y="346"/>
                      </a:lnTo>
                      <a:lnTo>
                        <a:pt x="80" y="349"/>
                      </a:lnTo>
                      <a:lnTo>
                        <a:pt x="81" y="354"/>
                      </a:lnTo>
                      <a:lnTo>
                        <a:pt x="82" y="357"/>
                      </a:lnTo>
                      <a:lnTo>
                        <a:pt x="82" y="362"/>
                      </a:lnTo>
                      <a:lnTo>
                        <a:pt x="82" y="366"/>
                      </a:lnTo>
                      <a:lnTo>
                        <a:pt x="85" y="369"/>
                      </a:lnTo>
                      <a:lnTo>
                        <a:pt x="85" y="374"/>
                      </a:lnTo>
                      <a:lnTo>
                        <a:pt x="85" y="378"/>
                      </a:lnTo>
                      <a:lnTo>
                        <a:pt x="86" y="382"/>
                      </a:lnTo>
                      <a:lnTo>
                        <a:pt x="87" y="387"/>
                      </a:lnTo>
                      <a:lnTo>
                        <a:pt x="87" y="391"/>
                      </a:lnTo>
                      <a:lnTo>
                        <a:pt x="89" y="395"/>
                      </a:lnTo>
                      <a:lnTo>
                        <a:pt x="89" y="400"/>
                      </a:lnTo>
                      <a:lnTo>
                        <a:pt x="90" y="404"/>
                      </a:lnTo>
                      <a:lnTo>
                        <a:pt x="92" y="407"/>
                      </a:lnTo>
                      <a:lnTo>
                        <a:pt x="92" y="412"/>
                      </a:lnTo>
                      <a:lnTo>
                        <a:pt x="93" y="416"/>
                      </a:lnTo>
                      <a:lnTo>
                        <a:pt x="94" y="420"/>
                      </a:lnTo>
                      <a:lnTo>
                        <a:pt x="94" y="424"/>
                      </a:lnTo>
                      <a:lnTo>
                        <a:pt x="95" y="429"/>
                      </a:lnTo>
                      <a:lnTo>
                        <a:pt x="96" y="433"/>
                      </a:lnTo>
                      <a:lnTo>
                        <a:pt x="98" y="437"/>
                      </a:lnTo>
                      <a:lnTo>
                        <a:pt x="99" y="440"/>
                      </a:lnTo>
                      <a:lnTo>
                        <a:pt x="100" y="445"/>
                      </a:lnTo>
                      <a:lnTo>
                        <a:pt x="101" y="449"/>
                      </a:lnTo>
                      <a:lnTo>
                        <a:pt x="102" y="454"/>
                      </a:lnTo>
                      <a:lnTo>
                        <a:pt x="103" y="458"/>
                      </a:lnTo>
                      <a:lnTo>
                        <a:pt x="105" y="462"/>
                      </a:lnTo>
                      <a:lnTo>
                        <a:pt x="106" y="467"/>
                      </a:lnTo>
                      <a:lnTo>
                        <a:pt x="107" y="471"/>
                      </a:lnTo>
                      <a:lnTo>
                        <a:pt x="103" y="474"/>
                      </a:lnTo>
                      <a:lnTo>
                        <a:pt x="99" y="477"/>
                      </a:lnTo>
                      <a:lnTo>
                        <a:pt x="94" y="481"/>
                      </a:lnTo>
                      <a:lnTo>
                        <a:pt x="90" y="484"/>
                      </a:lnTo>
                      <a:lnTo>
                        <a:pt x="87" y="488"/>
                      </a:lnTo>
                      <a:lnTo>
                        <a:pt x="82" y="492"/>
                      </a:lnTo>
                      <a:lnTo>
                        <a:pt x="77" y="494"/>
                      </a:lnTo>
                      <a:lnTo>
                        <a:pt x="74" y="499"/>
                      </a:lnTo>
                      <a:lnTo>
                        <a:pt x="68" y="495"/>
                      </a:lnTo>
                      <a:lnTo>
                        <a:pt x="64" y="493"/>
                      </a:lnTo>
                      <a:lnTo>
                        <a:pt x="58" y="489"/>
                      </a:lnTo>
                      <a:lnTo>
                        <a:pt x="55" y="487"/>
                      </a:lnTo>
                      <a:lnTo>
                        <a:pt x="51" y="483"/>
                      </a:lnTo>
                      <a:lnTo>
                        <a:pt x="48" y="481"/>
                      </a:lnTo>
                      <a:lnTo>
                        <a:pt x="44" y="477"/>
                      </a:lnTo>
                      <a:lnTo>
                        <a:pt x="41" y="475"/>
                      </a:lnTo>
                      <a:lnTo>
                        <a:pt x="37" y="471"/>
                      </a:lnTo>
                      <a:lnTo>
                        <a:pt x="33" y="467"/>
                      </a:lnTo>
                      <a:lnTo>
                        <a:pt x="31" y="463"/>
                      </a:lnTo>
                      <a:lnTo>
                        <a:pt x="29" y="459"/>
                      </a:lnTo>
                      <a:lnTo>
                        <a:pt x="26" y="456"/>
                      </a:lnTo>
                      <a:lnTo>
                        <a:pt x="23" y="451"/>
                      </a:lnTo>
                      <a:lnTo>
                        <a:pt x="20" y="448"/>
                      </a:lnTo>
                      <a:lnTo>
                        <a:pt x="19" y="444"/>
                      </a:lnTo>
                      <a:lnTo>
                        <a:pt x="17" y="439"/>
                      </a:lnTo>
                      <a:lnTo>
                        <a:pt x="16" y="435"/>
                      </a:lnTo>
                      <a:lnTo>
                        <a:pt x="13" y="430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9" y="417"/>
                      </a:lnTo>
                      <a:lnTo>
                        <a:pt x="9" y="412"/>
                      </a:lnTo>
                      <a:lnTo>
                        <a:pt x="7" y="407"/>
                      </a:lnTo>
                      <a:lnTo>
                        <a:pt x="6" y="402"/>
                      </a:lnTo>
                      <a:lnTo>
                        <a:pt x="5" y="398"/>
                      </a:lnTo>
                      <a:lnTo>
                        <a:pt x="4" y="392"/>
                      </a:lnTo>
                      <a:lnTo>
                        <a:pt x="4" y="387"/>
                      </a:lnTo>
                      <a:lnTo>
                        <a:pt x="3" y="382"/>
                      </a:lnTo>
                      <a:lnTo>
                        <a:pt x="3" y="378"/>
                      </a:lnTo>
                      <a:lnTo>
                        <a:pt x="1" y="372"/>
                      </a:lnTo>
                      <a:lnTo>
                        <a:pt x="1" y="367"/>
                      </a:lnTo>
                      <a:lnTo>
                        <a:pt x="1" y="362"/>
                      </a:lnTo>
                      <a:lnTo>
                        <a:pt x="0" y="357"/>
                      </a:lnTo>
                      <a:lnTo>
                        <a:pt x="0" y="351"/>
                      </a:lnTo>
                      <a:lnTo>
                        <a:pt x="0" y="347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19"/>
                      </a:lnTo>
                      <a:lnTo>
                        <a:pt x="0" y="313"/>
                      </a:lnTo>
                      <a:lnTo>
                        <a:pt x="0" y="309"/>
                      </a:lnTo>
                      <a:lnTo>
                        <a:pt x="0" y="304"/>
                      </a:lnTo>
                      <a:lnTo>
                        <a:pt x="0" y="298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1" y="281"/>
                      </a:lnTo>
                      <a:lnTo>
                        <a:pt x="1" y="275"/>
                      </a:lnTo>
                      <a:lnTo>
                        <a:pt x="1" y="271"/>
                      </a:lnTo>
                      <a:lnTo>
                        <a:pt x="1" y="266"/>
                      </a:lnTo>
                      <a:lnTo>
                        <a:pt x="1" y="260"/>
                      </a:lnTo>
                      <a:lnTo>
                        <a:pt x="1" y="255"/>
                      </a:lnTo>
                      <a:lnTo>
                        <a:pt x="1" y="251"/>
                      </a:lnTo>
                      <a:lnTo>
                        <a:pt x="1" y="245"/>
                      </a:lnTo>
                      <a:lnTo>
                        <a:pt x="1" y="240"/>
                      </a:lnTo>
                      <a:lnTo>
                        <a:pt x="1" y="235"/>
                      </a:lnTo>
                      <a:lnTo>
                        <a:pt x="1" y="230"/>
                      </a:lnTo>
                      <a:lnTo>
                        <a:pt x="1" y="224"/>
                      </a:lnTo>
                      <a:lnTo>
                        <a:pt x="1" y="220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0" y="205"/>
                      </a:lnTo>
                      <a:lnTo>
                        <a:pt x="0" y="201"/>
                      </a:lnTo>
                      <a:lnTo>
                        <a:pt x="0" y="197"/>
                      </a:lnTo>
                      <a:lnTo>
                        <a:pt x="0" y="194"/>
                      </a:lnTo>
                      <a:lnTo>
                        <a:pt x="0" y="190"/>
                      </a:lnTo>
                      <a:lnTo>
                        <a:pt x="0" y="188"/>
                      </a:lnTo>
                      <a:lnTo>
                        <a:pt x="0" y="183"/>
                      </a:lnTo>
                      <a:lnTo>
                        <a:pt x="1" y="181"/>
                      </a:lnTo>
                      <a:lnTo>
                        <a:pt x="1" y="177"/>
                      </a:lnTo>
                      <a:lnTo>
                        <a:pt x="1" y="173"/>
                      </a:lnTo>
                      <a:lnTo>
                        <a:pt x="1" y="170"/>
                      </a:lnTo>
                      <a:lnTo>
                        <a:pt x="1" y="166"/>
                      </a:lnTo>
                      <a:lnTo>
                        <a:pt x="1" y="163"/>
                      </a:lnTo>
                      <a:lnTo>
                        <a:pt x="3" y="159"/>
                      </a:lnTo>
                      <a:lnTo>
                        <a:pt x="3" y="156"/>
                      </a:lnTo>
                      <a:lnTo>
                        <a:pt x="3" y="153"/>
                      </a:lnTo>
                      <a:lnTo>
                        <a:pt x="3" y="150"/>
                      </a:lnTo>
                      <a:lnTo>
                        <a:pt x="3" y="146"/>
                      </a:lnTo>
                      <a:lnTo>
                        <a:pt x="3" y="143"/>
                      </a:lnTo>
                      <a:lnTo>
                        <a:pt x="3" y="139"/>
                      </a:lnTo>
                      <a:lnTo>
                        <a:pt x="3" y="135"/>
                      </a:lnTo>
                      <a:lnTo>
                        <a:pt x="4" y="132"/>
                      </a:lnTo>
                      <a:lnTo>
                        <a:pt x="4" y="129"/>
                      </a:lnTo>
                      <a:lnTo>
                        <a:pt x="4" y="126"/>
                      </a:lnTo>
                      <a:lnTo>
                        <a:pt x="4" y="121"/>
                      </a:lnTo>
                      <a:lnTo>
                        <a:pt x="5" y="119"/>
                      </a:lnTo>
                      <a:lnTo>
                        <a:pt x="5" y="115"/>
                      </a:lnTo>
                      <a:lnTo>
                        <a:pt x="5" y="112"/>
                      </a:lnTo>
                      <a:lnTo>
                        <a:pt x="6" y="108"/>
                      </a:lnTo>
                      <a:lnTo>
                        <a:pt x="6" y="106"/>
                      </a:lnTo>
                      <a:lnTo>
                        <a:pt x="6" y="101"/>
                      </a:lnTo>
                      <a:lnTo>
                        <a:pt x="6" y="99"/>
                      </a:lnTo>
                      <a:lnTo>
                        <a:pt x="7" y="95"/>
                      </a:lnTo>
                      <a:lnTo>
                        <a:pt x="9" y="91"/>
                      </a:lnTo>
                      <a:lnTo>
                        <a:pt x="9" y="88"/>
                      </a:lnTo>
                      <a:lnTo>
                        <a:pt x="9" y="86"/>
                      </a:lnTo>
                      <a:lnTo>
                        <a:pt x="9" y="81"/>
                      </a:lnTo>
                      <a:lnTo>
                        <a:pt x="10" y="78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2" y="68"/>
                      </a:lnTo>
                      <a:lnTo>
                        <a:pt x="13" y="65"/>
                      </a:lnTo>
                      <a:lnTo>
                        <a:pt x="13" y="62"/>
                      </a:lnTo>
                      <a:lnTo>
                        <a:pt x="14" y="59"/>
                      </a:lnTo>
                      <a:lnTo>
                        <a:pt x="16" y="56"/>
                      </a:lnTo>
                      <a:lnTo>
                        <a:pt x="17" y="53"/>
                      </a:lnTo>
                      <a:lnTo>
                        <a:pt x="18" y="50"/>
                      </a:lnTo>
                      <a:lnTo>
                        <a:pt x="19" y="48"/>
                      </a:lnTo>
                      <a:lnTo>
                        <a:pt x="20" y="44"/>
                      </a:lnTo>
                      <a:lnTo>
                        <a:pt x="22" y="42"/>
                      </a:lnTo>
                      <a:lnTo>
                        <a:pt x="23" y="38"/>
                      </a:lnTo>
                      <a:lnTo>
                        <a:pt x="24" y="36"/>
                      </a:lnTo>
                      <a:lnTo>
                        <a:pt x="26" y="32"/>
                      </a:lnTo>
                      <a:lnTo>
                        <a:pt x="28" y="30"/>
                      </a:lnTo>
                      <a:lnTo>
                        <a:pt x="29" y="27"/>
                      </a:lnTo>
                      <a:lnTo>
                        <a:pt x="31" y="24"/>
                      </a:lnTo>
                      <a:lnTo>
                        <a:pt x="32" y="21"/>
                      </a:lnTo>
                      <a:lnTo>
                        <a:pt x="35" y="19"/>
                      </a:lnTo>
                      <a:lnTo>
                        <a:pt x="38" y="14"/>
                      </a:lnTo>
                      <a:lnTo>
                        <a:pt x="44" y="10"/>
                      </a:lnTo>
                      <a:lnTo>
                        <a:pt x="45" y="7"/>
                      </a:lnTo>
                      <a:lnTo>
                        <a:pt x="48" y="5"/>
                      </a:lnTo>
                      <a:lnTo>
                        <a:pt x="51" y="2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Freeform 12"/>
                <p:cNvSpPr/>
                <p:nvPr/>
              </p:nvSpPr>
              <p:spPr>
                <a:xfrm>
                  <a:off x="1547640" y="1928880"/>
                  <a:ext cx="83880" cy="419400"/>
                </a:xfrm>
                <a:custGeom>
                  <a:avLst/>
                  <a:gdLst>
                    <a:gd name="textAreaLeft" fmla="*/ 0 w 83880"/>
                    <a:gd name="textAreaRight" fmla="*/ 83880 w 8388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w="159" h="792">
                      <a:moveTo>
                        <a:pt x="144" y="0"/>
                      </a:moveTo>
                      <a:lnTo>
                        <a:pt x="58" y="8"/>
                      </a:lnTo>
                      <a:lnTo>
                        <a:pt x="60" y="23"/>
                      </a:lnTo>
                      <a:lnTo>
                        <a:pt x="60" y="38"/>
                      </a:lnTo>
                      <a:lnTo>
                        <a:pt x="63" y="52"/>
                      </a:lnTo>
                      <a:lnTo>
                        <a:pt x="64" y="67"/>
                      </a:lnTo>
                      <a:lnTo>
                        <a:pt x="65" y="81"/>
                      </a:lnTo>
                      <a:lnTo>
                        <a:pt x="65" y="95"/>
                      </a:lnTo>
                      <a:lnTo>
                        <a:pt x="66" y="109"/>
                      </a:lnTo>
                      <a:lnTo>
                        <a:pt x="67" y="124"/>
                      </a:lnTo>
                      <a:lnTo>
                        <a:pt x="68" y="137"/>
                      </a:lnTo>
                      <a:lnTo>
                        <a:pt x="70" y="151"/>
                      </a:lnTo>
                      <a:lnTo>
                        <a:pt x="70" y="165"/>
                      </a:lnTo>
                      <a:lnTo>
                        <a:pt x="71" y="179"/>
                      </a:lnTo>
                      <a:lnTo>
                        <a:pt x="71" y="192"/>
                      </a:lnTo>
                      <a:lnTo>
                        <a:pt x="72" y="205"/>
                      </a:lnTo>
                      <a:lnTo>
                        <a:pt x="72" y="219"/>
                      </a:lnTo>
                      <a:lnTo>
                        <a:pt x="73" y="233"/>
                      </a:lnTo>
                      <a:lnTo>
                        <a:pt x="73" y="246"/>
                      </a:lnTo>
                      <a:lnTo>
                        <a:pt x="73" y="258"/>
                      </a:lnTo>
                      <a:lnTo>
                        <a:pt x="73" y="271"/>
                      </a:lnTo>
                      <a:lnTo>
                        <a:pt x="73" y="284"/>
                      </a:lnTo>
                      <a:lnTo>
                        <a:pt x="73" y="297"/>
                      </a:lnTo>
                      <a:lnTo>
                        <a:pt x="73" y="310"/>
                      </a:lnTo>
                      <a:lnTo>
                        <a:pt x="73" y="322"/>
                      </a:lnTo>
                      <a:lnTo>
                        <a:pt x="73" y="335"/>
                      </a:lnTo>
                      <a:lnTo>
                        <a:pt x="72" y="347"/>
                      </a:lnTo>
                      <a:lnTo>
                        <a:pt x="72" y="360"/>
                      </a:lnTo>
                      <a:lnTo>
                        <a:pt x="71" y="372"/>
                      </a:lnTo>
                      <a:lnTo>
                        <a:pt x="71" y="385"/>
                      </a:lnTo>
                      <a:lnTo>
                        <a:pt x="70" y="395"/>
                      </a:lnTo>
                      <a:lnTo>
                        <a:pt x="70" y="407"/>
                      </a:lnTo>
                      <a:lnTo>
                        <a:pt x="68" y="420"/>
                      </a:lnTo>
                      <a:lnTo>
                        <a:pt x="68" y="432"/>
                      </a:lnTo>
                      <a:lnTo>
                        <a:pt x="67" y="443"/>
                      </a:lnTo>
                      <a:lnTo>
                        <a:pt x="66" y="455"/>
                      </a:lnTo>
                      <a:lnTo>
                        <a:pt x="65" y="467"/>
                      </a:lnTo>
                      <a:lnTo>
                        <a:pt x="64" y="479"/>
                      </a:lnTo>
                      <a:lnTo>
                        <a:pt x="63" y="488"/>
                      </a:lnTo>
                      <a:lnTo>
                        <a:pt x="61" y="500"/>
                      </a:lnTo>
                      <a:lnTo>
                        <a:pt x="60" y="512"/>
                      </a:lnTo>
                      <a:lnTo>
                        <a:pt x="58" y="522"/>
                      </a:lnTo>
                      <a:lnTo>
                        <a:pt x="57" y="533"/>
                      </a:lnTo>
                      <a:lnTo>
                        <a:pt x="54" y="544"/>
                      </a:lnTo>
                      <a:lnTo>
                        <a:pt x="53" y="554"/>
                      </a:lnTo>
                      <a:lnTo>
                        <a:pt x="52" y="565"/>
                      </a:lnTo>
                      <a:lnTo>
                        <a:pt x="49" y="576"/>
                      </a:lnTo>
                      <a:lnTo>
                        <a:pt x="47" y="587"/>
                      </a:lnTo>
                      <a:lnTo>
                        <a:pt x="46" y="597"/>
                      </a:lnTo>
                      <a:lnTo>
                        <a:pt x="45" y="608"/>
                      </a:lnTo>
                      <a:lnTo>
                        <a:pt x="42" y="617"/>
                      </a:lnTo>
                      <a:lnTo>
                        <a:pt x="40" y="628"/>
                      </a:lnTo>
                      <a:lnTo>
                        <a:pt x="38" y="638"/>
                      </a:lnTo>
                      <a:lnTo>
                        <a:pt x="34" y="648"/>
                      </a:lnTo>
                      <a:lnTo>
                        <a:pt x="32" y="658"/>
                      </a:lnTo>
                      <a:lnTo>
                        <a:pt x="29" y="667"/>
                      </a:lnTo>
                      <a:lnTo>
                        <a:pt x="27" y="677"/>
                      </a:lnTo>
                      <a:lnTo>
                        <a:pt x="25" y="686"/>
                      </a:lnTo>
                      <a:lnTo>
                        <a:pt x="21" y="696"/>
                      </a:lnTo>
                      <a:lnTo>
                        <a:pt x="19" y="706"/>
                      </a:lnTo>
                      <a:lnTo>
                        <a:pt x="15" y="715"/>
                      </a:lnTo>
                      <a:lnTo>
                        <a:pt x="11" y="724"/>
                      </a:lnTo>
                      <a:lnTo>
                        <a:pt x="9" y="734"/>
                      </a:lnTo>
                      <a:lnTo>
                        <a:pt x="6" y="743"/>
                      </a:lnTo>
                      <a:lnTo>
                        <a:pt x="2" y="752"/>
                      </a:lnTo>
                      <a:lnTo>
                        <a:pt x="0" y="762"/>
                      </a:lnTo>
                      <a:lnTo>
                        <a:pt x="80" y="792"/>
                      </a:lnTo>
                      <a:lnTo>
                        <a:pt x="83" y="782"/>
                      </a:lnTo>
                      <a:lnTo>
                        <a:pt x="86" y="773"/>
                      </a:lnTo>
                      <a:lnTo>
                        <a:pt x="90" y="763"/>
                      </a:lnTo>
                      <a:lnTo>
                        <a:pt x="93" y="754"/>
                      </a:lnTo>
                      <a:lnTo>
                        <a:pt x="96" y="743"/>
                      </a:lnTo>
                      <a:lnTo>
                        <a:pt x="99" y="734"/>
                      </a:lnTo>
                      <a:lnTo>
                        <a:pt x="103" y="723"/>
                      </a:lnTo>
                      <a:lnTo>
                        <a:pt x="105" y="714"/>
                      </a:lnTo>
                      <a:lnTo>
                        <a:pt x="108" y="703"/>
                      </a:lnTo>
                      <a:lnTo>
                        <a:pt x="111" y="692"/>
                      </a:lnTo>
                      <a:lnTo>
                        <a:pt x="115" y="682"/>
                      </a:lnTo>
                      <a:lnTo>
                        <a:pt x="117" y="671"/>
                      </a:lnTo>
                      <a:lnTo>
                        <a:pt x="119" y="661"/>
                      </a:lnTo>
                      <a:lnTo>
                        <a:pt x="122" y="651"/>
                      </a:lnTo>
                      <a:lnTo>
                        <a:pt x="124" y="640"/>
                      </a:lnTo>
                      <a:lnTo>
                        <a:pt x="128" y="629"/>
                      </a:lnTo>
                      <a:lnTo>
                        <a:pt x="129" y="617"/>
                      </a:lnTo>
                      <a:lnTo>
                        <a:pt x="131" y="607"/>
                      </a:lnTo>
                      <a:lnTo>
                        <a:pt x="134" y="595"/>
                      </a:lnTo>
                      <a:lnTo>
                        <a:pt x="136" y="584"/>
                      </a:lnTo>
                      <a:lnTo>
                        <a:pt x="137" y="572"/>
                      </a:lnTo>
                      <a:lnTo>
                        <a:pt x="138" y="562"/>
                      </a:lnTo>
                      <a:lnTo>
                        <a:pt x="141" y="550"/>
                      </a:lnTo>
                      <a:lnTo>
                        <a:pt x="143" y="539"/>
                      </a:lnTo>
                      <a:lnTo>
                        <a:pt x="144" y="526"/>
                      </a:lnTo>
                      <a:lnTo>
                        <a:pt x="146" y="515"/>
                      </a:lnTo>
                      <a:lnTo>
                        <a:pt x="147" y="503"/>
                      </a:lnTo>
                      <a:lnTo>
                        <a:pt x="149" y="492"/>
                      </a:lnTo>
                      <a:lnTo>
                        <a:pt x="150" y="480"/>
                      </a:lnTo>
                      <a:lnTo>
                        <a:pt x="151" y="468"/>
                      </a:lnTo>
                      <a:lnTo>
                        <a:pt x="153" y="456"/>
                      </a:lnTo>
                      <a:lnTo>
                        <a:pt x="154" y="443"/>
                      </a:lnTo>
                      <a:lnTo>
                        <a:pt x="154" y="430"/>
                      </a:lnTo>
                      <a:lnTo>
                        <a:pt x="156" y="418"/>
                      </a:lnTo>
                      <a:lnTo>
                        <a:pt x="156" y="405"/>
                      </a:lnTo>
                      <a:lnTo>
                        <a:pt x="156" y="393"/>
                      </a:lnTo>
                      <a:lnTo>
                        <a:pt x="157" y="380"/>
                      </a:lnTo>
                      <a:lnTo>
                        <a:pt x="157" y="367"/>
                      </a:lnTo>
                      <a:lnTo>
                        <a:pt x="159" y="354"/>
                      </a:lnTo>
                      <a:lnTo>
                        <a:pt x="159" y="342"/>
                      </a:lnTo>
                      <a:lnTo>
                        <a:pt x="159" y="328"/>
                      </a:lnTo>
                      <a:lnTo>
                        <a:pt x="159" y="315"/>
                      </a:lnTo>
                      <a:lnTo>
                        <a:pt x="159" y="302"/>
                      </a:lnTo>
                      <a:lnTo>
                        <a:pt x="159" y="289"/>
                      </a:lnTo>
                      <a:lnTo>
                        <a:pt x="159" y="274"/>
                      </a:lnTo>
                      <a:lnTo>
                        <a:pt x="159" y="260"/>
                      </a:lnTo>
                      <a:lnTo>
                        <a:pt x="159" y="248"/>
                      </a:lnTo>
                      <a:lnTo>
                        <a:pt x="159" y="234"/>
                      </a:lnTo>
                      <a:lnTo>
                        <a:pt x="159" y="220"/>
                      </a:lnTo>
                      <a:lnTo>
                        <a:pt x="159" y="205"/>
                      </a:lnTo>
                      <a:lnTo>
                        <a:pt x="157" y="191"/>
                      </a:lnTo>
                      <a:lnTo>
                        <a:pt x="157" y="177"/>
                      </a:lnTo>
                      <a:lnTo>
                        <a:pt x="156" y="163"/>
                      </a:lnTo>
                      <a:lnTo>
                        <a:pt x="156" y="148"/>
                      </a:lnTo>
                      <a:lnTo>
                        <a:pt x="154" y="134"/>
                      </a:lnTo>
                      <a:lnTo>
                        <a:pt x="154" y="120"/>
                      </a:lnTo>
                      <a:lnTo>
                        <a:pt x="153" y="105"/>
                      </a:lnTo>
                      <a:lnTo>
                        <a:pt x="151" y="90"/>
                      </a:lnTo>
                      <a:lnTo>
                        <a:pt x="151" y="76"/>
                      </a:lnTo>
                      <a:lnTo>
                        <a:pt x="149" y="61"/>
                      </a:lnTo>
                      <a:lnTo>
                        <a:pt x="148" y="45"/>
                      </a:lnTo>
                      <a:lnTo>
                        <a:pt x="147" y="30"/>
                      </a:lnTo>
                      <a:lnTo>
                        <a:pt x="146" y="1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Freeform 13"/>
                <p:cNvSpPr/>
                <p:nvPr/>
              </p:nvSpPr>
              <p:spPr>
                <a:xfrm>
                  <a:off x="1085760" y="1938600"/>
                  <a:ext cx="504360" cy="4269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954" h="808">
                      <a:moveTo>
                        <a:pt x="932" y="710"/>
                      </a:moveTo>
                      <a:lnTo>
                        <a:pt x="916" y="711"/>
                      </a:lnTo>
                      <a:lnTo>
                        <a:pt x="899" y="711"/>
                      </a:lnTo>
                      <a:lnTo>
                        <a:pt x="882" y="712"/>
                      </a:lnTo>
                      <a:lnTo>
                        <a:pt x="865" y="712"/>
                      </a:lnTo>
                      <a:lnTo>
                        <a:pt x="849" y="713"/>
                      </a:lnTo>
                      <a:lnTo>
                        <a:pt x="832" y="714"/>
                      </a:lnTo>
                      <a:lnTo>
                        <a:pt x="814" y="714"/>
                      </a:lnTo>
                      <a:lnTo>
                        <a:pt x="799" y="716"/>
                      </a:lnTo>
                      <a:lnTo>
                        <a:pt x="782" y="716"/>
                      </a:lnTo>
                      <a:lnTo>
                        <a:pt x="764" y="717"/>
                      </a:lnTo>
                      <a:lnTo>
                        <a:pt x="748" y="717"/>
                      </a:lnTo>
                      <a:lnTo>
                        <a:pt x="731" y="717"/>
                      </a:lnTo>
                      <a:lnTo>
                        <a:pt x="715" y="717"/>
                      </a:lnTo>
                      <a:lnTo>
                        <a:pt x="698" y="718"/>
                      </a:lnTo>
                      <a:lnTo>
                        <a:pt x="681" y="718"/>
                      </a:lnTo>
                      <a:lnTo>
                        <a:pt x="666" y="719"/>
                      </a:lnTo>
                      <a:lnTo>
                        <a:pt x="648" y="719"/>
                      </a:lnTo>
                      <a:lnTo>
                        <a:pt x="633" y="720"/>
                      </a:lnTo>
                      <a:lnTo>
                        <a:pt x="615" y="720"/>
                      </a:lnTo>
                      <a:lnTo>
                        <a:pt x="600" y="720"/>
                      </a:lnTo>
                      <a:lnTo>
                        <a:pt x="583" y="720"/>
                      </a:lnTo>
                      <a:lnTo>
                        <a:pt x="566" y="720"/>
                      </a:lnTo>
                      <a:lnTo>
                        <a:pt x="552" y="720"/>
                      </a:lnTo>
                      <a:lnTo>
                        <a:pt x="535" y="721"/>
                      </a:lnTo>
                      <a:lnTo>
                        <a:pt x="520" y="721"/>
                      </a:lnTo>
                      <a:lnTo>
                        <a:pt x="503" y="721"/>
                      </a:lnTo>
                      <a:lnTo>
                        <a:pt x="488" y="721"/>
                      </a:lnTo>
                      <a:lnTo>
                        <a:pt x="474" y="721"/>
                      </a:lnTo>
                      <a:lnTo>
                        <a:pt x="458" y="721"/>
                      </a:lnTo>
                      <a:lnTo>
                        <a:pt x="444" y="721"/>
                      </a:lnTo>
                      <a:lnTo>
                        <a:pt x="430" y="721"/>
                      </a:lnTo>
                      <a:lnTo>
                        <a:pt x="414" y="721"/>
                      </a:lnTo>
                      <a:lnTo>
                        <a:pt x="400" y="721"/>
                      </a:lnTo>
                      <a:lnTo>
                        <a:pt x="387" y="720"/>
                      </a:lnTo>
                      <a:lnTo>
                        <a:pt x="372" y="720"/>
                      </a:lnTo>
                      <a:lnTo>
                        <a:pt x="359" y="720"/>
                      </a:lnTo>
                      <a:lnTo>
                        <a:pt x="346" y="720"/>
                      </a:lnTo>
                      <a:lnTo>
                        <a:pt x="333" y="719"/>
                      </a:lnTo>
                      <a:lnTo>
                        <a:pt x="320" y="719"/>
                      </a:lnTo>
                      <a:lnTo>
                        <a:pt x="308" y="719"/>
                      </a:lnTo>
                      <a:lnTo>
                        <a:pt x="295" y="718"/>
                      </a:lnTo>
                      <a:lnTo>
                        <a:pt x="283" y="717"/>
                      </a:lnTo>
                      <a:lnTo>
                        <a:pt x="271" y="717"/>
                      </a:lnTo>
                      <a:lnTo>
                        <a:pt x="260" y="717"/>
                      </a:lnTo>
                      <a:lnTo>
                        <a:pt x="248" y="716"/>
                      </a:lnTo>
                      <a:lnTo>
                        <a:pt x="238" y="714"/>
                      </a:lnTo>
                      <a:lnTo>
                        <a:pt x="228" y="714"/>
                      </a:lnTo>
                      <a:lnTo>
                        <a:pt x="219" y="714"/>
                      </a:lnTo>
                      <a:lnTo>
                        <a:pt x="208" y="713"/>
                      </a:lnTo>
                      <a:lnTo>
                        <a:pt x="200" y="712"/>
                      </a:lnTo>
                      <a:lnTo>
                        <a:pt x="190" y="711"/>
                      </a:lnTo>
                      <a:lnTo>
                        <a:pt x="182" y="711"/>
                      </a:lnTo>
                      <a:lnTo>
                        <a:pt x="174" y="710"/>
                      </a:lnTo>
                      <a:lnTo>
                        <a:pt x="166" y="708"/>
                      </a:lnTo>
                      <a:lnTo>
                        <a:pt x="159" y="707"/>
                      </a:lnTo>
                      <a:lnTo>
                        <a:pt x="152" y="707"/>
                      </a:lnTo>
                      <a:lnTo>
                        <a:pt x="145" y="705"/>
                      </a:lnTo>
                      <a:lnTo>
                        <a:pt x="139" y="705"/>
                      </a:lnTo>
                      <a:lnTo>
                        <a:pt x="134" y="702"/>
                      </a:lnTo>
                      <a:lnTo>
                        <a:pt x="128" y="702"/>
                      </a:lnTo>
                      <a:lnTo>
                        <a:pt x="125" y="700"/>
                      </a:lnTo>
                      <a:lnTo>
                        <a:pt x="120" y="699"/>
                      </a:lnTo>
                      <a:lnTo>
                        <a:pt x="117" y="698"/>
                      </a:lnTo>
                      <a:lnTo>
                        <a:pt x="114" y="697"/>
                      </a:lnTo>
                      <a:lnTo>
                        <a:pt x="113" y="693"/>
                      </a:lnTo>
                      <a:lnTo>
                        <a:pt x="111" y="689"/>
                      </a:lnTo>
                      <a:lnTo>
                        <a:pt x="110" y="687"/>
                      </a:lnTo>
                      <a:lnTo>
                        <a:pt x="108" y="682"/>
                      </a:lnTo>
                      <a:lnTo>
                        <a:pt x="107" y="678"/>
                      </a:lnTo>
                      <a:lnTo>
                        <a:pt x="106" y="674"/>
                      </a:lnTo>
                      <a:lnTo>
                        <a:pt x="105" y="668"/>
                      </a:lnTo>
                      <a:lnTo>
                        <a:pt x="104" y="663"/>
                      </a:lnTo>
                      <a:lnTo>
                        <a:pt x="102" y="656"/>
                      </a:lnTo>
                      <a:lnTo>
                        <a:pt x="101" y="650"/>
                      </a:lnTo>
                      <a:lnTo>
                        <a:pt x="101" y="644"/>
                      </a:lnTo>
                      <a:lnTo>
                        <a:pt x="100" y="636"/>
                      </a:lnTo>
                      <a:lnTo>
                        <a:pt x="99" y="629"/>
                      </a:lnTo>
                      <a:lnTo>
                        <a:pt x="99" y="622"/>
                      </a:lnTo>
                      <a:lnTo>
                        <a:pt x="98" y="613"/>
                      </a:lnTo>
                      <a:lnTo>
                        <a:pt x="96" y="606"/>
                      </a:lnTo>
                      <a:lnTo>
                        <a:pt x="95" y="597"/>
                      </a:lnTo>
                      <a:lnTo>
                        <a:pt x="95" y="589"/>
                      </a:lnTo>
                      <a:lnTo>
                        <a:pt x="94" y="578"/>
                      </a:lnTo>
                      <a:lnTo>
                        <a:pt x="93" y="570"/>
                      </a:lnTo>
                      <a:lnTo>
                        <a:pt x="93" y="559"/>
                      </a:lnTo>
                      <a:lnTo>
                        <a:pt x="92" y="549"/>
                      </a:lnTo>
                      <a:lnTo>
                        <a:pt x="91" y="540"/>
                      </a:lnTo>
                      <a:lnTo>
                        <a:pt x="91" y="529"/>
                      </a:lnTo>
                      <a:lnTo>
                        <a:pt x="91" y="517"/>
                      </a:lnTo>
                      <a:lnTo>
                        <a:pt x="89" y="507"/>
                      </a:lnTo>
                      <a:lnTo>
                        <a:pt x="89" y="496"/>
                      </a:lnTo>
                      <a:lnTo>
                        <a:pt x="89" y="484"/>
                      </a:lnTo>
                      <a:lnTo>
                        <a:pt x="88" y="473"/>
                      </a:lnTo>
                      <a:lnTo>
                        <a:pt x="88" y="462"/>
                      </a:lnTo>
                      <a:lnTo>
                        <a:pt x="88" y="450"/>
                      </a:lnTo>
                      <a:lnTo>
                        <a:pt x="88" y="438"/>
                      </a:lnTo>
                      <a:lnTo>
                        <a:pt x="87" y="425"/>
                      </a:lnTo>
                      <a:lnTo>
                        <a:pt x="87" y="413"/>
                      </a:lnTo>
                      <a:lnTo>
                        <a:pt x="86" y="400"/>
                      </a:lnTo>
                      <a:lnTo>
                        <a:pt x="86" y="388"/>
                      </a:lnTo>
                      <a:lnTo>
                        <a:pt x="86" y="374"/>
                      </a:lnTo>
                      <a:lnTo>
                        <a:pt x="86" y="361"/>
                      </a:lnTo>
                      <a:lnTo>
                        <a:pt x="86" y="348"/>
                      </a:lnTo>
                      <a:lnTo>
                        <a:pt x="86" y="334"/>
                      </a:lnTo>
                      <a:lnTo>
                        <a:pt x="85" y="320"/>
                      </a:lnTo>
                      <a:lnTo>
                        <a:pt x="85" y="307"/>
                      </a:lnTo>
                      <a:lnTo>
                        <a:pt x="85" y="294"/>
                      </a:lnTo>
                      <a:lnTo>
                        <a:pt x="85" y="280"/>
                      </a:lnTo>
                      <a:lnTo>
                        <a:pt x="85" y="267"/>
                      </a:lnTo>
                      <a:lnTo>
                        <a:pt x="85" y="253"/>
                      </a:lnTo>
                      <a:lnTo>
                        <a:pt x="85" y="238"/>
                      </a:lnTo>
                      <a:lnTo>
                        <a:pt x="86" y="226"/>
                      </a:lnTo>
                      <a:lnTo>
                        <a:pt x="86" y="211"/>
                      </a:lnTo>
                      <a:lnTo>
                        <a:pt x="86" y="198"/>
                      </a:lnTo>
                      <a:lnTo>
                        <a:pt x="86" y="184"/>
                      </a:lnTo>
                      <a:lnTo>
                        <a:pt x="86" y="169"/>
                      </a:lnTo>
                      <a:lnTo>
                        <a:pt x="86" y="155"/>
                      </a:lnTo>
                      <a:lnTo>
                        <a:pt x="86" y="141"/>
                      </a:lnTo>
                      <a:lnTo>
                        <a:pt x="86" y="127"/>
                      </a:lnTo>
                      <a:lnTo>
                        <a:pt x="87" y="114"/>
                      </a:lnTo>
                      <a:lnTo>
                        <a:pt x="87" y="99"/>
                      </a:lnTo>
                      <a:lnTo>
                        <a:pt x="87" y="85"/>
                      </a:lnTo>
                      <a:lnTo>
                        <a:pt x="87" y="71"/>
                      </a:lnTo>
                      <a:lnTo>
                        <a:pt x="88" y="58"/>
                      </a:lnTo>
                      <a:lnTo>
                        <a:pt x="88" y="44"/>
                      </a:lnTo>
                      <a:lnTo>
                        <a:pt x="88" y="31"/>
                      </a:lnTo>
                      <a:lnTo>
                        <a:pt x="89" y="18"/>
                      </a:lnTo>
                      <a:lnTo>
                        <a:pt x="91" y="4"/>
                      </a:lnTo>
                      <a:lnTo>
                        <a:pt x="88" y="2"/>
                      </a:lnTo>
                      <a:lnTo>
                        <a:pt x="86" y="1"/>
                      </a:lnTo>
                      <a:lnTo>
                        <a:pt x="83" y="1"/>
                      </a:lnTo>
                      <a:lnTo>
                        <a:pt x="81" y="1"/>
                      </a:lnTo>
                      <a:lnTo>
                        <a:pt x="79" y="1"/>
                      </a:lnTo>
                      <a:lnTo>
                        <a:pt x="76" y="1"/>
                      </a:lnTo>
                      <a:lnTo>
                        <a:pt x="73" y="0"/>
                      </a:lnTo>
                      <a:lnTo>
                        <a:pt x="69" y="0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50" y="1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38" y="1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2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3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3" y="46"/>
                      </a:lnTo>
                      <a:lnTo>
                        <a:pt x="3" y="50"/>
                      </a:lnTo>
                      <a:lnTo>
                        <a:pt x="3" y="53"/>
                      </a:lnTo>
                      <a:lnTo>
                        <a:pt x="3" y="58"/>
                      </a:lnTo>
                      <a:lnTo>
                        <a:pt x="3" y="61"/>
                      </a:lnTo>
                      <a:lnTo>
                        <a:pt x="3" y="66"/>
                      </a:lnTo>
                      <a:lnTo>
                        <a:pt x="3" y="72"/>
                      </a:lnTo>
                      <a:lnTo>
                        <a:pt x="2" y="77"/>
                      </a:lnTo>
                      <a:lnTo>
                        <a:pt x="2" y="82"/>
                      </a:lnTo>
                      <a:lnTo>
                        <a:pt x="2" y="86"/>
                      </a:lnTo>
                      <a:lnTo>
                        <a:pt x="2" y="92"/>
                      </a:lnTo>
                      <a:lnTo>
                        <a:pt x="2" y="98"/>
                      </a:lnTo>
                      <a:lnTo>
                        <a:pt x="2" y="104"/>
                      </a:lnTo>
                      <a:lnTo>
                        <a:pt x="2" y="110"/>
                      </a:lnTo>
                      <a:lnTo>
                        <a:pt x="2" y="117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0" y="134"/>
                      </a:lnTo>
                      <a:lnTo>
                        <a:pt x="0" y="141"/>
                      </a:lnTo>
                      <a:lnTo>
                        <a:pt x="0" y="147"/>
                      </a:lnTo>
                      <a:lnTo>
                        <a:pt x="0" y="154"/>
                      </a:lnTo>
                      <a:lnTo>
                        <a:pt x="0" y="160"/>
                      </a:lnTo>
                      <a:lnTo>
                        <a:pt x="0" y="167"/>
                      </a:lnTo>
                      <a:lnTo>
                        <a:pt x="0" y="174"/>
                      </a:lnTo>
                      <a:lnTo>
                        <a:pt x="0" y="181"/>
                      </a:lnTo>
                      <a:lnTo>
                        <a:pt x="0" y="188"/>
                      </a:lnTo>
                      <a:lnTo>
                        <a:pt x="0" y="196"/>
                      </a:lnTo>
                      <a:lnTo>
                        <a:pt x="0" y="203"/>
                      </a:lnTo>
                      <a:lnTo>
                        <a:pt x="0" y="210"/>
                      </a:lnTo>
                      <a:lnTo>
                        <a:pt x="0" y="218"/>
                      </a:lnTo>
                      <a:lnTo>
                        <a:pt x="0" y="225"/>
                      </a:lnTo>
                      <a:lnTo>
                        <a:pt x="0" y="232"/>
                      </a:lnTo>
                      <a:lnTo>
                        <a:pt x="0" y="240"/>
                      </a:lnTo>
                      <a:lnTo>
                        <a:pt x="0" y="247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0" y="269"/>
                      </a:lnTo>
                      <a:lnTo>
                        <a:pt x="0" y="278"/>
                      </a:lnTo>
                      <a:lnTo>
                        <a:pt x="0" y="286"/>
                      </a:lnTo>
                      <a:lnTo>
                        <a:pt x="0" y="293"/>
                      </a:lnTo>
                      <a:lnTo>
                        <a:pt x="0" y="301"/>
                      </a:lnTo>
                      <a:lnTo>
                        <a:pt x="0" y="308"/>
                      </a:lnTo>
                      <a:lnTo>
                        <a:pt x="0" y="317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40"/>
                      </a:lnTo>
                      <a:lnTo>
                        <a:pt x="0" y="349"/>
                      </a:lnTo>
                      <a:lnTo>
                        <a:pt x="0" y="364"/>
                      </a:lnTo>
                      <a:lnTo>
                        <a:pt x="0" y="381"/>
                      </a:lnTo>
                      <a:lnTo>
                        <a:pt x="0" y="395"/>
                      </a:lnTo>
                      <a:lnTo>
                        <a:pt x="0" y="410"/>
                      </a:lnTo>
                      <a:lnTo>
                        <a:pt x="0" y="424"/>
                      </a:lnTo>
                      <a:lnTo>
                        <a:pt x="2" y="439"/>
                      </a:lnTo>
                      <a:lnTo>
                        <a:pt x="2" y="452"/>
                      </a:lnTo>
                      <a:lnTo>
                        <a:pt x="3" y="465"/>
                      </a:lnTo>
                      <a:lnTo>
                        <a:pt x="3" y="478"/>
                      </a:lnTo>
                      <a:lnTo>
                        <a:pt x="3" y="490"/>
                      </a:lnTo>
                      <a:lnTo>
                        <a:pt x="3" y="502"/>
                      </a:lnTo>
                      <a:lnTo>
                        <a:pt x="4" y="514"/>
                      </a:lnTo>
                      <a:lnTo>
                        <a:pt x="4" y="524"/>
                      </a:lnTo>
                      <a:lnTo>
                        <a:pt x="5" y="535"/>
                      </a:lnTo>
                      <a:lnTo>
                        <a:pt x="5" y="546"/>
                      </a:lnTo>
                      <a:lnTo>
                        <a:pt x="6" y="556"/>
                      </a:lnTo>
                      <a:lnTo>
                        <a:pt x="6" y="565"/>
                      </a:lnTo>
                      <a:lnTo>
                        <a:pt x="7" y="575"/>
                      </a:lnTo>
                      <a:lnTo>
                        <a:pt x="7" y="584"/>
                      </a:lnTo>
                      <a:lnTo>
                        <a:pt x="9" y="593"/>
                      </a:lnTo>
                      <a:lnTo>
                        <a:pt x="10" y="600"/>
                      </a:lnTo>
                      <a:lnTo>
                        <a:pt x="10" y="609"/>
                      </a:lnTo>
                      <a:lnTo>
                        <a:pt x="11" y="617"/>
                      </a:lnTo>
                      <a:lnTo>
                        <a:pt x="12" y="625"/>
                      </a:lnTo>
                      <a:lnTo>
                        <a:pt x="12" y="631"/>
                      </a:lnTo>
                      <a:lnTo>
                        <a:pt x="13" y="638"/>
                      </a:lnTo>
                      <a:lnTo>
                        <a:pt x="15" y="646"/>
                      </a:lnTo>
                      <a:lnTo>
                        <a:pt x="15" y="651"/>
                      </a:lnTo>
                      <a:lnTo>
                        <a:pt x="16" y="657"/>
                      </a:lnTo>
                      <a:lnTo>
                        <a:pt x="17" y="663"/>
                      </a:lnTo>
                      <a:lnTo>
                        <a:pt x="17" y="669"/>
                      </a:lnTo>
                      <a:lnTo>
                        <a:pt x="19" y="674"/>
                      </a:lnTo>
                      <a:lnTo>
                        <a:pt x="21" y="679"/>
                      </a:lnTo>
                      <a:lnTo>
                        <a:pt x="21" y="685"/>
                      </a:lnTo>
                      <a:lnTo>
                        <a:pt x="22" y="689"/>
                      </a:lnTo>
                      <a:lnTo>
                        <a:pt x="23" y="693"/>
                      </a:lnTo>
                      <a:lnTo>
                        <a:pt x="23" y="697"/>
                      </a:lnTo>
                      <a:lnTo>
                        <a:pt x="25" y="701"/>
                      </a:lnTo>
                      <a:lnTo>
                        <a:pt x="25" y="705"/>
                      </a:lnTo>
                      <a:lnTo>
                        <a:pt x="26" y="708"/>
                      </a:lnTo>
                      <a:lnTo>
                        <a:pt x="28" y="712"/>
                      </a:lnTo>
                      <a:lnTo>
                        <a:pt x="28" y="714"/>
                      </a:lnTo>
                      <a:lnTo>
                        <a:pt x="29" y="718"/>
                      </a:lnTo>
                      <a:lnTo>
                        <a:pt x="30" y="720"/>
                      </a:lnTo>
                      <a:lnTo>
                        <a:pt x="30" y="723"/>
                      </a:lnTo>
                      <a:lnTo>
                        <a:pt x="32" y="726"/>
                      </a:lnTo>
                      <a:lnTo>
                        <a:pt x="32" y="729"/>
                      </a:lnTo>
                      <a:lnTo>
                        <a:pt x="34" y="731"/>
                      </a:lnTo>
                      <a:lnTo>
                        <a:pt x="35" y="735"/>
                      </a:lnTo>
                      <a:lnTo>
                        <a:pt x="37" y="738"/>
                      </a:lnTo>
                      <a:lnTo>
                        <a:pt x="38" y="740"/>
                      </a:lnTo>
                      <a:lnTo>
                        <a:pt x="41" y="744"/>
                      </a:lnTo>
                      <a:lnTo>
                        <a:pt x="43" y="749"/>
                      </a:lnTo>
                      <a:lnTo>
                        <a:pt x="48" y="752"/>
                      </a:lnTo>
                      <a:lnTo>
                        <a:pt x="50" y="757"/>
                      </a:lnTo>
                      <a:lnTo>
                        <a:pt x="55" y="762"/>
                      </a:lnTo>
                      <a:lnTo>
                        <a:pt x="56" y="763"/>
                      </a:lnTo>
                      <a:lnTo>
                        <a:pt x="61" y="765"/>
                      </a:lnTo>
                      <a:lnTo>
                        <a:pt x="63" y="768"/>
                      </a:lnTo>
                      <a:lnTo>
                        <a:pt x="68" y="771"/>
                      </a:lnTo>
                      <a:lnTo>
                        <a:pt x="70" y="773"/>
                      </a:lnTo>
                      <a:lnTo>
                        <a:pt x="73" y="774"/>
                      </a:lnTo>
                      <a:lnTo>
                        <a:pt x="75" y="775"/>
                      </a:lnTo>
                      <a:lnTo>
                        <a:pt x="79" y="775"/>
                      </a:lnTo>
                      <a:lnTo>
                        <a:pt x="81" y="777"/>
                      </a:lnTo>
                      <a:lnTo>
                        <a:pt x="85" y="778"/>
                      </a:lnTo>
                      <a:lnTo>
                        <a:pt x="88" y="780"/>
                      </a:lnTo>
                      <a:lnTo>
                        <a:pt x="92" y="781"/>
                      </a:lnTo>
                      <a:lnTo>
                        <a:pt x="96" y="782"/>
                      </a:lnTo>
                      <a:lnTo>
                        <a:pt x="100" y="783"/>
                      </a:lnTo>
                      <a:lnTo>
                        <a:pt x="105" y="784"/>
                      </a:lnTo>
                      <a:lnTo>
                        <a:pt x="110" y="786"/>
                      </a:lnTo>
                      <a:lnTo>
                        <a:pt x="114" y="786"/>
                      </a:lnTo>
                      <a:lnTo>
                        <a:pt x="119" y="788"/>
                      </a:lnTo>
                      <a:lnTo>
                        <a:pt x="125" y="788"/>
                      </a:lnTo>
                      <a:lnTo>
                        <a:pt x="131" y="790"/>
                      </a:lnTo>
                      <a:lnTo>
                        <a:pt x="137" y="790"/>
                      </a:lnTo>
                      <a:lnTo>
                        <a:pt x="144" y="793"/>
                      </a:lnTo>
                      <a:lnTo>
                        <a:pt x="150" y="793"/>
                      </a:lnTo>
                      <a:lnTo>
                        <a:pt x="157" y="794"/>
                      </a:lnTo>
                      <a:lnTo>
                        <a:pt x="164" y="795"/>
                      </a:lnTo>
                      <a:lnTo>
                        <a:pt x="172" y="796"/>
                      </a:lnTo>
                      <a:lnTo>
                        <a:pt x="181" y="796"/>
                      </a:lnTo>
                      <a:lnTo>
                        <a:pt x="190" y="799"/>
                      </a:lnTo>
                      <a:lnTo>
                        <a:pt x="198" y="799"/>
                      </a:lnTo>
                      <a:lnTo>
                        <a:pt x="208" y="800"/>
                      </a:lnTo>
                      <a:lnTo>
                        <a:pt x="217" y="800"/>
                      </a:lnTo>
                      <a:lnTo>
                        <a:pt x="228" y="801"/>
                      </a:lnTo>
                      <a:lnTo>
                        <a:pt x="238" y="801"/>
                      </a:lnTo>
                      <a:lnTo>
                        <a:pt x="250" y="802"/>
                      </a:lnTo>
                      <a:lnTo>
                        <a:pt x="260" y="803"/>
                      </a:lnTo>
                      <a:lnTo>
                        <a:pt x="273" y="803"/>
                      </a:lnTo>
                      <a:lnTo>
                        <a:pt x="284" y="803"/>
                      </a:lnTo>
                      <a:lnTo>
                        <a:pt x="297" y="805"/>
                      </a:lnTo>
                      <a:lnTo>
                        <a:pt x="310" y="806"/>
                      </a:lnTo>
                      <a:lnTo>
                        <a:pt x="324" y="806"/>
                      </a:lnTo>
                      <a:lnTo>
                        <a:pt x="339" y="806"/>
                      </a:lnTo>
                      <a:lnTo>
                        <a:pt x="352" y="806"/>
                      </a:lnTo>
                      <a:lnTo>
                        <a:pt x="367" y="807"/>
                      </a:lnTo>
                      <a:lnTo>
                        <a:pt x="384" y="808"/>
                      </a:lnTo>
                      <a:lnTo>
                        <a:pt x="399" y="808"/>
                      </a:lnTo>
                      <a:lnTo>
                        <a:pt x="416" y="808"/>
                      </a:lnTo>
                      <a:lnTo>
                        <a:pt x="432" y="808"/>
                      </a:lnTo>
                      <a:lnTo>
                        <a:pt x="451" y="808"/>
                      </a:lnTo>
                      <a:lnTo>
                        <a:pt x="470" y="808"/>
                      </a:lnTo>
                      <a:lnTo>
                        <a:pt x="488" y="808"/>
                      </a:lnTo>
                      <a:lnTo>
                        <a:pt x="508" y="808"/>
                      </a:lnTo>
                      <a:lnTo>
                        <a:pt x="528" y="808"/>
                      </a:lnTo>
                      <a:lnTo>
                        <a:pt x="538" y="808"/>
                      </a:lnTo>
                      <a:lnTo>
                        <a:pt x="546" y="808"/>
                      </a:lnTo>
                      <a:lnTo>
                        <a:pt x="557" y="807"/>
                      </a:lnTo>
                      <a:lnTo>
                        <a:pt x="566" y="807"/>
                      </a:lnTo>
                      <a:lnTo>
                        <a:pt x="575" y="806"/>
                      </a:lnTo>
                      <a:lnTo>
                        <a:pt x="585" y="806"/>
                      </a:lnTo>
                      <a:lnTo>
                        <a:pt x="595" y="806"/>
                      </a:lnTo>
                      <a:lnTo>
                        <a:pt x="604" y="806"/>
                      </a:lnTo>
                      <a:lnTo>
                        <a:pt x="614" y="806"/>
                      </a:lnTo>
                      <a:lnTo>
                        <a:pt x="622" y="806"/>
                      </a:lnTo>
                      <a:lnTo>
                        <a:pt x="632" y="806"/>
                      </a:lnTo>
                      <a:lnTo>
                        <a:pt x="641" y="806"/>
                      </a:lnTo>
                      <a:lnTo>
                        <a:pt x="651" y="806"/>
                      </a:lnTo>
                      <a:lnTo>
                        <a:pt x="660" y="806"/>
                      </a:lnTo>
                      <a:lnTo>
                        <a:pt x="668" y="806"/>
                      </a:lnTo>
                      <a:lnTo>
                        <a:pt x="678" y="806"/>
                      </a:lnTo>
                      <a:lnTo>
                        <a:pt x="686" y="805"/>
                      </a:lnTo>
                      <a:lnTo>
                        <a:pt x="696" y="803"/>
                      </a:lnTo>
                      <a:lnTo>
                        <a:pt x="704" y="803"/>
                      </a:lnTo>
                      <a:lnTo>
                        <a:pt x="713" y="803"/>
                      </a:lnTo>
                      <a:lnTo>
                        <a:pt x="722" y="803"/>
                      </a:lnTo>
                      <a:lnTo>
                        <a:pt x="730" y="803"/>
                      </a:lnTo>
                      <a:lnTo>
                        <a:pt x="738" y="803"/>
                      </a:lnTo>
                      <a:lnTo>
                        <a:pt x="747" y="803"/>
                      </a:lnTo>
                      <a:lnTo>
                        <a:pt x="755" y="802"/>
                      </a:lnTo>
                      <a:lnTo>
                        <a:pt x="763" y="801"/>
                      </a:lnTo>
                      <a:lnTo>
                        <a:pt x="772" y="801"/>
                      </a:lnTo>
                      <a:lnTo>
                        <a:pt x="780" y="801"/>
                      </a:lnTo>
                      <a:lnTo>
                        <a:pt x="787" y="801"/>
                      </a:lnTo>
                      <a:lnTo>
                        <a:pt x="794" y="801"/>
                      </a:lnTo>
                      <a:lnTo>
                        <a:pt x="802" y="801"/>
                      </a:lnTo>
                      <a:lnTo>
                        <a:pt x="810" y="801"/>
                      </a:lnTo>
                      <a:lnTo>
                        <a:pt x="817" y="801"/>
                      </a:lnTo>
                      <a:lnTo>
                        <a:pt x="824" y="800"/>
                      </a:lnTo>
                      <a:lnTo>
                        <a:pt x="830" y="800"/>
                      </a:lnTo>
                      <a:lnTo>
                        <a:pt x="838" y="800"/>
                      </a:lnTo>
                      <a:lnTo>
                        <a:pt x="844" y="799"/>
                      </a:lnTo>
                      <a:lnTo>
                        <a:pt x="850" y="799"/>
                      </a:lnTo>
                      <a:lnTo>
                        <a:pt x="856" y="799"/>
                      </a:lnTo>
                      <a:lnTo>
                        <a:pt x="863" y="799"/>
                      </a:lnTo>
                      <a:lnTo>
                        <a:pt x="868" y="797"/>
                      </a:lnTo>
                      <a:lnTo>
                        <a:pt x="875" y="797"/>
                      </a:lnTo>
                      <a:lnTo>
                        <a:pt x="881" y="797"/>
                      </a:lnTo>
                      <a:lnTo>
                        <a:pt x="885" y="797"/>
                      </a:lnTo>
                      <a:lnTo>
                        <a:pt x="890" y="796"/>
                      </a:lnTo>
                      <a:lnTo>
                        <a:pt x="896" y="796"/>
                      </a:lnTo>
                      <a:lnTo>
                        <a:pt x="901" y="796"/>
                      </a:lnTo>
                      <a:lnTo>
                        <a:pt x="906" y="796"/>
                      </a:lnTo>
                      <a:lnTo>
                        <a:pt x="909" y="796"/>
                      </a:lnTo>
                      <a:lnTo>
                        <a:pt x="914" y="795"/>
                      </a:lnTo>
                      <a:lnTo>
                        <a:pt x="919" y="795"/>
                      </a:lnTo>
                      <a:lnTo>
                        <a:pt x="921" y="795"/>
                      </a:lnTo>
                      <a:lnTo>
                        <a:pt x="925" y="794"/>
                      </a:lnTo>
                      <a:lnTo>
                        <a:pt x="928" y="794"/>
                      </a:lnTo>
                      <a:lnTo>
                        <a:pt x="932" y="794"/>
                      </a:lnTo>
                      <a:lnTo>
                        <a:pt x="935" y="794"/>
                      </a:lnTo>
                      <a:lnTo>
                        <a:pt x="940" y="794"/>
                      </a:lnTo>
                      <a:lnTo>
                        <a:pt x="944" y="794"/>
                      </a:lnTo>
                      <a:lnTo>
                        <a:pt x="947" y="794"/>
                      </a:lnTo>
                      <a:lnTo>
                        <a:pt x="950" y="794"/>
                      </a:lnTo>
                      <a:lnTo>
                        <a:pt x="952" y="793"/>
                      </a:lnTo>
                      <a:lnTo>
                        <a:pt x="954" y="790"/>
                      </a:lnTo>
                      <a:lnTo>
                        <a:pt x="954" y="788"/>
                      </a:lnTo>
                      <a:lnTo>
                        <a:pt x="954" y="786"/>
                      </a:lnTo>
                      <a:lnTo>
                        <a:pt x="954" y="783"/>
                      </a:lnTo>
                      <a:lnTo>
                        <a:pt x="954" y="781"/>
                      </a:lnTo>
                      <a:lnTo>
                        <a:pt x="954" y="777"/>
                      </a:lnTo>
                      <a:lnTo>
                        <a:pt x="953" y="774"/>
                      </a:lnTo>
                      <a:lnTo>
                        <a:pt x="952" y="770"/>
                      </a:lnTo>
                      <a:lnTo>
                        <a:pt x="952" y="767"/>
                      </a:lnTo>
                      <a:lnTo>
                        <a:pt x="951" y="763"/>
                      </a:lnTo>
                      <a:lnTo>
                        <a:pt x="950" y="759"/>
                      </a:lnTo>
                      <a:lnTo>
                        <a:pt x="950" y="755"/>
                      </a:lnTo>
                      <a:lnTo>
                        <a:pt x="948" y="751"/>
                      </a:lnTo>
                      <a:lnTo>
                        <a:pt x="946" y="748"/>
                      </a:lnTo>
                      <a:lnTo>
                        <a:pt x="945" y="743"/>
                      </a:lnTo>
                      <a:lnTo>
                        <a:pt x="944" y="739"/>
                      </a:lnTo>
                      <a:lnTo>
                        <a:pt x="942" y="736"/>
                      </a:lnTo>
                      <a:lnTo>
                        <a:pt x="941" y="732"/>
                      </a:lnTo>
                      <a:lnTo>
                        <a:pt x="939" y="729"/>
                      </a:lnTo>
                      <a:lnTo>
                        <a:pt x="939" y="725"/>
                      </a:lnTo>
                      <a:lnTo>
                        <a:pt x="938" y="723"/>
                      </a:lnTo>
                      <a:lnTo>
                        <a:pt x="937" y="720"/>
                      </a:lnTo>
                      <a:lnTo>
                        <a:pt x="934" y="717"/>
                      </a:lnTo>
                      <a:lnTo>
                        <a:pt x="934" y="714"/>
                      </a:lnTo>
                      <a:lnTo>
                        <a:pt x="934" y="713"/>
                      </a:lnTo>
                      <a:lnTo>
                        <a:pt x="932" y="711"/>
                      </a:lnTo>
                      <a:lnTo>
                        <a:pt x="932" y="71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Freeform 14"/>
                <p:cNvSpPr/>
                <p:nvPr/>
              </p:nvSpPr>
              <p:spPr>
                <a:xfrm>
                  <a:off x="1187280" y="1990800"/>
                  <a:ext cx="320400" cy="61920"/>
                </a:xfrm>
                <a:custGeom>
                  <a:avLst/>
                  <a:gdLst>
                    <a:gd name="textAreaLeft" fmla="*/ 0 w 320400"/>
                    <a:gd name="textAreaRight" fmla="*/ 320760 w 3204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05" h="119">
                      <a:moveTo>
                        <a:pt x="0" y="34"/>
                      </a:moveTo>
                      <a:lnTo>
                        <a:pt x="14" y="119"/>
                      </a:lnTo>
                      <a:lnTo>
                        <a:pt x="23" y="117"/>
                      </a:lnTo>
                      <a:lnTo>
                        <a:pt x="34" y="114"/>
                      </a:lnTo>
                      <a:lnTo>
                        <a:pt x="42" y="112"/>
                      </a:lnTo>
                      <a:lnTo>
                        <a:pt x="52" y="111"/>
                      </a:lnTo>
                      <a:lnTo>
                        <a:pt x="62" y="110"/>
                      </a:lnTo>
                      <a:lnTo>
                        <a:pt x="72" y="108"/>
                      </a:lnTo>
                      <a:lnTo>
                        <a:pt x="80" y="106"/>
                      </a:lnTo>
                      <a:lnTo>
                        <a:pt x="91" y="105"/>
                      </a:lnTo>
                      <a:lnTo>
                        <a:pt x="100" y="104"/>
                      </a:lnTo>
                      <a:lnTo>
                        <a:pt x="110" y="101"/>
                      </a:lnTo>
                      <a:lnTo>
                        <a:pt x="119" y="101"/>
                      </a:lnTo>
                      <a:lnTo>
                        <a:pt x="129" y="99"/>
                      </a:lnTo>
                      <a:lnTo>
                        <a:pt x="138" y="98"/>
                      </a:lnTo>
                      <a:lnTo>
                        <a:pt x="148" y="97"/>
                      </a:lnTo>
                      <a:lnTo>
                        <a:pt x="156" y="97"/>
                      </a:lnTo>
                      <a:lnTo>
                        <a:pt x="166" y="95"/>
                      </a:lnTo>
                      <a:lnTo>
                        <a:pt x="176" y="94"/>
                      </a:lnTo>
                      <a:lnTo>
                        <a:pt x="185" y="94"/>
                      </a:lnTo>
                      <a:lnTo>
                        <a:pt x="194" y="93"/>
                      </a:lnTo>
                      <a:lnTo>
                        <a:pt x="204" y="92"/>
                      </a:lnTo>
                      <a:lnTo>
                        <a:pt x="212" y="92"/>
                      </a:lnTo>
                      <a:lnTo>
                        <a:pt x="221" y="91"/>
                      </a:lnTo>
                      <a:lnTo>
                        <a:pt x="231" y="89"/>
                      </a:lnTo>
                      <a:lnTo>
                        <a:pt x="239" y="89"/>
                      </a:lnTo>
                      <a:lnTo>
                        <a:pt x="249" y="89"/>
                      </a:lnTo>
                      <a:lnTo>
                        <a:pt x="257" y="88"/>
                      </a:lnTo>
                      <a:lnTo>
                        <a:pt x="268" y="88"/>
                      </a:lnTo>
                      <a:lnTo>
                        <a:pt x="276" y="88"/>
                      </a:lnTo>
                      <a:lnTo>
                        <a:pt x="286" y="87"/>
                      </a:lnTo>
                      <a:lnTo>
                        <a:pt x="294" y="87"/>
                      </a:lnTo>
                      <a:lnTo>
                        <a:pt x="303" y="87"/>
                      </a:lnTo>
                      <a:lnTo>
                        <a:pt x="313" y="87"/>
                      </a:lnTo>
                      <a:lnTo>
                        <a:pt x="321" y="86"/>
                      </a:lnTo>
                      <a:lnTo>
                        <a:pt x="329" y="86"/>
                      </a:lnTo>
                      <a:lnTo>
                        <a:pt x="339" y="86"/>
                      </a:lnTo>
                      <a:lnTo>
                        <a:pt x="347" y="86"/>
                      </a:lnTo>
                      <a:lnTo>
                        <a:pt x="356" y="86"/>
                      </a:lnTo>
                      <a:lnTo>
                        <a:pt x="365" y="86"/>
                      </a:lnTo>
                      <a:lnTo>
                        <a:pt x="373" y="86"/>
                      </a:lnTo>
                      <a:lnTo>
                        <a:pt x="383" y="87"/>
                      </a:lnTo>
                      <a:lnTo>
                        <a:pt x="391" y="87"/>
                      </a:lnTo>
                      <a:lnTo>
                        <a:pt x="399" y="88"/>
                      </a:lnTo>
                      <a:lnTo>
                        <a:pt x="409" y="88"/>
                      </a:lnTo>
                      <a:lnTo>
                        <a:pt x="417" y="89"/>
                      </a:lnTo>
                      <a:lnTo>
                        <a:pt x="427" y="89"/>
                      </a:lnTo>
                      <a:lnTo>
                        <a:pt x="435" y="91"/>
                      </a:lnTo>
                      <a:lnTo>
                        <a:pt x="443" y="91"/>
                      </a:lnTo>
                      <a:lnTo>
                        <a:pt x="453" y="92"/>
                      </a:lnTo>
                      <a:lnTo>
                        <a:pt x="461" y="92"/>
                      </a:lnTo>
                      <a:lnTo>
                        <a:pt x="469" y="93"/>
                      </a:lnTo>
                      <a:lnTo>
                        <a:pt x="478" y="94"/>
                      </a:lnTo>
                      <a:lnTo>
                        <a:pt x="487" y="95"/>
                      </a:lnTo>
                      <a:lnTo>
                        <a:pt x="496" y="97"/>
                      </a:lnTo>
                      <a:lnTo>
                        <a:pt x="503" y="97"/>
                      </a:lnTo>
                      <a:lnTo>
                        <a:pt x="512" y="98"/>
                      </a:lnTo>
                      <a:lnTo>
                        <a:pt x="520" y="99"/>
                      </a:lnTo>
                      <a:lnTo>
                        <a:pt x="529" y="100"/>
                      </a:lnTo>
                      <a:lnTo>
                        <a:pt x="537" y="101"/>
                      </a:lnTo>
                      <a:lnTo>
                        <a:pt x="545" y="104"/>
                      </a:lnTo>
                      <a:lnTo>
                        <a:pt x="555" y="104"/>
                      </a:lnTo>
                      <a:lnTo>
                        <a:pt x="563" y="106"/>
                      </a:lnTo>
                      <a:lnTo>
                        <a:pt x="571" y="107"/>
                      </a:lnTo>
                      <a:lnTo>
                        <a:pt x="580" y="110"/>
                      </a:lnTo>
                      <a:lnTo>
                        <a:pt x="589" y="111"/>
                      </a:lnTo>
                      <a:lnTo>
                        <a:pt x="605" y="25"/>
                      </a:lnTo>
                      <a:lnTo>
                        <a:pt x="594" y="23"/>
                      </a:lnTo>
                      <a:lnTo>
                        <a:pt x="586" y="22"/>
                      </a:lnTo>
                      <a:lnTo>
                        <a:pt x="576" y="21"/>
                      </a:lnTo>
                      <a:lnTo>
                        <a:pt x="568" y="18"/>
                      </a:lnTo>
                      <a:lnTo>
                        <a:pt x="558" y="18"/>
                      </a:lnTo>
                      <a:lnTo>
                        <a:pt x="550" y="16"/>
                      </a:lnTo>
                      <a:lnTo>
                        <a:pt x="541" y="15"/>
                      </a:lnTo>
                      <a:lnTo>
                        <a:pt x="532" y="14"/>
                      </a:lnTo>
                      <a:lnTo>
                        <a:pt x="523" y="12"/>
                      </a:lnTo>
                      <a:lnTo>
                        <a:pt x="513" y="11"/>
                      </a:lnTo>
                      <a:lnTo>
                        <a:pt x="505" y="10"/>
                      </a:lnTo>
                      <a:lnTo>
                        <a:pt x="496" y="9"/>
                      </a:lnTo>
                      <a:lnTo>
                        <a:pt x="487" y="8"/>
                      </a:lnTo>
                      <a:lnTo>
                        <a:pt x="478" y="8"/>
                      </a:lnTo>
                      <a:lnTo>
                        <a:pt x="468" y="6"/>
                      </a:lnTo>
                      <a:lnTo>
                        <a:pt x="460" y="5"/>
                      </a:lnTo>
                      <a:lnTo>
                        <a:pt x="450" y="4"/>
                      </a:lnTo>
                      <a:lnTo>
                        <a:pt x="441" y="4"/>
                      </a:lnTo>
                      <a:lnTo>
                        <a:pt x="431" y="3"/>
                      </a:lnTo>
                      <a:lnTo>
                        <a:pt x="423" y="3"/>
                      </a:lnTo>
                      <a:lnTo>
                        <a:pt x="414" y="2"/>
                      </a:lnTo>
                      <a:lnTo>
                        <a:pt x="404" y="2"/>
                      </a:lnTo>
                      <a:lnTo>
                        <a:pt x="395" y="0"/>
                      </a:lnTo>
                      <a:lnTo>
                        <a:pt x="386" y="0"/>
                      </a:lnTo>
                      <a:lnTo>
                        <a:pt x="377" y="0"/>
                      </a:lnTo>
                      <a:lnTo>
                        <a:pt x="369" y="0"/>
                      </a:lnTo>
                      <a:lnTo>
                        <a:pt x="359" y="0"/>
                      </a:lnTo>
                      <a:lnTo>
                        <a:pt x="350" y="0"/>
                      </a:lnTo>
                      <a:lnTo>
                        <a:pt x="340" y="0"/>
                      </a:lnTo>
                      <a:lnTo>
                        <a:pt x="331" y="0"/>
                      </a:lnTo>
                      <a:lnTo>
                        <a:pt x="321" y="0"/>
                      </a:lnTo>
                      <a:lnTo>
                        <a:pt x="312" y="0"/>
                      </a:lnTo>
                      <a:lnTo>
                        <a:pt x="302" y="0"/>
                      </a:lnTo>
                      <a:lnTo>
                        <a:pt x="293" y="0"/>
                      </a:lnTo>
                      <a:lnTo>
                        <a:pt x="283" y="0"/>
                      </a:lnTo>
                      <a:lnTo>
                        <a:pt x="274" y="0"/>
                      </a:lnTo>
                      <a:lnTo>
                        <a:pt x="264" y="0"/>
                      </a:lnTo>
                      <a:lnTo>
                        <a:pt x="255" y="2"/>
                      </a:lnTo>
                      <a:lnTo>
                        <a:pt x="245" y="2"/>
                      </a:lnTo>
                      <a:lnTo>
                        <a:pt x="236" y="3"/>
                      </a:lnTo>
                      <a:lnTo>
                        <a:pt x="226" y="3"/>
                      </a:lnTo>
                      <a:lnTo>
                        <a:pt x="217" y="4"/>
                      </a:lnTo>
                      <a:lnTo>
                        <a:pt x="207" y="5"/>
                      </a:lnTo>
                      <a:lnTo>
                        <a:pt x="197" y="5"/>
                      </a:lnTo>
                      <a:lnTo>
                        <a:pt x="187" y="6"/>
                      </a:lnTo>
                      <a:lnTo>
                        <a:pt x="178" y="8"/>
                      </a:lnTo>
                      <a:lnTo>
                        <a:pt x="168" y="8"/>
                      </a:lnTo>
                      <a:lnTo>
                        <a:pt x="159" y="10"/>
                      </a:lnTo>
                      <a:lnTo>
                        <a:pt x="149" y="10"/>
                      </a:lnTo>
                      <a:lnTo>
                        <a:pt x="138" y="11"/>
                      </a:lnTo>
                      <a:lnTo>
                        <a:pt x="128" y="14"/>
                      </a:lnTo>
                      <a:lnTo>
                        <a:pt x="118" y="14"/>
                      </a:lnTo>
                      <a:lnTo>
                        <a:pt x="109" y="16"/>
                      </a:lnTo>
                      <a:lnTo>
                        <a:pt x="99" y="17"/>
                      </a:lnTo>
                      <a:lnTo>
                        <a:pt x="89" y="18"/>
                      </a:lnTo>
                      <a:lnTo>
                        <a:pt x="80" y="19"/>
                      </a:lnTo>
                      <a:lnTo>
                        <a:pt x="70" y="21"/>
                      </a:lnTo>
                      <a:lnTo>
                        <a:pt x="60" y="23"/>
                      </a:lnTo>
                      <a:lnTo>
                        <a:pt x="49" y="24"/>
                      </a:lnTo>
                      <a:lnTo>
                        <a:pt x="40" y="25"/>
                      </a:lnTo>
                      <a:lnTo>
                        <a:pt x="29" y="28"/>
                      </a:lnTo>
                      <a:lnTo>
                        <a:pt x="20" y="29"/>
                      </a:lnTo>
                      <a:lnTo>
                        <a:pt x="9" y="3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Freeform 15"/>
                <p:cNvSpPr/>
                <p:nvPr/>
              </p:nvSpPr>
              <p:spPr>
                <a:xfrm>
                  <a:off x="1074600" y="2376720"/>
                  <a:ext cx="603000" cy="52560"/>
                </a:xfrm>
                <a:custGeom>
                  <a:avLst/>
                  <a:gdLst>
                    <a:gd name="textAreaLeft" fmla="*/ 0 w 603000"/>
                    <a:gd name="textAreaRight" fmla="*/ 603360 w 6030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140" h="99">
                      <a:moveTo>
                        <a:pt x="0" y="13"/>
                      </a:moveTo>
                      <a:lnTo>
                        <a:pt x="3" y="99"/>
                      </a:lnTo>
                      <a:lnTo>
                        <a:pt x="19" y="97"/>
                      </a:lnTo>
                      <a:lnTo>
                        <a:pt x="35" y="97"/>
                      </a:lnTo>
                      <a:lnTo>
                        <a:pt x="52" y="97"/>
                      </a:lnTo>
                      <a:lnTo>
                        <a:pt x="69" y="96"/>
                      </a:lnTo>
                      <a:lnTo>
                        <a:pt x="86" y="94"/>
                      </a:lnTo>
                      <a:lnTo>
                        <a:pt x="102" y="94"/>
                      </a:lnTo>
                      <a:lnTo>
                        <a:pt x="120" y="94"/>
                      </a:lnTo>
                      <a:lnTo>
                        <a:pt x="137" y="94"/>
                      </a:lnTo>
                      <a:lnTo>
                        <a:pt x="154" y="93"/>
                      </a:lnTo>
                      <a:lnTo>
                        <a:pt x="171" y="92"/>
                      </a:lnTo>
                      <a:lnTo>
                        <a:pt x="188" y="92"/>
                      </a:lnTo>
                      <a:lnTo>
                        <a:pt x="204" y="92"/>
                      </a:lnTo>
                      <a:lnTo>
                        <a:pt x="222" y="92"/>
                      </a:lnTo>
                      <a:lnTo>
                        <a:pt x="240" y="91"/>
                      </a:lnTo>
                      <a:lnTo>
                        <a:pt x="256" y="91"/>
                      </a:lnTo>
                      <a:lnTo>
                        <a:pt x="274" y="91"/>
                      </a:lnTo>
                      <a:lnTo>
                        <a:pt x="291" y="90"/>
                      </a:lnTo>
                      <a:lnTo>
                        <a:pt x="309" y="90"/>
                      </a:lnTo>
                      <a:lnTo>
                        <a:pt x="326" y="90"/>
                      </a:lnTo>
                      <a:lnTo>
                        <a:pt x="343" y="90"/>
                      </a:lnTo>
                      <a:lnTo>
                        <a:pt x="361" y="89"/>
                      </a:lnTo>
                      <a:lnTo>
                        <a:pt x="379" y="89"/>
                      </a:lnTo>
                      <a:lnTo>
                        <a:pt x="395" y="87"/>
                      </a:lnTo>
                      <a:lnTo>
                        <a:pt x="413" y="87"/>
                      </a:lnTo>
                      <a:lnTo>
                        <a:pt x="430" y="87"/>
                      </a:lnTo>
                      <a:lnTo>
                        <a:pt x="447" y="87"/>
                      </a:lnTo>
                      <a:lnTo>
                        <a:pt x="465" y="87"/>
                      </a:lnTo>
                      <a:lnTo>
                        <a:pt x="483" y="87"/>
                      </a:lnTo>
                      <a:lnTo>
                        <a:pt x="501" y="87"/>
                      </a:lnTo>
                      <a:lnTo>
                        <a:pt x="519" y="87"/>
                      </a:lnTo>
                      <a:lnTo>
                        <a:pt x="536" y="87"/>
                      </a:lnTo>
                      <a:lnTo>
                        <a:pt x="554" y="87"/>
                      </a:lnTo>
                      <a:lnTo>
                        <a:pt x="572" y="86"/>
                      </a:lnTo>
                      <a:lnTo>
                        <a:pt x="590" y="86"/>
                      </a:lnTo>
                      <a:lnTo>
                        <a:pt x="606" y="86"/>
                      </a:lnTo>
                      <a:lnTo>
                        <a:pt x="625" y="86"/>
                      </a:lnTo>
                      <a:lnTo>
                        <a:pt x="643" y="86"/>
                      </a:lnTo>
                      <a:lnTo>
                        <a:pt x="661" y="86"/>
                      </a:lnTo>
                      <a:lnTo>
                        <a:pt x="679" y="86"/>
                      </a:lnTo>
                      <a:lnTo>
                        <a:pt x="698" y="87"/>
                      </a:lnTo>
                      <a:lnTo>
                        <a:pt x="714" y="87"/>
                      </a:lnTo>
                      <a:lnTo>
                        <a:pt x="733" y="87"/>
                      </a:lnTo>
                      <a:lnTo>
                        <a:pt x="751" y="87"/>
                      </a:lnTo>
                      <a:lnTo>
                        <a:pt x="769" y="87"/>
                      </a:lnTo>
                      <a:lnTo>
                        <a:pt x="787" y="87"/>
                      </a:lnTo>
                      <a:lnTo>
                        <a:pt x="805" y="87"/>
                      </a:lnTo>
                      <a:lnTo>
                        <a:pt x="824" y="87"/>
                      </a:lnTo>
                      <a:lnTo>
                        <a:pt x="843" y="89"/>
                      </a:lnTo>
                      <a:lnTo>
                        <a:pt x="860" y="89"/>
                      </a:lnTo>
                      <a:lnTo>
                        <a:pt x="878" y="89"/>
                      </a:lnTo>
                      <a:lnTo>
                        <a:pt x="896" y="90"/>
                      </a:lnTo>
                      <a:lnTo>
                        <a:pt x="915" y="90"/>
                      </a:lnTo>
                      <a:lnTo>
                        <a:pt x="934" y="90"/>
                      </a:lnTo>
                      <a:lnTo>
                        <a:pt x="952" y="91"/>
                      </a:lnTo>
                      <a:lnTo>
                        <a:pt x="970" y="91"/>
                      </a:lnTo>
                      <a:lnTo>
                        <a:pt x="989" y="92"/>
                      </a:lnTo>
                      <a:lnTo>
                        <a:pt x="1006" y="92"/>
                      </a:lnTo>
                      <a:lnTo>
                        <a:pt x="1024" y="93"/>
                      </a:lnTo>
                      <a:lnTo>
                        <a:pt x="1043" y="94"/>
                      </a:lnTo>
                      <a:lnTo>
                        <a:pt x="1062" y="94"/>
                      </a:lnTo>
                      <a:lnTo>
                        <a:pt x="1080" y="96"/>
                      </a:lnTo>
                      <a:lnTo>
                        <a:pt x="1099" y="97"/>
                      </a:lnTo>
                      <a:lnTo>
                        <a:pt x="1118" y="97"/>
                      </a:lnTo>
                      <a:lnTo>
                        <a:pt x="1136" y="99"/>
                      </a:lnTo>
                      <a:lnTo>
                        <a:pt x="1140" y="13"/>
                      </a:lnTo>
                      <a:lnTo>
                        <a:pt x="1121" y="11"/>
                      </a:lnTo>
                      <a:lnTo>
                        <a:pt x="1102" y="10"/>
                      </a:lnTo>
                      <a:lnTo>
                        <a:pt x="1083" y="9"/>
                      </a:lnTo>
                      <a:lnTo>
                        <a:pt x="1066" y="9"/>
                      </a:lnTo>
                      <a:lnTo>
                        <a:pt x="1047" y="8"/>
                      </a:lnTo>
                      <a:lnTo>
                        <a:pt x="1028" y="7"/>
                      </a:lnTo>
                      <a:lnTo>
                        <a:pt x="1010" y="7"/>
                      </a:lnTo>
                      <a:lnTo>
                        <a:pt x="991" y="7"/>
                      </a:lnTo>
                      <a:lnTo>
                        <a:pt x="972" y="4"/>
                      </a:lnTo>
                      <a:lnTo>
                        <a:pt x="954" y="4"/>
                      </a:lnTo>
                      <a:lnTo>
                        <a:pt x="936" y="4"/>
                      </a:lnTo>
                      <a:lnTo>
                        <a:pt x="917" y="4"/>
                      </a:lnTo>
                      <a:lnTo>
                        <a:pt x="898" y="3"/>
                      </a:lnTo>
                      <a:lnTo>
                        <a:pt x="881" y="2"/>
                      </a:lnTo>
                      <a:lnTo>
                        <a:pt x="863" y="2"/>
                      </a:lnTo>
                      <a:lnTo>
                        <a:pt x="844" y="2"/>
                      </a:lnTo>
                      <a:lnTo>
                        <a:pt x="825" y="1"/>
                      </a:lnTo>
                      <a:lnTo>
                        <a:pt x="807" y="1"/>
                      </a:lnTo>
                      <a:lnTo>
                        <a:pt x="789" y="1"/>
                      </a:lnTo>
                      <a:lnTo>
                        <a:pt x="771" y="1"/>
                      </a:lnTo>
                      <a:lnTo>
                        <a:pt x="752" y="1"/>
                      </a:lnTo>
                      <a:lnTo>
                        <a:pt x="733" y="1"/>
                      </a:lnTo>
                      <a:lnTo>
                        <a:pt x="716" y="1"/>
                      </a:lnTo>
                      <a:lnTo>
                        <a:pt x="698" y="1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43" y="0"/>
                      </a:lnTo>
                      <a:lnTo>
                        <a:pt x="625" y="0"/>
                      </a:lnTo>
                      <a:lnTo>
                        <a:pt x="608" y="0"/>
                      </a:lnTo>
                      <a:lnTo>
                        <a:pt x="590" y="0"/>
                      </a:lnTo>
                      <a:lnTo>
                        <a:pt x="572" y="0"/>
                      </a:lnTo>
                      <a:lnTo>
                        <a:pt x="554" y="1"/>
                      </a:lnTo>
                      <a:lnTo>
                        <a:pt x="536" y="1"/>
                      </a:lnTo>
                      <a:lnTo>
                        <a:pt x="519" y="1"/>
                      </a:lnTo>
                      <a:lnTo>
                        <a:pt x="501" y="1"/>
                      </a:lnTo>
                      <a:lnTo>
                        <a:pt x="483" y="1"/>
                      </a:lnTo>
                      <a:lnTo>
                        <a:pt x="465" y="1"/>
                      </a:lnTo>
                      <a:lnTo>
                        <a:pt x="447" y="1"/>
                      </a:lnTo>
                      <a:lnTo>
                        <a:pt x="430" y="1"/>
                      </a:lnTo>
                      <a:lnTo>
                        <a:pt x="412" y="1"/>
                      </a:lnTo>
                      <a:lnTo>
                        <a:pt x="394" y="1"/>
                      </a:lnTo>
                      <a:lnTo>
                        <a:pt x="376" y="2"/>
                      </a:lnTo>
                      <a:lnTo>
                        <a:pt x="359" y="2"/>
                      </a:lnTo>
                      <a:lnTo>
                        <a:pt x="342" y="3"/>
                      </a:lnTo>
                      <a:lnTo>
                        <a:pt x="324" y="3"/>
                      </a:lnTo>
                      <a:lnTo>
                        <a:pt x="307" y="4"/>
                      </a:lnTo>
                      <a:lnTo>
                        <a:pt x="291" y="4"/>
                      </a:lnTo>
                      <a:lnTo>
                        <a:pt x="273" y="4"/>
                      </a:lnTo>
                      <a:lnTo>
                        <a:pt x="255" y="4"/>
                      </a:lnTo>
                      <a:lnTo>
                        <a:pt x="237" y="4"/>
                      </a:lnTo>
                      <a:lnTo>
                        <a:pt x="221" y="5"/>
                      </a:lnTo>
                      <a:lnTo>
                        <a:pt x="203" y="7"/>
                      </a:lnTo>
                      <a:lnTo>
                        <a:pt x="186" y="7"/>
                      </a:lnTo>
                      <a:lnTo>
                        <a:pt x="169" y="7"/>
                      </a:lnTo>
                      <a:lnTo>
                        <a:pt x="151" y="7"/>
                      </a:lnTo>
                      <a:lnTo>
                        <a:pt x="135" y="8"/>
                      </a:lnTo>
                      <a:lnTo>
                        <a:pt x="118" y="8"/>
                      </a:lnTo>
                      <a:lnTo>
                        <a:pt x="101" y="9"/>
                      </a:lnTo>
                      <a:lnTo>
                        <a:pt x="83" y="9"/>
                      </a:lnTo>
                      <a:lnTo>
                        <a:pt x="68" y="9"/>
                      </a:lnTo>
                      <a:lnTo>
                        <a:pt x="50" y="10"/>
                      </a:lnTo>
                      <a:lnTo>
                        <a:pt x="33" y="11"/>
                      </a:lnTo>
                      <a:lnTo>
                        <a:pt x="17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Freeform 16"/>
                <p:cNvSpPr/>
                <p:nvPr/>
              </p:nvSpPr>
              <p:spPr>
                <a:xfrm>
                  <a:off x="990720" y="2381400"/>
                  <a:ext cx="106200" cy="20340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02" h="383">
                      <a:moveTo>
                        <a:pt x="109" y="6"/>
                      </a:moveTo>
                      <a:lnTo>
                        <a:pt x="104" y="13"/>
                      </a:lnTo>
                      <a:lnTo>
                        <a:pt x="101" y="20"/>
                      </a:lnTo>
                      <a:lnTo>
                        <a:pt x="98" y="27"/>
                      </a:lnTo>
                      <a:lnTo>
                        <a:pt x="96" y="34"/>
                      </a:lnTo>
                      <a:lnTo>
                        <a:pt x="94" y="42"/>
                      </a:lnTo>
                      <a:lnTo>
                        <a:pt x="90" y="49"/>
                      </a:lnTo>
                      <a:lnTo>
                        <a:pt x="88" y="56"/>
                      </a:lnTo>
                      <a:lnTo>
                        <a:pt x="85" y="63"/>
                      </a:lnTo>
                      <a:lnTo>
                        <a:pt x="82" y="69"/>
                      </a:lnTo>
                      <a:lnTo>
                        <a:pt x="79" y="76"/>
                      </a:lnTo>
                      <a:lnTo>
                        <a:pt x="77" y="82"/>
                      </a:lnTo>
                      <a:lnTo>
                        <a:pt x="75" y="88"/>
                      </a:lnTo>
                      <a:lnTo>
                        <a:pt x="72" y="95"/>
                      </a:lnTo>
                      <a:lnTo>
                        <a:pt x="70" y="101"/>
                      </a:lnTo>
                      <a:lnTo>
                        <a:pt x="68" y="108"/>
                      </a:lnTo>
                      <a:lnTo>
                        <a:pt x="65" y="114"/>
                      </a:lnTo>
                      <a:lnTo>
                        <a:pt x="63" y="121"/>
                      </a:lnTo>
                      <a:lnTo>
                        <a:pt x="61" y="126"/>
                      </a:lnTo>
                      <a:lnTo>
                        <a:pt x="58" y="133"/>
                      </a:lnTo>
                      <a:lnTo>
                        <a:pt x="56" y="139"/>
                      </a:lnTo>
                      <a:lnTo>
                        <a:pt x="53" y="145"/>
                      </a:lnTo>
                      <a:lnTo>
                        <a:pt x="52" y="152"/>
                      </a:lnTo>
                      <a:lnTo>
                        <a:pt x="50" y="157"/>
                      </a:lnTo>
                      <a:lnTo>
                        <a:pt x="49" y="164"/>
                      </a:lnTo>
                      <a:lnTo>
                        <a:pt x="46" y="170"/>
                      </a:lnTo>
                      <a:lnTo>
                        <a:pt x="45" y="175"/>
                      </a:lnTo>
                      <a:lnTo>
                        <a:pt x="43" y="180"/>
                      </a:lnTo>
                      <a:lnTo>
                        <a:pt x="42" y="186"/>
                      </a:lnTo>
                      <a:lnTo>
                        <a:pt x="39" y="192"/>
                      </a:lnTo>
                      <a:lnTo>
                        <a:pt x="38" y="198"/>
                      </a:lnTo>
                      <a:lnTo>
                        <a:pt x="37" y="204"/>
                      </a:lnTo>
                      <a:lnTo>
                        <a:pt x="36" y="210"/>
                      </a:lnTo>
                      <a:lnTo>
                        <a:pt x="33" y="215"/>
                      </a:lnTo>
                      <a:lnTo>
                        <a:pt x="32" y="221"/>
                      </a:lnTo>
                      <a:lnTo>
                        <a:pt x="31" y="226"/>
                      </a:lnTo>
                      <a:lnTo>
                        <a:pt x="28" y="232"/>
                      </a:lnTo>
                      <a:lnTo>
                        <a:pt x="28" y="237"/>
                      </a:lnTo>
                      <a:lnTo>
                        <a:pt x="26" y="243"/>
                      </a:lnTo>
                      <a:lnTo>
                        <a:pt x="25" y="248"/>
                      </a:lnTo>
                      <a:lnTo>
                        <a:pt x="23" y="253"/>
                      </a:lnTo>
                      <a:lnTo>
                        <a:pt x="21" y="259"/>
                      </a:lnTo>
                      <a:lnTo>
                        <a:pt x="20" y="264"/>
                      </a:lnTo>
                      <a:lnTo>
                        <a:pt x="20" y="269"/>
                      </a:lnTo>
                      <a:lnTo>
                        <a:pt x="18" y="275"/>
                      </a:lnTo>
                      <a:lnTo>
                        <a:pt x="18" y="281"/>
                      </a:lnTo>
                      <a:lnTo>
                        <a:pt x="15" y="286"/>
                      </a:lnTo>
                      <a:lnTo>
                        <a:pt x="15" y="291"/>
                      </a:lnTo>
                      <a:lnTo>
                        <a:pt x="14" y="297"/>
                      </a:lnTo>
                      <a:lnTo>
                        <a:pt x="13" y="302"/>
                      </a:lnTo>
                      <a:lnTo>
                        <a:pt x="12" y="307"/>
                      </a:lnTo>
                      <a:lnTo>
                        <a:pt x="11" y="312"/>
                      </a:lnTo>
                      <a:lnTo>
                        <a:pt x="11" y="319"/>
                      </a:lnTo>
                      <a:lnTo>
                        <a:pt x="8" y="324"/>
                      </a:lnTo>
                      <a:lnTo>
                        <a:pt x="7" y="329"/>
                      </a:lnTo>
                      <a:lnTo>
                        <a:pt x="7" y="334"/>
                      </a:lnTo>
                      <a:lnTo>
                        <a:pt x="7" y="340"/>
                      </a:lnTo>
                      <a:lnTo>
                        <a:pt x="5" y="345"/>
                      </a:lnTo>
                      <a:lnTo>
                        <a:pt x="5" y="350"/>
                      </a:lnTo>
                      <a:lnTo>
                        <a:pt x="5" y="356"/>
                      </a:lnTo>
                      <a:lnTo>
                        <a:pt x="4" y="362"/>
                      </a:lnTo>
                      <a:lnTo>
                        <a:pt x="2" y="367"/>
                      </a:lnTo>
                      <a:lnTo>
                        <a:pt x="2" y="372"/>
                      </a:lnTo>
                      <a:lnTo>
                        <a:pt x="1" y="378"/>
                      </a:lnTo>
                      <a:lnTo>
                        <a:pt x="0" y="383"/>
                      </a:lnTo>
                      <a:lnTo>
                        <a:pt x="93" y="383"/>
                      </a:lnTo>
                      <a:lnTo>
                        <a:pt x="93" y="378"/>
                      </a:lnTo>
                      <a:lnTo>
                        <a:pt x="94" y="372"/>
                      </a:lnTo>
                      <a:lnTo>
                        <a:pt x="94" y="367"/>
                      </a:lnTo>
                      <a:lnTo>
                        <a:pt x="95" y="362"/>
                      </a:lnTo>
                      <a:lnTo>
                        <a:pt x="96" y="357"/>
                      </a:lnTo>
                      <a:lnTo>
                        <a:pt x="96" y="351"/>
                      </a:lnTo>
                      <a:lnTo>
                        <a:pt x="98" y="347"/>
                      </a:lnTo>
                      <a:lnTo>
                        <a:pt x="98" y="342"/>
                      </a:lnTo>
                      <a:lnTo>
                        <a:pt x="100" y="336"/>
                      </a:lnTo>
                      <a:lnTo>
                        <a:pt x="101" y="331"/>
                      </a:lnTo>
                      <a:lnTo>
                        <a:pt x="101" y="325"/>
                      </a:lnTo>
                      <a:lnTo>
                        <a:pt x="103" y="321"/>
                      </a:lnTo>
                      <a:lnTo>
                        <a:pt x="104" y="315"/>
                      </a:lnTo>
                      <a:lnTo>
                        <a:pt x="107" y="310"/>
                      </a:lnTo>
                      <a:lnTo>
                        <a:pt x="107" y="304"/>
                      </a:lnTo>
                      <a:lnTo>
                        <a:pt x="109" y="299"/>
                      </a:lnTo>
                      <a:lnTo>
                        <a:pt x="109" y="293"/>
                      </a:lnTo>
                      <a:lnTo>
                        <a:pt x="112" y="288"/>
                      </a:lnTo>
                      <a:lnTo>
                        <a:pt x="113" y="284"/>
                      </a:lnTo>
                      <a:lnTo>
                        <a:pt x="114" y="278"/>
                      </a:lnTo>
                      <a:lnTo>
                        <a:pt x="116" y="272"/>
                      </a:lnTo>
                      <a:lnTo>
                        <a:pt x="117" y="266"/>
                      </a:lnTo>
                      <a:lnTo>
                        <a:pt x="119" y="261"/>
                      </a:lnTo>
                      <a:lnTo>
                        <a:pt x="121" y="255"/>
                      </a:lnTo>
                      <a:lnTo>
                        <a:pt x="122" y="249"/>
                      </a:lnTo>
                      <a:lnTo>
                        <a:pt x="125" y="243"/>
                      </a:lnTo>
                      <a:lnTo>
                        <a:pt x="126" y="237"/>
                      </a:lnTo>
                      <a:lnTo>
                        <a:pt x="127" y="233"/>
                      </a:lnTo>
                      <a:lnTo>
                        <a:pt x="129" y="227"/>
                      </a:lnTo>
                      <a:lnTo>
                        <a:pt x="132" y="221"/>
                      </a:lnTo>
                      <a:lnTo>
                        <a:pt x="133" y="215"/>
                      </a:lnTo>
                      <a:lnTo>
                        <a:pt x="134" y="209"/>
                      </a:lnTo>
                      <a:lnTo>
                        <a:pt x="136" y="203"/>
                      </a:lnTo>
                      <a:lnTo>
                        <a:pt x="138" y="197"/>
                      </a:lnTo>
                      <a:lnTo>
                        <a:pt x="140" y="190"/>
                      </a:lnTo>
                      <a:lnTo>
                        <a:pt x="142" y="185"/>
                      </a:lnTo>
                      <a:lnTo>
                        <a:pt x="144" y="178"/>
                      </a:lnTo>
                      <a:lnTo>
                        <a:pt x="145" y="172"/>
                      </a:lnTo>
                      <a:lnTo>
                        <a:pt x="147" y="166"/>
                      </a:lnTo>
                      <a:lnTo>
                        <a:pt x="150" y="160"/>
                      </a:lnTo>
                      <a:lnTo>
                        <a:pt x="152" y="154"/>
                      </a:lnTo>
                      <a:lnTo>
                        <a:pt x="153" y="147"/>
                      </a:lnTo>
                      <a:lnTo>
                        <a:pt x="155" y="141"/>
                      </a:lnTo>
                      <a:lnTo>
                        <a:pt x="158" y="134"/>
                      </a:lnTo>
                      <a:lnTo>
                        <a:pt x="159" y="128"/>
                      </a:lnTo>
                      <a:lnTo>
                        <a:pt x="163" y="121"/>
                      </a:lnTo>
                      <a:lnTo>
                        <a:pt x="164" y="116"/>
                      </a:lnTo>
                      <a:lnTo>
                        <a:pt x="166" y="109"/>
                      </a:lnTo>
                      <a:lnTo>
                        <a:pt x="168" y="103"/>
                      </a:lnTo>
                      <a:lnTo>
                        <a:pt x="171" y="96"/>
                      </a:lnTo>
                      <a:lnTo>
                        <a:pt x="172" y="89"/>
                      </a:lnTo>
                      <a:lnTo>
                        <a:pt x="174" y="83"/>
                      </a:lnTo>
                      <a:lnTo>
                        <a:pt x="177" y="76"/>
                      </a:lnTo>
                      <a:lnTo>
                        <a:pt x="179" y="70"/>
                      </a:lnTo>
                      <a:lnTo>
                        <a:pt x="182" y="63"/>
                      </a:lnTo>
                      <a:lnTo>
                        <a:pt x="184" y="56"/>
                      </a:lnTo>
                      <a:lnTo>
                        <a:pt x="185" y="49"/>
                      </a:lnTo>
                      <a:lnTo>
                        <a:pt x="187" y="43"/>
                      </a:lnTo>
                      <a:lnTo>
                        <a:pt x="190" y="36"/>
                      </a:lnTo>
                      <a:lnTo>
                        <a:pt x="192" y="29"/>
                      </a:lnTo>
                      <a:lnTo>
                        <a:pt x="195" y="21"/>
                      </a:lnTo>
                      <a:lnTo>
                        <a:pt x="197" y="15"/>
                      </a:lnTo>
                      <a:lnTo>
                        <a:pt x="198" y="7"/>
                      </a:lnTo>
                      <a:lnTo>
                        <a:pt x="202" y="0"/>
                      </a:lnTo>
                      <a:lnTo>
                        <a:pt x="109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Freeform 17"/>
                <p:cNvSpPr/>
                <p:nvPr/>
              </p:nvSpPr>
              <p:spPr>
                <a:xfrm>
                  <a:off x="1641240" y="2383200"/>
                  <a:ext cx="101520" cy="1965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193" h="372">
                      <a:moveTo>
                        <a:pt x="74" y="0"/>
                      </a:moveTo>
                      <a:lnTo>
                        <a:pt x="0" y="49"/>
                      </a:lnTo>
                      <a:lnTo>
                        <a:pt x="3" y="54"/>
                      </a:lnTo>
                      <a:lnTo>
                        <a:pt x="5" y="60"/>
                      </a:lnTo>
                      <a:lnTo>
                        <a:pt x="9" y="66"/>
                      </a:lnTo>
                      <a:lnTo>
                        <a:pt x="11" y="72"/>
                      </a:lnTo>
                      <a:lnTo>
                        <a:pt x="15" y="76"/>
                      </a:lnTo>
                      <a:lnTo>
                        <a:pt x="17" y="82"/>
                      </a:lnTo>
                      <a:lnTo>
                        <a:pt x="21" y="88"/>
                      </a:lnTo>
                      <a:lnTo>
                        <a:pt x="23" y="94"/>
                      </a:lnTo>
                      <a:lnTo>
                        <a:pt x="25" y="99"/>
                      </a:lnTo>
                      <a:lnTo>
                        <a:pt x="28" y="104"/>
                      </a:lnTo>
                      <a:lnTo>
                        <a:pt x="30" y="110"/>
                      </a:lnTo>
                      <a:lnTo>
                        <a:pt x="34" y="114"/>
                      </a:lnTo>
                      <a:lnTo>
                        <a:pt x="36" y="120"/>
                      </a:lnTo>
                      <a:lnTo>
                        <a:pt x="38" y="126"/>
                      </a:lnTo>
                      <a:lnTo>
                        <a:pt x="41" y="131"/>
                      </a:lnTo>
                      <a:lnTo>
                        <a:pt x="43" y="137"/>
                      </a:lnTo>
                      <a:lnTo>
                        <a:pt x="45" y="142"/>
                      </a:lnTo>
                      <a:lnTo>
                        <a:pt x="48" y="148"/>
                      </a:lnTo>
                      <a:lnTo>
                        <a:pt x="50" y="152"/>
                      </a:lnTo>
                      <a:lnTo>
                        <a:pt x="53" y="157"/>
                      </a:lnTo>
                      <a:lnTo>
                        <a:pt x="54" y="162"/>
                      </a:lnTo>
                      <a:lnTo>
                        <a:pt x="56" y="168"/>
                      </a:lnTo>
                      <a:lnTo>
                        <a:pt x="59" y="173"/>
                      </a:lnTo>
                      <a:lnTo>
                        <a:pt x="61" y="178"/>
                      </a:lnTo>
                      <a:lnTo>
                        <a:pt x="63" y="183"/>
                      </a:lnTo>
                      <a:lnTo>
                        <a:pt x="64" y="188"/>
                      </a:lnTo>
                      <a:lnTo>
                        <a:pt x="66" y="194"/>
                      </a:lnTo>
                      <a:lnTo>
                        <a:pt x="68" y="199"/>
                      </a:lnTo>
                      <a:lnTo>
                        <a:pt x="70" y="203"/>
                      </a:lnTo>
                      <a:lnTo>
                        <a:pt x="72" y="209"/>
                      </a:lnTo>
                      <a:lnTo>
                        <a:pt x="74" y="214"/>
                      </a:lnTo>
                      <a:lnTo>
                        <a:pt x="76" y="220"/>
                      </a:lnTo>
                      <a:lnTo>
                        <a:pt x="78" y="225"/>
                      </a:lnTo>
                      <a:lnTo>
                        <a:pt x="79" y="230"/>
                      </a:lnTo>
                      <a:lnTo>
                        <a:pt x="80" y="234"/>
                      </a:lnTo>
                      <a:lnTo>
                        <a:pt x="81" y="239"/>
                      </a:lnTo>
                      <a:lnTo>
                        <a:pt x="83" y="244"/>
                      </a:lnTo>
                      <a:lnTo>
                        <a:pt x="85" y="248"/>
                      </a:lnTo>
                      <a:lnTo>
                        <a:pt x="86" y="253"/>
                      </a:lnTo>
                      <a:lnTo>
                        <a:pt x="87" y="259"/>
                      </a:lnTo>
                      <a:lnTo>
                        <a:pt x="89" y="264"/>
                      </a:lnTo>
                      <a:lnTo>
                        <a:pt x="89" y="269"/>
                      </a:lnTo>
                      <a:lnTo>
                        <a:pt x="92" y="273"/>
                      </a:lnTo>
                      <a:lnTo>
                        <a:pt x="92" y="278"/>
                      </a:lnTo>
                      <a:lnTo>
                        <a:pt x="93" y="283"/>
                      </a:lnTo>
                      <a:lnTo>
                        <a:pt x="94" y="288"/>
                      </a:lnTo>
                      <a:lnTo>
                        <a:pt x="95" y="292"/>
                      </a:lnTo>
                      <a:lnTo>
                        <a:pt x="97" y="297"/>
                      </a:lnTo>
                      <a:lnTo>
                        <a:pt x="97" y="302"/>
                      </a:lnTo>
                      <a:lnTo>
                        <a:pt x="98" y="307"/>
                      </a:lnTo>
                      <a:lnTo>
                        <a:pt x="99" y="311"/>
                      </a:lnTo>
                      <a:lnTo>
                        <a:pt x="99" y="316"/>
                      </a:lnTo>
                      <a:lnTo>
                        <a:pt x="100" y="320"/>
                      </a:lnTo>
                      <a:lnTo>
                        <a:pt x="101" y="324"/>
                      </a:lnTo>
                      <a:lnTo>
                        <a:pt x="101" y="329"/>
                      </a:lnTo>
                      <a:lnTo>
                        <a:pt x="102" y="335"/>
                      </a:lnTo>
                      <a:lnTo>
                        <a:pt x="102" y="339"/>
                      </a:lnTo>
                      <a:lnTo>
                        <a:pt x="104" y="343"/>
                      </a:lnTo>
                      <a:lnTo>
                        <a:pt x="104" y="348"/>
                      </a:lnTo>
                      <a:lnTo>
                        <a:pt x="104" y="353"/>
                      </a:lnTo>
                      <a:lnTo>
                        <a:pt x="105" y="358"/>
                      </a:lnTo>
                      <a:lnTo>
                        <a:pt x="105" y="362"/>
                      </a:lnTo>
                      <a:lnTo>
                        <a:pt x="106" y="367"/>
                      </a:lnTo>
                      <a:lnTo>
                        <a:pt x="106" y="372"/>
                      </a:lnTo>
                      <a:lnTo>
                        <a:pt x="193" y="366"/>
                      </a:lnTo>
                      <a:lnTo>
                        <a:pt x="191" y="360"/>
                      </a:lnTo>
                      <a:lnTo>
                        <a:pt x="191" y="355"/>
                      </a:lnTo>
                      <a:lnTo>
                        <a:pt x="190" y="349"/>
                      </a:lnTo>
                      <a:lnTo>
                        <a:pt x="190" y="345"/>
                      </a:lnTo>
                      <a:lnTo>
                        <a:pt x="190" y="340"/>
                      </a:lnTo>
                      <a:lnTo>
                        <a:pt x="189" y="334"/>
                      </a:lnTo>
                      <a:lnTo>
                        <a:pt x="188" y="329"/>
                      </a:lnTo>
                      <a:lnTo>
                        <a:pt x="188" y="323"/>
                      </a:lnTo>
                      <a:lnTo>
                        <a:pt x="188" y="317"/>
                      </a:lnTo>
                      <a:lnTo>
                        <a:pt x="186" y="313"/>
                      </a:lnTo>
                      <a:lnTo>
                        <a:pt x="186" y="307"/>
                      </a:lnTo>
                      <a:lnTo>
                        <a:pt x="186" y="302"/>
                      </a:lnTo>
                      <a:lnTo>
                        <a:pt x="183" y="297"/>
                      </a:lnTo>
                      <a:lnTo>
                        <a:pt x="182" y="291"/>
                      </a:lnTo>
                      <a:lnTo>
                        <a:pt x="182" y="286"/>
                      </a:lnTo>
                      <a:lnTo>
                        <a:pt x="182" y="282"/>
                      </a:lnTo>
                      <a:lnTo>
                        <a:pt x="180" y="276"/>
                      </a:lnTo>
                      <a:lnTo>
                        <a:pt x="180" y="269"/>
                      </a:lnTo>
                      <a:lnTo>
                        <a:pt x="177" y="264"/>
                      </a:lnTo>
                      <a:lnTo>
                        <a:pt x="177" y="259"/>
                      </a:lnTo>
                      <a:lnTo>
                        <a:pt x="175" y="253"/>
                      </a:lnTo>
                      <a:lnTo>
                        <a:pt x="174" y="247"/>
                      </a:lnTo>
                      <a:lnTo>
                        <a:pt x="172" y="241"/>
                      </a:lnTo>
                      <a:lnTo>
                        <a:pt x="171" y="235"/>
                      </a:lnTo>
                      <a:lnTo>
                        <a:pt x="170" y="231"/>
                      </a:lnTo>
                      <a:lnTo>
                        <a:pt x="168" y="225"/>
                      </a:lnTo>
                      <a:lnTo>
                        <a:pt x="167" y="219"/>
                      </a:lnTo>
                      <a:lnTo>
                        <a:pt x="165" y="214"/>
                      </a:lnTo>
                      <a:lnTo>
                        <a:pt x="163" y="208"/>
                      </a:lnTo>
                      <a:lnTo>
                        <a:pt x="162" y="203"/>
                      </a:lnTo>
                      <a:lnTo>
                        <a:pt x="159" y="197"/>
                      </a:lnTo>
                      <a:lnTo>
                        <a:pt x="158" y="192"/>
                      </a:lnTo>
                      <a:lnTo>
                        <a:pt x="156" y="186"/>
                      </a:lnTo>
                      <a:lnTo>
                        <a:pt x="155" y="180"/>
                      </a:lnTo>
                      <a:lnTo>
                        <a:pt x="152" y="175"/>
                      </a:lnTo>
                      <a:lnTo>
                        <a:pt x="150" y="169"/>
                      </a:lnTo>
                      <a:lnTo>
                        <a:pt x="148" y="163"/>
                      </a:lnTo>
                      <a:lnTo>
                        <a:pt x="146" y="157"/>
                      </a:lnTo>
                      <a:lnTo>
                        <a:pt x="144" y="152"/>
                      </a:lnTo>
                      <a:lnTo>
                        <a:pt x="142" y="145"/>
                      </a:lnTo>
                      <a:lnTo>
                        <a:pt x="139" y="139"/>
                      </a:lnTo>
                      <a:lnTo>
                        <a:pt x="137" y="135"/>
                      </a:lnTo>
                      <a:lnTo>
                        <a:pt x="134" y="127"/>
                      </a:lnTo>
                      <a:lnTo>
                        <a:pt x="132" y="121"/>
                      </a:lnTo>
                      <a:lnTo>
                        <a:pt x="130" y="116"/>
                      </a:lnTo>
                      <a:lnTo>
                        <a:pt x="127" y="110"/>
                      </a:lnTo>
                      <a:lnTo>
                        <a:pt x="125" y="104"/>
                      </a:lnTo>
                      <a:lnTo>
                        <a:pt x="123" y="99"/>
                      </a:lnTo>
                      <a:lnTo>
                        <a:pt x="119" y="92"/>
                      </a:lnTo>
                      <a:lnTo>
                        <a:pt x="117" y="86"/>
                      </a:lnTo>
                      <a:lnTo>
                        <a:pt x="114" y="80"/>
                      </a:lnTo>
                      <a:lnTo>
                        <a:pt x="111" y="74"/>
                      </a:lnTo>
                      <a:lnTo>
                        <a:pt x="108" y="68"/>
                      </a:lnTo>
                      <a:lnTo>
                        <a:pt x="105" y="62"/>
                      </a:lnTo>
                      <a:lnTo>
                        <a:pt x="102" y="56"/>
                      </a:lnTo>
                      <a:lnTo>
                        <a:pt x="99" y="50"/>
                      </a:lnTo>
                      <a:lnTo>
                        <a:pt x="97" y="43"/>
                      </a:lnTo>
                      <a:lnTo>
                        <a:pt x="93" y="37"/>
                      </a:lnTo>
                      <a:lnTo>
                        <a:pt x="89" y="31"/>
                      </a:lnTo>
                      <a:lnTo>
                        <a:pt x="86" y="25"/>
                      </a:lnTo>
                      <a:lnTo>
                        <a:pt x="83" y="18"/>
                      </a:lnTo>
                      <a:lnTo>
                        <a:pt x="80" y="12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Freeform 18"/>
                <p:cNvSpPr/>
                <p:nvPr/>
              </p:nvSpPr>
              <p:spPr>
                <a:xfrm>
                  <a:off x="1111320" y="2443320"/>
                  <a:ext cx="39240" cy="414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9">
                      <a:moveTo>
                        <a:pt x="38" y="79"/>
                      </a:moveTo>
                      <a:lnTo>
                        <a:pt x="41" y="78"/>
                      </a:lnTo>
                      <a:lnTo>
                        <a:pt x="45" y="78"/>
                      </a:lnTo>
                      <a:lnTo>
                        <a:pt x="49" y="76"/>
                      </a:lnTo>
                      <a:lnTo>
                        <a:pt x="53" y="75"/>
                      </a:lnTo>
                      <a:lnTo>
                        <a:pt x="57" y="73"/>
                      </a:lnTo>
                      <a:lnTo>
                        <a:pt x="59" y="72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3"/>
                      </a:lnTo>
                      <a:lnTo>
                        <a:pt x="70" y="61"/>
                      </a:lnTo>
                      <a:lnTo>
                        <a:pt x="72" y="57"/>
                      </a:lnTo>
                      <a:lnTo>
                        <a:pt x="74" y="55"/>
                      </a:lnTo>
                      <a:lnTo>
                        <a:pt x="74" y="51"/>
                      </a:lnTo>
                      <a:lnTo>
                        <a:pt x="77" y="47"/>
                      </a:lnTo>
                      <a:lnTo>
                        <a:pt x="77" y="43"/>
                      </a:lnTo>
                      <a:lnTo>
                        <a:pt x="77" y="40"/>
                      </a:lnTo>
                      <a:lnTo>
                        <a:pt x="77" y="36"/>
                      </a:lnTo>
                      <a:lnTo>
                        <a:pt x="77" y="31"/>
                      </a:lnTo>
                      <a:lnTo>
                        <a:pt x="74" y="28"/>
                      </a:lnTo>
                      <a:lnTo>
                        <a:pt x="74" y="24"/>
                      </a:lnTo>
                      <a:lnTo>
                        <a:pt x="72" y="21"/>
                      </a:lnTo>
                      <a:lnTo>
                        <a:pt x="70" y="18"/>
                      </a:lnTo>
                      <a:lnTo>
                        <a:pt x="67" y="15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9" y="7"/>
                      </a:lnTo>
                      <a:lnTo>
                        <a:pt x="57" y="5"/>
                      </a:lnTo>
                      <a:lnTo>
                        <a:pt x="53" y="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3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1" y="47"/>
                      </a:lnTo>
                      <a:lnTo>
                        <a:pt x="1" y="51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8" y="63"/>
                      </a:lnTo>
                      <a:lnTo>
                        <a:pt x="11" y="67"/>
                      </a:lnTo>
                      <a:lnTo>
                        <a:pt x="14" y="69"/>
                      </a:lnTo>
                      <a:lnTo>
                        <a:pt x="16" y="72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8"/>
                      </a:lnTo>
                      <a:lnTo>
                        <a:pt x="34" y="78"/>
                      </a:lnTo>
                      <a:lnTo>
                        <a:pt x="38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Freeform 19"/>
                <p:cNvSpPr/>
                <p:nvPr/>
              </p:nvSpPr>
              <p:spPr>
                <a:xfrm>
                  <a:off x="1191960" y="244656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3" y="76"/>
                      </a:lnTo>
                      <a:lnTo>
                        <a:pt x="46" y="76"/>
                      </a:lnTo>
                      <a:lnTo>
                        <a:pt x="50" y="75"/>
                      </a:lnTo>
                      <a:lnTo>
                        <a:pt x="53" y="74"/>
                      </a:lnTo>
                      <a:lnTo>
                        <a:pt x="56" y="71"/>
                      </a:lnTo>
                      <a:lnTo>
                        <a:pt x="59" y="70"/>
                      </a:lnTo>
                      <a:lnTo>
                        <a:pt x="63" y="68"/>
                      </a:lnTo>
                      <a:lnTo>
                        <a:pt x="67" y="65"/>
                      </a:lnTo>
                      <a:lnTo>
                        <a:pt x="69" y="62"/>
                      </a:lnTo>
                      <a:lnTo>
                        <a:pt x="71" y="59"/>
                      </a:lnTo>
                      <a:lnTo>
                        <a:pt x="72" y="56"/>
                      </a:lnTo>
                      <a:lnTo>
                        <a:pt x="74" y="54"/>
                      </a:lnTo>
                      <a:lnTo>
                        <a:pt x="75" y="49"/>
                      </a:lnTo>
                      <a:lnTo>
                        <a:pt x="76" y="46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76" y="31"/>
                      </a:lnTo>
                      <a:lnTo>
                        <a:pt x="75" y="26"/>
                      </a:lnTo>
                      <a:lnTo>
                        <a:pt x="74" y="23"/>
                      </a:lnTo>
                      <a:lnTo>
                        <a:pt x="72" y="19"/>
                      </a:lnTo>
                      <a:lnTo>
                        <a:pt x="71" y="16"/>
                      </a:lnTo>
                      <a:lnTo>
                        <a:pt x="69" y="13"/>
                      </a:lnTo>
                      <a:lnTo>
                        <a:pt x="67" y="11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3" y="2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2" y="54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5"/>
                      </a:lnTo>
                      <a:lnTo>
                        <a:pt x="13" y="68"/>
                      </a:lnTo>
                      <a:lnTo>
                        <a:pt x="17" y="70"/>
                      </a:lnTo>
                      <a:lnTo>
                        <a:pt x="20" y="71"/>
                      </a:lnTo>
                      <a:lnTo>
                        <a:pt x="23" y="74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Freeform 20"/>
                <p:cNvSpPr/>
                <p:nvPr/>
              </p:nvSpPr>
              <p:spPr>
                <a:xfrm>
                  <a:off x="126972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41" y="77"/>
                      </a:moveTo>
                      <a:lnTo>
                        <a:pt x="43" y="76"/>
                      </a:lnTo>
                      <a:lnTo>
                        <a:pt x="48" y="76"/>
                      </a:lnTo>
                      <a:lnTo>
                        <a:pt x="51" y="75"/>
                      </a:lnTo>
                      <a:lnTo>
                        <a:pt x="55" y="73"/>
                      </a:lnTo>
                      <a:lnTo>
                        <a:pt x="57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1" y="59"/>
                      </a:lnTo>
                      <a:lnTo>
                        <a:pt x="74" y="56"/>
                      </a:lnTo>
                      <a:lnTo>
                        <a:pt x="75" y="53"/>
                      </a:lnTo>
                      <a:lnTo>
                        <a:pt x="76" y="48"/>
                      </a:lnTo>
                      <a:lnTo>
                        <a:pt x="77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7" y="31"/>
                      </a:lnTo>
                      <a:lnTo>
                        <a:pt x="76" y="26"/>
                      </a:lnTo>
                      <a:lnTo>
                        <a:pt x="75" y="22"/>
                      </a:lnTo>
                      <a:lnTo>
                        <a:pt x="74" y="19"/>
                      </a:lnTo>
                      <a:lnTo>
                        <a:pt x="71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4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1" y="0"/>
                      </a:lnTo>
                      <a:lnTo>
                        <a:pt x="48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7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7" y="15"/>
                      </a:lnTo>
                      <a:lnTo>
                        <a:pt x="5" y="19"/>
                      </a:lnTo>
                      <a:lnTo>
                        <a:pt x="4" y="22"/>
                      </a:lnTo>
                      <a:lnTo>
                        <a:pt x="3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8"/>
                      </a:lnTo>
                      <a:lnTo>
                        <a:pt x="4" y="53"/>
                      </a:lnTo>
                      <a:lnTo>
                        <a:pt x="5" y="56"/>
                      </a:lnTo>
                      <a:lnTo>
                        <a:pt x="7" y="59"/>
                      </a:lnTo>
                      <a:lnTo>
                        <a:pt x="10" y="61"/>
                      </a:lnTo>
                      <a:lnTo>
                        <a:pt x="13" y="65"/>
                      </a:lnTo>
                      <a:lnTo>
                        <a:pt x="16" y="67"/>
                      </a:lnTo>
                      <a:lnTo>
                        <a:pt x="18" y="70"/>
                      </a:lnTo>
                      <a:lnTo>
                        <a:pt x="20" y="71"/>
                      </a:lnTo>
                      <a:lnTo>
                        <a:pt x="25" y="73"/>
                      </a:lnTo>
                      <a:lnTo>
                        <a:pt x="27" y="75"/>
                      </a:lnTo>
                      <a:lnTo>
                        <a:pt x="31" y="76"/>
                      </a:lnTo>
                      <a:lnTo>
                        <a:pt x="36" y="76"/>
                      </a:lnTo>
                      <a:lnTo>
                        <a:pt x="41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Freeform 21"/>
                <p:cNvSpPr/>
                <p:nvPr/>
              </p:nvSpPr>
              <p:spPr>
                <a:xfrm>
                  <a:off x="13492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6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7"/>
                      </a:lnTo>
                      <a:lnTo>
                        <a:pt x="50" y="76"/>
                      </a:lnTo>
                      <a:lnTo>
                        <a:pt x="53" y="75"/>
                      </a:lnTo>
                      <a:lnTo>
                        <a:pt x="55" y="73"/>
                      </a:lnTo>
                      <a:lnTo>
                        <a:pt x="59" y="71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4"/>
                      </a:lnTo>
                      <a:lnTo>
                        <a:pt x="70" y="61"/>
                      </a:lnTo>
                      <a:lnTo>
                        <a:pt x="71" y="57"/>
                      </a:lnTo>
                      <a:lnTo>
                        <a:pt x="73" y="55"/>
                      </a:lnTo>
                      <a:lnTo>
                        <a:pt x="74" y="51"/>
                      </a:lnTo>
                      <a:lnTo>
                        <a:pt x="76" y="46"/>
                      </a:lnTo>
                      <a:lnTo>
                        <a:pt x="76" y="43"/>
                      </a:lnTo>
                      <a:lnTo>
                        <a:pt x="76" y="39"/>
                      </a:lnTo>
                      <a:lnTo>
                        <a:pt x="76" y="36"/>
                      </a:lnTo>
                      <a:lnTo>
                        <a:pt x="76" y="31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7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7"/>
                      </a:lnTo>
                      <a:lnTo>
                        <a:pt x="55" y="5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2"/>
                      </a:lnTo>
                      <a:lnTo>
                        <a:pt x="22" y="2"/>
                      </a:lnTo>
                      <a:lnTo>
                        <a:pt x="19" y="5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6" y="17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1" y="51"/>
                      </a:lnTo>
                      <a:lnTo>
                        <a:pt x="2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7" y="64"/>
                      </a:lnTo>
                      <a:lnTo>
                        <a:pt x="10" y="67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7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Freeform 22"/>
                <p:cNvSpPr/>
                <p:nvPr/>
              </p:nvSpPr>
              <p:spPr>
                <a:xfrm>
                  <a:off x="142704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9" y="77"/>
                      </a:moveTo>
                      <a:lnTo>
                        <a:pt x="42" y="76"/>
                      </a:lnTo>
                      <a:lnTo>
                        <a:pt x="46" y="76"/>
                      </a:lnTo>
                      <a:lnTo>
                        <a:pt x="49" y="75"/>
                      </a:lnTo>
                      <a:lnTo>
                        <a:pt x="53" y="73"/>
                      </a:lnTo>
                      <a:lnTo>
                        <a:pt x="55" y="71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6" y="65"/>
                      </a:lnTo>
                      <a:lnTo>
                        <a:pt x="67" y="61"/>
                      </a:lnTo>
                      <a:lnTo>
                        <a:pt x="70" y="59"/>
                      </a:lnTo>
                      <a:lnTo>
                        <a:pt x="72" y="56"/>
                      </a:lnTo>
                      <a:lnTo>
                        <a:pt x="73" y="53"/>
                      </a:lnTo>
                      <a:lnTo>
                        <a:pt x="74" y="48"/>
                      </a:lnTo>
                      <a:lnTo>
                        <a:pt x="77" y="45"/>
                      </a:lnTo>
                      <a:lnTo>
                        <a:pt x="77" y="41"/>
                      </a:lnTo>
                      <a:lnTo>
                        <a:pt x="77" y="38"/>
                      </a:lnTo>
                      <a:lnTo>
                        <a:pt x="77" y="34"/>
                      </a:lnTo>
                      <a:lnTo>
                        <a:pt x="77" y="31"/>
                      </a:lnTo>
                      <a:lnTo>
                        <a:pt x="74" y="26"/>
                      </a:lnTo>
                      <a:lnTo>
                        <a:pt x="73" y="22"/>
                      </a:lnTo>
                      <a:lnTo>
                        <a:pt x="72" y="19"/>
                      </a:lnTo>
                      <a:lnTo>
                        <a:pt x="70" y="15"/>
                      </a:lnTo>
                      <a:lnTo>
                        <a:pt x="67" y="13"/>
                      </a:lnTo>
                      <a:lnTo>
                        <a:pt x="66" y="10"/>
                      </a:lnTo>
                      <a:lnTo>
                        <a:pt x="63" y="7"/>
                      </a:lnTo>
                      <a:lnTo>
                        <a:pt x="59" y="4"/>
                      </a:lnTo>
                      <a:lnTo>
                        <a:pt x="55" y="3"/>
                      </a:lnTo>
                      <a:lnTo>
                        <a:pt x="53" y="2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1" y="48"/>
                      </a:lnTo>
                      <a:lnTo>
                        <a:pt x="3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8" y="61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1"/>
                      </a:lnTo>
                      <a:lnTo>
                        <a:pt x="23" y="73"/>
                      </a:lnTo>
                      <a:lnTo>
                        <a:pt x="27" y="75"/>
                      </a:lnTo>
                      <a:lnTo>
                        <a:pt x="30" y="76"/>
                      </a:lnTo>
                      <a:lnTo>
                        <a:pt x="35" y="76"/>
                      </a:lnTo>
                      <a:lnTo>
                        <a:pt x="39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Freeform 23"/>
                <p:cNvSpPr/>
                <p:nvPr/>
              </p:nvSpPr>
              <p:spPr>
                <a:xfrm>
                  <a:off x="15094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39" y="78"/>
                      </a:moveTo>
                      <a:lnTo>
                        <a:pt x="43" y="77"/>
                      </a:lnTo>
                      <a:lnTo>
                        <a:pt x="46" y="77"/>
                      </a:lnTo>
                      <a:lnTo>
                        <a:pt x="50" y="76"/>
                      </a:lnTo>
                      <a:lnTo>
                        <a:pt x="55" y="75"/>
                      </a:lnTo>
                      <a:lnTo>
                        <a:pt x="57" y="73"/>
                      </a:lnTo>
                      <a:lnTo>
                        <a:pt x="61" y="71"/>
                      </a:lnTo>
                      <a:lnTo>
                        <a:pt x="63" y="69"/>
                      </a:lnTo>
                      <a:lnTo>
                        <a:pt x="67" y="67"/>
                      </a:lnTo>
                      <a:lnTo>
                        <a:pt x="68" y="64"/>
                      </a:lnTo>
                      <a:lnTo>
                        <a:pt x="70" y="61"/>
                      </a:lnTo>
                      <a:lnTo>
                        <a:pt x="74" y="57"/>
                      </a:lnTo>
                      <a:lnTo>
                        <a:pt x="75" y="55"/>
                      </a:lnTo>
                      <a:lnTo>
                        <a:pt x="76" y="51"/>
                      </a:lnTo>
                      <a:lnTo>
                        <a:pt x="77" y="46"/>
                      </a:lnTo>
                      <a:lnTo>
                        <a:pt x="78" y="43"/>
                      </a:lnTo>
                      <a:lnTo>
                        <a:pt x="78" y="39"/>
                      </a:lnTo>
                      <a:lnTo>
                        <a:pt x="78" y="36"/>
                      </a:lnTo>
                      <a:lnTo>
                        <a:pt x="77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4" y="20"/>
                      </a:lnTo>
                      <a:lnTo>
                        <a:pt x="70" y="17"/>
                      </a:lnTo>
                      <a:lnTo>
                        <a:pt x="68" y="14"/>
                      </a:lnTo>
                      <a:lnTo>
                        <a:pt x="67" y="12"/>
                      </a:lnTo>
                      <a:lnTo>
                        <a:pt x="63" y="8"/>
                      </a:lnTo>
                      <a:lnTo>
                        <a:pt x="61" y="7"/>
                      </a:lnTo>
                      <a:lnTo>
                        <a:pt x="57" y="5"/>
                      </a:lnTo>
                      <a:lnTo>
                        <a:pt x="55" y="2"/>
                      </a:lnTo>
                      <a:lnTo>
                        <a:pt x="50" y="2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5" y="20"/>
                      </a:lnTo>
                      <a:lnTo>
                        <a:pt x="4" y="24"/>
                      </a:lnTo>
                      <a:lnTo>
                        <a:pt x="2" y="27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1" y="46"/>
                      </a:lnTo>
                      <a:lnTo>
                        <a:pt x="2" y="51"/>
                      </a:lnTo>
                      <a:lnTo>
                        <a:pt x="4" y="55"/>
                      </a:lnTo>
                      <a:lnTo>
                        <a:pt x="5" y="57"/>
                      </a:lnTo>
                      <a:lnTo>
                        <a:pt x="7" y="61"/>
                      </a:lnTo>
                      <a:lnTo>
                        <a:pt x="8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8" y="71"/>
                      </a:lnTo>
                      <a:lnTo>
                        <a:pt x="20" y="73"/>
                      </a:lnTo>
                      <a:lnTo>
                        <a:pt x="24" y="75"/>
                      </a:lnTo>
                      <a:lnTo>
                        <a:pt x="27" y="76"/>
                      </a:lnTo>
                      <a:lnTo>
                        <a:pt x="31" y="77"/>
                      </a:lnTo>
                      <a:lnTo>
                        <a:pt x="36" y="77"/>
                      </a:lnTo>
                      <a:lnTo>
                        <a:pt x="39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Freeform 24"/>
                <p:cNvSpPr/>
                <p:nvPr/>
              </p:nvSpPr>
              <p:spPr>
                <a:xfrm>
                  <a:off x="1589040" y="2445120"/>
                  <a:ext cx="39240" cy="41040"/>
                </a:xfrm>
                <a:custGeom>
                  <a:avLst/>
                  <a:gdLst>
                    <a:gd name="textAreaLeft" fmla="*/ 0 w 39240"/>
                    <a:gd name="textAreaRight" fmla="*/ 39240 w 392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5" h="78">
                      <a:moveTo>
                        <a:pt x="38" y="78"/>
                      </a:moveTo>
                      <a:lnTo>
                        <a:pt x="41" y="78"/>
                      </a:lnTo>
                      <a:lnTo>
                        <a:pt x="45" y="77"/>
                      </a:lnTo>
                      <a:lnTo>
                        <a:pt x="48" y="76"/>
                      </a:lnTo>
                      <a:lnTo>
                        <a:pt x="52" y="75"/>
                      </a:lnTo>
                      <a:lnTo>
                        <a:pt x="54" y="72"/>
                      </a:lnTo>
                      <a:lnTo>
                        <a:pt x="58" y="71"/>
                      </a:lnTo>
                      <a:lnTo>
                        <a:pt x="61" y="69"/>
                      </a:lnTo>
                      <a:lnTo>
                        <a:pt x="65" y="66"/>
                      </a:lnTo>
                      <a:lnTo>
                        <a:pt x="66" y="63"/>
                      </a:lnTo>
                      <a:lnTo>
                        <a:pt x="68" y="60"/>
                      </a:lnTo>
                      <a:lnTo>
                        <a:pt x="70" y="57"/>
                      </a:lnTo>
                      <a:lnTo>
                        <a:pt x="72" y="53"/>
                      </a:lnTo>
                      <a:lnTo>
                        <a:pt x="73" y="51"/>
                      </a:lnTo>
                      <a:lnTo>
                        <a:pt x="75" y="46"/>
                      </a:lnTo>
                      <a:lnTo>
                        <a:pt x="75" y="42"/>
                      </a:lnTo>
                      <a:lnTo>
                        <a:pt x="75" y="39"/>
                      </a:lnTo>
                      <a:lnTo>
                        <a:pt x="75" y="35"/>
                      </a:lnTo>
                      <a:lnTo>
                        <a:pt x="75" y="31"/>
                      </a:lnTo>
                      <a:lnTo>
                        <a:pt x="73" y="26"/>
                      </a:lnTo>
                      <a:lnTo>
                        <a:pt x="72" y="23"/>
                      </a:lnTo>
                      <a:lnTo>
                        <a:pt x="70" y="20"/>
                      </a:lnTo>
                      <a:lnTo>
                        <a:pt x="68" y="18"/>
                      </a:lnTo>
                      <a:lnTo>
                        <a:pt x="66" y="14"/>
                      </a:lnTo>
                      <a:lnTo>
                        <a:pt x="65" y="12"/>
                      </a:lnTo>
                      <a:lnTo>
                        <a:pt x="61" y="9"/>
                      </a:lnTo>
                      <a:lnTo>
                        <a:pt x="58" y="7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19" y="4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1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6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2"/>
                      </a:lnTo>
                      <a:lnTo>
                        <a:pt x="22" y="75"/>
                      </a:lnTo>
                      <a:lnTo>
                        <a:pt x="24" y="76"/>
                      </a:lnTo>
                      <a:lnTo>
                        <a:pt x="29" y="77"/>
                      </a:lnTo>
                      <a:lnTo>
                        <a:pt x="33" y="78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Freeform 25"/>
                <p:cNvSpPr/>
                <p:nvPr/>
              </p:nvSpPr>
              <p:spPr>
                <a:xfrm>
                  <a:off x="115092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50" y="76"/>
                      </a:lnTo>
                      <a:lnTo>
                        <a:pt x="53" y="73"/>
                      </a:lnTo>
                      <a:lnTo>
                        <a:pt x="56" y="72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5" y="65"/>
                      </a:lnTo>
                      <a:lnTo>
                        <a:pt x="67" y="63"/>
                      </a:lnTo>
                      <a:lnTo>
                        <a:pt x="70" y="60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6"/>
                      </a:lnTo>
                      <a:lnTo>
                        <a:pt x="76" y="42"/>
                      </a:lnTo>
                      <a:lnTo>
                        <a:pt x="77" y="39"/>
                      </a:lnTo>
                      <a:lnTo>
                        <a:pt x="76" y="35"/>
                      </a:lnTo>
                      <a:lnTo>
                        <a:pt x="76" y="29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6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5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50"/>
                      </a:lnTo>
                      <a:lnTo>
                        <a:pt x="2" y="53"/>
                      </a:lnTo>
                      <a:lnTo>
                        <a:pt x="3" y="56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2"/>
                      </a:lnTo>
                      <a:lnTo>
                        <a:pt x="22" y="73"/>
                      </a:lnTo>
                      <a:lnTo>
                        <a:pt x="26" y="76"/>
                      </a:lnTo>
                      <a:lnTo>
                        <a:pt x="31" y="76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Freeform 26"/>
                <p:cNvSpPr/>
                <p:nvPr/>
              </p:nvSpPr>
              <p:spPr>
                <a:xfrm>
                  <a:off x="1233360" y="2492640"/>
                  <a:ext cx="42480" cy="3960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9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6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2" y="58"/>
                      </a:lnTo>
                      <a:lnTo>
                        <a:pt x="73" y="56"/>
                      </a:lnTo>
                      <a:lnTo>
                        <a:pt x="74" y="53"/>
                      </a:lnTo>
                      <a:lnTo>
                        <a:pt x="76" y="48"/>
                      </a:lnTo>
                      <a:lnTo>
                        <a:pt x="76" y="45"/>
                      </a:lnTo>
                      <a:lnTo>
                        <a:pt x="77" y="40"/>
                      </a:lnTo>
                      <a:lnTo>
                        <a:pt x="79" y="38"/>
                      </a:lnTo>
                      <a:lnTo>
                        <a:pt x="77" y="33"/>
                      </a:lnTo>
                      <a:lnTo>
                        <a:pt x="76" y="29"/>
                      </a:lnTo>
                      <a:lnTo>
                        <a:pt x="76" y="25"/>
                      </a:lnTo>
                      <a:lnTo>
                        <a:pt x="74" y="22"/>
                      </a:lnTo>
                      <a:lnTo>
                        <a:pt x="73" y="19"/>
                      </a:lnTo>
                      <a:lnTo>
                        <a:pt x="72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5"/>
                      </a:lnTo>
                      <a:lnTo>
                        <a:pt x="56" y="3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5" y="19"/>
                      </a:lnTo>
                      <a:lnTo>
                        <a:pt x="3" y="22"/>
                      </a:lnTo>
                      <a:lnTo>
                        <a:pt x="2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5"/>
                      </a:lnTo>
                      <a:lnTo>
                        <a:pt x="2" y="48"/>
                      </a:lnTo>
                      <a:lnTo>
                        <a:pt x="3" y="53"/>
                      </a:lnTo>
                      <a:lnTo>
                        <a:pt x="5" y="56"/>
                      </a:lnTo>
                      <a:lnTo>
                        <a:pt x="6" y="58"/>
                      </a:lnTo>
                      <a:lnTo>
                        <a:pt x="9" y="61"/>
                      </a:lnTo>
                      <a:lnTo>
                        <a:pt x="12" y="65"/>
                      </a:lnTo>
                      <a:lnTo>
                        <a:pt x="15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8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Freeform 27"/>
                <p:cNvSpPr/>
                <p:nvPr/>
              </p:nvSpPr>
              <p:spPr>
                <a:xfrm>
                  <a:off x="1311120" y="2491200"/>
                  <a:ext cx="42480" cy="4104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9" h="79">
                      <a:moveTo>
                        <a:pt x="40" y="79"/>
                      </a:moveTo>
                      <a:lnTo>
                        <a:pt x="43" y="79"/>
                      </a:lnTo>
                      <a:lnTo>
                        <a:pt x="47" y="78"/>
                      </a:lnTo>
                      <a:lnTo>
                        <a:pt x="52" y="76"/>
                      </a:lnTo>
                      <a:lnTo>
                        <a:pt x="54" y="75"/>
                      </a:lnTo>
                      <a:lnTo>
                        <a:pt x="57" y="73"/>
                      </a:lnTo>
                      <a:lnTo>
                        <a:pt x="61" y="70"/>
                      </a:lnTo>
                      <a:lnTo>
                        <a:pt x="63" y="68"/>
                      </a:lnTo>
                      <a:lnTo>
                        <a:pt x="67" y="67"/>
                      </a:lnTo>
                      <a:lnTo>
                        <a:pt x="69" y="63"/>
                      </a:lnTo>
                      <a:lnTo>
                        <a:pt x="72" y="61"/>
                      </a:lnTo>
                      <a:lnTo>
                        <a:pt x="73" y="59"/>
                      </a:lnTo>
                      <a:lnTo>
                        <a:pt x="75" y="55"/>
                      </a:lnTo>
                      <a:lnTo>
                        <a:pt x="76" y="50"/>
                      </a:lnTo>
                      <a:lnTo>
                        <a:pt x="78" y="48"/>
                      </a:lnTo>
                      <a:lnTo>
                        <a:pt x="78" y="43"/>
                      </a:lnTo>
                      <a:lnTo>
                        <a:pt x="79" y="41"/>
                      </a:lnTo>
                      <a:lnTo>
                        <a:pt x="78" y="35"/>
                      </a:lnTo>
                      <a:lnTo>
                        <a:pt x="78" y="31"/>
                      </a:lnTo>
                      <a:lnTo>
                        <a:pt x="76" y="28"/>
                      </a:lnTo>
                      <a:lnTo>
                        <a:pt x="75" y="25"/>
                      </a:lnTo>
                      <a:lnTo>
                        <a:pt x="73" y="21"/>
                      </a:lnTo>
                      <a:lnTo>
                        <a:pt x="72" y="18"/>
                      </a:lnTo>
                      <a:lnTo>
                        <a:pt x="69" y="15"/>
                      </a:lnTo>
                      <a:lnTo>
                        <a:pt x="67" y="12"/>
                      </a:lnTo>
                      <a:lnTo>
                        <a:pt x="63" y="10"/>
                      </a:lnTo>
                      <a:lnTo>
                        <a:pt x="61" y="8"/>
                      </a:lnTo>
                      <a:lnTo>
                        <a:pt x="57" y="5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47" y="2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2"/>
                      </a:lnTo>
                      <a:lnTo>
                        <a:pt x="28" y="3"/>
                      </a:lnTo>
                      <a:lnTo>
                        <a:pt x="24" y="4"/>
                      </a:lnTo>
                      <a:lnTo>
                        <a:pt x="21" y="5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2" y="12"/>
                      </a:lnTo>
                      <a:lnTo>
                        <a:pt x="10" y="15"/>
                      </a:lnTo>
                      <a:lnTo>
                        <a:pt x="8" y="18"/>
                      </a:lnTo>
                      <a:lnTo>
                        <a:pt x="5" y="21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2" y="31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4" y="55"/>
                      </a:lnTo>
                      <a:lnTo>
                        <a:pt x="5" y="59"/>
                      </a:lnTo>
                      <a:lnTo>
                        <a:pt x="8" y="61"/>
                      </a:lnTo>
                      <a:lnTo>
                        <a:pt x="10" y="63"/>
                      </a:lnTo>
                      <a:lnTo>
                        <a:pt x="12" y="67"/>
                      </a:lnTo>
                      <a:lnTo>
                        <a:pt x="15" y="68"/>
                      </a:lnTo>
                      <a:lnTo>
                        <a:pt x="18" y="70"/>
                      </a:lnTo>
                      <a:lnTo>
                        <a:pt x="21" y="73"/>
                      </a:lnTo>
                      <a:lnTo>
                        <a:pt x="24" y="75"/>
                      </a:lnTo>
                      <a:lnTo>
                        <a:pt x="28" y="76"/>
                      </a:lnTo>
                      <a:lnTo>
                        <a:pt x="31" y="78"/>
                      </a:lnTo>
                      <a:lnTo>
                        <a:pt x="36" y="79"/>
                      </a:lnTo>
                      <a:lnTo>
                        <a:pt x="40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Freeform 28"/>
                <p:cNvSpPr/>
                <p:nvPr/>
              </p:nvSpPr>
              <p:spPr>
                <a:xfrm>
                  <a:off x="1388880" y="249264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8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7" y="71"/>
                      </a:lnTo>
                      <a:lnTo>
                        <a:pt x="60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8" y="63"/>
                      </a:lnTo>
                      <a:lnTo>
                        <a:pt x="70" y="59"/>
                      </a:lnTo>
                      <a:lnTo>
                        <a:pt x="73" y="56"/>
                      </a:lnTo>
                      <a:lnTo>
                        <a:pt x="75" y="53"/>
                      </a:lnTo>
                      <a:lnTo>
                        <a:pt x="75" y="50"/>
                      </a:lnTo>
                      <a:lnTo>
                        <a:pt x="78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8" y="29"/>
                      </a:lnTo>
                      <a:lnTo>
                        <a:pt x="75" y="26"/>
                      </a:lnTo>
                      <a:lnTo>
                        <a:pt x="75" y="22"/>
                      </a:lnTo>
                      <a:lnTo>
                        <a:pt x="73" y="19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0" y="6"/>
                      </a:lnTo>
                      <a:lnTo>
                        <a:pt x="57" y="3"/>
                      </a:lnTo>
                      <a:lnTo>
                        <a:pt x="54" y="2"/>
                      </a:lnTo>
                      <a:lnTo>
                        <a:pt x="50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6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5"/>
                      </a:lnTo>
                      <a:lnTo>
                        <a:pt x="2" y="50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9" y="63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7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Freeform 29"/>
                <p:cNvSpPr/>
                <p:nvPr/>
              </p:nvSpPr>
              <p:spPr>
                <a:xfrm>
                  <a:off x="147168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38" y="77"/>
                      </a:moveTo>
                      <a:lnTo>
                        <a:pt x="41" y="76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3" y="72"/>
                      </a:lnTo>
                      <a:lnTo>
                        <a:pt x="56" y="71"/>
                      </a:lnTo>
                      <a:lnTo>
                        <a:pt x="60" y="69"/>
                      </a:lnTo>
                      <a:lnTo>
                        <a:pt x="63" y="66"/>
                      </a:lnTo>
                      <a:lnTo>
                        <a:pt x="65" y="64"/>
                      </a:lnTo>
                      <a:lnTo>
                        <a:pt x="67" y="62"/>
                      </a:lnTo>
                      <a:lnTo>
                        <a:pt x="70" y="59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6" y="49"/>
                      </a:lnTo>
                      <a:lnTo>
                        <a:pt x="76" y="45"/>
                      </a:lnTo>
                      <a:lnTo>
                        <a:pt x="77" y="41"/>
                      </a:lnTo>
                      <a:lnTo>
                        <a:pt x="78" y="38"/>
                      </a:lnTo>
                      <a:lnTo>
                        <a:pt x="77" y="34"/>
                      </a:lnTo>
                      <a:lnTo>
                        <a:pt x="76" y="28"/>
                      </a:lnTo>
                      <a:lnTo>
                        <a:pt x="76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3" y="8"/>
                      </a:lnTo>
                      <a:lnTo>
                        <a:pt x="60" y="6"/>
                      </a:lnTo>
                      <a:lnTo>
                        <a:pt x="56" y="4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7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9"/>
                      </a:lnTo>
                      <a:lnTo>
                        <a:pt x="2" y="53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4"/>
                      </a:lnTo>
                      <a:lnTo>
                        <a:pt x="13" y="66"/>
                      </a:lnTo>
                      <a:lnTo>
                        <a:pt x="16" y="69"/>
                      </a:lnTo>
                      <a:lnTo>
                        <a:pt x="20" y="71"/>
                      </a:lnTo>
                      <a:lnTo>
                        <a:pt x="22" y="72"/>
                      </a:lnTo>
                      <a:lnTo>
                        <a:pt x="26" y="75"/>
                      </a:lnTo>
                      <a:lnTo>
                        <a:pt x="31" y="75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Freeform 30"/>
                <p:cNvSpPr/>
                <p:nvPr/>
              </p:nvSpPr>
              <p:spPr>
                <a:xfrm>
                  <a:off x="1552320" y="2494080"/>
                  <a:ext cx="39600" cy="399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48" y="75"/>
                      </a:lnTo>
                      <a:lnTo>
                        <a:pt x="53" y="75"/>
                      </a:lnTo>
                      <a:lnTo>
                        <a:pt x="56" y="73"/>
                      </a:lnTo>
                      <a:lnTo>
                        <a:pt x="59" y="70"/>
                      </a:lnTo>
                      <a:lnTo>
                        <a:pt x="61" y="67"/>
                      </a:lnTo>
                      <a:lnTo>
                        <a:pt x="65" y="66"/>
                      </a:lnTo>
                      <a:lnTo>
                        <a:pt x="67" y="62"/>
                      </a:lnTo>
                      <a:lnTo>
                        <a:pt x="70" y="60"/>
                      </a:lnTo>
                      <a:lnTo>
                        <a:pt x="71" y="57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5"/>
                      </a:lnTo>
                      <a:lnTo>
                        <a:pt x="76" y="42"/>
                      </a:lnTo>
                      <a:lnTo>
                        <a:pt x="77" y="38"/>
                      </a:lnTo>
                      <a:lnTo>
                        <a:pt x="76" y="35"/>
                      </a:lnTo>
                      <a:lnTo>
                        <a:pt x="76" y="30"/>
                      </a:lnTo>
                      <a:lnTo>
                        <a:pt x="74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1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5" y="6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2"/>
                      </a:lnTo>
                      <a:lnTo>
                        <a:pt x="10" y="66"/>
                      </a:lnTo>
                      <a:lnTo>
                        <a:pt x="13" y="67"/>
                      </a:lnTo>
                      <a:lnTo>
                        <a:pt x="15" y="70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3" y="77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Freeform 31"/>
                <p:cNvSpPr/>
                <p:nvPr/>
              </p:nvSpPr>
              <p:spPr>
                <a:xfrm>
                  <a:off x="1317600" y="1908360"/>
                  <a:ext cx="29880" cy="14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6" h="27">
                      <a:moveTo>
                        <a:pt x="51" y="0"/>
                      </a:moveTo>
                      <a:lnTo>
                        <a:pt x="51" y="4"/>
                      </a:lnTo>
                      <a:lnTo>
                        <a:pt x="51" y="8"/>
                      </a:lnTo>
                      <a:lnTo>
                        <a:pt x="51" y="12"/>
                      </a:lnTo>
                      <a:lnTo>
                        <a:pt x="53" y="15"/>
                      </a:lnTo>
                      <a:lnTo>
                        <a:pt x="53" y="19"/>
                      </a:lnTo>
                      <a:lnTo>
                        <a:pt x="54" y="22"/>
                      </a:lnTo>
                      <a:lnTo>
                        <a:pt x="55" y="25"/>
                      </a:lnTo>
                      <a:lnTo>
                        <a:pt x="56" y="27"/>
                      </a:lnTo>
                      <a:lnTo>
                        <a:pt x="51" y="27"/>
                      </a:lnTo>
                      <a:lnTo>
                        <a:pt x="48" y="27"/>
                      </a:lnTo>
                      <a:lnTo>
                        <a:pt x="44" y="27"/>
                      </a:lnTo>
                      <a:lnTo>
                        <a:pt x="41" y="27"/>
                      </a:lnTo>
                      <a:lnTo>
                        <a:pt x="37" y="26"/>
                      </a:lnTo>
                      <a:lnTo>
                        <a:pt x="34" y="25"/>
                      </a:lnTo>
                      <a:lnTo>
                        <a:pt x="29" y="23"/>
                      </a:lnTo>
                      <a:lnTo>
                        <a:pt x="26" y="22"/>
                      </a:lnTo>
                      <a:lnTo>
                        <a:pt x="23" y="20"/>
                      </a:lnTo>
                      <a:lnTo>
                        <a:pt x="19" y="18"/>
                      </a:lnTo>
                      <a:lnTo>
                        <a:pt x="16" y="14"/>
                      </a:lnTo>
                      <a:lnTo>
                        <a:pt x="13" y="12"/>
                      </a:lnTo>
                      <a:lnTo>
                        <a:pt x="9" y="9"/>
                      </a:lnTo>
                      <a:lnTo>
                        <a:pt x="6" y="7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9" y="1"/>
                      </a:lnTo>
                      <a:lnTo>
                        <a:pt x="23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Freeform 32"/>
                <p:cNvSpPr/>
                <p:nvPr/>
              </p:nvSpPr>
              <p:spPr>
                <a:xfrm>
                  <a:off x="1100160" y="1908360"/>
                  <a:ext cx="516960" cy="74520"/>
                </a:xfrm>
                <a:custGeom>
                  <a:avLst/>
                  <a:gdLst>
                    <a:gd name="textAreaLeft" fmla="*/ 0 w 516960"/>
                    <a:gd name="textAreaRight" fmla="*/ 517320 w 5169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976" h="139">
                      <a:moveTo>
                        <a:pt x="811" y="11"/>
                      </a:moveTo>
                      <a:lnTo>
                        <a:pt x="812" y="11"/>
                      </a:lnTo>
                      <a:lnTo>
                        <a:pt x="816" y="11"/>
                      </a:lnTo>
                      <a:lnTo>
                        <a:pt x="818" y="11"/>
                      </a:lnTo>
                      <a:lnTo>
                        <a:pt x="822" y="12"/>
                      </a:lnTo>
                      <a:lnTo>
                        <a:pt x="824" y="12"/>
                      </a:lnTo>
                      <a:lnTo>
                        <a:pt x="829" y="12"/>
                      </a:lnTo>
                      <a:lnTo>
                        <a:pt x="827" y="13"/>
                      </a:lnTo>
                      <a:lnTo>
                        <a:pt x="824" y="14"/>
                      </a:lnTo>
                      <a:lnTo>
                        <a:pt x="821" y="16"/>
                      </a:lnTo>
                      <a:lnTo>
                        <a:pt x="818" y="18"/>
                      </a:lnTo>
                      <a:lnTo>
                        <a:pt x="816" y="18"/>
                      </a:lnTo>
                      <a:lnTo>
                        <a:pt x="812" y="20"/>
                      </a:lnTo>
                      <a:lnTo>
                        <a:pt x="810" y="21"/>
                      </a:lnTo>
                      <a:lnTo>
                        <a:pt x="808" y="23"/>
                      </a:lnTo>
                      <a:lnTo>
                        <a:pt x="804" y="24"/>
                      </a:lnTo>
                      <a:lnTo>
                        <a:pt x="802" y="25"/>
                      </a:lnTo>
                      <a:lnTo>
                        <a:pt x="798" y="26"/>
                      </a:lnTo>
                      <a:lnTo>
                        <a:pt x="795" y="27"/>
                      </a:lnTo>
                      <a:lnTo>
                        <a:pt x="792" y="29"/>
                      </a:lnTo>
                      <a:lnTo>
                        <a:pt x="790" y="30"/>
                      </a:lnTo>
                      <a:lnTo>
                        <a:pt x="785" y="31"/>
                      </a:lnTo>
                      <a:lnTo>
                        <a:pt x="783" y="32"/>
                      </a:lnTo>
                      <a:lnTo>
                        <a:pt x="779" y="33"/>
                      </a:lnTo>
                      <a:lnTo>
                        <a:pt x="777" y="33"/>
                      </a:lnTo>
                      <a:lnTo>
                        <a:pt x="772" y="35"/>
                      </a:lnTo>
                      <a:lnTo>
                        <a:pt x="770" y="36"/>
                      </a:lnTo>
                      <a:lnTo>
                        <a:pt x="766" y="36"/>
                      </a:lnTo>
                      <a:lnTo>
                        <a:pt x="764" y="36"/>
                      </a:lnTo>
                      <a:lnTo>
                        <a:pt x="761" y="36"/>
                      </a:lnTo>
                      <a:lnTo>
                        <a:pt x="758" y="36"/>
                      </a:lnTo>
                      <a:lnTo>
                        <a:pt x="755" y="35"/>
                      </a:lnTo>
                      <a:lnTo>
                        <a:pt x="752" y="33"/>
                      </a:lnTo>
                      <a:lnTo>
                        <a:pt x="750" y="32"/>
                      </a:lnTo>
                      <a:lnTo>
                        <a:pt x="748" y="31"/>
                      </a:lnTo>
                      <a:lnTo>
                        <a:pt x="746" y="29"/>
                      </a:lnTo>
                      <a:lnTo>
                        <a:pt x="744" y="26"/>
                      </a:lnTo>
                      <a:lnTo>
                        <a:pt x="741" y="24"/>
                      </a:lnTo>
                      <a:lnTo>
                        <a:pt x="740" y="21"/>
                      </a:lnTo>
                      <a:lnTo>
                        <a:pt x="735" y="24"/>
                      </a:lnTo>
                      <a:lnTo>
                        <a:pt x="732" y="25"/>
                      </a:lnTo>
                      <a:lnTo>
                        <a:pt x="727" y="27"/>
                      </a:lnTo>
                      <a:lnTo>
                        <a:pt x="723" y="30"/>
                      </a:lnTo>
                      <a:lnTo>
                        <a:pt x="721" y="32"/>
                      </a:lnTo>
                      <a:lnTo>
                        <a:pt x="719" y="33"/>
                      </a:lnTo>
                      <a:lnTo>
                        <a:pt x="716" y="36"/>
                      </a:lnTo>
                      <a:lnTo>
                        <a:pt x="715" y="38"/>
                      </a:lnTo>
                      <a:lnTo>
                        <a:pt x="712" y="40"/>
                      </a:lnTo>
                      <a:lnTo>
                        <a:pt x="710" y="43"/>
                      </a:lnTo>
                      <a:lnTo>
                        <a:pt x="708" y="45"/>
                      </a:lnTo>
                      <a:lnTo>
                        <a:pt x="707" y="46"/>
                      </a:lnTo>
                      <a:lnTo>
                        <a:pt x="704" y="46"/>
                      </a:lnTo>
                      <a:lnTo>
                        <a:pt x="702" y="46"/>
                      </a:lnTo>
                      <a:lnTo>
                        <a:pt x="698" y="44"/>
                      </a:lnTo>
                      <a:lnTo>
                        <a:pt x="695" y="42"/>
                      </a:lnTo>
                      <a:lnTo>
                        <a:pt x="691" y="39"/>
                      </a:lnTo>
                      <a:lnTo>
                        <a:pt x="688" y="38"/>
                      </a:lnTo>
                      <a:lnTo>
                        <a:pt x="684" y="36"/>
                      </a:lnTo>
                      <a:lnTo>
                        <a:pt x="681" y="32"/>
                      </a:lnTo>
                      <a:lnTo>
                        <a:pt x="678" y="31"/>
                      </a:lnTo>
                      <a:lnTo>
                        <a:pt x="676" y="30"/>
                      </a:lnTo>
                      <a:lnTo>
                        <a:pt x="672" y="27"/>
                      </a:lnTo>
                      <a:lnTo>
                        <a:pt x="670" y="26"/>
                      </a:lnTo>
                      <a:lnTo>
                        <a:pt x="666" y="24"/>
                      </a:lnTo>
                      <a:lnTo>
                        <a:pt x="664" y="23"/>
                      </a:lnTo>
                      <a:lnTo>
                        <a:pt x="661" y="20"/>
                      </a:lnTo>
                      <a:lnTo>
                        <a:pt x="658" y="18"/>
                      </a:lnTo>
                      <a:lnTo>
                        <a:pt x="656" y="23"/>
                      </a:lnTo>
                      <a:lnTo>
                        <a:pt x="653" y="29"/>
                      </a:lnTo>
                      <a:lnTo>
                        <a:pt x="652" y="32"/>
                      </a:lnTo>
                      <a:lnTo>
                        <a:pt x="650" y="38"/>
                      </a:lnTo>
                      <a:lnTo>
                        <a:pt x="650" y="42"/>
                      </a:lnTo>
                      <a:lnTo>
                        <a:pt x="649" y="45"/>
                      </a:lnTo>
                      <a:lnTo>
                        <a:pt x="647" y="49"/>
                      </a:lnTo>
                      <a:lnTo>
                        <a:pt x="647" y="52"/>
                      </a:lnTo>
                      <a:lnTo>
                        <a:pt x="647" y="55"/>
                      </a:lnTo>
                      <a:lnTo>
                        <a:pt x="647" y="58"/>
                      </a:lnTo>
                      <a:lnTo>
                        <a:pt x="647" y="61"/>
                      </a:lnTo>
                      <a:lnTo>
                        <a:pt x="650" y="63"/>
                      </a:lnTo>
                      <a:lnTo>
                        <a:pt x="650" y="67"/>
                      </a:lnTo>
                      <a:lnTo>
                        <a:pt x="653" y="70"/>
                      </a:lnTo>
                      <a:lnTo>
                        <a:pt x="657" y="71"/>
                      </a:lnTo>
                      <a:lnTo>
                        <a:pt x="661" y="74"/>
                      </a:lnTo>
                      <a:lnTo>
                        <a:pt x="664" y="74"/>
                      </a:lnTo>
                      <a:lnTo>
                        <a:pt x="669" y="74"/>
                      </a:lnTo>
                      <a:lnTo>
                        <a:pt x="671" y="74"/>
                      </a:lnTo>
                      <a:lnTo>
                        <a:pt x="674" y="74"/>
                      </a:lnTo>
                      <a:lnTo>
                        <a:pt x="677" y="74"/>
                      </a:lnTo>
                      <a:lnTo>
                        <a:pt x="681" y="74"/>
                      </a:lnTo>
                      <a:lnTo>
                        <a:pt x="683" y="73"/>
                      </a:lnTo>
                      <a:lnTo>
                        <a:pt x="685" y="73"/>
                      </a:lnTo>
                      <a:lnTo>
                        <a:pt x="688" y="71"/>
                      </a:lnTo>
                      <a:lnTo>
                        <a:pt x="691" y="71"/>
                      </a:lnTo>
                      <a:lnTo>
                        <a:pt x="695" y="70"/>
                      </a:lnTo>
                      <a:lnTo>
                        <a:pt x="697" y="69"/>
                      </a:lnTo>
                      <a:lnTo>
                        <a:pt x="701" y="68"/>
                      </a:lnTo>
                      <a:lnTo>
                        <a:pt x="704" y="67"/>
                      </a:lnTo>
                      <a:lnTo>
                        <a:pt x="707" y="65"/>
                      </a:lnTo>
                      <a:lnTo>
                        <a:pt x="710" y="65"/>
                      </a:lnTo>
                      <a:lnTo>
                        <a:pt x="714" y="64"/>
                      </a:lnTo>
                      <a:lnTo>
                        <a:pt x="717" y="63"/>
                      </a:lnTo>
                      <a:lnTo>
                        <a:pt x="720" y="62"/>
                      </a:lnTo>
                      <a:lnTo>
                        <a:pt x="723" y="61"/>
                      </a:lnTo>
                      <a:lnTo>
                        <a:pt x="726" y="59"/>
                      </a:lnTo>
                      <a:lnTo>
                        <a:pt x="729" y="58"/>
                      </a:lnTo>
                      <a:lnTo>
                        <a:pt x="733" y="58"/>
                      </a:lnTo>
                      <a:lnTo>
                        <a:pt x="736" y="57"/>
                      </a:lnTo>
                      <a:lnTo>
                        <a:pt x="739" y="56"/>
                      </a:lnTo>
                      <a:lnTo>
                        <a:pt x="741" y="56"/>
                      </a:lnTo>
                      <a:lnTo>
                        <a:pt x="744" y="55"/>
                      </a:lnTo>
                      <a:lnTo>
                        <a:pt x="747" y="55"/>
                      </a:lnTo>
                      <a:lnTo>
                        <a:pt x="751" y="54"/>
                      </a:lnTo>
                      <a:lnTo>
                        <a:pt x="753" y="54"/>
                      </a:lnTo>
                      <a:lnTo>
                        <a:pt x="758" y="52"/>
                      </a:lnTo>
                      <a:lnTo>
                        <a:pt x="763" y="54"/>
                      </a:lnTo>
                      <a:lnTo>
                        <a:pt x="766" y="54"/>
                      </a:lnTo>
                      <a:lnTo>
                        <a:pt x="770" y="55"/>
                      </a:lnTo>
                      <a:lnTo>
                        <a:pt x="772" y="56"/>
                      </a:lnTo>
                      <a:lnTo>
                        <a:pt x="774" y="59"/>
                      </a:lnTo>
                      <a:lnTo>
                        <a:pt x="774" y="63"/>
                      </a:lnTo>
                      <a:lnTo>
                        <a:pt x="777" y="65"/>
                      </a:lnTo>
                      <a:lnTo>
                        <a:pt x="777" y="68"/>
                      </a:lnTo>
                      <a:lnTo>
                        <a:pt x="779" y="71"/>
                      </a:lnTo>
                      <a:lnTo>
                        <a:pt x="780" y="74"/>
                      </a:lnTo>
                      <a:lnTo>
                        <a:pt x="782" y="77"/>
                      </a:lnTo>
                      <a:lnTo>
                        <a:pt x="784" y="80"/>
                      </a:lnTo>
                      <a:lnTo>
                        <a:pt x="786" y="82"/>
                      </a:lnTo>
                      <a:lnTo>
                        <a:pt x="790" y="83"/>
                      </a:lnTo>
                      <a:lnTo>
                        <a:pt x="792" y="86"/>
                      </a:lnTo>
                      <a:lnTo>
                        <a:pt x="795" y="87"/>
                      </a:lnTo>
                      <a:lnTo>
                        <a:pt x="798" y="88"/>
                      </a:lnTo>
                      <a:lnTo>
                        <a:pt x="801" y="88"/>
                      </a:lnTo>
                      <a:lnTo>
                        <a:pt x="804" y="90"/>
                      </a:lnTo>
                      <a:lnTo>
                        <a:pt x="808" y="90"/>
                      </a:lnTo>
                      <a:lnTo>
                        <a:pt x="812" y="92"/>
                      </a:lnTo>
                      <a:lnTo>
                        <a:pt x="816" y="92"/>
                      </a:lnTo>
                      <a:lnTo>
                        <a:pt x="820" y="92"/>
                      </a:lnTo>
                      <a:lnTo>
                        <a:pt x="823" y="90"/>
                      </a:lnTo>
                      <a:lnTo>
                        <a:pt x="828" y="89"/>
                      </a:lnTo>
                      <a:lnTo>
                        <a:pt x="831" y="88"/>
                      </a:lnTo>
                      <a:lnTo>
                        <a:pt x="836" y="86"/>
                      </a:lnTo>
                      <a:lnTo>
                        <a:pt x="840" y="83"/>
                      </a:lnTo>
                      <a:lnTo>
                        <a:pt x="846" y="82"/>
                      </a:lnTo>
                      <a:lnTo>
                        <a:pt x="849" y="78"/>
                      </a:lnTo>
                      <a:lnTo>
                        <a:pt x="853" y="76"/>
                      </a:lnTo>
                      <a:lnTo>
                        <a:pt x="857" y="71"/>
                      </a:lnTo>
                      <a:lnTo>
                        <a:pt x="862" y="68"/>
                      </a:lnTo>
                      <a:lnTo>
                        <a:pt x="867" y="63"/>
                      </a:lnTo>
                      <a:lnTo>
                        <a:pt x="871" y="58"/>
                      </a:lnTo>
                      <a:lnTo>
                        <a:pt x="873" y="56"/>
                      </a:lnTo>
                      <a:lnTo>
                        <a:pt x="875" y="54"/>
                      </a:lnTo>
                      <a:lnTo>
                        <a:pt x="878" y="50"/>
                      </a:lnTo>
                      <a:lnTo>
                        <a:pt x="880" y="48"/>
                      </a:lnTo>
                      <a:lnTo>
                        <a:pt x="878" y="45"/>
                      </a:lnTo>
                      <a:lnTo>
                        <a:pt x="875" y="44"/>
                      </a:lnTo>
                      <a:lnTo>
                        <a:pt x="873" y="43"/>
                      </a:lnTo>
                      <a:lnTo>
                        <a:pt x="868" y="43"/>
                      </a:lnTo>
                      <a:lnTo>
                        <a:pt x="865" y="43"/>
                      </a:lnTo>
                      <a:lnTo>
                        <a:pt x="860" y="43"/>
                      </a:lnTo>
                      <a:lnTo>
                        <a:pt x="855" y="43"/>
                      </a:lnTo>
                      <a:lnTo>
                        <a:pt x="850" y="43"/>
                      </a:lnTo>
                      <a:lnTo>
                        <a:pt x="847" y="43"/>
                      </a:lnTo>
                      <a:lnTo>
                        <a:pt x="844" y="43"/>
                      </a:lnTo>
                      <a:lnTo>
                        <a:pt x="842" y="43"/>
                      </a:lnTo>
                      <a:lnTo>
                        <a:pt x="840" y="44"/>
                      </a:lnTo>
                      <a:lnTo>
                        <a:pt x="835" y="44"/>
                      </a:lnTo>
                      <a:lnTo>
                        <a:pt x="830" y="44"/>
                      </a:lnTo>
                      <a:lnTo>
                        <a:pt x="825" y="43"/>
                      </a:lnTo>
                      <a:lnTo>
                        <a:pt x="823" y="43"/>
                      </a:lnTo>
                      <a:lnTo>
                        <a:pt x="820" y="40"/>
                      </a:lnTo>
                      <a:lnTo>
                        <a:pt x="820" y="39"/>
                      </a:lnTo>
                      <a:lnTo>
                        <a:pt x="821" y="37"/>
                      </a:lnTo>
                      <a:lnTo>
                        <a:pt x="822" y="33"/>
                      </a:lnTo>
                      <a:lnTo>
                        <a:pt x="824" y="31"/>
                      </a:lnTo>
                      <a:lnTo>
                        <a:pt x="827" y="30"/>
                      </a:lnTo>
                      <a:lnTo>
                        <a:pt x="829" y="25"/>
                      </a:lnTo>
                      <a:lnTo>
                        <a:pt x="833" y="23"/>
                      </a:lnTo>
                      <a:lnTo>
                        <a:pt x="834" y="19"/>
                      </a:lnTo>
                      <a:lnTo>
                        <a:pt x="836" y="17"/>
                      </a:lnTo>
                      <a:lnTo>
                        <a:pt x="837" y="14"/>
                      </a:lnTo>
                      <a:lnTo>
                        <a:pt x="839" y="12"/>
                      </a:lnTo>
                      <a:lnTo>
                        <a:pt x="842" y="12"/>
                      </a:lnTo>
                      <a:lnTo>
                        <a:pt x="847" y="12"/>
                      </a:lnTo>
                      <a:lnTo>
                        <a:pt x="852" y="12"/>
                      </a:lnTo>
                      <a:lnTo>
                        <a:pt x="857" y="13"/>
                      </a:lnTo>
                      <a:lnTo>
                        <a:pt x="860" y="13"/>
                      </a:lnTo>
                      <a:lnTo>
                        <a:pt x="862" y="13"/>
                      </a:lnTo>
                      <a:lnTo>
                        <a:pt x="865" y="13"/>
                      </a:lnTo>
                      <a:lnTo>
                        <a:pt x="868" y="13"/>
                      </a:lnTo>
                      <a:lnTo>
                        <a:pt x="871" y="13"/>
                      </a:lnTo>
                      <a:lnTo>
                        <a:pt x="873" y="14"/>
                      </a:lnTo>
                      <a:lnTo>
                        <a:pt x="875" y="14"/>
                      </a:lnTo>
                      <a:lnTo>
                        <a:pt x="879" y="16"/>
                      </a:lnTo>
                      <a:lnTo>
                        <a:pt x="881" y="16"/>
                      </a:lnTo>
                      <a:lnTo>
                        <a:pt x="885" y="16"/>
                      </a:lnTo>
                      <a:lnTo>
                        <a:pt x="888" y="16"/>
                      </a:lnTo>
                      <a:lnTo>
                        <a:pt x="891" y="16"/>
                      </a:lnTo>
                      <a:lnTo>
                        <a:pt x="893" y="16"/>
                      </a:lnTo>
                      <a:lnTo>
                        <a:pt x="895" y="16"/>
                      </a:lnTo>
                      <a:lnTo>
                        <a:pt x="899" y="16"/>
                      </a:lnTo>
                      <a:lnTo>
                        <a:pt x="901" y="16"/>
                      </a:lnTo>
                      <a:lnTo>
                        <a:pt x="904" y="16"/>
                      </a:lnTo>
                      <a:lnTo>
                        <a:pt x="907" y="16"/>
                      </a:lnTo>
                      <a:lnTo>
                        <a:pt x="910" y="16"/>
                      </a:lnTo>
                      <a:lnTo>
                        <a:pt x="913" y="16"/>
                      </a:lnTo>
                      <a:lnTo>
                        <a:pt x="916" y="16"/>
                      </a:lnTo>
                      <a:lnTo>
                        <a:pt x="918" y="17"/>
                      </a:lnTo>
                      <a:lnTo>
                        <a:pt x="922" y="17"/>
                      </a:lnTo>
                      <a:lnTo>
                        <a:pt x="924" y="18"/>
                      </a:lnTo>
                      <a:lnTo>
                        <a:pt x="929" y="18"/>
                      </a:lnTo>
                      <a:lnTo>
                        <a:pt x="935" y="18"/>
                      </a:lnTo>
                      <a:lnTo>
                        <a:pt x="939" y="18"/>
                      </a:lnTo>
                      <a:lnTo>
                        <a:pt x="944" y="18"/>
                      </a:lnTo>
                      <a:lnTo>
                        <a:pt x="949" y="18"/>
                      </a:lnTo>
                      <a:lnTo>
                        <a:pt x="954" y="18"/>
                      </a:lnTo>
                      <a:lnTo>
                        <a:pt x="956" y="18"/>
                      </a:lnTo>
                      <a:lnTo>
                        <a:pt x="961" y="19"/>
                      </a:lnTo>
                      <a:lnTo>
                        <a:pt x="964" y="19"/>
                      </a:lnTo>
                      <a:lnTo>
                        <a:pt x="967" y="19"/>
                      </a:lnTo>
                      <a:lnTo>
                        <a:pt x="969" y="19"/>
                      </a:lnTo>
                      <a:lnTo>
                        <a:pt x="971" y="20"/>
                      </a:lnTo>
                      <a:lnTo>
                        <a:pt x="974" y="20"/>
                      </a:lnTo>
                      <a:lnTo>
                        <a:pt x="976" y="20"/>
                      </a:lnTo>
                      <a:lnTo>
                        <a:pt x="973" y="106"/>
                      </a:lnTo>
                      <a:lnTo>
                        <a:pt x="806" y="97"/>
                      </a:lnTo>
                      <a:lnTo>
                        <a:pt x="793" y="96"/>
                      </a:lnTo>
                      <a:lnTo>
                        <a:pt x="782" y="96"/>
                      </a:lnTo>
                      <a:lnTo>
                        <a:pt x="770" y="95"/>
                      </a:lnTo>
                      <a:lnTo>
                        <a:pt x="757" y="95"/>
                      </a:lnTo>
                      <a:lnTo>
                        <a:pt x="744" y="94"/>
                      </a:lnTo>
                      <a:lnTo>
                        <a:pt x="732" y="94"/>
                      </a:lnTo>
                      <a:lnTo>
                        <a:pt x="719" y="93"/>
                      </a:lnTo>
                      <a:lnTo>
                        <a:pt x="706" y="92"/>
                      </a:lnTo>
                      <a:lnTo>
                        <a:pt x="694" y="92"/>
                      </a:lnTo>
                      <a:lnTo>
                        <a:pt x="681" y="90"/>
                      </a:lnTo>
                      <a:lnTo>
                        <a:pt x="668" y="89"/>
                      </a:lnTo>
                      <a:lnTo>
                        <a:pt x="656" y="88"/>
                      </a:lnTo>
                      <a:lnTo>
                        <a:pt x="643" y="88"/>
                      </a:lnTo>
                      <a:lnTo>
                        <a:pt x="630" y="88"/>
                      </a:lnTo>
                      <a:lnTo>
                        <a:pt x="618" y="87"/>
                      </a:lnTo>
                      <a:lnTo>
                        <a:pt x="606" y="87"/>
                      </a:lnTo>
                      <a:lnTo>
                        <a:pt x="593" y="86"/>
                      </a:lnTo>
                      <a:lnTo>
                        <a:pt x="580" y="86"/>
                      </a:lnTo>
                      <a:lnTo>
                        <a:pt x="568" y="86"/>
                      </a:lnTo>
                      <a:lnTo>
                        <a:pt x="555" y="86"/>
                      </a:lnTo>
                      <a:lnTo>
                        <a:pt x="543" y="84"/>
                      </a:lnTo>
                      <a:lnTo>
                        <a:pt x="530" y="84"/>
                      </a:lnTo>
                      <a:lnTo>
                        <a:pt x="518" y="84"/>
                      </a:lnTo>
                      <a:lnTo>
                        <a:pt x="505" y="84"/>
                      </a:lnTo>
                      <a:lnTo>
                        <a:pt x="492" y="84"/>
                      </a:lnTo>
                      <a:lnTo>
                        <a:pt x="480" y="84"/>
                      </a:lnTo>
                      <a:lnTo>
                        <a:pt x="468" y="84"/>
                      </a:lnTo>
                      <a:lnTo>
                        <a:pt x="455" y="84"/>
                      </a:lnTo>
                      <a:lnTo>
                        <a:pt x="442" y="84"/>
                      </a:lnTo>
                      <a:lnTo>
                        <a:pt x="430" y="84"/>
                      </a:lnTo>
                      <a:lnTo>
                        <a:pt x="418" y="86"/>
                      </a:lnTo>
                      <a:lnTo>
                        <a:pt x="407" y="86"/>
                      </a:lnTo>
                      <a:lnTo>
                        <a:pt x="394" y="86"/>
                      </a:lnTo>
                      <a:lnTo>
                        <a:pt x="382" y="86"/>
                      </a:lnTo>
                      <a:lnTo>
                        <a:pt x="369" y="86"/>
                      </a:lnTo>
                      <a:lnTo>
                        <a:pt x="357" y="87"/>
                      </a:lnTo>
                      <a:lnTo>
                        <a:pt x="344" y="87"/>
                      </a:lnTo>
                      <a:lnTo>
                        <a:pt x="332" y="88"/>
                      </a:lnTo>
                      <a:lnTo>
                        <a:pt x="320" y="88"/>
                      </a:lnTo>
                      <a:lnTo>
                        <a:pt x="308" y="90"/>
                      </a:lnTo>
                      <a:lnTo>
                        <a:pt x="295" y="90"/>
                      </a:lnTo>
                      <a:lnTo>
                        <a:pt x="283" y="92"/>
                      </a:lnTo>
                      <a:lnTo>
                        <a:pt x="270" y="93"/>
                      </a:lnTo>
                      <a:lnTo>
                        <a:pt x="258" y="94"/>
                      </a:lnTo>
                      <a:lnTo>
                        <a:pt x="245" y="95"/>
                      </a:lnTo>
                      <a:lnTo>
                        <a:pt x="235" y="96"/>
                      </a:lnTo>
                      <a:lnTo>
                        <a:pt x="223" y="99"/>
                      </a:lnTo>
                      <a:lnTo>
                        <a:pt x="210" y="100"/>
                      </a:lnTo>
                      <a:lnTo>
                        <a:pt x="198" y="101"/>
                      </a:lnTo>
                      <a:lnTo>
                        <a:pt x="186" y="103"/>
                      </a:lnTo>
                      <a:lnTo>
                        <a:pt x="174" y="105"/>
                      </a:lnTo>
                      <a:lnTo>
                        <a:pt x="162" y="106"/>
                      </a:lnTo>
                      <a:lnTo>
                        <a:pt x="150" y="108"/>
                      </a:lnTo>
                      <a:lnTo>
                        <a:pt x="138" y="111"/>
                      </a:lnTo>
                      <a:lnTo>
                        <a:pt x="127" y="113"/>
                      </a:lnTo>
                      <a:lnTo>
                        <a:pt x="116" y="115"/>
                      </a:lnTo>
                      <a:lnTo>
                        <a:pt x="103" y="118"/>
                      </a:lnTo>
                      <a:lnTo>
                        <a:pt x="92" y="120"/>
                      </a:lnTo>
                      <a:lnTo>
                        <a:pt x="80" y="124"/>
                      </a:lnTo>
                      <a:lnTo>
                        <a:pt x="70" y="126"/>
                      </a:lnTo>
                      <a:lnTo>
                        <a:pt x="58" y="130"/>
                      </a:lnTo>
                      <a:lnTo>
                        <a:pt x="46" y="132"/>
                      </a:lnTo>
                      <a:lnTo>
                        <a:pt x="35" y="134"/>
                      </a:lnTo>
                      <a:lnTo>
                        <a:pt x="23" y="139"/>
                      </a:lnTo>
                      <a:lnTo>
                        <a:pt x="0" y="56"/>
                      </a:lnTo>
                      <a:lnTo>
                        <a:pt x="4" y="54"/>
                      </a:lnTo>
                      <a:lnTo>
                        <a:pt x="10" y="52"/>
                      </a:lnTo>
                      <a:lnTo>
                        <a:pt x="13" y="51"/>
                      </a:lnTo>
                      <a:lnTo>
                        <a:pt x="15" y="50"/>
                      </a:lnTo>
                      <a:lnTo>
                        <a:pt x="17" y="50"/>
                      </a:lnTo>
                      <a:lnTo>
                        <a:pt x="21" y="49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3" y="45"/>
                      </a:lnTo>
                      <a:lnTo>
                        <a:pt x="36" y="45"/>
                      </a:lnTo>
                      <a:lnTo>
                        <a:pt x="39" y="44"/>
                      </a:lnTo>
                      <a:lnTo>
                        <a:pt x="42" y="44"/>
                      </a:lnTo>
                      <a:lnTo>
                        <a:pt x="45" y="43"/>
                      </a:lnTo>
                      <a:lnTo>
                        <a:pt x="47" y="43"/>
                      </a:lnTo>
                      <a:lnTo>
                        <a:pt x="49" y="42"/>
                      </a:lnTo>
                      <a:lnTo>
                        <a:pt x="53" y="40"/>
                      </a:lnTo>
                      <a:lnTo>
                        <a:pt x="55" y="40"/>
                      </a:lnTo>
                      <a:lnTo>
                        <a:pt x="58" y="39"/>
                      </a:lnTo>
                      <a:lnTo>
                        <a:pt x="60" y="38"/>
                      </a:lnTo>
                      <a:lnTo>
                        <a:pt x="64" y="38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71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5"/>
                      </a:lnTo>
                      <a:lnTo>
                        <a:pt x="83" y="33"/>
                      </a:lnTo>
                      <a:lnTo>
                        <a:pt x="86" y="33"/>
                      </a:lnTo>
                      <a:lnTo>
                        <a:pt x="89" y="32"/>
                      </a:lnTo>
                      <a:lnTo>
                        <a:pt x="91" y="32"/>
                      </a:lnTo>
                      <a:lnTo>
                        <a:pt x="93" y="31"/>
                      </a:lnTo>
                      <a:lnTo>
                        <a:pt x="96" y="31"/>
                      </a:lnTo>
                      <a:lnTo>
                        <a:pt x="98" y="30"/>
                      </a:lnTo>
                      <a:lnTo>
                        <a:pt x="100" y="30"/>
                      </a:lnTo>
                      <a:lnTo>
                        <a:pt x="104" y="29"/>
                      </a:lnTo>
                      <a:lnTo>
                        <a:pt x="108" y="29"/>
                      </a:lnTo>
                      <a:lnTo>
                        <a:pt x="110" y="27"/>
                      </a:lnTo>
                      <a:lnTo>
                        <a:pt x="112" y="27"/>
                      </a:lnTo>
                      <a:lnTo>
                        <a:pt x="115" y="27"/>
                      </a:lnTo>
                      <a:lnTo>
                        <a:pt x="118" y="26"/>
                      </a:lnTo>
                      <a:lnTo>
                        <a:pt x="121" y="26"/>
                      </a:lnTo>
                      <a:lnTo>
                        <a:pt x="123" y="25"/>
                      </a:lnTo>
                      <a:lnTo>
                        <a:pt x="127" y="25"/>
                      </a:lnTo>
                      <a:lnTo>
                        <a:pt x="129" y="25"/>
                      </a:lnTo>
                      <a:lnTo>
                        <a:pt x="131" y="24"/>
                      </a:lnTo>
                      <a:lnTo>
                        <a:pt x="134" y="24"/>
                      </a:lnTo>
                      <a:lnTo>
                        <a:pt x="136" y="23"/>
                      </a:lnTo>
                      <a:lnTo>
                        <a:pt x="140" y="23"/>
                      </a:lnTo>
                      <a:lnTo>
                        <a:pt x="142" y="21"/>
                      </a:lnTo>
                      <a:lnTo>
                        <a:pt x="144" y="21"/>
                      </a:lnTo>
                      <a:lnTo>
                        <a:pt x="148" y="20"/>
                      </a:lnTo>
                      <a:lnTo>
                        <a:pt x="150" y="20"/>
                      </a:lnTo>
                      <a:lnTo>
                        <a:pt x="153" y="20"/>
                      </a:lnTo>
                      <a:lnTo>
                        <a:pt x="156" y="20"/>
                      </a:lnTo>
                      <a:lnTo>
                        <a:pt x="159" y="20"/>
                      </a:lnTo>
                      <a:lnTo>
                        <a:pt x="162" y="20"/>
                      </a:lnTo>
                      <a:lnTo>
                        <a:pt x="165" y="19"/>
                      </a:lnTo>
                      <a:lnTo>
                        <a:pt x="167" y="18"/>
                      </a:lnTo>
                      <a:lnTo>
                        <a:pt x="170" y="18"/>
                      </a:lnTo>
                      <a:lnTo>
                        <a:pt x="173" y="18"/>
                      </a:lnTo>
                      <a:lnTo>
                        <a:pt x="173" y="20"/>
                      </a:lnTo>
                      <a:lnTo>
                        <a:pt x="174" y="24"/>
                      </a:lnTo>
                      <a:lnTo>
                        <a:pt x="175" y="26"/>
                      </a:lnTo>
                      <a:lnTo>
                        <a:pt x="176" y="30"/>
                      </a:lnTo>
                      <a:lnTo>
                        <a:pt x="176" y="32"/>
                      </a:lnTo>
                      <a:lnTo>
                        <a:pt x="178" y="36"/>
                      </a:lnTo>
                      <a:lnTo>
                        <a:pt x="179" y="38"/>
                      </a:lnTo>
                      <a:lnTo>
                        <a:pt x="179" y="43"/>
                      </a:lnTo>
                      <a:lnTo>
                        <a:pt x="184" y="43"/>
                      </a:lnTo>
                      <a:lnTo>
                        <a:pt x="187" y="43"/>
                      </a:lnTo>
                      <a:lnTo>
                        <a:pt x="192" y="43"/>
                      </a:lnTo>
                      <a:lnTo>
                        <a:pt x="197" y="43"/>
                      </a:lnTo>
                      <a:lnTo>
                        <a:pt x="200" y="43"/>
                      </a:lnTo>
                      <a:lnTo>
                        <a:pt x="205" y="43"/>
                      </a:lnTo>
                      <a:lnTo>
                        <a:pt x="210" y="43"/>
                      </a:lnTo>
                      <a:lnTo>
                        <a:pt x="214" y="43"/>
                      </a:lnTo>
                      <a:lnTo>
                        <a:pt x="214" y="39"/>
                      </a:lnTo>
                      <a:lnTo>
                        <a:pt x="217" y="36"/>
                      </a:lnTo>
                      <a:lnTo>
                        <a:pt x="219" y="33"/>
                      </a:lnTo>
                      <a:lnTo>
                        <a:pt x="220" y="32"/>
                      </a:lnTo>
                      <a:lnTo>
                        <a:pt x="224" y="27"/>
                      </a:lnTo>
                      <a:lnTo>
                        <a:pt x="227" y="25"/>
                      </a:lnTo>
                      <a:lnTo>
                        <a:pt x="230" y="24"/>
                      </a:lnTo>
                      <a:lnTo>
                        <a:pt x="233" y="23"/>
                      </a:lnTo>
                      <a:lnTo>
                        <a:pt x="237" y="23"/>
                      </a:lnTo>
                      <a:lnTo>
                        <a:pt x="241" y="23"/>
                      </a:lnTo>
                      <a:lnTo>
                        <a:pt x="243" y="23"/>
                      </a:lnTo>
                      <a:lnTo>
                        <a:pt x="245" y="25"/>
                      </a:lnTo>
                      <a:lnTo>
                        <a:pt x="248" y="26"/>
                      </a:lnTo>
                      <a:lnTo>
                        <a:pt x="250" y="30"/>
                      </a:lnTo>
                      <a:lnTo>
                        <a:pt x="252" y="32"/>
                      </a:lnTo>
                      <a:lnTo>
                        <a:pt x="256" y="36"/>
                      </a:lnTo>
                      <a:lnTo>
                        <a:pt x="258" y="38"/>
                      </a:lnTo>
                      <a:lnTo>
                        <a:pt x="262" y="43"/>
                      </a:lnTo>
                      <a:lnTo>
                        <a:pt x="264" y="46"/>
                      </a:lnTo>
                      <a:lnTo>
                        <a:pt x="267" y="50"/>
                      </a:lnTo>
                      <a:lnTo>
                        <a:pt x="269" y="54"/>
                      </a:lnTo>
                      <a:lnTo>
                        <a:pt x="273" y="58"/>
                      </a:lnTo>
                      <a:lnTo>
                        <a:pt x="275" y="62"/>
                      </a:lnTo>
                      <a:lnTo>
                        <a:pt x="277" y="65"/>
                      </a:lnTo>
                      <a:lnTo>
                        <a:pt x="281" y="69"/>
                      </a:lnTo>
                      <a:lnTo>
                        <a:pt x="284" y="73"/>
                      </a:lnTo>
                      <a:lnTo>
                        <a:pt x="287" y="75"/>
                      </a:lnTo>
                      <a:lnTo>
                        <a:pt x="290" y="78"/>
                      </a:lnTo>
                      <a:lnTo>
                        <a:pt x="293" y="81"/>
                      </a:lnTo>
                      <a:lnTo>
                        <a:pt x="297" y="82"/>
                      </a:lnTo>
                      <a:lnTo>
                        <a:pt x="301" y="83"/>
                      </a:lnTo>
                      <a:lnTo>
                        <a:pt x="305" y="83"/>
                      </a:lnTo>
                      <a:lnTo>
                        <a:pt x="308" y="83"/>
                      </a:lnTo>
                      <a:lnTo>
                        <a:pt x="314" y="83"/>
                      </a:lnTo>
                      <a:lnTo>
                        <a:pt x="315" y="81"/>
                      </a:lnTo>
                      <a:lnTo>
                        <a:pt x="316" y="77"/>
                      </a:lnTo>
                      <a:lnTo>
                        <a:pt x="319" y="75"/>
                      </a:lnTo>
                      <a:lnTo>
                        <a:pt x="320" y="73"/>
                      </a:lnTo>
                      <a:lnTo>
                        <a:pt x="321" y="70"/>
                      </a:lnTo>
                      <a:lnTo>
                        <a:pt x="321" y="67"/>
                      </a:lnTo>
                      <a:lnTo>
                        <a:pt x="322" y="64"/>
                      </a:lnTo>
                      <a:lnTo>
                        <a:pt x="324" y="62"/>
                      </a:lnTo>
                      <a:lnTo>
                        <a:pt x="324" y="59"/>
                      </a:lnTo>
                      <a:lnTo>
                        <a:pt x="324" y="57"/>
                      </a:lnTo>
                      <a:lnTo>
                        <a:pt x="324" y="54"/>
                      </a:lnTo>
                      <a:lnTo>
                        <a:pt x="324" y="51"/>
                      </a:lnTo>
                      <a:lnTo>
                        <a:pt x="324" y="46"/>
                      </a:lnTo>
                      <a:lnTo>
                        <a:pt x="324" y="42"/>
                      </a:lnTo>
                      <a:lnTo>
                        <a:pt x="321" y="36"/>
                      </a:lnTo>
                      <a:lnTo>
                        <a:pt x="320" y="31"/>
                      </a:lnTo>
                      <a:lnTo>
                        <a:pt x="318" y="26"/>
                      </a:lnTo>
                      <a:lnTo>
                        <a:pt x="315" y="21"/>
                      </a:lnTo>
                      <a:lnTo>
                        <a:pt x="311" y="18"/>
                      </a:lnTo>
                      <a:lnTo>
                        <a:pt x="308" y="12"/>
                      </a:lnTo>
                      <a:lnTo>
                        <a:pt x="303" y="8"/>
                      </a:lnTo>
                      <a:lnTo>
                        <a:pt x="300" y="5"/>
                      </a:lnTo>
                      <a:lnTo>
                        <a:pt x="303" y="5"/>
                      </a:lnTo>
                      <a:lnTo>
                        <a:pt x="307" y="4"/>
                      </a:lnTo>
                      <a:lnTo>
                        <a:pt x="309" y="2"/>
                      </a:lnTo>
                      <a:lnTo>
                        <a:pt x="314" y="2"/>
                      </a:lnTo>
                      <a:lnTo>
                        <a:pt x="316" y="2"/>
                      </a:lnTo>
                      <a:lnTo>
                        <a:pt x="320" y="2"/>
                      </a:lnTo>
                      <a:lnTo>
                        <a:pt x="324" y="2"/>
                      </a:lnTo>
                      <a:lnTo>
                        <a:pt x="327" y="2"/>
                      </a:lnTo>
                      <a:lnTo>
                        <a:pt x="331" y="2"/>
                      </a:lnTo>
                      <a:lnTo>
                        <a:pt x="334" y="2"/>
                      </a:lnTo>
                      <a:lnTo>
                        <a:pt x="337" y="1"/>
                      </a:lnTo>
                      <a:lnTo>
                        <a:pt x="341" y="1"/>
                      </a:lnTo>
                      <a:lnTo>
                        <a:pt x="344" y="1"/>
                      </a:lnTo>
                      <a:lnTo>
                        <a:pt x="347" y="1"/>
                      </a:lnTo>
                      <a:lnTo>
                        <a:pt x="351" y="1"/>
                      </a:lnTo>
                      <a:lnTo>
                        <a:pt x="354" y="1"/>
                      </a:lnTo>
                      <a:lnTo>
                        <a:pt x="353" y="4"/>
                      </a:lnTo>
                      <a:lnTo>
                        <a:pt x="352" y="6"/>
                      </a:lnTo>
                      <a:lnTo>
                        <a:pt x="350" y="10"/>
                      </a:lnTo>
                      <a:lnTo>
                        <a:pt x="348" y="13"/>
                      </a:lnTo>
                      <a:lnTo>
                        <a:pt x="353" y="16"/>
                      </a:lnTo>
                      <a:lnTo>
                        <a:pt x="357" y="18"/>
                      </a:lnTo>
                      <a:lnTo>
                        <a:pt x="360" y="19"/>
                      </a:lnTo>
                      <a:lnTo>
                        <a:pt x="364" y="21"/>
                      </a:lnTo>
                      <a:lnTo>
                        <a:pt x="366" y="23"/>
                      </a:lnTo>
                      <a:lnTo>
                        <a:pt x="370" y="26"/>
                      </a:lnTo>
                      <a:lnTo>
                        <a:pt x="373" y="27"/>
                      </a:lnTo>
                      <a:lnTo>
                        <a:pt x="378" y="31"/>
                      </a:lnTo>
                      <a:lnTo>
                        <a:pt x="379" y="33"/>
                      </a:lnTo>
                      <a:lnTo>
                        <a:pt x="382" y="37"/>
                      </a:lnTo>
                      <a:lnTo>
                        <a:pt x="384" y="39"/>
                      </a:lnTo>
                      <a:lnTo>
                        <a:pt x="386" y="43"/>
                      </a:lnTo>
                      <a:lnTo>
                        <a:pt x="391" y="48"/>
                      </a:lnTo>
                      <a:lnTo>
                        <a:pt x="396" y="52"/>
                      </a:lnTo>
                      <a:lnTo>
                        <a:pt x="401" y="56"/>
                      </a:lnTo>
                      <a:lnTo>
                        <a:pt x="407" y="58"/>
                      </a:lnTo>
                      <a:lnTo>
                        <a:pt x="409" y="59"/>
                      </a:lnTo>
                      <a:lnTo>
                        <a:pt x="411" y="61"/>
                      </a:lnTo>
                      <a:lnTo>
                        <a:pt x="415" y="62"/>
                      </a:lnTo>
                      <a:lnTo>
                        <a:pt x="417" y="63"/>
                      </a:lnTo>
                      <a:lnTo>
                        <a:pt x="420" y="63"/>
                      </a:lnTo>
                      <a:lnTo>
                        <a:pt x="422" y="64"/>
                      </a:lnTo>
                      <a:lnTo>
                        <a:pt x="424" y="64"/>
                      </a:lnTo>
                      <a:lnTo>
                        <a:pt x="428" y="64"/>
                      </a:lnTo>
                      <a:lnTo>
                        <a:pt x="430" y="64"/>
                      </a:lnTo>
                      <a:lnTo>
                        <a:pt x="434" y="64"/>
                      </a:lnTo>
                      <a:lnTo>
                        <a:pt x="436" y="64"/>
                      </a:lnTo>
                      <a:lnTo>
                        <a:pt x="440" y="65"/>
                      </a:lnTo>
                      <a:lnTo>
                        <a:pt x="442" y="64"/>
                      </a:lnTo>
                      <a:lnTo>
                        <a:pt x="445" y="64"/>
                      </a:lnTo>
                      <a:lnTo>
                        <a:pt x="448" y="63"/>
                      </a:lnTo>
                      <a:lnTo>
                        <a:pt x="451" y="63"/>
                      </a:lnTo>
                      <a:lnTo>
                        <a:pt x="453" y="62"/>
                      </a:lnTo>
                      <a:lnTo>
                        <a:pt x="455" y="62"/>
                      </a:lnTo>
                      <a:lnTo>
                        <a:pt x="458" y="61"/>
                      </a:lnTo>
                      <a:lnTo>
                        <a:pt x="461" y="61"/>
                      </a:lnTo>
                      <a:lnTo>
                        <a:pt x="466" y="57"/>
                      </a:lnTo>
                      <a:lnTo>
                        <a:pt x="471" y="55"/>
                      </a:lnTo>
                      <a:lnTo>
                        <a:pt x="475" y="52"/>
                      </a:lnTo>
                      <a:lnTo>
                        <a:pt x="480" y="49"/>
                      </a:lnTo>
                      <a:lnTo>
                        <a:pt x="485" y="45"/>
                      </a:lnTo>
                      <a:lnTo>
                        <a:pt x="488" y="42"/>
                      </a:lnTo>
                      <a:lnTo>
                        <a:pt x="493" y="38"/>
                      </a:lnTo>
                      <a:lnTo>
                        <a:pt x="497" y="35"/>
                      </a:lnTo>
                      <a:lnTo>
                        <a:pt x="499" y="30"/>
                      </a:lnTo>
                      <a:lnTo>
                        <a:pt x="503" y="25"/>
                      </a:lnTo>
                      <a:lnTo>
                        <a:pt x="505" y="21"/>
                      </a:lnTo>
                      <a:lnTo>
                        <a:pt x="507" y="18"/>
                      </a:lnTo>
                      <a:lnTo>
                        <a:pt x="509" y="12"/>
                      </a:lnTo>
                      <a:lnTo>
                        <a:pt x="510" y="7"/>
                      </a:lnTo>
                      <a:lnTo>
                        <a:pt x="511" y="4"/>
                      </a:lnTo>
                      <a:lnTo>
                        <a:pt x="511" y="0"/>
                      </a:lnTo>
                      <a:lnTo>
                        <a:pt x="515" y="0"/>
                      </a:lnTo>
                      <a:lnTo>
                        <a:pt x="518" y="0"/>
                      </a:lnTo>
                      <a:lnTo>
                        <a:pt x="523" y="0"/>
                      </a:lnTo>
                      <a:lnTo>
                        <a:pt x="528" y="0"/>
                      </a:lnTo>
                      <a:lnTo>
                        <a:pt x="531" y="0"/>
                      </a:lnTo>
                      <a:lnTo>
                        <a:pt x="535" y="0"/>
                      </a:lnTo>
                      <a:lnTo>
                        <a:pt x="538" y="0"/>
                      </a:lnTo>
                      <a:lnTo>
                        <a:pt x="544" y="0"/>
                      </a:lnTo>
                      <a:lnTo>
                        <a:pt x="538" y="2"/>
                      </a:lnTo>
                      <a:lnTo>
                        <a:pt x="536" y="5"/>
                      </a:lnTo>
                      <a:lnTo>
                        <a:pt x="534" y="7"/>
                      </a:lnTo>
                      <a:lnTo>
                        <a:pt x="531" y="10"/>
                      </a:lnTo>
                      <a:lnTo>
                        <a:pt x="526" y="16"/>
                      </a:lnTo>
                      <a:lnTo>
                        <a:pt x="522" y="20"/>
                      </a:lnTo>
                      <a:lnTo>
                        <a:pt x="518" y="24"/>
                      </a:lnTo>
                      <a:lnTo>
                        <a:pt x="517" y="29"/>
                      </a:lnTo>
                      <a:lnTo>
                        <a:pt x="516" y="33"/>
                      </a:lnTo>
                      <a:lnTo>
                        <a:pt x="516" y="38"/>
                      </a:lnTo>
                      <a:lnTo>
                        <a:pt x="516" y="40"/>
                      </a:lnTo>
                      <a:lnTo>
                        <a:pt x="516" y="45"/>
                      </a:lnTo>
                      <a:lnTo>
                        <a:pt x="518" y="48"/>
                      </a:lnTo>
                      <a:lnTo>
                        <a:pt x="521" y="51"/>
                      </a:lnTo>
                      <a:lnTo>
                        <a:pt x="523" y="54"/>
                      </a:lnTo>
                      <a:lnTo>
                        <a:pt x="525" y="57"/>
                      </a:lnTo>
                      <a:lnTo>
                        <a:pt x="529" y="59"/>
                      </a:lnTo>
                      <a:lnTo>
                        <a:pt x="534" y="62"/>
                      </a:lnTo>
                      <a:lnTo>
                        <a:pt x="536" y="63"/>
                      </a:lnTo>
                      <a:lnTo>
                        <a:pt x="541" y="65"/>
                      </a:lnTo>
                      <a:lnTo>
                        <a:pt x="545" y="67"/>
                      </a:lnTo>
                      <a:lnTo>
                        <a:pt x="549" y="68"/>
                      </a:lnTo>
                      <a:lnTo>
                        <a:pt x="554" y="69"/>
                      </a:lnTo>
                      <a:lnTo>
                        <a:pt x="558" y="70"/>
                      </a:lnTo>
                      <a:lnTo>
                        <a:pt x="564" y="70"/>
                      </a:lnTo>
                      <a:lnTo>
                        <a:pt x="569" y="71"/>
                      </a:lnTo>
                      <a:lnTo>
                        <a:pt x="573" y="71"/>
                      </a:lnTo>
                      <a:lnTo>
                        <a:pt x="577" y="71"/>
                      </a:lnTo>
                      <a:lnTo>
                        <a:pt x="582" y="71"/>
                      </a:lnTo>
                      <a:lnTo>
                        <a:pt x="586" y="71"/>
                      </a:lnTo>
                      <a:lnTo>
                        <a:pt x="589" y="70"/>
                      </a:lnTo>
                      <a:lnTo>
                        <a:pt x="593" y="70"/>
                      </a:lnTo>
                      <a:lnTo>
                        <a:pt x="595" y="69"/>
                      </a:lnTo>
                      <a:lnTo>
                        <a:pt x="599" y="68"/>
                      </a:lnTo>
                      <a:lnTo>
                        <a:pt x="598" y="64"/>
                      </a:lnTo>
                      <a:lnTo>
                        <a:pt x="596" y="61"/>
                      </a:lnTo>
                      <a:lnTo>
                        <a:pt x="596" y="58"/>
                      </a:lnTo>
                      <a:lnTo>
                        <a:pt x="596" y="56"/>
                      </a:lnTo>
                      <a:lnTo>
                        <a:pt x="595" y="52"/>
                      </a:lnTo>
                      <a:lnTo>
                        <a:pt x="595" y="50"/>
                      </a:lnTo>
                      <a:lnTo>
                        <a:pt x="594" y="48"/>
                      </a:lnTo>
                      <a:lnTo>
                        <a:pt x="594" y="45"/>
                      </a:lnTo>
                      <a:lnTo>
                        <a:pt x="593" y="40"/>
                      </a:lnTo>
                      <a:lnTo>
                        <a:pt x="592" y="37"/>
                      </a:lnTo>
                      <a:lnTo>
                        <a:pt x="591" y="33"/>
                      </a:lnTo>
                      <a:lnTo>
                        <a:pt x="591" y="31"/>
                      </a:lnTo>
                      <a:lnTo>
                        <a:pt x="589" y="27"/>
                      </a:lnTo>
                      <a:lnTo>
                        <a:pt x="588" y="26"/>
                      </a:lnTo>
                      <a:lnTo>
                        <a:pt x="587" y="24"/>
                      </a:lnTo>
                      <a:lnTo>
                        <a:pt x="586" y="23"/>
                      </a:lnTo>
                      <a:lnTo>
                        <a:pt x="583" y="20"/>
                      </a:lnTo>
                      <a:lnTo>
                        <a:pt x="582" y="19"/>
                      </a:lnTo>
                      <a:lnTo>
                        <a:pt x="577" y="18"/>
                      </a:lnTo>
                      <a:lnTo>
                        <a:pt x="575" y="17"/>
                      </a:lnTo>
                      <a:lnTo>
                        <a:pt x="572" y="16"/>
                      </a:lnTo>
                      <a:lnTo>
                        <a:pt x="569" y="14"/>
                      </a:lnTo>
                      <a:lnTo>
                        <a:pt x="564" y="12"/>
                      </a:lnTo>
                      <a:lnTo>
                        <a:pt x="562" y="8"/>
                      </a:lnTo>
                      <a:lnTo>
                        <a:pt x="558" y="6"/>
                      </a:lnTo>
                      <a:lnTo>
                        <a:pt x="556" y="5"/>
                      </a:lnTo>
                      <a:lnTo>
                        <a:pt x="554" y="2"/>
                      </a:lnTo>
                      <a:lnTo>
                        <a:pt x="551" y="0"/>
                      </a:lnTo>
                      <a:lnTo>
                        <a:pt x="556" y="0"/>
                      </a:lnTo>
                      <a:lnTo>
                        <a:pt x="560" y="0"/>
                      </a:lnTo>
                      <a:lnTo>
                        <a:pt x="564" y="0"/>
                      </a:lnTo>
                      <a:lnTo>
                        <a:pt x="568" y="0"/>
                      </a:lnTo>
                      <a:lnTo>
                        <a:pt x="572" y="0"/>
                      </a:lnTo>
                      <a:lnTo>
                        <a:pt x="576" y="0"/>
                      </a:lnTo>
                      <a:lnTo>
                        <a:pt x="580" y="0"/>
                      </a:lnTo>
                      <a:lnTo>
                        <a:pt x="585" y="0"/>
                      </a:lnTo>
                      <a:lnTo>
                        <a:pt x="588" y="0"/>
                      </a:lnTo>
                      <a:lnTo>
                        <a:pt x="592" y="0"/>
                      </a:lnTo>
                      <a:lnTo>
                        <a:pt x="596" y="0"/>
                      </a:lnTo>
                      <a:lnTo>
                        <a:pt x="600" y="0"/>
                      </a:lnTo>
                      <a:lnTo>
                        <a:pt x="605" y="0"/>
                      </a:lnTo>
                      <a:lnTo>
                        <a:pt x="608" y="0"/>
                      </a:lnTo>
                      <a:lnTo>
                        <a:pt x="612" y="0"/>
                      </a:lnTo>
                      <a:lnTo>
                        <a:pt x="617" y="1"/>
                      </a:lnTo>
                      <a:lnTo>
                        <a:pt x="620" y="1"/>
                      </a:lnTo>
                      <a:lnTo>
                        <a:pt x="625" y="1"/>
                      </a:lnTo>
                      <a:lnTo>
                        <a:pt x="628" y="1"/>
                      </a:lnTo>
                      <a:lnTo>
                        <a:pt x="632" y="2"/>
                      </a:lnTo>
                      <a:lnTo>
                        <a:pt x="637" y="2"/>
                      </a:lnTo>
                      <a:lnTo>
                        <a:pt x="640" y="2"/>
                      </a:lnTo>
                      <a:lnTo>
                        <a:pt x="645" y="2"/>
                      </a:lnTo>
                      <a:lnTo>
                        <a:pt x="650" y="2"/>
                      </a:lnTo>
                      <a:lnTo>
                        <a:pt x="652" y="2"/>
                      </a:lnTo>
                      <a:lnTo>
                        <a:pt x="657" y="2"/>
                      </a:lnTo>
                      <a:lnTo>
                        <a:pt x="661" y="2"/>
                      </a:lnTo>
                      <a:lnTo>
                        <a:pt x="665" y="2"/>
                      </a:lnTo>
                      <a:lnTo>
                        <a:pt x="669" y="2"/>
                      </a:lnTo>
                      <a:lnTo>
                        <a:pt x="672" y="4"/>
                      </a:lnTo>
                      <a:lnTo>
                        <a:pt x="678" y="4"/>
                      </a:lnTo>
                      <a:lnTo>
                        <a:pt x="682" y="5"/>
                      </a:lnTo>
                      <a:lnTo>
                        <a:pt x="685" y="5"/>
                      </a:lnTo>
                      <a:lnTo>
                        <a:pt x="689" y="5"/>
                      </a:lnTo>
                      <a:lnTo>
                        <a:pt x="694" y="5"/>
                      </a:lnTo>
                      <a:lnTo>
                        <a:pt x="697" y="5"/>
                      </a:lnTo>
                      <a:lnTo>
                        <a:pt x="701" y="5"/>
                      </a:lnTo>
                      <a:lnTo>
                        <a:pt x="706" y="5"/>
                      </a:lnTo>
                      <a:lnTo>
                        <a:pt x="709" y="5"/>
                      </a:lnTo>
                      <a:lnTo>
                        <a:pt x="714" y="5"/>
                      </a:lnTo>
                      <a:lnTo>
                        <a:pt x="717" y="5"/>
                      </a:lnTo>
                      <a:lnTo>
                        <a:pt x="721" y="5"/>
                      </a:lnTo>
                      <a:lnTo>
                        <a:pt x="726" y="6"/>
                      </a:lnTo>
                      <a:lnTo>
                        <a:pt x="731" y="6"/>
                      </a:lnTo>
                      <a:lnTo>
                        <a:pt x="734" y="6"/>
                      </a:lnTo>
                      <a:lnTo>
                        <a:pt x="738" y="6"/>
                      </a:lnTo>
                      <a:lnTo>
                        <a:pt x="741" y="7"/>
                      </a:lnTo>
                      <a:lnTo>
                        <a:pt x="746" y="7"/>
                      </a:lnTo>
                      <a:lnTo>
                        <a:pt x="751" y="7"/>
                      </a:lnTo>
                      <a:lnTo>
                        <a:pt x="754" y="7"/>
                      </a:lnTo>
                      <a:lnTo>
                        <a:pt x="759" y="7"/>
                      </a:lnTo>
                      <a:lnTo>
                        <a:pt x="763" y="7"/>
                      </a:lnTo>
                      <a:lnTo>
                        <a:pt x="766" y="7"/>
                      </a:lnTo>
                      <a:lnTo>
                        <a:pt x="770" y="8"/>
                      </a:lnTo>
                      <a:lnTo>
                        <a:pt x="774" y="8"/>
                      </a:lnTo>
                      <a:lnTo>
                        <a:pt x="779" y="10"/>
                      </a:lnTo>
                      <a:lnTo>
                        <a:pt x="783" y="10"/>
                      </a:lnTo>
                      <a:lnTo>
                        <a:pt x="786" y="10"/>
                      </a:lnTo>
                      <a:lnTo>
                        <a:pt x="791" y="10"/>
                      </a:lnTo>
                      <a:lnTo>
                        <a:pt x="795" y="10"/>
                      </a:lnTo>
                      <a:lnTo>
                        <a:pt x="799" y="10"/>
                      </a:lnTo>
                      <a:lnTo>
                        <a:pt x="803" y="10"/>
                      </a:lnTo>
                      <a:lnTo>
                        <a:pt x="808" y="11"/>
                      </a:lnTo>
                      <a:lnTo>
                        <a:pt x="811" y="1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Freeform 33"/>
                <p:cNvSpPr/>
                <p:nvPr/>
              </p:nvSpPr>
              <p:spPr>
                <a:xfrm>
                  <a:off x="1522440" y="2149560"/>
                  <a:ext cx="5760" cy="64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3" h="14">
                      <a:moveTo>
                        <a:pt x="13" y="14"/>
                      </a:moveTo>
                      <a:lnTo>
                        <a:pt x="8" y="11"/>
                      </a:lnTo>
                      <a:lnTo>
                        <a:pt x="5" y="8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Freeform 34"/>
                <p:cNvSpPr/>
                <p:nvPr/>
              </p:nvSpPr>
              <p:spPr>
                <a:xfrm>
                  <a:off x="990720" y="2549880"/>
                  <a:ext cx="753840" cy="56880"/>
                </a:xfrm>
                <a:custGeom>
                  <a:avLst/>
                  <a:gdLst>
                    <a:gd name="textAreaLeft" fmla="*/ 0 w 753840"/>
                    <a:gd name="textAreaRight" fmla="*/ 754200 w 7538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425" h="109">
                      <a:moveTo>
                        <a:pt x="13" y="6"/>
                      </a:move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4" y="6"/>
                      </a:lnTo>
                      <a:lnTo>
                        <a:pt x="28" y="7"/>
                      </a:lnTo>
                      <a:lnTo>
                        <a:pt x="31" y="7"/>
                      </a:lnTo>
                      <a:lnTo>
                        <a:pt x="34" y="8"/>
                      </a:lnTo>
                      <a:lnTo>
                        <a:pt x="37" y="8"/>
                      </a:lnTo>
                      <a:lnTo>
                        <a:pt x="40" y="8"/>
                      </a:lnTo>
                      <a:lnTo>
                        <a:pt x="44" y="8"/>
                      </a:lnTo>
                      <a:lnTo>
                        <a:pt x="47" y="9"/>
                      </a:lnTo>
                      <a:lnTo>
                        <a:pt x="51" y="9"/>
                      </a:lnTo>
                      <a:lnTo>
                        <a:pt x="55" y="10"/>
                      </a:lnTo>
                      <a:lnTo>
                        <a:pt x="58" y="10"/>
                      </a:lnTo>
                      <a:lnTo>
                        <a:pt x="63" y="10"/>
                      </a:lnTo>
                      <a:lnTo>
                        <a:pt x="68" y="10"/>
                      </a:lnTo>
                      <a:lnTo>
                        <a:pt x="71" y="12"/>
                      </a:lnTo>
                      <a:lnTo>
                        <a:pt x="76" y="12"/>
                      </a:lnTo>
                      <a:lnTo>
                        <a:pt x="81" y="13"/>
                      </a:lnTo>
                      <a:lnTo>
                        <a:pt x="85" y="13"/>
                      </a:lnTo>
                      <a:lnTo>
                        <a:pt x="90" y="13"/>
                      </a:lnTo>
                      <a:lnTo>
                        <a:pt x="95" y="14"/>
                      </a:lnTo>
                      <a:lnTo>
                        <a:pt x="101" y="14"/>
                      </a:lnTo>
                      <a:lnTo>
                        <a:pt x="104" y="15"/>
                      </a:lnTo>
                      <a:lnTo>
                        <a:pt x="112" y="15"/>
                      </a:lnTo>
                      <a:lnTo>
                        <a:pt x="116" y="15"/>
                      </a:lnTo>
                      <a:lnTo>
                        <a:pt x="121" y="16"/>
                      </a:lnTo>
                      <a:lnTo>
                        <a:pt x="126" y="16"/>
                      </a:lnTo>
                      <a:lnTo>
                        <a:pt x="132" y="18"/>
                      </a:lnTo>
                      <a:lnTo>
                        <a:pt x="136" y="18"/>
                      </a:lnTo>
                      <a:lnTo>
                        <a:pt x="142" y="18"/>
                      </a:lnTo>
                      <a:lnTo>
                        <a:pt x="147" y="18"/>
                      </a:lnTo>
                      <a:lnTo>
                        <a:pt x="153" y="19"/>
                      </a:lnTo>
                      <a:lnTo>
                        <a:pt x="159" y="19"/>
                      </a:lnTo>
                      <a:lnTo>
                        <a:pt x="165" y="19"/>
                      </a:lnTo>
                      <a:lnTo>
                        <a:pt x="170" y="20"/>
                      </a:lnTo>
                      <a:lnTo>
                        <a:pt x="176" y="20"/>
                      </a:lnTo>
                      <a:lnTo>
                        <a:pt x="182" y="20"/>
                      </a:lnTo>
                      <a:lnTo>
                        <a:pt x="187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204" y="21"/>
                      </a:lnTo>
                      <a:lnTo>
                        <a:pt x="210" y="21"/>
                      </a:lnTo>
                      <a:lnTo>
                        <a:pt x="215" y="21"/>
                      </a:lnTo>
                      <a:lnTo>
                        <a:pt x="221" y="22"/>
                      </a:lnTo>
                      <a:lnTo>
                        <a:pt x="225" y="22"/>
                      </a:lnTo>
                      <a:lnTo>
                        <a:pt x="231" y="22"/>
                      </a:lnTo>
                      <a:lnTo>
                        <a:pt x="237" y="22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3" y="22"/>
                      </a:lnTo>
                      <a:lnTo>
                        <a:pt x="259" y="22"/>
                      </a:lnTo>
                      <a:lnTo>
                        <a:pt x="263" y="22"/>
                      </a:lnTo>
                      <a:lnTo>
                        <a:pt x="268" y="22"/>
                      </a:lnTo>
                      <a:lnTo>
                        <a:pt x="274" y="22"/>
                      </a:lnTo>
                      <a:lnTo>
                        <a:pt x="279" y="22"/>
                      </a:lnTo>
                      <a:lnTo>
                        <a:pt x="284" y="22"/>
                      </a:lnTo>
                      <a:lnTo>
                        <a:pt x="288" y="21"/>
                      </a:lnTo>
                      <a:lnTo>
                        <a:pt x="292" y="21"/>
                      </a:lnTo>
                      <a:lnTo>
                        <a:pt x="294" y="21"/>
                      </a:lnTo>
                      <a:lnTo>
                        <a:pt x="297" y="21"/>
                      </a:lnTo>
                      <a:lnTo>
                        <a:pt x="299" y="21"/>
                      </a:lnTo>
                      <a:lnTo>
                        <a:pt x="303" y="21"/>
                      </a:lnTo>
                      <a:lnTo>
                        <a:pt x="305" y="20"/>
                      </a:lnTo>
                      <a:lnTo>
                        <a:pt x="306" y="20"/>
                      </a:lnTo>
                      <a:lnTo>
                        <a:pt x="310" y="20"/>
                      </a:lnTo>
                      <a:lnTo>
                        <a:pt x="313" y="20"/>
                      </a:lnTo>
                      <a:lnTo>
                        <a:pt x="316" y="20"/>
                      </a:lnTo>
                      <a:lnTo>
                        <a:pt x="319" y="20"/>
                      </a:lnTo>
                      <a:lnTo>
                        <a:pt x="322" y="20"/>
                      </a:lnTo>
                      <a:lnTo>
                        <a:pt x="324" y="20"/>
                      </a:lnTo>
                      <a:lnTo>
                        <a:pt x="327" y="19"/>
                      </a:lnTo>
                      <a:lnTo>
                        <a:pt x="330" y="19"/>
                      </a:lnTo>
                      <a:lnTo>
                        <a:pt x="335" y="19"/>
                      </a:lnTo>
                      <a:lnTo>
                        <a:pt x="337" y="19"/>
                      </a:lnTo>
                      <a:lnTo>
                        <a:pt x="339" y="19"/>
                      </a:lnTo>
                      <a:lnTo>
                        <a:pt x="344" y="19"/>
                      </a:lnTo>
                      <a:lnTo>
                        <a:pt x="346" y="19"/>
                      </a:lnTo>
                      <a:lnTo>
                        <a:pt x="351" y="19"/>
                      </a:lnTo>
                      <a:lnTo>
                        <a:pt x="355" y="18"/>
                      </a:lnTo>
                      <a:lnTo>
                        <a:pt x="357" y="18"/>
                      </a:lnTo>
                      <a:lnTo>
                        <a:pt x="361" y="18"/>
                      </a:lnTo>
                      <a:lnTo>
                        <a:pt x="364" y="18"/>
                      </a:lnTo>
                      <a:lnTo>
                        <a:pt x="369" y="18"/>
                      </a:lnTo>
                      <a:lnTo>
                        <a:pt x="373" y="18"/>
                      </a:lnTo>
                      <a:lnTo>
                        <a:pt x="376" y="18"/>
                      </a:lnTo>
                      <a:lnTo>
                        <a:pt x="381" y="18"/>
                      </a:lnTo>
                      <a:lnTo>
                        <a:pt x="384" y="18"/>
                      </a:lnTo>
                      <a:lnTo>
                        <a:pt x="388" y="18"/>
                      </a:lnTo>
                      <a:lnTo>
                        <a:pt x="392" y="18"/>
                      </a:lnTo>
                      <a:lnTo>
                        <a:pt x="396" y="18"/>
                      </a:lnTo>
                      <a:lnTo>
                        <a:pt x="400" y="16"/>
                      </a:lnTo>
                      <a:lnTo>
                        <a:pt x="403" y="16"/>
                      </a:lnTo>
                      <a:lnTo>
                        <a:pt x="408" y="16"/>
                      </a:lnTo>
                      <a:lnTo>
                        <a:pt x="412" y="16"/>
                      </a:lnTo>
                      <a:lnTo>
                        <a:pt x="415" y="16"/>
                      </a:lnTo>
                      <a:lnTo>
                        <a:pt x="420" y="16"/>
                      </a:lnTo>
                      <a:lnTo>
                        <a:pt x="425" y="16"/>
                      </a:lnTo>
                      <a:lnTo>
                        <a:pt x="428" y="16"/>
                      </a:lnTo>
                      <a:lnTo>
                        <a:pt x="433" y="16"/>
                      </a:lnTo>
                      <a:lnTo>
                        <a:pt x="438" y="16"/>
                      </a:lnTo>
                      <a:lnTo>
                        <a:pt x="441" y="16"/>
                      </a:lnTo>
                      <a:lnTo>
                        <a:pt x="446" y="16"/>
                      </a:lnTo>
                      <a:lnTo>
                        <a:pt x="451" y="15"/>
                      </a:lnTo>
                      <a:lnTo>
                        <a:pt x="456" y="15"/>
                      </a:lnTo>
                      <a:lnTo>
                        <a:pt x="459" y="15"/>
                      </a:lnTo>
                      <a:lnTo>
                        <a:pt x="463" y="15"/>
                      </a:lnTo>
                      <a:lnTo>
                        <a:pt x="469" y="15"/>
                      </a:lnTo>
                      <a:lnTo>
                        <a:pt x="472" y="15"/>
                      </a:lnTo>
                      <a:lnTo>
                        <a:pt x="477" y="15"/>
                      </a:lnTo>
                      <a:lnTo>
                        <a:pt x="482" y="15"/>
                      </a:lnTo>
                      <a:lnTo>
                        <a:pt x="486" y="15"/>
                      </a:lnTo>
                      <a:lnTo>
                        <a:pt x="490" y="15"/>
                      </a:lnTo>
                      <a:lnTo>
                        <a:pt x="495" y="15"/>
                      </a:lnTo>
                      <a:lnTo>
                        <a:pt x="500" y="15"/>
                      </a:lnTo>
                      <a:lnTo>
                        <a:pt x="504" y="15"/>
                      </a:lnTo>
                      <a:lnTo>
                        <a:pt x="509" y="15"/>
                      </a:lnTo>
                      <a:lnTo>
                        <a:pt x="514" y="15"/>
                      </a:lnTo>
                      <a:lnTo>
                        <a:pt x="519" y="15"/>
                      </a:lnTo>
                      <a:lnTo>
                        <a:pt x="516" y="16"/>
                      </a:lnTo>
                      <a:lnTo>
                        <a:pt x="513" y="18"/>
                      </a:lnTo>
                      <a:lnTo>
                        <a:pt x="510" y="18"/>
                      </a:lnTo>
                      <a:lnTo>
                        <a:pt x="507" y="20"/>
                      </a:lnTo>
                      <a:lnTo>
                        <a:pt x="504" y="21"/>
                      </a:lnTo>
                      <a:lnTo>
                        <a:pt x="501" y="21"/>
                      </a:lnTo>
                      <a:lnTo>
                        <a:pt x="498" y="24"/>
                      </a:lnTo>
                      <a:lnTo>
                        <a:pt x="497" y="25"/>
                      </a:lnTo>
                      <a:lnTo>
                        <a:pt x="491" y="27"/>
                      </a:lnTo>
                      <a:lnTo>
                        <a:pt x="488" y="29"/>
                      </a:lnTo>
                      <a:lnTo>
                        <a:pt x="483" y="33"/>
                      </a:lnTo>
                      <a:lnTo>
                        <a:pt x="479" y="37"/>
                      </a:lnTo>
                      <a:lnTo>
                        <a:pt x="476" y="40"/>
                      </a:lnTo>
                      <a:lnTo>
                        <a:pt x="473" y="45"/>
                      </a:lnTo>
                      <a:lnTo>
                        <a:pt x="471" y="46"/>
                      </a:lnTo>
                      <a:lnTo>
                        <a:pt x="471" y="48"/>
                      </a:lnTo>
                      <a:lnTo>
                        <a:pt x="470" y="51"/>
                      </a:lnTo>
                      <a:lnTo>
                        <a:pt x="469" y="54"/>
                      </a:lnTo>
                      <a:lnTo>
                        <a:pt x="469" y="56"/>
                      </a:lnTo>
                      <a:lnTo>
                        <a:pt x="469" y="59"/>
                      </a:lnTo>
                      <a:lnTo>
                        <a:pt x="467" y="62"/>
                      </a:lnTo>
                      <a:lnTo>
                        <a:pt x="467" y="65"/>
                      </a:lnTo>
                      <a:lnTo>
                        <a:pt x="467" y="69"/>
                      </a:lnTo>
                      <a:lnTo>
                        <a:pt x="467" y="71"/>
                      </a:lnTo>
                      <a:lnTo>
                        <a:pt x="469" y="75"/>
                      </a:lnTo>
                      <a:lnTo>
                        <a:pt x="469" y="79"/>
                      </a:lnTo>
                      <a:lnTo>
                        <a:pt x="471" y="78"/>
                      </a:lnTo>
                      <a:lnTo>
                        <a:pt x="473" y="78"/>
                      </a:lnTo>
                      <a:lnTo>
                        <a:pt x="476" y="77"/>
                      </a:lnTo>
                      <a:lnTo>
                        <a:pt x="479" y="77"/>
                      </a:lnTo>
                      <a:lnTo>
                        <a:pt x="482" y="76"/>
                      </a:lnTo>
                      <a:lnTo>
                        <a:pt x="484" y="76"/>
                      </a:lnTo>
                      <a:lnTo>
                        <a:pt x="486" y="76"/>
                      </a:lnTo>
                      <a:lnTo>
                        <a:pt x="490" y="75"/>
                      </a:lnTo>
                      <a:lnTo>
                        <a:pt x="495" y="73"/>
                      </a:lnTo>
                      <a:lnTo>
                        <a:pt x="500" y="71"/>
                      </a:lnTo>
                      <a:lnTo>
                        <a:pt x="504" y="71"/>
                      </a:lnTo>
                      <a:lnTo>
                        <a:pt x="510" y="70"/>
                      </a:lnTo>
                      <a:lnTo>
                        <a:pt x="515" y="67"/>
                      </a:lnTo>
                      <a:lnTo>
                        <a:pt x="519" y="66"/>
                      </a:lnTo>
                      <a:lnTo>
                        <a:pt x="524" y="64"/>
                      </a:lnTo>
                      <a:lnTo>
                        <a:pt x="529" y="63"/>
                      </a:lnTo>
                      <a:lnTo>
                        <a:pt x="534" y="60"/>
                      </a:lnTo>
                      <a:lnTo>
                        <a:pt x="539" y="59"/>
                      </a:lnTo>
                      <a:lnTo>
                        <a:pt x="543" y="56"/>
                      </a:lnTo>
                      <a:lnTo>
                        <a:pt x="548" y="54"/>
                      </a:lnTo>
                      <a:lnTo>
                        <a:pt x="552" y="52"/>
                      </a:lnTo>
                      <a:lnTo>
                        <a:pt x="556" y="51"/>
                      </a:lnTo>
                      <a:lnTo>
                        <a:pt x="562" y="48"/>
                      </a:lnTo>
                      <a:lnTo>
                        <a:pt x="567" y="46"/>
                      </a:lnTo>
                      <a:lnTo>
                        <a:pt x="571" y="44"/>
                      </a:lnTo>
                      <a:lnTo>
                        <a:pt x="577" y="41"/>
                      </a:lnTo>
                      <a:lnTo>
                        <a:pt x="581" y="39"/>
                      </a:lnTo>
                      <a:lnTo>
                        <a:pt x="586" y="38"/>
                      </a:lnTo>
                      <a:lnTo>
                        <a:pt x="591" y="35"/>
                      </a:lnTo>
                      <a:lnTo>
                        <a:pt x="596" y="34"/>
                      </a:lnTo>
                      <a:lnTo>
                        <a:pt x="600" y="33"/>
                      </a:lnTo>
                      <a:lnTo>
                        <a:pt x="606" y="31"/>
                      </a:lnTo>
                      <a:lnTo>
                        <a:pt x="611" y="29"/>
                      </a:lnTo>
                      <a:lnTo>
                        <a:pt x="616" y="28"/>
                      </a:lnTo>
                      <a:lnTo>
                        <a:pt x="619" y="27"/>
                      </a:lnTo>
                      <a:lnTo>
                        <a:pt x="622" y="27"/>
                      </a:lnTo>
                      <a:lnTo>
                        <a:pt x="625" y="26"/>
                      </a:lnTo>
                      <a:lnTo>
                        <a:pt x="628" y="26"/>
                      </a:lnTo>
                      <a:lnTo>
                        <a:pt x="625" y="24"/>
                      </a:lnTo>
                      <a:lnTo>
                        <a:pt x="624" y="21"/>
                      </a:lnTo>
                      <a:lnTo>
                        <a:pt x="621" y="18"/>
                      </a:lnTo>
                      <a:lnTo>
                        <a:pt x="618" y="14"/>
                      </a:lnTo>
                      <a:lnTo>
                        <a:pt x="621" y="13"/>
                      </a:lnTo>
                      <a:lnTo>
                        <a:pt x="625" y="13"/>
                      </a:lnTo>
                      <a:lnTo>
                        <a:pt x="628" y="13"/>
                      </a:lnTo>
                      <a:lnTo>
                        <a:pt x="632" y="13"/>
                      </a:lnTo>
                      <a:lnTo>
                        <a:pt x="637" y="13"/>
                      </a:lnTo>
                      <a:lnTo>
                        <a:pt x="641" y="13"/>
                      </a:lnTo>
                      <a:lnTo>
                        <a:pt x="644" y="13"/>
                      </a:lnTo>
                      <a:lnTo>
                        <a:pt x="648" y="13"/>
                      </a:lnTo>
                      <a:lnTo>
                        <a:pt x="651" y="13"/>
                      </a:lnTo>
                      <a:lnTo>
                        <a:pt x="656" y="13"/>
                      </a:lnTo>
                      <a:lnTo>
                        <a:pt x="660" y="13"/>
                      </a:lnTo>
                      <a:lnTo>
                        <a:pt x="663" y="13"/>
                      </a:lnTo>
                      <a:lnTo>
                        <a:pt x="667" y="13"/>
                      </a:lnTo>
                      <a:lnTo>
                        <a:pt x="670" y="13"/>
                      </a:lnTo>
                      <a:lnTo>
                        <a:pt x="674" y="13"/>
                      </a:lnTo>
                      <a:lnTo>
                        <a:pt x="679" y="13"/>
                      </a:lnTo>
                      <a:lnTo>
                        <a:pt x="682" y="13"/>
                      </a:lnTo>
                      <a:lnTo>
                        <a:pt x="686" y="13"/>
                      </a:lnTo>
                      <a:lnTo>
                        <a:pt x="689" y="13"/>
                      </a:lnTo>
                      <a:lnTo>
                        <a:pt x="693" y="13"/>
                      </a:lnTo>
                      <a:lnTo>
                        <a:pt x="696" y="13"/>
                      </a:lnTo>
                      <a:lnTo>
                        <a:pt x="700" y="13"/>
                      </a:lnTo>
                      <a:lnTo>
                        <a:pt x="704" y="13"/>
                      </a:lnTo>
                      <a:lnTo>
                        <a:pt x="707" y="13"/>
                      </a:lnTo>
                      <a:lnTo>
                        <a:pt x="711" y="13"/>
                      </a:lnTo>
                      <a:lnTo>
                        <a:pt x="714" y="13"/>
                      </a:lnTo>
                      <a:lnTo>
                        <a:pt x="718" y="13"/>
                      </a:lnTo>
                      <a:lnTo>
                        <a:pt x="721" y="13"/>
                      </a:lnTo>
                      <a:lnTo>
                        <a:pt x="724" y="13"/>
                      </a:lnTo>
                      <a:lnTo>
                        <a:pt x="729" y="13"/>
                      </a:lnTo>
                      <a:lnTo>
                        <a:pt x="731" y="13"/>
                      </a:lnTo>
                      <a:lnTo>
                        <a:pt x="734" y="14"/>
                      </a:lnTo>
                      <a:lnTo>
                        <a:pt x="738" y="14"/>
                      </a:lnTo>
                      <a:lnTo>
                        <a:pt x="742" y="14"/>
                      </a:lnTo>
                      <a:lnTo>
                        <a:pt x="744" y="14"/>
                      </a:lnTo>
                      <a:lnTo>
                        <a:pt x="746" y="14"/>
                      </a:lnTo>
                      <a:lnTo>
                        <a:pt x="750" y="14"/>
                      </a:lnTo>
                      <a:lnTo>
                        <a:pt x="753" y="14"/>
                      </a:lnTo>
                      <a:lnTo>
                        <a:pt x="756" y="14"/>
                      </a:lnTo>
                      <a:lnTo>
                        <a:pt x="759" y="14"/>
                      </a:lnTo>
                      <a:lnTo>
                        <a:pt x="762" y="14"/>
                      </a:lnTo>
                      <a:lnTo>
                        <a:pt x="764" y="14"/>
                      </a:lnTo>
                      <a:lnTo>
                        <a:pt x="766" y="14"/>
                      </a:lnTo>
                      <a:lnTo>
                        <a:pt x="770" y="15"/>
                      </a:lnTo>
                      <a:lnTo>
                        <a:pt x="772" y="15"/>
                      </a:lnTo>
                      <a:lnTo>
                        <a:pt x="775" y="15"/>
                      </a:lnTo>
                      <a:lnTo>
                        <a:pt x="778" y="15"/>
                      </a:lnTo>
                      <a:lnTo>
                        <a:pt x="781" y="15"/>
                      </a:lnTo>
                      <a:lnTo>
                        <a:pt x="785" y="15"/>
                      </a:lnTo>
                      <a:lnTo>
                        <a:pt x="790" y="15"/>
                      </a:lnTo>
                      <a:lnTo>
                        <a:pt x="795" y="15"/>
                      </a:lnTo>
                      <a:lnTo>
                        <a:pt x="800" y="16"/>
                      </a:lnTo>
                      <a:lnTo>
                        <a:pt x="804" y="16"/>
                      </a:lnTo>
                      <a:lnTo>
                        <a:pt x="808" y="16"/>
                      </a:lnTo>
                      <a:lnTo>
                        <a:pt x="813" y="18"/>
                      </a:lnTo>
                      <a:lnTo>
                        <a:pt x="816" y="18"/>
                      </a:lnTo>
                      <a:lnTo>
                        <a:pt x="815" y="21"/>
                      </a:lnTo>
                      <a:lnTo>
                        <a:pt x="816" y="25"/>
                      </a:lnTo>
                      <a:lnTo>
                        <a:pt x="816" y="28"/>
                      </a:lnTo>
                      <a:lnTo>
                        <a:pt x="818" y="33"/>
                      </a:lnTo>
                      <a:lnTo>
                        <a:pt x="820" y="37"/>
                      </a:lnTo>
                      <a:lnTo>
                        <a:pt x="821" y="41"/>
                      </a:lnTo>
                      <a:lnTo>
                        <a:pt x="823" y="45"/>
                      </a:lnTo>
                      <a:lnTo>
                        <a:pt x="827" y="48"/>
                      </a:lnTo>
                      <a:lnTo>
                        <a:pt x="829" y="52"/>
                      </a:lnTo>
                      <a:lnTo>
                        <a:pt x="833" y="56"/>
                      </a:lnTo>
                      <a:lnTo>
                        <a:pt x="835" y="59"/>
                      </a:lnTo>
                      <a:lnTo>
                        <a:pt x="840" y="64"/>
                      </a:lnTo>
                      <a:lnTo>
                        <a:pt x="842" y="66"/>
                      </a:lnTo>
                      <a:lnTo>
                        <a:pt x="847" y="70"/>
                      </a:lnTo>
                      <a:lnTo>
                        <a:pt x="852" y="73"/>
                      </a:lnTo>
                      <a:lnTo>
                        <a:pt x="855" y="76"/>
                      </a:lnTo>
                      <a:lnTo>
                        <a:pt x="860" y="79"/>
                      </a:lnTo>
                      <a:lnTo>
                        <a:pt x="865" y="82"/>
                      </a:lnTo>
                      <a:lnTo>
                        <a:pt x="870" y="83"/>
                      </a:lnTo>
                      <a:lnTo>
                        <a:pt x="874" y="85"/>
                      </a:lnTo>
                      <a:lnTo>
                        <a:pt x="878" y="86"/>
                      </a:lnTo>
                      <a:lnTo>
                        <a:pt x="884" y="89"/>
                      </a:lnTo>
                      <a:lnTo>
                        <a:pt x="889" y="89"/>
                      </a:lnTo>
                      <a:lnTo>
                        <a:pt x="893" y="91"/>
                      </a:lnTo>
                      <a:lnTo>
                        <a:pt x="898" y="91"/>
                      </a:lnTo>
                      <a:lnTo>
                        <a:pt x="902" y="91"/>
                      </a:lnTo>
                      <a:lnTo>
                        <a:pt x="906" y="91"/>
                      </a:lnTo>
                      <a:lnTo>
                        <a:pt x="911" y="91"/>
                      </a:lnTo>
                      <a:lnTo>
                        <a:pt x="915" y="89"/>
                      </a:lnTo>
                      <a:lnTo>
                        <a:pt x="920" y="89"/>
                      </a:lnTo>
                      <a:lnTo>
                        <a:pt x="923" y="86"/>
                      </a:lnTo>
                      <a:lnTo>
                        <a:pt x="927" y="85"/>
                      </a:lnTo>
                      <a:lnTo>
                        <a:pt x="925" y="83"/>
                      </a:lnTo>
                      <a:lnTo>
                        <a:pt x="924" y="79"/>
                      </a:lnTo>
                      <a:lnTo>
                        <a:pt x="923" y="77"/>
                      </a:lnTo>
                      <a:lnTo>
                        <a:pt x="922" y="75"/>
                      </a:lnTo>
                      <a:lnTo>
                        <a:pt x="920" y="70"/>
                      </a:lnTo>
                      <a:lnTo>
                        <a:pt x="917" y="65"/>
                      </a:lnTo>
                      <a:lnTo>
                        <a:pt x="915" y="62"/>
                      </a:lnTo>
                      <a:lnTo>
                        <a:pt x="911" y="56"/>
                      </a:lnTo>
                      <a:lnTo>
                        <a:pt x="909" y="52"/>
                      </a:lnTo>
                      <a:lnTo>
                        <a:pt x="906" y="48"/>
                      </a:lnTo>
                      <a:lnTo>
                        <a:pt x="902" y="44"/>
                      </a:lnTo>
                      <a:lnTo>
                        <a:pt x="898" y="40"/>
                      </a:lnTo>
                      <a:lnTo>
                        <a:pt x="895" y="37"/>
                      </a:lnTo>
                      <a:lnTo>
                        <a:pt x="891" y="33"/>
                      </a:lnTo>
                      <a:lnTo>
                        <a:pt x="889" y="31"/>
                      </a:lnTo>
                      <a:lnTo>
                        <a:pt x="884" y="27"/>
                      </a:lnTo>
                      <a:lnTo>
                        <a:pt x="879" y="25"/>
                      </a:lnTo>
                      <a:lnTo>
                        <a:pt x="876" y="22"/>
                      </a:lnTo>
                      <a:lnTo>
                        <a:pt x="878" y="22"/>
                      </a:lnTo>
                      <a:lnTo>
                        <a:pt x="880" y="22"/>
                      </a:lnTo>
                      <a:lnTo>
                        <a:pt x="884" y="22"/>
                      </a:lnTo>
                      <a:lnTo>
                        <a:pt x="886" y="22"/>
                      </a:lnTo>
                      <a:lnTo>
                        <a:pt x="890" y="22"/>
                      </a:lnTo>
                      <a:lnTo>
                        <a:pt x="892" y="22"/>
                      </a:lnTo>
                      <a:lnTo>
                        <a:pt x="896" y="22"/>
                      </a:lnTo>
                      <a:lnTo>
                        <a:pt x="898" y="22"/>
                      </a:lnTo>
                      <a:lnTo>
                        <a:pt x="902" y="22"/>
                      </a:lnTo>
                      <a:lnTo>
                        <a:pt x="904" y="22"/>
                      </a:lnTo>
                      <a:lnTo>
                        <a:pt x="908" y="22"/>
                      </a:lnTo>
                      <a:lnTo>
                        <a:pt x="911" y="22"/>
                      </a:lnTo>
                      <a:lnTo>
                        <a:pt x="915" y="22"/>
                      </a:lnTo>
                      <a:lnTo>
                        <a:pt x="918" y="22"/>
                      </a:lnTo>
                      <a:lnTo>
                        <a:pt x="922" y="22"/>
                      </a:lnTo>
                      <a:lnTo>
                        <a:pt x="925" y="22"/>
                      </a:lnTo>
                      <a:lnTo>
                        <a:pt x="928" y="21"/>
                      </a:lnTo>
                      <a:lnTo>
                        <a:pt x="931" y="21"/>
                      </a:lnTo>
                      <a:lnTo>
                        <a:pt x="935" y="21"/>
                      </a:lnTo>
                      <a:lnTo>
                        <a:pt x="940" y="21"/>
                      </a:lnTo>
                      <a:lnTo>
                        <a:pt x="942" y="21"/>
                      </a:lnTo>
                      <a:lnTo>
                        <a:pt x="947" y="21"/>
                      </a:lnTo>
                      <a:lnTo>
                        <a:pt x="949" y="21"/>
                      </a:lnTo>
                      <a:lnTo>
                        <a:pt x="954" y="21"/>
                      </a:lnTo>
                      <a:lnTo>
                        <a:pt x="956" y="21"/>
                      </a:lnTo>
                      <a:lnTo>
                        <a:pt x="961" y="21"/>
                      </a:lnTo>
                      <a:lnTo>
                        <a:pt x="965" y="21"/>
                      </a:lnTo>
                      <a:lnTo>
                        <a:pt x="969" y="21"/>
                      </a:lnTo>
                      <a:lnTo>
                        <a:pt x="972" y="21"/>
                      </a:lnTo>
                      <a:lnTo>
                        <a:pt x="976" y="21"/>
                      </a:lnTo>
                      <a:lnTo>
                        <a:pt x="980" y="21"/>
                      </a:lnTo>
                      <a:lnTo>
                        <a:pt x="985" y="21"/>
                      </a:lnTo>
                      <a:lnTo>
                        <a:pt x="988" y="21"/>
                      </a:lnTo>
                      <a:lnTo>
                        <a:pt x="992" y="21"/>
                      </a:lnTo>
                      <a:lnTo>
                        <a:pt x="995" y="21"/>
                      </a:lnTo>
                      <a:lnTo>
                        <a:pt x="1000" y="21"/>
                      </a:lnTo>
                      <a:lnTo>
                        <a:pt x="1004" y="20"/>
                      </a:lnTo>
                      <a:lnTo>
                        <a:pt x="1007" y="20"/>
                      </a:lnTo>
                      <a:lnTo>
                        <a:pt x="1012" y="20"/>
                      </a:lnTo>
                      <a:lnTo>
                        <a:pt x="1017" y="20"/>
                      </a:lnTo>
                      <a:lnTo>
                        <a:pt x="1020" y="20"/>
                      </a:lnTo>
                      <a:lnTo>
                        <a:pt x="1025" y="20"/>
                      </a:lnTo>
                      <a:lnTo>
                        <a:pt x="1029" y="20"/>
                      </a:lnTo>
                      <a:lnTo>
                        <a:pt x="1033" y="20"/>
                      </a:lnTo>
                      <a:lnTo>
                        <a:pt x="1038" y="20"/>
                      </a:lnTo>
                      <a:lnTo>
                        <a:pt x="1042" y="20"/>
                      </a:lnTo>
                      <a:lnTo>
                        <a:pt x="1047" y="20"/>
                      </a:lnTo>
                      <a:lnTo>
                        <a:pt x="1050" y="20"/>
                      </a:lnTo>
                      <a:lnTo>
                        <a:pt x="1055" y="19"/>
                      </a:lnTo>
                      <a:lnTo>
                        <a:pt x="1060" y="19"/>
                      </a:lnTo>
                      <a:lnTo>
                        <a:pt x="1063" y="19"/>
                      </a:lnTo>
                      <a:lnTo>
                        <a:pt x="1068" y="19"/>
                      </a:lnTo>
                      <a:lnTo>
                        <a:pt x="1073" y="19"/>
                      </a:lnTo>
                      <a:lnTo>
                        <a:pt x="1076" y="19"/>
                      </a:lnTo>
                      <a:lnTo>
                        <a:pt x="1081" y="19"/>
                      </a:lnTo>
                      <a:lnTo>
                        <a:pt x="1084" y="19"/>
                      </a:lnTo>
                      <a:lnTo>
                        <a:pt x="1089" y="18"/>
                      </a:lnTo>
                      <a:lnTo>
                        <a:pt x="1094" y="18"/>
                      </a:lnTo>
                      <a:lnTo>
                        <a:pt x="1099" y="18"/>
                      </a:lnTo>
                      <a:lnTo>
                        <a:pt x="1102" y="18"/>
                      </a:lnTo>
                      <a:lnTo>
                        <a:pt x="1107" y="18"/>
                      </a:lnTo>
                      <a:lnTo>
                        <a:pt x="1112" y="18"/>
                      </a:lnTo>
                      <a:lnTo>
                        <a:pt x="1115" y="18"/>
                      </a:lnTo>
                      <a:lnTo>
                        <a:pt x="1120" y="18"/>
                      </a:lnTo>
                      <a:lnTo>
                        <a:pt x="1118" y="21"/>
                      </a:lnTo>
                      <a:lnTo>
                        <a:pt x="1115" y="24"/>
                      </a:lnTo>
                      <a:lnTo>
                        <a:pt x="1113" y="27"/>
                      </a:lnTo>
                      <a:lnTo>
                        <a:pt x="1112" y="31"/>
                      </a:lnTo>
                      <a:lnTo>
                        <a:pt x="1108" y="34"/>
                      </a:lnTo>
                      <a:lnTo>
                        <a:pt x="1106" y="38"/>
                      </a:lnTo>
                      <a:lnTo>
                        <a:pt x="1103" y="41"/>
                      </a:lnTo>
                      <a:lnTo>
                        <a:pt x="1103" y="44"/>
                      </a:lnTo>
                      <a:lnTo>
                        <a:pt x="1107" y="44"/>
                      </a:lnTo>
                      <a:lnTo>
                        <a:pt x="1113" y="45"/>
                      </a:lnTo>
                      <a:lnTo>
                        <a:pt x="1117" y="46"/>
                      </a:lnTo>
                      <a:lnTo>
                        <a:pt x="1122" y="47"/>
                      </a:lnTo>
                      <a:lnTo>
                        <a:pt x="1127" y="48"/>
                      </a:lnTo>
                      <a:lnTo>
                        <a:pt x="1132" y="50"/>
                      </a:lnTo>
                      <a:lnTo>
                        <a:pt x="1137" y="52"/>
                      </a:lnTo>
                      <a:lnTo>
                        <a:pt x="1141" y="54"/>
                      </a:lnTo>
                      <a:lnTo>
                        <a:pt x="1146" y="56"/>
                      </a:lnTo>
                      <a:lnTo>
                        <a:pt x="1151" y="59"/>
                      </a:lnTo>
                      <a:lnTo>
                        <a:pt x="1156" y="60"/>
                      </a:lnTo>
                      <a:lnTo>
                        <a:pt x="1160" y="64"/>
                      </a:lnTo>
                      <a:lnTo>
                        <a:pt x="1164" y="66"/>
                      </a:lnTo>
                      <a:lnTo>
                        <a:pt x="1170" y="69"/>
                      </a:lnTo>
                      <a:lnTo>
                        <a:pt x="1175" y="71"/>
                      </a:lnTo>
                      <a:lnTo>
                        <a:pt x="1179" y="73"/>
                      </a:lnTo>
                      <a:lnTo>
                        <a:pt x="1184" y="75"/>
                      </a:lnTo>
                      <a:lnTo>
                        <a:pt x="1189" y="76"/>
                      </a:lnTo>
                      <a:lnTo>
                        <a:pt x="1194" y="78"/>
                      </a:lnTo>
                      <a:lnTo>
                        <a:pt x="1198" y="81"/>
                      </a:lnTo>
                      <a:lnTo>
                        <a:pt x="1202" y="82"/>
                      </a:lnTo>
                      <a:lnTo>
                        <a:pt x="1208" y="82"/>
                      </a:lnTo>
                      <a:lnTo>
                        <a:pt x="1213" y="83"/>
                      </a:lnTo>
                      <a:lnTo>
                        <a:pt x="1217" y="83"/>
                      </a:lnTo>
                      <a:lnTo>
                        <a:pt x="1221" y="83"/>
                      </a:lnTo>
                      <a:lnTo>
                        <a:pt x="1227" y="82"/>
                      </a:lnTo>
                      <a:lnTo>
                        <a:pt x="1230" y="81"/>
                      </a:lnTo>
                      <a:lnTo>
                        <a:pt x="1236" y="79"/>
                      </a:lnTo>
                      <a:lnTo>
                        <a:pt x="1241" y="76"/>
                      </a:lnTo>
                      <a:lnTo>
                        <a:pt x="1246" y="73"/>
                      </a:lnTo>
                      <a:lnTo>
                        <a:pt x="1251" y="71"/>
                      </a:lnTo>
                      <a:lnTo>
                        <a:pt x="1257" y="67"/>
                      </a:lnTo>
                      <a:lnTo>
                        <a:pt x="1251" y="64"/>
                      </a:lnTo>
                      <a:lnTo>
                        <a:pt x="1246" y="59"/>
                      </a:lnTo>
                      <a:lnTo>
                        <a:pt x="1241" y="56"/>
                      </a:lnTo>
                      <a:lnTo>
                        <a:pt x="1236" y="52"/>
                      </a:lnTo>
                      <a:lnTo>
                        <a:pt x="1232" y="48"/>
                      </a:lnTo>
                      <a:lnTo>
                        <a:pt x="1227" y="45"/>
                      </a:lnTo>
                      <a:lnTo>
                        <a:pt x="1222" y="41"/>
                      </a:lnTo>
                      <a:lnTo>
                        <a:pt x="1217" y="38"/>
                      </a:lnTo>
                      <a:lnTo>
                        <a:pt x="1213" y="34"/>
                      </a:lnTo>
                      <a:lnTo>
                        <a:pt x="1208" y="31"/>
                      </a:lnTo>
                      <a:lnTo>
                        <a:pt x="1202" y="28"/>
                      </a:lnTo>
                      <a:lnTo>
                        <a:pt x="1197" y="26"/>
                      </a:lnTo>
                      <a:lnTo>
                        <a:pt x="1192" y="22"/>
                      </a:lnTo>
                      <a:lnTo>
                        <a:pt x="1188" y="20"/>
                      </a:lnTo>
                      <a:lnTo>
                        <a:pt x="1182" y="18"/>
                      </a:lnTo>
                      <a:lnTo>
                        <a:pt x="1177" y="15"/>
                      </a:lnTo>
                      <a:lnTo>
                        <a:pt x="1182" y="15"/>
                      </a:lnTo>
                      <a:lnTo>
                        <a:pt x="1187" y="15"/>
                      </a:lnTo>
                      <a:lnTo>
                        <a:pt x="1190" y="14"/>
                      </a:lnTo>
                      <a:lnTo>
                        <a:pt x="1195" y="14"/>
                      </a:lnTo>
                      <a:lnTo>
                        <a:pt x="1200" y="14"/>
                      </a:lnTo>
                      <a:lnTo>
                        <a:pt x="1203" y="14"/>
                      </a:lnTo>
                      <a:lnTo>
                        <a:pt x="1208" y="13"/>
                      </a:lnTo>
                      <a:lnTo>
                        <a:pt x="1213" y="13"/>
                      </a:lnTo>
                      <a:lnTo>
                        <a:pt x="1217" y="13"/>
                      </a:lnTo>
                      <a:lnTo>
                        <a:pt x="1221" y="13"/>
                      </a:lnTo>
                      <a:lnTo>
                        <a:pt x="1226" y="13"/>
                      </a:lnTo>
                      <a:lnTo>
                        <a:pt x="1230" y="13"/>
                      </a:lnTo>
                      <a:lnTo>
                        <a:pt x="1234" y="12"/>
                      </a:lnTo>
                      <a:lnTo>
                        <a:pt x="1239" y="12"/>
                      </a:lnTo>
                      <a:lnTo>
                        <a:pt x="1243" y="12"/>
                      </a:lnTo>
                      <a:lnTo>
                        <a:pt x="1247" y="12"/>
                      </a:lnTo>
                      <a:lnTo>
                        <a:pt x="1251" y="12"/>
                      </a:lnTo>
                      <a:lnTo>
                        <a:pt x="1255" y="10"/>
                      </a:lnTo>
                      <a:lnTo>
                        <a:pt x="1260" y="10"/>
                      </a:lnTo>
                      <a:lnTo>
                        <a:pt x="1264" y="10"/>
                      </a:lnTo>
                      <a:lnTo>
                        <a:pt x="1268" y="10"/>
                      </a:lnTo>
                      <a:lnTo>
                        <a:pt x="1272" y="10"/>
                      </a:lnTo>
                      <a:lnTo>
                        <a:pt x="1275" y="9"/>
                      </a:lnTo>
                      <a:lnTo>
                        <a:pt x="1280" y="9"/>
                      </a:lnTo>
                      <a:lnTo>
                        <a:pt x="1284" y="9"/>
                      </a:lnTo>
                      <a:lnTo>
                        <a:pt x="1289" y="9"/>
                      </a:lnTo>
                      <a:lnTo>
                        <a:pt x="1291" y="8"/>
                      </a:lnTo>
                      <a:lnTo>
                        <a:pt x="1296" y="8"/>
                      </a:lnTo>
                      <a:lnTo>
                        <a:pt x="1300" y="8"/>
                      </a:lnTo>
                      <a:lnTo>
                        <a:pt x="1304" y="8"/>
                      </a:lnTo>
                      <a:lnTo>
                        <a:pt x="1309" y="8"/>
                      </a:lnTo>
                      <a:lnTo>
                        <a:pt x="1312" y="8"/>
                      </a:lnTo>
                      <a:lnTo>
                        <a:pt x="1316" y="8"/>
                      </a:lnTo>
                      <a:lnTo>
                        <a:pt x="1319" y="7"/>
                      </a:lnTo>
                      <a:lnTo>
                        <a:pt x="1323" y="7"/>
                      </a:lnTo>
                      <a:lnTo>
                        <a:pt x="1327" y="7"/>
                      </a:lnTo>
                      <a:lnTo>
                        <a:pt x="1330" y="6"/>
                      </a:lnTo>
                      <a:lnTo>
                        <a:pt x="1334" y="6"/>
                      </a:lnTo>
                      <a:lnTo>
                        <a:pt x="1338" y="6"/>
                      </a:lnTo>
                      <a:lnTo>
                        <a:pt x="1342" y="6"/>
                      </a:lnTo>
                      <a:lnTo>
                        <a:pt x="1346" y="6"/>
                      </a:lnTo>
                      <a:lnTo>
                        <a:pt x="1349" y="5"/>
                      </a:lnTo>
                      <a:lnTo>
                        <a:pt x="1351" y="5"/>
                      </a:lnTo>
                      <a:lnTo>
                        <a:pt x="1356" y="5"/>
                      </a:lnTo>
                      <a:lnTo>
                        <a:pt x="1359" y="5"/>
                      </a:lnTo>
                      <a:lnTo>
                        <a:pt x="1362" y="3"/>
                      </a:lnTo>
                      <a:lnTo>
                        <a:pt x="1366" y="3"/>
                      </a:lnTo>
                      <a:lnTo>
                        <a:pt x="1369" y="3"/>
                      </a:lnTo>
                      <a:lnTo>
                        <a:pt x="1372" y="3"/>
                      </a:lnTo>
                      <a:lnTo>
                        <a:pt x="1375" y="3"/>
                      </a:lnTo>
                      <a:lnTo>
                        <a:pt x="1379" y="3"/>
                      </a:lnTo>
                      <a:lnTo>
                        <a:pt x="1382" y="3"/>
                      </a:lnTo>
                      <a:lnTo>
                        <a:pt x="1385" y="2"/>
                      </a:lnTo>
                      <a:lnTo>
                        <a:pt x="1387" y="2"/>
                      </a:lnTo>
                      <a:lnTo>
                        <a:pt x="1389" y="1"/>
                      </a:lnTo>
                      <a:lnTo>
                        <a:pt x="1393" y="1"/>
                      </a:lnTo>
                      <a:lnTo>
                        <a:pt x="1395" y="1"/>
                      </a:lnTo>
                      <a:lnTo>
                        <a:pt x="1398" y="0"/>
                      </a:lnTo>
                      <a:lnTo>
                        <a:pt x="1401" y="0"/>
                      </a:lnTo>
                      <a:lnTo>
                        <a:pt x="1405" y="0"/>
                      </a:lnTo>
                      <a:lnTo>
                        <a:pt x="1407" y="0"/>
                      </a:lnTo>
                      <a:lnTo>
                        <a:pt x="1410" y="0"/>
                      </a:lnTo>
                      <a:lnTo>
                        <a:pt x="1412" y="0"/>
                      </a:lnTo>
                      <a:lnTo>
                        <a:pt x="1416" y="0"/>
                      </a:lnTo>
                      <a:lnTo>
                        <a:pt x="1425" y="84"/>
                      </a:lnTo>
                      <a:lnTo>
                        <a:pt x="1424" y="84"/>
                      </a:lnTo>
                      <a:lnTo>
                        <a:pt x="1421" y="84"/>
                      </a:lnTo>
                      <a:lnTo>
                        <a:pt x="1420" y="84"/>
                      </a:lnTo>
                      <a:lnTo>
                        <a:pt x="1416" y="84"/>
                      </a:lnTo>
                      <a:lnTo>
                        <a:pt x="1412" y="85"/>
                      </a:lnTo>
                      <a:lnTo>
                        <a:pt x="1407" y="85"/>
                      </a:lnTo>
                      <a:lnTo>
                        <a:pt x="1402" y="86"/>
                      </a:lnTo>
                      <a:lnTo>
                        <a:pt x="1400" y="86"/>
                      </a:lnTo>
                      <a:lnTo>
                        <a:pt x="1397" y="86"/>
                      </a:lnTo>
                      <a:lnTo>
                        <a:pt x="1393" y="86"/>
                      </a:lnTo>
                      <a:lnTo>
                        <a:pt x="1389" y="88"/>
                      </a:lnTo>
                      <a:lnTo>
                        <a:pt x="1387" y="88"/>
                      </a:lnTo>
                      <a:lnTo>
                        <a:pt x="1383" y="89"/>
                      </a:lnTo>
                      <a:lnTo>
                        <a:pt x="1380" y="89"/>
                      </a:lnTo>
                      <a:lnTo>
                        <a:pt x="1376" y="89"/>
                      </a:lnTo>
                      <a:lnTo>
                        <a:pt x="1372" y="89"/>
                      </a:lnTo>
                      <a:lnTo>
                        <a:pt x="1368" y="90"/>
                      </a:lnTo>
                      <a:lnTo>
                        <a:pt x="1363" y="90"/>
                      </a:lnTo>
                      <a:lnTo>
                        <a:pt x="1360" y="91"/>
                      </a:lnTo>
                      <a:lnTo>
                        <a:pt x="1354" y="91"/>
                      </a:lnTo>
                      <a:lnTo>
                        <a:pt x="1350" y="91"/>
                      </a:lnTo>
                      <a:lnTo>
                        <a:pt x="1346" y="92"/>
                      </a:lnTo>
                      <a:lnTo>
                        <a:pt x="1341" y="94"/>
                      </a:lnTo>
                      <a:lnTo>
                        <a:pt x="1335" y="94"/>
                      </a:lnTo>
                      <a:lnTo>
                        <a:pt x="1329" y="94"/>
                      </a:lnTo>
                      <a:lnTo>
                        <a:pt x="1324" y="94"/>
                      </a:lnTo>
                      <a:lnTo>
                        <a:pt x="1319" y="95"/>
                      </a:lnTo>
                      <a:lnTo>
                        <a:pt x="1312" y="96"/>
                      </a:lnTo>
                      <a:lnTo>
                        <a:pt x="1306" y="96"/>
                      </a:lnTo>
                      <a:lnTo>
                        <a:pt x="1302" y="97"/>
                      </a:lnTo>
                      <a:lnTo>
                        <a:pt x="1296" y="97"/>
                      </a:lnTo>
                      <a:lnTo>
                        <a:pt x="1289" y="97"/>
                      </a:lnTo>
                      <a:lnTo>
                        <a:pt x="1283" y="97"/>
                      </a:lnTo>
                      <a:lnTo>
                        <a:pt x="1275" y="98"/>
                      </a:lnTo>
                      <a:lnTo>
                        <a:pt x="1270" y="100"/>
                      </a:lnTo>
                      <a:lnTo>
                        <a:pt x="1262" y="100"/>
                      </a:lnTo>
                      <a:lnTo>
                        <a:pt x="1255" y="100"/>
                      </a:lnTo>
                      <a:lnTo>
                        <a:pt x="1249" y="100"/>
                      </a:lnTo>
                      <a:lnTo>
                        <a:pt x="1242" y="102"/>
                      </a:lnTo>
                      <a:lnTo>
                        <a:pt x="1235" y="102"/>
                      </a:lnTo>
                      <a:lnTo>
                        <a:pt x="1228" y="102"/>
                      </a:lnTo>
                      <a:lnTo>
                        <a:pt x="1220" y="102"/>
                      </a:lnTo>
                      <a:lnTo>
                        <a:pt x="1213" y="102"/>
                      </a:lnTo>
                      <a:lnTo>
                        <a:pt x="1205" y="103"/>
                      </a:lnTo>
                      <a:lnTo>
                        <a:pt x="1197" y="104"/>
                      </a:lnTo>
                      <a:lnTo>
                        <a:pt x="1190" y="104"/>
                      </a:lnTo>
                      <a:lnTo>
                        <a:pt x="1182" y="104"/>
                      </a:lnTo>
                      <a:lnTo>
                        <a:pt x="1173" y="104"/>
                      </a:lnTo>
                      <a:lnTo>
                        <a:pt x="1165" y="104"/>
                      </a:lnTo>
                      <a:lnTo>
                        <a:pt x="1157" y="105"/>
                      </a:lnTo>
                      <a:lnTo>
                        <a:pt x="1149" y="107"/>
                      </a:lnTo>
                      <a:lnTo>
                        <a:pt x="1140" y="107"/>
                      </a:lnTo>
                      <a:lnTo>
                        <a:pt x="1132" y="107"/>
                      </a:lnTo>
                      <a:lnTo>
                        <a:pt x="1122" y="107"/>
                      </a:lnTo>
                      <a:lnTo>
                        <a:pt x="1114" y="107"/>
                      </a:lnTo>
                      <a:lnTo>
                        <a:pt x="1112" y="103"/>
                      </a:lnTo>
                      <a:lnTo>
                        <a:pt x="1108" y="100"/>
                      </a:lnTo>
                      <a:lnTo>
                        <a:pt x="1106" y="95"/>
                      </a:lnTo>
                      <a:lnTo>
                        <a:pt x="1102" y="91"/>
                      </a:lnTo>
                      <a:lnTo>
                        <a:pt x="1099" y="89"/>
                      </a:lnTo>
                      <a:lnTo>
                        <a:pt x="1096" y="85"/>
                      </a:lnTo>
                      <a:lnTo>
                        <a:pt x="1094" y="82"/>
                      </a:lnTo>
                      <a:lnTo>
                        <a:pt x="1090" y="79"/>
                      </a:lnTo>
                      <a:lnTo>
                        <a:pt x="1086" y="76"/>
                      </a:lnTo>
                      <a:lnTo>
                        <a:pt x="1083" y="73"/>
                      </a:lnTo>
                      <a:lnTo>
                        <a:pt x="1080" y="71"/>
                      </a:lnTo>
                      <a:lnTo>
                        <a:pt x="1076" y="70"/>
                      </a:lnTo>
                      <a:lnTo>
                        <a:pt x="1074" y="67"/>
                      </a:lnTo>
                      <a:lnTo>
                        <a:pt x="1070" y="65"/>
                      </a:lnTo>
                      <a:lnTo>
                        <a:pt x="1065" y="64"/>
                      </a:lnTo>
                      <a:lnTo>
                        <a:pt x="1063" y="62"/>
                      </a:lnTo>
                      <a:lnTo>
                        <a:pt x="1060" y="60"/>
                      </a:lnTo>
                      <a:lnTo>
                        <a:pt x="1056" y="58"/>
                      </a:lnTo>
                      <a:lnTo>
                        <a:pt x="1051" y="56"/>
                      </a:lnTo>
                      <a:lnTo>
                        <a:pt x="1048" y="56"/>
                      </a:lnTo>
                      <a:lnTo>
                        <a:pt x="1044" y="53"/>
                      </a:lnTo>
                      <a:lnTo>
                        <a:pt x="1041" y="52"/>
                      </a:lnTo>
                      <a:lnTo>
                        <a:pt x="1037" y="51"/>
                      </a:lnTo>
                      <a:lnTo>
                        <a:pt x="1033" y="50"/>
                      </a:lnTo>
                      <a:lnTo>
                        <a:pt x="1030" y="48"/>
                      </a:lnTo>
                      <a:lnTo>
                        <a:pt x="1026" y="46"/>
                      </a:lnTo>
                      <a:lnTo>
                        <a:pt x="1022" y="45"/>
                      </a:lnTo>
                      <a:lnTo>
                        <a:pt x="1018" y="44"/>
                      </a:lnTo>
                      <a:lnTo>
                        <a:pt x="1014" y="43"/>
                      </a:lnTo>
                      <a:lnTo>
                        <a:pt x="1011" y="41"/>
                      </a:lnTo>
                      <a:lnTo>
                        <a:pt x="1007" y="39"/>
                      </a:lnTo>
                      <a:lnTo>
                        <a:pt x="1004" y="38"/>
                      </a:lnTo>
                      <a:lnTo>
                        <a:pt x="1001" y="38"/>
                      </a:lnTo>
                      <a:lnTo>
                        <a:pt x="1000" y="39"/>
                      </a:lnTo>
                      <a:lnTo>
                        <a:pt x="998" y="40"/>
                      </a:lnTo>
                      <a:lnTo>
                        <a:pt x="994" y="41"/>
                      </a:lnTo>
                      <a:lnTo>
                        <a:pt x="990" y="43"/>
                      </a:lnTo>
                      <a:lnTo>
                        <a:pt x="987" y="45"/>
                      </a:lnTo>
                      <a:lnTo>
                        <a:pt x="982" y="47"/>
                      </a:lnTo>
                      <a:lnTo>
                        <a:pt x="980" y="51"/>
                      </a:lnTo>
                      <a:lnTo>
                        <a:pt x="974" y="53"/>
                      </a:lnTo>
                      <a:lnTo>
                        <a:pt x="971" y="56"/>
                      </a:lnTo>
                      <a:lnTo>
                        <a:pt x="967" y="58"/>
                      </a:lnTo>
                      <a:lnTo>
                        <a:pt x="962" y="60"/>
                      </a:lnTo>
                      <a:lnTo>
                        <a:pt x="959" y="62"/>
                      </a:lnTo>
                      <a:lnTo>
                        <a:pt x="956" y="64"/>
                      </a:lnTo>
                      <a:lnTo>
                        <a:pt x="952" y="65"/>
                      </a:lnTo>
                      <a:lnTo>
                        <a:pt x="950" y="67"/>
                      </a:lnTo>
                      <a:lnTo>
                        <a:pt x="952" y="69"/>
                      </a:lnTo>
                      <a:lnTo>
                        <a:pt x="955" y="71"/>
                      </a:lnTo>
                      <a:lnTo>
                        <a:pt x="959" y="76"/>
                      </a:lnTo>
                      <a:lnTo>
                        <a:pt x="962" y="79"/>
                      </a:lnTo>
                      <a:lnTo>
                        <a:pt x="965" y="82"/>
                      </a:lnTo>
                      <a:lnTo>
                        <a:pt x="969" y="85"/>
                      </a:lnTo>
                      <a:lnTo>
                        <a:pt x="972" y="88"/>
                      </a:lnTo>
                      <a:lnTo>
                        <a:pt x="974" y="91"/>
                      </a:lnTo>
                      <a:lnTo>
                        <a:pt x="976" y="89"/>
                      </a:lnTo>
                      <a:lnTo>
                        <a:pt x="980" y="86"/>
                      </a:lnTo>
                      <a:lnTo>
                        <a:pt x="982" y="85"/>
                      </a:lnTo>
                      <a:lnTo>
                        <a:pt x="985" y="84"/>
                      </a:lnTo>
                      <a:lnTo>
                        <a:pt x="987" y="83"/>
                      </a:lnTo>
                      <a:lnTo>
                        <a:pt x="990" y="83"/>
                      </a:lnTo>
                      <a:lnTo>
                        <a:pt x="992" y="82"/>
                      </a:lnTo>
                      <a:lnTo>
                        <a:pt x="995" y="82"/>
                      </a:lnTo>
                      <a:lnTo>
                        <a:pt x="1000" y="82"/>
                      </a:lnTo>
                      <a:lnTo>
                        <a:pt x="1005" y="83"/>
                      </a:lnTo>
                      <a:lnTo>
                        <a:pt x="1010" y="84"/>
                      </a:lnTo>
                      <a:lnTo>
                        <a:pt x="1014" y="85"/>
                      </a:lnTo>
                      <a:lnTo>
                        <a:pt x="1018" y="86"/>
                      </a:lnTo>
                      <a:lnTo>
                        <a:pt x="1023" y="89"/>
                      </a:lnTo>
                      <a:lnTo>
                        <a:pt x="1026" y="91"/>
                      </a:lnTo>
                      <a:lnTo>
                        <a:pt x="1031" y="96"/>
                      </a:lnTo>
                      <a:lnTo>
                        <a:pt x="1035" y="98"/>
                      </a:lnTo>
                      <a:lnTo>
                        <a:pt x="1038" y="102"/>
                      </a:lnTo>
                      <a:lnTo>
                        <a:pt x="1043" y="104"/>
                      </a:lnTo>
                      <a:lnTo>
                        <a:pt x="1047" y="109"/>
                      </a:lnTo>
                      <a:lnTo>
                        <a:pt x="1042" y="109"/>
                      </a:lnTo>
                      <a:lnTo>
                        <a:pt x="1037" y="109"/>
                      </a:lnTo>
                      <a:lnTo>
                        <a:pt x="1032" y="109"/>
                      </a:lnTo>
                      <a:lnTo>
                        <a:pt x="1028" y="109"/>
                      </a:lnTo>
                      <a:lnTo>
                        <a:pt x="1022" y="109"/>
                      </a:lnTo>
                      <a:lnTo>
                        <a:pt x="1018" y="109"/>
                      </a:lnTo>
                      <a:lnTo>
                        <a:pt x="1012" y="109"/>
                      </a:lnTo>
                      <a:lnTo>
                        <a:pt x="1007" y="109"/>
                      </a:lnTo>
                      <a:lnTo>
                        <a:pt x="1003" y="108"/>
                      </a:lnTo>
                      <a:lnTo>
                        <a:pt x="998" y="108"/>
                      </a:lnTo>
                      <a:lnTo>
                        <a:pt x="992" y="108"/>
                      </a:lnTo>
                      <a:lnTo>
                        <a:pt x="987" y="108"/>
                      </a:lnTo>
                      <a:lnTo>
                        <a:pt x="982" y="108"/>
                      </a:lnTo>
                      <a:lnTo>
                        <a:pt x="978" y="108"/>
                      </a:lnTo>
                      <a:lnTo>
                        <a:pt x="973" y="108"/>
                      </a:lnTo>
                      <a:lnTo>
                        <a:pt x="968" y="108"/>
                      </a:lnTo>
                      <a:lnTo>
                        <a:pt x="965" y="107"/>
                      </a:lnTo>
                      <a:lnTo>
                        <a:pt x="962" y="107"/>
                      </a:lnTo>
                      <a:lnTo>
                        <a:pt x="960" y="107"/>
                      </a:lnTo>
                      <a:lnTo>
                        <a:pt x="958" y="107"/>
                      </a:lnTo>
                      <a:lnTo>
                        <a:pt x="954" y="107"/>
                      </a:lnTo>
                      <a:lnTo>
                        <a:pt x="952" y="107"/>
                      </a:lnTo>
                      <a:lnTo>
                        <a:pt x="949" y="107"/>
                      </a:lnTo>
                      <a:lnTo>
                        <a:pt x="947" y="107"/>
                      </a:lnTo>
                      <a:lnTo>
                        <a:pt x="944" y="107"/>
                      </a:lnTo>
                      <a:lnTo>
                        <a:pt x="942" y="107"/>
                      </a:lnTo>
                      <a:lnTo>
                        <a:pt x="940" y="107"/>
                      </a:lnTo>
                      <a:lnTo>
                        <a:pt x="936" y="107"/>
                      </a:lnTo>
                      <a:lnTo>
                        <a:pt x="931" y="107"/>
                      </a:lnTo>
                      <a:lnTo>
                        <a:pt x="927" y="107"/>
                      </a:lnTo>
                      <a:lnTo>
                        <a:pt x="924" y="107"/>
                      </a:lnTo>
                      <a:lnTo>
                        <a:pt x="921" y="107"/>
                      </a:lnTo>
                      <a:lnTo>
                        <a:pt x="918" y="107"/>
                      </a:lnTo>
                      <a:lnTo>
                        <a:pt x="916" y="107"/>
                      </a:lnTo>
                      <a:lnTo>
                        <a:pt x="914" y="107"/>
                      </a:lnTo>
                      <a:lnTo>
                        <a:pt x="910" y="107"/>
                      </a:lnTo>
                      <a:lnTo>
                        <a:pt x="908" y="107"/>
                      </a:lnTo>
                      <a:lnTo>
                        <a:pt x="905" y="107"/>
                      </a:lnTo>
                      <a:lnTo>
                        <a:pt x="903" y="105"/>
                      </a:lnTo>
                      <a:lnTo>
                        <a:pt x="899" y="105"/>
                      </a:lnTo>
                      <a:lnTo>
                        <a:pt x="897" y="105"/>
                      </a:lnTo>
                      <a:lnTo>
                        <a:pt x="895" y="105"/>
                      </a:lnTo>
                      <a:lnTo>
                        <a:pt x="892" y="105"/>
                      </a:lnTo>
                      <a:lnTo>
                        <a:pt x="889" y="105"/>
                      </a:lnTo>
                      <a:lnTo>
                        <a:pt x="886" y="105"/>
                      </a:lnTo>
                      <a:lnTo>
                        <a:pt x="884" y="105"/>
                      </a:lnTo>
                      <a:lnTo>
                        <a:pt x="880" y="104"/>
                      </a:lnTo>
                      <a:lnTo>
                        <a:pt x="877" y="104"/>
                      </a:lnTo>
                      <a:lnTo>
                        <a:pt x="873" y="104"/>
                      </a:lnTo>
                      <a:lnTo>
                        <a:pt x="870" y="104"/>
                      </a:lnTo>
                      <a:lnTo>
                        <a:pt x="866" y="104"/>
                      </a:lnTo>
                      <a:lnTo>
                        <a:pt x="863" y="104"/>
                      </a:lnTo>
                      <a:lnTo>
                        <a:pt x="858" y="104"/>
                      </a:lnTo>
                      <a:lnTo>
                        <a:pt x="855" y="104"/>
                      </a:lnTo>
                      <a:lnTo>
                        <a:pt x="852" y="104"/>
                      </a:lnTo>
                      <a:lnTo>
                        <a:pt x="848" y="104"/>
                      </a:lnTo>
                      <a:lnTo>
                        <a:pt x="845" y="104"/>
                      </a:lnTo>
                      <a:lnTo>
                        <a:pt x="840" y="104"/>
                      </a:lnTo>
                      <a:lnTo>
                        <a:pt x="838" y="104"/>
                      </a:lnTo>
                      <a:lnTo>
                        <a:pt x="834" y="104"/>
                      </a:lnTo>
                      <a:lnTo>
                        <a:pt x="831" y="104"/>
                      </a:lnTo>
                      <a:lnTo>
                        <a:pt x="827" y="104"/>
                      </a:lnTo>
                      <a:lnTo>
                        <a:pt x="826" y="100"/>
                      </a:lnTo>
                      <a:lnTo>
                        <a:pt x="826" y="96"/>
                      </a:lnTo>
                      <a:lnTo>
                        <a:pt x="825" y="91"/>
                      </a:lnTo>
                      <a:lnTo>
                        <a:pt x="823" y="89"/>
                      </a:lnTo>
                      <a:lnTo>
                        <a:pt x="822" y="84"/>
                      </a:lnTo>
                      <a:lnTo>
                        <a:pt x="822" y="81"/>
                      </a:lnTo>
                      <a:lnTo>
                        <a:pt x="821" y="76"/>
                      </a:lnTo>
                      <a:lnTo>
                        <a:pt x="821" y="73"/>
                      </a:lnTo>
                      <a:lnTo>
                        <a:pt x="818" y="73"/>
                      </a:lnTo>
                      <a:lnTo>
                        <a:pt x="814" y="76"/>
                      </a:lnTo>
                      <a:lnTo>
                        <a:pt x="810" y="76"/>
                      </a:lnTo>
                      <a:lnTo>
                        <a:pt x="807" y="78"/>
                      </a:lnTo>
                      <a:lnTo>
                        <a:pt x="803" y="78"/>
                      </a:lnTo>
                      <a:lnTo>
                        <a:pt x="800" y="78"/>
                      </a:lnTo>
                      <a:lnTo>
                        <a:pt x="797" y="76"/>
                      </a:lnTo>
                      <a:lnTo>
                        <a:pt x="795" y="76"/>
                      </a:lnTo>
                      <a:lnTo>
                        <a:pt x="793" y="75"/>
                      </a:lnTo>
                      <a:lnTo>
                        <a:pt x="790" y="73"/>
                      </a:lnTo>
                      <a:lnTo>
                        <a:pt x="787" y="71"/>
                      </a:lnTo>
                      <a:lnTo>
                        <a:pt x="784" y="70"/>
                      </a:lnTo>
                      <a:lnTo>
                        <a:pt x="780" y="66"/>
                      </a:lnTo>
                      <a:lnTo>
                        <a:pt x="775" y="62"/>
                      </a:lnTo>
                      <a:lnTo>
                        <a:pt x="772" y="59"/>
                      </a:lnTo>
                      <a:lnTo>
                        <a:pt x="770" y="56"/>
                      </a:lnTo>
                      <a:lnTo>
                        <a:pt x="766" y="53"/>
                      </a:lnTo>
                      <a:lnTo>
                        <a:pt x="765" y="51"/>
                      </a:lnTo>
                      <a:lnTo>
                        <a:pt x="761" y="46"/>
                      </a:lnTo>
                      <a:lnTo>
                        <a:pt x="756" y="41"/>
                      </a:lnTo>
                      <a:lnTo>
                        <a:pt x="753" y="39"/>
                      </a:lnTo>
                      <a:lnTo>
                        <a:pt x="751" y="38"/>
                      </a:lnTo>
                      <a:lnTo>
                        <a:pt x="748" y="35"/>
                      </a:lnTo>
                      <a:lnTo>
                        <a:pt x="745" y="34"/>
                      </a:lnTo>
                      <a:lnTo>
                        <a:pt x="742" y="33"/>
                      </a:lnTo>
                      <a:lnTo>
                        <a:pt x="739" y="33"/>
                      </a:lnTo>
                      <a:lnTo>
                        <a:pt x="737" y="32"/>
                      </a:lnTo>
                      <a:lnTo>
                        <a:pt x="733" y="32"/>
                      </a:lnTo>
                      <a:lnTo>
                        <a:pt x="729" y="37"/>
                      </a:lnTo>
                      <a:lnTo>
                        <a:pt x="726" y="41"/>
                      </a:lnTo>
                      <a:lnTo>
                        <a:pt x="724" y="46"/>
                      </a:lnTo>
                      <a:lnTo>
                        <a:pt x="721" y="52"/>
                      </a:lnTo>
                      <a:lnTo>
                        <a:pt x="720" y="56"/>
                      </a:lnTo>
                      <a:lnTo>
                        <a:pt x="720" y="62"/>
                      </a:lnTo>
                      <a:lnTo>
                        <a:pt x="721" y="66"/>
                      </a:lnTo>
                      <a:lnTo>
                        <a:pt x="723" y="71"/>
                      </a:lnTo>
                      <a:lnTo>
                        <a:pt x="724" y="73"/>
                      </a:lnTo>
                      <a:lnTo>
                        <a:pt x="726" y="79"/>
                      </a:lnTo>
                      <a:lnTo>
                        <a:pt x="729" y="83"/>
                      </a:lnTo>
                      <a:lnTo>
                        <a:pt x="732" y="86"/>
                      </a:lnTo>
                      <a:lnTo>
                        <a:pt x="734" y="91"/>
                      </a:lnTo>
                      <a:lnTo>
                        <a:pt x="739" y="94"/>
                      </a:lnTo>
                      <a:lnTo>
                        <a:pt x="744" y="97"/>
                      </a:lnTo>
                      <a:lnTo>
                        <a:pt x="749" y="102"/>
                      </a:lnTo>
                      <a:lnTo>
                        <a:pt x="744" y="102"/>
                      </a:lnTo>
                      <a:lnTo>
                        <a:pt x="742" y="102"/>
                      </a:lnTo>
                      <a:lnTo>
                        <a:pt x="739" y="102"/>
                      </a:lnTo>
                      <a:lnTo>
                        <a:pt x="737" y="102"/>
                      </a:lnTo>
                      <a:lnTo>
                        <a:pt x="733" y="101"/>
                      </a:lnTo>
                      <a:lnTo>
                        <a:pt x="730" y="101"/>
                      </a:lnTo>
                      <a:lnTo>
                        <a:pt x="726" y="101"/>
                      </a:lnTo>
                      <a:lnTo>
                        <a:pt x="724" y="101"/>
                      </a:lnTo>
                      <a:lnTo>
                        <a:pt x="721" y="101"/>
                      </a:lnTo>
                      <a:lnTo>
                        <a:pt x="719" y="101"/>
                      </a:lnTo>
                      <a:lnTo>
                        <a:pt x="715" y="101"/>
                      </a:lnTo>
                      <a:lnTo>
                        <a:pt x="713" y="101"/>
                      </a:lnTo>
                      <a:lnTo>
                        <a:pt x="710" y="101"/>
                      </a:lnTo>
                      <a:lnTo>
                        <a:pt x="707" y="101"/>
                      </a:lnTo>
                      <a:lnTo>
                        <a:pt x="704" y="101"/>
                      </a:lnTo>
                      <a:lnTo>
                        <a:pt x="701" y="101"/>
                      </a:lnTo>
                      <a:lnTo>
                        <a:pt x="699" y="100"/>
                      </a:lnTo>
                      <a:lnTo>
                        <a:pt x="695" y="100"/>
                      </a:lnTo>
                      <a:lnTo>
                        <a:pt x="693" y="100"/>
                      </a:lnTo>
                      <a:lnTo>
                        <a:pt x="689" y="100"/>
                      </a:lnTo>
                      <a:lnTo>
                        <a:pt x="687" y="100"/>
                      </a:lnTo>
                      <a:lnTo>
                        <a:pt x="683" y="100"/>
                      </a:lnTo>
                      <a:lnTo>
                        <a:pt x="681" y="100"/>
                      </a:lnTo>
                      <a:lnTo>
                        <a:pt x="679" y="100"/>
                      </a:lnTo>
                      <a:lnTo>
                        <a:pt x="676" y="100"/>
                      </a:lnTo>
                      <a:lnTo>
                        <a:pt x="673" y="100"/>
                      </a:lnTo>
                      <a:lnTo>
                        <a:pt x="669" y="100"/>
                      </a:lnTo>
                      <a:lnTo>
                        <a:pt x="667" y="100"/>
                      </a:lnTo>
                      <a:lnTo>
                        <a:pt x="664" y="100"/>
                      </a:lnTo>
                      <a:lnTo>
                        <a:pt x="662" y="100"/>
                      </a:lnTo>
                      <a:lnTo>
                        <a:pt x="659" y="100"/>
                      </a:lnTo>
                      <a:lnTo>
                        <a:pt x="656" y="100"/>
                      </a:lnTo>
                      <a:lnTo>
                        <a:pt x="661" y="96"/>
                      </a:lnTo>
                      <a:lnTo>
                        <a:pt x="666" y="91"/>
                      </a:lnTo>
                      <a:lnTo>
                        <a:pt x="670" y="86"/>
                      </a:lnTo>
                      <a:lnTo>
                        <a:pt x="675" y="82"/>
                      </a:lnTo>
                      <a:lnTo>
                        <a:pt x="676" y="79"/>
                      </a:lnTo>
                      <a:lnTo>
                        <a:pt x="679" y="76"/>
                      </a:lnTo>
                      <a:lnTo>
                        <a:pt x="679" y="72"/>
                      </a:lnTo>
                      <a:lnTo>
                        <a:pt x="681" y="70"/>
                      </a:lnTo>
                      <a:lnTo>
                        <a:pt x="682" y="66"/>
                      </a:lnTo>
                      <a:lnTo>
                        <a:pt x="683" y="63"/>
                      </a:lnTo>
                      <a:lnTo>
                        <a:pt x="685" y="59"/>
                      </a:lnTo>
                      <a:lnTo>
                        <a:pt x="686" y="56"/>
                      </a:lnTo>
                      <a:lnTo>
                        <a:pt x="683" y="53"/>
                      </a:lnTo>
                      <a:lnTo>
                        <a:pt x="680" y="52"/>
                      </a:lnTo>
                      <a:lnTo>
                        <a:pt x="677" y="51"/>
                      </a:lnTo>
                      <a:lnTo>
                        <a:pt x="674" y="51"/>
                      </a:lnTo>
                      <a:lnTo>
                        <a:pt x="670" y="50"/>
                      </a:lnTo>
                      <a:lnTo>
                        <a:pt x="668" y="50"/>
                      </a:lnTo>
                      <a:lnTo>
                        <a:pt x="664" y="50"/>
                      </a:lnTo>
                      <a:lnTo>
                        <a:pt x="662" y="50"/>
                      </a:lnTo>
                      <a:lnTo>
                        <a:pt x="659" y="48"/>
                      </a:lnTo>
                      <a:lnTo>
                        <a:pt x="656" y="48"/>
                      </a:lnTo>
                      <a:lnTo>
                        <a:pt x="651" y="50"/>
                      </a:lnTo>
                      <a:lnTo>
                        <a:pt x="649" y="50"/>
                      </a:lnTo>
                      <a:lnTo>
                        <a:pt x="645" y="50"/>
                      </a:lnTo>
                      <a:lnTo>
                        <a:pt x="643" y="51"/>
                      </a:lnTo>
                      <a:lnTo>
                        <a:pt x="640" y="51"/>
                      </a:lnTo>
                      <a:lnTo>
                        <a:pt x="636" y="52"/>
                      </a:lnTo>
                      <a:lnTo>
                        <a:pt x="632" y="52"/>
                      </a:lnTo>
                      <a:lnTo>
                        <a:pt x="630" y="52"/>
                      </a:lnTo>
                      <a:lnTo>
                        <a:pt x="625" y="52"/>
                      </a:lnTo>
                      <a:lnTo>
                        <a:pt x="623" y="53"/>
                      </a:lnTo>
                      <a:lnTo>
                        <a:pt x="619" y="53"/>
                      </a:lnTo>
                      <a:lnTo>
                        <a:pt x="616" y="53"/>
                      </a:lnTo>
                      <a:lnTo>
                        <a:pt x="612" y="53"/>
                      </a:lnTo>
                      <a:lnTo>
                        <a:pt x="610" y="53"/>
                      </a:lnTo>
                      <a:lnTo>
                        <a:pt x="607" y="52"/>
                      </a:lnTo>
                      <a:lnTo>
                        <a:pt x="604" y="52"/>
                      </a:lnTo>
                      <a:lnTo>
                        <a:pt x="600" y="51"/>
                      </a:lnTo>
                      <a:lnTo>
                        <a:pt x="598" y="51"/>
                      </a:lnTo>
                      <a:lnTo>
                        <a:pt x="594" y="48"/>
                      </a:lnTo>
                      <a:lnTo>
                        <a:pt x="592" y="47"/>
                      </a:lnTo>
                      <a:lnTo>
                        <a:pt x="589" y="46"/>
                      </a:lnTo>
                      <a:lnTo>
                        <a:pt x="586" y="44"/>
                      </a:lnTo>
                      <a:lnTo>
                        <a:pt x="585" y="46"/>
                      </a:lnTo>
                      <a:lnTo>
                        <a:pt x="585" y="48"/>
                      </a:lnTo>
                      <a:lnTo>
                        <a:pt x="584" y="51"/>
                      </a:lnTo>
                      <a:lnTo>
                        <a:pt x="583" y="53"/>
                      </a:lnTo>
                      <a:lnTo>
                        <a:pt x="583" y="56"/>
                      </a:lnTo>
                      <a:lnTo>
                        <a:pt x="581" y="60"/>
                      </a:lnTo>
                      <a:lnTo>
                        <a:pt x="580" y="64"/>
                      </a:lnTo>
                      <a:lnTo>
                        <a:pt x="580" y="69"/>
                      </a:lnTo>
                      <a:lnTo>
                        <a:pt x="579" y="72"/>
                      </a:lnTo>
                      <a:lnTo>
                        <a:pt x="579" y="76"/>
                      </a:lnTo>
                      <a:lnTo>
                        <a:pt x="578" y="81"/>
                      </a:lnTo>
                      <a:lnTo>
                        <a:pt x="577" y="85"/>
                      </a:lnTo>
                      <a:lnTo>
                        <a:pt x="577" y="89"/>
                      </a:lnTo>
                      <a:lnTo>
                        <a:pt x="577" y="92"/>
                      </a:lnTo>
                      <a:lnTo>
                        <a:pt x="575" y="97"/>
                      </a:lnTo>
                      <a:lnTo>
                        <a:pt x="575" y="101"/>
                      </a:lnTo>
                      <a:lnTo>
                        <a:pt x="572" y="101"/>
                      </a:lnTo>
                      <a:lnTo>
                        <a:pt x="570" y="101"/>
                      </a:lnTo>
                      <a:lnTo>
                        <a:pt x="567" y="101"/>
                      </a:lnTo>
                      <a:lnTo>
                        <a:pt x="564" y="101"/>
                      </a:lnTo>
                      <a:lnTo>
                        <a:pt x="560" y="101"/>
                      </a:lnTo>
                      <a:lnTo>
                        <a:pt x="556" y="101"/>
                      </a:lnTo>
                      <a:lnTo>
                        <a:pt x="554" y="101"/>
                      </a:lnTo>
                      <a:lnTo>
                        <a:pt x="552" y="101"/>
                      </a:lnTo>
                      <a:lnTo>
                        <a:pt x="549" y="101"/>
                      </a:lnTo>
                      <a:lnTo>
                        <a:pt x="546" y="101"/>
                      </a:lnTo>
                      <a:lnTo>
                        <a:pt x="542" y="101"/>
                      </a:lnTo>
                      <a:lnTo>
                        <a:pt x="540" y="101"/>
                      </a:lnTo>
                      <a:lnTo>
                        <a:pt x="536" y="101"/>
                      </a:lnTo>
                      <a:lnTo>
                        <a:pt x="534" y="101"/>
                      </a:lnTo>
                      <a:lnTo>
                        <a:pt x="532" y="101"/>
                      </a:lnTo>
                      <a:lnTo>
                        <a:pt x="529" y="101"/>
                      </a:lnTo>
                      <a:lnTo>
                        <a:pt x="526" y="101"/>
                      </a:lnTo>
                      <a:lnTo>
                        <a:pt x="523" y="101"/>
                      </a:lnTo>
                      <a:lnTo>
                        <a:pt x="520" y="101"/>
                      </a:lnTo>
                      <a:lnTo>
                        <a:pt x="516" y="101"/>
                      </a:lnTo>
                      <a:lnTo>
                        <a:pt x="514" y="101"/>
                      </a:lnTo>
                      <a:lnTo>
                        <a:pt x="511" y="101"/>
                      </a:lnTo>
                      <a:lnTo>
                        <a:pt x="509" y="101"/>
                      </a:lnTo>
                      <a:lnTo>
                        <a:pt x="507" y="101"/>
                      </a:lnTo>
                      <a:lnTo>
                        <a:pt x="503" y="101"/>
                      </a:lnTo>
                      <a:lnTo>
                        <a:pt x="501" y="101"/>
                      </a:lnTo>
                      <a:lnTo>
                        <a:pt x="497" y="101"/>
                      </a:lnTo>
                      <a:lnTo>
                        <a:pt x="495" y="101"/>
                      </a:lnTo>
                      <a:lnTo>
                        <a:pt x="492" y="101"/>
                      </a:lnTo>
                      <a:lnTo>
                        <a:pt x="490" y="101"/>
                      </a:lnTo>
                      <a:lnTo>
                        <a:pt x="486" y="101"/>
                      </a:lnTo>
                      <a:lnTo>
                        <a:pt x="484" y="102"/>
                      </a:lnTo>
                      <a:lnTo>
                        <a:pt x="482" y="102"/>
                      </a:lnTo>
                      <a:lnTo>
                        <a:pt x="478" y="102"/>
                      </a:lnTo>
                      <a:lnTo>
                        <a:pt x="476" y="102"/>
                      </a:lnTo>
                      <a:lnTo>
                        <a:pt x="473" y="102"/>
                      </a:lnTo>
                      <a:lnTo>
                        <a:pt x="471" y="102"/>
                      </a:lnTo>
                      <a:lnTo>
                        <a:pt x="469" y="102"/>
                      </a:lnTo>
                      <a:lnTo>
                        <a:pt x="466" y="102"/>
                      </a:lnTo>
                      <a:lnTo>
                        <a:pt x="463" y="102"/>
                      </a:lnTo>
                      <a:lnTo>
                        <a:pt x="460" y="102"/>
                      </a:lnTo>
                      <a:lnTo>
                        <a:pt x="457" y="102"/>
                      </a:lnTo>
                      <a:lnTo>
                        <a:pt x="456" y="102"/>
                      </a:lnTo>
                      <a:lnTo>
                        <a:pt x="453" y="102"/>
                      </a:lnTo>
                      <a:lnTo>
                        <a:pt x="447" y="102"/>
                      </a:lnTo>
                      <a:lnTo>
                        <a:pt x="443" y="102"/>
                      </a:lnTo>
                      <a:lnTo>
                        <a:pt x="440" y="102"/>
                      </a:lnTo>
                      <a:lnTo>
                        <a:pt x="437" y="102"/>
                      </a:lnTo>
                      <a:lnTo>
                        <a:pt x="434" y="102"/>
                      </a:lnTo>
                      <a:lnTo>
                        <a:pt x="432" y="102"/>
                      </a:lnTo>
                      <a:lnTo>
                        <a:pt x="427" y="102"/>
                      </a:lnTo>
                      <a:lnTo>
                        <a:pt x="422" y="102"/>
                      </a:lnTo>
                      <a:lnTo>
                        <a:pt x="416" y="102"/>
                      </a:lnTo>
                      <a:lnTo>
                        <a:pt x="413" y="103"/>
                      </a:lnTo>
                      <a:lnTo>
                        <a:pt x="407" y="103"/>
                      </a:lnTo>
                      <a:lnTo>
                        <a:pt x="402" y="104"/>
                      </a:lnTo>
                      <a:lnTo>
                        <a:pt x="405" y="100"/>
                      </a:lnTo>
                      <a:lnTo>
                        <a:pt x="405" y="97"/>
                      </a:lnTo>
                      <a:lnTo>
                        <a:pt x="407" y="94"/>
                      </a:lnTo>
                      <a:lnTo>
                        <a:pt x="408" y="91"/>
                      </a:lnTo>
                      <a:lnTo>
                        <a:pt x="408" y="86"/>
                      </a:lnTo>
                      <a:lnTo>
                        <a:pt x="409" y="84"/>
                      </a:lnTo>
                      <a:lnTo>
                        <a:pt x="408" y="82"/>
                      </a:lnTo>
                      <a:lnTo>
                        <a:pt x="408" y="78"/>
                      </a:lnTo>
                      <a:lnTo>
                        <a:pt x="407" y="76"/>
                      </a:lnTo>
                      <a:lnTo>
                        <a:pt x="405" y="73"/>
                      </a:lnTo>
                      <a:lnTo>
                        <a:pt x="403" y="71"/>
                      </a:lnTo>
                      <a:lnTo>
                        <a:pt x="402" y="69"/>
                      </a:lnTo>
                      <a:lnTo>
                        <a:pt x="399" y="67"/>
                      </a:lnTo>
                      <a:lnTo>
                        <a:pt x="395" y="66"/>
                      </a:lnTo>
                      <a:lnTo>
                        <a:pt x="392" y="66"/>
                      </a:lnTo>
                      <a:lnTo>
                        <a:pt x="387" y="67"/>
                      </a:lnTo>
                      <a:lnTo>
                        <a:pt x="383" y="71"/>
                      </a:lnTo>
                      <a:lnTo>
                        <a:pt x="381" y="73"/>
                      </a:lnTo>
                      <a:lnTo>
                        <a:pt x="378" y="76"/>
                      </a:lnTo>
                      <a:lnTo>
                        <a:pt x="375" y="79"/>
                      </a:lnTo>
                      <a:lnTo>
                        <a:pt x="375" y="83"/>
                      </a:lnTo>
                      <a:lnTo>
                        <a:pt x="375" y="86"/>
                      </a:lnTo>
                      <a:lnTo>
                        <a:pt x="375" y="89"/>
                      </a:lnTo>
                      <a:lnTo>
                        <a:pt x="375" y="94"/>
                      </a:lnTo>
                      <a:lnTo>
                        <a:pt x="375" y="96"/>
                      </a:lnTo>
                      <a:lnTo>
                        <a:pt x="375" y="100"/>
                      </a:lnTo>
                      <a:lnTo>
                        <a:pt x="375" y="102"/>
                      </a:lnTo>
                      <a:lnTo>
                        <a:pt x="376" y="104"/>
                      </a:lnTo>
                      <a:lnTo>
                        <a:pt x="373" y="104"/>
                      </a:lnTo>
                      <a:lnTo>
                        <a:pt x="369" y="104"/>
                      </a:lnTo>
                      <a:lnTo>
                        <a:pt x="365" y="104"/>
                      </a:lnTo>
                      <a:lnTo>
                        <a:pt x="363" y="104"/>
                      </a:lnTo>
                      <a:lnTo>
                        <a:pt x="360" y="104"/>
                      </a:lnTo>
                      <a:lnTo>
                        <a:pt x="357" y="104"/>
                      </a:lnTo>
                      <a:lnTo>
                        <a:pt x="355" y="104"/>
                      </a:lnTo>
                      <a:lnTo>
                        <a:pt x="351" y="104"/>
                      </a:lnTo>
                      <a:lnTo>
                        <a:pt x="348" y="104"/>
                      </a:lnTo>
                      <a:lnTo>
                        <a:pt x="344" y="104"/>
                      </a:lnTo>
                      <a:lnTo>
                        <a:pt x="342" y="104"/>
                      </a:lnTo>
                      <a:lnTo>
                        <a:pt x="339" y="104"/>
                      </a:lnTo>
                      <a:lnTo>
                        <a:pt x="337" y="104"/>
                      </a:lnTo>
                      <a:lnTo>
                        <a:pt x="333" y="104"/>
                      </a:lnTo>
                      <a:lnTo>
                        <a:pt x="330" y="104"/>
                      </a:lnTo>
                      <a:lnTo>
                        <a:pt x="327" y="104"/>
                      </a:lnTo>
                      <a:lnTo>
                        <a:pt x="324" y="104"/>
                      </a:lnTo>
                      <a:lnTo>
                        <a:pt x="322" y="104"/>
                      </a:lnTo>
                      <a:lnTo>
                        <a:pt x="319" y="104"/>
                      </a:lnTo>
                      <a:lnTo>
                        <a:pt x="317" y="104"/>
                      </a:lnTo>
                      <a:lnTo>
                        <a:pt x="313" y="104"/>
                      </a:lnTo>
                      <a:lnTo>
                        <a:pt x="311" y="104"/>
                      </a:lnTo>
                      <a:lnTo>
                        <a:pt x="307" y="104"/>
                      </a:lnTo>
                      <a:lnTo>
                        <a:pt x="305" y="104"/>
                      </a:lnTo>
                      <a:lnTo>
                        <a:pt x="303" y="104"/>
                      </a:lnTo>
                      <a:lnTo>
                        <a:pt x="299" y="104"/>
                      </a:lnTo>
                      <a:lnTo>
                        <a:pt x="297" y="104"/>
                      </a:lnTo>
                      <a:lnTo>
                        <a:pt x="294" y="104"/>
                      </a:lnTo>
                      <a:lnTo>
                        <a:pt x="288" y="104"/>
                      </a:lnTo>
                      <a:lnTo>
                        <a:pt x="284" y="105"/>
                      </a:lnTo>
                      <a:lnTo>
                        <a:pt x="281" y="105"/>
                      </a:lnTo>
                      <a:lnTo>
                        <a:pt x="279" y="105"/>
                      </a:lnTo>
                      <a:lnTo>
                        <a:pt x="276" y="105"/>
                      </a:lnTo>
                      <a:lnTo>
                        <a:pt x="273" y="105"/>
                      </a:lnTo>
                      <a:lnTo>
                        <a:pt x="268" y="105"/>
                      </a:lnTo>
                      <a:lnTo>
                        <a:pt x="263" y="105"/>
                      </a:lnTo>
                      <a:lnTo>
                        <a:pt x="259" y="105"/>
                      </a:lnTo>
                      <a:lnTo>
                        <a:pt x="253" y="105"/>
                      </a:lnTo>
                      <a:lnTo>
                        <a:pt x="249" y="105"/>
                      </a:lnTo>
                      <a:lnTo>
                        <a:pt x="246" y="105"/>
                      </a:lnTo>
                      <a:lnTo>
                        <a:pt x="241" y="105"/>
                      </a:lnTo>
                      <a:lnTo>
                        <a:pt x="235" y="105"/>
                      </a:lnTo>
                      <a:lnTo>
                        <a:pt x="230" y="105"/>
                      </a:lnTo>
                      <a:lnTo>
                        <a:pt x="227" y="105"/>
                      </a:lnTo>
                      <a:lnTo>
                        <a:pt x="223" y="105"/>
                      </a:lnTo>
                      <a:lnTo>
                        <a:pt x="218" y="105"/>
                      </a:lnTo>
                      <a:lnTo>
                        <a:pt x="215" y="105"/>
                      </a:lnTo>
                      <a:lnTo>
                        <a:pt x="210" y="105"/>
                      </a:lnTo>
                      <a:lnTo>
                        <a:pt x="204" y="104"/>
                      </a:lnTo>
                      <a:lnTo>
                        <a:pt x="198" y="104"/>
                      </a:lnTo>
                      <a:lnTo>
                        <a:pt x="192" y="104"/>
                      </a:lnTo>
                      <a:lnTo>
                        <a:pt x="187" y="104"/>
                      </a:lnTo>
                      <a:lnTo>
                        <a:pt x="182" y="104"/>
                      </a:lnTo>
                      <a:lnTo>
                        <a:pt x="176" y="104"/>
                      </a:lnTo>
                      <a:lnTo>
                        <a:pt x="170" y="104"/>
                      </a:lnTo>
                      <a:lnTo>
                        <a:pt x="165" y="104"/>
                      </a:lnTo>
                      <a:lnTo>
                        <a:pt x="159" y="103"/>
                      </a:lnTo>
                      <a:lnTo>
                        <a:pt x="153" y="102"/>
                      </a:lnTo>
                      <a:lnTo>
                        <a:pt x="148" y="102"/>
                      </a:lnTo>
                      <a:lnTo>
                        <a:pt x="144" y="102"/>
                      </a:lnTo>
                      <a:lnTo>
                        <a:pt x="138" y="102"/>
                      </a:lnTo>
                      <a:lnTo>
                        <a:pt x="134" y="102"/>
                      </a:lnTo>
                      <a:lnTo>
                        <a:pt x="128" y="102"/>
                      </a:lnTo>
                      <a:lnTo>
                        <a:pt x="125" y="102"/>
                      </a:lnTo>
                      <a:lnTo>
                        <a:pt x="119" y="102"/>
                      </a:lnTo>
                      <a:lnTo>
                        <a:pt x="114" y="101"/>
                      </a:lnTo>
                      <a:lnTo>
                        <a:pt x="109" y="100"/>
                      </a:lnTo>
                      <a:lnTo>
                        <a:pt x="104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1" y="100"/>
                      </a:lnTo>
                      <a:lnTo>
                        <a:pt x="88" y="100"/>
                      </a:lnTo>
                      <a:lnTo>
                        <a:pt x="83" y="100"/>
                      </a:lnTo>
                      <a:lnTo>
                        <a:pt x="78" y="98"/>
                      </a:lnTo>
                      <a:lnTo>
                        <a:pt x="75" y="97"/>
                      </a:lnTo>
                      <a:lnTo>
                        <a:pt x="71" y="97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1" y="97"/>
                      </a:lnTo>
                      <a:lnTo>
                        <a:pt x="57" y="97"/>
                      </a:lnTo>
                      <a:lnTo>
                        <a:pt x="53" y="97"/>
                      </a:lnTo>
                      <a:lnTo>
                        <a:pt x="50" y="96"/>
                      </a:lnTo>
                      <a:lnTo>
                        <a:pt x="46" y="96"/>
                      </a:lnTo>
                      <a:lnTo>
                        <a:pt x="44" y="96"/>
                      </a:lnTo>
                      <a:lnTo>
                        <a:pt x="40" y="95"/>
                      </a:lnTo>
                      <a:lnTo>
                        <a:pt x="38" y="94"/>
                      </a:lnTo>
                      <a:lnTo>
                        <a:pt x="34" y="94"/>
                      </a:lnTo>
                      <a:lnTo>
                        <a:pt x="33" y="94"/>
                      </a:lnTo>
                      <a:lnTo>
                        <a:pt x="30" y="94"/>
                      </a:lnTo>
                      <a:lnTo>
                        <a:pt x="26" y="94"/>
                      </a:lnTo>
                      <a:lnTo>
                        <a:pt x="24" y="94"/>
                      </a:lnTo>
                      <a:lnTo>
                        <a:pt x="23" y="94"/>
                      </a:lnTo>
                      <a:lnTo>
                        <a:pt x="18" y="91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7" y="91"/>
                      </a:lnTo>
                      <a:lnTo>
                        <a:pt x="5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Freeform 35"/>
                <p:cNvSpPr/>
                <p:nvPr/>
              </p:nvSpPr>
              <p:spPr>
                <a:xfrm>
                  <a:off x="1204920" y="2133720"/>
                  <a:ext cx="18720" cy="493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6" h="91">
                      <a:moveTo>
                        <a:pt x="36" y="91"/>
                      </a:moveTo>
                      <a:lnTo>
                        <a:pt x="33" y="91"/>
                      </a:lnTo>
                      <a:lnTo>
                        <a:pt x="29" y="91"/>
                      </a:lnTo>
                      <a:lnTo>
                        <a:pt x="27" y="89"/>
                      </a:lnTo>
                      <a:lnTo>
                        <a:pt x="23" y="89"/>
                      </a:lnTo>
                      <a:lnTo>
                        <a:pt x="17" y="88"/>
                      </a:lnTo>
                      <a:lnTo>
                        <a:pt x="15" y="87"/>
                      </a:lnTo>
                      <a:lnTo>
                        <a:pt x="10" y="85"/>
                      </a:lnTo>
                      <a:lnTo>
                        <a:pt x="8" y="83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5"/>
                      </a:lnTo>
                      <a:lnTo>
                        <a:pt x="6" y="51"/>
                      </a:lnTo>
                      <a:lnTo>
                        <a:pt x="7" y="48"/>
                      </a:lnTo>
                      <a:lnTo>
                        <a:pt x="9" y="45"/>
                      </a:lnTo>
                      <a:lnTo>
                        <a:pt x="11" y="41"/>
                      </a:lnTo>
                      <a:lnTo>
                        <a:pt x="13" y="37"/>
                      </a:lnTo>
                      <a:lnTo>
                        <a:pt x="15" y="34"/>
                      </a:lnTo>
                      <a:lnTo>
                        <a:pt x="19" y="30"/>
                      </a:lnTo>
                      <a:lnTo>
                        <a:pt x="20" y="26"/>
                      </a:lnTo>
                      <a:lnTo>
                        <a:pt x="23" y="23"/>
                      </a:lnTo>
                      <a:lnTo>
                        <a:pt x="26" y="19"/>
                      </a:lnTo>
                      <a:lnTo>
                        <a:pt x="28" y="15"/>
                      </a:lnTo>
                      <a:lnTo>
                        <a:pt x="30" y="12"/>
                      </a:lnTo>
                      <a:lnTo>
                        <a:pt x="32" y="7"/>
                      </a:lnTo>
                      <a:lnTo>
                        <a:pt x="33" y="4"/>
                      </a:lnTo>
                      <a:lnTo>
                        <a:pt x="35" y="0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5" y="10"/>
                      </a:lnTo>
                      <a:lnTo>
                        <a:pt x="35" y="12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5" y="20"/>
                      </a:lnTo>
                      <a:lnTo>
                        <a:pt x="35" y="23"/>
                      </a:lnTo>
                      <a:lnTo>
                        <a:pt x="35" y="26"/>
                      </a:lnTo>
                      <a:lnTo>
                        <a:pt x="35" y="30"/>
                      </a:lnTo>
                      <a:lnTo>
                        <a:pt x="35" y="32"/>
                      </a:lnTo>
                      <a:lnTo>
                        <a:pt x="35" y="35"/>
                      </a:lnTo>
                      <a:lnTo>
                        <a:pt x="35" y="37"/>
                      </a:lnTo>
                      <a:lnTo>
                        <a:pt x="35" y="41"/>
                      </a:lnTo>
                      <a:lnTo>
                        <a:pt x="35" y="43"/>
                      </a:lnTo>
                      <a:lnTo>
                        <a:pt x="35" y="47"/>
                      </a:lnTo>
                      <a:lnTo>
                        <a:pt x="35" y="49"/>
                      </a:lnTo>
                      <a:lnTo>
                        <a:pt x="35" y="53"/>
                      </a:lnTo>
                      <a:lnTo>
                        <a:pt x="35" y="55"/>
                      </a:lnTo>
                      <a:lnTo>
                        <a:pt x="35" y="57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7"/>
                      </a:lnTo>
                      <a:lnTo>
                        <a:pt x="35" y="69"/>
                      </a:lnTo>
                      <a:lnTo>
                        <a:pt x="35" y="72"/>
                      </a:lnTo>
                      <a:lnTo>
                        <a:pt x="35" y="75"/>
                      </a:lnTo>
                      <a:lnTo>
                        <a:pt x="35" y="77"/>
                      </a:lnTo>
                      <a:lnTo>
                        <a:pt x="35" y="80"/>
                      </a:lnTo>
                      <a:lnTo>
                        <a:pt x="35" y="82"/>
                      </a:lnTo>
                      <a:lnTo>
                        <a:pt x="35" y="86"/>
                      </a:lnTo>
                      <a:lnTo>
                        <a:pt x="35" y="88"/>
                      </a:lnTo>
                      <a:lnTo>
                        <a:pt x="36" y="9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Freeform 36"/>
                <p:cNvSpPr/>
                <p:nvPr/>
              </p:nvSpPr>
              <p:spPr>
                <a:xfrm>
                  <a:off x="1176120" y="2005200"/>
                  <a:ext cx="353880" cy="28116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667" h="531">
                      <a:moveTo>
                        <a:pt x="22" y="4"/>
                      </a:moveTo>
                      <a:lnTo>
                        <a:pt x="105" y="26"/>
                      </a:lnTo>
                      <a:lnTo>
                        <a:pt x="105" y="27"/>
                      </a:lnTo>
                      <a:lnTo>
                        <a:pt x="105" y="29"/>
                      </a:lnTo>
                      <a:lnTo>
                        <a:pt x="104" y="30"/>
                      </a:lnTo>
                      <a:lnTo>
                        <a:pt x="104" y="33"/>
                      </a:lnTo>
                      <a:lnTo>
                        <a:pt x="104" y="35"/>
                      </a:lnTo>
                      <a:lnTo>
                        <a:pt x="104" y="38"/>
                      </a:lnTo>
                      <a:lnTo>
                        <a:pt x="104" y="41"/>
                      </a:lnTo>
                      <a:lnTo>
                        <a:pt x="104" y="45"/>
                      </a:lnTo>
                      <a:lnTo>
                        <a:pt x="102" y="48"/>
                      </a:lnTo>
                      <a:lnTo>
                        <a:pt x="101" y="53"/>
                      </a:lnTo>
                      <a:lnTo>
                        <a:pt x="101" y="54"/>
                      </a:lnTo>
                      <a:lnTo>
                        <a:pt x="101" y="57"/>
                      </a:lnTo>
                      <a:lnTo>
                        <a:pt x="101" y="59"/>
                      </a:lnTo>
                      <a:lnTo>
                        <a:pt x="101" y="62"/>
                      </a:lnTo>
                      <a:lnTo>
                        <a:pt x="101" y="65"/>
                      </a:lnTo>
                      <a:lnTo>
                        <a:pt x="101" y="67"/>
                      </a:lnTo>
                      <a:lnTo>
                        <a:pt x="101" y="71"/>
                      </a:lnTo>
                      <a:lnTo>
                        <a:pt x="101" y="73"/>
                      </a:lnTo>
                      <a:lnTo>
                        <a:pt x="100" y="76"/>
                      </a:lnTo>
                      <a:lnTo>
                        <a:pt x="99" y="79"/>
                      </a:lnTo>
                      <a:lnTo>
                        <a:pt x="99" y="81"/>
                      </a:lnTo>
                      <a:lnTo>
                        <a:pt x="99" y="85"/>
                      </a:lnTo>
                      <a:lnTo>
                        <a:pt x="99" y="87"/>
                      </a:lnTo>
                      <a:lnTo>
                        <a:pt x="99" y="90"/>
                      </a:lnTo>
                      <a:lnTo>
                        <a:pt x="99" y="95"/>
                      </a:lnTo>
                      <a:lnTo>
                        <a:pt x="99" y="97"/>
                      </a:lnTo>
                      <a:lnTo>
                        <a:pt x="98" y="100"/>
                      </a:lnTo>
                      <a:lnTo>
                        <a:pt x="97" y="105"/>
                      </a:lnTo>
                      <a:lnTo>
                        <a:pt x="97" y="108"/>
                      </a:lnTo>
                      <a:lnTo>
                        <a:pt x="97" y="112"/>
                      </a:lnTo>
                      <a:lnTo>
                        <a:pt x="97" y="115"/>
                      </a:lnTo>
                      <a:lnTo>
                        <a:pt x="97" y="119"/>
                      </a:lnTo>
                      <a:lnTo>
                        <a:pt x="97" y="123"/>
                      </a:lnTo>
                      <a:lnTo>
                        <a:pt x="97" y="128"/>
                      </a:lnTo>
                      <a:lnTo>
                        <a:pt x="95" y="131"/>
                      </a:lnTo>
                      <a:lnTo>
                        <a:pt x="94" y="135"/>
                      </a:lnTo>
                      <a:lnTo>
                        <a:pt x="94" y="138"/>
                      </a:lnTo>
                      <a:lnTo>
                        <a:pt x="94" y="143"/>
                      </a:lnTo>
                      <a:lnTo>
                        <a:pt x="94" y="148"/>
                      </a:lnTo>
                      <a:lnTo>
                        <a:pt x="94" y="152"/>
                      </a:lnTo>
                      <a:lnTo>
                        <a:pt x="93" y="156"/>
                      </a:lnTo>
                      <a:lnTo>
                        <a:pt x="93" y="161"/>
                      </a:lnTo>
                      <a:lnTo>
                        <a:pt x="92" y="165"/>
                      </a:lnTo>
                      <a:lnTo>
                        <a:pt x="92" y="169"/>
                      </a:lnTo>
                      <a:lnTo>
                        <a:pt x="91" y="173"/>
                      </a:lnTo>
                      <a:lnTo>
                        <a:pt x="91" y="179"/>
                      </a:lnTo>
                      <a:lnTo>
                        <a:pt x="91" y="182"/>
                      </a:lnTo>
                      <a:lnTo>
                        <a:pt x="91" y="187"/>
                      </a:lnTo>
                      <a:lnTo>
                        <a:pt x="91" y="192"/>
                      </a:lnTo>
                      <a:lnTo>
                        <a:pt x="91" y="198"/>
                      </a:lnTo>
                      <a:lnTo>
                        <a:pt x="89" y="201"/>
                      </a:lnTo>
                      <a:lnTo>
                        <a:pt x="89" y="207"/>
                      </a:lnTo>
                      <a:lnTo>
                        <a:pt x="89" y="211"/>
                      </a:lnTo>
                      <a:lnTo>
                        <a:pt x="89" y="217"/>
                      </a:lnTo>
                      <a:lnTo>
                        <a:pt x="88" y="214"/>
                      </a:lnTo>
                      <a:lnTo>
                        <a:pt x="86" y="211"/>
                      </a:lnTo>
                      <a:lnTo>
                        <a:pt x="83" y="207"/>
                      </a:lnTo>
                      <a:lnTo>
                        <a:pt x="80" y="205"/>
                      </a:lnTo>
                      <a:lnTo>
                        <a:pt x="76" y="201"/>
                      </a:lnTo>
                      <a:lnTo>
                        <a:pt x="70" y="199"/>
                      </a:lnTo>
                      <a:lnTo>
                        <a:pt x="68" y="198"/>
                      </a:lnTo>
                      <a:lnTo>
                        <a:pt x="66" y="197"/>
                      </a:lnTo>
                      <a:lnTo>
                        <a:pt x="63" y="197"/>
                      </a:lnTo>
                      <a:lnTo>
                        <a:pt x="61" y="195"/>
                      </a:lnTo>
                      <a:lnTo>
                        <a:pt x="60" y="197"/>
                      </a:lnTo>
                      <a:lnTo>
                        <a:pt x="59" y="199"/>
                      </a:lnTo>
                      <a:lnTo>
                        <a:pt x="59" y="201"/>
                      </a:lnTo>
                      <a:lnTo>
                        <a:pt x="57" y="206"/>
                      </a:lnTo>
                      <a:lnTo>
                        <a:pt x="56" y="208"/>
                      </a:lnTo>
                      <a:lnTo>
                        <a:pt x="55" y="213"/>
                      </a:lnTo>
                      <a:lnTo>
                        <a:pt x="54" y="218"/>
                      </a:lnTo>
                      <a:lnTo>
                        <a:pt x="54" y="222"/>
                      </a:lnTo>
                      <a:lnTo>
                        <a:pt x="53" y="226"/>
                      </a:lnTo>
                      <a:lnTo>
                        <a:pt x="53" y="231"/>
                      </a:lnTo>
                      <a:lnTo>
                        <a:pt x="53" y="235"/>
                      </a:lnTo>
                      <a:lnTo>
                        <a:pt x="53" y="239"/>
                      </a:lnTo>
                      <a:lnTo>
                        <a:pt x="53" y="243"/>
                      </a:lnTo>
                      <a:lnTo>
                        <a:pt x="53" y="246"/>
                      </a:lnTo>
                      <a:lnTo>
                        <a:pt x="54" y="250"/>
                      </a:lnTo>
                      <a:lnTo>
                        <a:pt x="56" y="254"/>
                      </a:lnTo>
                      <a:lnTo>
                        <a:pt x="51" y="255"/>
                      </a:lnTo>
                      <a:lnTo>
                        <a:pt x="48" y="257"/>
                      </a:lnTo>
                      <a:lnTo>
                        <a:pt x="44" y="257"/>
                      </a:lnTo>
                      <a:lnTo>
                        <a:pt x="41" y="260"/>
                      </a:lnTo>
                      <a:lnTo>
                        <a:pt x="38" y="262"/>
                      </a:lnTo>
                      <a:lnTo>
                        <a:pt x="35" y="263"/>
                      </a:lnTo>
                      <a:lnTo>
                        <a:pt x="32" y="264"/>
                      </a:lnTo>
                      <a:lnTo>
                        <a:pt x="30" y="267"/>
                      </a:lnTo>
                      <a:lnTo>
                        <a:pt x="25" y="271"/>
                      </a:lnTo>
                      <a:lnTo>
                        <a:pt x="22" y="275"/>
                      </a:lnTo>
                      <a:lnTo>
                        <a:pt x="19" y="280"/>
                      </a:lnTo>
                      <a:lnTo>
                        <a:pt x="17" y="284"/>
                      </a:lnTo>
                      <a:lnTo>
                        <a:pt x="15" y="289"/>
                      </a:lnTo>
                      <a:lnTo>
                        <a:pt x="13" y="294"/>
                      </a:lnTo>
                      <a:lnTo>
                        <a:pt x="12" y="299"/>
                      </a:lnTo>
                      <a:lnTo>
                        <a:pt x="12" y="303"/>
                      </a:lnTo>
                      <a:lnTo>
                        <a:pt x="12" y="306"/>
                      </a:lnTo>
                      <a:lnTo>
                        <a:pt x="12" y="308"/>
                      </a:lnTo>
                      <a:lnTo>
                        <a:pt x="12" y="312"/>
                      </a:lnTo>
                      <a:lnTo>
                        <a:pt x="13" y="314"/>
                      </a:lnTo>
                      <a:lnTo>
                        <a:pt x="13" y="317"/>
                      </a:lnTo>
                      <a:lnTo>
                        <a:pt x="15" y="319"/>
                      </a:lnTo>
                      <a:lnTo>
                        <a:pt x="15" y="322"/>
                      </a:lnTo>
                      <a:lnTo>
                        <a:pt x="17" y="325"/>
                      </a:lnTo>
                      <a:lnTo>
                        <a:pt x="18" y="330"/>
                      </a:lnTo>
                      <a:lnTo>
                        <a:pt x="21" y="336"/>
                      </a:lnTo>
                      <a:lnTo>
                        <a:pt x="21" y="338"/>
                      </a:lnTo>
                      <a:lnTo>
                        <a:pt x="23" y="340"/>
                      </a:lnTo>
                      <a:lnTo>
                        <a:pt x="24" y="343"/>
                      </a:lnTo>
                      <a:lnTo>
                        <a:pt x="25" y="345"/>
                      </a:lnTo>
                      <a:lnTo>
                        <a:pt x="28" y="351"/>
                      </a:lnTo>
                      <a:lnTo>
                        <a:pt x="31" y="356"/>
                      </a:lnTo>
                      <a:lnTo>
                        <a:pt x="32" y="358"/>
                      </a:lnTo>
                      <a:lnTo>
                        <a:pt x="35" y="360"/>
                      </a:lnTo>
                      <a:lnTo>
                        <a:pt x="36" y="364"/>
                      </a:lnTo>
                      <a:lnTo>
                        <a:pt x="38" y="368"/>
                      </a:lnTo>
                      <a:lnTo>
                        <a:pt x="42" y="372"/>
                      </a:lnTo>
                      <a:lnTo>
                        <a:pt x="45" y="376"/>
                      </a:lnTo>
                      <a:lnTo>
                        <a:pt x="49" y="381"/>
                      </a:lnTo>
                      <a:lnTo>
                        <a:pt x="53" y="387"/>
                      </a:lnTo>
                      <a:lnTo>
                        <a:pt x="56" y="391"/>
                      </a:lnTo>
                      <a:lnTo>
                        <a:pt x="60" y="396"/>
                      </a:lnTo>
                      <a:lnTo>
                        <a:pt x="63" y="400"/>
                      </a:lnTo>
                      <a:lnTo>
                        <a:pt x="67" y="404"/>
                      </a:lnTo>
                      <a:lnTo>
                        <a:pt x="68" y="401"/>
                      </a:lnTo>
                      <a:lnTo>
                        <a:pt x="70" y="396"/>
                      </a:lnTo>
                      <a:lnTo>
                        <a:pt x="73" y="394"/>
                      </a:lnTo>
                      <a:lnTo>
                        <a:pt x="74" y="391"/>
                      </a:lnTo>
                      <a:lnTo>
                        <a:pt x="76" y="388"/>
                      </a:lnTo>
                      <a:lnTo>
                        <a:pt x="78" y="384"/>
                      </a:lnTo>
                      <a:lnTo>
                        <a:pt x="79" y="381"/>
                      </a:lnTo>
                      <a:lnTo>
                        <a:pt x="81" y="378"/>
                      </a:lnTo>
                      <a:lnTo>
                        <a:pt x="81" y="374"/>
                      </a:lnTo>
                      <a:lnTo>
                        <a:pt x="83" y="371"/>
                      </a:lnTo>
                      <a:lnTo>
                        <a:pt x="86" y="366"/>
                      </a:lnTo>
                      <a:lnTo>
                        <a:pt x="87" y="363"/>
                      </a:lnTo>
                      <a:lnTo>
                        <a:pt x="88" y="358"/>
                      </a:lnTo>
                      <a:lnTo>
                        <a:pt x="91" y="356"/>
                      </a:lnTo>
                      <a:lnTo>
                        <a:pt x="91" y="359"/>
                      </a:lnTo>
                      <a:lnTo>
                        <a:pt x="91" y="363"/>
                      </a:lnTo>
                      <a:lnTo>
                        <a:pt x="91" y="366"/>
                      </a:lnTo>
                      <a:lnTo>
                        <a:pt x="91" y="370"/>
                      </a:lnTo>
                      <a:lnTo>
                        <a:pt x="91" y="374"/>
                      </a:lnTo>
                      <a:lnTo>
                        <a:pt x="91" y="376"/>
                      </a:lnTo>
                      <a:lnTo>
                        <a:pt x="92" y="379"/>
                      </a:lnTo>
                      <a:lnTo>
                        <a:pt x="92" y="383"/>
                      </a:lnTo>
                      <a:lnTo>
                        <a:pt x="92" y="387"/>
                      </a:lnTo>
                      <a:lnTo>
                        <a:pt x="93" y="389"/>
                      </a:lnTo>
                      <a:lnTo>
                        <a:pt x="94" y="391"/>
                      </a:lnTo>
                      <a:lnTo>
                        <a:pt x="94" y="396"/>
                      </a:lnTo>
                      <a:lnTo>
                        <a:pt x="94" y="398"/>
                      </a:lnTo>
                      <a:lnTo>
                        <a:pt x="94" y="401"/>
                      </a:lnTo>
                      <a:lnTo>
                        <a:pt x="94" y="404"/>
                      </a:lnTo>
                      <a:lnTo>
                        <a:pt x="95" y="407"/>
                      </a:lnTo>
                      <a:lnTo>
                        <a:pt x="92" y="408"/>
                      </a:lnTo>
                      <a:lnTo>
                        <a:pt x="88" y="409"/>
                      </a:lnTo>
                      <a:lnTo>
                        <a:pt x="83" y="411"/>
                      </a:lnTo>
                      <a:lnTo>
                        <a:pt x="81" y="414"/>
                      </a:lnTo>
                      <a:lnTo>
                        <a:pt x="76" y="416"/>
                      </a:lnTo>
                      <a:lnTo>
                        <a:pt x="70" y="419"/>
                      </a:lnTo>
                      <a:lnTo>
                        <a:pt x="66" y="421"/>
                      </a:lnTo>
                      <a:lnTo>
                        <a:pt x="62" y="425"/>
                      </a:lnTo>
                      <a:lnTo>
                        <a:pt x="57" y="427"/>
                      </a:lnTo>
                      <a:lnTo>
                        <a:pt x="53" y="429"/>
                      </a:lnTo>
                      <a:lnTo>
                        <a:pt x="48" y="432"/>
                      </a:lnTo>
                      <a:lnTo>
                        <a:pt x="44" y="435"/>
                      </a:lnTo>
                      <a:lnTo>
                        <a:pt x="40" y="438"/>
                      </a:lnTo>
                      <a:lnTo>
                        <a:pt x="37" y="440"/>
                      </a:lnTo>
                      <a:lnTo>
                        <a:pt x="34" y="442"/>
                      </a:lnTo>
                      <a:lnTo>
                        <a:pt x="32" y="445"/>
                      </a:lnTo>
                      <a:lnTo>
                        <a:pt x="36" y="445"/>
                      </a:lnTo>
                      <a:lnTo>
                        <a:pt x="41" y="445"/>
                      </a:lnTo>
                      <a:lnTo>
                        <a:pt x="44" y="445"/>
                      </a:lnTo>
                      <a:lnTo>
                        <a:pt x="48" y="445"/>
                      </a:lnTo>
                      <a:lnTo>
                        <a:pt x="53" y="445"/>
                      </a:lnTo>
                      <a:lnTo>
                        <a:pt x="56" y="445"/>
                      </a:lnTo>
                      <a:lnTo>
                        <a:pt x="61" y="445"/>
                      </a:lnTo>
                      <a:lnTo>
                        <a:pt x="66" y="445"/>
                      </a:lnTo>
                      <a:lnTo>
                        <a:pt x="66" y="447"/>
                      </a:lnTo>
                      <a:lnTo>
                        <a:pt x="68" y="449"/>
                      </a:lnTo>
                      <a:lnTo>
                        <a:pt x="69" y="452"/>
                      </a:lnTo>
                      <a:lnTo>
                        <a:pt x="70" y="454"/>
                      </a:lnTo>
                      <a:lnTo>
                        <a:pt x="74" y="457"/>
                      </a:lnTo>
                      <a:lnTo>
                        <a:pt x="78" y="460"/>
                      </a:lnTo>
                      <a:lnTo>
                        <a:pt x="81" y="461"/>
                      </a:lnTo>
                      <a:lnTo>
                        <a:pt x="85" y="463"/>
                      </a:lnTo>
                      <a:lnTo>
                        <a:pt x="88" y="463"/>
                      </a:lnTo>
                      <a:lnTo>
                        <a:pt x="92" y="463"/>
                      </a:lnTo>
                      <a:lnTo>
                        <a:pt x="94" y="461"/>
                      </a:lnTo>
                      <a:lnTo>
                        <a:pt x="99" y="459"/>
                      </a:lnTo>
                      <a:lnTo>
                        <a:pt x="101" y="458"/>
                      </a:lnTo>
                      <a:lnTo>
                        <a:pt x="104" y="455"/>
                      </a:lnTo>
                      <a:lnTo>
                        <a:pt x="107" y="452"/>
                      </a:lnTo>
                      <a:lnTo>
                        <a:pt x="110" y="449"/>
                      </a:lnTo>
                      <a:lnTo>
                        <a:pt x="112" y="446"/>
                      </a:lnTo>
                      <a:lnTo>
                        <a:pt x="114" y="442"/>
                      </a:lnTo>
                      <a:lnTo>
                        <a:pt x="117" y="442"/>
                      </a:lnTo>
                      <a:lnTo>
                        <a:pt x="121" y="444"/>
                      </a:lnTo>
                      <a:lnTo>
                        <a:pt x="125" y="445"/>
                      </a:lnTo>
                      <a:lnTo>
                        <a:pt x="130" y="446"/>
                      </a:lnTo>
                      <a:lnTo>
                        <a:pt x="133" y="446"/>
                      </a:lnTo>
                      <a:lnTo>
                        <a:pt x="138" y="446"/>
                      </a:lnTo>
                      <a:lnTo>
                        <a:pt x="142" y="446"/>
                      </a:lnTo>
                      <a:lnTo>
                        <a:pt x="146" y="447"/>
                      </a:lnTo>
                      <a:lnTo>
                        <a:pt x="149" y="446"/>
                      </a:lnTo>
                      <a:lnTo>
                        <a:pt x="152" y="446"/>
                      </a:lnTo>
                      <a:lnTo>
                        <a:pt x="156" y="446"/>
                      </a:lnTo>
                      <a:lnTo>
                        <a:pt x="158" y="446"/>
                      </a:lnTo>
                      <a:lnTo>
                        <a:pt x="162" y="446"/>
                      </a:lnTo>
                      <a:lnTo>
                        <a:pt x="164" y="446"/>
                      </a:lnTo>
                      <a:lnTo>
                        <a:pt x="175" y="446"/>
                      </a:lnTo>
                      <a:lnTo>
                        <a:pt x="184" y="447"/>
                      </a:lnTo>
                      <a:lnTo>
                        <a:pt x="195" y="447"/>
                      </a:lnTo>
                      <a:lnTo>
                        <a:pt x="204" y="447"/>
                      </a:lnTo>
                      <a:lnTo>
                        <a:pt x="215" y="447"/>
                      </a:lnTo>
                      <a:lnTo>
                        <a:pt x="225" y="447"/>
                      </a:lnTo>
                      <a:lnTo>
                        <a:pt x="235" y="447"/>
                      </a:lnTo>
                      <a:lnTo>
                        <a:pt x="246" y="447"/>
                      </a:lnTo>
                      <a:lnTo>
                        <a:pt x="255" y="447"/>
                      </a:lnTo>
                      <a:lnTo>
                        <a:pt x="265" y="447"/>
                      </a:lnTo>
                      <a:lnTo>
                        <a:pt x="274" y="447"/>
                      </a:lnTo>
                      <a:lnTo>
                        <a:pt x="285" y="447"/>
                      </a:lnTo>
                      <a:lnTo>
                        <a:pt x="293" y="447"/>
                      </a:lnTo>
                      <a:lnTo>
                        <a:pt x="304" y="447"/>
                      </a:lnTo>
                      <a:lnTo>
                        <a:pt x="314" y="447"/>
                      </a:lnTo>
                      <a:lnTo>
                        <a:pt x="323" y="447"/>
                      </a:lnTo>
                      <a:lnTo>
                        <a:pt x="331" y="447"/>
                      </a:lnTo>
                      <a:lnTo>
                        <a:pt x="341" y="446"/>
                      </a:lnTo>
                      <a:lnTo>
                        <a:pt x="349" y="446"/>
                      </a:lnTo>
                      <a:lnTo>
                        <a:pt x="359" y="446"/>
                      </a:lnTo>
                      <a:lnTo>
                        <a:pt x="367" y="445"/>
                      </a:lnTo>
                      <a:lnTo>
                        <a:pt x="377" y="445"/>
                      </a:lnTo>
                      <a:lnTo>
                        <a:pt x="385" y="445"/>
                      </a:lnTo>
                      <a:lnTo>
                        <a:pt x="393" y="445"/>
                      </a:lnTo>
                      <a:lnTo>
                        <a:pt x="401" y="445"/>
                      </a:lnTo>
                      <a:lnTo>
                        <a:pt x="410" y="444"/>
                      </a:lnTo>
                      <a:lnTo>
                        <a:pt x="417" y="444"/>
                      </a:lnTo>
                      <a:lnTo>
                        <a:pt x="425" y="444"/>
                      </a:lnTo>
                      <a:lnTo>
                        <a:pt x="432" y="442"/>
                      </a:lnTo>
                      <a:lnTo>
                        <a:pt x="441" y="442"/>
                      </a:lnTo>
                      <a:lnTo>
                        <a:pt x="448" y="442"/>
                      </a:lnTo>
                      <a:lnTo>
                        <a:pt x="455" y="442"/>
                      </a:lnTo>
                      <a:lnTo>
                        <a:pt x="462" y="441"/>
                      </a:lnTo>
                      <a:lnTo>
                        <a:pt x="468" y="441"/>
                      </a:lnTo>
                      <a:lnTo>
                        <a:pt x="475" y="440"/>
                      </a:lnTo>
                      <a:lnTo>
                        <a:pt x="482" y="440"/>
                      </a:lnTo>
                      <a:lnTo>
                        <a:pt x="488" y="439"/>
                      </a:lnTo>
                      <a:lnTo>
                        <a:pt x="494" y="439"/>
                      </a:lnTo>
                      <a:lnTo>
                        <a:pt x="500" y="439"/>
                      </a:lnTo>
                      <a:lnTo>
                        <a:pt x="506" y="439"/>
                      </a:lnTo>
                      <a:lnTo>
                        <a:pt x="512" y="438"/>
                      </a:lnTo>
                      <a:lnTo>
                        <a:pt x="517" y="438"/>
                      </a:lnTo>
                      <a:lnTo>
                        <a:pt x="521" y="436"/>
                      </a:lnTo>
                      <a:lnTo>
                        <a:pt x="526" y="436"/>
                      </a:lnTo>
                      <a:lnTo>
                        <a:pt x="532" y="436"/>
                      </a:lnTo>
                      <a:lnTo>
                        <a:pt x="537" y="436"/>
                      </a:lnTo>
                      <a:lnTo>
                        <a:pt x="540" y="435"/>
                      </a:lnTo>
                      <a:lnTo>
                        <a:pt x="545" y="435"/>
                      </a:lnTo>
                      <a:lnTo>
                        <a:pt x="549" y="435"/>
                      </a:lnTo>
                      <a:lnTo>
                        <a:pt x="552" y="434"/>
                      </a:lnTo>
                      <a:lnTo>
                        <a:pt x="556" y="434"/>
                      </a:lnTo>
                      <a:lnTo>
                        <a:pt x="559" y="434"/>
                      </a:lnTo>
                      <a:lnTo>
                        <a:pt x="562" y="434"/>
                      </a:lnTo>
                      <a:lnTo>
                        <a:pt x="564" y="433"/>
                      </a:lnTo>
                      <a:lnTo>
                        <a:pt x="566" y="433"/>
                      </a:lnTo>
                      <a:lnTo>
                        <a:pt x="570" y="433"/>
                      </a:lnTo>
                      <a:lnTo>
                        <a:pt x="572" y="433"/>
                      </a:lnTo>
                      <a:lnTo>
                        <a:pt x="576" y="433"/>
                      </a:lnTo>
                      <a:lnTo>
                        <a:pt x="577" y="433"/>
                      </a:lnTo>
                      <a:lnTo>
                        <a:pt x="578" y="433"/>
                      </a:lnTo>
                      <a:lnTo>
                        <a:pt x="578" y="432"/>
                      </a:lnTo>
                      <a:lnTo>
                        <a:pt x="578" y="428"/>
                      </a:lnTo>
                      <a:lnTo>
                        <a:pt x="578" y="425"/>
                      </a:lnTo>
                      <a:lnTo>
                        <a:pt x="578" y="422"/>
                      </a:lnTo>
                      <a:lnTo>
                        <a:pt x="578" y="419"/>
                      </a:lnTo>
                      <a:lnTo>
                        <a:pt x="578" y="415"/>
                      </a:lnTo>
                      <a:lnTo>
                        <a:pt x="578" y="410"/>
                      </a:lnTo>
                      <a:lnTo>
                        <a:pt x="578" y="406"/>
                      </a:lnTo>
                      <a:lnTo>
                        <a:pt x="578" y="402"/>
                      </a:lnTo>
                      <a:lnTo>
                        <a:pt x="578" y="400"/>
                      </a:lnTo>
                      <a:lnTo>
                        <a:pt x="578" y="397"/>
                      </a:lnTo>
                      <a:lnTo>
                        <a:pt x="578" y="395"/>
                      </a:lnTo>
                      <a:lnTo>
                        <a:pt x="578" y="391"/>
                      </a:lnTo>
                      <a:lnTo>
                        <a:pt x="578" y="389"/>
                      </a:lnTo>
                      <a:lnTo>
                        <a:pt x="578" y="385"/>
                      </a:lnTo>
                      <a:lnTo>
                        <a:pt x="578" y="383"/>
                      </a:lnTo>
                      <a:lnTo>
                        <a:pt x="578" y="378"/>
                      </a:lnTo>
                      <a:lnTo>
                        <a:pt x="578" y="376"/>
                      </a:lnTo>
                      <a:lnTo>
                        <a:pt x="578" y="372"/>
                      </a:lnTo>
                      <a:lnTo>
                        <a:pt x="579" y="369"/>
                      </a:lnTo>
                      <a:lnTo>
                        <a:pt x="578" y="364"/>
                      </a:lnTo>
                      <a:lnTo>
                        <a:pt x="578" y="360"/>
                      </a:lnTo>
                      <a:lnTo>
                        <a:pt x="578" y="357"/>
                      </a:lnTo>
                      <a:lnTo>
                        <a:pt x="578" y="353"/>
                      </a:lnTo>
                      <a:lnTo>
                        <a:pt x="578" y="349"/>
                      </a:lnTo>
                      <a:lnTo>
                        <a:pt x="578" y="344"/>
                      </a:lnTo>
                      <a:lnTo>
                        <a:pt x="578" y="340"/>
                      </a:lnTo>
                      <a:lnTo>
                        <a:pt x="578" y="336"/>
                      </a:lnTo>
                      <a:lnTo>
                        <a:pt x="578" y="331"/>
                      </a:lnTo>
                      <a:lnTo>
                        <a:pt x="578" y="327"/>
                      </a:lnTo>
                      <a:lnTo>
                        <a:pt x="578" y="322"/>
                      </a:lnTo>
                      <a:lnTo>
                        <a:pt x="578" y="318"/>
                      </a:lnTo>
                      <a:lnTo>
                        <a:pt x="578" y="313"/>
                      </a:lnTo>
                      <a:lnTo>
                        <a:pt x="578" y="308"/>
                      </a:lnTo>
                      <a:lnTo>
                        <a:pt x="578" y="303"/>
                      </a:lnTo>
                      <a:lnTo>
                        <a:pt x="578" y="300"/>
                      </a:lnTo>
                      <a:lnTo>
                        <a:pt x="578" y="294"/>
                      </a:lnTo>
                      <a:lnTo>
                        <a:pt x="578" y="290"/>
                      </a:lnTo>
                      <a:lnTo>
                        <a:pt x="578" y="284"/>
                      </a:lnTo>
                      <a:lnTo>
                        <a:pt x="578" y="280"/>
                      </a:lnTo>
                      <a:lnTo>
                        <a:pt x="578" y="275"/>
                      </a:lnTo>
                      <a:lnTo>
                        <a:pt x="578" y="269"/>
                      </a:lnTo>
                      <a:lnTo>
                        <a:pt x="578" y="264"/>
                      </a:lnTo>
                      <a:lnTo>
                        <a:pt x="578" y="260"/>
                      </a:lnTo>
                      <a:lnTo>
                        <a:pt x="578" y="254"/>
                      </a:lnTo>
                      <a:lnTo>
                        <a:pt x="578" y="249"/>
                      </a:lnTo>
                      <a:lnTo>
                        <a:pt x="578" y="243"/>
                      </a:lnTo>
                      <a:lnTo>
                        <a:pt x="578" y="237"/>
                      </a:lnTo>
                      <a:lnTo>
                        <a:pt x="578" y="232"/>
                      </a:lnTo>
                      <a:lnTo>
                        <a:pt x="578" y="226"/>
                      </a:lnTo>
                      <a:lnTo>
                        <a:pt x="578" y="222"/>
                      </a:lnTo>
                      <a:lnTo>
                        <a:pt x="578" y="217"/>
                      </a:lnTo>
                      <a:lnTo>
                        <a:pt x="578" y="211"/>
                      </a:lnTo>
                      <a:lnTo>
                        <a:pt x="578" y="205"/>
                      </a:lnTo>
                      <a:lnTo>
                        <a:pt x="577" y="200"/>
                      </a:lnTo>
                      <a:lnTo>
                        <a:pt x="577" y="195"/>
                      </a:lnTo>
                      <a:lnTo>
                        <a:pt x="577" y="190"/>
                      </a:lnTo>
                      <a:lnTo>
                        <a:pt x="577" y="185"/>
                      </a:lnTo>
                      <a:lnTo>
                        <a:pt x="577" y="180"/>
                      </a:lnTo>
                      <a:lnTo>
                        <a:pt x="577" y="176"/>
                      </a:lnTo>
                      <a:lnTo>
                        <a:pt x="576" y="171"/>
                      </a:lnTo>
                      <a:lnTo>
                        <a:pt x="576" y="166"/>
                      </a:lnTo>
                      <a:lnTo>
                        <a:pt x="575" y="162"/>
                      </a:lnTo>
                      <a:lnTo>
                        <a:pt x="575" y="159"/>
                      </a:lnTo>
                      <a:lnTo>
                        <a:pt x="575" y="154"/>
                      </a:lnTo>
                      <a:lnTo>
                        <a:pt x="575" y="150"/>
                      </a:lnTo>
                      <a:lnTo>
                        <a:pt x="575" y="146"/>
                      </a:lnTo>
                      <a:lnTo>
                        <a:pt x="575" y="143"/>
                      </a:lnTo>
                      <a:lnTo>
                        <a:pt x="573" y="138"/>
                      </a:lnTo>
                      <a:lnTo>
                        <a:pt x="573" y="135"/>
                      </a:lnTo>
                      <a:lnTo>
                        <a:pt x="572" y="131"/>
                      </a:lnTo>
                      <a:lnTo>
                        <a:pt x="572" y="128"/>
                      </a:lnTo>
                      <a:lnTo>
                        <a:pt x="571" y="125"/>
                      </a:lnTo>
                      <a:lnTo>
                        <a:pt x="571" y="122"/>
                      </a:lnTo>
                      <a:lnTo>
                        <a:pt x="570" y="118"/>
                      </a:lnTo>
                      <a:lnTo>
                        <a:pt x="570" y="116"/>
                      </a:lnTo>
                      <a:lnTo>
                        <a:pt x="570" y="112"/>
                      </a:lnTo>
                      <a:lnTo>
                        <a:pt x="570" y="110"/>
                      </a:lnTo>
                      <a:lnTo>
                        <a:pt x="569" y="108"/>
                      </a:lnTo>
                      <a:lnTo>
                        <a:pt x="569" y="105"/>
                      </a:lnTo>
                      <a:lnTo>
                        <a:pt x="568" y="100"/>
                      </a:lnTo>
                      <a:lnTo>
                        <a:pt x="566" y="95"/>
                      </a:lnTo>
                      <a:lnTo>
                        <a:pt x="565" y="90"/>
                      </a:lnTo>
                      <a:lnTo>
                        <a:pt x="565" y="87"/>
                      </a:lnTo>
                      <a:lnTo>
                        <a:pt x="564" y="83"/>
                      </a:lnTo>
                      <a:lnTo>
                        <a:pt x="563" y="79"/>
                      </a:lnTo>
                      <a:lnTo>
                        <a:pt x="562" y="77"/>
                      </a:lnTo>
                      <a:lnTo>
                        <a:pt x="562" y="74"/>
                      </a:lnTo>
                      <a:lnTo>
                        <a:pt x="560" y="71"/>
                      </a:lnTo>
                      <a:lnTo>
                        <a:pt x="560" y="70"/>
                      </a:lnTo>
                      <a:lnTo>
                        <a:pt x="559" y="66"/>
                      </a:lnTo>
                      <a:lnTo>
                        <a:pt x="558" y="64"/>
                      </a:lnTo>
                      <a:lnTo>
                        <a:pt x="557" y="62"/>
                      </a:lnTo>
                      <a:lnTo>
                        <a:pt x="626" y="0"/>
                      </a:lnTo>
                      <a:lnTo>
                        <a:pt x="628" y="3"/>
                      </a:lnTo>
                      <a:lnTo>
                        <a:pt x="633" y="8"/>
                      </a:lnTo>
                      <a:lnTo>
                        <a:pt x="634" y="10"/>
                      </a:lnTo>
                      <a:lnTo>
                        <a:pt x="635" y="13"/>
                      </a:lnTo>
                      <a:lnTo>
                        <a:pt x="638" y="16"/>
                      </a:lnTo>
                      <a:lnTo>
                        <a:pt x="640" y="19"/>
                      </a:lnTo>
                      <a:lnTo>
                        <a:pt x="640" y="21"/>
                      </a:lnTo>
                      <a:lnTo>
                        <a:pt x="642" y="24"/>
                      </a:lnTo>
                      <a:lnTo>
                        <a:pt x="643" y="28"/>
                      </a:lnTo>
                      <a:lnTo>
                        <a:pt x="646" y="32"/>
                      </a:lnTo>
                      <a:lnTo>
                        <a:pt x="646" y="34"/>
                      </a:lnTo>
                      <a:lnTo>
                        <a:pt x="648" y="39"/>
                      </a:lnTo>
                      <a:lnTo>
                        <a:pt x="648" y="41"/>
                      </a:lnTo>
                      <a:lnTo>
                        <a:pt x="651" y="46"/>
                      </a:lnTo>
                      <a:lnTo>
                        <a:pt x="651" y="49"/>
                      </a:lnTo>
                      <a:lnTo>
                        <a:pt x="652" y="53"/>
                      </a:lnTo>
                      <a:lnTo>
                        <a:pt x="653" y="58"/>
                      </a:lnTo>
                      <a:lnTo>
                        <a:pt x="653" y="62"/>
                      </a:lnTo>
                      <a:lnTo>
                        <a:pt x="654" y="66"/>
                      </a:lnTo>
                      <a:lnTo>
                        <a:pt x="655" y="71"/>
                      </a:lnTo>
                      <a:lnTo>
                        <a:pt x="655" y="74"/>
                      </a:lnTo>
                      <a:lnTo>
                        <a:pt x="657" y="79"/>
                      </a:lnTo>
                      <a:lnTo>
                        <a:pt x="658" y="83"/>
                      </a:lnTo>
                      <a:lnTo>
                        <a:pt x="658" y="87"/>
                      </a:lnTo>
                      <a:lnTo>
                        <a:pt x="658" y="92"/>
                      </a:lnTo>
                      <a:lnTo>
                        <a:pt x="659" y="97"/>
                      </a:lnTo>
                      <a:lnTo>
                        <a:pt x="660" y="100"/>
                      </a:lnTo>
                      <a:lnTo>
                        <a:pt x="660" y="105"/>
                      </a:lnTo>
                      <a:lnTo>
                        <a:pt x="660" y="110"/>
                      </a:lnTo>
                      <a:lnTo>
                        <a:pt x="661" y="115"/>
                      </a:lnTo>
                      <a:lnTo>
                        <a:pt x="661" y="121"/>
                      </a:lnTo>
                      <a:lnTo>
                        <a:pt x="662" y="124"/>
                      </a:lnTo>
                      <a:lnTo>
                        <a:pt x="662" y="129"/>
                      </a:lnTo>
                      <a:lnTo>
                        <a:pt x="662" y="134"/>
                      </a:lnTo>
                      <a:lnTo>
                        <a:pt x="662" y="138"/>
                      </a:lnTo>
                      <a:lnTo>
                        <a:pt x="664" y="142"/>
                      </a:lnTo>
                      <a:lnTo>
                        <a:pt x="664" y="147"/>
                      </a:lnTo>
                      <a:lnTo>
                        <a:pt x="664" y="152"/>
                      </a:lnTo>
                      <a:lnTo>
                        <a:pt x="664" y="156"/>
                      </a:lnTo>
                      <a:lnTo>
                        <a:pt x="664" y="161"/>
                      </a:lnTo>
                      <a:lnTo>
                        <a:pt x="664" y="165"/>
                      </a:lnTo>
                      <a:lnTo>
                        <a:pt x="664" y="169"/>
                      </a:lnTo>
                      <a:lnTo>
                        <a:pt x="664" y="173"/>
                      </a:lnTo>
                      <a:lnTo>
                        <a:pt x="664" y="178"/>
                      </a:lnTo>
                      <a:lnTo>
                        <a:pt x="664" y="182"/>
                      </a:lnTo>
                      <a:lnTo>
                        <a:pt x="665" y="186"/>
                      </a:lnTo>
                      <a:lnTo>
                        <a:pt x="665" y="191"/>
                      </a:lnTo>
                      <a:lnTo>
                        <a:pt x="665" y="193"/>
                      </a:lnTo>
                      <a:lnTo>
                        <a:pt x="665" y="198"/>
                      </a:lnTo>
                      <a:lnTo>
                        <a:pt x="665" y="201"/>
                      </a:lnTo>
                      <a:lnTo>
                        <a:pt x="665" y="205"/>
                      </a:lnTo>
                      <a:lnTo>
                        <a:pt x="665" y="208"/>
                      </a:lnTo>
                      <a:lnTo>
                        <a:pt x="665" y="212"/>
                      </a:lnTo>
                      <a:lnTo>
                        <a:pt x="665" y="217"/>
                      </a:lnTo>
                      <a:lnTo>
                        <a:pt x="665" y="219"/>
                      </a:lnTo>
                      <a:lnTo>
                        <a:pt x="665" y="222"/>
                      </a:lnTo>
                      <a:lnTo>
                        <a:pt x="665" y="224"/>
                      </a:lnTo>
                      <a:lnTo>
                        <a:pt x="666" y="229"/>
                      </a:lnTo>
                      <a:lnTo>
                        <a:pt x="666" y="231"/>
                      </a:lnTo>
                      <a:lnTo>
                        <a:pt x="666" y="233"/>
                      </a:lnTo>
                      <a:lnTo>
                        <a:pt x="666" y="236"/>
                      </a:lnTo>
                      <a:lnTo>
                        <a:pt x="666" y="239"/>
                      </a:lnTo>
                      <a:lnTo>
                        <a:pt x="666" y="241"/>
                      </a:lnTo>
                      <a:lnTo>
                        <a:pt x="666" y="243"/>
                      </a:lnTo>
                      <a:lnTo>
                        <a:pt x="666" y="246"/>
                      </a:lnTo>
                      <a:lnTo>
                        <a:pt x="666" y="249"/>
                      </a:lnTo>
                      <a:lnTo>
                        <a:pt x="666" y="252"/>
                      </a:lnTo>
                      <a:lnTo>
                        <a:pt x="666" y="256"/>
                      </a:lnTo>
                      <a:lnTo>
                        <a:pt x="666" y="260"/>
                      </a:lnTo>
                      <a:lnTo>
                        <a:pt x="666" y="264"/>
                      </a:lnTo>
                      <a:lnTo>
                        <a:pt x="666" y="267"/>
                      </a:lnTo>
                      <a:lnTo>
                        <a:pt x="666" y="273"/>
                      </a:lnTo>
                      <a:lnTo>
                        <a:pt x="666" y="276"/>
                      </a:lnTo>
                      <a:lnTo>
                        <a:pt x="666" y="281"/>
                      </a:lnTo>
                      <a:lnTo>
                        <a:pt x="666" y="284"/>
                      </a:lnTo>
                      <a:lnTo>
                        <a:pt x="666" y="290"/>
                      </a:lnTo>
                      <a:lnTo>
                        <a:pt x="666" y="295"/>
                      </a:lnTo>
                      <a:lnTo>
                        <a:pt x="667" y="301"/>
                      </a:lnTo>
                      <a:lnTo>
                        <a:pt x="666" y="306"/>
                      </a:lnTo>
                      <a:lnTo>
                        <a:pt x="666" y="311"/>
                      </a:lnTo>
                      <a:lnTo>
                        <a:pt x="666" y="317"/>
                      </a:lnTo>
                      <a:lnTo>
                        <a:pt x="666" y="322"/>
                      </a:lnTo>
                      <a:lnTo>
                        <a:pt x="666" y="328"/>
                      </a:lnTo>
                      <a:lnTo>
                        <a:pt x="666" y="334"/>
                      </a:lnTo>
                      <a:lnTo>
                        <a:pt x="666" y="340"/>
                      </a:lnTo>
                      <a:lnTo>
                        <a:pt x="666" y="345"/>
                      </a:lnTo>
                      <a:lnTo>
                        <a:pt x="666" y="351"/>
                      </a:lnTo>
                      <a:lnTo>
                        <a:pt x="666" y="357"/>
                      </a:lnTo>
                      <a:lnTo>
                        <a:pt x="666" y="363"/>
                      </a:lnTo>
                      <a:lnTo>
                        <a:pt x="666" y="370"/>
                      </a:lnTo>
                      <a:lnTo>
                        <a:pt x="666" y="376"/>
                      </a:lnTo>
                      <a:lnTo>
                        <a:pt x="666" y="381"/>
                      </a:lnTo>
                      <a:lnTo>
                        <a:pt x="666" y="387"/>
                      </a:lnTo>
                      <a:lnTo>
                        <a:pt x="666" y="394"/>
                      </a:lnTo>
                      <a:lnTo>
                        <a:pt x="665" y="398"/>
                      </a:lnTo>
                      <a:lnTo>
                        <a:pt x="665" y="404"/>
                      </a:lnTo>
                      <a:lnTo>
                        <a:pt x="665" y="411"/>
                      </a:lnTo>
                      <a:lnTo>
                        <a:pt x="665" y="416"/>
                      </a:lnTo>
                      <a:lnTo>
                        <a:pt x="665" y="421"/>
                      </a:lnTo>
                      <a:lnTo>
                        <a:pt x="665" y="427"/>
                      </a:lnTo>
                      <a:lnTo>
                        <a:pt x="665" y="433"/>
                      </a:lnTo>
                      <a:lnTo>
                        <a:pt x="665" y="439"/>
                      </a:lnTo>
                      <a:lnTo>
                        <a:pt x="664" y="444"/>
                      </a:lnTo>
                      <a:lnTo>
                        <a:pt x="664" y="448"/>
                      </a:lnTo>
                      <a:lnTo>
                        <a:pt x="664" y="453"/>
                      </a:lnTo>
                      <a:lnTo>
                        <a:pt x="664" y="459"/>
                      </a:lnTo>
                      <a:lnTo>
                        <a:pt x="664" y="464"/>
                      </a:lnTo>
                      <a:lnTo>
                        <a:pt x="664" y="468"/>
                      </a:lnTo>
                      <a:lnTo>
                        <a:pt x="664" y="472"/>
                      </a:lnTo>
                      <a:lnTo>
                        <a:pt x="664" y="477"/>
                      </a:lnTo>
                      <a:lnTo>
                        <a:pt x="664" y="482"/>
                      </a:lnTo>
                      <a:lnTo>
                        <a:pt x="664" y="485"/>
                      </a:lnTo>
                      <a:lnTo>
                        <a:pt x="664" y="489"/>
                      </a:lnTo>
                      <a:lnTo>
                        <a:pt x="664" y="492"/>
                      </a:lnTo>
                      <a:lnTo>
                        <a:pt x="664" y="495"/>
                      </a:lnTo>
                      <a:lnTo>
                        <a:pt x="664" y="498"/>
                      </a:lnTo>
                      <a:lnTo>
                        <a:pt x="664" y="501"/>
                      </a:lnTo>
                      <a:lnTo>
                        <a:pt x="664" y="504"/>
                      </a:lnTo>
                      <a:lnTo>
                        <a:pt x="664" y="508"/>
                      </a:lnTo>
                      <a:lnTo>
                        <a:pt x="664" y="510"/>
                      </a:lnTo>
                      <a:lnTo>
                        <a:pt x="664" y="512"/>
                      </a:lnTo>
                      <a:lnTo>
                        <a:pt x="664" y="514"/>
                      </a:lnTo>
                      <a:lnTo>
                        <a:pt x="659" y="515"/>
                      </a:lnTo>
                      <a:lnTo>
                        <a:pt x="655" y="515"/>
                      </a:lnTo>
                      <a:lnTo>
                        <a:pt x="652" y="515"/>
                      </a:lnTo>
                      <a:lnTo>
                        <a:pt x="649" y="516"/>
                      </a:lnTo>
                      <a:lnTo>
                        <a:pt x="647" y="517"/>
                      </a:lnTo>
                      <a:lnTo>
                        <a:pt x="645" y="518"/>
                      </a:lnTo>
                      <a:lnTo>
                        <a:pt x="641" y="518"/>
                      </a:lnTo>
                      <a:lnTo>
                        <a:pt x="638" y="518"/>
                      </a:lnTo>
                      <a:lnTo>
                        <a:pt x="635" y="518"/>
                      </a:lnTo>
                      <a:lnTo>
                        <a:pt x="632" y="520"/>
                      </a:lnTo>
                      <a:lnTo>
                        <a:pt x="628" y="520"/>
                      </a:lnTo>
                      <a:lnTo>
                        <a:pt x="624" y="521"/>
                      </a:lnTo>
                      <a:lnTo>
                        <a:pt x="620" y="521"/>
                      </a:lnTo>
                      <a:lnTo>
                        <a:pt x="617" y="521"/>
                      </a:lnTo>
                      <a:lnTo>
                        <a:pt x="613" y="521"/>
                      </a:lnTo>
                      <a:lnTo>
                        <a:pt x="608" y="522"/>
                      </a:lnTo>
                      <a:lnTo>
                        <a:pt x="604" y="522"/>
                      </a:lnTo>
                      <a:lnTo>
                        <a:pt x="600" y="523"/>
                      </a:lnTo>
                      <a:lnTo>
                        <a:pt x="596" y="523"/>
                      </a:lnTo>
                      <a:lnTo>
                        <a:pt x="591" y="523"/>
                      </a:lnTo>
                      <a:lnTo>
                        <a:pt x="588" y="523"/>
                      </a:lnTo>
                      <a:lnTo>
                        <a:pt x="583" y="524"/>
                      </a:lnTo>
                      <a:lnTo>
                        <a:pt x="578" y="524"/>
                      </a:lnTo>
                      <a:lnTo>
                        <a:pt x="575" y="524"/>
                      </a:lnTo>
                      <a:lnTo>
                        <a:pt x="570" y="524"/>
                      </a:lnTo>
                      <a:lnTo>
                        <a:pt x="565" y="525"/>
                      </a:lnTo>
                      <a:lnTo>
                        <a:pt x="560" y="525"/>
                      </a:lnTo>
                      <a:lnTo>
                        <a:pt x="556" y="525"/>
                      </a:lnTo>
                      <a:lnTo>
                        <a:pt x="552" y="525"/>
                      </a:lnTo>
                      <a:lnTo>
                        <a:pt x="547" y="525"/>
                      </a:lnTo>
                      <a:lnTo>
                        <a:pt x="543" y="525"/>
                      </a:lnTo>
                      <a:lnTo>
                        <a:pt x="538" y="525"/>
                      </a:lnTo>
                      <a:lnTo>
                        <a:pt x="534" y="525"/>
                      </a:lnTo>
                      <a:lnTo>
                        <a:pt x="528" y="527"/>
                      </a:lnTo>
                      <a:lnTo>
                        <a:pt x="525" y="527"/>
                      </a:lnTo>
                      <a:lnTo>
                        <a:pt x="521" y="527"/>
                      </a:lnTo>
                      <a:lnTo>
                        <a:pt x="517" y="527"/>
                      </a:lnTo>
                      <a:lnTo>
                        <a:pt x="513" y="528"/>
                      </a:lnTo>
                      <a:lnTo>
                        <a:pt x="508" y="528"/>
                      </a:lnTo>
                      <a:lnTo>
                        <a:pt x="503" y="528"/>
                      </a:lnTo>
                      <a:lnTo>
                        <a:pt x="501" y="528"/>
                      </a:lnTo>
                      <a:lnTo>
                        <a:pt x="498" y="528"/>
                      </a:lnTo>
                      <a:lnTo>
                        <a:pt x="494" y="528"/>
                      </a:lnTo>
                      <a:lnTo>
                        <a:pt x="490" y="528"/>
                      </a:lnTo>
                      <a:lnTo>
                        <a:pt x="486" y="528"/>
                      </a:lnTo>
                      <a:lnTo>
                        <a:pt x="483" y="528"/>
                      </a:lnTo>
                      <a:lnTo>
                        <a:pt x="481" y="528"/>
                      </a:lnTo>
                      <a:lnTo>
                        <a:pt x="477" y="528"/>
                      </a:lnTo>
                      <a:lnTo>
                        <a:pt x="475" y="528"/>
                      </a:lnTo>
                      <a:lnTo>
                        <a:pt x="473" y="529"/>
                      </a:lnTo>
                      <a:lnTo>
                        <a:pt x="468" y="529"/>
                      </a:lnTo>
                      <a:lnTo>
                        <a:pt x="463" y="530"/>
                      </a:lnTo>
                      <a:lnTo>
                        <a:pt x="461" y="530"/>
                      </a:lnTo>
                      <a:lnTo>
                        <a:pt x="458" y="530"/>
                      </a:lnTo>
                      <a:lnTo>
                        <a:pt x="456" y="530"/>
                      </a:lnTo>
                      <a:lnTo>
                        <a:pt x="445" y="530"/>
                      </a:lnTo>
                      <a:lnTo>
                        <a:pt x="436" y="530"/>
                      </a:lnTo>
                      <a:lnTo>
                        <a:pt x="425" y="530"/>
                      </a:lnTo>
                      <a:lnTo>
                        <a:pt x="414" y="530"/>
                      </a:lnTo>
                      <a:lnTo>
                        <a:pt x="405" y="530"/>
                      </a:lnTo>
                      <a:lnTo>
                        <a:pt x="394" y="530"/>
                      </a:lnTo>
                      <a:lnTo>
                        <a:pt x="385" y="530"/>
                      </a:lnTo>
                      <a:lnTo>
                        <a:pt x="374" y="531"/>
                      </a:lnTo>
                      <a:lnTo>
                        <a:pt x="365" y="530"/>
                      </a:lnTo>
                      <a:lnTo>
                        <a:pt x="354" y="530"/>
                      </a:lnTo>
                      <a:lnTo>
                        <a:pt x="344" y="530"/>
                      </a:lnTo>
                      <a:lnTo>
                        <a:pt x="336" y="530"/>
                      </a:lnTo>
                      <a:lnTo>
                        <a:pt x="327" y="530"/>
                      </a:lnTo>
                      <a:lnTo>
                        <a:pt x="317" y="530"/>
                      </a:lnTo>
                      <a:lnTo>
                        <a:pt x="309" y="530"/>
                      </a:lnTo>
                      <a:lnTo>
                        <a:pt x="299" y="530"/>
                      </a:lnTo>
                      <a:lnTo>
                        <a:pt x="291" y="530"/>
                      </a:lnTo>
                      <a:lnTo>
                        <a:pt x="280" y="530"/>
                      </a:lnTo>
                      <a:lnTo>
                        <a:pt x="273" y="529"/>
                      </a:lnTo>
                      <a:lnTo>
                        <a:pt x="264" y="529"/>
                      </a:lnTo>
                      <a:lnTo>
                        <a:pt x="255" y="528"/>
                      </a:lnTo>
                      <a:lnTo>
                        <a:pt x="247" y="528"/>
                      </a:lnTo>
                      <a:lnTo>
                        <a:pt x="239" y="528"/>
                      </a:lnTo>
                      <a:lnTo>
                        <a:pt x="232" y="528"/>
                      </a:lnTo>
                      <a:lnTo>
                        <a:pt x="223" y="527"/>
                      </a:lnTo>
                      <a:lnTo>
                        <a:pt x="215" y="527"/>
                      </a:lnTo>
                      <a:lnTo>
                        <a:pt x="208" y="525"/>
                      </a:lnTo>
                      <a:lnTo>
                        <a:pt x="201" y="525"/>
                      </a:lnTo>
                      <a:lnTo>
                        <a:pt x="194" y="525"/>
                      </a:lnTo>
                      <a:lnTo>
                        <a:pt x="187" y="525"/>
                      </a:lnTo>
                      <a:lnTo>
                        <a:pt x="180" y="524"/>
                      </a:lnTo>
                      <a:lnTo>
                        <a:pt x="174" y="524"/>
                      </a:lnTo>
                      <a:lnTo>
                        <a:pt x="167" y="523"/>
                      </a:lnTo>
                      <a:lnTo>
                        <a:pt x="161" y="523"/>
                      </a:lnTo>
                      <a:lnTo>
                        <a:pt x="155" y="522"/>
                      </a:lnTo>
                      <a:lnTo>
                        <a:pt x="149" y="522"/>
                      </a:lnTo>
                      <a:lnTo>
                        <a:pt x="142" y="521"/>
                      </a:lnTo>
                      <a:lnTo>
                        <a:pt x="137" y="521"/>
                      </a:lnTo>
                      <a:lnTo>
                        <a:pt x="131" y="520"/>
                      </a:lnTo>
                      <a:lnTo>
                        <a:pt x="126" y="520"/>
                      </a:lnTo>
                      <a:lnTo>
                        <a:pt x="120" y="518"/>
                      </a:lnTo>
                      <a:lnTo>
                        <a:pt x="115" y="518"/>
                      </a:lnTo>
                      <a:lnTo>
                        <a:pt x="110" y="518"/>
                      </a:lnTo>
                      <a:lnTo>
                        <a:pt x="106" y="518"/>
                      </a:lnTo>
                      <a:lnTo>
                        <a:pt x="101" y="517"/>
                      </a:lnTo>
                      <a:lnTo>
                        <a:pt x="97" y="517"/>
                      </a:lnTo>
                      <a:lnTo>
                        <a:pt x="94" y="516"/>
                      </a:lnTo>
                      <a:lnTo>
                        <a:pt x="89" y="516"/>
                      </a:lnTo>
                      <a:lnTo>
                        <a:pt x="86" y="515"/>
                      </a:lnTo>
                      <a:lnTo>
                        <a:pt x="82" y="515"/>
                      </a:lnTo>
                      <a:lnTo>
                        <a:pt x="80" y="515"/>
                      </a:lnTo>
                      <a:lnTo>
                        <a:pt x="76" y="515"/>
                      </a:lnTo>
                      <a:lnTo>
                        <a:pt x="73" y="514"/>
                      </a:lnTo>
                      <a:lnTo>
                        <a:pt x="70" y="512"/>
                      </a:lnTo>
                      <a:lnTo>
                        <a:pt x="68" y="512"/>
                      </a:lnTo>
                      <a:lnTo>
                        <a:pt x="63" y="512"/>
                      </a:lnTo>
                      <a:lnTo>
                        <a:pt x="61" y="512"/>
                      </a:lnTo>
                      <a:lnTo>
                        <a:pt x="60" y="512"/>
                      </a:lnTo>
                      <a:lnTo>
                        <a:pt x="56" y="509"/>
                      </a:lnTo>
                      <a:lnTo>
                        <a:pt x="51" y="506"/>
                      </a:lnTo>
                      <a:lnTo>
                        <a:pt x="48" y="503"/>
                      </a:lnTo>
                      <a:lnTo>
                        <a:pt x="44" y="499"/>
                      </a:lnTo>
                      <a:lnTo>
                        <a:pt x="41" y="495"/>
                      </a:lnTo>
                      <a:lnTo>
                        <a:pt x="37" y="490"/>
                      </a:lnTo>
                      <a:lnTo>
                        <a:pt x="34" y="485"/>
                      </a:lnTo>
                      <a:lnTo>
                        <a:pt x="31" y="480"/>
                      </a:lnTo>
                      <a:lnTo>
                        <a:pt x="30" y="477"/>
                      </a:lnTo>
                      <a:lnTo>
                        <a:pt x="28" y="473"/>
                      </a:lnTo>
                      <a:lnTo>
                        <a:pt x="26" y="470"/>
                      </a:lnTo>
                      <a:lnTo>
                        <a:pt x="25" y="467"/>
                      </a:lnTo>
                      <a:lnTo>
                        <a:pt x="24" y="464"/>
                      </a:lnTo>
                      <a:lnTo>
                        <a:pt x="23" y="460"/>
                      </a:lnTo>
                      <a:lnTo>
                        <a:pt x="22" y="457"/>
                      </a:lnTo>
                      <a:lnTo>
                        <a:pt x="21" y="454"/>
                      </a:lnTo>
                      <a:lnTo>
                        <a:pt x="19" y="451"/>
                      </a:lnTo>
                      <a:lnTo>
                        <a:pt x="18" y="447"/>
                      </a:lnTo>
                      <a:lnTo>
                        <a:pt x="17" y="444"/>
                      </a:lnTo>
                      <a:lnTo>
                        <a:pt x="16" y="440"/>
                      </a:lnTo>
                      <a:lnTo>
                        <a:pt x="15" y="436"/>
                      </a:lnTo>
                      <a:lnTo>
                        <a:pt x="15" y="433"/>
                      </a:lnTo>
                      <a:lnTo>
                        <a:pt x="13" y="429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11" y="417"/>
                      </a:lnTo>
                      <a:lnTo>
                        <a:pt x="10" y="414"/>
                      </a:lnTo>
                      <a:lnTo>
                        <a:pt x="9" y="409"/>
                      </a:lnTo>
                      <a:lnTo>
                        <a:pt x="8" y="404"/>
                      </a:lnTo>
                      <a:lnTo>
                        <a:pt x="8" y="401"/>
                      </a:lnTo>
                      <a:lnTo>
                        <a:pt x="6" y="397"/>
                      </a:lnTo>
                      <a:lnTo>
                        <a:pt x="6" y="394"/>
                      </a:lnTo>
                      <a:lnTo>
                        <a:pt x="5" y="389"/>
                      </a:lnTo>
                      <a:lnTo>
                        <a:pt x="5" y="384"/>
                      </a:lnTo>
                      <a:lnTo>
                        <a:pt x="5" y="381"/>
                      </a:lnTo>
                      <a:lnTo>
                        <a:pt x="5" y="376"/>
                      </a:lnTo>
                      <a:lnTo>
                        <a:pt x="4" y="372"/>
                      </a:lnTo>
                      <a:lnTo>
                        <a:pt x="3" y="369"/>
                      </a:lnTo>
                      <a:lnTo>
                        <a:pt x="3" y="363"/>
                      </a:lnTo>
                      <a:lnTo>
                        <a:pt x="3" y="360"/>
                      </a:lnTo>
                      <a:lnTo>
                        <a:pt x="3" y="356"/>
                      </a:lnTo>
                      <a:lnTo>
                        <a:pt x="2" y="351"/>
                      </a:lnTo>
                      <a:lnTo>
                        <a:pt x="0" y="347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21"/>
                      </a:lnTo>
                      <a:lnTo>
                        <a:pt x="0" y="317"/>
                      </a:lnTo>
                      <a:lnTo>
                        <a:pt x="0" y="313"/>
                      </a:lnTo>
                      <a:lnTo>
                        <a:pt x="0" y="308"/>
                      </a:lnTo>
                      <a:lnTo>
                        <a:pt x="0" y="303"/>
                      </a:lnTo>
                      <a:lnTo>
                        <a:pt x="0" y="300"/>
                      </a:lnTo>
                      <a:lnTo>
                        <a:pt x="0" y="295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3" y="281"/>
                      </a:lnTo>
                      <a:lnTo>
                        <a:pt x="6" y="280"/>
                      </a:lnTo>
                      <a:lnTo>
                        <a:pt x="10" y="277"/>
                      </a:lnTo>
                      <a:lnTo>
                        <a:pt x="15" y="275"/>
                      </a:lnTo>
                      <a:lnTo>
                        <a:pt x="18" y="271"/>
                      </a:lnTo>
                      <a:lnTo>
                        <a:pt x="22" y="268"/>
                      </a:lnTo>
                      <a:lnTo>
                        <a:pt x="24" y="264"/>
                      </a:lnTo>
                      <a:lnTo>
                        <a:pt x="28" y="260"/>
                      </a:lnTo>
                      <a:lnTo>
                        <a:pt x="30" y="255"/>
                      </a:lnTo>
                      <a:lnTo>
                        <a:pt x="31" y="250"/>
                      </a:lnTo>
                      <a:lnTo>
                        <a:pt x="32" y="246"/>
                      </a:lnTo>
                      <a:lnTo>
                        <a:pt x="32" y="242"/>
                      </a:lnTo>
                      <a:lnTo>
                        <a:pt x="31" y="238"/>
                      </a:lnTo>
                      <a:lnTo>
                        <a:pt x="29" y="235"/>
                      </a:lnTo>
                      <a:lnTo>
                        <a:pt x="26" y="233"/>
                      </a:lnTo>
                      <a:lnTo>
                        <a:pt x="25" y="231"/>
                      </a:lnTo>
                      <a:lnTo>
                        <a:pt x="23" y="231"/>
                      </a:lnTo>
                      <a:lnTo>
                        <a:pt x="21" y="230"/>
                      </a:lnTo>
                      <a:lnTo>
                        <a:pt x="16" y="235"/>
                      </a:lnTo>
                      <a:lnTo>
                        <a:pt x="11" y="239"/>
                      </a:lnTo>
                      <a:lnTo>
                        <a:pt x="8" y="242"/>
                      </a:lnTo>
                      <a:lnTo>
                        <a:pt x="5" y="244"/>
                      </a:lnTo>
                      <a:lnTo>
                        <a:pt x="3" y="246"/>
                      </a:lnTo>
                      <a:lnTo>
                        <a:pt x="0" y="249"/>
                      </a:lnTo>
                      <a:lnTo>
                        <a:pt x="0" y="246"/>
                      </a:lnTo>
                      <a:lnTo>
                        <a:pt x="0" y="244"/>
                      </a:lnTo>
                      <a:lnTo>
                        <a:pt x="0" y="242"/>
                      </a:lnTo>
                      <a:lnTo>
                        <a:pt x="0" y="239"/>
                      </a:lnTo>
                      <a:lnTo>
                        <a:pt x="0" y="236"/>
                      </a:lnTo>
                      <a:lnTo>
                        <a:pt x="0" y="233"/>
                      </a:lnTo>
                      <a:lnTo>
                        <a:pt x="0" y="231"/>
                      </a:lnTo>
                      <a:lnTo>
                        <a:pt x="2" y="229"/>
                      </a:lnTo>
                      <a:lnTo>
                        <a:pt x="2" y="225"/>
                      </a:lnTo>
                      <a:lnTo>
                        <a:pt x="2" y="223"/>
                      </a:lnTo>
                      <a:lnTo>
                        <a:pt x="2" y="219"/>
                      </a:lnTo>
                      <a:lnTo>
                        <a:pt x="3" y="217"/>
                      </a:lnTo>
                      <a:lnTo>
                        <a:pt x="3" y="214"/>
                      </a:lnTo>
                      <a:lnTo>
                        <a:pt x="3" y="211"/>
                      </a:lnTo>
                      <a:lnTo>
                        <a:pt x="3" y="208"/>
                      </a:lnTo>
                      <a:lnTo>
                        <a:pt x="3" y="206"/>
                      </a:lnTo>
                      <a:lnTo>
                        <a:pt x="3" y="204"/>
                      </a:lnTo>
                      <a:lnTo>
                        <a:pt x="3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3" y="192"/>
                      </a:lnTo>
                      <a:lnTo>
                        <a:pt x="4" y="190"/>
                      </a:lnTo>
                      <a:lnTo>
                        <a:pt x="5" y="186"/>
                      </a:lnTo>
                      <a:lnTo>
                        <a:pt x="5" y="184"/>
                      </a:lnTo>
                      <a:lnTo>
                        <a:pt x="5" y="181"/>
                      </a:lnTo>
                      <a:lnTo>
                        <a:pt x="5" y="178"/>
                      </a:lnTo>
                      <a:lnTo>
                        <a:pt x="5" y="175"/>
                      </a:lnTo>
                      <a:lnTo>
                        <a:pt x="5" y="172"/>
                      </a:lnTo>
                      <a:lnTo>
                        <a:pt x="5" y="169"/>
                      </a:lnTo>
                      <a:lnTo>
                        <a:pt x="5" y="166"/>
                      </a:lnTo>
                      <a:lnTo>
                        <a:pt x="6" y="163"/>
                      </a:lnTo>
                      <a:lnTo>
                        <a:pt x="6" y="161"/>
                      </a:lnTo>
                      <a:lnTo>
                        <a:pt x="8" y="165"/>
                      </a:lnTo>
                      <a:lnTo>
                        <a:pt x="11" y="167"/>
                      </a:lnTo>
                      <a:lnTo>
                        <a:pt x="13" y="167"/>
                      </a:lnTo>
                      <a:lnTo>
                        <a:pt x="16" y="168"/>
                      </a:lnTo>
                      <a:lnTo>
                        <a:pt x="19" y="168"/>
                      </a:lnTo>
                      <a:lnTo>
                        <a:pt x="23" y="168"/>
                      </a:lnTo>
                      <a:lnTo>
                        <a:pt x="25" y="166"/>
                      </a:lnTo>
                      <a:lnTo>
                        <a:pt x="29" y="166"/>
                      </a:lnTo>
                      <a:lnTo>
                        <a:pt x="32" y="163"/>
                      </a:lnTo>
                      <a:lnTo>
                        <a:pt x="36" y="162"/>
                      </a:lnTo>
                      <a:lnTo>
                        <a:pt x="40" y="160"/>
                      </a:lnTo>
                      <a:lnTo>
                        <a:pt x="43" y="159"/>
                      </a:lnTo>
                      <a:lnTo>
                        <a:pt x="47" y="155"/>
                      </a:lnTo>
                      <a:lnTo>
                        <a:pt x="50" y="153"/>
                      </a:lnTo>
                      <a:lnTo>
                        <a:pt x="53" y="150"/>
                      </a:lnTo>
                      <a:lnTo>
                        <a:pt x="56" y="147"/>
                      </a:lnTo>
                      <a:lnTo>
                        <a:pt x="59" y="143"/>
                      </a:lnTo>
                      <a:lnTo>
                        <a:pt x="61" y="141"/>
                      </a:lnTo>
                      <a:lnTo>
                        <a:pt x="62" y="136"/>
                      </a:lnTo>
                      <a:lnTo>
                        <a:pt x="64" y="133"/>
                      </a:lnTo>
                      <a:lnTo>
                        <a:pt x="66" y="129"/>
                      </a:lnTo>
                      <a:lnTo>
                        <a:pt x="66" y="125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3" y="114"/>
                      </a:lnTo>
                      <a:lnTo>
                        <a:pt x="62" y="110"/>
                      </a:lnTo>
                      <a:lnTo>
                        <a:pt x="59" y="105"/>
                      </a:lnTo>
                      <a:lnTo>
                        <a:pt x="56" y="102"/>
                      </a:lnTo>
                      <a:lnTo>
                        <a:pt x="51" y="97"/>
                      </a:lnTo>
                      <a:lnTo>
                        <a:pt x="47" y="95"/>
                      </a:lnTo>
                      <a:lnTo>
                        <a:pt x="44" y="97"/>
                      </a:lnTo>
                      <a:lnTo>
                        <a:pt x="42" y="99"/>
                      </a:lnTo>
                      <a:lnTo>
                        <a:pt x="40" y="103"/>
                      </a:lnTo>
                      <a:lnTo>
                        <a:pt x="38" y="105"/>
                      </a:lnTo>
                      <a:lnTo>
                        <a:pt x="35" y="110"/>
                      </a:lnTo>
                      <a:lnTo>
                        <a:pt x="32" y="112"/>
                      </a:lnTo>
                      <a:lnTo>
                        <a:pt x="30" y="115"/>
                      </a:lnTo>
                      <a:lnTo>
                        <a:pt x="29" y="117"/>
                      </a:lnTo>
                      <a:lnTo>
                        <a:pt x="25" y="121"/>
                      </a:lnTo>
                      <a:lnTo>
                        <a:pt x="24" y="123"/>
                      </a:lnTo>
                      <a:lnTo>
                        <a:pt x="22" y="125"/>
                      </a:lnTo>
                      <a:lnTo>
                        <a:pt x="19" y="129"/>
                      </a:lnTo>
                      <a:lnTo>
                        <a:pt x="16" y="134"/>
                      </a:lnTo>
                      <a:lnTo>
                        <a:pt x="13" y="138"/>
                      </a:lnTo>
                      <a:lnTo>
                        <a:pt x="10" y="142"/>
                      </a:lnTo>
                      <a:lnTo>
                        <a:pt x="9" y="147"/>
                      </a:lnTo>
                      <a:lnTo>
                        <a:pt x="8" y="150"/>
                      </a:lnTo>
                      <a:lnTo>
                        <a:pt x="8" y="154"/>
                      </a:lnTo>
                      <a:lnTo>
                        <a:pt x="8" y="150"/>
                      </a:lnTo>
                      <a:lnTo>
                        <a:pt x="8" y="147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5"/>
                      </a:lnTo>
                      <a:lnTo>
                        <a:pt x="9" y="133"/>
                      </a:lnTo>
                      <a:lnTo>
                        <a:pt x="9" y="128"/>
                      </a:lnTo>
                      <a:lnTo>
                        <a:pt x="10" y="125"/>
                      </a:lnTo>
                      <a:lnTo>
                        <a:pt x="10" y="121"/>
                      </a:lnTo>
                      <a:lnTo>
                        <a:pt x="10" y="117"/>
                      </a:lnTo>
                      <a:lnTo>
                        <a:pt x="10" y="115"/>
                      </a:lnTo>
                      <a:lnTo>
                        <a:pt x="10" y="110"/>
                      </a:lnTo>
                      <a:lnTo>
                        <a:pt x="10" y="108"/>
                      </a:lnTo>
                      <a:lnTo>
                        <a:pt x="11" y="104"/>
                      </a:lnTo>
                      <a:lnTo>
                        <a:pt x="11" y="100"/>
                      </a:lnTo>
                      <a:lnTo>
                        <a:pt x="12" y="97"/>
                      </a:lnTo>
                      <a:lnTo>
                        <a:pt x="12" y="95"/>
                      </a:lnTo>
                      <a:lnTo>
                        <a:pt x="12" y="91"/>
                      </a:lnTo>
                      <a:lnTo>
                        <a:pt x="12" y="87"/>
                      </a:lnTo>
                      <a:lnTo>
                        <a:pt x="12" y="85"/>
                      </a:lnTo>
                      <a:lnTo>
                        <a:pt x="12" y="81"/>
                      </a:lnTo>
                      <a:lnTo>
                        <a:pt x="13" y="78"/>
                      </a:lnTo>
                      <a:lnTo>
                        <a:pt x="13" y="74"/>
                      </a:lnTo>
                      <a:lnTo>
                        <a:pt x="15" y="72"/>
                      </a:lnTo>
                      <a:lnTo>
                        <a:pt x="15" y="70"/>
                      </a:lnTo>
                      <a:lnTo>
                        <a:pt x="15" y="67"/>
                      </a:lnTo>
                      <a:lnTo>
                        <a:pt x="15" y="64"/>
                      </a:lnTo>
                      <a:lnTo>
                        <a:pt x="15" y="61"/>
                      </a:lnTo>
                      <a:lnTo>
                        <a:pt x="15" y="58"/>
                      </a:lnTo>
                      <a:lnTo>
                        <a:pt x="16" y="55"/>
                      </a:lnTo>
                      <a:lnTo>
                        <a:pt x="16" y="53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5"/>
                      </a:lnTo>
                      <a:lnTo>
                        <a:pt x="17" y="41"/>
                      </a:lnTo>
                      <a:lnTo>
                        <a:pt x="17" y="40"/>
                      </a:lnTo>
                      <a:lnTo>
                        <a:pt x="18" y="35"/>
                      </a:lnTo>
                      <a:lnTo>
                        <a:pt x="18" y="32"/>
                      </a:lnTo>
                      <a:lnTo>
                        <a:pt x="18" y="27"/>
                      </a:lnTo>
                      <a:lnTo>
                        <a:pt x="19" y="23"/>
                      </a:lnTo>
                      <a:lnTo>
                        <a:pt x="19" y="20"/>
                      </a:lnTo>
                      <a:lnTo>
                        <a:pt x="21" y="16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21" y="9"/>
                      </a:lnTo>
                      <a:lnTo>
                        <a:pt x="21" y="8"/>
                      </a:lnTo>
                      <a:lnTo>
                        <a:pt x="21" y="5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Freeform 37"/>
                <p:cNvSpPr/>
                <p:nvPr/>
              </p:nvSpPr>
              <p:spPr>
                <a:xfrm>
                  <a:off x="1265040" y="2557800"/>
                  <a:ext cx="21960" cy="158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0" y="0"/>
                      </a:moveTo>
                      <a:lnTo>
                        <a:pt x="43" y="3"/>
                      </a:lnTo>
                      <a:lnTo>
                        <a:pt x="42" y="6"/>
                      </a:lnTo>
                      <a:lnTo>
                        <a:pt x="41" y="9"/>
                      </a:lnTo>
                      <a:lnTo>
                        <a:pt x="40" y="11"/>
                      </a:lnTo>
                      <a:lnTo>
                        <a:pt x="37" y="13"/>
                      </a:lnTo>
                      <a:lnTo>
                        <a:pt x="37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26" y="29"/>
                      </a:lnTo>
                      <a:lnTo>
                        <a:pt x="20" y="31"/>
                      </a:lnTo>
                      <a:lnTo>
                        <a:pt x="16" y="30"/>
                      </a:lnTo>
                      <a:lnTo>
                        <a:pt x="13" y="28"/>
                      </a:lnTo>
                      <a:lnTo>
                        <a:pt x="13" y="24"/>
                      </a:lnTo>
                      <a:lnTo>
                        <a:pt x="13" y="20"/>
                      </a:lnTo>
                      <a:lnTo>
                        <a:pt x="13" y="17"/>
                      </a:lnTo>
                      <a:lnTo>
                        <a:pt x="13" y="13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Freeform 38"/>
                <p:cNvSpPr/>
                <p:nvPr/>
              </p:nvSpPr>
              <p:spPr>
                <a:xfrm>
                  <a:off x="1311120" y="25909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7" h="22">
                      <a:moveTo>
                        <a:pt x="57" y="19"/>
                      </a:moveTo>
                      <a:lnTo>
                        <a:pt x="0" y="22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3"/>
                      </a:lnTo>
                      <a:lnTo>
                        <a:pt x="29" y="4"/>
                      </a:lnTo>
                      <a:lnTo>
                        <a:pt x="32" y="6"/>
                      </a:lnTo>
                      <a:lnTo>
                        <a:pt x="36" y="7"/>
                      </a:lnTo>
                      <a:lnTo>
                        <a:pt x="39" y="8"/>
                      </a:lnTo>
                      <a:lnTo>
                        <a:pt x="43" y="11"/>
                      </a:lnTo>
                      <a:lnTo>
                        <a:pt x="45" y="13"/>
                      </a:lnTo>
                      <a:lnTo>
                        <a:pt x="49" y="13"/>
                      </a:lnTo>
                      <a:lnTo>
                        <a:pt x="51" y="16"/>
                      </a:lnTo>
                      <a:lnTo>
                        <a:pt x="56" y="18"/>
                      </a:lnTo>
                      <a:lnTo>
                        <a:pt x="57" y="1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2" name="Group 39"/>
            <p:cNvGrpSpPr/>
            <p:nvPr/>
          </p:nvGrpSpPr>
          <p:grpSpPr>
            <a:xfrm>
              <a:off x="7162920" y="1905120"/>
              <a:ext cx="753840" cy="701640"/>
              <a:chOff x="7162920" y="1905120"/>
              <a:chExt cx="753840" cy="701640"/>
            </a:xfrm>
          </p:grpSpPr>
          <p:sp>
            <p:nvSpPr>
              <p:cNvPr id="1273" name="Rectangle 40"/>
              <p:cNvSpPr/>
              <p:nvPr/>
            </p:nvSpPr>
            <p:spPr>
              <a:xfrm>
                <a:off x="7383240" y="2025720"/>
                <a:ext cx="304560" cy="228600"/>
              </a:xfrm>
              <a:prstGeom prst="rect">
                <a:avLst/>
              </a:prstGeom>
              <a:solidFill>
                <a:srgbClr val="40417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274" name="Group 41"/>
              <p:cNvGrpSpPr/>
              <p:nvPr/>
            </p:nvGrpSpPr>
            <p:grpSpPr>
              <a:xfrm>
                <a:off x="7162920" y="1905120"/>
                <a:ext cx="753840" cy="701640"/>
                <a:chOff x="7162920" y="1905120"/>
                <a:chExt cx="753840" cy="701640"/>
              </a:xfrm>
            </p:grpSpPr>
            <p:sp>
              <p:nvSpPr>
                <p:cNvPr id="1275" name="Freeform 42"/>
                <p:cNvSpPr/>
                <p:nvPr/>
              </p:nvSpPr>
              <p:spPr>
                <a:xfrm>
                  <a:off x="7289640" y="2551320"/>
                  <a:ext cx="585360" cy="5544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05" h="104">
                      <a:moveTo>
                        <a:pt x="872" y="13"/>
                      </a:moveTo>
                      <a:lnTo>
                        <a:pt x="876" y="13"/>
                      </a:lnTo>
                      <a:lnTo>
                        <a:pt x="879" y="13"/>
                      </a:lnTo>
                      <a:lnTo>
                        <a:pt x="883" y="13"/>
                      </a:lnTo>
                      <a:lnTo>
                        <a:pt x="886" y="13"/>
                      </a:lnTo>
                      <a:lnTo>
                        <a:pt x="890" y="13"/>
                      </a:lnTo>
                      <a:lnTo>
                        <a:pt x="893" y="13"/>
                      </a:lnTo>
                      <a:lnTo>
                        <a:pt x="897" y="13"/>
                      </a:lnTo>
                      <a:lnTo>
                        <a:pt x="900" y="13"/>
                      </a:lnTo>
                      <a:lnTo>
                        <a:pt x="904" y="13"/>
                      </a:lnTo>
                      <a:lnTo>
                        <a:pt x="909" y="13"/>
                      </a:lnTo>
                      <a:lnTo>
                        <a:pt x="911" y="13"/>
                      </a:lnTo>
                      <a:lnTo>
                        <a:pt x="916" y="13"/>
                      </a:lnTo>
                      <a:lnTo>
                        <a:pt x="918" y="11"/>
                      </a:lnTo>
                      <a:lnTo>
                        <a:pt x="923" y="11"/>
                      </a:lnTo>
                      <a:lnTo>
                        <a:pt x="927" y="11"/>
                      </a:lnTo>
                      <a:lnTo>
                        <a:pt x="930" y="11"/>
                      </a:lnTo>
                      <a:lnTo>
                        <a:pt x="932" y="10"/>
                      </a:lnTo>
                      <a:lnTo>
                        <a:pt x="936" y="10"/>
                      </a:lnTo>
                      <a:lnTo>
                        <a:pt x="940" y="10"/>
                      </a:lnTo>
                      <a:lnTo>
                        <a:pt x="943" y="10"/>
                      </a:lnTo>
                      <a:lnTo>
                        <a:pt x="947" y="9"/>
                      </a:lnTo>
                      <a:lnTo>
                        <a:pt x="950" y="9"/>
                      </a:lnTo>
                      <a:lnTo>
                        <a:pt x="954" y="8"/>
                      </a:lnTo>
                      <a:lnTo>
                        <a:pt x="957" y="8"/>
                      </a:lnTo>
                      <a:lnTo>
                        <a:pt x="960" y="8"/>
                      </a:lnTo>
                      <a:lnTo>
                        <a:pt x="964" y="8"/>
                      </a:lnTo>
                      <a:lnTo>
                        <a:pt x="967" y="7"/>
                      </a:lnTo>
                      <a:lnTo>
                        <a:pt x="972" y="7"/>
                      </a:lnTo>
                      <a:lnTo>
                        <a:pt x="974" y="5"/>
                      </a:lnTo>
                      <a:lnTo>
                        <a:pt x="978" y="5"/>
                      </a:lnTo>
                      <a:lnTo>
                        <a:pt x="981" y="5"/>
                      </a:lnTo>
                      <a:lnTo>
                        <a:pt x="985" y="5"/>
                      </a:lnTo>
                      <a:lnTo>
                        <a:pt x="988" y="4"/>
                      </a:lnTo>
                      <a:lnTo>
                        <a:pt x="992" y="3"/>
                      </a:lnTo>
                      <a:lnTo>
                        <a:pt x="994" y="3"/>
                      </a:lnTo>
                      <a:lnTo>
                        <a:pt x="998" y="3"/>
                      </a:lnTo>
                      <a:lnTo>
                        <a:pt x="1001" y="3"/>
                      </a:lnTo>
                      <a:lnTo>
                        <a:pt x="1005" y="2"/>
                      </a:lnTo>
                      <a:lnTo>
                        <a:pt x="1007" y="2"/>
                      </a:lnTo>
                      <a:lnTo>
                        <a:pt x="1012" y="2"/>
                      </a:lnTo>
                      <a:lnTo>
                        <a:pt x="1014" y="1"/>
                      </a:lnTo>
                      <a:lnTo>
                        <a:pt x="1018" y="1"/>
                      </a:lnTo>
                      <a:lnTo>
                        <a:pt x="1021" y="1"/>
                      </a:lnTo>
                      <a:lnTo>
                        <a:pt x="1025" y="1"/>
                      </a:lnTo>
                      <a:lnTo>
                        <a:pt x="1029" y="1"/>
                      </a:lnTo>
                      <a:lnTo>
                        <a:pt x="1032" y="1"/>
                      </a:lnTo>
                      <a:lnTo>
                        <a:pt x="1034" y="1"/>
                      </a:lnTo>
                      <a:lnTo>
                        <a:pt x="1039" y="1"/>
                      </a:lnTo>
                      <a:lnTo>
                        <a:pt x="1042" y="0"/>
                      </a:lnTo>
                      <a:lnTo>
                        <a:pt x="1045" y="0"/>
                      </a:lnTo>
                      <a:lnTo>
                        <a:pt x="1048" y="0"/>
                      </a:lnTo>
                      <a:lnTo>
                        <a:pt x="1052" y="0"/>
                      </a:lnTo>
                      <a:lnTo>
                        <a:pt x="1055" y="0"/>
                      </a:lnTo>
                      <a:lnTo>
                        <a:pt x="1058" y="1"/>
                      </a:lnTo>
                      <a:lnTo>
                        <a:pt x="1062" y="1"/>
                      </a:lnTo>
                      <a:lnTo>
                        <a:pt x="1065" y="1"/>
                      </a:lnTo>
                      <a:lnTo>
                        <a:pt x="1068" y="1"/>
                      </a:lnTo>
                      <a:lnTo>
                        <a:pt x="1072" y="2"/>
                      </a:lnTo>
                      <a:lnTo>
                        <a:pt x="1075" y="2"/>
                      </a:lnTo>
                      <a:lnTo>
                        <a:pt x="1078" y="3"/>
                      </a:lnTo>
                      <a:lnTo>
                        <a:pt x="1082" y="3"/>
                      </a:lnTo>
                      <a:lnTo>
                        <a:pt x="1086" y="4"/>
                      </a:lnTo>
                      <a:lnTo>
                        <a:pt x="1089" y="5"/>
                      </a:lnTo>
                      <a:lnTo>
                        <a:pt x="1093" y="7"/>
                      </a:lnTo>
                      <a:lnTo>
                        <a:pt x="1093" y="9"/>
                      </a:lnTo>
                      <a:lnTo>
                        <a:pt x="1094" y="11"/>
                      </a:lnTo>
                      <a:lnTo>
                        <a:pt x="1095" y="14"/>
                      </a:lnTo>
                      <a:lnTo>
                        <a:pt x="1095" y="17"/>
                      </a:lnTo>
                      <a:lnTo>
                        <a:pt x="1096" y="20"/>
                      </a:lnTo>
                      <a:lnTo>
                        <a:pt x="1097" y="22"/>
                      </a:lnTo>
                      <a:lnTo>
                        <a:pt x="1097" y="24"/>
                      </a:lnTo>
                      <a:lnTo>
                        <a:pt x="1099" y="28"/>
                      </a:lnTo>
                      <a:lnTo>
                        <a:pt x="1099" y="30"/>
                      </a:lnTo>
                      <a:lnTo>
                        <a:pt x="1100" y="33"/>
                      </a:lnTo>
                      <a:lnTo>
                        <a:pt x="1101" y="35"/>
                      </a:lnTo>
                      <a:lnTo>
                        <a:pt x="1101" y="39"/>
                      </a:lnTo>
                      <a:lnTo>
                        <a:pt x="1102" y="41"/>
                      </a:lnTo>
                      <a:lnTo>
                        <a:pt x="1103" y="43"/>
                      </a:lnTo>
                      <a:lnTo>
                        <a:pt x="1103" y="46"/>
                      </a:lnTo>
                      <a:lnTo>
                        <a:pt x="1105" y="49"/>
                      </a:lnTo>
                      <a:lnTo>
                        <a:pt x="1099" y="53"/>
                      </a:lnTo>
                      <a:lnTo>
                        <a:pt x="1093" y="57"/>
                      </a:lnTo>
                      <a:lnTo>
                        <a:pt x="1086" y="60"/>
                      </a:lnTo>
                      <a:lnTo>
                        <a:pt x="1077" y="64"/>
                      </a:lnTo>
                      <a:lnTo>
                        <a:pt x="1068" y="66"/>
                      </a:lnTo>
                      <a:lnTo>
                        <a:pt x="1057" y="68"/>
                      </a:lnTo>
                      <a:lnTo>
                        <a:pt x="1048" y="72"/>
                      </a:lnTo>
                      <a:lnTo>
                        <a:pt x="1036" y="76"/>
                      </a:lnTo>
                      <a:lnTo>
                        <a:pt x="1024" y="78"/>
                      </a:lnTo>
                      <a:lnTo>
                        <a:pt x="1011" y="80"/>
                      </a:lnTo>
                      <a:lnTo>
                        <a:pt x="997" y="81"/>
                      </a:lnTo>
                      <a:lnTo>
                        <a:pt x="982" y="84"/>
                      </a:lnTo>
                      <a:lnTo>
                        <a:pt x="968" y="86"/>
                      </a:lnTo>
                      <a:lnTo>
                        <a:pt x="953" y="89"/>
                      </a:lnTo>
                      <a:lnTo>
                        <a:pt x="936" y="90"/>
                      </a:lnTo>
                      <a:lnTo>
                        <a:pt x="921" y="92"/>
                      </a:lnTo>
                      <a:lnTo>
                        <a:pt x="903" y="92"/>
                      </a:lnTo>
                      <a:lnTo>
                        <a:pt x="885" y="95"/>
                      </a:lnTo>
                      <a:lnTo>
                        <a:pt x="866" y="96"/>
                      </a:lnTo>
                      <a:lnTo>
                        <a:pt x="847" y="97"/>
                      </a:lnTo>
                      <a:lnTo>
                        <a:pt x="829" y="98"/>
                      </a:lnTo>
                      <a:lnTo>
                        <a:pt x="809" y="99"/>
                      </a:lnTo>
                      <a:lnTo>
                        <a:pt x="790" y="99"/>
                      </a:lnTo>
                      <a:lnTo>
                        <a:pt x="770" y="102"/>
                      </a:lnTo>
                      <a:lnTo>
                        <a:pt x="750" y="102"/>
                      </a:lnTo>
                      <a:lnTo>
                        <a:pt x="728" y="102"/>
                      </a:lnTo>
                      <a:lnTo>
                        <a:pt x="708" y="102"/>
                      </a:lnTo>
                      <a:lnTo>
                        <a:pt x="688" y="104"/>
                      </a:lnTo>
                      <a:lnTo>
                        <a:pt x="665" y="104"/>
                      </a:lnTo>
                      <a:lnTo>
                        <a:pt x="645" y="104"/>
                      </a:lnTo>
                      <a:lnTo>
                        <a:pt x="623" y="104"/>
                      </a:lnTo>
                      <a:lnTo>
                        <a:pt x="601" y="104"/>
                      </a:lnTo>
                      <a:lnTo>
                        <a:pt x="580" y="104"/>
                      </a:lnTo>
                      <a:lnTo>
                        <a:pt x="558" y="104"/>
                      </a:lnTo>
                      <a:lnTo>
                        <a:pt x="536" y="104"/>
                      </a:lnTo>
                      <a:lnTo>
                        <a:pt x="514" y="104"/>
                      </a:lnTo>
                      <a:lnTo>
                        <a:pt x="492" y="104"/>
                      </a:lnTo>
                      <a:lnTo>
                        <a:pt x="471" y="104"/>
                      </a:lnTo>
                      <a:lnTo>
                        <a:pt x="450" y="104"/>
                      </a:lnTo>
                      <a:lnTo>
                        <a:pt x="427" y="104"/>
                      </a:lnTo>
                      <a:lnTo>
                        <a:pt x="407" y="104"/>
                      </a:lnTo>
                      <a:lnTo>
                        <a:pt x="384" y="104"/>
                      </a:lnTo>
                      <a:lnTo>
                        <a:pt x="363" y="103"/>
                      </a:lnTo>
                      <a:lnTo>
                        <a:pt x="343" y="103"/>
                      </a:lnTo>
                      <a:lnTo>
                        <a:pt x="321" y="102"/>
                      </a:lnTo>
                      <a:lnTo>
                        <a:pt x="301" y="102"/>
                      </a:lnTo>
                      <a:lnTo>
                        <a:pt x="282" y="102"/>
                      </a:lnTo>
                      <a:lnTo>
                        <a:pt x="263" y="102"/>
                      </a:lnTo>
                      <a:lnTo>
                        <a:pt x="243" y="102"/>
                      </a:lnTo>
                      <a:lnTo>
                        <a:pt x="224" y="102"/>
                      </a:lnTo>
                      <a:lnTo>
                        <a:pt x="205" y="100"/>
                      </a:lnTo>
                      <a:lnTo>
                        <a:pt x="187" y="100"/>
                      </a:lnTo>
                      <a:lnTo>
                        <a:pt x="170" y="99"/>
                      </a:lnTo>
                      <a:lnTo>
                        <a:pt x="153" y="99"/>
                      </a:lnTo>
                      <a:lnTo>
                        <a:pt x="136" y="99"/>
                      </a:lnTo>
                      <a:lnTo>
                        <a:pt x="120" y="99"/>
                      </a:lnTo>
                      <a:lnTo>
                        <a:pt x="104" y="99"/>
                      </a:lnTo>
                      <a:lnTo>
                        <a:pt x="89" y="99"/>
                      </a:lnTo>
                      <a:lnTo>
                        <a:pt x="76" y="99"/>
                      </a:lnTo>
                      <a:lnTo>
                        <a:pt x="63" y="99"/>
                      </a:lnTo>
                      <a:lnTo>
                        <a:pt x="49" y="99"/>
                      </a:lnTo>
                      <a:lnTo>
                        <a:pt x="37" y="99"/>
                      </a:lnTo>
                      <a:lnTo>
                        <a:pt x="25" y="99"/>
                      </a:lnTo>
                      <a:lnTo>
                        <a:pt x="15" y="99"/>
                      </a:lnTo>
                      <a:lnTo>
                        <a:pt x="14" y="97"/>
                      </a:lnTo>
                      <a:lnTo>
                        <a:pt x="12" y="93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7" y="83"/>
                      </a:lnTo>
                      <a:lnTo>
                        <a:pt x="6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70"/>
                      </a:lnTo>
                      <a:lnTo>
                        <a:pt x="2" y="67"/>
                      </a:lnTo>
                      <a:lnTo>
                        <a:pt x="2" y="65"/>
                      </a:lnTo>
                      <a:lnTo>
                        <a:pt x="2" y="62"/>
                      </a:lnTo>
                      <a:lnTo>
                        <a:pt x="0" y="59"/>
                      </a:lnTo>
                      <a:lnTo>
                        <a:pt x="0" y="57"/>
                      </a:lnTo>
                      <a:lnTo>
                        <a:pt x="2" y="54"/>
                      </a:lnTo>
                      <a:lnTo>
                        <a:pt x="7" y="51"/>
                      </a:lnTo>
                      <a:lnTo>
                        <a:pt x="9" y="48"/>
                      </a:lnTo>
                      <a:lnTo>
                        <a:pt x="14" y="46"/>
                      </a:lnTo>
                      <a:lnTo>
                        <a:pt x="18" y="42"/>
                      </a:lnTo>
                      <a:lnTo>
                        <a:pt x="21" y="41"/>
                      </a:lnTo>
                      <a:lnTo>
                        <a:pt x="25" y="39"/>
                      </a:lnTo>
                      <a:lnTo>
                        <a:pt x="28" y="36"/>
                      </a:lnTo>
                      <a:lnTo>
                        <a:pt x="32" y="35"/>
                      </a:lnTo>
                      <a:lnTo>
                        <a:pt x="35" y="33"/>
                      </a:lnTo>
                      <a:lnTo>
                        <a:pt x="40" y="32"/>
                      </a:lnTo>
                      <a:lnTo>
                        <a:pt x="44" y="30"/>
                      </a:lnTo>
                      <a:lnTo>
                        <a:pt x="47" y="29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5" y="24"/>
                      </a:lnTo>
                      <a:lnTo>
                        <a:pt x="69" y="23"/>
                      </a:lnTo>
                      <a:lnTo>
                        <a:pt x="73" y="23"/>
                      </a:lnTo>
                      <a:lnTo>
                        <a:pt x="78" y="23"/>
                      </a:lnTo>
                      <a:lnTo>
                        <a:pt x="82" y="22"/>
                      </a:lnTo>
                      <a:lnTo>
                        <a:pt x="85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8" y="21"/>
                      </a:lnTo>
                      <a:lnTo>
                        <a:pt x="103" y="21"/>
                      </a:lnTo>
                      <a:lnTo>
                        <a:pt x="108" y="21"/>
                      </a:lnTo>
                      <a:lnTo>
                        <a:pt x="113" y="21"/>
                      </a:lnTo>
                      <a:lnTo>
                        <a:pt x="116" y="21"/>
                      </a:lnTo>
                      <a:lnTo>
                        <a:pt x="121" y="21"/>
                      </a:lnTo>
                      <a:lnTo>
                        <a:pt x="126" y="21"/>
                      </a:lnTo>
                      <a:lnTo>
                        <a:pt x="130" y="21"/>
                      </a:lnTo>
                      <a:lnTo>
                        <a:pt x="135" y="21"/>
                      </a:lnTo>
                      <a:lnTo>
                        <a:pt x="139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3" y="21"/>
                      </a:lnTo>
                      <a:lnTo>
                        <a:pt x="158" y="22"/>
                      </a:lnTo>
                      <a:lnTo>
                        <a:pt x="161" y="22"/>
                      </a:lnTo>
                      <a:lnTo>
                        <a:pt x="167" y="23"/>
                      </a:lnTo>
                      <a:lnTo>
                        <a:pt x="171" y="23"/>
                      </a:lnTo>
                      <a:lnTo>
                        <a:pt x="175" y="23"/>
                      </a:lnTo>
                      <a:lnTo>
                        <a:pt x="179" y="23"/>
                      </a:lnTo>
                      <a:lnTo>
                        <a:pt x="184" y="23"/>
                      </a:lnTo>
                      <a:lnTo>
                        <a:pt x="190" y="23"/>
                      </a:lnTo>
                      <a:lnTo>
                        <a:pt x="194" y="23"/>
                      </a:lnTo>
                      <a:lnTo>
                        <a:pt x="199" y="23"/>
                      </a:lnTo>
                      <a:lnTo>
                        <a:pt x="203" y="24"/>
                      </a:lnTo>
                      <a:lnTo>
                        <a:pt x="208" y="23"/>
                      </a:lnTo>
                      <a:lnTo>
                        <a:pt x="212" y="2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5" y="23"/>
                      </a:lnTo>
                      <a:lnTo>
                        <a:pt x="230" y="23"/>
                      </a:lnTo>
                      <a:lnTo>
                        <a:pt x="234" y="23"/>
                      </a:lnTo>
                      <a:lnTo>
                        <a:pt x="238" y="23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1" y="21"/>
                      </a:lnTo>
                      <a:lnTo>
                        <a:pt x="256" y="21"/>
                      </a:lnTo>
                      <a:lnTo>
                        <a:pt x="260" y="21"/>
                      </a:lnTo>
                      <a:lnTo>
                        <a:pt x="264" y="20"/>
                      </a:lnTo>
                      <a:lnTo>
                        <a:pt x="269" y="19"/>
                      </a:lnTo>
                      <a:lnTo>
                        <a:pt x="273" y="19"/>
                      </a:lnTo>
                      <a:lnTo>
                        <a:pt x="282" y="17"/>
                      </a:lnTo>
                      <a:lnTo>
                        <a:pt x="291" y="17"/>
                      </a:lnTo>
                      <a:lnTo>
                        <a:pt x="300" y="17"/>
                      </a:lnTo>
                      <a:lnTo>
                        <a:pt x="310" y="17"/>
                      </a:lnTo>
                      <a:lnTo>
                        <a:pt x="319" y="16"/>
                      </a:lnTo>
                      <a:lnTo>
                        <a:pt x="329" y="16"/>
                      </a:lnTo>
                      <a:lnTo>
                        <a:pt x="337" y="16"/>
                      </a:lnTo>
                      <a:lnTo>
                        <a:pt x="346" y="16"/>
                      </a:lnTo>
                      <a:lnTo>
                        <a:pt x="356" y="16"/>
                      </a:lnTo>
                      <a:lnTo>
                        <a:pt x="365" y="16"/>
                      </a:lnTo>
                      <a:lnTo>
                        <a:pt x="374" y="16"/>
                      </a:lnTo>
                      <a:lnTo>
                        <a:pt x="384" y="16"/>
                      </a:lnTo>
                      <a:lnTo>
                        <a:pt x="394" y="16"/>
                      </a:lnTo>
                      <a:lnTo>
                        <a:pt x="402" y="16"/>
                      </a:lnTo>
                      <a:lnTo>
                        <a:pt x="412" y="16"/>
                      </a:lnTo>
                      <a:lnTo>
                        <a:pt x="422" y="17"/>
                      </a:lnTo>
                      <a:lnTo>
                        <a:pt x="431" y="17"/>
                      </a:lnTo>
                      <a:lnTo>
                        <a:pt x="440" y="17"/>
                      </a:lnTo>
                      <a:lnTo>
                        <a:pt x="450" y="17"/>
                      </a:lnTo>
                      <a:lnTo>
                        <a:pt x="459" y="17"/>
                      </a:lnTo>
                      <a:lnTo>
                        <a:pt x="469" y="17"/>
                      </a:lnTo>
                      <a:lnTo>
                        <a:pt x="478" y="17"/>
                      </a:lnTo>
                      <a:lnTo>
                        <a:pt x="488" y="17"/>
                      </a:lnTo>
                      <a:lnTo>
                        <a:pt x="498" y="17"/>
                      </a:lnTo>
                      <a:lnTo>
                        <a:pt x="507" y="17"/>
                      </a:lnTo>
                      <a:lnTo>
                        <a:pt x="516" y="17"/>
                      </a:lnTo>
                      <a:lnTo>
                        <a:pt x="525" y="17"/>
                      </a:lnTo>
                      <a:lnTo>
                        <a:pt x="536" y="17"/>
                      </a:lnTo>
                      <a:lnTo>
                        <a:pt x="544" y="17"/>
                      </a:lnTo>
                      <a:lnTo>
                        <a:pt x="554" y="17"/>
                      </a:lnTo>
                      <a:lnTo>
                        <a:pt x="563" y="17"/>
                      </a:lnTo>
                      <a:lnTo>
                        <a:pt x="574" y="19"/>
                      </a:lnTo>
                      <a:lnTo>
                        <a:pt x="582" y="17"/>
                      </a:lnTo>
                      <a:lnTo>
                        <a:pt x="592" y="17"/>
                      </a:lnTo>
                      <a:lnTo>
                        <a:pt x="601" y="17"/>
                      </a:lnTo>
                      <a:lnTo>
                        <a:pt x="611" y="17"/>
                      </a:lnTo>
                      <a:lnTo>
                        <a:pt x="619" y="17"/>
                      </a:lnTo>
                      <a:lnTo>
                        <a:pt x="630" y="17"/>
                      </a:lnTo>
                      <a:lnTo>
                        <a:pt x="639" y="17"/>
                      </a:lnTo>
                      <a:lnTo>
                        <a:pt x="649" y="17"/>
                      </a:lnTo>
                      <a:lnTo>
                        <a:pt x="657" y="17"/>
                      </a:lnTo>
                      <a:lnTo>
                        <a:pt x="668" y="17"/>
                      </a:lnTo>
                      <a:lnTo>
                        <a:pt x="677" y="17"/>
                      </a:lnTo>
                      <a:lnTo>
                        <a:pt x="687" y="17"/>
                      </a:lnTo>
                      <a:lnTo>
                        <a:pt x="695" y="17"/>
                      </a:lnTo>
                      <a:lnTo>
                        <a:pt x="706" y="17"/>
                      </a:lnTo>
                      <a:lnTo>
                        <a:pt x="715" y="17"/>
                      </a:lnTo>
                      <a:lnTo>
                        <a:pt x="724" y="17"/>
                      </a:lnTo>
                      <a:lnTo>
                        <a:pt x="733" y="16"/>
                      </a:lnTo>
                      <a:lnTo>
                        <a:pt x="743" y="16"/>
                      </a:lnTo>
                      <a:lnTo>
                        <a:pt x="751" y="16"/>
                      </a:lnTo>
                      <a:lnTo>
                        <a:pt x="762" y="16"/>
                      </a:lnTo>
                      <a:lnTo>
                        <a:pt x="770" y="16"/>
                      </a:lnTo>
                      <a:lnTo>
                        <a:pt x="779" y="16"/>
                      </a:lnTo>
                      <a:lnTo>
                        <a:pt x="789" y="15"/>
                      </a:lnTo>
                      <a:lnTo>
                        <a:pt x="798" y="15"/>
                      </a:lnTo>
                      <a:lnTo>
                        <a:pt x="807" y="15"/>
                      </a:lnTo>
                      <a:lnTo>
                        <a:pt x="817" y="14"/>
                      </a:lnTo>
                      <a:lnTo>
                        <a:pt x="824" y="14"/>
                      </a:lnTo>
                      <a:lnTo>
                        <a:pt x="835" y="14"/>
                      </a:lnTo>
                      <a:lnTo>
                        <a:pt x="843" y="13"/>
                      </a:lnTo>
                      <a:lnTo>
                        <a:pt x="853" y="13"/>
                      </a:lnTo>
                      <a:lnTo>
                        <a:pt x="862" y="13"/>
                      </a:lnTo>
                      <a:lnTo>
                        <a:pt x="872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Freeform 43"/>
                <p:cNvSpPr/>
                <p:nvPr/>
              </p:nvSpPr>
              <p:spPr>
                <a:xfrm>
                  <a:off x="7289640" y="1905120"/>
                  <a:ext cx="499680" cy="61920"/>
                </a:xfrm>
                <a:custGeom>
                  <a:avLst/>
                  <a:gdLst>
                    <a:gd name="textAreaLeft" fmla="*/ 0 w 499680"/>
                    <a:gd name="textAreaRight" fmla="*/ 500040 w 499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43" h="116">
                      <a:moveTo>
                        <a:pt x="435" y="0"/>
                      </a:moveTo>
                      <a:lnTo>
                        <a:pt x="442" y="0"/>
                      </a:lnTo>
                      <a:lnTo>
                        <a:pt x="450" y="1"/>
                      </a:lnTo>
                      <a:lnTo>
                        <a:pt x="458" y="1"/>
                      </a:lnTo>
                      <a:lnTo>
                        <a:pt x="465" y="1"/>
                      </a:lnTo>
                      <a:lnTo>
                        <a:pt x="472" y="1"/>
                      </a:lnTo>
                      <a:lnTo>
                        <a:pt x="480" y="1"/>
                      </a:lnTo>
                      <a:lnTo>
                        <a:pt x="488" y="1"/>
                      </a:lnTo>
                      <a:lnTo>
                        <a:pt x="496" y="2"/>
                      </a:lnTo>
                      <a:lnTo>
                        <a:pt x="503" y="2"/>
                      </a:lnTo>
                      <a:lnTo>
                        <a:pt x="510" y="2"/>
                      </a:lnTo>
                      <a:lnTo>
                        <a:pt x="518" y="2"/>
                      </a:lnTo>
                      <a:lnTo>
                        <a:pt x="525" y="4"/>
                      </a:lnTo>
                      <a:lnTo>
                        <a:pt x="533" y="4"/>
                      </a:lnTo>
                      <a:lnTo>
                        <a:pt x="540" y="5"/>
                      </a:lnTo>
                      <a:lnTo>
                        <a:pt x="548" y="5"/>
                      </a:lnTo>
                      <a:lnTo>
                        <a:pt x="555" y="5"/>
                      </a:lnTo>
                      <a:lnTo>
                        <a:pt x="562" y="5"/>
                      </a:lnTo>
                      <a:lnTo>
                        <a:pt x="571" y="5"/>
                      </a:lnTo>
                      <a:lnTo>
                        <a:pt x="578" y="5"/>
                      </a:lnTo>
                      <a:lnTo>
                        <a:pt x="586" y="5"/>
                      </a:lnTo>
                      <a:lnTo>
                        <a:pt x="593" y="5"/>
                      </a:lnTo>
                      <a:lnTo>
                        <a:pt x="600" y="6"/>
                      </a:lnTo>
                      <a:lnTo>
                        <a:pt x="609" y="6"/>
                      </a:lnTo>
                      <a:lnTo>
                        <a:pt x="616" y="7"/>
                      </a:lnTo>
                      <a:lnTo>
                        <a:pt x="623" y="7"/>
                      </a:lnTo>
                      <a:lnTo>
                        <a:pt x="630" y="7"/>
                      </a:lnTo>
                      <a:lnTo>
                        <a:pt x="638" y="7"/>
                      </a:lnTo>
                      <a:lnTo>
                        <a:pt x="645" y="7"/>
                      </a:lnTo>
                      <a:lnTo>
                        <a:pt x="652" y="7"/>
                      </a:lnTo>
                      <a:lnTo>
                        <a:pt x="661" y="8"/>
                      </a:lnTo>
                      <a:lnTo>
                        <a:pt x="668" y="9"/>
                      </a:lnTo>
                      <a:lnTo>
                        <a:pt x="676" y="9"/>
                      </a:lnTo>
                      <a:lnTo>
                        <a:pt x="683" y="9"/>
                      </a:lnTo>
                      <a:lnTo>
                        <a:pt x="690" y="9"/>
                      </a:lnTo>
                      <a:lnTo>
                        <a:pt x="699" y="9"/>
                      </a:lnTo>
                      <a:lnTo>
                        <a:pt x="706" y="11"/>
                      </a:lnTo>
                      <a:lnTo>
                        <a:pt x="713" y="11"/>
                      </a:lnTo>
                      <a:lnTo>
                        <a:pt x="720" y="12"/>
                      </a:lnTo>
                      <a:lnTo>
                        <a:pt x="728" y="12"/>
                      </a:lnTo>
                      <a:lnTo>
                        <a:pt x="735" y="12"/>
                      </a:lnTo>
                      <a:lnTo>
                        <a:pt x="743" y="12"/>
                      </a:lnTo>
                      <a:lnTo>
                        <a:pt x="750" y="13"/>
                      </a:lnTo>
                      <a:lnTo>
                        <a:pt x="757" y="14"/>
                      </a:lnTo>
                      <a:lnTo>
                        <a:pt x="765" y="14"/>
                      </a:lnTo>
                      <a:lnTo>
                        <a:pt x="772" y="15"/>
                      </a:lnTo>
                      <a:lnTo>
                        <a:pt x="779" y="17"/>
                      </a:lnTo>
                      <a:lnTo>
                        <a:pt x="787" y="17"/>
                      </a:lnTo>
                      <a:lnTo>
                        <a:pt x="795" y="18"/>
                      </a:lnTo>
                      <a:lnTo>
                        <a:pt x="802" y="18"/>
                      </a:lnTo>
                      <a:lnTo>
                        <a:pt x="809" y="19"/>
                      </a:lnTo>
                      <a:lnTo>
                        <a:pt x="816" y="19"/>
                      </a:lnTo>
                      <a:lnTo>
                        <a:pt x="824" y="20"/>
                      </a:lnTo>
                      <a:lnTo>
                        <a:pt x="832" y="23"/>
                      </a:lnTo>
                      <a:lnTo>
                        <a:pt x="839" y="23"/>
                      </a:lnTo>
                      <a:lnTo>
                        <a:pt x="846" y="24"/>
                      </a:lnTo>
                      <a:lnTo>
                        <a:pt x="853" y="25"/>
                      </a:lnTo>
                      <a:lnTo>
                        <a:pt x="860" y="26"/>
                      </a:lnTo>
                      <a:lnTo>
                        <a:pt x="867" y="27"/>
                      </a:lnTo>
                      <a:lnTo>
                        <a:pt x="876" y="28"/>
                      </a:lnTo>
                      <a:lnTo>
                        <a:pt x="883" y="30"/>
                      </a:lnTo>
                      <a:lnTo>
                        <a:pt x="890" y="31"/>
                      </a:lnTo>
                      <a:lnTo>
                        <a:pt x="897" y="32"/>
                      </a:lnTo>
                      <a:lnTo>
                        <a:pt x="904" y="34"/>
                      </a:lnTo>
                      <a:lnTo>
                        <a:pt x="912" y="36"/>
                      </a:lnTo>
                      <a:lnTo>
                        <a:pt x="916" y="39"/>
                      </a:lnTo>
                      <a:lnTo>
                        <a:pt x="919" y="44"/>
                      </a:lnTo>
                      <a:lnTo>
                        <a:pt x="923" y="49"/>
                      </a:lnTo>
                      <a:lnTo>
                        <a:pt x="928" y="52"/>
                      </a:lnTo>
                      <a:lnTo>
                        <a:pt x="931" y="57"/>
                      </a:lnTo>
                      <a:lnTo>
                        <a:pt x="934" y="62"/>
                      </a:lnTo>
                      <a:lnTo>
                        <a:pt x="938" y="65"/>
                      </a:lnTo>
                      <a:lnTo>
                        <a:pt x="943" y="70"/>
                      </a:lnTo>
                      <a:lnTo>
                        <a:pt x="940" y="75"/>
                      </a:lnTo>
                      <a:lnTo>
                        <a:pt x="936" y="78"/>
                      </a:lnTo>
                      <a:lnTo>
                        <a:pt x="934" y="83"/>
                      </a:lnTo>
                      <a:lnTo>
                        <a:pt x="931" y="88"/>
                      </a:lnTo>
                      <a:lnTo>
                        <a:pt x="929" y="91"/>
                      </a:lnTo>
                      <a:lnTo>
                        <a:pt x="927" y="95"/>
                      </a:lnTo>
                      <a:lnTo>
                        <a:pt x="925" y="101"/>
                      </a:lnTo>
                      <a:lnTo>
                        <a:pt x="923" y="106"/>
                      </a:lnTo>
                      <a:lnTo>
                        <a:pt x="918" y="106"/>
                      </a:lnTo>
                      <a:lnTo>
                        <a:pt x="915" y="106"/>
                      </a:lnTo>
                      <a:lnTo>
                        <a:pt x="911" y="106"/>
                      </a:lnTo>
                      <a:lnTo>
                        <a:pt x="906" y="106"/>
                      </a:lnTo>
                      <a:lnTo>
                        <a:pt x="902" y="106"/>
                      </a:lnTo>
                      <a:lnTo>
                        <a:pt x="898" y="106"/>
                      </a:lnTo>
                      <a:lnTo>
                        <a:pt x="893" y="106"/>
                      </a:lnTo>
                      <a:lnTo>
                        <a:pt x="889" y="106"/>
                      </a:lnTo>
                      <a:lnTo>
                        <a:pt x="885" y="106"/>
                      </a:lnTo>
                      <a:lnTo>
                        <a:pt x="880" y="106"/>
                      </a:lnTo>
                      <a:lnTo>
                        <a:pt x="876" y="106"/>
                      </a:lnTo>
                      <a:lnTo>
                        <a:pt x="872" y="106"/>
                      </a:lnTo>
                      <a:lnTo>
                        <a:pt x="867" y="106"/>
                      </a:lnTo>
                      <a:lnTo>
                        <a:pt x="864" y="106"/>
                      </a:lnTo>
                      <a:lnTo>
                        <a:pt x="859" y="106"/>
                      </a:lnTo>
                      <a:lnTo>
                        <a:pt x="855" y="106"/>
                      </a:lnTo>
                      <a:lnTo>
                        <a:pt x="851" y="104"/>
                      </a:lnTo>
                      <a:lnTo>
                        <a:pt x="847" y="104"/>
                      </a:lnTo>
                      <a:lnTo>
                        <a:pt x="842" y="103"/>
                      </a:lnTo>
                      <a:lnTo>
                        <a:pt x="838" y="103"/>
                      </a:lnTo>
                      <a:lnTo>
                        <a:pt x="834" y="103"/>
                      </a:lnTo>
                      <a:lnTo>
                        <a:pt x="829" y="102"/>
                      </a:lnTo>
                      <a:lnTo>
                        <a:pt x="826" y="102"/>
                      </a:lnTo>
                      <a:lnTo>
                        <a:pt x="822" y="102"/>
                      </a:lnTo>
                      <a:lnTo>
                        <a:pt x="817" y="101"/>
                      </a:lnTo>
                      <a:lnTo>
                        <a:pt x="814" y="101"/>
                      </a:lnTo>
                      <a:lnTo>
                        <a:pt x="809" y="100"/>
                      </a:lnTo>
                      <a:lnTo>
                        <a:pt x="806" y="100"/>
                      </a:lnTo>
                      <a:lnTo>
                        <a:pt x="801" y="100"/>
                      </a:lnTo>
                      <a:lnTo>
                        <a:pt x="797" y="99"/>
                      </a:lnTo>
                      <a:lnTo>
                        <a:pt x="792" y="99"/>
                      </a:lnTo>
                      <a:lnTo>
                        <a:pt x="789" y="99"/>
                      </a:lnTo>
                      <a:lnTo>
                        <a:pt x="784" y="97"/>
                      </a:lnTo>
                      <a:lnTo>
                        <a:pt x="781" y="97"/>
                      </a:lnTo>
                      <a:lnTo>
                        <a:pt x="776" y="96"/>
                      </a:lnTo>
                      <a:lnTo>
                        <a:pt x="772" y="95"/>
                      </a:lnTo>
                      <a:lnTo>
                        <a:pt x="768" y="95"/>
                      </a:lnTo>
                      <a:lnTo>
                        <a:pt x="764" y="95"/>
                      </a:lnTo>
                      <a:lnTo>
                        <a:pt x="759" y="94"/>
                      </a:lnTo>
                      <a:lnTo>
                        <a:pt x="756" y="94"/>
                      </a:lnTo>
                      <a:lnTo>
                        <a:pt x="751" y="93"/>
                      </a:lnTo>
                      <a:lnTo>
                        <a:pt x="746" y="93"/>
                      </a:lnTo>
                      <a:lnTo>
                        <a:pt x="743" y="93"/>
                      </a:lnTo>
                      <a:lnTo>
                        <a:pt x="739" y="93"/>
                      </a:lnTo>
                      <a:lnTo>
                        <a:pt x="734" y="91"/>
                      </a:lnTo>
                      <a:lnTo>
                        <a:pt x="731" y="91"/>
                      </a:lnTo>
                      <a:lnTo>
                        <a:pt x="726" y="91"/>
                      </a:lnTo>
                      <a:lnTo>
                        <a:pt x="722" y="91"/>
                      </a:lnTo>
                      <a:lnTo>
                        <a:pt x="719" y="90"/>
                      </a:lnTo>
                      <a:lnTo>
                        <a:pt x="713" y="90"/>
                      </a:lnTo>
                      <a:lnTo>
                        <a:pt x="709" y="90"/>
                      </a:lnTo>
                      <a:lnTo>
                        <a:pt x="706" y="90"/>
                      </a:lnTo>
                      <a:lnTo>
                        <a:pt x="701" y="89"/>
                      </a:lnTo>
                      <a:lnTo>
                        <a:pt x="696" y="89"/>
                      </a:lnTo>
                      <a:lnTo>
                        <a:pt x="693" y="89"/>
                      </a:lnTo>
                      <a:lnTo>
                        <a:pt x="688" y="89"/>
                      </a:lnTo>
                      <a:lnTo>
                        <a:pt x="684" y="89"/>
                      </a:lnTo>
                      <a:lnTo>
                        <a:pt x="680" y="89"/>
                      </a:lnTo>
                      <a:lnTo>
                        <a:pt x="675" y="89"/>
                      </a:lnTo>
                      <a:lnTo>
                        <a:pt x="671" y="89"/>
                      </a:lnTo>
                      <a:lnTo>
                        <a:pt x="667" y="89"/>
                      </a:lnTo>
                      <a:lnTo>
                        <a:pt x="663" y="89"/>
                      </a:lnTo>
                      <a:lnTo>
                        <a:pt x="658" y="89"/>
                      </a:lnTo>
                      <a:lnTo>
                        <a:pt x="655" y="90"/>
                      </a:lnTo>
                      <a:lnTo>
                        <a:pt x="650" y="89"/>
                      </a:lnTo>
                      <a:lnTo>
                        <a:pt x="645" y="88"/>
                      </a:lnTo>
                      <a:lnTo>
                        <a:pt x="641" y="88"/>
                      </a:lnTo>
                      <a:lnTo>
                        <a:pt x="636" y="88"/>
                      </a:lnTo>
                      <a:lnTo>
                        <a:pt x="632" y="87"/>
                      </a:lnTo>
                      <a:lnTo>
                        <a:pt x="628" y="87"/>
                      </a:lnTo>
                      <a:lnTo>
                        <a:pt x="623" y="85"/>
                      </a:lnTo>
                      <a:lnTo>
                        <a:pt x="619" y="85"/>
                      </a:lnTo>
                      <a:lnTo>
                        <a:pt x="614" y="85"/>
                      </a:lnTo>
                      <a:lnTo>
                        <a:pt x="610" y="84"/>
                      </a:lnTo>
                      <a:lnTo>
                        <a:pt x="605" y="84"/>
                      </a:lnTo>
                      <a:lnTo>
                        <a:pt x="600" y="84"/>
                      </a:lnTo>
                      <a:lnTo>
                        <a:pt x="595" y="83"/>
                      </a:lnTo>
                      <a:lnTo>
                        <a:pt x="592" y="83"/>
                      </a:lnTo>
                      <a:lnTo>
                        <a:pt x="587" y="83"/>
                      </a:lnTo>
                      <a:lnTo>
                        <a:pt x="582" y="83"/>
                      </a:lnTo>
                      <a:lnTo>
                        <a:pt x="578" y="82"/>
                      </a:lnTo>
                      <a:lnTo>
                        <a:pt x="573" y="82"/>
                      </a:lnTo>
                      <a:lnTo>
                        <a:pt x="568" y="81"/>
                      </a:lnTo>
                      <a:lnTo>
                        <a:pt x="563" y="81"/>
                      </a:lnTo>
                      <a:lnTo>
                        <a:pt x="559" y="81"/>
                      </a:lnTo>
                      <a:lnTo>
                        <a:pt x="554" y="81"/>
                      </a:lnTo>
                      <a:lnTo>
                        <a:pt x="549" y="81"/>
                      </a:lnTo>
                      <a:lnTo>
                        <a:pt x="544" y="81"/>
                      </a:lnTo>
                      <a:lnTo>
                        <a:pt x="540" y="81"/>
                      </a:lnTo>
                      <a:lnTo>
                        <a:pt x="536" y="81"/>
                      </a:lnTo>
                      <a:lnTo>
                        <a:pt x="531" y="81"/>
                      </a:lnTo>
                      <a:lnTo>
                        <a:pt x="525" y="81"/>
                      </a:lnTo>
                      <a:lnTo>
                        <a:pt x="521" y="81"/>
                      </a:lnTo>
                      <a:lnTo>
                        <a:pt x="516" y="81"/>
                      </a:lnTo>
                      <a:lnTo>
                        <a:pt x="512" y="81"/>
                      </a:lnTo>
                      <a:lnTo>
                        <a:pt x="508" y="82"/>
                      </a:lnTo>
                      <a:lnTo>
                        <a:pt x="501" y="81"/>
                      </a:lnTo>
                      <a:lnTo>
                        <a:pt x="493" y="81"/>
                      </a:lnTo>
                      <a:lnTo>
                        <a:pt x="485" y="81"/>
                      </a:lnTo>
                      <a:lnTo>
                        <a:pt x="479" y="81"/>
                      </a:lnTo>
                      <a:lnTo>
                        <a:pt x="472" y="80"/>
                      </a:lnTo>
                      <a:lnTo>
                        <a:pt x="465" y="80"/>
                      </a:lnTo>
                      <a:lnTo>
                        <a:pt x="458" y="80"/>
                      </a:lnTo>
                      <a:lnTo>
                        <a:pt x="451" y="80"/>
                      </a:lnTo>
                      <a:lnTo>
                        <a:pt x="444" y="78"/>
                      </a:lnTo>
                      <a:lnTo>
                        <a:pt x="438" y="78"/>
                      </a:lnTo>
                      <a:lnTo>
                        <a:pt x="429" y="78"/>
                      </a:lnTo>
                      <a:lnTo>
                        <a:pt x="422" y="78"/>
                      </a:lnTo>
                      <a:lnTo>
                        <a:pt x="415" y="78"/>
                      </a:lnTo>
                      <a:lnTo>
                        <a:pt x="409" y="78"/>
                      </a:lnTo>
                      <a:lnTo>
                        <a:pt x="402" y="78"/>
                      </a:lnTo>
                      <a:lnTo>
                        <a:pt x="395" y="78"/>
                      </a:lnTo>
                      <a:lnTo>
                        <a:pt x="387" y="78"/>
                      </a:lnTo>
                      <a:lnTo>
                        <a:pt x="381" y="78"/>
                      </a:lnTo>
                      <a:lnTo>
                        <a:pt x="374" y="78"/>
                      </a:lnTo>
                      <a:lnTo>
                        <a:pt x="366" y="78"/>
                      </a:lnTo>
                      <a:lnTo>
                        <a:pt x="359" y="78"/>
                      </a:lnTo>
                      <a:lnTo>
                        <a:pt x="352" y="78"/>
                      </a:lnTo>
                      <a:lnTo>
                        <a:pt x="345" y="80"/>
                      </a:lnTo>
                      <a:lnTo>
                        <a:pt x="339" y="80"/>
                      </a:lnTo>
                      <a:lnTo>
                        <a:pt x="331" y="80"/>
                      </a:lnTo>
                      <a:lnTo>
                        <a:pt x="325" y="80"/>
                      </a:lnTo>
                      <a:lnTo>
                        <a:pt x="318" y="81"/>
                      </a:lnTo>
                      <a:lnTo>
                        <a:pt x="311" y="81"/>
                      </a:lnTo>
                      <a:lnTo>
                        <a:pt x="304" y="81"/>
                      </a:lnTo>
                      <a:lnTo>
                        <a:pt x="298" y="82"/>
                      </a:lnTo>
                      <a:lnTo>
                        <a:pt x="291" y="82"/>
                      </a:lnTo>
                      <a:lnTo>
                        <a:pt x="283" y="83"/>
                      </a:lnTo>
                      <a:lnTo>
                        <a:pt x="276" y="83"/>
                      </a:lnTo>
                      <a:lnTo>
                        <a:pt x="269" y="83"/>
                      </a:lnTo>
                      <a:lnTo>
                        <a:pt x="263" y="84"/>
                      </a:lnTo>
                      <a:lnTo>
                        <a:pt x="256" y="84"/>
                      </a:lnTo>
                      <a:lnTo>
                        <a:pt x="249" y="85"/>
                      </a:lnTo>
                      <a:lnTo>
                        <a:pt x="242" y="85"/>
                      </a:lnTo>
                      <a:lnTo>
                        <a:pt x="235" y="87"/>
                      </a:lnTo>
                      <a:lnTo>
                        <a:pt x="229" y="88"/>
                      </a:lnTo>
                      <a:lnTo>
                        <a:pt x="222" y="88"/>
                      </a:lnTo>
                      <a:lnTo>
                        <a:pt x="215" y="89"/>
                      </a:lnTo>
                      <a:lnTo>
                        <a:pt x="208" y="90"/>
                      </a:lnTo>
                      <a:lnTo>
                        <a:pt x="202" y="90"/>
                      </a:lnTo>
                      <a:lnTo>
                        <a:pt x="194" y="91"/>
                      </a:lnTo>
                      <a:lnTo>
                        <a:pt x="187" y="93"/>
                      </a:lnTo>
                      <a:lnTo>
                        <a:pt x="181" y="94"/>
                      </a:lnTo>
                      <a:lnTo>
                        <a:pt x="174" y="95"/>
                      </a:lnTo>
                      <a:lnTo>
                        <a:pt x="167" y="95"/>
                      </a:lnTo>
                      <a:lnTo>
                        <a:pt x="161" y="96"/>
                      </a:lnTo>
                      <a:lnTo>
                        <a:pt x="154" y="97"/>
                      </a:lnTo>
                      <a:lnTo>
                        <a:pt x="147" y="99"/>
                      </a:lnTo>
                      <a:lnTo>
                        <a:pt x="141" y="100"/>
                      </a:lnTo>
                      <a:lnTo>
                        <a:pt x="134" y="101"/>
                      </a:lnTo>
                      <a:lnTo>
                        <a:pt x="127" y="103"/>
                      </a:lnTo>
                      <a:lnTo>
                        <a:pt x="121" y="104"/>
                      </a:lnTo>
                      <a:lnTo>
                        <a:pt x="114" y="106"/>
                      </a:lnTo>
                      <a:lnTo>
                        <a:pt x="108" y="107"/>
                      </a:lnTo>
                      <a:lnTo>
                        <a:pt x="101" y="108"/>
                      </a:lnTo>
                      <a:lnTo>
                        <a:pt x="95" y="110"/>
                      </a:lnTo>
                      <a:lnTo>
                        <a:pt x="88" y="112"/>
                      </a:lnTo>
                      <a:lnTo>
                        <a:pt x="82" y="113"/>
                      </a:lnTo>
                      <a:lnTo>
                        <a:pt x="76" y="115"/>
                      </a:lnTo>
                      <a:lnTo>
                        <a:pt x="69" y="116"/>
                      </a:lnTo>
                      <a:lnTo>
                        <a:pt x="65" y="115"/>
                      </a:lnTo>
                      <a:lnTo>
                        <a:pt x="62" y="115"/>
                      </a:lnTo>
                      <a:lnTo>
                        <a:pt x="58" y="114"/>
                      </a:lnTo>
                      <a:lnTo>
                        <a:pt x="56" y="114"/>
                      </a:lnTo>
                      <a:lnTo>
                        <a:pt x="52" y="113"/>
                      </a:lnTo>
                      <a:lnTo>
                        <a:pt x="49" y="113"/>
                      </a:lnTo>
                      <a:lnTo>
                        <a:pt x="45" y="113"/>
                      </a:lnTo>
                      <a:lnTo>
                        <a:pt x="43" y="113"/>
                      </a:lnTo>
                      <a:lnTo>
                        <a:pt x="39" y="113"/>
                      </a:lnTo>
                      <a:lnTo>
                        <a:pt x="37" y="113"/>
                      </a:lnTo>
                      <a:lnTo>
                        <a:pt x="33" y="113"/>
                      </a:lnTo>
                      <a:lnTo>
                        <a:pt x="31" y="113"/>
                      </a:lnTo>
                      <a:lnTo>
                        <a:pt x="27" y="113"/>
                      </a:lnTo>
                      <a:lnTo>
                        <a:pt x="25" y="113"/>
                      </a:lnTo>
                      <a:lnTo>
                        <a:pt x="22" y="113"/>
                      </a:lnTo>
                      <a:lnTo>
                        <a:pt x="19" y="113"/>
                      </a:lnTo>
                      <a:lnTo>
                        <a:pt x="18" y="109"/>
                      </a:lnTo>
                      <a:lnTo>
                        <a:pt x="16" y="107"/>
                      </a:lnTo>
                      <a:lnTo>
                        <a:pt x="15" y="103"/>
                      </a:lnTo>
                      <a:lnTo>
                        <a:pt x="14" y="101"/>
                      </a:lnTo>
                      <a:lnTo>
                        <a:pt x="12" y="95"/>
                      </a:lnTo>
                      <a:lnTo>
                        <a:pt x="9" y="91"/>
                      </a:lnTo>
                      <a:lnTo>
                        <a:pt x="7" y="87"/>
                      </a:lnTo>
                      <a:lnTo>
                        <a:pt x="5" y="83"/>
                      </a:lnTo>
                      <a:lnTo>
                        <a:pt x="2" y="78"/>
                      </a:lnTo>
                      <a:lnTo>
                        <a:pt x="0" y="75"/>
                      </a:lnTo>
                      <a:lnTo>
                        <a:pt x="2" y="70"/>
                      </a:lnTo>
                      <a:lnTo>
                        <a:pt x="6" y="68"/>
                      </a:lnTo>
                      <a:lnTo>
                        <a:pt x="8" y="64"/>
                      </a:lnTo>
                      <a:lnTo>
                        <a:pt x="12" y="61"/>
                      </a:lnTo>
                      <a:lnTo>
                        <a:pt x="14" y="58"/>
                      </a:lnTo>
                      <a:lnTo>
                        <a:pt x="18" y="55"/>
                      </a:lnTo>
                      <a:lnTo>
                        <a:pt x="21" y="52"/>
                      </a:lnTo>
                      <a:lnTo>
                        <a:pt x="25" y="51"/>
                      </a:lnTo>
                      <a:lnTo>
                        <a:pt x="27" y="49"/>
                      </a:lnTo>
                      <a:lnTo>
                        <a:pt x="31" y="46"/>
                      </a:lnTo>
                      <a:lnTo>
                        <a:pt x="34" y="44"/>
                      </a:lnTo>
                      <a:lnTo>
                        <a:pt x="38" y="43"/>
                      </a:lnTo>
                      <a:lnTo>
                        <a:pt x="41" y="40"/>
                      </a:lnTo>
                      <a:lnTo>
                        <a:pt x="45" y="39"/>
                      </a:lnTo>
                      <a:lnTo>
                        <a:pt x="49" y="38"/>
                      </a:lnTo>
                      <a:lnTo>
                        <a:pt x="53" y="37"/>
                      </a:lnTo>
                      <a:lnTo>
                        <a:pt x="56" y="34"/>
                      </a:lnTo>
                      <a:lnTo>
                        <a:pt x="60" y="33"/>
                      </a:lnTo>
                      <a:lnTo>
                        <a:pt x="64" y="32"/>
                      </a:lnTo>
                      <a:lnTo>
                        <a:pt x="67" y="31"/>
                      </a:lnTo>
                      <a:lnTo>
                        <a:pt x="71" y="30"/>
                      </a:lnTo>
                      <a:lnTo>
                        <a:pt x="76" y="30"/>
                      </a:lnTo>
                      <a:lnTo>
                        <a:pt x="79" y="28"/>
                      </a:lnTo>
                      <a:lnTo>
                        <a:pt x="83" y="27"/>
                      </a:lnTo>
                      <a:lnTo>
                        <a:pt x="88" y="27"/>
                      </a:lnTo>
                      <a:lnTo>
                        <a:pt x="91" y="26"/>
                      </a:lnTo>
                      <a:lnTo>
                        <a:pt x="95" y="25"/>
                      </a:lnTo>
                      <a:lnTo>
                        <a:pt x="98" y="25"/>
                      </a:lnTo>
                      <a:lnTo>
                        <a:pt x="103" y="25"/>
                      </a:lnTo>
                      <a:lnTo>
                        <a:pt x="107" y="25"/>
                      </a:lnTo>
                      <a:lnTo>
                        <a:pt x="111" y="24"/>
                      </a:lnTo>
                      <a:lnTo>
                        <a:pt x="116" y="24"/>
                      </a:lnTo>
                      <a:lnTo>
                        <a:pt x="120" y="23"/>
                      </a:lnTo>
                      <a:lnTo>
                        <a:pt x="123" y="23"/>
                      </a:lnTo>
                      <a:lnTo>
                        <a:pt x="127" y="23"/>
                      </a:lnTo>
                      <a:lnTo>
                        <a:pt x="132" y="23"/>
                      </a:lnTo>
                      <a:lnTo>
                        <a:pt x="135" y="23"/>
                      </a:lnTo>
                      <a:lnTo>
                        <a:pt x="140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2" y="20"/>
                      </a:lnTo>
                      <a:lnTo>
                        <a:pt x="156" y="20"/>
                      </a:lnTo>
                      <a:lnTo>
                        <a:pt x="161" y="20"/>
                      </a:lnTo>
                      <a:lnTo>
                        <a:pt x="165" y="20"/>
                      </a:lnTo>
                      <a:lnTo>
                        <a:pt x="170" y="19"/>
                      </a:lnTo>
                      <a:lnTo>
                        <a:pt x="173" y="19"/>
                      </a:lnTo>
                      <a:lnTo>
                        <a:pt x="177" y="19"/>
                      </a:lnTo>
                      <a:lnTo>
                        <a:pt x="181" y="19"/>
                      </a:lnTo>
                      <a:lnTo>
                        <a:pt x="186" y="19"/>
                      </a:lnTo>
                      <a:lnTo>
                        <a:pt x="190" y="19"/>
                      </a:lnTo>
                      <a:lnTo>
                        <a:pt x="194" y="18"/>
                      </a:lnTo>
                      <a:lnTo>
                        <a:pt x="198" y="18"/>
                      </a:lnTo>
                      <a:lnTo>
                        <a:pt x="202" y="17"/>
                      </a:lnTo>
                      <a:lnTo>
                        <a:pt x="206" y="17"/>
                      </a:lnTo>
                      <a:lnTo>
                        <a:pt x="210" y="15"/>
                      </a:lnTo>
                      <a:lnTo>
                        <a:pt x="215" y="15"/>
                      </a:lnTo>
                      <a:lnTo>
                        <a:pt x="218" y="14"/>
                      </a:lnTo>
                      <a:lnTo>
                        <a:pt x="222" y="14"/>
                      </a:lnTo>
                      <a:lnTo>
                        <a:pt x="225" y="13"/>
                      </a:lnTo>
                      <a:lnTo>
                        <a:pt x="230" y="12"/>
                      </a:lnTo>
                      <a:lnTo>
                        <a:pt x="234" y="12"/>
                      </a:lnTo>
                      <a:lnTo>
                        <a:pt x="237" y="11"/>
                      </a:lnTo>
                      <a:lnTo>
                        <a:pt x="242" y="9"/>
                      </a:lnTo>
                      <a:lnTo>
                        <a:pt x="245" y="9"/>
                      </a:lnTo>
                      <a:lnTo>
                        <a:pt x="249" y="7"/>
                      </a:lnTo>
                      <a:lnTo>
                        <a:pt x="251" y="7"/>
                      </a:lnTo>
                      <a:lnTo>
                        <a:pt x="255" y="7"/>
                      </a:lnTo>
                      <a:lnTo>
                        <a:pt x="257" y="7"/>
                      </a:lnTo>
                      <a:lnTo>
                        <a:pt x="260" y="7"/>
                      </a:lnTo>
                      <a:lnTo>
                        <a:pt x="263" y="6"/>
                      </a:lnTo>
                      <a:lnTo>
                        <a:pt x="266" y="6"/>
                      </a:lnTo>
                      <a:lnTo>
                        <a:pt x="269" y="6"/>
                      </a:lnTo>
                      <a:lnTo>
                        <a:pt x="272" y="5"/>
                      </a:lnTo>
                      <a:lnTo>
                        <a:pt x="275" y="5"/>
                      </a:lnTo>
                      <a:lnTo>
                        <a:pt x="278" y="5"/>
                      </a:lnTo>
                      <a:lnTo>
                        <a:pt x="281" y="5"/>
                      </a:lnTo>
                      <a:lnTo>
                        <a:pt x="283" y="5"/>
                      </a:lnTo>
                      <a:lnTo>
                        <a:pt x="287" y="5"/>
                      </a:lnTo>
                      <a:lnTo>
                        <a:pt x="289" y="5"/>
                      </a:lnTo>
                      <a:lnTo>
                        <a:pt x="293" y="5"/>
                      </a:lnTo>
                      <a:lnTo>
                        <a:pt x="295" y="5"/>
                      </a:lnTo>
                      <a:lnTo>
                        <a:pt x="298" y="5"/>
                      </a:lnTo>
                      <a:lnTo>
                        <a:pt x="301" y="5"/>
                      </a:lnTo>
                      <a:lnTo>
                        <a:pt x="304" y="5"/>
                      </a:lnTo>
                      <a:lnTo>
                        <a:pt x="307" y="5"/>
                      </a:lnTo>
                      <a:lnTo>
                        <a:pt x="311" y="5"/>
                      </a:lnTo>
                      <a:lnTo>
                        <a:pt x="313" y="5"/>
                      </a:lnTo>
                      <a:lnTo>
                        <a:pt x="315" y="5"/>
                      </a:lnTo>
                      <a:lnTo>
                        <a:pt x="319" y="5"/>
                      </a:lnTo>
                      <a:lnTo>
                        <a:pt x="321" y="5"/>
                      </a:lnTo>
                      <a:lnTo>
                        <a:pt x="325" y="5"/>
                      </a:lnTo>
                      <a:lnTo>
                        <a:pt x="329" y="5"/>
                      </a:lnTo>
                      <a:lnTo>
                        <a:pt x="331" y="5"/>
                      </a:lnTo>
                      <a:lnTo>
                        <a:pt x="333" y="5"/>
                      </a:lnTo>
                      <a:lnTo>
                        <a:pt x="337" y="5"/>
                      </a:lnTo>
                      <a:lnTo>
                        <a:pt x="340" y="6"/>
                      </a:lnTo>
                      <a:lnTo>
                        <a:pt x="343" y="5"/>
                      </a:lnTo>
                      <a:lnTo>
                        <a:pt x="346" y="5"/>
                      </a:lnTo>
                      <a:lnTo>
                        <a:pt x="349" y="5"/>
                      </a:lnTo>
                      <a:lnTo>
                        <a:pt x="351" y="5"/>
                      </a:lnTo>
                      <a:lnTo>
                        <a:pt x="355" y="5"/>
                      </a:lnTo>
                      <a:lnTo>
                        <a:pt x="357" y="5"/>
                      </a:lnTo>
                      <a:lnTo>
                        <a:pt x="361" y="5"/>
                      </a:lnTo>
                      <a:lnTo>
                        <a:pt x="364" y="5"/>
                      </a:lnTo>
                      <a:lnTo>
                        <a:pt x="366" y="5"/>
                      </a:lnTo>
                      <a:lnTo>
                        <a:pt x="369" y="5"/>
                      </a:lnTo>
                      <a:lnTo>
                        <a:pt x="371" y="5"/>
                      </a:lnTo>
                      <a:lnTo>
                        <a:pt x="376" y="5"/>
                      </a:lnTo>
                      <a:lnTo>
                        <a:pt x="378" y="5"/>
                      </a:lnTo>
                      <a:lnTo>
                        <a:pt x="382" y="5"/>
                      </a:lnTo>
                      <a:lnTo>
                        <a:pt x="384" y="5"/>
                      </a:lnTo>
                      <a:lnTo>
                        <a:pt x="387" y="5"/>
                      </a:lnTo>
                      <a:lnTo>
                        <a:pt x="390" y="5"/>
                      </a:lnTo>
                      <a:lnTo>
                        <a:pt x="394" y="5"/>
                      </a:lnTo>
                      <a:lnTo>
                        <a:pt x="396" y="5"/>
                      </a:lnTo>
                      <a:lnTo>
                        <a:pt x="400" y="5"/>
                      </a:lnTo>
                      <a:lnTo>
                        <a:pt x="402" y="5"/>
                      </a:lnTo>
                      <a:lnTo>
                        <a:pt x="404" y="5"/>
                      </a:lnTo>
                      <a:lnTo>
                        <a:pt x="407" y="4"/>
                      </a:lnTo>
                      <a:lnTo>
                        <a:pt x="410" y="4"/>
                      </a:lnTo>
                      <a:lnTo>
                        <a:pt x="414" y="2"/>
                      </a:lnTo>
                      <a:lnTo>
                        <a:pt x="418" y="2"/>
                      </a:lnTo>
                      <a:lnTo>
                        <a:pt x="420" y="1"/>
                      </a:lnTo>
                      <a:lnTo>
                        <a:pt x="422" y="1"/>
                      </a:lnTo>
                      <a:lnTo>
                        <a:pt x="426" y="1"/>
                      </a:lnTo>
                      <a:lnTo>
                        <a:pt x="428" y="1"/>
                      </a:lnTo>
                      <a:lnTo>
                        <a:pt x="432" y="0"/>
                      </a:lnTo>
                      <a:lnTo>
                        <a:pt x="435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Freeform 44"/>
                <p:cNvSpPr/>
                <p:nvPr/>
              </p:nvSpPr>
              <p:spPr>
                <a:xfrm>
                  <a:off x="7354800" y="2009880"/>
                  <a:ext cx="56880" cy="263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07" h="499">
                      <a:moveTo>
                        <a:pt x="54" y="0"/>
                      </a:moveTo>
                      <a:lnTo>
                        <a:pt x="57" y="2"/>
                      </a:lnTo>
                      <a:lnTo>
                        <a:pt x="61" y="4"/>
                      </a:lnTo>
                      <a:lnTo>
                        <a:pt x="64" y="5"/>
                      </a:lnTo>
                      <a:lnTo>
                        <a:pt x="69" y="7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6" y="12"/>
                      </a:lnTo>
                      <a:lnTo>
                        <a:pt x="80" y="15"/>
                      </a:lnTo>
                      <a:lnTo>
                        <a:pt x="85" y="19"/>
                      </a:lnTo>
                      <a:lnTo>
                        <a:pt x="88" y="24"/>
                      </a:lnTo>
                      <a:lnTo>
                        <a:pt x="89" y="26"/>
                      </a:lnTo>
                      <a:lnTo>
                        <a:pt x="92" y="30"/>
                      </a:lnTo>
                      <a:lnTo>
                        <a:pt x="92" y="32"/>
                      </a:lnTo>
                      <a:lnTo>
                        <a:pt x="94" y="36"/>
                      </a:lnTo>
                      <a:lnTo>
                        <a:pt x="94" y="38"/>
                      </a:lnTo>
                      <a:lnTo>
                        <a:pt x="95" y="40"/>
                      </a:lnTo>
                      <a:lnTo>
                        <a:pt x="95" y="44"/>
                      </a:lnTo>
                      <a:lnTo>
                        <a:pt x="96" y="46"/>
                      </a:lnTo>
                      <a:lnTo>
                        <a:pt x="96" y="50"/>
                      </a:lnTo>
                      <a:lnTo>
                        <a:pt x="96" y="53"/>
                      </a:lnTo>
                      <a:lnTo>
                        <a:pt x="96" y="56"/>
                      </a:lnTo>
                      <a:lnTo>
                        <a:pt x="98" y="59"/>
                      </a:lnTo>
                      <a:lnTo>
                        <a:pt x="96" y="63"/>
                      </a:lnTo>
                      <a:lnTo>
                        <a:pt x="96" y="65"/>
                      </a:lnTo>
                      <a:lnTo>
                        <a:pt x="96" y="69"/>
                      </a:lnTo>
                      <a:lnTo>
                        <a:pt x="96" y="74"/>
                      </a:lnTo>
                      <a:lnTo>
                        <a:pt x="95" y="76"/>
                      </a:lnTo>
                      <a:lnTo>
                        <a:pt x="95" y="81"/>
                      </a:lnTo>
                      <a:lnTo>
                        <a:pt x="94" y="83"/>
                      </a:lnTo>
                      <a:lnTo>
                        <a:pt x="94" y="88"/>
                      </a:lnTo>
                      <a:lnTo>
                        <a:pt x="93" y="90"/>
                      </a:lnTo>
                      <a:lnTo>
                        <a:pt x="92" y="94"/>
                      </a:lnTo>
                      <a:lnTo>
                        <a:pt x="92" y="97"/>
                      </a:lnTo>
                      <a:lnTo>
                        <a:pt x="90" y="101"/>
                      </a:lnTo>
                      <a:lnTo>
                        <a:pt x="89" y="105"/>
                      </a:lnTo>
                      <a:lnTo>
                        <a:pt x="89" y="108"/>
                      </a:lnTo>
                      <a:lnTo>
                        <a:pt x="87" y="112"/>
                      </a:lnTo>
                      <a:lnTo>
                        <a:pt x="87" y="116"/>
                      </a:lnTo>
                      <a:lnTo>
                        <a:pt x="86" y="119"/>
                      </a:lnTo>
                      <a:lnTo>
                        <a:pt x="85" y="122"/>
                      </a:lnTo>
                      <a:lnTo>
                        <a:pt x="85" y="126"/>
                      </a:lnTo>
                      <a:lnTo>
                        <a:pt x="83" y="129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0"/>
                      </a:lnTo>
                      <a:lnTo>
                        <a:pt x="80" y="144"/>
                      </a:lnTo>
                      <a:lnTo>
                        <a:pt x="79" y="147"/>
                      </a:lnTo>
                      <a:lnTo>
                        <a:pt x="77" y="151"/>
                      </a:lnTo>
                      <a:lnTo>
                        <a:pt x="76" y="154"/>
                      </a:lnTo>
                      <a:lnTo>
                        <a:pt x="76" y="158"/>
                      </a:lnTo>
                      <a:lnTo>
                        <a:pt x="76" y="162"/>
                      </a:lnTo>
                      <a:lnTo>
                        <a:pt x="76" y="165"/>
                      </a:lnTo>
                      <a:lnTo>
                        <a:pt x="75" y="169"/>
                      </a:lnTo>
                      <a:lnTo>
                        <a:pt x="75" y="172"/>
                      </a:lnTo>
                      <a:lnTo>
                        <a:pt x="74" y="175"/>
                      </a:lnTo>
                      <a:lnTo>
                        <a:pt x="74" y="178"/>
                      </a:lnTo>
                      <a:lnTo>
                        <a:pt x="74" y="182"/>
                      </a:lnTo>
                      <a:lnTo>
                        <a:pt x="75" y="184"/>
                      </a:lnTo>
                      <a:lnTo>
                        <a:pt x="75" y="188"/>
                      </a:lnTo>
                      <a:lnTo>
                        <a:pt x="76" y="191"/>
                      </a:lnTo>
                      <a:lnTo>
                        <a:pt x="76" y="195"/>
                      </a:lnTo>
                      <a:lnTo>
                        <a:pt x="77" y="197"/>
                      </a:lnTo>
                      <a:lnTo>
                        <a:pt x="76" y="202"/>
                      </a:lnTo>
                      <a:lnTo>
                        <a:pt x="76" y="207"/>
                      </a:lnTo>
                      <a:lnTo>
                        <a:pt x="76" y="210"/>
                      </a:lnTo>
                      <a:lnTo>
                        <a:pt x="76" y="215"/>
                      </a:lnTo>
                      <a:lnTo>
                        <a:pt x="75" y="220"/>
                      </a:lnTo>
                      <a:lnTo>
                        <a:pt x="74" y="224"/>
                      </a:lnTo>
                      <a:lnTo>
                        <a:pt x="74" y="228"/>
                      </a:lnTo>
                      <a:lnTo>
                        <a:pt x="74" y="233"/>
                      </a:lnTo>
                      <a:lnTo>
                        <a:pt x="74" y="237"/>
                      </a:lnTo>
                      <a:lnTo>
                        <a:pt x="74" y="241"/>
                      </a:lnTo>
                      <a:lnTo>
                        <a:pt x="74" y="246"/>
                      </a:lnTo>
                      <a:lnTo>
                        <a:pt x="74" y="251"/>
                      </a:lnTo>
                      <a:lnTo>
                        <a:pt x="74" y="255"/>
                      </a:lnTo>
                      <a:lnTo>
                        <a:pt x="74" y="259"/>
                      </a:lnTo>
                      <a:lnTo>
                        <a:pt x="74" y="264"/>
                      </a:lnTo>
                      <a:lnTo>
                        <a:pt x="74" y="268"/>
                      </a:lnTo>
                      <a:lnTo>
                        <a:pt x="74" y="272"/>
                      </a:lnTo>
                      <a:lnTo>
                        <a:pt x="74" y="277"/>
                      </a:lnTo>
                      <a:lnTo>
                        <a:pt x="74" y="281"/>
                      </a:lnTo>
                      <a:lnTo>
                        <a:pt x="74" y="285"/>
                      </a:lnTo>
                      <a:lnTo>
                        <a:pt x="74" y="290"/>
                      </a:lnTo>
                      <a:lnTo>
                        <a:pt x="75" y="293"/>
                      </a:lnTo>
                      <a:lnTo>
                        <a:pt x="76" y="298"/>
                      </a:lnTo>
                      <a:lnTo>
                        <a:pt x="76" y="303"/>
                      </a:lnTo>
                      <a:lnTo>
                        <a:pt x="76" y="306"/>
                      </a:lnTo>
                      <a:lnTo>
                        <a:pt x="76" y="311"/>
                      </a:lnTo>
                      <a:lnTo>
                        <a:pt x="76" y="316"/>
                      </a:lnTo>
                      <a:lnTo>
                        <a:pt x="76" y="319"/>
                      </a:lnTo>
                      <a:lnTo>
                        <a:pt x="77" y="324"/>
                      </a:lnTo>
                      <a:lnTo>
                        <a:pt x="77" y="329"/>
                      </a:lnTo>
                      <a:lnTo>
                        <a:pt x="79" y="332"/>
                      </a:lnTo>
                      <a:lnTo>
                        <a:pt x="79" y="336"/>
                      </a:lnTo>
                      <a:lnTo>
                        <a:pt x="79" y="341"/>
                      </a:lnTo>
                      <a:lnTo>
                        <a:pt x="80" y="346"/>
                      </a:lnTo>
                      <a:lnTo>
                        <a:pt x="80" y="349"/>
                      </a:lnTo>
                      <a:lnTo>
                        <a:pt x="81" y="354"/>
                      </a:lnTo>
                      <a:lnTo>
                        <a:pt x="82" y="357"/>
                      </a:lnTo>
                      <a:lnTo>
                        <a:pt x="82" y="362"/>
                      </a:lnTo>
                      <a:lnTo>
                        <a:pt x="82" y="366"/>
                      </a:lnTo>
                      <a:lnTo>
                        <a:pt x="85" y="369"/>
                      </a:lnTo>
                      <a:lnTo>
                        <a:pt x="85" y="374"/>
                      </a:lnTo>
                      <a:lnTo>
                        <a:pt x="85" y="378"/>
                      </a:lnTo>
                      <a:lnTo>
                        <a:pt x="86" y="382"/>
                      </a:lnTo>
                      <a:lnTo>
                        <a:pt x="87" y="387"/>
                      </a:lnTo>
                      <a:lnTo>
                        <a:pt x="87" y="391"/>
                      </a:lnTo>
                      <a:lnTo>
                        <a:pt x="89" y="395"/>
                      </a:lnTo>
                      <a:lnTo>
                        <a:pt x="89" y="400"/>
                      </a:lnTo>
                      <a:lnTo>
                        <a:pt x="90" y="404"/>
                      </a:lnTo>
                      <a:lnTo>
                        <a:pt x="92" y="407"/>
                      </a:lnTo>
                      <a:lnTo>
                        <a:pt x="92" y="412"/>
                      </a:lnTo>
                      <a:lnTo>
                        <a:pt x="93" y="416"/>
                      </a:lnTo>
                      <a:lnTo>
                        <a:pt x="94" y="420"/>
                      </a:lnTo>
                      <a:lnTo>
                        <a:pt x="94" y="424"/>
                      </a:lnTo>
                      <a:lnTo>
                        <a:pt x="95" y="429"/>
                      </a:lnTo>
                      <a:lnTo>
                        <a:pt x="96" y="433"/>
                      </a:lnTo>
                      <a:lnTo>
                        <a:pt x="98" y="437"/>
                      </a:lnTo>
                      <a:lnTo>
                        <a:pt x="99" y="440"/>
                      </a:lnTo>
                      <a:lnTo>
                        <a:pt x="100" y="445"/>
                      </a:lnTo>
                      <a:lnTo>
                        <a:pt x="101" y="449"/>
                      </a:lnTo>
                      <a:lnTo>
                        <a:pt x="102" y="454"/>
                      </a:lnTo>
                      <a:lnTo>
                        <a:pt x="103" y="458"/>
                      </a:lnTo>
                      <a:lnTo>
                        <a:pt x="105" y="462"/>
                      </a:lnTo>
                      <a:lnTo>
                        <a:pt x="106" y="467"/>
                      </a:lnTo>
                      <a:lnTo>
                        <a:pt x="107" y="471"/>
                      </a:lnTo>
                      <a:lnTo>
                        <a:pt x="103" y="474"/>
                      </a:lnTo>
                      <a:lnTo>
                        <a:pt x="99" y="477"/>
                      </a:lnTo>
                      <a:lnTo>
                        <a:pt x="94" y="481"/>
                      </a:lnTo>
                      <a:lnTo>
                        <a:pt x="90" y="484"/>
                      </a:lnTo>
                      <a:lnTo>
                        <a:pt x="87" y="488"/>
                      </a:lnTo>
                      <a:lnTo>
                        <a:pt x="82" y="492"/>
                      </a:lnTo>
                      <a:lnTo>
                        <a:pt x="77" y="494"/>
                      </a:lnTo>
                      <a:lnTo>
                        <a:pt x="74" y="499"/>
                      </a:lnTo>
                      <a:lnTo>
                        <a:pt x="68" y="495"/>
                      </a:lnTo>
                      <a:lnTo>
                        <a:pt x="64" y="493"/>
                      </a:lnTo>
                      <a:lnTo>
                        <a:pt x="58" y="489"/>
                      </a:lnTo>
                      <a:lnTo>
                        <a:pt x="55" y="487"/>
                      </a:lnTo>
                      <a:lnTo>
                        <a:pt x="51" y="483"/>
                      </a:lnTo>
                      <a:lnTo>
                        <a:pt x="48" y="481"/>
                      </a:lnTo>
                      <a:lnTo>
                        <a:pt x="44" y="477"/>
                      </a:lnTo>
                      <a:lnTo>
                        <a:pt x="41" y="475"/>
                      </a:lnTo>
                      <a:lnTo>
                        <a:pt x="37" y="471"/>
                      </a:lnTo>
                      <a:lnTo>
                        <a:pt x="33" y="467"/>
                      </a:lnTo>
                      <a:lnTo>
                        <a:pt x="31" y="463"/>
                      </a:lnTo>
                      <a:lnTo>
                        <a:pt x="29" y="459"/>
                      </a:lnTo>
                      <a:lnTo>
                        <a:pt x="26" y="456"/>
                      </a:lnTo>
                      <a:lnTo>
                        <a:pt x="23" y="451"/>
                      </a:lnTo>
                      <a:lnTo>
                        <a:pt x="20" y="448"/>
                      </a:lnTo>
                      <a:lnTo>
                        <a:pt x="19" y="444"/>
                      </a:lnTo>
                      <a:lnTo>
                        <a:pt x="17" y="439"/>
                      </a:lnTo>
                      <a:lnTo>
                        <a:pt x="16" y="435"/>
                      </a:lnTo>
                      <a:lnTo>
                        <a:pt x="13" y="430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9" y="417"/>
                      </a:lnTo>
                      <a:lnTo>
                        <a:pt x="9" y="412"/>
                      </a:lnTo>
                      <a:lnTo>
                        <a:pt x="7" y="407"/>
                      </a:lnTo>
                      <a:lnTo>
                        <a:pt x="6" y="402"/>
                      </a:lnTo>
                      <a:lnTo>
                        <a:pt x="5" y="398"/>
                      </a:lnTo>
                      <a:lnTo>
                        <a:pt x="4" y="392"/>
                      </a:lnTo>
                      <a:lnTo>
                        <a:pt x="4" y="387"/>
                      </a:lnTo>
                      <a:lnTo>
                        <a:pt x="3" y="382"/>
                      </a:lnTo>
                      <a:lnTo>
                        <a:pt x="3" y="378"/>
                      </a:lnTo>
                      <a:lnTo>
                        <a:pt x="1" y="372"/>
                      </a:lnTo>
                      <a:lnTo>
                        <a:pt x="1" y="367"/>
                      </a:lnTo>
                      <a:lnTo>
                        <a:pt x="1" y="362"/>
                      </a:lnTo>
                      <a:lnTo>
                        <a:pt x="0" y="357"/>
                      </a:lnTo>
                      <a:lnTo>
                        <a:pt x="0" y="351"/>
                      </a:lnTo>
                      <a:lnTo>
                        <a:pt x="0" y="347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19"/>
                      </a:lnTo>
                      <a:lnTo>
                        <a:pt x="0" y="313"/>
                      </a:lnTo>
                      <a:lnTo>
                        <a:pt x="0" y="309"/>
                      </a:lnTo>
                      <a:lnTo>
                        <a:pt x="0" y="304"/>
                      </a:lnTo>
                      <a:lnTo>
                        <a:pt x="0" y="298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1" y="281"/>
                      </a:lnTo>
                      <a:lnTo>
                        <a:pt x="1" y="275"/>
                      </a:lnTo>
                      <a:lnTo>
                        <a:pt x="1" y="271"/>
                      </a:lnTo>
                      <a:lnTo>
                        <a:pt x="1" y="266"/>
                      </a:lnTo>
                      <a:lnTo>
                        <a:pt x="1" y="260"/>
                      </a:lnTo>
                      <a:lnTo>
                        <a:pt x="1" y="255"/>
                      </a:lnTo>
                      <a:lnTo>
                        <a:pt x="1" y="251"/>
                      </a:lnTo>
                      <a:lnTo>
                        <a:pt x="1" y="245"/>
                      </a:lnTo>
                      <a:lnTo>
                        <a:pt x="1" y="240"/>
                      </a:lnTo>
                      <a:lnTo>
                        <a:pt x="1" y="235"/>
                      </a:lnTo>
                      <a:lnTo>
                        <a:pt x="1" y="230"/>
                      </a:lnTo>
                      <a:lnTo>
                        <a:pt x="1" y="224"/>
                      </a:lnTo>
                      <a:lnTo>
                        <a:pt x="1" y="220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0" y="205"/>
                      </a:lnTo>
                      <a:lnTo>
                        <a:pt x="0" y="201"/>
                      </a:lnTo>
                      <a:lnTo>
                        <a:pt x="0" y="197"/>
                      </a:lnTo>
                      <a:lnTo>
                        <a:pt x="0" y="194"/>
                      </a:lnTo>
                      <a:lnTo>
                        <a:pt x="0" y="190"/>
                      </a:lnTo>
                      <a:lnTo>
                        <a:pt x="0" y="188"/>
                      </a:lnTo>
                      <a:lnTo>
                        <a:pt x="0" y="183"/>
                      </a:lnTo>
                      <a:lnTo>
                        <a:pt x="1" y="181"/>
                      </a:lnTo>
                      <a:lnTo>
                        <a:pt x="1" y="177"/>
                      </a:lnTo>
                      <a:lnTo>
                        <a:pt x="1" y="173"/>
                      </a:lnTo>
                      <a:lnTo>
                        <a:pt x="1" y="170"/>
                      </a:lnTo>
                      <a:lnTo>
                        <a:pt x="1" y="166"/>
                      </a:lnTo>
                      <a:lnTo>
                        <a:pt x="1" y="163"/>
                      </a:lnTo>
                      <a:lnTo>
                        <a:pt x="3" y="159"/>
                      </a:lnTo>
                      <a:lnTo>
                        <a:pt x="3" y="156"/>
                      </a:lnTo>
                      <a:lnTo>
                        <a:pt x="3" y="153"/>
                      </a:lnTo>
                      <a:lnTo>
                        <a:pt x="3" y="150"/>
                      </a:lnTo>
                      <a:lnTo>
                        <a:pt x="3" y="146"/>
                      </a:lnTo>
                      <a:lnTo>
                        <a:pt x="3" y="143"/>
                      </a:lnTo>
                      <a:lnTo>
                        <a:pt x="3" y="139"/>
                      </a:lnTo>
                      <a:lnTo>
                        <a:pt x="3" y="135"/>
                      </a:lnTo>
                      <a:lnTo>
                        <a:pt x="4" y="132"/>
                      </a:lnTo>
                      <a:lnTo>
                        <a:pt x="4" y="129"/>
                      </a:lnTo>
                      <a:lnTo>
                        <a:pt x="4" y="126"/>
                      </a:lnTo>
                      <a:lnTo>
                        <a:pt x="4" y="121"/>
                      </a:lnTo>
                      <a:lnTo>
                        <a:pt x="5" y="119"/>
                      </a:lnTo>
                      <a:lnTo>
                        <a:pt x="5" y="115"/>
                      </a:lnTo>
                      <a:lnTo>
                        <a:pt x="5" y="112"/>
                      </a:lnTo>
                      <a:lnTo>
                        <a:pt x="6" y="108"/>
                      </a:lnTo>
                      <a:lnTo>
                        <a:pt x="6" y="106"/>
                      </a:lnTo>
                      <a:lnTo>
                        <a:pt x="6" y="101"/>
                      </a:lnTo>
                      <a:lnTo>
                        <a:pt x="6" y="99"/>
                      </a:lnTo>
                      <a:lnTo>
                        <a:pt x="7" y="95"/>
                      </a:lnTo>
                      <a:lnTo>
                        <a:pt x="9" y="91"/>
                      </a:lnTo>
                      <a:lnTo>
                        <a:pt x="9" y="88"/>
                      </a:lnTo>
                      <a:lnTo>
                        <a:pt x="9" y="86"/>
                      </a:lnTo>
                      <a:lnTo>
                        <a:pt x="9" y="81"/>
                      </a:lnTo>
                      <a:lnTo>
                        <a:pt x="10" y="78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2" y="68"/>
                      </a:lnTo>
                      <a:lnTo>
                        <a:pt x="13" y="65"/>
                      </a:lnTo>
                      <a:lnTo>
                        <a:pt x="13" y="62"/>
                      </a:lnTo>
                      <a:lnTo>
                        <a:pt x="14" y="59"/>
                      </a:lnTo>
                      <a:lnTo>
                        <a:pt x="16" y="56"/>
                      </a:lnTo>
                      <a:lnTo>
                        <a:pt x="17" y="53"/>
                      </a:lnTo>
                      <a:lnTo>
                        <a:pt x="18" y="50"/>
                      </a:lnTo>
                      <a:lnTo>
                        <a:pt x="19" y="48"/>
                      </a:lnTo>
                      <a:lnTo>
                        <a:pt x="20" y="44"/>
                      </a:lnTo>
                      <a:lnTo>
                        <a:pt x="22" y="42"/>
                      </a:lnTo>
                      <a:lnTo>
                        <a:pt x="23" y="38"/>
                      </a:lnTo>
                      <a:lnTo>
                        <a:pt x="24" y="36"/>
                      </a:lnTo>
                      <a:lnTo>
                        <a:pt x="26" y="32"/>
                      </a:lnTo>
                      <a:lnTo>
                        <a:pt x="28" y="30"/>
                      </a:lnTo>
                      <a:lnTo>
                        <a:pt x="29" y="27"/>
                      </a:lnTo>
                      <a:lnTo>
                        <a:pt x="31" y="24"/>
                      </a:lnTo>
                      <a:lnTo>
                        <a:pt x="32" y="21"/>
                      </a:lnTo>
                      <a:lnTo>
                        <a:pt x="35" y="19"/>
                      </a:lnTo>
                      <a:lnTo>
                        <a:pt x="38" y="14"/>
                      </a:lnTo>
                      <a:lnTo>
                        <a:pt x="44" y="10"/>
                      </a:lnTo>
                      <a:lnTo>
                        <a:pt x="45" y="7"/>
                      </a:lnTo>
                      <a:lnTo>
                        <a:pt x="48" y="5"/>
                      </a:lnTo>
                      <a:lnTo>
                        <a:pt x="51" y="2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Freeform 45"/>
                <p:cNvSpPr/>
                <p:nvPr/>
              </p:nvSpPr>
              <p:spPr>
                <a:xfrm>
                  <a:off x="7719840" y="1928880"/>
                  <a:ext cx="83880" cy="419400"/>
                </a:xfrm>
                <a:custGeom>
                  <a:avLst/>
                  <a:gdLst>
                    <a:gd name="textAreaLeft" fmla="*/ 0 w 83880"/>
                    <a:gd name="textAreaRight" fmla="*/ 83880 w 8388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w="159" h="792">
                      <a:moveTo>
                        <a:pt x="144" y="0"/>
                      </a:moveTo>
                      <a:lnTo>
                        <a:pt x="58" y="8"/>
                      </a:lnTo>
                      <a:lnTo>
                        <a:pt x="60" y="23"/>
                      </a:lnTo>
                      <a:lnTo>
                        <a:pt x="60" y="38"/>
                      </a:lnTo>
                      <a:lnTo>
                        <a:pt x="63" y="52"/>
                      </a:lnTo>
                      <a:lnTo>
                        <a:pt x="64" y="67"/>
                      </a:lnTo>
                      <a:lnTo>
                        <a:pt x="65" y="81"/>
                      </a:lnTo>
                      <a:lnTo>
                        <a:pt x="65" y="95"/>
                      </a:lnTo>
                      <a:lnTo>
                        <a:pt x="66" y="109"/>
                      </a:lnTo>
                      <a:lnTo>
                        <a:pt x="67" y="124"/>
                      </a:lnTo>
                      <a:lnTo>
                        <a:pt x="68" y="137"/>
                      </a:lnTo>
                      <a:lnTo>
                        <a:pt x="70" y="151"/>
                      </a:lnTo>
                      <a:lnTo>
                        <a:pt x="70" y="165"/>
                      </a:lnTo>
                      <a:lnTo>
                        <a:pt x="71" y="179"/>
                      </a:lnTo>
                      <a:lnTo>
                        <a:pt x="71" y="192"/>
                      </a:lnTo>
                      <a:lnTo>
                        <a:pt x="72" y="205"/>
                      </a:lnTo>
                      <a:lnTo>
                        <a:pt x="72" y="219"/>
                      </a:lnTo>
                      <a:lnTo>
                        <a:pt x="73" y="233"/>
                      </a:lnTo>
                      <a:lnTo>
                        <a:pt x="73" y="246"/>
                      </a:lnTo>
                      <a:lnTo>
                        <a:pt x="73" y="258"/>
                      </a:lnTo>
                      <a:lnTo>
                        <a:pt x="73" y="271"/>
                      </a:lnTo>
                      <a:lnTo>
                        <a:pt x="73" y="284"/>
                      </a:lnTo>
                      <a:lnTo>
                        <a:pt x="73" y="297"/>
                      </a:lnTo>
                      <a:lnTo>
                        <a:pt x="73" y="310"/>
                      </a:lnTo>
                      <a:lnTo>
                        <a:pt x="73" y="322"/>
                      </a:lnTo>
                      <a:lnTo>
                        <a:pt x="73" y="335"/>
                      </a:lnTo>
                      <a:lnTo>
                        <a:pt x="72" y="347"/>
                      </a:lnTo>
                      <a:lnTo>
                        <a:pt x="72" y="360"/>
                      </a:lnTo>
                      <a:lnTo>
                        <a:pt x="71" y="372"/>
                      </a:lnTo>
                      <a:lnTo>
                        <a:pt x="71" y="385"/>
                      </a:lnTo>
                      <a:lnTo>
                        <a:pt x="70" y="395"/>
                      </a:lnTo>
                      <a:lnTo>
                        <a:pt x="70" y="407"/>
                      </a:lnTo>
                      <a:lnTo>
                        <a:pt x="68" y="420"/>
                      </a:lnTo>
                      <a:lnTo>
                        <a:pt x="68" y="432"/>
                      </a:lnTo>
                      <a:lnTo>
                        <a:pt x="67" y="443"/>
                      </a:lnTo>
                      <a:lnTo>
                        <a:pt x="66" y="455"/>
                      </a:lnTo>
                      <a:lnTo>
                        <a:pt x="65" y="467"/>
                      </a:lnTo>
                      <a:lnTo>
                        <a:pt x="64" y="479"/>
                      </a:lnTo>
                      <a:lnTo>
                        <a:pt x="63" y="488"/>
                      </a:lnTo>
                      <a:lnTo>
                        <a:pt x="61" y="500"/>
                      </a:lnTo>
                      <a:lnTo>
                        <a:pt x="60" y="512"/>
                      </a:lnTo>
                      <a:lnTo>
                        <a:pt x="58" y="522"/>
                      </a:lnTo>
                      <a:lnTo>
                        <a:pt x="57" y="533"/>
                      </a:lnTo>
                      <a:lnTo>
                        <a:pt x="54" y="544"/>
                      </a:lnTo>
                      <a:lnTo>
                        <a:pt x="53" y="554"/>
                      </a:lnTo>
                      <a:lnTo>
                        <a:pt x="52" y="565"/>
                      </a:lnTo>
                      <a:lnTo>
                        <a:pt x="49" y="576"/>
                      </a:lnTo>
                      <a:lnTo>
                        <a:pt x="47" y="587"/>
                      </a:lnTo>
                      <a:lnTo>
                        <a:pt x="46" y="597"/>
                      </a:lnTo>
                      <a:lnTo>
                        <a:pt x="45" y="608"/>
                      </a:lnTo>
                      <a:lnTo>
                        <a:pt x="42" y="617"/>
                      </a:lnTo>
                      <a:lnTo>
                        <a:pt x="40" y="628"/>
                      </a:lnTo>
                      <a:lnTo>
                        <a:pt x="38" y="638"/>
                      </a:lnTo>
                      <a:lnTo>
                        <a:pt x="34" y="648"/>
                      </a:lnTo>
                      <a:lnTo>
                        <a:pt x="32" y="658"/>
                      </a:lnTo>
                      <a:lnTo>
                        <a:pt x="29" y="667"/>
                      </a:lnTo>
                      <a:lnTo>
                        <a:pt x="27" y="677"/>
                      </a:lnTo>
                      <a:lnTo>
                        <a:pt x="25" y="686"/>
                      </a:lnTo>
                      <a:lnTo>
                        <a:pt x="21" y="696"/>
                      </a:lnTo>
                      <a:lnTo>
                        <a:pt x="19" y="706"/>
                      </a:lnTo>
                      <a:lnTo>
                        <a:pt x="15" y="715"/>
                      </a:lnTo>
                      <a:lnTo>
                        <a:pt x="11" y="724"/>
                      </a:lnTo>
                      <a:lnTo>
                        <a:pt x="9" y="734"/>
                      </a:lnTo>
                      <a:lnTo>
                        <a:pt x="6" y="743"/>
                      </a:lnTo>
                      <a:lnTo>
                        <a:pt x="2" y="752"/>
                      </a:lnTo>
                      <a:lnTo>
                        <a:pt x="0" y="762"/>
                      </a:lnTo>
                      <a:lnTo>
                        <a:pt x="80" y="792"/>
                      </a:lnTo>
                      <a:lnTo>
                        <a:pt x="83" y="782"/>
                      </a:lnTo>
                      <a:lnTo>
                        <a:pt x="86" y="773"/>
                      </a:lnTo>
                      <a:lnTo>
                        <a:pt x="90" y="763"/>
                      </a:lnTo>
                      <a:lnTo>
                        <a:pt x="93" y="754"/>
                      </a:lnTo>
                      <a:lnTo>
                        <a:pt x="96" y="743"/>
                      </a:lnTo>
                      <a:lnTo>
                        <a:pt x="99" y="734"/>
                      </a:lnTo>
                      <a:lnTo>
                        <a:pt x="103" y="723"/>
                      </a:lnTo>
                      <a:lnTo>
                        <a:pt x="105" y="714"/>
                      </a:lnTo>
                      <a:lnTo>
                        <a:pt x="108" y="703"/>
                      </a:lnTo>
                      <a:lnTo>
                        <a:pt x="111" y="692"/>
                      </a:lnTo>
                      <a:lnTo>
                        <a:pt x="115" y="682"/>
                      </a:lnTo>
                      <a:lnTo>
                        <a:pt x="117" y="671"/>
                      </a:lnTo>
                      <a:lnTo>
                        <a:pt x="119" y="661"/>
                      </a:lnTo>
                      <a:lnTo>
                        <a:pt x="122" y="651"/>
                      </a:lnTo>
                      <a:lnTo>
                        <a:pt x="124" y="640"/>
                      </a:lnTo>
                      <a:lnTo>
                        <a:pt x="128" y="629"/>
                      </a:lnTo>
                      <a:lnTo>
                        <a:pt x="129" y="617"/>
                      </a:lnTo>
                      <a:lnTo>
                        <a:pt x="131" y="607"/>
                      </a:lnTo>
                      <a:lnTo>
                        <a:pt x="134" y="595"/>
                      </a:lnTo>
                      <a:lnTo>
                        <a:pt x="136" y="584"/>
                      </a:lnTo>
                      <a:lnTo>
                        <a:pt x="137" y="572"/>
                      </a:lnTo>
                      <a:lnTo>
                        <a:pt x="138" y="562"/>
                      </a:lnTo>
                      <a:lnTo>
                        <a:pt x="141" y="550"/>
                      </a:lnTo>
                      <a:lnTo>
                        <a:pt x="143" y="539"/>
                      </a:lnTo>
                      <a:lnTo>
                        <a:pt x="144" y="526"/>
                      </a:lnTo>
                      <a:lnTo>
                        <a:pt x="146" y="515"/>
                      </a:lnTo>
                      <a:lnTo>
                        <a:pt x="147" y="503"/>
                      </a:lnTo>
                      <a:lnTo>
                        <a:pt x="149" y="492"/>
                      </a:lnTo>
                      <a:lnTo>
                        <a:pt x="150" y="480"/>
                      </a:lnTo>
                      <a:lnTo>
                        <a:pt x="151" y="468"/>
                      </a:lnTo>
                      <a:lnTo>
                        <a:pt x="153" y="456"/>
                      </a:lnTo>
                      <a:lnTo>
                        <a:pt x="154" y="443"/>
                      </a:lnTo>
                      <a:lnTo>
                        <a:pt x="154" y="430"/>
                      </a:lnTo>
                      <a:lnTo>
                        <a:pt x="156" y="418"/>
                      </a:lnTo>
                      <a:lnTo>
                        <a:pt x="156" y="405"/>
                      </a:lnTo>
                      <a:lnTo>
                        <a:pt x="156" y="393"/>
                      </a:lnTo>
                      <a:lnTo>
                        <a:pt x="157" y="380"/>
                      </a:lnTo>
                      <a:lnTo>
                        <a:pt x="157" y="367"/>
                      </a:lnTo>
                      <a:lnTo>
                        <a:pt x="159" y="354"/>
                      </a:lnTo>
                      <a:lnTo>
                        <a:pt x="159" y="342"/>
                      </a:lnTo>
                      <a:lnTo>
                        <a:pt x="159" y="328"/>
                      </a:lnTo>
                      <a:lnTo>
                        <a:pt x="159" y="315"/>
                      </a:lnTo>
                      <a:lnTo>
                        <a:pt x="159" y="302"/>
                      </a:lnTo>
                      <a:lnTo>
                        <a:pt x="159" y="289"/>
                      </a:lnTo>
                      <a:lnTo>
                        <a:pt x="159" y="274"/>
                      </a:lnTo>
                      <a:lnTo>
                        <a:pt x="159" y="260"/>
                      </a:lnTo>
                      <a:lnTo>
                        <a:pt x="159" y="248"/>
                      </a:lnTo>
                      <a:lnTo>
                        <a:pt x="159" y="234"/>
                      </a:lnTo>
                      <a:lnTo>
                        <a:pt x="159" y="220"/>
                      </a:lnTo>
                      <a:lnTo>
                        <a:pt x="159" y="205"/>
                      </a:lnTo>
                      <a:lnTo>
                        <a:pt x="157" y="191"/>
                      </a:lnTo>
                      <a:lnTo>
                        <a:pt x="157" y="177"/>
                      </a:lnTo>
                      <a:lnTo>
                        <a:pt x="156" y="163"/>
                      </a:lnTo>
                      <a:lnTo>
                        <a:pt x="156" y="148"/>
                      </a:lnTo>
                      <a:lnTo>
                        <a:pt x="154" y="134"/>
                      </a:lnTo>
                      <a:lnTo>
                        <a:pt x="154" y="120"/>
                      </a:lnTo>
                      <a:lnTo>
                        <a:pt x="153" y="105"/>
                      </a:lnTo>
                      <a:lnTo>
                        <a:pt x="151" y="90"/>
                      </a:lnTo>
                      <a:lnTo>
                        <a:pt x="151" y="76"/>
                      </a:lnTo>
                      <a:lnTo>
                        <a:pt x="149" y="61"/>
                      </a:lnTo>
                      <a:lnTo>
                        <a:pt x="148" y="45"/>
                      </a:lnTo>
                      <a:lnTo>
                        <a:pt x="147" y="30"/>
                      </a:lnTo>
                      <a:lnTo>
                        <a:pt x="146" y="1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Freeform 46"/>
                <p:cNvSpPr/>
                <p:nvPr/>
              </p:nvSpPr>
              <p:spPr>
                <a:xfrm>
                  <a:off x="7257960" y="1938600"/>
                  <a:ext cx="504360" cy="4269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954" h="808">
                      <a:moveTo>
                        <a:pt x="932" y="710"/>
                      </a:moveTo>
                      <a:lnTo>
                        <a:pt x="916" y="711"/>
                      </a:lnTo>
                      <a:lnTo>
                        <a:pt x="899" y="711"/>
                      </a:lnTo>
                      <a:lnTo>
                        <a:pt x="882" y="712"/>
                      </a:lnTo>
                      <a:lnTo>
                        <a:pt x="865" y="712"/>
                      </a:lnTo>
                      <a:lnTo>
                        <a:pt x="849" y="713"/>
                      </a:lnTo>
                      <a:lnTo>
                        <a:pt x="832" y="714"/>
                      </a:lnTo>
                      <a:lnTo>
                        <a:pt x="814" y="714"/>
                      </a:lnTo>
                      <a:lnTo>
                        <a:pt x="799" y="716"/>
                      </a:lnTo>
                      <a:lnTo>
                        <a:pt x="782" y="716"/>
                      </a:lnTo>
                      <a:lnTo>
                        <a:pt x="764" y="717"/>
                      </a:lnTo>
                      <a:lnTo>
                        <a:pt x="748" y="717"/>
                      </a:lnTo>
                      <a:lnTo>
                        <a:pt x="731" y="717"/>
                      </a:lnTo>
                      <a:lnTo>
                        <a:pt x="715" y="717"/>
                      </a:lnTo>
                      <a:lnTo>
                        <a:pt x="698" y="718"/>
                      </a:lnTo>
                      <a:lnTo>
                        <a:pt x="681" y="718"/>
                      </a:lnTo>
                      <a:lnTo>
                        <a:pt x="666" y="719"/>
                      </a:lnTo>
                      <a:lnTo>
                        <a:pt x="648" y="719"/>
                      </a:lnTo>
                      <a:lnTo>
                        <a:pt x="633" y="720"/>
                      </a:lnTo>
                      <a:lnTo>
                        <a:pt x="615" y="720"/>
                      </a:lnTo>
                      <a:lnTo>
                        <a:pt x="600" y="720"/>
                      </a:lnTo>
                      <a:lnTo>
                        <a:pt x="583" y="720"/>
                      </a:lnTo>
                      <a:lnTo>
                        <a:pt x="566" y="720"/>
                      </a:lnTo>
                      <a:lnTo>
                        <a:pt x="552" y="720"/>
                      </a:lnTo>
                      <a:lnTo>
                        <a:pt x="535" y="721"/>
                      </a:lnTo>
                      <a:lnTo>
                        <a:pt x="520" y="721"/>
                      </a:lnTo>
                      <a:lnTo>
                        <a:pt x="503" y="721"/>
                      </a:lnTo>
                      <a:lnTo>
                        <a:pt x="488" y="721"/>
                      </a:lnTo>
                      <a:lnTo>
                        <a:pt x="474" y="721"/>
                      </a:lnTo>
                      <a:lnTo>
                        <a:pt x="458" y="721"/>
                      </a:lnTo>
                      <a:lnTo>
                        <a:pt x="444" y="721"/>
                      </a:lnTo>
                      <a:lnTo>
                        <a:pt x="430" y="721"/>
                      </a:lnTo>
                      <a:lnTo>
                        <a:pt x="414" y="721"/>
                      </a:lnTo>
                      <a:lnTo>
                        <a:pt x="400" y="721"/>
                      </a:lnTo>
                      <a:lnTo>
                        <a:pt x="387" y="720"/>
                      </a:lnTo>
                      <a:lnTo>
                        <a:pt x="372" y="720"/>
                      </a:lnTo>
                      <a:lnTo>
                        <a:pt x="359" y="720"/>
                      </a:lnTo>
                      <a:lnTo>
                        <a:pt x="346" y="720"/>
                      </a:lnTo>
                      <a:lnTo>
                        <a:pt x="333" y="719"/>
                      </a:lnTo>
                      <a:lnTo>
                        <a:pt x="320" y="719"/>
                      </a:lnTo>
                      <a:lnTo>
                        <a:pt x="308" y="719"/>
                      </a:lnTo>
                      <a:lnTo>
                        <a:pt x="295" y="718"/>
                      </a:lnTo>
                      <a:lnTo>
                        <a:pt x="283" y="717"/>
                      </a:lnTo>
                      <a:lnTo>
                        <a:pt x="271" y="717"/>
                      </a:lnTo>
                      <a:lnTo>
                        <a:pt x="260" y="717"/>
                      </a:lnTo>
                      <a:lnTo>
                        <a:pt x="248" y="716"/>
                      </a:lnTo>
                      <a:lnTo>
                        <a:pt x="238" y="714"/>
                      </a:lnTo>
                      <a:lnTo>
                        <a:pt x="228" y="714"/>
                      </a:lnTo>
                      <a:lnTo>
                        <a:pt x="219" y="714"/>
                      </a:lnTo>
                      <a:lnTo>
                        <a:pt x="208" y="713"/>
                      </a:lnTo>
                      <a:lnTo>
                        <a:pt x="200" y="712"/>
                      </a:lnTo>
                      <a:lnTo>
                        <a:pt x="190" y="711"/>
                      </a:lnTo>
                      <a:lnTo>
                        <a:pt x="182" y="711"/>
                      </a:lnTo>
                      <a:lnTo>
                        <a:pt x="174" y="710"/>
                      </a:lnTo>
                      <a:lnTo>
                        <a:pt x="166" y="708"/>
                      </a:lnTo>
                      <a:lnTo>
                        <a:pt x="159" y="707"/>
                      </a:lnTo>
                      <a:lnTo>
                        <a:pt x="152" y="707"/>
                      </a:lnTo>
                      <a:lnTo>
                        <a:pt x="145" y="705"/>
                      </a:lnTo>
                      <a:lnTo>
                        <a:pt x="139" y="705"/>
                      </a:lnTo>
                      <a:lnTo>
                        <a:pt x="134" y="702"/>
                      </a:lnTo>
                      <a:lnTo>
                        <a:pt x="128" y="702"/>
                      </a:lnTo>
                      <a:lnTo>
                        <a:pt x="125" y="700"/>
                      </a:lnTo>
                      <a:lnTo>
                        <a:pt x="120" y="699"/>
                      </a:lnTo>
                      <a:lnTo>
                        <a:pt x="117" y="698"/>
                      </a:lnTo>
                      <a:lnTo>
                        <a:pt x="114" y="697"/>
                      </a:lnTo>
                      <a:lnTo>
                        <a:pt x="113" y="693"/>
                      </a:lnTo>
                      <a:lnTo>
                        <a:pt x="111" y="689"/>
                      </a:lnTo>
                      <a:lnTo>
                        <a:pt x="110" y="687"/>
                      </a:lnTo>
                      <a:lnTo>
                        <a:pt x="108" y="682"/>
                      </a:lnTo>
                      <a:lnTo>
                        <a:pt x="107" y="678"/>
                      </a:lnTo>
                      <a:lnTo>
                        <a:pt x="106" y="674"/>
                      </a:lnTo>
                      <a:lnTo>
                        <a:pt x="105" y="668"/>
                      </a:lnTo>
                      <a:lnTo>
                        <a:pt x="104" y="663"/>
                      </a:lnTo>
                      <a:lnTo>
                        <a:pt x="102" y="656"/>
                      </a:lnTo>
                      <a:lnTo>
                        <a:pt x="101" y="650"/>
                      </a:lnTo>
                      <a:lnTo>
                        <a:pt x="101" y="644"/>
                      </a:lnTo>
                      <a:lnTo>
                        <a:pt x="100" y="636"/>
                      </a:lnTo>
                      <a:lnTo>
                        <a:pt x="99" y="629"/>
                      </a:lnTo>
                      <a:lnTo>
                        <a:pt x="99" y="622"/>
                      </a:lnTo>
                      <a:lnTo>
                        <a:pt x="98" y="613"/>
                      </a:lnTo>
                      <a:lnTo>
                        <a:pt x="96" y="606"/>
                      </a:lnTo>
                      <a:lnTo>
                        <a:pt x="95" y="597"/>
                      </a:lnTo>
                      <a:lnTo>
                        <a:pt x="95" y="589"/>
                      </a:lnTo>
                      <a:lnTo>
                        <a:pt x="94" y="578"/>
                      </a:lnTo>
                      <a:lnTo>
                        <a:pt x="93" y="570"/>
                      </a:lnTo>
                      <a:lnTo>
                        <a:pt x="93" y="559"/>
                      </a:lnTo>
                      <a:lnTo>
                        <a:pt x="92" y="549"/>
                      </a:lnTo>
                      <a:lnTo>
                        <a:pt x="91" y="540"/>
                      </a:lnTo>
                      <a:lnTo>
                        <a:pt x="91" y="529"/>
                      </a:lnTo>
                      <a:lnTo>
                        <a:pt x="91" y="517"/>
                      </a:lnTo>
                      <a:lnTo>
                        <a:pt x="89" y="507"/>
                      </a:lnTo>
                      <a:lnTo>
                        <a:pt x="89" y="496"/>
                      </a:lnTo>
                      <a:lnTo>
                        <a:pt x="89" y="484"/>
                      </a:lnTo>
                      <a:lnTo>
                        <a:pt x="88" y="473"/>
                      </a:lnTo>
                      <a:lnTo>
                        <a:pt x="88" y="462"/>
                      </a:lnTo>
                      <a:lnTo>
                        <a:pt x="88" y="450"/>
                      </a:lnTo>
                      <a:lnTo>
                        <a:pt x="88" y="438"/>
                      </a:lnTo>
                      <a:lnTo>
                        <a:pt x="87" y="425"/>
                      </a:lnTo>
                      <a:lnTo>
                        <a:pt x="87" y="413"/>
                      </a:lnTo>
                      <a:lnTo>
                        <a:pt x="86" y="400"/>
                      </a:lnTo>
                      <a:lnTo>
                        <a:pt x="86" y="388"/>
                      </a:lnTo>
                      <a:lnTo>
                        <a:pt x="86" y="374"/>
                      </a:lnTo>
                      <a:lnTo>
                        <a:pt x="86" y="361"/>
                      </a:lnTo>
                      <a:lnTo>
                        <a:pt x="86" y="348"/>
                      </a:lnTo>
                      <a:lnTo>
                        <a:pt x="86" y="334"/>
                      </a:lnTo>
                      <a:lnTo>
                        <a:pt x="85" y="320"/>
                      </a:lnTo>
                      <a:lnTo>
                        <a:pt x="85" y="307"/>
                      </a:lnTo>
                      <a:lnTo>
                        <a:pt x="85" y="294"/>
                      </a:lnTo>
                      <a:lnTo>
                        <a:pt x="85" y="280"/>
                      </a:lnTo>
                      <a:lnTo>
                        <a:pt x="85" y="267"/>
                      </a:lnTo>
                      <a:lnTo>
                        <a:pt x="85" y="253"/>
                      </a:lnTo>
                      <a:lnTo>
                        <a:pt x="85" y="238"/>
                      </a:lnTo>
                      <a:lnTo>
                        <a:pt x="86" y="226"/>
                      </a:lnTo>
                      <a:lnTo>
                        <a:pt x="86" y="211"/>
                      </a:lnTo>
                      <a:lnTo>
                        <a:pt x="86" y="198"/>
                      </a:lnTo>
                      <a:lnTo>
                        <a:pt x="86" y="184"/>
                      </a:lnTo>
                      <a:lnTo>
                        <a:pt x="86" y="169"/>
                      </a:lnTo>
                      <a:lnTo>
                        <a:pt x="86" y="155"/>
                      </a:lnTo>
                      <a:lnTo>
                        <a:pt x="86" y="141"/>
                      </a:lnTo>
                      <a:lnTo>
                        <a:pt x="86" y="127"/>
                      </a:lnTo>
                      <a:lnTo>
                        <a:pt x="87" y="114"/>
                      </a:lnTo>
                      <a:lnTo>
                        <a:pt x="87" y="99"/>
                      </a:lnTo>
                      <a:lnTo>
                        <a:pt x="87" y="85"/>
                      </a:lnTo>
                      <a:lnTo>
                        <a:pt x="87" y="71"/>
                      </a:lnTo>
                      <a:lnTo>
                        <a:pt x="88" y="58"/>
                      </a:lnTo>
                      <a:lnTo>
                        <a:pt x="88" y="44"/>
                      </a:lnTo>
                      <a:lnTo>
                        <a:pt x="88" y="31"/>
                      </a:lnTo>
                      <a:lnTo>
                        <a:pt x="89" y="18"/>
                      </a:lnTo>
                      <a:lnTo>
                        <a:pt x="91" y="4"/>
                      </a:lnTo>
                      <a:lnTo>
                        <a:pt x="88" y="2"/>
                      </a:lnTo>
                      <a:lnTo>
                        <a:pt x="86" y="1"/>
                      </a:lnTo>
                      <a:lnTo>
                        <a:pt x="83" y="1"/>
                      </a:lnTo>
                      <a:lnTo>
                        <a:pt x="81" y="1"/>
                      </a:lnTo>
                      <a:lnTo>
                        <a:pt x="79" y="1"/>
                      </a:lnTo>
                      <a:lnTo>
                        <a:pt x="76" y="1"/>
                      </a:lnTo>
                      <a:lnTo>
                        <a:pt x="73" y="0"/>
                      </a:lnTo>
                      <a:lnTo>
                        <a:pt x="69" y="0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50" y="1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38" y="1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2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3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3" y="46"/>
                      </a:lnTo>
                      <a:lnTo>
                        <a:pt x="3" y="50"/>
                      </a:lnTo>
                      <a:lnTo>
                        <a:pt x="3" y="53"/>
                      </a:lnTo>
                      <a:lnTo>
                        <a:pt x="3" y="58"/>
                      </a:lnTo>
                      <a:lnTo>
                        <a:pt x="3" y="61"/>
                      </a:lnTo>
                      <a:lnTo>
                        <a:pt x="3" y="66"/>
                      </a:lnTo>
                      <a:lnTo>
                        <a:pt x="3" y="72"/>
                      </a:lnTo>
                      <a:lnTo>
                        <a:pt x="2" y="77"/>
                      </a:lnTo>
                      <a:lnTo>
                        <a:pt x="2" y="82"/>
                      </a:lnTo>
                      <a:lnTo>
                        <a:pt x="2" y="86"/>
                      </a:lnTo>
                      <a:lnTo>
                        <a:pt x="2" y="92"/>
                      </a:lnTo>
                      <a:lnTo>
                        <a:pt x="2" y="98"/>
                      </a:lnTo>
                      <a:lnTo>
                        <a:pt x="2" y="104"/>
                      </a:lnTo>
                      <a:lnTo>
                        <a:pt x="2" y="110"/>
                      </a:lnTo>
                      <a:lnTo>
                        <a:pt x="2" y="117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0" y="134"/>
                      </a:lnTo>
                      <a:lnTo>
                        <a:pt x="0" y="141"/>
                      </a:lnTo>
                      <a:lnTo>
                        <a:pt x="0" y="147"/>
                      </a:lnTo>
                      <a:lnTo>
                        <a:pt x="0" y="154"/>
                      </a:lnTo>
                      <a:lnTo>
                        <a:pt x="0" y="160"/>
                      </a:lnTo>
                      <a:lnTo>
                        <a:pt x="0" y="167"/>
                      </a:lnTo>
                      <a:lnTo>
                        <a:pt x="0" y="174"/>
                      </a:lnTo>
                      <a:lnTo>
                        <a:pt x="0" y="181"/>
                      </a:lnTo>
                      <a:lnTo>
                        <a:pt x="0" y="188"/>
                      </a:lnTo>
                      <a:lnTo>
                        <a:pt x="0" y="196"/>
                      </a:lnTo>
                      <a:lnTo>
                        <a:pt x="0" y="203"/>
                      </a:lnTo>
                      <a:lnTo>
                        <a:pt x="0" y="210"/>
                      </a:lnTo>
                      <a:lnTo>
                        <a:pt x="0" y="218"/>
                      </a:lnTo>
                      <a:lnTo>
                        <a:pt x="0" y="225"/>
                      </a:lnTo>
                      <a:lnTo>
                        <a:pt x="0" y="232"/>
                      </a:lnTo>
                      <a:lnTo>
                        <a:pt x="0" y="240"/>
                      </a:lnTo>
                      <a:lnTo>
                        <a:pt x="0" y="247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0" y="269"/>
                      </a:lnTo>
                      <a:lnTo>
                        <a:pt x="0" y="278"/>
                      </a:lnTo>
                      <a:lnTo>
                        <a:pt x="0" y="286"/>
                      </a:lnTo>
                      <a:lnTo>
                        <a:pt x="0" y="293"/>
                      </a:lnTo>
                      <a:lnTo>
                        <a:pt x="0" y="301"/>
                      </a:lnTo>
                      <a:lnTo>
                        <a:pt x="0" y="308"/>
                      </a:lnTo>
                      <a:lnTo>
                        <a:pt x="0" y="317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40"/>
                      </a:lnTo>
                      <a:lnTo>
                        <a:pt x="0" y="349"/>
                      </a:lnTo>
                      <a:lnTo>
                        <a:pt x="0" y="364"/>
                      </a:lnTo>
                      <a:lnTo>
                        <a:pt x="0" y="381"/>
                      </a:lnTo>
                      <a:lnTo>
                        <a:pt x="0" y="395"/>
                      </a:lnTo>
                      <a:lnTo>
                        <a:pt x="0" y="410"/>
                      </a:lnTo>
                      <a:lnTo>
                        <a:pt x="0" y="424"/>
                      </a:lnTo>
                      <a:lnTo>
                        <a:pt x="2" y="439"/>
                      </a:lnTo>
                      <a:lnTo>
                        <a:pt x="2" y="452"/>
                      </a:lnTo>
                      <a:lnTo>
                        <a:pt x="3" y="465"/>
                      </a:lnTo>
                      <a:lnTo>
                        <a:pt x="3" y="478"/>
                      </a:lnTo>
                      <a:lnTo>
                        <a:pt x="3" y="490"/>
                      </a:lnTo>
                      <a:lnTo>
                        <a:pt x="3" y="502"/>
                      </a:lnTo>
                      <a:lnTo>
                        <a:pt x="4" y="514"/>
                      </a:lnTo>
                      <a:lnTo>
                        <a:pt x="4" y="524"/>
                      </a:lnTo>
                      <a:lnTo>
                        <a:pt x="5" y="535"/>
                      </a:lnTo>
                      <a:lnTo>
                        <a:pt x="5" y="546"/>
                      </a:lnTo>
                      <a:lnTo>
                        <a:pt x="6" y="556"/>
                      </a:lnTo>
                      <a:lnTo>
                        <a:pt x="6" y="565"/>
                      </a:lnTo>
                      <a:lnTo>
                        <a:pt x="7" y="575"/>
                      </a:lnTo>
                      <a:lnTo>
                        <a:pt x="7" y="584"/>
                      </a:lnTo>
                      <a:lnTo>
                        <a:pt x="9" y="593"/>
                      </a:lnTo>
                      <a:lnTo>
                        <a:pt x="10" y="600"/>
                      </a:lnTo>
                      <a:lnTo>
                        <a:pt x="10" y="609"/>
                      </a:lnTo>
                      <a:lnTo>
                        <a:pt x="11" y="617"/>
                      </a:lnTo>
                      <a:lnTo>
                        <a:pt x="12" y="625"/>
                      </a:lnTo>
                      <a:lnTo>
                        <a:pt x="12" y="631"/>
                      </a:lnTo>
                      <a:lnTo>
                        <a:pt x="13" y="638"/>
                      </a:lnTo>
                      <a:lnTo>
                        <a:pt x="15" y="646"/>
                      </a:lnTo>
                      <a:lnTo>
                        <a:pt x="15" y="651"/>
                      </a:lnTo>
                      <a:lnTo>
                        <a:pt x="16" y="657"/>
                      </a:lnTo>
                      <a:lnTo>
                        <a:pt x="17" y="663"/>
                      </a:lnTo>
                      <a:lnTo>
                        <a:pt x="17" y="669"/>
                      </a:lnTo>
                      <a:lnTo>
                        <a:pt x="19" y="674"/>
                      </a:lnTo>
                      <a:lnTo>
                        <a:pt x="21" y="679"/>
                      </a:lnTo>
                      <a:lnTo>
                        <a:pt x="21" y="685"/>
                      </a:lnTo>
                      <a:lnTo>
                        <a:pt x="22" y="689"/>
                      </a:lnTo>
                      <a:lnTo>
                        <a:pt x="23" y="693"/>
                      </a:lnTo>
                      <a:lnTo>
                        <a:pt x="23" y="697"/>
                      </a:lnTo>
                      <a:lnTo>
                        <a:pt x="25" y="701"/>
                      </a:lnTo>
                      <a:lnTo>
                        <a:pt x="25" y="705"/>
                      </a:lnTo>
                      <a:lnTo>
                        <a:pt x="26" y="708"/>
                      </a:lnTo>
                      <a:lnTo>
                        <a:pt x="28" y="712"/>
                      </a:lnTo>
                      <a:lnTo>
                        <a:pt x="28" y="714"/>
                      </a:lnTo>
                      <a:lnTo>
                        <a:pt x="29" y="718"/>
                      </a:lnTo>
                      <a:lnTo>
                        <a:pt x="30" y="720"/>
                      </a:lnTo>
                      <a:lnTo>
                        <a:pt x="30" y="723"/>
                      </a:lnTo>
                      <a:lnTo>
                        <a:pt x="32" y="726"/>
                      </a:lnTo>
                      <a:lnTo>
                        <a:pt x="32" y="729"/>
                      </a:lnTo>
                      <a:lnTo>
                        <a:pt x="34" y="731"/>
                      </a:lnTo>
                      <a:lnTo>
                        <a:pt x="35" y="735"/>
                      </a:lnTo>
                      <a:lnTo>
                        <a:pt x="37" y="738"/>
                      </a:lnTo>
                      <a:lnTo>
                        <a:pt x="38" y="740"/>
                      </a:lnTo>
                      <a:lnTo>
                        <a:pt x="41" y="744"/>
                      </a:lnTo>
                      <a:lnTo>
                        <a:pt x="43" y="749"/>
                      </a:lnTo>
                      <a:lnTo>
                        <a:pt x="48" y="752"/>
                      </a:lnTo>
                      <a:lnTo>
                        <a:pt x="50" y="757"/>
                      </a:lnTo>
                      <a:lnTo>
                        <a:pt x="55" y="762"/>
                      </a:lnTo>
                      <a:lnTo>
                        <a:pt x="56" y="763"/>
                      </a:lnTo>
                      <a:lnTo>
                        <a:pt x="61" y="765"/>
                      </a:lnTo>
                      <a:lnTo>
                        <a:pt x="63" y="768"/>
                      </a:lnTo>
                      <a:lnTo>
                        <a:pt x="68" y="771"/>
                      </a:lnTo>
                      <a:lnTo>
                        <a:pt x="70" y="773"/>
                      </a:lnTo>
                      <a:lnTo>
                        <a:pt x="73" y="774"/>
                      </a:lnTo>
                      <a:lnTo>
                        <a:pt x="75" y="775"/>
                      </a:lnTo>
                      <a:lnTo>
                        <a:pt x="79" y="775"/>
                      </a:lnTo>
                      <a:lnTo>
                        <a:pt x="81" y="777"/>
                      </a:lnTo>
                      <a:lnTo>
                        <a:pt x="85" y="778"/>
                      </a:lnTo>
                      <a:lnTo>
                        <a:pt x="88" y="780"/>
                      </a:lnTo>
                      <a:lnTo>
                        <a:pt x="92" y="781"/>
                      </a:lnTo>
                      <a:lnTo>
                        <a:pt x="96" y="782"/>
                      </a:lnTo>
                      <a:lnTo>
                        <a:pt x="100" y="783"/>
                      </a:lnTo>
                      <a:lnTo>
                        <a:pt x="105" y="784"/>
                      </a:lnTo>
                      <a:lnTo>
                        <a:pt x="110" y="786"/>
                      </a:lnTo>
                      <a:lnTo>
                        <a:pt x="114" y="786"/>
                      </a:lnTo>
                      <a:lnTo>
                        <a:pt x="119" y="788"/>
                      </a:lnTo>
                      <a:lnTo>
                        <a:pt x="125" y="788"/>
                      </a:lnTo>
                      <a:lnTo>
                        <a:pt x="131" y="790"/>
                      </a:lnTo>
                      <a:lnTo>
                        <a:pt x="137" y="790"/>
                      </a:lnTo>
                      <a:lnTo>
                        <a:pt x="144" y="793"/>
                      </a:lnTo>
                      <a:lnTo>
                        <a:pt x="150" y="793"/>
                      </a:lnTo>
                      <a:lnTo>
                        <a:pt x="157" y="794"/>
                      </a:lnTo>
                      <a:lnTo>
                        <a:pt x="164" y="795"/>
                      </a:lnTo>
                      <a:lnTo>
                        <a:pt x="172" y="796"/>
                      </a:lnTo>
                      <a:lnTo>
                        <a:pt x="181" y="796"/>
                      </a:lnTo>
                      <a:lnTo>
                        <a:pt x="190" y="799"/>
                      </a:lnTo>
                      <a:lnTo>
                        <a:pt x="198" y="799"/>
                      </a:lnTo>
                      <a:lnTo>
                        <a:pt x="208" y="800"/>
                      </a:lnTo>
                      <a:lnTo>
                        <a:pt x="217" y="800"/>
                      </a:lnTo>
                      <a:lnTo>
                        <a:pt x="228" y="801"/>
                      </a:lnTo>
                      <a:lnTo>
                        <a:pt x="238" y="801"/>
                      </a:lnTo>
                      <a:lnTo>
                        <a:pt x="250" y="802"/>
                      </a:lnTo>
                      <a:lnTo>
                        <a:pt x="260" y="803"/>
                      </a:lnTo>
                      <a:lnTo>
                        <a:pt x="273" y="803"/>
                      </a:lnTo>
                      <a:lnTo>
                        <a:pt x="284" y="803"/>
                      </a:lnTo>
                      <a:lnTo>
                        <a:pt x="297" y="805"/>
                      </a:lnTo>
                      <a:lnTo>
                        <a:pt x="310" y="806"/>
                      </a:lnTo>
                      <a:lnTo>
                        <a:pt x="324" y="806"/>
                      </a:lnTo>
                      <a:lnTo>
                        <a:pt x="339" y="806"/>
                      </a:lnTo>
                      <a:lnTo>
                        <a:pt x="352" y="806"/>
                      </a:lnTo>
                      <a:lnTo>
                        <a:pt x="367" y="807"/>
                      </a:lnTo>
                      <a:lnTo>
                        <a:pt x="384" y="808"/>
                      </a:lnTo>
                      <a:lnTo>
                        <a:pt x="399" y="808"/>
                      </a:lnTo>
                      <a:lnTo>
                        <a:pt x="416" y="808"/>
                      </a:lnTo>
                      <a:lnTo>
                        <a:pt x="432" y="808"/>
                      </a:lnTo>
                      <a:lnTo>
                        <a:pt x="451" y="808"/>
                      </a:lnTo>
                      <a:lnTo>
                        <a:pt x="470" y="808"/>
                      </a:lnTo>
                      <a:lnTo>
                        <a:pt x="488" y="808"/>
                      </a:lnTo>
                      <a:lnTo>
                        <a:pt x="508" y="808"/>
                      </a:lnTo>
                      <a:lnTo>
                        <a:pt x="528" y="808"/>
                      </a:lnTo>
                      <a:lnTo>
                        <a:pt x="538" y="808"/>
                      </a:lnTo>
                      <a:lnTo>
                        <a:pt x="546" y="808"/>
                      </a:lnTo>
                      <a:lnTo>
                        <a:pt x="557" y="807"/>
                      </a:lnTo>
                      <a:lnTo>
                        <a:pt x="566" y="807"/>
                      </a:lnTo>
                      <a:lnTo>
                        <a:pt x="575" y="806"/>
                      </a:lnTo>
                      <a:lnTo>
                        <a:pt x="585" y="806"/>
                      </a:lnTo>
                      <a:lnTo>
                        <a:pt x="595" y="806"/>
                      </a:lnTo>
                      <a:lnTo>
                        <a:pt x="604" y="806"/>
                      </a:lnTo>
                      <a:lnTo>
                        <a:pt x="614" y="806"/>
                      </a:lnTo>
                      <a:lnTo>
                        <a:pt x="622" y="806"/>
                      </a:lnTo>
                      <a:lnTo>
                        <a:pt x="632" y="806"/>
                      </a:lnTo>
                      <a:lnTo>
                        <a:pt x="641" y="806"/>
                      </a:lnTo>
                      <a:lnTo>
                        <a:pt x="651" y="806"/>
                      </a:lnTo>
                      <a:lnTo>
                        <a:pt x="660" y="806"/>
                      </a:lnTo>
                      <a:lnTo>
                        <a:pt x="668" y="806"/>
                      </a:lnTo>
                      <a:lnTo>
                        <a:pt x="678" y="806"/>
                      </a:lnTo>
                      <a:lnTo>
                        <a:pt x="686" y="805"/>
                      </a:lnTo>
                      <a:lnTo>
                        <a:pt x="696" y="803"/>
                      </a:lnTo>
                      <a:lnTo>
                        <a:pt x="704" y="803"/>
                      </a:lnTo>
                      <a:lnTo>
                        <a:pt x="713" y="803"/>
                      </a:lnTo>
                      <a:lnTo>
                        <a:pt x="722" y="803"/>
                      </a:lnTo>
                      <a:lnTo>
                        <a:pt x="730" y="803"/>
                      </a:lnTo>
                      <a:lnTo>
                        <a:pt x="738" y="803"/>
                      </a:lnTo>
                      <a:lnTo>
                        <a:pt x="747" y="803"/>
                      </a:lnTo>
                      <a:lnTo>
                        <a:pt x="755" y="802"/>
                      </a:lnTo>
                      <a:lnTo>
                        <a:pt x="763" y="801"/>
                      </a:lnTo>
                      <a:lnTo>
                        <a:pt x="772" y="801"/>
                      </a:lnTo>
                      <a:lnTo>
                        <a:pt x="780" y="801"/>
                      </a:lnTo>
                      <a:lnTo>
                        <a:pt x="787" y="801"/>
                      </a:lnTo>
                      <a:lnTo>
                        <a:pt x="794" y="801"/>
                      </a:lnTo>
                      <a:lnTo>
                        <a:pt x="802" y="801"/>
                      </a:lnTo>
                      <a:lnTo>
                        <a:pt x="810" y="801"/>
                      </a:lnTo>
                      <a:lnTo>
                        <a:pt x="817" y="801"/>
                      </a:lnTo>
                      <a:lnTo>
                        <a:pt x="824" y="800"/>
                      </a:lnTo>
                      <a:lnTo>
                        <a:pt x="830" y="800"/>
                      </a:lnTo>
                      <a:lnTo>
                        <a:pt x="838" y="800"/>
                      </a:lnTo>
                      <a:lnTo>
                        <a:pt x="844" y="799"/>
                      </a:lnTo>
                      <a:lnTo>
                        <a:pt x="850" y="799"/>
                      </a:lnTo>
                      <a:lnTo>
                        <a:pt x="856" y="799"/>
                      </a:lnTo>
                      <a:lnTo>
                        <a:pt x="863" y="799"/>
                      </a:lnTo>
                      <a:lnTo>
                        <a:pt x="868" y="797"/>
                      </a:lnTo>
                      <a:lnTo>
                        <a:pt x="875" y="797"/>
                      </a:lnTo>
                      <a:lnTo>
                        <a:pt x="881" y="797"/>
                      </a:lnTo>
                      <a:lnTo>
                        <a:pt x="885" y="797"/>
                      </a:lnTo>
                      <a:lnTo>
                        <a:pt x="890" y="796"/>
                      </a:lnTo>
                      <a:lnTo>
                        <a:pt x="896" y="796"/>
                      </a:lnTo>
                      <a:lnTo>
                        <a:pt x="901" y="796"/>
                      </a:lnTo>
                      <a:lnTo>
                        <a:pt x="906" y="796"/>
                      </a:lnTo>
                      <a:lnTo>
                        <a:pt x="909" y="796"/>
                      </a:lnTo>
                      <a:lnTo>
                        <a:pt x="914" y="795"/>
                      </a:lnTo>
                      <a:lnTo>
                        <a:pt x="919" y="795"/>
                      </a:lnTo>
                      <a:lnTo>
                        <a:pt x="921" y="795"/>
                      </a:lnTo>
                      <a:lnTo>
                        <a:pt x="925" y="794"/>
                      </a:lnTo>
                      <a:lnTo>
                        <a:pt x="928" y="794"/>
                      </a:lnTo>
                      <a:lnTo>
                        <a:pt x="932" y="794"/>
                      </a:lnTo>
                      <a:lnTo>
                        <a:pt x="935" y="794"/>
                      </a:lnTo>
                      <a:lnTo>
                        <a:pt x="940" y="794"/>
                      </a:lnTo>
                      <a:lnTo>
                        <a:pt x="944" y="794"/>
                      </a:lnTo>
                      <a:lnTo>
                        <a:pt x="947" y="794"/>
                      </a:lnTo>
                      <a:lnTo>
                        <a:pt x="950" y="794"/>
                      </a:lnTo>
                      <a:lnTo>
                        <a:pt x="952" y="793"/>
                      </a:lnTo>
                      <a:lnTo>
                        <a:pt x="954" y="790"/>
                      </a:lnTo>
                      <a:lnTo>
                        <a:pt x="954" y="788"/>
                      </a:lnTo>
                      <a:lnTo>
                        <a:pt x="954" y="786"/>
                      </a:lnTo>
                      <a:lnTo>
                        <a:pt x="954" y="783"/>
                      </a:lnTo>
                      <a:lnTo>
                        <a:pt x="954" y="781"/>
                      </a:lnTo>
                      <a:lnTo>
                        <a:pt x="954" y="777"/>
                      </a:lnTo>
                      <a:lnTo>
                        <a:pt x="953" y="774"/>
                      </a:lnTo>
                      <a:lnTo>
                        <a:pt x="952" y="770"/>
                      </a:lnTo>
                      <a:lnTo>
                        <a:pt x="952" y="767"/>
                      </a:lnTo>
                      <a:lnTo>
                        <a:pt x="951" y="763"/>
                      </a:lnTo>
                      <a:lnTo>
                        <a:pt x="950" y="759"/>
                      </a:lnTo>
                      <a:lnTo>
                        <a:pt x="950" y="755"/>
                      </a:lnTo>
                      <a:lnTo>
                        <a:pt x="948" y="751"/>
                      </a:lnTo>
                      <a:lnTo>
                        <a:pt x="946" y="748"/>
                      </a:lnTo>
                      <a:lnTo>
                        <a:pt x="945" y="743"/>
                      </a:lnTo>
                      <a:lnTo>
                        <a:pt x="944" y="739"/>
                      </a:lnTo>
                      <a:lnTo>
                        <a:pt x="942" y="736"/>
                      </a:lnTo>
                      <a:lnTo>
                        <a:pt x="941" y="732"/>
                      </a:lnTo>
                      <a:lnTo>
                        <a:pt x="939" y="729"/>
                      </a:lnTo>
                      <a:lnTo>
                        <a:pt x="939" y="725"/>
                      </a:lnTo>
                      <a:lnTo>
                        <a:pt x="938" y="723"/>
                      </a:lnTo>
                      <a:lnTo>
                        <a:pt x="937" y="720"/>
                      </a:lnTo>
                      <a:lnTo>
                        <a:pt x="934" y="717"/>
                      </a:lnTo>
                      <a:lnTo>
                        <a:pt x="934" y="714"/>
                      </a:lnTo>
                      <a:lnTo>
                        <a:pt x="934" y="713"/>
                      </a:lnTo>
                      <a:lnTo>
                        <a:pt x="932" y="711"/>
                      </a:lnTo>
                      <a:lnTo>
                        <a:pt x="932" y="71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Freeform 47"/>
                <p:cNvSpPr/>
                <p:nvPr/>
              </p:nvSpPr>
              <p:spPr>
                <a:xfrm>
                  <a:off x="7359480" y="1990800"/>
                  <a:ext cx="320400" cy="61920"/>
                </a:xfrm>
                <a:custGeom>
                  <a:avLst/>
                  <a:gdLst>
                    <a:gd name="textAreaLeft" fmla="*/ 0 w 320400"/>
                    <a:gd name="textAreaRight" fmla="*/ 320760 w 3204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05" h="119">
                      <a:moveTo>
                        <a:pt x="0" y="34"/>
                      </a:moveTo>
                      <a:lnTo>
                        <a:pt x="14" y="119"/>
                      </a:lnTo>
                      <a:lnTo>
                        <a:pt x="23" y="117"/>
                      </a:lnTo>
                      <a:lnTo>
                        <a:pt x="34" y="114"/>
                      </a:lnTo>
                      <a:lnTo>
                        <a:pt x="42" y="112"/>
                      </a:lnTo>
                      <a:lnTo>
                        <a:pt x="52" y="111"/>
                      </a:lnTo>
                      <a:lnTo>
                        <a:pt x="62" y="110"/>
                      </a:lnTo>
                      <a:lnTo>
                        <a:pt x="72" y="108"/>
                      </a:lnTo>
                      <a:lnTo>
                        <a:pt x="80" y="106"/>
                      </a:lnTo>
                      <a:lnTo>
                        <a:pt x="91" y="105"/>
                      </a:lnTo>
                      <a:lnTo>
                        <a:pt x="100" y="104"/>
                      </a:lnTo>
                      <a:lnTo>
                        <a:pt x="110" y="101"/>
                      </a:lnTo>
                      <a:lnTo>
                        <a:pt x="119" y="101"/>
                      </a:lnTo>
                      <a:lnTo>
                        <a:pt x="129" y="99"/>
                      </a:lnTo>
                      <a:lnTo>
                        <a:pt x="138" y="98"/>
                      </a:lnTo>
                      <a:lnTo>
                        <a:pt x="148" y="97"/>
                      </a:lnTo>
                      <a:lnTo>
                        <a:pt x="156" y="97"/>
                      </a:lnTo>
                      <a:lnTo>
                        <a:pt x="166" y="95"/>
                      </a:lnTo>
                      <a:lnTo>
                        <a:pt x="176" y="94"/>
                      </a:lnTo>
                      <a:lnTo>
                        <a:pt x="185" y="94"/>
                      </a:lnTo>
                      <a:lnTo>
                        <a:pt x="194" y="93"/>
                      </a:lnTo>
                      <a:lnTo>
                        <a:pt x="204" y="92"/>
                      </a:lnTo>
                      <a:lnTo>
                        <a:pt x="212" y="92"/>
                      </a:lnTo>
                      <a:lnTo>
                        <a:pt x="221" y="91"/>
                      </a:lnTo>
                      <a:lnTo>
                        <a:pt x="231" y="89"/>
                      </a:lnTo>
                      <a:lnTo>
                        <a:pt x="239" y="89"/>
                      </a:lnTo>
                      <a:lnTo>
                        <a:pt x="249" y="89"/>
                      </a:lnTo>
                      <a:lnTo>
                        <a:pt x="257" y="88"/>
                      </a:lnTo>
                      <a:lnTo>
                        <a:pt x="268" y="88"/>
                      </a:lnTo>
                      <a:lnTo>
                        <a:pt x="276" y="88"/>
                      </a:lnTo>
                      <a:lnTo>
                        <a:pt x="286" y="87"/>
                      </a:lnTo>
                      <a:lnTo>
                        <a:pt x="294" y="87"/>
                      </a:lnTo>
                      <a:lnTo>
                        <a:pt x="303" y="87"/>
                      </a:lnTo>
                      <a:lnTo>
                        <a:pt x="313" y="87"/>
                      </a:lnTo>
                      <a:lnTo>
                        <a:pt x="321" y="86"/>
                      </a:lnTo>
                      <a:lnTo>
                        <a:pt x="329" y="86"/>
                      </a:lnTo>
                      <a:lnTo>
                        <a:pt x="339" y="86"/>
                      </a:lnTo>
                      <a:lnTo>
                        <a:pt x="347" y="86"/>
                      </a:lnTo>
                      <a:lnTo>
                        <a:pt x="356" y="86"/>
                      </a:lnTo>
                      <a:lnTo>
                        <a:pt x="365" y="86"/>
                      </a:lnTo>
                      <a:lnTo>
                        <a:pt x="373" y="86"/>
                      </a:lnTo>
                      <a:lnTo>
                        <a:pt x="383" y="87"/>
                      </a:lnTo>
                      <a:lnTo>
                        <a:pt x="391" y="87"/>
                      </a:lnTo>
                      <a:lnTo>
                        <a:pt x="399" y="88"/>
                      </a:lnTo>
                      <a:lnTo>
                        <a:pt x="409" y="88"/>
                      </a:lnTo>
                      <a:lnTo>
                        <a:pt x="417" y="89"/>
                      </a:lnTo>
                      <a:lnTo>
                        <a:pt x="427" y="89"/>
                      </a:lnTo>
                      <a:lnTo>
                        <a:pt x="435" y="91"/>
                      </a:lnTo>
                      <a:lnTo>
                        <a:pt x="443" y="91"/>
                      </a:lnTo>
                      <a:lnTo>
                        <a:pt x="453" y="92"/>
                      </a:lnTo>
                      <a:lnTo>
                        <a:pt x="461" y="92"/>
                      </a:lnTo>
                      <a:lnTo>
                        <a:pt x="469" y="93"/>
                      </a:lnTo>
                      <a:lnTo>
                        <a:pt x="478" y="94"/>
                      </a:lnTo>
                      <a:lnTo>
                        <a:pt x="487" y="95"/>
                      </a:lnTo>
                      <a:lnTo>
                        <a:pt x="496" y="97"/>
                      </a:lnTo>
                      <a:lnTo>
                        <a:pt x="503" y="97"/>
                      </a:lnTo>
                      <a:lnTo>
                        <a:pt x="512" y="98"/>
                      </a:lnTo>
                      <a:lnTo>
                        <a:pt x="520" y="99"/>
                      </a:lnTo>
                      <a:lnTo>
                        <a:pt x="529" y="100"/>
                      </a:lnTo>
                      <a:lnTo>
                        <a:pt x="537" y="101"/>
                      </a:lnTo>
                      <a:lnTo>
                        <a:pt x="545" y="104"/>
                      </a:lnTo>
                      <a:lnTo>
                        <a:pt x="555" y="104"/>
                      </a:lnTo>
                      <a:lnTo>
                        <a:pt x="563" y="106"/>
                      </a:lnTo>
                      <a:lnTo>
                        <a:pt x="571" y="107"/>
                      </a:lnTo>
                      <a:lnTo>
                        <a:pt x="580" y="110"/>
                      </a:lnTo>
                      <a:lnTo>
                        <a:pt x="589" y="111"/>
                      </a:lnTo>
                      <a:lnTo>
                        <a:pt x="605" y="25"/>
                      </a:lnTo>
                      <a:lnTo>
                        <a:pt x="594" y="23"/>
                      </a:lnTo>
                      <a:lnTo>
                        <a:pt x="586" y="22"/>
                      </a:lnTo>
                      <a:lnTo>
                        <a:pt x="576" y="21"/>
                      </a:lnTo>
                      <a:lnTo>
                        <a:pt x="568" y="18"/>
                      </a:lnTo>
                      <a:lnTo>
                        <a:pt x="558" y="18"/>
                      </a:lnTo>
                      <a:lnTo>
                        <a:pt x="550" y="16"/>
                      </a:lnTo>
                      <a:lnTo>
                        <a:pt x="541" y="15"/>
                      </a:lnTo>
                      <a:lnTo>
                        <a:pt x="532" y="14"/>
                      </a:lnTo>
                      <a:lnTo>
                        <a:pt x="523" y="12"/>
                      </a:lnTo>
                      <a:lnTo>
                        <a:pt x="513" y="11"/>
                      </a:lnTo>
                      <a:lnTo>
                        <a:pt x="505" y="10"/>
                      </a:lnTo>
                      <a:lnTo>
                        <a:pt x="496" y="9"/>
                      </a:lnTo>
                      <a:lnTo>
                        <a:pt x="487" y="8"/>
                      </a:lnTo>
                      <a:lnTo>
                        <a:pt x="478" y="8"/>
                      </a:lnTo>
                      <a:lnTo>
                        <a:pt x="468" y="6"/>
                      </a:lnTo>
                      <a:lnTo>
                        <a:pt x="460" y="5"/>
                      </a:lnTo>
                      <a:lnTo>
                        <a:pt x="450" y="4"/>
                      </a:lnTo>
                      <a:lnTo>
                        <a:pt x="441" y="4"/>
                      </a:lnTo>
                      <a:lnTo>
                        <a:pt x="431" y="3"/>
                      </a:lnTo>
                      <a:lnTo>
                        <a:pt x="423" y="3"/>
                      </a:lnTo>
                      <a:lnTo>
                        <a:pt x="414" y="2"/>
                      </a:lnTo>
                      <a:lnTo>
                        <a:pt x="404" y="2"/>
                      </a:lnTo>
                      <a:lnTo>
                        <a:pt x="395" y="0"/>
                      </a:lnTo>
                      <a:lnTo>
                        <a:pt x="386" y="0"/>
                      </a:lnTo>
                      <a:lnTo>
                        <a:pt x="377" y="0"/>
                      </a:lnTo>
                      <a:lnTo>
                        <a:pt x="369" y="0"/>
                      </a:lnTo>
                      <a:lnTo>
                        <a:pt x="359" y="0"/>
                      </a:lnTo>
                      <a:lnTo>
                        <a:pt x="350" y="0"/>
                      </a:lnTo>
                      <a:lnTo>
                        <a:pt x="340" y="0"/>
                      </a:lnTo>
                      <a:lnTo>
                        <a:pt x="331" y="0"/>
                      </a:lnTo>
                      <a:lnTo>
                        <a:pt x="321" y="0"/>
                      </a:lnTo>
                      <a:lnTo>
                        <a:pt x="312" y="0"/>
                      </a:lnTo>
                      <a:lnTo>
                        <a:pt x="302" y="0"/>
                      </a:lnTo>
                      <a:lnTo>
                        <a:pt x="293" y="0"/>
                      </a:lnTo>
                      <a:lnTo>
                        <a:pt x="283" y="0"/>
                      </a:lnTo>
                      <a:lnTo>
                        <a:pt x="274" y="0"/>
                      </a:lnTo>
                      <a:lnTo>
                        <a:pt x="264" y="0"/>
                      </a:lnTo>
                      <a:lnTo>
                        <a:pt x="255" y="2"/>
                      </a:lnTo>
                      <a:lnTo>
                        <a:pt x="245" y="2"/>
                      </a:lnTo>
                      <a:lnTo>
                        <a:pt x="236" y="3"/>
                      </a:lnTo>
                      <a:lnTo>
                        <a:pt x="226" y="3"/>
                      </a:lnTo>
                      <a:lnTo>
                        <a:pt x="217" y="4"/>
                      </a:lnTo>
                      <a:lnTo>
                        <a:pt x="207" y="5"/>
                      </a:lnTo>
                      <a:lnTo>
                        <a:pt x="197" y="5"/>
                      </a:lnTo>
                      <a:lnTo>
                        <a:pt x="187" y="6"/>
                      </a:lnTo>
                      <a:lnTo>
                        <a:pt x="178" y="8"/>
                      </a:lnTo>
                      <a:lnTo>
                        <a:pt x="168" y="8"/>
                      </a:lnTo>
                      <a:lnTo>
                        <a:pt x="159" y="10"/>
                      </a:lnTo>
                      <a:lnTo>
                        <a:pt x="149" y="10"/>
                      </a:lnTo>
                      <a:lnTo>
                        <a:pt x="138" y="11"/>
                      </a:lnTo>
                      <a:lnTo>
                        <a:pt x="128" y="14"/>
                      </a:lnTo>
                      <a:lnTo>
                        <a:pt x="118" y="14"/>
                      </a:lnTo>
                      <a:lnTo>
                        <a:pt x="109" y="16"/>
                      </a:lnTo>
                      <a:lnTo>
                        <a:pt x="99" y="17"/>
                      </a:lnTo>
                      <a:lnTo>
                        <a:pt x="89" y="18"/>
                      </a:lnTo>
                      <a:lnTo>
                        <a:pt x="80" y="19"/>
                      </a:lnTo>
                      <a:lnTo>
                        <a:pt x="70" y="21"/>
                      </a:lnTo>
                      <a:lnTo>
                        <a:pt x="60" y="23"/>
                      </a:lnTo>
                      <a:lnTo>
                        <a:pt x="49" y="24"/>
                      </a:lnTo>
                      <a:lnTo>
                        <a:pt x="40" y="25"/>
                      </a:lnTo>
                      <a:lnTo>
                        <a:pt x="29" y="28"/>
                      </a:lnTo>
                      <a:lnTo>
                        <a:pt x="20" y="29"/>
                      </a:lnTo>
                      <a:lnTo>
                        <a:pt x="9" y="3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Freeform 48"/>
                <p:cNvSpPr/>
                <p:nvPr/>
              </p:nvSpPr>
              <p:spPr>
                <a:xfrm>
                  <a:off x="7246800" y="2376720"/>
                  <a:ext cx="603000" cy="52560"/>
                </a:xfrm>
                <a:custGeom>
                  <a:avLst/>
                  <a:gdLst>
                    <a:gd name="textAreaLeft" fmla="*/ 0 w 603000"/>
                    <a:gd name="textAreaRight" fmla="*/ 603360 w 6030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140" h="99">
                      <a:moveTo>
                        <a:pt x="0" y="13"/>
                      </a:moveTo>
                      <a:lnTo>
                        <a:pt x="3" y="99"/>
                      </a:lnTo>
                      <a:lnTo>
                        <a:pt x="19" y="97"/>
                      </a:lnTo>
                      <a:lnTo>
                        <a:pt x="35" y="97"/>
                      </a:lnTo>
                      <a:lnTo>
                        <a:pt x="52" y="97"/>
                      </a:lnTo>
                      <a:lnTo>
                        <a:pt x="69" y="96"/>
                      </a:lnTo>
                      <a:lnTo>
                        <a:pt x="86" y="94"/>
                      </a:lnTo>
                      <a:lnTo>
                        <a:pt x="102" y="94"/>
                      </a:lnTo>
                      <a:lnTo>
                        <a:pt x="120" y="94"/>
                      </a:lnTo>
                      <a:lnTo>
                        <a:pt x="137" y="94"/>
                      </a:lnTo>
                      <a:lnTo>
                        <a:pt x="154" y="93"/>
                      </a:lnTo>
                      <a:lnTo>
                        <a:pt x="171" y="92"/>
                      </a:lnTo>
                      <a:lnTo>
                        <a:pt x="188" y="92"/>
                      </a:lnTo>
                      <a:lnTo>
                        <a:pt x="204" y="92"/>
                      </a:lnTo>
                      <a:lnTo>
                        <a:pt x="222" y="92"/>
                      </a:lnTo>
                      <a:lnTo>
                        <a:pt x="240" y="91"/>
                      </a:lnTo>
                      <a:lnTo>
                        <a:pt x="256" y="91"/>
                      </a:lnTo>
                      <a:lnTo>
                        <a:pt x="274" y="91"/>
                      </a:lnTo>
                      <a:lnTo>
                        <a:pt x="291" y="90"/>
                      </a:lnTo>
                      <a:lnTo>
                        <a:pt x="309" y="90"/>
                      </a:lnTo>
                      <a:lnTo>
                        <a:pt x="326" y="90"/>
                      </a:lnTo>
                      <a:lnTo>
                        <a:pt x="343" y="90"/>
                      </a:lnTo>
                      <a:lnTo>
                        <a:pt x="361" y="89"/>
                      </a:lnTo>
                      <a:lnTo>
                        <a:pt x="379" y="89"/>
                      </a:lnTo>
                      <a:lnTo>
                        <a:pt x="395" y="87"/>
                      </a:lnTo>
                      <a:lnTo>
                        <a:pt x="413" y="87"/>
                      </a:lnTo>
                      <a:lnTo>
                        <a:pt x="430" y="87"/>
                      </a:lnTo>
                      <a:lnTo>
                        <a:pt x="447" y="87"/>
                      </a:lnTo>
                      <a:lnTo>
                        <a:pt x="465" y="87"/>
                      </a:lnTo>
                      <a:lnTo>
                        <a:pt x="483" y="87"/>
                      </a:lnTo>
                      <a:lnTo>
                        <a:pt x="501" y="87"/>
                      </a:lnTo>
                      <a:lnTo>
                        <a:pt x="519" y="87"/>
                      </a:lnTo>
                      <a:lnTo>
                        <a:pt x="536" y="87"/>
                      </a:lnTo>
                      <a:lnTo>
                        <a:pt x="554" y="87"/>
                      </a:lnTo>
                      <a:lnTo>
                        <a:pt x="572" y="86"/>
                      </a:lnTo>
                      <a:lnTo>
                        <a:pt x="590" y="86"/>
                      </a:lnTo>
                      <a:lnTo>
                        <a:pt x="606" y="86"/>
                      </a:lnTo>
                      <a:lnTo>
                        <a:pt x="625" y="86"/>
                      </a:lnTo>
                      <a:lnTo>
                        <a:pt x="643" y="86"/>
                      </a:lnTo>
                      <a:lnTo>
                        <a:pt x="661" y="86"/>
                      </a:lnTo>
                      <a:lnTo>
                        <a:pt x="679" y="86"/>
                      </a:lnTo>
                      <a:lnTo>
                        <a:pt x="698" y="87"/>
                      </a:lnTo>
                      <a:lnTo>
                        <a:pt x="714" y="87"/>
                      </a:lnTo>
                      <a:lnTo>
                        <a:pt x="733" y="87"/>
                      </a:lnTo>
                      <a:lnTo>
                        <a:pt x="751" y="87"/>
                      </a:lnTo>
                      <a:lnTo>
                        <a:pt x="769" y="87"/>
                      </a:lnTo>
                      <a:lnTo>
                        <a:pt x="787" y="87"/>
                      </a:lnTo>
                      <a:lnTo>
                        <a:pt x="805" y="87"/>
                      </a:lnTo>
                      <a:lnTo>
                        <a:pt x="824" y="87"/>
                      </a:lnTo>
                      <a:lnTo>
                        <a:pt x="843" y="89"/>
                      </a:lnTo>
                      <a:lnTo>
                        <a:pt x="860" y="89"/>
                      </a:lnTo>
                      <a:lnTo>
                        <a:pt x="878" y="89"/>
                      </a:lnTo>
                      <a:lnTo>
                        <a:pt x="896" y="90"/>
                      </a:lnTo>
                      <a:lnTo>
                        <a:pt x="915" y="90"/>
                      </a:lnTo>
                      <a:lnTo>
                        <a:pt x="934" y="90"/>
                      </a:lnTo>
                      <a:lnTo>
                        <a:pt x="952" y="91"/>
                      </a:lnTo>
                      <a:lnTo>
                        <a:pt x="970" y="91"/>
                      </a:lnTo>
                      <a:lnTo>
                        <a:pt x="989" y="92"/>
                      </a:lnTo>
                      <a:lnTo>
                        <a:pt x="1006" y="92"/>
                      </a:lnTo>
                      <a:lnTo>
                        <a:pt x="1024" y="93"/>
                      </a:lnTo>
                      <a:lnTo>
                        <a:pt x="1043" y="94"/>
                      </a:lnTo>
                      <a:lnTo>
                        <a:pt x="1062" y="94"/>
                      </a:lnTo>
                      <a:lnTo>
                        <a:pt x="1080" y="96"/>
                      </a:lnTo>
                      <a:lnTo>
                        <a:pt x="1099" y="97"/>
                      </a:lnTo>
                      <a:lnTo>
                        <a:pt x="1118" y="97"/>
                      </a:lnTo>
                      <a:lnTo>
                        <a:pt x="1136" y="99"/>
                      </a:lnTo>
                      <a:lnTo>
                        <a:pt x="1140" y="13"/>
                      </a:lnTo>
                      <a:lnTo>
                        <a:pt x="1121" y="11"/>
                      </a:lnTo>
                      <a:lnTo>
                        <a:pt x="1102" y="10"/>
                      </a:lnTo>
                      <a:lnTo>
                        <a:pt x="1083" y="9"/>
                      </a:lnTo>
                      <a:lnTo>
                        <a:pt x="1066" y="9"/>
                      </a:lnTo>
                      <a:lnTo>
                        <a:pt x="1047" y="8"/>
                      </a:lnTo>
                      <a:lnTo>
                        <a:pt x="1028" y="7"/>
                      </a:lnTo>
                      <a:lnTo>
                        <a:pt x="1010" y="7"/>
                      </a:lnTo>
                      <a:lnTo>
                        <a:pt x="991" y="7"/>
                      </a:lnTo>
                      <a:lnTo>
                        <a:pt x="972" y="4"/>
                      </a:lnTo>
                      <a:lnTo>
                        <a:pt x="954" y="4"/>
                      </a:lnTo>
                      <a:lnTo>
                        <a:pt x="936" y="4"/>
                      </a:lnTo>
                      <a:lnTo>
                        <a:pt x="917" y="4"/>
                      </a:lnTo>
                      <a:lnTo>
                        <a:pt x="898" y="3"/>
                      </a:lnTo>
                      <a:lnTo>
                        <a:pt x="881" y="2"/>
                      </a:lnTo>
                      <a:lnTo>
                        <a:pt x="863" y="2"/>
                      </a:lnTo>
                      <a:lnTo>
                        <a:pt x="844" y="2"/>
                      </a:lnTo>
                      <a:lnTo>
                        <a:pt x="825" y="1"/>
                      </a:lnTo>
                      <a:lnTo>
                        <a:pt x="807" y="1"/>
                      </a:lnTo>
                      <a:lnTo>
                        <a:pt x="789" y="1"/>
                      </a:lnTo>
                      <a:lnTo>
                        <a:pt x="771" y="1"/>
                      </a:lnTo>
                      <a:lnTo>
                        <a:pt x="752" y="1"/>
                      </a:lnTo>
                      <a:lnTo>
                        <a:pt x="733" y="1"/>
                      </a:lnTo>
                      <a:lnTo>
                        <a:pt x="716" y="1"/>
                      </a:lnTo>
                      <a:lnTo>
                        <a:pt x="698" y="1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43" y="0"/>
                      </a:lnTo>
                      <a:lnTo>
                        <a:pt x="625" y="0"/>
                      </a:lnTo>
                      <a:lnTo>
                        <a:pt x="608" y="0"/>
                      </a:lnTo>
                      <a:lnTo>
                        <a:pt x="590" y="0"/>
                      </a:lnTo>
                      <a:lnTo>
                        <a:pt x="572" y="0"/>
                      </a:lnTo>
                      <a:lnTo>
                        <a:pt x="554" y="1"/>
                      </a:lnTo>
                      <a:lnTo>
                        <a:pt x="536" y="1"/>
                      </a:lnTo>
                      <a:lnTo>
                        <a:pt x="519" y="1"/>
                      </a:lnTo>
                      <a:lnTo>
                        <a:pt x="501" y="1"/>
                      </a:lnTo>
                      <a:lnTo>
                        <a:pt x="483" y="1"/>
                      </a:lnTo>
                      <a:lnTo>
                        <a:pt x="465" y="1"/>
                      </a:lnTo>
                      <a:lnTo>
                        <a:pt x="447" y="1"/>
                      </a:lnTo>
                      <a:lnTo>
                        <a:pt x="430" y="1"/>
                      </a:lnTo>
                      <a:lnTo>
                        <a:pt x="412" y="1"/>
                      </a:lnTo>
                      <a:lnTo>
                        <a:pt x="394" y="1"/>
                      </a:lnTo>
                      <a:lnTo>
                        <a:pt x="376" y="2"/>
                      </a:lnTo>
                      <a:lnTo>
                        <a:pt x="359" y="2"/>
                      </a:lnTo>
                      <a:lnTo>
                        <a:pt x="342" y="3"/>
                      </a:lnTo>
                      <a:lnTo>
                        <a:pt x="324" y="3"/>
                      </a:lnTo>
                      <a:lnTo>
                        <a:pt x="307" y="4"/>
                      </a:lnTo>
                      <a:lnTo>
                        <a:pt x="291" y="4"/>
                      </a:lnTo>
                      <a:lnTo>
                        <a:pt x="273" y="4"/>
                      </a:lnTo>
                      <a:lnTo>
                        <a:pt x="255" y="4"/>
                      </a:lnTo>
                      <a:lnTo>
                        <a:pt x="237" y="4"/>
                      </a:lnTo>
                      <a:lnTo>
                        <a:pt x="221" y="5"/>
                      </a:lnTo>
                      <a:lnTo>
                        <a:pt x="203" y="7"/>
                      </a:lnTo>
                      <a:lnTo>
                        <a:pt x="186" y="7"/>
                      </a:lnTo>
                      <a:lnTo>
                        <a:pt x="169" y="7"/>
                      </a:lnTo>
                      <a:lnTo>
                        <a:pt x="151" y="7"/>
                      </a:lnTo>
                      <a:lnTo>
                        <a:pt x="135" y="8"/>
                      </a:lnTo>
                      <a:lnTo>
                        <a:pt x="118" y="8"/>
                      </a:lnTo>
                      <a:lnTo>
                        <a:pt x="101" y="9"/>
                      </a:lnTo>
                      <a:lnTo>
                        <a:pt x="83" y="9"/>
                      </a:lnTo>
                      <a:lnTo>
                        <a:pt x="68" y="9"/>
                      </a:lnTo>
                      <a:lnTo>
                        <a:pt x="50" y="10"/>
                      </a:lnTo>
                      <a:lnTo>
                        <a:pt x="33" y="11"/>
                      </a:lnTo>
                      <a:lnTo>
                        <a:pt x="17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Freeform 49"/>
                <p:cNvSpPr/>
                <p:nvPr/>
              </p:nvSpPr>
              <p:spPr>
                <a:xfrm>
                  <a:off x="7162920" y="2381400"/>
                  <a:ext cx="106200" cy="20340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02" h="383">
                      <a:moveTo>
                        <a:pt x="109" y="6"/>
                      </a:moveTo>
                      <a:lnTo>
                        <a:pt x="104" y="13"/>
                      </a:lnTo>
                      <a:lnTo>
                        <a:pt x="101" y="20"/>
                      </a:lnTo>
                      <a:lnTo>
                        <a:pt x="98" y="27"/>
                      </a:lnTo>
                      <a:lnTo>
                        <a:pt x="96" y="34"/>
                      </a:lnTo>
                      <a:lnTo>
                        <a:pt x="94" y="42"/>
                      </a:lnTo>
                      <a:lnTo>
                        <a:pt x="90" y="49"/>
                      </a:lnTo>
                      <a:lnTo>
                        <a:pt x="88" y="56"/>
                      </a:lnTo>
                      <a:lnTo>
                        <a:pt x="85" y="63"/>
                      </a:lnTo>
                      <a:lnTo>
                        <a:pt x="82" y="69"/>
                      </a:lnTo>
                      <a:lnTo>
                        <a:pt x="79" y="76"/>
                      </a:lnTo>
                      <a:lnTo>
                        <a:pt x="77" y="82"/>
                      </a:lnTo>
                      <a:lnTo>
                        <a:pt x="75" y="88"/>
                      </a:lnTo>
                      <a:lnTo>
                        <a:pt x="72" y="95"/>
                      </a:lnTo>
                      <a:lnTo>
                        <a:pt x="70" y="101"/>
                      </a:lnTo>
                      <a:lnTo>
                        <a:pt x="68" y="108"/>
                      </a:lnTo>
                      <a:lnTo>
                        <a:pt x="65" y="114"/>
                      </a:lnTo>
                      <a:lnTo>
                        <a:pt x="63" y="121"/>
                      </a:lnTo>
                      <a:lnTo>
                        <a:pt x="61" y="126"/>
                      </a:lnTo>
                      <a:lnTo>
                        <a:pt x="58" y="133"/>
                      </a:lnTo>
                      <a:lnTo>
                        <a:pt x="56" y="139"/>
                      </a:lnTo>
                      <a:lnTo>
                        <a:pt x="53" y="145"/>
                      </a:lnTo>
                      <a:lnTo>
                        <a:pt x="52" y="152"/>
                      </a:lnTo>
                      <a:lnTo>
                        <a:pt x="50" y="157"/>
                      </a:lnTo>
                      <a:lnTo>
                        <a:pt x="49" y="164"/>
                      </a:lnTo>
                      <a:lnTo>
                        <a:pt x="46" y="170"/>
                      </a:lnTo>
                      <a:lnTo>
                        <a:pt x="45" y="175"/>
                      </a:lnTo>
                      <a:lnTo>
                        <a:pt x="43" y="180"/>
                      </a:lnTo>
                      <a:lnTo>
                        <a:pt x="42" y="186"/>
                      </a:lnTo>
                      <a:lnTo>
                        <a:pt x="39" y="192"/>
                      </a:lnTo>
                      <a:lnTo>
                        <a:pt x="38" y="198"/>
                      </a:lnTo>
                      <a:lnTo>
                        <a:pt x="37" y="204"/>
                      </a:lnTo>
                      <a:lnTo>
                        <a:pt x="36" y="210"/>
                      </a:lnTo>
                      <a:lnTo>
                        <a:pt x="33" y="215"/>
                      </a:lnTo>
                      <a:lnTo>
                        <a:pt x="32" y="221"/>
                      </a:lnTo>
                      <a:lnTo>
                        <a:pt x="31" y="226"/>
                      </a:lnTo>
                      <a:lnTo>
                        <a:pt x="28" y="232"/>
                      </a:lnTo>
                      <a:lnTo>
                        <a:pt x="28" y="237"/>
                      </a:lnTo>
                      <a:lnTo>
                        <a:pt x="26" y="243"/>
                      </a:lnTo>
                      <a:lnTo>
                        <a:pt x="25" y="248"/>
                      </a:lnTo>
                      <a:lnTo>
                        <a:pt x="23" y="253"/>
                      </a:lnTo>
                      <a:lnTo>
                        <a:pt x="21" y="259"/>
                      </a:lnTo>
                      <a:lnTo>
                        <a:pt x="20" y="264"/>
                      </a:lnTo>
                      <a:lnTo>
                        <a:pt x="20" y="269"/>
                      </a:lnTo>
                      <a:lnTo>
                        <a:pt x="18" y="275"/>
                      </a:lnTo>
                      <a:lnTo>
                        <a:pt x="18" y="281"/>
                      </a:lnTo>
                      <a:lnTo>
                        <a:pt x="15" y="286"/>
                      </a:lnTo>
                      <a:lnTo>
                        <a:pt x="15" y="291"/>
                      </a:lnTo>
                      <a:lnTo>
                        <a:pt x="14" y="297"/>
                      </a:lnTo>
                      <a:lnTo>
                        <a:pt x="13" y="302"/>
                      </a:lnTo>
                      <a:lnTo>
                        <a:pt x="12" y="307"/>
                      </a:lnTo>
                      <a:lnTo>
                        <a:pt x="11" y="312"/>
                      </a:lnTo>
                      <a:lnTo>
                        <a:pt x="11" y="319"/>
                      </a:lnTo>
                      <a:lnTo>
                        <a:pt x="8" y="324"/>
                      </a:lnTo>
                      <a:lnTo>
                        <a:pt x="7" y="329"/>
                      </a:lnTo>
                      <a:lnTo>
                        <a:pt x="7" y="334"/>
                      </a:lnTo>
                      <a:lnTo>
                        <a:pt x="7" y="340"/>
                      </a:lnTo>
                      <a:lnTo>
                        <a:pt x="5" y="345"/>
                      </a:lnTo>
                      <a:lnTo>
                        <a:pt x="5" y="350"/>
                      </a:lnTo>
                      <a:lnTo>
                        <a:pt x="5" y="356"/>
                      </a:lnTo>
                      <a:lnTo>
                        <a:pt x="4" y="362"/>
                      </a:lnTo>
                      <a:lnTo>
                        <a:pt x="2" y="367"/>
                      </a:lnTo>
                      <a:lnTo>
                        <a:pt x="2" y="372"/>
                      </a:lnTo>
                      <a:lnTo>
                        <a:pt x="1" y="378"/>
                      </a:lnTo>
                      <a:lnTo>
                        <a:pt x="0" y="383"/>
                      </a:lnTo>
                      <a:lnTo>
                        <a:pt x="93" y="383"/>
                      </a:lnTo>
                      <a:lnTo>
                        <a:pt x="93" y="378"/>
                      </a:lnTo>
                      <a:lnTo>
                        <a:pt x="94" y="372"/>
                      </a:lnTo>
                      <a:lnTo>
                        <a:pt x="94" y="367"/>
                      </a:lnTo>
                      <a:lnTo>
                        <a:pt x="95" y="362"/>
                      </a:lnTo>
                      <a:lnTo>
                        <a:pt x="96" y="357"/>
                      </a:lnTo>
                      <a:lnTo>
                        <a:pt x="96" y="351"/>
                      </a:lnTo>
                      <a:lnTo>
                        <a:pt x="98" y="347"/>
                      </a:lnTo>
                      <a:lnTo>
                        <a:pt x="98" y="342"/>
                      </a:lnTo>
                      <a:lnTo>
                        <a:pt x="100" y="336"/>
                      </a:lnTo>
                      <a:lnTo>
                        <a:pt x="101" y="331"/>
                      </a:lnTo>
                      <a:lnTo>
                        <a:pt x="101" y="325"/>
                      </a:lnTo>
                      <a:lnTo>
                        <a:pt x="103" y="321"/>
                      </a:lnTo>
                      <a:lnTo>
                        <a:pt x="104" y="315"/>
                      </a:lnTo>
                      <a:lnTo>
                        <a:pt x="107" y="310"/>
                      </a:lnTo>
                      <a:lnTo>
                        <a:pt x="107" y="304"/>
                      </a:lnTo>
                      <a:lnTo>
                        <a:pt x="109" y="299"/>
                      </a:lnTo>
                      <a:lnTo>
                        <a:pt x="109" y="293"/>
                      </a:lnTo>
                      <a:lnTo>
                        <a:pt x="112" y="288"/>
                      </a:lnTo>
                      <a:lnTo>
                        <a:pt x="113" y="284"/>
                      </a:lnTo>
                      <a:lnTo>
                        <a:pt x="114" y="278"/>
                      </a:lnTo>
                      <a:lnTo>
                        <a:pt x="116" y="272"/>
                      </a:lnTo>
                      <a:lnTo>
                        <a:pt x="117" y="266"/>
                      </a:lnTo>
                      <a:lnTo>
                        <a:pt x="119" y="261"/>
                      </a:lnTo>
                      <a:lnTo>
                        <a:pt x="121" y="255"/>
                      </a:lnTo>
                      <a:lnTo>
                        <a:pt x="122" y="249"/>
                      </a:lnTo>
                      <a:lnTo>
                        <a:pt x="125" y="243"/>
                      </a:lnTo>
                      <a:lnTo>
                        <a:pt x="126" y="237"/>
                      </a:lnTo>
                      <a:lnTo>
                        <a:pt x="127" y="233"/>
                      </a:lnTo>
                      <a:lnTo>
                        <a:pt x="129" y="227"/>
                      </a:lnTo>
                      <a:lnTo>
                        <a:pt x="132" y="221"/>
                      </a:lnTo>
                      <a:lnTo>
                        <a:pt x="133" y="215"/>
                      </a:lnTo>
                      <a:lnTo>
                        <a:pt x="134" y="209"/>
                      </a:lnTo>
                      <a:lnTo>
                        <a:pt x="136" y="203"/>
                      </a:lnTo>
                      <a:lnTo>
                        <a:pt x="138" y="197"/>
                      </a:lnTo>
                      <a:lnTo>
                        <a:pt x="140" y="190"/>
                      </a:lnTo>
                      <a:lnTo>
                        <a:pt x="142" y="185"/>
                      </a:lnTo>
                      <a:lnTo>
                        <a:pt x="144" y="178"/>
                      </a:lnTo>
                      <a:lnTo>
                        <a:pt x="145" y="172"/>
                      </a:lnTo>
                      <a:lnTo>
                        <a:pt x="147" y="166"/>
                      </a:lnTo>
                      <a:lnTo>
                        <a:pt x="150" y="160"/>
                      </a:lnTo>
                      <a:lnTo>
                        <a:pt x="152" y="154"/>
                      </a:lnTo>
                      <a:lnTo>
                        <a:pt x="153" y="147"/>
                      </a:lnTo>
                      <a:lnTo>
                        <a:pt x="155" y="141"/>
                      </a:lnTo>
                      <a:lnTo>
                        <a:pt x="158" y="134"/>
                      </a:lnTo>
                      <a:lnTo>
                        <a:pt x="159" y="128"/>
                      </a:lnTo>
                      <a:lnTo>
                        <a:pt x="163" y="121"/>
                      </a:lnTo>
                      <a:lnTo>
                        <a:pt x="164" y="116"/>
                      </a:lnTo>
                      <a:lnTo>
                        <a:pt x="166" y="109"/>
                      </a:lnTo>
                      <a:lnTo>
                        <a:pt x="168" y="103"/>
                      </a:lnTo>
                      <a:lnTo>
                        <a:pt x="171" y="96"/>
                      </a:lnTo>
                      <a:lnTo>
                        <a:pt x="172" y="89"/>
                      </a:lnTo>
                      <a:lnTo>
                        <a:pt x="174" y="83"/>
                      </a:lnTo>
                      <a:lnTo>
                        <a:pt x="177" y="76"/>
                      </a:lnTo>
                      <a:lnTo>
                        <a:pt x="179" y="70"/>
                      </a:lnTo>
                      <a:lnTo>
                        <a:pt x="182" y="63"/>
                      </a:lnTo>
                      <a:lnTo>
                        <a:pt x="184" y="56"/>
                      </a:lnTo>
                      <a:lnTo>
                        <a:pt x="185" y="49"/>
                      </a:lnTo>
                      <a:lnTo>
                        <a:pt x="187" y="43"/>
                      </a:lnTo>
                      <a:lnTo>
                        <a:pt x="190" y="36"/>
                      </a:lnTo>
                      <a:lnTo>
                        <a:pt x="192" y="29"/>
                      </a:lnTo>
                      <a:lnTo>
                        <a:pt x="195" y="21"/>
                      </a:lnTo>
                      <a:lnTo>
                        <a:pt x="197" y="15"/>
                      </a:lnTo>
                      <a:lnTo>
                        <a:pt x="198" y="7"/>
                      </a:lnTo>
                      <a:lnTo>
                        <a:pt x="202" y="0"/>
                      </a:lnTo>
                      <a:lnTo>
                        <a:pt x="109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Freeform 50"/>
                <p:cNvSpPr/>
                <p:nvPr/>
              </p:nvSpPr>
              <p:spPr>
                <a:xfrm>
                  <a:off x="7813440" y="2383200"/>
                  <a:ext cx="101520" cy="1965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193" h="372">
                      <a:moveTo>
                        <a:pt x="74" y="0"/>
                      </a:moveTo>
                      <a:lnTo>
                        <a:pt x="0" y="49"/>
                      </a:lnTo>
                      <a:lnTo>
                        <a:pt x="3" y="54"/>
                      </a:lnTo>
                      <a:lnTo>
                        <a:pt x="5" y="60"/>
                      </a:lnTo>
                      <a:lnTo>
                        <a:pt x="9" y="66"/>
                      </a:lnTo>
                      <a:lnTo>
                        <a:pt x="11" y="72"/>
                      </a:lnTo>
                      <a:lnTo>
                        <a:pt x="15" y="76"/>
                      </a:lnTo>
                      <a:lnTo>
                        <a:pt x="17" y="82"/>
                      </a:lnTo>
                      <a:lnTo>
                        <a:pt x="21" y="88"/>
                      </a:lnTo>
                      <a:lnTo>
                        <a:pt x="23" y="94"/>
                      </a:lnTo>
                      <a:lnTo>
                        <a:pt x="25" y="99"/>
                      </a:lnTo>
                      <a:lnTo>
                        <a:pt x="28" y="104"/>
                      </a:lnTo>
                      <a:lnTo>
                        <a:pt x="30" y="110"/>
                      </a:lnTo>
                      <a:lnTo>
                        <a:pt x="34" y="114"/>
                      </a:lnTo>
                      <a:lnTo>
                        <a:pt x="36" y="120"/>
                      </a:lnTo>
                      <a:lnTo>
                        <a:pt x="38" y="126"/>
                      </a:lnTo>
                      <a:lnTo>
                        <a:pt x="41" y="131"/>
                      </a:lnTo>
                      <a:lnTo>
                        <a:pt x="43" y="137"/>
                      </a:lnTo>
                      <a:lnTo>
                        <a:pt x="45" y="142"/>
                      </a:lnTo>
                      <a:lnTo>
                        <a:pt x="48" y="148"/>
                      </a:lnTo>
                      <a:lnTo>
                        <a:pt x="50" y="152"/>
                      </a:lnTo>
                      <a:lnTo>
                        <a:pt x="53" y="157"/>
                      </a:lnTo>
                      <a:lnTo>
                        <a:pt x="54" y="162"/>
                      </a:lnTo>
                      <a:lnTo>
                        <a:pt x="56" y="168"/>
                      </a:lnTo>
                      <a:lnTo>
                        <a:pt x="59" y="173"/>
                      </a:lnTo>
                      <a:lnTo>
                        <a:pt x="61" y="178"/>
                      </a:lnTo>
                      <a:lnTo>
                        <a:pt x="63" y="183"/>
                      </a:lnTo>
                      <a:lnTo>
                        <a:pt x="64" y="188"/>
                      </a:lnTo>
                      <a:lnTo>
                        <a:pt x="66" y="194"/>
                      </a:lnTo>
                      <a:lnTo>
                        <a:pt x="68" y="199"/>
                      </a:lnTo>
                      <a:lnTo>
                        <a:pt x="70" y="203"/>
                      </a:lnTo>
                      <a:lnTo>
                        <a:pt x="72" y="209"/>
                      </a:lnTo>
                      <a:lnTo>
                        <a:pt x="74" y="214"/>
                      </a:lnTo>
                      <a:lnTo>
                        <a:pt x="76" y="220"/>
                      </a:lnTo>
                      <a:lnTo>
                        <a:pt x="78" y="225"/>
                      </a:lnTo>
                      <a:lnTo>
                        <a:pt x="79" y="230"/>
                      </a:lnTo>
                      <a:lnTo>
                        <a:pt x="80" y="234"/>
                      </a:lnTo>
                      <a:lnTo>
                        <a:pt x="81" y="239"/>
                      </a:lnTo>
                      <a:lnTo>
                        <a:pt x="83" y="244"/>
                      </a:lnTo>
                      <a:lnTo>
                        <a:pt x="85" y="248"/>
                      </a:lnTo>
                      <a:lnTo>
                        <a:pt x="86" y="253"/>
                      </a:lnTo>
                      <a:lnTo>
                        <a:pt x="87" y="259"/>
                      </a:lnTo>
                      <a:lnTo>
                        <a:pt x="89" y="264"/>
                      </a:lnTo>
                      <a:lnTo>
                        <a:pt x="89" y="269"/>
                      </a:lnTo>
                      <a:lnTo>
                        <a:pt x="92" y="273"/>
                      </a:lnTo>
                      <a:lnTo>
                        <a:pt x="92" y="278"/>
                      </a:lnTo>
                      <a:lnTo>
                        <a:pt x="93" y="283"/>
                      </a:lnTo>
                      <a:lnTo>
                        <a:pt x="94" y="288"/>
                      </a:lnTo>
                      <a:lnTo>
                        <a:pt x="95" y="292"/>
                      </a:lnTo>
                      <a:lnTo>
                        <a:pt x="97" y="297"/>
                      </a:lnTo>
                      <a:lnTo>
                        <a:pt x="97" y="302"/>
                      </a:lnTo>
                      <a:lnTo>
                        <a:pt x="98" y="307"/>
                      </a:lnTo>
                      <a:lnTo>
                        <a:pt x="99" y="311"/>
                      </a:lnTo>
                      <a:lnTo>
                        <a:pt x="99" y="316"/>
                      </a:lnTo>
                      <a:lnTo>
                        <a:pt x="100" y="320"/>
                      </a:lnTo>
                      <a:lnTo>
                        <a:pt x="101" y="324"/>
                      </a:lnTo>
                      <a:lnTo>
                        <a:pt x="101" y="329"/>
                      </a:lnTo>
                      <a:lnTo>
                        <a:pt x="102" y="335"/>
                      </a:lnTo>
                      <a:lnTo>
                        <a:pt x="102" y="339"/>
                      </a:lnTo>
                      <a:lnTo>
                        <a:pt x="104" y="343"/>
                      </a:lnTo>
                      <a:lnTo>
                        <a:pt x="104" y="348"/>
                      </a:lnTo>
                      <a:lnTo>
                        <a:pt x="104" y="353"/>
                      </a:lnTo>
                      <a:lnTo>
                        <a:pt x="105" y="358"/>
                      </a:lnTo>
                      <a:lnTo>
                        <a:pt x="105" y="362"/>
                      </a:lnTo>
                      <a:lnTo>
                        <a:pt x="106" y="367"/>
                      </a:lnTo>
                      <a:lnTo>
                        <a:pt x="106" y="372"/>
                      </a:lnTo>
                      <a:lnTo>
                        <a:pt x="193" y="366"/>
                      </a:lnTo>
                      <a:lnTo>
                        <a:pt x="191" y="360"/>
                      </a:lnTo>
                      <a:lnTo>
                        <a:pt x="191" y="355"/>
                      </a:lnTo>
                      <a:lnTo>
                        <a:pt x="190" y="349"/>
                      </a:lnTo>
                      <a:lnTo>
                        <a:pt x="190" y="345"/>
                      </a:lnTo>
                      <a:lnTo>
                        <a:pt x="190" y="340"/>
                      </a:lnTo>
                      <a:lnTo>
                        <a:pt x="189" y="334"/>
                      </a:lnTo>
                      <a:lnTo>
                        <a:pt x="188" y="329"/>
                      </a:lnTo>
                      <a:lnTo>
                        <a:pt x="188" y="323"/>
                      </a:lnTo>
                      <a:lnTo>
                        <a:pt x="188" y="317"/>
                      </a:lnTo>
                      <a:lnTo>
                        <a:pt x="186" y="313"/>
                      </a:lnTo>
                      <a:lnTo>
                        <a:pt x="186" y="307"/>
                      </a:lnTo>
                      <a:lnTo>
                        <a:pt x="186" y="302"/>
                      </a:lnTo>
                      <a:lnTo>
                        <a:pt x="183" y="297"/>
                      </a:lnTo>
                      <a:lnTo>
                        <a:pt x="182" y="291"/>
                      </a:lnTo>
                      <a:lnTo>
                        <a:pt x="182" y="286"/>
                      </a:lnTo>
                      <a:lnTo>
                        <a:pt x="182" y="282"/>
                      </a:lnTo>
                      <a:lnTo>
                        <a:pt x="180" y="276"/>
                      </a:lnTo>
                      <a:lnTo>
                        <a:pt x="180" y="269"/>
                      </a:lnTo>
                      <a:lnTo>
                        <a:pt x="177" y="264"/>
                      </a:lnTo>
                      <a:lnTo>
                        <a:pt x="177" y="259"/>
                      </a:lnTo>
                      <a:lnTo>
                        <a:pt x="175" y="253"/>
                      </a:lnTo>
                      <a:lnTo>
                        <a:pt x="174" y="247"/>
                      </a:lnTo>
                      <a:lnTo>
                        <a:pt x="172" y="241"/>
                      </a:lnTo>
                      <a:lnTo>
                        <a:pt x="171" y="235"/>
                      </a:lnTo>
                      <a:lnTo>
                        <a:pt x="170" y="231"/>
                      </a:lnTo>
                      <a:lnTo>
                        <a:pt x="168" y="225"/>
                      </a:lnTo>
                      <a:lnTo>
                        <a:pt x="167" y="219"/>
                      </a:lnTo>
                      <a:lnTo>
                        <a:pt x="165" y="214"/>
                      </a:lnTo>
                      <a:lnTo>
                        <a:pt x="163" y="208"/>
                      </a:lnTo>
                      <a:lnTo>
                        <a:pt x="162" y="203"/>
                      </a:lnTo>
                      <a:lnTo>
                        <a:pt x="159" y="197"/>
                      </a:lnTo>
                      <a:lnTo>
                        <a:pt x="158" y="192"/>
                      </a:lnTo>
                      <a:lnTo>
                        <a:pt x="156" y="186"/>
                      </a:lnTo>
                      <a:lnTo>
                        <a:pt x="155" y="180"/>
                      </a:lnTo>
                      <a:lnTo>
                        <a:pt x="152" y="175"/>
                      </a:lnTo>
                      <a:lnTo>
                        <a:pt x="150" y="169"/>
                      </a:lnTo>
                      <a:lnTo>
                        <a:pt x="148" y="163"/>
                      </a:lnTo>
                      <a:lnTo>
                        <a:pt x="146" y="157"/>
                      </a:lnTo>
                      <a:lnTo>
                        <a:pt x="144" y="152"/>
                      </a:lnTo>
                      <a:lnTo>
                        <a:pt x="142" y="145"/>
                      </a:lnTo>
                      <a:lnTo>
                        <a:pt x="139" y="139"/>
                      </a:lnTo>
                      <a:lnTo>
                        <a:pt x="137" y="135"/>
                      </a:lnTo>
                      <a:lnTo>
                        <a:pt x="134" y="127"/>
                      </a:lnTo>
                      <a:lnTo>
                        <a:pt x="132" y="121"/>
                      </a:lnTo>
                      <a:lnTo>
                        <a:pt x="130" y="116"/>
                      </a:lnTo>
                      <a:lnTo>
                        <a:pt x="127" y="110"/>
                      </a:lnTo>
                      <a:lnTo>
                        <a:pt x="125" y="104"/>
                      </a:lnTo>
                      <a:lnTo>
                        <a:pt x="123" y="99"/>
                      </a:lnTo>
                      <a:lnTo>
                        <a:pt x="119" y="92"/>
                      </a:lnTo>
                      <a:lnTo>
                        <a:pt x="117" y="86"/>
                      </a:lnTo>
                      <a:lnTo>
                        <a:pt x="114" y="80"/>
                      </a:lnTo>
                      <a:lnTo>
                        <a:pt x="111" y="74"/>
                      </a:lnTo>
                      <a:lnTo>
                        <a:pt x="108" y="68"/>
                      </a:lnTo>
                      <a:lnTo>
                        <a:pt x="105" y="62"/>
                      </a:lnTo>
                      <a:lnTo>
                        <a:pt x="102" y="56"/>
                      </a:lnTo>
                      <a:lnTo>
                        <a:pt x="99" y="50"/>
                      </a:lnTo>
                      <a:lnTo>
                        <a:pt x="97" y="43"/>
                      </a:lnTo>
                      <a:lnTo>
                        <a:pt x="93" y="37"/>
                      </a:lnTo>
                      <a:lnTo>
                        <a:pt x="89" y="31"/>
                      </a:lnTo>
                      <a:lnTo>
                        <a:pt x="86" y="25"/>
                      </a:lnTo>
                      <a:lnTo>
                        <a:pt x="83" y="18"/>
                      </a:lnTo>
                      <a:lnTo>
                        <a:pt x="80" y="12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Freeform 51"/>
                <p:cNvSpPr/>
                <p:nvPr/>
              </p:nvSpPr>
              <p:spPr>
                <a:xfrm>
                  <a:off x="7283520" y="2443320"/>
                  <a:ext cx="39240" cy="414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9">
                      <a:moveTo>
                        <a:pt x="38" y="79"/>
                      </a:moveTo>
                      <a:lnTo>
                        <a:pt x="41" y="78"/>
                      </a:lnTo>
                      <a:lnTo>
                        <a:pt x="45" y="78"/>
                      </a:lnTo>
                      <a:lnTo>
                        <a:pt x="49" y="76"/>
                      </a:lnTo>
                      <a:lnTo>
                        <a:pt x="53" y="75"/>
                      </a:lnTo>
                      <a:lnTo>
                        <a:pt x="57" y="73"/>
                      </a:lnTo>
                      <a:lnTo>
                        <a:pt x="59" y="72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3"/>
                      </a:lnTo>
                      <a:lnTo>
                        <a:pt x="70" y="61"/>
                      </a:lnTo>
                      <a:lnTo>
                        <a:pt x="72" y="57"/>
                      </a:lnTo>
                      <a:lnTo>
                        <a:pt x="74" y="55"/>
                      </a:lnTo>
                      <a:lnTo>
                        <a:pt x="74" y="51"/>
                      </a:lnTo>
                      <a:lnTo>
                        <a:pt x="77" y="47"/>
                      </a:lnTo>
                      <a:lnTo>
                        <a:pt x="77" y="43"/>
                      </a:lnTo>
                      <a:lnTo>
                        <a:pt x="77" y="40"/>
                      </a:lnTo>
                      <a:lnTo>
                        <a:pt x="77" y="36"/>
                      </a:lnTo>
                      <a:lnTo>
                        <a:pt x="77" y="31"/>
                      </a:lnTo>
                      <a:lnTo>
                        <a:pt x="74" y="28"/>
                      </a:lnTo>
                      <a:lnTo>
                        <a:pt x="74" y="24"/>
                      </a:lnTo>
                      <a:lnTo>
                        <a:pt x="72" y="21"/>
                      </a:lnTo>
                      <a:lnTo>
                        <a:pt x="70" y="18"/>
                      </a:lnTo>
                      <a:lnTo>
                        <a:pt x="67" y="15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9" y="7"/>
                      </a:lnTo>
                      <a:lnTo>
                        <a:pt x="57" y="5"/>
                      </a:lnTo>
                      <a:lnTo>
                        <a:pt x="53" y="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3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1" y="47"/>
                      </a:lnTo>
                      <a:lnTo>
                        <a:pt x="1" y="51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8" y="63"/>
                      </a:lnTo>
                      <a:lnTo>
                        <a:pt x="11" y="67"/>
                      </a:lnTo>
                      <a:lnTo>
                        <a:pt x="14" y="69"/>
                      </a:lnTo>
                      <a:lnTo>
                        <a:pt x="16" y="72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8"/>
                      </a:lnTo>
                      <a:lnTo>
                        <a:pt x="34" y="78"/>
                      </a:lnTo>
                      <a:lnTo>
                        <a:pt x="38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Freeform 52"/>
                <p:cNvSpPr/>
                <p:nvPr/>
              </p:nvSpPr>
              <p:spPr>
                <a:xfrm>
                  <a:off x="7364160" y="244656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3" y="76"/>
                      </a:lnTo>
                      <a:lnTo>
                        <a:pt x="46" y="76"/>
                      </a:lnTo>
                      <a:lnTo>
                        <a:pt x="50" y="75"/>
                      </a:lnTo>
                      <a:lnTo>
                        <a:pt x="53" y="74"/>
                      </a:lnTo>
                      <a:lnTo>
                        <a:pt x="56" y="71"/>
                      </a:lnTo>
                      <a:lnTo>
                        <a:pt x="59" y="70"/>
                      </a:lnTo>
                      <a:lnTo>
                        <a:pt x="63" y="68"/>
                      </a:lnTo>
                      <a:lnTo>
                        <a:pt x="67" y="65"/>
                      </a:lnTo>
                      <a:lnTo>
                        <a:pt x="69" y="62"/>
                      </a:lnTo>
                      <a:lnTo>
                        <a:pt x="71" y="59"/>
                      </a:lnTo>
                      <a:lnTo>
                        <a:pt x="72" y="56"/>
                      </a:lnTo>
                      <a:lnTo>
                        <a:pt x="74" y="54"/>
                      </a:lnTo>
                      <a:lnTo>
                        <a:pt x="75" y="49"/>
                      </a:lnTo>
                      <a:lnTo>
                        <a:pt x="76" y="46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76" y="31"/>
                      </a:lnTo>
                      <a:lnTo>
                        <a:pt x="75" y="26"/>
                      </a:lnTo>
                      <a:lnTo>
                        <a:pt x="74" y="23"/>
                      </a:lnTo>
                      <a:lnTo>
                        <a:pt x="72" y="19"/>
                      </a:lnTo>
                      <a:lnTo>
                        <a:pt x="71" y="16"/>
                      </a:lnTo>
                      <a:lnTo>
                        <a:pt x="69" y="13"/>
                      </a:lnTo>
                      <a:lnTo>
                        <a:pt x="67" y="11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3" y="2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2" y="54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5"/>
                      </a:lnTo>
                      <a:lnTo>
                        <a:pt x="13" y="68"/>
                      </a:lnTo>
                      <a:lnTo>
                        <a:pt x="17" y="70"/>
                      </a:lnTo>
                      <a:lnTo>
                        <a:pt x="20" y="71"/>
                      </a:lnTo>
                      <a:lnTo>
                        <a:pt x="23" y="74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Freeform 53"/>
                <p:cNvSpPr/>
                <p:nvPr/>
              </p:nvSpPr>
              <p:spPr>
                <a:xfrm>
                  <a:off x="744192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41" y="77"/>
                      </a:moveTo>
                      <a:lnTo>
                        <a:pt x="43" y="76"/>
                      </a:lnTo>
                      <a:lnTo>
                        <a:pt x="48" y="76"/>
                      </a:lnTo>
                      <a:lnTo>
                        <a:pt x="51" y="75"/>
                      </a:lnTo>
                      <a:lnTo>
                        <a:pt x="55" y="73"/>
                      </a:lnTo>
                      <a:lnTo>
                        <a:pt x="57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1" y="59"/>
                      </a:lnTo>
                      <a:lnTo>
                        <a:pt x="74" y="56"/>
                      </a:lnTo>
                      <a:lnTo>
                        <a:pt x="75" y="53"/>
                      </a:lnTo>
                      <a:lnTo>
                        <a:pt x="76" y="48"/>
                      </a:lnTo>
                      <a:lnTo>
                        <a:pt x="77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7" y="31"/>
                      </a:lnTo>
                      <a:lnTo>
                        <a:pt x="76" y="26"/>
                      </a:lnTo>
                      <a:lnTo>
                        <a:pt x="75" y="22"/>
                      </a:lnTo>
                      <a:lnTo>
                        <a:pt x="74" y="19"/>
                      </a:lnTo>
                      <a:lnTo>
                        <a:pt x="71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4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1" y="0"/>
                      </a:lnTo>
                      <a:lnTo>
                        <a:pt x="48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7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7" y="15"/>
                      </a:lnTo>
                      <a:lnTo>
                        <a:pt x="5" y="19"/>
                      </a:lnTo>
                      <a:lnTo>
                        <a:pt x="4" y="22"/>
                      </a:lnTo>
                      <a:lnTo>
                        <a:pt x="3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8"/>
                      </a:lnTo>
                      <a:lnTo>
                        <a:pt x="4" y="53"/>
                      </a:lnTo>
                      <a:lnTo>
                        <a:pt x="5" y="56"/>
                      </a:lnTo>
                      <a:lnTo>
                        <a:pt x="7" y="59"/>
                      </a:lnTo>
                      <a:lnTo>
                        <a:pt x="10" y="61"/>
                      </a:lnTo>
                      <a:lnTo>
                        <a:pt x="13" y="65"/>
                      </a:lnTo>
                      <a:lnTo>
                        <a:pt x="16" y="67"/>
                      </a:lnTo>
                      <a:lnTo>
                        <a:pt x="18" y="70"/>
                      </a:lnTo>
                      <a:lnTo>
                        <a:pt x="20" y="71"/>
                      </a:lnTo>
                      <a:lnTo>
                        <a:pt x="25" y="73"/>
                      </a:lnTo>
                      <a:lnTo>
                        <a:pt x="27" y="75"/>
                      </a:lnTo>
                      <a:lnTo>
                        <a:pt x="31" y="76"/>
                      </a:lnTo>
                      <a:lnTo>
                        <a:pt x="36" y="76"/>
                      </a:lnTo>
                      <a:lnTo>
                        <a:pt x="41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Freeform 54"/>
                <p:cNvSpPr/>
                <p:nvPr/>
              </p:nvSpPr>
              <p:spPr>
                <a:xfrm>
                  <a:off x="75214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6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7"/>
                      </a:lnTo>
                      <a:lnTo>
                        <a:pt x="50" y="76"/>
                      </a:lnTo>
                      <a:lnTo>
                        <a:pt x="53" y="75"/>
                      </a:lnTo>
                      <a:lnTo>
                        <a:pt x="55" y="73"/>
                      </a:lnTo>
                      <a:lnTo>
                        <a:pt x="59" y="71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4"/>
                      </a:lnTo>
                      <a:lnTo>
                        <a:pt x="70" y="61"/>
                      </a:lnTo>
                      <a:lnTo>
                        <a:pt x="71" y="57"/>
                      </a:lnTo>
                      <a:lnTo>
                        <a:pt x="73" y="55"/>
                      </a:lnTo>
                      <a:lnTo>
                        <a:pt x="74" y="51"/>
                      </a:lnTo>
                      <a:lnTo>
                        <a:pt x="76" y="46"/>
                      </a:lnTo>
                      <a:lnTo>
                        <a:pt x="76" y="43"/>
                      </a:lnTo>
                      <a:lnTo>
                        <a:pt x="76" y="39"/>
                      </a:lnTo>
                      <a:lnTo>
                        <a:pt x="76" y="36"/>
                      </a:lnTo>
                      <a:lnTo>
                        <a:pt x="76" y="31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7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7"/>
                      </a:lnTo>
                      <a:lnTo>
                        <a:pt x="55" y="5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2"/>
                      </a:lnTo>
                      <a:lnTo>
                        <a:pt x="22" y="2"/>
                      </a:lnTo>
                      <a:lnTo>
                        <a:pt x="19" y="5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6" y="17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1" y="51"/>
                      </a:lnTo>
                      <a:lnTo>
                        <a:pt x="2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7" y="64"/>
                      </a:lnTo>
                      <a:lnTo>
                        <a:pt x="10" y="67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7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Freeform 55"/>
                <p:cNvSpPr/>
                <p:nvPr/>
              </p:nvSpPr>
              <p:spPr>
                <a:xfrm>
                  <a:off x="759924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9" y="77"/>
                      </a:moveTo>
                      <a:lnTo>
                        <a:pt x="42" y="76"/>
                      </a:lnTo>
                      <a:lnTo>
                        <a:pt x="46" y="76"/>
                      </a:lnTo>
                      <a:lnTo>
                        <a:pt x="49" y="75"/>
                      </a:lnTo>
                      <a:lnTo>
                        <a:pt x="53" y="73"/>
                      </a:lnTo>
                      <a:lnTo>
                        <a:pt x="55" y="71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6" y="65"/>
                      </a:lnTo>
                      <a:lnTo>
                        <a:pt x="67" y="61"/>
                      </a:lnTo>
                      <a:lnTo>
                        <a:pt x="70" y="59"/>
                      </a:lnTo>
                      <a:lnTo>
                        <a:pt x="72" y="56"/>
                      </a:lnTo>
                      <a:lnTo>
                        <a:pt x="73" y="53"/>
                      </a:lnTo>
                      <a:lnTo>
                        <a:pt x="74" y="48"/>
                      </a:lnTo>
                      <a:lnTo>
                        <a:pt x="77" y="45"/>
                      </a:lnTo>
                      <a:lnTo>
                        <a:pt x="77" y="41"/>
                      </a:lnTo>
                      <a:lnTo>
                        <a:pt x="77" y="38"/>
                      </a:lnTo>
                      <a:lnTo>
                        <a:pt x="77" y="34"/>
                      </a:lnTo>
                      <a:lnTo>
                        <a:pt x="77" y="31"/>
                      </a:lnTo>
                      <a:lnTo>
                        <a:pt x="74" y="26"/>
                      </a:lnTo>
                      <a:lnTo>
                        <a:pt x="73" y="22"/>
                      </a:lnTo>
                      <a:lnTo>
                        <a:pt x="72" y="19"/>
                      </a:lnTo>
                      <a:lnTo>
                        <a:pt x="70" y="15"/>
                      </a:lnTo>
                      <a:lnTo>
                        <a:pt x="67" y="13"/>
                      </a:lnTo>
                      <a:lnTo>
                        <a:pt x="66" y="10"/>
                      </a:lnTo>
                      <a:lnTo>
                        <a:pt x="63" y="7"/>
                      </a:lnTo>
                      <a:lnTo>
                        <a:pt x="59" y="4"/>
                      </a:lnTo>
                      <a:lnTo>
                        <a:pt x="55" y="3"/>
                      </a:lnTo>
                      <a:lnTo>
                        <a:pt x="53" y="2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1" y="48"/>
                      </a:lnTo>
                      <a:lnTo>
                        <a:pt x="3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8" y="61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1"/>
                      </a:lnTo>
                      <a:lnTo>
                        <a:pt x="23" y="73"/>
                      </a:lnTo>
                      <a:lnTo>
                        <a:pt x="27" y="75"/>
                      </a:lnTo>
                      <a:lnTo>
                        <a:pt x="30" y="76"/>
                      </a:lnTo>
                      <a:lnTo>
                        <a:pt x="35" y="76"/>
                      </a:lnTo>
                      <a:lnTo>
                        <a:pt x="39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Freeform 56"/>
                <p:cNvSpPr/>
                <p:nvPr/>
              </p:nvSpPr>
              <p:spPr>
                <a:xfrm>
                  <a:off x="76816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39" y="78"/>
                      </a:moveTo>
                      <a:lnTo>
                        <a:pt x="43" y="77"/>
                      </a:lnTo>
                      <a:lnTo>
                        <a:pt x="46" y="77"/>
                      </a:lnTo>
                      <a:lnTo>
                        <a:pt x="50" y="76"/>
                      </a:lnTo>
                      <a:lnTo>
                        <a:pt x="55" y="75"/>
                      </a:lnTo>
                      <a:lnTo>
                        <a:pt x="57" y="73"/>
                      </a:lnTo>
                      <a:lnTo>
                        <a:pt x="61" y="71"/>
                      </a:lnTo>
                      <a:lnTo>
                        <a:pt x="63" y="69"/>
                      </a:lnTo>
                      <a:lnTo>
                        <a:pt x="67" y="67"/>
                      </a:lnTo>
                      <a:lnTo>
                        <a:pt x="68" y="64"/>
                      </a:lnTo>
                      <a:lnTo>
                        <a:pt x="70" y="61"/>
                      </a:lnTo>
                      <a:lnTo>
                        <a:pt x="74" y="57"/>
                      </a:lnTo>
                      <a:lnTo>
                        <a:pt x="75" y="55"/>
                      </a:lnTo>
                      <a:lnTo>
                        <a:pt x="76" y="51"/>
                      </a:lnTo>
                      <a:lnTo>
                        <a:pt x="77" y="46"/>
                      </a:lnTo>
                      <a:lnTo>
                        <a:pt x="78" y="43"/>
                      </a:lnTo>
                      <a:lnTo>
                        <a:pt x="78" y="39"/>
                      </a:lnTo>
                      <a:lnTo>
                        <a:pt x="78" y="36"/>
                      </a:lnTo>
                      <a:lnTo>
                        <a:pt x="77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4" y="20"/>
                      </a:lnTo>
                      <a:lnTo>
                        <a:pt x="70" y="17"/>
                      </a:lnTo>
                      <a:lnTo>
                        <a:pt x="68" y="14"/>
                      </a:lnTo>
                      <a:lnTo>
                        <a:pt x="67" y="12"/>
                      </a:lnTo>
                      <a:lnTo>
                        <a:pt x="63" y="8"/>
                      </a:lnTo>
                      <a:lnTo>
                        <a:pt x="61" y="7"/>
                      </a:lnTo>
                      <a:lnTo>
                        <a:pt x="57" y="5"/>
                      </a:lnTo>
                      <a:lnTo>
                        <a:pt x="55" y="2"/>
                      </a:lnTo>
                      <a:lnTo>
                        <a:pt x="50" y="2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5" y="20"/>
                      </a:lnTo>
                      <a:lnTo>
                        <a:pt x="4" y="24"/>
                      </a:lnTo>
                      <a:lnTo>
                        <a:pt x="2" y="27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1" y="46"/>
                      </a:lnTo>
                      <a:lnTo>
                        <a:pt x="2" y="51"/>
                      </a:lnTo>
                      <a:lnTo>
                        <a:pt x="4" y="55"/>
                      </a:lnTo>
                      <a:lnTo>
                        <a:pt x="5" y="57"/>
                      </a:lnTo>
                      <a:lnTo>
                        <a:pt x="7" y="61"/>
                      </a:lnTo>
                      <a:lnTo>
                        <a:pt x="8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8" y="71"/>
                      </a:lnTo>
                      <a:lnTo>
                        <a:pt x="20" y="73"/>
                      </a:lnTo>
                      <a:lnTo>
                        <a:pt x="24" y="75"/>
                      </a:lnTo>
                      <a:lnTo>
                        <a:pt x="27" y="76"/>
                      </a:lnTo>
                      <a:lnTo>
                        <a:pt x="31" y="77"/>
                      </a:lnTo>
                      <a:lnTo>
                        <a:pt x="36" y="77"/>
                      </a:lnTo>
                      <a:lnTo>
                        <a:pt x="39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Freeform 57"/>
                <p:cNvSpPr/>
                <p:nvPr/>
              </p:nvSpPr>
              <p:spPr>
                <a:xfrm>
                  <a:off x="7761240" y="2445120"/>
                  <a:ext cx="39240" cy="41040"/>
                </a:xfrm>
                <a:custGeom>
                  <a:avLst/>
                  <a:gdLst>
                    <a:gd name="textAreaLeft" fmla="*/ 0 w 39240"/>
                    <a:gd name="textAreaRight" fmla="*/ 39240 w 392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5" h="78">
                      <a:moveTo>
                        <a:pt x="38" y="78"/>
                      </a:moveTo>
                      <a:lnTo>
                        <a:pt x="41" y="78"/>
                      </a:lnTo>
                      <a:lnTo>
                        <a:pt x="45" y="77"/>
                      </a:lnTo>
                      <a:lnTo>
                        <a:pt x="48" y="76"/>
                      </a:lnTo>
                      <a:lnTo>
                        <a:pt x="52" y="75"/>
                      </a:lnTo>
                      <a:lnTo>
                        <a:pt x="54" y="72"/>
                      </a:lnTo>
                      <a:lnTo>
                        <a:pt x="58" y="71"/>
                      </a:lnTo>
                      <a:lnTo>
                        <a:pt x="61" y="69"/>
                      </a:lnTo>
                      <a:lnTo>
                        <a:pt x="65" y="66"/>
                      </a:lnTo>
                      <a:lnTo>
                        <a:pt x="66" y="63"/>
                      </a:lnTo>
                      <a:lnTo>
                        <a:pt x="68" y="60"/>
                      </a:lnTo>
                      <a:lnTo>
                        <a:pt x="70" y="57"/>
                      </a:lnTo>
                      <a:lnTo>
                        <a:pt x="72" y="53"/>
                      </a:lnTo>
                      <a:lnTo>
                        <a:pt x="73" y="51"/>
                      </a:lnTo>
                      <a:lnTo>
                        <a:pt x="75" y="46"/>
                      </a:lnTo>
                      <a:lnTo>
                        <a:pt x="75" y="42"/>
                      </a:lnTo>
                      <a:lnTo>
                        <a:pt x="75" y="39"/>
                      </a:lnTo>
                      <a:lnTo>
                        <a:pt x="75" y="35"/>
                      </a:lnTo>
                      <a:lnTo>
                        <a:pt x="75" y="31"/>
                      </a:lnTo>
                      <a:lnTo>
                        <a:pt x="73" y="26"/>
                      </a:lnTo>
                      <a:lnTo>
                        <a:pt x="72" y="23"/>
                      </a:lnTo>
                      <a:lnTo>
                        <a:pt x="70" y="20"/>
                      </a:lnTo>
                      <a:lnTo>
                        <a:pt x="68" y="18"/>
                      </a:lnTo>
                      <a:lnTo>
                        <a:pt x="66" y="14"/>
                      </a:lnTo>
                      <a:lnTo>
                        <a:pt x="65" y="12"/>
                      </a:lnTo>
                      <a:lnTo>
                        <a:pt x="61" y="9"/>
                      </a:lnTo>
                      <a:lnTo>
                        <a:pt x="58" y="7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19" y="4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1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6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2"/>
                      </a:lnTo>
                      <a:lnTo>
                        <a:pt x="22" y="75"/>
                      </a:lnTo>
                      <a:lnTo>
                        <a:pt x="24" y="76"/>
                      </a:lnTo>
                      <a:lnTo>
                        <a:pt x="29" y="77"/>
                      </a:lnTo>
                      <a:lnTo>
                        <a:pt x="33" y="78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Freeform 58"/>
                <p:cNvSpPr/>
                <p:nvPr/>
              </p:nvSpPr>
              <p:spPr>
                <a:xfrm>
                  <a:off x="732312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50" y="76"/>
                      </a:lnTo>
                      <a:lnTo>
                        <a:pt x="53" y="73"/>
                      </a:lnTo>
                      <a:lnTo>
                        <a:pt x="56" y="72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5" y="65"/>
                      </a:lnTo>
                      <a:lnTo>
                        <a:pt x="67" y="63"/>
                      </a:lnTo>
                      <a:lnTo>
                        <a:pt x="70" y="60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6"/>
                      </a:lnTo>
                      <a:lnTo>
                        <a:pt x="76" y="42"/>
                      </a:lnTo>
                      <a:lnTo>
                        <a:pt x="77" y="39"/>
                      </a:lnTo>
                      <a:lnTo>
                        <a:pt x="76" y="35"/>
                      </a:lnTo>
                      <a:lnTo>
                        <a:pt x="76" y="29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6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5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50"/>
                      </a:lnTo>
                      <a:lnTo>
                        <a:pt x="2" y="53"/>
                      </a:lnTo>
                      <a:lnTo>
                        <a:pt x="3" y="56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2"/>
                      </a:lnTo>
                      <a:lnTo>
                        <a:pt x="22" y="73"/>
                      </a:lnTo>
                      <a:lnTo>
                        <a:pt x="26" y="76"/>
                      </a:lnTo>
                      <a:lnTo>
                        <a:pt x="31" y="76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Freeform 59"/>
                <p:cNvSpPr/>
                <p:nvPr/>
              </p:nvSpPr>
              <p:spPr>
                <a:xfrm>
                  <a:off x="7405560" y="2492640"/>
                  <a:ext cx="42480" cy="3960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9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6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2" y="58"/>
                      </a:lnTo>
                      <a:lnTo>
                        <a:pt x="73" y="56"/>
                      </a:lnTo>
                      <a:lnTo>
                        <a:pt x="74" y="53"/>
                      </a:lnTo>
                      <a:lnTo>
                        <a:pt x="76" y="48"/>
                      </a:lnTo>
                      <a:lnTo>
                        <a:pt x="76" y="45"/>
                      </a:lnTo>
                      <a:lnTo>
                        <a:pt x="77" y="40"/>
                      </a:lnTo>
                      <a:lnTo>
                        <a:pt x="79" y="38"/>
                      </a:lnTo>
                      <a:lnTo>
                        <a:pt x="77" y="33"/>
                      </a:lnTo>
                      <a:lnTo>
                        <a:pt x="76" y="29"/>
                      </a:lnTo>
                      <a:lnTo>
                        <a:pt x="76" y="25"/>
                      </a:lnTo>
                      <a:lnTo>
                        <a:pt x="74" y="22"/>
                      </a:lnTo>
                      <a:lnTo>
                        <a:pt x="73" y="19"/>
                      </a:lnTo>
                      <a:lnTo>
                        <a:pt x="72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5"/>
                      </a:lnTo>
                      <a:lnTo>
                        <a:pt x="56" y="3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5" y="19"/>
                      </a:lnTo>
                      <a:lnTo>
                        <a:pt x="3" y="22"/>
                      </a:lnTo>
                      <a:lnTo>
                        <a:pt x="2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5"/>
                      </a:lnTo>
                      <a:lnTo>
                        <a:pt x="2" y="48"/>
                      </a:lnTo>
                      <a:lnTo>
                        <a:pt x="3" y="53"/>
                      </a:lnTo>
                      <a:lnTo>
                        <a:pt x="5" y="56"/>
                      </a:lnTo>
                      <a:lnTo>
                        <a:pt x="6" y="58"/>
                      </a:lnTo>
                      <a:lnTo>
                        <a:pt x="9" y="61"/>
                      </a:lnTo>
                      <a:lnTo>
                        <a:pt x="12" y="65"/>
                      </a:lnTo>
                      <a:lnTo>
                        <a:pt x="15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8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Freeform 60"/>
                <p:cNvSpPr/>
                <p:nvPr/>
              </p:nvSpPr>
              <p:spPr>
                <a:xfrm>
                  <a:off x="7483320" y="2491200"/>
                  <a:ext cx="42480" cy="4104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9" h="79">
                      <a:moveTo>
                        <a:pt x="40" y="79"/>
                      </a:moveTo>
                      <a:lnTo>
                        <a:pt x="43" y="79"/>
                      </a:lnTo>
                      <a:lnTo>
                        <a:pt x="47" y="78"/>
                      </a:lnTo>
                      <a:lnTo>
                        <a:pt x="52" y="76"/>
                      </a:lnTo>
                      <a:lnTo>
                        <a:pt x="54" y="75"/>
                      </a:lnTo>
                      <a:lnTo>
                        <a:pt x="57" y="73"/>
                      </a:lnTo>
                      <a:lnTo>
                        <a:pt x="61" y="70"/>
                      </a:lnTo>
                      <a:lnTo>
                        <a:pt x="63" y="68"/>
                      </a:lnTo>
                      <a:lnTo>
                        <a:pt x="67" y="67"/>
                      </a:lnTo>
                      <a:lnTo>
                        <a:pt x="69" y="63"/>
                      </a:lnTo>
                      <a:lnTo>
                        <a:pt x="72" y="61"/>
                      </a:lnTo>
                      <a:lnTo>
                        <a:pt x="73" y="59"/>
                      </a:lnTo>
                      <a:lnTo>
                        <a:pt x="75" y="55"/>
                      </a:lnTo>
                      <a:lnTo>
                        <a:pt x="76" y="50"/>
                      </a:lnTo>
                      <a:lnTo>
                        <a:pt x="78" y="48"/>
                      </a:lnTo>
                      <a:lnTo>
                        <a:pt x="78" y="43"/>
                      </a:lnTo>
                      <a:lnTo>
                        <a:pt x="79" y="41"/>
                      </a:lnTo>
                      <a:lnTo>
                        <a:pt x="78" y="35"/>
                      </a:lnTo>
                      <a:lnTo>
                        <a:pt x="78" y="31"/>
                      </a:lnTo>
                      <a:lnTo>
                        <a:pt x="76" y="28"/>
                      </a:lnTo>
                      <a:lnTo>
                        <a:pt x="75" y="25"/>
                      </a:lnTo>
                      <a:lnTo>
                        <a:pt x="73" y="21"/>
                      </a:lnTo>
                      <a:lnTo>
                        <a:pt x="72" y="18"/>
                      </a:lnTo>
                      <a:lnTo>
                        <a:pt x="69" y="15"/>
                      </a:lnTo>
                      <a:lnTo>
                        <a:pt x="67" y="12"/>
                      </a:lnTo>
                      <a:lnTo>
                        <a:pt x="63" y="10"/>
                      </a:lnTo>
                      <a:lnTo>
                        <a:pt x="61" y="8"/>
                      </a:lnTo>
                      <a:lnTo>
                        <a:pt x="57" y="5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47" y="2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2"/>
                      </a:lnTo>
                      <a:lnTo>
                        <a:pt x="28" y="3"/>
                      </a:lnTo>
                      <a:lnTo>
                        <a:pt x="24" y="4"/>
                      </a:lnTo>
                      <a:lnTo>
                        <a:pt x="21" y="5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2" y="12"/>
                      </a:lnTo>
                      <a:lnTo>
                        <a:pt x="10" y="15"/>
                      </a:lnTo>
                      <a:lnTo>
                        <a:pt x="8" y="18"/>
                      </a:lnTo>
                      <a:lnTo>
                        <a:pt x="5" y="21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2" y="31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4" y="55"/>
                      </a:lnTo>
                      <a:lnTo>
                        <a:pt x="5" y="59"/>
                      </a:lnTo>
                      <a:lnTo>
                        <a:pt x="8" y="61"/>
                      </a:lnTo>
                      <a:lnTo>
                        <a:pt x="10" y="63"/>
                      </a:lnTo>
                      <a:lnTo>
                        <a:pt x="12" y="67"/>
                      </a:lnTo>
                      <a:lnTo>
                        <a:pt x="15" y="68"/>
                      </a:lnTo>
                      <a:lnTo>
                        <a:pt x="18" y="70"/>
                      </a:lnTo>
                      <a:lnTo>
                        <a:pt x="21" y="73"/>
                      </a:lnTo>
                      <a:lnTo>
                        <a:pt x="24" y="75"/>
                      </a:lnTo>
                      <a:lnTo>
                        <a:pt x="28" y="76"/>
                      </a:lnTo>
                      <a:lnTo>
                        <a:pt x="31" y="78"/>
                      </a:lnTo>
                      <a:lnTo>
                        <a:pt x="36" y="79"/>
                      </a:lnTo>
                      <a:lnTo>
                        <a:pt x="40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Freeform 61"/>
                <p:cNvSpPr/>
                <p:nvPr/>
              </p:nvSpPr>
              <p:spPr>
                <a:xfrm>
                  <a:off x="7561080" y="249264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8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7" y="71"/>
                      </a:lnTo>
                      <a:lnTo>
                        <a:pt x="60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8" y="63"/>
                      </a:lnTo>
                      <a:lnTo>
                        <a:pt x="70" y="59"/>
                      </a:lnTo>
                      <a:lnTo>
                        <a:pt x="73" y="56"/>
                      </a:lnTo>
                      <a:lnTo>
                        <a:pt x="75" y="53"/>
                      </a:lnTo>
                      <a:lnTo>
                        <a:pt x="75" y="50"/>
                      </a:lnTo>
                      <a:lnTo>
                        <a:pt x="78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8" y="29"/>
                      </a:lnTo>
                      <a:lnTo>
                        <a:pt x="75" y="26"/>
                      </a:lnTo>
                      <a:lnTo>
                        <a:pt x="75" y="22"/>
                      </a:lnTo>
                      <a:lnTo>
                        <a:pt x="73" y="19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0" y="6"/>
                      </a:lnTo>
                      <a:lnTo>
                        <a:pt x="57" y="3"/>
                      </a:lnTo>
                      <a:lnTo>
                        <a:pt x="54" y="2"/>
                      </a:lnTo>
                      <a:lnTo>
                        <a:pt x="50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6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5"/>
                      </a:lnTo>
                      <a:lnTo>
                        <a:pt x="2" y="50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9" y="63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7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Freeform 62"/>
                <p:cNvSpPr/>
                <p:nvPr/>
              </p:nvSpPr>
              <p:spPr>
                <a:xfrm>
                  <a:off x="764388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38" y="77"/>
                      </a:moveTo>
                      <a:lnTo>
                        <a:pt x="41" y="76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3" y="72"/>
                      </a:lnTo>
                      <a:lnTo>
                        <a:pt x="56" y="71"/>
                      </a:lnTo>
                      <a:lnTo>
                        <a:pt x="60" y="69"/>
                      </a:lnTo>
                      <a:lnTo>
                        <a:pt x="63" y="66"/>
                      </a:lnTo>
                      <a:lnTo>
                        <a:pt x="65" y="64"/>
                      </a:lnTo>
                      <a:lnTo>
                        <a:pt x="67" y="62"/>
                      </a:lnTo>
                      <a:lnTo>
                        <a:pt x="70" y="59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6" y="49"/>
                      </a:lnTo>
                      <a:lnTo>
                        <a:pt x="76" y="45"/>
                      </a:lnTo>
                      <a:lnTo>
                        <a:pt x="77" y="41"/>
                      </a:lnTo>
                      <a:lnTo>
                        <a:pt x="78" y="38"/>
                      </a:lnTo>
                      <a:lnTo>
                        <a:pt x="77" y="34"/>
                      </a:lnTo>
                      <a:lnTo>
                        <a:pt x="76" y="28"/>
                      </a:lnTo>
                      <a:lnTo>
                        <a:pt x="76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3" y="8"/>
                      </a:lnTo>
                      <a:lnTo>
                        <a:pt x="60" y="6"/>
                      </a:lnTo>
                      <a:lnTo>
                        <a:pt x="56" y="4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7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9"/>
                      </a:lnTo>
                      <a:lnTo>
                        <a:pt x="2" y="53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4"/>
                      </a:lnTo>
                      <a:lnTo>
                        <a:pt x="13" y="66"/>
                      </a:lnTo>
                      <a:lnTo>
                        <a:pt x="16" y="69"/>
                      </a:lnTo>
                      <a:lnTo>
                        <a:pt x="20" y="71"/>
                      </a:lnTo>
                      <a:lnTo>
                        <a:pt x="22" y="72"/>
                      </a:lnTo>
                      <a:lnTo>
                        <a:pt x="26" y="75"/>
                      </a:lnTo>
                      <a:lnTo>
                        <a:pt x="31" y="75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Freeform 63"/>
                <p:cNvSpPr/>
                <p:nvPr/>
              </p:nvSpPr>
              <p:spPr>
                <a:xfrm>
                  <a:off x="7724520" y="2494080"/>
                  <a:ext cx="39600" cy="399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48" y="75"/>
                      </a:lnTo>
                      <a:lnTo>
                        <a:pt x="53" y="75"/>
                      </a:lnTo>
                      <a:lnTo>
                        <a:pt x="56" y="73"/>
                      </a:lnTo>
                      <a:lnTo>
                        <a:pt x="59" y="70"/>
                      </a:lnTo>
                      <a:lnTo>
                        <a:pt x="61" y="67"/>
                      </a:lnTo>
                      <a:lnTo>
                        <a:pt x="65" y="66"/>
                      </a:lnTo>
                      <a:lnTo>
                        <a:pt x="67" y="62"/>
                      </a:lnTo>
                      <a:lnTo>
                        <a:pt x="70" y="60"/>
                      </a:lnTo>
                      <a:lnTo>
                        <a:pt x="71" y="57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5"/>
                      </a:lnTo>
                      <a:lnTo>
                        <a:pt x="76" y="42"/>
                      </a:lnTo>
                      <a:lnTo>
                        <a:pt x="77" y="38"/>
                      </a:lnTo>
                      <a:lnTo>
                        <a:pt x="76" y="35"/>
                      </a:lnTo>
                      <a:lnTo>
                        <a:pt x="76" y="30"/>
                      </a:lnTo>
                      <a:lnTo>
                        <a:pt x="74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1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5" y="6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2"/>
                      </a:lnTo>
                      <a:lnTo>
                        <a:pt x="10" y="66"/>
                      </a:lnTo>
                      <a:lnTo>
                        <a:pt x="13" y="67"/>
                      </a:lnTo>
                      <a:lnTo>
                        <a:pt x="15" y="70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3" y="77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Freeform 64"/>
                <p:cNvSpPr/>
                <p:nvPr/>
              </p:nvSpPr>
              <p:spPr>
                <a:xfrm>
                  <a:off x="7489800" y="1908360"/>
                  <a:ext cx="29880" cy="14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6" h="27">
                      <a:moveTo>
                        <a:pt x="51" y="0"/>
                      </a:moveTo>
                      <a:lnTo>
                        <a:pt x="51" y="4"/>
                      </a:lnTo>
                      <a:lnTo>
                        <a:pt x="51" y="8"/>
                      </a:lnTo>
                      <a:lnTo>
                        <a:pt x="51" y="12"/>
                      </a:lnTo>
                      <a:lnTo>
                        <a:pt x="53" y="15"/>
                      </a:lnTo>
                      <a:lnTo>
                        <a:pt x="53" y="19"/>
                      </a:lnTo>
                      <a:lnTo>
                        <a:pt x="54" y="22"/>
                      </a:lnTo>
                      <a:lnTo>
                        <a:pt x="55" y="25"/>
                      </a:lnTo>
                      <a:lnTo>
                        <a:pt x="56" y="27"/>
                      </a:lnTo>
                      <a:lnTo>
                        <a:pt x="51" y="27"/>
                      </a:lnTo>
                      <a:lnTo>
                        <a:pt x="48" y="27"/>
                      </a:lnTo>
                      <a:lnTo>
                        <a:pt x="44" y="27"/>
                      </a:lnTo>
                      <a:lnTo>
                        <a:pt x="41" y="27"/>
                      </a:lnTo>
                      <a:lnTo>
                        <a:pt x="37" y="26"/>
                      </a:lnTo>
                      <a:lnTo>
                        <a:pt x="34" y="25"/>
                      </a:lnTo>
                      <a:lnTo>
                        <a:pt x="29" y="23"/>
                      </a:lnTo>
                      <a:lnTo>
                        <a:pt x="26" y="22"/>
                      </a:lnTo>
                      <a:lnTo>
                        <a:pt x="23" y="20"/>
                      </a:lnTo>
                      <a:lnTo>
                        <a:pt x="19" y="18"/>
                      </a:lnTo>
                      <a:lnTo>
                        <a:pt x="16" y="14"/>
                      </a:lnTo>
                      <a:lnTo>
                        <a:pt x="13" y="12"/>
                      </a:lnTo>
                      <a:lnTo>
                        <a:pt x="9" y="9"/>
                      </a:lnTo>
                      <a:lnTo>
                        <a:pt x="6" y="7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9" y="1"/>
                      </a:lnTo>
                      <a:lnTo>
                        <a:pt x="23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Freeform 65"/>
                <p:cNvSpPr/>
                <p:nvPr/>
              </p:nvSpPr>
              <p:spPr>
                <a:xfrm>
                  <a:off x="7272360" y="1908360"/>
                  <a:ext cx="516960" cy="74520"/>
                </a:xfrm>
                <a:custGeom>
                  <a:avLst/>
                  <a:gdLst>
                    <a:gd name="textAreaLeft" fmla="*/ 0 w 516960"/>
                    <a:gd name="textAreaRight" fmla="*/ 517320 w 5169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976" h="139">
                      <a:moveTo>
                        <a:pt x="811" y="11"/>
                      </a:moveTo>
                      <a:lnTo>
                        <a:pt x="812" y="11"/>
                      </a:lnTo>
                      <a:lnTo>
                        <a:pt x="816" y="11"/>
                      </a:lnTo>
                      <a:lnTo>
                        <a:pt x="818" y="11"/>
                      </a:lnTo>
                      <a:lnTo>
                        <a:pt x="822" y="12"/>
                      </a:lnTo>
                      <a:lnTo>
                        <a:pt x="824" y="12"/>
                      </a:lnTo>
                      <a:lnTo>
                        <a:pt x="829" y="12"/>
                      </a:lnTo>
                      <a:lnTo>
                        <a:pt x="827" y="13"/>
                      </a:lnTo>
                      <a:lnTo>
                        <a:pt x="824" y="14"/>
                      </a:lnTo>
                      <a:lnTo>
                        <a:pt x="821" y="16"/>
                      </a:lnTo>
                      <a:lnTo>
                        <a:pt x="818" y="18"/>
                      </a:lnTo>
                      <a:lnTo>
                        <a:pt x="816" y="18"/>
                      </a:lnTo>
                      <a:lnTo>
                        <a:pt x="812" y="20"/>
                      </a:lnTo>
                      <a:lnTo>
                        <a:pt x="810" y="21"/>
                      </a:lnTo>
                      <a:lnTo>
                        <a:pt x="808" y="23"/>
                      </a:lnTo>
                      <a:lnTo>
                        <a:pt x="804" y="24"/>
                      </a:lnTo>
                      <a:lnTo>
                        <a:pt x="802" y="25"/>
                      </a:lnTo>
                      <a:lnTo>
                        <a:pt x="798" y="26"/>
                      </a:lnTo>
                      <a:lnTo>
                        <a:pt x="795" y="27"/>
                      </a:lnTo>
                      <a:lnTo>
                        <a:pt x="792" y="29"/>
                      </a:lnTo>
                      <a:lnTo>
                        <a:pt x="790" y="30"/>
                      </a:lnTo>
                      <a:lnTo>
                        <a:pt x="785" y="31"/>
                      </a:lnTo>
                      <a:lnTo>
                        <a:pt x="783" y="32"/>
                      </a:lnTo>
                      <a:lnTo>
                        <a:pt x="779" y="33"/>
                      </a:lnTo>
                      <a:lnTo>
                        <a:pt x="777" y="33"/>
                      </a:lnTo>
                      <a:lnTo>
                        <a:pt x="772" y="35"/>
                      </a:lnTo>
                      <a:lnTo>
                        <a:pt x="770" y="36"/>
                      </a:lnTo>
                      <a:lnTo>
                        <a:pt x="766" y="36"/>
                      </a:lnTo>
                      <a:lnTo>
                        <a:pt x="764" y="36"/>
                      </a:lnTo>
                      <a:lnTo>
                        <a:pt x="761" y="36"/>
                      </a:lnTo>
                      <a:lnTo>
                        <a:pt x="758" y="36"/>
                      </a:lnTo>
                      <a:lnTo>
                        <a:pt x="755" y="35"/>
                      </a:lnTo>
                      <a:lnTo>
                        <a:pt x="752" y="33"/>
                      </a:lnTo>
                      <a:lnTo>
                        <a:pt x="750" y="32"/>
                      </a:lnTo>
                      <a:lnTo>
                        <a:pt x="748" y="31"/>
                      </a:lnTo>
                      <a:lnTo>
                        <a:pt x="746" y="29"/>
                      </a:lnTo>
                      <a:lnTo>
                        <a:pt x="744" y="26"/>
                      </a:lnTo>
                      <a:lnTo>
                        <a:pt x="741" y="24"/>
                      </a:lnTo>
                      <a:lnTo>
                        <a:pt x="740" y="21"/>
                      </a:lnTo>
                      <a:lnTo>
                        <a:pt x="735" y="24"/>
                      </a:lnTo>
                      <a:lnTo>
                        <a:pt x="732" y="25"/>
                      </a:lnTo>
                      <a:lnTo>
                        <a:pt x="727" y="27"/>
                      </a:lnTo>
                      <a:lnTo>
                        <a:pt x="723" y="30"/>
                      </a:lnTo>
                      <a:lnTo>
                        <a:pt x="721" y="32"/>
                      </a:lnTo>
                      <a:lnTo>
                        <a:pt x="719" y="33"/>
                      </a:lnTo>
                      <a:lnTo>
                        <a:pt x="716" y="36"/>
                      </a:lnTo>
                      <a:lnTo>
                        <a:pt x="715" y="38"/>
                      </a:lnTo>
                      <a:lnTo>
                        <a:pt x="712" y="40"/>
                      </a:lnTo>
                      <a:lnTo>
                        <a:pt x="710" y="43"/>
                      </a:lnTo>
                      <a:lnTo>
                        <a:pt x="708" y="45"/>
                      </a:lnTo>
                      <a:lnTo>
                        <a:pt x="707" y="46"/>
                      </a:lnTo>
                      <a:lnTo>
                        <a:pt x="704" y="46"/>
                      </a:lnTo>
                      <a:lnTo>
                        <a:pt x="702" y="46"/>
                      </a:lnTo>
                      <a:lnTo>
                        <a:pt x="698" y="44"/>
                      </a:lnTo>
                      <a:lnTo>
                        <a:pt x="695" y="42"/>
                      </a:lnTo>
                      <a:lnTo>
                        <a:pt x="691" y="39"/>
                      </a:lnTo>
                      <a:lnTo>
                        <a:pt x="688" y="38"/>
                      </a:lnTo>
                      <a:lnTo>
                        <a:pt x="684" y="36"/>
                      </a:lnTo>
                      <a:lnTo>
                        <a:pt x="681" y="32"/>
                      </a:lnTo>
                      <a:lnTo>
                        <a:pt x="678" y="31"/>
                      </a:lnTo>
                      <a:lnTo>
                        <a:pt x="676" y="30"/>
                      </a:lnTo>
                      <a:lnTo>
                        <a:pt x="672" y="27"/>
                      </a:lnTo>
                      <a:lnTo>
                        <a:pt x="670" y="26"/>
                      </a:lnTo>
                      <a:lnTo>
                        <a:pt x="666" y="24"/>
                      </a:lnTo>
                      <a:lnTo>
                        <a:pt x="664" y="23"/>
                      </a:lnTo>
                      <a:lnTo>
                        <a:pt x="661" y="20"/>
                      </a:lnTo>
                      <a:lnTo>
                        <a:pt x="658" y="18"/>
                      </a:lnTo>
                      <a:lnTo>
                        <a:pt x="656" y="23"/>
                      </a:lnTo>
                      <a:lnTo>
                        <a:pt x="653" y="29"/>
                      </a:lnTo>
                      <a:lnTo>
                        <a:pt x="652" y="32"/>
                      </a:lnTo>
                      <a:lnTo>
                        <a:pt x="650" y="38"/>
                      </a:lnTo>
                      <a:lnTo>
                        <a:pt x="650" y="42"/>
                      </a:lnTo>
                      <a:lnTo>
                        <a:pt x="649" y="45"/>
                      </a:lnTo>
                      <a:lnTo>
                        <a:pt x="647" y="49"/>
                      </a:lnTo>
                      <a:lnTo>
                        <a:pt x="647" y="52"/>
                      </a:lnTo>
                      <a:lnTo>
                        <a:pt x="647" y="55"/>
                      </a:lnTo>
                      <a:lnTo>
                        <a:pt x="647" y="58"/>
                      </a:lnTo>
                      <a:lnTo>
                        <a:pt x="647" y="61"/>
                      </a:lnTo>
                      <a:lnTo>
                        <a:pt x="650" y="63"/>
                      </a:lnTo>
                      <a:lnTo>
                        <a:pt x="650" y="67"/>
                      </a:lnTo>
                      <a:lnTo>
                        <a:pt x="653" y="70"/>
                      </a:lnTo>
                      <a:lnTo>
                        <a:pt x="657" y="71"/>
                      </a:lnTo>
                      <a:lnTo>
                        <a:pt x="661" y="74"/>
                      </a:lnTo>
                      <a:lnTo>
                        <a:pt x="664" y="74"/>
                      </a:lnTo>
                      <a:lnTo>
                        <a:pt x="669" y="74"/>
                      </a:lnTo>
                      <a:lnTo>
                        <a:pt x="671" y="74"/>
                      </a:lnTo>
                      <a:lnTo>
                        <a:pt x="674" y="74"/>
                      </a:lnTo>
                      <a:lnTo>
                        <a:pt x="677" y="74"/>
                      </a:lnTo>
                      <a:lnTo>
                        <a:pt x="681" y="74"/>
                      </a:lnTo>
                      <a:lnTo>
                        <a:pt x="683" y="73"/>
                      </a:lnTo>
                      <a:lnTo>
                        <a:pt x="685" y="73"/>
                      </a:lnTo>
                      <a:lnTo>
                        <a:pt x="688" y="71"/>
                      </a:lnTo>
                      <a:lnTo>
                        <a:pt x="691" y="71"/>
                      </a:lnTo>
                      <a:lnTo>
                        <a:pt x="695" y="70"/>
                      </a:lnTo>
                      <a:lnTo>
                        <a:pt x="697" y="69"/>
                      </a:lnTo>
                      <a:lnTo>
                        <a:pt x="701" y="68"/>
                      </a:lnTo>
                      <a:lnTo>
                        <a:pt x="704" y="67"/>
                      </a:lnTo>
                      <a:lnTo>
                        <a:pt x="707" y="65"/>
                      </a:lnTo>
                      <a:lnTo>
                        <a:pt x="710" y="65"/>
                      </a:lnTo>
                      <a:lnTo>
                        <a:pt x="714" y="64"/>
                      </a:lnTo>
                      <a:lnTo>
                        <a:pt x="717" y="63"/>
                      </a:lnTo>
                      <a:lnTo>
                        <a:pt x="720" y="62"/>
                      </a:lnTo>
                      <a:lnTo>
                        <a:pt x="723" y="61"/>
                      </a:lnTo>
                      <a:lnTo>
                        <a:pt x="726" y="59"/>
                      </a:lnTo>
                      <a:lnTo>
                        <a:pt x="729" y="58"/>
                      </a:lnTo>
                      <a:lnTo>
                        <a:pt x="733" y="58"/>
                      </a:lnTo>
                      <a:lnTo>
                        <a:pt x="736" y="57"/>
                      </a:lnTo>
                      <a:lnTo>
                        <a:pt x="739" y="56"/>
                      </a:lnTo>
                      <a:lnTo>
                        <a:pt x="741" y="56"/>
                      </a:lnTo>
                      <a:lnTo>
                        <a:pt x="744" y="55"/>
                      </a:lnTo>
                      <a:lnTo>
                        <a:pt x="747" y="55"/>
                      </a:lnTo>
                      <a:lnTo>
                        <a:pt x="751" y="54"/>
                      </a:lnTo>
                      <a:lnTo>
                        <a:pt x="753" y="54"/>
                      </a:lnTo>
                      <a:lnTo>
                        <a:pt x="758" y="52"/>
                      </a:lnTo>
                      <a:lnTo>
                        <a:pt x="763" y="54"/>
                      </a:lnTo>
                      <a:lnTo>
                        <a:pt x="766" y="54"/>
                      </a:lnTo>
                      <a:lnTo>
                        <a:pt x="770" y="55"/>
                      </a:lnTo>
                      <a:lnTo>
                        <a:pt x="772" y="56"/>
                      </a:lnTo>
                      <a:lnTo>
                        <a:pt x="774" y="59"/>
                      </a:lnTo>
                      <a:lnTo>
                        <a:pt x="774" y="63"/>
                      </a:lnTo>
                      <a:lnTo>
                        <a:pt x="777" y="65"/>
                      </a:lnTo>
                      <a:lnTo>
                        <a:pt x="777" y="68"/>
                      </a:lnTo>
                      <a:lnTo>
                        <a:pt x="779" y="71"/>
                      </a:lnTo>
                      <a:lnTo>
                        <a:pt x="780" y="74"/>
                      </a:lnTo>
                      <a:lnTo>
                        <a:pt x="782" y="77"/>
                      </a:lnTo>
                      <a:lnTo>
                        <a:pt x="784" y="80"/>
                      </a:lnTo>
                      <a:lnTo>
                        <a:pt x="786" y="82"/>
                      </a:lnTo>
                      <a:lnTo>
                        <a:pt x="790" y="83"/>
                      </a:lnTo>
                      <a:lnTo>
                        <a:pt x="792" y="86"/>
                      </a:lnTo>
                      <a:lnTo>
                        <a:pt x="795" y="87"/>
                      </a:lnTo>
                      <a:lnTo>
                        <a:pt x="798" y="88"/>
                      </a:lnTo>
                      <a:lnTo>
                        <a:pt x="801" y="88"/>
                      </a:lnTo>
                      <a:lnTo>
                        <a:pt x="804" y="90"/>
                      </a:lnTo>
                      <a:lnTo>
                        <a:pt x="808" y="90"/>
                      </a:lnTo>
                      <a:lnTo>
                        <a:pt x="812" y="92"/>
                      </a:lnTo>
                      <a:lnTo>
                        <a:pt x="816" y="92"/>
                      </a:lnTo>
                      <a:lnTo>
                        <a:pt x="820" y="92"/>
                      </a:lnTo>
                      <a:lnTo>
                        <a:pt x="823" y="90"/>
                      </a:lnTo>
                      <a:lnTo>
                        <a:pt x="828" y="89"/>
                      </a:lnTo>
                      <a:lnTo>
                        <a:pt x="831" y="88"/>
                      </a:lnTo>
                      <a:lnTo>
                        <a:pt x="836" y="86"/>
                      </a:lnTo>
                      <a:lnTo>
                        <a:pt x="840" y="83"/>
                      </a:lnTo>
                      <a:lnTo>
                        <a:pt x="846" y="82"/>
                      </a:lnTo>
                      <a:lnTo>
                        <a:pt x="849" y="78"/>
                      </a:lnTo>
                      <a:lnTo>
                        <a:pt x="853" y="76"/>
                      </a:lnTo>
                      <a:lnTo>
                        <a:pt x="857" y="71"/>
                      </a:lnTo>
                      <a:lnTo>
                        <a:pt x="862" y="68"/>
                      </a:lnTo>
                      <a:lnTo>
                        <a:pt x="867" y="63"/>
                      </a:lnTo>
                      <a:lnTo>
                        <a:pt x="871" y="58"/>
                      </a:lnTo>
                      <a:lnTo>
                        <a:pt x="873" y="56"/>
                      </a:lnTo>
                      <a:lnTo>
                        <a:pt x="875" y="54"/>
                      </a:lnTo>
                      <a:lnTo>
                        <a:pt x="878" y="50"/>
                      </a:lnTo>
                      <a:lnTo>
                        <a:pt x="880" y="48"/>
                      </a:lnTo>
                      <a:lnTo>
                        <a:pt x="878" y="45"/>
                      </a:lnTo>
                      <a:lnTo>
                        <a:pt x="875" y="44"/>
                      </a:lnTo>
                      <a:lnTo>
                        <a:pt x="873" y="43"/>
                      </a:lnTo>
                      <a:lnTo>
                        <a:pt x="868" y="43"/>
                      </a:lnTo>
                      <a:lnTo>
                        <a:pt x="865" y="43"/>
                      </a:lnTo>
                      <a:lnTo>
                        <a:pt x="860" y="43"/>
                      </a:lnTo>
                      <a:lnTo>
                        <a:pt x="855" y="43"/>
                      </a:lnTo>
                      <a:lnTo>
                        <a:pt x="850" y="43"/>
                      </a:lnTo>
                      <a:lnTo>
                        <a:pt x="847" y="43"/>
                      </a:lnTo>
                      <a:lnTo>
                        <a:pt x="844" y="43"/>
                      </a:lnTo>
                      <a:lnTo>
                        <a:pt x="842" y="43"/>
                      </a:lnTo>
                      <a:lnTo>
                        <a:pt x="840" y="44"/>
                      </a:lnTo>
                      <a:lnTo>
                        <a:pt x="835" y="44"/>
                      </a:lnTo>
                      <a:lnTo>
                        <a:pt x="830" y="44"/>
                      </a:lnTo>
                      <a:lnTo>
                        <a:pt x="825" y="43"/>
                      </a:lnTo>
                      <a:lnTo>
                        <a:pt x="823" y="43"/>
                      </a:lnTo>
                      <a:lnTo>
                        <a:pt x="820" y="40"/>
                      </a:lnTo>
                      <a:lnTo>
                        <a:pt x="820" y="39"/>
                      </a:lnTo>
                      <a:lnTo>
                        <a:pt x="821" y="37"/>
                      </a:lnTo>
                      <a:lnTo>
                        <a:pt x="822" y="33"/>
                      </a:lnTo>
                      <a:lnTo>
                        <a:pt x="824" y="31"/>
                      </a:lnTo>
                      <a:lnTo>
                        <a:pt x="827" y="30"/>
                      </a:lnTo>
                      <a:lnTo>
                        <a:pt x="829" y="25"/>
                      </a:lnTo>
                      <a:lnTo>
                        <a:pt x="833" y="23"/>
                      </a:lnTo>
                      <a:lnTo>
                        <a:pt x="834" y="19"/>
                      </a:lnTo>
                      <a:lnTo>
                        <a:pt x="836" y="17"/>
                      </a:lnTo>
                      <a:lnTo>
                        <a:pt x="837" y="14"/>
                      </a:lnTo>
                      <a:lnTo>
                        <a:pt x="839" y="12"/>
                      </a:lnTo>
                      <a:lnTo>
                        <a:pt x="842" y="12"/>
                      </a:lnTo>
                      <a:lnTo>
                        <a:pt x="847" y="12"/>
                      </a:lnTo>
                      <a:lnTo>
                        <a:pt x="852" y="12"/>
                      </a:lnTo>
                      <a:lnTo>
                        <a:pt x="857" y="13"/>
                      </a:lnTo>
                      <a:lnTo>
                        <a:pt x="860" y="13"/>
                      </a:lnTo>
                      <a:lnTo>
                        <a:pt x="862" y="13"/>
                      </a:lnTo>
                      <a:lnTo>
                        <a:pt x="865" y="13"/>
                      </a:lnTo>
                      <a:lnTo>
                        <a:pt x="868" y="13"/>
                      </a:lnTo>
                      <a:lnTo>
                        <a:pt x="871" y="13"/>
                      </a:lnTo>
                      <a:lnTo>
                        <a:pt x="873" y="14"/>
                      </a:lnTo>
                      <a:lnTo>
                        <a:pt x="875" y="14"/>
                      </a:lnTo>
                      <a:lnTo>
                        <a:pt x="879" y="16"/>
                      </a:lnTo>
                      <a:lnTo>
                        <a:pt x="881" y="16"/>
                      </a:lnTo>
                      <a:lnTo>
                        <a:pt x="885" y="16"/>
                      </a:lnTo>
                      <a:lnTo>
                        <a:pt x="888" y="16"/>
                      </a:lnTo>
                      <a:lnTo>
                        <a:pt x="891" y="16"/>
                      </a:lnTo>
                      <a:lnTo>
                        <a:pt x="893" y="16"/>
                      </a:lnTo>
                      <a:lnTo>
                        <a:pt x="895" y="16"/>
                      </a:lnTo>
                      <a:lnTo>
                        <a:pt x="899" y="16"/>
                      </a:lnTo>
                      <a:lnTo>
                        <a:pt x="901" y="16"/>
                      </a:lnTo>
                      <a:lnTo>
                        <a:pt x="904" y="16"/>
                      </a:lnTo>
                      <a:lnTo>
                        <a:pt x="907" y="16"/>
                      </a:lnTo>
                      <a:lnTo>
                        <a:pt x="910" y="16"/>
                      </a:lnTo>
                      <a:lnTo>
                        <a:pt x="913" y="16"/>
                      </a:lnTo>
                      <a:lnTo>
                        <a:pt x="916" y="16"/>
                      </a:lnTo>
                      <a:lnTo>
                        <a:pt x="918" y="17"/>
                      </a:lnTo>
                      <a:lnTo>
                        <a:pt x="922" y="17"/>
                      </a:lnTo>
                      <a:lnTo>
                        <a:pt x="924" y="18"/>
                      </a:lnTo>
                      <a:lnTo>
                        <a:pt x="929" y="18"/>
                      </a:lnTo>
                      <a:lnTo>
                        <a:pt x="935" y="18"/>
                      </a:lnTo>
                      <a:lnTo>
                        <a:pt x="939" y="18"/>
                      </a:lnTo>
                      <a:lnTo>
                        <a:pt x="944" y="18"/>
                      </a:lnTo>
                      <a:lnTo>
                        <a:pt x="949" y="18"/>
                      </a:lnTo>
                      <a:lnTo>
                        <a:pt x="954" y="18"/>
                      </a:lnTo>
                      <a:lnTo>
                        <a:pt x="956" y="18"/>
                      </a:lnTo>
                      <a:lnTo>
                        <a:pt x="961" y="19"/>
                      </a:lnTo>
                      <a:lnTo>
                        <a:pt x="964" y="19"/>
                      </a:lnTo>
                      <a:lnTo>
                        <a:pt x="967" y="19"/>
                      </a:lnTo>
                      <a:lnTo>
                        <a:pt x="969" y="19"/>
                      </a:lnTo>
                      <a:lnTo>
                        <a:pt x="971" y="20"/>
                      </a:lnTo>
                      <a:lnTo>
                        <a:pt x="974" y="20"/>
                      </a:lnTo>
                      <a:lnTo>
                        <a:pt x="976" y="20"/>
                      </a:lnTo>
                      <a:lnTo>
                        <a:pt x="973" y="106"/>
                      </a:lnTo>
                      <a:lnTo>
                        <a:pt x="806" y="97"/>
                      </a:lnTo>
                      <a:lnTo>
                        <a:pt x="793" y="96"/>
                      </a:lnTo>
                      <a:lnTo>
                        <a:pt x="782" y="96"/>
                      </a:lnTo>
                      <a:lnTo>
                        <a:pt x="770" y="95"/>
                      </a:lnTo>
                      <a:lnTo>
                        <a:pt x="757" y="95"/>
                      </a:lnTo>
                      <a:lnTo>
                        <a:pt x="744" y="94"/>
                      </a:lnTo>
                      <a:lnTo>
                        <a:pt x="732" y="94"/>
                      </a:lnTo>
                      <a:lnTo>
                        <a:pt x="719" y="93"/>
                      </a:lnTo>
                      <a:lnTo>
                        <a:pt x="706" y="92"/>
                      </a:lnTo>
                      <a:lnTo>
                        <a:pt x="694" y="92"/>
                      </a:lnTo>
                      <a:lnTo>
                        <a:pt x="681" y="90"/>
                      </a:lnTo>
                      <a:lnTo>
                        <a:pt x="668" y="89"/>
                      </a:lnTo>
                      <a:lnTo>
                        <a:pt x="656" y="88"/>
                      </a:lnTo>
                      <a:lnTo>
                        <a:pt x="643" y="88"/>
                      </a:lnTo>
                      <a:lnTo>
                        <a:pt x="630" y="88"/>
                      </a:lnTo>
                      <a:lnTo>
                        <a:pt x="618" y="87"/>
                      </a:lnTo>
                      <a:lnTo>
                        <a:pt x="606" y="87"/>
                      </a:lnTo>
                      <a:lnTo>
                        <a:pt x="593" y="86"/>
                      </a:lnTo>
                      <a:lnTo>
                        <a:pt x="580" y="86"/>
                      </a:lnTo>
                      <a:lnTo>
                        <a:pt x="568" y="86"/>
                      </a:lnTo>
                      <a:lnTo>
                        <a:pt x="555" y="86"/>
                      </a:lnTo>
                      <a:lnTo>
                        <a:pt x="543" y="84"/>
                      </a:lnTo>
                      <a:lnTo>
                        <a:pt x="530" y="84"/>
                      </a:lnTo>
                      <a:lnTo>
                        <a:pt x="518" y="84"/>
                      </a:lnTo>
                      <a:lnTo>
                        <a:pt x="505" y="84"/>
                      </a:lnTo>
                      <a:lnTo>
                        <a:pt x="492" y="84"/>
                      </a:lnTo>
                      <a:lnTo>
                        <a:pt x="480" y="84"/>
                      </a:lnTo>
                      <a:lnTo>
                        <a:pt x="468" y="84"/>
                      </a:lnTo>
                      <a:lnTo>
                        <a:pt x="455" y="84"/>
                      </a:lnTo>
                      <a:lnTo>
                        <a:pt x="442" y="84"/>
                      </a:lnTo>
                      <a:lnTo>
                        <a:pt x="430" y="84"/>
                      </a:lnTo>
                      <a:lnTo>
                        <a:pt x="418" y="86"/>
                      </a:lnTo>
                      <a:lnTo>
                        <a:pt x="407" y="86"/>
                      </a:lnTo>
                      <a:lnTo>
                        <a:pt x="394" y="86"/>
                      </a:lnTo>
                      <a:lnTo>
                        <a:pt x="382" y="86"/>
                      </a:lnTo>
                      <a:lnTo>
                        <a:pt x="369" y="86"/>
                      </a:lnTo>
                      <a:lnTo>
                        <a:pt x="357" y="87"/>
                      </a:lnTo>
                      <a:lnTo>
                        <a:pt x="344" y="87"/>
                      </a:lnTo>
                      <a:lnTo>
                        <a:pt x="332" y="88"/>
                      </a:lnTo>
                      <a:lnTo>
                        <a:pt x="320" y="88"/>
                      </a:lnTo>
                      <a:lnTo>
                        <a:pt x="308" y="90"/>
                      </a:lnTo>
                      <a:lnTo>
                        <a:pt x="295" y="90"/>
                      </a:lnTo>
                      <a:lnTo>
                        <a:pt x="283" y="92"/>
                      </a:lnTo>
                      <a:lnTo>
                        <a:pt x="270" y="93"/>
                      </a:lnTo>
                      <a:lnTo>
                        <a:pt x="258" y="94"/>
                      </a:lnTo>
                      <a:lnTo>
                        <a:pt x="245" y="95"/>
                      </a:lnTo>
                      <a:lnTo>
                        <a:pt x="235" y="96"/>
                      </a:lnTo>
                      <a:lnTo>
                        <a:pt x="223" y="99"/>
                      </a:lnTo>
                      <a:lnTo>
                        <a:pt x="210" y="100"/>
                      </a:lnTo>
                      <a:lnTo>
                        <a:pt x="198" y="101"/>
                      </a:lnTo>
                      <a:lnTo>
                        <a:pt x="186" y="103"/>
                      </a:lnTo>
                      <a:lnTo>
                        <a:pt x="174" y="105"/>
                      </a:lnTo>
                      <a:lnTo>
                        <a:pt x="162" y="106"/>
                      </a:lnTo>
                      <a:lnTo>
                        <a:pt x="150" y="108"/>
                      </a:lnTo>
                      <a:lnTo>
                        <a:pt x="138" y="111"/>
                      </a:lnTo>
                      <a:lnTo>
                        <a:pt x="127" y="113"/>
                      </a:lnTo>
                      <a:lnTo>
                        <a:pt x="116" y="115"/>
                      </a:lnTo>
                      <a:lnTo>
                        <a:pt x="103" y="118"/>
                      </a:lnTo>
                      <a:lnTo>
                        <a:pt x="92" y="120"/>
                      </a:lnTo>
                      <a:lnTo>
                        <a:pt x="80" y="124"/>
                      </a:lnTo>
                      <a:lnTo>
                        <a:pt x="70" y="126"/>
                      </a:lnTo>
                      <a:lnTo>
                        <a:pt x="58" y="130"/>
                      </a:lnTo>
                      <a:lnTo>
                        <a:pt x="46" y="132"/>
                      </a:lnTo>
                      <a:lnTo>
                        <a:pt x="35" y="134"/>
                      </a:lnTo>
                      <a:lnTo>
                        <a:pt x="23" y="139"/>
                      </a:lnTo>
                      <a:lnTo>
                        <a:pt x="0" y="56"/>
                      </a:lnTo>
                      <a:lnTo>
                        <a:pt x="4" y="54"/>
                      </a:lnTo>
                      <a:lnTo>
                        <a:pt x="10" y="52"/>
                      </a:lnTo>
                      <a:lnTo>
                        <a:pt x="13" y="51"/>
                      </a:lnTo>
                      <a:lnTo>
                        <a:pt x="15" y="50"/>
                      </a:lnTo>
                      <a:lnTo>
                        <a:pt x="17" y="50"/>
                      </a:lnTo>
                      <a:lnTo>
                        <a:pt x="21" y="49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3" y="45"/>
                      </a:lnTo>
                      <a:lnTo>
                        <a:pt x="36" y="45"/>
                      </a:lnTo>
                      <a:lnTo>
                        <a:pt x="39" y="44"/>
                      </a:lnTo>
                      <a:lnTo>
                        <a:pt x="42" y="44"/>
                      </a:lnTo>
                      <a:lnTo>
                        <a:pt x="45" y="43"/>
                      </a:lnTo>
                      <a:lnTo>
                        <a:pt x="47" y="43"/>
                      </a:lnTo>
                      <a:lnTo>
                        <a:pt x="49" y="42"/>
                      </a:lnTo>
                      <a:lnTo>
                        <a:pt x="53" y="40"/>
                      </a:lnTo>
                      <a:lnTo>
                        <a:pt x="55" y="40"/>
                      </a:lnTo>
                      <a:lnTo>
                        <a:pt x="58" y="39"/>
                      </a:lnTo>
                      <a:lnTo>
                        <a:pt x="60" y="38"/>
                      </a:lnTo>
                      <a:lnTo>
                        <a:pt x="64" y="38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71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5"/>
                      </a:lnTo>
                      <a:lnTo>
                        <a:pt x="83" y="33"/>
                      </a:lnTo>
                      <a:lnTo>
                        <a:pt x="86" y="33"/>
                      </a:lnTo>
                      <a:lnTo>
                        <a:pt x="89" y="32"/>
                      </a:lnTo>
                      <a:lnTo>
                        <a:pt x="91" y="32"/>
                      </a:lnTo>
                      <a:lnTo>
                        <a:pt x="93" y="31"/>
                      </a:lnTo>
                      <a:lnTo>
                        <a:pt x="96" y="31"/>
                      </a:lnTo>
                      <a:lnTo>
                        <a:pt x="98" y="30"/>
                      </a:lnTo>
                      <a:lnTo>
                        <a:pt x="100" y="30"/>
                      </a:lnTo>
                      <a:lnTo>
                        <a:pt x="104" y="29"/>
                      </a:lnTo>
                      <a:lnTo>
                        <a:pt x="108" y="29"/>
                      </a:lnTo>
                      <a:lnTo>
                        <a:pt x="110" y="27"/>
                      </a:lnTo>
                      <a:lnTo>
                        <a:pt x="112" y="27"/>
                      </a:lnTo>
                      <a:lnTo>
                        <a:pt x="115" y="27"/>
                      </a:lnTo>
                      <a:lnTo>
                        <a:pt x="118" y="26"/>
                      </a:lnTo>
                      <a:lnTo>
                        <a:pt x="121" y="26"/>
                      </a:lnTo>
                      <a:lnTo>
                        <a:pt x="123" y="25"/>
                      </a:lnTo>
                      <a:lnTo>
                        <a:pt x="127" y="25"/>
                      </a:lnTo>
                      <a:lnTo>
                        <a:pt x="129" y="25"/>
                      </a:lnTo>
                      <a:lnTo>
                        <a:pt x="131" y="24"/>
                      </a:lnTo>
                      <a:lnTo>
                        <a:pt x="134" y="24"/>
                      </a:lnTo>
                      <a:lnTo>
                        <a:pt x="136" y="23"/>
                      </a:lnTo>
                      <a:lnTo>
                        <a:pt x="140" y="23"/>
                      </a:lnTo>
                      <a:lnTo>
                        <a:pt x="142" y="21"/>
                      </a:lnTo>
                      <a:lnTo>
                        <a:pt x="144" y="21"/>
                      </a:lnTo>
                      <a:lnTo>
                        <a:pt x="148" y="20"/>
                      </a:lnTo>
                      <a:lnTo>
                        <a:pt x="150" y="20"/>
                      </a:lnTo>
                      <a:lnTo>
                        <a:pt x="153" y="20"/>
                      </a:lnTo>
                      <a:lnTo>
                        <a:pt x="156" y="20"/>
                      </a:lnTo>
                      <a:lnTo>
                        <a:pt x="159" y="20"/>
                      </a:lnTo>
                      <a:lnTo>
                        <a:pt x="162" y="20"/>
                      </a:lnTo>
                      <a:lnTo>
                        <a:pt x="165" y="19"/>
                      </a:lnTo>
                      <a:lnTo>
                        <a:pt x="167" y="18"/>
                      </a:lnTo>
                      <a:lnTo>
                        <a:pt x="170" y="18"/>
                      </a:lnTo>
                      <a:lnTo>
                        <a:pt x="173" y="18"/>
                      </a:lnTo>
                      <a:lnTo>
                        <a:pt x="173" y="20"/>
                      </a:lnTo>
                      <a:lnTo>
                        <a:pt x="174" y="24"/>
                      </a:lnTo>
                      <a:lnTo>
                        <a:pt x="175" y="26"/>
                      </a:lnTo>
                      <a:lnTo>
                        <a:pt x="176" y="30"/>
                      </a:lnTo>
                      <a:lnTo>
                        <a:pt x="176" y="32"/>
                      </a:lnTo>
                      <a:lnTo>
                        <a:pt x="178" y="36"/>
                      </a:lnTo>
                      <a:lnTo>
                        <a:pt x="179" y="38"/>
                      </a:lnTo>
                      <a:lnTo>
                        <a:pt x="179" y="43"/>
                      </a:lnTo>
                      <a:lnTo>
                        <a:pt x="184" y="43"/>
                      </a:lnTo>
                      <a:lnTo>
                        <a:pt x="187" y="43"/>
                      </a:lnTo>
                      <a:lnTo>
                        <a:pt x="192" y="43"/>
                      </a:lnTo>
                      <a:lnTo>
                        <a:pt x="197" y="43"/>
                      </a:lnTo>
                      <a:lnTo>
                        <a:pt x="200" y="43"/>
                      </a:lnTo>
                      <a:lnTo>
                        <a:pt x="205" y="43"/>
                      </a:lnTo>
                      <a:lnTo>
                        <a:pt x="210" y="43"/>
                      </a:lnTo>
                      <a:lnTo>
                        <a:pt x="214" y="43"/>
                      </a:lnTo>
                      <a:lnTo>
                        <a:pt x="214" y="39"/>
                      </a:lnTo>
                      <a:lnTo>
                        <a:pt x="217" y="36"/>
                      </a:lnTo>
                      <a:lnTo>
                        <a:pt x="219" y="33"/>
                      </a:lnTo>
                      <a:lnTo>
                        <a:pt x="220" y="32"/>
                      </a:lnTo>
                      <a:lnTo>
                        <a:pt x="224" y="27"/>
                      </a:lnTo>
                      <a:lnTo>
                        <a:pt x="227" y="25"/>
                      </a:lnTo>
                      <a:lnTo>
                        <a:pt x="230" y="24"/>
                      </a:lnTo>
                      <a:lnTo>
                        <a:pt x="233" y="23"/>
                      </a:lnTo>
                      <a:lnTo>
                        <a:pt x="237" y="23"/>
                      </a:lnTo>
                      <a:lnTo>
                        <a:pt x="241" y="23"/>
                      </a:lnTo>
                      <a:lnTo>
                        <a:pt x="243" y="23"/>
                      </a:lnTo>
                      <a:lnTo>
                        <a:pt x="245" y="25"/>
                      </a:lnTo>
                      <a:lnTo>
                        <a:pt x="248" y="26"/>
                      </a:lnTo>
                      <a:lnTo>
                        <a:pt x="250" y="30"/>
                      </a:lnTo>
                      <a:lnTo>
                        <a:pt x="252" y="32"/>
                      </a:lnTo>
                      <a:lnTo>
                        <a:pt x="256" y="36"/>
                      </a:lnTo>
                      <a:lnTo>
                        <a:pt x="258" y="38"/>
                      </a:lnTo>
                      <a:lnTo>
                        <a:pt x="262" y="43"/>
                      </a:lnTo>
                      <a:lnTo>
                        <a:pt x="264" y="46"/>
                      </a:lnTo>
                      <a:lnTo>
                        <a:pt x="267" y="50"/>
                      </a:lnTo>
                      <a:lnTo>
                        <a:pt x="269" y="54"/>
                      </a:lnTo>
                      <a:lnTo>
                        <a:pt x="273" y="58"/>
                      </a:lnTo>
                      <a:lnTo>
                        <a:pt x="275" y="62"/>
                      </a:lnTo>
                      <a:lnTo>
                        <a:pt x="277" y="65"/>
                      </a:lnTo>
                      <a:lnTo>
                        <a:pt x="281" y="69"/>
                      </a:lnTo>
                      <a:lnTo>
                        <a:pt x="284" y="73"/>
                      </a:lnTo>
                      <a:lnTo>
                        <a:pt x="287" y="75"/>
                      </a:lnTo>
                      <a:lnTo>
                        <a:pt x="290" y="78"/>
                      </a:lnTo>
                      <a:lnTo>
                        <a:pt x="293" y="81"/>
                      </a:lnTo>
                      <a:lnTo>
                        <a:pt x="297" y="82"/>
                      </a:lnTo>
                      <a:lnTo>
                        <a:pt x="301" y="83"/>
                      </a:lnTo>
                      <a:lnTo>
                        <a:pt x="305" y="83"/>
                      </a:lnTo>
                      <a:lnTo>
                        <a:pt x="308" y="83"/>
                      </a:lnTo>
                      <a:lnTo>
                        <a:pt x="314" y="83"/>
                      </a:lnTo>
                      <a:lnTo>
                        <a:pt x="315" y="81"/>
                      </a:lnTo>
                      <a:lnTo>
                        <a:pt x="316" y="77"/>
                      </a:lnTo>
                      <a:lnTo>
                        <a:pt x="319" y="75"/>
                      </a:lnTo>
                      <a:lnTo>
                        <a:pt x="320" y="73"/>
                      </a:lnTo>
                      <a:lnTo>
                        <a:pt x="321" y="70"/>
                      </a:lnTo>
                      <a:lnTo>
                        <a:pt x="321" y="67"/>
                      </a:lnTo>
                      <a:lnTo>
                        <a:pt x="322" y="64"/>
                      </a:lnTo>
                      <a:lnTo>
                        <a:pt x="324" y="62"/>
                      </a:lnTo>
                      <a:lnTo>
                        <a:pt x="324" y="59"/>
                      </a:lnTo>
                      <a:lnTo>
                        <a:pt x="324" y="57"/>
                      </a:lnTo>
                      <a:lnTo>
                        <a:pt x="324" y="54"/>
                      </a:lnTo>
                      <a:lnTo>
                        <a:pt x="324" y="51"/>
                      </a:lnTo>
                      <a:lnTo>
                        <a:pt x="324" y="46"/>
                      </a:lnTo>
                      <a:lnTo>
                        <a:pt x="324" y="42"/>
                      </a:lnTo>
                      <a:lnTo>
                        <a:pt x="321" y="36"/>
                      </a:lnTo>
                      <a:lnTo>
                        <a:pt x="320" y="31"/>
                      </a:lnTo>
                      <a:lnTo>
                        <a:pt x="318" y="26"/>
                      </a:lnTo>
                      <a:lnTo>
                        <a:pt x="315" y="21"/>
                      </a:lnTo>
                      <a:lnTo>
                        <a:pt x="311" y="18"/>
                      </a:lnTo>
                      <a:lnTo>
                        <a:pt x="308" y="12"/>
                      </a:lnTo>
                      <a:lnTo>
                        <a:pt x="303" y="8"/>
                      </a:lnTo>
                      <a:lnTo>
                        <a:pt x="300" y="5"/>
                      </a:lnTo>
                      <a:lnTo>
                        <a:pt x="303" y="5"/>
                      </a:lnTo>
                      <a:lnTo>
                        <a:pt x="307" y="4"/>
                      </a:lnTo>
                      <a:lnTo>
                        <a:pt x="309" y="2"/>
                      </a:lnTo>
                      <a:lnTo>
                        <a:pt x="314" y="2"/>
                      </a:lnTo>
                      <a:lnTo>
                        <a:pt x="316" y="2"/>
                      </a:lnTo>
                      <a:lnTo>
                        <a:pt x="320" y="2"/>
                      </a:lnTo>
                      <a:lnTo>
                        <a:pt x="324" y="2"/>
                      </a:lnTo>
                      <a:lnTo>
                        <a:pt x="327" y="2"/>
                      </a:lnTo>
                      <a:lnTo>
                        <a:pt x="331" y="2"/>
                      </a:lnTo>
                      <a:lnTo>
                        <a:pt x="334" y="2"/>
                      </a:lnTo>
                      <a:lnTo>
                        <a:pt x="337" y="1"/>
                      </a:lnTo>
                      <a:lnTo>
                        <a:pt x="341" y="1"/>
                      </a:lnTo>
                      <a:lnTo>
                        <a:pt x="344" y="1"/>
                      </a:lnTo>
                      <a:lnTo>
                        <a:pt x="347" y="1"/>
                      </a:lnTo>
                      <a:lnTo>
                        <a:pt x="351" y="1"/>
                      </a:lnTo>
                      <a:lnTo>
                        <a:pt x="354" y="1"/>
                      </a:lnTo>
                      <a:lnTo>
                        <a:pt x="353" y="4"/>
                      </a:lnTo>
                      <a:lnTo>
                        <a:pt x="352" y="6"/>
                      </a:lnTo>
                      <a:lnTo>
                        <a:pt x="350" y="10"/>
                      </a:lnTo>
                      <a:lnTo>
                        <a:pt x="348" y="13"/>
                      </a:lnTo>
                      <a:lnTo>
                        <a:pt x="353" y="16"/>
                      </a:lnTo>
                      <a:lnTo>
                        <a:pt x="357" y="18"/>
                      </a:lnTo>
                      <a:lnTo>
                        <a:pt x="360" y="19"/>
                      </a:lnTo>
                      <a:lnTo>
                        <a:pt x="364" y="21"/>
                      </a:lnTo>
                      <a:lnTo>
                        <a:pt x="366" y="23"/>
                      </a:lnTo>
                      <a:lnTo>
                        <a:pt x="370" y="26"/>
                      </a:lnTo>
                      <a:lnTo>
                        <a:pt x="373" y="27"/>
                      </a:lnTo>
                      <a:lnTo>
                        <a:pt x="378" y="31"/>
                      </a:lnTo>
                      <a:lnTo>
                        <a:pt x="379" y="33"/>
                      </a:lnTo>
                      <a:lnTo>
                        <a:pt x="382" y="37"/>
                      </a:lnTo>
                      <a:lnTo>
                        <a:pt x="384" y="39"/>
                      </a:lnTo>
                      <a:lnTo>
                        <a:pt x="386" y="43"/>
                      </a:lnTo>
                      <a:lnTo>
                        <a:pt x="391" y="48"/>
                      </a:lnTo>
                      <a:lnTo>
                        <a:pt x="396" y="52"/>
                      </a:lnTo>
                      <a:lnTo>
                        <a:pt x="401" y="56"/>
                      </a:lnTo>
                      <a:lnTo>
                        <a:pt x="407" y="58"/>
                      </a:lnTo>
                      <a:lnTo>
                        <a:pt x="409" y="59"/>
                      </a:lnTo>
                      <a:lnTo>
                        <a:pt x="411" y="61"/>
                      </a:lnTo>
                      <a:lnTo>
                        <a:pt x="415" y="62"/>
                      </a:lnTo>
                      <a:lnTo>
                        <a:pt x="417" y="63"/>
                      </a:lnTo>
                      <a:lnTo>
                        <a:pt x="420" y="63"/>
                      </a:lnTo>
                      <a:lnTo>
                        <a:pt x="422" y="64"/>
                      </a:lnTo>
                      <a:lnTo>
                        <a:pt x="424" y="64"/>
                      </a:lnTo>
                      <a:lnTo>
                        <a:pt x="428" y="64"/>
                      </a:lnTo>
                      <a:lnTo>
                        <a:pt x="430" y="64"/>
                      </a:lnTo>
                      <a:lnTo>
                        <a:pt x="434" y="64"/>
                      </a:lnTo>
                      <a:lnTo>
                        <a:pt x="436" y="64"/>
                      </a:lnTo>
                      <a:lnTo>
                        <a:pt x="440" y="65"/>
                      </a:lnTo>
                      <a:lnTo>
                        <a:pt x="442" y="64"/>
                      </a:lnTo>
                      <a:lnTo>
                        <a:pt x="445" y="64"/>
                      </a:lnTo>
                      <a:lnTo>
                        <a:pt x="448" y="63"/>
                      </a:lnTo>
                      <a:lnTo>
                        <a:pt x="451" y="63"/>
                      </a:lnTo>
                      <a:lnTo>
                        <a:pt x="453" y="62"/>
                      </a:lnTo>
                      <a:lnTo>
                        <a:pt x="455" y="62"/>
                      </a:lnTo>
                      <a:lnTo>
                        <a:pt x="458" y="61"/>
                      </a:lnTo>
                      <a:lnTo>
                        <a:pt x="461" y="61"/>
                      </a:lnTo>
                      <a:lnTo>
                        <a:pt x="466" y="57"/>
                      </a:lnTo>
                      <a:lnTo>
                        <a:pt x="471" y="55"/>
                      </a:lnTo>
                      <a:lnTo>
                        <a:pt x="475" y="52"/>
                      </a:lnTo>
                      <a:lnTo>
                        <a:pt x="480" y="49"/>
                      </a:lnTo>
                      <a:lnTo>
                        <a:pt x="485" y="45"/>
                      </a:lnTo>
                      <a:lnTo>
                        <a:pt x="488" y="42"/>
                      </a:lnTo>
                      <a:lnTo>
                        <a:pt x="493" y="38"/>
                      </a:lnTo>
                      <a:lnTo>
                        <a:pt x="497" y="35"/>
                      </a:lnTo>
                      <a:lnTo>
                        <a:pt x="499" y="30"/>
                      </a:lnTo>
                      <a:lnTo>
                        <a:pt x="503" y="25"/>
                      </a:lnTo>
                      <a:lnTo>
                        <a:pt x="505" y="21"/>
                      </a:lnTo>
                      <a:lnTo>
                        <a:pt x="507" y="18"/>
                      </a:lnTo>
                      <a:lnTo>
                        <a:pt x="509" y="12"/>
                      </a:lnTo>
                      <a:lnTo>
                        <a:pt x="510" y="7"/>
                      </a:lnTo>
                      <a:lnTo>
                        <a:pt x="511" y="4"/>
                      </a:lnTo>
                      <a:lnTo>
                        <a:pt x="511" y="0"/>
                      </a:lnTo>
                      <a:lnTo>
                        <a:pt x="515" y="0"/>
                      </a:lnTo>
                      <a:lnTo>
                        <a:pt x="518" y="0"/>
                      </a:lnTo>
                      <a:lnTo>
                        <a:pt x="523" y="0"/>
                      </a:lnTo>
                      <a:lnTo>
                        <a:pt x="528" y="0"/>
                      </a:lnTo>
                      <a:lnTo>
                        <a:pt x="531" y="0"/>
                      </a:lnTo>
                      <a:lnTo>
                        <a:pt x="535" y="0"/>
                      </a:lnTo>
                      <a:lnTo>
                        <a:pt x="538" y="0"/>
                      </a:lnTo>
                      <a:lnTo>
                        <a:pt x="544" y="0"/>
                      </a:lnTo>
                      <a:lnTo>
                        <a:pt x="538" y="2"/>
                      </a:lnTo>
                      <a:lnTo>
                        <a:pt x="536" y="5"/>
                      </a:lnTo>
                      <a:lnTo>
                        <a:pt x="534" y="7"/>
                      </a:lnTo>
                      <a:lnTo>
                        <a:pt x="531" y="10"/>
                      </a:lnTo>
                      <a:lnTo>
                        <a:pt x="526" y="16"/>
                      </a:lnTo>
                      <a:lnTo>
                        <a:pt x="522" y="20"/>
                      </a:lnTo>
                      <a:lnTo>
                        <a:pt x="518" y="24"/>
                      </a:lnTo>
                      <a:lnTo>
                        <a:pt x="517" y="29"/>
                      </a:lnTo>
                      <a:lnTo>
                        <a:pt x="516" y="33"/>
                      </a:lnTo>
                      <a:lnTo>
                        <a:pt x="516" y="38"/>
                      </a:lnTo>
                      <a:lnTo>
                        <a:pt x="516" y="40"/>
                      </a:lnTo>
                      <a:lnTo>
                        <a:pt x="516" y="45"/>
                      </a:lnTo>
                      <a:lnTo>
                        <a:pt x="518" y="48"/>
                      </a:lnTo>
                      <a:lnTo>
                        <a:pt x="521" y="51"/>
                      </a:lnTo>
                      <a:lnTo>
                        <a:pt x="523" y="54"/>
                      </a:lnTo>
                      <a:lnTo>
                        <a:pt x="525" y="57"/>
                      </a:lnTo>
                      <a:lnTo>
                        <a:pt x="529" y="59"/>
                      </a:lnTo>
                      <a:lnTo>
                        <a:pt x="534" y="62"/>
                      </a:lnTo>
                      <a:lnTo>
                        <a:pt x="536" y="63"/>
                      </a:lnTo>
                      <a:lnTo>
                        <a:pt x="541" y="65"/>
                      </a:lnTo>
                      <a:lnTo>
                        <a:pt x="545" y="67"/>
                      </a:lnTo>
                      <a:lnTo>
                        <a:pt x="549" y="68"/>
                      </a:lnTo>
                      <a:lnTo>
                        <a:pt x="554" y="69"/>
                      </a:lnTo>
                      <a:lnTo>
                        <a:pt x="558" y="70"/>
                      </a:lnTo>
                      <a:lnTo>
                        <a:pt x="564" y="70"/>
                      </a:lnTo>
                      <a:lnTo>
                        <a:pt x="569" y="71"/>
                      </a:lnTo>
                      <a:lnTo>
                        <a:pt x="573" y="71"/>
                      </a:lnTo>
                      <a:lnTo>
                        <a:pt x="577" y="71"/>
                      </a:lnTo>
                      <a:lnTo>
                        <a:pt x="582" y="71"/>
                      </a:lnTo>
                      <a:lnTo>
                        <a:pt x="586" y="71"/>
                      </a:lnTo>
                      <a:lnTo>
                        <a:pt x="589" y="70"/>
                      </a:lnTo>
                      <a:lnTo>
                        <a:pt x="593" y="70"/>
                      </a:lnTo>
                      <a:lnTo>
                        <a:pt x="595" y="69"/>
                      </a:lnTo>
                      <a:lnTo>
                        <a:pt x="599" y="68"/>
                      </a:lnTo>
                      <a:lnTo>
                        <a:pt x="598" y="64"/>
                      </a:lnTo>
                      <a:lnTo>
                        <a:pt x="596" y="61"/>
                      </a:lnTo>
                      <a:lnTo>
                        <a:pt x="596" y="58"/>
                      </a:lnTo>
                      <a:lnTo>
                        <a:pt x="596" y="56"/>
                      </a:lnTo>
                      <a:lnTo>
                        <a:pt x="595" y="52"/>
                      </a:lnTo>
                      <a:lnTo>
                        <a:pt x="595" y="50"/>
                      </a:lnTo>
                      <a:lnTo>
                        <a:pt x="594" y="48"/>
                      </a:lnTo>
                      <a:lnTo>
                        <a:pt x="594" y="45"/>
                      </a:lnTo>
                      <a:lnTo>
                        <a:pt x="593" y="40"/>
                      </a:lnTo>
                      <a:lnTo>
                        <a:pt x="592" y="37"/>
                      </a:lnTo>
                      <a:lnTo>
                        <a:pt x="591" y="33"/>
                      </a:lnTo>
                      <a:lnTo>
                        <a:pt x="591" y="31"/>
                      </a:lnTo>
                      <a:lnTo>
                        <a:pt x="589" y="27"/>
                      </a:lnTo>
                      <a:lnTo>
                        <a:pt x="588" y="26"/>
                      </a:lnTo>
                      <a:lnTo>
                        <a:pt x="587" y="24"/>
                      </a:lnTo>
                      <a:lnTo>
                        <a:pt x="586" y="23"/>
                      </a:lnTo>
                      <a:lnTo>
                        <a:pt x="583" y="20"/>
                      </a:lnTo>
                      <a:lnTo>
                        <a:pt x="582" y="19"/>
                      </a:lnTo>
                      <a:lnTo>
                        <a:pt x="577" y="18"/>
                      </a:lnTo>
                      <a:lnTo>
                        <a:pt x="575" y="17"/>
                      </a:lnTo>
                      <a:lnTo>
                        <a:pt x="572" y="16"/>
                      </a:lnTo>
                      <a:lnTo>
                        <a:pt x="569" y="14"/>
                      </a:lnTo>
                      <a:lnTo>
                        <a:pt x="564" y="12"/>
                      </a:lnTo>
                      <a:lnTo>
                        <a:pt x="562" y="8"/>
                      </a:lnTo>
                      <a:lnTo>
                        <a:pt x="558" y="6"/>
                      </a:lnTo>
                      <a:lnTo>
                        <a:pt x="556" y="5"/>
                      </a:lnTo>
                      <a:lnTo>
                        <a:pt x="554" y="2"/>
                      </a:lnTo>
                      <a:lnTo>
                        <a:pt x="551" y="0"/>
                      </a:lnTo>
                      <a:lnTo>
                        <a:pt x="556" y="0"/>
                      </a:lnTo>
                      <a:lnTo>
                        <a:pt x="560" y="0"/>
                      </a:lnTo>
                      <a:lnTo>
                        <a:pt x="564" y="0"/>
                      </a:lnTo>
                      <a:lnTo>
                        <a:pt x="568" y="0"/>
                      </a:lnTo>
                      <a:lnTo>
                        <a:pt x="572" y="0"/>
                      </a:lnTo>
                      <a:lnTo>
                        <a:pt x="576" y="0"/>
                      </a:lnTo>
                      <a:lnTo>
                        <a:pt x="580" y="0"/>
                      </a:lnTo>
                      <a:lnTo>
                        <a:pt x="585" y="0"/>
                      </a:lnTo>
                      <a:lnTo>
                        <a:pt x="588" y="0"/>
                      </a:lnTo>
                      <a:lnTo>
                        <a:pt x="592" y="0"/>
                      </a:lnTo>
                      <a:lnTo>
                        <a:pt x="596" y="0"/>
                      </a:lnTo>
                      <a:lnTo>
                        <a:pt x="600" y="0"/>
                      </a:lnTo>
                      <a:lnTo>
                        <a:pt x="605" y="0"/>
                      </a:lnTo>
                      <a:lnTo>
                        <a:pt x="608" y="0"/>
                      </a:lnTo>
                      <a:lnTo>
                        <a:pt x="612" y="0"/>
                      </a:lnTo>
                      <a:lnTo>
                        <a:pt x="617" y="1"/>
                      </a:lnTo>
                      <a:lnTo>
                        <a:pt x="620" y="1"/>
                      </a:lnTo>
                      <a:lnTo>
                        <a:pt x="625" y="1"/>
                      </a:lnTo>
                      <a:lnTo>
                        <a:pt x="628" y="1"/>
                      </a:lnTo>
                      <a:lnTo>
                        <a:pt x="632" y="2"/>
                      </a:lnTo>
                      <a:lnTo>
                        <a:pt x="637" y="2"/>
                      </a:lnTo>
                      <a:lnTo>
                        <a:pt x="640" y="2"/>
                      </a:lnTo>
                      <a:lnTo>
                        <a:pt x="645" y="2"/>
                      </a:lnTo>
                      <a:lnTo>
                        <a:pt x="650" y="2"/>
                      </a:lnTo>
                      <a:lnTo>
                        <a:pt x="652" y="2"/>
                      </a:lnTo>
                      <a:lnTo>
                        <a:pt x="657" y="2"/>
                      </a:lnTo>
                      <a:lnTo>
                        <a:pt x="661" y="2"/>
                      </a:lnTo>
                      <a:lnTo>
                        <a:pt x="665" y="2"/>
                      </a:lnTo>
                      <a:lnTo>
                        <a:pt x="669" y="2"/>
                      </a:lnTo>
                      <a:lnTo>
                        <a:pt x="672" y="4"/>
                      </a:lnTo>
                      <a:lnTo>
                        <a:pt x="678" y="4"/>
                      </a:lnTo>
                      <a:lnTo>
                        <a:pt x="682" y="5"/>
                      </a:lnTo>
                      <a:lnTo>
                        <a:pt x="685" y="5"/>
                      </a:lnTo>
                      <a:lnTo>
                        <a:pt x="689" y="5"/>
                      </a:lnTo>
                      <a:lnTo>
                        <a:pt x="694" y="5"/>
                      </a:lnTo>
                      <a:lnTo>
                        <a:pt x="697" y="5"/>
                      </a:lnTo>
                      <a:lnTo>
                        <a:pt x="701" y="5"/>
                      </a:lnTo>
                      <a:lnTo>
                        <a:pt x="706" y="5"/>
                      </a:lnTo>
                      <a:lnTo>
                        <a:pt x="709" y="5"/>
                      </a:lnTo>
                      <a:lnTo>
                        <a:pt x="714" y="5"/>
                      </a:lnTo>
                      <a:lnTo>
                        <a:pt x="717" y="5"/>
                      </a:lnTo>
                      <a:lnTo>
                        <a:pt x="721" y="5"/>
                      </a:lnTo>
                      <a:lnTo>
                        <a:pt x="726" y="6"/>
                      </a:lnTo>
                      <a:lnTo>
                        <a:pt x="731" y="6"/>
                      </a:lnTo>
                      <a:lnTo>
                        <a:pt x="734" y="6"/>
                      </a:lnTo>
                      <a:lnTo>
                        <a:pt x="738" y="6"/>
                      </a:lnTo>
                      <a:lnTo>
                        <a:pt x="741" y="7"/>
                      </a:lnTo>
                      <a:lnTo>
                        <a:pt x="746" y="7"/>
                      </a:lnTo>
                      <a:lnTo>
                        <a:pt x="751" y="7"/>
                      </a:lnTo>
                      <a:lnTo>
                        <a:pt x="754" y="7"/>
                      </a:lnTo>
                      <a:lnTo>
                        <a:pt x="759" y="7"/>
                      </a:lnTo>
                      <a:lnTo>
                        <a:pt x="763" y="7"/>
                      </a:lnTo>
                      <a:lnTo>
                        <a:pt x="766" y="7"/>
                      </a:lnTo>
                      <a:lnTo>
                        <a:pt x="770" y="8"/>
                      </a:lnTo>
                      <a:lnTo>
                        <a:pt x="774" y="8"/>
                      </a:lnTo>
                      <a:lnTo>
                        <a:pt x="779" y="10"/>
                      </a:lnTo>
                      <a:lnTo>
                        <a:pt x="783" y="10"/>
                      </a:lnTo>
                      <a:lnTo>
                        <a:pt x="786" y="10"/>
                      </a:lnTo>
                      <a:lnTo>
                        <a:pt x="791" y="10"/>
                      </a:lnTo>
                      <a:lnTo>
                        <a:pt x="795" y="10"/>
                      </a:lnTo>
                      <a:lnTo>
                        <a:pt x="799" y="10"/>
                      </a:lnTo>
                      <a:lnTo>
                        <a:pt x="803" y="10"/>
                      </a:lnTo>
                      <a:lnTo>
                        <a:pt x="808" y="11"/>
                      </a:lnTo>
                      <a:lnTo>
                        <a:pt x="811" y="1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Freeform 66"/>
                <p:cNvSpPr/>
                <p:nvPr/>
              </p:nvSpPr>
              <p:spPr>
                <a:xfrm>
                  <a:off x="7694640" y="2149560"/>
                  <a:ext cx="5760" cy="64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3" h="14">
                      <a:moveTo>
                        <a:pt x="13" y="14"/>
                      </a:moveTo>
                      <a:lnTo>
                        <a:pt x="8" y="11"/>
                      </a:lnTo>
                      <a:lnTo>
                        <a:pt x="5" y="8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Freeform 67"/>
                <p:cNvSpPr/>
                <p:nvPr/>
              </p:nvSpPr>
              <p:spPr>
                <a:xfrm>
                  <a:off x="7162920" y="2549880"/>
                  <a:ext cx="753840" cy="56880"/>
                </a:xfrm>
                <a:custGeom>
                  <a:avLst/>
                  <a:gdLst>
                    <a:gd name="textAreaLeft" fmla="*/ 0 w 753840"/>
                    <a:gd name="textAreaRight" fmla="*/ 754200 w 7538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425" h="109">
                      <a:moveTo>
                        <a:pt x="13" y="6"/>
                      </a:move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4" y="6"/>
                      </a:lnTo>
                      <a:lnTo>
                        <a:pt x="28" y="7"/>
                      </a:lnTo>
                      <a:lnTo>
                        <a:pt x="31" y="7"/>
                      </a:lnTo>
                      <a:lnTo>
                        <a:pt x="34" y="8"/>
                      </a:lnTo>
                      <a:lnTo>
                        <a:pt x="37" y="8"/>
                      </a:lnTo>
                      <a:lnTo>
                        <a:pt x="40" y="8"/>
                      </a:lnTo>
                      <a:lnTo>
                        <a:pt x="44" y="8"/>
                      </a:lnTo>
                      <a:lnTo>
                        <a:pt x="47" y="9"/>
                      </a:lnTo>
                      <a:lnTo>
                        <a:pt x="51" y="9"/>
                      </a:lnTo>
                      <a:lnTo>
                        <a:pt x="55" y="10"/>
                      </a:lnTo>
                      <a:lnTo>
                        <a:pt x="58" y="10"/>
                      </a:lnTo>
                      <a:lnTo>
                        <a:pt x="63" y="10"/>
                      </a:lnTo>
                      <a:lnTo>
                        <a:pt x="68" y="10"/>
                      </a:lnTo>
                      <a:lnTo>
                        <a:pt x="71" y="12"/>
                      </a:lnTo>
                      <a:lnTo>
                        <a:pt x="76" y="12"/>
                      </a:lnTo>
                      <a:lnTo>
                        <a:pt x="81" y="13"/>
                      </a:lnTo>
                      <a:lnTo>
                        <a:pt x="85" y="13"/>
                      </a:lnTo>
                      <a:lnTo>
                        <a:pt x="90" y="13"/>
                      </a:lnTo>
                      <a:lnTo>
                        <a:pt x="95" y="14"/>
                      </a:lnTo>
                      <a:lnTo>
                        <a:pt x="101" y="14"/>
                      </a:lnTo>
                      <a:lnTo>
                        <a:pt x="104" y="15"/>
                      </a:lnTo>
                      <a:lnTo>
                        <a:pt x="112" y="15"/>
                      </a:lnTo>
                      <a:lnTo>
                        <a:pt x="116" y="15"/>
                      </a:lnTo>
                      <a:lnTo>
                        <a:pt x="121" y="16"/>
                      </a:lnTo>
                      <a:lnTo>
                        <a:pt x="126" y="16"/>
                      </a:lnTo>
                      <a:lnTo>
                        <a:pt x="132" y="18"/>
                      </a:lnTo>
                      <a:lnTo>
                        <a:pt x="136" y="18"/>
                      </a:lnTo>
                      <a:lnTo>
                        <a:pt x="142" y="18"/>
                      </a:lnTo>
                      <a:lnTo>
                        <a:pt x="147" y="18"/>
                      </a:lnTo>
                      <a:lnTo>
                        <a:pt x="153" y="19"/>
                      </a:lnTo>
                      <a:lnTo>
                        <a:pt x="159" y="19"/>
                      </a:lnTo>
                      <a:lnTo>
                        <a:pt x="165" y="19"/>
                      </a:lnTo>
                      <a:lnTo>
                        <a:pt x="170" y="20"/>
                      </a:lnTo>
                      <a:lnTo>
                        <a:pt x="176" y="20"/>
                      </a:lnTo>
                      <a:lnTo>
                        <a:pt x="182" y="20"/>
                      </a:lnTo>
                      <a:lnTo>
                        <a:pt x="187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204" y="21"/>
                      </a:lnTo>
                      <a:lnTo>
                        <a:pt x="210" y="21"/>
                      </a:lnTo>
                      <a:lnTo>
                        <a:pt x="215" y="21"/>
                      </a:lnTo>
                      <a:lnTo>
                        <a:pt x="221" y="22"/>
                      </a:lnTo>
                      <a:lnTo>
                        <a:pt x="225" y="22"/>
                      </a:lnTo>
                      <a:lnTo>
                        <a:pt x="231" y="22"/>
                      </a:lnTo>
                      <a:lnTo>
                        <a:pt x="237" y="22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3" y="22"/>
                      </a:lnTo>
                      <a:lnTo>
                        <a:pt x="259" y="22"/>
                      </a:lnTo>
                      <a:lnTo>
                        <a:pt x="263" y="22"/>
                      </a:lnTo>
                      <a:lnTo>
                        <a:pt x="268" y="22"/>
                      </a:lnTo>
                      <a:lnTo>
                        <a:pt x="274" y="22"/>
                      </a:lnTo>
                      <a:lnTo>
                        <a:pt x="279" y="22"/>
                      </a:lnTo>
                      <a:lnTo>
                        <a:pt x="284" y="22"/>
                      </a:lnTo>
                      <a:lnTo>
                        <a:pt x="288" y="21"/>
                      </a:lnTo>
                      <a:lnTo>
                        <a:pt x="292" y="21"/>
                      </a:lnTo>
                      <a:lnTo>
                        <a:pt x="294" y="21"/>
                      </a:lnTo>
                      <a:lnTo>
                        <a:pt x="297" y="21"/>
                      </a:lnTo>
                      <a:lnTo>
                        <a:pt x="299" y="21"/>
                      </a:lnTo>
                      <a:lnTo>
                        <a:pt x="303" y="21"/>
                      </a:lnTo>
                      <a:lnTo>
                        <a:pt x="305" y="20"/>
                      </a:lnTo>
                      <a:lnTo>
                        <a:pt x="306" y="20"/>
                      </a:lnTo>
                      <a:lnTo>
                        <a:pt x="310" y="20"/>
                      </a:lnTo>
                      <a:lnTo>
                        <a:pt x="313" y="20"/>
                      </a:lnTo>
                      <a:lnTo>
                        <a:pt x="316" y="20"/>
                      </a:lnTo>
                      <a:lnTo>
                        <a:pt x="319" y="20"/>
                      </a:lnTo>
                      <a:lnTo>
                        <a:pt x="322" y="20"/>
                      </a:lnTo>
                      <a:lnTo>
                        <a:pt x="324" y="20"/>
                      </a:lnTo>
                      <a:lnTo>
                        <a:pt x="327" y="19"/>
                      </a:lnTo>
                      <a:lnTo>
                        <a:pt x="330" y="19"/>
                      </a:lnTo>
                      <a:lnTo>
                        <a:pt x="335" y="19"/>
                      </a:lnTo>
                      <a:lnTo>
                        <a:pt x="337" y="19"/>
                      </a:lnTo>
                      <a:lnTo>
                        <a:pt x="339" y="19"/>
                      </a:lnTo>
                      <a:lnTo>
                        <a:pt x="344" y="19"/>
                      </a:lnTo>
                      <a:lnTo>
                        <a:pt x="346" y="19"/>
                      </a:lnTo>
                      <a:lnTo>
                        <a:pt x="351" y="19"/>
                      </a:lnTo>
                      <a:lnTo>
                        <a:pt x="355" y="18"/>
                      </a:lnTo>
                      <a:lnTo>
                        <a:pt x="357" y="18"/>
                      </a:lnTo>
                      <a:lnTo>
                        <a:pt x="361" y="18"/>
                      </a:lnTo>
                      <a:lnTo>
                        <a:pt x="364" y="18"/>
                      </a:lnTo>
                      <a:lnTo>
                        <a:pt x="369" y="18"/>
                      </a:lnTo>
                      <a:lnTo>
                        <a:pt x="373" y="18"/>
                      </a:lnTo>
                      <a:lnTo>
                        <a:pt x="376" y="18"/>
                      </a:lnTo>
                      <a:lnTo>
                        <a:pt x="381" y="18"/>
                      </a:lnTo>
                      <a:lnTo>
                        <a:pt x="384" y="18"/>
                      </a:lnTo>
                      <a:lnTo>
                        <a:pt x="388" y="18"/>
                      </a:lnTo>
                      <a:lnTo>
                        <a:pt x="392" y="18"/>
                      </a:lnTo>
                      <a:lnTo>
                        <a:pt x="396" y="18"/>
                      </a:lnTo>
                      <a:lnTo>
                        <a:pt x="400" y="16"/>
                      </a:lnTo>
                      <a:lnTo>
                        <a:pt x="403" y="16"/>
                      </a:lnTo>
                      <a:lnTo>
                        <a:pt x="408" y="16"/>
                      </a:lnTo>
                      <a:lnTo>
                        <a:pt x="412" y="16"/>
                      </a:lnTo>
                      <a:lnTo>
                        <a:pt x="415" y="16"/>
                      </a:lnTo>
                      <a:lnTo>
                        <a:pt x="420" y="16"/>
                      </a:lnTo>
                      <a:lnTo>
                        <a:pt x="425" y="16"/>
                      </a:lnTo>
                      <a:lnTo>
                        <a:pt x="428" y="16"/>
                      </a:lnTo>
                      <a:lnTo>
                        <a:pt x="433" y="16"/>
                      </a:lnTo>
                      <a:lnTo>
                        <a:pt x="438" y="16"/>
                      </a:lnTo>
                      <a:lnTo>
                        <a:pt x="441" y="16"/>
                      </a:lnTo>
                      <a:lnTo>
                        <a:pt x="446" y="16"/>
                      </a:lnTo>
                      <a:lnTo>
                        <a:pt x="451" y="15"/>
                      </a:lnTo>
                      <a:lnTo>
                        <a:pt x="456" y="15"/>
                      </a:lnTo>
                      <a:lnTo>
                        <a:pt x="459" y="15"/>
                      </a:lnTo>
                      <a:lnTo>
                        <a:pt x="463" y="15"/>
                      </a:lnTo>
                      <a:lnTo>
                        <a:pt x="469" y="15"/>
                      </a:lnTo>
                      <a:lnTo>
                        <a:pt x="472" y="15"/>
                      </a:lnTo>
                      <a:lnTo>
                        <a:pt x="477" y="15"/>
                      </a:lnTo>
                      <a:lnTo>
                        <a:pt x="482" y="15"/>
                      </a:lnTo>
                      <a:lnTo>
                        <a:pt x="486" y="15"/>
                      </a:lnTo>
                      <a:lnTo>
                        <a:pt x="490" y="15"/>
                      </a:lnTo>
                      <a:lnTo>
                        <a:pt x="495" y="15"/>
                      </a:lnTo>
                      <a:lnTo>
                        <a:pt x="500" y="15"/>
                      </a:lnTo>
                      <a:lnTo>
                        <a:pt x="504" y="15"/>
                      </a:lnTo>
                      <a:lnTo>
                        <a:pt x="509" y="15"/>
                      </a:lnTo>
                      <a:lnTo>
                        <a:pt x="514" y="15"/>
                      </a:lnTo>
                      <a:lnTo>
                        <a:pt x="519" y="15"/>
                      </a:lnTo>
                      <a:lnTo>
                        <a:pt x="516" y="16"/>
                      </a:lnTo>
                      <a:lnTo>
                        <a:pt x="513" y="18"/>
                      </a:lnTo>
                      <a:lnTo>
                        <a:pt x="510" y="18"/>
                      </a:lnTo>
                      <a:lnTo>
                        <a:pt x="507" y="20"/>
                      </a:lnTo>
                      <a:lnTo>
                        <a:pt x="504" y="21"/>
                      </a:lnTo>
                      <a:lnTo>
                        <a:pt x="501" y="21"/>
                      </a:lnTo>
                      <a:lnTo>
                        <a:pt x="498" y="24"/>
                      </a:lnTo>
                      <a:lnTo>
                        <a:pt x="497" y="25"/>
                      </a:lnTo>
                      <a:lnTo>
                        <a:pt x="491" y="27"/>
                      </a:lnTo>
                      <a:lnTo>
                        <a:pt x="488" y="29"/>
                      </a:lnTo>
                      <a:lnTo>
                        <a:pt x="483" y="33"/>
                      </a:lnTo>
                      <a:lnTo>
                        <a:pt x="479" y="37"/>
                      </a:lnTo>
                      <a:lnTo>
                        <a:pt x="476" y="40"/>
                      </a:lnTo>
                      <a:lnTo>
                        <a:pt x="473" y="45"/>
                      </a:lnTo>
                      <a:lnTo>
                        <a:pt x="471" y="46"/>
                      </a:lnTo>
                      <a:lnTo>
                        <a:pt x="471" y="48"/>
                      </a:lnTo>
                      <a:lnTo>
                        <a:pt x="470" y="51"/>
                      </a:lnTo>
                      <a:lnTo>
                        <a:pt x="469" y="54"/>
                      </a:lnTo>
                      <a:lnTo>
                        <a:pt x="469" y="56"/>
                      </a:lnTo>
                      <a:lnTo>
                        <a:pt x="469" y="59"/>
                      </a:lnTo>
                      <a:lnTo>
                        <a:pt x="467" y="62"/>
                      </a:lnTo>
                      <a:lnTo>
                        <a:pt x="467" y="65"/>
                      </a:lnTo>
                      <a:lnTo>
                        <a:pt x="467" y="69"/>
                      </a:lnTo>
                      <a:lnTo>
                        <a:pt x="467" y="71"/>
                      </a:lnTo>
                      <a:lnTo>
                        <a:pt x="469" y="75"/>
                      </a:lnTo>
                      <a:lnTo>
                        <a:pt x="469" y="79"/>
                      </a:lnTo>
                      <a:lnTo>
                        <a:pt x="471" y="78"/>
                      </a:lnTo>
                      <a:lnTo>
                        <a:pt x="473" y="78"/>
                      </a:lnTo>
                      <a:lnTo>
                        <a:pt x="476" y="77"/>
                      </a:lnTo>
                      <a:lnTo>
                        <a:pt x="479" y="77"/>
                      </a:lnTo>
                      <a:lnTo>
                        <a:pt x="482" y="76"/>
                      </a:lnTo>
                      <a:lnTo>
                        <a:pt x="484" y="76"/>
                      </a:lnTo>
                      <a:lnTo>
                        <a:pt x="486" y="76"/>
                      </a:lnTo>
                      <a:lnTo>
                        <a:pt x="490" y="75"/>
                      </a:lnTo>
                      <a:lnTo>
                        <a:pt x="495" y="73"/>
                      </a:lnTo>
                      <a:lnTo>
                        <a:pt x="500" y="71"/>
                      </a:lnTo>
                      <a:lnTo>
                        <a:pt x="504" y="71"/>
                      </a:lnTo>
                      <a:lnTo>
                        <a:pt x="510" y="70"/>
                      </a:lnTo>
                      <a:lnTo>
                        <a:pt x="515" y="67"/>
                      </a:lnTo>
                      <a:lnTo>
                        <a:pt x="519" y="66"/>
                      </a:lnTo>
                      <a:lnTo>
                        <a:pt x="524" y="64"/>
                      </a:lnTo>
                      <a:lnTo>
                        <a:pt x="529" y="63"/>
                      </a:lnTo>
                      <a:lnTo>
                        <a:pt x="534" y="60"/>
                      </a:lnTo>
                      <a:lnTo>
                        <a:pt x="539" y="59"/>
                      </a:lnTo>
                      <a:lnTo>
                        <a:pt x="543" y="56"/>
                      </a:lnTo>
                      <a:lnTo>
                        <a:pt x="548" y="54"/>
                      </a:lnTo>
                      <a:lnTo>
                        <a:pt x="552" y="52"/>
                      </a:lnTo>
                      <a:lnTo>
                        <a:pt x="556" y="51"/>
                      </a:lnTo>
                      <a:lnTo>
                        <a:pt x="562" y="48"/>
                      </a:lnTo>
                      <a:lnTo>
                        <a:pt x="567" y="46"/>
                      </a:lnTo>
                      <a:lnTo>
                        <a:pt x="571" y="44"/>
                      </a:lnTo>
                      <a:lnTo>
                        <a:pt x="577" y="41"/>
                      </a:lnTo>
                      <a:lnTo>
                        <a:pt x="581" y="39"/>
                      </a:lnTo>
                      <a:lnTo>
                        <a:pt x="586" y="38"/>
                      </a:lnTo>
                      <a:lnTo>
                        <a:pt x="591" y="35"/>
                      </a:lnTo>
                      <a:lnTo>
                        <a:pt x="596" y="34"/>
                      </a:lnTo>
                      <a:lnTo>
                        <a:pt x="600" y="33"/>
                      </a:lnTo>
                      <a:lnTo>
                        <a:pt x="606" y="31"/>
                      </a:lnTo>
                      <a:lnTo>
                        <a:pt x="611" y="29"/>
                      </a:lnTo>
                      <a:lnTo>
                        <a:pt x="616" y="28"/>
                      </a:lnTo>
                      <a:lnTo>
                        <a:pt x="619" y="27"/>
                      </a:lnTo>
                      <a:lnTo>
                        <a:pt x="622" y="27"/>
                      </a:lnTo>
                      <a:lnTo>
                        <a:pt x="625" y="26"/>
                      </a:lnTo>
                      <a:lnTo>
                        <a:pt x="628" y="26"/>
                      </a:lnTo>
                      <a:lnTo>
                        <a:pt x="625" y="24"/>
                      </a:lnTo>
                      <a:lnTo>
                        <a:pt x="624" y="21"/>
                      </a:lnTo>
                      <a:lnTo>
                        <a:pt x="621" y="18"/>
                      </a:lnTo>
                      <a:lnTo>
                        <a:pt x="618" y="14"/>
                      </a:lnTo>
                      <a:lnTo>
                        <a:pt x="621" y="13"/>
                      </a:lnTo>
                      <a:lnTo>
                        <a:pt x="625" y="13"/>
                      </a:lnTo>
                      <a:lnTo>
                        <a:pt x="628" y="13"/>
                      </a:lnTo>
                      <a:lnTo>
                        <a:pt x="632" y="13"/>
                      </a:lnTo>
                      <a:lnTo>
                        <a:pt x="637" y="13"/>
                      </a:lnTo>
                      <a:lnTo>
                        <a:pt x="641" y="13"/>
                      </a:lnTo>
                      <a:lnTo>
                        <a:pt x="644" y="13"/>
                      </a:lnTo>
                      <a:lnTo>
                        <a:pt x="648" y="13"/>
                      </a:lnTo>
                      <a:lnTo>
                        <a:pt x="651" y="13"/>
                      </a:lnTo>
                      <a:lnTo>
                        <a:pt x="656" y="13"/>
                      </a:lnTo>
                      <a:lnTo>
                        <a:pt x="660" y="13"/>
                      </a:lnTo>
                      <a:lnTo>
                        <a:pt x="663" y="13"/>
                      </a:lnTo>
                      <a:lnTo>
                        <a:pt x="667" y="13"/>
                      </a:lnTo>
                      <a:lnTo>
                        <a:pt x="670" y="13"/>
                      </a:lnTo>
                      <a:lnTo>
                        <a:pt x="674" y="13"/>
                      </a:lnTo>
                      <a:lnTo>
                        <a:pt x="679" y="13"/>
                      </a:lnTo>
                      <a:lnTo>
                        <a:pt x="682" y="13"/>
                      </a:lnTo>
                      <a:lnTo>
                        <a:pt x="686" y="13"/>
                      </a:lnTo>
                      <a:lnTo>
                        <a:pt x="689" y="13"/>
                      </a:lnTo>
                      <a:lnTo>
                        <a:pt x="693" y="13"/>
                      </a:lnTo>
                      <a:lnTo>
                        <a:pt x="696" y="13"/>
                      </a:lnTo>
                      <a:lnTo>
                        <a:pt x="700" y="13"/>
                      </a:lnTo>
                      <a:lnTo>
                        <a:pt x="704" y="13"/>
                      </a:lnTo>
                      <a:lnTo>
                        <a:pt x="707" y="13"/>
                      </a:lnTo>
                      <a:lnTo>
                        <a:pt x="711" y="13"/>
                      </a:lnTo>
                      <a:lnTo>
                        <a:pt x="714" y="13"/>
                      </a:lnTo>
                      <a:lnTo>
                        <a:pt x="718" y="13"/>
                      </a:lnTo>
                      <a:lnTo>
                        <a:pt x="721" y="13"/>
                      </a:lnTo>
                      <a:lnTo>
                        <a:pt x="724" y="13"/>
                      </a:lnTo>
                      <a:lnTo>
                        <a:pt x="729" y="13"/>
                      </a:lnTo>
                      <a:lnTo>
                        <a:pt x="731" y="13"/>
                      </a:lnTo>
                      <a:lnTo>
                        <a:pt x="734" y="14"/>
                      </a:lnTo>
                      <a:lnTo>
                        <a:pt x="738" y="14"/>
                      </a:lnTo>
                      <a:lnTo>
                        <a:pt x="742" y="14"/>
                      </a:lnTo>
                      <a:lnTo>
                        <a:pt x="744" y="14"/>
                      </a:lnTo>
                      <a:lnTo>
                        <a:pt x="746" y="14"/>
                      </a:lnTo>
                      <a:lnTo>
                        <a:pt x="750" y="14"/>
                      </a:lnTo>
                      <a:lnTo>
                        <a:pt x="753" y="14"/>
                      </a:lnTo>
                      <a:lnTo>
                        <a:pt x="756" y="14"/>
                      </a:lnTo>
                      <a:lnTo>
                        <a:pt x="759" y="14"/>
                      </a:lnTo>
                      <a:lnTo>
                        <a:pt x="762" y="14"/>
                      </a:lnTo>
                      <a:lnTo>
                        <a:pt x="764" y="14"/>
                      </a:lnTo>
                      <a:lnTo>
                        <a:pt x="766" y="14"/>
                      </a:lnTo>
                      <a:lnTo>
                        <a:pt x="770" y="15"/>
                      </a:lnTo>
                      <a:lnTo>
                        <a:pt x="772" y="15"/>
                      </a:lnTo>
                      <a:lnTo>
                        <a:pt x="775" y="15"/>
                      </a:lnTo>
                      <a:lnTo>
                        <a:pt x="778" y="15"/>
                      </a:lnTo>
                      <a:lnTo>
                        <a:pt x="781" y="15"/>
                      </a:lnTo>
                      <a:lnTo>
                        <a:pt x="785" y="15"/>
                      </a:lnTo>
                      <a:lnTo>
                        <a:pt x="790" y="15"/>
                      </a:lnTo>
                      <a:lnTo>
                        <a:pt x="795" y="15"/>
                      </a:lnTo>
                      <a:lnTo>
                        <a:pt x="800" y="16"/>
                      </a:lnTo>
                      <a:lnTo>
                        <a:pt x="804" y="16"/>
                      </a:lnTo>
                      <a:lnTo>
                        <a:pt x="808" y="16"/>
                      </a:lnTo>
                      <a:lnTo>
                        <a:pt x="813" y="18"/>
                      </a:lnTo>
                      <a:lnTo>
                        <a:pt x="816" y="18"/>
                      </a:lnTo>
                      <a:lnTo>
                        <a:pt x="815" y="21"/>
                      </a:lnTo>
                      <a:lnTo>
                        <a:pt x="816" y="25"/>
                      </a:lnTo>
                      <a:lnTo>
                        <a:pt x="816" y="28"/>
                      </a:lnTo>
                      <a:lnTo>
                        <a:pt x="818" y="33"/>
                      </a:lnTo>
                      <a:lnTo>
                        <a:pt x="820" y="37"/>
                      </a:lnTo>
                      <a:lnTo>
                        <a:pt x="821" y="41"/>
                      </a:lnTo>
                      <a:lnTo>
                        <a:pt x="823" y="45"/>
                      </a:lnTo>
                      <a:lnTo>
                        <a:pt x="827" y="48"/>
                      </a:lnTo>
                      <a:lnTo>
                        <a:pt x="829" y="52"/>
                      </a:lnTo>
                      <a:lnTo>
                        <a:pt x="833" y="56"/>
                      </a:lnTo>
                      <a:lnTo>
                        <a:pt x="835" y="59"/>
                      </a:lnTo>
                      <a:lnTo>
                        <a:pt x="840" y="64"/>
                      </a:lnTo>
                      <a:lnTo>
                        <a:pt x="842" y="66"/>
                      </a:lnTo>
                      <a:lnTo>
                        <a:pt x="847" y="70"/>
                      </a:lnTo>
                      <a:lnTo>
                        <a:pt x="852" y="73"/>
                      </a:lnTo>
                      <a:lnTo>
                        <a:pt x="855" y="76"/>
                      </a:lnTo>
                      <a:lnTo>
                        <a:pt x="860" y="79"/>
                      </a:lnTo>
                      <a:lnTo>
                        <a:pt x="865" y="82"/>
                      </a:lnTo>
                      <a:lnTo>
                        <a:pt x="870" y="83"/>
                      </a:lnTo>
                      <a:lnTo>
                        <a:pt x="874" y="85"/>
                      </a:lnTo>
                      <a:lnTo>
                        <a:pt x="878" y="86"/>
                      </a:lnTo>
                      <a:lnTo>
                        <a:pt x="884" y="89"/>
                      </a:lnTo>
                      <a:lnTo>
                        <a:pt x="889" y="89"/>
                      </a:lnTo>
                      <a:lnTo>
                        <a:pt x="893" y="91"/>
                      </a:lnTo>
                      <a:lnTo>
                        <a:pt x="898" y="91"/>
                      </a:lnTo>
                      <a:lnTo>
                        <a:pt x="902" y="91"/>
                      </a:lnTo>
                      <a:lnTo>
                        <a:pt x="906" y="91"/>
                      </a:lnTo>
                      <a:lnTo>
                        <a:pt x="911" y="91"/>
                      </a:lnTo>
                      <a:lnTo>
                        <a:pt x="915" y="89"/>
                      </a:lnTo>
                      <a:lnTo>
                        <a:pt x="920" y="89"/>
                      </a:lnTo>
                      <a:lnTo>
                        <a:pt x="923" y="86"/>
                      </a:lnTo>
                      <a:lnTo>
                        <a:pt x="927" y="85"/>
                      </a:lnTo>
                      <a:lnTo>
                        <a:pt x="925" y="83"/>
                      </a:lnTo>
                      <a:lnTo>
                        <a:pt x="924" y="79"/>
                      </a:lnTo>
                      <a:lnTo>
                        <a:pt x="923" y="77"/>
                      </a:lnTo>
                      <a:lnTo>
                        <a:pt x="922" y="75"/>
                      </a:lnTo>
                      <a:lnTo>
                        <a:pt x="920" y="70"/>
                      </a:lnTo>
                      <a:lnTo>
                        <a:pt x="917" y="65"/>
                      </a:lnTo>
                      <a:lnTo>
                        <a:pt x="915" y="62"/>
                      </a:lnTo>
                      <a:lnTo>
                        <a:pt x="911" y="56"/>
                      </a:lnTo>
                      <a:lnTo>
                        <a:pt x="909" y="52"/>
                      </a:lnTo>
                      <a:lnTo>
                        <a:pt x="906" y="48"/>
                      </a:lnTo>
                      <a:lnTo>
                        <a:pt x="902" y="44"/>
                      </a:lnTo>
                      <a:lnTo>
                        <a:pt x="898" y="40"/>
                      </a:lnTo>
                      <a:lnTo>
                        <a:pt x="895" y="37"/>
                      </a:lnTo>
                      <a:lnTo>
                        <a:pt x="891" y="33"/>
                      </a:lnTo>
                      <a:lnTo>
                        <a:pt x="889" y="31"/>
                      </a:lnTo>
                      <a:lnTo>
                        <a:pt x="884" y="27"/>
                      </a:lnTo>
                      <a:lnTo>
                        <a:pt x="879" y="25"/>
                      </a:lnTo>
                      <a:lnTo>
                        <a:pt x="876" y="22"/>
                      </a:lnTo>
                      <a:lnTo>
                        <a:pt x="878" y="22"/>
                      </a:lnTo>
                      <a:lnTo>
                        <a:pt x="880" y="22"/>
                      </a:lnTo>
                      <a:lnTo>
                        <a:pt x="884" y="22"/>
                      </a:lnTo>
                      <a:lnTo>
                        <a:pt x="886" y="22"/>
                      </a:lnTo>
                      <a:lnTo>
                        <a:pt x="890" y="22"/>
                      </a:lnTo>
                      <a:lnTo>
                        <a:pt x="892" y="22"/>
                      </a:lnTo>
                      <a:lnTo>
                        <a:pt x="896" y="22"/>
                      </a:lnTo>
                      <a:lnTo>
                        <a:pt x="898" y="22"/>
                      </a:lnTo>
                      <a:lnTo>
                        <a:pt x="902" y="22"/>
                      </a:lnTo>
                      <a:lnTo>
                        <a:pt x="904" y="22"/>
                      </a:lnTo>
                      <a:lnTo>
                        <a:pt x="908" y="22"/>
                      </a:lnTo>
                      <a:lnTo>
                        <a:pt x="911" y="22"/>
                      </a:lnTo>
                      <a:lnTo>
                        <a:pt x="915" y="22"/>
                      </a:lnTo>
                      <a:lnTo>
                        <a:pt x="918" y="22"/>
                      </a:lnTo>
                      <a:lnTo>
                        <a:pt x="922" y="22"/>
                      </a:lnTo>
                      <a:lnTo>
                        <a:pt x="925" y="22"/>
                      </a:lnTo>
                      <a:lnTo>
                        <a:pt x="928" y="21"/>
                      </a:lnTo>
                      <a:lnTo>
                        <a:pt x="931" y="21"/>
                      </a:lnTo>
                      <a:lnTo>
                        <a:pt x="935" y="21"/>
                      </a:lnTo>
                      <a:lnTo>
                        <a:pt x="940" y="21"/>
                      </a:lnTo>
                      <a:lnTo>
                        <a:pt x="942" y="21"/>
                      </a:lnTo>
                      <a:lnTo>
                        <a:pt x="947" y="21"/>
                      </a:lnTo>
                      <a:lnTo>
                        <a:pt x="949" y="21"/>
                      </a:lnTo>
                      <a:lnTo>
                        <a:pt x="954" y="21"/>
                      </a:lnTo>
                      <a:lnTo>
                        <a:pt x="956" y="21"/>
                      </a:lnTo>
                      <a:lnTo>
                        <a:pt x="961" y="21"/>
                      </a:lnTo>
                      <a:lnTo>
                        <a:pt x="965" y="21"/>
                      </a:lnTo>
                      <a:lnTo>
                        <a:pt x="969" y="21"/>
                      </a:lnTo>
                      <a:lnTo>
                        <a:pt x="972" y="21"/>
                      </a:lnTo>
                      <a:lnTo>
                        <a:pt x="976" y="21"/>
                      </a:lnTo>
                      <a:lnTo>
                        <a:pt x="980" y="21"/>
                      </a:lnTo>
                      <a:lnTo>
                        <a:pt x="985" y="21"/>
                      </a:lnTo>
                      <a:lnTo>
                        <a:pt x="988" y="21"/>
                      </a:lnTo>
                      <a:lnTo>
                        <a:pt x="992" y="21"/>
                      </a:lnTo>
                      <a:lnTo>
                        <a:pt x="995" y="21"/>
                      </a:lnTo>
                      <a:lnTo>
                        <a:pt x="1000" y="21"/>
                      </a:lnTo>
                      <a:lnTo>
                        <a:pt x="1004" y="20"/>
                      </a:lnTo>
                      <a:lnTo>
                        <a:pt x="1007" y="20"/>
                      </a:lnTo>
                      <a:lnTo>
                        <a:pt x="1012" y="20"/>
                      </a:lnTo>
                      <a:lnTo>
                        <a:pt x="1017" y="20"/>
                      </a:lnTo>
                      <a:lnTo>
                        <a:pt x="1020" y="20"/>
                      </a:lnTo>
                      <a:lnTo>
                        <a:pt x="1025" y="20"/>
                      </a:lnTo>
                      <a:lnTo>
                        <a:pt x="1029" y="20"/>
                      </a:lnTo>
                      <a:lnTo>
                        <a:pt x="1033" y="20"/>
                      </a:lnTo>
                      <a:lnTo>
                        <a:pt x="1038" y="20"/>
                      </a:lnTo>
                      <a:lnTo>
                        <a:pt x="1042" y="20"/>
                      </a:lnTo>
                      <a:lnTo>
                        <a:pt x="1047" y="20"/>
                      </a:lnTo>
                      <a:lnTo>
                        <a:pt x="1050" y="20"/>
                      </a:lnTo>
                      <a:lnTo>
                        <a:pt x="1055" y="19"/>
                      </a:lnTo>
                      <a:lnTo>
                        <a:pt x="1060" y="19"/>
                      </a:lnTo>
                      <a:lnTo>
                        <a:pt x="1063" y="19"/>
                      </a:lnTo>
                      <a:lnTo>
                        <a:pt x="1068" y="19"/>
                      </a:lnTo>
                      <a:lnTo>
                        <a:pt x="1073" y="19"/>
                      </a:lnTo>
                      <a:lnTo>
                        <a:pt x="1076" y="19"/>
                      </a:lnTo>
                      <a:lnTo>
                        <a:pt x="1081" y="19"/>
                      </a:lnTo>
                      <a:lnTo>
                        <a:pt x="1084" y="19"/>
                      </a:lnTo>
                      <a:lnTo>
                        <a:pt x="1089" y="18"/>
                      </a:lnTo>
                      <a:lnTo>
                        <a:pt x="1094" y="18"/>
                      </a:lnTo>
                      <a:lnTo>
                        <a:pt x="1099" y="18"/>
                      </a:lnTo>
                      <a:lnTo>
                        <a:pt x="1102" y="18"/>
                      </a:lnTo>
                      <a:lnTo>
                        <a:pt x="1107" y="18"/>
                      </a:lnTo>
                      <a:lnTo>
                        <a:pt x="1112" y="18"/>
                      </a:lnTo>
                      <a:lnTo>
                        <a:pt x="1115" y="18"/>
                      </a:lnTo>
                      <a:lnTo>
                        <a:pt x="1120" y="18"/>
                      </a:lnTo>
                      <a:lnTo>
                        <a:pt x="1118" y="21"/>
                      </a:lnTo>
                      <a:lnTo>
                        <a:pt x="1115" y="24"/>
                      </a:lnTo>
                      <a:lnTo>
                        <a:pt x="1113" y="27"/>
                      </a:lnTo>
                      <a:lnTo>
                        <a:pt x="1112" y="31"/>
                      </a:lnTo>
                      <a:lnTo>
                        <a:pt x="1108" y="34"/>
                      </a:lnTo>
                      <a:lnTo>
                        <a:pt x="1106" y="38"/>
                      </a:lnTo>
                      <a:lnTo>
                        <a:pt x="1103" y="41"/>
                      </a:lnTo>
                      <a:lnTo>
                        <a:pt x="1103" y="44"/>
                      </a:lnTo>
                      <a:lnTo>
                        <a:pt x="1107" y="44"/>
                      </a:lnTo>
                      <a:lnTo>
                        <a:pt x="1113" y="45"/>
                      </a:lnTo>
                      <a:lnTo>
                        <a:pt x="1117" y="46"/>
                      </a:lnTo>
                      <a:lnTo>
                        <a:pt x="1122" y="47"/>
                      </a:lnTo>
                      <a:lnTo>
                        <a:pt x="1127" y="48"/>
                      </a:lnTo>
                      <a:lnTo>
                        <a:pt x="1132" y="50"/>
                      </a:lnTo>
                      <a:lnTo>
                        <a:pt x="1137" y="52"/>
                      </a:lnTo>
                      <a:lnTo>
                        <a:pt x="1141" y="54"/>
                      </a:lnTo>
                      <a:lnTo>
                        <a:pt x="1146" y="56"/>
                      </a:lnTo>
                      <a:lnTo>
                        <a:pt x="1151" y="59"/>
                      </a:lnTo>
                      <a:lnTo>
                        <a:pt x="1156" y="60"/>
                      </a:lnTo>
                      <a:lnTo>
                        <a:pt x="1160" y="64"/>
                      </a:lnTo>
                      <a:lnTo>
                        <a:pt x="1164" y="66"/>
                      </a:lnTo>
                      <a:lnTo>
                        <a:pt x="1170" y="69"/>
                      </a:lnTo>
                      <a:lnTo>
                        <a:pt x="1175" y="71"/>
                      </a:lnTo>
                      <a:lnTo>
                        <a:pt x="1179" y="73"/>
                      </a:lnTo>
                      <a:lnTo>
                        <a:pt x="1184" y="75"/>
                      </a:lnTo>
                      <a:lnTo>
                        <a:pt x="1189" y="76"/>
                      </a:lnTo>
                      <a:lnTo>
                        <a:pt x="1194" y="78"/>
                      </a:lnTo>
                      <a:lnTo>
                        <a:pt x="1198" y="81"/>
                      </a:lnTo>
                      <a:lnTo>
                        <a:pt x="1202" y="82"/>
                      </a:lnTo>
                      <a:lnTo>
                        <a:pt x="1208" y="82"/>
                      </a:lnTo>
                      <a:lnTo>
                        <a:pt x="1213" y="83"/>
                      </a:lnTo>
                      <a:lnTo>
                        <a:pt x="1217" y="83"/>
                      </a:lnTo>
                      <a:lnTo>
                        <a:pt x="1221" y="83"/>
                      </a:lnTo>
                      <a:lnTo>
                        <a:pt x="1227" y="82"/>
                      </a:lnTo>
                      <a:lnTo>
                        <a:pt x="1230" y="81"/>
                      </a:lnTo>
                      <a:lnTo>
                        <a:pt x="1236" y="79"/>
                      </a:lnTo>
                      <a:lnTo>
                        <a:pt x="1241" y="76"/>
                      </a:lnTo>
                      <a:lnTo>
                        <a:pt x="1246" y="73"/>
                      </a:lnTo>
                      <a:lnTo>
                        <a:pt x="1251" y="71"/>
                      </a:lnTo>
                      <a:lnTo>
                        <a:pt x="1257" y="67"/>
                      </a:lnTo>
                      <a:lnTo>
                        <a:pt x="1251" y="64"/>
                      </a:lnTo>
                      <a:lnTo>
                        <a:pt x="1246" y="59"/>
                      </a:lnTo>
                      <a:lnTo>
                        <a:pt x="1241" y="56"/>
                      </a:lnTo>
                      <a:lnTo>
                        <a:pt x="1236" y="52"/>
                      </a:lnTo>
                      <a:lnTo>
                        <a:pt x="1232" y="48"/>
                      </a:lnTo>
                      <a:lnTo>
                        <a:pt x="1227" y="45"/>
                      </a:lnTo>
                      <a:lnTo>
                        <a:pt x="1222" y="41"/>
                      </a:lnTo>
                      <a:lnTo>
                        <a:pt x="1217" y="38"/>
                      </a:lnTo>
                      <a:lnTo>
                        <a:pt x="1213" y="34"/>
                      </a:lnTo>
                      <a:lnTo>
                        <a:pt x="1208" y="31"/>
                      </a:lnTo>
                      <a:lnTo>
                        <a:pt x="1202" y="28"/>
                      </a:lnTo>
                      <a:lnTo>
                        <a:pt x="1197" y="26"/>
                      </a:lnTo>
                      <a:lnTo>
                        <a:pt x="1192" y="22"/>
                      </a:lnTo>
                      <a:lnTo>
                        <a:pt x="1188" y="20"/>
                      </a:lnTo>
                      <a:lnTo>
                        <a:pt x="1182" y="18"/>
                      </a:lnTo>
                      <a:lnTo>
                        <a:pt x="1177" y="15"/>
                      </a:lnTo>
                      <a:lnTo>
                        <a:pt x="1182" y="15"/>
                      </a:lnTo>
                      <a:lnTo>
                        <a:pt x="1187" y="15"/>
                      </a:lnTo>
                      <a:lnTo>
                        <a:pt x="1190" y="14"/>
                      </a:lnTo>
                      <a:lnTo>
                        <a:pt x="1195" y="14"/>
                      </a:lnTo>
                      <a:lnTo>
                        <a:pt x="1200" y="14"/>
                      </a:lnTo>
                      <a:lnTo>
                        <a:pt x="1203" y="14"/>
                      </a:lnTo>
                      <a:lnTo>
                        <a:pt x="1208" y="13"/>
                      </a:lnTo>
                      <a:lnTo>
                        <a:pt x="1213" y="13"/>
                      </a:lnTo>
                      <a:lnTo>
                        <a:pt x="1217" y="13"/>
                      </a:lnTo>
                      <a:lnTo>
                        <a:pt x="1221" y="13"/>
                      </a:lnTo>
                      <a:lnTo>
                        <a:pt x="1226" y="13"/>
                      </a:lnTo>
                      <a:lnTo>
                        <a:pt x="1230" y="13"/>
                      </a:lnTo>
                      <a:lnTo>
                        <a:pt x="1234" y="12"/>
                      </a:lnTo>
                      <a:lnTo>
                        <a:pt x="1239" y="12"/>
                      </a:lnTo>
                      <a:lnTo>
                        <a:pt x="1243" y="12"/>
                      </a:lnTo>
                      <a:lnTo>
                        <a:pt x="1247" y="12"/>
                      </a:lnTo>
                      <a:lnTo>
                        <a:pt x="1251" y="12"/>
                      </a:lnTo>
                      <a:lnTo>
                        <a:pt x="1255" y="10"/>
                      </a:lnTo>
                      <a:lnTo>
                        <a:pt x="1260" y="10"/>
                      </a:lnTo>
                      <a:lnTo>
                        <a:pt x="1264" y="10"/>
                      </a:lnTo>
                      <a:lnTo>
                        <a:pt x="1268" y="10"/>
                      </a:lnTo>
                      <a:lnTo>
                        <a:pt x="1272" y="10"/>
                      </a:lnTo>
                      <a:lnTo>
                        <a:pt x="1275" y="9"/>
                      </a:lnTo>
                      <a:lnTo>
                        <a:pt x="1280" y="9"/>
                      </a:lnTo>
                      <a:lnTo>
                        <a:pt x="1284" y="9"/>
                      </a:lnTo>
                      <a:lnTo>
                        <a:pt x="1289" y="9"/>
                      </a:lnTo>
                      <a:lnTo>
                        <a:pt x="1291" y="8"/>
                      </a:lnTo>
                      <a:lnTo>
                        <a:pt x="1296" y="8"/>
                      </a:lnTo>
                      <a:lnTo>
                        <a:pt x="1300" y="8"/>
                      </a:lnTo>
                      <a:lnTo>
                        <a:pt x="1304" y="8"/>
                      </a:lnTo>
                      <a:lnTo>
                        <a:pt x="1309" y="8"/>
                      </a:lnTo>
                      <a:lnTo>
                        <a:pt x="1312" y="8"/>
                      </a:lnTo>
                      <a:lnTo>
                        <a:pt x="1316" y="8"/>
                      </a:lnTo>
                      <a:lnTo>
                        <a:pt x="1319" y="7"/>
                      </a:lnTo>
                      <a:lnTo>
                        <a:pt x="1323" y="7"/>
                      </a:lnTo>
                      <a:lnTo>
                        <a:pt x="1327" y="7"/>
                      </a:lnTo>
                      <a:lnTo>
                        <a:pt x="1330" y="6"/>
                      </a:lnTo>
                      <a:lnTo>
                        <a:pt x="1334" y="6"/>
                      </a:lnTo>
                      <a:lnTo>
                        <a:pt x="1338" y="6"/>
                      </a:lnTo>
                      <a:lnTo>
                        <a:pt x="1342" y="6"/>
                      </a:lnTo>
                      <a:lnTo>
                        <a:pt x="1346" y="6"/>
                      </a:lnTo>
                      <a:lnTo>
                        <a:pt x="1349" y="5"/>
                      </a:lnTo>
                      <a:lnTo>
                        <a:pt x="1351" y="5"/>
                      </a:lnTo>
                      <a:lnTo>
                        <a:pt x="1356" y="5"/>
                      </a:lnTo>
                      <a:lnTo>
                        <a:pt x="1359" y="5"/>
                      </a:lnTo>
                      <a:lnTo>
                        <a:pt x="1362" y="3"/>
                      </a:lnTo>
                      <a:lnTo>
                        <a:pt x="1366" y="3"/>
                      </a:lnTo>
                      <a:lnTo>
                        <a:pt x="1369" y="3"/>
                      </a:lnTo>
                      <a:lnTo>
                        <a:pt x="1372" y="3"/>
                      </a:lnTo>
                      <a:lnTo>
                        <a:pt x="1375" y="3"/>
                      </a:lnTo>
                      <a:lnTo>
                        <a:pt x="1379" y="3"/>
                      </a:lnTo>
                      <a:lnTo>
                        <a:pt x="1382" y="3"/>
                      </a:lnTo>
                      <a:lnTo>
                        <a:pt x="1385" y="2"/>
                      </a:lnTo>
                      <a:lnTo>
                        <a:pt x="1387" y="2"/>
                      </a:lnTo>
                      <a:lnTo>
                        <a:pt x="1389" y="1"/>
                      </a:lnTo>
                      <a:lnTo>
                        <a:pt x="1393" y="1"/>
                      </a:lnTo>
                      <a:lnTo>
                        <a:pt x="1395" y="1"/>
                      </a:lnTo>
                      <a:lnTo>
                        <a:pt x="1398" y="0"/>
                      </a:lnTo>
                      <a:lnTo>
                        <a:pt x="1401" y="0"/>
                      </a:lnTo>
                      <a:lnTo>
                        <a:pt x="1405" y="0"/>
                      </a:lnTo>
                      <a:lnTo>
                        <a:pt x="1407" y="0"/>
                      </a:lnTo>
                      <a:lnTo>
                        <a:pt x="1410" y="0"/>
                      </a:lnTo>
                      <a:lnTo>
                        <a:pt x="1412" y="0"/>
                      </a:lnTo>
                      <a:lnTo>
                        <a:pt x="1416" y="0"/>
                      </a:lnTo>
                      <a:lnTo>
                        <a:pt x="1425" y="84"/>
                      </a:lnTo>
                      <a:lnTo>
                        <a:pt x="1424" y="84"/>
                      </a:lnTo>
                      <a:lnTo>
                        <a:pt x="1421" y="84"/>
                      </a:lnTo>
                      <a:lnTo>
                        <a:pt x="1420" y="84"/>
                      </a:lnTo>
                      <a:lnTo>
                        <a:pt x="1416" y="84"/>
                      </a:lnTo>
                      <a:lnTo>
                        <a:pt x="1412" y="85"/>
                      </a:lnTo>
                      <a:lnTo>
                        <a:pt x="1407" y="85"/>
                      </a:lnTo>
                      <a:lnTo>
                        <a:pt x="1402" y="86"/>
                      </a:lnTo>
                      <a:lnTo>
                        <a:pt x="1400" y="86"/>
                      </a:lnTo>
                      <a:lnTo>
                        <a:pt x="1397" y="86"/>
                      </a:lnTo>
                      <a:lnTo>
                        <a:pt x="1393" y="86"/>
                      </a:lnTo>
                      <a:lnTo>
                        <a:pt x="1389" y="88"/>
                      </a:lnTo>
                      <a:lnTo>
                        <a:pt x="1387" y="88"/>
                      </a:lnTo>
                      <a:lnTo>
                        <a:pt x="1383" y="89"/>
                      </a:lnTo>
                      <a:lnTo>
                        <a:pt x="1380" y="89"/>
                      </a:lnTo>
                      <a:lnTo>
                        <a:pt x="1376" y="89"/>
                      </a:lnTo>
                      <a:lnTo>
                        <a:pt x="1372" y="89"/>
                      </a:lnTo>
                      <a:lnTo>
                        <a:pt x="1368" y="90"/>
                      </a:lnTo>
                      <a:lnTo>
                        <a:pt x="1363" y="90"/>
                      </a:lnTo>
                      <a:lnTo>
                        <a:pt x="1360" y="91"/>
                      </a:lnTo>
                      <a:lnTo>
                        <a:pt x="1354" y="91"/>
                      </a:lnTo>
                      <a:lnTo>
                        <a:pt x="1350" y="91"/>
                      </a:lnTo>
                      <a:lnTo>
                        <a:pt x="1346" y="92"/>
                      </a:lnTo>
                      <a:lnTo>
                        <a:pt x="1341" y="94"/>
                      </a:lnTo>
                      <a:lnTo>
                        <a:pt x="1335" y="94"/>
                      </a:lnTo>
                      <a:lnTo>
                        <a:pt x="1329" y="94"/>
                      </a:lnTo>
                      <a:lnTo>
                        <a:pt x="1324" y="94"/>
                      </a:lnTo>
                      <a:lnTo>
                        <a:pt x="1319" y="95"/>
                      </a:lnTo>
                      <a:lnTo>
                        <a:pt x="1312" y="96"/>
                      </a:lnTo>
                      <a:lnTo>
                        <a:pt x="1306" y="96"/>
                      </a:lnTo>
                      <a:lnTo>
                        <a:pt x="1302" y="97"/>
                      </a:lnTo>
                      <a:lnTo>
                        <a:pt x="1296" y="97"/>
                      </a:lnTo>
                      <a:lnTo>
                        <a:pt x="1289" y="97"/>
                      </a:lnTo>
                      <a:lnTo>
                        <a:pt x="1283" y="97"/>
                      </a:lnTo>
                      <a:lnTo>
                        <a:pt x="1275" y="98"/>
                      </a:lnTo>
                      <a:lnTo>
                        <a:pt x="1270" y="100"/>
                      </a:lnTo>
                      <a:lnTo>
                        <a:pt x="1262" y="100"/>
                      </a:lnTo>
                      <a:lnTo>
                        <a:pt x="1255" y="100"/>
                      </a:lnTo>
                      <a:lnTo>
                        <a:pt x="1249" y="100"/>
                      </a:lnTo>
                      <a:lnTo>
                        <a:pt x="1242" y="102"/>
                      </a:lnTo>
                      <a:lnTo>
                        <a:pt x="1235" y="102"/>
                      </a:lnTo>
                      <a:lnTo>
                        <a:pt x="1228" y="102"/>
                      </a:lnTo>
                      <a:lnTo>
                        <a:pt x="1220" y="102"/>
                      </a:lnTo>
                      <a:lnTo>
                        <a:pt x="1213" y="102"/>
                      </a:lnTo>
                      <a:lnTo>
                        <a:pt x="1205" y="103"/>
                      </a:lnTo>
                      <a:lnTo>
                        <a:pt x="1197" y="104"/>
                      </a:lnTo>
                      <a:lnTo>
                        <a:pt x="1190" y="104"/>
                      </a:lnTo>
                      <a:lnTo>
                        <a:pt x="1182" y="104"/>
                      </a:lnTo>
                      <a:lnTo>
                        <a:pt x="1173" y="104"/>
                      </a:lnTo>
                      <a:lnTo>
                        <a:pt x="1165" y="104"/>
                      </a:lnTo>
                      <a:lnTo>
                        <a:pt x="1157" y="105"/>
                      </a:lnTo>
                      <a:lnTo>
                        <a:pt x="1149" y="107"/>
                      </a:lnTo>
                      <a:lnTo>
                        <a:pt x="1140" y="107"/>
                      </a:lnTo>
                      <a:lnTo>
                        <a:pt x="1132" y="107"/>
                      </a:lnTo>
                      <a:lnTo>
                        <a:pt x="1122" y="107"/>
                      </a:lnTo>
                      <a:lnTo>
                        <a:pt x="1114" y="107"/>
                      </a:lnTo>
                      <a:lnTo>
                        <a:pt x="1112" y="103"/>
                      </a:lnTo>
                      <a:lnTo>
                        <a:pt x="1108" y="100"/>
                      </a:lnTo>
                      <a:lnTo>
                        <a:pt x="1106" y="95"/>
                      </a:lnTo>
                      <a:lnTo>
                        <a:pt x="1102" y="91"/>
                      </a:lnTo>
                      <a:lnTo>
                        <a:pt x="1099" y="89"/>
                      </a:lnTo>
                      <a:lnTo>
                        <a:pt x="1096" y="85"/>
                      </a:lnTo>
                      <a:lnTo>
                        <a:pt x="1094" y="82"/>
                      </a:lnTo>
                      <a:lnTo>
                        <a:pt x="1090" y="79"/>
                      </a:lnTo>
                      <a:lnTo>
                        <a:pt x="1086" y="76"/>
                      </a:lnTo>
                      <a:lnTo>
                        <a:pt x="1083" y="73"/>
                      </a:lnTo>
                      <a:lnTo>
                        <a:pt x="1080" y="71"/>
                      </a:lnTo>
                      <a:lnTo>
                        <a:pt x="1076" y="70"/>
                      </a:lnTo>
                      <a:lnTo>
                        <a:pt x="1074" y="67"/>
                      </a:lnTo>
                      <a:lnTo>
                        <a:pt x="1070" y="65"/>
                      </a:lnTo>
                      <a:lnTo>
                        <a:pt x="1065" y="64"/>
                      </a:lnTo>
                      <a:lnTo>
                        <a:pt x="1063" y="62"/>
                      </a:lnTo>
                      <a:lnTo>
                        <a:pt x="1060" y="60"/>
                      </a:lnTo>
                      <a:lnTo>
                        <a:pt x="1056" y="58"/>
                      </a:lnTo>
                      <a:lnTo>
                        <a:pt x="1051" y="56"/>
                      </a:lnTo>
                      <a:lnTo>
                        <a:pt x="1048" y="56"/>
                      </a:lnTo>
                      <a:lnTo>
                        <a:pt x="1044" y="53"/>
                      </a:lnTo>
                      <a:lnTo>
                        <a:pt x="1041" y="52"/>
                      </a:lnTo>
                      <a:lnTo>
                        <a:pt x="1037" y="51"/>
                      </a:lnTo>
                      <a:lnTo>
                        <a:pt x="1033" y="50"/>
                      </a:lnTo>
                      <a:lnTo>
                        <a:pt x="1030" y="48"/>
                      </a:lnTo>
                      <a:lnTo>
                        <a:pt x="1026" y="46"/>
                      </a:lnTo>
                      <a:lnTo>
                        <a:pt x="1022" y="45"/>
                      </a:lnTo>
                      <a:lnTo>
                        <a:pt x="1018" y="44"/>
                      </a:lnTo>
                      <a:lnTo>
                        <a:pt x="1014" y="43"/>
                      </a:lnTo>
                      <a:lnTo>
                        <a:pt x="1011" y="41"/>
                      </a:lnTo>
                      <a:lnTo>
                        <a:pt x="1007" y="39"/>
                      </a:lnTo>
                      <a:lnTo>
                        <a:pt x="1004" y="38"/>
                      </a:lnTo>
                      <a:lnTo>
                        <a:pt x="1001" y="38"/>
                      </a:lnTo>
                      <a:lnTo>
                        <a:pt x="1000" y="39"/>
                      </a:lnTo>
                      <a:lnTo>
                        <a:pt x="998" y="40"/>
                      </a:lnTo>
                      <a:lnTo>
                        <a:pt x="994" y="41"/>
                      </a:lnTo>
                      <a:lnTo>
                        <a:pt x="990" y="43"/>
                      </a:lnTo>
                      <a:lnTo>
                        <a:pt x="987" y="45"/>
                      </a:lnTo>
                      <a:lnTo>
                        <a:pt x="982" y="47"/>
                      </a:lnTo>
                      <a:lnTo>
                        <a:pt x="980" y="51"/>
                      </a:lnTo>
                      <a:lnTo>
                        <a:pt x="974" y="53"/>
                      </a:lnTo>
                      <a:lnTo>
                        <a:pt x="971" y="56"/>
                      </a:lnTo>
                      <a:lnTo>
                        <a:pt x="967" y="58"/>
                      </a:lnTo>
                      <a:lnTo>
                        <a:pt x="962" y="60"/>
                      </a:lnTo>
                      <a:lnTo>
                        <a:pt x="959" y="62"/>
                      </a:lnTo>
                      <a:lnTo>
                        <a:pt x="956" y="64"/>
                      </a:lnTo>
                      <a:lnTo>
                        <a:pt x="952" y="65"/>
                      </a:lnTo>
                      <a:lnTo>
                        <a:pt x="950" y="67"/>
                      </a:lnTo>
                      <a:lnTo>
                        <a:pt x="952" y="69"/>
                      </a:lnTo>
                      <a:lnTo>
                        <a:pt x="955" y="71"/>
                      </a:lnTo>
                      <a:lnTo>
                        <a:pt x="959" y="76"/>
                      </a:lnTo>
                      <a:lnTo>
                        <a:pt x="962" y="79"/>
                      </a:lnTo>
                      <a:lnTo>
                        <a:pt x="965" y="82"/>
                      </a:lnTo>
                      <a:lnTo>
                        <a:pt x="969" y="85"/>
                      </a:lnTo>
                      <a:lnTo>
                        <a:pt x="972" y="88"/>
                      </a:lnTo>
                      <a:lnTo>
                        <a:pt x="974" y="91"/>
                      </a:lnTo>
                      <a:lnTo>
                        <a:pt x="976" y="89"/>
                      </a:lnTo>
                      <a:lnTo>
                        <a:pt x="980" y="86"/>
                      </a:lnTo>
                      <a:lnTo>
                        <a:pt x="982" y="85"/>
                      </a:lnTo>
                      <a:lnTo>
                        <a:pt x="985" y="84"/>
                      </a:lnTo>
                      <a:lnTo>
                        <a:pt x="987" y="83"/>
                      </a:lnTo>
                      <a:lnTo>
                        <a:pt x="990" y="83"/>
                      </a:lnTo>
                      <a:lnTo>
                        <a:pt x="992" y="82"/>
                      </a:lnTo>
                      <a:lnTo>
                        <a:pt x="995" y="82"/>
                      </a:lnTo>
                      <a:lnTo>
                        <a:pt x="1000" y="82"/>
                      </a:lnTo>
                      <a:lnTo>
                        <a:pt x="1005" y="83"/>
                      </a:lnTo>
                      <a:lnTo>
                        <a:pt x="1010" y="84"/>
                      </a:lnTo>
                      <a:lnTo>
                        <a:pt x="1014" y="85"/>
                      </a:lnTo>
                      <a:lnTo>
                        <a:pt x="1018" y="86"/>
                      </a:lnTo>
                      <a:lnTo>
                        <a:pt x="1023" y="89"/>
                      </a:lnTo>
                      <a:lnTo>
                        <a:pt x="1026" y="91"/>
                      </a:lnTo>
                      <a:lnTo>
                        <a:pt x="1031" y="96"/>
                      </a:lnTo>
                      <a:lnTo>
                        <a:pt x="1035" y="98"/>
                      </a:lnTo>
                      <a:lnTo>
                        <a:pt x="1038" y="102"/>
                      </a:lnTo>
                      <a:lnTo>
                        <a:pt x="1043" y="104"/>
                      </a:lnTo>
                      <a:lnTo>
                        <a:pt x="1047" y="109"/>
                      </a:lnTo>
                      <a:lnTo>
                        <a:pt x="1042" y="109"/>
                      </a:lnTo>
                      <a:lnTo>
                        <a:pt x="1037" y="109"/>
                      </a:lnTo>
                      <a:lnTo>
                        <a:pt x="1032" y="109"/>
                      </a:lnTo>
                      <a:lnTo>
                        <a:pt x="1028" y="109"/>
                      </a:lnTo>
                      <a:lnTo>
                        <a:pt x="1022" y="109"/>
                      </a:lnTo>
                      <a:lnTo>
                        <a:pt x="1018" y="109"/>
                      </a:lnTo>
                      <a:lnTo>
                        <a:pt x="1012" y="109"/>
                      </a:lnTo>
                      <a:lnTo>
                        <a:pt x="1007" y="109"/>
                      </a:lnTo>
                      <a:lnTo>
                        <a:pt x="1003" y="108"/>
                      </a:lnTo>
                      <a:lnTo>
                        <a:pt x="998" y="108"/>
                      </a:lnTo>
                      <a:lnTo>
                        <a:pt x="992" y="108"/>
                      </a:lnTo>
                      <a:lnTo>
                        <a:pt x="987" y="108"/>
                      </a:lnTo>
                      <a:lnTo>
                        <a:pt x="982" y="108"/>
                      </a:lnTo>
                      <a:lnTo>
                        <a:pt x="978" y="108"/>
                      </a:lnTo>
                      <a:lnTo>
                        <a:pt x="973" y="108"/>
                      </a:lnTo>
                      <a:lnTo>
                        <a:pt x="968" y="108"/>
                      </a:lnTo>
                      <a:lnTo>
                        <a:pt x="965" y="107"/>
                      </a:lnTo>
                      <a:lnTo>
                        <a:pt x="962" y="107"/>
                      </a:lnTo>
                      <a:lnTo>
                        <a:pt x="960" y="107"/>
                      </a:lnTo>
                      <a:lnTo>
                        <a:pt x="958" y="107"/>
                      </a:lnTo>
                      <a:lnTo>
                        <a:pt x="954" y="107"/>
                      </a:lnTo>
                      <a:lnTo>
                        <a:pt x="952" y="107"/>
                      </a:lnTo>
                      <a:lnTo>
                        <a:pt x="949" y="107"/>
                      </a:lnTo>
                      <a:lnTo>
                        <a:pt x="947" y="107"/>
                      </a:lnTo>
                      <a:lnTo>
                        <a:pt x="944" y="107"/>
                      </a:lnTo>
                      <a:lnTo>
                        <a:pt x="942" y="107"/>
                      </a:lnTo>
                      <a:lnTo>
                        <a:pt x="940" y="107"/>
                      </a:lnTo>
                      <a:lnTo>
                        <a:pt x="936" y="107"/>
                      </a:lnTo>
                      <a:lnTo>
                        <a:pt x="931" y="107"/>
                      </a:lnTo>
                      <a:lnTo>
                        <a:pt x="927" y="107"/>
                      </a:lnTo>
                      <a:lnTo>
                        <a:pt x="924" y="107"/>
                      </a:lnTo>
                      <a:lnTo>
                        <a:pt x="921" y="107"/>
                      </a:lnTo>
                      <a:lnTo>
                        <a:pt x="918" y="107"/>
                      </a:lnTo>
                      <a:lnTo>
                        <a:pt x="916" y="107"/>
                      </a:lnTo>
                      <a:lnTo>
                        <a:pt x="914" y="107"/>
                      </a:lnTo>
                      <a:lnTo>
                        <a:pt x="910" y="107"/>
                      </a:lnTo>
                      <a:lnTo>
                        <a:pt x="908" y="107"/>
                      </a:lnTo>
                      <a:lnTo>
                        <a:pt x="905" y="107"/>
                      </a:lnTo>
                      <a:lnTo>
                        <a:pt x="903" y="105"/>
                      </a:lnTo>
                      <a:lnTo>
                        <a:pt x="899" y="105"/>
                      </a:lnTo>
                      <a:lnTo>
                        <a:pt x="897" y="105"/>
                      </a:lnTo>
                      <a:lnTo>
                        <a:pt x="895" y="105"/>
                      </a:lnTo>
                      <a:lnTo>
                        <a:pt x="892" y="105"/>
                      </a:lnTo>
                      <a:lnTo>
                        <a:pt x="889" y="105"/>
                      </a:lnTo>
                      <a:lnTo>
                        <a:pt x="886" y="105"/>
                      </a:lnTo>
                      <a:lnTo>
                        <a:pt x="884" y="105"/>
                      </a:lnTo>
                      <a:lnTo>
                        <a:pt x="880" y="104"/>
                      </a:lnTo>
                      <a:lnTo>
                        <a:pt x="877" y="104"/>
                      </a:lnTo>
                      <a:lnTo>
                        <a:pt x="873" y="104"/>
                      </a:lnTo>
                      <a:lnTo>
                        <a:pt x="870" y="104"/>
                      </a:lnTo>
                      <a:lnTo>
                        <a:pt x="866" y="104"/>
                      </a:lnTo>
                      <a:lnTo>
                        <a:pt x="863" y="104"/>
                      </a:lnTo>
                      <a:lnTo>
                        <a:pt x="858" y="104"/>
                      </a:lnTo>
                      <a:lnTo>
                        <a:pt x="855" y="104"/>
                      </a:lnTo>
                      <a:lnTo>
                        <a:pt x="852" y="104"/>
                      </a:lnTo>
                      <a:lnTo>
                        <a:pt x="848" y="104"/>
                      </a:lnTo>
                      <a:lnTo>
                        <a:pt x="845" y="104"/>
                      </a:lnTo>
                      <a:lnTo>
                        <a:pt x="840" y="104"/>
                      </a:lnTo>
                      <a:lnTo>
                        <a:pt x="838" y="104"/>
                      </a:lnTo>
                      <a:lnTo>
                        <a:pt x="834" y="104"/>
                      </a:lnTo>
                      <a:lnTo>
                        <a:pt x="831" y="104"/>
                      </a:lnTo>
                      <a:lnTo>
                        <a:pt x="827" y="104"/>
                      </a:lnTo>
                      <a:lnTo>
                        <a:pt x="826" y="100"/>
                      </a:lnTo>
                      <a:lnTo>
                        <a:pt x="826" y="96"/>
                      </a:lnTo>
                      <a:lnTo>
                        <a:pt x="825" y="91"/>
                      </a:lnTo>
                      <a:lnTo>
                        <a:pt x="823" y="89"/>
                      </a:lnTo>
                      <a:lnTo>
                        <a:pt x="822" y="84"/>
                      </a:lnTo>
                      <a:lnTo>
                        <a:pt x="822" y="81"/>
                      </a:lnTo>
                      <a:lnTo>
                        <a:pt x="821" y="76"/>
                      </a:lnTo>
                      <a:lnTo>
                        <a:pt x="821" y="73"/>
                      </a:lnTo>
                      <a:lnTo>
                        <a:pt x="818" y="73"/>
                      </a:lnTo>
                      <a:lnTo>
                        <a:pt x="814" y="76"/>
                      </a:lnTo>
                      <a:lnTo>
                        <a:pt x="810" y="76"/>
                      </a:lnTo>
                      <a:lnTo>
                        <a:pt x="807" y="78"/>
                      </a:lnTo>
                      <a:lnTo>
                        <a:pt x="803" y="78"/>
                      </a:lnTo>
                      <a:lnTo>
                        <a:pt x="800" y="78"/>
                      </a:lnTo>
                      <a:lnTo>
                        <a:pt x="797" y="76"/>
                      </a:lnTo>
                      <a:lnTo>
                        <a:pt x="795" y="76"/>
                      </a:lnTo>
                      <a:lnTo>
                        <a:pt x="793" y="75"/>
                      </a:lnTo>
                      <a:lnTo>
                        <a:pt x="790" y="73"/>
                      </a:lnTo>
                      <a:lnTo>
                        <a:pt x="787" y="71"/>
                      </a:lnTo>
                      <a:lnTo>
                        <a:pt x="784" y="70"/>
                      </a:lnTo>
                      <a:lnTo>
                        <a:pt x="780" y="66"/>
                      </a:lnTo>
                      <a:lnTo>
                        <a:pt x="775" y="62"/>
                      </a:lnTo>
                      <a:lnTo>
                        <a:pt x="772" y="59"/>
                      </a:lnTo>
                      <a:lnTo>
                        <a:pt x="770" y="56"/>
                      </a:lnTo>
                      <a:lnTo>
                        <a:pt x="766" y="53"/>
                      </a:lnTo>
                      <a:lnTo>
                        <a:pt x="765" y="51"/>
                      </a:lnTo>
                      <a:lnTo>
                        <a:pt x="761" y="46"/>
                      </a:lnTo>
                      <a:lnTo>
                        <a:pt x="756" y="41"/>
                      </a:lnTo>
                      <a:lnTo>
                        <a:pt x="753" y="39"/>
                      </a:lnTo>
                      <a:lnTo>
                        <a:pt x="751" y="38"/>
                      </a:lnTo>
                      <a:lnTo>
                        <a:pt x="748" y="35"/>
                      </a:lnTo>
                      <a:lnTo>
                        <a:pt x="745" y="34"/>
                      </a:lnTo>
                      <a:lnTo>
                        <a:pt x="742" y="33"/>
                      </a:lnTo>
                      <a:lnTo>
                        <a:pt x="739" y="33"/>
                      </a:lnTo>
                      <a:lnTo>
                        <a:pt x="737" y="32"/>
                      </a:lnTo>
                      <a:lnTo>
                        <a:pt x="733" y="32"/>
                      </a:lnTo>
                      <a:lnTo>
                        <a:pt x="729" y="37"/>
                      </a:lnTo>
                      <a:lnTo>
                        <a:pt x="726" y="41"/>
                      </a:lnTo>
                      <a:lnTo>
                        <a:pt x="724" y="46"/>
                      </a:lnTo>
                      <a:lnTo>
                        <a:pt x="721" y="52"/>
                      </a:lnTo>
                      <a:lnTo>
                        <a:pt x="720" y="56"/>
                      </a:lnTo>
                      <a:lnTo>
                        <a:pt x="720" y="62"/>
                      </a:lnTo>
                      <a:lnTo>
                        <a:pt x="721" y="66"/>
                      </a:lnTo>
                      <a:lnTo>
                        <a:pt x="723" y="71"/>
                      </a:lnTo>
                      <a:lnTo>
                        <a:pt x="724" y="73"/>
                      </a:lnTo>
                      <a:lnTo>
                        <a:pt x="726" y="79"/>
                      </a:lnTo>
                      <a:lnTo>
                        <a:pt x="729" y="83"/>
                      </a:lnTo>
                      <a:lnTo>
                        <a:pt x="732" y="86"/>
                      </a:lnTo>
                      <a:lnTo>
                        <a:pt x="734" y="91"/>
                      </a:lnTo>
                      <a:lnTo>
                        <a:pt x="739" y="94"/>
                      </a:lnTo>
                      <a:lnTo>
                        <a:pt x="744" y="97"/>
                      </a:lnTo>
                      <a:lnTo>
                        <a:pt x="749" y="102"/>
                      </a:lnTo>
                      <a:lnTo>
                        <a:pt x="744" y="102"/>
                      </a:lnTo>
                      <a:lnTo>
                        <a:pt x="742" y="102"/>
                      </a:lnTo>
                      <a:lnTo>
                        <a:pt x="739" y="102"/>
                      </a:lnTo>
                      <a:lnTo>
                        <a:pt x="737" y="102"/>
                      </a:lnTo>
                      <a:lnTo>
                        <a:pt x="733" y="101"/>
                      </a:lnTo>
                      <a:lnTo>
                        <a:pt x="730" y="101"/>
                      </a:lnTo>
                      <a:lnTo>
                        <a:pt x="726" y="101"/>
                      </a:lnTo>
                      <a:lnTo>
                        <a:pt x="724" y="101"/>
                      </a:lnTo>
                      <a:lnTo>
                        <a:pt x="721" y="101"/>
                      </a:lnTo>
                      <a:lnTo>
                        <a:pt x="719" y="101"/>
                      </a:lnTo>
                      <a:lnTo>
                        <a:pt x="715" y="101"/>
                      </a:lnTo>
                      <a:lnTo>
                        <a:pt x="713" y="101"/>
                      </a:lnTo>
                      <a:lnTo>
                        <a:pt x="710" y="101"/>
                      </a:lnTo>
                      <a:lnTo>
                        <a:pt x="707" y="101"/>
                      </a:lnTo>
                      <a:lnTo>
                        <a:pt x="704" y="101"/>
                      </a:lnTo>
                      <a:lnTo>
                        <a:pt x="701" y="101"/>
                      </a:lnTo>
                      <a:lnTo>
                        <a:pt x="699" y="100"/>
                      </a:lnTo>
                      <a:lnTo>
                        <a:pt x="695" y="100"/>
                      </a:lnTo>
                      <a:lnTo>
                        <a:pt x="693" y="100"/>
                      </a:lnTo>
                      <a:lnTo>
                        <a:pt x="689" y="100"/>
                      </a:lnTo>
                      <a:lnTo>
                        <a:pt x="687" y="100"/>
                      </a:lnTo>
                      <a:lnTo>
                        <a:pt x="683" y="100"/>
                      </a:lnTo>
                      <a:lnTo>
                        <a:pt x="681" y="100"/>
                      </a:lnTo>
                      <a:lnTo>
                        <a:pt x="679" y="100"/>
                      </a:lnTo>
                      <a:lnTo>
                        <a:pt x="676" y="100"/>
                      </a:lnTo>
                      <a:lnTo>
                        <a:pt x="673" y="100"/>
                      </a:lnTo>
                      <a:lnTo>
                        <a:pt x="669" y="100"/>
                      </a:lnTo>
                      <a:lnTo>
                        <a:pt x="667" y="100"/>
                      </a:lnTo>
                      <a:lnTo>
                        <a:pt x="664" y="100"/>
                      </a:lnTo>
                      <a:lnTo>
                        <a:pt x="662" y="100"/>
                      </a:lnTo>
                      <a:lnTo>
                        <a:pt x="659" y="100"/>
                      </a:lnTo>
                      <a:lnTo>
                        <a:pt x="656" y="100"/>
                      </a:lnTo>
                      <a:lnTo>
                        <a:pt x="661" y="96"/>
                      </a:lnTo>
                      <a:lnTo>
                        <a:pt x="666" y="91"/>
                      </a:lnTo>
                      <a:lnTo>
                        <a:pt x="670" y="86"/>
                      </a:lnTo>
                      <a:lnTo>
                        <a:pt x="675" y="82"/>
                      </a:lnTo>
                      <a:lnTo>
                        <a:pt x="676" y="79"/>
                      </a:lnTo>
                      <a:lnTo>
                        <a:pt x="679" y="76"/>
                      </a:lnTo>
                      <a:lnTo>
                        <a:pt x="679" y="72"/>
                      </a:lnTo>
                      <a:lnTo>
                        <a:pt x="681" y="70"/>
                      </a:lnTo>
                      <a:lnTo>
                        <a:pt x="682" y="66"/>
                      </a:lnTo>
                      <a:lnTo>
                        <a:pt x="683" y="63"/>
                      </a:lnTo>
                      <a:lnTo>
                        <a:pt x="685" y="59"/>
                      </a:lnTo>
                      <a:lnTo>
                        <a:pt x="686" y="56"/>
                      </a:lnTo>
                      <a:lnTo>
                        <a:pt x="683" y="53"/>
                      </a:lnTo>
                      <a:lnTo>
                        <a:pt x="680" y="52"/>
                      </a:lnTo>
                      <a:lnTo>
                        <a:pt x="677" y="51"/>
                      </a:lnTo>
                      <a:lnTo>
                        <a:pt x="674" y="51"/>
                      </a:lnTo>
                      <a:lnTo>
                        <a:pt x="670" y="50"/>
                      </a:lnTo>
                      <a:lnTo>
                        <a:pt x="668" y="50"/>
                      </a:lnTo>
                      <a:lnTo>
                        <a:pt x="664" y="50"/>
                      </a:lnTo>
                      <a:lnTo>
                        <a:pt x="662" y="50"/>
                      </a:lnTo>
                      <a:lnTo>
                        <a:pt x="659" y="48"/>
                      </a:lnTo>
                      <a:lnTo>
                        <a:pt x="656" y="48"/>
                      </a:lnTo>
                      <a:lnTo>
                        <a:pt x="651" y="50"/>
                      </a:lnTo>
                      <a:lnTo>
                        <a:pt x="649" y="50"/>
                      </a:lnTo>
                      <a:lnTo>
                        <a:pt x="645" y="50"/>
                      </a:lnTo>
                      <a:lnTo>
                        <a:pt x="643" y="51"/>
                      </a:lnTo>
                      <a:lnTo>
                        <a:pt x="640" y="51"/>
                      </a:lnTo>
                      <a:lnTo>
                        <a:pt x="636" y="52"/>
                      </a:lnTo>
                      <a:lnTo>
                        <a:pt x="632" y="52"/>
                      </a:lnTo>
                      <a:lnTo>
                        <a:pt x="630" y="52"/>
                      </a:lnTo>
                      <a:lnTo>
                        <a:pt x="625" y="52"/>
                      </a:lnTo>
                      <a:lnTo>
                        <a:pt x="623" y="53"/>
                      </a:lnTo>
                      <a:lnTo>
                        <a:pt x="619" y="53"/>
                      </a:lnTo>
                      <a:lnTo>
                        <a:pt x="616" y="53"/>
                      </a:lnTo>
                      <a:lnTo>
                        <a:pt x="612" y="53"/>
                      </a:lnTo>
                      <a:lnTo>
                        <a:pt x="610" y="53"/>
                      </a:lnTo>
                      <a:lnTo>
                        <a:pt x="607" y="52"/>
                      </a:lnTo>
                      <a:lnTo>
                        <a:pt x="604" y="52"/>
                      </a:lnTo>
                      <a:lnTo>
                        <a:pt x="600" y="51"/>
                      </a:lnTo>
                      <a:lnTo>
                        <a:pt x="598" y="51"/>
                      </a:lnTo>
                      <a:lnTo>
                        <a:pt x="594" y="48"/>
                      </a:lnTo>
                      <a:lnTo>
                        <a:pt x="592" y="47"/>
                      </a:lnTo>
                      <a:lnTo>
                        <a:pt x="589" y="46"/>
                      </a:lnTo>
                      <a:lnTo>
                        <a:pt x="586" y="44"/>
                      </a:lnTo>
                      <a:lnTo>
                        <a:pt x="585" y="46"/>
                      </a:lnTo>
                      <a:lnTo>
                        <a:pt x="585" y="48"/>
                      </a:lnTo>
                      <a:lnTo>
                        <a:pt x="584" y="51"/>
                      </a:lnTo>
                      <a:lnTo>
                        <a:pt x="583" y="53"/>
                      </a:lnTo>
                      <a:lnTo>
                        <a:pt x="583" y="56"/>
                      </a:lnTo>
                      <a:lnTo>
                        <a:pt x="581" y="60"/>
                      </a:lnTo>
                      <a:lnTo>
                        <a:pt x="580" y="64"/>
                      </a:lnTo>
                      <a:lnTo>
                        <a:pt x="580" y="69"/>
                      </a:lnTo>
                      <a:lnTo>
                        <a:pt x="579" y="72"/>
                      </a:lnTo>
                      <a:lnTo>
                        <a:pt x="579" y="76"/>
                      </a:lnTo>
                      <a:lnTo>
                        <a:pt x="578" y="81"/>
                      </a:lnTo>
                      <a:lnTo>
                        <a:pt x="577" y="85"/>
                      </a:lnTo>
                      <a:lnTo>
                        <a:pt x="577" y="89"/>
                      </a:lnTo>
                      <a:lnTo>
                        <a:pt x="577" y="92"/>
                      </a:lnTo>
                      <a:lnTo>
                        <a:pt x="575" y="97"/>
                      </a:lnTo>
                      <a:lnTo>
                        <a:pt x="575" y="101"/>
                      </a:lnTo>
                      <a:lnTo>
                        <a:pt x="572" y="101"/>
                      </a:lnTo>
                      <a:lnTo>
                        <a:pt x="570" y="101"/>
                      </a:lnTo>
                      <a:lnTo>
                        <a:pt x="567" y="101"/>
                      </a:lnTo>
                      <a:lnTo>
                        <a:pt x="564" y="101"/>
                      </a:lnTo>
                      <a:lnTo>
                        <a:pt x="560" y="101"/>
                      </a:lnTo>
                      <a:lnTo>
                        <a:pt x="556" y="101"/>
                      </a:lnTo>
                      <a:lnTo>
                        <a:pt x="554" y="101"/>
                      </a:lnTo>
                      <a:lnTo>
                        <a:pt x="552" y="101"/>
                      </a:lnTo>
                      <a:lnTo>
                        <a:pt x="549" y="101"/>
                      </a:lnTo>
                      <a:lnTo>
                        <a:pt x="546" y="101"/>
                      </a:lnTo>
                      <a:lnTo>
                        <a:pt x="542" y="101"/>
                      </a:lnTo>
                      <a:lnTo>
                        <a:pt x="540" y="101"/>
                      </a:lnTo>
                      <a:lnTo>
                        <a:pt x="536" y="101"/>
                      </a:lnTo>
                      <a:lnTo>
                        <a:pt x="534" y="101"/>
                      </a:lnTo>
                      <a:lnTo>
                        <a:pt x="532" y="101"/>
                      </a:lnTo>
                      <a:lnTo>
                        <a:pt x="529" y="101"/>
                      </a:lnTo>
                      <a:lnTo>
                        <a:pt x="526" y="101"/>
                      </a:lnTo>
                      <a:lnTo>
                        <a:pt x="523" y="101"/>
                      </a:lnTo>
                      <a:lnTo>
                        <a:pt x="520" y="101"/>
                      </a:lnTo>
                      <a:lnTo>
                        <a:pt x="516" y="101"/>
                      </a:lnTo>
                      <a:lnTo>
                        <a:pt x="514" y="101"/>
                      </a:lnTo>
                      <a:lnTo>
                        <a:pt x="511" y="101"/>
                      </a:lnTo>
                      <a:lnTo>
                        <a:pt x="509" y="101"/>
                      </a:lnTo>
                      <a:lnTo>
                        <a:pt x="507" y="101"/>
                      </a:lnTo>
                      <a:lnTo>
                        <a:pt x="503" y="101"/>
                      </a:lnTo>
                      <a:lnTo>
                        <a:pt x="501" y="101"/>
                      </a:lnTo>
                      <a:lnTo>
                        <a:pt x="497" y="101"/>
                      </a:lnTo>
                      <a:lnTo>
                        <a:pt x="495" y="101"/>
                      </a:lnTo>
                      <a:lnTo>
                        <a:pt x="492" y="101"/>
                      </a:lnTo>
                      <a:lnTo>
                        <a:pt x="490" y="101"/>
                      </a:lnTo>
                      <a:lnTo>
                        <a:pt x="486" y="101"/>
                      </a:lnTo>
                      <a:lnTo>
                        <a:pt x="484" y="102"/>
                      </a:lnTo>
                      <a:lnTo>
                        <a:pt x="482" y="102"/>
                      </a:lnTo>
                      <a:lnTo>
                        <a:pt x="478" y="102"/>
                      </a:lnTo>
                      <a:lnTo>
                        <a:pt x="476" y="102"/>
                      </a:lnTo>
                      <a:lnTo>
                        <a:pt x="473" y="102"/>
                      </a:lnTo>
                      <a:lnTo>
                        <a:pt x="471" y="102"/>
                      </a:lnTo>
                      <a:lnTo>
                        <a:pt x="469" y="102"/>
                      </a:lnTo>
                      <a:lnTo>
                        <a:pt x="466" y="102"/>
                      </a:lnTo>
                      <a:lnTo>
                        <a:pt x="463" y="102"/>
                      </a:lnTo>
                      <a:lnTo>
                        <a:pt x="460" y="102"/>
                      </a:lnTo>
                      <a:lnTo>
                        <a:pt x="457" y="102"/>
                      </a:lnTo>
                      <a:lnTo>
                        <a:pt x="456" y="102"/>
                      </a:lnTo>
                      <a:lnTo>
                        <a:pt x="453" y="102"/>
                      </a:lnTo>
                      <a:lnTo>
                        <a:pt x="447" y="102"/>
                      </a:lnTo>
                      <a:lnTo>
                        <a:pt x="443" y="102"/>
                      </a:lnTo>
                      <a:lnTo>
                        <a:pt x="440" y="102"/>
                      </a:lnTo>
                      <a:lnTo>
                        <a:pt x="437" y="102"/>
                      </a:lnTo>
                      <a:lnTo>
                        <a:pt x="434" y="102"/>
                      </a:lnTo>
                      <a:lnTo>
                        <a:pt x="432" y="102"/>
                      </a:lnTo>
                      <a:lnTo>
                        <a:pt x="427" y="102"/>
                      </a:lnTo>
                      <a:lnTo>
                        <a:pt x="422" y="102"/>
                      </a:lnTo>
                      <a:lnTo>
                        <a:pt x="416" y="102"/>
                      </a:lnTo>
                      <a:lnTo>
                        <a:pt x="413" y="103"/>
                      </a:lnTo>
                      <a:lnTo>
                        <a:pt x="407" y="103"/>
                      </a:lnTo>
                      <a:lnTo>
                        <a:pt x="402" y="104"/>
                      </a:lnTo>
                      <a:lnTo>
                        <a:pt x="405" y="100"/>
                      </a:lnTo>
                      <a:lnTo>
                        <a:pt x="405" y="97"/>
                      </a:lnTo>
                      <a:lnTo>
                        <a:pt x="407" y="94"/>
                      </a:lnTo>
                      <a:lnTo>
                        <a:pt x="408" y="91"/>
                      </a:lnTo>
                      <a:lnTo>
                        <a:pt x="408" y="86"/>
                      </a:lnTo>
                      <a:lnTo>
                        <a:pt x="409" y="84"/>
                      </a:lnTo>
                      <a:lnTo>
                        <a:pt x="408" y="82"/>
                      </a:lnTo>
                      <a:lnTo>
                        <a:pt x="408" y="78"/>
                      </a:lnTo>
                      <a:lnTo>
                        <a:pt x="407" y="76"/>
                      </a:lnTo>
                      <a:lnTo>
                        <a:pt x="405" y="73"/>
                      </a:lnTo>
                      <a:lnTo>
                        <a:pt x="403" y="71"/>
                      </a:lnTo>
                      <a:lnTo>
                        <a:pt x="402" y="69"/>
                      </a:lnTo>
                      <a:lnTo>
                        <a:pt x="399" y="67"/>
                      </a:lnTo>
                      <a:lnTo>
                        <a:pt x="395" y="66"/>
                      </a:lnTo>
                      <a:lnTo>
                        <a:pt x="392" y="66"/>
                      </a:lnTo>
                      <a:lnTo>
                        <a:pt x="387" y="67"/>
                      </a:lnTo>
                      <a:lnTo>
                        <a:pt x="383" y="71"/>
                      </a:lnTo>
                      <a:lnTo>
                        <a:pt x="381" y="73"/>
                      </a:lnTo>
                      <a:lnTo>
                        <a:pt x="378" y="76"/>
                      </a:lnTo>
                      <a:lnTo>
                        <a:pt x="375" y="79"/>
                      </a:lnTo>
                      <a:lnTo>
                        <a:pt x="375" y="83"/>
                      </a:lnTo>
                      <a:lnTo>
                        <a:pt x="375" y="86"/>
                      </a:lnTo>
                      <a:lnTo>
                        <a:pt x="375" y="89"/>
                      </a:lnTo>
                      <a:lnTo>
                        <a:pt x="375" y="94"/>
                      </a:lnTo>
                      <a:lnTo>
                        <a:pt x="375" y="96"/>
                      </a:lnTo>
                      <a:lnTo>
                        <a:pt x="375" y="100"/>
                      </a:lnTo>
                      <a:lnTo>
                        <a:pt x="375" y="102"/>
                      </a:lnTo>
                      <a:lnTo>
                        <a:pt x="376" y="104"/>
                      </a:lnTo>
                      <a:lnTo>
                        <a:pt x="373" y="104"/>
                      </a:lnTo>
                      <a:lnTo>
                        <a:pt x="369" y="104"/>
                      </a:lnTo>
                      <a:lnTo>
                        <a:pt x="365" y="104"/>
                      </a:lnTo>
                      <a:lnTo>
                        <a:pt x="363" y="104"/>
                      </a:lnTo>
                      <a:lnTo>
                        <a:pt x="360" y="104"/>
                      </a:lnTo>
                      <a:lnTo>
                        <a:pt x="357" y="104"/>
                      </a:lnTo>
                      <a:lnTo>
                        <a:pt x="355" y="104"/>
                      </a:lnTo>
                      <a:lnTo>
                        <a:pt x="351" y="104"/>
                      </a:lnTo>
                      <a:lnTo>
                        <a:pt x="348" y="104"/>
                      </a:lnTo>
                      <a:lnTo>
                        <a:pt x="344" y="104"/>
                      </a:lnTo>
                      <a:lnTo>
                        <a:pt x="342" y="104"/>
                      </a:lnTo>
                      <a:lnTo>
                        <a:pt x="339" y="104"/>
                      </a:lnTo>
                      <a:lnTo>
                        <a:pt x="337" y="104"/>
                      </a:lnTo>
                      <a:lnTo>
                        <a:pt x="333" y="104"/>
                      </a:lnTo>
                      <a:lnTo>
                        <a:pt x="330" y="104"/>
                      </a:lnTo>
                      <a:lnTo>
                        <a:pt x="327" y="104"/>
                      </a:lnTo>
                      <a:lnTo>
                        <a:pt x="324" y="104"/>
                      </a:lnTo>
                      <a:lnTo>
                        <a:pt x="322" y="104"/>
                      </a:lnTo>
                      <a:lnTo>
                        <a:pt x="319" y="104"/>
                      </a:lnTo>
                      <a:lnTo>
                        <a:pt x="317" y="104"/>
                      </a:lnTo>
                      <a:lnTo>
                        <a:pt x="313" y="104"/>
                      </a:lnTo>
                      <a:lnTo>
                        <a:pt x="311" y="104"/>
                      </a:lnTo>
                      <a:lnTo>
                        <a:pt x="307" y="104"/>
                      </a:lnTo>
                      <a:lnTo>
                        <a:pt x="305" y="104"/>
                      </a:lnTo>
                      <a:lnTo>
                        <a:pt x="303" y="104"/>
                      </a:lnTo>
                      <a:lnTo>
                        <a:pt x="299" y="104"/>
                      </a:lnTo>
                      <a:lnTo>
                        <a:pt x="297" y="104"/>
                      </a:lnTo>
                      <a:lnTo>
                        <a:pt x="294" y="104"/>
                      </a:lnTo>
                      <a:lnTo>
                        <a:pt x="288" y="104"/>
                      </a:lnTo>
                      <a:lnTo>
                        <a:pt x="284" y="105"/>
                      </a:lnTo>
                      <a:lnTo>
                        <a:pt x="281" y="105"/>
                      </a:lnTo>
                      <a:lnTo>
                        <a:pt x="279" y="105"/>
                      </a:lnTo>
                      <a:lnTo>
                        <a:pt x="276" y="105"/>
                      </a:lnTo>
                      <a:lnTo>
                        <a:pt x="273" y="105"/>
                      </a:lnTo>
                      <a:lnTo>
                        <a:pt x="268" y="105"/>
                      </a:lnTo>
                      <a:lnTo>
                        <a:pt x="263" y="105"/>
                      </a:lnTo>
                      <a:lnTo>
                        <a:pt x="259" y="105"/>
                      </a:lnTo>
                      <a:lnTo>
                        <a:pt x="253" y="105"/>
                      </a:lnTo>
                      <a:lnTo>
                        <a:pt x="249" y="105"/>
                      </a:lnTo>
                      <a:lnTo>
                        <a:pt x="246" y="105"/>
                      </a:lnTo>
                      <a:lnTo>
                        <a:pt x="241" y="105"/>
                      </a:lnTo>
                      <a:lnTo>
                        <a:pt x="235" y="105"/>
                      </a:lnTo>
                      <a:lnTo>
                        <a:pt x="230" y="105"/>
                      </a:lnTo>
                      <a:lnTo>
                        <a:pt x="227" y="105"/>
                      </a:lnTo>
                      <a:lnTo>
                        <a:pt x="223" y="105"/>
                      </a:lnTo>
                      <a:lnTo>
                        <a:pt x="218" y="105"/>
                      </a:lnTo>
                      <a:lnTo>
                        <a:pt x="215" y="105"/>
                      </a:lnTo>
                      <a:lnTo>
                        <a:pt x="210" y="105"/>
                      </a:lnTo>
                      <a:lnTo>
                        <a:pt x="204" y="104"/>
                      </a:lnTo>
                      <a:lnTo>
                        <a:pt x="198" y="104"/>
                      </a:lnTo>
                      <a:lnTo>
                        <a:pt x="192" y="104"/>
                      </a:lnTo>
                      <a:lnTo>
                        <a:pt x="187" y="104"/>
                      </a:lnTo>
                      <a:lnTo>
                        <a:pt x="182" y="104"/>
                      </a:lnTo>
                      <a:lnTo>
                        <a:pt x="176" y="104"/>
                      </a:lnTo>
                      <a:lnTo>
                        <a:pt x="170" y="104"/>
                      </a:lnTo>
                      <a:lnTo>
                        <a:pt x="165" y="104"/>
                      </a:lnTo>
                      <a:lnTo>
                        <a:pt x="159" y="103"/>
                      </a:lnTo>
                      <a:lnTo>
                        <a:pt x="153" y="102"/>
                      </a:lnTo>
                      <a:lnTo>
                        <a:pt x="148" y="102"/>
                      </a:lnTo>
                      <a:lnTo>
                        <a:pt x="144" y="102"/>
                      </a:lnTo>
                      <a:lnTo>
                        <a:pt x="138" y="102"/>
                      </a:lnTo>
                      <a:lnTo>
                        <a:pt x="134" y="102"/>
                      </a:lnTo>
                      <a:lnTo>
                        <a:pt x="128" y="102"/>
                      </a:lnTo>
                      <a:lnTo>
                        <a:pt x="125" y="102"/>
                      </a:lnTo>
                      <a:lnTo>
                        <a:pt x="119" y="102"/>
                      </a:lnTo>
                      <a:lnTo>
                        <a:pt x="114" y="101"/>
                      </a:lnTo>
                      <a:lnTo>
                        <a:pt x="109" y="100"/>
                      </a:lnTo>
                      <a:lnTo>
                        <a:pt x="104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1" y="100"/>
                      </a:lnTo>
                      <a:lnTo>
                        <a:pt x="88" y="100"/>
                      </a:lnTo>
                      <a:lnTo>
                        <a:pt x="83" y="100"/>
                      </a:lnTo>
                      <a:lnTo>
                        <a:pt x="78" y="98"/>
                      </a:lnTo>
                      <a:lnTo>
                        <a:pt x="75" y="97"/>
                      </a:lnTo>
                      <a:lnTo>
                        <a:pt x="71" y="97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1" y="97"/>
                      </a:lnTo>
                      <a:lnTo>
                        <a:pt x="57" y="97"/>
                      </a:lnTo>
                      <a:lnTo>
                        <a:pt x="53" y="97"/>
                      </a:lnTo>
                      <a:lnTo>
                        <a:pt x="50" y="96"/>
                      </a:lnTo>
                      <a:lnTo>
                        <a:pt x="46" y="96"/>
                      </a:lnTo>
                      <a:lnTo>
                        <a:pt x="44" y="96"/>
                      </a:lnTo>
                      <a:lnTo>
                        <a:pt x="40" y="95"/>
                      </a:lnTo>
                      <a:lnTo>
                        <a:pt x="38" y="94"/>
                      </a:lnTo>
                      <a:lnTo>
                        <a:pt x="34" y="94"/>
                      </a:lnTo>
                      <a:lnTo>
                        <a:pt x="33" y="94"/>
                      </a:lnTo>
                      <a:lnTo>
                        <a:pt x="30" y="94"/>
                      </a:lnTo>
                      <a:lnTo>
                        <a:pt x="26" y="94"/>
                      </a:lnTo>
                      <a:lnTo>
                        <a:pt x="24" y="94"/>
                      </a:lnTo>
                      <a:lnTo>
                        <a:pt x="23" y="94"/>
                      </a:lnTo>
                      <a:lnTo>
                        <a:pt x="18" y="91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7" y="91"/>
                      </a:lnTo>
                      <a:lnTo>
                        <a:pt x="5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Freeform 68"/>
                <p:cNvSpPr/>
                <p:nvPr/>
              </p:nvSpPr>
              <p:spPr>
                <a:xfrm>
                  <a:off x="7377120" y="2133720"/>
                  <a:ext cx="18720" cy="493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6" h="91">
                      <a:moveTo>
                        <a:pt x="36" y="91"/>
                      </a:moveTo>
                      <a:lnTo>
                        <a:pt x="33" y="91"/>
                      </a:lnTo>
                      <a:lnTo>
                        <a:pt x="29" y="91"/>
                      </a:lnTo>
                      <a:lnTo>
                        <a:pt x="27" y="89"/>
                      </a:lnTo>
                      <a:lnTo>
                        <a:pt x="23" y="89"/>
                      </a:lnTo>
                      <a:lnTo>
                        <a:pt x="17" y="88"/>
                      </a:lnTo>
                      <a:lnTo>
                        <a:pt x="15" y="87"/>
                      </a:lnTo>
                      <a:lnTo>
                        <a:pt x="10" y="85"/>
                      </a:lnTo>
                      <a:lnTo>
                        <a:pt x="8" y="83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5"/>
                      </a:lnTo>
                      <a:lnTo>
                        <a:pt x="6" y="51"/>
                      </a:lnTo>
                      <a:lnTo>
                        <a:pt x="7" y="48"/>
                      </a:lnTo>
                      <a:lnTo>
                        <a:pt x="9" y="45"/>
                      </a:lnTo>
                      <a:lnTo>
                        <a:pt x="11" y="41"/>
                      </a:lnTo>
                      <a:lnTo>
                        <a:pt x="13" y="37"/>
                      </a:lnTo>
                      <a:lnTo>
                        <a:pt x="15" y="34"/>
                      </a:lnTo>
                      <a:lnTo>
                        <a:pt x="19" y="30"/>
                      </a:lnTo>
                      <a:lnTo>
                        <a:pt x="20" y="26"/>
                      </a:lnTo>
                      <a:lnTo>
                        <a:pt x="23" y="23"/>
                      </a:lnTo>
                      <a:lnTo>
                        <a:pt x="26" y="19"/>
                      </a:lnTo>
                      <a:lnTo>
                        <a:pt x="28" y="15"/>
                      </a:lnTo>
                      <a:lnTo>
                        <a:pt x="30" y="12"/>
                      </a:lnTo>
                      <a:lnTo>
                        <a:pt x="32" y="7"/>
                      </a:lnTo>
                      <a:lnTo>
                        <a:pt x="33" y="4"/>
                      </a:lnTo>
                      <a:lnTo>
                        <a:pt x="35" y="0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5" y="10"/>
                      </a:lnTo>
                      <a:lnTo>
                        <a:pt x="35" y="12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5" y="20"/>
                      </a:lnTo>
                      <a:lnTo>
                        <a:pt x="35" y="23"/>
                      </a:lnTo>
                      <a:lnTo>
                        <a:pt x="35" y="26"/>
                      </a:lnTo>
                      <a:lnTo>
                        <a:pt x="35" y="30"/>
                      </a:lnTo>
                      <a:lnTo>
                        <a:pt x="35" y="32"/>
                      </a:lnTo>
                      <a:lnTo>
                        <a:pt x="35" y="35"/>
                      </a:lnTo>
                      <a:lnTo>
                        <a:pt x="35" y="37"/>
                      </a:lnTo>
                      <a:lnTo>
                        <a:pt x="35" y="41"/>
                      </a:lnTo>
                      <a:lnTo>
                        <a:pt x="35" y="43"/>
                      </a:lnTo>
                      <a:lnTo>
                        <a:pt x="35" y="47"/>
                      </a:lnTo>
                      <a:lnTo>
                        <a:pt x="35" y="49"/>
                      </a:lnTo>
                      <a:lnTo>
                        <a:pt x="35" y="53"/>
                      </a:lnTo>
                      <a:lnTo>
                        <a:pt x="35" y="55"/>
                      </a:lnTo>
                      <a:lnTo>
                        <a:pt x="35" y="57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7"/>
                      </a:lnTo>
                      <a:lnTo>
                        <a:pt x="35" y="69"/>
                      </a:lnTo>
                      <a:lnTo>
                        <a:pt x="35" y="72"/>
                      </a:lnTo>
                      <a:lnTo>
                        <a:pt x="35" y="75"/>
                      </a:lnTo>
                      <a:lnTo>
                        <a:pt x="35" y="77"/>
                      </a:lnTo>
                      <a:lnTo>
                        <a:pt x="35" y="80"/>
                      </a:lnTo>
                      <a:lnTo>
                        <a:pt x="35" y="82"/>
                      </a:lnTo>
                      <a:lnTo>
                        <a:pt x="35" y="86"/>
                      </a:lnTo>
                      <a:lnTo>
                        <a:pt x="35" y="88"/>
                      </a:lnTo>
                      <a:lnTo>
                        <a:pt x="36" y="9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Freeform 69"/>
                <p:cNvSpPr/>
                <p:nvPr/>
              </p:nvSpPr>
              <p:spPr>
                <a:xfrm>
                  <a:off x="7348320" y="2005200"/>
                  <a:ext cx="353880" cy="28116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667" h="531">
                      <a:moveTo>
                        <a:pt x="22" y="4"/>
                      </a:moveTo>
                      <a:lnTo>
                        <a:pt x="105" y="26"/>
                      </a:lnTo>
                      <a:lnTo>
                        <a:pt x="105" y="27"/>
                      </a:lnTo>
                      <a:lnTo>
                        <a:pt x="105" y="29"/>
                      </a:lnTo>
                      <a:lnTo>
                        <a:pt x="104" y="30"/>
                      </a:lnTo>
                      <a:lnTo>
                        <a:pt x="104" y="33"/>
                      </a:lnTo>
                      <a:lnTo>
                        <a:pt x="104" y="35"/>
                      </a:lnTo>
                      <a:lnTo>
                        <a:pt x="104" y="38"/>
                      </a:lnTo>
                      <a:lnTo>
                        <a:pt x="104" y="41"/>
                      </a:lnTo>
                      <a:lnTo>
                        <a:pt x="104" y="45"/>
                      </a:lnTo>
                      <a:lnTo>
                        <a:pt x="102" y="48"/>
                      </a:lnTo>
                      <a:lnTo>
                        <a:pt x="101" y="53"/>
                      </a:lnTo>
                      <a:lnTo>
                        <a:pt x="101" y="54"/>
                      </a:lnTo>
                      <a:lnTo>
                        <a:pt x="101" y="57"/>
                      </a:lnTo>
                      <a:lnTo>
                        <a:pt x="101" y="59"/>
                      </a:lnTo>
                      <a:lnTo>
                        <a:pt x="101" y="62"/>
                      </a:lnTo>
                      <a:lnTo>
                        <a:pt x="101" y="65"/>
                      </a:lnTo>
                      <a:lnTo>
                        <a:pt x="101" y="67"/>
                      </a:lnTo>
                      <a:lnTo>
                        <a:pt x="101" y="71"/>
                      </a:lnTo>
                      <a:lnTo>
                        <a:pt x="101" y="73"/>
                      </a:lnTo>
                      <a:lnTo>
                        <a:pt x="100" y="76"/>
                      </a:lnTo>
                      <a:lnTo>
                        <a:pt x="99" y="79"/>
                      </a:lnTo>
                      <a:lnTo>
                        <a:pt x="99" y="81"/>
                      </a:lnTo>
                      <a:lnTo>
                        <a:pt x="99" y="85"/>
                      </a:lnTo>
                      <a:lnTo>
                        <a:pt x="99" y="87"/>
                      </a:lnTo>
                      <a:lnTo>
                        <a:pt x="99" y="90"/>
                      </a:lnTo>
                      <a:lnTo>
                        <a:pt x="99" y="95"/>
                      </a:lnTo>
                      <a:lnTo>
                        <a:pt x="99" y="97"/>
                      </a:lnTo>
                      <a:lnTo>
                        <a:pt x="98" y="100"/>
                      </a:lnTo>
                      <a:lnTo>
                        <a:pt x="97" y="105"/>
                      </a:lnTo>
                      <a:lnTo>
                        <a:pt x="97" y="108"/>
                      </a:lnTo>
                      <a:lnTo>
                        <a:pt x="97" y="112"/>
                      </a:lnTo>
                      <a:lnTo>
                        <a:pt x="97" y="115"/>
                      </a:lnTo>
                      <a:lnTo>
                        <a:pt x="97" y="119"/>
                      </a:lnTo>
                      <a:lnTo>
                        <a:pt x="97" y="123"/>
                      </a:lnTo>
                      <a:lnTo>
                        <a:pt x="97" y="128"/>
                      </a:lnTo>
                      <a:lnTo>
                        <a:pt x="95" y="131"/>
                      </a:lnTo>
                      <a:lnTo>
                        <a:pt x="94" y="135"/>
                      </a:lnTo>
                      <a:lnTo>
                        <a:pt x="94" y="138"/>
                      </a:lnTo>
                      <a:lnTo>
                        <a:pt x="94" y="143"/>
                      </a:lnTo>
                      <a:lnTo>
                        <a:pt x="94" y="148"/>
                      </a:lnTo>
                      <a:lnTo>
                        <a:pt x="94" y="152"/>
                      </a:lnTo>
                      <a:lnTo>
                        <a:pt x="93" y="156"/>
                      </a:lnTo>
                      <a:lnTo>
                        <a:pt x="93" y="161"/>
                      </a:lnTo>
                      <a:lnTo>
                        <a:pt x="92" y="165"/>
                      </a:lnTo>
                      <a:lnTo>
                        <a:pt x="92" y="169"/>
                      </a:lnTo>
                      <a:lnTo>
                        <a:pt x="91" y="173"/>
                      </a:lnTo>
                      <a:lnTo>
                        <a:pt x="91" y="179"/>
                      </a:lnTo>
                      <a:lnTo>
                        <a:pt x="91" y="182"/>
                      </a:lnTo>
                      <a:lnTo>
                        <a:pt x="91" y="187"/>
                      </a:lnTo>
                      <a:lnTo>
                        <a:pt x="91" y="192"/>
                      </a:lnTo>
                      <a:lnTo>
                        <a:pt x="91" y="198"/>
                      </a:lnTo>
                      <a:lnTo>
                        <a:pt x="89" y="201"/>
                      </a:lnTo>
                      <a:lnTo>
                        <a:pt x="89" y="207"/>
                      </a:lnTo>
                      <a:lnTo>
                        <a:pt x="89" y="211"/>
                      </a:lnTo>
                      <a:lnTo>
                        <a:pt x="89" y="217"/>
                      </a:lnTo>
                      <a:lnTo>
                        <a:pt x="88" y="214"/>
                      </a:lnTo>
                      <a:lnTo>
                        <a:pt x="86" y="211"/>
                      </a:lnTo>
                      <a:lnTo>
                        <a:pt x="83" y="207"/>
                      </a:lnTo>
                      <a:lnTo>
                        <a:pt x="80" y="205"/>
                      </a:lnTo>
                      <a:lnTo>
                        <a:pt x="76" y="201"/>
                      </a:lnTo>
                      <a:lnTo>
                        <a:pt x="70" y="199"/>
                      </a:lnTo>
                      <a:lnTo>
                        <a:pt x="68" y="198"/>
                      </a:lnTo>
                      <a:lnTo>
                        <a:pt x="66" y="197"/>
                      </a:lnTo>
                      <a:lnTo>
                        <a:pt x="63" y="197"/>
                      </a:lnTo>
                      <a:lnTo>
                        <a:pt x="61" y="195"/>
                      </a:lnTo>
                      <a:lnTo>
                        <a:pt x="60" y="197"/>
                      </a:lnTo>
                      <a:lnTo>
                        <a:pt x="59" y="199"/>
                      </a:lnTo>
                      <a:lnTo>
                        <a:pt x="59" y="201"/>
                      </a:lnTo>
                      <a:lnTo>
                        <a:pt x="57" y="206"/>
                      </a:lnTo>
                      <a:lnTo>
                        <a:pt x="56" y="208"/>
                      </a:lnTo>
                      <a:lnTo>
                        <a:pt x="55" y="213"/>
                      </a:lnTo>
                      <a:lnTo>
                        <a:pt x="54" y="218"/>
                      </a:lnTo>
                      <a:lnTo>
                        <a:pt x="54" y="222"/>
                      </a:lnTo>
                      <a:lnTo>
                        <a:pt x="53" y="226"/>
                      </a:lnTo>
                      <a:lnTo>
                        <a:pt x="53" y="231"/>
                      </a:lnTo>
                      <a:lnTo>
                        <a:pt x="53" y="235"/>
                      </a:lnTo>
                      <a:lnTo>
                        <a:pt x="53" y="239"/>
                      </a:lnTo>
                      <a:lnTo>
                        <a:pt x="53" y="243"/>
                      </a:lnTo>
                      <a:lnTo>
                        <a:pt x="53" y="246"/>
                      </a:lnTo>
                      <a:lnTo>
                        <a:pt x="54" y="250"/>
                      </a:lnTo>
                      <a:lnTo>
                        <a:pt x="56" y="254"/>
                      </a:lnTo>
                      <a:lnTo>
                        <a:pt x="51" y="255"/>
                      </a:lnTo>
                      <a:lnTo>
                        <a:pt x="48" y="257"/>
                      </a:lnTo>
                      <a:lnTo>
                        <a:pt x="44" y="257"/>
                      </a:lnTo>
                      <a:lnTo>
                        <a:pt x="41" y="260"/>
                      </a:lnTo>
                      <a:lnTo>
                        <a:pt x="38" y="262"/>
                      </a:lnTo>
                      <a:lnTo>
                        <a:pt x="35" y="263"/>
                      </a:lnTo>
                      <a:lnTo>
                        <a:pt x="32" y="264"/>
                      </a:lnTo>
                      <a:lnTo>
                        <a:pt x="30" y="267"/>
                      </a:lnTo>
                      <a:lnTo>
                        <a:pt x="25" y="271"/>
                      </a:lnTo>
                      <a:lnTo>
                        <a:pt x="22" y="275"/>
                      </a:lnTo>
                      <a:lnTo>
                        <a:pt x="19" y="280"/>
                      </a:lnTo>
                      <a:lnTo>
                        <a:pt x="17" y="284"/>
                      </a:lnTo>
                      <a:lnTo>
                        <a:pt x="15" y="289"/>
                      </a:lnTo>
                      <a:lnTo>
                        <a:pt x="13" y="294"/>
                      </a:lnTo>
                      <a:lnTo>
                        <a:pt x="12" y="299"/>
                      </a:lnTo>
                      <a:lnTo>
                        <a:pt x="12" y="303"/>
                      </a:lnTo>
                      <a:lnTo>
                        <a:pt x="12" y="306"/>
                      </a:lnTo>
                      <a:lnTo>
                        <a:pt x="12" y="308"/>
                      </a:lnTo>
                      <a:lnTo>
                        <a:pt x="12" y="312"/>
                      </a:lnTo>
                      <a:lnTo>
                        <a:pt x="13" y="314"/>
                      </a:lnTo>
                      <a:lnTo>
                        <a:pt x="13" y="317"/>
                      </a:lnTo>
                      <a:lnTo>
                        <a:pt x="15" y="319"/>
                      </a:lnTo>
                      <a:lnTo>
                        <a:pt x="15" y="322"/>
                      </a:lnTo>
                      <a:lnTo>
                        <a:pt x="17" y="325"/>
                      </a:lnTo>
                      <a:lnTo>
                        <a:pt x="18" y="330"/>
                      </a:lnTo>
                      <a:lnTo>
                        <a:pt x="21" y="336"/>
                      </a:lnTo>
                      <a:lnTo>
                        <a:pt x="21" y="338"/>
                      </a:lnTo>
                      <a:lnTo>
                        <a:pt x="23" y="340"/>
                      </a:lnTo>
                      <a:lnTo>
                        <a:pt x="24" y="343"/>
                      </a:lnTo>
                      <a:lnTo>
                        <a:pt x="25" y="345"/>
                      </a:lnTo>
                      <a:lnTo>
                        <a:pt x="28" y="351"/>
                      </a:lnTo>
                      <a:lnTo>
                        <a:pt x="31" y="356"/>
                      </a:lnTo>
                      <a:lnTo>
                        <a:pt x="32" y="358"/>
                      </a:lnTo>
                      <a:lnTo>
                        <a:pt x="35" y="360"/>
                      </a:lnTo>
                      <a:lnTo>
                        <a:pt x="36" y="364"/>
                      </a:lnTo>
                      <a:lnTo>
                        <a:pt x="38" y="368"/>
                      </a:lnTo>
                      <a:lnTo>
                        <a:pt x="42" y="372"/>
                      </a:lnTo>
                      <a:lnTo>
                        <a:pt x="45" y="376"/>
                      </a:lnTo>
                      <a:lnTo>
                        <a:pt x="49" y="381"/>
                      </a:lnTo>
                      <a:lnTo>
                        <a:pt x="53" y="387"/>
                      </a:lnTo>
                      <a:lnTo>
                        <a:pt x="56" y="391"/>
                      </a:lnTo>
                      <a:lnTo>
                        <a:pt x="60" y="396"/>
                      </a:lnTo>
                      <a:lnTo>
                        <a:pt x="63" y="400"/>
                      </a:lnTo>
                      <a:lnTo>
                        <a:pt x="67" y="404"/>
                      </a:lnTo>
                      <a:lnTo>
                        <a:pt x="68" y="401"/>
                      </a:lnTo>
                      <a:lnTo>
                        <a:pt x="70" y="396"/>
                      </a:lnTo>
                      <a:lnTo>
                        <a:pt x="73" y="394"/>
                      </a:lnTo>
                      <a:lnTo>
                        <a:pt x="74" y="391"/>
                      </a:lnTo>
                      <a:lnTo>
                        <a:pt x="76" y="388"/>
                      </a:lnTo>
                      <a:lnTo>
                        <a:pt x="78" y="384"/>
                      </a:lnTo>
                      <a:lnTo>
                        <a:pt x="79" y="381"/>
                      </a:lnTo>
                      <a:lnTo>
                        <a:pt x="81" y="378"/>
                      </a:lnTo>
                      <a:lnTo>
                        <a:pt x="81" y="374"/>
                      </a:lnTo>
                      <a:lnTo>
                        <a:pt x="83" y="371"/>
                      </a:lnTo>
                      <a:lnTo>
                        <a:pt x="86" y="366"/>
                      </a:lnTo>
                      <a:lnTo>
                        <a:pt x="87" y="363"/>
                      </a:lnTo>
                      <a:lnTo>
                        <a:pt x="88" y="358"/>
                      </a:lnTo>
                      <a:lnTo>
                        <a:pt x="91" y="356"/>
                      </a:lnTo>
                      <a:lnTo>
                        <a:pt x="91" y="359"/>
                      </a:lnTo>
                      <a:lnTo>
                        <a:pt x="91" y="363"/>
                      </a:lnTo>
                      <a:lnTo>
                        <a:pt x="91" y="366"/>
                      </a:lnTo>
                      <a:lnTo>
                        <a:pt x="91" y="370"/>
                      </a:lnTo>
                      <a:lnTo>
                        <a:pt x="91" y="374"/>
                      </a:lnTo>
                      <a:lnTo>
                        <a:pt x="91" y="376"/>
                      </a:lnTo>
                      <a:lnTo>
                        <a:pt x="92" y="379"/>
                      </a:lnTo>
                      <a:lnTo>
                        <a:pt x="92" y="383"/>
                      </a:lnTo>
                      <a:lnTo>
                        <a:pt x="92" y="387"/>
                      </a:lnTo>
                      <a:lnTo>
                        <a:pt x="93" y="389"/>
                      </a:lnTo>
                      <a:lnTo>
                        <a:pt x="94" y="391"/>
                      </a:lnTo>
                      <a:lnTo>
                        <a:pt x="94" y="396"/>
                      </a:lnTo>
                      <a:lnTo>
                        <a:pt x="94" y="398"/>
                      </a:lnTo>
                      <a:lnTo>
                        <a:pt x="94" y="401"/>
                      </a:lnTo>
                      <a:lnTo>
                        <a:pt x="94" y="404"/>
                      </a:lnTo>
                      <a:lnTo>
                        <a:pt x="95" y="407"/>
                      </a:lnTo>
                      <a:lnTo>
                        <a:pt x="92" y="408"/>
                      </a:lnTo>
                      <a:lnTo>
                        <a:pt x="88" y="409"/>
                      </a:lnTo>
                      <a:lnTo>
                        <a:pt x="83" y="411"/>
                      </a:lnTo>
                      <a:lnTo>
                        <a:pt x="81" y="414"/>
                      </a:lnTo>
                      <a:lnTo>
                        <a:pt x="76" y="416"/>
                      </a:lnTo>
                      <a:lnTo>
                        <a:pt x="70" y="419"/>
                      </a:lnTo>
                      <a:lnTo>
                        <a:pt x="66" y="421"/>
                      </a:lnTo>
                      <a:lnTo>
                        <a:pt x="62" y="425"/>
                      </a:lnTo>
                      <a:lnTo>
                        <a:pt x="57" y="427"/>
                      </a:lnTo>
                      <a:lnTo>
                        <a:pt x="53" y="429"/>
                      </a:lnTo>
                      <a:lnTo>
                        <a:pt x="48" y="432"/>
                      </a:lnTo>
                      <a:lnTo>
                        <a:pt x="44" y="435"/>
                      </a:lnTo>
                      <a:lnTo>
                        <a:pt x="40" y="438"/>
                      </a:lnTo>
                      <a:lnTo>
                        <a:pt x="37" y="440"/>
                      </a:lnTo>
                      <a:lnTo>
                        <a:pt x="34" y="442"/>
                      </a:lnTo>
                      <a:lnTo>
                        <a:pt x="32" y="445"/>
                      </a:lnTo>
                      <a:lnTo>
                        <a:pt x="36" y="445"/>
                      </a:lnTo>
                      <a:lnTo>
                        <a:pt x="41" y="445"/>
                      </a:lnTo>
                      <a:lnTo>
                        <a:pt x="44" y="445"/>
                      </a:lnTo>
                      <a:lnTo>
                        <a:pt x="48" y="445"/>
                      </a:lnTo>
                      <a:lnTo>
                        <a:pt x="53" y="445"/>
                      </a:lnTo>
                      <a:lnTo>
                        <a:pt x="56" y="445"/>
                      </a:lnTo>
                      <a:lnTo>
                        <a:pt x="61" y="445"/>
                      </a:lnTo>
                      <a:lnTo>
                        <a:pt x="66" y="445"/>
                      </a:lnTo>
                      <a:lnTo>
                        <a:pt x="66" y="447"/>
                      </a:lnTo>
                      <a:lnTo>
                        <a:pt x="68" y="449"/>
                      </a:lnTo>
                      <a:lnTo>
                        <a:pt x="69" y="452"/>
                      </a:lnTo>
                      <a:lnTo>
                        <a:pt x="70" y="454"/>
                      </a:lnTo>
                      <a:lnTo>
                        <a:pt x="74" y="457"/>
                      </a:lnTo>
                      <a:lnTo>
                        <a:pt x="78" y="460"/>
                      </a:lnTo>
                      <a:lnTo>
                        <a:pt x="81" y="461"/>
                      </a:lnTo>
                      <a:lnTo>
                        <a:pt x="85" y="463"/>
                      </a:lnTo>
                      <a:lnTo>
                        <a:pt x="88" y="463"/>
                      </a:lnTo>
                      <a:lnTo>
                        <a:pt x="92" y="463"/>
                      </a:lnTo>
                      <a:lnTo>
                        <a:pt x="94" y="461"/>
                      </a:lnTo>
                      <a:lnTo>
                        <a:pt x="99" y="459"/>
                      </a:lnTo>
                      <a:lnTo>
                        <a:pt x="101" y="458"/>
                      </a:lnTo>
                      <a:lnTo>
                        <a:pt x="104" y="455"/>
                      </a:lnTo>
                      <a:lnTo>
                        <a:pt x="107" y="452"/>
                      </a:lnTo>
                      <a:lnTo>
                        <a:pt x="110" y="449"/>
                      </a:lnTo>
                      <a:lnTo>
                        <a:pt x="112" y="446"/>
                      </a:lnTo>
                      <a:lnTo>
                        <a:pt x="114" y="442"/>
                      </a:lnTo>
                      <a:lnTo>
                        <a:pt x="117" y="442"/>
                      </a:lnTo>
                      <a:lnTo>
                        <a:pt x="121" y="444"/>
                      </a:lnTo>
                      <a:lnTo>
                        <a:pt x="125" y="445"/>
                      </a:lnTo>
                      <a:lnTo>
                        <a:pt x="130" y="446"/>
                      </a:lnTo>
                      <a:lnTo>
                        <a:pt x="133" y="446"/>
                      </a:lnTo>
                      <a:lnTo>
                        <a:pt x="138" y="446"/>
                      </a:lnTo>
                      <a:lnTo>
                        <a:pt x="142" y="446"/>
                      </a:lnTo>
                      <a:lnTo>
                        <a:pt x="146" y="447"/>
                      </a:lnTo>
                      <a:lnTo>
                        <a:pt x="149" y="446"/>
                      </a:lnTo>
                      <a:lnTo>
                        <a:pt x="152" y="446"/>
                      </a:lnTo>
                      <a:lnTo>
                        <a:pt x="156" y="446"/>
                      </a:lnTo>
                      <a:lnTo>
                        <a:pt x="158" y="446"/>
                      </a:lnTo>
                      <a:lnTo>
                        <a:pt x="162" y="446"/>
                      </a:lnTo>
                      <a:lnTo>
                        <a:pt x="164" y="446"/>
                      </a:lnTo>
                      <a:lnTo>
                        <a:pt x="175" y="446"/>
                      </a:lnTo>
                      <a:lnTo>
                        <a:pt x="184" y="447"/>
                      </a:lnTo>
                      <a:lnTo>
                        <a:pt x="195" y="447"/>
                      </a:lnTo>
                      <a:lnTo>
                        <a:pt x="204" y="447"/>
                      </a:lnTo>
                      <a:lnTo>
                        <a:pt x="215" y="447"/>
                      </a:lnTo>
                      <a:lnTo>
                        <a:pt x="225" y="447"/>
                      </a:lnTo>
                      <a:lnTo>
                        <a:pt x="235" y="447"/>
                      </a:lnTo>
                      <a:lnTo>
                        <a:pt x="246" y="447"/>
                      </a:lnTo>
                      <a:lnTo>
                        <a:pt x="255" y="447"/>
                      </a:lnTo>
                      <a:lnTo>
                        <a:pt x="265" y="447"/>
                      </a:lnTo>
                      <a:lnTo>
                        <a:pt x="274" y="447"/>
                      </a:lnTo>
                      <a:lnTo>
                        <a:pt x="285" y="447"/>
                      </a:lnTo>
                      <a:lnTo>
                        <a:pt x="293" y="447"/>
                      </a:lnTo>
                      <a:lnTo>
                        <a:pt x="304" y="447"/>
                      </a:lnTo>
                      <a:lnTo>
                        <a:pt x="314" y="447"/>
                      </a:lnTo>
                      <a:lnTo>
                        <a:pt x="323" y="447"/>
                      </a:lnTo>
                      <a:lnTo>
                        <a:pt x="331" y="447"/>
                      </a:lnTo>
                      <a:lnTo>
                        <a:pt x="341" y="446"/>
                      </a:lnTo>
                      <a:lnTo>
                        <a:pt x="349" y="446"/>
                      </a:lnTo>
                      <a:lnTo>
                        <a:pt x="359" y="446"/>
                      </a:lnTo>
                      <a:lnTo>
                        <a:pt x="367" y="445"/>
                      </a:lnTo>
                      <a:lnTo>
                        <a:pt x="377" y="445"/>
                      </a:lnTo>
                      <a:lnTo>
                        <a:pt x="385" y="445"/>
                      </a:lnTo>
                      <a:lnTo>
                        <a:pt x="393" y="445"/>
                      </a:lnTo>
                      <a:lnTo>
                        <a:pt x="401" y="445"/>
                      </a:lnTo>
                      <a:lnTo>
                        <a:pt x="410" y="444"/>
                      </a:lnTo>
                      <a:lnTo>
                        <a:pt x="417" y="444"/>
                      </a:lnTo>
                      <a:lnTo>
                        <a:pt x="425" y="444"/>
                      </a:lnTo>
                      <a:lnTo>
                        <a:pt x="432" y="442"/>
                      </a:lnTo>
                      <a:lnTo>
                        <a:pt x="441" y="442"/>
                      </a:lnTo>
                      <a:lnTo>
                        <a:pt x="448" y="442"/>
                      </a:lnTo>
                      <a:lnTo>
                        <a:pt x="455" y="442"/>
                      </a:lnTo>
                      <a:lnTo>
                        <a:pt x="462" y="441"/>
                      </a:lnTo>
                      <a:lnTo>
                        <a:pt x="468" y="441"/>
                      </a:lnTo>
                      <a:lnTo>
                        <a:pt x="475" y="440"/>
                      </a:lnTo>
                      <a:lnTo>
                        <a:pt x="482" y="440"/>
                      </a:lnTo>
                      <a:lnTo>
                        <a:pt x="488" y="439"/>
                      </a:lnTo>
                      <a:lnTo>
                        <a:pt x="494" y="439"/>
                      </a:lnTo>
                      <a:lnTo>
                        <a:pt x="500" y="439"/>
                      </a:lnTo>
                      <a:lnTo>
                        <a:pt x="506" y="439"/>
                      </a:lnTo>
                      <a:lnTo>
                        <a:pt x="512" y="438"/>
                      </a:lnTo>
                      <a:lnTo>
                        <a:pt x="517" y="438"/>
                      </a:lnTo>
                      <a:lnTo>
                        <a:pt x="521" y="436"/>
                      </a:lnTo>
                      <a:lnTo>
                        <a:pt x="526" y="436"/>
                      </a:lnTo>
                      <a:lnTo>
                        <a:pt x="532" y="436"/>
                      </a:lnTo>
                      <a:lnTo>
                        <a:pt x="537" y="436"/>
                      </a:lnTo>
                      <a:lnTo>
                        <a:pt x="540" y="435"/>
                      </a:lnTo>
                      <a:lnTo>
                        <a:pt x="545" y="435"/>
                      </a:lnTo>
                      <a:lnTo>
                        <a:pt x="549" y="435"/>
                      </a:lnTo>
                      <a:lnTo>
                        <a:pt x="552" y="434"/>
                      </a:lnTo>
                      <a:lnTo>
                        <a:pt x="556" y="434"/>
                      </a:lnTo>
                      <a:lnTo>
                        <a:pt x="559" y="434"/>
                      </a:lnTo>
                      <a:lnTo>
                        <a:pt x="562" y="434"/>
                      </a:lnTo>
                      <a:lnTo>
                        <a:pt x="564" y="433"/>
                      </a:lnTo>
                      <a:lnTo>
                        <a:pt x="566" y="433"/>
                      </a:lnTo>
                      <a:lnTo>
                        <a:pt x="570" y="433"/>
                      </a:lnTo>
                      <a:lnTo>
                        <a:pt x="572" y="433"/>
                      </a:lnTo>
                      <a:lnTo>
                        <a:pt x="576" y="433"/>
                      </a:lnTo>
                      <a:lnTo>
                        <a:pt x="577" y="433"/>
                      </a:lnTo>
                      <a:lnTo>
                        <a:pt x="578" y="433"/>
                      </a:lnTo>
                      <a:lnTo>
                        <a:pt x="578" y="432"/>
                      </a:lnTo>
                      <a:lnTo>
                        <a:pt x="578" y="428"/>
                      </a:lnTo>
                      <a:lnTo>
                        <a:pt x="578" y="425"/>
                      </a:lnTo>
                      <a:lnTo>
                        <a:pt x="578" y="422"/>
                      </a:lnTo>
                      <a:lnTo>
                        <a:pt x="578" y="419"/>
                      </a:lnTo>
                      <a:lnTo>
                        <a:pt x="578" y="415"/>
                      </a:lnTo>
                      <a:lnTo>
                        <a:pt x="578" y="410"/>
                      </a:lnTo>
                      <a:lnTo>
                        <a:pt x="578" y="406"/>
                      </a:lnTo>
                      <a:lnTo>
                        <a:pt x="578" y="402"/>
                      </a:lnTo>
                      <a:lnTo>
                        <a:pt x="578" y="400"/>
                      </a:lnTo>
                      <a:lnTo>
                        <a:pt x="578" y="397"/>
                      </a:lnTo>
                      <a:lnTo>
                        <a:pt x="578" y="395"/>
                      </a:lnTo>
                      <a:lnTo>
                        <a:pt x="578" y="391"/>
                      </a:lnTo>
                      <a:lnTo>
                        <a:pt x="578" y="389"/>
                      </a:lnTo>
                      <a:lnTo>
                        <a:pt x="578" y="385"/>
                      </a:lnTo>
                      <a:lnTo>
                        <a:pt x="578" y="383"/>
                      </a:lnTo>
                      <a:lnTo>
                        <a:pt x="578" y="378"/>
                      </a:lnTo>
                      <a:lnTo>
                        <a:pt x="578" y="376"/>
                      </a:lnTo>
                      <a:lnTo>
                        <a:pt x="578" y="372"/>
                      </a:lnTo>
                      <a:lnTo>
                        <a:pt x="579" y="369"/>
                      </a:lnTo>
                      <a:lnTo>
                        <a:pt x="578" y="364"/>
                      </a:lnTo>
                      <a:lnTo>
                        <a:pt x="578" y="360"/>
                      </a:lnTo>
                      <a:lnTo>
                        <a:pt x="578" y="357"/>
                      </a:lnTo>
                      <a:lnTo>
                        <a:pt x="578" y="353"/>
                      </a:lnTo>
                      <a:lnTo>
                        <a:pt x="578" y="349"/>
                      </a:lnTo>
                      <a:lnTo>
                        <a:pt x="578" y="344"/>
                      </a:lnTo>
                      <a:lnTo>
                        <a:pt x="578" y="340"/>
                      </a:lnTo>
                      <a:lnTo>
                        <a:pt x="578" y="336"/>
                      </a:lnTo>
                      <a:lnTo>
                        <a:pt x="578" y="331"/>
                      </a:lnTo>
                      <a:lnTo>
                        <a:pt x="578" y="327"/>
                      </a:lnTo>
                      <a:lnTo>
                        <a:pt x="578" y="322"/>
                      </a:lnTo>
                      <a:lnTo>
                        <a:pt x="578" y="318"/>
                      </a:lnTo>
                      <a:lnTo>
                        <a:pt x="578" y="313"/>
                      </a:lnTo>
                      <a:lnTo>
                        <a:pt x="578" y="308"/>
                      </a:lnTo>
                      <a:lnTo>
                        <a:pt x="578" y="303"/>
                      </a:lnTo>
                      <a:lnTo>
                        <a:pt x="578" y="300"/>
                      </a:lnTo>
                      <a:lnTo>
                        <a:pt x="578" y="294"/>
                      </a:lnTo>
                      <a:lnTo>
                        <a:pt x="578" y="290"/>
                      </a:lnTo>
                      <a:lnTo>
                        <a:pt x="578" y="284"/>
                      </a:lnTo>
                      <a:lnTo>
                        <a:pt x="578" y="280"/>
                      </a:lnTo>
                      <a:lnTo>
                        <a:pt x="578" y="275"/>
                      </a:lnTo>
                      <a:lnTo>
                        <a:pt x="578" y="269"/>
                      </a:lnTo>
                      <a:lnTo>
                        <a:pt x="578" y="264"/>
                      </a:lnTo>
                      <a:lnTo>
                        <a:pt x="578" y="260"/>
                      </a:lnTo>
                      <a:lnTo>
                        <a:pt x="578" y="254"/>
                      </a:lnTo>
                      <a:lnTo>
                        <a:pt x="578" y="249"/>
                      </a:lnTo>
                      <a:lnTo>
                        <a:pt x="578" y="243"/>
                      </a:lnTo>
                      <a:lnTo>
                        <a:pt x="578" y="237"/>
                      </a:lnTo>
                      <a:lnTo>
                        <a:pt x="578" y="232"/>
                      </a:lnTo>
                      <a:lnTo>
                        <a:pt x="578" y="226"/>
                      </a:lnTo>
                      <a:lnTo>
                        <a:pt x="578" y="222"/>
                      </a:lnTo>
                      <a:lnTo>
                        <a:pt x="578" y="217"/>
                      </a:lnTo>
                      <a:lnTo>
                        <a:pt x="578" y="211"/>
                      </a:lnTo>
                      <a:lnTo>
                        <a:pt x="578" y="205"/>
                      </a:lnTo>
                      <a:lnTo>
                        <a:pt x="577" y="200"/>
                      </a:lnTo>
                      <a:lnTo>
                        <a:pt x="577" y="195"/>
                      </a:lnTo>
                      <a:lnTo>
                        <a:pt x="577" y="190"/>
                      </a:lnTo>
                      <a:lnTo>
                        <a:pt x="577" y="185"/>
                      </a:lnTo>
                      <a:lnTo>
                        <a:pt x="577" y="180"/>
                      </a:lnTo>
                      <a:lnTo>
                        <a:pt x="577" y="176"/>
                      </a:lnTo>
                      <a:lnTo>
                        <a:pt x="576" y="171"/>
                      </a:lnTo>
                      <a:lnTo>
                        <a:pt x="576" y="166"/>
                      </a:lnTo>
                      <a:lnTo>
                        <a:pt x="575" y="162"/>
                      </a:lnTo>
                      <a:lnTo>
                        <a:pt x="575" y="159"/>
                      </a:lnTo>
                      <a:lnTo>
                        <a:pt x="575" y="154"/>
                      </a:lnTo>
                      <a:lnTo>
                        <a:pt x="575" y="150"/>
                      </a:lnTo>
                      <a:lnTo>
                        <a:pt x="575" y="146"/>
                      </a:lnTo>
                      <a:lnTo>
                        <a:pt x="575" y="143"/>
                      </a:lnTo>
                      <a:lnTo>
                        <a:pt x="573" y="138"/>
                      </a:lnTo>
                      <a:lnTo>
                        <a:pt x="573" y="135"/>
                      </a:lnTo>
                      <a:lnTo>
                        <a:pt x="572" y="131"/>
                      </a:lnTo>
                      <a:lnTo>
                        <a:pt x="572" y="128"/>
                      </a:lnTo>
                      <a:lnTo>
                        <a:pt x="571" y="125"/>
                      </a:lnTo>
                      <a:lnTo>
                        <a:pt x="571" y="122"/>
                      </a:lnTo>
                      <a:lnTo>
                        <a:pt x="570" y="118"/>
                      </a:lnTo>
                      <a:lnTo>
                        <a:pt x="570" y="116"/>
                      </a:lnTo>
                      <a:lnTo>
                        <a:pt x="570" y="112"/>
                      </a:lnTo>
                      <a:lnTo>
                        <a:pt x="570" y="110"/>
                      </a:lnTo>
                      <a:lnTo>
                        <a:pt x="569" y="108"/>
                      </a:lnTo>
                      <a:lnTo>
                        <a:pt x="569" y="105"/>
                      </a:lnTo>
                      <a:lnTo>
                        <a:pt x="568" y="100"/>
                      </a:lnTo>
                      <a:lnTo>
                        <a:pt x="566" y="95"/>
                      </a:lnTo>
                      <a:lnTo>
                        <a:pt x="565" y="90"/>
                      </a:lnTo>
                      <a:lnTo>
                        <a:pt x="565" y="87"/>
                      </a:lnTo>
                      <a:lnTo>
                        <a:pt x="564" y="83"/>
                      </a:lnTo>
                      <a:lnTo>
                        <a:pt x="563" y="79"/>
                      </a:lnTo>
                      <a:lnTo>
                        <a:pt x="562" y="77"/>
                      </a:lnTo>
                      <a:lnTo>
                        <a:pt x="562" y="74"/>
                      </a:lnTo>
                      <a:lnTo>
                        <a:pt x="560" y="71"/>
                      </a:lnTo>
                      <a:lnTo>
                        <a:pt x="560" y="70"/>
                      </a:lnTo>
                      <a:lnTo>
                        <a:pt x="559" y="66"/>
                      </a:lnTo>
                      <a:lnTo>
                        <a:pt x="558" y="64"/>
                      </a:lnTo>
                      <a:lnTo>
                        <a:pt x="557" y="62"/>
                      </a:lnTo>
                      <a:lnTo>
                        <a:pt x="626" y="0"/>
                      </a:lnTo>
                      <a:lnTo>
                        <a:pt x="628" y="3"/>
                      </a:lnTo>
                      <a:lnTo>
                        <a:pt x="633" y="8"/>
                      </a:lnTo>
                      <a:lnTo>
                        <a:pt x="634" y="10"/>
                      </a:lnTo>
                      <a:lnTo>
                        <a:pt x="635" y="13"/>
                      </a:lnTo>
                      <a:lnTo>
                        <a:pt x="638" y="16"/>
                      </a:lnTo>
                      <a:lnTo>
                        <a:pt x="640" y="19"/>
                      </a:lnTo>
                      <a:lnTo>
                        <a:pt x="640" y="21"/>
                      </a:lnTo>
                      <a:lnTo>
                        <a:pt x="642" y="24"/>
                      </a:lnTo>
                      <a:lnTo>
                        <a:pt x="643" y="28"/>
                      </a:lnTo>
                      <a:lnTo>
                        <a:pt x="646" y="32"/>
                      </a:lnTo>
                      <a:lnTo>
                        <a:pt x="646" y="34"/>
                      </a:lnTo>
                      <a:lnTo>
                        <a:pt x="648" y="39"/>
                      </a:lnTo>
                      <a:lnTo>
                        <a:pt x="648" y="41"/>
                      </a:lnTo>
                      <a:lnTo>
                        <a:pt x="651" y="46"/>
                      </a:lnTo>
                      <a:lnTo>
                        <a:pt x="651" y="49"/>
                      </a:lnTo>
                      <a:lnTo>
                        <a:pt x="652" y="53"/>
                      </a:lnTo>
                      <a:lnTo>
                        <a:pt x="653" y="58"/>
                      </a:lnTo>
                      <a:lnTo>
                        <a:pt x="653" y="62"/>
                      </a:lnTo>
                      <a:lnTo>
                        <a:pt x="654" y="66"/>
                      </a:lnTo>
                      <a:lnTo>
                        <a:pt x="655" y="71"/>
                      </a:lnTo>
                      <a:lnTo>
                        <a:pt x="655" y="74"/>
                      </a:lnTo>
                      <a:lnTo>
                        <a:pt x="657" y="79"/>
                      </a:lnTo>
                      <a:lnTo>
                        <a:pt x="658" y="83"/>
                      </a:lnTo>
                      <a:lnTo>
                        <a:pt x="658" y="87"/>
                      </a:lnTo>
                      <a:lnTo>
                        <a:pt x="658" y="92"/>
                      </a:lnTo>
                      <a:lnTo>
                        <a:pt x="659" y="97"/>
                      </a:lnTo>
                      <a:lnTo>
                        <a:pt x="660" y="100"/>
                      </a:lnTo>
                      <a:lnTo>
                        <a:pt x="660" y="105"/>
                      </a:lnTo>
                      <a:lnTo>
                        <a:pt x="660" y="110"/>
                      </a:lnTo>
                      <a:lnTo>
                        <a:pt x="661" y="115"/>
                      </a:lnTo>
                      <a:lnTo>
                        <a:pt x="661" y="121"/>
                      </a:lnTo>
                      <a:lnTo>
                        <a:pt x="662" y="124"/>
                      </a:lnTo>
                      <a:lnTo>
                        <a:pt x="662" y="129"/>
                      </a:lnTo>
                      <a:lnTo>
                        <a:pt x="662" y="134"/>
                      </a:lnTo>
                      <a:lnTo>
                        <a:pt x="662" y="138"/>
                      </a:lnTo>
                      <a:lnTo>
                        <a:pt x="664" y="142"/>
                      </a:lnTo>
                      <a:lnTo>
                        <a:pt x="664" y="147"/>
                      </a:lnTo>
                      <a:lnTo>
                        <a:pt x="664" y="152"/>
                      </a:lnTo>
                      <a:lnTo>
                        <a:pt x="664" y="156"/>
                      </a:lnTo>
                      <a:lnTo>
                        <a:pt x="664" y="161"/>
                      </a:lnTo>
                      <a:lnTo>
                        <a:pt x="664" y="165"/>
                      </a:lnTo>
                      <a:lnTo>
                        <a:pt x="664" y="169"/>
                      </a:lnTo>
                      <a:lnTo>
                        <a:pt x="664" y="173"/>
                      </a:lnTo>
                      <a:lnTo>
                        <a:pt x="664" y="178"/>
                      </a:lnTo>
                      <a:lnTo>
                        <a:pt x="664" y="182"/>
                      </a:lnTo>
                      <a:lnTo>
                        <a:pt x="665" y="186"/>
                      </a:lnTo>
                      <a:lnTo>
                        <a:pt x="665" y="191"/>
                      </a:lnTo>
                      <a:lnTo>
                        <a:pt x="665" y="193"/>
                      </a:lnTo>
                      <a:lnTo>
                        <a:pt x="665" y="198"/>
                      </a:lnTo>
                      <a:lnTo>
                        <a:pt x="665" y="201"/>
                      </a:lnTo>
                      <a:lnTo>
                        <a:pt x="665" y="205"/>
                      </a:lnTo>
                      <a:lnTo>
                        <a:pt x="665" y="208"/>
                      </a:lnTo>
                      <a:lnTo>
                        <a:pt x="665" y="212"/>
                      </a:lnTo>
                      <a:lnTo>
                        <a:pt x="665" y="217"/>
                      </a:lnTo>
                      <a:lnTo>
                        <a:pt x="665" y="219"/>
                      </a:lnTo>
                      <a:lnTo>
                        <a:pt x="665" y="222"/>
                      </a:lnTo>
                      <a:lnTo>
                        <a:pt x="665" y="224"/>
                      </a:lnTo>
                      <a:lnTo>
                        <a:pt x="666" y="229"/>
                      </a:lnTo>
                      <a:lnTo>
                        <a:pt x="666" y="231"/>
                      </a:lnTo>
                      <a:lnTo>
                        <a:pt x="666" y="233"/>
                      </a:lnTo>
                      <a:lnTo>
                        <a:pt x="666" y="236"/>
                      </a:lnTo>
                      <a:lnTo>
                        <a:pt x="666" y="239"/>
                      </a:lnTo>
                      <a:lnTo>
                        <a:pt x="666" y="241"/>
                      </a:lnTo>
                      <a:lnTo>
                        <a:pt x="666" y="243"/>
                      </a:lnTo>
                      <a:lnTo>
                        <a:pt x="666" y="246"/>
                      </a:lnTo>
                      <a:lnTo>
                        <a:pt x="666" y="249"/>
                      </a:lnTo>
                      <a:lnTo>
                        <a:pt x="666" y="252"/>
                      </a:lnTo>
                      <a:lnTo>
                        <a:pt x="666" y="256"/>
                      </a:lnTo>
                      <a:lnTo>
                        <a:pt x="666" y="260"/>
                      </a:lnTo>
                      <a:lnTo>
                        <a:pt x="666" y="264"/>
                      </a:lnTo>
                      <a:lnTo>
                        <a:pt x="666" y="267"/>
                      </a:lnTo>
                      <a:lnTo>
                        <a:pt x="666" y="273"/>
                      </a:lnTo>
                      <a:lnTo>
                        <a:pt x="666" y="276"/>
                      </a:lnTo>
                      <a:lnTo>
                        <a:pt x="666" y="281"/>
                      </a:lnTo>
                      <a:lnTo>
                        <a:pt x="666" y="284"/>
                      </a:lnTo>
                      <a:lnTo>
                        <a:pt x="666" y="290"/>
                      </a:lnTo>
                      <a:lnTo>
                        <a:pt x="666" y="295"/>
                      </a:lnTo>
                      <a:lnTo>
                        <a:pt x="667" y="301"/>
                      </a:lnTo>
                      <a:lnTo>
                        <a:pt x="666" y="306"/>
                      </a:lnTo>
                      <a:lnTo>
                        <a:pt x="666" y="311"/>
                      </a:lnTo>
                      <a:lnTo>
                        <a:pt x="666" y="317"/>
                      </a:lnTo>
                      <a:lnTo>
                        <a:pt x="666" y="322"/>
                      </a:lnTo>
                      <a:lnTo>
                        <a:pt x="666" y="328"/>
                      </a:lnTo>
                      <a:lnTo>
                        <a:pt x="666" y="334"/>
                      </a:lnTo>
                      <a:lnTo>
                        <a:pt x="666" y="340"/>
                      </a:lnTo>
                      <a:lnTo>
                        <a:pt x="666" y="345"/>
                      </a:lnTo>
                      <a:lnTo>
                        <a:pt x="666" y="351"/>
                      </a:lnTo>
                      <a:lnTo>
                        <a:pt x="666" y="357"/>
                      </a:lnTo>
                      <a:lnTo>
                        <a:pt x="666" y="363"/>
                      </a:lnTo>
                      <a:lnTo>
                        <a:pt x="666" y="370"/>
                      </a:lnTo>
                      <a:lnTo>
                        <a:pt x="666" y="376"/>
                      </a:lnTo>
                      <a:lnTo>
                        <a:pt x="666" y="381"/>
                      </a:lnTo>
                      <a:lnTo>
                        <a:pt x="666" y="387"/>
                      </a:lnTo>
                      <a:lnTo>
                        <a:pt x="666" y="394"/>
                      </a:lnTo>
                      <a:lnTo>
                        <a:pt x="665" y="398"/>
                      </a:lnTo>
                      <a:lnTo>
                        <a:pt x="665" y="404"/>
                      </a:lnTo>
                      <a:lnTo>
                        <a:pt x="665" y="411"/>
                      </a:lnTo>
                      <a:lnTo>
                        <a:pt x="665" y="416"/>
                      </a:lnTo>
                      <a:lnTo>
                        <a:pt x="665" y="421"/>
                      </a:lnTo>
                      <a:lnTo>
                        <a:pt x="665" y="427"/>
                      </a:lnTo>
                      <a:lnTo>
                        <a:pt x="665" y="433"/>
                      </a:lnTo>
                      <a:lnTo>
                        <a:pt x="665" y="439"/>
                      </a:lnTo>
                      <a:lnTo>
                        <a:pt x="664" y="444"/>
                      </a:lnTo>
                      <a:lnTo>
                        <a:pt x="664" y="448"/>
                      </a:lnTo>
                      <a:lnTo>
                        <a:pt x="664" y="453"/>
                      </a:lnTo>
                      <a:lnTo>
                        <a:pt x="664" y="459"/>
                      </a:lnTo>
                      <a:lnTo>
                        <a:pt x="664" y="464"/>
                      </a:lnTo>
                      <a:lnTo>
                        <a:pt x="664" y="468"/>
                      </a:lnTo>
                      <a:lnTo>
                        <a:pt x="664" y="472"/>
                      </a:lnTo>
                      <a:lnTo>
                        <a:pt x="664" y="477"/>
                      </a:lnTo>
                      <a:lnTo>
                        <a:pt x="664" y="482"/>
                      </a:lnTo>
                      <a:lnTo>
                        <a:pt x="664" y="485"/>
                      </a:lnTo>
                      <a:lnTo>
                        <a:pt x="664" y="489"/>
                      </a:lnTo>
                      <a:lnTo>
                        <a:pt x="664" y="492"/>
                      </a:lnTo>
                      <a:lnTo>
                        <a:pt x="664" y="495"/>
                      </a:lnTo>
                      <a:lnTo>
                        <a:pt x="664" y="498"/>
                      </a:lnTo>
                      <a:lnTo>
                        <a:pt x="664" y="501"/>
                      </a:lnTo>
                      <a:lnTo>
                        <a:pt x="664" y="504"/>
                      </a:lnTo>
                      <a:lnTo>
                        <a:pt x="664" y="508"/>
                      </a:lnTo>
                      <a:lnTo>
                        <a:pt x="664" y="510"/>
                      </a:lnTo>
                      <a:lnTo>
                        <a:pt x="664" y="512"/>
                      </a:lnTo>
                      <a:lnTo>
                        <a:pt x="664" y="514"/>
                      </a:lnTo>
                      <a:lnTo>
                        <a:pt x="659" y="515"/>
                      </a:lnTo>
                      <a:lnTo>
                        <a:pt x="655" y="515"/>
                      </a:lnTo>
                      <a:lnTo>
                        <a:pt x="652" y="515"/>
                      </a:lnTo>
                      <a:lnTo>
                        <a:pt x="649" y="516"/>
                      </a:lnTo>
                      <a:lnTo>
                        <a:pt x="647" y="517"/>
                      </a:lnTo>
                      <a:lnTo>
                        <a:pt x="645" y="518"/>
                      </a:lnTo>
                      <a:lnTo>
                        <a:pt x="641" y="518"/>
                      </a:lnTo>
                      <a:lnTo>
                        <a:pt x="638" y="518"/>
                      </a:lnTo>
                      <a:lnTo>
                        <a:pt x="635" y="518"/>
                      </a:lnTo>
                      <a:lnTo>
                        <a:pt x="632" y="520"/>
                      </a:lnTo>
                      <a:lnTo>
                        <a:pt x="628" y="520"/>
                      </a:lnTo>
                      <a:lnTo>
                        <a:pt x="624" y="521"/>
                      </a:lnTo>
                      <a:lnTo>
                        <a:pt x="620" y="521"/>
                      </a:lnTo>
                      <a:lnTo>
                        <a:pt x="617" y="521"/>
                      </a:lnTo>
                      <a:lnTo>
                        <a:pt x="613" y="521"/>
                      </a:lnTo>
                      <a:lnTo>
                        <a:pt x="608" y="522"/>
                      </a:lnTo>
                      <a:lnTo>
                        <a:pt x="604" y="522"/>
                      </a:lnTo>
                      <a:lnTo>
                        <a:pt x="600" y="523"/>
                      </a:lnTo>
                      <a:lnTo>
                        <a:pt x="596" y="523"/>
                      </a:lnTo>
                      <a:lnTo>
                        <a:pt x="591" y="523"/>
                      </a:lnTo>
                      <a:lnTo>
                        <a:pt x="588" y="523"/>
                      </a:lnTo>
                      <a:lnTo>
                        <a:pt x="583" y="524"/>
                      </a:lnTo>
                      <a:lnTo>
                        <a:pt x="578" y="524"/>
                      </a:lnTo>
                      <a:lnTo>
                        <a:pt x="575" y="524"/>
                      </a:lnTo>
                      <a:lnTo>
                        <a:pt x="570" y="524"/>
                      </a:lnTo>
                      <a:lnTo>
                        <a:pt x="565" y="525"/>
                      </a:lnTo>
                      <a:lnTo>
                        <a:pt x="560" y="525"/>
                      </a:lnTo>
                      <a:lnTo>
                        <a:pt x="556" y="525"/>
                      </a:lnTo>
                      <a:lnTo>
                        <a:pt x="552" y="525"/>
                      </a:lnTo>
                      <a:lnTo>
                        <a:pt x="547" y="525"/>
                      </a:lnTo>
                      <a:lnTo>
                        <a:pt x="543" y="525"/>
                      </a:lnTo>
                      <a:lnTo>
                        <a:pt x="538" y="525"/>
                      </a:lnTo>
                      <a:lnTo>
                        <a:pt x="534" y="525"/>
                      </a:lnTo>
                      <a:lnTo>
                        <a:pt x="528" y="527"/>
                      </a:lnTo>
                      <a:lnTo>
                        <a:pt x="525" y="527"/>
                      </a:lnTo>
                      <a:lnTo>
                        <a:pt x="521" y="527"/>
                      </a:lnTo>
                      <a:lnTo>
                        <a:pt x="517" y="527"/>
                      </a:lnTo>
                      <a:lnTo>
                        <a:pt x="513" y="528"/>
                      </a:lnTo>
                      <a:lnTo>
                        <a:pt x="508" y="528"/>
                      </a:lnTo>
                      <a:lnTo>
                        <a:pt x="503" y="528"/>
                      </a:lnTo>
                      <a:lnTo>
                        <a:pt x="501" y="528"/>
                      </a:lnTo>
                      <a:lnTo>
                        <a:pt x="498" y="528"/>
                      </a:lnTo>
                      <a:lnTo>
                        <a:pt x="494" y="528"/>
                      </a:lnTo>
                      <a:lnTo>
                        <a:pt x="490" y="528"/>
                      </a:lnTo>
                      <a:lnTo>
                        <a:pt x="486" y="528"/>
                      </a:lnTo>
                      <a:lnTo>
                        <a:pt x="483" y="528"/>
                      </a:lnTo>
                      <a:lnTo>
                        <a:pt x="481" y="528"/>
                      </a:lnTo>
                      <a:lnTo>
                        <a:pt x="477" y="528"/>
                      </a:lnTo>
                      <a:lnTo>
                        <a:pt x="475" y="528"/>
                      </a:lnTo>
                      <a:lnTo>
                        <a:pt x="473" y="529"/>
                      </a:lnTo>
                      <a:lnTo>
                        <a:pt x="468" y="529"/>
                      </a:lnTo>
                      <a:lnTo>
                        <a:pt x="463" y="530"/>
                      </a:lnTo>
                      <a:lnTo>
                        <a:pt x="461" y="530"/>
                      </a:lnTo>
                      <a:lnTo>
                        <a:pt x="458" y="530"/>
                      </a:lnTo>
                      <a:lnTo>
                        <a:pt x="456" y="530"/>
                      </a:lnTo>
                      <a:lnTo>
                        <a:pt x="445" y="530"/>
                      </a:lnTo>
                      <a:lnTo>
                        <a:pt x="436" y="530"/>
                      </a:lnTo>
                      <a:lnTo>
                        <a:pt x="425" y="530"/>
                      </a:lnTo>
                      <a:lnTo>
                        <a:pt x="414" y="530"/>
                      </a:lnTo>
                      <a:lnTo>
                        <a:pt x="405" y="530"/>
                      </a:lnTo>
                      <a:lnTo>
                        <a:pt x="394" y="530"/>
                      </a:lnTo>
                      <a:lnTo>
                        <a:pt x="385" y="530"/>
                      </a:lnTo>
                      <a:lnTo>
                        <a:pt x="374" y="531"/>
                      </a:lnTo>
                      <a:lnTo>
                        <a:pt x="365" y="530"/>
                      </a:lnTo>
                      <a:lnTo>
                        <a:pt x="354" y="530"/>
                      </a:lnTo>
                      <a:lnTo>
                        <a:pt x="344" y="530"/>
                      </a:lnTo>
                      <a:lnTo>
                        <a:pt x="336" y="530"/>
                      </a:lnTo>
                      <a:lnTo>
                        <a:pt x="327" y="530"/>
                      </a:lnTo>
                      <a:lnTo>
                        <a:pt x="317" y="530"/>
                      </a:lnTo>
                      <a:lnTo>
                        <a:pt x="309" y="530"/>
                      </a:lnTo>
                      <a:lnTo>
                        <a:pt x="299" y="530"/>
                      </a:lnTo>
                      <a:lnTo>
                        <a:pt x="291" y="530"/>
                      </a:lnTo>
                      <a:lnTo>
                        <a:pt x="280" y="530"/>
                      </a:lnTo>
                      <a:lnTo>
                        <a:pt x="273" y="529"/>
                      </a:lnTo>
                      <a:lnTo>
                        <a:pt x="264" y="529"/>
                      </a:lnTo>
                      <a:lnTo>
                        <a:pt x="255" y="528"/>
                      </a:lnTo>
                      <a:lnTo>
                        <a:pt x="247" y="528"/>
                      </a:lnTo>
                      <a:lnTo>
                        <a:pt x="239" y="528"/>
                      </a:lnTo>
                      <a:lnTo>
                        <a:pt x="232" y="528"/>
                      </a:lnTo>
                      <a:lnTo>
                        <a:pt x="223" y="527"/>
                      </a:lnTo>
                      <a:lnTo>
                        <a:pt x="215" y="527"/>
                      </a:lnTo>
                      <a:lnTo>
                        <a:pt x="208" y="525"/>
                      </a:lnTo>
                      <a:lnTo>
                        <a:pt x="201" y="525"/>
                      </a:lnTo>
                      <a:lnTo>
                        <a:pt x="194" y="525"/>
                      </a:lnTo>
                      <a:lnTo>
                        <a:pt x="187" y="525"/>
                      </a:lnTo>
                      <a:lnTo>
                        <a:pt x="180" y="524"/>
                      </a:lnTo>
                      <a:lnTo>
                        <a:pt x="174" y="524"/>
                      </a:lnTo>
                      <a:lnTo>
                        <a:pt x="167" y="523"/>
                      </a:lnTo>
                      <a:lnTo>
                        <a:pt x="161" y="523"/>
                      </a:lnTo>
                      <a:lnTo>
                        <a:pt x="155" y="522"/>
                      </a:lnTo>
                      <a:lnTo>
                        <a:pt x="149" y="522"/>
                      </a:lnTo>
                      <a:lnTo>
                        <a:pt x="142" y="521"/>
                      </a:lnTo>
                      <a:lnTo>
                        <a:pt x="137" y="521"/>
                      </a:lnTo>
                      <a:lnTo>
                        <a:pt x="131" y="520"/>
                      </a:lnTo>
                      <a:lnTo>
                        <a:pt x="126" y="520"/>
                      </a:lnTo>
                      <a:lnTo>
                        <a:pt x="120" y="518"/>
                      </a:lnTo>
                      <a:lnTo>
                        <a:pt x="115" y="518"/>
                      </a:lnTo>
                      <a:lnTo>
                        <a:pt x="110" y="518"/>
                      </a:lnTo>
                      <a:lnTo>
                        <a:pt x="106" y="518"/>
                      </a:lnTo>
                      <a:lnTo>
                        <a:pt x="101" y="517"/>
                      </a:lnTo>
                      <a:lnTo>
                        <a:pt x="97" y="517"/>
                      </a:lnTo>
                      <a:lnTo>
                        <a:pt x="94" y="516"/>
                      </a:lnTo>
                      <a:lnTo>
                        <a:pt x="89" y="516"/>
                      </a:lnTo>
                      <a:lnTo>
                        <a:pt x="86" y="515"/>
                      </a:lnTo>
                      <a:lnTo>
                        <a:pt x="82" y="515"/>
                      </a:lnTo>
                      <a:lnTo>
                        <a:pt x="80" y="515"/>
                      </a:lnTo>
                      <a:lnTo>
                        <a:pt x="76" y="515"/>
                      </a:lnTo>
                      <a:lnTo>
                        <a:pt x="73" y="514"/>
                      </a:lnTo>
                      <a:lnTo>
                        <a:pt x="70" y="512"/>
                      </a:lnTo>
                      <a:lnTo>
                        <a:pt x="68" y="512"/>
                      </a:lnTo>
                      <a:lnTo>
                        <a:pt x="63" y="512"/>
                      </a:lnTo>
                      <a:lnTo>
                        <a:pt x="61" y="512"/>
                      </a:lnTo>
                      <a:lnTo>
                        <a:pt x="60" y="512"/>
                      </a:lnTo>
                      <a:lnTo>
                        <a:pt x="56" y="509"/>
                      </a:lnTo>
                      <a:lnTo>
                        <a:pt x="51" y="506"/>
                      </a:lnTo>
                      <a:lnTo>
                        <a:pt x="48" y="503"/>
                      </a:lnTo>
                      <a:lnTo>
                        <a:pt x="44" y="499"/>
                      </a:lnTo>
                      <a:lnTo>
                        <a:pt x="41" y="495"/>
                      </a:lnTo>
                      <a:lnTo>
                        <a:pt x="37" y="490"/>
                      </a:lnTo>
                      <a:lnTo>
                        <a:pt x="34" y="485"/>
                      </a:lnTo>
                      <a:lnTo>
                        <a:pt x="31" y="480"/>
                      </a:lnTo>
                      <a:lnTo>
                        <a:pt x="30" y="477"/>
                      </a:lnTo>
                      <a:lnTo>
                        <a:pt x="28" y="473"/>
                      </a:lnTo>
                      <a:lnTo>
                        <a:pt x="26" y="470"/>
                      </a:lnTo>
                      <a:lnTo>
                        <a:pt x="25" y="467"/>
                      </a:lnTo>
                      <a:lnTo>
                        <a:pt x="24" y="464"/>
                      </a:lnTo>
                      <a:lnTo>
                        <a:pt x="23" y="460"/>
                      </a:lnTo>
                      <a:lnTo>
                        <a:pt x="22" y="457"/>
                      </a:lnTo>
                      <a:lnTo>
                        <a:pt x="21" y="454"/>
                      </a:lnTo>
                      <a:lnTo>
                        <a:pt x="19" y="451"/>
                      </a:lnTo>
                      <a:lnTo>
                        <a:pt x="18" y="447"/>
                      </a:lnTo>
                      <a:lnTo>
                        <a:pt x="17" y="444"/>
                      </a:lnTo>
                      <a:lnTo>
                        <a:pt x="16" y="440"/>
                      </a:lnTo>
                      <a:lnTo>
                        <a:pt x="15" y="436"/>
                      </a:lnTo>
                      <a:lnTo>
                        <a:pt x="15" y="433"/>
                      </a:lnTo>
                      <a:lnTo>
                        <a:pt x="13" y="429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11" y="417"/>
                      </a:lnTo>
                      <a:lnTo>
                        <a:pt x="10" y="414"/>
                      </a:lnTo>
                      <a:lnTo>
                        <a:pt x="9" y="409"/>
                      </a:lnTo>
                      <a:lnTo>
                        <a:pt x="8" y="404"/>
                      </a:lnTo>
                      <a:lnTo>
                        <a:pt x="8" y="401"/>
                      </a:lnTo>
                      <a:lnTo>
                        <a:pt x="6" y="397"/>
                      </a:lnTo>
                      <a:lnTo>
                        <a:pt x="6" y="394"/>
                      </a:lnTo>
                      <a:lnTo>
                        <a:pt x="5" y="389"/>
                      </a:lnTo>
                      <a:lnTo>
                        <a:pt x="5" y="384"/>
                      </a:lnTo>
                      <a:lnTo>
                        <a:pt x="5" y="381"/>
                      </a:lnTo>
                      <a:lnTo>
                        <a:pt x="5" y="376"/>
                      </a:lnTo>
                      <a:lnTo>
                        <a:pt x="4" y="372"/>
                      </a:lnTo>
                      <a:lnTo>
                        <a:pt x="3" y="369"/>
                      </a:lnTo>
                      <a:lnTo>
                        <a:pt x="3" y="363"/>
                      </a:lnTo>
                      <a:lnTo>
                        <a:pt x="3" y="360"/>
                      </a:lnTo>
                      <a:lnTo>
                        <a:pt x="3" y="356"/>
                      </a:lnTo>
                      <a:lnTo>
                        <a:pt x="2" y="351"/>
                      </a:lnTo>
                      <a:lnTo>
                        <a:pt x="0" y="347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21"/>
                      </a:lnTo>
                      <a:lnTo>
                        <a:pt x="0" y="317"/>
                      </a:lnTo>
                      <a:lnTo>
                        <a:pt x="0" y="313"/>
                      </a:lnTo>
                      <a:lnTo>
                        <a:pt x="0" y="308"/>
                      </a:lnTo>
                      <a:lnTo>
                        <a:pt x="0" y="303"/>
                      </a:lnTo>
                      <a:lnTo>
                        <a:pt x="0" y="300"/>
                      </a:lnTo>
                      <a:lnTo>
                        <a:pt x="0" y="295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3" y="281"/>
                      </a:lnTo>
                      <a:lnTo>
                        <a:pt x="6" y="280"/>
                      </a:lnTo>
                      <a:lnTo>
                        <a:pt x="10" y="277"/>
                      </a:lnTo>
                      <a:lnTo>
                        <a:pt x="15" y="275"/>
                      </a:lnTo>
                      <a:lnTo>
                        <a:pt x="18" y="271"/>
                      </a:lnTo>
                      <a:lnTo>
                        <a:pt x="22" y="268"/>
                      </a:lnTo>
                      <a:lnTo>
                        <a:pt x="24" y="264"/>
                      </a:lnTo>
                      <a:lnTo>
                        <a:pt x="28" y="260"/>
                      </a:lnTo>
                      <a:lnTo>
                        <a:pt x="30" y="255"/>
                      </a:lnTo>
                      <a:lnTo>
                        <a:pt x="31" y="250"/>
                      </a:lnTo>
                      <a:lnTo>
                        <a:pt x="32" y="246"/>
                      </a:lnTo>
                      <a:lnTo>
                        <a:pt x="32" y="242"/>
                      </a:lnTo>
                      <a:lnTo>
                        <a:pt x="31" y="238"/>
                      </a:lnTo>
                      <a:lnTo>
                        <a:pt x="29" y="235"/>
                      </a:lnTo>
                      <a:lnTo>
                        <a:pt x="26" y="233"/>
                      </a:lnTo>
                      <a:lnTo>
                        <a:pt x="25" y="231"/>
                      </a:lnTo>
                      <a:lnTo>
                        <a:pt x="23" y="231"/>
                      </a:lnTo>
                      <a:lnTo>
                        <a:pt x="21" y="230"/>
                      </a:lnTo>
                      <a:lnTo>
                        <a:pt x="16" y="235"/>
                      </a:lnTo>
                      <a:lnTo>
                        <a:pt x="11" y="239"/>
                      </a:lnTo>
                      <a:lnTo>
                        <a:pt x="8" y="242"/>
                      </a:lnTo>
                      <a:lnTo>
                        <a:pt x="5" y="244"/>
                      </a:lnTo>
                      <a:lnTo>
                        <a:pt x="3" y="246"/>
                      </a:lnTo>
                      <a:lnTo>
                        <a:pt x="0" y="249"/>
                      </a:lnTo>
                      <a:lnTo>
                        <a:pt x="0" y="246"/>
                      </a:lnTo>
                      <a:lnTo>
                        <a:pt x="0" y="244"/>
                      </a:lnTo>
                      <a:lnTo>
                        <a:pt x="0" y="242"/>
                      </a:lnTo>
                      <a:lnTo>
                        <a:pt x="0" y="239"/>
                      </a:lnTo>
                      <a:lnTo>
                        <a:pt x="0" y="236"/>
                      </a:lnTo>
                      <a:lnTo>
                        <a:pt x="0" y="233"/>
                      </a:lnTo>
                      <a:lnTo>
                        <a:pt x="0" y="231"/>
                      </a:lnTo>
                      <a:lnTo>
                        <a:pt x="2" y="229"/>
                      </a:lnTo>
                      <a:lnTo>
                        <a:pt x="2" y="225"/>
                      </a:lnTo>
                      <a:lnTo>
                        <a:pt x="2" y="223"/>
                      </a:lnTo>
                      <a:lnTo>
                        <a:pt x="2" y="219"/>
                      </a:lnTo>
                      <a:lnTo>
                        <a:pt x="3" y="217"/>
                      </a:lnTo>
                      <a:lnTo>
                        <a:pt x="3" y="214"/>
                      </a:lnTo>
                      <a:lnTo>
                        <a:pt x="3" y="211"/>
                      </a:lnTo>
                      <a:lnTo>
                        <a:pt x="3" y="208"/>
                      </a:lnTo>
                      <a:lnTo>
                        <a:pt x="3" y="206"/>
                      </a:lnTo>
                      <a:lnTo>
                        <a:pt x="3" y="204"/>
                      </a:lnTo>
                      <a:lnTo>
                        <a:pt x="3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3" y="192"/>
                      </a:lnTo>
                      <a:lnTo>
                        <a:pt x="4" y="190"/>
                      </a:lnTo>
                      <a:lnTo>
                        <a:pt x="5" y="186"/>
                      </a:lnTo>
                      <a:lnTo>
                        <a:pt x="5" y="184"/>
                      </a:lnTo>
                      <a:lnTo>
                        <a:pt x="5" y="181"/>
                      </a:lnTo>
                      <a:lnTo>
                        <a:pt x="5" y="178"/>
                      </a:lnTo>
                      <a:lnTo>
                        <a:pt x="5" y="175"/>
                      </a:lnTo>
                      <a:lnTo>
                        <a:pt x="5" y="172"/>
                      </a:lnTo>
                      <a:lnTo>
                        <a:pt x="5" y="169"/>
                      </a:lnTo>
                      <a:lnTo>
                        <a:pt x="5" y="166"/>
                      </a:lnTo>
                      <a:lnTo>
                        <a:pt x="6" y="163"/>
                      </a:lnTo>
                      <a:lnTo>
                        <a:pt x="6" y="161"/>
                      </a:lnTo>
                      <a:lnTo>
                        <a:pt x="8" y="165"/>
                      </a:lnTo>
                      <a:lnTo>
                        <a:pt x="11" y="167"/>
                      </a:lnTo>
                      <a:lnTo>
                        <a:pt x="13" y="167"/>
                      </a:lnTo>
                      <a:lnTo>
                        <a:pt x="16" y="168"/>
                      </a:lnTo>
                      <a:lnTo>
                        <a:pt x="19" y="168"/>
                      </a:lnTo>
                      <a:lnTo>
                        <a:pt x="23" y="168"/>
                      </a:lnTo>
                      <a:lnTo>
                        <a:pt x="25" y="166"/>
                      </a:lnTo>
                      <a:lnTo>
                        <a:pt x="29" y="166"/>
                      </a:lnTo>
                      <a:lnTo>
                        <a:pt x="32" y="163"/>
                      </a:lnTo>
                      <a:lnTo>
                        <a:pt x="36" y="162"/>
                      </a:lnTo>
                      <a:lnTo>
                        <a:pt x="40" y="160"/>
                      </a:lnTo>
                      <a:lnTo>
                        <a:pt x="43" y="159"/>
                      </a:lnTo>
                      <a:lnTo>
                        <a:pt x="47" y="155"/>
                      </a:lnTo>
                      <a:lnTo>
                        <a:pt x="50" y="153"/>
                      </a:lnTo>
                      <a:lnTo>
                        <a:pt x="53" y="150"/>
                      </a:lnTo>
                      <a:lnTo>
                        <a:pt x="56" y="147"/>
                      </a:lnTo>
                      <a:lnTo>
                        <a:pt x="59" y="143"/>
                      </a:lnTo>
                      <a:lnTo>
                        <a:pt x="61" y="141"/>
                      </a:lnTo>
                      <a:lnTo>
                        <a:pt x="62" y="136"/>
                      </a:lnTo>
                      <a:lnTo>
                        <a:pt x="64" y="133"/>
                      </a:lnTo>
                      <a:lnTo>
                        <a:pt x="66" y="129"/>
                      </a:lnTo>
                      <a:lnTo>
                        <a:pt x="66" y="125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3" y="114"/>
                      </a:lnTo>
                      <a:lnTo>
                        <a:pt x="62" y="110"/>
                      </a:lnTo>
                      <a:lnTo>
                        <a:pt x="59" y="105"/>
                      </a:lnTo>
                      <a:lnTo>
                        <a:pt x="56" y="102"/>
                      </a:lnTo>
                      <a:lnTo>
                        <a:pt x="51" y="97"/>
                      </a:lnTo>
                      <a:lnTo>
                        <a:pt x="47" y="95"/>
                      </a:lnTo>
                      <a:lnTo>
                        <a:pt x="44" y="97"/>
                      </a:lnTo>
                      <a:lnTo>
                        <a:pt x="42" y="99"/>
                      </a:lnTo>
                      <a:lnTo>
                        <a:pt x="40" y="103"/>
                      </a:lnTo>
                      <a:lnTo>
                        <a:pt x="38" y="105"/>
                      </a:lnTo>
                      <a:lnTo>
                        <a:pt x="35" y="110"/>
                      </a:lnTo>
                      <a:lnTo>
                        <a:pt x="32" y="112"/>
                      </a:lnTo>
                      <a:lnTo>
                        <a:pt x="30" y="115"/>
                      </a:lnTo>
                      <a:lnTo>
                        <a:pt x="29" y="117"/>
                      </a:lnTo>
                      <a:lnTo>
                        <a:pt x="25" y="121"/>
                      </a:lnTo>
                      <a:lnTo>
                        <a:pt x="24" y="123"/>
                      </a:lnTo>
                      <a:lnTo>
                        <a:pt x="22" y="125"/>
                      </a:lnTo>
                      <a:lnTo>
                        <a:pt x="19" y="129"/>
                      </a:lnTo>
                      <a:lnTo>
                        <a:pt x="16" y="134"/>
                      </a:lnTo>
                      <a:lnTo>
                        <a:pt x="13" y="138"/>
                      </a:lnTo>
                      <a:lnTo>
                        <a:pt x="10" y="142"/>
                      </a:lnTo>
                      <a:lnTo>
                        <a:pt x="9" y="147"/>
                      </a:lnTo>
                      <a:lnTo>
                        <a:pt x="8" y="150"/>
                      </a:lnTo>
                      <a:lnTo>
                        <a:pt x="8" y="154"/>
                      </a:lnTo>
                      <a:lnTo>
                        <a:pt x="8" y="150"/>
                      </a:lnTo>
                      <a:lnTo>
                        <a:pt x="8" y="147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5"/>
                      </a:lnTo>
                      <a:lnTo>
                        <a:pt x="9" y="133"/>
                      </a:lnTo>
                      <a:lnTo>
                        <a:pt x="9" y="128"/>
                      </a:lnTo>
                      <a:lnTo>
                        <a:pt x="10" y="125"/>
                      </a:lnTo>
                      <a:lnTo>
                        <a:pt x="10" y="121"/>
                      </a:lnTo>
                      <a:lnTo>
                        <a:pt x="10" y="117"/>
                      </a:lnTo>
                      <a:lnTo>
                        <a:pt x="10" y="115"/>
                      </a:lnTo>
                      <a:lnTo>
                        <a:pt x="10" y="110"/>
                      </a:lnTo>
                      <a:lnTo>
                        <a:pt x="10" y="108"/>
                      </a:lnTo>
                      <a:lnTo>
                        <a:pt x="11" y="104"/>
                      </a:lnTo>
                      <a:lnTo>
                        <a:pt x="11" y="100"/>
                      </a:lnTo>
                      <a:lnTo>
                        <a:pt x="12" y="97"/>
                      </a:lnTo>
                      <a:lnTo>
                        <a:pt x="12" y="95"/>
                      </a:lnTo>
                      <a:lnTo>
                        <a:pt x="12" y="91"/>
                      </a:lnTo>
                      <a:lnTo>
                        <a:pt x="12" y="87"/>
                      </a:lnTo>
                      <a:lnTo>
                        <a:pt x="12" y="85"/>
                      </a:lnTo>
                      <a:lnTo>
                        <a:pt x="12" y="81"/>
                      </a:lnTo>
                      <a:lnTo>
                        <a:pt x="13" y="78"/>
                      </a:lnTo>
                      <a:lnTo>
                        <a:pt x="13" y="74"/>
                      </a:lnTo>
                      <a:lnTo>
                        <a:pt x="15" y="72"/>
                      </a:lnTo>
                      <a:lnTo>
                        <a:pt x="15" y="70"/>
                      </a:lnTo>
                      <a:lnTo>
                        <a:pt x="15" y="67"/>
                      </a:lnTo>
                      <a:lnTo>
                        <a:pt x="15" y="64"/>
                      </a:lnTo>
                      <a:lnTo>
                        <a:pt x="15" y="61"/>
                      </a:lnTo>
                      <a:lnTo>
                        <a:pt x="15" y="58"/>
                      </a:lnTo>
                      <a:lnTo>
                        <a:pt x="16" y="55"/>
                      </a:lnTo>
                      <a:lnTo>
                        <a:pt x="16" y="53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5"/>
                      </a:lnTo>
                      <a:lnTo>
                        <a:pt x="17" y="41"/>
                      </a:lnTo>
                      <a:lnTo>
                        <a:pt x="17" y="40"/>
                      </a:lnTo>
                      <a:lnTo>
                        <a:pt x="18" y="35"/>
                      </a:lnTo>
                      <a:lnTo>
                        <a:pt x="18" y="32"/>
                      </a:lnTo>
                      <a:lnTo>
                        <a:pt x="18" y="27"/>
                      </a:lnTo>
                      <a:lnTo>
                        <a:pt x="19" y="23"/>
                      </a:lnTo>
                      <a:lnTo>
                        <a:pt x="19" y="20"/>
                      </a:lnTo>
                      <a:lnTo>
                        <a:pt x="21" y="16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21" y="9"/>
                      </a:lnTo>
                      <a:lnTo>
                        <a:pt x="21" y="8"/>
                      </a:lnTo>
                      <a:lnTo>
                        <a:pt x="21" y="5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Freeform 70"/>
                <p:cNvSpPr/>
                <p:nvPr/>
              </p:nvSpPr>
              <p:spPr>
                <a:xfrm>
                  <a:off x="7437240" y="2557800"/>
                  <a:ext cx="21960" cy="158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0" y="0"/>
                      </a:moveTo>
                      <a:lnTo>
                        <a:pt x="43" y="3"/>
                      </a:lnTo>
                      <a:lnTo>
                        <a:pt x="42" y="6"/>
                      </a:lnTo>
                      <a:lnTo>
                        <a:pt x="41" y="9"/>
                      </a:lnTo>
                      <a:lnTo>
                        <a:pt x="40" y="11"/>
                      </a:lnTo>
                      <a:lnTo>
                        <a:pt x="37" y="13"/>
                      </a:lnTo>
                      <a:lnTo>
                        <a:pt x="37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26" y="29"/>
                      </a:lnTo>
                      <a:lnTo>
                        <a:pt x="20" y="31"/>
                      </a:lnTo>
                      <a:lnTo>
                        <a:pt x="16" y="30"/>
                      </a:lnTo>
                      <a:lnTo>
                        <a:pt x="13" y="28"/>
                      </a:lnTo>
                      <a:lnTo>
                        <a:pt x="13" y="24"/>
                      </a:lnTo>
                      <a:lnTo>
                        <a:pt x="13" y="20"/>
                      </a:lnTo>
                      <a:lnTo>
                        <a:pt x="13" y="17"/>
                      </a:lnTo>
                      <a:lnTo>
                        <a:pt x="13" y="13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71"/>
                <p:cNvSpPr/>
                <p:nvPr/>
              </p:nvSpPr>
              <p:spPr>
                <a:xfrm>
                  <a:off x="7483320" y="25909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7" h="22">
                      <a:moveTo>
                        <a:pt x="57" y="19"/>
                      </a:moveTo>
                      <a:lnTo>
                        <a:pt x="0" y="22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3"/>
                      </a:lnTo>
                      <a:lnTo>
                        <a:pt x="29" y="4"/>
                      </a:lnTo>
                      <a:lnTo>
                        <a:pt x="32" y="6"/>
                      </a:lnTo>
                      <a:lnTo>
                        <a:pt x="36" y="7"/>
                      </a:lnTo>
                      <a:lnTo>
                        <a:pt x="39" y="8"/>
                      </a:lnTo>
                      <a:lnTo>
                        <a:pt x="43" y="11"/>
                      </a:lnTo>
                      <a:lnTo>
                        <a:pt x="45" y="13"/>
                      </a:lnTo>
                      <a:lnTo>
                        <a:pt x="49" y="13"/>
                      </a:lnTo>
                      <a:lnTo>
                        <a:pt x="51" y="16"/>
                      </a:lnTo>
                      <a:lnTo>
                        <a:pt x="56" y="18"/>
                      </a:lnTo>
                      <a:lnTo>
                        <a:pt x="57" y="1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5" name="Line 72"/>
            <p:cNvSpPr/>
            <p:nvPr/>
          </p:nvSpPr>
          <p:spPr>
            <a:xfrm>
              <a:off x="1600200" y="2286000"/>
              <a:ext cx="144792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6" name="Line 73"/>
            <p:cNvSpPr/>
            <p:nvPr/>
          </p:nvSpPr>
          <p:spPr>
            <a:xfrm>
              <a:off x="5867280" y="2286000"/>
              <a:ext cx="129564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307" name="Group 74"/>
            <p:cNvGrpSpPr/>
            <p:nvPr/>
          </p:nvGrpSpPr>
          <p:grpSpPr>
            <a:xfrm>
              <a:off x="3048120" y="1981080"/>
              <a:ext cx="576000" cy="585720"/>
              <a:chOff x="3048120" y="1981080"/>
              <a:chExt cx="576000" cy="585720"/>
            </a:xfrm>
          </p:grpSpPr>
          <p:sp>
            <p:nvSpPr>
              <p:cNvPr id="1308" name="AutoShape 75"/>
              <p:cNvSpPr/>
              <p:nvPr/>
            </p:nvSpPr>
            <p:spPr>
              <a:xfrm>
                <a:off x="3048120" y="1981080"/>
                <a:ext cx="576000" cy="5857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64801"/>
                  </a:gs>
                  <a:gs pos="100000">
                    <a:srgbClr val="fe9b03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09" name="Group 76"/>
              <p:cNvGrpSpPr/>
              <p:nvPr/>
            </p:nvGrpSpPr>
            <p:grpSpPr>
              <a:xfrm>
                <a:off x="3124080" y="2062080"/>
                <a:ext cx="443160" cy="127800"/>
                <a:chOff x="3124080" y="2062080"/>
                <a:chExt cx="443160" cy="127800"/>
              </a:xfrm>
            </p:grpSpPr>
            <p:sp>
              <p:nvSpPr>
                <p:cNvPr id="1310" name="Freeform 77"/>
                <p:cNvSpPr/>
                <p:nvPr/>
              </p:nvSpPr>
              <p:spPr>
                <a:xfrm>
                  <a:off x="3133800" y="206208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78"/>
                <p:cNvSpPr/>
                <p:nvPr/>
              </p:nvSpPr>
              <p:spPr>
                <a:xfrm flipV="1">
                  <a:off x="3124080" y="206532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-360 h 124200"/>
                    <a:gd name="textAreaBottom" fmla="*/ 12420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Group 79"/>
            <p:cNvGrpSpPr/>
            <p:nvPr/>
          </p:nvGrpSpPr>
          <p:grpSpPr>
            <a:xfrm>
              <a:off x="5562720" y="1981080"/>
              <a:ext cx="576000" cy="585720"/>
              <a:chOff x="5562720" y="1981080"/>
              <a:chExt cx="576000" cy="585720"/>
            </a:xfrm>
          </p:grpSpPr>
          <p:sp>
            <p:nvSpPr>
              <p:cNvPr id="1313" name="AutoShape 80"/>
              <p:cNvSpPr/>
              <p:nvPr/>
            </p:nvSpPr>
            <p:spPr>
              <a:xfrm>
                <a:off x="5562720" y="1981080"/>
                <a:ext cx="576000" cy="5857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64801"/>
                  </a:gs>
                  <a:gs pos="100000">
                    <a:srgbClr val="fe9b03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14" name="Group 81"/>
              <p:cNvGrpSpPr/>
              <p:nvPr/>
            </p:nvGrpSpPr>
            <p:grpSpPr>
              <a:xfrm>
                <a:off x="5638680" y="2062080"/>
                <a:ext cx="443160" cy="127800"/>
                <a:chOff x="5638680" y="2062080"/>
                <a:chExt cx="443160" cy="127800"/>
              </a:xfrm>
            </p:grpSpPr>
            <p:sp>
              <p:nvSpPr>
                <p:cNvPr id="1315" name="Freeform 82"/>
                <p:cNvSpPr/>
                <p:nvPr/>
              </p:nvSpPr>
              <p:spPr>
                <a:xfrm>
                  <a:off x="5648400" y="206208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Freeform 83"/>
                <p:cNvSpPr/>
                <p:nvPr/>
              </p:nvSpPr>
              <p:spPr>
                <a:xfrm flipV="1">
                  <a:off x="5638680" y="206532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-360 h 124200"/>
                    <a:gd name="textAreaBottom" fmla="*/ 12420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7" name="Line 84"/>
            <p:cNvSpPr/>
            <p:nvPr/>
          </p:nvSpPr>
          <p:spPr>
            <a:xfrm>
              <a:off x="3657600" y="2286000"/>
              <a:ext cx="38088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8" name="Line 85"/>
            <p:cNvSpPr/>
            <p:nvPr/>
          </p:nvSpPr>
          <p:spPr>
            <a:xfrm>
              <a:off x="4114800" y="2286000"/>
              <a:ext cx="1066680" cy="0"/>
            </a:xfrm>
            <a:prstGeom prst="line">
              <a:avLst/>
            </a:prstGeom>
            <a:ln w="19080">
              <a:solidFill>
                <a:srgbClr val="8383a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9" name="Line 86"/>
            <p:cNvSpPr/>
            <p:nvPr/>
          </p:nvSpPr>
          <p:spPr>
            <a:xfrm>
              <a:off x="5181480" y="2286000"/>
              <a:ext cx="38124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320" name="Group 87"/>
          <p:cNvGrpSpPr/>
          <p:nvPr/>
        </p:nvGrpSpPr>
        <p:grpSpPr>
          <a:xfrm>
            <a:off x="4876920" y="1905120"/>
            <a:ext cx="3581280" cy="3124080"/>
            <a:chOff x="4876920" y="1905120"/>
            <a:chExt cx="3581280" cy="3124080"/>
          </a:xfrm>
        </p:grpSpPr>
        <p:grpSp>
          <p:nvGrpSpPr>
            <p:cNvPr id="1321" name="Group 88"/>
            <p:cNvGrpSpPr/>
            <p:nvPr/>
          </p:nvGrpSpPr>
          <p:grpSpPr>
            <a:xfrm>
              <a:off x="4876920" y="1905120"/>
              <a:ext cx="609480" cy="228600"/>
              <a:chOff x="4876920" y="1905120"/>
              <a:chExt cx="609480" cy="228600"/>
            </a:xfrm>
          </p:grpSpPr>
          <p:sp>
            <p:nvSpPr>
              <p:cNvPr id="1322" name="Rectangle 89"/>
              <p:cNvSpPr/>
              <p:nvPr/>
            </p:nvSpPr>
            <p:spPr>
              <a:xfrm>
                <a:off x="4876920" y="1905120"/>
                <a:ext cx="533520" cy="2286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323" name="Rectangle 90"/>
              <p:cNvSpPr/>
              <p:nvPr/>
            </p:nvSpPr>
            <p:spPr>
              <a:xfrm>
                <a:off x="5334120" y="1905120"/>
                <a:ext cx="152280" cy="228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Group 91"/>
            <p:cNvGrpSpPr/>
            <p:nvPr/>
          </p:nvGrpSpPr>
          <p:grpSpPr>
            <a:xfrm>
              <a:off x="5334120" y="1905120"/>
              <a:ext cx="3124080" cy="3124080"/>
              <a:chOff x="5334120" y="1905120"/>
              <a:chExt cx="3124080" cy="3124080"/>
            </a:xfrm>
          </p:grpSpPr>
          <p:sp>
            <p:nvSpPr>
              <p:cNvPr id="1325" name="Line 92"/>
              <p:cNvSpPr/>
              <p:nvPr/>
            </p:nvSpPr>
            <p:spPr>
              <a:xfrm>
                <a:off x="5486400" y="1905120"/>
                <a:ext cx="2971800" cy="990360"/>
              </a:xfrm>
              <a:prstGeom prst="line">
                <a:avLst/>
              </a:prstGeom>
              <a:ln cap="sq"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26" name="Group 93"/>
              <p:cNvGrpSpPr/>
              <p:nvPr/>
            </p:nvGrpSpPr>
            <p:grpSpPr>
              <a:xfrm>
                <a:off x="5334120" y="1905120"/>
                <a:ext cx="3086280" cy="3124080"/>
                <a:chOff x="5334120" y="1905120"/>
                <a:chExt cx="3086280" cy="3124080"/>
              </a:xfrm>
            </p:grpSpPr>
            <p:grpSp>
              <p:nvGrpSpPr>
                <p:cNvPr id="1327" name="Group 94"/>
                <p:cNvGrpSpPr/>
                <p:nvPr/>
              </p:nvGrpSpPr>
              <p:grpSpPr>
                <a:xfrm>
                  <a:off x="5639040" y="2895480"/>
                  <a:ext cx="2781360" cy="2133720"/>
                  <a:chOff x="5639040" y="2895480"/>
                  <a:chExt cx="2781360" cy="2133720"/>
                </a:xfrm>
              </p:grpSpPr>
              <p:sp>
                <p:nvSpPr>
                  <p:cNvPr id="1328" name="Text Box 95"/>
                  <p:cNvSpPr/>
                  <p:nvPr/>
                </p:nvSpPr>
                <p:spPr>
                  <a:xfrm>
                    <a:off x="5639040" y="4229280"/>
                    <a:ext cx="2765520" cy="799920"/>
                  </a:xfrm>
                  <a:prstGeom prst="rect">
                    <a:avLst/>
                  </a:prstGeom>
                  <a:solidFill>
                    <a:srgbClr val="c09e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Feedback =                + 0.1 packet  </a:t>
                    </a:r>
                    <a:endParaRPr b="0" lang="en-US" sz="2000" spc="-1" strike="noStrike">
                      <a:solidFill>
                        <a:srgbClr val="8383ad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9" name="Group 96"/>
                  <p:cNvGrpSpPr/>
                  <p:nvPr/>
                </p:nvGrpSpPr>
                <p:grpSpPr>
                  <a:xfrm>
                    <a:off x="5639040" y="2895480"/>
                    <a:ext cx="2781360" cy="2133360"/>
                    <a:chOff x="5639040" y="2895480"/>
                    <a:chExt cx="2781360" cy="2133360"/>
                  </a:xfrm>
                </p:grpSpPr>
                <p:sp>
                  <p:nvSpPr>
                    <p:cNvPr id="1330" name="Rectangle 97"/>
                    <p:cNvSpPr/>
                    <p:nvPr/>
                  </p:nvSpPr>
                  <p:spPr>
                    <a:xfrm>
                      <a:off x="5639040" y="4206600"/>
                      <a:ext cx="2781360" cy="8222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8383a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31" name="Group 98"/>
                    <p:cNvGrpSpPr/>
                    <p:nvPr/>
                  </p:nvGrpSpPr>
                  <p:grpSpPr>
                    <a:xfrm>
                      <a:off x="5639040" y="2895480"/>
                      <a:ext cx="2781000" cy="1310760"/>
                      <a:chOff x="5639040" y="2895480"/>
                      <a:chExt cx="2781000" cy="1310760"/>
                    </a:xfrm>
                  </p:grpSpPr>
                  <p:sp>
                    <p:nvSpPr>
                      <p:cNvPr id="1332" name="Rectangle 99"/>
                      <p:cNvSpPr/>
                      <p:nvPr/>
                    </p:nvSpPr>
                    <p:spPr>
                      <a:xfrm>
                        <a:off x="5639040" y="2895480"/>
                        <a:ext cx="2781000" cy="656280"/>
                      </a:xfrm>
                      <a:prstGeom prst="rect">
                        <a:avLst/>
                      </a:prstGeom>
                      <a:solidFill>
                        <a:srgbClr val="fefed6"/>
                      </a:solidFill>
                      <a:ln w="12600">
                        <a:solidFill>
                          <a:srgbClr val="8383a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3" name="Rectangle 100"/>
                      <p:cNvSpPr/>
                      <p:nvPr/>
                    </p:nvSpPr>
                    <p:spPr>
                      <a:xfrm>
                        <a:off x="5639040" y="3551760"/>
                        <a:ext cx="2781000" cy="654480"/>
                      </a:xfrm>
                      <a:prstGeom prst="rect">
                        <a:avLst/>
                      </a:prstGeom>
                      <a:solidFill>
                        <a:srgbClr val="fefed6"/>
                      </a:solidFill>
                      <a:ln w="12600">
                        <a:solidFill>
                          <a:srgbClr val="8383a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4" name="Text Box 101"/>
                      <p:cNvSpPr/>
                      <p:nvPr/>
                    </p:nvSpPr>
                    <p:spPr>
                      <a:xfrm>
                        <a:off x="5738400" y="3029760"/>
                        <a:ext cx="24825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Round Trip Time</a:t>
                        </a:r>
                        <a:endParaRPr b="0" lang="en-US" sz="20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5" name="Text Box 102"/>
                      <p:cNvSpPr/>
                      <p:nvPr/>
                    </p:nvSpPr>
                    <p:spPr>
                      <a:xfrm>
                        <a:off x="5738400" y="3688920"/>
                        <a:ext cx="24825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ongestion Window</a:t>
                        </a:r>
                        <a:endParaRPr b="0" lang="en-US" sz="2000" spc="-1" strike="noStrike">
                          <a:solidFill>
                            <a:srgbClr val="8383a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336" name="Line 103"/>
                <p:cNvSpPr/>
                <p:nvPr/>
              </p:nvSpPr>
              <p:spPr>
                <a:xfrm>
                  <a:off x="5334120" y="1905120"/>
                  <a:ext cx="304920" cy="990360"/>
                </a:xfrm>
                <a:prstGeom prst="line">
                  <a:avLst/>
                </a:prstGeom>
                <a:ln cap="sq"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Line 104"/>
                <p:cNvSpPr/>
                <p:nvPr/>
              </p:nvSpPr>
              <p:spPr>
                <a:xfrm>
                  <a:off x="5334120" y="2057400"/>
                  <a:ext cx="304920" cy="2971800"/>
                </a:xfrm>
                <a:prstGeom prst="line">
                  <a:avLst/>
                </a:prstGeom>
                <a:ln cap="sq" w="12600">
                  <a:solidFill>
                    <a:srgbClr val="8383a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38" name="Text Box 105"/>
          <p:cNvSpPr/>
          <p:nvPr/>
        </p:nvSpPr>
        <p:spPr>
          <a:xfrm>
            <a:off x="5695920" y="4230720"/>
            <a:ext cx="2666880" cy="7999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  =                - 0.3 packe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does XCP Work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FF48-DA74-4D9E-884B-C062CC15E02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341" name="Group 2"/>
          <p:cNvGrpSpPr/>
          <p:nvPr/>
        </p:nvGrpSpPr>
        <p:grpSpPr>
          <a:xfrm>
            <a:off x="990720" y="1905120"/>
            <a:ext cx="6926040" cy="701640"/>
            <a:chOff x="990720" y="1905120"/>
            <a:chExt cx="6926040" cy="701640"/>
          </a:xfrm>
        </p:grpSpPr>
        <p:grpSp>
          <p:nvGrpSpPr>
            <p:cNvPr id="1342" name="Group 3"/>
            <p:cNvGrpSpPr/>
            <p:nvPr/>
          </p:nvGrpSpPr>
          <p:grpSpPr>
            <a:xfrm>
              <a:off x="990720" y="1905120"/>
              <a:ext cx="753840" cy="701640"/>
              <a:chOff x="990720" y="1905120"/>
              <a:chExt cx="753840" cy="701640"/>
            </a:xfrm>
          </p:grpSpPr>
          <p:sp>
            <p:nvSpPr>
              <p:cNvPr id="1343" name="Rectangle 4"/>
              <p:cNvSpPr/>
              <p:nvPr/>
            </p:nvSpPr>
            <p:spPr>
              <a:xfrm>
                <a:off x="1211040" y="2025720"/>
                <a:ext cx="304560" cy="228600"/>
              </a:xfrm>
              <a:prstGeom prst="rect">
                <a:avLst/>
              </a:prstGeom>
              <a:solidFill>
                <a:srgbClr val="40417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44" name="Group 5"/>
              <p:cNvGrpSpPr/>
              <p:nvPr/>
            </p:nvGrpSpPr>
            <p:grpSpPr>
              <a:xfrm>
                <a:off x="990720" y="1905120"/>
                <a:ext cx="753840" cy="701640"/>
                <a:chOff x="990720" y="1905120"/>
                <a:chExt cx="753840" cy="701640"/>
              </a:xfrm>
            </p:grpSpPr>
            <p:sp>
              <p:nvSpPr>
                <p:cNvPr id="1345" name="Freeform 6"/>
                <p:cNvSpPr/>
                <p:nvPr/>
              </p:nvSpPr>
              <p:spPr>
                <a:xfrm>
                  <a:off x="1117440" y="2551320"/>
                  <a:ext cx="585360" cy="5544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05" h="104">
                      <a:moveTo>
                        <a:pt x="872" y="13"/>
                      </a:moveTo>
                      <a:lnTo>
                        <a:pt x="876" y="13"/>
                      </a:lnTo>
                      <a:lnTo>
                        <a:pt x="879" y="13"/>
                      </a:lnTo>
                      <a:lnTo>
                        <a:pt x="883" y="13"/>
                      </a:lnTo>
                      <a:lnTo>
                        <a:pt x="886" y="13"/>
                      </a:lnTo>
                      <a:lnTo>
                        <a:pt x="890" y="13"/>
                      </a:lnTo>
                      <a:lnTo>
                        <a:pt x="893" y="13"/>
                      </a:lnTo>
                      <a:lnTo>
                        <a:pt x="897" y="13"/>
                      </a:lnTo>
                      <a:lnTo>
                        <a:pt x="900" y="13"/>
                      </a:lnTo>
                      <a:lnTo>
                        <a:pt x="904" y="13"/>
                      </a:lnTo>
                      <a:lnTo>
                        <a:pt x="909" y="13"/>
                      </a:lnTo>
                      <a:lnTo>
                        <a:pt x="911" y="13"/>
                      </a:lnTo>
                      <a:lnTo>
                        <a:pt x="916" y="13"/>
                      </a:lnTo>
                      <a:lnTo>
                        <a:pt x="918" y="11"/>
                      </a:lnTo>
                      <a:lnTo>
                        <a:pt x="923" y="11"/>
                      </a:lnTo>
                      <a:lnTo>
                        <a:pt x="927" y="11"/>
                      </a:lnTo>
                      <a:lnTo>
                        <a:pt x="930" y="11"/>
                      </a:lnTo>
                      <a:lnTo>
                        <a:pt x="932" y="10"/>
                      </a:lnTo>
                      <a:lnTo>
                        <a:pt x="936" y="10"/>
                      </a:lnTo>
                      <a:lnTo>
                        <a:pt x="940" y="10"/>
                      </a:lnTo>
                      <a:lnTo>
                        <a:pt x="943" y="10"/>
                      </a:lnTo>
                      <a:lnTo>
                        <a:pt x="947" y="9"/>
                      </a:lnTo>
                      <a:lnTo>
                        <a:pt x="950" y="9"/>
                      </a:lnTo>
                      <a:lnTo>
                        <a:pt x="954" y="8"/>
                      </a:lnTo>
                      <a:lnTo>
                        <a:pt x="957" y="8"/>
                      </a:lnTo>
                      <a:lnTo>
                        <a:pt x="960" y="8"/>
                      </a:lnTo>
                      <a:lnTo>
                        <a:pt x="964" y="8"/>
                      </a:lnTo>
                      <a:lnTo>
                        <a:pt x="967" y="7"/>
                      </a:lnTo>
                      <a:lnTo>
                        <a:pt x="972" y="7"/>
                      </a:lnTo>
                      <a:lnTo>
                        <a:pt x="974" y="5"/>
                      </a:lnTo>
                      <a:lnTo>
                        <a:pt x="978" y="5"/>
                      </a:lnTo>
                      <a:lnTo>
                        <a:pt x="981" y="5"/>
                      </a:lnTo>
                      <a:lnTo>
                        <a:pt x="985" y="5"/>
                      </a:lnTo>
                      <a:lnTo>
                        <a:pt x="988" y="4"/>
                      </a:lnTo>
                      <a:lnTo>
                        <a:pt x="992" y="3"/>
                      </a:lnTo>
                      <a:lnTo>
                        <a:pt x="994" y="3"/>
                      </a:lnTo>
                      <a:lnTo>
                        <a:pt x="998" y="3"/>
                      </a:lnTo>
                      <a:lnTo>
                        <a:pt x="1001" y="3"/>
                      </a:lnTo>
                      <a:lnTo>
                        <a:pt x="1005" y="2"/>
                      </a:lnTo>
                      <a:lnTo>
                        <a:pt x="1007" y="2"/>
                      </a:lnTo>
                      <a:lnTo>
                        <a:pt x="1012" y="2"/>
                      </a:lnTo>
                      <a:lnTo>
                        <a:pt x="1014" y="1"/>
                      </a:lnTo>
                      <a:lnTo>
                        <a:pt x="1018" y="1"/>
                      </a:lnTo>
                      <a:lnTo>
                        <a:pt x="1021" y="1"/>
                      </a:lnTo>
                      <a:lnTo>
                        <a:pt x="1025" y="1"/>
                      </a:lnTo>
                      <a:lnTo>
                        <a:pt x="1029" y="1"/>
                      </a:lnTo>
                      <a:lnTo>
                        <a:pt x="1032" y="1"/>
                      </a:lnTo>
                      <a:lnTo>
                        <a:pt x="1034" y="1"/>
                      </a:lnTo>
                      <a:lnTo>
                        <a:pt x="1039" y="1"/>
                      </a:lnTo>
                      <a:lnTo>
                        <a:pt x="1042" y="0"/>
                      </a:lnTo>
                      <a:lnTo>
                        <a:pt x="1045" y="0"/>
                      </a:lnTo>
                      <a:lnTo>
                        <a:pt x="1048" y="0"/>
                      </a:lnTo>
                      <a:lnTo>
                        <a:pt x="1052" y="0"/>
                      </a:lnTo>
                      <a:lnTo>
                        <a:pt x="1055" y="0"/>
                      </a:lnTo>
                      <a:lnTo>
                        <a:pt x="1058" y="1"/>
                      </a:lnTo>
                      <a:lnTo>
                        <a:pt x="1062" y="1"/>
                      </a:lnTo>
                      <a:lnTo>
                        <a:pt x="1065" y="1"/>
                      </a:lnTo>
                      <a:lnTo>
                        <a:pt x="1068" y="1"/>
                      </a:lnTo>
                      <a:lnTo>
                        <a:pt x="1072" y="2"/>
                      </a:lnTo>
                      <a:lnTo>
                        <a:pt x="1075" y="2"/>
                      </a:lnTo>
                      <a:lnTo>
                        <a:pt x="1078" y="3"/>
                      </a:lnTo>
                      <a:lnTo>
                        <a:pt x="1082" y="3"/>
                      </a:lnTo>
                      <a:lnTo>
                        <a:pt x="1086" y="4"/>
                      </a:lnTo>
                      <a:lnTo>
                        <a:pt x="1089" y="5"/>
                      </a:lnTo>
                      <a:lnTo>
                        <a:pt x="1093" y="7"/>
                      </a:lnTo>
                      <a:lnTo>
                        <a:pt x="1093" y="9"/>
                      </a:lnTo>
                      <a:lnTo>
                        <a:pt x="1094" y="11"/>
                      </a:lnTo>
                      <a:lnTo>
                        <a:pt x="1095" y="14"/>
                      </a:lnTo>
                      <a:lnTo>
                        <a:pt x="1095" y="17"/>
                      </a:lnTo>
                      <a:lnTo>
                        <a:pt x="1096" y="20"/>
                      </a:lnTo>
                      <a:lnTo>
                        <a:pt x="1097" y="22"/>
                      </a:lnTo>
                      <a:lnTo>
                        <a:pt x="1097" y="24"/>
                      </a:lnTo>
                      <a:lnTo>
                        <a:pt x="1099" y="28"/>
                      </a:lnTo>
                      <a:lnTo>
                        <a:pt x="1099" y="30"/>
                      </a:lnTo>
                      <a:lnTo>
                        <a:pt x="1100" y="33"/>
                      </a:lnTo>
                      <a:lnTo>
                        <a:pt x="1101" y="35"/>
                      </a:lnTo>
                      <a:lnTo>
                        <a:pt x="1101" y="39"/>
                      </a:lnTo>
                      <a:lnTo>
                        <a:pt x="1102" y="41"/>
                      </a:lnTo>
                      <a:lnTo>
                        <a:pt x="1103" y="43"/>
                      </a:lnTo>
                      <a:lnTo>
                        <a:pt x="1103" y="46"/>
                      </a:lnTo>
                      <a:lnTo>
                        <a:pt x="1105" y="49"/>
                      </a:lnTo>
                      <a:lnTo>
                        <a:pt x="1099" y="53"/>
                      </a:lnTo>
                      <a:lnTo>
                        <a:pt x="1093" y="57"/>
                      </a:lnTo>
                      <a:lnTo>
                        <a:pt x="1086" y="60"/>
                      </a:lnTo>
                      <a:lnTo>
                        <a:pt x="1077" y="64"/>
                      </a:lnTo>
                      <a:lnTo>
                        <a:pt x="1068" y="66"/>
                      </a:lnTo>
                      <a:lnTo>
                        <a:pt x="1057" y="68"/>
                      </a:lnTo>
                      <a:lnTo>
                        <a:pt x="1048" y="72"/>
                      </a:lnTo>
                      <a:lnTo>
                        <a:pt x="1036" y="76"/>
                      </a:lnTo>
                      <a:lnTo>
                        <a:pt x="1024" y="78"/>
                      </a:lnTo>
                      <a:lnTo>
                        <a:pt x="1011" y="80"/>
                      </a:lnTo>
                      <a:lnTo>
                        <a:pt x="997" y="81"/>
                      </a:lnTo>
                      <a:lnTo>
                        <a:pt x="982" y="84"/>
                      </a:lnTo>
                      <a:lnTo>
                        <a:pt x="968" y="86"/>
                      </a:lnTo>
                      <a:lnTo>
                        <a:pt x="953" y="89"/>
                      </a:lnTo>
                      <a:lnTo>
                        <a:pt x="936" y="90"/>
                      </a:lnTo>
                      <a:lnTo>
                        <a:pt x="921" y="92"/>
                      </a:lnTo>
                      <a:lnTo>
                        <a:pt x="903" y="92"/>
                      </a:lnTo>
                      <a:lnTo>
                        <a:pt x="885" y="95"/>
                      </a:lnTo>
                      <a:lnTo>
                        <a:pt x="866" y="96"/>
                      </a:lnTo>
                      <a:lnTo>
                        <a:pt x="847" y="97"/>
                      </a:lnTo>
                      <a:lnTo>
                        <a:pt x="829" y="98"/>
                      </a:lnTo>
                      <a:lnTo>
                        <a:pt x="809" y="99"/>
                      </a:lnTo>
                      <a:lnTo>
                        <a:pt x="790" y="99"/>
                      </a:lnTo>
                      <a:lnTo>
                        <a:pt x="770" y="102"/>
                      </a:lnTo>
                      <a:lnTo>
                        <a:pt x="750" y="102"/>
                      </a:lnTo>
                      <a:lnTo>
                        <a:pt x="728" y="102"/>
                      </a:lnTo>
                      <a:lnTo>
                        <a:pt x="708" y="102"/>
                      </a:lnTo>
                      <a:lnTo>
                        <a:pt x="688" y="104"/>
                      </a:lnTo>
                      <a:lnTo>
                        <a:pt x="665" y="104"/>
                      </a:lnTo>
                      <a:lnTo>
                        <a:pt x="645" y="104"/>
                      </a:lnTo>
                      <a:lnTo>
                        <a:pt x="623" y="104"/>
                      </a:lnTo>
                      <a:lnTo>
                        <a:pt x="601" y="104"/>
                      </a:lnTo>
                      <a:lnTo>
                        <a:pt x="580" y="104"/>
                      </a:lnTo>
                      <a:lnTo>
                        <a:pt x="558" y="104"/>
                      </a:lnTo>
                      <a:lnTo>
                        <a:pt x="536" y="104"/>
                      </a:lnTo>
                      <a:lnTo>
                        <a:pt x="514" y="104"/>
                      </a:lnTo>
                      <a:lnTo>
                        <a:pt x="492" y="104"/>
                      </a:lnTo>
                      <a:lnTo>
                        <a:pt x="471" y="104"/>
                      </a:lnTo>
                      <a:lnTo>
                        <a:pt x="450" y="104"/>
                      </a:lnTo>
                      <a:lnTo>
                        <a:pt x="427" y="104"/>
                      </a:lnTo>
                      <a:lnTo>
                        <a:pt x="407" y="104"/>
                      </a:lnTo>
                      <a:lnTo>
                        <a:pt x="384" y="104"/>
                      </a:lnTo>
                      <a:lnTo>
                        <a:pt x="363" y="103"/>
                      </a:lnTo>
                      <a:lnTo>
                        <a:pt x="343" y="103"/>
                      </a:lnTo>
                      <a:lnTo>
                        <a:pt x="321" y="102"/>
                      </a:lnTo>
                      <a:lnTo>
                        <a:pt x="301" y="102"/>
                      </a:lnTo>
                      <a:lnTo>
                        <a:pt x="282" y="102"/>
                      </a:lnTo>
                      <a:lnTo>
                        <a:pt x="263" y="102"/>
                      </a:lnTo>
                      <a:lnTo>
                        <a:pt x="243" y="102"/>
                      </a:lnTo>
                      <a:lnTo>
                        <a:pt x="224" y="102"/>
                      </a:lnTo>
                      <a:lnTo>
                        <a:pt x="205" y="100"/>
                      </a:lnTo>
                      <a:lnTo>
                        <a:pt x="187" y="100"/>
                      </a:lnTo>
                      <a:lnTo>
                        <a:pt x="170" y="99"/>
                      </a:lnTo>
                      <a:lnTo>
                        <a:pt x="153" y="99"/>
                      </a:lnTo>
                      <a:lnTo>
                        <a:pt x="136" y="99"/>
                      </a:lnTo>
                      <a:lnTo>
                        <a:pt x="120" y="99"/>
                      </a:lnTo>
                      <a:lnTo>
                        <a:pt x="104" y="99"/>
                      </a:lnTo>
                      <a:lnTo>
                        <a:pt x="89" y="99"/>
                      </a:lnTo>
                      <a:lnTo>
                        <a:pt x="76" y="99"/>
                      </a:lnTo>
                      <a:lnTo>
                        <a:pt x="63" y="99"/>
                      </a:lnTo>
                      <a:lnTo>
                        <a:pt x="49" y="99"/>
                      </a:lnTo>
                      <a:lnTo>
                        <a:pt x="37" y="99"/>
                      </a:lnTo>
                      <a:lnTo>
                        <a:pt x="25" y="99"/>
                      </a:lnTo>
                      <a:lnTo>
                        <a:pt x="15" y="99"/>
                      </a:lnTo>
                      <a:lnTo>
                        <a:pt x="14" y="97"/>
                      </a:lnTo>
                      <a:lnTo>
                        <a:pt x="12" y="93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7" y="83"/>
                      </a:lnTo>
                      <a:lnTo>
                        <a:pt x="6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70"/>
                      </a:lnTo>
                      <a:lnTo>
                        <a:pt x="2" y="67"/>
                      </a:lnTo>
                      <a:lnTo>
                        <a:pt x="2" y="65"/>
                      </a:lnTo>
                      <a:lnTo>
                        <a:pt x="2" y="62"/>
                      </a:lnTo>
                      <a:lnTo>
                        <a:pt x="0" y="59"/>
                      </a:lnTo>
                      <a:lnTo>
                        <a:pt x="0" y="57"/>
                      </a:lnTo>
                      <a:lnTo>
                        <a:pt x="2" y="54"/>
                      </a:lnTo>
                      <a:lnTo>
                        <a:pt x="7" y="51"/>
                      </a:lnTo>
                      <a:lnTo>
                        <a:pt x="9" y="48"/>
                      </a:lnTo>
                      <a:lnTo>
                        <a:pt x="14" y="46"/>
                      </a:lnTo>
                      <a:lnTo>
                        <a:pt x="18" y="42"/>
                      </a:lnTo>
                      <a:lnTo>
                        <a:pt x="21" y="41"/>
                      </a:lnTo>
                      <a:lnTo>
                        <a:pt x="25" y="39"/>
                      </a:lnTo>
                      <a:lnTo>
                        <a:pt x="28" y="36"/>
                      </a:lnTo>
                      <a:lnTo>
                        <a:pt x="32" y="35"/>
                      </a:lnTo>
                      <a:lnTo>
                        <a:pt x="35" y="33"/>
                      </a:lnTo>
                      <a:lnTo>
                        <a:pt x="40" y="32"/>
                      </a:lnTo>
                      <a:lnTo>
                        <a:pt x="44" y="30"/>
                      </a:lnTo>
                      <a:lnTo>
                        <a:pt x="47" y="29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5" y="24"/>
                      </a:lnTo>
                      <a:lnTo>
                        <a:pt x="69" y="23"/>
                      </a:lnTo>
                      <a:lnTo>
                        <a:pt x="73" y="23"/>
                      </a:lnTo>
                      <a:lnTo>
                        <a:pt x="78" y="23"/>
                      </a:lnTo>
                      <a:lnTo>
                        <a:pt x="82" y="22"/>
                      </a:lnTo>
                      <a:lnTo>
                        <a:pt x="85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8" y="21"/>
                      </a:lnTo>
                      <a:lnTo>
                        <a:pt x="103" y="21"/>
                      </a:lnTo>
                      <a:lnTo>
                        <a:pt x="108" y="21"/>
                      </a:lnTo>
                      <a:lnTo>
                        <a:pt x="113" y="21"/>
                      </a:lnTo>
                      <a:lnTo>
                        <a:pt x="116" y="21"/>
                      </a:lnTo>
                      <a:lnTo>
                        <a:pt x="121" y="21"/>
                      </a:lnTo>
                      <a:lnTo>
                        <a:pt x="126" y="21"/>
                      </a:lnTo>
                      <a:lnTo>
                        <a:pt x="130" y="21"/>
                      </a:lnTo>
                      <a:lnTo>
                        <a:pt x="135" y="21"/>
                      </a:lnTo>
                      <a:lnTo>
                        <a:pt x="139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3" y="21"/>
                      </a:lnTo>
                      <a:lnTo>
                        <a:pt x="158" y="22"/>
                      </a:lnTo>
                      <a:lnTo>
                        <a:pt x="161" y="22"/>
                      </a:lnTo>
                      <a:lnTo>
                        <a:pt x="167" y="23"/>
                      </a:lnTo>
                      <a:lnTo>
                        <a:pt x="171" y="23"/>
                      </a:lnTo>
                      <a:lnTo>
                        <a:pt x="175" y="23"/>
                      </a:lnTo>
                      <a:lnTo>
                        <a:pt x="179" y="23"/>
                      </a:lnTo>
                      <a:lnTo>
                        <a:pt x="184" y="23"/>
                      </a:lnTo>
                      <a:lnTo>
                        <a:pt x="190" y="23"/>
                      </a:lnTo>
                      <a:lnTo>
                        <a:pt x="194" y="23"/>
                      </a:lnTo>
                      <a:lnTo>
                        <a:pt x="199" y="23"/>
                      </a:lnTo>
                      <a:lnTo>
                        <a:pt x="203" y="24"/>
                      </a:lnTo>
                      <a:lnTo>
                        <a:pt x="208" y="23"/>
                      </a:lnTo>
                      <a:lnTo>
                        <a:pt x="212" y="2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5" y="23"/>
                      </a:lnTo>
                      <a:lnTo>
                        <a:pt x="230" y="23"/>
                      </a:lnTo>
                      <a:lnTo>
                        <a:pt x="234" y="23"/>
                      </a:lnTo>
                      <a:lnTo>
                        <a:pt x="238" y="23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1" y="21"/>
                      </a:lnTo>
                      <a:lnTo>
                        <a:pt x="256" y="21"/>
                      </a:lnTo>
                      <a:lnTo>
                        <a:pt x="260" y="21"/>
                      </a:lnTo>
                      <a:lnTo>
                        <a:pt x="264" y="20"/>
                      </a:lnTo>
                      <a:lnTo>
                        <a:pt x="269" y="19"/>
                      </a:lnTo>
                      <a:lnTo>
                        <a:pt x="273" y="19"/>
                      </a:lnTo>
                      <a:lnTo>
                        <a:pt x="282" y="17"/>
                      </a:lnTo>
                      <a:lnTo>
                        <a:pt x="291" y="17"/>
                      </a:lnTo>
                      <a:lnTo>
                        <a:pt x="300" y="17"/>
                      </a:lnTo>
                      <a:lnTo>
                        <a:pt x="310" y="17"/>
                      </a:lnTo>
                      <a:lnTo>
                        <a:pt x="319" y="16"/>
                      </a:lnTo>
                      <a:lnTo>
                        <a:pt x="329" y="16"/>
                      </a:lnTo>
                      <a:lnTo>
                        <a:pt x="337" y="16"/>
                      </a:lnTo>
                      <a:lnTo>
                        <a:pt x="346" y="16"/>
                      </a:lnTo>
                      <a:lnTo>
                        <a:pt x="356" y="16"/>
                      </a:lnTo>
                      <a:lnTo>
                        <a:pt x="365" y="16"/>
                      </a:lnTo>
                      <a:lnTo>
                        <a:pt x="374" y="16"/>
                      </a:lnTo>
                      <a:lnTo>
                        <a:pt x="384" y="16"/>
                      </a:lnTo>
                      <a:lnTo>
                        <a:pt x="394" y="16"/>
                      </a:lnTo>
                      <a:lnTo>
                        <a:pt x="402" y="16"/>
                      </a:lnTo>
                      <a:lnTo>
                        <a:pt x="412" y="16"/>
                      </a:lnTo>
                      <a:lnTo>
                        <a:pt x="422" y="17"/>
                      </a:lnTo>
                      <a:lnTo>
                        <a:pt x="431" y="17"/>
                      </a:lnTo>
                      <a:lnTo>
                        <a:pt x="440" y="17"/>
                      </a:lnTo>
                      <a:lnTo>
                        <a:pt x="450" y="17"/>
                      </a:lnTo>
                      <a:lnTo>
                        <a:pt x="459" y="17"/>
                      </a:lnTo>
                      <a:lnTo>
                        <a:pt x="469" y="17"/>
                      </a:lnTo>
                      <a:lnTo>
                        <a:pt x="478" y="17"/>
                      </a:lnTo>
                      <a:lnTo>
                        <a:pt x="488" y="17"/>
                      </a:lnTo>
                      <a:lnTo>
                        <a:pt x="498" y="17"/>
                      </a:lnTo>
                      <a:lnTo>
                        <a:pt x="507" y="17"/>
                      </a:lnTo>
                      <a:lnTo>
                        <a:pt x="516" y="17"/>
                      </a:lnTo>
                      <a:lnTo>
                        <a:pt x="525" y="17"/>
                      </a:lnTo>
                      <a:lnTo>
                        <a:pt x="536" y="17"/>
                      </a:lnTo>
                      <a:lnTo>
                        <a:pt x="544" y="17"/>
                      </a:lnTo>
                      <a:lnTo>
                        <a:pt x="554" y="17"/>
                      </a:lnTo>
                      <a:lnTo>
                        <a:pt x="563" y="17"/>
                      </a:lnTo>
                      <a:lnTo>
                        <a:pt x="574" y="19"/>
                      </a:lnTo>
                      <a:lnTo>
                        <a:pt x="582" y="17"/>
                      </a:lnTo>
                      <a:lnTo>
                        <a:pt x="592" y="17"/>
                      </a:lnTo>
                      <a:lnTo>
                        <a:pt x="601" y="17"/>
                      </a:lnTo>
                      <a:lnTo>
                        <a:pt x="611" y="17"/>
                      </a:lnTo>
                      <a:lnTo>
                        <a:pt x="619" y="17"/>
                      </a:lnTo>
                      <a:lnTo>
                        <a:pt x="630" y="17"/>
                      </a:lnTo>
                      <a:lnTo>
                        <a:pt x="639" y="17"/>
                      </a:lnTo>
                      <a:lnTo>
                        <a:pt x="649" y="17"/>
                      </a:lnTo>
                      <a:lnTo>
                        <a:pt x="657" y="17"/>
                      </a:lnTo>
                      <a:lnTo>
                        <a:pt x="668" y="17"/>
                      </a:lnTo>
                      <a:lnTo>
                        <a:pt x="677" y="17"/>
                      </a:lnTo>
                      <a:lnTo>
                        <a:pt x="687" y="17"/>
                      </a:lnTo>
                      <a:lnTo>
                        <a:pt x="695" y="17"/>
                      </a:lnTo>
                      <a:lnTo>
                        <a:pt x="706" y="17"/>
                      </a:lnTo>
                      <a:lnTo>
                        <a:pt x="715" y="17"/>
                      </a:lnTo>
                      <a:lnTo>
                        <a:pt x="724" y="17"/>
                      </a:lnTo>
                      <a:lnTo>
                        <a:pt x="733" y="16"/>
                      </a:lnTo>
                      <a:lnTo>
                        <a:pt x="743" y="16"/>
                      </a:lnTo>
                      <a:lnTo>
                        <a:pt x="751" y="16"/>
                      </a:lnTo>
                      <a:lnTo>
                        <a:pt x="762" y="16"/>
                      </a:lnTo>
                      <a:lnTo>
                        <a:pt x="770" y="16"/>
                      </a:lnTo>
                      <a:lnTo>
                        <a:pt x="779" y="16"/>
                      </a:lnTo>
                      <a:lnTo>
                        <a:pt x="789" y="15"/>
                      </a:lnTo>
                      <a:lnTo>
                        <a:pt x="798" y="15"/>
                      </a:lnTo>
                      <a:lnTo>
                        <a:pt x="807" y="15"/>
                      </a:lnTo>
                      <a:lnTo>
                        <a:pt x="817" y="14"/>
                      </a:lnTo>
                      <a:lnTo>
                        <a:pt x="824" y="14"/>
                      </a:lnTo>
                      <a:lnTo>
                        <a:pt x="835" y="14"/>
                      </a:lnTo>
                      <a:lnTo>
                        <a:pt x="843" y="13"/>
                      </a:lnTo>
                      <a:lnTo>
                        <a:pt x="853" y="13"/>
                      </a:lnTo>
                      <a:lnTo>
                        <a:pt x="862" y="13"/>
                      </a:lnTo>
                      <a:lnTo>
                        <a:pt x="872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Freeform 7"/>
                <p:cNvSpPr/>
                <p:nvPr/>
              </p:nvSpPr>
              <p:spPr>
                <a:xfrm>
                  <a:off x="1117440" y="1905120"/>
                  <a:ext cx="499680" cy="61920"/>
                </a:xfrm>
                <a:custGeom>
                  <a:avLst/>
                  <a:gdLst>
                    <a:gd name="textAreaLeft" fmla="*/ 0 w 499680"/>
                    <a:gd name="textAreaRight" fmla="*/ 500040 w 499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43" h="116">
                      <a:moveTo>
                        <a:pt x="435" y="0"/>
                      </a:moveTo>
                      <a:lnTo>
                        <a:pt x="442" y="0"/>
                      </a:lnTo>
                      <a:lnTo>
                        <a:pt x="450" y="1"/>
                      </a:lnTo>
                      <a:lnTo>
                        <a:pt x="458" y="1"/>
                      </a:lnTo>
                      <a:lnTo>
                        <a:pt x="465" y="1"/>
                      </a:lnTo>
                      <a:lnTo>
                        <a:pt x="472" y="1"/>
                      </a:lnTo>
                      <a:lnTo>
                        <a:pt x="480" y="1"/>
                      </a:lnTo>
                      <a:lnTo>
                        <a:pt x="488" y="1"/>
                      </a:lnTo>
                      <a:lnTo>
                        <a:pt x="496" y="2"/>
                      </a:lnTo>
                      <a:lnTo>
                        <a:pt x="503" y="2"/>
                      </a:lnTo>
                      <a:lnTo>
                        <a:pt x="510" y="2"/>
                      </a:lnTo>
                      <a:lnTo>
                        <a:pt x="518" y="2"/>
                      </a:lnTo>
                      <a:lnTo>
                        <a:pt x="525" y="4"/>
                      </a:lnTo>
                      <a:lnTo>
                        <a:pt x="533" y="4"/>
                      </a:lnTo>
                      <a:lnTo>
                        <a:pt x="540" y="5"/>
                      </a:lnTo>
                      <a:lnTo>
                        <a:pt x="548" y="5"/>
                      </a:lnTo>
                      <a:lnTo>
                        <a:pt x="555" y="5"/>
                      </a:lnTo>
                      <a:lnTo>
                        <a:pt x="562" y="5"/>
                      </a:lnTo>
                      <a:lnTo>
                        <a:pt x="571" y="5"/>
                      </a:lnTo>
                      <a:lnTo>
                        <a:pt x="578" y="5"/>
                      </a:lnTo>
                      <a:lnTo>
                        <a:pt x="586" y="5"/>
                      </a:lnTo>
                      <a:lnTo>
                        <a:pt x="593" y="5"/>
                      </a:lnTo>
                      <a:lnTo>
                        <a:pt x="600" y="6"/>
                      </a:lnTo>
                      <a:lnTo>
                        <a:pt x="609" y="6"/>
                      </a:lnTo>
                      <a:lnTo>
                        <a:pt x="616" y="7"/>
                      </a:lnTo>
                      <a:lnTo>
                        <a:pt x="623" y="7"/>
                      </a:lnTo>
                      <a:lnTo>
                        <a:pt x="630" y="7"/>
                      </a:lnTo>
                      <a:lnTo>
                        <a:pt x="638" y="7"/>
                      </a:lnTo>
                      <a:lnTo>
                        <a:pt x="645" y="7"/>
                      </a:lnTo>
                      <a:lnTo>
                        <a:pt x="652" y="7"/>
                      </a:lnTo>
                      <a:lnTo>
                        <a:pt x="661" y="8"/>
                      </a:lnTo>
                      <a:lnTo>
                        <a:pt x="668" y="9"/>
                      </a:lnTo>
                      <a:lnTo>
                        <a:pt x="676" y="9"/>
                      </a:lnTo>
                      <a:lnTo>
                        <a:pt x="683" y="9"/>
                      </a:lnTo>
                      <a:lnTo>
                        <a:pt x="690" y="9"/>
                      </a:lnTo>
                      <a:lnTo>
                        <a:pt x="699" y="9"/>
                      </a:lnTo>
                      <a:lnTo>
                        <a:pt x="706" y="11"/>
                      </a:lnTo>
                      <a:lnTo>
                        <a:pt x="713" y="11"/>
                      </a:lnTo>
                      <a:lnTo>
                        <a:pt x="720" y="12"/>
                      </a:lnTo>
                      <a:lnTo>
                        <a:pt x="728" y="12"/>
                      </a:lnTo>
                      <a:lnTo>
                        <a:pt x="735" y="12"/>
                      </a:lnTo>
                      <a:lnTo>
                        <a:pt x="743" y="12"/>
                      </a:lnTo>
                      <a:lnTo>
                        <a:pt x="750" y="13"/>
                      </a:lnTo>
                      <a:lnTo>
                        <a:pt x="757" y="14"/>
                      </a:lnTo>
                      <a:lnTo>
                        <a:pt x="765" y="14"/>
                      </a:lnTo>
                      <a:lnTo>
                        <a:pt x="772" y="15"/>
                      </a:lnTo>
                      <a:lnTo>
                        <a:pt x="779" y="17"/>
                      </a:lnTo>
                      <a:lnTo>
                        <a:pt x="787" y="17"/>
                      </a:lnTo>
                      <a:lnTo>
                        <a:pt x="795" y="18"/>
                      </a:lnTo>
                      <a:lnTo>
                        <a:pt x="802" y="18"/>
                      </a:lnTo>
                      <a:lnTo>
                        <a:pt x="809" y="19"/>
                      </a:lnTo>
                      <a:lnTo>
                        <a:pt x="816" y="19"/>
                      </a:lnTo>
                      <a:lnTo>
                        <a:pt x="824" y="20"/>
                      </a:lnTo>
                      <a:lnTo>
                        <a:pt x="832" y="23"/>
                      </a:lnTo>
                      <a:lnTo>
                        <a:pt x="839" y="23"/>
                      </a:lnTo>
                      <a:lnTo>
                        <a:pt x="846" y="24"/>
                      </a:lnTo>
                      <a:lnTo>
                        <a:pt x="853" y="25"/>
                      </a:lnTo>
                      <a:lnTo>
                        <a:pt x="860" y="26"/>
                      </a:lnTo>
                      <a:lnTo>
                        <a:pt x="867" y="27"/>
                      </a:lnTo>
                      <a:lnTo>
                        <a:pt x="876" y="28"/>
                      </a:lnTo>
                      <a:lnTo>
                        <a:pt x="883" y="30"/>
                      </a:lnTo>
                      <a:lnTo>
                        <a:pt x="890" y="31"/>
                      </a:lnTo>
                      <a:lnTo>
                        <a:pt x="897" y="32"/>
                      </a:lnTo>
                      <a:lnTo>
                        <a:pt x="904" y="34"/>
                      </a:lnTo>
                      <a:lnTo>
                        <a:pt x="912" y="36"/>
                      </a:lnTo>
                      <a:lnTo>
                        <a:pt x="916" y="39"/>
                      </a:lnTo>
                      <a:lnTo>
                        <a:pt x="919" y="44"/>
                      </a:lnTo>
                      <a:lnTo>
                        <a:pt x="923" y="49"/>
                      </a:lnTo>
                      <a:lnTo>
                        <a:pt x="928" y="52"/>
                      </a:lnTo>
                      <a:lnTo>
                        <a:pt x="931" y="57"/>
                      </a:lnTo>
                      <a:lnTo>
                        <a:pt x="934" y="62"/>
                      </a:lnTo>
                      <a:lnTo>
                        <a:pt x="938" y="65"/>
                      </a:lnTo>
                      <a:lnTo>
                        <a:pt x="943" y="70"/>
                      </a:lnTo>
                      <a:lnTo>
                        <a:pt x="940" y="75"/>
                      </a:lnTo>
                      <a:lnTo>
                        <a:pt x="936" y="78"/>
                      </a:lnTo>
                      <a:lnTo>
                        <a:pt x="934" y="83"/>
                      </a:lnTo>
                      <a:lnTo>
                        <a:pt x="931" y="88"/>
                      </a:lnTo>
                      <a:lnTo>
                        <a:pt x="929" y="91"/>
                      </a:lnTo>
                      <a:lnTo>
                        <a:pt x="927" y="95"/>
                      </a:lnTo>
                      <a:lnTo>
                        <a:pt x="925" y="101"/>
                      </a:lnTo>
                      <a:lnTo>
                        <a:pt x="923" y="106"/>
                      </a:lnTo>
                      <a:lnTo>
                        <a:pt x="918" y="106"/>
                      </a:lnTo>
                      <a:lnTo>
                        <a:pt x="915" y="106"/>
                      </a:lnTo>
                      <a:lnTo>
                        <a:pt x="911" y="106"/>
                      </a:lnTo>
                      <a:lnTo>
                        <a:pt x="906" y="106"/>
                      </a:lnTo>
                      <a:lnTo>
                        <a:pt x="902" y="106"/>
                      </a:lnTo>
                      <a:lnTo>
                        <a:pt x="898" y="106"/>
                      </a:lnTo>
                      <a:lnTo>
                        <a:pt x="893" y="106"/>
                      </a:lnTo>
                      <a:lnTo>
                        <a:pt x="889" y="106"/>
                      </a:lnTo>
                      <a:lnTo>
                        <a:pt x="885" y="106"/>
                      </a:lnTo>
                      <a:lnTo>
                        <a:pt x="880" y="106"/>
                      </a:lnTo>
                      <a:lnTo>
                        <a:pt x="876" y="106"/>
                      </a:lnTo>
                      <a:lnTo>
                        <a:pt x="872" y="106"/>
                      </a:lnTo>
                      <a:lnTo>
                        <a:pt x="867" y="106"/>
                      </a:lnTo>
                      <a:lnTo>
                        <a:pt x="864" y="106"/>
                      </a:lnTo>
                      <a:lnTo>
                        <a:pt x="859" y="106"/>
                      </a:lnTo>
                      <a:lnTo>
                        <a:pt x="855" y="106"/>
                      </a:lnTo>
                      <a:lnTo>
                        <a:pt x="851" y="104"/>
                      </a:lnTo>
                      <a:lnTo>
                        <a:pt x="847" y="104"/>
                      </a:lnTo>
                      <a:lnTo>
                        <a:pt x="842" y="103"/>
                      </a:lnTo>
                      <a:lnTo>
                        <a:pt x="838" y="103"/>
                      </a:lnTo>
                      <a:lnTo>
                        <a:pt x="834" y="103"/>
                      </a:lnTo>
                      <a:lnTo>
                        <a:pt x="829" y="102"/>
                      </a:lnTo>
                      <a:lnTo>
                        <a:pt x="826" y="102"/>
                      </a:lnTo>
                      <a:lnTo>
                        <a:pt x="822" y="102"/>
                      </a:lnTo>
                      <a:lnTo>
                        <a:pt x="817" y="101"/>
                      </a:lnTo>
                      <a:lnTo>
                        <a:pt x="814" y="101"/>
                      </a:lnTo>
                      <a:lnTo>
                        <a:pt x="809" y="100"/>
                      </a:lnTo>
                      <a:lnTo>
                        <a:pt x="806" y="100"/>
                      </a:lnTo>
                      <a:lnTo>
                        <a:pt x="801" y="100"/>
                      </a:lnTo>
                      <a:lnTo>
                        <a:pt x="797" y="99"/>
                      </a:lnTo>
                      <a:lnTo>
                        <a:pt x="792" y="99"/>
                      </a:lnTo>
                      <a:lnTo>
                        <a:pt x="789" y="99"/>
                      </a:lnTo>
                      <a:lnTo>
                        <a:pt x="784" y="97"/>
                      </a:lnTo>
                      <a:lnTo>
                        <a:pt x="781" y="97"/>
                      </a:lnTo>
                      <a:lnTo>
                        <a:pt x="776" y="96"/>
                      </a:lnTo>
                      <a:lnTo>
                        <a:pt x="772" y="95"/>
                      </a:lnTo>
                      <a:lnTo>
                        <a:pt x="768" y="95"/>
                      </a:lnTo>
                      <a:lnTo>
                        <a:pt x="764" y="95"/>
                      </a:lnTo>
                      <a:lnTo>
                        <a:pt x="759" y="94"/>
                      </a:lnTo>
                      <a:lnTo>
                        <a:pt x="756" y="94"/>
                      </a:lnTo>
                      <a:lnTo>
                        <a:pt x="751" y="93"/>
                      </a:lnTo>
                      <a:lnTo>
                        <a:pt x="746" y="93"/>
                      </a:lnTo>
                      <a:lnTo>
                        <a:pt x="743" y="93"/>
                      </a:lnTo>
                      <a:lnTo>
                        <a:pt x="739" y="93"/>
                      </a:lnTo>
                      <a:lnTo>
                        <a:pt x="734" y="91"/>
                      </a:lnTo>
                      <a:lnTo>
                        <a:pt x="731" y="91"/>
                      </a:lnTo>
                      <a:lnTo>
                        <a:pt x="726" y="91"/>
                      </a:lnTo>
                      <a:lnTo>
                        <a:pt x="722" y="91"/>
                      </a:lnTo>
                      <a:lnTo>
                        <a:pt x="719" y="90"/>
                      </a:lnTo>
                      <a:lnTo>
                        <a:pt x="713" y="90"/>
                      </a:lnTo>
                      <a:lnTo>
                        <a:pt x="709" y="90"/>
                      </a:lnTo>
                      <a:lnTo>
                        <a:pt x="706" y="90"/>
                      </a:lnTo>
                      <a:lnTo>
                        <a:pt x="701" y="89"/>
                      </a:lnTo>
                      <a:lnTo>
                        <a:pt x="696" y="89"/>
                      </a:lnTo>
                      <a:lnTo>
                        <a:pt x="693" y="89"/>
                      </a:lnTo>
                      <a:lnTo>
                        <a:pt x="688" y="89"/>
                      </a:lnTo>
                      <a:lnTo>
                        <a:pt x="684" y="89"/>
                      </a:lnTo>
                      <a:lnTo>
                        <a:pt x="680" y="89"/>
                      </a:lnTo>
                      <a:lnTo>
                        <a:pt x="675" y="89"/>
                      </a:lnTo>
                      <a:lnTo>
                        <a:pt x="671" y="89"/>
                      </a:lnTo>
                      <a:lnTo>
                        <a:pt x="667" y="89"/>
                      </a:lnTo>
                      <a:lnTo>
                        <a:pt x="663" y="89"/>
                      </a:lnTo>
                      <a:lnTo>
                        <a:pt x="658" y="89"/>
                      </a:lnTo>
                      <a:lnTo>
                        <a:pt x="655" y="90"/>
                      </a:lnTo>
                      <a:lnTo>
                        <a:pt x="650" y="89"/>
                      </a:lnTo>
                      <a:lnTo>
                        <a:pt x="645" y="88"/>
                      </a:lnTo>
                      <a:lnTo>
                        <a:pt x="641" y="88"/>
                      </a:lnTo>
                      <a:lnTo>
                        <a:pt x="636" y="88"/>
                      </a:lnTo>
                      <a:lnTo>
                        <a:pt x="632" y="87"/>
                      </a:lnTo>
                      <a:lnTo>
                        <a:pt x="628" y="87"/>
                      </a:lnTo>
                      <a:lnTo>
                        <a:pt x="623" y="85"/>
                      </a:lnTo>
                      <a:lnTo>
                        <a:pt x="619" y="85"/>
                      </a:lnTo>
                      <a:lnTo>
                        <a:pt x="614" y="85"/>
                      </a:lnTo>
                      <a:lnTo>
                        <a:pt x="610" y="84"/>
                      </a:lnTo>
                      <a:lnTo>
                        <a:pt x="605" y="84"/>
                      </a:lnTo>
                      <a:lnTo>
                        <a:pt x="600" y="84"/>
                      </a:lnTo>
                      <a:lnTo>
                        <a:pt x="595" y="83"/>
                      </a:lnTo>
                      <a:lnTo>
                        <a:pt x="592" y="83"/>
                      </a:lnTo>
                      <a:lnTo>
                        <a:pt x="587" y="83"/>
                      </a:lnTo>
                      <a:lnTo>
                        <a:pt x="582" y="83"/>
                      </a:lnTo>
                      <a:lnTo>
                        <a:pt x="578" y="82"/>
                      </a:lnTo>
                      <a:lnTo>
                        <a:pt x="573" y="82"/>
                      </a:lnTo>
                      <a:lnTo>
                        <a:pt x="568" y="81"/>
                      </a:lnTo>
                      <a:lnTo>
                        <a:pt x="563" y="81"/>
                      </a:lnTo>
                      <a:lnTo>
                        <a:pt x="559" y="81"/>
                      </a:lnTo>
                      <a:lnTo>
                        <a:pt x="554" y="81"/>
                      </a:lnTo>
                      <a:lnTo>
                        <a:pt x="549" y="81"/>
                      </a:lnTo>
                      <a:lnTo>
                        <a:pt x="544" y="81"/>
                      </a:lnTo>
                      <a:lnTo>
                        <a:pt x="540" y="81"/>
                      </a:lnTo>
                      <a:lnTo>
                        <a:pt x="536" y="81"/>
                      </a:lnTo>
                      <a:lnTo>
                        <a:pt x="531" y="81"/>
                      </a:lnTo>
                      <a:lnTo>
                        <a:pt x="525" y="81"/>
                      </a:lnTo>
                      <a:lnTo>
                        <a:pt x="521" y="81"/>
                      </a:lnTo>
                      <a:lnTo>
                        <a:pt x="516" y="81"/>
                      </a:lnTo>
                      <a:lnTo>
                        <a:pt x="512" y="81"/>
                      </a:lnTo>
                      <a:lnTo>
                        <a:pt x="508" y="82"/>
                      </a:lnTo>
                      <a:lnTo>
                        <a:pt x="501" y="81"/>
                      </a:lnTo>
                      <a:lnTo>
                        <a:pt x="493" y="81"/>
                      </a:lnTo>
                      <a:lnTo>
                        <a:pt x="485" y="81"/>
                      </a:lnTo>
                      <a:lnTo>
                        <a:pt x="479" y="81"/>
                      </a:lnTo>
                      <a:lnTo>
                        <a:pt x="472" y="80"/>
                      </a:lnTo>
                      <a:lnTo>
                        <a:pt x="465" y="80"/>
                      </a:lnTo>
                      <a:lnTo>
                        <a:pt x="458" y="80"/>
                      </a:lnTo>
                      <a:lnTo>
                        <a:pt x="451" y="80"/>
                      </a:lnTo>
                      <a:lnTo>
                        <a:pt x="444" y="78"/>
                      </a:lnTo>
                      <a:lnTo>
                        <a:pt x="438" y="78"/>
                      </a:lnTo>
                      <a:lnTo>
                        <a:pt x="429" y="78"/>
                      </a:lnTo>
                      <a:lnTo>
                        <a:pt x="422" y="78"/>
                      </a:lnTo>
                      <a:lnTo>
                        <a:pt x="415" y="78"/>
                      </a:lnTo>
                      <a:lnTo>
                        <a:pt x="409" y="78"/>
                      </a:lnTo>
                      <a:lnTo>
                        <a:pt x="402" y="78"/>
                      </a:lnTo>
                      <a:lnTo>
                        <a:pt x="395" y="78"/>
                      </a:lnTo>
                      <a:lnTo>
                        <a:pt x="387" y="78"/>
                      </a:lnTo>
                      <a:lnTo>
                        <a:pt x="381" y="78"/>
                      </a:lnTo>
                      <a:lnTo>
                        <a:pt x="374" y="78"/>
                      </a:lnTo>
                      <a:lnTo>
                        <a:pt x="366" y="78"/>
                      </a:lnTo>
                      <a:lnTo>
                        <a:pt x="359" y="78"/>
                      </a:lnTo>
                      <a:lnTo>
                        <a:pt x="352" y="78"/>
                      </a:lnTo>
                      <a:lnTo>
                        <a:pt x="345" y="80"/>
                      </a:lnTo>
                      <a:lnTo>
                        <a:pt x="339" y="80"/>
                      </a:lnTo>
                      <a:lnTo>
                        <a:pt x="331" y="80"/>
                      </a:lnTo>
                      <a:lnTo>
                        <a:pt x="325" y="80"/>
                      </a:lnTo>
                      <a:lnTo>
                        <a:pt x="318" y="81"/>
                      </a:lnTo>
                      <a:lnTo>
                        <a:pt x="311" y="81"/>
                      </a:lnTo>
                      <a:lnTo>
                        <a:pt x="304" y="81"/>
                      </a:lnTo>
                      <a:lnTo>
                        <a:pt x="298" y="82"/>
                      </a:lnTo>
                      <a:lnTo>
                        <a:pt x="291" y="82"/>
                      </a:lnTo>
                      <a:lnTo>
                        <a:pt x="283" y="83"/>
                      </a:lnTo>
                      <a:lnTo>
                        <a:pt x="276" y="83"/>
                      </a:lnTo>
                      <a:lnTo>
                        <a:pt x="269" y="83"/>
                      </a:lnTo>
                      <a:lnTo>
                        <a:pt x="263" y="84"/>
                      </a:lnTo>
                      <a:lnTo>
                        <a:pt x="256" y="84"/>
                      </a:lnTo>
                      <a:lnTo>
                        <a:pt x="249" y="85"/>
                      </a:lnTo>
                      <a:lnTo>
                        <a:pt x="242" y="85"/>
                      </a:lnTo>
                      <a:lnTo>
                        <a:pt x="235" y="87"/>
                      </a:lnTo>
                      <a:lnTo>
                        <a:pt x="229" y="88"/>
                      </a:lnTo>
                      <a:lnTo>
                        <a:pt x="222" y="88"/>
                      </a:lnTo>
                      <a:lnTo>
                        <a:pt x="215" y="89"/>
                      </a:lnTo>
                      <a:lnTo>
                        <a:pt x="208" y="90"/>
                      </a:lnTo>
                      <a:lnTo>
                        <a:pt x="202" y="90"/>
                      </a:lnTo>
                      <a:lnTo>
                        <a:pt x="194" y="91"/>
                      </a:lnTo>
                      <a:lnTo>
                        <a:pt x="187" y="93"/>
                      </a:lnTo>
                      <a:lnTo>
                        <a:pt x="181" y="94"/>
                      </a:lnTo>
                      <a:lnTo>
                        <a:pt x="174" y="95"/>
                      </a:lnTo>
                      <a:lnTo>
                        <a:pt x="167" y="95"/>
                      </a:lnTo>
                      <a:lnTo>
                        <a:pt x="161" y="96"/>
                      </a:lnTo>
                      <a:lnTo>
                        <a:pt x="154" y="97"/>
                      </a:lnTo>
                      <a:lnTo>
                        <a:pt x="147" y="99"/>
                      </a:lnTo>
                      <a:lnTo>
                        <a:pt x="141" y="100"/>
                      </a:lnTo>
                      <a:lnTo>
                        <a:pt x="134" y="101"/>
                      </a:lnTo>
                      <a:lnTo>
                        <a:pt x="127" y="103"/>
                      </a:lnTo>
                      <a:lnTo>
                        <a:pt x="121" y="104"/>
                      </a:lnTo>
                      <a:lnTo>
                        <a:pt x="114" y="106"/>
                      </a:lnTo>
                      <a:lnTo>
                        <a:pt x="108" y="107"/>
                      </a:lnTo>
                      <a:lnTo>
                        <a:pt x="101" y="108"/>
                      </a:lnTo>
                      <a:lnTo>
                        <a:pt x="95" y="110"/>
                      </a:lnTo>
                      <a:lnTo>
                        <a:pt x="88" y="112"/>
                      </a:lnTo>
                      <a:lnTo>
                        <a:pt x="82" y="113"/>
                      </a:lnTo>
                      <a:lnTo>
                        <a:pt x="76" y="115"/>
                      </a:lnTo>
                      <a:lnTo>
                        <a:pt x="69" y="116"/>
                      </a:lnTo>
                      <a:lnTo>
                        <a:pt x="65" y="115"/>
                      </a:lnTo>
                      <a:lnTo>
                        <a:pt x="62" y="115"/>
                      </a:lnTo>
                      <a:lnTo>
                        <a:pt x="58" y="114"/>
                      </a:lnTo>
                      <a:lnTo>
                        <a:pt x="56" y="114"/>
                      </a:lnTo>
                      <a:lnTo>
                        <a:pt x="52" y="113"/>
                      </a:lnTo>
                      <a:lnTo>
                        <a:pt x="49" y="113"/>
                      </a:lnTo>
                      <a:lnTo>
                        <a:pt x="45" y="113"/>
                      </a:lnTo>
                      <a:lnTo>
                        <a:pt x="43" y="113"/>
                      </a:lnTo>
                      <a:lnTo>
                        <a:pt x="39" y="113"/>
                      </a:lnTo>
                      <a:lnTo>
                        <a:pt x="37" y="113"/>
                      </a:lnTo>
                      <a:lnTo>
                        <a:pt x="33" y="113"/>
                      </a:lnTo>
                      <a:lnTo>
                        <a:pt x="31" y="113"/>
                      </a:lnTo>
                      <a:lnTo>
                        <a:pt x="27" y="113"/>
                      </a:lnTo>
                      <a:lnTo>
                        <a:pt x="25" y="113"/>
                      </a:lnTo>
                      <a:lnTo>
                        <a:pt x="22" y="113"/>
                      </a:lnTo>
                      <a:lnTo>
                        <a:pt x="19" y="113"/>
                      </a:lnTo>
                      <a:lnTo>
                        <a:pt x="18" y="109"/>
                      </a:lnTo>
                      <a:lnTo>
                        <a:pt x="16" y="107"/>
                      </a:lnTo>
                      <a:lnTo>
                        <a:pt x="15" y="103"/>
                      </a:lnTo>
                      <a:lnTo>
                        <a:pt x="14" y="101"/>
                      </a:lnTo>
                      <a:lnTo>
                        <a:pt x="12" y="95"/>
                      </a:lnTo>
                      <a:lnTo>
                        <a:pt x="9" y="91"/>
                      </a:lnTo>
                      <a:lnTo>
                        <a:pt x="7" y="87"/>
                      </a:lnTo>
                      <a:lnTo>
                        <a:pt x="5" y="83"/>
                      </a:lnTo>
                      <a:lnTo>
                        <a:pt x="2" y="78"/>
                      </a:lnTo>
                      <a:lnTo>
                        <a:pt x="0" y="75"/>
                      </a:lnTo>
                      <a:lnTo>
                        <a:pt x="2" y="70"/>
                      </a:lnTo>
                      <a:lnTo>
                        <a:pt x="6" y="68"/>
                      </a:lnTo>
                      <a:lnTo>
                        <a:pt x="8" y="64"/>
                      </a:lnTo>
                      <a:lnTo>
                        <a:pt x="12" y="61"/>
                      </a:lnTo>
                      <a:lnTo>
                        <a:pt x="14" y="58"/>
                      </a:lnTo>
                      <a:lnTo>
                        <a:pt x="18" y="55"/>
                      </a:lnTo>
                      <a:lnTo>
                        <a:pt x="21" y="52"/>
                      </a:lnTo>
                      <a:lnTo>
                        <a:pt x="25" y="51"/>
                      </a:lnTo>
                      <a:lnTo>
                        <a:pt x="27" y="49"/>
                      </a:lnTo>
                      <a:lnTo>
                        <a:pt x="31" y="46"/>
                      </a:lnTo>
                      <a:lnTo>
                        <a:pt x="34" y="44"/>
                      </a:lnTo>
                      <a:lnTo>
                        <a:pt x="38" y="43"/>
                      </a:lnTo>
                      <a:lnTo>
                        <a:pt x="41" y="40"/>
                      </a:lnTo>
                      <a:lnTo>
                        <a:pt x="45" y="39"/>
                      </a:lnTo>
                      <a:lnTo>
                        <a:pt x="49" y="38"/>
                      </a:lnTo>
                      <a:lnTo>
                        <a:pt x="53" y="37"/>
                      </a:lnTo>
                      <a:lnTo>
                        <a:pt x="56" y="34"/>
                      </a:lnTo>
                      <a:lnTo>
                        <a:pt x="60" y="33"/>
                      </a:lnTo>
                      <a:lnTo>
                        <a:pt x="64" y="32"/>
                      </a:lnTo>
                      <a:lnTo>
                        <a:pt x="67" y="31"/>
                      </a:lnTo>
                      <a:lnTo>
                        <a:pt x="71" y="30"/>
                      </a:lnTo>
                      <a:lnTo>
                        <a:pt x="76" y="30"/>
                      </a:lnTo>
                      <a:lnTo>
                        <a:pt x="79" y="28"/>
                      </a:lnTo>
                      <a:lnTo>
                        <a:pt x="83" y="27"/>
                      </a:lnTo>
                      <a:lnTo>
                        <a:pt x="88" y="27"/>
                      </a:lnTo>
                      <a:lnTo>
                        <a:pt x="91" y="26"/>
                      </a:lnTo>
                      <a:lnTo>
                        <a:pt x="95" y="25"/>
                      </a:lnTo>
                      <a:lnTo>
                        <a:pt x="98" y="25"/>
                      </a:lnTo>
                      <a:lnTo>
                        <a:pt x="103" y="25"/>
                      </a:lnTo>
                      <a:lnTo>
                        <a:pt x="107" y="25"/>
                      </a:lnTo>
                      <a:lnTo>
                        <a:pt x="111" y="24"/>
                      </a:lnTo>
                      <a:lnTo>
                        <a:pt x="116" y="24"/>
                      </a:lnTo>
                      <a:lnTo>
                        <a:pt x="120" y="23"/>
                      </a:lnTo>
                      <a:lnTo>
                        <a:pt x="123" y="23"/>
                      </a:lnTo>
                      <a:lnTo>
                        <a:pt x="127" y="23"/>
                      </a:lnTo>
                      <a:lnTo>
                        <a:pt x="132" y="23"/>
                      </a:lnTo>
                      <a:lnTo>
                        <a:pt x="135" y="23"/>
                      </a:lnTo>
                      <a:lnTo>
                        <a:pt x="140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2" y="20"/>
                      </a:lnTo>
                      <a:lnTo>
                        <a:pt x="156" y="20"/>
                      </a:lnTo>
                      <a:lnTo>
                        <a:pt x="161" y="20"/>
                      </a:lnTo>
                      <a:lnTo>
                        <a:pt x="165" y="20"/>
                      </a:lnTo>
                      <a:lnTo>
                        <a:pt x="170" y="19"/>
                      </a:lnTo>
                      <a:lnTo>
                        <a:pt x="173" y="19"/>
                      </a:lnTo>
                      <a:lnTo>
                        <a:pt x="177" y="19"/>
                      </a:lnTo>
                      <a:lnTo>
                        <a:pt x="181" y="19"/>
                      </a:lnTo>
                      <a:lnTo>
                        <a:pt x="186" y="19"/>
                      </a:lnTo>
                      <a:lnTo>
                        <a:pt x="190" y="19"/>
                      </a:lnTo>
                      <a:lnTo>
                        <a:pt x="194" y="18"/>
                      </a:lnTo>
                      <a:lnTo>
                        <a:pt x="198" y="18"/>
                      </a:lnTo>
                      <a:lnTo>
                        <a:pt x="202" y="17"/>
                      </a:lnTo>
                      <a:lnTo>
                        <a:pt x="206" y="17"/>
                      </a:lnTo>
                      <a:lnTo>
                        <a:pt x="210" y="15"/>
                      </a:lnTo>
                      <a:lnTo>
                        <a:pt x="215" y="15"/>
                      </a:lnTo>
                      <a:lnTo>
                        <a:pt x="218" y="14"/>
                      </a:lnTo>
                      <a:lnTo>
                        <a:pt x="222" y="14"/>
                      </a:lnTo>
                      <a:lnTo>
                        <a:pt x="225" y="13"/>
                      </a:lnTo>
                      <a:lnTo>
                        <a:pt x="230" y="12"/>
                      </a:lnTo>
                      <a:lnTo>
                        <a:pt x="234" y="12"/>
                      </a:lnTo>
                      <a:lnTo>
                        <a:pt x="237" y="11"/>
                      </a:lnTo>
                      <a:lnTo>
                        <a:pt x="242" y="9"/>
                      </a:lnTo>
                      <a:lnTo>
                        <a:pt x="245" y="9"/>
                      </a:lnTo>
                      <a:lnTo>
                        <a:pt x="249" y="7"/>
                      </a:lnTo>
                      <a:lnTo>
                        <a:pt x="251" y="7"/>
                      </a:lnTo>
                      <a:lnTo>
                        <a:pt x="255" y="7"/>
                      </a:lnTo>
                      <a:lnTo>
                        <a:pt x="257" y="7"/>
                      </a:lnTo>
                      <a:lnTo>
                        <a:pt x="260" y="7"/>
                      </a:lnTo>
                      <a:lnTo>
                        <a:pt x="263" y="6"/>
                      </a:lnTo>
                      <a:lnTo>
                        <a:pt x="266" y="6"/>
                      </a:lnTo>
                      <a:lnTo>
                        <a:pt x="269" y="6"/>
                      </a:lnTo>
                      <a:lnTo>
                        <a:pt x="272" y="5"/>
                      </a:lnTo>
                      <a:lnTo>
                        <a:pt x="275" y="5"/>
                      </a:lnTo>
                      <a:lnTo>
                        <a:pt x="278" y="5"/>
                      </a:lnTo>
                      <a:lnTo>
                        <a:pt x="281" y="5"/>
                      </a:lnTo>
                      <a:lnTo>
                        <a:pt x="283" y="5"/>
                      </a:lnTo>
                      <a:lnTo>
                        <a:pt x="287" y="5"/>
                      </a:lnTo>
                      <a:lnTo>
                        <a:pt x="289" y="5"/>
                      </a:lnTo>
                      <a:lnTo>
                        <a:pt x="293" y="5"/>
                      </a:lnTo>
                      <a:lnTo>
                        <a:pt x="295" y="5"/>
                      </a:lnTo>
                      <a:lnTo>
                        <a:pt x="298" y="5"/>
                      </a:lnTo>
                      <a:lnTo>
                        <a:pt x="301" y="5"/>
                      </a:lnTo>
                      <a:lnTo>
                        <a:pt x="304" y="5"/>
                      </a:lnTo>
                      <a:lnTo>
                        <a:pt x="307" y="5"/>
                      </a:lnTo>
                      <a:lnTo>
                        <a:pt x="311" y="5"/>
                      </a:lnTo>
                      <a:lnTo>
                        <a:pt x="313" y="5"/>
                      </a:lnTo>
                      <a:lnTo>
                        <a:pt x="315" y="5"/>
                      </a:lnTo>
                      <a:lnTo>
                        <a:pt x="319" y="5"/>
                      </a:lnTo>
                      <a:lnTo>
                        <a:pt x="321" y="5"/>
                      </a:lnTo>
                      <a:lnTo>
                        <a:pt x="325" y="5"/>
                      </a:lnTo>
                      <a:lnTo>
                        <a:pt x="329" y="5"/>
                      </a:lnTo>
                      <a:lnTo>
                        <a:pt x="331" y="5"/>
                      </a:lnTo>
                      <a:lnTo>
                        <a:pt x="333" y="5"/>
                      </a:lnTo>
                      <a:lnTo>
                        <a:pt x="337" y="5"/>
                      </a:lnTo>
                      <a:lnTo>
                        <a:pt x="340" y="6"/>
                      </a:lnTo>
                      <a:lnTo>
                        <a:pt x="343" y="5"/>
                      </a:lnTo>
                      <a:lnTo>
                        <a:pt x="346" y="5"/>
                      </a:lnTo>
                      <a:lnTo>
                        <a:pt x="349" y="5"/>
                      </a:lnTo>
                      <a:lnTo>
                        <a:pt x="351" y="5"/>
                      </a:lnTo>
                      <a:lnTo>
                        <a:pt x="355" y="5"/>
                      </a:lnTo>
                      <a:lnTo>
                        <a:pt x="357" y="5"/>
                      </a:lnTo>
                      <a:lnTo>
                        <a:pt x="361" y="5"/>
                      </a:lnTo>
                      <a:lnTo>
                        <a:pt x="364" y="5"/>
                      </a:lnTo>
                      <a:lnTo>
                        <a:pt x="366" y="5"/>
                      </a:lnTo>
                      <a:lnTo>
                        <a:pt x="369" y="5"/>
                      </a:lnTo>
                      <a:lnTo>
                        <a:pt x="371" y="5"/>
                      </a:lnTo>
                      <a:lnTo>
                        <a:pt x="376" y="5"/>
                      </a:lnTo>
                      <a:lnTo>
                        <a:pt x="378" y="5"/>
                      </a:lnTo>
                      <a:lnTo>
                        <a:pt x="382" y="5"/>
                      </a:lnTo>
                      <a:lnTo>
                        <a:pt x="384" y="5"/>
                      </a:lnTo>
                      <a:lnTo>
                        <a:pt x="387" y="5"/>
                      </a:lnTo>
                      <a:lnTo>
                        <a:pt x="390" y="5"/>
                      </a:lnTo>
                      <a:lnTo>
                        <a:pt x="394" y="5"/>
                      </a:lnTo>
                      <a:lnTo>
                        <a:pt x="396" y="5"/>
                      </a:lnTo>
                      <a:lnTo>
                        <a:pt x="400" y="5"/>
                      </a:lnTo>
                      <a:lnTo>
                        <a:pt x="402" y="5"/>
                      </a:lnTo>
                      <a:lnTo>
                        <a:pt x="404" y="5"/>
                      </a:lnTo>
                      <a:lnTo>
                        <a:pt x="407" y="4"/>
                      </a:lnTo>
                      <a:lnTo>
                        <a:pt x="410" y="4"/>
                      </a:lnTo>
                      <a:lnTo>
                        <a:pt x="414" y="2"/>
                      </a:lnTo>
                      <a:lnTo>
                        <a:pt x="418" y="2"/>
                      </a:lnTo>
                      <a:lnTo>
                        <a:pt x="420" y="1"/>
                      </a:lnTo>
                      <a:lnTo>
                        <a:pt x="422" y="1"/>
                      </a:lnTo>
                      <a:lnTo>
                        <a:pt x="426" y="1"/>
                      </a:lnTo>
                      <a:lnTo>
                        <a:pt x="428" y="1"/>
                      </a:lnTo>
                      <a:lnTo>
                        <a:pt x="432" y="0"/>
                      </a:lnTo>
                      <a:lnTo>
                        <a:pt x="435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Freeform 8"/>
                <p:cNvSpPr/>
                <p:nvPr/>
              </p:nvSpPr>
              <p:spPr>
                <a:xfrm>
                  <a:off x="1182600" y="2009880"/>
                  <a:ext cx="56880" cy="263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07" h="499">
                      <a:moveTo>
                        <a:pt x="54" y="0"/>
                      </a:moveTo>
                      <a:lnTo>
                        <a:pt x="57" y="2"/>
                      </a:lnTo>
                      <a:lnTo>
                        <a:pt x="61" y="4"/>
                      </a:lnTo>
                      <a:lnTo>
                        <a:pt x="64" y="5"/>
                      </a:lnTo>
                      <a:lnTo>
                        <a:pt x="69" y="7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6" y="12"/>
                      </a:lnTo>
                      <a:lnTo>
                        <a:pt x="80" y="15"/>
                      </a:lnTo>
                      <a:lnTo>
                        <a:pt x="85" y="19"/>
                      </a:lnTo>
                      <a:lnTo>
                        <a:pt x="88" y="24"/>
                      </a:lnTo>
                      <a:lnTo>
                        <a:pt x="89" y="26"/>
                      </a:lnTo>
                      <a:lnTo>
                        <a:pt x="92" y="30"/>
                      </a:lnTo>
                      <a:lnTo>
                        <a:pt x="92" y="32"/>
                      </a:lnTo>
                      <a:lnTo>
                        <a:pt x="94" y="36"/>
                      </a:lnTo>
                      <a:lnTo>
                        <a:pt x="94" y="38"/>
                      </a:lnTo>
                      <a:lnTo>
                        <a:pt x="95" y="40"/>
                      </a:lnTo>
                      <a:lnTo>
                        <a:pt x="95" y="44"/>
                      </a:lnTo>
                      <a:lnTo>
                        <a:pt x="96" y="46"/>
                      </a:lnTo>
                      <a:lnTo>
                        <a:pt x="96" y="50"/>
                      </a:lnTo>
                      <a:lnTo>
                        <a:pt x="96" y="53"/>
                      </a:lnTo>
                      <a:lnTo>
                        <a:pt x="96" y="56"/>
                      </a:lnTo>
                      <a:lnTo>
                        <a:pt x="98" y="59"/>
                      </a:lnTo>
                      <a:lnTo>
                        <a:pt x="96" y="63"/>
                      </a:lnTo>
                      <a:lnTo>
                        <a:pt x="96" y="65"/>
                      </a:lnTo>
                      <a:lnTo>
                        <a:pt x="96" y="69"/>
                      </a:lnTo>
                      <a:lnTo>
                        <a:pt x="96" y="74"/>
                      </a:lnTo>
                      <a:lnTo>
                        <a:pt x="95" y="76"/>
                      </a:lnTo>
                      <a:lnTo>
                        <a:pt x="95" y="81"/>
                      </a:lnTo>
                      <a:lnTo>
                        <a:pt x="94" y="83"/>
                      </a:lnTo>
                      <a:lnTo>
                        <a:pt x="94" y="88"/>
                      </a:lnTo>
                      <a:lnTo>
                        <a:pt x="93" y="90"/>
                      </a:lnTo>
                      <a:lnTo>
                        <a:pt x="92" y="94"/>
                      </a:lnTo>
                      <a:lnTo>
                        <a:pt x="92" y="97"/>
                      </a:lnTo>
                      <a:lnTo>
                        <a:pt x="90" y="101"/>
                      </a:lnTo>
                      <a:lnTo>
                        <a:pt x="89" y="105"/>
                      </a:lnTo>
                      <a:lnTo>
                        <a:pt x="89" y="108"/>
                      </a:lnTo>
                      <a:lnTo>
                        <a:pt x="87" y="112"/>
                      </a:lnTo>
                      <a:lnTo>
                        <a:pt x="87" y="116"/>
                      </a:lnTo>
                      <a:lnTo>
                        <a:pt x="86" y="119"/>
                      </a:lnTo>
                      <a:lnTo>
                        <a:pt x="85" y="122"/>
                      </a:lnTo>
                      <a:lnTo>
                        <a:pt x="85" y="126"/>
                      </a:lnTo>
                      <a:lnTo>
                        <a:pt x="83" y="129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0"/>
                      </a:lnTo>
                      <a:lnTo>
                        <a:pt x="80" y="144"/>
                      </a:lnTo>
                      <a:lnTo>
                        <a:pt x="79" y="147"/>
                      </a:lnTo>
                      <a:lnTo>
                        <a:pt x="77" y="151"/>
                      </a:lnTo>
                      <a:lnTo>
                        <a:pt x="76" y="154"/>
                      </a:lnTo>
                      <a:lnTo>
                        <a:pt x="76" y="158"/>
                      </a:lnTo>
                      <a:lnTo>
                        <a:pt x="76" y="162"/>
                      </a:lnTo>
                      <a:lnTo>
                        <a:pt x="76" y="165"/>
                      </a:lnTo>
                      <a:lnTo>
                        <a:pt x="75" y="169"/>
                      </a:lnTo>
                      <a:lnTo>
                        <a:pt x="75" y="172"/>
                      </a:lnTo>
                      <a:lnTo>
                        <a:pt x="74" y="175"/>
                      </a:lnTo>
                      <a:lnTo>
                        <a:pt x="74" y="178"/>
                      </a:lnTo>
                      <a:lnTo>
                        <a:pt x="74" y="182"/>
                      </a:lnTo>
                      <a:lnTo>
                        <a:pt x="75" y="184"/>
                      </a:lnTo>
                      <a:lnTo>
                        <a:pt x="75" y="188"/>
                      </a:lnTo>
                      <a:lnTo>
                        <a:pt x="76" y="191"/>
                      </a:lnTo>
                      <a:lnTo>
                        <a:pt x="76" y="195"/>
                      </a:lnTo>
                      <a:lnTo>
                        <a:pt x="77" y="197"/>
                      </a:lnTo>
                      <a:lnTo>
                        <a:pt x="76" y="202"/>
                      </a:lnTo>
                      <a:lnTo>
                        <a:pt x="76" y="207"/>
                      </a:lnTo>
                      <a:lnTo>
                        <a:pt x="76" y="210"/>
                      </a:lnTo>
                      <a:lnTo>
                        <a:pt x="76" y="215"/>
                      </a:lnTo>
                      <a:lnTo>
                        <a:pt x="75" y="220"/>
                      </a:lnTo>
                      <a:lnTo>
                        <a:pt x="74" y="224"/>
                      </a:lnTo>
                      <a:lnTo>
                        <a:pt x="74" y="228"/>
                      </a:lnTo>
                      <a:lnTo>
                        <a:pt x="74" y="233"/>
                      </a:lnTo>
                      <a:lnTo>
                        <a:pt x="74" y="237"/>
                      </a:lnTo>
                      <a:lnTo>
                        <a:pt x="74" y="241"/>
                      </a:lnTo>
                      <a:lnTo>
                        <a:pt x="74" y="246"/>
                      </a:lnTo>
                      <a:lnTo>
                        <a:pt x="74" y="251"/>
                      </a:lnTo>
                      <a:lnTo>
                        <a:pt x="74" y="255"/>
                      </a:lnTo>
                      <a:lnTo>
                        <a:pt x="74" y="259"/>
                      </a:lnTo>
                      <a:lnTo>
                        <a:pt x="74" y="264"/>
                      </a:lnTo>
                      <a:lnTo>
                        <a:pt x="74" y="268"/>
                      </a:lnTo>
                      <a:lnTo>
                        <a:pt x="74" y="272"/>
                      </a:lnTo>
                      <a:lnTo>
                        <a:pt x="74" y="277"/>
                      </a:lnTo>
                      <a:lnTo>
                        <a:pt x="74" y="281"/>
                      </a:lnTo>
                      <a:lnTo>
                        <a:pt x="74" y="285"/>
                      </a:lnTo>
                      <a:lnTo>
                        <a:pt x="74" y="290"/>
                      </a:lnTo>
                      <a:lnTo>
                        <a:pt x="75" y="293"/>
                      </a:lnTo>
                      <a:lnTo>
                        <a:pt x="76" y="298"/>
                      </a:lnTo>
                      <a:lnTo>
                        <a:pt x="76" y="303"/>
                      </a:lnTo>
                      <a:lnTo>
                        <a:pt x="76" y="306"/>
                      </a:lnTo>
                      <a:lnTo>
                        <a:pt x="76" y="311"/>
                      </a:lnTo>
                      <a:lnTo>
                        <a:pt x="76" y="316"/>
                      </a:lnTo>
                      <a:lnTo>
                        <a:pt x="76" y="319"/>
                      </a:lnTo>
                      <a:lnTo>
                        <a:pt x="77" y="324"/>
                      </a:lnTo>
                      <a:lnTo>
                        <a:pt x="77" y="329"/>
                      </a:lnTo>
                      <a:lnTo>
                        <a:pt x="79" y="332"/>
                      </a:lnTo>
                      <a:lnTo>
                        <a:pt x="79" y="336"/>
                      </a:lnTo>
                      <a:lnTo>
                        <a:pt x="79" y="341"/>
                      </a:lnTo>
                      <a:lnTo>
                        <a:pt x="80" y="346"/>
                      </a:lnTo>
                      <a:lnTo>
                        <a:pt x="80" y="349"/>
                      </a:lnTo>
                      <a:lnTo>
                        <a:pt x="81" y="354"/>
                      </a:lnTo>
                      <a:lnTo>
                        <a:pt x="82" y="357"/>
                      </a:lnTo>
                      <a:lnTo>
                        <a:pt x="82" y="362"/>
                      </a:lnTo>
                      <a:lnTo>
                        <a:pt x="82" y="366"/>
                      </a:lnTo>
                      <a:lnTo>
                        <a:pt x="85" y="369"/>
                      </a:lnTo>
                      <a:lnTo>
                        <a:pt x="85" y="374"/>
                      </a:lnTo>
                      <a:lnTo>
                        <a:pt x="85" y="378"/>
                      </a:lnTo>
                      <a:lnTo>
                        <a:pt x="86" y="382"/>
                      </a:lnTo>
                      <a:lnTo>
                        <a:pt x="87" y="387"/>
                      </a:lnTo>
                      <a:lnTo>
                        <a:pt x="87" y="391"/>
                      </a:lnTo>
                      <a:lnTo>
                        <a:pt x="89" y="395"/>
                      </a:lnTo>
                      <a:lnTo>
                        <a:pt x="89" y="400"/>
                      </a:lnTo>
                      <a:lnTo>
                        <a:pt x="90" y="404"/>
                      </a:lnTo>
                      <a:lnTo>
                        <a:pt x="92" y="407"/>
                      </a:lnTo>
                      <a:lnTo>
                        <a:pt x="92" y="412"/>
                      </a:lnTo>
                      <a:lnTo>
                        <a:pt x="93" y="416"/>
                      </a:lnTo>
                      <a:lnTo>
                        <a:pt x="94" y="420"/>
                      </a:lnTo>
                      <a:lnTo>
                        <a:pt x="94" y="424"/>
                      </a:lnTo>
                      <a:lnTo>
                        <a:pt x="95" y="429"/>
                      </a:lnTo>
                      <a:lnTo>
                        <a:pt x="96" y="433"/>
                      </a:lnTo>
                      <a:lnTo>
                        <a:pt x="98" y="437"/>
                      </a:lnTo>
                      <a:lnTo>
                        <a:pt x="99" y="440"/>
                      </a:lnTo>
                      <a:lnTo>
                        <a:pt x="100" y="445"/>
                      </a:lnTo>
                      <a:lnTo>
                        <a:pt x="101" y="449"/>
                      </a:lnTo>
                      <a:lnTo>
                        <a:pt x="102" y="454"/>
                      </a:lnTo>
                      <a:lnTo>
                        <a:pt x="103" y="458"/>
                      </a:lnTo>
                      <a:lnTo>
                        <a:pt x="105" y="462"/>
                      </a:lnTo>
                      <a:lnTo>
                        <a:pt x="106" y="467"/>
                      </a:lnTo>
                      <a:lnTo>
                        <a:pt x="107" y="471"/>
                      </a:lnTo>
                      <a:lnTo>
                        <a:pt x="103" y="474"/>
                      </a:lnTo>
                      <a:lnTo>
                        <a:pt x="99" y="477"/>
                      </a:lnTo>
                      <a:lnTo>
                        <a:pt x="94" y="481"/>
                      </a:lnTo>
                      <a:lnTo>
                        <a:pt x="90" y="484"/>
                      </a:lnTo>
                      <a:lnTo>
                        <a:pt x="87" y="488"/>
                      </a:lnTo>
                      <a:lnTo>
                        <a:pt x="82" y="492"/>
                      </a:lnTo>
                      <a:lnTo>
                        <a:pt x="77" y="494"/>
                      </a:lnTo>
                      <a:lnTo>
                        <a:pt x="74" y="499"/>
                      </a:lnTo>
                      <a:lnTo>
                        <a:pt x="68" y="495"/>
                      </a:lnTo>
                      <a:lnTo>
                        <a:pt x="64" y="493"/>
                      </a:lnTo>
                      <a:lnTo>
                        <a:pt x="58" y="489"/>
                      </a:lnTo>
                      <a:lnTo>
                        <a:pt x="55" y="487"/>
                      </a:lnTo>
                      <a:lnTo>
                        <a:pt x="51" y="483"/>
                      </a:lnTo>
                      <a:lnTo>
                        <a:pt x="48" y="481"/>
                      </a:lnTo>
                      <a:lnTo>
                        <a:pt x="44" y="477"/>
                      </a:lnTo>
                      <a:lnTo>
                        <a:pt x="41" y="475"/>
                      </a:lnTo>
                      <a:lnTo>
                        <a:pt x="37" y="471"/>
                      </a:lnTo>
                      <a:lnTo>
                        <a:pt x="33" y="467"/>
                      </a:lnTo>
                      <a:lnTo>
                        <a:pt x="31" y="463"/>
                      </a:lnTo>
                      <a:lnTo>
                        <a:pt x="29" y="459"/>
                      </a:lnTo>
                      <a:lnTo>
                        <a:pt x="26" y="456"/>
                      </a:lnTo>
                      <a:lnTo>
                        <a:pt x="23" y="451"/>
                      </a:lnTo>
                      <a:lnTo>
                        <a:pt x="20" y="448"/>
                      </a:lnTo>
                      <a:lnTo>
                        <a:pt x="19" y="444"/>
                      </a:lnTo>
                      <a:lnTo>
                        <a:pt x="17" y="439"/>
                      </a:lnTo>
                      <a:lnTo>
                        <a:pt x="16" y="435"/>
                      </a:lnTo>
                      <a:lnTo>
                        <a:pt x="13" y="430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9" y="417"/>
                      </a:lnTo>
                      <a:lnTo>
                        <a:pt x="9" y="412"/>
                      </a:lnTo>
                      <a:lnTo>
                        <a:pt x="7" y="407"/>
                      </a:lnTo>
                      <a:lnTo>
                        <a:pt x="6" y="402"/>
                      </a:lnTo>
                      <a:lnTo>
                        <a:pt x="5" y="398"/>
                      </a:lnTo>
                      <a:lnTo>
                        <a:pt x="4" y="392"/>
                      </a:lnTo>
                      <a:lnTo>
                        <a:pt x="4" y="387"/>
                      </a:lnTo>
                      <a:lnTo>
                        <a:pt x="3" y="382"/>
                      </a:lnTo>
                      <a:lnTo>
                        <a:pt x="3" y="378"/>
                      </a:lnTo>
                      <a:lnTo>
                        <a:pt x="1" y="372"/>
                      </a:lnTo>
                      <a:lnTo>
                        <a:pt x="1" y="367"/>
                      </a:lnTo>
                      <a:lnTo>
                        <a:pt x="1" y="362"/>
                      </a:lnTo>
                      <a:lnTo>
                        <a:pt x="0" y="357"/>
                      </a:lnTo>
                      <a:lnTo>
                        <a:pt x="0" y="351"/>
                      </a:lnTo>
                      <a:lnTo>
                        <a:pt x="0" y="347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19"/>
                      </a:lnTo>
                      <a:lnTo>
                        <a:pt x="0" y="313"/>
                      </a:lnTo>
                      <a:lnTo>
                        <a:pt x="0" y="309"/>
                      </a:lnTo>
                      <a:lnTo>
                        <a:pt x="0" y="304"/>
                      </a:lnTo>
                      <a:lnTo>
                        <a:pt x="0" y="298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1" y="281"/>
                      </a:lnTo>
                      <a:lnTo>
                        <a:pt x="1" y="275"/>
                      </a:lnTo>
                      <a:lnTo>
                        <a:pt x="1" y="271"/>
                      </a:lnTo>
                      <a:lnTo>
                        <a:pt x="1" y="266"/>
                      </a:lnTo>
                      <a:lnTo>
                        <a:pt x="1" y="260"/>
                      </a:lnTo>
                      <a:lnTo>
                        <a:pt x="1" y="255"/>
                      </a:lnTo>
                      <a:lnTo>
                        <a:pt x="1" y="251"/>
                      </a:lnTo>
                      <a:lnTo>
                        <a:pt x="1" y="245"/>
                      </a:lnTo>
                      <a:lnTo>
                        <a:pt x="1" y="240"/>
                      </a:lnTo>
                      <a:lnTo>
                        <a:pt x="1" y="235"/>
                      </a:lnTo>
                      <a:lnTo>
                        <a:pt x="1" y="230"/>
                      </a:lnTo>
                      <a:lnTo>
                        <a:pt x="1" y="224"/>
                      </a:lnTo>
                      <a:lnTo>
                        <a:pt x="1" y="220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0" y="205"/>
                      </a:lnTo>
                      <a:lnTo>
                        <a:pt x="0" y="201"/>
                      </a:lnTo>
                      <a:lnTo>
                        <a:pt x="0" y="197"/>
                      </a:lnTo>
                      <a:lnTo>
                        <a:pt x="0" y="194"/>
                      </a:lnTo>
                      <a:lnTo>
                        <a:pt x="0" y="190"/>
                      </a:lnTo>
                      <a:lnTo>
                        <a:pt x="0" y="188"/>
                      </a:lnTo>
                      <a:lnTo>
                        <a:pt x="0" y="183"/>
                      </a:lnTo>
                      <a:lnTo>
                        <a:pt x="1" y="181"/>
                      </a:lnTo>
                      <a:lnTo>
                        <a:pt x="1" y="177"/>
                      </a:lnTo>
                      <a:lnTo>
                        <a:pt x="1" y="173"/>
                      </a:lnTo>
                      <a:lnTo>
                        <a:pt x="1" y="170"/>
                      </a:lnTo>
                      <a:lnTo>
                        <a:pt x="1" y="166"/>
                      </a:lnTo>
                      <a:lnTo>
                        <a:pt x="1" y="163"/>
                      </a:lnTo>
                      <a:lnTo>
                        <a:pt x="3" y="159"/>
                      </a:lnTo>
                      <a:lnTo>
                        <a:pt x="3" y="156"/>
                      </a:lnTo>
                      <a:lnTo>
                        <a:pt x="3" y="153"/>
                      </a:lnTo>
                      <a:lnTo>
                        <a:pt x="3" y="150"/>
                      </a:lnTo>
                      <a:lnTo>
                        <a:pt x="3" y="146"/>
                      </a:lnTo>
                      <a:lnTo>
                        <a:pt x="3" y="143"/>
                      </a:lnTo>
                      <a:lnTo>
                        <a:pt x="3" y="139"/>
                      </a:lnTo>
                      <a:lnTo>
                        <a:pt x="3" y="135"/>
                      </a:lnTo>
                      <a:lnTo>
                        <a:pt x="4" y="132"/>
                      </a:lnTo>
                      <a:lnTo>
                        <a:pt x="4" y="129"/>
                      </a:lnTo>
                      <a:lnTo>
                        <a:pt x="4" y="126"/>
                      </a:lnTo>
                      <a:lnTo>
                        <a:pt x="4" y="121"/>
                      </a:lnTo>
                      <a:lnTo>
                        <a:pt x="5" y="119"/>
                      </a:lnTo>
                      <a:lnTo>
                        <a:pt x="5" y="115"/>
                      </a:lnTo>
                      <a:lnTo>
                        <a:pt x="5" y="112"/>
                      </a:lnTo>
                      <a:lnTo>
                        <a:pt x="6" y="108"/>
                      </a:lnTo>
                      <a:lnTo>
                        <a:pt x="6" y="106"/>
                      </a:lnTo>
                      <a:lnTo>
                        <a:pt x="6" y="101"/>
                      </a:lnTo>
                      <a:lnTo>
                        <a:pt x="6" y="99"/>
                      </a:lnTo>
                      <a:lnTo>
                        <a:pt x="7" y="95"/>
                      </a:lnTo>
                      <a:lnTo>
                        <a:pt x="9" y="91"/>
                      </a:lnTo>
                      <a:lnTo>
                        <a:pt x="9" y="88"/>
                      </a:lnTo>
                      <a:lnTo>
                        <a:pt x="9" y="86"/>
                      </a:lnTo>
                      <a:lnTo>
                        <a:pt x="9" y="81"/>
                      </a:lnTo>
                      <a:lnTo>
                        <a:pt x="10" y="78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2" y="68"/>
                      </a:lnTo>
                      <a:lnTo>
                        <a:pt x="13" y="65"/>
                      </a:lnTo>
                      <a:lnTo>
                        <a:pt x="13" y="62"/>
                      </a:lnTo>
                      <a:lnTo>
                        <a:pt x="14" y="59"/>
                      </a:lnTo>
                      <a:lnTo>
                        <a:pt x="16" y="56"/>
                      </a:lnTo>
                      <a:lnTo>
                        <a:pt x="17" y="53"/>
                      </a:lnTo>
                      <a:lnTo>
                        <a:pt x="18" y="50"/>
                      </a:lnTo>
                      <a:lnTo>
                        <a:pt x="19" y="48"/>
                      </a:lnTo>
                      <a:lnTo>
                        <a:pt x="20" y="44"/>
                      </a:lnTo>
                      <a:lnTo>
                        <a:pt x="22" y="42"/>
                      </a:lnTo>
                      <a:lnTo>
                        <a:pt x="23" y="38"/>
                      </a:lnTo>
                      <a:lnTo>
                        <a:pt x="24" y="36"/>
                      </a:lnTo>
                      <a:lnTo>
                        <a:pt x="26" y="32"/>
                      </a:lnTo>
                      <a:lnTo>
                        <a:pt x="28" y="30"/>
                      </a:lnTo>
                      <a:lnTo>
                        <a:pt x="29" y="27"/>
                      </a:lnTo>
                      <a:lnTo>
                        <a:pt x="31" y="24"/>
                      </a:lnTo>
                      <a:lnTo>
                        <a:pt x="32" y="21"/>
                      </a:lnTo>
                      <a:lnTo>
                        <a:pt x="35" y="19"/>
                      </a:lnTo>
                      <a:lnTo>
                        <a:pt x="38" y="14"/>
                      </a:lnTo>
                      <a:lnTo>
                        <a:pt x="44" y="10"/>
                      </a:lnTo>
                      <a:lnTo>
                        <a:pt x="45" y="7"/>
                      </a:lnTo>
                      <a:lnTo>
                        <a:pt x="48" y="5"/>
                      </a:lnTo>
                      <a:lnTo>
                        <a:pt x="51" y="2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Freeform 9"/>
                <p:cNvSpPr/>
                <p:nvPr/>
              </p:nvSpPr>
              <p:spPr>
                <a:xfrm>
                  <a:off x="1547640" y="1928880"/>
                  <a:ext cx="83880" cy="419400"/>
                </a:xfrm>
                <a:custGeom>
                  <a:avLst/>
                  <a:gdLst>
                    <a:gd name="textAreaLeft" fmla="*/ 0 w 83880"/>
                    <a:gd name="textAreaRight" fmla="*/ 83880 w 8388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w="159" h="792">
                      <a:moveTo>
                        <a:pt x="144" y="0"/>
                      </a:moveTo>
                      <a:lnTo>
                        <a:pt x="58" y="8"/>
                      </a:lnTo>
                      <a:lnTo>
                        <a:pt x="60" y="23"/>
                      </a:lnTo>
                      <a:lnTo>
                        <a:pt x="60" y="38"/>
                      </a:lnTo>
                      <a:lnTo>
                        <a:pt x="63" y="52"/>
                      </a:lnTo>
                      <a:lnTo>
                        <a:pt x="64" y="67"/>
                      </a:lnTo>
                      <a:lnTo>
                        <a:pt x="65" y="81"/>
                      </a:lnTo>
                      <a:lnTo>
                        <a:pt x="65" y="95"/>
                      </a:lnTo>
                      <a:lnTo>
                        <a:pt x="66" y="109"/>
                      </a:lnTo>
                      <a:lnTo>
                        <a:pt x="67" y="124"/>
                      </a:lnTo>
                      <a:lnTo>
                        <a:pt x="68" y="137"/>
                      </a:lnTo>
                      <a:lnTo>
                        <a:pt x="70" y="151"/>
                      </a:lnTo>
                      <a:lnTo>
                        <a:pt x="70" y="165"/>
                      </a:lnTo>
                      <a:lnTo>
                        <a:pt x="71" y="179"/>
                      </a:lnTo>
                      <a:lnTo>
                        <a:pt x="71" y="192"/>
                      </a:lnTo>
                      <a:lnTo>
                        <a:pt x="72" y="205"/>
                      </a:lnTo>
                      <a:lnTo>
                        <a:pt x="72" y="219"/>
                      </a:lnTo>
                      <a:lnTo>
                        <a:pt x="73" y="233"/>
                      </a:lnTo>
                      <a:lnTo>
                        <a:pt x="73" y="246"/>
                      </a:lnTo>
                      <a:lnTo>
                        <a:pt x="73" y="258"/>
                      </a:lnTo>
                      <a:lnTo>
                        <a:pt x="73" y="271"/>
                      </a:lnTo>
                      <a:lnTo>
                        <a:pt x="73" y="284"/>
                      </a:lnTo>
                      <a:lnTo>
                        <a:pt x="73" y="297"/>
                      </a:lnTo>
                      <a:lnTo>
                        <a:pt x="73" y="310"/>
                      </a:lnTo>
                      <a:lnTo>
                        <a:pt x="73" y="322"/>
                      </a:lnTo>
                      <a:lnTo>
                        <a:pt x="73" y="335"/>
                      </a:lnTo>
                      <a:lnTo>
                        <a:pt x="72" y="347"/>
                      </a:lnTo>
                      <a:lnTo>
                        <a:pt x="72" y="360"/>
                      </a:lnTo>
                      <a:lnTo>
                        <a:pt x="71" y="372"/>
                      </a:lnTo>
                      <a:lnTo>
                        <a:pt x="71" y="385"/>
                      </a:lnTo>
                      <a:lnTo>
                        <a:pt x="70" y="395"/>
                      </a:lnTo>
                      <a:lnTo>
                        <a:pt x="70" y="407"/>
                      </a:lnTo>
                      <a:lnTo>
                        <a:pt x="68" y="420"/>
                      </a:lnTo>
                      <a:lnTo>
                        <a:pt x="68" y="432"/>
                      </a:lnTo>
                      <a:lnTo>
                        <a:pt x="67" y="443"/>
                      </a:lnTo>
                      <a:lnTo>
                        <a:pt x="66" y="455"/>
                      </a:lnTo>
                      <a:lnTo>
                        <a:pt x="65" y="467"/>
                      </a:lnTo>
                      <a:lnTo>
                        <a:pt x="64" y="479"/>
                      </a:lnTo>
                      <a:lnTo>
                        <a:pt x="63" y="488"/>
                      </a:lnTo>
                      <a:lnTo>
                        <a:pt x="61" y="500"/>
                      </a:lnTo>
                      <a:lnTo>
                        <a:pt x="60" y="512"/>
                      </a:lnTo>
                      <a:lnTo>
                        <a:pt x="58" y="522"/>
                      </a:lnTo>
                      <a:lnTo>
                        <a:pt x="57" y="533"/>
                      </a:lnTo>
                      <a:lnTo>
                        <a:pt x="54" y="544"/>
                      </a:lnTo>
                      <a:lnTo>
                        <a:pt x="53" y="554"/>
                      </a:lnTo>
                      <a:lnTo>
                        <a:pt x="52" y="565"/>
                      </a:lnTo>
                      <a:lnTo>
                        <a:pt x="49" y="576"/>
                      </a:lnTo>
                      <a:lnTo>
                        <a:pt x="47" y="587"/>
                      </a:lnTo>
                      <a:lnTo>
                        <a:pt x="46" y="597"/>
                      </a:lnTo>
                      <a:lnTo>
                        <a:pt x="45" y="608"/>
                      </a:lnTo>
                      <a:lnTo>
                        <a:pt x="42" y="617"/>
                      </a:lnTo>
                      <a:lnTo>
                        <a:pt x="40" y="628"/>
                      </a:lnTo>
                      <a:lnTo>
                        <a:pt x="38" y="638"/>
                      </a:lnTo>
                      <a:lnTo>
                        <a:pt x="34" y="648"/>
                      </a:lnTo>
                      <a:lnTo>
                        <a:pt x="32" y="658"/>
                      </a:lnTo>
                      <a:lnTo>
                        <a:pt x="29" y="667"/>
                      </a:lnTo>
                      <a:lnTo>
                        <a:pt x="27" y="677"/>
                      </a:lnTo>
                      <a:lnTo>
                        <a:pt x="25" y="686"/>
                      </a:lnTo>
                      <a:lnTo>
                        <a:pt x="21" y="696"/>
                      </a:lnTo>
                      <a:lnTo>
                        <a:pt x="19" y="706"/>
                      </a:lnTo>
                      <a:lnTo>
                        <a:pt x="15" y="715"/>
                      </a:lnTo>
                      <a:lnTo>
                        <a:pt x="11" y="724"/>
                      </a:lnTo>
                      <a:lnTo>
                        <a:pt x="9" y="734"/>
                      </a:lnTo>
                      <a:lnTo>
                        <a:pt x="6" y="743"/>
                      </a:lnTo>
                      <a:lnTo>
                        <a:pt x="2" y="752"/>
                      </a:lnTo>
                      <a:lnTo>
                        <a:pt x="0" y="762"/>
                      </a:lnTo>
                      <a:lnTo>
                        <a:pt x="80" y="792"/>
                      </a:lnTo>
                      <a:lnTo>
                        <a:pt x="83" y="782"/>
                      </a:lnTo>
                      <a:lnTo>
                        <a:pt x="86" y="773"/>
                      </a:lnTo>
                      <a:lnTo>
                        <a:pt x="90" y="763"/>
                      </a:lnTo>
                      <a:lnTo>
                        <a:pt x="93" y="754"/>
                      </a:lnTo>
                      <a:lnTo>
                        <a:pt x="96" y="743"/>
                      </a:lnTo>
                      <a:lnTo>
                        <a:pt x="99" y="734"/>
                      </a:lnTo>
                      <a:lnTo>
                        <a:pt x="103" y="723"/>
                      </a:lnTo>
                      <a:lnTo>
                        <a:pt x="105" y="714"/>
                      </a:lnTo>
                      <a:lnTo>
                        <a:pt x="108" y="703"/>
                      </a:lnTo>
                      <a:lnTo>
                        <a:pt x="111" y="692"/>
                      </a:lnTo>
                      <a:lnTo>
                        <a:pt x="115" y="682"/>
                      </a:lnTo>
                      <a:lnTo>
                        <a:pt x="117" y="671"/>
                      </a:lnTo>
                      <a:lnTo>
                        <a:pt x="119" y="661"/>
                      </a:lnTo>
                      <a:lnTo>
                        <a:pt x="122" y="651"/>
                      </a:lnTo>
                      <a:lnTo>
                        <a:pt x="124" y="640"/>
                      </a:lnTo>
                      <a:lnTo>
                        <a:pt x="128" y="629"/>
                      </a:lnTo>
                      <a:lnTo>
                        <a:pt x="129" y="617"/>
                      </a:lnTo>
                      <a:lnTo>
                        <a:pt x="131" y="607"/>
                      </a:lnTo>
                      <a:lnTo>
                        <a:pt x="134" y="595"/>
                      </a:lnTo>
                      <a:lnTo>
                        <a:pt x="136" y="584"/>
                      </a:lnTo>
                      <a:lnTo>
                        <a:pt x="137" y="572"/>
                      </a:lnTo>
                      <a:lnTo>
                        <a:pt x="138" y="562"/>
                      </a:lnTo>
                      <a:lnTo>
                        <a:pt x="141" y="550"/>
                      </a:lnTo>
                      <a:lnTo>
                        <a:pt x="143" y="539"/>
                      </a:lnTo>
                      <a:lnTo>
                        <a:pt x="144" y="526"/>
                      </a:lnTo>
                      <a:lnTo>
                        <a:pt x="146" y="515"/>
                      </a:lnTo>
                      <a:lnTo>
                        <a:pt x="147" y="503"/>
                      </a:lnTo>
                      <a:lnTo>
                        <a:pt x="149" y="492"/>
                      </a:lnTo>
                      <a:lnTo>
                        <a:pt x="150" y="480"/>
                      </a:lnTo>
                      <a:lnTo>
                        <a:pt x="151" y="468"/>
                      </a:lnTo>
                      <a:lnTo>
                        <a:pt x="153" y="456"/>
                      </a:lnTo>
                      <a:lnTo>
                        <a:pt x="154" y="443"/>
                      </a:lnTo>
                      <a:lnTo>
                        <a:pt x="154" y="430"/>
                      </a:lnTo>
                      <a:lnTo>
                        <a:pt x="156" y="418"/>
                      </a:lnTo>
                      <a:lnTo>
                        <a:pt x="156" y="405"/>
                      </a:lnTo>
                      <a:lnTo>
                        <a:pt x="156" y="393"/>
                      </a:lnTo>
                      <a:lnTo>
                        <a:pt x="157" y="380"/>
                      </a:lnTo>
                      <a:lnTo>
                        <a:pt x="157" y="367"/>
                      </a:lnTo>
                      <a:lnTo>
                        <a:pt x="159" y="354"/>
                      </a:lnTo>
                      <a:lnTo>
                        <a:pt x="159" y="342"/>
                      </a:lnTo>
                      <a:lnTo>
                        <a:pt x="159" y="328"/>
                      </a:lnTo>
                      <a:lnTo>
                        <a:pt x="159" y="315"/>
                      </a:lnTo>
                      <a:lnTo>
                        <a:pt x="159" y="302"/>
                      </a:lnTo>
                      <a:lnTo>
                        <a:pt x="159" y="289"/>
                      </a:lnTo>
                      <a:lnTo>
                        <a:pt x="159" y="274"/>
                      </a:lnTo>
                      <a:lnTo>
                        <a:pt x="159" y="260"/>
                      </a:lnTo>
                      <a:lnTo>
                        <a:pt x="159" y="248"/>
                      </a:lnTo>
                      <a:lnTo>
                        <a:pt x="159" y="234"/>
                      </a:lnTo>
                      <a:lnTo>
                        <a:pt x="159" y="220"/>
                      </a:lnTo>
                      <a:lnTo>
                        <a:pt x="159" y="205"/>
                      </a:lnTo>
                      <a:lnTo>
                        <a:pt x="157" y="191"/>
                      </a:lnTo>
                      <a:lnTo>
                        <a:pt x="157" y="177"/>
                      </a:lnTo>
                      <a:lnTo>
                        <a:pt x="156" y="163"/>
                      </a:lnTo>
                      <a:lnTo>
                        <a:pt x="156" y="148"/>
                      </a:lnTo>
                      <a:lnTo>
                        <a:pt x="154" y="134"/>
                      </a:lnTo>
                      <a:lnTo>
                        <a:pt x="154" y="120"/>
                      </a:lnTo>
                      <a:lnTo>
                        <a:pt x="153" y="105"/>
                      </a:lnTo>
                      <a:lnTo>
                        <a:pt x="151" y="90"/>
                      </a:lnTo>
                      <a:lnTo>
                        <a:pt x="151" y="76"/>
                      </a:lnTo>
                      <a:lnTo>
                        <a:pt x="149" y="61"/>
                      </a:lnTo>
                      <a:lnTo>
                        <a:pt x="148" y="45"/>
                      </a:lnTo>
                      <a:lnTo>
                        <a:pt x="147" y="30"/>
                      </a:lnTo>
                      <a:lnTo>
                        <a:pt x="146" y="1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Freeform 10"/>
                <p:cNvSpPr/>
                <p:nvPr/>
              </p:nvSpPr>
              <p:spPr>
                <a:xfrm>
                  <a:off x="1085760" y="1938600"/>
                  <a:ext cx="504360" cy="4269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954" h="808">
                      <a:moveTo>
                        <a:pt x="932" y="710"/>
                      </a:moveTo>
                      <a:lnTo>
                        <a:pt x="916" y="711"/>
                      </a:lnTo>
                      <a:lnTo>
                        <a:pt x="899" y="711"/>
                      </a:lnTo>
                      <a:lnTo>
                        <a:pt x="882" y="712"/>
                      </a:lnTo>
                      <a:lnTo>
                        <a:pt x="865" y="712"/>
                      </a:lnTo>
                      <a:lnTo>
                        <a:pt x="849" y="713"/>
                      </a:lnTo>
                      <a:lnTo>
                        <a:pt x="832" y="714"/>
                      </a:lnTo>
                      <a:lnTo>
                        <a:pt x="814" y="714"/>
                      </a:lnTo>
                      <a:lnTo>
                        <a:pt x="799" y="716"/>
                      </a:lnTo>
                      <a:lnTo>
                        <a:pt x="782" y="716"/>
                      </a:lnTo>
                      <a:lnTo>
                        <a:pt x="764" y="717"/>
                      </a:lnTo>
                      <a:lnTo>
                        <a:pt x="748" y="717"/>
                      </a:lnTo>
                      <a:lnTo>
                        <a:pt x="731" y="717"/>
                      </a:lnTo>
                      <a:lnTo>
                        <a:pt x="715" y="717"/>
                      </a:lnTo>
                      <a:lnTo>
                        <a:pt x="698" y="718"/>
                      </a:lnTo>
                      <a:lnTo>
                        <a:pt x="681" y="718"/>
                      </a:lnTo>
                      <a:lnTo>
                        <a:pt x="666" y="719"/>
                      </a:lnTo>
                      <a:lnTo>
                        <a:pt x="648" y="719"/>
                      </a:lnTo>
                      <a:lnTo>
                        <a:pt x="633" y="720"/>
                      </a:lnTo>
                      <a:lnTo>
                        <a:pt x="615" y="720"/>
                      </a:lnTo>
                      <a:lnTo>
                        <a:pt x="600" y="720"/>
                      </a:lnTo>
                      <a:lnTo>
                        <a:pt x="583" y="720"/>
                      </a:lnTo>
                      <a:lnTo>
                        <a:pt x="566" y="720"/>
                      </a:lnTo>
                      <a:lnTo>
                        <a:pt x="552" y="720"/>
                      </a:lnTo>
                      <a:lnTo>
                        <a:pt x="535" y="721"/>
                      </a:lnTo>
                      <a:lnTo>
                        <a:pt x="520" y="721"/>
                      </a:lnTo>
                      <a:lnTo>
                        <a:pt x="503" y="721"/>
                      </a:lnTo>
                      <a:lnTo>
                        <a:pt x="488" y="721"/>
                      </a:lnTo>
                      <a:lnTo>
                        <a:pt x="474" y="721"/>
                      </a:lnTo>
                      <a:lnTo>
                        <a:pt x="458" y="721"/>
                      </a:lnTo>
                      <a:lnTo>
                        <a:pt x="444" y="721"/>
                      </a:lnTo>
                      <a:lnTo>
                        <a:pt x="430" y="721"/>
                      </a:lnTo>
                      <a:lnTo>
                        <a:pt x="414" y="721"/>
                      </a:lnTo>
                      <a:lnTo>
                        <a:pt x="400" y="721"/>
                      </a:lnTo>
                      <a:lnTo>
                        <a:pt x="387" y="720"/>
                      </a:lnTo>
                      <a:lnTo>
                        <a:pt x="372" y="720"/>
                      </a:lnTo>
                      <a:lnTo>
                        <a:pt x="359" y="720"/>
                      </a:lnTo>
                      <a:lnTo>
                        <a:pt x="346" y="720"/>
                      </a:lnTo>
                      <a:lnTo>
                        <a:pt x="333" y="719"/>
                      </a:lnTo>
                      <a:lnTo>
                        <a:pt x="320" y="719"/>
                      </a:lnTo>
                      <a:lnTo>
                        <a:pt x="308" y="719"/>
                      </a:lnTo>
                      <a:lnTo>
                        <a:pt x="295" y="718"/>
                      </a:lnTo>
                      <a:lnTo>
                        <a:pt x="283" y="717"/>
                      </a:lnTo>
                      <a:lnTo>
                        <a:pt x="271" y="717"/>
                      </a:lnTo>
                      <a:lnTo>
                        <a:pt x="260" y="717"/>
                      </a:lnTo>
                      <a:lnTo>
                        <a:pt x="248" y="716"/>
                      </a:lnTo>
                      <a:lnTo>
                        <a:pt x="238" y="714"/>
                      </a:lnTo>
                      <a:lnTo>
                        <a:pt x="228" y="714"/>
                      </a:lnTo>
                      <a:lnTo>
                        <a:pt x="219" y="714"/>
                      </a:lnTo>
                      <a:lnTo>
                        <a:pt x="208" y="713"/>
                      </a:lnTo>
                      <a:lnTo>
                        <a:pt x="200" y="712"/>
                      </a:lnTo>
                      <a:lnTo>
                        <a:pt x="190" y="711"/>
                      </a:lnTo>
                      <a:lnTo>
                        <a:pt x="182" y="711"/>
                      </a:lnTo>
                      <a:lnTo>
                        <a:pt x="174" y="710"/>
                      </a:lnTo>
                      <a:lnTo>
                        <a:pt x="166" y="708"/>
                      </a:lnTo>
                      <a:lnTo>
                        <a:pt x="159" y="707"/>
                      </a:lnTo>
                      <a:lnTo>
                        <a:pt x="152" y="707"/>
                      </a:lnTo>
                      <a:lnTo>
                        <a:pt x="145" y="705"/>
                      </a:lnTo>
                      <a:lnTo>
                        <a:pt x="139" y="705"/>
                      </a:lnTo>
                      <a:lnTo>
                        <a:pt x="134" y="702"/>
                      </a:lnTo>
                      <a:lnTo>
                        <a:pt x="128" y="702"/>
                      </a:lnTo>
                      <a:lnTo>
                        <a:pt x="125" y="700"/>
                      </a:lnTo>
                      <a:lnTo>
                        <a:pt x="120" y="699"/>
                      </a:lnTo>
                      <a:lnTo>
                        <a:pt x="117" y="698"/>
                      </a:lnTo>
                      <a:lnTo>
                        <a:pt x="114" y="697"/>
                      </a:lnTo>
                      <a:lnTo>
                        <a:pt x="113" y="693"/>
                      </a:lnTo>
                      <a:lnTo>
                        <a:pt x="111" y="689"/>
                      </a:lnTo>
                      <a:lnTo>
                        <a:pt x="110" y="687"/>
                      </a:lnTo>
                      <a:lnTo>
                        <a:pt x="108" y="682"/>
                      </a:lnTo>
                      <a:lnTo>
                        <a:pt x="107" y="678"/>
                      </a:lnTo>
                      <a:lnTo>
                        <a:pt x="106" y="674"/>
                      </a:lnTo>
                      <a:lnTo>
                        <a:pt x="105" y="668"/>
                      </a:lnTo>
                      <a:lnTo>
                        <a:pt x="104" y="663"/>
                      </a:lnTo>
                      <a:lnTo>
                        <a:pt x="102" y="656"/>
                      </a:lnTo>
                      <a:lnTo>
                        <a:pt x="101" y="650"/>
                      </a:lnTo>
                      <a:lnTo>
                        <a:pt x="101" y="644"/>
                      </a:lnTo>
                      <a:lnTo>
                        <a:pt x="100" y="636"/>
                      </a:lnTo>
                      <a:lnTo>
                        <a:pt x="99" y="629"/>
                      </a:lnTo>
                      <a:lnTo>
                        <a:pt x="99" y="622"/>
                      </a:lnTo>
                      <a:lnTo>
                        <a:pt x="98" y="613"/>
                      </a:lnTo>
                      <a:lnTo>
                        <a:pt x="96" y="606"/>
                      </a:lnTo>
                      <a:lnTo>
                        <a:pt x="95" y="597"/>
                      </a:lnTo>
                      <a:lnTo>
                        <a:pt x="95" y="589"/>
                      </a:lnTo>
                      <a:lnTo>
                        <a:pt x="94" y="578"/>
                      </a:lnTo>
                      <a:lnTo>
                        <a:pt x="93" y="570"/>
                      </a:lnTo>
                      <a:lnTo>
                        <a:pt x="93" y="559"/>
                      </a:lnTo>
                      <a:lnTo>
                        <a:pt x="92" y="549"/>
                      </a:lnTo>
                      <a:lnTo>
                        <a:pt x="91" y="540"/>
                      </a:lnTo>
                      <a:lnTo>
                        <a:pt x="91" y="529"/>
                      </a:lnTo>
                      <a:lnTo>
                        <a:pt x="91" y="517"/>
                      </a:lnTo>
                      <a:lnTo>
                        <a:pt x="89" y="507"/>
                      </a:lnTo>
                      <a:lnTo>
                        <a:pt x="89" y="496"/>
                      </a:lnTo>
                      <a:lnTo>
                        <a:pt x="89" y="484"/>
                      </a:lnTo>
                      <a:lnTo>
                        <a:pt x="88" y="473"/>
                      </a:lnTo>
                      <a:lnTo>
                        <a:pt x="88" y="462"/>
                      </a:lnTo>
                      <a:lnTo>
                        <a:pt x="88" y="450"/>
                      </a:lnTo>
                      <a:lnTo>
                        <a:pt x="88" y="438"/>
                      </a:lnTo>
                      <a:lnTo>
                        <a:pt x="87" y="425"/>
                      </a:lnTo>
                      <a:lnTo>
                        <a:pt x="87" y="413"/>
                      </a:lnTo>
                      <a:lnTo>
                        <a:pt x="86" y="400"/>
                      </a:lnTo>
                      <a:lnTo>
                        <a:pt x="86" y="388"/>
                      </a:lnTo>
                      <a:lnTo>
                        <a:pt x="86" y="374"/>
                      </a:lnTo>
                      <a:lnTo>
                        <a:pt x="86" y="361"/>
                      </a:lnTo>
                      <a:lnTo>
                        <a:pt x="86" y="348"/>
                      </a:lnTo>
                      <a:lnTo>
                        <a:pt x="86" y="334"/>
                      </a:lnTo>
                      <a:lnTo>
                        <a:pt x="85" y="320"/>
                      </a:lnTo>
                      <a:lnTo>
                        <a:pt x="85" y="307"/>
                      </a:lnTo>
                      <a:lnTo>
                        <a:pt x="85" y="294"/>
                      </a:lnTo>
                      <a:lnTo>
                        <a:pt x="85" y="280"/>
                      </a:lnTo>
                      <a:lnTo>
                        <a:pt x="85" y="267"/>
                      </a:lnTo>
                      <a:lnTo>
                        <a:pt x="85" y="253"/>
                      </a:lnTo>
                      <a:lnTo>
                        <a:pt x="85" y="238"/>
                      </a:lnTo>
                      <a:lnTo>
                        <a:pt x="86" y="226"/>
                      </a:lnTo>
                      <a:lnTo>
                        <a:pt x="86" y="211"/>
                      </a:lnTo>
                      <a:lnTo>
                        <a:pt x="86" y="198"/>
                      </a:lnTo>
                      <a:lnTo>
                        <a:pt x="86" y="184"/>
                      </a:lnTo>
                      <a:lnTo>
                        <a:pt x="86" y="169"/>
                      </a:lnTo>
                      <a:lnTo>
                        <a:pt x="86" y="155"/>
                      </a:lnTo>
                      <a:lnTo>
                        <a:pt x="86" y="141"/>
                      </a:lnTo>
                      <a:lnTo>
                        <a:pt x="86" y="127"/>
                      </a:lnTo>
                      <a:lnTo>
                        <a:pt x="87" y="114"/>
                      </a:lnTo>
                      <a:lnTo>
                        <a:pt x="87" y="99"/>
                      </a:lnTo>
                      <a:lnTo>
                        <a:pt x="87" y="85"/>
                      </a:lnTo>
                      <a:lnTo>
                        <a:pt x="87" y="71"/>
                      </a:lnTo>
                      <a:lnTo>
                        <a:pt x="88" y="58"/>
                      </a:lnTo>
                      <a:lnTo>
                        <a:pt x="88" y="44"/>
                      </a:lnTo>
                      <a:lnTo>
                        <a:pt x="88" y="31"/>
                      </a:lnTo>
                      <a:lnTo>
                        <a:pt x="89" y="18"/>
                      </a:lnTo>
                      <a:lnTo>
                        <a:pt x="91" y="4"/>
                      </a:lnTo>
                      <a:lnTo>
                        <a:pt x="88" y="2"/>
                      </a:lnTo>
                      <a:lnTo>
                        <a:pt x="86" y="1"/>
                      </a:lnTo>
                      <a:lnTo>
                        <a:pt x="83" y="1"/>
                      </a:lnTo>
                      <a:lnTo>
                        <a:pt x="81" y="1"/>
                      </a:lnTo>
                      <a:lnTo>
                        <a:pt x="79" y="1"/>
                      </a:lnTo>
                      <a:lnTo>
                        <a:pt x="76" y="1"/>
                      </a:lnTo>
                      <a:lnTo>
                        <a:pt x="73" y="0"/>
                      </a:lnTo>
                      <a:lnTo>
                        <a:pt x="69" y="0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50" y="1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38" y="1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2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3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3" y="46"/>
                      </a:lnTo>
                      <a:lnTo>
                        <a:pt x="3" y="50"/>
                      </a:lnTo>
                      <a:lnTo>
                        <a:pt x="3" y="53"/>
                      </a:lnTo>
                      <a:lnTo>
                        <a:pt x="3" y="58"/>
                      </a:lnTo>
                      <a:lnTo>
                        <a:pt x="3" y="61"/>
                      </a:lnTo>
                      <a:lnTo>
                        <a:pt x="3" y="66"/>
                      </a:lnTo>
                      <a:lnTo>
                        <a:pt x="3" y="72"/>
                      </a:lnTo>
                      <a:lnTo>
                        <a:pt x="2" y="77"/>
                      </a:lnTo>
                      <a:lnTo>
                        <a:pt x="2" y="82"/>
                      </a:lnTo>
                      <a:lnTo>
                        <a:pt x="2" y="86"/>
                      </a:lnTo>
                      <a:lnTo>
                        <a:pt x="2" y="92"/>
                      </a:lnTo>
                      <a:lnTo>
                        <a:pt x="2" y="98"/>
                      </a:lnTo>
                      <a:lnTo>
                        <a:pt x="2" y="104"/>
                      </a:lnTo>
                      <a:lnTo>
                        <a:pt x="2" y="110"/>
                      </a:lnTo>
                      <a:lnTo>
                        <a:pt x="2" y="117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0" y="134"/>
                      </a:lnTo>
                      <a:lnTo>
                        <a:pt x="0" y="141"/>
                      </a:lnTo>
                      <a:lnTo>
                        <a:pt x="0" y="147"/>
                      </a:lnTo>
                      <a:lnTo>
                        <a:pt x="0" y="154"/>
                      </a:lnTo>
                      <a:lnTo>
                        <a:pt x="0" y="160"/>
                      </a:lnTo>
                      <a:lnTo>
                        <a:pt x="0" y="167"/>
                      </a:lnTo>
                      <a:lnTo>
                        <a:pt x="0" y="174"/>
                      </a:lnTo>
                      <a:lnTo>
                        <a:pt x="0" y="181"/>
                      </a:lnTo>
                      <a:lnTo>
                        <a:pt x="0" y="188"/>
                      </a:lnTo>
                      <a:lnTo>
                        <a:pt x="0" y="196"/>
                      </a:lnTo>
                      <a:lnTo>
                        <a:pt x="0" y="203"/>
                      </a:lnTo>
                      <a:lnTo>
                        <a:pt x="0" y="210"/>
                      </a:lnTo>
                      <a:lnTo>
                        <a:pt x="0" y="218"/>
                      </a:lnTo>
                      <a:lnTo>
                        <a:pt x="0" y="225"/>
                      </a:lnTo>
                      <a:lnTo>
                        <a:pt x="0" y="232"/>
                      </a:lnTo>
                      <a:lnTo>
                        <a:pt x="0" y="240"/>
                      </a:lnTo>
                      <a:lnTo>
                        <a:pt x="0" y="247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0" y="269"/>
                      </a:lnTo>
                      <a:lnTo>
                        <a:pt x="0" y="278"/>
                      </a:lnTo>
                      <a:lnTo>
                        <a:pt x="0" y="286"/>
                      </a:lnTo>
                      <a:lnTo>
                        <a:pt x="0" y="293"/>
                      </a:lnTo>
                      <a:lnTo>
                        <a:pt x="0" y="301"/>
                      </a:lnTo>
                      <a:lnTo>
                        <a:pt x="0" y="308"/>
                      </a:lnTo>
                      <a:lnTo>
                        <a:pt x="0" y="317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40"/>
                      </a:lnTo>
                      <a:lnTo>
                        <a:pt x="0" y="349"/>
                      </a:lnTo>
                      <a:lnTo>
                        <a:pt x="0" y="364"/>
                      </a:lnTo>
                      <a:lnTo>
                        <a:pt x="0" y="381"/>
                      </a:lnTo>
                      <a:lnTo>
                        <a:pt x="0" y="395"/>
                      </a:lnTo>
                      <a:lnTo>
                        <a:pt x="0" y="410"/>
                      </a:lnTo>
                      <a:lnTo>
                        <a:pt x="0" y="424"/>
                      </a:lnTo>
                      <a:lnTo>
                        <a:pt x="2" y="439"/>
                      </a:lnTo>
                      <a:lnTo>
                        <a:pt x="2" y="452"/>
                      </a:lnTo>
                      <a:lnTo>
                        <a:pt x="3" y="465"/>
                      </a:lnTo>
                      <a:lnTo>
                        <a:pt x="3" y="478"/>
                      </a:lnTo>
                      <a:lnTo>
                        <a:pt x="3" y="490"/>
                      </a:lnTo>
                      <a:lnTo>
                        <a:pt x="3" y="502"/>
                      </a:lnTo>
                      <a:lnTo>
                        <a:pt x="4" y="514"/>
                      </a:lnTo>
                      <a:lnTo>
                        <a:pt x="4" y="524"/>
                      </a:lnTo>
                      <a:lnTo>
                        <a:pt x="5" y="535"/>
                      </a:lnTo>
                      <a:lnTo>
                        <a:pt x="5" y="546"/>
                      </a:lnTo>
                      <a:lnTo>
                        <a:pt x="6" y="556"/>
                      </a:lnTo>
                      <a:lnTo>
                        <a:pt x="6" y="565"/>
                      </a:lnTo>
                      <a:lnTo>
                        <a:pt x="7" y="575"/>
                      </a:lnTo>
                      <a:lnTo>
                        <a:pt x="7" y="584"/>
                      </a:lnTo>
                      <a:lnTo>
                        <a:pt x="9" y="593"/>
                      </a:lnTo>
                      <a:lnTo>
                        <a:pt x="10" y="600"/>
                      </a:lnTo>
                      <a:lnTo>
                        <a:pt x="10" y="609"/>
                      </a:lnTo>
                      <a:lnTo>
                        <a:pt x="11" y="617"/>
                      </a:lnTo>
                      <a:lnTo>
                        <a:pt x="12" y="625"/>
                      </a:lnTo>
                      <a:lnTo>
                        <a:pt x="12" y="631"/>
                      </a:lnTo>
                      <a:lnTo>
                        <a:pt x="13" y="638"/>
                      </a:lnTo>
                      <a:lnTo>
                        <a:pt x="15" y="646"/>
                      </a:lnTo>
                      <a:lnTo>
                        <a:pt x="15" y="651"/>
                      </a:lnTo>
                      <a:lnTo>
                        <a:pt x="16" y="657"/>
                      </a:lnTo>
                      <a:lnTo>
                        <a:pt x="17" y="663"/>
                      </a:lnTo>
                      <a:lnTo>
                        <a:pt x="17" y="669"/>
                      </a:lnTo>
                      <a:lnTo>
                        <a:pt x="19" y="674"/>
                      </a:lnTo>
                      <a:lnTo>
                        <a:pt x="21" y="679"/>
                      </a:lnTo>
                      <a:lnTo>
                        <a:pt x="21" y="685"/>
                      </a:lnTo>
                      <a:lnTo>
                        <a:pt x="22" y="689"/>
                      </a:lnTo>
                      <a:lnTo>
                        <a:pt x="23" y="693"/>
                      </a:lnTo>
                      <a:lnTo>
                        <a:pt x="23" y="697"/>
                      </a:lnTo>
                      <a:lnTo>
                        <a:pt x="25" y="701"/>
                      </a:lnTo>
                      <a:lnTo>
                        <a:pt x="25" y="705"/>
                      </a:lnTo>
                      <a:lnTo>
                        <a:pt x="26" y="708"/>
                      </a:lnTo>
                      <a:lnTo>
                        <a:pt x="28" y="712"/>
                      </a:lnTo>
                      <a:lnTo>
                        <a:pt x="28" y="714"/>
                      </a:lnTo>
                      <a:lnTo>
                        <a:pt x="29" y="718"/>
                      </a:lnTo>
                      <a:lnTo>
                        <a:pt x="30" y="720"/>
                      </a:lnTo>
                      <a:lnTo>
                        <a:pt x="30" y="723"/>
                      </a:lnTo>
                      <a:lnTo>
                        <a:pt x="32" y="726"/>
                      </a:lnTo>
                      <a:lnTo>
                        <a:pt x="32" y="729"/>
                      </a:lnTo>
                      <a:lnTo>
                        <a:pt x="34" y="731"/>
                      </a:lnTo>
                      <a:lnTo>
                        <a:pt x="35" y="735"/>
                      </a:lnTo>
                      <a:lnTo>
                        <a:pt x="37" y="738"/>
                      </a:lnTo>
                      <a:lnTo>
                        <a:pt x="38" y="740"/>
                      </a:lnTo>
                      <a:lnTo>
                        <a:pt x="41" y="744"/>
                      </a:lnTo>
                      <a:lnTo>
                        <a:pt x="43" y="749"/>
                      </a:lnTo>
                      <a:lnTo>
                        <a:pt x="48" y="752"/>
                      </a:lnTo>
                      <a:lnTo>
                        <a:pt x="50" y="757"/>
                      </a:lnTo>
                      <a:lnTo>
                        <a:pt x="55" y="762"/>
                      </a:lnTo>
                      <a:lnTo>
                        <a:pt x="56" y="763"/>
                      </a:lnTo>
                      <a:lnTo>
                        <a:pt x="61" y="765"/>
                      </a:lnTo>
                      <a:lnTo>
                        <a:pt x="63" y="768"/>
                      </a:lnTo>
                      <a:lnTo>
                        <a:pt x="68" y="771"/>
                      </a:lnTo>
                      <a:lnTo>
                        <a:pt x="70" y="773"/>
                      </a:lnTo>
                      <a:lnTo>
                        <a:pt x="73" y="774"/>
                      </a:lnTo>
                      <a:lnTo>
                        <a:pt x="75" y="775"/>
                      </a:lnTo>
                      <a:lnTo>
                        <a:pt x="79" y="775"/>
                      </a:lnTo>
                      <a:lnTo>
                        <a:pt x="81" y="777"/>
                      </a:lnTo>
                      <a:lnTo>
                        <a:pt x="85" y="778"/>
                      </a:lnTo>
                      <a:lnTo>
                        <a:pt x="88" y="780"/>
                      </a:lnTo>
                      <a:lnTo>
                        <a:pt x="92" y="781"/>
                      </a:lnTo>
                      <a:lnTo>
                        <a:pt x="96" y="782"/>
                      </a:lnTo>
                      <a:lnTo>
                        <a:pt x="100" y="783"/>
                      </a:lnTo>
                      <a:lnTo>
                        <a:pt x="105" y="784"/>
                      </a:lnTo>
                      <a:lnTo>
                        <a:pt x="110" y="786"/>
                      </a:lnTo>
                      <a:lnTo>
                        <a:pt x="114" y="786"/>
                      </a:lnTo>
                      <a:lnTo>
                        <a:pt x="119" y="788"/>
                      </a:lnTo>
                      <a:lnTo>
                        <a:pt x="125" y="788"/>
                      </a:lnTo>
                      <a:lnTo>
                        <a:pt x="131" y="790"/>
                      </a:lnTo>
                      <a:lnTo>
                        <a:pt x="137" y="790"/>
                      </a:lnTo>
                      <a:lnTo>
                        <a:pt x="144" y="793"/>
                      </a:lnTo>
                      <a:lnTo>
                        <a:pt x="150" y="793"/>
                      </a:lnTo>
                      <a:lnTo>
                        <a:pt x="157" y="794"/>
                      </a:lnTo>
                      <a:lnTo>
                        <a:pt x="164" y="795"/>
                      </a:lnTo>
                      <a:lnTo>
                        <a:pt x="172" y="796"/>
                      </a:lnTo>
                      <a:lnTo>
                        <a:pt x="181" y="796"/>
                      </a:lnTo>
                      <a:lnTo>
                        <a:pt x="190" y="799"/>
                      </a:lnTo>
                      <a:lnTo>
                        <a:pt x="198" y="799"/>
                      </a:lnTo>
                      <a:lnTo>
                        <a:pt x="208" y="800"/>
                      </a:lnTo>
                      <a:lnTo>
                        <a:pt x="217" y="800"/>
                      </a:lnTo>
                      <a:lnTo>
                        <a:pt x="228" y="801"/>
                      </a:lnTo>
                      <a:lnTo>
                        <a:pt x="238" y="801"/>
                      </a:lnTo>
                      <a:lnTo>
                        <a:pt x="250" y="802"/>
                      </a:lnTo>
                      <a:lnTo>
                        <a:pt x="260" y="803"/>
                      </a:lnTo>
                      <a:lnTo>
                        <a:pt x="273" y="803"/>
                      </a:lnTo>
                      <a:lnTo>
                        <a:pt x="284" y="803"/>
                      </a:lnTo>
                      <a:lnTo>
                        <a:pt x="297" y="805"/>
                      </a:lnTo>
                      <a:lnTo>
                        <a:pt x="310" y="806"/>
                      </a:lnTo>
                      <a:lnTo>
                        <a:pt x="324" y="806"/>
                      </a:lnTo>
                      <a:lnTo>
                        <a:pt x="339" y="806"/>
                      </a:lnTo>
                      <a:lnTo>
                        <a:pt x="352" y="806"/>
                      </a:lnTo>
                      <a:lnTo>
                        <a:pt x="367" y="807"/>
                      </a:lnTo>
                      <a:lnTo>
                        <a:pt x="384" y="808"/>
                      </a:lnTo>
                      <a:lnTo>
                        <a:pt x="399" y="808"/>
                      </a:lnTo>
                      <a:lnTo>
                        <a:pt x="416" y="808"/>
                      </a:lnTo>
                      <a:lnTo>
                        <a:pt x="432" y="808"/>
                      </a:lnTo>
                      <a:lnTo>
                        <a:pt x="451" y="808"/>
                      </a:lnTo>
                      <a:lnTo>
                        <a:pt x="470" y="808"/>
                      </a:lnTo>
                      <a:lnTo>
                        <a:pt x="488" y="808"/>
                      </a:lnTo>
                      <a:lnTo>
                        <a:pt x="508" y="808"/>
                      </a:lnTo>
                      <a:lnTo>
                        <a:pt x="528" y="808"/>
                      </a:lnTo>
                      <a:lnTo>
                        <a:pt x="538" y="808"/>
                      </a:lnTo>
                      <a:lnTo>
                        <a:pt x="546" y="808"/>
                      </a:lnTo>
                      <a:lnTo>
                        <a:pt x="557" y="807"/>
                      </a:lnTo>
                      <a:lnTo>
                        <a:pt x="566" y="807"/>
                      </a:lnTo>
                      <a:lnTo>
                        <a:pt x="575" y="806"/>
                      </a:lnTo>
                      <a:lnTo>
                        <a:pt x="585" y="806"/>
                      </a:lnTo>
                      <a:lnTo>
                        <a:pt x="595" y="806"/>
                      </a:lnTo>
                      <a:lnTo>
                        <a:pt x="604" y="806"/>
                      </a:lnTo>
                      <a:lnTo>
                        <a:pt x="614" y="806"/>
                      </a:lnTo>
                      <a:lnTo>
                        <a:pt x="622" y="806"/>
                      </a:lnTo>
                      <a:lnTo>
                        <a:pt x="632" y="806"/>
                      </a:lnTo>
                      <a:lnTo>
                        <a:pt x="641" y="806"/>
                      </a:lnTo>
                      <a:lnTo>
                        <a:pt x="651" y="806"/>
                      </a:lnTo>
                      <a:lnTo>
                        <a:pt x="660" y="806"/>
                      </a:lnTo>
                      <a:lnTo>
                        <a:pt x="668" y="806"/>
                      </a:lnTo>
                      <a:lnTo>
                        <a:pt x="678" y="806"/>
                      </a:lnTo>
                      <a:lnTo>
                        <a:pt x="686" y="805"/>
                      </a:lnTo>
                      <a:lnTo>
                        <a:pt x="696" y="803"/>
                      </a:lnTo>
                      <a:lnTo>
                        <a:pt x="704" y="803"/>
                      </a:lnTo>
                      <a:lnTo>
                        <a:pt x="713" y="803"/>
                      </a:lnTo>
                      <a:lnTo>
                        <a:pt x="722" y="803"/>
                      </a:lnTo>
                      <a:lnTo>
                        <a:pt x="730" y="803"/>
                      </a:lnTo>
                      <a:lnTo>
                        <a:pt x="738" y="803"/>
                      </a:lnTo>
                      <a:lnTo>
                        <a:pt x="747" y="803"/>
                      </a:lnTo>
                      <a:lnTo>
                        <a:pt x="755" y="802"/>
                      </a:lnTo>
                      <a:lnTo>
                        <a:pt x="763" y="801"/>
                      </a:lnTo>
                      <a:lnTo>
                        <a:pt x="772" y="801"/>
                      </a:lnTo>
                      <a:lnTo>
                        <a:pt x="780" y="801"/>
                      </a:lnTo>
                      <a:lnTo>
                        <a:pt x="787" y="801"/>
                      </a:lnTo>
                      <a:lnTo>
                        <a:pt x="794" y="801"/>
                      </a:lnTo>
                      <a:lnTo>
                        <a:pt x="802" y="801"/>
                      </a:lnTo>
                      <a:lnTo>
                        <a:pt x="810" y="801"/>
                      </a:lnTo>
                      <a:lnTo>
                        <a:pt x="817" y="801"/>
                      </a:lnTo>
                      <a:lnTo>
                        <a:pt x="824" y="800"/>
                      </a:lnTo>
                      <a:lnTo>
                        <a:pt x="830" y="800"/>
                      </a:lnTo>
                      <a:lnTo>
                        <a:pt x="838" y="800"/>
                      </a:lnTo>
                      <a:lnTo>
                        <a:pt x="844" y="799"/>
                      </a:lnTo>
                      <a:lnTo>
                        <a:pt x="850" y="799"/>
                      </a:lnTo>
                      <a:lnTo>
                        <a:pt x="856" y="799"/>
                      </a:lnTo>
                      <a:lnTo>
                        <a:pt x="863" y="799"/>
                      </a:lnTo>
                      <a:lnTo>
                        <a:pt x="868" y="797"/>
                      </a:lnTo>
                      <a:lnTo>
                        <a:pt x="875" y="797"/>
                      </a:lnTo>
                      <a:lnTo>
                        <a:pt x="881" y="797"/>
                      </a:lnTo>
                      <a:lnTo>
                        <a:pt x="885" y="797"/>
                      </a:lnTo>
                      <a:lnTo>
                        <a:pt x="890" y="796"/>
                      </a:lnTo>
                      <a:lnTo>
                        <a:pt x="896" y="796"/>
                      </a:lnTo>
                      <a:lnTo>
                        <a:pt x="901" y="796"/>
                      </a:lnTo>
                      <a:lnTo>
                        <a:pt x="906" y="796"/>
                      </a:lnTo>
                      <a:lnTo>
                        <a:pt x="909" y="796"/>
                      </a:lnTo>
                      <a:lnTo>
                        <a:pt x="914" y="795"/>
                      </a:lnTo>
                      <a:lnTo>
                        <a:pt x="919" y="795"/>
                      </a:lnTo>
                      <a:lnTo>
                        <a:pt x="921" y="795"/>
                      </a:lnTo>
                      <a:lnTo>
                        <a:pt x="925" y="794"/>
                      </a:lnTo>
                      <a:lnTo>
                        <a:pt x="928" y="794"/>
                      </a:lnTo>
                      <a:lnTo>
                        <a:pt x="932" y="794"/>
                      </a:lnTo>
                      <a:lnTo>
                        <a:pt x="935" y="794"/>
                      </a:lnTo>
                      <a:lnTo>
                        <a:pt x="940" y="794"/>
                      </a:lnTo>
                      <a:lnTo>
                        <a:pt x="944" y="794"/>
                      </a:lnTo>
                      <a:lnTo>
                        <a:pt x="947" y="794"/>
                      </a:lnTo>
                      <a:lnTo>
                        <a:pt x="950" y="794"/>
                      </a:lnTo>
                      <a:lnTo>
                        <a:pt x="952" y="793"/>
                      </a:lnTo>
                      <a:lnTo>
                        <a:pt x="954" y="790"/>
                      </a:lnTo>
                      <a:lnTo>
                        <a:pt x="954" y="788"/>
                      </a:lnTo>
                      <a:lnTo>
                        <a:pt x="954" y="786"/>
                      </a:lnTo>
                      <a:lnTo>
                        <a:pt x="954" y="783"/>
                      </a:lnTo>
                      <a:lnTo>
                        <a:pt x="954" y="781"/>
                      </a:lnTo>
                      <a:lnTo>
                        <a:pt x="954" y="777"/>
                      </a:lnTo>
                      <a:lnTo>
                        <a:pt x="953" y="774"/>
                      </a:lnTo>
                      <a:lnTo>
                        <a:pt x="952" y="770"/>
                      </a:lnTo>
                      <a:lnTo>
                        <a:pt x="952" y="767"/>
                      </a:lnTo>
                      <a:lnTo>
                        <a:pt x="951" y="763"/>
                      </a:lnTo>
                      <a:lnTo>
                        <a:pt x="950" y="759"/>
                      </a:lnTo>
                      <a:lnTo>
                        <a:pt x="950" y="755"/>
                      </a:lnTo>
                      <a:lnTo>
                        <a:pt x="948" y="751"/>
                      </a:lnTo>
                      <a:lnTo>
                        <a:pt x="946" y="748"/>
                      </a:lnTo>
                      <a:lnTo>
                        <a:pt x="945" y="743"/>
                      </a:lnTo>
                      <a:lnTo>
                        <a:pt x="944" y="739"/>
                      </a:lnTo>
                      <a:lnTo>
                        <a:pt x="942" y="736"/>
                      </a:lnTo>
                      <a:lnTo>
                        <a:pt x="941" y="732"/>
                      </a:lnTo>
                      <a:lnTo>
                        <a:pt x="939" y="729"/>
                      </a:lnTo>
                      <a:lnTo>
                        <a:pt x="939" y="725"/>
                      </a:lnTo>
                      <a:lnTo>
                        <a:pt x="938" y="723"/>
                      </a:lnTo>
                      <a:lnTo>
                        <a:pt x="937" y="720"/>
                      </a:lnTo>
                      <a:lnTo>
                        <a:pt x="934" y="717"/>
                      </a:lnTo>
                      <a:lnTo>
                        <a:pt x="934" y="714"/>
                      </a:lnTo>
                      <a:lnTo>
                        <a:pt x="934" y="713"/>
                      </a:lnTo>
                      <a:lnTo>
                        <a:pt x="932" y="711"/>
                      </a:lnTo>
                      <a:lnTo>
                        <a:pt x="932" y="71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Freeform 11"/>
                <p:cNvSpPr/>
                <p:nvPr/>
              </p:nvSpPr>
              <p:spPr>
                <a:xfrm>
                  <a:off x="1187280" y="1990800"/>
                  <a:ext cx="320400" cy="61920"/>
                </a:xfrm>
                <a:custGeom>
                  <a:avLst/>
                  <a:gdLst>
                    <a:gd name="textAreaLeft" fmla="*/ 0 w 320400"/>
                    <a:gd name="textAreaRight" fmla="*/ 320760 w 3204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05" h="119">
                      <a:moveTo>
                        <a:pt x="0" y="34"/>
                      </a:moveTo>
                      <a:lnTo>
                        <a:pt x="14" y="119"/>
                      </a:lnTo>
                      <a:lnTo>
                        <a:pt x="23" y="117"/>
                      </a:lnTo>
                      <a:lnTo>
                        <a:pt x="34" y="114"/>
                      </a:lnTo>
                      <a:lnTo>
                        <a:pt x="42" y="112"/>
                      </a:lnTo>
                      <a:lnTo>
                        <a:pt x="52" y="111"/>
                      </a:lnTo>
                      <a:lnTo>
                        <a:pt x="62" y="110"/>
                      </a:lnTo>
                      <a:lnTo>
                        <a:pt x="72" y="108"/>
                      </a:lnTo>
                      <a:lnTo>
                        <a:pt x="80" y="106"/>
                      </a:lnTo>
                      <a:lnTo>
                        <a:pt x="91" y="105"/>
                      </a:lnTo>
                      <a:lnTo>
                        <a:pt x="100" y="104"/>
                      </a:lnTo>
                      <a:lnTo>
                        <a:pt x="110" y="101"/>
                      </a:lnTo>
                      <a:lnTo>
                        <a:pt x="119" y="101"/>
                      </a:lnTo>
                      <a:lnTo>
                        <a:pt x="129" y="99"/>
                      </a:lnTo>
                      <a:lnTo>
                        <a:pt x="138" y="98"/>
                      </a:lnTo>
                      <a:lnTo>
                        <a:pt x="148" y="97"/>
                      </a:lnTo>
                      <a:lnTo>
                        <a:pt x="156" y="97"/>
                      </a:lnTo>
                      <a:lnTo>
                        <a:pt x="166" y="95"/>
                      </a:lnTo>
                      <a:lnTo>
                        <a:pt x="176" y="94"/>
                      </a:lnTo>
                      <a:lnTo>
                        <a:pt x="185" y="94"/>
                      </a:lnTo>
                      <a:lnTo>
                        <a:pt x="194" y="93"/>
                      </a:lnTo>
                      <a:lnTo>
                        <a:pt x="204" y="92"/>
                      </a:lnTo>
                      <a:lnTo>
                        <a:pt x="212" y="92"/>
                      </a:lnTo>
                      <a:lnTo>
                        <a:pt x="221" y="91"/>
                      </a:lnTo>
                      <a:lnTo>
                        <a:pt x="231" y="89"/>
                      </a:lnTo>
                      <a:lnTo>
                        <a:pt x="239" y="89"/>
                      </a:lnTo>
                      <a:lnTo>
                        <a:pt x="249" y="89"/>
                      </a:lnTo>
                      <a:lnTo>
                        <a:pt x="257" y="88"/>
                      </a:lnTo>
                      <a:lnTo>
                        <a:pt x="268" y="88"/>
                      </a:lnTo>
                      <a:lnTo>
                        <a:pt x="276" y="88"/>
                      </a:lnTo>
                      <a:lnTo>
                        <a:pt x="286" y="87"/>
                      </a:lnTo>
                      <a:lnTo>
                        <a:pt x="294" y="87"/>
                      </a:lnTo>
                      <a:lnTo>
                        <a:pt x="303" y="87"/>
                      </a:lnTo>
                      <a:lnTo>
                        <a:pt x="313" y="87"/>
                      </a:lnTo>
                      <a:lnTo>
                        <a:pt x="321" y="86"/>
                      </a:lnTo>
                      <a:lnTo>
                        <a:pt x="329" y="86"/>
                      </a:lnTo>
                      <a:lnTo>
                        <a:pt x="339" y="86"/>
                      </a:lnTo>
                      <a:lnTo>
                        <a:pt x="347" y="86"/>
                      </a:lnTo>
                      <a:lnTo>
                        <a:pt x="356" y="86"/>
                      </a:lnTo>
                      <a:lnTo>
                        <a:pt x="365" y="86"/>
                      </a:lnTo>
                      <a:lnTo>
                        <a:pt x="373" y="86"/>
                      </a:lnTo>
                      <a:lnTo>
                        <a:pt x="383" y="87"/>
                      </a:lnTo>
                      <a:lnTo>
                        <a:pt x="391" y="87"/>
                      </a:lnTo>
                      <a:lnTo>
                        <a:pt x="399" y="88"/>
                      </a:lnTo>
                      <a:lnTo>
                        <a:pt x="409" y="88"/>
                      </a:lnTo>
                      <a:lnTo>
                        <a:pt x="417" y="89"/>
                      </a:lnTo>
                      <a:lnTo>
                        <a:pt x="427" y="89"/>
                      </a:lnTo>
                      <a:lnTo>
                        <a:pt x="435" y="91"/>
                      </a:lnTo>
                      <a:lnTo>
                        <a:pt x="443" y="91"/>
                      </a:lnTo>
                      <a:lnTo>
                        <a:pt x="453" y="92"/>
                      </a:lnTo>
                      <a:lnTo>
                        <a:pt x="461" y="92"/>
                      </a:lnTo>
                      <a:lnTo>
                        <a:pt x="469" y="93"/>
                      </a:lnTo>
                      <a:lnTo>
                        <a:pt x="478" y="94"/>
                      </a:lnTo>
                      <a:lnTo>
                        <a:pt x="487" y="95"/>
                      </a:lnTo>
                      <a:lnTo>
                        <a:pt x="496" y="97"/>
                      </a:lnTo>
                      <a:lnTo>
                        <a:pt x="503" y="97"/>
                      </a:lnTo>
                      <a:lnTo>
                        <a:pt x="512" y="98"/>
                      </a:lnTo>
                      <a:lnTo>
                        <a:pt x="520" y="99"/>
                      </a:lnTo>
                      <a:lnTo>
                        <a:pt x="529" y="100"/>
                      </a:lnTo>
                      <a:lnTo>
                        <a:pt x="537" y="101"/>
                      </a:lnTo>
                      <a:lnTo>
                        <a:pt x="545" y="104"/>
                      </a:lnTo>
                      <a:lnTo>
                        <a:pt x="555" y="104"/>
                      </a:lnTo>
                      <a:lnTo>
                        <a:pt x="563" y="106"/>
                      </a:lnTo>
                      <a:lnTo>
                        <a:pt x="571" y="107"/>
                      </a:lnTo>
                      <a:lnTo>
                        <a:pt x="580" y="110"/>
                      </a:lnTo>
                      <a:lnTo>
                        <a:pt x="589" y="111"/>
                      </a:lnTo>
                      <a:lnTo>
                        <a:pt x="605" y="25"/>
                      </a:lnTo>
                      <a:lnTo>
                        <a:pt x="594" y="23"/>
                      </a:lnTo>
                      <a:lnTo>
                        <a:pt x="586" y="22"/>
                      </a:lnTo>
                      <a:lnTo>
                        <a:pt x="576" y="21"/>
                      </a:lnTo>
                      <a:lnTo>
                        <a:pt x="568" y="18"/>
                      </a:lnTo>
                      <a:lnTo>
                        <a:pt x="558" y="18"/>
                      </a:lnTo>
                      <a:lnTo>
                        <a:pt x="550" y="16"/>
                      </a:lnTo>
                      <a:lnTo>
                        <a:pt x="541" y="15"/>
                      </a:lnTo>
                      <a:lnTo>
                        <a:pt x="532" y="14"/>
                      </a:lnTo>
                      <a:lnTo>
                        <a:pt x="523" y="12"/>
                      </a:lnTo>
                      <a:lnTo>
                        <a:pt x="513" y="11"/>
                      </a:lnTo>
                      <a:lnTo>
                        <a:pt x="505" y="10"/>
                      </a:lnTo>
                      <a:lnTo>
                        <a:pt x="496" y="9"/>
                      </a:lnTo>
                      <a:lnTo>
                        <a:pt x="487" y="8"/>
                      </a:lnTo>
                      <a:lnTo>
                        <a:pt x="478" y="8"/>
                      </a:lnTo>
                      <a:lnTo>
                        <a:pt x="468" y="6"/>
                      </a:lnTo>
                      <a:lnTo>
                        <a:pt x="460" y="5"/>
                      </a:lnTo>
                      <a:lnTo>
                        <a:pt x="450" y="4"/>
                      </a:lnTo>
                      <a:lnTo>
                        <a:pt x="441" y="4"/>
                      </a:lnTo>
                      <a:lnTo>
                        <a:pt x="431" y="3"/>
                      </a:lnTo>
                      <a:lnTo>
                        <a:pt x="423" y="3"/>
                      </a:lnTo>
                      <a:lnTo>
                        <a:pt x="414" y="2"/>
                      </a:lnTo>
                      <a:lnTo>
                        <a:pt x="404" y="2"/>
                      </a:lnTo>
                      <a:lnTo>
                        <a:pt x="395" y="0"/>
                      </a:lnTo>
                      <a:lnTo>
                        <a:pt x="386" y="0"/>
                      </a:lnTo>
                      <a:lnTo>
                        <a:pt x="377" y="0"/>
                      </a:lnTo>
                      <a:lnTo>
                        <a:pt x="369" y="0"/>
                      </a:lnTo>
                      <a:lnTo>
                        <a:pt x="359" y="0"/>
                      </a:lnTo>
                      <a:lnTo>
                        <a:pt x="350" y="0"/>
                      </a:lnTo>
                      <a:lnTo>
                        <a:pt x="340" y="0"/>
                      </a:lnTo>
                      <a:lnTo>
                        <a:pt x="331" y="0"/>
                      </a:lnTo>
                      <a:lnTo>
                        <a:pt x="321" y="0"/>
                      </a:lnTo>
                      <a:lnTo>
                        <a:pt x="312" y="0"/>
                      </a:lnTo>
                      <a:lnTo>
                        <a:pt x="302" y="0"/>
                      </a:lnTo>
                      <a:lnTo>
                        <a:pt x="293" y="0"/>
                      </a:lnTo>
                      <a:lnTo>
                        <a:pt x="283" y="0"/>
                      </a:lnTo>
                      <a:lnTo>
                        <a:pt x="274" y="0"/>
                      </a:lnTo>
                      <a:lnTo>
                        <a:pt x="264" y="0"/>
                      </a:lnTo>
                      <a:lnTo>
                        <a:pt x="255" y="2"/>
                      </a:lnTo>
                      <a:lnTo>
                        <a:pt x="245" y="2"/>
                      </a:lnTo>
                      <a:lnTo>
                        <a:pt x="236" y="3"/>
                      </a:lnTo>
                      <a:lnTo>
                        <a:pt x="226" y="3"/>
                      </a:lnTo>
                      <a:lnTo>
                        <a:pt x="217" y="4"/>
                      </a:lnTo>
                      <a:lnTo>
                        <a:pt x="207" y="5"/>
                      </a:lnTo>
                      <a:lnTo>
                        <a:pt x="197" y="5"/>
                      </a:lnTo>
                      <a:lnTo>
                        <a:pt x="187" y="6"/>
                      </a:lnTo>
                      <a:lnTo>
                        <a:pt x="178" y="8"/>
                      </a:lnTo>
                      <a:lnTo>
                        <a:pt x="168" y="8"/>
                      </a:lnTo>
                      <a:lnTo>
                        <a:pt x="159" y="10"/>
                      </a:lnTo>
                      <a:lnTo>
                        <a:pt x="149" y="10"/>
                      </a:lnTo>
                      <a:lnTo>
                        <a:pt x="138" y="11"/>
                      </a:lnTo>
                      <a:lnTo>
                        <a:pt x="128" y="14"/>
                      </a:lnTo>
                      <a:lnTo>
                        <a:pt x="118" y="14"/>
                      </a:lnTo>
                      <a:lnTo>
                        <a:pt x="109" y="16"/>
                      </a:lnTo>
                      <a:lnTo>
                        <a:pt x="99" y="17"/>
                      </a:lnTo>
                      <a:lnTo>
                        <a:pt x="89" y="18"/>
                      </a:lnTo>
                      <a:lnTo>
                        <a:pt x="80" y="19"/>
                      </a:lnTo>
                      <a:lnTo>
                        <a:pt x="70" y="21"/>
                      </a:lnTo>
                      <a:lnTo>
                        <a:pt x="60" y="23"/>
                      </a:lnTo>
                      <a:lnTo>
                        <a:pt x="49" y="24"/>
                      </a:lnTo>
                      <a:lnTo>
                        <a:pt x="40" y="25"/>
                      </a:lnTo>
                      <a:lnTo>
                        <a:pt x="29" y="28"/>
                      </a:lnTo>
                      <a:lnTo>
                        <a:pt x="20" y="29"/>
                      </a:lnTo>
                      <a:lnTo>
                        <a:pt x="9" y="3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Freeform 12"/>
                <p:cNvSpPr/>
                <p:nvPr/>
              </p:nvSpPr>
              <p:spPr>
                <a:xfrm>
                  <a:off x="1074600" y="2376720"/>
                  <a:ext cx="603000" cy="52560"/>
                </a:xfrm>
                <a:custGeom>
                  <a:avLst/>
                  <a:gdLst>
                    <a:gd name="textAreaLeft" fmla="*/ 0 w 603000"/>
                    <a:gd name="textAreaRight" fmla="*/ 603360 w 6030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140" h="99">
                      <a:moveTo>
                        <a:pt x="0" y="13"/>
                      </a:moveTo>
                      <a:lnTo>
                        <a:pt x="3" y="99"/>
                      </a:lnTo>
                      <a:lnTo>
                        <a:pt x="19" y="97"/>
                      </a:lnTo>
                      <a:lnTo>
                        <a:pt x="35" y="97"/>
                      </a:lnTo>
                      <a:lnTo>
                        <a:pt x="52" y="97"/>
                      </a:lnTo>
                      <a:lnTo>
                        <a:pt x="69" y="96"/>
                      </a:lnTo>
                      <a:lnTo>
                        <a:pt x="86" y="94"/>
                      </a:lnTo>
                      <a:lnTo>
                        <a:pt x="102" y="94"/>
                      </a:lnTo>
                      <a:lnTo>
                        <a:pt x="120" y="94"/>
                      </a:lnTo>
                      <a:lnTo>
                        <a:pt x="137" y="94"/>
                      </a:lnTo>
                      <a:lnTo>
                        <a:pt x="154" y="93"/>
                      </a:lnTo>
                      <a:lnTo>
                        <a:pt x="171" y="92"/>
                      </a:lnTo>
                      <a:lnTo>
                        <a:pt x="188" y="92"/>
                      </a:lnTo>
                      <a:lnTo>
                        <a:pt x="204" y="92"/>
                      </a:lnTo>
                      <a:lnTo>
                        <a:pt x="222" y="92"/>
                      </a:lnTo>
                      <a:lnTo>
                        <a:pt x="240" y="91"/>
                      </a:lnTo>
                      <a:lnTo>
                        <a:pt x="256" y="91"/>
                      </a:lnTo>
                      <a:lnTo>
                        <a:pt x="274" y="91"/>
                      </a:lnTo>
                      <a:lnTo>
                        <a:pt x="291" y="90"/>
                      </a:lnTo>
                      <a:lnTo>
                        <a:pt x="309" y="90"/>
                      </a:lnTo>
                      <a:lnTo>
                        <a:pt x="326" y="90"/>
                      </a:lnTo>
                      <a:lnTo>
                        <a:pt x="343" y="90"/>
                      </a:lnTo>
                      <a:lnTo>
                        <a:pt x="361" y="89"/>
                      </a:lnTo>
                      <a:lnTo>
                        <a:pt x="379" y="89"/>
                      </a:lnTo>
                      <a:lnTo>
                        <a:pt x="395" y="87"/>
                      </a:lnTo>
                      <a:lnTo>
                        <a:pt x="413" y="87"/>
                      </a:lnTo>
                      <a:lnTo>
                        <a:pt x="430" y="87"/>
                      </a:lnTo>
                      <a:lnTo>
                        <a:pt x="447" y="87"/>
                      </a:lnTo>
                      <a:lnTo>
                        <a:pt x="465" y="87"/>
                      </a:lnTo>
                      <a:lnTo>
                        <a:pt x="483" y="87"/>
                      </a:lnTo>
                      <a:lnTo>
                        <a:pt x="501" y="87"/>
                      </a:lnTo>
                      <a:lnTo>
                        <a:pt x="519" y="87"/>
                      </a:lnTo>
                      <a:lnTo>
                        <a:pt x="536" y="87"/>
                      </a:lnTo>
                      <a:lnTo>
                        <a:pt x="554" y="87"/>
                      </a:lnTo>
                      <a:lnTo>
                        <a:pt x="572" y="86"/>
                      </a:lnTo>
                      <a:lnTo>
                        <a:pt x="590" y="86"/>
                      </a:lnTo>
                      <a:lnTo>
                        <a:pt x="606" y="86"/>
                      </a:lnTo>
                      <a:lnTo>
                        <a:pt x="625" y="86"/>
                      </a:lnTo>
                      <a:lnTo>
                        <a:pt x="643" y="86"/>
                      </a:lnTo>
                      <a:lnTo>
                        <a:pt x="661" y="86"/>
                      </a:lnTo>
                      <a:lnTo>
                        <a:pt x="679" y="86"/>
                      </a:lnTo>
                      <a:lnTo>
                        <a:pt x="698" y="87"/>
                      </a:lnTo>
                      <a:lnTo>
                        <a:pt x="714" y="87"/>
                      </a:lnTo>
                      <a:lnTo>
                        <a:pt x="733" y="87"/>
                      </a:lnTo>
                      <a:lnTo>
                        <a:pt x="751" y="87"/>
                      </a:lnTo>
                      <a:lnTo>
                        <a:pt x="769" y="87"/>
                      </a:lnTo>
                      <a:lnTo>
                        <a:pt x="787" y="87"/>
                      </a:lnTo>
                      <a:lnTo>
                        <a:pt x="805" y="87"/>
                      </a:lnTo>
                      <a:lnTo>
                        <a:pt x="824" y="87"/>
                      </a:lnTo>
                      <a:lnTo>
                        <a:pt x="843" y="89"/>
                      </a:lnTo>
                      <a:lnTo>
                        <a:pt x="860" y="89"/>
                      </a:lnTo>
                      <a:lnTo>
                        <a:pt x="878" y="89"/>
                      </a:lnTo>
                      <a:lnTo>
                        <a:pt x="896" y="90"/>
                      </a:lnTo>
                      <a:lnTo>
                        <a:pt x="915" y="90"/>
                      </a:lnTo>
                      <a:lnTo>
                        <a:pt x="934" y="90"/>
                      </a:lnTo>
                      <a:lnTo>
                        <a:pt x="952" y="91"/>
                      </a:lnTo>
                      <a:lnTo>
                        <a:pt x="970" y="91"/>
                      </a:lnTo>
                      <a:lnTo>
                        <a:pt x="989" y="92"/>
                      </a:lnTo>
                      <a:lnTo>
                        <a:pt x="1006" y="92"/>
                      </a:lnTo>
                      <a:lnTo>
                        <a:pt x="1024" y="93"/>
                      </a:lnTo>
                      <a:lnTo>
                        <a:pt x="1043" y="94"/>
                      </a:lnTo>
                      <a:lnTo>
                        <a:pt x="1062" y="94"/>
                      </a:lnTo>
                      <a:lnTo>
                        <a:pt x="1080" y="96"/>
                      </a:lnTo>
                      <a:lnTo>
                        <a:pt x="1099" y="97"/>
                      </a:lnTo>
                      <a:lnTo>
                        <a:pt x="1118" y="97"/>
                      </a:lnTo>
                      <a:lnTo>
                        <a:pt x="1136" y="99"/>
                      </a:lnTo>
                      <a:lnTo>
                        <a:pt x="1140" y="13"/>
                      </a:lnTo>
                      <a:lnTo>
                        <a:pt x="1121" y="11"/>
                      </a:lnTo>
                      <a:lnTo>
                        <a:pt x="1102" y="10"/>
                      </a:lnTo>
                      <a:lnTo>
                        <a:pt x="1083" y="9"/>
                      </a:lnTo>
                      <a:lnTo>
                        <a:pt x="1066" y="9"/>
                      </a:lnTo>
                      <a:lnTo>
                        <a:pt x="1047" y="8"/>
                      </a:lnTo>
                      <a:lnTo>
                        <a:pt x="1028" y="7"/>
                      </a:lnTo>
                      <a:lnTo>
                        <a:pt x="1010" y="7"/>
                      </a:lnTo>
                      <a:lnTo>
                        <a:pt x="991" y="7"/>
                      </a:lnTo>
                      <a:lnTo>
                        <a:pt x="972" y="4"/>
                      </a:lnTo>
                      <a:lnTo>
                        <a:pt x="954" y="4"/>
                      </a:lnTo>
                      <a:lnTo>
                        <a:pt x="936" y="4"/>
                      </a:lnTo>
                      <a:lnTo>
                        <a:pt x="917" y="4"/>
                      </a:lnTo>
                      <a:lnTo>
                        <a:pt x="898" y="3"/>
                      </a:lnTo>
                      <a:lnTo>
                        <a:pt x="881" y="2"/>
                      </a:lnTo>
                      <a:lnTo>
                        <a:pt x="863" y="2"/>
                      </a:lnTo>
                      <a:lnTo>
                        <a:pt x="844" y="2"/>
                      </a:lnTo>
                      <a:lnTo>
                        <a:pt x="825" y="1"/>
                      </a:lnTo>
                      <a:lnTo>
                        <a:pt x="807" y="1"/>
                      </a:lnTo>
                      <a:lnTo>
                        <a:pt x="789" y="1"/>
                      </a:lnTo>
                      <a:lnTo>
                        <a:pt x="771" y="1"/>
                      </a:lnTo>
                      <a:lnTo>
                        <a:pt x="752" y="1"/>
                      </a:lnTo>
                      <a:lnTo>
                        <a:pt x="733" y="1"/>
                      </a:lnTo>
                      <a:lnTo>
                        <a:pt x="716" y="1"/>
                      </a:lnTo>
                      <a:lnTo>
                        <a:pt x="698" y="1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43" y="0"/>
                      </a:lnTo>
                      <a:lnTo>
                        <a:pt x="625" y="0"/>
                      </a:lnTo>
                      <a:lnTo>
                        <a:pt x="608" y="0"/>
                      </a:lnTo>
                      <a:lnTo>
                        <a:pt x="590" y="0"/>
                      </a:lnTo>
                      <a:lnTo>
                        <a:pt x="572" y="0"/>
                      </a:lnTo>
                      <a:lnTo>
                        <a:pt x="554" y="1"/>
                      </a:lnTo>
                      <a:lnTo>
                        <a:pt x="536" y="1"/>
                      </a:lnTo>
                      <a:lnTo>
                        <a:pt x="519" y="1"/>
                      </a:lnTo>
                      <a:lnTo>
                        <a:pt x="501" y="1"/>
                      </a:lnTo>
                      <a:lnTo>
                        <a:pt x="483" y="1"/>
                      </a:lnTo>
                      <a:lnTo>
                        <a:pt x="465" y="1"/>
                      </a:lnTo>
                      <a:lnTo>
                        <a:pt x="447" y="1"/>
                      </a:lnTo>
                      <a:lnTo>
                        <a:pt x="430" y="1"/>
                      </a:lnTo>
                      <a:lnTo>
                        <a:pt x="412" y="1"/>
                      </a:lnTo>
                      <a:lnTo>
                        <a:pt x="394" y="1"/>
                      </a:lnTo>
                      <a:lnTo>
                        <a:pt x="376" y="2"/>
                      </a:lnTo>
                      <a:lnTo>
                        <a:pt x="359" y="2"/>
                      </a:lnTo>
                      <a:lnTo>
                        <a:pt x="342" y="3"/>
                      </a:lnTo>
                      <a:lnTo>
                        <a:pt x="324" y="3"/>
                      </a:lnTo>
                      <a:lnTo>
                        <a:pt x="307" y="4"/>
                      </a:lnTo>
                      <a:lnTo>
                        <a:pt x="291" y="4"/>
                      </a:lnTo>
                      <a:lnTo>
                        <a:pt x="273" y="4"/>
                      </a:lnTo>
                      <a:lnTo>
                        <a:pt x="255" y="4"/>
                      </a:lnTo>
                      <a:lnTo>
                        <a:pt x="237" y="4"/>
                      </a:lnTo>
                      <a:lnTo>
                        <a:pt x="221" y="5"/>
                      </a:lnTo>
                      <a:lnTo>
                        <a:pt x="203" y="7"/>
                      </a:lnTo>
                      <a:lnTo>
                        <a:pt x="186" y="7"/>
                      </a:lnTo>
                      <a:lnTo>
                        <a:pt x="169" y="7"/>
                      </a:lnTo>
                      <a:lnTo>
                        <a:pt x="151" y="7"/>
                      </a:lnTo>
                      <a:lnTo>
                        <a:pt x="135" y="8"/>
                      </a:lnTo>
                      <a:lnTo>
                        <a:pt x="118" y="8"/>
                      </a:lnTo>
                      <a:lnTo>
                        <a:pt x="101" y="9"/>
                      </a:lnTo>
                      <a:lnTo>
                        <a:pt x="83" y="9"/>
                      </a:lnTo>
                      <a:lnTo>
                        <a:pt x="68" y="9"/>
                      </a:lnTo>
                      <a:lnTo>
                        <a:pt x="50" y="10"/>
                      </a:lnTo>
                      <a:lnTo>
                        <a:pt x="33" y="11"/>
                      </a:lnTo>
                      <a:lnTo>
                        <a:pt x="17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Freeform 13"/>
                <p:cNvSpPr/>
                <p:nvPr/>
              </p:nvSpPr>
              <p:spPr>
                <a:xfrm>
                  <a:off x="990720" y="2381400"/>
                  <a:ext cx="106200" cy="20340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02" h="383">
                      <a:moveTo>
                        <a:pt x="109" y="6"/>
                      </a:moveTo>
                      <a:lnTo>
                        <a:pt x="104" y="13"/>
                      </a:lnTo>
                      <a:lnTo>
                        <a:pt x="101" y="20"/>
                      </a:lnTo>
                      <a:lnTo>
                        <a:pt x="98" y="27"/>
                      </a:lnTo>
                      <a:lnTo>
                        <a:pt x="96" y="34"/>
                      </a:lnTo>
                      <a:lnTo>
                        <a:pt x="94" y="42"/>
                      </a:lnTo>
                      <a:lnTo>
                        <a:pt x="90" y="49"/>
                      </a:lnTo>
                      <a:lnTo>
                        <a:pt x="88" y="56"/>
                      </a:lnTo>
                      <a:lnTo>
                        <a:pt x="85" y="63"/>
                      </a:lnTo>
                      <a:lnTo>
                        <a:pt x="82" y="69"/>
                      </a:lnTo>
                      <a:lnTo>
                        <a:pt x="79" y="76"/>
                      </a:lnTo>
                      <a:lnTo>
                        <a:pt x="77" y="82"/>
                      </a:lnTo>
                      <a:lnTo>
                        <a:pt x="75" y="88"/>
                      </a:lnTo>
                      <a:lnTo>
                        <a:pt x="72" y="95"/>
                      </a:lnTo>
                      <a:lnTo>
                        <a:pt x="70" y="101"/>
                      </a:lnTo>
                      <a:lnTo>
                        <a:pt x="68" y="108"/>
                      </a:lnTo>
                      <a:lnTo>
                        <a:pt x="65" y="114"/>
                      </a:lnTo>
                      <a:lnTo>
                        <a:pt x="63" y="121"/>
                      </a:lnTo>
                      <a:lnTo>
                        <a:pt x="61" y="126"/>
                      </a:lnTo>
                      <a:lnTo>
                        <a:pt x="58" y="133"/>
                      </a:lnTo>
                      <a:lnTo>
                        <a:pt x="56" y="139"/>
                      </a:lnTo>
                      <a:lnTo>
                        <a:pt x="53" y="145"/>
                      </a:lnTo>
                      <a:lnTo>
                        <a:pt x="52" y="152"/>
                      </a:lnTo>
                      <a:lnTo>
                        <a:pt x="50" y="157"/>
                      </a:lnTo>
                      <a:lnTo>
                        <a:pt x="49" y="164"/>
                      </a:lnTo>
                      <a:lnTo>
                        <a:pt x="46" y="170"/>
                      </a:lnTo>
                      <a:lnTo>
                        <a:pt x="45" y="175"/>
                      </a:lnTo>
                      <a:lnTo>
                        <a:pt x="43" y="180"/>
                      </a:lnTo>
                      <a:lnTo>
                        <a:pt x="42" y="186"/>
                      </a:lnTo>
                      <a:lnTo>
                        <a:pt x="39" y="192"/>
                      </a:lnTo>
                      <a:lnTo>
                        <a:pt x="38" y="198"/>
                      </a:lnTo>
                      <a:lnTo>
                        <a:pt x="37" y="204"/>
                      </a:lnTo>
                      <a:lnTo>
                        <a:pt x="36" y="210"/>
                      </a:lnTo>
                      <a:lnTo>
                        <a:pt x="33" y="215"/>
                      </a:lnTo>
                      <a:lnTo>
                        <a:pt x="32" y="221"/>
                      </a:lnTo>
                      <a:lnTo>
                        <a:pt x="31" y="226"/>
                      </a:lnTo>
                      <a:lnTo>
                        <a:pt x="28" y="232"/>
                      </a:lnTo>
                      <a:lnTo>
                        <a:pt x="28" y="237"/>
                      </a:lnTo>
                      <a:lnTo>
                        <a:pt x="26" y="243"/>
                      </a:lnTo>
                      <a:lnTo>
                        <a:pt x="25" y="248"/>
                      </a:lnTo>
                      <a:lnTo>
                        <a:pt x="23" y="253"/>
                      </a:lnTo>
                      <a:lnTo>
                        <a:pt x="21" y="259"/>
                      </a:lnTo>
                      <a:lnTo>
                        <a:pt x="20" y="264"/>
                      </a:lnTo>
                      <a:lnTo>
                        <a:pt x="20" y="269"/>
                      </a:lnTo>
                      <a:lnTo>
                        <a:pt x="18" y="275"/>
                      </a:lnTo>
                      <a:lnTo>
                        <a:pt x="18" y="281"/>
                      </a:lnTo>
                      <a:lnTo>
                        <a:pt x="15" y="286"/>
                      </a:lnTo>
                      <a:lnTo>
                        <a:pt x="15" y="291"/>
                      </a:lnTo>
                      <a:lnTo>
                        <a:pt x="14" y="297"/>
                      </a:lnTo>
                      <a:lnTo>
                        <a:pt x="13" y="302"/>
                      </a:lnTo>
                      <a:lnTo>
                        <a:pt x="12" y="307"/>
                      </a:lnTo>
                      <a:lnTo>
                        <a:pt x="11" y="312"/>
                      </a:lnTo>
                      <a:lnTo>
                        <a:pt x="11" y="319"/>
                      </a:lnTo>
                      <a:lnTo>
                        <a:pt x="8" y="324"/>
                      </a:lnTo>
                      <a:lnTo>
                        <a:pt x="7" y="329"/>
                      </a:lnTo>
                      <a:lnTo>
                        <a:pt x="7" y="334"/>
                      </a:lnTo>
                      <a:lnTo>
                        <a:pt x="7" y="340"/>
                      </a:lnTo>
                      <a:lnTo>
                        <a:pt x="5" y="345"/>
                      </a:lnTo>
                      <a:lnTo>
                        <a:pt x="5" y="350"/>
                      </a:lnTo>
                      <a:lnTo>
                        <a:pt x="5" y="356"/>
                      </a:lnTo>
                      <a:lnTo>
                        <a:pt x="4" y="362"/>
                      </a:lnTo>
                      <a:lnTo>
                        <a:pt x="2" y="367"/>
                      </a:lnTo>
                      <a:lnTo>
                        <a:pt x="2" y="372"/>
                      </a:lnTo>
                      <a:lnTo>
                        <a:pt x="1" y="378"/>
                      </a:lnTo>
                      <a:lnTo>
                        <a:pt x="0" y="383"/>
                      </a:lnTo>
                      <a:lnTo>
                        <a:pt x="93" y="383"/>
                      </a:lnTo>
                      <a:lnTo>
                        <a:pt x="93" y="378"/>
                      </a:lnTo>
                      <a:lnTo>
                        <a:pt x="94" y="372"/>
                      </a:lnTo>
                      <a:lnTo>
                        <a:pt x="94" y="367"/>
                      </a:lnTo>
                      <a:lnTo>
                        <a:pt x="95" y="362"/>
                      </a:lnTo>
                      <a:lnTo>
                        <a:pt x="96" y="357"/>
                      </a:lnTo>
                      <a:lnTo>
                        <a:pt x="96" y="351"/>
                      </a:lnTo>
                      <a:lnTo>
                        <a:pt x="98" y="347"/>
                      </a:lnTo>
                      <a:lnTo>
                        <a:pt x="98" y="342"/>
                      </a:lnTo>
                      <a:lnTo>
                        <a:pt x="100" y="336"/>
                      </a:lnTo>
                      <a:lnTo>
                        <a:pt x="101" y="331"/>
                      </a:lnTo>
                      <a:lnTo>
                        <a:pt x="101" y="325"/>
                      </a:lnTo>
                      <a:lnTo>
                        <a:pt x="103" y="321"/>
                      </a:lnTo>
                      <a:lnTo>
                        <a:pt x="104" y="315"/>
                      </a:lnTo>
                      <a:lnTo>
                        <a:pt x="107" y="310"/>
                      </a:lnTo>
                      <a:lnTo>
                        <a:pt x="107" y="304"/>
                      </a:lnTo>
                      <a:lnTo>
                        <a:pt x="109" y="299"/>
                      </a:lnTo>
                      <a:lnTo>
                        <a:pt x="109" y="293"/>
                      </a:lnTo>
                      <a:lnTo>
                        <a:pt x="112" y="288"/>
                      </a:lnTo>
                      <a:lnTo>
                        <a:pt x="113" y="284"/>
                      </a:lnTo>
                      <a:lnTo>
                        <a:pt x="114" y="278"/>
                      </a:lnTo>
                      <a:lnTo>
                        <a:pt x="116" y="272"/>
                      </a:lnTo>
                      <a:lnTo>
                        <a:pt x="117" y="266"/>
                      </a:lnTo>
                      <a:lnTo>
                        <a:pt x="119" y="261"/>
                      </a:lnTo>
                      <a:lnTo>
                        <a:pt x="121" y="255"/>
                      </a:lnTo>
                      <a:lnTo>
                        <a:pt x="122" y="249"/>
                      </a:lnTo>
                      <a:lnTo>
                        <a:pt x="125" y="243"/>
                      </a:lnTo>
                      <a:lnTo>
                        <a:pt x="126" y="237"/>
                      </a:lnTo>
                      <a:lnTo>
                        <a:pt x="127" y="233"/>
                      </a:lnTo>
                      <a:lnTo>
                        <a:pt x="129" y="227"/>
                      </a:lnTo>
                      <a:lnTo>
                        <a:pt x="132" y="221"/>
                      </a:lnTo>
                      <a:lnTo>
                        <a:pt x="133" y="215"/>
                      </a:lnTo>
                      <a:lnTo>
                        <a:pt x="134" y="209"/>
                      </a:lnTo>
                      <a:lnTo>
                        <a:pt x="136" y="203"/>
                      </a:lnTo>
                      <a:lnTo>
                        <a:pt x="138" y="197"/>
                      </a:lnTo>
                      <a:lnTo>
                        <a:pt x="140" y="190"/>
                      </a:lnTo>
                      <a:lnTo>
                        <a:pt x="142" y="185"/>
                      </a:lnTo>
                      <a:lnTo>
                        <a:pt x="144" y="178"/>
                      </a:lnTo>
                      <a:lnTo>
                        <a:pt x="145" y="172"/>
                      </a:lnTo>
                      <a:lnTo>
                        <a:pt x="147" y="166"/>
                      </a:lnTo>
                      <a:lnTo>
                        <a:pt x="150" y="160"/>
                      </a:lnTo>
                      <a:lnTo>
                        <a:pt x="152" y="154"/>
                      </a:lnTo>
                      <a:lnTo>
                        <a:pt x="153" y="147"/>
                      </a:lnTo>
                      <a:lnTo>
                        <a:pt x="155" y="141"/>
                      </a:lnTo>
                      <a:lnTo>
                        <a:pt x="158" y="134"/>
                      </a:lnTo>
                      <a:lnTo>
                        <a:pt x="159" y="128"/>
                      </a:lnTo>
                      <a:lnTo>
                        <a:pt x="163" y="121"/>
                      </a:lnTo>
                      <a:lnTo>
                        <a:pt x="164" y="116"/>
                      </a:lnTo>
                      <a:lnTo>
                        <a:pt x="166" y="109"/>
                      </a:lnTo>
                      <a:lnTo>
                        <a:pt x="168" y="103"/>
                      </a:lnTo>
                      <a:lnTo>
                        <a:pt x="171" y="96"/>
                      </a:lnTo>
                      <a:lnTo>
                        <a:pt x="172" y="89"/>
                      </a:lnTo>
                      <a:lnTo>
                        <a:pt x="174" y="83"/>
                      </a:lnTo>
                      <a:lnTo>
                        <a:pt x="177" y="76"/>
                      </a:lnTo>
                      <a:lnTo>
                        <a:pt x="179" y="70"/>
                      </a:lnTo>
                      <a:lnTo>
                        <a:pt x="182" y="63"/>
                      </a:lnTo>
                      <a:lnTo>
                        <a:pt x="184" y="56"/>
                      </a:lnTo>
                      <a:lnTo>
                        <a:pt x="185" y="49"/>
                      </a:lnTo>
                      <a:lnTo>
                        <a:pt x="187" y="43"/>
                      </a:lnTo>
                      <a:lnTo>
                        <a:pt x="190" y="36"/>
                      </a:lnTo>
                      <a:lnTo>
                        <a:pt x="192" y="29"/>
                      </a:lnTo>
                      <a:lnTo>
                        <a:pt x="195" y="21"/>
                      </a:lnTo>
                      <a:lnTo>
                        <a:pt x="197" y="15"/>
                      </a:lnTo>
                      <a:lnTo>
                        <a:pt x="198" y="7"/>
                      </a:lnTo>
                      <a:lnTo>
                        <a:pt x="202" y="0"/>
                      </a:lnTo>
                      <a:lnTo>
                        <a:pt x="109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Freeform 14"/>
                <p:cNvSpPr/>
                <p:nvPr/>
              </p:nvSpPr>
              <p:spPr>
                <a:xfrm>
                  <a:off x="1641240" y="2383200"/>
                  <a:ext cx="101520" cy="1965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193" h="372">
                      <a:moveTo>
                        <a:pt x="74" y="0"/>
                      </a:moveTo>
                      <a:lnTo>
                        <a:pt x="0" y="49"/>
                      </a:lnTo>
                      <a:lnTo>
                        <a:pt x="3" y="54"/>
                      </a:lnTo>
                      <a:lnTo>
                        <a:pt x="5" y="60"/>
                      </a:lnTo>
                      <a:lnTo>
                        <a:pt x="9" y="66"/>
                      </a:lnTo>
                      <a:lnTo>
                        <a:pt x="11" y="72"/>
                      </a:lnTo>
                      <a:lnTo>
                        <a:pt x="15" y="76"/>
                      </a:lnTo>
                      <a:lnTo>
                        <a:pt x="17" y="82"/>
                      </a:lnTo>
                      <a:lnTo>
                        <a:pt x="21" y="88"/>
                      </a:lnTo>
                      <a:lnTo>
                        <a:pt x="23" y="94"/>
                      </a:lnTo>
                      <a:lnTo>
                        <a:pt x="25" y="99"/>
                      </a:lnTo>
                      <a:lnTo>
                        <a:pt x="28" y="104"/>
                      </a:lnTo>
                      <a:lnTo>
                        <a:pt x="30" y="110"/>
                      </a:lnTo>
                      <a:lnTo>
                        <a:pt x="34" y="114"/>
                      </a:lnTo>
                      <a:lnTo>
                        <a:pt x="36" y="120"/>
                      </a:lnTo>
                      <a:lnTo>
                        <a:pt x="38" y="126"/>
                      </a:lnTo>
                      <a:lnTo>
                        <a:pt x="41" y="131"/>
                      </a:lnTo>
                      <a:lnTo>
                        <a:pt x="43" y="137"/>
                      </a:lnTo>
                      <a:lnTo>
                        <a:pt x="45" y="142"/>
                      </a:lnTo>
                      <a:lnTo>
                        <a:pt x="48" y="148"/>
                      </a:lnTo>
                      <a:lnTo>
                        <a:pt x="50" y="152"/>
                      </a:lnTo>
                      <a:lnTo>
                        <a:pt x="53" y="157"/>
                      </a:lnTo>
                      <a:lnTo>
                        <a:pt x="54" y="162"/>
                      </a:lnTo>
                      <a:lnTo>
                        <a:pt x="56" y="168"/>
                      </a:lnTo>
                      <a:lnTo>
                        <a:pt x="59" y="173"/>
                      </a:lnTo>
                      <a:lnTo>
                        <a:pt x="61" y="178"/>
                      </a:lnTo>
                      <a:lnTo>
                        <a:pt x="63" y="183"/>
                      </a:lnTo>
                      <a:lnTo>
                        <a:pt x="64" y="188"/>
                      </a:lnTo>
                      <a:lnTo>
                        <a:pt x="66" y="194"/>
                      </a:lnTo>
                      <a:lnTo>
                        <a:pt x="68" y="199"/>
                      </a:lnTo>
                      <a:lnTo>
                        <a:pt x="70" y="203"/>
                      </a:lnTo>
                      <a:lnTo>
                        <a:pt x="72" y="209"/>
                      </a:lnTo>
                      <a:lnTo>
                        <a:pt x="74" y="214"/>
                      </a:lnTo>
                      <a:lnTo>
                        <a:pt x="76" y="220"/>
                      </a:lnTo>
                      <a:lnTo>
                        <a:pt x="78" y="225"/>
                      </a:lnTo>
                      <a:lnTo>
                        <a:pt x="79" y="230"/>
                      </a:lnTo>
                      <a:lnTo>
                        <a:pt x="80" y="234"/>
                      </a:lnTo>
                      <a:lnTo>
                        <a:pt x="81" y="239"/>
                      </a:lnTo>
                      <a:lnTo>
                        <a:pt x="83" y="244"/>
                      </a:lnTo>
                      <a:lnTo>
                        <a:pt x="85" y="248"/>
                      </a:lnTo>
                      <a:lnTo>
                        <a:pt x="86" y="253"/>
                      </a:lnTo>
                      <a:lnTo>
                        <a:pt x="87" y="259"/>
                      </a:lnTo>
                      <a:lnTo>
                        <a:pt x="89" y="264"/>
                      </a:lnTo>
                      <a:lnTo>
                        <a:pt x="89" y="269"/>
                      </a:lnTo>
                      <a:lnTo>
                        <a:pt x="92" y="273"/>
                      </a:lnTo>
                      <a:lnTo>
                        <a:pt x="92" y="278"/>
                      </a:lnTo>
                      <a:lnTo>
                        <a:pt x="93" y="283"/>
                      </a:lnTo>
                      <a:lnTo>
                        <a:pt x="94" y="288"/>
                      </a:lnTo>
                      <a:lnTo>
                        <a:pt x="95" y="292"/>
                      </a:lnTo>
                      <a:lnTo>
                        <a:pt x="97" y="297"/>
                      </a:lnTo>
                      <a:lnTo>
                        <a:pt x="97" y="302"/>
                      </a:lnTo>
                      <a:lnTo>
                        <a:pt x="98" y="307"/>
                      </a:lnTo>
                      <a:lnTo>
                        <a:pt x="99" y="311"/>
                      </a:lnTo>
                      <a:lnTo>
                        <a:pt x="99" y="316"/>
                      </a:lnTo>
                      <a:lnTo>
                        <a:pt x="100" y="320"/>
                      </a:lnTo>
                      <a:lnTo>
                        <a:pt x="101" y="324"/>
                      </a:lnTo>
                      <a:lnTo>
                        <a:pt x="101" y="329"/>
                      </a:lnTo>
                      <a:lnTo>
                        <a:pt x="102" y="335"/>
                      </a:lnTo>
                      <a:lnTo>
                        <a:pt x="102" y="339"/>
                      </a:lnTo>
                      <a:lnTo>
                        <a:pt x="104" y="343"/>
                      </a:lnTo>
                      <a:lnTo>
                        <a:pt x="104" y="348"/>
                      </a:lnTo>
                      <a:lnTo>
                        <a:pt x="104" y="353"/>
                      </a:lnTo>
                      <a:lnTo>
                        <a:pt x="105" y="358"/>
                      </a:lnTo>
                      <a:lnTo>
                        <a:pt x="105" y="362"/>
                      </a:lnTo>
                      <a:lnTo>
                        <a:pt x="106" y="367"/>
                      </a:lnTo>
                      <a:lnTo>
                        <a:pt x="106" y="372"/>
                      </a:lnTo>
                      <a:lnTo>
                        <a:pt x="193" y="366"/>
                      </a:lnTo>
                      <a:lnTo>
                        <a:pt x="191" y="360"/>
                      </a:lnTo>
                      <a:lnTo>
                        <a:pt x="191" y="355"/>
                      </a:lnTo>
                      <a:lnTo>
                        <a:pt x="190" y="349"/>
                      </a:lnTo>
                      <a:lnTo>
                        <a:pt x="190" y="345"/>
                      </a:lnTo>
                      <a:lnTo>
                        <a:pt x="190" y="340"/>
                      </a:lnTo>
                      <a:lnTo>
                        <a:pt x="189" y="334"/>
                      </a:lnTo>
                      <a:lnTo>
                        <a:pt x="188" y="329"/>
                      </a:lnTo>
                      <a:lnTo>
                        <a:pt x="188" y="323"/>
                      </a:lnTo>
                      <a:lnTo>
                        <a:pt x="188" y="317"/>
                      </a:lnTo>
                      <a:lnTo>
                        <a:pt x="186" y="313"/>
                      </a:lnTo>
                      <a:lnTo>
                        <a:pt x="186" y="307"/>
                      </a:lnTo>
                      <a:lnTo>
                        <a:pt x="186" y="302"/>
                      </a:lnTo>
                      <a:lnTo>
                        <a:pt x="183" y="297"/>
                      </a:lnTo>
                      <a:lnTo>
                        <a:pt x="182" y="291"/>
                      </a:lnTo>
                      <a:lnTo>
                        <a:pt x="182" y="286"/>
                      </a:lnTo>
                      <a:lnTo>
                        <a:pt x="182" y="282"/>
                      </a:lnTo>
                      <a:lnTo>
                        <a:pt x="180" y="276"/>
                      </a:lnTo>
                      <a:lnTo>
                        <a:pt x="180" y="269"/>
                      </a:lnTo>
                      <a:lnTo>
                        <a:pt x="177" y="264"/>
                      </a:lnTo>
                      <a:lnTo>
                        <a:pt x="177" y="259"/>
                      </a:lnTo>
                      <a:lnTo>
                        <a:pt x="175" y="253"/>
                      </a:lnTo>
                      <a:lnTo>
                        <a:pt x="174" y="247"/>
                      </a:lnTo>
                      <a:lnTo>
                        <a:pt x="172" y="241"/>
                      </a:lnTo>
                      <a:lnTo>
                        <a:pt x="171" y="235"/>
                      </a:lnTo>
                      <a:lnTo>
                        <a:pt x="170" y="231"/>
                      </a:lnTo>
                      <a:lnTo>
                        <a:pt x="168" y="225"/>
                      </a:lnTo>
                      <a:lnTo>
                        <a:pt x="167" y="219"/>
                      </a:lnTo>
                      <a:lnTo>
                        <a:pt x="165" y="214"/>
                      </a:lnTo>
                      <a:lnTo>
                        <a:pt x="163" y="208"/>
                      </a:lnTo>
                      <a:lnTo>
                        <a:pt x="162" y="203"/>
                      </a:lnTo>
                      <a:lnTo>
                        <a:pt x="159" y="197"/>
                      </a:lnTo>
                      <a:lnTo>
                        <a:pt x="158" y="192"/>
                      </a:lnTo>
                      <a:lnTo>
                        <a:pt x="156" y="186"/>
                      </a:lnTo>
                      <a:lnTo>
                        <a:pt x="155" y="180"/>
                      </a:lnTo>
                      <a:lnTo>
                        <a:pt x="152" y="175"/>
                      </a:lnTo>
                      <a:lnTo>
                        <a:pt x="150" y="169"/>
                      </a:lnTo>
                      <a:lnTo>
                        <a:pt x="148" y="163"/>
                      </a:lnTo>
                      <a:lnTo>
                        <a:pt x="146" y="157"/>
                      </a:lnTo>
                      <a:lnTo>
                        <a:pt x="144" y="152"/>
                      </a:lnTo>
                      <a:lnTo>
                        <a:pt x="142" y="145"/>
                      </a:lnTo>
                      <a:lnTo>
                        <a:pt x="139" y="139"/>
                      </a:lnTo>
                      <a:lnTo>
                        <a:pt x="137" y="135"/>
                      </a:lnTo>
                      <a:lnTo>
                        <a:pt x="134" y="127"/>
                      </a:lnTo>
                      <a:lnTo>
                        <a:pt x="132" y="121"/>
                      </a:lnTo>
                      <a:lnTo>
                        <a:pt x="130" y="116"/>
                      </a:lnTo>
                      <a:lnTo>
                        <a:pt x="127" y="110"/>
                      </a:lnTo>
                      <a:lnTo>
                        <a:pt x="125" y="104"/>
                      </a:lnTo>
                      <a:lnTo>
                        <a:pt x="123" y="99"/>
                      </a:lnTo>
                      <a:lnTo>
                        <a:pt x="119" y="92"/>
                      </a:lnTo>
                      <a:lnTo>
                        <a:pt x="117" y="86"/>
                      </a:lnTo>
                      <a:lnTo>
                        <a:pt x="114" y="80"/>
                      </a:lnTo>
                      <a:lnTo>
                        <a:pt x="111" y="74"/>
                      </a:lnTo>
                      <a:lnTo>
                        <a:pt x="108" y="68"/>
                      </a:lnTo>
                      <a:lnTo>
                        <a:pt x="105" y="62"/>
                      </a:lnTo>
                      <a:lnTo>
                        <a:pt x="102" y="56"/>
                      </a:lnTo>
                      <a:lnTo>
                        <a:pt x="99" y="50"/>
                      </a:lnTo>
                      <a:lnTo>
                        <a:pt x="97" y="43"/>
                      </a:lnTo>
                      <a:lnTo>
                        <a:pt x="93" y="37"/>
                      </a:lnTo>
                      <a:lnTo>
                        <a:pt x="89" y="31"/>
                      </a:lnTo>
                      <a:lnTo>
                        <a:pt x="86" y="25"/>
                      </a:lnTo>
                      <a:lnTo>
                        <a:pt x="83" y="18"/>
                      </a:lnTo>
                      <a:lnTo>
                        <a:pt x="80" y="12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Freeform 15"/>
                <p:cNvSpPr/>
                <p:nvPr/>
              </p:nvSpPr>
              <p:spPr>
                <a:xfrm>
                  <a:off x="1111320" y="2443320"/>
                  <a:ext cx="39240" cy="414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9">
                      <a:moveTo>
                        <a:pt x="38" y="79"/>
                      </a:moveTo>
                      <a:lnTo>
                        <a:pt x="41" y="78"/>
                      </a:lnTo>
                      <a:lnTo>
                        <a:pt x="45" y="78"/>
                      </a:lnTo>
                      <a:lnTo>
                        <a:pt x="49" y="76"/>
                      </a:lnTo>
                      <a:lnTo>
                        <a:pt x="53" y="75"/>
                      </a:lnTo>
                      <a:lnTo>
                        <a:pt x="57" y="73"/>
                      </a:lnTo>
                      <a:lnTo>
                        <a:pt x="59" y="72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3"/>
                      </a:lnTo>
                      <a:lnTo>
                        <a:pt x="70" y="61"/>
                      </a:lnTo>
                      <a:lnTo>
                        <a:pt x="72" y="57"/>
                      </a:lnTo>
                      <a:lnTo>
                        <a:pt x="74" y="55"/>
                      </a:lnTo>
                      <a:lnTo>
                        <a:pt x="74" y="51"/>
                      </a:lnTo>
                      <a:lnTo>
                        <a:pt x="77" y="47"/>
                      </a:lnTo>
                      <a:lnTo>
                        <a:pt x="77" y="43"/>
                      </a:lnTo>
                      <a:lnTo>
                        <a:pt x="77" y="40"/>
                      </a:lnTo>
                      <a:lnTo>
                        <a:pt x="77" y="36"/>
                      </a:lnTo>
                      <a:lnTo>
                        <a:pt x="77" y="31"/>
                      </a:lnTo>
                      <a:lnTo>
                        <a:pt x="74" y="28"/>
                      </a:lnTo>
                      <a:lnTo>
                        <a:pt x="74" y="24"/>
                      </a:lnTo>
                      <a:lnTo>
                        <a:pt x="72" y="21"/>
                      </a:lnTo>
                      <a:lnTo>
                        <a:pt x="70" y="18"/>
                      </a:lnTo>
                      <a:lnTo>
                        <a:pt x="67" y="15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9" y="7"/>
                      </a:lnTo>
                      <a:lnTo>
                        <a:pt x="57" y="5"/>
                      </a:lnTo>
                      <a:lnTo>
                        <a:pt x="53" y="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3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1" y="47"/>
                      </a:lnTo>
                      <a:lnTo>
                        <a:pt x="1" y="51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8" y="63"/>
                      </a:lnTo>
                      <a:lnTo>
                        <a:pt x="11" y="67"/>
                      </a:lnTo>
                      <a:lnTo>
                        <a:pt x="14" y="69"/>
                      </a:lnTo>
                      <a:lnTo>
                        <a:pt x="16" y="72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8"/>
                      </a:lnTo>
                      <a:lnTo>
                        <a:pt x="34" y="78"/>
                      </a:lnTo>
                      <a:lnTo>
                        <a:pt x="38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Freeform 16"/>
                <p:cNvSpPr/>
                <p:nvPr/>
              </p:nvSpPr>
              <p:spPr>
                <a:xfrm>
                  <a:off x="1191960" y="244656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3" y="76"/>
                      </a:lnTo>
                      <a:lnTo>
                        <a:pt x="46" y="76"/>
                      </a:lnTo>
                      <a:lnTo>
                        <a:pt x="50" y="75"/>
                      </a:lnTo>
                      <a:lnTo>
                        <a:pt x="53" y="74"/>
                      </a:lnTo>
                      <a:lnTo>
                        <a:pt x="56" y="71"/>
                      </a:lnTo>
                      <a:lnTo>
                        <a:pt x="59" y="70"/>
                      </a:lnTo>
                      <a:lnTo>
                        <a:pt x="63" y="68"/>
                      </a:lnTo>
                      <a:lnTo>
                        <a:pt x="67" y="65"/>
                      </a:lnTo>
                      <a:lnTo>
                        <a:pt x="69" y="62"/>
                      </a:lnTo>
                      <a:lnTo>
                        <a:pt x="71" y="59"/>
                      </a:lnTo>
                      <a:lnTo>
                        <a:pt x="72" y="56"/>
                      </a:lnTo>
                      <a:lnTo>
                        <a:pt x="74" y="54"/>
                      </a:lnTo>
                      <a:lnTo>
                        <a:pt x="75" y="49"/>
                      </a:lnTo>
                      <a:lnTo>
                        <a:pt x="76" y="46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76" y="31"/>
                      </a:lnTo>
                      <a:lnTo>
                        <a:pt x="75" y="26"/>
                      </a:lnTo>
                      <a:lnTo>
                        <a:pt x="74" y="23"/>
                      </a:lnTo>
                      <a:lnTo>
                        <a:pt x="72" y="19"/>
                      </a:lnTo>
                      <a:lnTo>
                        <a:pt x="71" y="16"/>
                      </a:lnTo>
                      <a:lnTo>
                        <a:pt x="69" y="13"/>
                      </a:lnTo>
                      <a:lnTo>
                        <a:pt x="67" y="11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3" y="2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2" y="54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5"/>
                      </a:lnTo>
                      <a:lnTo>
                        <a:pt x="13" y="68"/>
                      </a:lnTo>
                      <a:lnTo>
                        <a:pt x="17" y="70"/>
                      </a:lnTo>
                      <a:lnTo>
                        <a:pt x="20" y="71"/>
                      </a:lnTo>
                      <a:lnTo>
                        <a:pt x="23" y="74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Freeform 17"/>
                <p:cNvSpPr/>
                <p:nvPr/>
              </p:nvSpPr>
              <p:spPr>
                <a:xfrm>
                  <a:off x="126972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41" y="77"/>
                      </a:moveTo>
                      <a:lnTo>
                        <a:pt x="43" y="76"/>
                      </a:lnTo>
                      <a:lnTo>
                        <a:pt x="48" y="76"/>
                      </a:lnTo>
                      <a:lnTo>
                        <a:pt x="51" y="75"/>
                      </a:lnTo>
                      <a:lnTo>
                        <a:pt x="55" y="73"/>
                      </a:lnTo>
                      <a:lnTo>
                        <a:pt x="57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1" y="59"/>
                      </a:lnTo>
                      <a:lnTo>
                        <a:pt x="74" y="56"/>
                      </a:lnTo>
                      <a:lnTo>
                        <a:pt x="75" y="53"/>
                      </a:lnTo>
                      <a:lnTo>
                        <a:pt x="76" y="48"/>
                      </a:lnTo>
                      <a:lnTo>
                        <a:pt x="77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7" y="31"/>
                      </a:lnTo>
                      <a:lnTo>
                        <a:pt x="76" y="26"/>
                      </a:lnTo>
                      <a:lnTo>
                        <a:pt x="75" y="22"/>
                      </a:lnTo>
                      <a:lnTo>
                        <a:pt x="74" y="19"/>
                      </a:lnTo>
                      <a:lnTo>
                        <a:pt x="71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4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1" y="0"/>
                      </a:lnTo>
                      <a:lnTo>
                        <a:pt x="48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7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7" y="15"/>
                      </a:lnTo>
                      <a:lnTo>
                        <a:pt x="5" y="19"/>
                      </a:lnTo>
                      <a:lnTo>
                        <a:pt x="4" y="22"/>
                      </a:lnTo>
                      <a:lnTo>
                        <a:pt x="3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8"/>
                      </a:lnTo>
                      <a:lnTo>
                        <a:pt x="4" y="53"/>
                      </a:lnTo>
                      <a:lnTo>
                        <a:pt x="5" y="56"/>
                      </a:lnTo>
                      <a:lnTo>
                        <a:pt x="7" y="59"/>
                      </a:lnTo>
                      <a:lnTo>
                        <a:pt x="10" y="61"/>
                      </a:lnTo>
                      <a:lnTo>
                        <a:pt x="13" y="65"/>
                      </a:lnTo>
                      <a:lnTo>
                        <a:pt x="16" y="67"/>
                      </a:lnTo>
                      <a:lnTo>
                        <a:pt x="18" y="70"/>
                      </a:lnTo>
                      <a:lnTo>
                        <a:pt x="20" y="71"/>
                      </a:lnTo>
                      <a:lnTo>
                        <a:pt x="25" y="73"/>
                      </a:lnTo>
                      <a:lnTo>
                        <a:pt x="27" y="75"/>
                      </a:lnTo>
                      <a:lnTo>
                        <a:pt x="31" y="76"/>
                      </a:lnTo>
                      <a:lnTo>
                        <a:pt x="36" y="76"/>
                      </a:lnTo>
                      <a:lnTo>
                        <a:pt x="41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Freeform 18"/>
                <p:cNvSpPr/>
                <p:nvPr/>
              </p:nvSpPr>
              <p:spPr>
                <a:xfrm>
                  <a:off x="13492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6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7"/>
                      </a:lnTo>
                      <a:lnTo>
                        <a:pt x="50" y="76"/>
                      </a:lnTo>
                      <a:lnTo>
                        <a:pt x="53" y="75"/>
                      </a:lnTo>
                      <a:lnTo>
                        <a:pt x="55" y="73"/>
                      </a:lnTo>
                      <a:lnTo>
                        <a:pt x="59" y="71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4"/>
                      </a:lnTo>
                      <a:lnTo>
                        <a:pt x="70" y="61"/>
                      </a:lnTo>
                      <a:lnTo>
                        <a:pt x="71" y="57"/>
                      </a:lnTo>
                      <a:lnTo>
                        <a:pt x="73" y="55"/>
                      </a:lnTo>
                      <a:lnTo>
                        <a:pt x="74" y="51"/>
                      </a:lnTo>
                      <a:lnTo>
                        <a:pt x="76" y="46"/>
                      </a:lnTo>
                      <a:lnTo>
                        <a:pt x="76" y="43"/>
                      </a:lnTo>
                      <a:lnTo>
                        <a:pt x="76" y="39"/>
                      </a:lnTo>
                      <a:lnTo>
                        <a:pt x="76" y="36"/>
                      </a:lnTo>
                      <a:lnTo>
                        <a:pt x="76" y="31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7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7"/>
                      </a:lnTo>
                      <a:lnTo>
                        <a:pt x="55" y="5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2"/>
                      </a:lnTo>
                      <a:lnTo>
                        <a:pt x="22" y="2"/>
                      </a:lnTo>
                      <a:lnTo>
                        <a:pt x="19" y="5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6" y="17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1" y="51"/>
                      </a:lnTo>
                      <a:lnTo>
                        <a:pt x="2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7" y="64"/>
                      </a:lnTo>
                      <a:lnTo>
                        <a:pt x="10" y="67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7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Freeform 19"/>
                <p:cNvSpPr/>
                <p:nvPr/>
              </p:nvSpPr>
              <p:spPr>
                <a:xfrm>
                  <a:off x="142704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9" y="77"/>
                      </a:moveTo>
                      <a:lnTo>
                        <a:pt x="42" y="76"/>
                      </a:lnTo>
                      <a:lnTo>
                        <a:pt x="46" y="76"/>
                      </a:lnTo>
                      <a:lnTo>
                        <a:pt x="49" y="75"/>
                      </a:lnTo>
                      <a:lnTo>
                        <a:pt x="53" y="73"/>
                      </a:lnTo>
                      <a:lnTo>
                        <a:pt x="55" y="71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6" y="65"/>
                      </a:lnTo>
                      <a:lnTo>
                        <a:pt x="67" y="61"/>
                      </a:lnTo>
                      <a:lnTo>
                        <a:pt x="70" y="59"/>
                      </a:lnTo>
                      <a:lnTo>
                        <a:pt x="72" y="56"/>
                      </a:lnTo>
                      <a:lnTo>
                        <a:pt x="73" y="53"/>
                      </a:lnTo>
                      <a:lnTo>
                        <a:pt x="74" y="48"/>
                      </a:lnTo>
                      <a:lnTo>
                        <a:pt x="77" y="45"/>
                      </a:lnTo>
                      <a:lnTo>
                        <a:pt x="77" y="41"/>
                      </a:lnTo>
                      <a:lnTo>
                        <a:pt x="77" y="38"/>
                      </a:lnTo>
                      <a:lnTo>
                        <a:pt x="77" y="34"/>
                      </a:lnTo>
                      <a:lnTo>
                        <a:pt x="77" y="31"/>
                      </a:lnTo>
                      <a:lnTo>
                        <a:pt x="74" y="26"/>
                      </a:lnTo>
                      <a:lnTo>
                        <a:pt x="73" y="22"/>
                      </a:lnTo>
                      <a:lnTo>
                        <a:pt x="72" y="19"/>
                      </a:lnTo>
                      <a:lnTo>
                        <a:pt x="70" y="15"/>
                      </a:lnTo>
                      <a:lnTo>
                        <a:pt x="67" y="13"/>
                      </a:lnTo>
                      <a:lnTo>
                        <a:pt x="66" y="10"/>
                      </a:lnTo>
                      <a:lnTo>
                        <a:pt x="63" y="7"/>
                      </a:lnTo>
                      <a:lnTo>
                        <a:pt x="59" y="4"/>
                      </a:lnTo>
                      <a:lnTo>
                        <a:pt x="55" y="3"/>
                      </a:lnTo>
                      <a:lnTo>
                        <a:pt x="53" y="2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1" y="48"/>
                      </a:lnTo>
                      <a:lnTo>
                        <a:pt x="3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8" y="61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1"/>
                      </a:lnTo>
                      <a:lnTo>
                        <a:pt x="23" y="73"/>
                      </a:lnTo>
                      <a:lnTo>
                        <a:pt x="27" y="75"/>
                      </a:lnTo>
                      <a:lnTo>
                        <a:pt x="30" y="76"/>
                      </a:lnTo>
                      <a:lnTo>
                        <a:pt x="35" y="76"/>
                      </a:lnTo>
                      <a:lnTo>
                        <a:pt x="39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Freeform 20"/>
                <p:cNvSpPr/>
                <p:nvPr/>
              </p:nvSpPr>
              <p:spPr>
                <a:xfrm>
                  <a:off x="15094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39" y="78"/>
                      </a:moveTo>
                      <a:lnTo>
                        <a:pt x="43" y="77"/>
                      </a:lnTo>
                      <a:lnTo>
                        <a:pt x="46" y="77"/>
                      </a:lnTo>
                      <a:lnTo>
                        <a:pt x="50" y="76"/>
                      </a:lnTo>
                      <a:lnTo>
                        <a:pt x="55" y="75"/>
                      </a:lnTo>
                      <a:lnTo>
                        <a:pt x="57" y="73"/>
                      </a:lnTo>
                      <a:lnTo>
                        <a:pt x="61" y="71"/>
                      </a:lnTo>
                      <a:lnTo>
                        <a:pt x="63" y="69"/>
                      </a:lnTo>
                      <a:lnTo>
                        <a:pt x="67" y="67"/>
                      </a:lnTo>
                      <a:lnTo>
                        <a:pt x="68" y="64"/>
                      </a:lnTo>
                      <a:lnTo>
                        <a:pt x="70" y="61"/>
                      </a:lnTo>
                      <a:lnTo>
                        <a:pt x="74" y="57"/>
                      </a:lnTo>
                      <a:lnTo>
                        <a:pt x="75" y="55"/>
                      </a:lnTo>
                      <a:lnTo>
                        <a:pt x="76" y="51"/>
                      </a:lnTo>
                      <a:lnTo>
                        <a:pt x="77" y="46"/>
                      </a:lnTo>
                      <a:lnTo>
                        <a:pt x="78" y="43"/>
                      </a:lnTo>
                      <a:lnTo>
                        <a:pt x="78" y="39"/>
                      </a:lnTo>
                      <a:lnTo>
                        <a:pt x="78" y="36"/>
                      </a:lnTo>
                      <a:lnTo>
                        <a:pt x="77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4" y="20"/>
                      </a:lnTo>
                      <a:lnTo>
                        <a:pt x="70" y="17"/>
                      </a:lnTo>
                      <a:lnTo>
                        <a:pt x="68" y="14"/>
                      </a:lnTo>
                      <a:lnTo>
                        <a:pt x="67" y="12"/>
                      </a:lnTo>
                      <a:lnTo>
                        <a:pt x="63" y="8"/>
                      </a:lnTo>
                      <a:lnTo>
                        <a:pt x="61" y="7"/>
                      </a:lnTo>
                      <a:lnTo>
                        <a:pt x="57" y="5"/>
                      </a:lnTo>
                      <a:lnTo>
                        <a:pt x="55" y="2"/>
                      </a:lnTo>
                      <a:lnTo>
                        <a:pt x="50" y="2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5" y="20"/>
                      </a:lnTo>
                      <a:lnTo>
                        <a:pt x="4" y="24"/>
                      </a:lnTo>
                      <a:lnTo>
                        <a:pt x="2" y="27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1" y="46"/>
                      </a:lnTo>
                      <a:lnTo>
                        <a:pt x="2" y="51"/>
                      </a:lnTo>
                      <a:lnTo>
                        <a:pt x="4" y="55"/>
                      </a:lnTo>
                      <a:lnTo>
                        <a:pt x="5" y="57"/>
                      </a:lnTo>
                      <a:lnTo>
                        <a:pt x="7" y="61"/>
                      </a:lnTo>
                      <a:lnTo>
                        <a:pt x="8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8" y="71"/>
                      </a:lnTo>
                      <a:lnTo>
                        <a:pt x="20" y="73"/>
                      </a:lnTo>
                      <a:lnTo>
                        <a:pt x="24" y="75"/>
                      </a:lnTo>
                      <a:lnTo>
                        <a:pt x="27" y="76"/>
                      </a:lnTo>
                      <a:lnTo>
                        <a:pt x="31" y="77"/>
                      </a:lnTo>
                      <a:lnTo>
                        <a:pt x="36" y="77"/>
                      </a:lnTo>
                      <a:lnTo>
                        <a:pt x="39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Freeform 21"/>
                <p:cNvSpPr/>
                <p:nvPr/>
              </p:nvSpPr>
              <p:spPr>
                <a:xfrm>
                  <a:off x="1589040" y="2445120"/>
                  <a:ext cx="39240" cy="41040"/>
                </a:xfrm>
                <a:custGeom>
                  <a:avLst/>
                  <a:gdLst>
                    <a:gd name="textAreaLeft" fmla="*/ 0 w 39240"/>
                    <a:gd name="textAreaRight" fmla="*/ 39240 w 392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5" h="78">
                      <a:moveTo>
                        <a:pt x="38" y="78"/>
                      </a:moveTo>
                      <a:lnTo>
                        <a:pt x="41" y="78"/>
                      </a:lnTo>
                      <a:lnTo>
                        <a:pt x="45" y="77"/>
                      </a:lnTo>
                      <a:lnTo>
                        <a:pt x="48" y="76"/>
                      </a:lnTo>
                      <a:lnTo>
                        <a:pt x="52" y="75"/>
                      </a:lnTo>
                      <a:lnTo>
                        <a:pt x="54" y="72"/>
                      </a:lnTo>
                      <a:lnTo>
                        <a:pt x="58" y="71"/>
                      </a:lnTo>
                      <a:lnTo>
                        <a:pt x="61" y="69"/>
                      </a:lnTo>
                      <a:lnTo>
                        <a:pt x="65" y="66"/>
                      </a:lnTo>
                      <a:lnTo>
                        <a:pt x="66" y="63"/>
                      </a:lnTo>
                      <a:lnTo>
                        <a:pt x="68" y="60"/>
                      </a:lnTo>
                      <a:lnTo>
                        <a:pt x="70" y="57"/>
                      </a:lnTo>
                      <a:lnTo>
                        <a:pt x="72" y="53"/>
                      </a:lnTo>
                      <a:lnTo>
                        <a:pt x="73" y="51"/>
                      </a:lnTo>
                      <a:lnTo>
                        <a:pt x="75" y="46"/>
                      </a:lnTo>
                      <a:lnTo>
                        <a:pt x="75" y="42"/>
                      </a:lnTo>
                      <a:lnTo>
                        <a:pt x="75" y="39"/>
                      </a:lnTo>
                      <a:lnTo>
                        <a:pt x="75" y="35"/>
                      </a:lnTo>
                      <a:lnTo>
                        <a:pt x="75" y="31"/>
                      </a:lnTo>
                      <a:lnTo>
                        <a:pt x="73" y="26"/>
                      </a:lnTo>
                      <a:lnTo>
                        <a:pt x="72" y="23"/>
                      </a:lnTo>
                      <a:lnTo>
                        <a:pt x="70" y="20"/>
                      </a:lnTo>
                      <a:lnTo>
                        <a:pt x="68" y="18"/>
                      </a:lnTo>
                      <a:lnTo>
                        <a:pt x="66" y="14"/>
                      </a:lnTo>
                      <a:lnTo>
                        <a:pt x="65" y="12"/>
                      </a:lnTo>
                      <a:lnTo>
                        <a:pt x="61" y="9"/>
                      </a:lnTo>
                      <a:lnTo>
                        <a:pt x="58" y="7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19" y="4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1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6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2"/>
                      </a:lnTo>
                      <a:lnTo>
                        <a:pt x="22" y="75"/>
                      </a:lnTo>
                      <a:lnTo>
                        <a:pt x="24" y="76"/>
                      </a:lnTo>
                      <a:lnTo>
                        <a:pt x="29" y="77"/>
                      </a:lnTo>
                      <a:lnTo>
                        <a:pt x="33" y="78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Freeform 22"/>
                <p:cNvSpPr/>
                <p:nvPr/>
              </p:nvSpPr>
              <p:spPr>
                <a:xfrm>
                  <a:off x="115092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50" y="76"/>
                      </a:lnTo>
                      <a:lnTo>
                        <a:pt x="53" y="73"/>
                      </a:lnTo>
                      <a:lnTo>
                        <a:pt x="56" y="72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5" y="65"/>
                      </a:lnTo>
                      <a:lnTo>
                        <a:pt x="67" y="63"/>
                      </a:lnTo>
                      <a:lnTo>
                        <a:pt x="70" y="60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6"/>
                      </a:lnTo>
                      <a:lnTo>
                        <a:pt x="76" y="42"/>
                      </a:lnTo>
                      <a:lnTo>
                        <a:pt x="77" y="39"/>
                      </a:lnTo>
                      <a:lnTo>
                        <a:pt x="76" y="35"/>
                      </a:lnTo>
                      <a:lnTo>
                        <a:pt x="76" y="29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6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5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50"/>
                      </a:lnTo>
                      <a:lnTo>
                        <a:pt x="2" y="53"/>
                      </a:lnTo>
                      <a:lnTo>
                        <a:pt x="3" y="56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2"/>
                      </a:lnTo>
                      <a:lnTo>
                        <a:pt x="22" y="73"/>
                      </a:lnTo>
                      <a:lnTo>
                        <a:pt x="26" y="76"/>
                      </a:lnTo>
                      <a:lnTo>
                        <a:pt x="31" y="76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Freeform 23"/>
                <p:cNvSpPr/>
                <p:nvPr/>
              </p:nvSpPr>
              <p:spPr>
                <a:xfrm>
                  <a:off x="1233360" y="2492640"/>
                  <a:ext cx="42480" cy="3960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9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6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2" y="58"/>
                      </a:lnTo>
                      <a:lnTo>
                        <a:pt x="73" y="56"/>
                      </a:lnTo>
                      <a:lnTo>
                        <a:pt x="74" y="53"/>
                      </a:lnTo>
                      <a:lnTo>
                        <a:pt x="76" y="48"/>
                      </a:lnTo>
                      <a:lnTo>
                        <a:pt x="76" y="45"/>
                      </a:lnTo>
                      <a:lnTo>
                        <a:pt x="77" y="40"/>
                      </a:lnTo>
                      <a:lnTo>
                        <a:pt x="79" y="38"/>
                      </a:lnTo>
                      <a:lnTo>
                        <a:pt x="77" y="33"/>
                      </a:lnTo>
                      <a:lnTo>
                        <a:pt x="76" y="29"/>
                      </a:lnTo>
                      <a:lnTo>
                        <a:pt x="76" y="25"/>
                      </a:lnTo>
                      <a:lnTo>
                        <a:pt x="74" y="22"/>
                      </a:lnTo>
                      <a:lnTo>
                        <a:pt x="73" y="19"/>
                      </a:lnTo>
                      <a:lnTo>
                        <a:pt x="72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5"/>
                      </a:lnTo>
                      <a:lnTo>
                        <a:pt x="56" y="3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5" y="19"/>
                      </a:lnTo>
                      <a:lnTo>
                        <a:pt x="3" y="22"/>
                      </a:lnTo>
                      <a:lnTo>
                        <a:pt x="2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5"/>
                      </a:lnTo>
                      <a:lnTo>
                        <a:pt x="2" y="48"/>
                      </a:lnTo>
                      <a:lnTo>
                        <a:pt x="3" y="53"/>
                      </a:lnTo>
                      <a:lnTo>
                        <a:pt x="5" y="56"/>
                      </a:lnTo>
                      <a:lnTo>
                        <a:pt x="6" y="58"/>
                      </a:lnTo>
                      <a:lnTo>
                        <a:pt x="9" y="61"/>
                      </a:lnTo>
                      <a:lnTo>
                        <a:pt x="12" y="65"/>
                      </a:lnTo>
                      <a:lnTo>
                        <a:pt x="15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8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Freeform 24"/>
                <p:cNvSpPr/>
                <p:nvPr/>
              </p:nvSpPr>
              <p:spPr>
                <a:xfrm>
                  <a:off x="1311120" y="2491200"/>
                  <a:ext cx="42480" cy="4104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9" h="79">
                      <a:moveTo>
                        <a:pt x="40" y="79"/>
                      </a:moveTo>
                      <a:lnTo>
                        <a:pt x="43" y="79"/>
                      </a:lnTo>
                      <a:lnTo>
                        <a:pt x="47" y="78"/>
                      </a:lnTo>
                      <a:lnTo>
                        <a:pt x="52" y="76"/>
                      </a:lnTo>
                      <a:lnTo>
                        <a:pt x="54" y="75"/>
                      </a:lnTo>
                      <a:lnTo>
                        <a:pt x="57" y="73"/>
                      </a:lnTo>
                      <a:lnTo>
                        <a:pt x="61" y="70"/>
                      </a:lnTo>
                      <a:lnTo>
                        <a:pt x="63" y="68"/>
                      </a:lnTo>
                      <a:lnTo>
                        <a:pt x="67" y="67"/>
                      </a:lnTo>
                      <a:lnTo>
                        <a:pt x="69" y="63"/>
                      </a:lnTo>
                      <a:lnTo>
                        <a:pt x="72" y="61"/>
                      </a:lnTo>
                      <a:lnTo>
                        <a:pt x="73" y="59"/>
                      </a:lnTo>
                      <a:lnTo>
                        <a:pt x="75" y="55"/>
                      </a:lnTo>
                      <a:lnTo>
                        <a:pt x="76" y="50"/>
                      </a:lnTo>
                      <a:lnTo>
                        <a:pt x="78" y="48"/>
                      </a:lnTo>
                      <a:lnTo>
                        <a:pt x="78" y="43"/>
                      </a:lnTo>
                      <a:lnTo>
                        <a:pt x="79" y="41"/>
                      </a:lnTo>
                      <a:lnTo>
                        <a:pt x="78" y="35"/>
                      </a:lnTo>
                      <a:lnTo>
                        <a:pt x="78" y="31"/>
                      </a:lnTo>
                      <a:lnTo>
                        <a:pt x="76" y="28"/>
                      </a:lnTo>
                      <a:lnTo>
                        <a:pt x="75" y="25"/>
                      </a:lnTo>
                      <a:lnTo>
                        <a:pt x="73" y="21"/>
                      </a:lnTo>
                      <a:lnTo>
                        <a:pt x="72" y="18"/>
                      </a:lnTo>
                      <a:lnTo>
                        <a:pt x="69" y="15"/>
                      </a:lnTo>
                      <a:lnTo>
                        <a:pt x="67" y="12"/>
                      </a:lnTo>
                      <a:lnTo>
                        <a:pt x="63" y="10"/>
                      </a:lnTo>
                      <a:lnTo>
                        <a:pt x="61" y="8"/>
                      </a:lnTo>
                      <a:lnTo>
                        <a:pt x="57" y="5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47" y="2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2"/>
                      </a:lnTo>
                      <a:lnTo>
                        <a:pt x="28" y="3"/>
                      </a:lnTo>
                      <a:lnTo>
                        <a:pt x="24" y="4"/>
                      </a:lnTo>
                      <a:lnTo>
                        <a:pt x="21" y="5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2" y="12"/>
                      </a:lnTo>
                      <a:lnTo>
                        <a:pt x="10" y="15"/>
                      </a:lnTo>
                      <a:lnTo>
                        <a:pt x="8" y="18"/>
                      </a:lnTo>
                      <a:lnTo>
                        <a:pt x="5" y="21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2" y="31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4" y="55"/>
                      </a:lnTo>
                      <a:lnTo>
                        <a:pt x="5" y="59"/>
                      </a:lnTo>
                      <a:lnTo>
                        <a:pt x="8" y="61"/>
                      </a:lnTo>
                      <a:lnTo>
                        <a:pt x="10" y="63"/>
                      </a:lnTo>
                      <a:lnTo>
                        <a:pt x="12" y="67"/>
                      </a:lnTo>
                      <a:lnTo>
                        <a:pt x="15" y="68"/>
                      </a:lnTo>
                      <a:lnTo>
                        <a:pt x="18" y="70"/>
                      </a:lnTo>
                      <a:lnTo>
                        <a:pt x="21" y="73"/>
                      </a:lnTo>
                      <a:lnTo>
                        <a:pt x="24" y="75"/>
                      </a:lnTo>
                      <a:lnTo>
                        <a:pt x="28" y="76"/>
                      </a:lnTo>
                      <a:lnTo>
                        <a:pt x="31" y="78"/>
                      </a:lnTo>
                      <a:lnTo>
                        <a:pt x="36" y="79"/>
                      </a:lnTo>
                      <a:lnTo>
                        <a:pt x="40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Freeform 25"/>
                <p:cNvSpPr/>
                <p:nvPr/>
              </p:nvSpPr>
              <p:spPr>
                <a:xfrm>
                  <a:off x="1388880" y="249264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8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7" y="71"/>
                      </a:lnTo>
                      <a:lnTo>
                        <a:pt x="60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8" y="63"/>
                      </a:lnTo>
                      <a:lnTo>
                        <a:pt x="70" y="59"/>
                      </a:lnTo>
                      <a:lnTo>
                        <a:pt x="73" y="56"/>
                      </a:lnTo>
                      <a:lnTo>
                        <a:pt x="75" y="53"/>
                      </a:lnTo>
                      <a:lnTo>
                        <a:pt x="75" y="50"/>
                      </a:lnTo>
                      <a:lnTo>
                        <a:pt x="78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8" y="29"/>
                      </a:lnTo>
                      <a:lnTo>
                        <a:pt x="75" y="26"/>
                      </a:lnTo>
                      <a:lnTo>
                        <a:pt x="75" y="22"/>
                      </a:lnTo>
                      <a:lnTo>
                        <a:pt x="73" y="19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0" y="6"/>
                      </a:lnTo>
                      <a:lnTo>
                        <a:pt x="57" y="3"/>
                      </a:lnTo>
                      <a:lnTo>
                        <a:pt x="54" y="2"/>
                      </a:lnTo>
                      <a:lnTo>
                        <a:pt x="50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6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5"/>
                      </a:lnTo>
                      <a:lnTo>
                        <a:pt x="2" y="50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9" y="63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7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Freeform 26"/>
                <p:cNvSpPr/>
                <p:nvPr/>
              </p:nvSpPr>
              <p:spPr>
                <a:xfrm>
                  <a:off x="147168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38" y="77"/>
                      </a:moveTo>
                      <a:lnTo>
                        <a:pt x="41" y="76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3" y="72"/>
                      </a:lnTo>
                      <a:lnTo>
                        <a:pt x="56" y="71"/>
                      </a:lnTo>
                      <a:lnTo>
                        <a:pt x="60" y="69"/>
                      </a:lnTo>
                      <a:lnTo>
                        <a:pt x="63" y="66"/>
                      </a:lnTo>
                      <a:lnTo>
                        <a:pt x="65" y="64"/>
                      </a:lnTo>
                      <a:lnTo>
                        <a:pt x="67" y="62"/>
                      </a:lnTo>
                      <a:lnTo>
                        <a:pt x="70" y="59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6" y="49"/>
                      </a:lnTo>
                      <a:lnTo>
                        <a:pt x="76" y="45"/>
                      </a:lnTo>
                      <a:lnTo>
                        <a:pt x="77" y="41"/>
                      </a:lnTo>
                      <a:lnTo>
                        <a:pt x="78" y="38"/>
                      </a:lnTo>
                      <a:lnTo>
                        <a:pt x="77" y="34"/>
                      </a:lnTo>
                      <a:lnTo>
                        <a:pt x="76" y="28"/>
                      </a:lnTo>
                      <a:lnTo>
                        <a:pt x="76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3" y="8"/>
                      </a:lnTo>
                      <a:lnTo>
                        <a:pt x="60" y="6"/>
                      </a:lnTo>
                      <a:lnTo>
                        <a:pt x="56" y="4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7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9"/>
                      </a:lnTo>
                      <a:lnTo>
                        <a:pt x="2" y="53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4"/>
                      </a:lnTo>
                      <a:lnTo>
                        <a:pt x="13" y="66"/>
                      </a:lnTo>
                      <a:lnTo>
                        <a:pt x="16" y="69"/>
                      </a:lnTo>
                      <a:lnTo>
                        <a:pt x="20" y="71"/>
                      </a:lnTo>
                      <a:lnTo>
                        <a:pt x="22" y="72"/>
                      </a:lnTo>
                      <a:lnTo>
                        <a:pt x="26" y="75"/>
                      </a:lnTo>
                      <a:lnTo>
                        <a:pt x="31" y="75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Freeform 27"/>
                <p:cNvSpPr/>
                <p:nvPr/>
              </p:nvSpPr>
              <p:spPr>
                <a:xfrm>
                  <a:off x="1552320" y="2494080"/>
                  <a:ext cx="39600" cy="399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48" y="75"/>
                      </a:lnTo>
                      <a:lnTo>
                        <a:pt x="53" y="75"/>
                      </a:lnTo>
                      <a:lnTo>
                        <a:pt x="56" y="73"/>
                      </a:lnTo>
                      <a:lnTo>
                        <a:pt x="59" y="70"/>
                      </a:lnTo>
                      <a:lnTo>
                        <a:pt x="61" y="67"/>
                      </a:lnTo>
                      <a:lnTo>
                        <a:pt x="65" y="66"/>
                      </a:lnTo>
                      <a:lnTo>
                        <a:pt x="67" y="62"/>
                      </a:lnTo>
                      <a:lnTo>
                        <a:pt x="70" y="60"/>
                      </a:lnTo>
                      <a:lnTo>
                        <a:pt x="71" y="57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5"/>
                      </a:lnTo>
                      <a:lnTo>
                        <a:pt x="76" y="42"/>
                      </a:lnTo>
                      <a:lnTo>
                        <a:pt x="77" y="38"/>
                      </a:lnTo>
                      <a:lnTo>
                        <a:pt x="76" y="35"/>
                      </a:lnTo>
                      <a:lnTo>
                        <a:pt x="76" y="30"/>
                      </a:lnTo>
                      <a:lnTo>
                        <a:pt x="74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1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5" y="6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2"/>
                      </a:lnTo>
                      <a:lnTo>
                        <a:pt x="10" y="66"/>
                      </a:lnTo>
                      <a:lnTo>
                        <a:pt x="13" y="67"/>
                      </a:lnTo>
                      <a:lnTo>
                        <a:pt x="15" y="70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3" y="77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Freeform 28"/>
                <p:cNvSpPr/>
                <p:nvPr/>
              </p:nvSpPr>
              <p:spPr>
                <a:xfrm>
                  <a:off x="1317600" y="1908360"/>
                  <a:ext cx="29880" cy="14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6" h="27">
                      <a:moveTo>
                        <a:pt x="51" y="0"/>
                      </a:moveTo>
                      <a:lnTo>
                        <a:pt x="51" y="4"/>
                      </a:lnTo>
                      <a:lnTo>
                        <a:pt x="51" y="8"/>
                      </a:lnTo>
                      <a:lnTo>
                        <a:pt x="51" y="12"/>
                      </a:lnTo>
                      <a:lnTo>
                        <a:pt x="53" y="15"/>
                      </a:lnTo>
                      <a:lnTo>
                        <a:pt x="53" y="19"/>
                      </a:lnTo>
                      <a:lnTo>
                        <a:pt x="54" y="22"/>
                      </a:lnTo>
                      <a:lnTo>
                        <a:pt x="55" y="25"/>
                      </a:lnTo>
                      <a:lnTo>
                        <a:pt x="56" y="27"/>
                      </a:lnTo>
                      <a:lnTo>
                        <a:pt x="51" y="27"/>
                      </a:lnTo>
                      <a:lnTo>
                        <a:pt x="48" y="27"/>
                      </a:lnTo>
                      <a:lnTo>
                        <a:pt x="44" y="27"/>
                      </a:lnTo>
                      <a:lnTo>
                        <a:pt x="41" y="27"/>
                      </a:lnTo>
                      <a:lnTo>
                        <a:pt x="37" y="26"/>
                      </a:lnTo>
                      <a:lnTo>
                        <a:pt x="34" y="25"/>
                      </a:lnTo>
                      <a:lnTo>
                        <a:pt x="29" y="23"/>
                      </a:lnTo>
                      <a:lnTo>
                        <a:pt x="26" y="22"/>
                      </a:lnTo>
                      <a:lnTo>
                        <a:pt x="23" y="20"/>
                      </a:lnTo>
                      <a:lnTo>
                        <a:pt x="19" y="18"/>
                      </a:lnTo>
                      <a:lnTo>
                        <a:pt x="16" y="14"/>
                      </a:lnTo>
                      <a:lnTo>
                        <a:pt x="13" y="12"/>
                      </a:lnTo>
                      <a:lnTo>
                        <a:pt x="9" y="9"/>
                      </a:lnTo>
                      <a:lnTo>
                        <a:pt x="6" y="7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9" y="1"/>
                      </a:lnTo>
                      <a:lnTo>
                        <a:pt x="23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Freeform 29"/>
                <p:cNvSpPr/>
                <p:nvPr/>
              </p:nvSpPr>
              <p:spPr>
                <a:xfrm>
                  <a:off x="1100160" y="1908360"/>
                  <a:ext cx="516960" cy="74520"/>
                </a:xfrm>
                <a:custGeom>
                  <a:avLst/>
                  <a:gdLst>
                    <a:gd name="textAreaLeft" fmla="*/ 0 w 516960"/>
                    <a:gd name="textAreaRight" fmla="*/ 517320 w 5169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976" h="139">
                      <a:moveTo>
                        <a:pt x="811" y="11"/>
                      </a:moveTo>
                      <a:lnTo>
                        <a:pt x="812" y="11"/>
                      </a:lnTo>
                      <a:lnTo>
                        <a:pt x="816" y="11"/>
                      </a:lnTo>
                      <a:lnTo>
                        <a:pt x="818" y="11"/>
                      </a:lnTo>
                      <a:lnTo>
                        <a:pt x="822" y="12"/>
                      </a:lnTo>
                      <a:lnTo>
                        <a:pt x="824" y="12"/>
                      </a:lnTo>
                      <a:lnTo>
                        <a:pt x="829" y="12"/>
                      </a:lnTo>
                      <a:lnTo>
                        <a:pt x="827" y="13"/>
                      </a:lnTo>
                      <a:lnTo>
                        <a:pt x="824" y="14"/>
                      </a:lnTo>
                      <a:lnTo>
                        <a:pt x="821" y="16"/>
                      </a:lnTo>
                      <a:lnTo>
                        <a:pt x="818" y="18"/>
                      </a:lnTo>
                      <a:lnTo>
                        <a:pt x="816" y="18"/>
                      </a:lnTo>
                      <a:lnTo>
                        <a:pt x="812" y="20"/>
                      </a:lnTo>
                      <a:lnTo>
                        <a:pt x="810" y="21"/>
                      </a:lnTo>
                      <a:lnTo>
                        <a:pt x="808" y="23"/>
                      </a:lnTo>
                      <a:lnTo>
                        <a:pt x="804" y="24"/>
                      </a:lnTo>
                      <a:lnTo>
                        <a:pt x="802" y="25"/>
                      </a:lnTo>
                      <a:lnTo>
                        <a:pt x="798" y="26"/>
                      </a:lnTo>
                      <a:lnTo>
                        <a:pt x="795" y="27"/>
                      </a:lnTo>
                      <a:lnTo>
                        <a:pt x="792" y="29"/>
                      </a:lnTo>
                      <a:lnTo>
                        <a:pt x="790" y="30"/>
                      </a:lnTo>
                      <a:lnTo>
                        <a:pt x="785" y="31"/>
                      </a:lnTo>
                      <a:lnTo>
                        <a:pt x="783" y="32"/>
                      </a:lnTo>
                      <a:lnTo>
                        <a:pt x="779" y="33"/>
                      </a:lnTo>
                      <a:lnTo>
                        <a:pt x="777" y="33"/>
                      </a:lnTo>
                      <a:lnTo>
                        <a:pt x="772" y="35"/>
                      </a:lnTo>
                      <a:lnTo>
                        <a:pt x="770" y="36"/>
                      </a:lnTo>
                      <a:lnTo>
                        <a:pt x="766" y="36"/>
                      </a:lnTo>
                      <a:lnTo>
                        <a:pt x="764" y="36"/>
                      </a:lnTo>
                      <a:lnTo>
                        <a:pt x="761" y="36"/>
                      </a:lnTo>
                      <a:lnTo>
                        <a:pt x="758" y="36"/>
                      </a:lnTo>
                      <a:lnTo>
                        <a:pt x="755" y="35"/>
                      </a:lnTo>
                      <a:lnTo>
                        <a:pt x="752" y="33"/>
                      </a:lnTo>
                      <a:lnTo>
                        <a:pt x="750" y="32"/>
                      </a:lnTo>
                      <a:lnTo>
                        <a:pt x="748" y="31"/>
                      </a:lnTo>
                      <a:lnTo>
                        <a:pt x="746" y="29"/>
                      </a:lnTo>
                      <a:lnTo>
                        <a:pt x="744" y="26"/>
                      </a:lnTo>
                      <a:lnTo>
                        <a:pt x="741" y="24"/>
                      </a:lnTo>
                      <a:lnTo>
                        <a:pt x="740" y="21"/>
                      </a:lnTo>
                      <a:lnTo>
                        <a:pt x="735" y="24"/>
                      </a:lnTo>
                      <a:lnTo>
                        <a:pt x="732" y="25"/>
                      </a:lnTo>
                      <a:lnTo>
                        <a:pt x="727" y="27"/>
                      </a:lnTo>
                      <a:lnTo>
                        <a:pt x="723" y="30"/>
                      </a:lnTo>
                      <a:lnTo>
                        <a:pt x="721" y="32"/>
                      </a:lnTo>
                      <a:lnTo>
                        <a:pt x="719" y="33"/>
                      </a:lnTo>
                      <a:lnTo>
                        <a:pt x="716" y="36"/>
                      </a:lnTo>
                      <a:lnTo>
                        <a:pt x="715" y="38"/>
                      </a:lnTo>
                      <a:lnTo>
                        <a:pt x="712" y="40"/>
                      </a:lnTo>
                      <a:lnTo>
                        <a:pt x="710" y="43"/>
                      </a:lnTo>
                      <a:lnTo>
                        <a:pt x="708" y="45"/>
                      </a:lnTo>
                      <a:lnTo>
                        <a:pt x="707" y="46"/>
                      </a:lnTo>
                      <a:lnTo>
                        <a:pt x="704" y="46"/>
                      </a:lnTo>
                      <a:lnTo>
                        <a:pt x="702" y="46"/>
                      </a:lnTo>
                      <a:lnTo>
                        <a:pt x="698" y="44"/>
                      </a:lnTo>
                      <a:lnTo>
                        <a:pt x="695" y="42"/>
                      </a:lnTo>
                      <a:lnTo>
                        <a:pt x="691" y="39"/>
                      </a:lnTo>
                      <a:lnTo>
                        <a:pt x="688" y="38"/>
                      </a:lnTo>
                      <a:lnTo>
                        <a:pt x="684" y="36"/>
                      </a:lnTo>
                      <a:lnTo>
                        <a:pt x="681" y="32"/>
                      </a:lnTo>
                      <a:lnTo>
                        <a:pt x="678" y="31"/>
                      </a:lnTo>
                      <a:lnTo>
                        <a:pt x="676" y="30"/>
                      </a:lnTo>
                      <a:lnTo>
                        <a:pt x="672" y="27"/>
                      </a:lnTo>
                      <a:lnTo>
                        <a:pt x="670" y="26"/>
                      </a:lnTo>
                      <a:lnTo>
                        <a:pt x="666" y="24"/>
                      </a:lnTo>
                      <a:lnTo>
                        <a:pt x="664" y="23"/>
                      </a:lnTo>
                      <a:lnTo>
                        <a:pt x="661" y="20"/>
                      </a:lnTo>
                      <a:lnTo>
                        <a:pt x="658" y="18"/>
                      </a:lnTo>
                      <a:lnTo>
                        <a:pt x="656" y="23"/>
                      </a:lnTo>
                      <a:lnTo>
                        <a:pt x="653" y="29"/>
                      </a:lnTo>
                      <a:lnTo>
                        <a:pt x="652" y="32"/>
                      </a:lnTo>
                      <a:lnTo>
                        <a:pt x="650" y="38"/>
                      </a:lnTo>
                      <a:lnTo>
                        <a:pt x="650" y="42"/>
                      </a:lnTo>
                      <a:lnTo>
                        <a:pt x="649" y="45"/>
                      </a:lnTo>
                      <a:lnTo>
                        <a:pt x="647" y="49"/>
                      </a:lnTo>
                      <a:lnTo>
                        <a:pt x="647" y="52"/>
                      </a:lnTo>
                      <a:lnTo>
                        <a:pt x="647" y="55"/>
                      </a:lnTo>
                      <a:lnTo>
                        <a:pt x="647" y="58"/>
                      </a:lnTo>
                      <a:lnTo>
                        <a:pt x="647" y="61"/>
                      </a:lnTo>
                      <a:lnTo>
                        <a:pt x="650" y="63"/>
                      </a:lnTo>
                      <a:lnTo>
                        <a:pt x="650" y="67"/>
                      </a:lnTo>
                      <a:lnTo>
                        <a:pt x="653" y="70"/>
                      </a:lnTo>
                      <a:lnTo>
                        <a:pt x="657" y="71"/>
                      </a:lnTo>
                      <a:lnTo>
                        <a:pt x="661" y="74"/>
                      </a:lnTo>
                      <a:lnTo>
                        <a:pt x="664" y="74"/>
                      </a:lnTo>
                      <a:lnTo>
                        <a:pt x="669" y="74"/>
                      </a:lnTo>
                      <a:lnTo>
                        <a:pt x="671" y="74"/>
                      </a:lnTo>
                      <a:lnTo>
                        <a:pt x="674" y="74"/>
                      </a:lnTo>
                      <a:lnTo>
                        <a:pt x="677" y="74"/>
                      </a:lnTo>
                      <a:lnTo>
                        <a:pt x="681" y="74"/>
                      </a:lnTo>
                      <a:lnTo>
                        <a:pt x="683" y="73"/>
                      </a:lnTo>
                      <a:lnTo>
                        <a:pt x="685" y="73"/>
                      </a:lnTo>
                      <a:lnTo>
                        <a:pt x="688" y="71"/>
                      </a:lnTo>
                      <a:lnTo>
                        <a:pt x="691" y="71"/>
                      </a:lnTo>
                      <a:lnTo>
                        <a:pt x="695" y="70"/>
                      </a:lnTo>
                      <a:lnTo>
                        <a:pt x="697" y="69"/>
                      </a:lnTo>
                      <a:lnTo>
                        <a:pt x="701" y="68"/>
                      </a:lnTo>
                      <a:lnTo>
                        <a:pt x="704" y="67"/>
                      </a:lnTo>
                      <a:lnTo>
                        <a:pt x="707" y="65"/>
                      </a:lnTo>
                      <a:lnTo>
                        <a:pt x="710" y="65"/>
                      </a:lnTo>
                      <a:lnTo>
                        <a:pt x="714" y="64"/>
                      </a:lnTo>
                      <a:lnTo>
                        <a:pt x="717" y="63"/>
                      </a:lnTo>
                      <a:lnTo>
                        <a:pt x="720" y="62"/>
                      </a:lnTo>
                      <a:lnTo>
                        <a:pt x="723" y="61"/>
                      </a:lnTo>
                      <a:lnTo>
                        <a:pt x="726" y="59"/>
                      </a:lnTo>
                      <a:lnTo>
                        <a:pt x="729" y="58"/>
                      </a:lnTo>
                      <a:lnTo>
                        <a:pt x="733" y="58"/>
                      </a:lnTo>
                      <a:lnTo>
                        <a:pt x="736" y="57"/>
                      </a:lnTo>
                      <a:lnTo>
                        <a:pt x="739" y="56"/>
                      </a:lnTo>
                      <a:lnTo>
                        <a:pt x="741" y="56"/>
                      </a:lnTo>
                      <a:lnTo>
                        <a:pt x="744" y="55"/>
                      </a:lnTo>
                      <a:lnTo>
                        <a:pt x="747" y="55"/>
                      </a:lnTo>
                      <a:lnTo>
                        <a:pt x="751" y="54"/>
                      </a:lnTo>
                      <a:lnTo>
                        <a:pt x="753" y="54"/>
                      </a:lnTo>
                      <a:lnTo>
                        <a:pt x="758" y="52"/>
                      </a:lnTo>
                      <a:lnTo>
                        <a:pt x="763" y="54"/>
                      </a:lnTo>
                      <a:lnTo>
                        <a:pt x="766" y="54"/>
                      </a:lnTo>
                      <a:lnTo>
                        <a:pt x="770" y="55"/>
                      </a:lnTo>
                      <a:lnTo>
                        <a:pt x="772" y="56"/>
                      </a:lnTo>
                      <a:lnTo>
                        <a:pt x="774" y="59"/>
                      </a:lnTo>
                      <a:lnTo>
                        <a:pt x="774" y="63"/>
                      </a:lnTo>
                      <a:lnTo>
                        <a:pt x="777" y="65"/>
                      </a:lnTo>
                      <a:lnTo>
                        <a:pt x="777" y="68"/>
                      </a:lnTo>
                      <a:lnTo>
                        <a:pt x="779" y="71"/>
                      </a:lnTo>
                      <a:lnTo>
                        <a:pt x="780" y="74"/>
                      </a:lnTo>
                      <a:lnTo>
                        <a:pt x="782" y="77"/>
                      </a:lnTo>
                      <a:lnTo>
                        <a:pt x="784" y="80"/>
                      </a:lnTo>
                      <a:lnTo>
                        <a:pt x="786" y="82"/>
                      </a:lnTo>
                      <a:lnTo>
                        <a:pt x="790" y="83"/>
                      </a:lnTo>
                      <a:lnTo>
                        <a:pt x="792" y="86"/>
                      </a:lnTo>
                      <a:lnTo>
                        <a:pt x="795" y="87"/>
                      </a:lnTo>
                      <a:lnTo>
                        <a:pt x="798" y="88"/>
                      </a:lnTo>
                      <a:lnTo>
                        <a:pt x="801" y="88"/>
                      </a:lnTo>
                      <a:lnTo>
                        <a:pt x="804" y="90"/>
                      </a:lnTo>
                      <a:lnTo>
                        <a:pt x="808" y="90"/>
                      </a:lnTo>
                      <a:lnTo>
                        <a:pt x="812" y="92"/>
                      </a:lnTo>
                      <a:lnTo>
                        <a:pt x="816" y="92"/>
                      </a:lnTo>
                      <a:lnTo>
                        <a:pt x="820" y="92"/>
                      </a:lnTo>
                      <a:lnTo>
                        <a:pt x="823" y="90"/>
                      </a:lnTo>
                      <a:lnTo>
                        <a:pt x="828" y="89"/>
                      </a:lnTo>
                      <a:lnTo>
                        <a:pt x="831" y="88"/>
                      </a:lnTo>
                      <a:lnTo>
                        <a:pt x="836" y="86"/>
                      </a:lnTo>
                      <a:lnTo>
                        <a:pt x="840" y="83"/>
                      </a:lnTo>
                      <a:lnTo>
                        <a:pt x="846" y="82"/>
                      </a:lnTo>
                      <a:lnTo>
                        <a:pt x="849" y="78"/>
                      </a:lnTo>
                      <a:lnTo>
                        <a:pt x="853" y="76"/>
                      </a:lnTo>
                      <a:lnTo>
                        <a:pt x="857" y="71"/>
                      </a:lnTo>
                      <a:lnTo>
                        <a:pt x="862" y="68"/>
                      </a:lnTo>
                      <a:lnTo>
                        <a:pt x="867" y="63"/>
                      </a:lnTo>
                      <a:lnTo>
                        <a:pt x="871" y="58"/>
                      </a:lnTo>
                      <a:lnTo>
                        <a:pt x="873" y="56"/>
                      </a:lnTo>
                      <a:lnTo>
                        <a:pt x="875" y="54"/>
                      </a:lnTo>
                      <a:lnTo>
                        <a:pt x="878" y="50"/>
                      </a:lnTo>
                      <a:lnTo>
                        <a:pt x="880" y="48"/>
                      </a:lnTo>
                      <a:lnTo>
                        <a:pt x="878" y="45"/>
                      </a:lnTo>
                      <a:lnTo>
                        <a:pt x="875" y="44"/>
                      </a:lnTo>
                      <a:lnTo>
                        <a:pt x="873" y="43"/>
                      </a:lnTo>
                      <a:lnTo>
                        <a:pt x="868" y="43"/>
                      </a:lnTo>
                      <a:lnTo>
                        <a:pt x="865" y="43"/>
                      </a:lnTo>
                      <a:lnTo>
                        <a:pt x="860" y="43"/>
                      </a:lnTo>
                      <a:lnTo>
                        <a:pt x="855" y="43"/>
                      </a:lnTo>
                      <a:lnTo>
                        <a:pt x="850" y="43"/>
                      </a:lnTo>
                      <a:lnTo>
                        <a:pt x="847" y="43"/>
                      </a:lnTo>
                      <a:lnTo>
                        <a:pt x="844" y="43"/>
                      </a:lnTo>
                      <a:lnTo>
                        <a:pt x="842" y="43"/>
                      </a:lnTo>
                      <a:lnTo>
                        <a:pt x="840" y="44"/>
                      </a:lnTo>
                      <a:lnTo>
                        <a:pt x="835" y="44"/>
                      </a:lnTo>
                      <a:lnTo>
                        <a:pt x="830" y="44"/>
                      </a:lnTo>
                      <a:lnTo>
                        <a:pt x="825" y="43"/>
                      </a:lnTo>
                      <a:lnTo>
                        <a:pt x="823" y="43"/>
                      </a:lnTo>
                      <a:lnTo>
                        <a:pt x="820" y="40"/>
                      </a:lnTo>
                      <a:lnTo>
                        <a:pt x="820" y="39"/>
                      </a:lnTo>
                      <a:lnTo>
                        <a:pt x="821" y="37"/>
                      </a:lnTo>
                      <a:lnTo>
                        <a:pt x="822" y="33"/>
                      </a:lnTo>
                      <a:lnTo>
                        <a:pt x="824" y="31"/>
                      </a:lnTo>
                      <a:lnTo>
                        <a:pt x="827" y="30"/>
                      </a:lnTo>
                      <a:lnTo>
                        <a:pt x="829" y="25"/>
                      </a:lnTo>
                      <a:lnTo>
                        <a:pt x="833" y="23"/>
                      </a:lnTo>
                      <a:lnTo>
                        <a:pt x="834" y="19"/>
                      </a:lnTo>
                      <a:lnTo>
                        <a:pt x="836" y="17"/>
                      </a:lnTo>
                      <a:lnTo>
                        <a:pt x="837" y="14"/>
                      </a:lnTo>
                      <a:lnTo>
                        <a:pt x="839" y="12"/>
                      </a:lnTo>
                      <a:lnTo>
                        <a:pt x="842" y="12"/>
                      </a:lnTo>
                      <a:lnTo>
                        <a:pt x="847" y="12"/>
                      </a:lnTo>
                      <a:lnTo>
                        <a:pt x="852" y="12"/>
                      </a:lnTo>
                      <a:lnTo>
                        <a:pt x="857" y="13"/>
                      </a:lnTo>
                      <a:lnTo>
                        <a:pt x="860" y="13"/>
                      </a:lnTo>
                      <a:lnTo>
                        <a:pt x="862" y="13"/>
                      </a:lnTo>
                      <a:lnTo>
                        <a:pt x="865" y="13"/>
                      </a:lnTo>
                      <a:lnTo>
                        <a:pt x="868" y="13"/>
                      </a:lnTo>
                      <a:lnTo>
                        <a:pt x="871" y="13"/>
                      </a:lnTo>
                      <a:lnTo>
                        <a:pt x="873" y="14"/>
                      </a:lnTo>
                      <a:lnTo>
                        <a:pt x="875" y="14"/>
                      </a:lnTo>
                      <a:lnTo>
                        <a:pt x="879" y="16"/>
                      </a:lnTo>
                      <a:lnTo>
                        <a:pt x="881" y="16"/>
                      </a:lnTo>
                      <a:lnTo>
                        <a:pt x="885" y="16"/>
                      </a:lnTo>
                      <a:lnTo>
                        <a:pt x="888" y="16"/>
                      </a:lnTo>
                      <a:lnTo>
                        <a:pt x="891" y="16"/>
                      </a:lnTo>
                      <a:lnTo>
                        <a:pt x="893" y="16"/>
                      </a:lnTo>
                      <a:lnTo>
                        <a:pt x="895" y="16"/>
                      </a:lnTo>
                      <a:lnTo>
                        <a:pt x="899" y="16"/>
                      </a:lnTo>
                      <a:lnTo>
                        <a:pt x="901" y="16"/>
                      </a:lnTo>
                      <a:lnTo>
                        <a:pt x="904" y="16"/>
                      </a:lnTo>
                      <a:lnTo>
                        <a:pt x="907" y="16"/>
                      </a:lnTo>
                      <a:lnTo>
                        <a:pt x="910" y="16"/>
                      </a:lnTo>
                      <a:lnTo>
                        <a:pt x="913" y="16"/>
                      </a:lnTo>
                      <a:lnTo>
                        <a:pt x="916" y="16"/>
                      </a:lnTo>
                      <a:lnTo>
                        <a:pt x="918" y="17"/>
                      </a:lnTo>
                      <a:lnTo>
                        <a:pt x="922" y="17"/>
                      </a:lnTo>
                      <a:lnTo>
                        <a:pt x="924" y="18"/>
                      </a:lnTo>
                      <a:lnTo>
                        <a:pt x="929" y="18"/>
                      </a:lnTo>
                      <a:lnTo>
                        <a:pt x="935" y="18"/>
                      </a:lnTo>
                      <a:lnTo>
                        <a:pt x="939" y="18"/>
                      </a:lnTo>
                      <a:lnTo>
                        <a:pt x="944" y="18"/>
                      </a:lnTo>
                      <a:lnTo>
                        <a:pt x="949" y="18"/>
                      </a:lnTo>
                      <a:lnTo>
                        <a:pt x="954" y="18"/>
                      </a:lnTo>
                      <a:lnTo>
                        <a:pt x="956" y="18"/>
                      </a:lnTo>
                      <a:lnTo>
                        <a:pt x="961" y="19"/>
                      </a:lnTo>
                      <a:lnTo>
                        <a:pt x="964" y="19"/>
                      </a:lnTo>
                      <a:lnTo>
                        <a:pt x="967" y="19"/>
                      </a:lnTo>
                      <a:lnTo>
                        <a:pt x="969" y="19"/>
                      </a:lnTo>
                      <a:lnTo>
                        <a:pt x="971" y="20"/>
                      </a:lnTo>
                      <a:lnTo>
                        <a:pt x="974" y="20"/>
                      </a:lnTo>
                      <a:lnTo>
                        <a:pt x="976" y="20"/>
                      </a:lnTo>
                      <a:lnTo>
                        <a:pt x="973" y="106"/>
                      </a:lnTo>
                      <a:lnTo>
                        <a:pt x="806" y="97"/>
                      </a:lnTo>
                      <a:lnTo>
                        <a:pt x="793" y="96"/>
                      </a:lnTo>
                      <a:lnTo>
                        <a:pt x="782" y="96"/>
                      </a:lnTo>
                      <a:lnTo>
                        <a:pt x="770" y="95"/>
                      </a:lnTo>
                      <a:lnTo>
                        <a:pt x="757" y="95"/>
                      </a:lnTo>
                      <a:lnTo>
                        <a:pt x="744" y="94"/>
                      </a:lnTo>
                      <a:lnTo>
                        <a:pt x="732" y="94"/>
                      </a:lnTo>
                      <a:lnTo>
                        <a:pt x="719" y="93"/>
                      </a:lnTo>
                      <a:lnTo>
                        <a:pt x="706" y="92"/>
                      </a:lnTo>
                      <a:lnTo>
                        <a:pt x="694" y="92"/>
                      </a:lnTo>
                      <a:lnTo>
                        <a:pt x="681" y="90"/>
                      </a:lnTo>
                      <a:lnTo>
                        <a:pt x="668" y="89"/>
                      </a:lnTo>
                      <a:lnTo>
                        <a:pt x="656" y="88"/>
                      </a:lnTo>
                      <a:lnTo>
                        <a:pt x="643" y="88"/>
                      </a:lnTo>
                      <a:lnTo>
                        <a:pt x="630" y="88"/>
                      </a:lnTo>
                      <a:lnTo>
                        <a:pt x="618" y="87"/>
                      </a:lnTo>
                      <a:lnTo>
                        <a:pt x="606" y="87"/>
                      </a:lnTo>
                      <a:lnTo>
                        <a:pt x="593" y="86"/>
                      </a:lnTo>
                      <a:lnTo>
                        <a:pt x="580" y="86"/>
                      </a:lnTo>
                      <a:lnTo>
                        <a:pt x="568" y="86"/>
                      </a:lnTo>
                      <a:lnTo>
                        <a:pt x="555" y="86"/>
                      </a:lnTo>
                      <a:lnTo>
                        <a:pt x="543" y="84"/>
                      </a:lnTo>
                      <a:lnTo>
                        <a:pt x="530" y="84"/>
                      </a:lnTo>
                      <a:lnTo>
                        <a:pt x="518" y="84"/>
                      </a:lnTo>
                      <a:lnTo>
                        <a:pt x="505" y="84"/>
                      </a:lnTo>
                      <a:lnTo>
                        <a:pt x="492" y="84"/>
                      </a:lnTo>
                      <a:lnTo>
                        <a:pt x="480" y="84"/>
                      </a:lnTo>
                      <a:lnTo>
                        <a:pt x="468" y="84"/>
                      </a:lnTo>
                      <a:lnTo>
                        <a:pt x="455" y="84"/>
                      </a:lnTo>
                      <a:lnTo>
                        <a:pt x="442" y="84"/>
                      </a:lnTo>
                      <a:lnTo>
                        <a:pt x="430" y="84"/>
                      </a:lnTo>
                      <a:lnTo>
                        <a:pt x="418" y="86"/>
                      </a:lnTo>
                      <a:lnTo>
                        <a:pt x="407" y="86"/>
                      </a:lnTo>
                      <a:lnTo>
                        <a:pt x="394" y="86"/>
                      </a:lnTo>
                      <a:lnTo>
                        <a:pt x="382" y="86"/>
                      </a:lnTo>
                      <a:lnTo>
                        <a:pt x="369" y="86"/>
                      </a:lnTo>
                      <a:lnTo>
                        <a:pt x="357" y="87"/>
                      </a:lnTo>
                      <a:lnTo>
                        <a:pt x="344" y="87"/>
                      </a:lnTo>
                      <a:lnTo>
                        <a:pt x="332" y="88"/>
                      </a:lnTo>
                      <a:lnTo>
                        <a:pt x="320" y="88"/>
                      </a:lnTo>
                      <a:lnTo>
                        <a:pt x="308" y="90"/>
                      </a:lnTo>
                      <a:lnTo>
                        <a:pt x="295" y="90"/>
                      </a:lnTo>
                      <a:lnTo>
                        <a:pt x="283" y="92"/>
                      </a:lnTo>
                      <a:lnTo>
                        <a:pt x="270" y="93"/>
                      </a:lnTo>
                      <a:lnTo>
                        <a:pt x="258" y="94"/>
                      </a:lnTo>
                      <a:lnTo>
                        <a:pt x="245" y="95"/>
                      </a:lnTo>
                      <a:lnTo>
                        <a:pt x="235" y="96"/>
                      </a:lnTo>
                      <a:lnTo>
                        <a:pt x="223" y="99"/>
                      </a:lnTo>
                      <a:lnTo>
                        <a:pt x="210" y="100"/>
                      </a:lnTo>
                      <a:lnTo>
                        <a:pt x="198" y="101"/>
                      </a:lnTo>
                      <a:lnTo>
                        <a:pt x="186" y="103"/>
                      </a:lnTo>
                      <a:lnTo>
                        <a:pt x="174" y="105"/>
                      </a:lnTo>
                      <a:lnTo>
                        <a:pt x="162" y="106"/>
                      </a:lnTo>
                      <a:lnTo>
                        <a:pt x="150" y="108"/>
                      </a:lnTo>
                      <a:lnTo>
                        <a:pt x="138" y="111"/>
                      </a:lnTo>
                      <a:lnTo>
                        <a:pt x="127" y="113"/>
                      </a:lnTo>
                      <a:lnTo>
                        <a:pt x="116" y="115"/>
                      </a:lnTo>
                      <a:lnTo>
                        <a:pt x="103" y="118"/>
                      </a:lnTo>
                      <a:lnTo>
                        <a:pt x="92" y="120"/>
                      </a:lnTo>
                      <a:lnTo>
                        <a:pt x="80" y="124"/>
                      </a:lnTo>
                      <a:lnTo>
                        <a:pt x="70" y="126"/>
                      </a:lnTo>
                      <a:lnTo>
                        <a:pt x="58" y="130"/>
                      </a:lnTo>
                      <a:lnTo>
                        <a:pt x="46" y="132"/>
                      </a:lnTo>
                      <a:lnTo>
                        <a:pt x="35" y="134"/>
                      </a:lnTo>
                      <a:lnTo>
                        <a:pt x="23" y="139"/>
                      </a:lnTo>
                      <a:lnTo>
                        <a:pt x="0" y="56"/>
                      </a:lnTo>
                      <a:lnTo>
                        <a:pt x="4" y="54"/>
                      </a:lnTo>
                      <a:lnTo>
                        <a:pt x="10" y="52"/>
                      </a:lnTo>
                      <a:lnTo>
                        <a:pt x="13" y="51"/>
                      </a:lnTo>
                      <a:lnTo>
                        <a:pt x="15" y="50"/>
                      </a:lnTo>
                      <a:lnTo>
                        <a:pt x="17" y="50"/>
                      </a:lnTo>
                      <a:lnTo>
                        <a:pt x="21" y="49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3" y="45"/>
                      </a:lnTo>
                      <a:lnTo>
                        <a:pt x="36" y="45"/>
                      </a:lnTo>
                      <a:lnTo>
                        <a:pt x="39" y="44"/>
                      </a:lnTo>
                      <a:lnTo>
                        <a:pt x="42" y="44"/>
                      </a:lnTo>
                      <a:lnTo>
                        <a:pt x="45" y="43"/>
                      </a:lnTo>
                      <a:lnTo>
                        <a:pt x="47" y="43"/>
                      </a:lnTo>
                      <a:lnTo>
                        <a:pt x="49" y="42"/>
                      </a:lnTo>
                      <a:lnTo>
                        <a:pt x="53" y="40"/>
                      </a:lnTo>
                      <a:lnTo>
                        <a:pt x="55" y="40"/>
                      </a:lnTo>
                      <a:lnTo>
                        <a:pt x="58" y="39"/>
                      </a:lnTo>
                      <a:lnTo>
                        <a:pt x="60" y="38"/>
                      </a:lnTo>
                      <a:lnTo>
                        <a:pt x="64" y="38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71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5"/>
                      </a:lnTo>
                      <a:lnTo>
                        <a:pt x="83" y="33"/>
                      </a:lnTo>
                      <a:lnTo>
                        <a:pt x="86" y="33"/>
                      </a:lnTo>
                      <a:lnTo>
                        <a:pt x="89" y="32"/>
                      </a:lnTo>
                      <a:lnTo>
                        <a:pt x="91" y="32"/>
                      </a:lnTo>
                      <a:lnTo>
                        <a:pt x="93" y="31"/>
                      </a:lnTo>
                      <a:lnTo>
                        <a:pt x="96" y="31"/>
                      </a:lnTo>
                      <a:lnTo>
                        <a:pt x="98" y="30"/>
                      </a:lnTo>
                      <a:lnTo>
                        <a:pt x="100" y="30"/>
                      </a:lnTo>
                      <a:lnTo>
                        <a:pt x="104" y="29"/>
                      </a:lnTo>
                      <a:lnTo>
                        <a:pt x="108" y="29"/>
                      </a:lnTo>
                      <a:lnTo>
                        <a:pt x="110" y="27"/>
                      </a:lnTo>
                      <a:lnTo>
                        <a:pt x="112" y="27"/>
                      </a:lnTo>
                      <a:lnTo>
                        <a:pt x="115" y="27"/>
                      </a:lnTo>
                      <a:lnTo>
                        <a:pt x="118" y="26"/>
                      </a:lnTo>
                      <a:lnTo>
                        <a:pt x="121" y="26"/>
                      </a:lnTo>
                      <a:lnTo>
                        <a:pt x="123" y="25"/>
                      </a:lnTo>
                      <a:lnTo>
                        <a:pt x="127" y="25"/>
                      </a:lnTo>
                      <a:lnTo>
                        <a:pt x="129" y="25"/>
                      </a:lnTo>
                      <a:lnTo>
                        <a:pt x="131" y="24"/>
                      </a:lnTo>
                      <a:lnTo>
                        <a:pt x="134" y="24"/>
                      </a:lnTo>
                      <a:lnTo>
                        <a:pt x="136" y="23"/>
                      </a:lnTo>
                      <a:lnTo>
                        <a:pt x="140" y="23"/>
                      </a:lnTo>
                      <a:lnTo>
                        <a:pt x="142" y="21"/>
                      </a:lnTo>
                      <a:lnTo>
                        <a:pt x="144" y="21"/>
                      </a:lnTo>
                      <a:lnTo>
                        <a:pt x="148" y="20"/>
                      </a:lnTo>
                      <a:lnTo>
                        <a:pt x="150" y="20"/>
                      </a:lnTo>
                      <a:lnTo>
                        <a:pt x="153" y="20"/>
                      </a:lnTo>
                      <a:lnTo>
                        <a:pt x="156" y="20"/>
                      </a:lnTo>
                      <a:lnTo>
                        <a:pt x="159" y="20"/>
                      </a:lnTo>
                      <a:lnTo>
                        <a:pt x="162" y="20"/>
                      </a:lnTo>
                      <a:lnTo>
                        <a:pt x="165" y="19"/>
                      </a:lnTo>
                      <a:lnTo>
                        <a:pt x="167" y="18"/>
                      </a:lnTo>
                      <a:lnTo>
                        <a:pt x="170" y="18"/>
                      </a:lnTo>
                      <a:lnTo>
                        <a:pt x="173" y="18"/>
                      </a:lnTo>
                      <a:lnTo>
                        <a:pt x="173" y="20"/>
                      </a:lnTo>
                      <a:lnTo>
                        <a:pt x="174" y="24"/>
                      </a:lnTo>
                      <a:lnTo>
                        <a:pt x="175" y="26"/>
                      </a:lnTo>
                      <a:lnTo>
                        <a:pt x="176" y="30"/>
                      </a:lnTo>
                      <a:lnTo>
                        <a:pt x="176" y="32"/>
                      </a:lnTo>
                      <a:lnTo>
                        <a:pt x="178" y="36"/>
                      </a:lnTo>
                      <a:lnTo>
                        <a:pt x="179" y="38"/>
                      </a:lnTo>
                      <a:lnTo>
                        <a:pt x="179" y="43"/>
                      </a:lnTo>
                      <a:lnTo>
                        <a:pt x="184" y="43"/>
                      </a:lnTo>
                      <a:lnTo>
                        <a:pt x="187" y="43"/>
                      </a:lnTo>
                      <a:lnTo>
                        <a:pt x="192" y="43"/>
                      </a:lnTo>
                      <a:lnTo>
                        <a:pt x="197" y="43"/>
                      </a:lnTo>
                      <a:lnTo>
                        <a:pt x="200" y="43"/>
                      </a:lnTo>
                      <a:lnTo>
                        <a:pt x="205" y="43"/>
                      </a:lnTo>
                      <a:lnTo>
                        <a:pt x="210" y="43"/>
                      </a:lnTo>
                      <a:lnTo>
                        <a:pt x="214" y="43"/>
                      </a:lnTo>
                      <a:lnTo>
                        <a:pt x="214" y="39"/>
                      </a:lnTo>
                      <a:lnTo>
                        <a:pt x="217" y="36"/>
                      </a:lnTo>
                      <a:lnTo>
                        <a:pt x="219" y="33"/>
                      </a:lnTo>
                      <a:lnTo>
                        <a:pt x="220" y="32"/>
                      </a:lnTo>
                      <a:lnTo>
                        <a:pt x="224" y="27"/>
                      </a:lnTo>
                      <a:lnTo>
                        <a:pt x="227" y="25"/>
                      </a:lnTo>
                      <a:lnTo>
                        <a:pt x="230" y="24"/>
                      </a:lnTo>
                      <a:lnTo>
                        <a:pt x="233" y="23"/>
                      </a:lnTo>
                      <a:lnTo>
                        <a:pt x="237" y="23"/>
                      </a:lnTo>
                      <a:lnTo>
                        <a:pt x="241" y="23"/>
                      </a:lnTo>
                      <a:lnTo>
                        <a:pt x="243" y="23"/>
                      </a:lnTo>
                      <a:lnTo>
                        <a:pt x="245" y="25"/>
                      </a:lnTo>
                      <a:lnTo>
                        <a:pt x="248" y="26"/>
                      </a:lnTo>
                      <a:lnTo>
                        <a:pt x="250" y="30"/>
                      </a:lnTo>
                      <a:lnTo>
                        <a:pt x="252" y="32"/>
                      </a:lnTo>
                      <a:lnTo>
                        <a:pt x="256" y="36"/>
                      </a:lnTo>
                      <a:lnTo>
                        <a:pt x="258" y="38"/>
                      </a:lnTo>
                      <a:lnTo>
                        <a:pt x="262" y="43"/>
                      </a:lnTo>
                      <a:lnTo>
                        <a:pt x="264" y="46"/>
                      </a:lnTo>
                      <a:lnTo>
                        <a:pt x="267" y="50"/>
                      </a:lnTo>
                      <a:lnTo>
                        <a:pt x="269" y="54"/>
                      </a:lnTo>
                      <a:lnTo>
                        <a:pt x="273" y="58"/>
                      </a:lnTo>
                      <a:lnTo>
                        <a:pt x="275" y="62"/>
                      </a:lnTo>
                      <a:lnTo>
                        <a:pt x="277" y="65"/>
                      </a:lnTo>
                      <a:lnTo>
                        <a:pt x="281" y="69"/>
                      </a:lnTo>
                      <a:lnTo>
                        <a:pt x="284" y="73"/>
                      </a:lnTo>
                      <a:lnTo>
                        <a:pt x="287" y="75"/>
                      </a:lnTo>
                      <a:lnTo>
                        <a:pt x="290" y="78"/>
                      </a:lnTo>
                      <a:lnTo>
                        <a:pt x="293" y="81"/>
                      </a:lnTo>
                      <a:lnTo>
                        <a:pt x="297" y="82"/>
                      </a:lnTo>
                      <a:lnTo>
                        <a:pt x="301" y="83"/>
                      </a:lnTo>
                      <a:lnTo>
                        <a:pt x="305" y="83"/>
                      </a:lnTo>
                      <a:lnTo>
                        <a:pt x="308" y="83"/>
                      </a:lnTo>
                      <a:lnTo>
                        <a:pt x="314" y="83"/>
                      </a:lnTo>
                      <a:lnTo>
                        <a:pt x="315" y="81"/>
                      </a:lnTo>
                      <a:lnTo>
                        <a:pt x="316" y="77"/>
                      </a:lnTo>
                      <a:lnTo>
                        <a:pt x="319" y="75"/>
                      </a:lnTo>
                      <a:lnTo>
                        <a:pt x="320" y="73"/>
                      </a:lnTo>
                      <a:lnTo>
                        <a:pt x="321" y="70"/>
                      </a:lnTo>
                      <a:lnTo>
                        <a:pt x="321" y="67"/>
                      </a:lnTo>
                      <a:lnTo>
                        <a:pt x="322" y="64"/>
                      </a:lnTo>
                      <a:lnTo>
                        <a:pt x="324" y="62"/>
                      </a:lnTo>
                      <a:lnTo>
                        <a:pt x="324" y="59"/>
                      </a:lnTo>
                      <a:lnTo>
                        <a:pt x="324" y="57"/>
                      </a:lnTo>
                      <a:lnTo>
                        <a:pt x="324" y="54"/>
                      </a:lnTo>
                      <a:lnTo>
                        <a:pt x="324" y="51"/>
                      </a:lnTo>
                      <a:lnTo>
                        <a:pt x="324" y="46"/>
                      </a:lnTo>
                      <a:lnTo>
                        <a:pt x="324" y="42"/>
                      </a:lnTo>
                      <a:lnTo>
                        <a:pt x="321" y="36"/>
                      </a:lnTo>
                      <a:lnTo>
                        <a:pt x="320" y="31"/>
                      </a:lnTo>
                      <a:lnTo>
                        <a:pt x="318" y="26"/>
                      </a:lnTo>
                      <a:lnTo>
                        <a:pt x="315" y="21"/>
                      </a:lnTo>
                      <a:lnTo>
                        <a:pt x="311" y="18"/>
                      </a:lnTo>
                      <a:lnTo>
                        <a:pt x="308" y="12"/>
                      </a:lnTo>
                      <a:lnTo>
                        <a:pt x="303" y="8"/>
                      </a:lnTo>
                      <a:lnTo>
                        <a:pt x="300" y="5"/>
                      </a:lnTo>
                      <a:lnTo>
                        <a:pt x="303" y="5"/>
                      </a:lnTo>
                      <a:lnTo>
                        <a:pt x="307" y="4"/>
                      </a:lnTo>
                      <a:lnTo>
                        <a:pt x="309" y="2"/>
                      </a:lnTo>
                      <a:lnTo>
                        <a:pt x="314" y="2"/>
                      </a:lnTo>
                      <a:lnTo>
                        <a:pt x="316" y="2"/>
                      </a:lnTo>
                      <a:lnTo>
                        <a:pt x="320" y="2"/>
                      </a:lnTo>
                      <a:lnTo>
                        <a:pt x="324" y="2"/>
                      </a:lnTo>
                      <a:lnTo>
                        <a:pt x="327" y="2"/>
                      </a:lnTo>
                      <a:lnTo>
                        <a:pt x="331" y="2"/>
                      </a:lnTo>
                      <a:lnTo>
                        <a:pt x="334" y="2"/>
                      </a:lnTo>
                      <a:lnTo>
                        <a:pt x="337" y="1"/>
                      </a:lnTo>
                      <a:lnTo>
                        <a:pt x="341" y="1"/>
                      </a:lnTo>
                      <a:lnTo>
                        <a:pt x="344" y="1"/>
                      </a:lnTo>
                      <a:lnTo>
                        <a:pt x="347" y="1"/>
                      </a:lnTo>
                      <a:lnTo>
                        <a:pt x="351" y="1"/>
                      </a:lnTo>
                      <a:lnTo>
                        <a:pt x="354" y="1"/>
                      </a:lnTo>
                      <a:lnTo>
                        <a:pt x="353" y="4"/>
                      </a:lnTo>
                      <a:lnTo>
                        <a:pt x="352" y="6"/>
                      </a:lnTo>
                      <a:lnTo>
                        <a:pt x="350" y="10"/>
                      </a:lnTo>
                      <a:lnTo>
                        <a:pt x="348" y="13"/>
                      </a:lnTo>
                      <a:lnTo>
                        <a:pt x="353" y="16"/>
                      </a:lnTo>
                      <a:lnTo>
                        <a:pt x="357" y="18"/>
                      </a:lnTo>
                      <a:lnTo>
                        <a:pt x="360" y="19"/>
                      </a:lnTo>
                      <a:lnTo>
                        <a:pt x="364" y="21"/>
                      </a:lnTo>
                      <a:lnTo>
                        <a:pt x="366" y="23"/>
                      </a:lnTo>
                      <a:lnTo>
                        <a:pt x="370" y="26"/>
                      </a:lnTo>
                      <a:lnTo>
                        <a:pt x="373" y="27"/>
                      </a:lnTo>
                      <a:lnTo>
                        <a:pt x="378" y="31"/>
                      </a:lnTo>
                      <a:lnTo>
                        <a:pt x="379" y="33"/>
                      </a:lnTo>
                      <a:lnTo>
                        <a:pt x="382" y="37"/>
                      </a:lnTo>
                      <a:lnTo>
                        <a:pt x="384" y="39"/>
                      </a:lnTo>
                      <a:lnTo>
                        <a:pt x="386" y="43"/>
                      </a:lnTo>
                      <a:lnTo>
                        <a:pt x="391" y="48"/>
                      </a:lnTo>
                      <a:lnTo>
                        <a:pt x="396" y="52"/>
                      </a:lnTo>
                      <a:lnTo>
                        <a:pt x="401" y="56"/>
                      </a:lnTo>
                      <a:lnTo>
                        <a:pt x="407" y="58"/>
                      </a:lnTo>
                      <a:lnTo>
                        <a:pt x="409" y="59"/>
                      </a:lnTo>
                      <a:lnTo>
                        <a:pt x="411" y="61"/>
                      </a:lnTo>
                      <a:lnTo>
                        <a:pt x="415" y="62"/>
                      </a:lnTo>
                      <a:lnTo>
                        <a:pt x="417" y="63"/>
                      </a:lnTo>
                      <a:lnTo>
                        <a:pt x="420" y="63"/>
                      </a:lnTo>
                      <a:lnTo>
                        <a:pt x="422" y="64"/>
                      </a:lnTo>
                      <a:lnTo>
                        <a:pt x="424" y="64"/>
                      </a:lnTo>
                      <a:lnTo>
                        <a:pt x="428" y="64"/>
                      </a:lnTo>
                      <a:lnTo>
                        <a:pt x="430" y="64"/>
                      </a:lnTo>
                      <a:lnTo>
                        <a:pt x="434" y="64"/>
                      </a:lnTo>
                      <a:lnTo>
                        <a:pt x="436" y="64"/>
                      </a:lnTo>
                      <a:lnTo>
                        <a:pt x="440" y="65"/>
                      </a:lnTo>
                      <a:lnTo>
                        <a:pt x="442" y="64"/>
                      </a:lnTo>
                      <a:lnTo>
                        <a:pt x="445" y="64"/>
                      </a:lnTo>
                      <a:lnTo>
                        <a:pt x="448" y="63"/>
                      </a:lnTo>
                      <a:lnTo>
                        <a:pt x="451" y="63"/>
                      </a:lnTo>
                      <a:lnTo>
                        <a:pt x="453" y="62"/>
                      </a:lnTo>
                      <a:lnTo>
                        <a:pt x="455" y="62"/>
                      </a:lnTo>
                      <a:lnTo>
                        <a:pt x="458" y="61"/>
                      </a:lnTo>
                      <a:lnTo>
                        <a:pt x="461" y="61"/>
                      </a:lnTo>
                      <a:lnTo>
                        <a:pt x="466" y="57"/>
                      </a:lnTo>
                      <a:lnTo>
                        <a:pt x="471" y="55"/>
                      </a:lnTo>
                      <a:lnTo>
                        <a:pt x="475" y="52"/>
                      </a:lnTo>
                      <a:lnTo>
                        <a:pt x="480" y="49"/>
                      </a:lnTo>
                      <a:lnTo>
                        <a:pt x="485" y="45"/>
                      </a:lnTo>
                      <a:lnTo>
                        <a:pt x="488" y="42"/>
                      </a:lnTo>
                      <a:lnTo>
                        <a:pt x="493" y="38"/>
                      </a:lnTo>
                      <a:lnTo>
                        <a:pt x="497" y="35"/>
                      </a:lnTo>
                      <a:lnTo>
                        <a:pt x="499" y="30"/>
                      </a:lnTo>
                      <a:lnTo>
                        <a:pt x="503" y="25"/>
                      </a:lnTo>
                      <a:lnTo>
                        <a:pt x="505" y="21"/>
                      </a:lnTo>
                      <a:lnTo>
                        <a:pt x="507" y="18"/>
                      </a:lnTo>
                      <a:lnTo>
                        <a:pt x="509" y="12"/>
                      </a:lnTo>
                      <a:lnTo>
                        <a:pt x="510" y="7"/>
                      </a:lnTo>
                      <a:lnTo>
                        <a:pt x="511" y="4"/>
                      </a:lnTo>
                      <a:lnTo>
                        <a:pt x="511" y="0"/>
                      </a:lnTo>
                      <a:lnTo>
                        <a:pt x="515" y="0"/>
                      </a:lnTo>
                      <a:lnTo>
                        <a:pt x="518" y="0"/>
                      </a:lnTo>
                      <a:lnTo>
                        <a:pt x="523" y="0"/>
                      </a:lnTo>
                      <a:lnTo>
                        <a:pt x="528" y="0"/>
                      </a:lnTo>
                      <a:lnTo>
                        <a:pt x="531" y="0"/>
                      </a:lnTo>
                      <a:lnTo>
                        <a:pt x="535" y="0"/>
                      </a:lnTo>
                      <a:lnTo>
                        <a:pt x="538" y="0"/>
                      </a:lnTo>
                      <a:lnTo>
                        <a:pt x="544" y="0"/>
                      </a:lnTo>
                      <a:lnTo>
                        <a:pt x="538" y="2"/>
                      </a:lnTo>
                      <a:lnTo>
                        <a:pt x="536" y="5"/>
                      </a:lnTo>
                      <a:lnTo>
                        <a:pt x="534" y="7"/>
                      </a:lnTo>
                      <a:lnTo>
                        <a:pt x="531" y="10"/>
                      </a:lnTo>
                      <a:lnTo>
                        <a:pt x="526" y="16"/>
                      </a:lnTo>
                      <a:lnTo>
                        <a:pt x="522" y="20"/>
                      </a:lnTo>
                      <a:lnTo>
                        <a:pt x="518" y="24"/>
                      </a:lnTo>
                      <a:lnTo>
                        <a:pt x="517" y="29"/>
                      </a:lnTo>
                      <a:lnTo>
                        <a:pt x="516" y="33"/>
                      </a:lnTo>
                      <a:lnTo>
                        <a:pt x="516" y="38"/>
                      </a:lnTo>
                      <a:lnTo>
                        <a:pt x="516" y="40"/>
                      </a:lnTo>
                      <a:lnTo>
                        <a:pt x="516" y="45"/>
                      </a:lnTo>
                      <a:lnTo>
                        <a:pt x="518" y="48"/>
                      </a:lnTo>
                      <a:lnTo>
                        <a:pt x="521" y="51"/>
                      </a:lnTo>
                      <a:lnTo>
                        <a:pt x="523" y="54"/>
                      </a:lnTo>
                      <a:lnTo>
                        <a:pt x="525" y="57"/>
                      </a:lnTo>
                      <a:lnTo>
                        <a:pt x="529" y="59"/>
                      </a:lnTo>
                      <a:lnTo>
                        <a:pt x="534" y="62"/>
                      </a:lnTo>
                      <a:lnTo>
                        <a:pt x="536" y="63"/>
                      </a:lnTo>
                      <a:lnTo>
                        <a:pt x="541" y="65"/>
                      </a:lnTo>
                      <a:lnTo>
                        <a:pt x="545" y="67"/>
                      </a:lnTo>
                      <a:lnTo>
                        <a:pt x="549" y="68"/>
                      </a:lnTo>
                      <a:lnTo>
                        <a:pt x="554" y="69"/>
                      </a:lnTo>
                      <a:lnTo>
                        <a:pt x="558" y="70"/>
                      </a:lnTo>
                      <a:lnTo>
                        <a:pt x="564" y="70"/>
                      </a:lnTo>
                      <a:lnTo>
                        <a:pt x="569" y="71"/>
                      </a:lnTo>
                      <a:lnTo>
                        <a:pt x="573" y="71"/>
                      </a:lnTo>
                      <a:lnTo>
                        <a:pt x="577" y="71"/>
                      </a:lnTo>
                      <a:lnTo>
                        <a:pt x="582" y="71"/>
                      </a:lnTo>
                      <a:lnTo>
                        <a:pt x="586" y="71"/>
                      </a:lnTo>
                      <a:lnTo>
                        <a:pt x="589" y="70"/>
                      </a:lnTo>
                      <a:lnTo>
                        <a:pt x="593" y="70"/>
                      </a:lnTo>
                      <a:lnTo>
                        <a:pt x="595" y="69"/>
                      </a:lnTo>
                      <a:lnTo>
                        <a:pt x="599" y="68"/>
                      </a:lnTo>
                      <a:lnTo>
                        <a:pt x="598" y="64"/>
                      </a:lnTo>
                      <a:lnTo>
                        <a:pt x="596" y="61"/>
                      </a:lnTo>
                      <a:lnTo>
                        <a:pt x="596" y="58"/>
                      </a:lnTo>
                      <a:lnTo>
                        <a:pt x="596" y="56"/>
                      </a:lnTo>
                      <a:lnTo>
                        <a:pt x="595" y="52"/>
                      </a:lnTo>
                      <a:lnTo>
                        <a:pt x="595" y="50"/>
                      </a:lnTo>
                      <a:lnTo>
                        <a:pt x="594" y="48"/>
                      </a:lnTo>
                      <a:lnTo>
                        <a:pt x="594" y="45"/>
                      </a:lnTo>
                      <a:lnTo>
                        <a:pt x="593" y="40"/>
                      </a:lnTo>
                      <a:lnTo>
                        <a:pt x="592" y="37"/>
                      </a:lnTo>
                      <a:lnTo>
                        <a:pt x="591" y="33"/>
                      </a:lnTo>
                      <a:lnTo>
                        <a:pt x="591" y="31"/>
                      </a:lnTo>
                      <a:lnTo>
                        <a:pt x="589" y="27"/>
                      </a:lnTo>
                      <a:lnTo>
                        <a:pt x="588" y="26"/>
                      </a:lnTo>
                      <a:lnTo>
                        <a:pt x="587" y="24"/>
                      </a:lnTo>
                      <a:lnTo>
                        <a:pt x="586" y="23"/>
                      </a:lnTo>
                      <a:lnTo>
                        <a:pt x="583" y="20"/>
                      </a:lnTo>
                      <a:lnTo>
                        <a:pt x="582" y="19"/>
                      </a:lnTo>
                      <a:lnTo>
                        <a:pt x="577" y="18"/>
                      </a:lnTo>
                      <a:lnTo>
                        <a:pt x="575" y="17"/>
                      </a:lnTo>
                      <a:lnTo>
                        <a:pt x="572" y="16"/>
                      </a:lnTo>
                      <a:lnTo>
                        <a:pt x="569" y="14"/>
                      </a:lnTo>
                      <a:lnTo>
                        <a:pt x="564" y="12"/>
                      </a:lnTo>
                      <a:lnTo>
                        <a:pt x="562" y="8"/>
                      </a:lnTo>
                      <a:lnTo>
                        <a:pt x="558" y="6"/>
                      </a:lnTo>
                      <a:lnTo>
                        <a:pt x="556" y="5"/>
                      </a:lnTo>
                      <a:lnTo>
                        <a:pt x="554" y="2"/>
                      </a:lnTo>
                      <a:lnTo>
                        <a:pt x="551" y="0"/>
                      </a:lnTo>
                      <a:lnTo>
                        <a:pt x="556" y="0"/>
                      </a:lnTo>
                      <a:lnTo>
                        <a:pt x="560" y="0"/>
                      </a:lnTo>
                      <a:lnTo>
                        <a:pt x="564" y="0"/>
                      </a:lnTo>
                      <a:lnTo>
                        <a:pt x="568" y="0"/>
                      </a:lnTo>
                      <a:lnTo>
                        <a:pt x="572" y="0"/>
                      </a:lnTo>
                      <a:lnTo>
                        <a:pt x="576" y="0"/>
                      </a:lnTo>
                      <a:lnTo>
                        <a:pt x="580" y="0"/>
                      </a:lnTo>
                      <a:lnTo>
                        <a:pt x="585" y="0"/>
                      </a:lnTo>
                      <a:lnTo>
                        <a:pt x="588" y="0"/>
                      </a:lnTo>
                      <a:lnTo>
                        <a:pt x="592" y="0"/>
                      </a:lnTo>
                      <a:lnTo>
                        <a:pt x="596" y="0"/>
                      </a:lnTo>
                      <a:lnTo>
                        <a:pt x="600" y="0"/>
                      </a:lnTo>
                      <a:lnTo>
                        <a:pt x="605" y="0"/>
                      </a:lnTo>
                      <a:lnTo>
                        <a:pt x="608" y="0"/>
                      </a:lnTo>
                      <a:lnTo>
                        <a:pt x="612" y="0"/>
                      </a:lnTo>
                      <a:lnTo>
                        <a:pt x="617" y="1"/>
                      </a:lnTo>
                      <a:lnTo>
                        <a:pt x="620" y="1"/>
                      </a:lnTo>
                      <a:lnTo>
                        <a:pt x="625" y="1"/>
                      </a:lnTo>
                      <a:lnTo>
                        <a:pt x="628" y="1"/>
                      </a:lnTo>
                      <a:lnTo>
                        <a:pt x="632" y="2"/>
                      </a:lnTo>
                      <a:lnTo>
                        <a:pt x="637" y="2"/>
                      </a:lnTo>
                      <a:lnTo>
                        <a:pt x="640" y="2"/>
                      </a:lnTo>
                      <a:lnTo>
                        <a:pt x="645" y="2"/>
                      </a:lnTo>
                      <a:lnTo>
                        <a:pt x="650" y="2"/>
                      </a:lnTo>
                      <a:lnTo>
                        <a:pt x="652" y="2"/>
                      </a:lnTo>
                      <a:lnTo>
                        <a:pt x="657" y="2"/>
                      </a:lnTo>
                      <a:lnTo>
                        <a:pt x="661" y="2"/>
                      </a:lnTo>
                      <a:lnTo>
                        <a:pt x="665" y="2"/>
                      </a:lnTo>
                      <a:lnTo>
                        <a:pt x="669" y="2"/>
                      </a:lnTo>
                      <a:lnTo>
                        <a:pt x="672" y="4"/>
                      </a:lnTo>
                      <a:lnTo>
                        <a:pt x="678" y="4"/>
                      </a:lnTo>
                      <a:lnTo>
                        <a:pt x="682" y="5"/>
                      </a:lnTo>
                      <a:lnTo>
                        <a:pt x="685" y="5"/>
                      </a:lnTo>
                      <a:lnTo>
                        <a:pt x="689" y="5"/>
                      </a:lnTo>
                      <a:lnTo>
                        <a:pt x="694" y="5"/>
                      </a:lnTo>
                      <a:lnTo>
                        <a:pt x="697" y="5"/>
                      </a:lnTo>
                      <a:lnTo>
                        <a:pt x="701" y="5"/>
                      </a:lnTo>
                      <a:lnTo>
                        <a:pt x="706" y="5"/>
                      </a:lnTo>
                      <a:lnTo>
                        <a:pt x="709" y="5"/>
                      </a:lnTo>
                      <a:lnTo>
                        <a:pt x="714" y="5"/>
                      </a:lnTo>
                      <a:lnTo>
                        <a:pt x="717" y="5"/>
                      </a:lnTo>
                      <a:lnTo>
                        <a:pt x="721" y="5"/>
                      </a:lnTo>
                      <a:lnTo>
                        <a:pt x="726" y="6"/>
                      </a:lnTo>
                      <a:lnTo>
                        <a:pt x="731" y="6"/>
                      </a:lnTo>
                      <a:lnTo>
                        <a:pt x="734" y="6"/>
                      </a:lnTo>
                      <a:lnTo>
                        <a:pt x="738" y="6"/>
                      </a:lnTo>
                      <a:lnTo>
                        <a:pt x="741" y="7"/>
                      </a:lnTo>
                      <a:lnTo>
                        <a:pt x="746" y="7"/>
                      </a:lnTo>
                      <a:lnTo>
                        <a:pt x="751" y="7"/>
                      </a:lnTo>
                      <a:lnTo>
                        <a:pt x="754" y="7"/>
                      </a:lnTo>
                      <a:lnTo>
                        <a:pt x="759" y="7"/>
                      </a:lnTo>
                      <a:lnTo>
                        <a:pt x="763" y="7"/>
                      </a:lnTo>
                      <a:lnTo>
                        <a:pt x="766" y="7"/>
                      </a:lnTo>
                      <a:lnTo>
                        <a:pt x="770" y="8"/>
                      </a:lnTo>
                      <a:lnTo>
                        <a:pt x="774" y="8"/>
                      </a:lnTo>
                      <a:lnTo>
                        <a:pt x="779" y="10"/>
                      </a:lnTo>
                      <a:lnTo>
                        <a:pt x="783" y="10"/>
                      </a:lnTo>
                      <a:lnTo>
                        <a:pt x="786" y="10"/>
                      </a:lnTo>
                      <a:lnTo>
                        <a:pt x="791" y="10"/>
                      </a:lnTo>
                      <a:lnTo>
                        <a:pt x="795" y="10"/>
                      </a:lnTo>
                      <a:lnTo>
                        <a:pt x="799" y="10"/>
                      </a:lnTo>
                      <a:lnTo>
                        <a:pt x="803" y="10"/>
                      </a:lnTo>
                      <a:lnTo>
                        <a:pt x="808" y="11"/>
                      </a:lnTo>
                      <a:lnTo>
                        <a:pt x="811" y="1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Freeform 30"/>
                <p:cNvSpPr/>
                <p:nvPr/>
              </p:nvSpPr>
              <p:spPr>
                <a:xfrm>
                  <a:off x="1522440" y="2149560"/>
                  <a:ext cx="5760" cy="64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3" h="14">
                      <a:moveTo>
                        <a:pt x="13" y="14"/>
                      </a:moveTo>
                      <a:lnTo>
                        <a:pt x="8" y="11"/>
                      </a:lnTo>
                      <a:lnTo>
                        <a:pt x="5" y="8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Freeform 31"/>
                <p:cNvSpPr/>
                <p:nvPr/>
              </p:nvSpPr>
              <p:spPr>
                <a:xfrm>
                  <a:off x="990720" y="2549880"/>
                  <a:ext cx="753840" cy="56880"/>
                </a:xfrm>
                <a:custGeom>
                  <a:avLst/>
                  <a:gdLst>
                    <a:gd name="textAreaLeft" fmla="*/ 0 w 753840"/>
                    <a:gd name="textAreaRight" fmla="*/ 754200 w 7538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425" h="109">
                      <a:moveTo>
                        <a:pt x="13" y="6"/>
                      </a:move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4" y="6"/>
                      </a:lnTo>
                      <a:lnTo>
                        <a:pt x="28" y="7"/>
                      </a:lnTo>
                      <a:lnTo>
                        <a:pt x="31" y="7"/>
                      </a:lnTo>
                      <a:lnTo>
                        <a:pt x="34" y="8"/>
                      </a:lnTo>
                      <a:lnTo>
                        <a:pt x="37" y="8"/>
                      </a:lnTo>
                      <a:lnTo>
                        <a:pt x="40" y="8"/>
                      </a:lnTo>
                      <a:lnTo>
                        <a:pt x="44" y="8"/>
                      </a:lnTo>
                      <a:lnTo>
                        <a:pt x="47" y="9"/>
                      </a:lnTo>
                      <a:lnTo>
                        <a:pt x="51" y="9"/>
                      </a:lnTo>
                      <a:lnTo>
                        <a:pt x="55" y="10"/>
                      </a:lnTo>
                      <a:lnTo>
                        <a:pt x="58" y="10"/>
                      </a:lnTo>
                      <a:lnTo>
                        <a:pt x="63" y="10"/>
                      </a:lnTo>
                      <a:lnTo>
                        <a:pt x="68" y="10"/>
                      </a:lnTo>
                      <a:lnTo>
                        <a:pt x="71" y="12"/>
                      </a:lnTo>
                      <a:lnTo>
                        <a:pt x="76" y="12"/>
                      </a:lnTo>
                      <a:lnTo>
                        <a:pt x="81" y="13"/>
                      </a:lnTo>
                      <a:lnTo>
                        <a:pt x="85" y="13"/>
                      </a:lnTo>
                      <a:lnTo>
                        <a:pt x="90" y="13"/>
                      </a:lnTo>
                      <a:lnTo>
                        <a:pt x="95" y="14"/>
                      </a:lnTo>
                      <a:lnTo>
                        <a:pt x="101" y="14"/>
                      </a:lnTo>
                      <a:lnTo>
                        <a:pt x="104" y="15"/>
                      </a:lnTo>
                      <a:lnTo>
                        <a:pt x="112" y="15"/>
                      </a:lnTo>
                      <a:lnTo>
                        <a:pt x="116" y="15"/>
                      </a:lnTo>
                      <a:lnTo>
                        <a:pt x="121" y="16"/>
                      </a:lnTo>
                      <a:lnTo>
                        <a:pt x="126" y="16"/>
                      </a:lnTo>
                      <a:lnTo>
                        <a:pt x="132" y="18"/>
                      </a:lnTo>
                      <a:lnTo>
                        <a:pt x="136" y="18"/>
                      </a:lnTo>
                      <a:lnTo>
                        <a:pt x="142" y="18"/>
                      </a:lnTo>
                      <a:lnTo>
                        <a:pt x="147" y="18"/>
                      </a:lnTo>
                      <a:lnTo>
                        <a:pt x="153" y="19"/>
                      </a:lnTo>
                      <a:lnTo>
                        <a:pt x="159" y="19"/>
                      </a:lnTo>
                      <a:lnTo>
                        <a:pt x="165" y="19"/>
                      </a:lnTo>
                      <a:lnTo>
                        <a:pt x="170" y="20"/>
                      </a:lnTo>
                      <a:lnTo>
                        <a:pt x="176" y="20"/>
                      </a:lnTo>
                      <a:lnTo>
                        <a:pt x="182" y="20"/>
                      </a:lnTo>
                      <a:lnTo>
                        <a:pt x="187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204" y="21"/>
                      </a:lnTo>
                      <a:lnTo>
                        <a:pt x="210" y="21"/>
                      </a:lnTo>
                      <a:lnTo>
                        <a:pt x="215" y="21"/>
                      </a:lnTo>
                      <a:lnTo>
                        <a:pt x="221" y="22"/>
                      </a:lnTo>
                      <a:lnTo>
                        <a:pt x="225" y="22"/>
                      </a:lnTo>
                      <a:lnTo>
                        <a:pt x="231" y="22"/>
                      </a:lnTo>
                      <a:lnTo>
                        <a:pt x="237" y="22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3" y="22"/>
                      </a:lnTo>
                      <a:lnTo>
                        <a:pt x="259" y="22"/>
                      </a:lnTo>
                      <a:lnTo>
                        <a:pt x="263" y="22"/>
                      </a:lnTo>
                      <a:lnTo>
                        <a:pt x="268" y="22"/>
                      </a:lnTo>
                      <a:lnTo>
                        <a:pt x="274" y="22"/>
                      </a:lnTo>
                      <a:lnTo>
                        <a:pt x="279" y="22"/>
                      </a:lnTo>
                      <a:lnTo>
                        <a:pt x="284" y="22"/>
                      </a:lnTo>
                      <a:lnTo>
                        <a:pt x="288" y="21"/>
                      </a:lnTo>
                      <a:lnTo>
                        <a:pt x="292" y="21"/>
                      </a:lnTo>
                      <a:lnTo>
                        <a:pt x="294" y="21"/>
                      </a:lnTo>
                      <a:lnTo>
                        <a:pt x="297" y="21"/>
                      </a:lnTo>
                      <a:lnTo>
                        <a:pt x="299" y="21"/>
                      </a:lnTo>
                      <a:lnTo>
                        <a:pt x="303" y="21"/>
                      </a:lnTo>
                      <a:lnTo>
                        <a:pt x="305" y="20"/>
                      </a:lnTo>
                      <a:lnTo>
                        <a:pt x="306" y="20"/>
                      </a:lnTo>
                      <a:lnTo>
                        <a:pt x="310" y="20"/>
                      </a:lnTo>
                      <a:lnTo>
                        <a:pt x="313" y="20"/>
                      </a:lnTo>
                      <a:lnTo>
                        <a:pt x="316" y="20"/>
                      </a:lnTo>
                      <a:lnTo>
                        <a:pt x="319" y="20"/>
                      </a:lnTo>
                      <a:lnTo>
                        <a:pt x="322" y="20"/>
                      </a:lnTo>
                      <a:lnTo>
                        <a:pt x="324" y="20"/>
                      </a:lnTo>
                      <a:lnTo>
                        <a:pt x="327" y="19"/>
                      </a:lnTo>
                      <a:lnTo>
                        <a:pt x="330" y="19"/>
                      </a:lnTo>
                      <a:lnTo>
                        <a:pt x="335" y="19"/>
                      </a:lnTo>
                      <a:lnTo>
                        <a:pt x="337" y="19"/>
                      </a:lnTo>
                      <a:lnTo>
                        <a:pt x="339" y="19"/>
                      </a:lnTo>
                      <a:lnTo>
                        <a:pt x="344" y="19"/>
                      </a:lnTo>
                      <a:lnTo>
                        <a:pt x="346" y="19"/>
                      </a:lnTo>
                      <a:lnTo>
                        <a:pt x="351" y="19"/>
                      </a:lnTo>
                      <a:lnTo>
                        <a:pt x="355" y="18"/>
                      </a:lnTo>
                      <a:lnTo>
                        <a:pt x="357" y="18"/>
                      </a:lnTo>
                      <a:lnTo>
                        <a:pt x="361" y="18"/>
                      </a:lnTo>
                      <a:lnTo>
                        <a:pt x="364" y="18"/>
                      </a:lnTo>
                      <a:lnTo>
                        <a:pt x="369" y="18"/>
                      </a:lnTo>
                      <a:lnTo>
                        <a:pt x="373" y="18"/>
                      </a:lnTo>
                      <a:lnTo>
                        <a:pt x="376" y="18"/>
                      </a:lnTo>
                      <a:lnTo>
                        <a:pt x="381" y="18"/>
                      </a:lnTo>
                      <a:lnTo>
                        <a:pt x="384" y="18"/>
                      </a:lnTo>
                      <a:lnTo>
                        <a:pt x="388" y="18"/>
                      </a:lnTo>
                      <a:lnTo>
                        <a:pt x="392" y="18"/>
                      </a:lnTo>
                      <a:lnTo>
                        <a:pt x="396" y="18"/>
                      </a:lnTo>
                      <a:lnTo>
                        <a:pt x="400" y="16"/>
                      </a:lnTo>
                      <a:lnTo>
                        <a:pt x="403" y="16"/>
                      </a:lnTo>
                      <a:lnTo>
                        <a:pt x="408" y="16"/>
                      </a:lnTo>
                      <a:lnTo>
                        <a:pt x="412" y="16"/>
                      </a:lnTo>
                      <a:lnTo>
                        <a:pt x="415" y="16"/>
                      </a:lnTo>
                      <a:lnTo>
                        <a:pt x="420" y="16"/>
                      </a:lnTo>
                      <a:lnTo>
                        <a:pt x="425" y="16"/>
                      </a:lnTo>
                      <a:lnTo>
                        <a:pt x="428" y="16"/>
                      </a:lnTo>
                      <a:lnTo>
                        <a:pt x="433" y="16"/>
                      </a:lnTo>
                      <a:lnTo>
                        <a:pt x="438" y="16"/>
                      </a:lnTo>
                      <a:lnTo>
                        <a:pt x="441" y="16"/>
                      </a:lnTo>
                      <a:lnTo>
                        <a:pt x="446" y="16"/>
                      </a:lnTo>
                      <a:lnTo>
                        <a:pt x="451" y="15"/>
                      </a:lnTo>
                      <a:lnTo>
                        <a:pt x="456" y="15"/>
                      </a:lnTo>
                      <a:lnTo>
                        <a:pt x="459" y="15"/>
                      </a:lnTo>
                      <a:lnTo>
                        <a:pt x="463" y="15"/>
                      </a:lnTo>
                      <a:lnTo>
                        <a:pt x="469" y="15"/>
                      </a:lnTo>
                      <a:lnTo>
                        <a:pt x="472" y="15"/>
                      </a:lnTo>
                      <a:lnTo>
                        <a:pt x="477" y="15"/>
                      </a:lnTo>
                      <a:lnTo>
                        <a:pt x="482" y="15"/>
                      </a:lnTo>
                      <a:lnTo>
                        <a:pt x="486" y="15"/>
                      </a:lnTo>
                      <a:lnTo>
                        <a:pt x="490" y="15"/>
                      </a:lnTo>
                      <a:lnTo>
                        <a:pt x="495" y="15"/>
                      </a:lnTo>
                      <a:lnTo>
                        <a:pt x="500" y="15"/>
                      </a:lnTo>
                      <a:lnTo>
                        <a:pt x="504" y="15"/>
                      </a:lnTo>
                      <a:lnTo>
                        <a:pt x="509" y="15"/>
                      </a:lnTo>
                      <a:lnTo>
                        <a:pt x="514" y="15"/>
                      </a:lnTo>
                      <a:lnTo>
                        <a:pt x="519" y="15"/>
                      </a:lnTo>
                      <a:lnTo>
                        <a:pt x="516" y="16"/>
                      </a:lnTo>
                      <a:lnTo>
                        <a:pt x="513" y="18"/>
                      </a:lnTo>
                      <a:lnTo>
                        <a:pt x="510" y="18"/>
                      </a:lnTo>
                      <a:lnTo>
                        <a:pt x="507" y="20"/>
                      </a:lnTo>
                      <a:lnTo>
                        <a:pt x="504" y="21"/>
                      </a:lnTo>
                      <a:lnTo>
                        <a:pt x="501" y="21"/>
                      </a:lnTo>
                      <a:lnTo>
                        <a:pt x="498" y="24"/>
                      </a:lnTo>
                      <a:lnTo>
                        <a:pt x="497" y="25"/>
                      </a:lnTo>
                      <a:lnTo>
                        <a:pt x="491" y="27"/>
                      </a:lnTo>
                      <a:lnTo>
                        <a:pt x="488" y="29"/>
                      </a:lnTo>
                      <a:lnTo>
                        <a:pt x="483" y="33"/>
                      </a:lnTo>
                      <a:lnTo>
                        <a:pt x="479" y="37"/>
                      </a:lnTo>
                      <a:lnTo>
                        <a:pt x="476" y="40"/>
                      </a:lnTo>
                      <a:lnTo>
                        <a:pt x="473" y="45"/>
                      </a:lnTo>
                      <a:lnTo>
                        <a:pt x="471" y="46"/>
                      </a:lnTo>
                      <a:lnTo>
                        <a:pt x="471" y="48"/>
                      </a:lnTo>
                      <a:lnTo>
                        <a:pt x="470" y="51"/>
                      </a:lnTo>
                      <a:lnTo>
                        <a:pt x="469" y="54"/>
                      </a:lnTo>
                      <a:lnTo>
                        <a:pt x="469" y="56"/>
                      </a:lnTo>
                      <a:lnTo>
                        <a:pt x="469" y="59"/>
                      </a:lnTo>
                      <a:lnTo>
                        <a:pt x="467" y="62"/>
                      </a:lnTo>
                      <a:lnTo>
                        <a:pt x="467" y="65"/>
                      </a:lnTo>
                      <a:lnTo>
                        <a:pt x="467" y="69"/>
                      </a:lnTo>
                      <a:lnTo>
                        <a:pt x="467" y="71"/>
                      </a:lnTo>
                      <a:lnTo>
                        <a:pt x="469" y="75"/>
                      </a:lnTo>
                      <a:lnTo>
                        <a:pt x="469" y="79"/>
                      </a:lnTo>
                      <a:lnTo>
                        <a:pt x="471" y="78"/>
                      </a:lnTo>
                      <a:lnTo>
                        <a:pt x="473" y="78"/>
                      </a:lnTo>
                      <a:lnTo>
                        <a:pt x="476" y="77"/>
                      </a:lnTo>
                      <a:lnTo>
                        <a:pt x="479" y="77"/>
                      </a:lnTo>
                      <a:lnTo>
                        <a:pt x="482" y="76"/>
                      </a:lnTo>
                      <a:lnTo>
                        <a:pt x="484" y="76"/>
                      </a:lnTo>
                      <a:lnTo>
                        <a:pt x="486" y="76"/>
                      </a:lnTo>
                      <a:lnTo>
                        <a:pt x="490" y="75"/>
                      </a:lnTo>
                      <a:lnTo>
                        <a:pt x="495" y="73"/>
                      </a:lnTo>
                      <a:lnTo>
                        <a:pt x="500" y="71"/>
                      </a:lnTo>
                      <a:lnTo>
                        <a:pt x="504" y="71"/>
                      </a:lnTo>
                      <a:lnTo>
                        <a:pt x="510" y="70"/>
                      </a:lnTo>
                      <a:lnTo>
                        <a:pt x="515" y="67"/>
                      </a:lnTo>
                      <a:lnTo>
                        <a:pt x="519" y="66"/>
                      </a:lnTo>
                      <a:lnTo>
                        <a:pt x="524" y="64"/>
                      </a:lnTo>
                      <a:lnTo>
                        <a:pt x="529" y="63"/>
                      </a:lnTo>
                      <a:lnTo>
                        <a:pt x="534" y="60"/>
                      </a:lnTo>
                      <a:lnTo>
                        <a:pt x="539" y="59"/>
                      </a:lnTo>
                      <a:lnTo>
                        <a:pt x="543" y="56"/>
                      </a:lnTo>
                      <a:lnTo>
                        <a:pt x="548" y="54"/>
                      </a:lnTo>
                      <a:lnTo>
                        <a:pt x="552" y="52"/>
                      </a:lnTo>
                      <a:lnTo>
                        <a:pt x="556" y="51"/>
                      </a:lnTo>
                      <a:lnTo>
                        <a:pt x="562" y="48"/>
                      </a:lnTo>
                      <a:lnTo>
                        <a:pt x="567" y="46"/>
                      </a:lnTo>
                      <a:lnTo>
                        <a:pt x="571" y="44"/>
                      </a:lnTo>
                      <a:lnTo>
                        <a:pt x="577" y="41"/>
                      </a:lnTo>
                      <a:lnTo>
                        <a:pt x="581" y="39"/>
                      </a:lnTo>
                      <a:lnTo>
                        <a:pt x="586" y="38"/>
                      </a:lnTo>
                      <a:lnTo>
                        <a:pt x="591" y="35"/>
                      </a:lnTo>
                      <a:lnTo>
                        <a:pt x="596" y="34"/>
                      </a:lnTo>
                      <a:lnTo>
                        <a:pt x="600" y="33"/>
                      </a:lnTo>
                      <a:lnTo>
                        <a:pt x="606" y="31"/>
                      </a:lnTo>
                      <a:lnTo>
                        <a:pt x="611" y="29"/>
                      </a:lnTo>
                      <a:lnTo>
                        <a:pt x="616" y="28"/>
                      </a:lnTo>
                      <a:lnTo>
                        <a:pt x="619" y="27"/>
                      </a:lnTo>
                      <a:lnTo>
                        <a:pt x="622" y="27"/>
                      </a:lnTo>
                      <a:lnTo>
                        <a:pt x="625" y="26"/>
                      </a:lnTo>
                      <a:lnTo>
                        <a:pt x="628" y="26"/>
                      </a:lnTo>
                      <a:lnTo>
                        <a:pt x="625" y="24"/>
                      </a:lnTo>
                      <a:lnTo>
                        <a:pt x="624" y="21"/>
                      </a:lnTo>
                      <a:lnTo>
                        <a:pt x="621" y="18"/>
                      </a:lnTo>
                      <a:lnTo>
                        <a:pt x="618" y="14"/>
                      </a:lnTo>
                      <a:lnTo>
                        <a:pt x="621" y="13"/>
                      </a:lnTo>
                      <a:lnTo>
                        <a:pt x="625" y="13"/>
                      </a:lnTo>
                      <a:lnTo>
                        <a:pt x="628" y="13"/>
                      </a:lnTo>
                      <a:lnTo>
                        <a:pt x="632" y="13"/>
                      </a:lnTo>
                      <a:lnTo>
                        <a:pt x="637" y="13"/>
                      </a:lnTo>
                      <a:lnTo>
                        <a:pt x="641" y="13"/>
                      </a:lnTo>
                      <a:lnTo>
                        <a:pt x="644" y="13"/>
                      </a:lnTo>
                      <a:lnTo>
                        <a:pt x="648" y="13"/>
                      </a:lnTo>
                      <a:lnTo>
                        <a:pt x="651" y="13"/>
                      </a:lnTo>
                      <a:lnTo>
                        <a:pt x="656" y="13"/>
                      </a:lnTo>
                      <a:lnTo>
                        <a:pt x="660" y="13"/>
                      </a:lnTo>
                      <a:lnTo>
                        <a:pt x="663" y="13"/>
                      </a:lnTo>
                      <a:lnTo>
                        <a:pt x="667" y="13"/>
                      </a:lnTo>
                      <a:lnTo>
                        <a:pt x="670" y="13"/>
                      </a:lnTo>
                      <a:lnTo>
                        <a:pt x="674" y="13"/>
                      </a:lnTo>
                      <a:lnTo>
                        <a:pt x="679" y="13"/>
                      </a:lnTo>
                      <a:lnTo>
                        <a:pt x="682" y="13"/>
                      </a:lnTo>
                      <a:lnTo>
                        <a:pt x="686" y="13"/>
                      </a:lnTo>
                      <a:lnTo>
                        <a:pt x="689" y="13"/>
                      </a:lnTo>
                      <a:lnTo>
                        <a:pt x="693" y="13"/>
                      </a:lnTo>
                      <a:lnTo>
                        <a:pt x="696" y="13"/>
                      </a:lnTo>
                      <a:lnTo>
                        <a:pt x="700" y="13"/>
                      </a:lnTo>
                      <a:lnTo>
                        <a:pt x="704" y="13"/>
                      </a:lnTo>
                      <a:lnTo>
                        <a:pt x="707" y="13"/>
                      </a:lnTo>
                      <a:lnTo>
                        <a:pt x="711" y="13"/>
                      </a:lnTo>
                      <a:lnTo>
                        <a:pt x="714" y="13"/>
                      </a:lnTo>
                      <a:lnTo>
                        <a:pt x="718" y="13"/>
                      </a:lnTo>
                      <a:lnTo>
                        <a:pt x="721" y="13"/>
                      </a:lnTo>
                      <a:lnTo>
                        <a:pt x="724" y="13"/>
                      </a:lnTo>
                      <a:lnTo>
                        <a:pt x="729" y="13"/>
                      </a:lnTo>
                      <a:lnTo>
                        <a:pt x="731" y="13"/>
                      </a:lnTo>
                      <a:lnTo>
                        <a:pt x="734" y="14"/>
                      </a:lnTo>
                      <a:lnTo>
                        <a:pt x="738" y="14"/>
                      </a:lnTo>
                      <a:lnTo>
                        <a:pt x="742" y="14"/>
                      </a:lnTo>
                      <a:lnTo>
                        <a:pt x="744" y="14"/>
                      </a:lnTo>
                      <a:lnTo>
                        <a:pt x="746" y="14"/>
                      </a:lnTo>
                      <a:lnTo>
                        <a:pt x="750" y="14"/>
                      </a:lnTo>
                      <a:lnTo>
                        <a:pt x="753" y="14"/>
                      </a:lnTo>
                      <a:lnTo>
                        <a:pt x="756" y="14"/>
                      </a:lnTo>
                      <a:lnTo>
                        <a:pt x="759" y="14"/>
                      </a:lnTo>
                      <a:lnTo>
                        <a:pt x="762" y="14"/>
                      </a:lnTo>
                      <a:lnTo>
                        <a:pt x="764" y="14"/>
                      </a:lnTo>
                      <a:lnTo>
                        <a:pt x="766" y="14"/>
                      </a:lnTo>
                      <a:lnTo>
                        <a:pt x="770" y="15"/>
                      </a:lnTo>
                      <a:lnTo>
                        <a:pt x="772" y="15"/>
                      </a:lnTo>
                      <a:lnTo>
                        <a:pt x="775" y="15"/>
                      </a:lnTo>
                      <a:lnTo>
                        <a:pt x="778" y="15"/>
                      </a:lnTo>
                      <a:lnTo>
                        <a:pt x="781" y="15"/>
                      </a:lnTo>
                      <a:lnTo>
                        <a:pt x="785" y="15"/>
                      </a:lnTo>
                      <a:lnTo>
                        <a:pt x="790" y="15"/>
                      </a:lnTo>
                      <a:lnTo>
                        <a:pt x="795" y="15"/>
                      </a:lnTo>
                      <a:lnTo>
                        <a:pt x="800" y="16"/>
                      </a:lnTo>
                      <a:lnTo>
                        <a:pt x="804" y="16"/>
                      </a:lnTo>
                      <a:lnTo>
                        <a:pt x="808" y="16"/>
                      </a:lnTo>
                      <a:lnTo>
                        <a:pt x="813" y="18"/>
                      </a:lnTo>
                      <a:lnTo>
                        <a:pt x="816" y="18"/>
                      </a:lnTo>
                      <a:lnTo>
                        <a:pt x="815" y="21"/>
                      </a:lnTo>
                      <a:lnTo>
                        <a:pt x="816" y="25"/>
                      </a:lnTo>
                      <a:lnTo>
                        <a:pt x="816" y="28"/>
                      </a:lnTo>
                      <a:lnTo>
                        <a:pt x="818" y="33"/>
                      </a:lnTo>
                      <a:lnTo>
                        <a:pt x="820" y="37"/>
                      </a:lnTo>
                      <a:lnTo>
                        <a:pt x="821" y="41"/>
                      </a:lnTo>
                      <a:lnTo>
                        <a:pt x="823" y="45"/>
                      </a:lnTo>
                      <a:lnTo>
                        <a:pt x="827" y="48"/>
                      </a:lnTo>
                      <a:lnTo>
                        <a:pt x="829" y="52"/>
                      </a:lnTo>
                      <a:lnTo>
                        <a:pt x="833" y="56"/>
                      </a:lnTo>
                      <a:lnTo>
                        <a:pt x="835" y="59"/>
                      </a:lnTo>
                      <a:lnTo>
                        <a:pt x="840" y="64"/>
                      </a:lnTo>
                      <a:lnTo>
                        <a:pt x="842" y="66"/>
                      </a:lnTo>
                      <a:lnTo>
                        <a:pt x="847" y="70"/>
                      </a:lnTo>
                      <a:lnTo>
                        <a:pt x="852" y="73"/>
                      </a:lnTo>
                      <a:lnTo>
                        <a:pt x="855" y="76"/>
                      </a:lnTo>
                      <a:lnTo>
                        <a:pt x="860" y="79"/>
                      </a:lnTo>
                      <a:lnTo>
                        <a:pt x="865" y="82"/>
                      </a:lnTo>
                      <a:lnTo>
                        <a:pt x="870" y="83"/>
                      </a:lnTo>
                      <a:lnTo>
                        <a:pt x="874" y="85"/>
                      </a:lnTo>
                      <a:lnTo>
                        <a:pt x="878" y="86"/>
                      </a:lnTo>
                      <a:lnTo>
                        <a:pt x="884" y="89"/>
                      </a:lnTo>
                      <a:lnTo>
                        <a:pt x="889" y="89"/>
                      </a:lnTo>
                      <a:lnTo>
                        <a:pt x="893" y="91"/>
                      </a:lnTo>
                      <a:lnTo>
                        <a:pt x="898" y="91"/>
                      </a:lnTo>
                      <a:lnTo>
                        <a:pt x="902" y="91"/>
                      </a:lnTo>
                      <a:lnTo>
                        <a:pt x="906" y="91"/>
                      </a:lnTo>
                      <a:lnTo>
                        <a:pt x="911" y="91"/>
                      </a:lnTo>
                      <a:lnTo>
                        <a:pt x="915" y="89"/>
                      </a:lnTo>
                      <a:lnTo>
                        <a:pt x="920" y="89"/>
                      </a:lnTo>
                      <a:lnTo>
                        <a:pt x="923" y="86"/>
                      </a:lnTo>
                      <a:lnTo>
                        <a:pt x="927" y="85"/>
                      </a:lnTo>
                      <a:lnTo>
                        <a:pt x="925" y="83"/>
                      </a:lnTo>
                      <a:lnTo>
                        <a:pt x="924" y="79"/>
                      </a:lnTo>
                      <a:lnTo>
                        <a:pt x="923" y="77"/>
                      </a:lnTo>
                      <a:lnTo>
                        <a:pt x="922" y="75"/>
                      </a:lnTo>
                      <a:lnTo>
                        <a:pt x="920" y="70"/>
                      </a:lnTo>
                      <a:lnTo>
                        <a:pt x="917" y="65"/>
                      </a:lnTo>
                      <a:lnTo>
                        <a:pt x="915" y="62"/>
                      </a:lnTo>
                      <a:lnTo>
                        <a:pt x="911" y="56"/>
                      </a:lnTo>
                      <a:lnTo>
                        <a:pt x="909" y="52"/>
                      </a:lnTo>
                      <a:lnTo>
                        <a:pt x="906" y="48"/>
                      </a:lnTo>
                      <a:lnTo>
                        <a:pt x="902" y="44"/>
                      </a:lnTo>
                      <a:lnTo>
                        <a:pt x="898" y="40"/>
                      </a:lnTo>
                      <a:lnTo>
                        <a:pt x="895" y="37"/>
                      </a:lnTo>
                      <a:lnTo>
                        <a:pt x="891" y="33"/>
                      </a:lnTo>
                      <a:lnTo>
                        <a:pt x="889" y="31"/>
                      </a:lnTo>
                      <a:lnTo>
                        <a:pt x="884" y="27"/>
                      </a:lnTo>
                      <a:lnTo>
                        <a:pt x="879" y="25"/>
                      </a:lnTo>
                      <a:lnTo>
                        <a:pt x="876" y="22"/>
                      </a:lnTo>
                      <a:lnTo>
                        <a:pt x="878" y="22"/>
                      </a:lnTo>
                      <a:lnTo>
                        <a:pt x="880" y="22"/>
                      </a:lnTo>
                      <a:lnTo>
                        <a:pt x="884" y="22"/>
                      </a:lnTo>
                      <a:lnTo>
                        <a:pt x="886" y="22"/>
                      </a:lnTo>
                      <a:lnTo>
                        <a:pt x="890" y="22"/>
                      </a:lnTo>
                      <a:lnTo>
                        <a:pt x="892" y="22"/>
                      </a:lnTo>
                      <a:lnTo>
                        <a:pt x="896" y="22"/>
                      </a:lnTo>
                      <a:lnTo>
                        <a:pt x="898" y="22"/>
                      </a:lnTo>
                      <a:lnTo>
                        <a:pt x="902" y="22"/>
                      </a:lnTo>
                      <a:lnTo>
                        <a:pt x="904" y="22"/>
                      </a:lnTo>
                      <a:lnTo>
                        <a:pt x="908" y="22"/>
                      </a:lnTo>
                      <a:lnTo>
                        <a:pt x="911" y="22"/>
                      </a:lnTo>
                      <a:lnTo>
                        <a:pt x="915" y="22"/>
                      </a:lnTo>
                      <a:lnTo>
                        <a:pt x="918" y="22"/>
                      </a:lnTo>
                      <a:lnTo>
                        <a:pt x="922" y="22"/>
                      </a:lnTo>
                      <a:lnTo>
                        <a:pt x="925" y="22"/>
                      </a:lnTo>
                      <a:lnTo>
                        <a:pt x="928" y="21"/>
                      </a:lnTo>
                      <a:lnTo>
                        <a:pt x="931" y="21"/>
                      </a:lnTo>
                      <a:lnTo>
                        <a:pt x="935" y="21"/>
                      </a:lnTo>
                      <a:lnTo>
                        <a:pt x="940" y="21"/>
                      </a:lnTo>
                      <a:lnTo>
                        <a:pt x="942" y="21"/>
                      </a:lnTo>
                      <a:lnTo>
                        <a:pt x="947" y="21"/>
                      </a:lnTo>
                      <a:lnTo>
                        <a:pt x="949" y="21"/>
                      </a:lnTo>
                      <a:lnTo>
                        <a:pt x="954" y="21"/>
                      </a:lnTo>
                      <a:lnTo>
                        <a:pt x="956" y="21"/>
                      </a:lnTo>
                      <a:lnTo>
                        <a:pt x="961" y="21"/>
                      </a:lnTo>
                      <a:lnTo>
                        <a:pt x="965" y="21"/>
                      </a:lnTo>
                      <a:lnTo>
                        <a:pt x="969" y="21"/>
                      </a:lnTo>
                      <a:lnTo>
                        <a:pt x="972" y="21"/>
                      </a:lnTo>
                      <a:lnTo>
                        <a:pt x="976" y="21"/>
                      </a:lnTo>
                      <a:lnTo>
                        <a:pt x="980" y="21"/>
                      </a:lnTo>
                      <a:lnTo>
                        <a:pt x="985" y="21"/>
                      </a:lnTo>
                      <a:lnTo>
                        <a:pt x="988" y="21"/>
                      </a:lnTo>
                      <a:lnTo>
                        <a:pt x="992" y="21"/>
                      </a:lnTo>
                      <a:lnTo>
                        <a:pt x="995" y="21"/>
                      </a:lnTo>
                      <a:lnTo>
                        <a:pt x="1000" y="21"/>
                      </a:lnTo>
                      <a:lnTo>
                        <a:pt x="1004" y="20"/>
                      </a:lnTo>
                      <a:lnTo>
                        <a:pt x="1007" y="20"/>
                      </a:lnTo>
                      <a:lnTo>
                        <a:pt x="1012" y="20"/>
                      </a:lnTo>
                      <a:lnTo>
                        <a:pt x="1017" y="20"/>
                      </a:lnTo>
                      <a:lnTo>
                        <a:pt x="1020" y="20"/>
                      </a:lnTo>
                      <a:lnTo>
                        <a:pt x="1025" y="20"/>
                      </a:lnTo>
                      <a:lnTo>
                        <a:pt x="1029" y="20"/>
                      </a:lnTo>
                      <a:lnTo>
                        <a:pt x="1033" y="20"/>
                      </a:lnTo>
                      <a:lnTo>
                        <a:pt x="1038" y="20"/>
                      </a:lnTo>
                      <a:lnTo>
                        <a:pt x="1042" y="20"/>
                      </a:lnTo>
                      <a:lnTo>
                        <a:pt x="1047" y="20"/>
                      </a:lnTo>
                      <a:lnTo>
                        <a:pt x="1050" y="20"/>
                      </a:lnTo>
                      <a:lnTo>
                        <a:pt x="1055" y="19"/>
                      </a:lnTo>
                      <a:lnTo>
                        <a:pt x="1060" y="19"/>
                      </a:lnTo>
                      <a:lnTo>
                        <a:pt x="1063" y="19"/>
                      </a:lnTo>
                      <a:lnTo>
                        <a:pt x="1068" y="19"/>
                      </a:lnTo>
                      <a:lnTo>
                        <a:pt x="1073" y="19"/>
                      </a:lnTo>
                      <a:lnTo>
                        <a:pt x="1076" y="19"/>
                      </a:lnTo>
                      <a:lnTo>
                        <a:pt x="1081" y="19"/>
                      </a:lnTo>
                      <a:lnTo>
                        <a:pt x="1084" y="19"/>
                      </a:lnTo>
                      <a:lnTo>
                        <a:pt x="1089" y="18"/>
                      </a:lnTo>
                      <a:lnTo>
                        <a:pt x="1094" y="18"/>
                      </a:lnTo>
                      <a:lnTo>
                        <a:pt x="1099" y="18"/>
                      </a:lnTo>
                      <a:lnTo>
                        <a:pt x="1102" y="18"/>
                      </a:lnTo>
                      <a:lnTo>
                        <a:pt x="1107" y="18"/>
                      </a:lnTo>
                      <a:lnTo>
                        <a:pt x="1112" y="18"/>
                      </a:lnTo>
                      <a:lnTo>
                        <a:pt x="1115" y="18"/>
                      </a:lnTo>
                      <a:lnTo>
                        <a:pt x="1120" y="18"/>
                      </a:lnTo>
                      <a:lnTo>
                        <a:pt x="1118" y="21"/>
                      </a:lnTo>
                      <a:lnTo>
                        <a:pt x="1115" y="24"/>
                      </a:lnTo>
                      <a:lnTo>
                        <a:pt x="1113" y="27"/>
                      </a:lnTo>
                      <a:lnTo>
                        <a:pt x="1112" y="31"/>
                      </a:lnTo>
                      <a:lnTo>
                        <a:pt x="1108" y="34"/>
                      </a:lnTo>
                      <a:lnTo>
                        <a:pt x="1106" y="38"/>
                      </a:lnTo>
                      <a:lnTo>
                        <a:pt x="1103" y="41"/>
                      </a:lnTo>
                      <a:lnTo>
                        <a:pt x="1103" y="44"/>
                      </a:lnTo>
                      <a:lnTo>
                        <a:pt x="1107" y="44"/>
                      </a:lnTo>
                      <a:lnTo>
                        <a:pt x="1113" y="45"/>
                      </a:lnTo>
                      <a:lnTo>
                        <a:pt x="1117" y="46"/>
                      </a:lnTo>
                      <a:lnTo>
                        <a:pt x="1122" y="47"/>
                      </a:lnTo>
                      <a:lnTo>
                        <a:pt x="1127" y="48"/>
                      </a:lnTo>
                      <a:lnTo>
                        <a:pt x="1132" y="50"/>
                      </a:lnTo>
                      <a:lnTo>
                        <a:pt x="1137" y="52"/>
                      </a:lnTo>
                      <a:lnTo>
                        <a:pt x="1141" y="54"/>
                      </a:lnTo>
                      <a:lnTo>
                        <a:pt x="1146" y="56"/>
                      </a:lnTo>
                      <a:lnTo>
                        <a:pt x="1151" y="59"/>
                      </a:lnTo>
                      <a:lnTo>
                        <a:pt x="1156" y="60"/>
                      </a:lnTo>
                      <a:lnTo>
                        <a:pt x="1160" y="64"/>
                      </a:lnTo>
                      <a:lnTo>
                        <a:pt x="1164" y="66"/>
                      </a:lnTo>
                      <a:lnTo>
                        <a:pt x="1170" y="69"/>
                      </a:lnTo>
                      <a:lnTo>
                        <a:pt x="1175" y="71"/>
                      </a:lnTo>
                      <a:lnTo>
                        <a:pt x="1179" y="73"/>
                      </a:lnTo>
                      <a:lnTo>
                        <a:pt x="1184" y="75"/>
                      </a:lnTo>
                      <a:lnTo>
                        <a:pt x="1189" y="76"/>
                      </a:lnTo>
                      <a:lnTo>
                        <a:pt x="1194" y="78"/>
                      </a:lnTo>
                      <a:lnTo>
                        <a:pt x="1198" y="81"/>
                      </a:lnTo>
                      <a:lnTo>
                        <a:pt x="1202" y="82"/>
                      </a:lnTo>
                      <a:lnTo>
                        <a:pt x="1208" y="82"/>
                      </a:lnTo>
                      <a:lnTo>
                        <a:pt x="1213" y="83"/>
                      </a:lnTo>
                      <a:lnTo>
                        <a:pt x="1217" y="83"/>
                      </a:lnTo>
                      <a:lnTo>
                        <a:pt x="1221" y="83"/>
                      </a:lnTo>
                      <a:lnTo>
                        <a:pt x="1227" y="82"/>
                      </a:lnTo>
                      <a:lnTo>
                        <a:pt x="1230" y="81"/>
                      </a:lnTo>
                      <a:lnTo>
                        <a:pt x="1236" y="79"/>
                      </a:lnTo>
                      <a:lnTo>
                        <a:pt x="1241" y="76"/>
                      </a:lnTo>
                      <a:lnTo>
                        <a:pt x="1246" y="73"/>
                      </a:lnTo>
                      <a:lnTo>
                        <a:pt x="1251" y="71"/>
                      </a:lnTo>
                      <a:lnTo>
                        <a:pt x="1257" y="67"/>
                      </a:lnTo>
                      <a:lnTo>
                        <a:pt x="1251" y="64"/>
                      </a:lnTo>
                      <a:lnTo>
                        <a:pt x="1246" y="59"/>
                      </a:lnTo>
                      <a:lnTo>
                        <a:pt x="1241" y="56"/>
                      </a:lnTo>
                      <a:lnTo>
                        <a:pt x="1236" y="52"/>
                      </a:lnTo>
                      <a:lnTo>
                        <a:pt x="1232" y="48"/>
                      </a:lnTo>
                      <a:lnTo>
                        <a:pt x="1227" y="45"/>
                      </a:lnTo>
                      <a:lnTo>
                        <a:pt x="1222" y="41"/>
                      </a:lnTo>
                      <a:lnTo>
                        <a:pt x="1217" y="38"/>
                      </a:lnTo>
                      <a:lnTo>
                        <a:pt x="1213" y="34"/>
                      </a:lnTo>
                      <a:lnTo>
                        <a:pt x="1208" y="31"/>
                      </a:lnTo>
                      <a:lnTo>
                        <a:pt x="1202" y="28"/>
                      </a:lnTo>
                      <a:lnTo>
                        <a:pt x="1197" y="26"/>
                      </a:lnTo>
                      <a:lnTo>
                        <a:pt x="1192" y="22"/>
                      </a:lnTo>
                      <a:lnTo>
                        <a:pt x="1188" y="20"/>
                      </a:lnTo>
                      <a:lnTo>
                        <a:pt x="1182" y="18"/>
                      </a:lnTo>
                      <a:lnTo>
                        <a:pt x="1177" y="15"/>
                      </a:lnTo>
                      <a:lnTo>
                        <a:pt x="1182" y="15"/>
                      </a:lnTo>
                      <a:lnTo>
                        <a:pt x="1187" y="15"/>
                      </a:lnTo>
                      <a:lnTo>
                        <a:pt x="1190" y="14"/>
                      </a:lnTo>
                      <a:lnTo>
                        <a:pt x="1195" y="14"/>
                      </a:lnTo>
                      <a:lnTo>
                        <a:pt x="1200" y="14"/>
                      </a:lnTo>
                      <a:lnTo>
                        <a:pt x="1203" y="14"/>
                      </a:lnTo>
                      <a:lnTo>
                        <a:pt x="1208" y="13"/>
                      </a:lnTo>
                      <a:lnTo>
                        <a:pt x="1213" y="13"/>
                      </a:lnTo>
                      <a:lnTo>
                        <a:pt x="1217" y="13"/>
                      </a:lnTo>
                      <a:lnTo>
                        <a:pt x="1221" y="13"/>
                      </a:lnTo>
                      <a:lnTo>
                        <a:pt x="1226" y="13"/>
                      </a:lnTo>
                      <a:lnTo>
                        <a:pt x="1230" y="13"/>
                      </a:lnTo>
                      <a:lnTo>
                        <a:pt x="1234" y="12"/>
                      </a:lnTo>
                      <a:lnTo>
                        <a:pt x="1239" y="12"/>
                      </a:lnTo>
                      <a:lnTo>
                        <a:pt x="1243" y="12"/>
                      </a:lnTo>
                      <a:lnTo>
                        <a:pt x="1247" y="12"/>
                      </a:lnTo>
                      <a:lnTo>
                        <a:pt x="1251" y="12"/>
                      </a:lnTo>
                      <a:lnTo>
                        <a:pt x="1255" y="10"/>
                      </a:lnTo>
                      <a:lnTo>
                        <a:pt x="1260" y="10"/>
                      </a:lnTo>
                      <a:lnTo>
                        <a:pt x="1264" y="10"/>
                      </a:lnTo>
                      <a:lnTo>
                        <a:pt x="1268" y="10"/>
                      </a:lnTo>
                      <a:lnTo>
                        <a:pt x="1272" y="10"/>
                      </a:lnTo>
                      <a:lnTo>
                        <a:pt x="1275" y="9"/>
                      </a:lnTo>
                      <a:lnTo>
                        <a:pt x="1280" y="9"/>
                      </a:lnTo>
                      <a:lnTo>
                        <a:pt x="1284" y="9"/>
                      </a:lnTo>
                      <a:lnTo>
                        <a:pt x="1289" y="9"/>
                      </a:lnTo>
                      <a:lnTo>
                        <a:pt x="1291" y="8"/>
                      </a:lnTo>
                      <a:lnTo>
                        <a:pt x="1296" y="8"/>
                      </a:lnTo>
                      <a:lnTo>
                        <a:pt x="1300" y="8"/>
                      </a:lnTo>
                      <a:lnTo>
                        <a:pt x="1304" y="8"/>
                      </a:lnTo>
                      <a:lnTo>
                        <a:pt x="1309" y="8"/>
                      </a:lnTo>
                      <a:lnTo>
                        <a:pt x="1312" y="8"/>
                      </a:lnTo>
                      <a:lnTo>
                        <a:pt x="1316" y="8"/>
                      </a:lnTo>
                      <a:lnTo>
                        <a:pt x="1319" y="7"/>
                      </a:lnTo>
                      <a:lnTo>
                        <a:pt x="1323" y="7"/>
                      </a:lnTo>
                      <a:lnTo>
                        <a:pt x="1327" y="7"/>
                      </a:lnTo>
                      <a:lnTo>
                        <a:pt x="1330" y="6"/>
                      </a:lnTo>
                      <a:lnTo>
                        <a:pt x="1334" y="6"/>
                      </a:lnTo>
                      <a:lnTo>
                        <a:pt x="1338" y="6"/>
                      </a:lnTo>
                      <a:lnTo>
                        <a:pt x="1342" y="6"/>
                      </a:lnTo>
                      <a:lnTo>
                        <a:pt x="1346" y="6"/>
                      </a:lnTo>
                      <a:lnTo>
                        <a:pt x="1349" y="5"/>
                      </a:lnTo>
                      <a:lnTo>
                        <a:pt x="1351" y="5"/>
                      </a:lnTo>
                      <a:lnTo>
                        <a:pt x="1356" y="5"/>
                      </a:lnTo>
                      <a:lnTo>
                        <a:pt x="1359" y="5"/>
                      </a:lnTo>
                      <a:lnTo>
                        <a:pt x="1362" y="3"/>
                      </a:lnTo>
                      <a:lnTo>
                        <a:pt x="1366" y="3"/>
                      </a:lnTo>
                      <a:lnTo>
                        <a:pt x="1369" y="3"/>
                      </a:lnTo>
                      <a:lnTo>
                        <a:pt x="1372" y="3"/>
                      </a:lnTo>
                      <a:lnTo>
                        <a:pt x="1375" y="3"/>
                      </a:lnTo>
                      <a:lnTo>
                        <a:pt x="1379" y="3"/>
                      </a:lnTo>
                      <a:lnTo>
                        <a:pt x="1382" y="3"/>
                      </a:lnTo>
                      <a:lnTo>
                        <a:pt x="1385" y="2"/>
                      </a:lnTo>
                      <a:lnTo>
                        <a:pt x="1387" y="2"/>
                      </a:lnTo>
                      <a:lnTo>
                        <a:pt x="1389" y="1"/>
                      </a:lnTo>
                      <a:lnTo>
                        <a:pt x="1393" y="1"/>
                      </a:lnTo>
                      <a:lnTo>
                        <a:pt x="1395" y="1"/>
                      </a:lnTo>
                      <a:lnTo>
                        <a:pt x="1398" y="0"/>
                      </a:lnTo>
                      <a:lnTo>
                        <a:pt x="1401" y="0"/>
                      </a:lnTo>
                      <a:lnTo>
                        <a:pt x="1405" y="0"/>
                      </a:lnTo>
                      <a:lnTo>
                        <a:pt x="1407" y="0"/>
                      </a:lnTo>
                      <a:lnTo>
                        <a:pt x="1410" y="0"/>
                      </a:lnTo>
                      <a:lnTo>
                        <a:pt x="1412" y="0"/>
                      </a:lnTo>
                      <a:lnTo>
                        <a:pt x="1416" y="0"/>
                      </a:lnTo>
                      <a:lnTo>
                        <a:pt x="1425" y="84"/>
                      </a:lnTo>
                      <a:lnTo>
                        <a:pt x="1424" y="84"/>
                      </a:lnTo>
                      <a:lnTo>
                        <a:pt x="1421" y="84"/>
                      </a:lnTo>
                      <a:lnTo>
                        <a:pt x="1420" y="84"/>
                      </a:lnTo>
                      <a:lnTo>
                        <a:pt x="1416" y="84"/>
                      </a:lnTo>
                      <a:lnTo>
                        <a:pt x="1412" y="85"/>
                      </a:lnTo>
                      <a:lnTo>
                        <a:pt x="1407" y="85"/>
                      </a:lnTo>
                      <a:lnTo>
                        <a:pt x="1402" y="86"/>
                      </a:lnTo>
                      <a:lnTo>
                        <a:pt x="1400" y="86"/>
                      </a:lnTo>
                      <a:lnTo>
                        <a:pt x="1397" y="86"/>
                      </a:lnTo>
                      <a:lnTo>
                        <a:pt x="1393" y="86"/>
                      </a:lnTo>
                      <a:lnTo>
                        <a:pt x="1389" y="88"/>
                      </a:lnTo>
                      <a:lnTo>
                        <a:pt x="1387" y="88"/>
                      </a:lnTo>
                      <a:lnTo>
                        <a:pt x="1383" y="89"/>
                      </a:lnTo>
                      <a:lnTo>
                        <a:pt x="1380" y="89"/>
                      </a:lnTo>
                      <a:lnTo>
                        <a:pt x="1376" y="89"/>
                      </a:lnTo>
                      <a:lnTo>
                        <a:pt x="1372" y="89"/>
                      </a:lnTo>
                      <a:lnTo>
                        <a:pt x="1368" y="90"/>
                      </a:lnTo>
                      <a:lnTo>
                        <a:pt x="1363" y="90"/>
                      </a:lnTo>
                      <a:lnTo>
                        <a:pt x="1360" y="91"/>
                      </a:lnTo>
                      <a:lnTo>
                        <a:pt x="1354" y="91"/>
                      </a:lnTo>
                      <a:lnTo>
                        <a:pt x="1350" y="91"/>
                      </a:lnTo>
                      <a:lnTo>
                        <a:pt x="1346" y="92"/>
                      </a:lnTo>
                      <a:lnTo>
                        <a:pt x="1341" y="94"/>
                      </a:lnTo>
                      <a:lnTo>
                        <a:pt x="1335" y="94"/>
                      </a:lnTo>
                      <a:lnTo>
                        <a:pt x="1329" y="94"/>
                      </a:lnTo>
                      <a:lnTo>
                        <a:pt x="1324" y="94"/>
                      </a:lnTo>
                      <a:lnTo>
                        <a:pt x="1319" y="95"/>
                      </a:lnTo>
                      <a:lnTo>
                        <a:pt x="1312" y="96"/>
                      </a:lnTo>
                      <a:lnTo>
                        <a:pt x="1306" y="96"/>
                      </a:lnTo>
                      <a:lnTo>
                        <a:pt x="1302" y="97"/>
                      </a:lnTo>
                      <a:lnTo>
                        <a:pt x="1296" y="97"/>
                      </a:lnTo>
                      <a:lnTo>
                        <a:pt x="1289" y="97"/>
                      </a:lnTo>
                      <a:lnTo>
                        <a:pt x="1283" y="97"/>
                      </a:lnTo>
                      <a:lnTo>
                        <a:pt x="1275" y="98"/>
                      </a:lnTo>
                      <a:lnTo>
                        <a:pt x="1270" y="100"/>
                      </a:lnTo>
                      <a:lnTo>
                        <a:pt x="1262" y="100"/>
                      </a:lnTo>
                      <a:lnTo>
                        <a:pt x="1255" y="100"/>
                      </a:lnTo>
                      <a:lnTo>
                        <a:pt x="1249" y="100"/>
                      </a:lnTo>
                      <a:lnTo>
                        <a:pt x="1242" y="102"/>
                      </a:lnTo>
                      <a:lnTo>
                        <a:pt x="1235" y="102"/>
                      </a:lnTo>
                      <a:lnTo>
                        <a:pt x="1228" y="102"/>
                      </a:lnTo>
                      <a:lnTo>
                        <a:pt x="1220" y="102"/>
                      </a:lnTo>
                      <a:lnTo>
                        <a:pt x="1213" y="102"/>
                      </a:lnTo>
                      <a:lnTo>
                        <a:pt x="1205" y="103"/>
                      </a:lnTo>
                      <a:lnTo>
                        <a:pt x="1197" y="104"/>
                      </a:lnTo>
                      <a:lnTo>
                        <a:pt x="1190" y="104"/>
                      </a:lnTo>
                      <a:lnTo>
                        <a:pt x="1182" y="104"/>
                      </a:lnTo>
                      <a:lnTo>
                        <a:pt x="1173" y="104"/>
                      </a:lnTo>
                      <a:lnTo>
                        <a:pt x="1165" y="104"/>
                      </a:lnTo>
                      <a:lnTo>
                        <a:pt x="1157" y="105"/>
                      </a:lnTo>
                      <a:lnTo>
                        <a:pt x="1149" y="107"/>
                      </a:lnTo>
                      <a:lnTo>
                        <a:pt x="1140" y="107"/>
                      </a:lnTo>
                      <a:lnTo>
                        <a:pt x="1132" y="107"/>
                      </a:lnTo>
                      <a:lnTo>
                        <a:pt x="1122" y="107"/>
                      </a:lnTo>
                      <a:lnTo>
                        <a:pt x="1114" y="107"/>
                      </a:lnTo>
                      <a:lnTo>
                        <a:pt x="1112" y="103"/>
                      </a:lnTo>
                      <a:lnTo>
                        <a:pt x="1108" y="100"/>
                      </a:lnTo>
                      <a:lnTo>
                        <a:pt x="1106" y="95"/>
                      </a:lnTo>
                      <a:lnTo>
                        <a:pt x="1102" y="91"/>
                      </a:lnTo>
                      <a:lnTo>
                        <a:pt x="1099" y="89"/>
                      </a:lnTo>
                      <a:lnTo>
                        <a:pt x="1096" y="85"/>
                      </a:lnTo>
                      <a:lnTo>
                        <a:pt x="1094" y="82"/>
                      </a:lnTo>
                      <a:lnTo>
                        <a:pt x="1090" y="79"/>
                      </a:lnTo>
                      <a:lnTo>
                        <a:pt x="1086" y="76"/>
                      </a:lnTo>
                      <a:lnTo>
                        <a:pt x="1083" y="73"/>
                      </a:lnTo>
                      <a:lnTo>
                        <a:pt x="1080" y="71"/>
                      </a:lnTo>
                      <a:lnTo>
                        <a:pt x="1076" y="70"/>
                      </a:lnTo>
                      <a:lnTo>
                        <a:pt x="1074" y="67"/>
                      </a:lnTo>
                      <a:lnTo>
                        <a:pt x="1070" y="65"/>
                      </a:lnTo>
                      <a:lnTo>
                        <a:pt x="1065" y="64"/>
                      </a:lnTo>
                      <a:lnTo>
                        <a:pt x="1063" y="62"/>
                      </a:lnTo>
                      <a:lnTo>
                        <a:pt x="1060" y="60"/>
                      </a:lnTo>
                      <a:lnTo>
                        <a:pt x="1056" y="58"/>
                      </a:lnTo>
                      <a:lnTo>
                        <a:pt x="1051" y="56"/>
                      </a:lnTo>
                      <a:lnTo>
                        <a:pt x="1048" y="56"/>
                      </a:lnTo>
                      <a:lnTo>
                        <a:pt x="1044" y="53"/>
                      </a:lnTo>
                      <a:lnTo>
                        <a:pt x="1041" y="52"/>
                      </a:lnTo>
                      <a:lnTo>
                        <a:pt x="1037" y="51"/>
                      </a:lnTo>
                      <a:lnTo>
                        <a:pt x="1033" y="50"/>
                      </a:lnTo>
                      <a:lnTo>
                        <a:pt x="1030" y="48"/>
                      </a:lnTo>
                      <a:lnTo>
                        <a:pt x="1026" y="46"/>
                      </a:lnTo>
                      <a:lnTo>
                        <a:pt x="1022" y="45"/>
                      </a:lnTo>
                      <a:lnTo>
                        <a:pt x="1018" y="44"/>
                      </a:lnTo>
                      <a:lnTo>
                        <a:pt x="1014" y="43"/>
                      </a:lnTo>
                      <a:lnTo>
                        <a:pt x="1011" y="41"/>
                      </a:lnTo>
                      <a:lnTo>
                        <a:pt x="1007" y="39"/>
                      </a:lnTo>
                      <a:lnTo>
                        <a:pt x="1004" y="38"/>
                      </a:lnTo>
                      <a:lnTo>
                        <a:pt x="1001" y="38"/>
                      </a:lnTo>
                      <a:lnTo>
                        <a:pt x="1000" y="39"/>
                      </a:lnTo>
                      <a:lnTo>
                        <a:pt x="998" y="40"/>
                      </a:lnTo>
                      <a:lnTo>
                        <a:pt x="994" y="41"/>
                      </a:lnTo>
                      <a:lnTo>
                        <a:pt x="990" y="43"/>
                      </a:lnTo>
                      <a:lnTo>
                        <a:pt x="987" y="45"/>
                      </a:lnTo>
                      <a:lnTo>
                        <a:pt x="982" y="47"/>
                      </a:lnTo>
                      <a:lnTo>
                        <a:pt x="980" y="51"/>
                      </a:lnTo>
                      <a:lnTo>
                        <a:pt x="974" y="53"/>
                      </a:lnTo>
                      <a:lnTo>
                        <a:pt x="971" y="56"/>
                      </a:lnTo>
                      <a:lnTo>
                        <a:pt x="967" y="58"/>
                      </a:lnTo>
                      <a:lnTo>
                        <a:pt x="962" y="60"/>
                      </a:lnTo>
                      <a:lnTo>
                        <a:pt x="959" y="62"/>
                      </a:lnTo>
                      <a:lnTo>
                        <a:pt x="956" y="64"/>
                      </a:lnTo>
                      <a:lnTo>
                        <a:pt x="952" y="65"/>
                      </a:lnTo>
                      <a:lnTo>
                        <a:pt x="950" y="67"/>
                      </a:lnTo>
                      <a:lnTo>
                        <a:pt x="952" y="69"/>
                      </a:lnTo>
                      <a:lnTo>
                        <a:pt x="955" y="71"/>
                      </a:lnTo>
                      <a:lnTo>
                        <a:pt x="959" y="76"/>
                      </a:lnTo>
                      <a:lnTo>
                        <a:pt x="962" y="79"/>
                      </a:lnTo>
                      <a:lnTo>
                        <a:pt x="965" y="82"/>
                      </a:lnTo>
                      <a:lnTo>
                        <a:pt x="969" y="85"/>
                      </a:lnTo>
                      <a:lnTo>
                        <a:pt x="972" y="88"/>
                      </a:lnTo>
                      <a:lnTo>
                        <a:pt x="974" y="91"/>
                      </a:lnTo>
                      <a:lnTo>
                        <a:pt x="976" y="89"/>
                      </a:lnTo>
                      <a:lnTo>
                        <a:pt x="980" y="86"/>
                      </a:lnTo>
                      <a:lnTo>
                        <a:pt x="982" y="85"/>
                      </a:lnTo>
                      <a:lnTo>
                        <a:pt x="985" y="84"/>
                      </a:lnTo>
                      <a:lnTo>
                        <a:pt x="987" y="83"/>
                      </a:lnTo>
                      <a:lnTo>
                        <a:pt x="990" y="83"/>
                      </a:lnTo>
                      <a:lnTo>
                        <a:pt x="992" y="82"/>
                      </a:lnTo>
                      <a:lnTo>
                        <a:pt x="995" y="82"/>
                      </a:lnTo>
                      <a:lnTo>
                        <a:pt x="1000" y="82"/>
                      </a:lnTo>
                      <a:lnTo>
                        <a:pt x="1005" y="83"/>
                      </a:lnTo>
                      <a:lnTo>
                        <a:pt x="1010" y="84"/>
                      </a:lnTo>
                      <a:lnTo>
                        <a:pt x="1014" y="85"/>
                      </a:lnTo>
                      <a:lnTo>
                        <a:pt x="1018" y="86"/>
                      </a:lnTo>
                      <a:lnTo>
                        <a:pt x="1023" y="89"/>
                      </a:lnTo>
                      <a:lnTo>
                        <a:pt x="1026" y="91"/>
                      </a:lnTo>
                      <a:lnTo>
                        <a:pt x="1031" y="96"/>
                      </a:lnTo>
                      <a:lnTo>
                        <a:pt x="1035" y="98"/>
                      </a:lnTo>
                      <a:lnTo>
                        <a:pt x="1038" y="102"/>
                      </a:lnTo>
                      <a:lnTo>
                        <a:pt x="1043" y="104"/>
                      </a:lnTo>
                      <a:lnTo>
                        <a:pt x="1047" y="109"/>
                      </a:lnTo>
                      <a:lnTo>
                        <a:pt x="1042" y="109"/>
                      </a:lnTo>
                      <a:lnTo>
                        <a:pt x="1037" y="109"/>
                      </a:lnTo>
                      <a:lnTo>
                        <a:pt x="1032" y="109"/>
                      </a:lnTo>
                      <a:lnTo>
                        <a:pt x="1028" y="109"/>
                      </a:lnTo>
                      <a:lnTo>
                        <a:pt x="1022" y="109"/>
                      </a:lnTo>
                      <a:lnTo>
                        <a:pt x="1018" y="109"/>
                      </a:lnTo>
                      <a:lnTo>
                        <a:pt x="1012" y="109"/>
                      </a:lnTo>
                      <a:lnTo>
                        <a:pt x="1007" y="109"/>
                      </a:lnTo>
                      <a:lnTo>
                        <a:pt x="1003" y="108"/>
                      </a:lnTo>
                      <a:lnTo>
                        <a:pt x="998" y="108"/>
                      </a:lnTo>
                      <a:lnTo>
                        <a:pt x="992" y="108"/>
                      </a:lnTo>
                      <a:lnTo>
                        <a:pt x="987" y="108"/>
                      </a:lnTo>
                      <a:lnTo>
                        <a:pt x="982" y="108"/>
                      </a:lnTo>
                      <a:lnTo>
                        <a:pt x="978" y="108"/>
                      </a:lnTo>
                      <a:lnTo>
                        <a:pt x="973" y="108"/>
                      </a:lnTo>
                      <a:lnTo>
                        <a:pt x="968" y="108"/>
                      </a:lnTo>
                      <a:lnTo>
                        <a:pt x="965" y="107"/>
                      </a:lnTo>
                      <a:lnTo>
                        <a:pt x="962" y="107"/>
                      </a:lnTo>
                      <a:lnTo>
                        <a:pt x="960" y="107"/>
                      </a:lnTo>
                      <a:lnTo>
                        <a:pt x="958" y="107"/>
                      </a:lnTo>
                      <a:lnTo>
                        <a:pt x="954" y="107"/>
                      </a:lnTo>
                      <a:lnTo>
                        <a:pt x="952" y="107"/>
                      </a:lnTo>
                      <a:lnTo>
                        <a:pt x="949" y="107"/>
                      </a:lnTo>
                      <a:lnTo>
                        <a:pt x="947" y="107"/>
                      </a:lnTo>
                      <a:lnTo>
                        <a:pt x="944" y="107"/>
                      </a:lnTo>
                      <a:lnTo>
                        <a:pt x="942" y="107"/>
                      </a:lnTo>
                      <a:lnTo>
                        <a:pt x="940" y="107"/>
                      </a:lnTo>
                      <a:lnTo>
                        <a:pt x="936" y="107"/>
                      </a:lnTo>
                      <a:lnTo>
                        <a:pt x="931" y="107"/>
                      </a:lnTo>
                      <a:lnTo>
                        <a:pt x="927" y="107"/>
                      </a:lnTo>
                      <a:lnTo>
                        <a:pt x="924" y="107"/>
                      </a:lnTo>
                      <a:lnTo>
                        <a:pt x="921" y="107"/>
                      </a:lnTo>
                      <a:lnTo>
                        <a:pt x="918" y="107"/>
                      </a:lnTo>
                      <a:lnTo>
                        <a:pt x="916" y="107"/>
                      </a:lnTo>
                      <a:lnTo>
                        <a:pt x="914" y="107"/>
                      </a:lnTo>
                      <a:lnTo>
                        <a:pt x="910" y="107"/>
                      </a:lnTo>
                      <a:lnTo>
                        <a:pt x="908" y="107"/>
                      </a:lnTo>
                      <a:lnTo>
                        <a:pt x="905" y="107"/>
                      </a:lnTo>
                      <a:lnTo>
                        <a:pt x="903" y="105"/>
                      </a:lnTo>
                      <a:lnTo>
                        <a:pt x="899" y="105"/>
                      </a:lnTo>
                      <a:lnTo>
                        <a:pt x="897" y="105"/>
                      </a:lnTo>
                      <a:lnTo>
                        <a:pt x="895" y="105"/>
                      </a:lnTo>
                      <a:lnTo>
                        <a:pt x="892" y="105"/>
                      </a:lnTo>
                      <a:lnTo>
                        <a:pt x="889" y="105"/>
                      </a:lnTo>
                      <a:lnTo>
                        <a:pt x="886" y="105"/>
                      </a:lnTo>
                      <a:lnTo>
                        <a:pt x="884" y="105"/>
                      </a:lnTo>
                      <a:lnTo>
                        <a:pt x="880" y="104"/>
                      </a:lnTo>
                      <a:lnTo>
                        <a:pt x="877" y="104"/>
                      </a:lnTo>
                      <a:lnTo>
                        <a:pt x="873" y="104"/>
                      </a:lnTo>
                      <a:lnTo>
                        <a:pt x="870" y="104"/>
                      </a:lnTo>
                      <a:lnTo>
                        <a:pt x="866" y="104"/>
                      </a:lnTo>
                      <a:lnTo>
                        <a:pt x="863" y="104"/>
                      </a:lnTo>
                      <a:lnTo>
                        <a:pt x="858" y="104"/>
                      </a:lnTo>
                      <a:lnTo>
                        <a:pt x="855" y="104"/>
                      </a:lnTo>
                      <a:lnTo>
                        <a:pt x="852" y="104"/>
                      </a:lnTo>
                      <a:lnTo>
                        <a:pt x="848" y="104"/>
                      </a:lnTo>
                      <a:lnTo>
                        <a:pt x="845" y="104"/>
                      </a:lnTo>
                      <a:lnTo>
                        <a:pt x="840" y="104"/>
                      </a:lnTo>
                      <a:lnTo>
                        <a:pt x="838" y="104"/>
                      </a:lnTo>
                      <a:lnTo>
                        <a:pt x="834" y="104"/>
                      </a:lnTo>
                      <a:lnTo>
                        <a:pt x="831" y="104"/>
                      </a:lnTo>
                      <a:lnTo>
                        <a:pt x="827" y="104"/>
                      </a:lnTo>
                      <a:lnTo>
                        <a:pt x="826" y="100"/>
                      </a:lnTo>
                      <a:lnTo>
                        <a:pt x="826" y="96"/>
                      </a:lnTo>
                      <a:lnTo>
                        <a:pt x="825" y="91"/>
                      </a:lnTo>
                      <a:lnTo>
                        <a:pt x="823" y="89"/>
                      </a:lnTo>
                      <a:lnTo>
                        <a:pt x="822" y="84"/>
                      </a:lnTo>
                      <a:lnTo>
                        <a:pt x="822" y="81"/>
                      </a:lnTo>
                      <a:lnTo>
                        <a:pt x="821" y="76"/>
                      </a:lnTo>
                      <a:lnTo>
                        <a:pt x="821" y="73"/>
                      </a:lnTo>
                      <a:lnTo>
                        <a:pt x="818" y="73"/>
                      </a:lnTo>
                      <a:lnTo>
                        <a:pt x="814" y="76"/>
                      </a:lnTo>
                      <a:lnTo>
                        <a:pt x="810" y="76"/>
                      </a:lnTo>
                      <a:lnTo>
                        <a:pt x="807" y="78"/>
                      </a:lnTo>
                      <a:lnTo>
                        <a:pt x="803" y="78"/>
                      </a:lnTo>
                      <a:lnTo>
                        <a:pt x="800" y="78"/>
                      </a:lnTo>
                      <a:lnTo>
                        <a:pt x="797" y="76"/>
                      </a:lnTo>
                      <a:lnTo>
                        <a:pt x="795" y="76"/>
                      </a:lnTo>
                      <a:lnTo>
                        <a:pt x="793" y="75"/>
                      </a:lnTo>
                      <a:lnTo>
                        <a:pt x="790" y="73"/>
                      </a:lnTo>
                      <a:lnTo>
                        <a:pt x="787" y="71"/>
                      </a:lnTo>
                      <a:lnTo>
                        <a:pt x="784" y="70"/>
                      </a:lnTo>
                      <a:lnTo>
                        <a:pt x="780" y="66"/>
                      </a:lnTo>
                      <a:lnTo>
                        <a:pt x="775" y="62"/>
                      </a:lnTo>
                      <a:lnTo>
                        <a:pt x="772" y="59"/>
                      </a:lnTo>
                      <a:lnTo>
                        <a:pt x="770" y="56"/>
                      </a:lnTo>
                      <a:lnTo>
                        <a:pt x="766" y="53"/>
                      </a:lnTo>
                      <a:lnTo>
                        <a:pt x="765" y="51"/>
                      </a:lnTo>
                      <a:lnTo>
                        <a:pt x="761" y="46"/>
                      </a:lnTo>
                      <a:lnTo>
                        <a:pt x="756" y="41"/>
                      </a:lnTo>
                      <a:lnTo>
                        <a:pt x="753" y="39"/>
                      </a:lnTo>
                      <a:lnTo>
                        <a:pt x="751" y="38"/>
                      </a:lnTo>
                      <a:lnTo>
                        <a:pt x="748" y="35"/>
                      </a:lnTo>
                      <a:lnTo>
                        <a:pt x="745" y="34"/>
                      </a:lnTo>
                      <a:lnTo>
                        <a:pt x="742" y="33"/>
                      </a:lnTo>
                      <a:lnTo>
                        <a:pt x="739" y="33"/>
                      </a:lnTo>
                      <a:lnTo>
                        <a:pt x="737" y="32"/>
                      </a:lnTo>
                      <a:lnTo>
                        <a:pt x="733" y="32"/>
                      </a:lnTo>
                      <a:lnTo>
                        <a:pt x="729" y="37"/>
                      </a:lnTo>
                      <a:lnTo>
                        <a:pt x="726" y="41"/>
                      </a:lnTo>
                      <a:lnTo>
                        <a:pt x="724" y="46"/>
                      </a:lnTo>
                      <a:lnTo>
                        <a:pt x="721" y="52"/>
                      </a:lnTo>
                      <a:lnTo>
                        <a:pt x="720" y="56"/>
                      </a:lnTo>
                      <a:lnTo>
                        <a:pt x="720" y="62"/>
                      </a:lnTo>
                      <a:lnTo>
                        <a:pt x="721" y="66"/>
                      </a:lnTo>
                      <a:lnTo>
                        <a:pt x="723" y="71"/>
                      </a:lnTo>
                      <a:lnTo>
                        <a:pt x="724" y="73"/>
                      </a:lnTo>
                      <a:lnTo>
                        <a:pt x="726" y="79"/>
                      </a:lnTo>
                      <a:lnTo>
                        <a:pt x="729" y="83"/>
                      </a:lnTo>
                      <a:lnTo>
                        <a:pt x="732" y="86"/>
                      </a:lnTo>
                      <a:lnTo>
                        <a:pt x="734" y="91"/>
                      </a:lnTo>
                      <a:lnTo>
                        <a:pt x="739" y="94"/>
                      </a:lnTo>
                      <a:lnTo>
                        <a:pt x="744" y="97"/>
                      </a:lnTo>
                      <a:lnTo>
                        <a:pt x="749" y="102"/>
                      </a:lnTo>
                      <a:lnTo>
                        <a:pt x="744" y="102"/>
                      </a:lnTo>
                      <a:lnTo>
                        <a:pt x="742" y="102"/>
                      </a:lnTo>
                      <a:lnTo>
                        <a:pt x="739" y="102"/>
                      </a:lnTo>
                      <a:lnTo>
                        <a:pt x="737" y="102"/>
                      </a:lnTo>
                      <a:lnTo>
                        <a:pt x="733" y="101"/>
                      </a:lnTo>
                      <a:lnTo>
                        <a:pt x="730" y="101"/>
                      </a:lnTo>
                      <a:lnTo>
                        <a:pt x="726" y="101"/>
                      </a:lnTo>
                      <a:lnTo>
                        <a:pt x="724" y="101"/>
                      </a:lnTo>
                      <a:lnTo>
                        <a:pt x="721" y="101"/>
                      </a:lnTo>
                      <a:lnTo>
                        <a:pt x="719" y="101"/>
                      </a:lnTo>
                      <a:lnTo>
                        <a:pt x="715" y="101"/>
                      </a:lnTo>
                      <a:lnTo>
                        <a:pt x="713" y="101"/>
                      </a:lnTo>
                      <a:lnTo>
                        <a:pt x="710" y="101"/>
                      </a:lnTo>
                      <a:lnTo>
                        <a:pt x="707" y="101"/>
                      </a:lnTo>
                      <a:lnTo>
                        <a:pt x="704" y="101"/>
                      </a:lnTo>
                      <a:lnTo>
                        <a:pt x="701" y="101"/>
                      </a:lnTo>
                      <a:lnTo>
                        <a:pt x="699" y="100"/>
                      </a:lnTo>
                      <a:lnTo>
                        <a:pt x="695" y="100"/>
                      </a:lnTo>
                      <a:lnTo>
                        <a:pt x="693" y="100"/>
                      </a:lnTo>
                      <a:lnTo>
                        <a:pt x="689" y="100"/>
                      </a:lnTo>
                      <a:lnTo>
                        <a:pt x="687" y="100"/>
                      </a:lnTo>
                      <a:lnTo>
                        <a:pt x="683" y="100"/>
                      </a:lnTo>
                      <a:lnTo>
                        <a:pt x="681" y="100"/>
                      </a:lnTo>
                      <a:lnTo>
                        <a:pt x="679" y="100"/>
                      </a:lnTo>
                      <a:lnTo>
                        <a:pt x="676" y="100"/>
                      </a:lnTo>
                      <a:lnTo>
                        <a:pt x="673" y="100"/>
                      </a:lnTo>
                      <a:lnTo>
                        <a:pt x="669" y="100"/>
                      </a:lnTo>
                      <a:lnTo>
                        <a:pt x="667" y="100"/>
                      </a:lnTo>
                      <a:lnTo>
                        <a:pt x="664" y="100"/>
                      </a:lnTo>
                      <a:lnTo>
                        <a:pt x="662" y="100"/>
                      </a:lnTo>
                      <a:lnTo>
                        <a:pt x="659" y="100"/>
                      </a:lnTo>
                      <a:lnTo>
                        <a:pt x="656" y="100"/>
                      </a:lnTo>
                      <a:lnTo>
                        <a:pt x="661" y="96"/>
                      </a:lnTo>
                      <a:lnTo>
                        <a:pt x="666" y="91"/>
                      </a:lnTo>
                      <a:lnTo>
                        <a:pt x="670" y="86"/>
                      </a:lnTo>
                      <a:lnTo>
                        <a:pt x="675" y="82"/>
                      </a:lnTo>
                      <a:lnTo>
                        <a:pt x="676" y="79"/>
                      </a:lnTo>
                      <a:lnTo>
                        <a:pt x="679" y="76"/>
                      </a:lnTo>
                      <a:lnTo>
                        <a:pt x="679" y="72"/>
                      </a:lnTo>
                      <a:lnTo>
                        <a:pt x="681" y="70"/>
                      </a:lnTo>
                      <a:lnTo>
                        <a:pt x="682" y="66"/>
                      </a:lnTo>
                      <a:lnTo>
                        <a:pt x="683" y="63"/>
                      </a:lnTo>
                      <a:lnTo>
                        <a:pt x="685" y="59"/>
                      </a:lnTo>
                      <a:lnTo>
                        <a:pt x="686" y="56"/>
                      </a:lnTo>
                      <a:lnTo>
                        <a:pt x="683" y="53"/>
                      </a:lnTo>
                      <a:lnTo>
                        <a:pt x="680" y="52"/>
                      </a:lnTo>
                      <a:lnTo>
                        <a:pt x="677" y="51"/>
                      </a:lnTo>
                      <a:lnTo>
                        <a:pt x="674" y="51"/>
                      </a:lnTo>
                      <a:lnTo>
                        <a:pt x="670" y="50"/>
                      </a:lnTo>
                      <a:lnTo>
                        <a:pt x="668" y="50"/>
                      </a:lnTo>
                      <a:lnTo>
                        <a:pt x="664" y="50"/>
                      </a:lnTo>
                      <a:lnTo>
                        <a:pt x="662" y="50"/>
                      </a:lnTo>
                      <a:lnTo>
                        <a:pt x="659" y="48"/>
                      </a:lnTo>
                      <a:lnTo>
                        <a:pt x="656" y="48"/>
                      </a:lnTo>
                      <a:lnTo>
                        <a:pt x="651" y="50"/>
                      </a:lnTo>
                      <a:lnTo>
                        <a:pt x="649" y="50"/>
                      </a:lnTo>
                      <a:lnTo>
                        <a:pt x="645" y="50"/>
                      </a:lnTo>
                      <a:lnTo>
                        <a:pt x="643" y="51"/>
                      </a:lnTo>
                      <a:lnTo>
                        <a:pt x="640" y="51"/>
                      </a:lnTo>
                      <a:lnTo>
                        <a:pt x="636" y="52"/>
                      </a:lnTo>
                      <a:lnTo>
                        <a:pt x="632" y="52"/>
                      </a:lnTo>
                      <a:lnTo>
                        <a:pt x="630" y="52"/>
                      </a:lnTo>
                      <a:lnTo>
                        <a:pt x="625" y="52"/>
                      </a:lnTo>
                      <a:lnTo>
                        <a:pt x="623" y="53"/>
                      </a:lnTo>
                      <a:lnTo>
                        <a:pt x="619" y="53"/>
                      </a:lnTo>
                      <a:lnTo>
                        <a:pt x="616" y="53"/>
                      </a:lnTo>
                      <a:lnTo>
                        <a:pt x="612" y="53"/>
                      </a:lnTo>
                      <a:lnTo>
                        <a:pt x="610" y="53"/>
                      </a:lnTo>
                      <a:lnTo>
                        <a:pt x="607" y="52"/>
                      </a:lnTo>
                      <a:lnTo>
                        <a:pt x="604" y="52"/>
                      </a:lnTo>
                      <a:lnTo>
                        <a:pt x="600" y="51"/>
                      </a:lnTo>
                      <a:lnTo>
                        <a:pt x="598" y="51"/>
                      </a:lnTo>
                      <a:lnTo>
                        <a:pt x="594" y="48"/>
                      </a:lnTo>
                      <a:lnTo>
                        <a:pt x="592" y="47"/>
                      </a:lnTo>
                      <a:lnTo>
                        <a:pt x="589" y="46"/>
                      </a:lnTo>
                      <a:lnTo>
                        <a:pt x="586" y="44"/>
                      </a:lnTo>
                      <a:lnTo>
                        <a:pt x="585" y="46"/>
                      </a:lnTo>
                      <a:lnTo>
                        <a:pt x="585" y="48"/>
                      </a:lnTo>
                      <a:lnTo>
                        <a:pt x="584" y="51"/>
                      </a:lnTo>
                      <a:lnTo>
                        <a:pt x="583" y="53"/>
                      </a:lnTo>
                      <a:lnTo>
                        <a:pt x="583" y="56"/>
                      </a:lnTo>
                      <a:lnTo>
                        <a:pt x="581" y="60"/>
                      </a:lnTo>
                      <a:lnTo>
                        <a:pt x="580" y="64"/>
                      </a:lnTo>
                      <a:lnTo>
                        <a:pt x="580" y="69"/>
                      </a:lnTo>
                      <a:lnTo>
                        <a:pt x="579" y="72"/>
                      </a:lnTo>
                      <a:lnTo>
                        <a:pt x="579" y="76"/>
                      </a:lnTo>
                      <a:lnTo>
                        <a:pt x="578" y="81"/>
                      </a:lnTo>
                      <a:lnTo>
                        <a:pt x="577" y="85"/>
                      </a:lnTo>
                      <a:lnTo>
                        <a:pt x="577" y="89"/>
                      </a:lnTo>
                      <a:lnTo>
                        <a:pt x="577" y="92"/>
                      </a:lnTo>
                      <a:lnTo>
                        <a:pt x="575" y="97"/>
                      </a:lnTo>
                      <a:lnTo>
                        <a:pt x="575" y="101"/>
                      </a:lnTo>
                      <a:lnTo>
                        <a:pt x="572" y="101"/>
                      </a:lnTo>
                      <a:lnTo>
                        <a:pt x="570" y="101"/>
                      </a:lnTo>
                      <a:lnTo>
                        <a:pt x="567" y="101"/>
                      </a:lnTo>
                      <a:lnTo>
                        <a:pt x="564" y="101"/>
                      </a:lnTo>
                      <a:lnTo>
                        <a:pt x="560" y="101"/>
                      </a:lnTo>
                      <a:lnTo>
                        <a:pt x="556" y="101"/>
                      </a:lnTo>
                      <a:lnTo>
                        <a:pt x="554" y="101"/>
                      </a:lnTo>
                      <a:lnTo>
                        <a:pt x="552" y="101"/>
                      </a:lnTo>
                      <a:lnTo>
                        <a:pt x="549" y="101"/>
                      </a:lnTo>
                      <a:lnTo>
                        <a:pt x="546" y="101"/>
                      </a:lnTo>
                      <a:lnTo>
                        <a:pt x="542" y="101"/>
                      </a:lnTo>
                      <a:lnTo>
                        <a:pt x="540" y="101"/>
                      </a:lnTo>
                      <a:lnTo>
                        <a:pt x="536" y="101"/>
                      </a:lnTo>
                      <a:lnTo>
                        <a:pt x="534" y="101"/>
                      </a:lnTo>
                      <a:lnTo>
                        <a:pt x="532" y="101"/>
                      </a:lnTo>
                      <a:lnTo>
                        <a:pt x="529" y="101"/>
                      </a:lnTo>
                      <a:lnTo>
                        <a:pt x="526" y="101"/>
                      </a:lnTo>
                      <a:lnTo>
                        <a:pt x="523" y="101"/>
                      </a:lnTo>
                      <a:lnTo>
                        <a:pt x="520" y="101"/>
                      </a:lnTo>
                      <a:lnTo>
                        <a:pt x="516" y="101"/>
                      </a:lnTo>
                      <a:lnTo>
                        <a:pt x="514" y="101"/>
                      </a:lnTo>
                      <a:lnTo>
                        <a:pt x="511" y="101"/>
                      </a:lnTo>
                      <a:lnTo>
                        <a:pt x="509" y="101"/>
                      </a:lnTo>
                      <a:lnTo>
                        <a:pt x="507" y="101"/>
                      </a:lnTo>
                      <a:lnTo>
                        <a:pt x="503" y="101"/>
                      </a:lnTo>
                      <a:lnTo>
                        <a:pt x="501" y="101"/>
                      </a:lnTo>
                      <a:lnTo>
                        <a:pt x="497" y="101"/>
                      </a:lnTo>
                      <a:lnTo>
                        <a:pt x="495" y="101"/>
                      </a:lnTo>
                      <a:lnTo>
                        <a:pt x="492" y="101"/>
                      </a:lnTo>
                      <a:lnTo>
                        <a:pt x="490" y="101"/>
                      </a:lnTo>
                      <a:lnTo>
                        <a:pt x="486" y="101"/>
                      </a:lnTo>
                      <a:lnTo>
                        <a:pt x="484" y="102"/>
                      </a:lnTo>
                      <a:lnTo>
                        <a:pt x="482" y="102"/>
                      </a:lnTo>
                      <a:lnTo>
                        <a:pt x="478" y="102"/>
                      </a:lnTo>
                      <a:lnTo>
                        <a:pt x="476" y="102"/>
                      </a:lnTo>
                      <a:lnTo>
                        <a:pt x="473" y="102"/>
                      </a:lnTo>
                      <a:lnTo>
                        <a:pt x="471" y="102"/>
                      </a:lnTo>
                      <a:lnTo>
                        <a:pt x="469" y="102"/>
                      </a:lnTo>
                      <a:lnTo>
                        <a:pt x="466" y="102"/>
                      </a:lnTo>
                      <a:lnTo>
                        <a:pt x="463" y="102"/>
                      </a:lnTo>
                      <a:lnTo>
                        <a:pt x="460" y="102"/>
                      </a:lnTo>
                      <a:lnTo>
                        <a:pt x="457" y="102"/>
                      </a:lnTo>
                      <a:lnTo>
                        <a:pt x="456" y="102"/>
                      </a:lnTo>
                      <a:lnTo>
                        <a:pt x="453" y="102"/>
                      </a:lnTo>
                      <a:lnTo>
                        <a:pt x="447" y="102"/>
                      </a:lnTo>
                      <a:lnTo>
                        <a:pt x="443" y="102"/>
                      </a:lnTo>
                      <a:lnTo>
                        <a:pt x="440" y="102"/>
                      </a:lnTo>
                      <a:lnTo>
                        <a:pt x="437" y="102"/>
                      </a:lnTo>
                      <a:lnTo>
                        <a:pt x="434" y="102"/>
                      </a:lnTo>
                      <a:lnTo>
                        <a:pt x="432" y="102"/>
                      </a:lnTo>
                      <a:lnTo>
                        <a:pt x="427" y="102"/>
                      </a:lnTo>
                      <a:lnTo>
                        <a:pt x="422" y="102"/>
                      </a:lnTo>
                      <a:lnTo>
                        <a:pt x="416" y="102"/>
                      </a:lnTo>
                      <a:lnTo>
                        <a:pt x="413" y="103"/>
                      </a:lnTo>
                      <a:lnTo>
                        <a:pt x="407" y="103"/>
                      </a:lnTo>
                      <a:lnTo>
                        <a:pt x="402" y="104"/>
                      </a:lnTo>
                      <a:lnTo>
                        <a:pt x="405" y="100"/>
                      </a:lnTo>
                      <a:lnTo>
                        <a:pt x="405" y="97"/>
                      </a:lnTo>
                      <a:lnTo>
                        <a:pt x="407" y="94"/>
                      </a:lnTo>
                      <a:lnTo>
                        <a:pt x="408" y="91"/>
                      </a:lnTo>
                      <a:lnTo>
                        <a:pt x="408" y="86"/>
                      </a:lnTo>
                      <a:lnTo>
                        <a:pt x="409" y="84"/>
                      </a:lnTo>
                      <a:lnTo>
                        <a:pt x="408" y="82"/>
                      </a:lnTo>
                      <a:lnTo>
                        <a:pt x="408" y="78"/>
                      </a:lnTo>
                      <a:lnTo>
                        <a:pt x="407" y="76"/>
                      </a:lnTo>
                      <a:lnTo>
                        <a:pt x="405" y="73"/>
                      </a:lnTo>
                      <a:lnTo>
                        <a:pt x="403" y="71"/>
                      </a:lnTo>
                      <a:lnTo>
                        <a:pt x="402" y="69"/>
                      </a:lnTo>
                      <a:lnTo>
                        <a:pt x="399" y="67"/>
                      </a:lnTo>
                      <a:lnTo>
                        <a:pt x="395" y="66"/>
                      </a:lnTo>
                      <a:lnTo>
                        <a:pt x="392" y="66"/>
                      </a:lnTo>
                      <a:lnTo>
                        <a:pt x="387" y="67"/>
                      </a:lnTo>
                      <a:lnTo>
                        <a:pt x="383" y="71"/>
                      </a:lnTo>
                      <a:lnTo>
                        <a:pt x="381" y="73"/>
                      </a:lnTo>
                      <a:lnTo>
                        <a:pt x="378" y="76"/>
                      </a:lnTo>
                      <a:lnTo>
                        <a:pt x="375" y="79"/>
                      </a:lnTo>
                      <a:lnTo>
                        <a:pt x="375" y="83"/>
                      </a:lnTo>
                      <a:lnTo>
                        <a:pt x="375" y="86"/>
                      </a:lnTo>
                      <a:lnTo>
                        <a:pt x="375" y="89"/>
                      </a:lnTo>
                      <a:lnTo>
                        <a:pt x="375" y="94"/>
                      </a:lnTo>
                      <a:lnTo>
                        <a:pt x="375" y="96"/>
                      </a:lnTo>
                      <a:lnTo>
                        <a:pt x="375" y="100"/>
                      </a:lnTo>
                      <a:lnTo>
                        <a:pt x="375" y="102"/>
                      </a:lnTo>
                      <a:lnTo>
                        <a:pt x="376" y="104"/>
                      </a:lnTo>
                      <a:lnTo>
                        <a:pt x="373" y="104"/>
                      </a:lnTo>
                      <a:lnTo>
                        <a:pt x="369" y="104"/>
                      </a:lnTo>
                      <a:lnTo>
                        <a:pt x="365" y="104"/>
                      </a:lnTo>
                      <a:lnTo>
                        <a:pt x="363" y="104"/>
                      </a:lnTo>
                      <a:lnTo>
                        <a:pt x="360" y="104"/>
                      </a:lnTo>
                      <a:lnTo>
                        <a:pt x="357" y="104"/>
                      </a:lnTo>
                      <a:lnTo>
                        <a:pt x="355" y="104"/>
                      </a:lnTo>
                      <a:lnTo>
                        <a:pt x="351" y="104"/>
                      </a:lnTo>
                      <a:lnTo>
                        <a:pt x="348" y="104"/>
                      </a:lnTo>
                      <a:lnTo>
                        <a:pt x="344" y="104"/>
                      </a:lnTo>
                      <a:lnTo>
                        <a:pt x="342" y="104"/>
                      </a:lnTo>
                      <a:lnTo>
                        <a:pt x="339" y="104"/>
                      </a:lnTo>
                      <a:lnTo>
                        <a:pt x="337" y="104"/>
                      </a:lnTo>
                      <a:lnTo>
                        <a:pt x="333" y="104"/>
                      </a:lnTo>
                      <a:lnTo>
                        <a:pt x="330" y="104"/>
                      </a:lnTo>
                      <a:lnTo>
                        <a:pt x="327" y="104"/>
                      </a:lnTo>
                      <a:lnTo>
                        <a:pt x="324" y="104"/>
                      </a:lnTo>
                      <a:lnTo>
                        <a:pt x="322" y="104"/>
                      </a:lnTo>
                      <a:lnTo>
                        <a:pt x="319" y="104"/>
                      </a:lnTo>
                      <a:lnTo>
                        <a:pt x="317" y="104"/>
                      </a:lnTo>
                      <a:lnTo>
                        <a:pt x="313" y="104"/>
                      </a:lnTo>
                      <a:lnTo>
                        <a:pt x="311" y="104"/>
                      </a:lnTo>
                      <a:lnTo>
                        <a:pt x="307" y="104"/>
                      </a:lnTo>
                      <a:lnTo>
                        <a:pt x="305" y="104"/>
                      </a:lnTo>
                      <a:lnTo>
                        <a:pt x="303" y="104"/>
                      </a:lnTo>
                      <a:lnTo>
                        <a:pt x="299" y="104"/>
                      </a:lnTo>
                      <a:lnTo>
                        <a:pt x="297" y="104"/>
                      </a:lnTo>
                      <a:lnTo>
                        <a:pt x="294" y="104"/>
                      </a:lnTo>
                      <a:lnTo>
                        <a:pt x="288" y="104"/>
                      </a:lnTo>
                      <a:lnTo>
                        <a:pt x="284" y="105"/>
                      </a:lnTo>
                      <a:lnTo>
                        <a:pt x="281" y="105"/>
                      </a:lnTo>
                      <a:lnTo>
                        <a:pt x="279" y="105"/>
                      </a:lnTo>
                      <a:lnTo>
                        <a:pt x="276" y="105"/>
                      </a:lnTo>
                      <a:lnTo>
                        <a:pt x="273" y="105"/>
                      </a:lnTo>
                      <a:lnTo>
                        <a:pt x="268" y="105"/>
                      </a:lnTo>
                      <a:lnTo>
                        <a:pt x="263" y="105"/>
                      </a:lnTo>
                      <a:lnTo>
                        <a:pt x="259" y="105"/>
                      </a:lnTo>
                      <a:lnTo>
                        <a:pt x="253" y="105"/>
                      </a:lnTo>
                      <a:lnTo>
                        <a:pt x="249" y="105"/>
                      </a:lnTo>
                      <a:lnTo>
                        <a:pt x="246" y="105"/>
                      </a:lnTo>
                      <a:lnTo>
                        <a:pt x="241" y="105"/>
                      </a:lnTo>
                      <a:lnTo>
                        <a:pt x="235" y="105"/>
                      </a:lnTo>
                      <a:lnTo>
                        <a:pt x="230" y="105"/>
                      </a:lnTo>
                      <a:lnTo>
                        <a:pt x="227" y="105"/>
                      </a:lnTo>
                      <a:lnTo>
                        <a:pt x="223" y="105"/>
                      </a:lnTo>
                      <a:lnTo>
                        <a:pt x="218" y="105"/>
                      </a:lnTo>
                      <a:lnTo>
                        <a:pt x="215" y="105"/>
                      </a:lnTo>
                      <a:lnTo>
                        <a:pt x="210" y="105"/>
                      </a:lnTo>
                      <a:lnTo>
                        <a:pt x="204" y="104"/>
                      </a:lnTo>
                      <a:lnTo>
                        <a:pt x="198" y="104"/>
                      </a:lnTo>
                      <a:lnTo>
                        <a:pt x="192" y="104"/>
                      </a:lnTo>
                      <a:lnTo>
                        <a:pt x="187" y="104"/>
                      </a:lnTo>
                      <a:lnTo>
                        <a:pt x="182" y="104"/>
                      </a:lnTo>
                      <a:lnTo>
                        <a:pt x="176" y="104"/>
                      </a:lnTo>
                      <a:lnTo>
                        <a:pt x="170" y="104"/>
                      </a:lnTo>
                      <a:lnTo>
                        <a:pt x="165" y="104"/>
                      </a:lnTo>
                      <a:lnTo>
                        <a:pt x="159" y="103"/>
                      </a:lnTo>
                      <a:lnTo>
                        <a:pt x="153" y="102"/>
                      </a:lnTo>
                      <a:lnTo>
                        <a:pt x="148" y="102"/>
                      </a:lnTo>
                      <a:lnTo>
                        <a:pt x="144" y="102"/>
                      </a:lnTo>
                      <a:lnTo>
                        <a:pt x="138" y="102"/>
                      </a:lnTo>
                      <a:lnTo>
                        <a:pt x="134" y="102"/>
                      </a:lnTo>
                      <a:lnTo>
                        <a:pt x="128" y="102"/>
                      </a:lnTo>
                      <a:lnTo>
                        <a:pt x="125" y="102"/>
                      </a:lnTo>
                      <a:lnTo>
                        <a:pt x="119" y="102"/>
                      </a:lnTo>
                      <a:lnTo>
                        <a:pt x="114" y="101"/>
                      </a:lnTo>
                      <a:lnTo>
                        <a:pt x="109" y="100"/>
                      </a:lnTo>
                      <a:lnTo>
                        <a:pt x="104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1" y="100"/>
                      </a:lnTo>
                      <a:lnTo>
                        <a:pt x="88" y="100"/>
                      </a:lnTo>
                      <a:lnTo>
                        <a:pt x="83" y="100"/>
                      </a:lnTo>
                      <a:lnTo>
                        <a:pt x="78" y="98"/>
                      </a:lnTo>
                      <a:lnTo>
                        <a:pt x="75" y="97"/>
                      </a:lnTo>
                      <a:lnTo>
                        <a:pt x="71" y="97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1" y="97"/>
                      </a:lnTo>
                      <a:lnTo>
                        <a:pt x="57" y="97"/>
                      </a:lnTo>
                      <a:lnTo>
                        <a:pt x="53" y="97"/>
                      </a:lnTo>
                      <a:lnTo>
                        <a:pt x="50" y="96"/>
                      </a:lnTo>
                      <a:lnTo>
                        <a:pt x="46" y="96"/>
                      </a:lnTo>
                      <a:lnTo>
                        <a:pt x="44" y="96"/>
                      </a:lnTo>
                      <a:lnTo>
                        <a:pt x="40" y="95"/>
                      </a:lnTo>
                      <a:lnTo>
                        <a:pt x="38" y="94"/>
                      </a:lnTo>
                      <a:lnTo>
                        <a:pt x="34" y="94"/>
                      </a:lnTo>
                      <a:lnTo>
                        <a:pt x="33" y="94"/>
                      </a:lnTo>
                      <a:lnTo>
                        <a:pt x="30" y="94"/>
                      </a:lnTo>
                      <a:lnTo>
                        <a:pt x="26" y="94"/>
                      </a:lnTo>
                      <a:lnTo>
                        <a:pt x="24" y="94"/>
                      </a:lnTo>
                      <a:lnTo>
                        <a:pt x="23" y="94"/>
                      </a:lnTo>
                      <a:lnTo>
                        <a:pt x="18" y="91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7" y="91"/>
                      </a:lnTo>
                      <a:lnTo>
                        <a:pt x="5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Freeform 32"/>
                <p:cNvSpPr/>
                <p:nvPr/>
              </p:nvSpPr>
              <p:spPr>
                <a:xfrm>
                  <a:off x="1204920" y="2133720"/>
                  <a:ext cx="18720" cy="493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6" h="91">
                      <a:moveTo>
                        <a:pt x="36" y="91"/>
                      </a:moveTo>
                      <a:lnTo>
                        <a:pt x="33" y="91"/>
                      </a:lnTo>
                      <a:lnTo>
                        <a:pt x="29" y="91"/>
                      </a:lnTo>
                      <a:lnTo>
                        <a:pt x="27" y="89"/>
                      </a:lnTo>
                      <a:lnTo>
                        <a:pt x="23" y="89"/>
                      </a:lnTo>
                      <a:lnTo>
                        <a:pt x="17" y="88"/>
                      </a:lnTo>
                      <a:lnTo>
                        <a:pt x="15" y="87"/>
                      </a:lnTo>
                      <a:lnTo>
                        <a:pt x="10" y="85"/>
                      </a:lnTo>
                      <a:lnTo>
                        <a:pt x="8" y="83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5"/>
                      </a:lnTo>
                      <a:lnTo>
                        <a:pt x="6" y="51"/>
                      </a:lnTo>
                      <a:lnTo>
                        <a:pt x="7" y="48"/>
                      </a:lnTo>
                      <a:lnTo>
                        <a:pt x="9" y="45"/>
                      </a:lnTo>
                      <a:lnTo>
                        <a:pt x="11" y="41"/>
                      </a:lnTo>
                      <a:lnTo>
                        <a:pt x="13" y="37"/>
                      </a:lnTo>
                      <a:lnTo>
                        <a:pt x="15" y="34"/>
                      </a:lnTo>
                      <a:lnTo>
                        <a:pt x="19" y="30"/>
                      </a:lnTo>
                      <a:lnTo>
                        <a:pt x="20" y="26"/>
                      </a:lnTo>
                      <a:lnTo>
                        <a:pt x="23" y="23"/>
                      </a:lnTo>
                      <a:lnTo>
                        <a:pt x="26" y="19"/>
                      </a:lnTo>
                      <a:lnTo>
                        <a:pt x="28" y="15"/>
                      </a:lnTo>
                      <a:lnTo>
                        <a:pt x="30" y="12"/>
                      </a:lnTo>
                      <a:lnTo>
                        <a:pt x="32" y="7"/>
                      </a:lnTo>
                      <a:lnTo>
                        <a:pt x="33" y="4"/>
                      </a:lnTo>
                      <a:lnTo>
                        <a:pt x="35" y="0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5" y="10"/>
                      </a:lnTo>
                      <a:lnTo>
                        <a:pt x="35" y="12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5" y="20"/>
                      </a:lnTo>
                      <a:lnTo>
                        <a:pt x="35" y="23"/>
                      </a:lnTo>
                      <a:lnTo>
                        <a:pt x="35" y="26"/>
                      </a:lnTo>
                      <a:lnTo>
                        <a:pt x="35" y="30"/>
                      </a:lnTo>
                      <a:lnTo>
                        <a:pt x="35" y="32"/>
                      </a:lnTo>
                      <a:lnTo>
                        <a:pt x="35" y="35"/>
                      </a:lnTo>
                      <a:lnTo>
                        <a:pt x="35" y="37"/>
                      </a:lnTo>
                      <a:lnTo>
                        <a:pt x="35" y="41"/>
                      </a:lnTo>
                      <a:lnTo>
                        <a:pt x="35" y="43"/>
                      </a:lnTo>
                      <a:lnTo>
                        <a:pt x="35" y="47"/>
                      </a:lnTo>
                      <a:lnTo>
                        <a:pt x="35" y="49"/>
                      </a:lnTo>
                      <a:lnTo>
                        <a:pt x="35" y="53"/>
                      </a:lnTo>
                      <a:lnTo>
                        <a:pt x="35" y="55"/>
                      </a:lnTo>
                      <a:lnTo>
                        <a:pt x="35" y="57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7"/>
                      </a:lnTo>
                      <a:lnTo>
                        <a:pt x="35" y="69"/>
                      </a:lnTo>
                      <a:lnTo>
                        <a:pt x="35" y="72"/>
                      </a:lnTo>
                      <a:lnTo>
                        <a:pt x="35" y="75"/>
                      </a:lnTo>
                      <a:lnTo>
                        <a:pt x="35" y="77"/>
                      </a:lnTo>
                      <a:lnTo>
                        <a:pt x="35" y="80"/>
                      </a:lnTo>
                      <a:lnTo>
                        <a:pt x="35" y="82"/>
                      </a:lnTo>
                      <a:lnTo>
                        <a:pt x="35" y="86"/>
                      </a:lnTo>
                      <a:lnTo>
                        <a:pt x="35" y="88"/>
                      </a:lnTo>
                      <a:lnTo>
                        <a:pt x="36" y="9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Freeform 33"/>
                <p:cNvSpPr/>
                <p:nvPr/>
              </p:nvSpPr>
              <p:spPr>
                <a:xfrm>
                  <a:off x="1176120" y="2005200"/>
                  <a:ext cx="353880" cy="28116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667" h="531">
                      <a:moveTo>
                        <a:pt x="22" y="4"/>
                      </a:moveTo>
                      <a:lnTo>
                        <a:pt x="105" y="26"/>
                      </a:lnTo>
                      <a:lnTo>
                        <a:pt x="105" y="27"/>
                      </a:lnTo>
                      <a:lnTo>
                        <a:pt x="105" y="29"/>
                      </a:lnTo>
                      <a:lnTo>
                        <a:pt x="104" y="30"/>
                      </a:lnTo>
                      <a:lnTo>
                        <a:pt x="104" y="33"/>
                      </a:lnTo>
                      <a:lnTo>
                        <a:pt x="104" y="35"/>
                      </a:lnTo>
                      <a:lnTo>
                        <a:pt x="104" y="38"/>
                      </a:lnTo>
                      <a:lnTo>
                        <a:pt x="104" y="41"/>
                      </a:lnTo>
                      <a:lnTo>
                        <a:pt x="104" y="45"/>
                      </a:lnTo>
                      <a:lnTo>
                        <a:pt x="102" y="48"/>
                      </a:lnTo>
                      <a:lnTo>
                        <a:pt x="101" y="53"/>
                      </a:lnTo>
                      <a:lnTo>
                        <a:pt x="101" y="54"/>
                      </a:lnTo>
                      <a:lnTo>
                        <a:pt x="101" y="57"/>
                      </a:lnTo>
                      <a:lnTo>
                        <a:pt x="101" y="59"/>
                      </a:lnTo>
                      <a:lnTo>
                        <a:pt x="101" y="62"/>
                      </a:lnTo>
                      <a:lnTo>
                        <a:pt x="101" y="65"/>
                      </a:lnTo>
                      <a:lnTo>
                        <a:pt x="101" y="67"/>
                      </a:lnTo>
                      <a:lnTo>
                        <a:pt x="101" y="71"/>
                      </a:lnTo>
                      <a:lnTo>
                        <a:pt x="101" y="73"/>
                      </a:lnTo>
                      <a:lnTo>
                        <a:pt x="100" y="76"/>
                      </a:lnTo>
                      <a:lnTo>
                        <a:pt x="99" y="79"/>
                      </a:lnTo>
                      <a:lnTo>
                        <a:pt x="99" y="81"/>
                      </a:lnTo>
                      <a:lnTo>
                        <a:pt x="99" y="85"/>
                      </a:lnTo>
                      <a:lnTo>
                        <a:pt x="99" y="87"/>
                      </a:lnTo>
                      <a:lnTo>
                        <a:pt x="99" y="90"/>
                      </a:lnTo>
                      <a:lnTo>
                        <a:pt x="99" y="95"/>
                      </a:lnTo>
                      <a:lnTo>
                        <a:pt x="99" y="97"/>
                      </a:lnTo>
                      <a:lnTo>
                        <a:pt x="98" y="100"/>
                      </a:lnTo>
                      <a:lnTo>
                        <a:pt x="97" y="105"/>
                      </a:lnTo>
                      <a:lnTo>
                        <a:pt x="97" y="108"/>
                      </a:lnTo>
                      <a:lnTo>
                        <a:pt x="97" y="112"/>
                      </a:lnTo>
                      <a:lnTo>
                        <a:pt x="97" y="115"/>
                      </a:lnTo>
                      <a:lnTo>
                        <a:pt x="97" y="119"/>
                      </a:lnTo>
                      <a:lnTo>
                        <a:pt x="97" y="123"/>
                      </a:lnTo>
                      <a:lnTo>
                        <a:pt x="97" y="128"/>
                      </a:lnTo>
                      <a:lnTo>
                        <a:pt x="95" y="131"/>
                      </a:lnTo>
                      <a:lnTo>
                        <a:pt x="94" y="135"/>
                      </a:lnTo>
                      <a:lnTo>
                        <a:pt x="94" y="138"/>
                      </a:lnTo>
                      <a:lnTo>
                        <a:pt x="94" y="143"/>
                      </a:lnTo>
                      <a:lnTo>
                        <a:pt x="94" y="148"/>
                      </a:lnTo>
                      <a:lnTo>
                        <a:pt x="94" y="152"/>
                      </a:lnTo>
                      <a:lnTo>
                        <a:pt x="93" y="156"/>
                      </a:lnTo>
                      <a:lnTo>
                        <a:pt x="93" y="161"/>
                      </a:lnTo>
                      <a:lnTo>
                        <a:pt x="92" y="165"/>
                      </a:lnTo>
                      <a:lnTo>
                        <a:pt x="92" y="169"/>
                      </a:lnTo>
                      <a:lnTo>
                        <a:pt x="91" y="173"/>
                      </a:lnTo>
                      <a:lnTo>
                        <a:pt x="91" y="179"/>
                      </a:lnTo>
                      <a:lnTo>
                        <a:pt x="91" y="182"/>
                      </a:lnTo>
                      <a:lnTo>
                        <a:pt x="91" y="187"/>
                      </a:lnTo>
                      <a:lnTo>
                        <a:pt x="91" y="192"/>
                      </a:lnTo>
                      <a:lnTo>
                        <a:pt x="91" y="198"/>
                      </a:lnTo>
                      <a:lnTo>
                        <a:pt x="89" y="201"/>
                      </a:lnTo>
                      <a:lnTo>
                        <a:pt x="89" y="207"/>
                      </a:lnTo>
                      <a:lnTo>
                        <a:pt x="89" y="211"/>
                      </a:lnTo>
                      <a:lnTo>
                        <a:pt x="89" y="217"/>
                      </a:lnTo>
                      <a:lnTo>
                        <a:pt x="88" y="214"/>
                      </a:lnTo>
                      <a:lnTo>
                        <a:pt x="86" y="211"/>
                      </a:lnTo>
                      <a:lnTo>
                        <a:pt x="83" y="207"/>
                      </a:lnTo>
                      <a:lnTo>
                        <a:pt x="80" y="205"/>
                      </a:lnTo>
                      <a:lnTo>
                        <a:pt x="76" y="201"/>
                      </a:lnTo>
                      <a:lnTo>
                        <a:pt x="70" y="199"/>
                      </a:lnTo>
                      <a:lnTo>
                        <a:pt x="68" y="198"/>
                      </a:lnTo>
                      <a:lnTo>
                        <a:pt x="66" y="197"/>
                      </a:lnTo>
                      <a:lnTo>
                        <a:pt x="63" y="197"/>
                      </a:lnTo>
                      <a:lnTo>
                        <a:pt x="61" y="195"/>
                      </a:lnTo>
                      <a:lnTo>
                        <a:pt x="60" y="197"/>
                      </a:lnTo>
                      <a:lnTo>
                        <a:pt x="59" y="199"/>
                      </a:lnTo>
                      <a:lnTo>
                        <a:pt x="59" y="201"/>
                      </a:lnTo>
                      <a:lnTo>
                        <a:pt x="57" y="206"/>
                      </a:lnTo>
                      <a:lnTo>
                        <a:pt x="56" y="208"/>
                      </a:lnTo>
                      <a:lnTo>
                        <a:pt x="55" y="213"/>
                      </a:lnTo>
                      <a:lnTo>
                        <a:pt x="54" y="218"/>
                      </a:lnTo>
                      <a:lnTo>
                        <a:pt x="54" y="222"/>
                      </a:lnTo>
                      <a:lnTo>
                        <a:pt x="53" y="226"/>
                      </a:lnTo>
                      <a:lnTo>
                        <a:pt x="53" y="231"/>
                      </a:lnTo>
                      <a:lnTo>
                        <a:pt x="53" y="235"/>
                      </a:lnTo>
                      <a:lnTo>
                        <a:pt x="53" y="239"/>
                      </a:lnTo>
                      <a:lnTo>
                        <a:pt x="53" y="243"/>
                      </a:lnTo>
                      <a:lnTo>
                        <a:pt x="53" y="246"/>
                      </a:lnTo>
                      <a:lnTo>
                        <a:pt x="54" y="250"/>
                      </a:lnTo>
                      <a:lnTo>
                        <a:pt x="56" y="254"/>
                      </a:lnTo>
                      <a:lnTo>
                        <a:pt x="51" y="255"/>
                      </a:lnTo>
                      <a:lnTo>
                        <a:pt x="48" y="257"/>
                      </a:lnTo>
                      <a:lnTo>
                        <a:pt x="44" y="257"/>
                      </a:lnTo>
                      <a:lnTo>
                        <a:pt x="41" y="260"/>
                      </a:lnTo>
                      <a:lnTo>
                        <a:pt x="38" y="262"/>
                      </a:lnTo>
                      <a:lnTo>
                        <a:pt x="35" y="263"/>
                      </a:lnTo>
                      <a:lnTo>
                        <a:pt x="32" y="264"/>
                      </a:lnTo>
                      <a:lnTo>
                        <a:pt x="30" y="267"/>
                      </a:lnTo>
                      <a:lnTo>
                        <a:pt x="25" y="271"/>
                      </a:lnTo>
                      <a:lnTo>
                        <a:pt x="22" y="275"/>
                      </a:lnTo>
                      <a:lnTo>
                        <a:pt x="19" y="280"/>
                      </a:lnTo>
                      <a:lnTo>
                        <a:pt x="17" y="284"/>
                      </a:lnTo>
                      <a:lnTo>
                        <a:pt x="15" y="289"/>
                      </a:lnTo>
                      <a:lnTo>
                        <a:pt x="13" y="294"/>
                      </a:lnTo>
                      <a:lnTo>
                        <a:pt x="12" y="299"/>
                      </a:lnTo>
                      <a:lnTo>
                        <a:pt x="12" y="303"/>
                      </a:lnTo>
                      <a:lnTo>
                        <a:pt x="12" y="306"/>
                      </a:lnTo>
                      <a:lnTo>
                        <a:pt x="12" y="308"/>
                      </a:lnTo>
                      <a:lnTo>
                        <a:pt x="12" y="312"/>
                      </a:lnTo>
                      <a:lnTo>
                        <a:pt x="13" y="314"/>
                      </a:lnTo>
                      <a:lnTo>
                        <a:pt x="13" y="317"/>
                      </a:lnTo>
                      <a:lnTo>
                        <a:pt x="15" y="319"/>
                      </a:lnTo>
                      <a:lnTo>
                        <a:pt x="15" y="322"/>
                      </a:lnTo>
                      <a:lnTo>
                        <a:pt x="17" y="325"/>
                      </a:lnTo>
                      <a:lnTo>
                        <a:pt x="18" y="330"/>
                      </a:lnTo>
                      <a:lnTo>
                        <a:pt x="21" y="336"/>
                      </a:lnTo>
                      <a:lnTo>
                        <a:pt x="21" y="338"/>
                      </a:lnTo>
                      <a:lnTo>
                        <a:pt x="23" y="340"/>
                      </a:lnTo>
                      <a:lnTo>
                        <a:pt x="24" y="343"/>
                      </a:lnTo>
                      <a:lnTo>
                        <a:pt x="25" y="345"/>
                      </a:lnTo>
                      <a:lnTo>
                        <a:pt x="28" y="351"/>
                      </a:lnTo>
                      <a:lnTo>
                        <a:pt x="31" y="356"/>
                      </a:lnTo>
                      <a:lnTo>
                        <a:pt x="32" y="358"/>
                      </a:lnTo>
                      <a:lnTo>
                        <a:pt x="35" y="360"/>
                      </a:lnTo>
                      <a:lnTo>
                        <a:pt x="36" y="364"/>
                      </a:lnTo>
                      <a:lnTo>
                        <a:pt x="38" y="368"/>
                      </a:lnTo>
                      <a:lnTo>
                        <a:pt x="42" y="372"/>
                      </a:lnTo>
                      <a:lnTo>
                        <a:pt x="45" y="376"/>
                      </a:lnTo>
                      <a:lnTo>
                        <a:pt x="49" y="381"/>
                      </a:lnTo>
                      <a:lnTo>
                        <a:pt x="53" y="387"/>
                      </a:lnTo>
                      <a:lnTo>
                        <a:pt x="56" y="391"/>
                      </a:lnTo>
                      <a:lnTo>
                        <a:pt x="60" y="396"/>
                      </a:lnTo>
                      <a:lnTo>
                        <a:pt x="63" y="400"/>
                      </a:lnTo>
                      <a:lnTo>
                        <a:pt x="67" y="404"/>
                      </a:lnTo>
                      <a:lnTo>
                        <a:pt x="68" y="401"/>
                      </a:lnTo>
                      <a:lnTo>
                        <a:pt x="70" y="396"/>
                      </a:lnTo>
                      <a:lnTo>
                        <a:pt x="73" y="394"/>
                      </a:lnTo>
                      <a:lnTo>
                        <a:pt x="74" y="391"/>
                      </a:lnTo>
                      <a:lnTo>
                        <a:pt x="76" y="388"/>
                      </a:lnTo>
                      <a:lnTo>
                        <a:pt x="78" y="384"/>
                      </a:lnTo>
                      <a:lnTo>
                        <a:pt x="79" y="381"/>
                      </a:lnTo>
                      <a:lnTo>
                        <a:pt x="81" y="378"/>
                      </a:lnTo>
                      <a:lnTo>
                        <a:pt x="81" y="374"/>
                      </a:lnTo>
                      <a:lnTo>
                        <a:pt x="83" y="371"/>
                      </a:lnTo>
                      <a:lnTo>
                        <a:pt x="86" y="366"/>
                      </a:lnTo>
                      <a:lnTo>
                        <a:pt x="87" y="363"/>
                      </a:lnTo>
                      <a:lnTo>
                        <a:pt x="88" y="358"/>
                      </a:lnTo>
                      <a:lnTo>
                        <a:pt x="91" y="356"/>
                      </a:lnTo>
                      <a:lnTo>
                        <a:pt x="91" y="359"/>
                      </a:lnTo>
                      <a:lnTo>
                        <a:pt x="91" y="363"/>
                      </a:lnTo>
                      <a:lnTo>
                        <a:pt x="91" y="366"/>
                      </a:lnTo>
                      <a:lnTo>
                        <a:pt x="91" y="370"/>
                      </a:lnTo>
                      <a:lnTo>
                        <a:pt x="91" y="374"/>
                      </a:lnTo>
                      <a:lnTo>
                        <a:pt x="91" y="376"/>
                      </a:lnTo>
                      <a:lnTo>
                        <a:pt x="92" y="379"/>
                      </a:lnTo>
                      <a:lnTo>
                        <a:pt x="92" y="383"/>
                      </a:lnTo>
                      <a:lnTo>
                        <a:pt x="92" y="387"/>
                      </a:lnTo>
                      <a:lnTo>
                        <a:pt x="93" y="389"/>
                      </a:lnTo>
                      <a:lnTo>
                        <a:pt x="94" y="391"/>
                      </a:lnTo>
                      <a:lnTo>
                        <a:pt x="94" y="396"/>
                      </a:lnTo>
                      <a:lnTo>
                        <a:pt x="94" y="398"/>
                      </a:lnTo>
                      <a:lnTo>
                        <a:pt x="94" y="401"/>
                      </a:lnTo>
                      <a:lnTo>
                        <a:pt x="94" y="404"/>
                      </a:lnTo>
                      <a:lnTo>
                        <a:pt x="95" y="407"/>
                      </a:lnTo>
                      <a:lnTo>
                        <a:pt x="92" y="408"/>
                      </a:lnTo>
                      <a:lnTo>
                        <a:pt x="88" y="409"/>
                      </a:lnTo>
                      <a:lnTo>
                        <a:pt x="83" y="411"/>
                      </a:lnTo>
                      <a:lnTo>
                        <a:pt x="81" y="414"/>
                      </a:lnTo>
                      <a:lnTo>
                        <a:pt x="76" y="416"/>
                      </a:lnTo>
                      <a:lnTo>
                        <a:pt x="70" y="419"/>
                      </a:lnTo>
                      <a:lnTo>
                        <a:pt x="66" y="421"/>
                      </a:lnTo>
                      <a:lnTo>
                        <a:pt x="62" y="425"/>
                      </a:lnTo>
                      <a:lnTo>
                        <a:pt x="57" y="427"/>
                      </a:lnTo>
                      <a:lnTo>
                        <a:pt x="53" y="429"/>
                      </a:lnTo>
                      <a:lnTo>
                        <a:pt x="48" y="432"/>
                      </a:lnTo>
                      <a:lnTo>
                        <a:pt x="44" y="435"/>
                      </a:lnTo>
                      <a:lnTo>
                        <a:pt x="40" y="438"/>
                      </a:lnTo>
                      <a:lnTo>
                        <a:pt x="37" y="440"/>
                      </a:lnTo>
                      <a:lnTo>
                        <a:pt x="34" y="442"/>
                      </a:lnTo>
                      <a:lnTo>
                        <a:pt x="32" y="445"/>
                      </a:lnTo>
                      <a:lnTo>
                        <a:pt x="36" y="445"/>
                      </a:lnTo>
                      <a:lnTo>
                        <a:pt x="41" y="445"/>
                      </a:lnTo>
                      <a:lnTo>
                        <a:pt x="44" y="445"/>
                      </a:lnTo>
                      <a:lnTo>
                        <a:pt x="48" y="445"/>
                      </a:lnTo>
                      <a:lnTo>
                        <a:pt x="53" y="445"/>
                      </a:lnTo>
                      <a:lnTo>
                        <a:pt x="56" y="445"/>
                      </a:lnTo>
                      <a:lnTo>
                        <a:pt x="61" y="445"/>
                      </a:lnTo>
                      <a:lnTo>
                        <a:pt x="66" y="445"/>
                      </a:lnTo>
                      <a:lnTo>
                        <a:pt x="66" y="447"/>
                      </a:lnTo>
                      <a:lnTo>
                        <a:pt x="68" y="449"/>
                      </a:lnTo>
                      <a:lnTo>
                        <a:pt x="69" y="452"/>
                      </a:lnTo>
                      <a:lnTo>
                        <a:pt x="70" y="454"/>
                      </a:lnTo>
                      <a:lnTo>
                        <a:pt x="74" y="457"/>
                      </a:lnTo>
                      <a:lnTo>
                        <a:pt x="78" y="460"/>
                      </a:lnTo>
                      <a:lnTo>
                        <a:pt x="81" y="461"/>
                      </a:lnTo>
                      <a:lnTo>
                        <a:pt x="85" y="463"/>
                      </a:lnTo>
                      <a:lnTo>
                        <a:pt x="88" y="463"/>
                      </a:lnTo>
                      <a:lnTo>
                        <a:pt x="92" y="463"/>
                      </a:lnTo>
                      <a:lnTo>
                        <a:pt x="94" y="461"/>
                      </a:lnTo>
                      <a:lnTo>
                        <a:pt x="99" y="459"/>
                      </a:lnTo>
                      <a:lnTo>
                        <a:pt x="101" y="458"/>
                      </a:lnTo>
                      <a:lnTo>
                        <a:pt x="104" y="455"/>
                      </a:lnTo>
                      <a:lnTo>
                        <a:pt x="107" y="452"/>
                      </a:lnTo>
                      <a:lnTo>
                        <a:pt x="110" y="449"/>
                      </a:lnTo>
                      <a:lnTo>
                        <a:pt x="112" y="446"/>
                      </a:lnTo>
                      <a:lnTo>
                        <a:pt x="114" y="442"/>
                      </a:lnTo>
                      <a:lnTo>
                        <a:pt x="117" y="442"/>
                      </a:lnTo>
                      <a:lnTo>
                        <a:pt x="121" y="444"/>
                      </a:lnTo>
                      <a:lnTo>
                        <a:pt x="125" y="445"/>
                      </a:lnTo>
                      <a:lnTo>
                        <a:pt x="130" y="446"/>
                      </a:lnTo>
                      <a:lnTo>
                        <a:pt x="133" y="446"/>
                      </a:lnTo>
                      <a:lnTo>
                        <a:pt x="138" y="446"/>
                      </a:lnTo>
                      <a:lnTo>
                        <a:pt x="142" y="446"/>
                      </a:lnTo>
                      <a:lnTo>
                        <a:pt x="146" y="447"/>
                      </a:lnTo>
                      <a:lnTo>
                        <a:pt x="149" y="446"/>
                      </a:lnTo>
                      <a:lnTo>
                        <a:pt x="152" y="446"/>
                      </a:lnTo>
                      <a:lnTo>
                        <a:pt x="156" y="446"/>
                      </a:lnTo>
                      <a:lnTo>
                        <a:pt x="158" y="446"/>
                      </a:lnTo>
                      <a:lnTo>
                        <a:pt x="162" y="446"/>
                      </a:lnTo>
                      <a:lnTo>
                        <a:pt x="164" y="446"/>
                      </a:lnTo>
                      <a:lnTo>
                        <a:pt x="175" y="446"/>
                      </a:lnTo>
                      <a:lnTo>
                        <a:pt x="184" y="447"/>
                      </a:lnTo>
                      <a:lnTo>
                        <a:pt x="195" y="447"/>
                      </a:lnTo>
                      <a:lnTo>
                        <a:pt x="204" y="447"/>
                      </a:lnTo>
                      <a:lnTo>
                        <a:pt x="215" y="447"/>
                      </a:lnTo>
                      <a:lnTo>
                        <a:pt x="225" y="447"/>
                      </a:lnTo>
                      <a:lnTo>
                        <a:pt x="235" y="447"/>
                      </a:lnTo>
                      <a:lnTo>
                        <a:pt x="246" y="447"/>
                      </a:lnTo>
                      <a:lnTo>
                        <a:pt x="255" y="447"/>
                      </a:lnTo>
                      <a:lnTo>
                        <a:pt x="265" y="447"/>
                      </a:lnTo>
                      <a:lnTo>
                        <a:pt x="274" y="447"/>
                      </a:lnTo>
                      <a:lnTo>
                        <a:pt x="285" y="447"/>
                      </a:lnTo>
                      <a:lnTo>
                        <a:pt x="293" y="447"/>
                      </a:lnTo>
                      <a:lnTo>
                        <a:pt x="304" y="447"/>
                      </a:lnTo>
                      <a:lnTo>
                        <a:pt x="314" y="447"/>
                      </a:lnTo>
                      <a:lnTo>
                        <a:pt x="323" y="447"/>
                      </a:lnTo>
                      <a:lnTo>
                        <a:pt x="331" y="447"/>
                      </a:lnTo>
                      <a:lnTo>
                        <a:pt x="341" y="446"/>
                      </a:lnTo>
                      <a:lnTo>
                        <a:pt x="349" y="446"/>
                      </a:lnTo>
                      <a:lnTo>
                        <a:pt x="359" y="446"/>
                      </a:lnTo>
                      <a:lnTo>
                        <a:pt x="367" y="445"/>
                      </a:lnTo>
                      <a:lnTo>
                        <a:pt x="377" y="445"/>
                      </a:lnTo>
                      <a:lnTo>
                        <a:pt x="385" y="445"/>
                      </a:lnTo>
                      <a:lnTo>
                        <a:pt x="393" y="445"/>
                      </a:lnTo>
                      <a:lnTo>
                        <a:pt x="401" y="445"/>
                      </a:lnTo>
                      <a:lnTo>
                        <a:pt x="410" y="444"/>
                      </a:lnTo>
                      <a:lnTo>
                        <a:pt x="417" y="444"/>
                      </a:lnTo>
                      <a:lnTo>
                        <a:pt x="425" y="444"/>
                      </a:lnTo>
                      <a:lnTo>
                        <a:pt x="432" y="442"/>
                      </a:lnTo>
                      <a:lnTo>
                        <a:pt x="441" y="442"/>
                      </a:lnTo>
                      <a:lnTo>
                        <a:pt x="448" y="442"/>
                      </a:lnTo>
                      <a:lnTo>
                        <a:pt x="455" y="442"/>
                      </a:lnTo>
                      <a:lnTo>
                        <a:pt x="462" y="441"/>
                      </a:lnTo>
                      <a:lnTo>
                        <a:pt x="468" y="441"/>
                      </a:lnTo>
                      <a:lnTo>
                        <a:pt x="475" y="440"/>
                      </a:lnTo>
                      <a:lnTo>
                        <a:pt x="482" y="440"/>
                      </a:lnTo>
                      <a:lnTo>
                        <a:pt x="488" y="439"/>
                      </a:lnTo>
                      <a:lnTo>
                        <a:pt x="494" y="439"/>
                      </a:lnTo>
                      <a:lnTo>
                        <a:pt x="500" y="439"/>
                      </a:lnTo>
                      <a:lnTo>
                        <a:pt x="506" y="439"/>
                      </a:lnTo>
                      <a:lnTo>
                        <a:pt x="512" y="438"/>
                      </a:lnTo>
                      <a:lnTo>
                        <a:pt x="517" y="438"/>
                      </a:lnTo>
                      <a:lnTo>
                        <a:pt x="521" y="436"/>
                      </a:lnTo>
                      <a:lnTo>
                        <a:pt x="526" y="436"/>
                      </a:lnTo>
                      <a:lnTo>
                        <a:pt x="532" y="436"/>
                      </a:lnTo>
                      <a:lnTo>
                        <a:pt x="537" y="436"/>
                      </a:lnTo>
                      <a:lnTo>
                        <a:pt x="540" y="435"/>
                      </a:lnTo>
                      <a:lnTo>
                        <a:pt x="545" y="435"/>
                      </a:lnTo>
                      <a:lnTo>
                        <a:pt x="549" y="435"/>
                      </a:lnTo>
                      <a:lnTo>
                        <a:pt x="552" y="434"/>
                      </a:lnTo>
                      <a:lnTo>
                        <a:pt x="556" y="434"/>
                      </a:lnTo>
                      <a:lnTo>
                        <a:pt x="559" y="434"/>
                      </a:lnTo>
                      <a:lnTo>
                        <a:pt x="562" y="434"/>
                      </a:lnTo>
                      <a:lnTo>
                        <a:pt x="564" y="433"/>
                      </a:lnTo>
                      <a:lnTo>
                        <a:pt x="566" y="433"/>
                      </a:lnTo>
                      <a:lnTo>
                        <a:pt x="570" y="433"/>
                      </a:lnTo>
                      <a:lnTo>
                        <a:pt x="572" y="433"/>
                      </a:lnTo>
                      <a:lnTo>
                        <a:pt x="576" y="433"/>
                      </a:lnTo>
                      <a:lnTo>
                        <a:pt x="577" y="433"/>
                      </a:lnTo>
                      <a:lnTo>
                        <a:pt x="578" y="433"/>
                      </a:lnTo>
                      <a:lnTo>
                        <a:pt x="578" y="432"/>
                      </a:lnTo>
                      <a:lnTo>
                        <a:pt x="578" y="428"/>
                      </a:lnTo>
                      <a:lnTo>
                        <a:pt x="578" y="425"/>
                      </a:lnTo>
                      <a:lnTo>
                        <a:pt x="578" y="422"/>
                      </a:lnTo>
                      <a:lnTo>
                        <a:pt x="578" y="419"/>
                      </a:lnTo>
                      <a:lnTo>
                        <a:pt x="578" y="415"/>
                      </a:lnTo>
                      <a:lnTo>
                        <a:pt x="578" y="410"/>
                      </a:lnTo>
                      <a:lnTo>
                        <a:pt x="578" y="406"/>
                      </a:lnTo>
                      <a:lnTo>
                        <a:pt x="578" y="402"/>
                      </a:lnTo>
                      <a:lnTo>
                        <a:pt x="578" y="400"/>
                      </a:lnTo>
                      <a:lnTo>
                        <a:pt x="578" y="397"/>
                      </a:lnTo>
                      <a:lnTo>
                        <a:pt x="578" y="395"/>
                      </a:lnTo>
                      <a:lnTo>
                        <a:pt x="578" y="391"/>
                      </a:lnTo>
                      <a:lnTo>
                        <a:pt x="578" y="389"/>
                      </a:lnTo>
                      <a:lnTo>
                        <a:pt x="578" y="385"/>
                      </a:lnTo>
                      <a:lnTo>
                        <a:pt x="578" y="383"/>
                      </a:lnTo>
                      <a:lnTo>
                        <a:pt x="578" y="378"/>
                      </a:lnTo>
                      <a:lnTo>
                        <a:pt x="578" y="376"/>
                      </a:lnTo>
                      <a:lnTo>
                        <a:pt x="578" y="372"/>
                      </a:lnTo>
                      <a:lnTo>
                        <a:pt x="579" y="369"/>
                      </a:lnTo>
                      <a:lnTo>
                        <a:pt x="578" y="364"/>
                      </a:lnTo>
                      <a:lnTo>
                        <a:pt x="578" y="360"/>
                      </a:lnTo>
                      <a:lnTo>
                        <a:pt x="578" y="357"/>
                      </a:lnTo>
                      <a:lnTo>
                        <a:pt x="578" y="353"/>
                      </a:lnTo>
                      <a:lnTo>
                        <a:pt x="578" y="349"/>
                      </a:lnTo>
                      <a:lnTo>
                        <a:pt x="578" y="344"/>
                      </a:lnTo>
                      <a:lnTo>
                        <a:pt x="578" y="340"/>
                      </a:lnTo>
                      <a:lnTo>
                        <a:pt x="578" y="336"/>
                      </a:lnTo>
                      <a:lnTo>
                        <a:pt x="578" y="331"/>
                      </a:lnTo>
                      <a:lnTo>
                        <a:pt x="578" y="327"/>
                      </a:lnTo>
                      <a:lnTo>
                        <a:pt x="578" y="322"/>
                      </a:lnTo>
                      <a:lnTo>
                        <a:pt x="578" y="318"/>
                      </a:lnTo>
                      <a:lnTo>
                        <a:pt x="578" y="313"/>
                      </a:lnTo>
                      <a:lnTo>
                        <a:pt x="578" y="308"/>
                      </a:lnTo>
                      <a:lnTo>
                        <a:pt x="578" y="303"/>
                      </a:lnTo>
                      <a:lnTo>
                        <a:pt x="578" y="300"/>
                      </a:lnTo>
                      <a:lnTo>
                        <a:pt x="578" y="294"/>
                      </a:lnTo>
                      <a:lnTo>
                        <a:pt x="578" y="290"/>
                      </a:lnTo>
                      <a:lnTo>
                        <a:pt x="578" y="284"/>
                      </a:lnTo>
                      <a:lnTo>
                        <a:pt x="578" y="280"/>
                      </a:lnTo>
                      <a:lnTo>
                        <a:pt x="578" y="275"/>
                      </a:lnTo>
                      <a:lnTo>
                        <a:pt x="578" y="269"/>
                      </a:lnTo>
                      <a:lnTo>
                        <a:pt x="578" y="264"/>
                      </a:lnTo>
                      <a:lnTo>
                        <a:pt x="578" y="260"/>
                      </a:lnTo>
                      <a:lnTo>
                        <a:pt x="578" y="254"/>
                      </a:lnTo>
                      <a:lnTo>
                        <a:pt x="578" y="249"/>
                      </a:lnTo>
                      <a:lnTo>
                        <a:pt x="578" y="243"/>
                      </a:lnTo>
                      <a:lnTo>
                        <a:pt x="578" y="237"/>
                      </a:lnTo>
                      <a:lnTo>
                        <a:pt x="578" y="232"/>
                      </a:lnTo>
                      <a:lnTo>
                        <a:pt x="578" y="226"/>
                      </a:lnTo>
                      <a:lnTo>
                        <a:pt x="578" y="222"/>
                      </a:lnTo>
                      <a:lnTo>
                        <a:pt x="578" y="217"/>
                      </a:lnTo>
                      <a:lnTo>
                        <a:pt x="578" y="211"/>
                      </a:lnTo>
                      <a:lnTo>
                        <a:pt x="578" y="205"/>
                      </a:lnTo>
                      <a:lnTo>
                        <a:pt x="577" y="200"/>
                      </a:lnTo>
                      <a:lnTo>
                        <a:pt x="577" y="195"/>
                      </a:lnTo>
                      <a:lnTo>
                        <a:pt x="577" y="190"/>
                      </a:lnTo>
                      <a:lnTo>
                        <a:pt x="577" y="185"/>
                      </a:lnTo>
                      <a:lnTo>
                        <a:pt x="577" y="180"/>
                      </a:lnTo>
                      <a:lnTo>
                        <a:pt x="577" y="176"/>
                      </a:lnTo>
                      <a:lnTo>
                        <a:pt x="576" y="171"/>
                      </a:lnTo>
                      <a:lnTo>
                        <a:pt x="576" y="166"/>
                      </a:lnTo>
                      <a:lnTo>
                        <a:pt x="575" y="162"/>
                      </a:lnTo>
                      <a:lnTo>
                        <a:pt x="575" y="159"/>
                      </a:lnTo>
                      <a:lnTo>
                        <a:pt x="575" y="154"/>
                      </a:lnTo>
                      <a:lnTo>
                        <a:pt x="575" y="150"/>
                      </a:lnTo>
                      <a:lnTo>
                        <a:pt x="575" y="146"/>
                      </a:lnTo>
                      <a:lnTo>
                        <a:pt x="575" y="143"/>
                      </a:lnTo>
                      <a:lnTo>
                        <a:pt x="573" y="138"/>
                      </a:lnTo>
                      <a:lnTo>
                        <a:pt x="573" y="135"/>
                      </a:lnTo>
                      <a:lnTo>
                        <a:pt x="572" y="131"/>
                      </a:lnTo>
                      <a:lnTo>
                        <a:pt x="572" y="128"/>
                      </a:lnTo>
                      <a:lnTo>
                        <a:pt x="571" y="125"/>
                      </a:lnTo>
                      <a:lnTo>
                        <a:pt x="571" y="122"/>
                      </a:lnTo>
                      <a:lnTo>
                        <a:pt x="570" y="118"/>
                      </a:lnTo>
                      <a:lnTo>
                        <a:pt x="570" y="116"/>
                      </a:lnTo>
                      <a:lnTo>
                        <a:pt x="570" y="112"/>
                      </a:lnTo>
                      <a:lnTo>
                        <a:pt x="570" y="110"/>
                      </a:lnTo>
                      <a:lnTo>
                        <a:pt x="569" y="108"/>
                      </a:lnTo>
                      <a:lnTo>
                        <a:pt x="569" y="105"/>
                      </a:lnTo>
                      <a:lnTo>
                        <a:pt x="568" y="100"/>
                      </a:lnTo>
                      <a:lnTo>
                        <a:pt x="566" y="95"/>
                      </a:lnTo>
                      <a:lnTo>
                        <a:pt x="565" y="90"/>
                      </a:lnTo>
                      <a:lnTo>
                        <a:pt x="565" y="87"/>
                      </a:lnTo>
                      <a:lnTo>
                        <a:pt x="564" y="83"/>
                      </a:lnTo>
                      <a:lnTo>
                        <a:pt x="563" y="79"/>
                      </a:lnTo>
                      <a:lnTo>
                        <a:pt x="562" y="77"/>
                      </a:lnTo>
                      <a:lnTo>
                        <a:pt x="562" y="74"/>
                      </a:lnTo>
                      <a:lnTo>
                        <a:pt x="560" y="71"/>
                      </a:lnTo>
                      <a:lnTo>
                        <a:pt x="560" y="70"/>
                      </a:lnTo>
                      <a:lnTo>
                        <a:pt x="559" y="66"/>
                      </a:lnTo>
                      <a:lnTo>
                        <a:pt x="558" y="64"/>
                      </a:lnTo>
                      <a:lnTo>
                        <a:pt x="557" y="62"/>
                      </a:lnTo>
                      <a:lnTo>
                        <a:pt x="626" y="0"/>
                      </a:lnTo>
                      <a:lnTo>
                        <a:pt x="628" y="3"/>
                      </a:lnTo>
                      <a:lnTo>
                        <a:pt x="633" y="8"/>
                      </a:lnTo>
                      <a:lnTo>
                        <a:pt x="634" y="10"/>
                      </a:lnTo>
                      <a:lnTo>
                        <a:pt x="635" y="13"/>
                      </a:lnTo>
                      <a:lnTo>
                        <a:pt x="638" y="16"/>
                      </a:lnTo>
                      <a:lnTo>
                        <a:pt x="640" y="19"/>
                      </a:lnTo>
                      <a:lnTo>
                        <a:pt x="640" y="21"/>
                      </a:lnTo>
                      <a:lnTo>
                        <a:pt x="642" y="24"/>
                      </a:lnTo>
                      <a:lnTo>
                        <a:pt x="643" y="28"/>
                      </a:lnTo>
                      <a:lnTo>
                        <a:pt x="646" y="32"/>
                      </a:lnTo>
                      <a:lnTo>
                        <a:pt x="646" y="34"/>
                      </a:lnTo>
                      <a:lnTo>
                        <a:pt x="648" y="39"/>
                      </a:lnTo>
                      <a:lnTo>
                        <a:pt x="648" y="41"/>
                      </a:lnTo>
                      <a:lnTo>
                        <a:pt x="651" y="46"/>
                      </a:lnTo>
                      <a:lnTo>
                        <a:pt x="651" y="49"/>
                      </a:lnTo>
                      <a:lnTo>
                        <a:pt x="652" y="53"/>
                      </a:lnTo>
                      <a:lnTo>
                        <a:pt x="653" y="58"/>
                      </a:lnTo>
                      <a:lnTo>
                        <a:pt x="653" y="62"/>
                      </a:lnTo>
                      <a:lnTo>
                        <a:pt x="654" y="66"/>
                      </a:lnTo>
                      <a:lnTo>
                        <a:pt x="655" y="71"/>
                      </a:lnTo>
                      <a:lnTo>
                        <a:pt x="655" y="74"/>
                      </a:lnTo>
                      <a:lnTo>
                        <a:pt x="657" y="79"/>
                      </a:lnTo>
                      <a:lnTo>
                        <a:pt x="658" y="83"/>
                      </a:lnTo>
                      <a:lnTo>
                        <a:pt x="658" y="87"/>
                      </a:lnTo>
                      <a:lnTo>
                        <a:pt x="658" y="92"/>
                      </a:lnTo>
                      <a:lnTo>
                        <a:pt x="659" y="97"/>
                      </a:lnTo>
                      <a:lnTo>
                        <a:pt x="660" y="100"/>
                      </a:lnTo>
                      <a:lnTo>
                        <a:pt x="660" y="105"/>
                      </a:lnTo>
                      <a:lnTo>
                        <a:pt x="660" y="110"/>
                      </a:lnTo>
                      <a:lnTo>
                        <a:pt x="661" y="115"/>
                      </a:lnTo>
                      <a:lnTo>
                        <a:pt x="661" y="121"/>
                      </a:lnTo>
                      <a:lnTo>
                        <a:pt x="662" y="124"/>
                      </a:lnTo>
                      <a:lnTo>
                        <a:pt x="662" y="129"/>
                      </a:lnTo>
                      <a:lnTo>
                        <a:pt x="662" y="134"/>
                      </a:lnTo>
                      <a:lnTo>
                        <a:pt x="662" y="138"/>
                      </a:lnTo>
                      <a:lnTo>
                        <a:pt x="664" y="142"/>
                      </a:lnTo>
                      <a:lnTo>
                        <a:pt x="664" y="147"/>
                      </a:lnTo>
                      <a:lnTo>
                        <a:pt x="664" y="152"/>
                      </a:lnTo>
                      <a:lnTo>
                        <a:pt x="664" y="156"/>
                      </a:lnTo>
                      <a:lnTo>
                        <a:pt x="664" y="161"/>
                      </a:lnTo>
                      <a:lnTo>
                        <a:pt x="664" y="165"/>
                      </a:lnTo>
                      <a:lnTo>
                        <a:pt x="664" y="169"/>
                      </a:lnTo>
                      <a:lnTo>
                        <a:pt x="664" y="173"/>
                      </a:lnTo>
                      <a:lnTo>
                        <a:pt x="664" y="178"/>
                      </a:lnTo>
                      <a:lnTo>
                        <a:pt x="664" y="182"/>
                      </a:lnTo>
                      <a:lnTo>
                        <a:pt x="665" y="186"/>
                      </a:lnTo>
                      <a:lnTo>
                        <a:pt x="665" y="191"/>
                      </a:lnTo>
                      <a:lnTo>
                        <a:pt x="665" y="193"/>
                      </a:lnTo>
                      <a:lnTo>
                        <a:pt x="665" y="198"/>
                      </a:lnTo>
                      <a:lnTo>
                        <a:pt x="665" y="201"/>
                      </a:lnTo>
                      <a:lnTo>
                        <a:pt x="665" y="205"/>
                      </a:lnTo>
                      <a:lnTo>
                        <a:pt x="665" y="208"/>
                      </a:lnTo>
                      <a:lnTo>
                        <a:pt x="665" y="212"/>
                      </a:lnTo>
                      <a:lnTo>
                        <a:pt x="665" y="217"/>
                      </a:lnTo>
                      <a:lnTo>
                        <a:pt x="665" y="219"/>
                      </a:lnTo>
                      <a:lnTo>
                        <a:pt x="665" y="222"/>
                      </a:lnTo>
                      <a:lnTo>
                        <a:pt x="665" y="224"/>
                      </a:lnTo>
                      <a:lnTo>
                        <a:pt x="666" y="229"/>
                      </a:lnTo>
                      <a:lnTo>
                        <a:pt x="666" y="231"/>
                      </a:lnTo>
                      <a:lnTo>
                        <a:pt x="666" y="233"/>
                      </a:lnTo>
                      <a:lnTo>
                        <a:pt x="666" y="236"/>
                      </a:lnTo>
                      <a:lnTo>
                        <a:pt x="666" y="239"/>
                      </a:lnTo>
                      <a:lnTo>
                        <a:pt x="666" y="241"/>
                      </a:lnTo>
                      <a:lnTo>
                        <a:pt x="666" y="243"/>
                      </a:lnTo>
                      <a:lnTo>
                        <a:pt x="666" y="246"/>
                      </a:lnTo>
                      <a:lnTo>
                        <a:pt x="666" y="249"/>
                      </a:lnTo>
                      <a:lnTo>
                        <a:pt x="666" y="252"/>
                      </a:lnTo>
                      <a:lnTo>
                        <a:pt x="666" y="256"/>
                      </a:lnTo>
                      <a:lnTo>
                        <a:pt x="666" y="260"/>
                      </a:lnTo>
                      <a:lnTo>
                        <a:pt x="666" y="264"/>
                      </a:lnTo>
                      <a:lnTo>
                        <a:pt x="666" y="267"/>
                      </a:lnTo>
                      <a:lnTo>
                        <a:pt x="666" y="273"/>
                      </a:lnTo>
                      <a:lnTo>
                        <a:pt x="666" y="276"/>
                      </a:lnTo>
                      <a:lnTo>
                        <a:pt x="666" y="281"/>
                      </a:lnTo>
                      <a:lnTo>
                        <a:pt x="666" y="284"/>
                      </a:lnTo>
                      <a:lnTo>
                        <a:pt x="666" y="290"/>
                      </a:lnTo>
                      <a:lnTo>
                        <a:pt x="666" y="295"/>
                      </a:lnTo>
                      <a:lnTo>
                        <a:pt x="667" y="301"/>
                      </a:lnTo>
                      <a:lnTo>
                        <a:pt x="666" y="306"/>
                      </a:lnTo>
                      <a:lnTo>
                        <a:pt x="666" y="311"/>
                      </a:lnTo>
                      <a:lnTo>
                        <a:pt x="666" y="317"/>
                      </a:lnTo>
                      <a:lnTo>
                        <a:pt x="666" y="322"/>
                      </a:lnTo>
                      <a:lnTo>
                        <a:pt x="666" y="328"/>
                      </a:lnTo>
                      <a:lnTo>
                        <a:pt x="666" y="334"/>
                      </a:lnTo>
                      <a:lnTo>
                        <a:pt x="666" y="340"/>
                      </a:lnTo>
                      <a:lnTo>
                        <a:pt x="666" y="345"/>
                      </a:lnTo>
                      <a:lnTo>
                        <a:pt x="666" y="351"/>
                      </a:lnTo>
                      <a:lnTo>
                        <a:pt x="666" y="357"/>
                      </a:lnTo>
                      <a:lnTo>
                        <a:pt x="666" y="363"/>
                      </a:lnTo>
                      <a:lnTo>
                        <a:pt x="666" y="370"/>
                      </a:lnTo>
                      <a:lnTo>
                        <a:pt x="666" y="376"/>
                      </a:lnTo>
                      <a:lnTo>
                        <a:pt x="666" y="381"/>
                      </a:lnTo>
                      <a:lnTo>
                        <a:pt x="666" y="387"/>
                      </a:lnTo>
                      <a:lnTo>
                        <a:pt x="666" y="394"/>
                      </a:lnTo>
                      <a:lnTo>
                        <a:pt x="665" y="398"/>
                      </a:lnTo>
                      <a:lnTo>
                        <a:pt x="665" y="404"/>
                      </a:lnTo>
                      <a:lnTo>
                        <a:pt x="665" y="411"/>
                      </a:lnTo>
                      <a:lnTo>
                        <a:pt x="665" y="416"/>
                      </a:lnTo>
                      <a:lnTo>
                        <a:pt x="665" y="421"/>
                      </a:lnTo>
                      <a:lnTo>
                        <a:pt x="665" y="427"/>
                      </a:lnTo>
                      <a:lnTo>
                        <a:pt x="665" y="433"/>
                      </a:lnTo>
                      <a:lnTo>
                        <a:pt x="665" y="439"/>
                      </a:lnTo>
                      <a:lnTo>
                        <a:pt x="664" y="444"/>
                      </a:lnTo>
                      <a:lnTo>
                        <a:pt x="664" y="448"/>
                      </a:lnTo>
                      <a:lnTo>
                        <a:pt x="664" y="453"/>
                      </a:lnTo>
                      <a:lnTo>
                        <a:pt x="664" y="459"/>
                      </a:lnTo>
                      <a:lnTo>
                        <a:pt x="664" y="464"/>
                      </a:lnTo>
                      <a:lnTo>
                        <a:pt x="664" y="468"/>
                      </a:lnTo>
                      <a:lnTo>
                        <a:pt x="664" y="472"/>
                      </a:lnTo>
                      <a:lnTo>
                        <a:pt x="664" y="477"/>
                      </a:lnTo>
                      <a:lnTo>
                        <a:pt x="664" y="482"/>
                      </a:lnTo>
                      <a:lnTo>
                        <a:pt x="664" y="485"/>
                      </a:lnTo>
                      <a:lnTo>
                        <a:pt x="664" y="489"/>
                      </a:lnTo>
                      <a:lnTo>
                        <a:pt x="664" y="492"/>
                      </a:lnTo>
                      <a:lnTo>
                        <a:pt x="664" y="495"/>
                      </a:lnTo>
                      <a:lnTo>
                        <a:pt x="664" y="498"/>
                      </a:lnTo>
                      <a:lnTo>
                        <a:pt x="664" y="501"/>
                      </a:lnTo>
                      <a:lnTo>
                        <a:pt x="664" y="504"/>
                      </a:lnTo>
                      <a:lnTo>
                        <a:pt x="664" y="508"/>
                      </a:lnTo>
                      <a:lnTo>
                        <a:pt x="664" y="510"/>
                      </a:lnTo>
                      <a:lnTo>
                        <a:pt x="664" y="512"/>
                      </a:lnTo>
                      <a:lnTo>
                        <a:pt x="664" y="514"/>
                      </a:lnTo>
                      <a:lnTo>
                        <a:pt x="659" y="515"/>
                      </a:lnTo>
                      <a:lnTo>
                        <a:pt x="655" y="515"/>
                      </a:lnTo>
                      <a:lnTo>
                        <a:pt x="652" y="515"/>
                      </a:lnTo>
                      <a:lnTo>
                        <a:pt x="649" y="516"/>
                      </a:lnTo>
                      <a:lnTo>
                        <a:pt x="647" y="517"/>
                      </a:lnTo>
                      <a:lnTo>
                        <a:pt x="645" y="518"/>
                      </a:lnTo>
                      <a:lnTo>
                        <a:pt x="641" y="518"/>
                      </a:lnTo>
                      <a:lnTo>
                        <a:pt x="638" y="518"/>
                      </a:lnTo>
                      <a:lnTo>
                        <a:pt x="635" y="518"/>
                      </a:lnTo>
                      <a:lnTo>
                        <a:pt x="632" y="520"/>
                      </a:lnTo>
                      <a:lnTo>
                        <a:pt x="628" y="520"/>
                      </a:lnTo>
                      <a:lnTo>
                        <a:pt x="624" y="521"/>
                      </a:lnTo>
                      <a:lnTo>
                        <a:pt x="620" y="521"/>
                      </a:lnTo>
                      <a:lnTo>
                        <a:pt x="617" y="521"/>
                      </a:lnTo>
                      <a:lnTo>
                        <a:pt x="613" y="521"/>
                      </a:lnTo>
                      <a:lnTo>
                        <a:pt x="608" y="522"/>
                      </a:lnTo>
                      <a:lnTo>
                        <a:pt x="604" y="522"/>
                      </a:lnTo>
                      <a:lnTo>
                        <a:pt x="600" y="523"/>
                      </a:lnTo>
                      <a:lnTo>
                        <a:pt x="596" y="523"/>
                      </a:lnTo>
                      <a:lnTo>
                        <a:pt x="591" y="523"/>
                      </a:lnTo>
                      <a:lnTo>
                        <a:pt x="588" y="523"/>
                      </a:lnTo>
                      <a:lnTo>
                        <a:pt x="583" y="524"/>
                      </a:lnTo>
                      <a:lnTo>
                        <a:pt x="578" y="524"/>
                      </a:lnTo>
                      <a:lnTo>
                        <a:pt x="575" y="524"/>
                      </a:lnTo>
                      <a:lnTo>
                        <a:pt x="570" y="524"/>
                      </a:lnTo>
                      <a:lnTo>
                        <a:pt x="565" y="525"/>
                      </a:lnTo>
                      <a:lnTo>
                        <a:pt x="560" y="525"/>
                      </a:lnTo>
                      <a:lnTo>
                        <a:pt x="556" y="525"/>
                      </a:lnTo>
                      <a:lnTo>
                        <a:pt x="552" y="525"/>
                      </a:lnTo>
                      <a:lnTo>
                        <a:pt x="547" y="525"/>
                      </a:lnTo>
                      <a:lnTo>
                        <a:pt x="543" y="525"/>
                      </a:lnTo>
                      <a:lnTo>
                        <a:pt x="538" y="525"/>
                      </a:lnTo>
                      <a:lnTo>
                        <a:pt x="534" y="525"/>
                      </a:lnTo>
                      <a:lnTo>
                        <a:pt x="528" y="527"/>
                      </a:lnTo>
                      <a:lnTo>
                        <a:pt x="525" y="527"/>
                      </a:lnTo>
                      <a:lnTo>
                        <a:pt x="521" y="527"/>
                      </a:lnTo>
                      <a:lnTo>
                        <a:pt x="517" y="527"/>
                      </a:lnTo>
                      <a:lnTo>
                        <a:pt x="513" y="528"/>
                      </a:lnTo>
                      <a:lnTo>
                        <a:pt x="508" y="528"/>
                      </a:lnTo>
                      <a:lnTo>
                        <a:pt x="503" y="528"/>
                      </a:lnTo>
                      <a:lnTo>
                        <a:pt x="501" y="528"/>
                      </a:lnTo>
                      <a:lnTo>
                        <a:pt x="498" y="528"/>
                      </a:lnTo>
                      <a:lnTo>
                        <a:pt x="494" y="528"/>
                      </a:lnTo>
                      <a:lnTo>
                        <a:pt x="490" y="528"/>
                      </a:lnTo>
                      <a:lnTo>
                        <a:pt x="486" y="528"/>
                      </a:lnTo>
                      <a:lnTo>
                        <a:pt x="483" y="528"/>
                      </a:lnTo>
                      <a:lnTo>
                        <a:pt x="481" y="528"/>
                      </a:lnTo>
                      <a:lnTo>
                        <a:pt x="477" y="528"/>
                      </a:lnTo>
                      <a:lnTo>
                        <a:pt x="475" y="528"/>
                      </a:lnTo>
                      <a:lnTo>
                        <a:pt x="473" y="529"/>
                      </a:lnTo>
                      <a:lnTo>
                        <a:pt x="468" y="529"/>
                      </a:lnTo>
                      <a:lnTo>
                        <a:pt x="463" y="530"/>
                      </a:lnTo>
                      <a:lnTo>
                        <a:pt x="461" y="530"/>
                      </a:lnTo>
                      <a:lnTo>
                        <a:pt x="458" y="530"/>
                      </a:lnTo>
                      <a:lnTo>
                        <a:pt x="456" y="530"/>
                      </a:lnTo>
                      <a:lnTo>
                        <a:pt x="445" y="530"/>
                      </a:lnTo>
                      <a:lnTo>
                        <a:pt x="436" y="530"/>
                      </a:lnTo>
                      <a:lnTo>
                        <a:pt x="425" y="530"/>
                      </a:lnTo>
                      <a:lnTo>
                        <a:pt x="414" y="530"/>
                      </a:lnTo>
                      <a:lnTo>
                        <a:pt x="405" y="530"/>
                      </a:lnTo>
                      <a:lnTo>
                        <a:pt x="394" y="530"/>
                      </a:lnTo>
                      <a:lnTo>
                        <a:pt x="385" y="530"/>
                      </a:lnTo>
                      <a:lnTo>
                        <a:pt x="374" y="531"/>
                      </a:lnTo>
                      <a:lnTo>
                        <a:pt x="365" y="530"/>
                      </a:lnTo>
                      <a:lnTo>
                        <a:pt x="354" y="530"/>
                      </a:lnTo>
                      <a:lnTo>
                        <a:pt x="344" y="530"/>
                      </a:lnTo>
                      <a:lnTo>
                        <a:pt x="336" y="530"/>
                      </a:lnTo>
                      <a:lnTo>
                        <a:pt x="327" y="530"/>
                      </a:lnTo>
                      <a:lnTo>
                        <a:pt x="317" y="530"/>
                      </a:lnTo>
                      <a:lnTo>
                        <a:pt x="309" y="530"/>
                      </a:lnTo>
                      <a:lnTo>
                        <a:pt x="299" y="530"/>
                      </a:lnTo>
                      <a:lnTo>
                        <a:pt x="291" y="530"/>
                      </a:lnTo>
                      <a:lnTo>
                        <a:pt x="280" y="530"/>
                      </a:lnTo>
                      <a:lnTo>
                        <a:pt x="273" y="529"/>
                      </a:lnTo>
                      <a:lnTo>
                        <a:pt x="264" y="529"/>
                      </a:lnTo>
                      <a:lnTo>
                        <a:pt x="255" y="528"/>
                      </a:lnTo>
                      <a:lnTo>
                        <a:pt x="247" y="528"/>
                      </a:lnTo>
                      <a:lnTo>
                        <a:pt x="239" y="528"/>
                      </a:lnTo>
                      <a:lnTo>
                        <a:pt x="232" y="528"/>
                      </a:lnTo>
                      <a:lnTo>
                        <a:pt x="223" y="527"/>
                      </a:lnTo>
                      <a:lnTo>
                        <a:pt x="215" y="527"/>
                      </a:lnTo>
                      <a:lnTo>
                        <a:pt x="208" y="525"/>
                      </a:lnTo>
                      <a:lnTo>
                        <a:pt x="201" y="525"/>
                      </a:lnTo>
                      <a:lnTo>
                        <a:pt x="194" y="525"/>
                      </a:lnTo>
                      <a:lnTo>
                        <a:pt x="187" y="525"/>
                      </a:lnTo>
                      <a:lnTo>
                        <a:pt x="180" y="524"/>
                      </a:lnTo>
                      <a:lnTo>
                        <a:pt x="174" y="524"/>
                      </a:lnTo>
                      <a:lnTo>
                        <a:pt x="167" y="523"/>
                      </a:lnTo>
                      <a:lnTo>
                        <a:pt x="161" y="523"/>
                      </a:lnTo>
                      <a:lnTo>
                        <a:pt x="155" y="522"/>
                      </a:lnTo>
                      <a:lnTo>
                        <a:pt x="149" y="522"/>
                      </a:lnTo>
                      <a:lnTo>
                        <a:pt x="142" y="521"/>
                      </a:lnTo>
                      <a:lnTo>
                        <a:pt x="137" y="521"/>
                      </a:lnTo>
                      <a:lnTo>
                        <a:pt x="131" y="520"/>
                      </a:lnTo>
                      <a:lnTo>
                        <a:pt x="126" y="520"/>
                      </a:lnTo>
                      <a:lnTo>
                        <a:pt x="120" y="518"/>
                      </a:lnTo>
                      <a:lnTo>
                        <a:pt x="115" y="518"/>
                      </a:lnTo>
                      <a:lnTo>
                        <a:pt x="110" y="518"/>
                      </a:lnTo>
                      <a:lnTo>
                        <a:pt x="106" y="518"/>
                      </a:lnTo>
                      <a:lnTo>
                        <a:pt x="101" y="517"/>
                      </a:lnTo>
                      <a:lnTo>
                        <a:pt x="97" y="517"/>
                      </a:lnTo>
                      <a:lnTo>
                        <a:pt x="94" y="516"/>
                      </a:lnTo>
                      <a:lnTo>
                        <a:pt x="89" y="516"/>
                      </a:lnTo>
                      <a:lnTo>
                        <a:pt x="86" y="515"/>
                      </a:lnTo>
                      <a:lnTo>
                        <a:pt x="82" y="515"/>
                      </a:lnTo>
                      <a:lnTo>
                        <a:pt x="80" y="515"/>
                      </a:lnTo>
                      <a:lnTo>
                        <a:pt x="76" y="515"/>
                      </a:lnTo>
                      <a:lnTo>
                        <a:pt x="73" y="514"/>
                      </a:lnTo>
                      <a:lnTo>
                        <a:pt x="70" y="512"/>
                      </a:lnTo>
                      <a:lnTo>
                        <a:pt x="68" y="512"/>
                      </a:lnTo>
                      <a:lnTo>
                        <a:pt x="63" y="512"/>
                      </a:lnTo>
                      <a:lnTo>
                        <a:pt x="61" y="512"/>
                      </a:lnTo>
                      <a:lnTo>
                        <a:pt x="60" y="512"/>
                      </a:lnTo>
                      <a:lnTo>
                        <a:pt x="56" y="509"/>
                      </a:lnTo>
                      <a:lnTo>
                        <a:pt x="51" y="506"/>
                      </a:lnTo>
                      <a:lnTo>
                        <a:pt x="48" y="503"/>
                      </a:lnTo>
                      <a:lnTo>
                        <a:pt x="44" y="499"/>
                      </a:lnTo>
                      <a:lnTo>
                        <a:pt x="41" y="495"/>
                      </a:lnTo>
                      <a:lnTo>
                        <a:pt x="37" y="490"/>
                      </a:lnTo>
                      <a:lnTo>
                        <a:pt x="34" y="485"/>
                      </a:lnTo>
                      <a:lnTo>
                        <a:pt x="31" y="480"/>
                      </a:lnTo>
                      <a:lnTo>
                        <a:pt x="30" y="477"/>
                      </a:lnTo>
                      <a:lnTo>
                        <a:pt x="28" y="473"/>
                      </a:lnTo>
                      <a:lnTo>
                        <a:pt x="26" y="470"/>
                      </a:lnTo>
                      <a:lnTo>
                        <a:pt x="25" y="467"/>
                      </a:lnTo>
                      <a:lnTo>
                        <a:pt x="24" y="464"/>
                      </a:lnTo>
                      <a:lnTo>
                        <a:pt x="23" y="460"/>
                      </a:lnTo>
                      <a:lnTo>
                        <a:pt x="22" y="457"/>
                      </a:lnTo>
                      <a:lnTo>
                        <a:pt x="21" y="454"/>
                      </a:lnTo>
                      <a:lnTo>
                        <a:pt x="19" y="451"/>
                      </a:lnTo>
                      <a:lnTo>
                        <a:pt x="18" y="447"/>
                      </a:lnTo>
                      <a:lnTo>
                        <a:pt x="17" y="444"/>
                      </a:lnTo>
                      <a:lnTo>
                        <a:pt x="16" y="440"/>
                      </a:lnTo>
                      <a:lnTo>
                        <a:pt x="15" y="436"/>
                      </a:lnTo>
                      <a:lnTo>
                        <a:pt x="15" y="433"/>
                      </a:lnTo>
                      <a:lnTo>
                        <a:pt x="13" y="429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11" y="417"/>
                      </a:lnTo>
                      <a:lnTo>
                        <a:pt x="10" y="414"/>
                      </a:lnTo>
                      <a:lnTo>
                        <a:pt x="9" y="409"/>
                      </a:lnTo>
                      <a:lnTo>
                        <a:pt x="8" y="404"/>
                      </a:lnTo>
                      <a:lnTo>
                        <a:pt x="8" y="401"/>
                      </a:lnTo>
                      <a:lnTo>
                        <a:pt x="6" y="397"/>
                      </a:lnTo>
                      <a:lnTo>
                        <a:pt x="6" y="394"/>
                      </a:lnTo>
                      <a:lnTo>
                        <a:pt x="5" y="389"/>
                      </a:lnTo>
                      <a:lnTo>
                        <a:pt x="5" y="384"/>
                      </a:lnTo>
                      <a:lnTo>
                        <a:pt x="5" y="381"/>
                      </a:lnTo>
                      <a:lnTo>
                        <a:pt x="5" y="376"/>
                      </a:lnTo>
                      <a:lnTo>
                        <a:pt x="4" y="372"/>
                      </a:lnTo>
                      <a:lnTo>
                        <a:pt x="3" y="369"/>
                      </a:lnTo>
                      <a:lnTo>
                        <a:pt x="3" y="363"/>
                      </a:lnTo>
                      <a:lnTo>
                        <a:pt x="3" y="360"/>
                      </a:lnTo>
                      <a:lnTo>
                        <a:pt x="3" y="356"/>
                      </a:lnTo>
                      <a:lnTo>
                        <a:pt x="2" y="351"/>
                      </a:lnTo>
                      <a:lnTo>
                        <a:pt x="0" y="347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21"/>
                      </a:lnTo>
                      <a:lnTo>
                        <a:pt x="0" y="317"/>
                      </a:lnTo>
                      <a:lnTo>
                        <a:pt x="0" y="313"/>
                      </a:lnTo>
                      <a:lnTo>
                        <a:pt x="0" y="308"/>
                      </a:lnTo>
                      <a:lnTo>
                        <a:pt x="0" y="303"/>
                      </a:lnTo>
                      <a:lnTo>
                        <a:pt x="0" y="300"/>
                      </a:lnTo>
                      <a:lnTo>
                        <a:pt x="0" y="295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3" y="281"/>
                      </a:lnTo>
                      <a:lnTo>
                        <a:pt x="6" y="280"/>
                      </a:lnTo>
                      <a:lnTo>
                        <a:pt x="10" y="277"/>
                      </a:lnTo>
                      <a:lnTo>
                        <a:pt x="15" y="275"/>
                      </a:lnTo>
                      <a:lnTo>
                        <a:pt x="18" y="271"/>
                      </a:lnTo>
                      <a:lnTo>
                        <a:pt x="22" y="268"/>
                      </a:lnTo>
                      <a:lnTo>
                        <a:pt x="24" y="264"/>
                      </a:lnTo>
                      <a:lnTo>
                        <a:pt x="28" y="260"/>
                      </a:lnTo>
                      <a:lnTo>
                        <a:pt x="30" y="255"/>
                      </a:lnTo>
                      <a:lnTo>
                        <a:pt x="31" y="250"/>
                      </a:lnTo>
                      <a:lnTo>
                        <a:pt x="32" y="246"/>
                      </a:lnTo>
                      <a:lnTo>
                        <a:pt x="32" y="242"/>
                      </a:lnTo>
                      <a:lnTo>
                        <a:pt x="31" y="238"/>
                      </a:lnTo>
                      <a:lnTo>
                        <a:pt x="29" y="235"/>
                      </a:lnTo>
                      <a:lnTo>
                        <a:pt x="26" y="233"/>
                      </a:lnTo>
                      <a:lnTo>
                        <a:pt x="25" y="231"/>
                      </a:lnTo>
                      <a:lnTo>
                        <a:pt x="23" y="231"/>
                      </a:lnTo>
                      <a:lnTo>
                        <a:pt x="21" y="230"/>
                      </a:lnTo>
                      <a:lnTo>
                        <a:pt x="16" y="235"/>
                      </a:lnTo>
                      <a:lnTo>
                        <a:pt x="11" y="239"/>
                      </a:lnTo>
                      <a:lnTo>
                        <a:pt x="8" y="242"/>
                      </a:lnTo>
                      <a:lnTo>
                        <a:pt x="5" y="244"/>
                      </a:lnTo>
                      <a:lnTo>
                        <a:pt x="3" y="246"/>
                      </a:lnTo>
                      <a:lnTo>
                        <a:pt x="0" y="249"/>
                      </a:lnTo>
                      <a:lnTo>
                        <a:pt x="0" y="246"/>
                      </a:lnTo>
                      <a:lnTo>
                        <a:pt x="0" y="244"/>
                      </a:lnTo>
                      <a:lnTo>
                        <a:pt x="0" y="242"/>
                      </a:lnTo>
                      <a:lnTo>
                        <a:pt x="0" y="239"/>
                      </a:lnTo>
                      <a:lnTo>
                        <a:pt x="0" y="236"/>
                      </a:lnTo>
                      <a:lnTo>
                        <a:pt x="0" y="233"/>
                      </a:lnTo>
                      <a:lnTo>
                        <a:pt x="0" y="231"/>
                      </a:lnTo>
                      <a:lnTo>
                        <a:pt x="2" y="229"/>
                      </a:lnTo>
                      <a:lnTo>
                        <a:pt x="2" y="225"/>
                      </a:lnTo>
                      <a:lnTo>
                        <a:pt x="2" y="223"/>
                      </a:lnTo>
                      <a:lnTo>
                        <a:pt x="2" y="219"/>
                      </a:lnTo>
                      <a:lnTo>
                        <a:pt x="3" y="217"/>
                      </a:lnTo>
                      <a:lnTo>
                        <a:pt x="3" y="214"/>
                      </a:lnTo>
                      <a:lnTo>
                        <a:pt x="3" y="211"/>
                      </a:lnTo>
                      <a:lnTo>
                        <a:pt x="3" y="208"/>
                      </a:lnTo>
                      <a:lnTo>
                        <a:pt x="3" y="206"/>
                      </a:lnTo>
                      <a:lnTo>
                        <a:pt x="3" y="204"/>
                      </a:lnTo>
                      <a:lnTo>
                        <a:pt x="3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3" y="192"/>
                      </a:lnTo>
                      <a:lnTo>
                        <a:pt x="4" y="190"/>
                      </a:lnTo>
                      <a:lnTo>
                        <a:pt x="5" y="186"/>
                      </a:lnTo>
                      <a:lnTo>
                        <a:pt x="5" y="184"/>
                      </a:lnTo>
                      <a:lnTo>
                        <a:pt x="5" y="181"/>
                      </a:lnTo>
                      <a:lnTo>
                        <a:pt x="5" y="178"/>
                      </a:lnTo>
                      <a:lnTo>
                        <a:pt x="5" y="175"/>
                      </a:lnTo>
                      <a:lnTo>
                        <a:pt x="5" y="172"/>
                      </a:lnTo>
                      <a:lnTo>
                        <a:pt x="5" y="169"/>
                      </a:lnTo>
                      <a:lnTo>
                        <a:pt x="5" y="166"/>
                      </a:lnTo>
                      <a:lnTo>
                        <a:pt x="6" y="163"/>
                      </a:lnTo>
                      <a:lnTo>
                        <a:pt x="6" y="161"/>
                      </a:lnTo>
                      <a:lnTo>
                        <a:pt x="8" y="165"/>
                      </a:lnTo>
                      <a:lnTo>
                        <a:pt x="11" y="167"/>
                      </a:lnTo>
                      <a:lnTo>
                        <a:pt x="13" y="167"/>
                      </a:lnTo>
                      <a:lnTo>
                        <a:pt x="16" y="168"/>
                      </a:lnTo>
                      <a:lnTo>
                        <a:pt x="19" y="168"/>
                      </a:lnTo>
                      <a:lnTo>
                        <a:pt x="23" y="168"/>
                      </a:lnTo>
                      <a:lnTo>
                        <a:pt x="25" y="166"/>
                      </a:lnTo>
                      <a:lnTo>
                        <a:pt x="29" y="166"/>
                      </a:lnTo>
                      <a:lnTo>
                        <a:pt x="32" y="163"/>
                      </a:lnTo>
                      <a:lnTo>
                        <a:pt x="36" y="162"/>
                      </a:lnTo>
                      <a:lnTo>
                        <a:pt x="40" y="160"/>
                      </a:lnTo>
                      <a:lnTo>
                        <a:pt x="43" y="159"/>
                      </a:lnTo>
                      <a:lnTo>
                        <a:pt x="47" y="155"/>
                      </a:lnTo>
                      <a:lnTo>
                        <a:pt x="50" y="153"/>
                      </a:lnTo>
                      <a:lnTo>
                        <a:pt x="53" y="150"/>
                      </a:lnTo>
                      <a:lnTo>
                        <a:pt x="56" y="147"/>
                      </a:lnTo>
                      <a:lnTo>
                        <a:pt x="59" y="143"/>
                      </a:lnTo>
                      <a:lnTo>
                        <a:pt x="61" y="141"/>
                      </a:lnTo>
                      <a:lnTo>
                        <a:pt x="62" y="136"/>
                      </a:lnTo>
                      <a:lnTo>
                        <a:pt x="64" y="133"/>
                      </a:lnTo>
                      <a:lnTo>
                        <a:pt x="66" y="129"/>
                      </a:lnTo>
                      <a:lnTo>
                        <a:pt x="66" y="125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3" y="114"/>
                      </a:lnTo>
                      <a:lnTo>
                        <a:pt x="62" y="110"/>
                      </a:lnTo>
                      <a:lnTo>
                        <a:pt x="59" y="105"/>
                      </a:lnTo>
                      <a:lnTo>
                        <a:pt x="56" y="102"/>
                      </a:lnTo>
                      <a:lnTo>
                        <a:pt x="51" y="97"/>
                      </a:lnTo>
                      <a:lnTo>
                        <a:pt x="47" y="95"/>
                      </a:lnTo>
                      <a:lnTo>
                        <a:pt x="44" y="97"/>
                      </a:lnTo>
                      <a:lnTo>
                        <a:pt x="42" y="99"/>
                      </a:lnTo>
                      <a:lnTo>
                        <a:pt x="40" y="103"/>
                      </a:lnTo>
                      <a:lnTo>
                        <a:pt x="38" y="105"/>
                      </a:lnTo>
                      <a:lnTo>
                        <a:pt x="35" y="110"/>
                      </a:lnTo>
                      <a:lnTo>
                        <a:pt x="32" y="112"/>
                      </a:lnTo>
                      <a:lnTo>
                        <a:pt x="30" y="115"/>
                      </a:lnTo>
                      <a:lnTo>
                        <a:pt x="29" y="117"/>
                      </a:lnTo>
                      <a:lnTo>
                        <a:pt x="25" y="121"/>
                      </a:lnTo>
                      <a:lnTo>
                        <a:pt x="24" y="123"/>
                      </a:lnTo>
                      <a:lnTo>
                        <a:pt x="22" y="125"/>
                      </a:lnTo>
                      <a:lnTo>
                        <a:pt x="19" y="129"/>
                      </a:lnTo>
                      <a:lnTo>
                        <a:pt x="16" y="134"/>
                      </a:lnTo>
                      <a:lnTo>
                        <a:pt x="13" y="138"/>
                      </a:lnTo>
                      <a:lnTo>
                        <a:pt x="10" y="142"/>
                      </a:lnTo>
                      <a:lnTo>
                        <a:pt x="9" y="147"/>
                      </a:lnTo>
                      <a:lnTo>
                        <a:pt x="8" y="150"/>
                      </a:lnTo>
                      <a:lnTo>
                        <a:pt x="8" y="154"/>
                      </a:lnTo>
                      <a:lnTo>
                        <a:pt x="8" y="150"/>
                      </a:lnTo>
                      <a:lnTo>
                        <a:pt x="8" y="147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5"/>
                      </a:lnTo>
                      <a:lnTo>
                        <a:pt x="9" y="133"/>
                      </a:lnTo>
                      <a:lnTo>
                        <a:pt x="9" y="128"/>
                      </a:lnTo>
                      <a:lnTo>
                        <a:pt x="10" y="125"/>
                      </a:lnTo>
                      <a:lnTo>
                        <a:pt x="10" y="121"/>
                      </a:lnTo>
                      <a:lnTo>
                        <a:pt x="10" y="117"/>
                      </a:lnTo>
                      <a:lnTo>
                        <a:pt x="10" y="115"/>
                      </a:lnTo>
                      <a:lnTo>
                        <a:pt x="10" y="110"/>
                      </a:lnTo>
                      <a:lnTo>
                        <a:pt x="10" y="108"/>
                      </a:lnTo>
                      <a:lnTo>
                        <a:pt x="11" y="104"/>
                      </a:lnTo>
                      <a:lnTo>
                        <a:pt x="11" y="100"/>
                      </a:lnTo>
                      <a:lnTo>
                        <a:pt x="12" y="97"/>
                      </a:lnTo>
                      <a:lnTo>
                        <a:pt x="12" y="95"/>
                      </a:lnTo>
                      <a:lnTo>
                        <a:pt x="12" y="91"/>
                      </a:lnTo>
                      <a:lnTo>
                        <a:pt x="12" y="87"/>
                      </a:lnTo>
                      <a:lnTo>
                        <a:pt x="12" y="85"/>
                      </a:lnTo>
                      <a:lnTo>
                        <a:pt x="12" y="81"/>
                      </a:lnTo>
                      <a:lnTo>
                        <a:pt x="13" y="78"/>
                      </a:lnTo>
                      <a:lnTo>
                        <a:pt x="13" y="74"/>
                      </a:lnTo>
                      <a:lnTo>
                        <a:pt x="15" y="72"/>
                      </a:lnTo>
                      <a:lnTo>
                        <a:pt x="15" y="70"/>
                      </a:lnTo>
                      <a:lnTo>
                        <a:pt x="15" y="67"/>
                      </a:lnTo>
                      <a:lnTo>
                        <a:pt x="15" y="64"/>
                      </a:lnTo>
                      <a:lnTo>
                        <a:pt x="15" y="61"/>
                      </a:lnTo>
                      <a:lnTo>
                        <a:pt x="15" y="58"/>
                      </a:lnTo>
                      <a:lnTo>
                        <a:pt x="16" y="55"/>
                      </a:lnTo>
                      <a:lnTo>
                        <a:pt x="16" y="53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5"/>
                      </a:lnTo>
                      <a:lnTo>
                        <a:pt x="17" y="41"/>
                      </a:lnTo>
                      <a:lnTo>
                        <a:pt x="17" y="40"/>
                      </a:lnTo>
                      <a:lnTo>
                        <a:pt x="18" y="35"/>
                      </a:lnTo>
                      <a:lnTo>
                        <a:pt x="18" y="32"/>
                      </a:lnTo>
                      <a:lnTo>
                        <a:pt x="18" y="27"/>
                      </a:lnTo>
                      <a:lnTo>
                        <a:pt x="19" y="23"/>
                      </a:lnTo>
                      <a:lnTo>
                        <a:pt x="19" y="20"/>
                      </a:lnTo>
                      <a:lnTo>
                        <a:pt x="21" y="16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21" y="9"/>
                      </a:lnTo>
                      <a:lnTo>
                        <a:pt x="21" y="8"/>
                      </a:lnTo>
                      <a:lnTo>
                        <a:pt x="21" y="5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Freeform 34"/>
                <p:cNvSpPr/>
                <p:nvPr/>
              </p:nvSpPr>
              <p:spPr>
                <a:xfrm>
                  <a:off x="1265040" y="2557800"/>
                  <a:ext cx="21960" cy="158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0" y="0"/>
                      </a:moveTo>
                      <a:lnTo>
                        <a:pt x="43" y="3"/>
                      </a:lnTo>
                      <a:lnTo>
                        <a:pt x="42" y="6"/>
                      </a:lnTo>
                      <a:lnTo>
                        <a:pt x="41" y="9"/>
                      </a:lnTo>
                      <a:lnTo>
                        <a:pt x="40" y="11"/>
                      </a:lnTo>
                      <a:lnTo>
                        <a:pt x="37" y="13"/>
                      </a:lnTo>
                      <a:lnTo>
                        <a:pt x="37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26" y="29"/>
                      </a:lnTo>
                      <a:lnTo>
                        <a:pt x="20" y="31"/>
                      </a:lnTo>
                      <a:lnTo>
                        <a:pt x="16" y="30"/>
                      </a:lnTo>
                      <a:lnTo>
                        <a:pt x="13" y="28"/>
                      </a:lnTo>
                      <a:lnTo>
                        <a:pt x="13" y="24"/>
                      </a:lnTo>
                      <a:lnTo>
                        <a:pt x="13" y="20"/>
                      </a:lnTo>
                      <a:lnTo>
                        <a:pt x="13" y="17"/>
                      </a:lnTo>
                      <a:lnTo>
                        <a:pt x="13" y="13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Freeform 35"/>
                <p:cNvSpPr/>
                <p:nvPr/>
              </p:nvSpPr>
              <p:spPr>
                <a:xfrm>
                  <a:off x="1311120" y="25909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7" h="22">
                      <a:moveTo>
                        <a:pt x="57" y="19"/>
                      </a:moveTo>
                      <a:lnTo>
                        <a:pt x="0" y="22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3"/>
                      </a:lnTo>
                      <a:lnTo>
                        <a:pt x="29" y="4"/>
                      </a:lnTo>
                      <a:lnTo>
                        <a:pt x="32" y="6"/>
                      </a:lnTo>
                      <a:lnTo>
                        <a:pt x="36" y="7"/>
                      </a:lnTo>
                      <a:lnTo>
                        <a:pt x="39" y="8"/>
                      </a:lnTo>
                      <a:lnTo>
                        <a:pt x="43" y="11"/>
                      </a:lnTo>
                      <a:lnTo>
                        <a:pt x="45" y="13"/>
                      </a:lnTo>
                      <a:lnTo>
                        <a:pt x="49" y="13"/>
                      </a:lnTo>
                      <a:lnTo>
                        <a:pt x="51" y="16"/>
                      </a:lnTo>
                      <a:lnTo>
                        <a:pt x="56" y="18"/>
                      </a:lnTo>
                      <a:lnTo>
                        <a:pt x="57" y="1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5" name="Group 36"/>
            <p:cNvGrpSpPr/>
            <p:nvPr/>
          </p:nvGrpSpPr>
          <p:grpSpPr>
            <a:xfrm>
              <a:off x="7162920" y="1905120"/>
              <a:ext cx="753840" cy="701640"/>
              <a:chOff x="7162920" y="1905120"/>
              <a:chExt cx="753840" cy="701640"/>
            </a:xfrm>
          </p:grpSpPr>
          <p:sp>
            <p:nvSpPr>
              <p:cNvPr id="1376" name="Rectangle 37"/>
              <p:cNvSpPr/>
              <p:nvPr/>
            </p:nvSpPr>
            <p:spPr>
              <a:xfrm>
                <a:off x="7383240" y="2025720"/>
                <a:ext cx="304560" cy="228600"/>
              </a:xfrm>
              <a:prstGeom prst="rect">
                <a:avLst/>
              </a:prstGeom>
              <a:solidFill>
                <a:srgbClr val="404176"/>
              </a:solidFill>
              <a:ln w="936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377" name="Group 38"/>
              <p:cNvGrpSpPr/>
              <p:nvPr/>
            </p:nvGrpSpPr>
            <p:grpSpPr>
              <a:xfrm>
                <a:off x="7162920" y="1905120"/>
                <a:ext cx="753840" cy="701640"/>
                <a:chOff x="7162920" y="1905120"/>
                <a:chExt cx="753840" cy="701640"/>
              </a:xfrm>
            </p:grpSpPr>
            <p:sp>
              <p:nvSpPr>
                <p:cNvPr id="1378" name="Freeform 39"/>
                <p:cNvSpPr/>
                <p:nvPr/>
              </p:nvSpPr>
              <p:spPr>
                <a:xfrm>
                  <a:off x="7289640" y="2551320"/>
                  <a:ext cx="585360" cy="5544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1105" h="104">
                      <a:moveTo>
                        <a:pt x="872" y="13"/>
                      </a:moveTo>
                      <a:lnTo>
                        <a:pt x="876" y="13"/>
                      </a:lnTo>
                      <a:lnTo>
                        <a:pt x="879" y="13"/>
                      </a:lnTo>
                      <a:lnTo>
                        <a:pt x="883" y="13"/>
                      </a:lnTo>
                      <a:lnTo>
                        <a:pt x="886" y="13"/>
                      </a:lnTo>
                      <a:lnTo>
                        <a:pt x="890" y="13"/>
                      </a:lnTo>
                      <a:lnTo>
                        <a:pt x="893" y="13"/>
                      </a:lnTo>
                      <a:lnTo>
                        <a:pt x="897" y="13"/>
                      </a:lnTo>
                      <a:lnTo>
                        <a:pt x="900" y="13"/>
                      </a:lnTo>
                      <a:lnTo>
                        <a:pt x="904" y="13"/>
                      </a:lnTo>
                      <a:lnTo>
                        <a:pt x="909" y="13"/>
                      </a:lnTo>
                      <a:lnTo>
                        <a:pt x="911" y="13"/>
                      </a:lnTo>
                      <a:lnTo>
                        <a:pt x="916" y="13"/>
                      </a:lnTo>
                      <a:lnTo>
                        <a:pt x="918" y="11"/>
                      </a:lnTo>
                      <a:lnTo>
                        <a:pt x="923" y="11"/>
                      </a:lnTo>
                      <a:lnTo>
                        <a:pt x="927" y="11"/>
                      </a:lnTo>
                      <a:lnTo>
                        <a:pt x="930" y="11"/>
                      </a:lnTo>
                      <a:lnTo>
                        <a:pt x="932" y="10"/>
                      </a:lnTo>
                      <a:lnTo>
                        <a:pt x="936" y="10"/>
                      </a:lnTo>
                      <a:lnTo>
                        <a:pt x="940" y="10"/>
                      </a:lnTo>
                      <a:lnTo>
                        <a:pt x="943" y="10"/>
                      </a:lnTo>
                      <a:lnTo>
                        <a:pt x="947" y="9"/>
                      </a:lnTo>
                      <a:lnTo>
                        <a:pt x="950" y="9"/>
                      </a:lnTo>
                      <a:lnTo>
                        <a:pt x="954" y="8"/>
                      </a:lnTo>
                      <a:lnTo>
                        <a:pt x="957" y="8"/>
                      </a:lnTo>
                      <a:lnTo>
                        <a:pt x="960" y="8"/>
                      </a:lnTo>
                      <a:lnTo>
                        <a:pt x="964" y="8"/>
                      </a:lnTo>
                      <a:lnTo>
                        <a:pt x="967" y="7"/>
                      </a:lnTo>
                      <a:lnTo>
                        <a:pt x="972" y="7"/>
                      </a:lnTo>
                      <a:lnTo>
                        <a:pt x="974" y="5"/>
                      </a:lnTo>
                      <a:lnTo>
                        <a:pt x="978" y="5"/>
                      </a:lnTo>
                      <a:lnTo>
                        <a:pt x="981" y="5"/>
                      </a:lnTo>
                      <a:lnTo>
                        <a:pt x="985" y="5"/>
                      </a:lnTo>
                      <a:lnTo>
                        <a:pt x="988" y="4"/>
                      </a:lnTo>
                      <a:lnTo>
                        <a:pt x="992" y="3"/>
                      </a:lnTo>
                      <a:lnTo>
                        <a:pt x="994" y="3"/>
                      </a:lnTo>
                      <a:lnTo>
                        <a:pt x="998" y="3"/>
                      </a:lnTo>
                      <a:lnTo>
                        <a:pt x="1001" y="3"/>
                      </a:lnTo>
                      <a:lnTo>
                        <a:pt x="1005" y="2"/>
                      </a:lnTo>
                      <a:lnTo>
                        <a:pt x="1007" y="2"/>
                      </a:lnTo>
                      <a:lnTo>
                        <a:pt x="1012" y="2"/>
                      </a:lnTo>
                      <a:lnTo>
                        <a:pt x="1014" y="1"/>
                      </a:lnTo>
                      <a:lnTo>
                        <a:pt x="1018" y="1"/>
                      </a:lnTo>
                      <a:lnTo>
                        <a:pt x="1021" y="1"/>
                      </a:lnTo>
                      <a:lnTo>
                        <a:pt x="1025" y="1"/>
                      </a:lnTo>
                      <a:lnTo>
                        <a:pt x="1029" y="1"/>
                      </a:lnTo>
                      <a:lnTo>
                        <a:pt x="1032" y="1"/>
                      </a:lnTo>
                      <a:lnTo>
                        <a:pt x="1034" y="1"/>
                      </a:lnTo>
                      <a:lnTo>
                        <a:pt x="1039" y="1"/>
                      </a:lnTo>
                      <a:lnTo>
                        <a:pt x="1042" y="0"/>
                      </a:lnTo>
                      <a:lnTo>
                        <a:pt x="1045" y="0"/>
                      </a:lnTo>
                      <a:lnTo>
                        <a:pt x="1048" y="0"/>
                      </a:lnTo>
                      <a:lnTo>
                        <a:pt x="1052" y="0"/>
                      </a:lnTo>
                      <a:lnTo>
                        <a:pt x="1055" y="0"/>
                      </a:lnTo>
                      <a:lnTo>
                        <a:pt x="1058" y="1"/>
                      </a:lnTo>
                      <a:lnTo>
                        <a:pt x="1062" y="1"/>
                      </a:lnTo>
                      <a:lnTo>
                        <a:pt x="1065" y="1"/>
                      </a:lnTo>
                      <a:lnTo>
                        <a:pt x="1068" y="1"/>
                      </a:lnTo>
                      <a:lnTo>
                        <a:pt x="1072" y="2"/>
                      </a:lnTo>
                      <a:lnTo>
                        <a:pt x="1075" y="2"/>
                      </a:lnTo>
                      <a:lnTo>
                        <a:pt x="1078" y="3"/>
                      </a:lnTo>
                      <a:lnTo>
                        <a:pt x="1082" y="3"/>
                      </a:lnTo>
                      <a:lnTo>
                        <a:pt x="1086" y="4"/>
                      </a:lnTo>
                      <a:lnTo>
                        <a:pt x="1089" y="5"/>
                      </a:lnTo>
                      <a:lnTo>
                        <a:pt x="1093" y="7"/>
                      </a:lnTo>
                      <a:lnTo>
                        <a:pt x="1093" y="9"/>
                      </a:lnTo>
                      <a:lnTo>
                        <a:pt x="1094" y="11"/>
                      </a:lnTo>
                      <a:lnTo>
                        <a:pt x="1095" y="14"/>
                      </a:lnTo>
                      <a:lnTo>
                        <a:pt x="1095" y="17"/>
                      </a:lnTo>
                      <a:lnTo>
                        <a:pt x="1096" y="20"/>
                      </a:lnTo>
                      <a:lnTo>
                        <a:pt x="1097" y="22"/>
                      </a:lnTo>
                      <a:lnTo>
                        <a:pt x="1097" y="24"/>
                      </a:lnTo>
                      <a:lnTo>
                        <a:pt x="1099" y="28"/>
                      </a:lnTo>
                      <a:lnTo>
                        <a:pt x="1099" y="30"/>
                      </a:lnTo>
                      <a:lnTo>
                        <a:pt x="1100" y="33"/>
                      </a:lnTo>
                      <a:lnTo>
                        <a:pt x="1101" y="35"/>
                      </a:lnTo>
                      <a:lnTo>
                        <a:pt x="1101" y="39"/>
                      </a:lnTo>
                      <a:lnTo>
                        <a:pt x="1102" y="41"/>
                      </a:lnTo>
                      <a:lnTo>
                        <a:pt x="1103" y="43"/>
                      </a:lnTo>
                      <a:lnTo>
                        <a:pt x="1103" y="46"/>
                      </a:lnTo>
                      <a:lnTo>
                        <a:pt x="1105" y="49"/>
                      </a:lnTo>
                      <a:lnTo>
                        <a:pt x="1099" y="53"/>
                      </a:lnTo>
                      <a:lnTo>
                        <a:pt x="1093" y="57"/>
                      </a:lnTo>
                      <a:lnTo>
                        <a:pt x="1086" y="60"/>
                      </a:lnTo>
                      <a:lnTo>
                        <a:pt x="1077" y="64"/>
                      </a:lnTo>
                      <a:lnTo>
                        <a:pt x="1068" y="66"/>
                      </a:lnTo>
                      <a:lnTo>
                        <a:pt x="1057" y="68"/>
                      </a:lnTo>
                      <a:lnTo>
                        <a:pt x="1048" y="72"/>
                      </a:lnTo>
                      <a:lnTo>
                        <a:pt x="1036" y="76"/>
                      </a:lnTo>
                      <a:lnTo>
                        <a:pt x="1024" y="78"/>
                      </a:lnTo>
                      <a:lnTo>
                        <a:pt x="1011" y="80"/>
                      </a:lnTo>
                      <a:lnTo>
                        <a:pt x="997" y="81"/>
                      </a:lnTo>
                      <a:lnTo>
                        <a:pt x="982" y="84"/>
                      </a:lnTo>
                      <a:lnTo>
                        <a:pt x="968" y="86"/>
                      </a:lnTo>
                      <a:lnTo>
                        <a:pt x="953" y="89"/>
                      </a:lnTo>
                      <a:lnTo>
                        <a:pt x="936" y="90"/>
                      </a:lnTo>
                      <a:lnTo>
                        <a:pt x="921" y="92"/>
                      </a:lnTo>
                      <a:lnTo>
                        <a:pt x="903" y="92"/>
                      </a:lnTo>
                      <a:lnTo>
                        <a:pt x="885" y="95"/>
                      </a:lnTo>
                      <a:lnTo>
                        <a:pt x="866" y="96"/>
                      </a:lnTo>
                      <a:lnTo>
                        <a:pt x="847" y="97"/>
                      </a:lnTo>
                      <a:lnTo>
                        <a:pt x="829" y="98"/>
                      </a:lnTo>
                      <a:lnTo>
                        <a:pt x="809" y="99"/>
                      </a:lnTo>
                      <a:lnTo>
                        <a:pt x="790" y="99"/>
                      </a:lnTo>
                      <a:lnTo>
                        <a:pt x="770" y="102"/>
                      </a:lnTo>
                      <a:lnTo>
                        <a:pt x="750" y="102"/>
                      </a:lnTo>
                      <a:lnTo>
                        <a:pt x="728" y="102"/>
                      </a:lnTo>
                      <a:lnTo>
                        <a:pt x="708" y="102"/>
                      </a:lnTo>
                      <a:lnTo>
                        <a:pt x="688" y="104"/>
                      </a:lnTo>
                      <a:lnTo>
                        <a:pt x="665" y="104"/>
                      </a:lnTo>
                      <a:lnTo>
                        <a:pt x="645" y="104"/>
                      </a:lnTo>
                      <a:lnTo>
                        <a:pt x="623" y="104"/>
                      </a:lnTo>
                      <a:lnTo>
                        <a:pt x="601" y="104"/>
                      </a:lnTo>
                      <a:lnTo>
                        <a:pt x="580" y="104"/>
                      </a:lnTo>
                      <a:lnTo>
                        <a:pt x="558" y="104"/>
                      </a:lnTo>
                      <a:lnTo>
                        <a:pt x="536" y="104"/>
                      </a:lnTo>
                      <a:lnTo>
                        <a:pt x="514" y="104"/>
                      </a:lnTo>
                      <a:lnTo>
                        <a:pt x="492" y="104"/>
                      </a:lnTo>
                      <a:lnTo>
                        <a:pt x="471" y="104"/>
                      </a:lnTo>
                      <a:lnTo>
                        <a:pt x="450" y="104"/>
                      </a:lnTo>
                      <a:lnTo>
                        <a:pt x="427" y="104"/>
                      </a:lnTo>
                      <a:lnTo>
                        <a:pt x="407" y="104"/>
                      </a:lnTo>
                      <a:lnTo>
                        <a:pt x="384" y="104"/>
                      </a:lnTo>
                      <a:lnTo>
                        <a:pt x="363" y="103"/>
                      </a:lnTo>
                      <a:lnTo>
                        <a:pt x="343" y="103"/>
                      </a:lnTo>
                      <a:lnTo>
                        <a:pt x="321" y="102"/>
                      </a:lnTo>
                      <a:lnTo>
                        <a:pt x="301" y="102"/>
                      </a:lnTo>
                      <a:lnTo>
                        <a:pt x="282" y="102"/>
                      </a:lnTo>
                      <a:lnTo>
                        <a:pt x="263" y="102"/>
                      </a:lnTo>
                      <a:lnTo>
                        <a:pt x="243" y="102"/>
                      </a:lnTo>
                      <a:lnTo>
                        <a:pt x="224" y="102"/>
                      </a:lnTo>
                      <a:lnTo>
                        <a:pt x="205" y="100"/>
                      </a:lnTo>
                      <a:lnTo>
                        <a:pt x="187" y="100"/>
                      </a:lnTo>
                      <a:lnTo>
                        <a:pt x="170" y="99"/>
                      </a:lnTo>
                      <a:lnTo>
                        <a:pt x="153" y="99"/>
                      </a:lnTo>
                      <a:lnTo>
                        <a:pt x="136" y="99"/>
                      </a:lnTo>
                      <a:lnTo>
                        <a:pt x="120" y="99"/>
                      </a:lnTo>
                      <a:lnTo>
                        <a:pt x="104" y="99"/>
                      </a:lnTo>
                      <a:lnTo>
                        <a:pt x="89" y="99"/>
                      </a:lnTo>
                      <a:lnTo>
                        <a:pt x="76" y="99"/>
                      </a:lnTo>
                      <a:lnTo>
                        <a:pt x="63" y="99"/>
                      </a:lnTo>
                      <a:lnTo>
                        <a:pt x="49" y="99"/>
                      </a:lnTo>
                      <a:lnTo>
                        <a:pt x="37" y="99"/>
                      </a:lnTo>
                      <a:lnTo>
                        <a:pt x="25" y="99"/>
                      </a:lnTo>
                      <a:lnTo>
                        <a:pt x="15" y="99"/>
                      </a:lnTo>
                      <a:lnTo>
                        <a:pt x="14" y="97"/>
                      </a:lnTo>
                      <a:lnTo>
                        <a:pt x="12" y="93"/>
                      </a:lnTo>
                      <a:lnTo>
                        <a:pt x="11" y="91"/>
                      </a:lnTo>
                      <a:lnTo>
                        <a:pt x="9" y="89"/>
                      </a:lnTo>
                      <a:lnTo>
                        <a:pt x="7" y="83"/>
                      </a:lnTo>
                      <a:lnTo>
                        <a:pt x="6" y="78"/>
                      </a:lnTo>
                      <a:lnTo>
                        <a:pt x="5" y="76"/>
                      </a:lnTo>
                      <a:lnTo>
                        <a:pt x="5" y="73"/>
                      </a:lnTo>
                      <a:lnTo>
                        <a:pt x="3" y="70"/>
                      </a:lnTo>
                      <a:lnTo>
                        <a:pt x="2" y="67"/>
                      </a:lnTo>
                      <a:lnTo>
                        <a:pt x="2" y="65"/>
                      </a:lnTo>
                      <a:lnTo>
                        <a:pt x="2" y="62"/>
                      </a:lnTo>
                      <a:lnTo>
                        <a:pt x="0" y="59"/>
                      </a:lnTo>
                      <a:lnTo>
                        <a:pt x="0" y="57"/>
                      </a:lnTo>
                      <a:lnTo>
                        <a:pt x="2" y="54"/>
                      </a:lnTo>
                      <a:lnTo>
                        <a:pt x="7" y="51"/>
                      </a:lnTo>
                      <a:lnTo>
                        <a:pt x="9" y="48"/>
                      </a:lnTo>
                      <a:lnTo>
                        <a:pt x="14" y="46"/>
                      </a:lnTo>
                      <a:lnTo>
                        <a:pt x="18" y="42"/>
                      </a:lnTo>
                      <a:lnTo>
                        <a:pt x="21" y="41"/>
                      </a:lnTo>
                      <a:lnTo>
                        <a:pt x="25" y="39"/>
                      </a:lnTo>
                      <a:lnTo>
                        <a:pt x="28" y="36"/>
                      </a:lnTo>
                      <a:lnTo>
                        <a:pt x="32" y="35"/>
                      </a:lnTo>
                      <a:lnTo>
                        <a:pt x="35" y="33"/>
                      </a:lnTo>
                      <a:lnTo>
                        <a:pt x="40" y="32"/>
                      </a:lnTo>
                      <a:lnTo>
                        <a:pt x="44" y="30"/>
                      </a:lnTo>
                      <a:lnTo>
                        <a:pt x="47" y="29"/>
                      </a:lnTo>
                      <a:lnTo>
                        <a:pt x="52" y="28"/>
                      </a:lnTo>
                      <a:lnTo>
                        <a:pt x="57" y="27"/>
                      </a:lnTo>
                      <a:lnTo>
                        <a:pt x="60" y="26"/>
                      </a:lnTo>
                      <a:lnTo>
                        <a:pt x="65" y="24"/>
                      </a:lnTo>
                      <a:lnTo>
                        <a:pt x="69" y="23"/>
                      </a:lnTo>
                      <a:lnTo>
                        <a:pt x="73" y="23"/>
                      </a:lnTo>
                      <a:lnTo>
                        <a:pt x="78" y="23"/>
                      </a:lnTo>
                      <a:lnTo>
                        <a:pt x="82" y="22"/>
                      </a:lnTo>
                      <a:lnTo>
                        <a:pt x="85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8" y="21"/>
                      </a:lnTo>
                      <a:lnTo>
                        <a:pt x="103" y="21"/>
                      </a:lnTo>
                      <a:lnTo>
                        <a:pt x="108" y="21"/>
                      </a:lnTo>
                      <a:lnTo>
                        <a:pt x="113" y="21"/>
                      </a:lnTo>
                      <a:lnTo>
                        <a:pt x="116" y="21"/>
                      </a:lnTo>
                      <a:lnTo>
                        <a:pt x="121" y="21"/>
                      </a:lnTo>
                      <a:lnTo>
                        <a:pt x="126" y="21"/>
                      </a:lnTo>
                      <a:lnTo>
                        <a:pt x="130" y="21"/>
                      </a:lnTo>
                      <a:lnTo>
                        <a:pt x="135" y="21"/>
                      </a:lnTo>
                      <a:lnTo>
                        <a:pt x="139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3" y="21"/>
                      </a:lnTo>
                      <a:lnTo>
                        <a:pt x="158" y="22"/>
                      </a:lnTo>
                      <a:lnTo>
                        <a:pt x="161" y="22"/>
                      </a:lnTo>
                      <a:lnTo>
                        <a:pt x="167" y="23"/>
                      </a:lnTo>
                      <a:lnTo>
                        <a:pt x="171" y="23"/>
                      </a:lnTo>
                      <a:lnTo>
                        <a:pt x="175" y="23"/>
                      </a:lnTo>
                      <a:lnTo>
                        <a:pt x="179" y="23"/>
                      </a:lnTo>
                      <a:lnTo>
                        <a:pt x="184" y="23"/>
                      </a:lnTo>
                      <a:lnTo>
                        <a:pt x="190" y="23"/>
                      </a:lnTo>
                      <a:lnTo>
                        <a:pt x="194" y="23"/>
                      </a:lnTo>
                      <a:lnTo>
                        <a:pt x="199" y="23"/>
                      </a:lnTo>
                      <a:lnTo>
                        <a:pt x="203" y="24"/>
                      </a:lnTo>
                      <a:lnTo>
                        <a:pt x="208" y="23"/>
                      </a:lnTo>
                      <a:lnTo>
                        <a:pt x="212" y="2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5" y="23"/>
                      </a:lnTo>
                      <a:lnTo>
                        <a:pt x="230" y="23"/>
                      </a:lnTo>
                      <a:lnTo>
                        <a:pt x="234" y="23"/>
                      </a:lnTo>
                      <a:lnTo>
                        <a:pt x="238" y="23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1" y="21"/>
                      </a:lnTo>
                      <a:lnTo>
                        <a:pt x="256" y="21"/>
                      </a:lnTo>
                      <a:lnTo>
                        <a:pt x="260" y="21"/>
                      </a:lnTo>
                      <a:lnTo>
                        <a:pt x="264" y="20"/>
                      </a:lnTo>
                      <a:lnTo>
                        <a:pt x="269" y="19"/>
                      </a:lnTo>
                      <a:lnTo>
                        <a:pt x="273" y="19"/>
                      </a:lnTo>
                      <a:lnTo>
                        <a:pt x="282" y="17"/>
                      </a:lnTo>
                      <a:lnTo>
                        <a:pt x="291" y="17"/>
                      </a:lnTo>
                      <a:lnTo>
                        <a:pt x="300" y="17"/>
                      </a:lnTo>
                      <a:lnTo>
                        <a:pt x="310" y="17"/>
                      </a:lnTo>
                      <a:lnTo>
                        <a:pt x="319" y="16"/>
                      </a:lnTo>
                      <a:lnTo>
                        <a:pt x="329" y="16"/>
                      </a:lnTo>
                      <a:lnTo>
                        <a:pt x="337" y="16"/>
                      </a:lnTo>
                      <a:lnTo>
                        <a:pt x="346" y="16"/>
                      </a:lnTo>
                      <a:lnTo>
                        <a:pt x="356" y="16"/>
                      </a:lnTo>
                      <a:lnTo>
                        <a:pt x="365" y="16"/>
                      </a:lnTo>
                      <a:lnTo>
                        <a:pt x="374" y="16"/>
                      </a:lnTo>
                      <a:lnTo>
                        <a:pt x="384" y="16"/>
                      </a:lnTo>
                      <a:lnTo>
                        <a:pt x="394" y="16"/>
                      </a:lnTo>
                      <a:lnTo>
                        <a:pt x="402" y="16"/>
                      </a:lnTo>
                      <a:lnTo>
                        <a:pt x="412" y="16"/>
                      </a:lnTo>
                      <a:lnTo>
                        <a:pt x="422" y="17"/>
                      </a:lnTo>
                      <a:lnTo>
                        <a:pt x="431" y="17"/>
                      </a:lnTo>
                      <a:lnTo>
                        <a:pt x="440" y="17"/>
                      </a:lnTo>
                      <a:lnTo>
                        <a:pt x="450" y="17"/>
                      </a:lnTo>
                      <a:lnTo>
                        <a:pt x="459" y="17"/>
                      </a:lnTo>
                      <a:lnTo>
                        <a:pt x="469" y="17"/>
                      </a:lnTo>
                      <a:lnTo>
                        <a:pt x="478" y="17"/>
                      </a:lnTo>
                      <a:lnTo>
                        <a:pt x="488" y="17"/>
                      </a:lnTo>
                      <a:lnTo>
                        <a:pt x="498" y="17"/>
                      </a:lnTo>
                      <a:lnTo>
                        <a:pt x="507" y="17"/>
                      </a:lnTo>
                      <a:lnTo>
                        <a:pt x="516" y="17"/>
                      </a:lnTo>
                      <a:lnTo>
                        <a:pt x="525" y="17"/>
                      </a:lnTo>
                      <a:lnTo>
                        <a:pt x="536" y="17"/>
                      </a:lnTo>
                      <a:lnTo>
                        <a:pt x="544" y="17"/>
                      </a:lnTo>
                      <a:lnTo>
                        <a:pt x="554" y="17"/>
                      </a:lnTo>
                      <a:lnTo>
                        <a:pt x="563" y="17"/>
                      </a:lnTo>
                      <a:lnTo>
                        <a:pt x="574" y="19"/>
                      </a:lnTo>
                      <a:lnTo>
                        <a:pt x="582" y="17"/>
                      </a:lnTo>
                      <a:lnTo>
                        <a:pt x="592" y="17"/>
                      </a:lnTo>
                      <a:lnTo>
                        <a:pt x="601" y="17"/>
                      </a:lnTo>
                      <a:lnTo>
                        <a:pt x="611" y="17"/>
                      </a:lnTo>
                      <a:lnTo>
                        <a:pt x="619" y="17"/>
                      </a:lnTo>
                      <a:lnTo>
                        <a:pt x="630" y="17"/>
                      </a:lnTo>
                      <a:lnTo>
                        <a:pt x="639" y="17"/>
                      </a:lnTo>
                      <a:lnTo>
                        <a:pt x="649" y="17"/>
                      </a:lnTo>
                      <a:lnTo>
                        <a:pt x="657" y="17"/>
                      </a:lnTo>
                      <a:lnTo>
                        <a:pt x="668" y="17"/>
                      </a:lnTo>
                      <a:lnTo>
                        <a:pt x="677" y="17"/>
                      </a:lnTo>
                      <a:lnTo>
                        <a:pt x="687" y="17"/>
                      </a:lnTo>
                      <a:lnTo>
                        <a:pt x="695" y="17"/>
                      </a:lnTo>
                      <a:lnTo>
                        <a:pt x="706" y="17"/>
                      </a:lnTo>
                      <a:lnTo>
                        <a:pt x="715" y="17"/>
                      </a:lnTo>
                      <a:lnTo>
                        <a:pt x="724" y="17"/>
                      </a:lnTo>
                      <a:lnTo>
                        <a:pt x="733" y="16"/>
                      </a:lnTo>
                      <a:lnTo>
                        <a:pt x="743" y="16"/>
                      </a:lnTo>
                      <a:lnTo>
                        <a:pt x="751" y="16"/>
                      </a:lnTo>
                      <a:lnTo>
                        <a:pt x="762" y="16"/>
                      </a:lnTo>
                      <a:lnTo>
                        <a:pt x="770" y="16"/>
                      </a:lnTo>
                      <a:lnTo>
                        <a:pt x="779" y="16"/>
                      </a:lnTo>
                      <a:lnTo>
                        <a:pt x="789" y="15"/>
                      </a:lnTo>
                      <a:lnTo>
                        <a:pt x="798" y="15"/>
                      </a:lnTo>
                      <a:lnTo>
                        <a:pt x="807" y="15"/>
                      </a:lnTo>
                      <a:lnTo>
                        <a:pt x="817" y="14"/>
                      </a:lnTo>
                      <a:lnTo>
                        <a:pt x="824" y="14"/>
                      </a:lnTo>
                      <a:lnTo>
                        <a:pt x="835" y="14"/>
                      </a:lnTo>
                      <a:lnTo>
                        <a:pt x="843" y="13"/>
                      </a:lnTo>
                      <a:lnTo>
                        <a:pt x="853" y="13"/>
                      </a:lnTo>
                      <a:lnTo>
                        <a:pt x="862" y="13"/>
                      </a:lnTo>
                      <a:lnTo>
                        <a:pt x="872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Freeform 40"/>
                <p:cNvSpPr/>
                <p:nvPr/>
              </p:nvSpPr>
              <p:spPr>
                <a:xfrm>
                  <a:off x="7289640" y="1905120"/>
                  <a:ext cx="499680" cy="61920"/>
                </a:xfrm>
                <a:custGeom>
                  <a:avLst/>
                  <a:gdLst>
                    <a:gd name="textAreaLeft" fmla="*/ 0 w 499680"/>
                    <a:gd name="textAreaRight" fmla="*/ 500040 w 499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943" h="116">
                      <a:moveTo>
                        <a:pt x="435" y="0"/>
                      </a:moveTo>
                      <a:lnTo>
                        <a:pt x="442" y="0"/>
                      </a:lnTo>
                      <a:lnTo>
                        <a:pt x="450" y="1"/>
                      </a:lnTo>
                      <a:lnTo>
                        <a:pt x="458" y="1"/>
                      </a:lnTo>
                      <a:lnTo>
                        <a:pt x="465" y="1"/>
                      </a:lnTo>
                      <a:lnTo>
                        <a:pt x="472" y="1"/>
                      </a:lnTo>
                      <a:lnTo>
                        <a:pt x="480" y="1"/>
                      </a:lnTo>
                      <a:lnTo>
                        <a:pt x="488" y="1"/>
                      </a:lnTo>
                      <a:lnTo>
                        <a:pt x="496" y="2"/>
                      </a:lnTo>
                      <a:lnTo>
                        <a:pt x="503" y="2"/>
                      </a:lnTo>
                      <a:lnTo>
                        <a:pt x="510" y="2"/>
                      </a:lnTo>
                      <a:lnTo>
                        <a:pt x="518" y="2"/>
                      </a:lnTo>
                      <a:lnTo>
                        <a:pt x="525" y="4"/>
                      </a:lnTo>
                      <a:lnTo>
                        <a:pt x="533" y="4"/>
                      </a:lnTo>
                      <a:lnTo>
                        <a:pt x="540" y="5"/>
                      </a:lnTo>
                      <a:lnTo>
                        <a:pt x="548" y="5"/>
                      </a:lnTo>
                      <a:lnTo>
                        <a:pt x="555" y="5"/>
                      </a:lnTo>
                      <a:lnTo>
                        <a:pt x="562" y="5"/>
                      </a:lnTo>
                      <a:lnTo>
                        <a:pt x="571" y="5"/>
                      </a:lnTo>
                      <a:lnTo>
                        <a:pt x="578" y="5"/>
                      </a:lnTo>
                      <a:lnTo>
                        <a:pt x="586" y="5"/>
                      </a:lnTo>
                      <a:lnTo>
                        <a:pt x="593" y="5"/>
                      </a:lnTo>
                      <a:lnTo>
                        <a:pt x="600" y="6"/>
                      </a:lnTo>
                      <a:lnTo>
                        <a:pt x="609" y="6"/>
                      </a:lnTo>
                      <a:lnTo>
                        <a:pt x="616" y="7"/>
                      </a:lnTo>
                      <a:lnTo>
                        <a:pt x="623" y="7"/>
                      </a:lnTo>
                      <a:lnTo>
                        <a:pt x="630" y="7"/>
                      </a:lnTo>
                      <a:lnTo>
                        <a:pt x="638" y="7"/>
                      </a:lnTo>
                      <a:lnTo>
                        <a:pt x="645" y="7"/>
                      </a:lnTo>
                      <a:lnTo>
                        <a:pt x="652" y="7"/>
                      </a:lnTo>
                      <a:lnTo>
                        <a:pt x="661" y="8"/>
                      </a:lnTo>
                      <a:lnTo>
                        <a:pt x="668" y="9"/>
                      </a:lnTo>
                      <a:lnTo>
                        <a:pt x="676" y="9"/>
                      </a:lnTo>
                      <a:lnTo>
                        <a:pt x="683" y="9"/>
                      </a:lnTo>
                      <a:lnTo>
                        <a:pt x="690" y="9"/>
                      </a:lnTo>
                      <a:lnTo>
                        <a:pt x="699" y="9"/>
                      </a:lnTo>
                      <a:lnTo>
                        <a:pt x="706" y="11"/>
                      </a:lnTo>
                      <a:lnTo>
                        <a:pt x="713" y="11"/>
                      </a:lnTo>
                      <a:lnTo>
                        <a:pt x="720" y="12"/>
                      </a:lnTo>
                      <a:lnTo>
                        <a:pt x="728" y="12"/>
                      </a:lnTo>
                      <a:lnTo>
                        <a:pt x="735" y="12"/>
                      </a:lnTo>
                      <a:lnTo>
                        <a:pt x="743" y="12"/>
                      </a:lnTo>
                      <a:lnTo>
                        <a:pt x="750" y="13"/>
                      </a:lnTo>
                      <a:lnTo>
                        <a:pt x="757" y="14"/>
                      </a:lnTo>
                      <a:lnTo>
                        <a:pt x="765" y="14"/>
                      </a:lnTo>
                      <a:lnTo>
                        <a:pt x="772" y="15"/>
                      </a:lnTo>
                      <a:lnTo>
                        <a:pt x="779" y="17"/>
                      </a:lnTo>
                      <a:lnTo>
                        <a:pt x="787" y="17"/>
                      </a:lnTo>
                      <a:lnTo>
                        <a:pt x="795" y="18"/>
                      </a:lnTo>
                      <a:lnTo>
                        <a:pt x="802" y="18"/>
                      </a:lnTo>
                      <a:lnTo>
                        <a:pt x="809" y="19"/>
                      </a:lnTo>
                      <a:lnTo>
                        <a:pt x="816" y="19"/>
                      </a:lnTo>
                      <a:lnTo>
                        <a:pt x="824" y="20"/>
                      </a:lnTo>
                      <a:lnTo>
                        <a:pt x="832" y="23"/>
                      </a:lnTo>
                      <a:lnTo>
                        <a:pt x="839" y="23"/>
                      </a:lnTo>
                      <a:lnTo>
                        <a:pt x="846" y="24"/>
                      </a:lnTo>
                      <a:lnTo>
                        <a:pt x="853" y="25"/>
                      </a:lnTo>
                      <a:lnTo>
                        <a:pt x="860" y="26"/>
                      </a:lnTo>
                      <a:lnTo>
                        <a:pt x="867" y="27"/>
                      </a:lnTo>
                      <a:lnTo>
                        <a:pt x="876" y="28"/>
                      </a:lnTo>
                      <a:lnTo>
                        <a:pt x="883" y="30"/>
                      </a:lnTo>
                      <a:lnTo>
                        <a:pt x="890" y="31"/>
                      </a:lnTo>
                      <a:lnTo>
                        <a:pt x="897" y="32"/>
                      </a:lnTo>
                      <a:lnTo>
                        <a:pt x="904" y="34"/>
                      </a:lnTo>
                      <a:lnTo>
                        <a:pt x="912" y="36"/>
                      </a:lnTo>
                      <a:lnTo>
                        <a:pt x="916" y="39"/>
                      </a:lnTo>
                      <a:lnTo>
                        <a:pt x="919" y="44"/>
                      </a:lnTo>
                      <a:lnTo>
                        <a:pt x="923" y="49"/>
                      </a:lnTo>
                      <a:lnTo>
                        <a:pt x="928" y="52"/>
                      </a:lnTo>
                      <a:lnTo>
                        <a:pt x="931" y="57"/>
                      </a:lnTo>
                      <a:lnTo>
                        <a:pt x="934" y="62"/>
                      </a:lnTo>
                      <a:lnTo>
                        <a:pt x="938" y="65"/>
                      </a:lnTo>
                      <a:lnTo>
                        <a:pt x="943" y="70"/>
                      </a:lnTo>
                      <a:lnTo>
                        <a:pt x="940" y="75"/>
                      </a:lnTo>
                      <a:lnTo>
                        <a:pt x="936" y="78"/>
                      </a:lnTo>
                      <a:lnTo>
                        <a:pt x="934" y="83"/>
                      </a:lnTo>
                      <a:lnTo>
                        <a:pt x="931" y="88"/>
                      </a:lnTo>
                      <a:lnTo>
                        <a:pt x="929" y="91"/>
                      </a:lnTo>
                      <a:lnTo>
                        <a:pt x="927" y="95"/>
                      </a:lnTo>
                      <a:lnTo>
                        <a:pt x="925" y="101"/>
                      </a:lnTo>
                      <a:lnTo>
                        <a:pt x="923" y="106"/>
                      </a:lnTo>
                      <a:lnTo>
                        <a:pt x="918" y="106"/>
                      </a:lnTo>
                      <a:lnTo>
                        <a:pt x="915" y="106"/>
                      </a:lnTo>
                      <a:lnTo>
                        <a:pt x="911" y="106"/>
                      </a:lnTo>
                      <a:lnTo>
                        <a:pt x="906" y="106"/>
                      </a:lnTo>
                      <a:lnTo>
                        <a:pt x="902" y="106"/>
                      </a:lnTo>
                      <a:lnTo>
                        <a:pt x="898" y="106"/>
                      </a:lnTo>
                      <a:lnTo>
                        <a:pt x="893" y="106"/>
                      </a:lnTo>
                      <a:lnTo>
                        <a:pt x="889" y="106"/>
                      </a:lnTo>
                      <a:lnTo>
                        <a:pt x="885" y="106"/>
                      </a:lnTo>
                      <a:lnTo>
                        <a:pt x="880" y="106"/>
                      </a:lnTo>
                      <a:lnTo>
                        <a:pt x="876" y="106"/>
                      </a:lnTo>
                      <a:lnTo>
                        <a:pt x="872" y="106"/>
                      </a:lnTo>
                      <a:lnTo>
                        <a:pt x="867" y="106"/>
                      </a:lnTo>
                      <a:lnTo>
                        <a:pt x="864" y="106"/>
                      </a:lnTo>
                      <a:lnTo>
                        <a:pt x="859" y="106"/>
                      </a:lnTo>
                      <a:lnTo>
                        <a:pt x="855" y="106"/>
                      </a:lnTo>
                      <a:lnTo>
                        <a:pt x="851" y="104"/>
                      </a:lnTo>
                      <a:lnTo>
                        <a:pt x="847" y="104"/>
                      </a:lnTo>
                      <a:lnTo>
                        <a:pt x="842" y="103"/>
                      </a:lnTo>
                      <a:lnTo>
                        <a:pt x="838" y="103"/>
                      </a:lnTo>
                      <a:lnTo>
                        <a:pt x="834" y="103"/>
                      </a:lnTo>
                      <a:lnTo>
                        <a:pt x="829" y="102"/>
                      </a:lnTo>
                      <a:lnTo>
                        <a:pt x="826" y="102"/>
                      </a:lnTo>
                      <a:lnTo>
                        <a:pt x="822" y="102"/>
                      </a:lnTo>
                      <a:lnTo>
                        <a:pt x="817" y="101"/>
                      </a:lnTo>
                      <a:lnTo>
                        <a:pt x="814" y="101"/>
                      </a:lnTo>
                      <a:lnTo>
                        <a:pt x="809" y="100"/>
                      </a:lnTo>
                      <a:lnTo>
                        <a:pt x="806" y="100"/>
                      </a:lnTo>
                      <a:lnTo>
                        <a:pt x="801" y="100"/>
                      </a:lnTo>
                      <a:lnTo>
                        <a:pt x="797" y="99"/>
                      </a:lnTo>
                      <a:lnTo>
                        <a:pt x="792" y="99"/>
                      </a:lnTo>
                      <a:lnTo>
                        <a:pt x="789" y="99"/>
                      </a:lnTo>
                      <a:lnTo>
                        <a:pt x="784" y="97"/>
                      </a:lnTo>
                      <a:lnTo>
                        <a:pt x="781" y="97"/>
                      </a:lnTo>
                      <a:lnTo>
                        <a:pt x="776" y="96"/>
                      </a:lnTo>
                      <a:lnTo>
                        <a:pt x="772" y="95"/>
                      </a:lnTo>
                      <a:lnTo>
                        <a:pt x="768" y="95"/>
                      </a:lnTo>
                      <a:lnTo>
                        <a:pt x="764" y="95"/>
                      </a:lnTo>
                      <a:lnTo>
                        <a:pt x="759" y="94"/>
                      </a:lnTo>
                      <a:lnTo>
                        <a:pt x="756" y="94"/>
                      </a:lnTo>
                      <a:lnTo>
                        <a:pt x="751" y="93"/>
                      </a:lnTo>
                      <a:lnTo>
                        <a:pt x="746" y="93"/>
                      </a:lnTo>
                      <a:lnTo>
                        <a:pt x="743" y="93"/>
                      </a:lnTo>
                      <a:lnTo>
                        <a:pt x="739" y="93"/>
                      </a:lnTo>
                      <a:lnTo>
                        <a:pt x="734" y="91"/>
                      </a:lnTo>
                      <a:lnTo>
                        <a:pt x="731" y="91"/>
                      </a:lnTo>
                      <a:lnTo>
                        <a:pt x="726" y="91"/>
                      </a:lnTo>
                      <a:lnTo>
                        <a:pt x="722" y="91"/>
                      </a:lnTo>
                      <a:lnTo>
                        <a:pt x="719" y="90"/>
                      </a:lnTo>
                      <a:lnTo>
                        <a:pt x="713" y="90"/>
                      </a:lnTo>
                      <a:lnTo>
                        <a:pt x="709" y="90"/>
                      </a:lnTo>
                      <a:lnTo>
                        <a:pt x="706" y="90"/>
                      </a:lnTo>
                      <a:lnTo>
                        <a:pt x="701" y="89"/>
                      </a:lnTo>
                      <a:lnTo>
                        <a:pt x="696" y="89"/>
                      </a:lnTo>
                      <a:lnTo>
                        <a:pt x="693" y="89"/>
                      </a:lnTo>
                      <a:lnTo>
                        <a:pt x="688" y="89"/>
                      </a:lnTo>
                      <a:lnTo>
                        <a:pt x="684" y="89"/>
                      </a:lnTo>
                      <a:lnTo>
                        <a:pt x="680" y="89"/>
                      </a:lnTo>
                      <a:lnTo>
                        <a:pt x="675" y="89"/>
                      </a:lnTo>
                      <a:lnTo>
                        <a:pt x="671" y="89"/>
                      </a:lnTo>
                      <a:lnTo>
                        <a:pt x="667" y="89"/>
                      </a:lnTo>
                      <a:lnTo>
                        <a:pt x="663" y="89"/>
                      </a:lnTo>
                      <a:lnTo>
                        <a:pt x="658" y="89"/>
                      </a:lnTo>
                      <a:lnTo>
                        <a:pt x="655" y="90"/>
                      </a:lnTo>
                      <a:lnTo>
                        <a:pt x="650" y="89"/>
                      </a:lnTo>
                      <a:lnTo>
                        <a:pt x="645" y="88"/>
                      </a:lnTo>
                      <a:lnTo>
                        <a:pt x="641" y="88"/>
                      </a:lnTo>
                      <a:lnTo>
                        <a:pt x="636" y="88"/>
                      </a:lnTo>
                      <a:lnTo>
                        <a:pt x="632" y="87"/>
                      </a:lnTo>
                      <a:lnTo>
                        <a:pt x="628" y="87"/>
                      </a:lnTo>
                      <a:lnTo>
                        <a:pt x="623" y="85"/>
                      </a:lnTo>
                      <a:lnTo>
                        <a:pt x="619" y="85"/>
                      </a:lnTo>
                      <a:lnTo>
                        <a:pt x="614" y="85"/>
                      </a:lnTo>
                      <a:lnTo>
                        <a:pt x="610" y="84"/>
                      </a:lnTo>
                      <a:lnTo>
                        <a:pt x="605" y="84"/>
                      </a:lnTo>
                      <a:lnTo>
                        <a:pt x="600" y="84"/>
                      </a:lnTo>
                      <a:lnTo>
                        <a:pt x="595" y="83"/>
                      </a:lnTo>
                      <a:lnTo>
                        <a:pt x="592" y="83"/>
                      </a:lnTo>
                      <a:lnTo>
                        <a:pt x="587" y="83"/>
                      </a:lnTo>
                      <a:lnTo>
                        <a:pt x="582" y="83"/>
                      </a:lnTo>
                      <a:lnTo>
                        <a:pt x="578" y="82"/>
                      </a:lnTo>
                      <a:lnTo>
                        <a:pt x="573" y="82"/>
                      </a:lnTo>
                      <a:lnTo>
                        <a:pt x="568" y="81"/>
                      </a:lnTo>
                      <a:lnTo>
                        <a:pt x="563" y="81"/>
                      </a:lnTo>
                      <a:lnTo>
                        <a:pt x="559" y="81"/>
                      </a:lnTo>
                      <a:lnTo>
                        <a:pt x="554" y="81"/>
                      </a:lnTo>
                      <a:lnTo>
                        <a:pt x="549" y="81"/>
                      </a:lnTo>
                      <a:lnTo>
                        <a:pt x="544" y="81"/>
                      </a:lnTo>
                      <a:lnTo>
                        <a:pt x="540" y="81"/>
                      </a:lnTo>
                      <a:lnTo>
                        <a:pt x="536" y="81"/>
                      </a:lnTo>
                      <a:lnTo>
                        <a:pt x="531" y="81"/>
                      </a:lnTo>
                      <a:lnTo>
                        <a:pt x="525" y="81"/>
                      </a:lnTo>
                      <a:lnTo>
                        <a:pt x="521" y="81"/>
                      </a:lnTo>
                      <a:lnTo>
                        <a:pt x="516" y="81"/>
                      </a:lnTo>
                      <a:lnTo>
                        <a:pt x="512" y="81"/>
                      </a:lnTo>
                      <a:lnTo>
                        <a:pt x="508" y="82"/>
                      </a:lnTo>
                      <a:lnTo>
                        <a:pt x="501" y="81"/>
                      </a:lnTo>
                      <a:lnTo>
                        <a:pt x="493" y="81"/>
                      </a:lnTo>
                      <a:lnTo>
                        <a:pt x="485" y="81"/>
                      </a:lnTo>
                      <a:lnTo>
                        <a:pt x="479" y="81"/>
                      </a:lnTo>
                      <a:lnTo>
                        <a:pt x="472" y="80"/>
                      </a:lnTo>
                      <a:lnTo>
                        <a:pt x="465" y="80"/>
                      </a:lnTo>
                      <a:lnTo>
                        <a:pt x="458" y="80"/>
                      </a:lnTo>
                      <a:lnTo>
                        <a:pt x="451" y="80"/>
                      </a:lnTo>
                      <a:lnTo>
                        <a:pt x="444" y="78"/>
                      </a:lnTo>
                      <a:lnTo>
                        <a:pt x="438" y="78"/>
                      </a:lnTo>
                      <a:lnTo>
                        <a:pt x="429" y="78"/>
                      </a:lnTo>
                      <a:lnTo>
                        <a:pt x="422" y="78"/>
                      </a:lnTo>
                      <a:lnTo>
                        <a:pt x="415" y="78"/>
                      </a:lnTo>
                      <a:lnTo>
                        <a:pt x="409" y="78"/>
                      </a:lnTo>
                      <a:lnTo>
                        <a:pt x="402" y="78"/>
                      </a:lnTo>
                      <a:lnTo>
                        <a:pt x="395" y="78"/>
                      </a:lnTo>
                      <a:lnTo>
                        <a:pt x="387" y="78"/>
                      </a:lnTo>
                      <a:lnTo>
                        <a:pt x="381" y="78"/>
                      </a:lnTo>
                      <a:lnTo>
                        <a:pt x="374" y="78"/>
                      </a:lnTo>
                      <a:lnTo>
                        <a:pt x="366" y="78"/>
                      </a:lnTo>
                      <a:lnTo>
                        <a:pt x="359" y="78"/>
                      </a:lnTo>
                      <a:lnTo>
                        <a:pt x="352" y="78"/>
                      </a:lnTo>
                      <a:lnTo>
                        <a:pt x="345" y="80"/>
                      </a:lnTo>
                      <a:lnTo>
                        <a:pt x="339" y="80"/>
                      </a:lnTo>
                      <a:lnTo>
                        <a:pt x="331" y="80"/>
                      </a:lnTo>
                      <a:lnTo>
                        <a:pt x="325" y="80"/>
                      </a:lnTo>
                      <a:lnTo>
                        <a:pt x="318" y="81"/>
                      </a:lnTo>
                      <a:lnTo>
                        <a:pt x="311" y="81"/>
                      </a:lnTo>
                      <a:lnTo>
                        <a:pt x="304" y="81"/>
                      </a:lnTo>
                      <a:lnTo>
                        <a:pt x="298" y="82"/>
                      </a:lnTo>
                      <a:lnTo>
                        <a:pt x="291" y="82"/>
                      </a:lnTo>
                      <a:lnTo>
                        <a:pt x="283" y="83"/>
                      </a:lnTo>
                      <a:lnTo>
                        <a:pt x="276" y="83"/>
                      </a:lnTo>
                      <a:lnTo>
                        <a:pt x="269" y="83"/>
                      </a:lnTo>
                      <a:lnTo>
                        <a:pt x="263" y="84"/>
                      </a:lnTo>
                      <a:lnTo>
                        <a:pt x="256" y="84"/>
                      </a:lnTo>
                      <a:lnTo>
                        <a:pt x="249" y="85"/>
                      </a:lnTo>
                      <a:lnTo>
                        <a:pt x="242" y="85"/>
                      </a:lnTo>
                      <a:lnTo>
                        <a:pt x="235" y="87"/>
                      </a:lnTo>
                      <a:lnTo>
                        <a:pt x="229" y="88"/>
                      </a:lnTo>
                      <a:lnTo>
                        <a:pt x="222" y="88"/>
                      </a:lnTo>
                      <a:lnTo>
                        <a:pt x="215" y="89"/>
                      </a:lnTo>
                      <a:lnTo>
                        <a:pt x="208" y="90"/>
                      </a:lnTo>
                      <a:lnTo>
                        <a:pt x="202" y="90"/>
                      </a:lnTo>
                      <a:lnTo>
                        <a:pt x="194" y="91"/>
                      </a:lnTo>
                      <a:lnTo>
                        <a:pt x="187" y="93"/>
                      </a:lnTo>
                      <a:lnTo>
                        <a:pt x="181" y="94"/>
                      </a:lnTo>
                      <a:lnTo>
                        <a:pt x="174" y="95"/>
                      </a:lnTo>
                      <a:lnTo>
                        <a:pt x="167" y="95"/>
                      </a:lnTo>
                      <a:lnTo>
                        <a:pt x="161" y="96"/>
                      </a:lnTo>
                      <a:lnTo>
                        <a:pt x="154" y="97"/>
                      </a:lnTo>
                      <a:lnTo>
                        <a:pt x="147" y="99"/>
                      </a:lnTo>
                      <a:lnTo>
                        <a:pt x="141" y="100"/>
                      </a:lnTo>
                      <a:lnTo>
                        <a:pt x="134" y="101"/>
                      </a:lnTo>
                      <a:lnTo>
                        <a:pt x="127" y="103"/>
                      </a:lnTo>
                      <a:lnTo>
                        <a:pt x="121" y="104"/>
                      </a:lnTo>
                      <a:lnTo>
                        <a:pt x="114" y="106"/>
                      </a:lnTo>
                      <a:lnTo>
                        <a:pt x="108" y="107"/>
                      </a:lnTo>
                      <a:lnTo>
                        <a:pt x="101" y="108"/>
                      </a:lnTo>
                      <a:lnTo>
                        <a:pt x="95" y="110"/>
                      </a:lnTo>
                      <a:lnTo>
                        <a:pt x="88" y="112"/>
                      </a:lnTo>
                      <a:lnTo>
                        <a:pt x="82" y="113"/>
                      </a:lnTo>
                      <a:lnTo>
                        <a:pt x="76" y="115"/>
                      </a:lnTo>
                      <a:lnTo>
                        <a:pt x="69" y="116"/>
                      </a:lnTo>
                      <a:lnTo>
                        <a:pt x="65" y="115"/>
                      </a:lnTo>
                      <a:lnTo>
                        <a:pt x="62" y="115"/>
                      </a:lnTo>
                      <a:lnTo>
                        <a:pt x="58" y="114"/>
                      </a:lnTo>
                      <a:lnTo>
                        <a:pt x="56" y="114"/>
                      </a:lnTo>
                      <a:lnTo>
                        <a:pt x="52" y="113"/>
                      </a:lnTo>
                      <a:lnTo>
                        <a:pt x="49" y="113"/>
                      </a:lnTo>
                      <a:lnTo>
                        <a:pt x="45" y="113"/>
                      </a:lnTo>
                      <a:lnTo>
                        <a:pt x="43" y="113"/>
                      </a:lnTo>
                      <a:lnTo>
                        <a:pt x="39" y="113"/>
                      </a:lnTo>
                      <a:lnTo>
                        <a:pt x="37" y="113"/>
                      </a:lnTo>
                      <a:lnTo>
                        <a:pt x="33" y="113"/>
                      </a:lnTo>
                      <a:lnTo>
                        <a:pt x="31" y="113"/>
                      </a:lnTo>
                      <a:lnTo>
                        <a:pt x="27" y="113"/>
                      </a:lnTo>
                      <a:lnTo>
                        <a:pt x="25" y="113"/>
                      </a:lnTo>
                      <a:lnTo>
                        <a:pt x="22" y="113"/>
                      </a:lnTo>
                      <a:lnTo>
                        <a:pt x="19" y="113"/>
                      </a:lnTo>
                      <a:lnTo>
                        <a:pt x="18" y="109"/>
                      </a:lnTo>
                      <a:lnTo>
                        <a:pt x="16" y="107"/>
                      </a:lnTo>
                      <a:lnTo>
                        <a:pt x="15" y="103"/>
                      </a:lnTo>
                      <a:lnTo>
                        <a:pt x="14" y="101"/>
                      </a:lnTo>
                      <a:lnTo>
                        <a:pt x="12" y="95"/>
                      </a:lnTo>
                      <a:lnTo>
                        <a:pt x="9" y="91"/>
                      </a:lnTo>
                      <a:lnTo>
                        <a:pt x="7" y="87"/>
                      </a:lnTo>
                      <a:lnTo>
                        <a:pt x="5" y="83"/>
                      </a:lnTo>
                      <a:lnTo>
                        <a:pt x="2" y="78"/>
                      </a:lnTo>
                      <a:lnTo>
                        <a:pt x="0" y="75"/>
                      </a:lnTo>
                      <a:lnTo>
                        <a:pt x="2" y="70"/>
                      </a:lnTo>
                      <a:lnTo>
                        <a:pt x="6" y="68"/>
                      </a:lnTo>
                      <a:lnTo>
                        <a:pt x="8" y="64"/>
                      </a:lnTo>
                      <a:lnTo>
                        <a:pt x="12" y="61"/>
                      </a:lnTo>
                      <a:lnTo>
                        <a:pt x="14" y="58"/>
                      </a:lnTo>
                      <a:lnTo>
                        <a:pt x="18" y="55"/>
                      </a:lnTo>
                      <a:lnTo>
                        <a:pt x="21" y="52"/>
                      </a:lnTo>
                      <a:lnTo>
                        <a:pt x="25" y="51"/>
                      </a:lnTo>
                      <a:lnTo>
                        <a:pt x="27" y="49"/>
                      </a:lnTo>
                      <a:lnTo>
                        <a:pt x="31" y="46"/>
                      </a:lnTo>
                      <a:lnTo>
                        <a:pt x="34" y="44"/>
                      </a:lnTo>
                      <a:lnTo>
                        <a:pt x="38" y="43"/>
                      </a:lnTo>
                      <a:lnTo>
                        <a:pt x="41" y="40"/>
                      </a:lnTo>
                      <a:lnTo>
                        <a:pt x="45" y="39"/>
                      </a:lnTo>
                      <a:lnTo>
                        <a:pt x="49" y="38"/>
                      </a:lnTo>
                      <a:lnTo>
                        <a:pt x="53" y="37"/>
                      </a:lnTo>
                      <a:lnTo>
                        <a:pt x="56" y="34"/>
                      </a:lnTo>
                      <a:lnTo>
                        <a:pt x="60" y="33"/>
                      </a:lnTo>
                      <a:lnTo>
                        <a:pt x="64" y="32"/>
                      </a:lnTo>
                      <a:lnTo>
                        <a:pt x="67" y="31"/>
                      </a:lnTo>
                      <a:lnTo>
                        <a:pt x="71" y="30"/>
                      </a:lnTo>
                      <a:lnTo>
                        <a:pt x="76" y="30"/>
                      </a:lnTo>
                      <a:lnTo>
                        <a:pt x="79" y="28"/>
                      </a:lnTo>
                      <a:lnTo>
                        <a:pt x="83" y="27"/>
                      </a:lnTo>
                      <a:lnTo>
                        <a:pt x="88" y="27"/>
                      </a:lnTo>
                      <a:lnTo>
                        <a:pt x="91" y="26"/>
                      </a:lnTo>
                      <a:lnTo>
                        <a:pt x="95" y="25"/>
                      </a:lnTo>
                      <a:lnTo>
                        <a:pt x="98" y="25"/>
                      </a:lnTo>
                      <a:lnTo>
                        <a:pt x="103" y="25"/>
                      </a:lnTo>
                      <a:lnTo>
                        <a:pt x="107" y="25"/>
                      </a:lnTo>
                      <a:lnTo>
                        <a:pt x="111" y="24"/>
                      </a:lnTo>
                      <a:lnTo>
                        <a:pt x="116" y="24"/>
                      </a:lnTo>
                      <a:lnTo>
                        <a:pt x="120" y="23"/>
                      </a:lnTo>
                      <a:lnTo>
                        <a:pt x="123" y="23"/>
                      </a:lnTo>
                      <a:lnTo>
                        <a:pt x="127" y="23"/>
                      </a:lnTo>
                      <a:lnTo>
                        <a:pt x="132" y="23"/>
                      </a:lnTo>
                      <a:lnTo>
                        <a:pt x="135" y="23"/>
                      </a:lnTo>
                      <a:lnTo>
                        <a:pt x="140" y="21"/>
                      </a:lnTo>
                      <a:lnTo>
                        <a:pt x="143" y="21"/>
                      </a:lnTo>
                      <a:lnTo>
                        <a:pt x="148" y="21"/>
                      </a:lnTo>
                      <a:lnTo>
                        <a:pt x="152" y="20"/>
                      </a:lnTo>
                      <a:lnTo>
                        <a:pt x="156" y="20"/>
                      </a:lnTo>
                      <a:lnTo>
                        <a:pt x="161" y="20"/>
                      </a:lnTo>
                      <a:lnTo>
                        <a:pt x="165" y="20"/>
                      </a:lnTo>
                      <a:lnTo>
                        <a:pt x="170" y="19"/>
                      </a:lnTo>
                      <a:lnTo>
                        <a:pt x="173" y="19"/>
                      </a:lnTo>
                      <a:lnTo>
                        <a:pt x="177" y="19"/>
                      </a:lnTo>
                      <a:lnTo>
                        <a:pt x="181" y="19"/>
                      </a:lnTo>
                      <a:lnTo>
                        <a:pt x="186" y="19"/>
                      </a:lnTo>
                      <a:lnTo>
                        <a:pt x="190" y="19"/>
                      </a:lnTo>
                      <a:lnTo>
                        <a:pt x="194" y="18"/>
                      </a:lnTo>
                      <a:lnTo>
                        <a:pt x="198" y="18"/>
                      </a:lnTo>
                      <a:lnTo>
                        <a:pt x="202" y="17"/>
                      </a:lnTo>
                      <a:lnTo>
                        <a:pt x="206" y="17"/>
                      </a:lnTo>
                      <a:lnTo>
                        <a:pt x="210" y="15"/>
                      </a:lnTo>
                      <a:lnTo>
                        <a:pt x="215" y="15"/>
                      </a:lnTo>
                      <a:lnTo>
                        <a:pt x="218" y="14"/>
                      </a:lnTo>
                      <a:lnTo>
                        <a:pt x="222" y="14"/>
                      </a:lnTo>
                      <a:lnTo>
                        <a:pt x="225" y="13"/>
                      </a:lnTo>
                      <a:lnTo>
                        <a:pt x="230" y="12"/>
                      </a:lnTo>
                      <a:lnTo>
                        <a:pt x="234" y="12"/>
                      </a:lnTo>
                      <a:lnTo>
                        <a:pt x="237" y="11"/>
                      </a:lnTo>
                      <a:lnTo>
                        <a:pt x="242" y="9"/>
                      </a:lnTo>
                      <a:lnTo>
                        <a:pt x="245" y="9"/>
                      </a:lnTo>
                      <a:lnTo>
                        <a:pt x="249" y="7"/>
                      </a:lnTo>
                      <a:lnTo>
                        <a:pt x="251" y="7"/>
                      </a:lnTo>
                      <a:lnTo>
                        <a:pt x="255" y="7"/>
                      </a:lnTo>
                      <a:lnTo>
                        <a:pt x="257" y="7"/>
                      </a:lnTo>
                      <a:lnTo>
                        <a:pt x="260" y="7"/>
                      </a:lnTo>
                      <a:lnTo>
                        <a:pt x="263" y="6"/>
                      </a:lnTo>
                      <a:lnTo>
                        <a:pt x="266" y="6"/>
                      </a:lnTo>
                      <a:lnTo>
                        <a:pt x="269" y="6"/>
                      </a:lnTo>
                      <a:lnTo>
                        <a:pt x="272" y="5"/>
                      </a:lnTo>
                      <a:lnTo>
                        <a:pt x="275" y="5"/>
                      </a:lnTo>
                      <a:lnTo>
                        <a:pt x="278" y="5"/>
                      </a:lnTo>
                      <a:lnTo>
                        <a:pt x="281" y="5"/>
                      </a:lnTo>
                      <a:lnTo>
                        <a:pt x="283" y="5"/>
                      </a:lnTo>
                      <a:lnTo>
                        <a:pt x="287" y="5"/>
                      </a:lnTo>
                      <a:lnTo>
                        <a:pt x="289" y="5"/>
                      </a:lnTo>
                      <a:lnTo>
                        <a:pt x="293" y="5"/>
                      </a:lnTo>
                      <a:lnTo>
                        <a:pt x="295" y="5"/>
                      </a:lnTo>
                      <a:lnTo>
                        <a:pt x="298" y="5"/>
                      </a:lnTo>
                      <a:lnTo>
                        <a:pt x="301" y="5"/>
                      </a:lnTo>
                      <a:lnTo>
                        <a:pt x="304" y="5"/>
                      </a:lnTo>
                      <a:lnTo>
                        <a:pt x="307" y="5"/>
                      </a:lnTo>
                      <a:lnTo>
                        <a:pt x="311" y="5"/>
                      </a:lnTo>
                      <a:lnTo>
                        <a:pt x="313" y="5"/>
                      </a:lnTo>
                      <a:lnTo>
                        <a:pt x="315" y="5"/>
                      </a:lnTo>
                      <a:lnTo>
                        <a:pt x="319" y="5"/>
                      </a:lnTo>
                      <a:lnTo>
                        <a:pt x="321" y="5"/>
                      </a:lnTo>
                      <a:lnTo>
                        <a:pt x="325" y="5"/>
                      </a:lnTo>
                      <a:lnTo>
                        <a:pt x="329" y="5"/>
                      </a:lnTo>
                      <a:lnTo>
                        <a:pt x="331" y="5"/>
                      </a:lnTo>
                      <a:lnTo>
                        <a:pt x="333" y="5"/>
                      </a:lnTo>
                      <a:lnTo>
                        <a:pt x="337" y="5"/>
                      </a:lnTo>
                      <a:lnTo>
                        <a:pt x="340" y="6"/>
                      </a:lnTo>
                      <a:lnTo>
                        <a:pt x="343" y="5"/>
                      </a:lnTo>
                      <a:lnTo>
                        <a:pt x="346" y="5"/>
                      </a:lnTo>
                      <a:lnTo>
                        <a:pt x="349" y="5"/>
                      </a:lnTo>
                      <a:lnTo>
                        <a:pt x="351" y="5"/>
                      </a:lnTo>
                      <a:lnTo>
                        <a:pt x="355" y="5"/>
                      </a:lnTo>
                      <a:lnTo>
                        <a:pt x="357" y="5"/>
                      </a:lnTo>
                      <a:lnTo>
                        <a:pt x="361" y="5"/>
                      </a:lnTo>
                      <a:lnTo>
                        <a:pt x="364" y="5"/>
                      </a:lnTo>
                      <a:lnTo>
                        <a:pt x="366" y="5"/>
                      </a:lnTo>
                      <a:lnTo>
                        <a:pt x="369" y="5"/>
                      </a:lnTo>
                      <a:lnTo>
                        <a:pt x="371" y="5"/>
                      </a:lnTo>
                      <a:lnTo>
                        <a:pt x="376" y="5"/>
                      </a:lnTo>
                      <a:lnTo>
                        <a:pt x="378" y="5"/>
                      </a:lnTo>
                      <a:lnTo>
                        <a:pt x="382" y="5"/>
                      </a:lnTo>
                      <a:lnTo>
                        <a:pt x="384" y="5"/>
                      </a:lnTo>
                      <a:lnTo>
                        <a:pt x="387" y="5"/>
                      </a:lnTo>
                      <a:lnTo>
                        <a:pt x="390" y="5"/>
                      </a:lnTo>
                      <a:lnTo>
                        <a:pt x="394" y="5"/>
                      </a:lnTo>
                      <a:lnTo>
                        <a:pt x="396" y="5"/>
                      </a:lnTo>
                      <a:lnTo>
                        <a:pt x="400" y="5"/>
                      </a:lnTo>
                      <a:lnTo>
                        <a:pt x="402" y="5"/>
                      </a:lnTo>
                      <a:lnTo>
                        <a:pt x="404" y="5"/>
                      </a:lnTo>
                      <a:lnTo>
                        <a:pt x="407" y="4"/>
                      </a:lnTo>
                      <a:lnTo>
                        <a:pt x="410" y="4"/>
                      </a:lnTo>
                      <a:lnTo>
                        <a:pt x="414" y="2"/>
                      </a:lnTo>
                      <a:lnTo>
                        <a:pt x="418" y="2"/>
                      </a:lnTo>
                      <a:lnTo>
                        <a:pt x="420" y="1"/>
                      </a:lnTo>
                      <a:lnTo>
                        <a:pt x="422" y="1"/>
                      </a:lnTo>
                      <a:lnTo>
                        <a:pt x="426" y="1"/>
                      </a:lnTo>
                      <a:lnTo>
                        <a:pt x="428" y="1"/>
                      </a:lnTo>
                      <a:lnTo>
                        <a:pt x="432" y="0"/>
                      </a:lnTo>
                      <a:lnTo>
                        <a:pt x="435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Freeform 41"/>
                <p:cNvSpPr/>
                <p:nvPr/>
              </p:nvSpPr>
              <p:spPr>
                <a:xfrm>
                  <a:off x="7354800" y="2009880"/>
                  <a:ext cx="56880" cy="2635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07" h="499">
                      <a:moveTo>
                        <a:pt x="54" y="0"/>
                      </a:moveTo>
                      <a:lnTo>
                        <a:pt x="57" y="2"/>
                      </a:lnTo>
                      <a:lnTo>
                        <a:pt x="61" y="4"/>
                      </a:lnTo>
                      <a:lnTo>
                        <a:pt x="64" y="5"/>
                      </a:lnTo>
                      <a:lnTo>
                        <a:pt x="69" y="7"/>
                      </a:lnTo>
                      <a:lnTo>
                        <a:pt x="71" y="8"/>
                      </a:lnTo>
                      <a:lnTo>
                        <a:pt x="74" y="11"/>
                      </a:lnTo>
                      <a:lnTo>
                        <a:pt x="76" y="12"/>
                      </a:lnTo>
                      <a:lnTo>
                        <a:pt x="80" y="15"/>
                      </a:lnTo>
                      <a:lnTo>
                        <a:pt x="85" y="19"/>
                      </a:lnTo>
                      <a:lnTo>
                        <a:pt x="88" y="24"/>
                      </a:lnTo>
                      <a:lnTo>
                        <a:pt x="89" y="26"/>
                      </a:lnTo>
                      <a:lnTo>
                        <a:pt x="92" y="30"/>
                      </a:lnTo>
                      <a:lnTo>
                        <a:pt x="92" y="32"/>
                      </a:lnTo>
                      <a:lnTo>
                        <a:pt x="94" y="36"/>
                      </a:lnTo>
                      <a:lnTo>
                        <a:pt x="94" y="38"/>
                      </a:lnTo>
                      <a:lnTo>
                        <a:pt x="95" y="40"/>
                      </a:lnTo>
                      <a:lnTo>
                        <a:pt x="95" y="44"/>
                      </a:lnTo>
                      <a:lnTo>
                        <a:pt x="96" y="46"/>
                      </a:lnTo>
                      <a:lnTo>
                        <a:pt x="96" y="50"/>
                      </a:lnTo>
                      <a:lnTo>
                        <a:pt x="96" y="53"/>
                      </a:lnTo>
                      <a:lnTo>
                        <a:pt x="96" y="56"/>
                      </a:lnTo>
                      <a:lnTo>
                        <a:pt x="98" y="59"/>
                      </a:lnTo>
                      <a:lnTo>
                        <a:pt x="96" y="63"/>
                      </a:lnTo>
                      <a:lnTo>
                        <a:pt x="96" y="65"/>
                      </a:lnTo>
                      <a:lnTo>
                        <a:pt x="96" y="69"/>
                      </a:lnTo>
                      <a:lnTo>
                        <a:pt x="96" y="74"/>
                      </a:lnTo>
                      <a:lnTo>
                        <a:pt x="95" y="76"/>
                      </a:lnTo>
                      <a:lnTo>
                        <a:pt x="95" y="81"/>
                      </a:lnTo>
                      <a:lnTo>
                        <a:pt x="94" y="83"/>
                      </a:lnTo>
                      <a:lnTo>
                        <a:pt x="94" y="88"/>
                      </a:lnTo>
                      <a:lnTo>
                        <a:pt x="93" y="90"/>
                      </a:lnTo>
                      <a:lnTo>
                        <a:pt x="92" y="94"/>
                      </a:lnTo>
                      <a:lnTo>
                        <a:pt x="92" y="97"/>
                      </a:lnTo>
                      <a:lnTo>
                        <a:pt x="90" y="101"/>
                      </a:lnTo>
                      <a:lnTo>
                        <a:pt x="89" y="105"/>
                      </a:lnTo>
                      <a:lnTo>
                        <a:pt x="89" y="108"/>
                      </a:lnTo>
                      <a:lnTo>
                        <a:pt x="87" y="112"/>
                      </a:lnTo>
                      <a:lnTo>
                        <a:pt x="87" y="116"/>
                      </a:lnTo>
                      <a:lnTo>
                        <a:pt x="86" y="119"/>
                      </a:lnTo>
                      <a:lnTo>
                        <a:pt x="85" y="122"/>
                      </a:lnTo>
                      <a:lnTo>
                        <a:pt x="85" y="126"/>
                      </a:lnTo>
                      <a:lnTo>
                        <a:pt x="83" y="129"/>
                      </a:lnTo>
                      <a:lnTo>
                        <a:pt x="82" y="133"/>
                      </a:lnTo>
                      <a:lnTo>
                        <a:pt x="82" y="137"/>
                      </a:lnTo>
                      <a:lnTo>
                        <a:pt x="80" y="140"/>
                      </a:lnTo>
                      <a:lnTo>
                        <a:pt x="80" y="144"/>
                      </a:lnTo>
                      <a:lnTo>
                        <a:pt x="79" y="147"/>
                      </a:lnTo>
                      <a:lnTo>
                        <a:pt x="77" y="151"/>
                      </a:lnTo>
                      <a:lnTo>
                        <a:pt x="76" y="154"/>
                      </a:lnTo>
                      <a:lnTo>
                        <a:pt x="76" y="158"/>
                      </a:lnTo>
                      <a:lnTo>
                        <a:pt x="76" y="162"/>
                      </a:lnTo>
                      <a:lnTo>
                        <a:pt x="76" y="165"/>
                      </a:lnTo>
                      <a:lnTo>
                        <a:pt x="75" y="169"/>
                      </a:lnTo>
                      <a:lnTo>
                        <a:pt x="75" y="172"/>
                      </a:lnTo>
                      <a:lnTo>
                        <a:pt x="74" y="175"/>
                      </a:lnTo>
                      <a:lnTo>
                        <a:pt x="74" y="178"/>
                      </a:lnTo>
                      <a:lnTo>
                        <a:pt x="74" y="182"/>
                      </a:lnTo>
                      <a:lnTo>
                        <a:pt x="75" y="184"/>
                      </a:lnTo>
                      <a:lnTo>
                        <a:pt x="75" y="188"/>
                      </a:lnTo>
                      <a:lnTo>
                        <a:pt x="76" y="191"/>
                      </a:lnTo>
                      <a:lnTo>
                        <a:pt x="76" y="195"/>
                      </a:lnTo>
                      <a:lnTo>
                        <a:pt x="77" y="197"/>
                      </a:lnTo>
                      <a:lnTo>
                        <a:pt x="76" y="202"/>
                      </a:lnTo>
                      <a:lnTo>
                        <a:pt x="76" y="207"/>
                      </a:lnTo>
                      <a:lnTo>
                        <a:pt x="76" y="210"/>
                      </a:lnTo>
                      <a:lnTo>
                        <a:pt x="76" y="215"/>
                      </a:lnTo>
                      <a:lnTo>
                        <a:pt x="75" y="220"/>
                      </a:lnTo>
                      <a:lnTo>
                        <a:pt x="74" y="224"/>
                      </a:lnTo>
                      <a:lnTo>
                        <a:pt x="74" y="228"/>
                      </a:lnTo>
                      <a:lnTo>
                        <a:pt x="74" y="233"/>
                      </a:lnTo>
                      <a:lnTo>
                        <a:pt x="74" y="237"/>
                      </a:lnTo>
                      <a:lnTo>
                        <a:pt x="74" y="241"/>
                      </a:lnTo>
                      <a:lnTo>
                        <a:pt x="74" y="246"/>
                      </a:lnTo>
                      <a:lnTo>
                        <a:pt x="74" y="251"/>
                      </a:lnTo>
                      <a:lnTo>
                        <a:pt x="74" y="255"/>
                      </a:lnTo>
                      <a:lnTo>
                        <a:pt x="74" y="259"/>
                      </a:lnTo>
                      <a:lnTo>
                        <a:pt x="74" y="264"/>
                      </a:lnTo>
                      <a:lnTo>
                        <a:pt x="74" y="268"/>
                      </a:lnTo>
                      <a:lnTo>
                        <a:pt x="74" y="272"/>
                      </a:lnTo>
                      <a:lnTo>
                        <a:pt x="74" y="277"/>
                      </a:lnTo>
                      <a:lnTo>
                        <a:pt x="74" y="281"/>
                      </a:lnTo>
                      <a:lnTo>
                        <a:pt x="74" y="285"/>
                      </a:lnTo>
                      <a:lnTo>
                        <a:pt x="74" y="290"/>
                      </a:lnTo>
                      <a:lnTo>
                        <a:pt x="75" y="293"/>
                      </a:lnTo>
                      <a:lnTo>
                        <a:pt x="76" y="298"/>
                      </a:lnTo>
                      <a:lnTo>
                        <a:pt x="76" y="303"/>
                      </a:lnTo>
                      <a:lnTo>
                        <a:pt x="76" y="306"/>
                      </a:lnTo>
                      <a:lnTo>
                        <a:pt x="76" y="311"/>
                      </a:lnTo>
                      <a:lnTo>
                        <a:pt x="76" y="316"/>
                      </a:lnTo>
                      <a:lnTo>
                        <a:pt x="76" y="319"/>
                      </a:lnTo>
                      <a:lnTo>
                        <a:pt x="77" y="324"/>
                      </a:lnTo>
                      <a:lnTo>
                        <a:pt x="77" y="329"/>
                      </a:lnTo>
                      <a:lnTo>
                        <a:pt x="79" y="332"/>
                      </a:lnTo>
                      <a:lnTo>
                        <a:pt x="79" y="336"/>
                      </a:lnTo>
                      <a:lnTo>
                        <a:pt x="79" y="341"/>
                      </a:lnTo>
                      <a:lnTo>
                        <a:pt x="80" y="346"/>
                      </a:lnTo>
                      <a:lnTo>
                        <a:pt x="80" y="349"/>
                      </a:lnTo>
                      <a:lnTo>
                        <a:pt x="81" y="354"/>
                      </a:lnTo>
                      <a:lnTo>
                        <a:pt x="82" y="357"/>
                      </a:lnTo>
                      <a:lnTo>
                        <a:pt x="82" y="362"/>
                      </a:lnTo>
                      <a:lnTo>
                        <a:pt x="82" y="366"/>
                      </a:lnTo>
                      <a:lnTo>
                        <a:pt x="85" y="369"/>
                      </a:lnTo>
                      <a:lnTo>
                        <a:pt x="85" y="374"/>
                      </a:lnTo>
                      <a:lnTo>
                        <a:pt x="85" y="378"/>
                      </a:lnTo>
                      <a:lnTo>
                        <a:pt x="86" y="382"/>
                      </a:lnTo>
                      <a:lnTo>
                        <a:pt x="87" y="387"/>
                      </a:lnTo>
                      <a:lnTo>
                        <a:pt x="87" y="391"/>
                      </a:lnTo>
                      <a:lnTo>
                        <a:pt x="89" y="395"/>
                      </a:lnTo>
                      <a:lnTo>
                        <a:pt x="89" y="400"/>
                      </a:lnTo>
                      <a:lnTo>
                        <a:pt x="90" y="404"/>
                      </a:lnTo>
                      <a:lnTo>
                        <a:pt x="92" y="407"/>
                      </a:lnTo>
                      <a:lnTo>
                        <a:pt x="92" y="412"/>
                      </a:lnTo>
                      <a:lnTo>
                        <a:pt x="93" y="416"/>
                      </a:lnTo>
                      <a:lnTo>
                        <a:pt x="94" y="420"/>
                      </a:lnTo>
                      <a:lnTo>
                        <a:pt x="94" y="424"/>
                      </a:lnTo>
                      <a:lnTo>
                        <a:pt x="95" y="429"/>
                      </a:lnTo>
                      <a:lnTo>
                        <a:pt x="96" y="433"/>
                      </a:lnTo>
                      <a:lnTo>
                        <a:pt x="98" y="437"/>
                      </a:lnTo>
                      <a:lnTo>
                        <a:pt x="99" y="440"/>
                      </a:lnTo>
                      <a:lnTo>
                        <a:pt x="100" y="445"/>
                      </a:lnTo>
                      <a:lnTo>
                        <a:pt x="101" y="449"/>
                      </a:lnTo>
                      <a:lnTo>
                        <a:pt x="102" y="454"/>
                      </a:lnTo>
                      <a:lnTo>
                        <a:pt x="103" y="458"/>
                      </a:lnTo>
                      <a:lnTo>
                        <a:pt x="105" y="462"/>
                      </a:lnTo>
                      <a:lnTo>
                        <a:pt x="106" y="467"/>
                      </a:lnTo>
                      <a:lnTo>
                        <a:pt x="107" y="471"/>
                      </a:lnTo>
                      <a:lnTo>
                        <a:pt x="103" y="474"/>
                      </a:lnTo>
                      <a:lnTo>
                        <a:pt x="99" y="477"/>
                      </a:lnTo>
                      <a:lnTo>
                        <a:pt x="94" y="481"/>
                      </a:lnTo>
                      <a:lnTo>
                        <a:pt x="90" y="484"/>
                      </a:lnTo>
                      <a:lnTo>
                        <a:pt x="87" y="488"/>
                      </a:lnTo>
                      <a:lnTo>
                        <a:pt x="82" y="492"/>
                      </a:lnTo>
                      <a:lnTo>
                        <a:pt x="77" y="494"/>
                      </a:lnTo>
                      <a:lnTo>
                        <a:pt x="74" y="499"/>
                      </a:lnTo>
                      <a:lnTo>
                        <a:pt x="68" y="495"/>
                      </a:lnTo>
                      <a:lnTo>
                        <a:pt x="64" y="493"/>
                      </a:lnTo>
                      <a:lnTo>
                        <a:pt x="58" y="489"/>
                      </a:lnTo>
                      <a:lnTo>
                        <a:pt x="55" y="487"/>
                      </a:lnTo>
                      <a:lnTo>
                        <a:pt x="51" y="483"/>
                      </a:lnTo>
                      <a:lnTo>
                        <a:pt x="48" y="481"/>
                      </a:lnTo>
                      <a:lnTo>
                        <a:pt x="44" y="477"/>
                      </a:lnTo>
                      <a:lnTo>
                        <a:pt x="41" y="475"/>
                      </a:lnTo>
                      <a:lnTo>
                        <a:pt x="37" y="471"/>
                      </a:lnTo>
                      <a:lnTo>
                        <a:pt x="33" y="467"/>
                      </a:lnTo>
                      <a:lnTo>
                        <a:pt x="31" y="463"/>
                      </a:lnTo>
                      <a:lnTo>
                        <a:pt x="29" y="459"/>
                      </a:lnTo>
                      <a:lnTo>
                        <a:pt x="26" y="456"/>
                      </a:lnTo>
                      <a:lnTo>
                        <a:pt x="23" y="451"/>
                      </a:lnTo>
                      <a:lnTo>
                        <a:pt x="20" y="448"/>
                      </a:lnTo>
                      <a:lnTo>
                        <a:pt x="19" y="444"/>
                      </a:lnTo>
                      <a:lnTo>
                        <a:pt x="17" y="439"/>
                      </a:lnTo>
                      <a:lnTo>
                        <a:pt x="16" y="435"/>
                      </a:lnTo>
                      <a:lnTo>
                        <a:pt x="13" y="430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9" y="417"/>
                      </a:lnTo>
                      <a:lnTo>
                        <a:pt x="9" y="412"/>
                      </a:lnTo>
                      <a:lnTo>
                        <a:pt x="7" y="407"/>
                      </a:lnTo>
                      <a:lnTo>
                        <a:pt x="6" y="402"/>
                      </a:lnTo>
                      <a:lnTo>
                        <a:pt x="5" y="398"/>
                      </a:lnTo>
                      <a:lnTo>
                        <a:pt x="4" y="392"/>
                      </a:lnTo>
                      <a:lnTo>
                        <a:pt x="4" y="387"/>
                      </a:lnTo>
                      <a:lnTo>
                        <a:pt x="3" y="382"/>
                      </a:lnTo>
                      <a:lnTo>
                        <a:pt x="3" y="378"/>
                      </a:lnTo>
                      <a:lnTo>
                        <a:pt x="1" y="372"/>
                      </a:lnTo>
                      <a:lnTo>
                        <a:pt x="1" y="367"/>
                      </a:lnTo>
                      <a:lnTo>
                        <a:pt x="1" y="362"/>
                      </a:lnTo>
                      <a:lnTo>
                        <a:pt x="0" y="357"/>
                      </a:lnTo>
                      <a:lnTo>
                        <a:pt x="0" y="351"/>
                      </a:lnTo>
                      <a:lnTo>
                        <a:pt x="0" y="347"/>
                      </a:lnTo>
                      <a:lnTo>
                        <a:pt x="0" y="341"/>
                      </a:lnTo>
                      <a:lnTo>
                        <a:pt x="0" y="336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19"/>
                      </a:lnTo>
                      <a:lnTo>
                        <a:pt x="0" y="313"/>
                      </a:lnTo>
                      <a:lnTo>
                        <a:pt x="0" y="309"/>
                      </a:lnTo>
                      <a:lnTo>
                        <a:pt x="0" y="304"/>
                      </a:lnTo>
                      <a:lnTo>
                        <a:pt x="0" y="298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1" y="281"/>
                      </a:lnTo>
                      <a:lnTo>
                        <a:pt x="1" y="275"/>
                      </a:lnTo>
                      <a:lnTo>
                        <a:pt x="1" y="271"/>
                      </a:lnTo>
                      <a:lnTo>
                        <a:pt x="1" y="266"/>
                      </a:lnTo>
                      <a:lnTo>
                        <a:pt x="1" y="260"/>
                      </a:lnTo>
                      <a:lnTo>
                        <a:pt x="1" y="255"/>
                      </a:lnTo>
                      <a:lnTo>
                        <a:pt x="1" y="251"/>
                      </a:lnTo>
                      <a:lnTo>
                        <a:pt x="1" y="245"/>
                      </a:lnTo>
                      <a:lnTo>
                        <a:pt x="1" y="240"/>
                      </a:lnTo>
                      <a:lnTo>
                        <a:pt x="1" y="235"/>
                      </a:lnTo>
                      <a:lnTo>
                        <a:pt x="1" y="230"/>
                      </a:lnTo>
                      <a:lnTo>
                        <a:pt x="1" y="224"/>
                      </a:lnTo>
                      <a:lnTo>
                        <a:pt x="1" y="220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0" y="205"/>
                      </a:lnTo>
                      <a:lnTo>
                        <a:pt x="0" y="201"/>
                      </a:lnTo>
                      <a:lnTo>
                        <a:pt x="0" y="197"/>
                      </a:lnTo>
                      <a:lnTo>
                        <a:pt x="0" y="194"/>
                      </a:lnTo>
                      <a:lnTo>
                        <a:pt x="0" y="190"/>
                      </a:lnTo>
                      <a:lnTo>
                        <a:pt x="0" y="188"/>
                      </a:lnTo>
                      <a:lnTo>
                        <a:pt x="0" y="183"/>
                      </a:lnTo>
                      <a:lnTo>
                        <a:pt x="1" y="181"/>
                      </a:lnTo>
                      <a:lnTo>
                        <a:pt x="1" y="177"/>
                      </a:lnTo>
                      <a:lnTo>
                        <a:pt x="1" y="173"/>
                      </a:lnTo>
                      <a:lnTo>
                        <a:pt x="1" y="170"/>
                      </a:lnTo>
                      <a:lnTo>
                        <a:pt x="1" y="166"/>
                      </a:lnTo>
                      <a:lnTo>
                        <a:pt x="1" y="163"/>
                      </a:lnTo>
                      <a:lnTo>
                        <a:pt x="3" y="159"/>
                      </a:lnTo>
                      <a:lnTo>
                        <a:pt x="3" y="156"/>
                      </a:lnTo>
                      <a:lnTo>
                        <a:pt x="3" y="153"/>
                      </a:lnTo>
                      <a:lnTo>
                        <a:pt x="3" y="150"/>
                      </a:lnTo>
                      <a:lnTo>
                        <a:pt x="3" y="146"/>
                      </a:lnTo>
                      <a:lnTo>
                        <a:pt x="3" y="143"/>
                      </a:lnTo>
                      <a:lnTo>
                        <a:pt x="3" y="139"/>
                      </a:lnTo>
                      <a:lnTo>
                        <a:pt x="3" y="135"/>
                      </a:lnTo>
                      <a:lnTo>
                        <a:pt x="4" y="132"/>
                      </a:lnTo>
                      <a:lnTo>
                        <a:pt x="4" y="129"/>
                      </a:lnTo>
                      <a:lnTo>
                        <a:pt x="4" y="126"/>
                      </a:lnTo>
                      <a:lnTo>
                        <a:pt x="4" y="121"/>
                      </a:lnTo>
                      <a:lnTo>
                        <a:pt x="5" y="119"/>
                      </a:lnTo>
                      <a:lnTo>
                        <a:pt x="5" y="115"/>
                      </a:lnTo>
                      <a:lnTo>
                        <a:pt x="5" y="112"/>
                      </a:lnTo>
                      <a:lnTo>
                        <a:pt x="6" y="108"/>
                      </a:lnTo>
                      <a:lnTo>
                        <a:pt x="6" y="106"/>
                      </a:lnTo>
                      <a:lnTo>
                        <a:pt x="6" y="101"/>
                      </a:lnTo>
                      <a:lnTo>
                        <a:pt x="6" y="99"/>
                      </a:lnTo>
                      <a:lnTo>
                        <a:pt x="7" y="95"/>
                      </a:lnTo>
                      <a:lnTo>
                        <a:pt x="9" y="91"/>
                      </a:lnTo>
                      <a:lnTo>
                        <a:pt x="9" y="88"/>
                      </a:lnTo>
                      <a:lnTo>
                        <a:pt x="9" y="86"/>
                      </a:lnTo>
                      <a:lnTo>
                        <a:pt x="9" y="81"/>
                      </a:lnTo>
                      <a:lnTo>
                        <a:pt x="10" y="78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2" y="68"/>
                      </a:lnTo>
                      <a:lnTo>
                        <a:pt x="13" y="65"/>
                      </a:lnTo>
                      <a:lnTo>
                        <a:pt x="13" y="62"/>
                      </a:lnTo>
                      <a:lnTo>
                        <a:pt x="14" y="59"/>
                      </a:lnTo>
                      <a:lnTo>
                        <a:pt x="16" y="56"/>
                      </a:lnTo>
                      <a:lnTo>
                        <a:pt x="17" y="53"/>
                      </a:lnTo>
                      <a:lnTo>
                        <a:pt x="18" y="50"/>
                      </a:lnTo>
                      <a:lnTo>
                        <a:pt x="19" y="48"/>
                      </a:lnTo>
                      <a:lnTo>
                        <a:pt x="20" y="44"/>
                      </a:lnTo>
                      <a:lnTo>
                        <a:pt x="22" y="42"/>
                      </a:lnTo>
                      <a:lnTo>
                        <a:pt x="23" y="38"/>
                      </a:lnTo>
                      <a:lnTo>
                        <a:pt x="24" y="36"/>
                      </a:lnTo>
                      <a:lnTo>
                        <a:pt x="26" y="32"/>
                      </a:lnTo>
                      <a:lnTo>
                        <a:pt x="28" y="30"/>
                      </a:lnTo>
                      <a:lnTo>
                        <a:pt x="29" y="27"/>
                      </a:lnTo>
                      <a:lnTo>
                        <a:pt x="31" y="24"/>
                      </a:lnTo>
                      <a:lnTo>
                        <a:pt x="32" y="21"/>
                      </a:lnTo>
                      <a:lnTo>
                        <a:pt x="35" y="19"/>
                      </a:lnTo>
                      <a:lnTo>
                        <a:pt x="38" y="14"/>
                      </a:lnTo>
                      <a:lnTo>
                        <a:pt x="44" y="10"/>
                      </a:lnTo>
                      <a:lnTo>
                        <a:pt x="45" y="7"/>
                      </a:lnTo>
                      <a:lnTo>
                        <a:pt x="48" y="5"/>
                      </a:lnTo>
                      <a:lnTo>
                        <a:pt x="51" y="2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Freeform 42"/>
                <p:cNvSpPr/>
                <p:nvPr/>
              </p:nvSpPr>
              <p:spPr>
                <a:xfrm>
                  <a:off x="7719840" y="1928880"/>
                  <a:ext cx="83880" cy="419400"/>
                </a:xfrm>
                <a:custGeom>
                  <a:avLst/>
                  <a:gdLst>
                    <a:gd name="textAreaLeft" fmla="*/ 0 w 83880"/>
                    <a:gd name="textAreaRight" fmla="*/ 83880 w 83880"/>
                    <a:gd name="textAreaTop" fmla="*/ 0 h 419400"/>
                    <a:gd name="textAreaBottom" fmla="*/ 419760 h 419400"/>
                  </a:gdLst>
                  <a:ahLst/>
                  <a:rect l="textAreaLeft" t="textAreaTop" r="textAreaRight" b="textAreaBottom"/>
                  <a:pathLst>
                    <a:path w="159" h="792">
                      <a:moveTo>
                        <a:pt x="144" y="0"/>
                      </a:moveTo>
                      <a:lnTo>
                        <a:pt x="58" y="8"/>
                      </a:lnTo>
                      <a:lnTo>
                        <a:pt x="60" y="23"/>
                      </a:lnTo>
                      <a:lnTo>
                        <a:pt x="60" y="38"/>
                      </a:lnTo>
                      <a:lnTo>
                        <a:pt x="63" y="52"/>
                      </a:lnTo>
                      <a:lnTo>
                        <a:pt x="64" y="67"/>
                      </a:lnTo>
                      <a:lnTo>
                        <a:pt x="65" y="81"/>
                      </a:lnTo>
                      <a:lnTo>
                        <a:pt x="65" y="95"/>
                      </a:lnTo>
                      <a:lnTo>
                        <a:pt x="66" y="109"/>
                      </a:lnTo>
                      <a:lnTo>
                        <a:pt x="67" y="124"/>
                      </a:lnTo>
                      <a:lnTo>
                        <a:pt x="68" y="137"/>
                      </a:lnTo>
                      <a:lnTo>
                        <a:pt x="70" y="151"/>
                      </a:lnTo>
                      <a:lnTo>
                        <a:pt x="70" y="165"/>
                      </a:lnTo>
                      <a:lnTo>
                        <a:pt x="71" y="179"/>
                      </a:lnTo>
                      <a:lnTo>
                        <a:pt x="71" y="192"/>
                      </a:lnTo>
                      <a:lnTo>
                        <a:pt x="72" y="205"/>
                      </a:lnTo>
                      <a:lnTo>
                        <a:pt x="72" y="219"/>
                      </a:lnTo>
                      <a:lnTo>
                        <a:pt x="73" y="233"/>
                      </a:lnTo>
                      <a:lnTo>
                        <a:pt x="73" y="246"/>
                      </a:lnTo>
                      <a:lnTo>
                        <a:pt x="73" y="258"/>
                      </a:lnTo>
                      <a:lnTo>
                        <a:pt x="73" y="271"/>
                      </a:lnTo>
                      <a:lnTo>
                        <a:pt x="73" y="284"/>
                      </a:lnTo>
                      <a:lnTo>
                        <a:pt x="73" y="297"/>
                      </a:lnTo>
                      <a:lnTo>
                        <a:pt x="73" y="310"/>
                      </a:lnTo>
                      <a:lnTo>
                        <a:pt x="73" y="322"/>
                      </a:lnTo>
                      <a:lnTo>
                        <a:pt x="73" y="335"/>
                      </a:lnTo>
                      <a:lnTo>
                        <a:pt x="72" y="347"/>
                      </a:lnTo>
                      <a:lnTo>
                        <a:pt x="72" y="360"/>
                      </a:lnTo>
                      <a:lnTo>
                        <a:pt x="71" y="372"/>
                      </a:lnTo>
                      <a:lnTo>
                        <a:pt x="71" y="385"/>
                      </a:lnTo>
                      <a:lnTo>
                        <a:pt x="70" y="395"/>
                      </a:lnTo>
                      <a:lnTo>
                        <a:pt x="70" y="407"/>
                      </a:lnTo>
                      <a:lnTo>
                        <a:pt x="68" y="420"/>
                      </a:lnTo>
                      <a:lnTo>
                        <a:pt x="68" y="432"/>
                      </a:lnTo>
                      <a:lnTo>
                        <a:pt x="67" y="443"/>
                      </a:lnTo>
                      <a:lnTo>
                        <a:pt x="66" y="455"/>
                      </a:lnTo>
                      <a:lnTo>
                        <a:pt x="65" y="467"/>
                      </a:lnTo>
                      <a:lnTo>
                        <a:pt x="64" y="479"/>
                      </a:lnTo>
                      <a:lnTo>
                        <a:pt x="63" y="488"/>
                      </a:lnTo>
                      <a:lnTo>
                        <a:pt x="61" y="500"/>
                      </a:lnTo>
                      <a:lnTo>
                        <a:pt x="60" y="512"/>
                      </a:lnTo>
                      <a:lnTo>
                        <a:pt x="58" y="522"/>
                      </a:lnTo>
                      <a:lnTo>
                        <a:pt x="57" y="533"/>
                      </a:lnTo>
                      <a:lnTo>
                        <a:pt x="54" y="544"/>
                      </a:lnTo>
                      <a:lnTo>
                        <a:pt x="53" y="554"/>
                      </a:lnTo>
                      <a:lnTo>
                        <a:pt x="52" y="565"/>
                      </a:lnTo>
                      <a:lnTo>
                        <a:pt x="49" y="576"/>
                      </a:lnTo>
                      <a:lnTo>
                        <a:pt x="47" y="587"/>
                      </a:lnTo>
                      <a:lnTo>
                        <a:pt x="46" y="597"/>
                      </a:lnTo>
                      <a:lnTo>
                        <a:pt x="45" y="608"/>
                      </a:lnTo>
                      <a:lnTo>
                        <a:pt x="42" y="617"/>
                      </a:lnTo>
                      <a:lnTo>
                        <a:pt x="40" y="628"/>
                      </a:lnTo>
                      <a:lnTo>
                        <a:pt x="38" y="638"/>
                      </a:lnTo>
                      <a:lnTo>
                        <a:pt x="34" y="648"/>
                      </a:lnTo>
                      <a:lnTo>
                        <a:pt x="32" y="658"/>
                      </a:lnTo>
                      <a:lnTo>
                        <a:pt x="29" y="667"/>
                      </a:lnTo>
                      <a:lnTo>
                        <a:pt x="27" y="677"/>
                      </a:lnTo>
                      <a:lnTo>
                        <a:pt x="25" y="686"/>
                      </a:lnTo>
                      <a:lnTo>
                        <a:pt x="21" y="696"/>
                      </a:lnTo>
                      <a:lnTo>
                        <a:pt x="19" y="706"/>
                      </a:lnTo>
                      <a:lnTo>
                        <a:pt x="15" y="715"/>
                      </a:lnTo>
                      <a:lnTo>
                        <a:pt x="11" y="724"/>
                      </a:lnTo>
                      <a:lnTo>
                        <a:pt x="9" y="734"/>
                      </a:lnTo>
                      <a:lnTo>
                        <a:pt x="6" y="743"/>
                      </a:lnTo>
                      <a:lnTo>
                        <a:pt x="2" y="752"/>
                      </a:lnTo>
                      <a:lnTo>
                        <a:pt x="0" y="762"/>
                      </a:lnTo>
                      <a:lnTo>
                        <a:pt x="80" y="792"/>
                      </a:lnTo>
                      <a:lnTo>
                        <a:pt x="83" y="782"/>
                      </a:lnTo>
                      <a:lnTo>
                        <a:pt x="86" y="773"/>
                      </a:lnTo>
                      <a:lnTo>
                        <a:pt x="90" y="763"/>
                      </a:lnTo>
                      <a:lnTo>
                        <a:pt x="93" y="754"/>
                      </a:lnTo>
                      <a:lnTo>
                        <a:pt x="96" y="743"/>
                      </a:lnTo>
                      <a:lnTo>
                        <a:pt x="99" y="734"/>
                      </a:lnTo>
                      <a:lnTo>
                        <a:pt x="103" y="723"/>
                      </a:lnTo>
                      <a:lnTo>
                        <a:pt x="105" y="714"/>
                      </a:lnTo>
                      <a:lnTo>
                        <a:pt x="108" y="703"/>
                      </a:lnTo>
                      <a:lnTo>
                        <a:pt x="111" y="692"/>
                      </a:lnTo>
                      <a:lnTo>
                        <a:pt x="115" y="682"/>
                      </a:lnTo>
                      <a:lnTo>
                        <a:pt x="117" y="671"/>
                      </a:lnTo>
                      <a:lnTo>
                        <a:pt x="119" y="661"/>
                      </a:lnTo>
                      <a:lnTo>
                        <a:pt x="122" y="651"/>
                      </a:lnTo>
                      <a:lnTo>
                        <a:pt x="124" y="640"/>
                      </a:lnTo>
                      <a:lnTo>
                        <a:pt x="128" y="629"/>
                      </a:lnTo>
                      <a:lnTo>
                        <a:pt x="129" y="617"/>
                      </a:lnTo>
                      <a:lnTo>
                        <a:pt x="131" y="607"/>
                      </a:lnTo>
                      <a:lnTo>
                        <a:pt x="134" y="595"/>
                      </a:lnTo>
                      <a:lnTo>
                        <a:pt x="136" y="584"/>
                      </a:lnTo>
                      <a:lnTo>
                        <a:pt x="137" y="572"/>
                      </a:lnTo>
                      <a:lnTo>
                        <a:pt x="138" y="562"/>
                      </a:lnTo>
                      <a:lnTo>
                        <a:pt x="141" y="550"/>
                      </a:lnTo>
                      <a:lnTo>
                        <a:pt x="143" y="539"/>
                      </a:lnTo>
                      <a:lnTo>
                        <a:pt x="144" y="526"/>
                      </a:lnTo>
                      <a:lnTo>
                        <a:pt x="146" y="515"/>
                      </a:lnTo>
                      <a:lnTo>
                        <a:pt x="147" y="503"/>
                      </a:lnTo>
                      <a:lnTo>
                        <a:pt x="149" y="492"/>
                      </a:lnTo>
                      <a:lnTo>
                        <a:pt x="150" y="480"/>
                      </a:lnTo>
                      <a:lnTo>
                        <a:pt x="151" y="468"/>
                      </a:lnTo>
                      <a:lnTo>
                        <a:pt x="153" y="456"/>
                      </a:lnTo>
                      <a:lnTo>
                        <a:pt x="154" y="443"/>
                      </a:lnTo>
                      <a:lnTo>
                        <a:pt x="154" y="430"/>
                      </a:lnTo>
                      <a:lnTo>
                        <a:pt x="156" y="418"/>
                      </a:lnTo>
                      <a:lnTo>
                        <a:pt x="156" y="405"/>
                      </a:lnTo>
                      <a:lnTo>
                        <a:pt x="156" y="393"/>
                      </a:lnTo>
                      <a:lnTo>
                        <a:pt x="157" y="380"/>
                      </a:lnTo>
                      <a:lnTo>
                        <a:pt x="157" y="367"/>
                      </a:lnTo>
                      <a:lnTo>
                        <a:pt x="159" y="354"/>
                      </a:lnTo>
                      <a:lnTo>
                        <a:pt x="159" y="342"/>
                      </a:lnTo>
                      <a:lnTo>
                        <a:pt x="159" y="328"/>
                      </a:lnTo>
                      <a:lnTo>
                        <a:pt x="159" y="315"/>
                      </a:lnTo>
                      <a:lnTo>
                        <a:pt x="159" y="302"/>
                      </a:lnTo>
                      <a:lnTo>
                        <a:pt x="159" y="289"/>
                      </a:lnTo>
                      <a:lnTo>
                        <a:pt x="159" y="274"/>
                      </a:lnTo>
                      <a:lnTo>
                        <a:pt x="159" y="260"/>
                      </a:lnTo>
                      <a:lnTo>
                        <a:pt x="159" y="248"/>
                      </a:lnTo>
                      <a:lnTo>
                        <a:pt x="159" y="234"/>
                      </a:lnTo>
                      <a:lnTo>
                        <a:pt x="159" y="220"/>
                      </a:lnTo>
                      <a:lnTo>
                        <a:pt x="159" y="205"/>
                      </a:lnTo>
                      <a:lnTo>
                        <a:pt x="157" y="191"/>
                      </a:lnTo>
                      <a:lnTo>
                        <a:pt x="157" y="177"/>
                      </a:lnTo>
                      <a:lnTo>
                        <a:pt x="156" y="163"/>
                      </a:lnTo>
                      <a:lnTo>
                        <a:pt x="156" y="148"/>
                      </a:lnTo>
                      <a:lnTo>
                        <a:pt x="154" y="134"/>
                      </a:lnTo>
                      <a:lnTo>
                        <a:pt x="154" y="120"/>
                      </a:lnTo>
                      <a:lnTo>
                        <a:pt x="153" y="105"/>
                      </a:lnTo>
                      <a:lnTo>
                        <a:pt x="151" y="90"/>
                      </a:lnTo>
                      <a:lnTo>
                        <a:pt x="151" y="76"/>
                      </a:lnTo>
                      <a:lnTo>
                        <a:pt x="149" y="61"/>
                      </a:lnTo>
                      <a:lnTo>
                        <a:pt x="148" y="45"/>
                      </a:lnTo>
                      <a:lnTo>
                        <a:pt x="147" y="30"/>
                      </a:lnTo>
                      <a:lnTo>
                        <a:pt x="146" y="1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Freeform 43"/>
                <p:cNvSpPr/>
                <p:nvPr/>
              </p:nvSpPr>
              <p:spPr>
                <a:xfrm>
                  <a:off x="7257960" y="1938600"/>
                  <a:ext cx="504360" cy="4269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426960"/>
                    <a:gd name="textAreaBottom" fmla="*/ 427320 h 426960"/>
                  </a:gdLst>
                  <a:ahLst/>
                  <a:rect l="textAreaLeft" t="textAreaTop" r="textAreaRight" b="textAreaBottom"/>
                  <a:pathLst>
                    <a:path w="954" h="808">
                      <a:moveTo>
                        <a:pt x="932" y="710"/>
                      </a:moveTo>
                      <a:lnTo>
                        <a:pt x="916" y="711"/>
                      </a:lnTo>
                      <a:lnTo>
                        <a:pt x="899" y="711"/>
                      </a:lnTo>
                      <a:lnTo>
                        <a:pt x="882" y="712"/>
                      </a:lnTo>
                      <a:lnTo>
                        <a:pt x="865" y="712"/>
                      </a:lnTo>
                      <a:lnTo>
                        <a:pt x="849" y="713"/>
                      </a:lnTo>
                      <a:lnTo>
                        <a:pt x="832" y="714"/>
                      </a:lnTo>
                      <a:lnTo>
                        <a:pt x="814" y="714"/>
                      </a:lnTo>
                      <a:lnTo>
                        <a:pt x="799" y="716"/>
                      </a:lnTo>
                      <a:lnTo>
                        <a:pt x="782" y="716"/>
                      </a:lnTo>
                      <a:lnTo>
                        <a:pt x="764" y="717"/>
                      </a:lnTo>
                      <a:lnTo>
                        <a:pt x="748" y="717"/>
                      </a:lnTo>
                      <a:lnTo>
                        <a:pt x="731" y="717"/>
                      </a:lnTo>
                      <a:lnTo>
                        <a:pt x="715" y="717"/>
                      </a:lnTo>
                      <a:lnTo>
                        <a:pt x="698" y="718"/>
                      </a:lnTo>
                      <a:lnTo>
                        <a:pt x="681" y="718"/>
                      </a:lnTo>
                      <a:lnTo>
                        <a:pt x="666" y="719"/>
                      </a:lnTo>
                      <a:lnTo>
                        <a:pt x="648" y="719"/>
                      </a:lnTo>
                      <a:lnTo>
                        <a:pt x="633" y="720"/>
                      </a:lnTo>
                      <a:lnTo>
                        <a:pt x="615" y="720"/>
                      </a:lnTo>
                      <a:lnTo>
                        <a:pt x="600" y="720"/>
                      </a:lnTo>
                      <a:lnTo>
                        <a:pt x="583" y="720"/>
                      </a:lnTo>
                      <a:lnTo>
                        <a:pt x="566" y="720"/>
                      </a:lnTo>
                      <a:lnTo>
                        <a:pt x="552" y="720"/>
                      </a:lnTo>
                      <a:lnTo>
                        <a:pt x="535" y="721"/>
                      </a:lnTo>
                      <a:lnTo>
                        <a:pt x="520" y="721"/>
                      </a:lnTo>
                      <a:lnTo>
                        <a:pt x="503" y="721"/>
                      </a:lnTo>
                      <a:lnTo>
                        <a:pt x="488" y="721"/>
                      </a:lnTo>
                      <a:lnTo>
                        <a:pt x="474" y="721"/>
                      </a:lnTo>
                      <a:lnTo>
                        <a:pt x="458" y="721"/>
                      </a:lnTo>
                      <a:lnTo>
                        <a:pt x="444" y="721"/>
                      </a:lnTo>
                      <a:lnTo>
                        <a:pt x="430" y="721"/>
                      </a:lnTo>
                      <a:lnTo>
                        <a:pt x="414" y="721"/>
                      </a:lnTo>
                      <a:lnTo>
                        <a:pt x="400" y="721"/>
                      </a:lnTo>
                      <a:lnTo>
                        <a:pt x="387" y="720"/>
                      </a:lnTo>
                      <a:lnTo>
                        <a:pt x="372" y="720"/>
                      </a:lnTo>
                      <a:lnTo>
                        <a:pt x="359" y="720"/>
                      </a:lnTo>
                      <a:lnTo>
                        <a:pt x="346" y="720"/>
                      </a:lnTo>
                      <a:lnTo>
                        <a:pt x="333" y="719"/>
                      </a:lnTo>
                      <a:lnTo>
                        <a:pt x="320" y="719"/>
                      </a:lnTo>
                      <a:lnTo>
                        <a:pt x="308" y="719"/>
                      </a:lnTo>
                      <a:lnTo>
                        <a:pt x="295" y="718"/>
                      </a:lnTo>
                      <a:lnTo>
                        <a:pt x="283" y="717"/>
                      </a:lnTo>
                      <a:lnTo>
                        <a:pt x="271" y="717"/>
                      </a:lnTo>
                      <a:lnTo>
                        <a:pt x="260" y="717"/>
                      </a:lnTo>
                      <a:lnTo>
                        <a:pt x="248" y="716"/>
                      </a:lnTo>
                      <a:lnTo>
                        <a:pt x="238" y="714"/>
                      </a:lnTo>
                      <a:lnTo>
                        <a:pt x="228" y="714"/>
                      </a:lnTo>
                      <a:lnTo>
                        <a:pt x="219" y="714"/>
                      </a:lnTo>
                      <a:lnTo>
                        <a:pt x="208" y="713"/>
                      </a:lnTo>
                      <a:lnTo>
                        <a:pt x="200" y="712"/>
                      </a:lnTo>
                      <a:lnTo>
                        <a:pt x="190" y="711"/>
                      </a:lnTo>
                      <a:lnTo>
                        <a:pt x="182" y="711"/>
                      </a:lnTo>
                      <a:lnTo>
                        <a:pt x="174" y="710"/>
                      </a:lnTo>
                      <a:lnTo>
                        <a:pt x="166" y="708"/>
                      </a:lnTo>
                      <a:lnTo>
                        <a:pt x="159" y="707"/>
                      </a:lnTo>
                      <a:lnTo>
                        <a:pt x="152" y="707"/>
                      </a:lnTo>
                      <a:lnTo>
                        <a:pt x="145" y="705"/>
                      </a:lnTo>
                      <a:lnTo>
                        <a:pt x="139" y="705"/>
                      </a:lnTo>
                      <a:lnTo>
                        <a:pt x="134" y="702"/>
                      </a:lnTo>
                      <a:lnTo>
                        <a:pt x="128" y="702"/>
                      </a:lnTo>
                      <a:lnTo>
                        <a:pt x="125" y="700"/>
                      </a:lnTo>
                      <a:lnTo>
                        <a:pt x="120" y="699"/>
                      </a:lnTo>
                      <a:lnTo>
                        <a:pt x="117" y="698"/>
                      </a:lnTo>
                      <a:lnTo>
                        <a:pt x="114" y="697"/>
                      </a:lnTo>
                      <a:lnTo>
                        <a:pt x="113" y="693"/>
                      </a:lnTo>
                      <a:lnTo>
                        <a:pt x="111" y="689"/>
                      </a:lnTo>
                      <a:lnTo>
                        <a:pt x="110" y="687"/>
                      </a:lnTo>
                      <a:lnTo>
                        <a:pt x="108" y="682"/>
                      </a:lnTo>
                      <a:lnTo>
                        <a:pt x="107" y="678"/>
                      </a:lnTo>
                      <a:lnTo>
                        <a:pt x="106" y="674"/>
                      </a:lnTo>
                      <a:lnTo>
                        <a:pt x="105" y="668"/>
                      </a:lnTo>
                      <a:lnTo>
                        <a:pt x="104" y="663"/>
                      </a:lnTo>
                      <a:lnTo>
                        <a:pt x="102" y="656"/>
                      </a:lnTo>
                      <a:lnTo>
                        <a:pt x="101" y="650"/>
                      </a:lnTo>
                      <a:lnTo>
                        <a:pt x="101" y="644"/>
                      </a:lnTo>
                      <a:lnTo>
                        <a:pt x="100" y="636"/>
                      </a:lnTo>
                      <a:lnTo>
                        <a:pt x="99" y="629"/>
                      </a:lnTo>
                      <a:lnTo>
                        <a:pt x="99" y="622"/>
                      </a:lnTo>
                      <a:lnTo>
                        <a:pt x="98" y="613"/>
                      </a:lnTo>
                      <a:lnTo>
                        <a:pt x="96" y="606"/>
                      </a:lnTo>
                      <a:lnTo>
                        <a:pt x="95" y="597"/>
                      </a:lnTo>
                      <a:lnTo>
                        <a:pt x="95" y="589"/>
                      </a:lnTo>
                      <a:lnTo>
                        <a:pt x="94" y="578"/>
                      </a:lnTo>
                      <a:lnTo>
                        <a:pt x="93" y="570"/>
                      </a:lnTo>
                      <a:lnTo>
                        <a:pt x="93" y="559"/>
                      </a:lnTo>
                      <a:lnTo>
                        <a:pt x="92" y="549"/>
                      </a:lnTo>
                      <a:lnTo>
                        <a:pt x="91" y="540"/>
                      </a:lnTo>
                      <a:lnTo>
                        <a:pt x="91" y="529"/>
                      </a:lnTo>
                      <a:lnTo>
                        <a:pt x="91" y="517"/>
                      </a:lnTo>
                      <a:lnTo>
                        <a:pt x="89" y="507"/>
                      </a:lnTo>
                      <a:lnTo>
                        <a:pt x="89" y="496"/>
                      </a:lnTo>
                      <a:lnTo>
                        <a:pt x="89" y="484"/>
                      </a:lnTo>
                      <a:lnTo>
                        <a:pt x="88" y="473"/>
                      </a:lnTo>
                      <a:lnTo>
                        <a:pt x="88" y="462"/>
                      </a:lnTo>
                      <a:lnTo>
                        <a:pt x="88" y="450"/>
                      </a:lnTo>
                      <a:lnTo>
                        <a:pt x="88" y="438"/>
                      </a:lnTo>
                      <a:lnTo>
                        <a:pt x="87" y="425"/>
                      </a:lnTo>
                      <a:lnTo>
                        <a:pt x="87" y="413"/>
                      </a:lnTo>
                      <a:lnTo>
                        <a:pt x="86" y="400"/>
                      </a:lnTo>
                      <a:lnTo>
                        <a:pt x="86" y="388"/>
                      </a:lnTo>
                      <a:lnTo>
                        <a:pt x="86" y="374"/>
                      </a:lnTo>
                      <a:lnTo>
                        <a:pt x="86" y="361"/>
                      </a:lnTo>
                      <a:lnTo>
                        <a:pt x="86" y="348"/>
                      </a:lnTo>
                      <a:lnTo>
                        <a:pt x="86" y="334"/>
                      </a:lnTo>
                      <a:lnTo>
                        <a:pt x="85" y="320"/>
                      </a:lnTo>
                      <a:lnTo>
                        <a:pt x="85" y="307"/>
                      </a:lnTo>
                      <a:lnTo>
                        <a:pt x="85" y="294"/>
                      </a:lnTo>
                      <a:lnTo>
                        <a:pt x="85" y="280"/>
                      </a:lnTo>
                      <a:lnTo>
                        <a:pt x="85" y="267"/>
                      </a:lnTo>
                      <a:lnTo>
                        <a:pt x="85" y="253"/>
                      </a:lnTo>
                      <a:lnTo>
                        <a:pt x="85" y="238"/>
                      </a:lnTo>
                      <a:lnTo>
                        <a:pt x="86" y="226"/>
                      </a:lnTo>
                      <a:lnTo>
                        <a:pt x="86" y="211"/>
                      </a:lnTo>
                      <a:lnTo>
                        <a:pt x="86" y="198"/>
                      </a:lnTo>
                      <a:lnTo>
                        <a:pt x="86" y="184"/>
                      </a:lnTo>
                      <a:lnTo>
                        <a:pt x="86" y="169"/>
                      </a:lnTo>
                      <a:lnTo>
                        <a:pt x="86" y="155"/>
                      </a:lnTo>
                      <a:lnTo>
                        <a:pt x="86" y="141"/>
                      </a:lnTo>
                      <a:lnTo>
                        <a:pt x="86" y="127"/>
                      </a:lnTo>
                      <a:lnTo>
                        <a:pt x="87" y="114"/>
                      </a:lnTo>
                      <a:lnTo>
                        <a:pt x="87" y="99"/>
                      </a:lnTo>
                      <a:lnTo>
                        <a:pt x="87" y="85"/>
                      </a:lnTo>
                      <a:lnTo>
                        <a:pt x="87" y="71"/>
                      </a:lnTo>
                      <a:lnTo>
                        <a:pt x="88" y="58"/>
                      </a:lnTo>
                      <a:lnTo>
                        <a:pt x="88" y="44"/>
                      </a:lnTo>
                      <a:lnTo>
                        <a:pt x="88" y="31"/>
                      </a:lnTo>
                      <a:lnTo>
                        <a:pt x="89" y="18"/>
                      </a:lnTo>
                      <a:lnTo>
                        <a:pt x="91" y="4"/>
                      </a:lnTo>
                      <a:lnTo>
                        <a:pt x="88" y="2"/>
                      </a:lnTo>
                      <a:lnTo>
                        <a:pt x="86" y="1"/>
                      </a:lnTo>
                      <a:lnTo>
                        <a:pt x="83" y="1"/>
                      </a:lnTo>
                      <a:lnTo>
                        <a:pt x="81" y="1"/>
                      </a:lnTo>
                      <a:lnTo>
                        <a:pt x="79" y="1"/>
                      </a:lnTo>
                      <a:lnTo>
                        <a:pt x="76" y="1"/>
                      </a:lnTo>
                      <a:lnTo>
                        <a:pt x="73" y="0"/>
                      </a:lnTo>
                      <a:lnTo>
                        <a:pt x="69" y="0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5" y="1"/>
                      </a:lnTo>
                      <a:lnTo>
                        <a:pt x="50" y="1"/>
                      </a:lnTo>
                      <a:lnTo>
                        <a:pt x="48" y="1"/>
                      </a:lnTo>
                      <a:lnTo>
                        <a:pt x="43" y="1"/>
                      </a:lnTo>
                      <a:lnTo>
                        <a:pt x="38" y="1"/>
                      </a:lnTo>
                      <a:lnTo>
                        <a:pt x="35" y="2"/>
                      </a:lnTo>
                      <a:lnTo>
                        <a:pt x="30" y="2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2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3" y="26"/>
                      </a:lnTo>
                      <a:lnTo>
                        <a:pt x="3" y="28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3" y="39"/>
                      </a:lnTo>
                      <a:lnTo>
                        <a:pt x="3" y="41"/>
                      </a:lnTo>
                      <a:lnTo>
                        <a:pt x="3" y="46"/>
                      </a:lnTo>
                      <a:lnTo>
                        <a:pt x="3" y="50"/>
                      </a:lnTo>
                      <a:lnTo>
                        <a:pt x="3" y="53"/>
                      </a:lnTo>
                      <a:lnTo>
                        <a:pt x="3" y="58"/>
                      </a:lnTo>
                      <a:lnTo>
                        <a:pt x="3" y="61"/>
                      </a:lnTo>
                      <a:lnTo>
                        <a:pt x="3" y="66"/>
                      </a:lnTo>
                      <a:lnTo>
                        <a:pt x="3" y="72"/>
                      </a:lnTo>
                      <a:lnTo>
                        <a:pt x="2" y="77"/>
                      </a:lnTo>
                      <a:lnTo>
                        <a:pt x="2" y="82"/>
                      </a:lnTo>
                      <a:lnTo>
                        <a:pt x="2" y="86"/>
                      </a:lnTo>
                      <a:lnTo>
                        <a:pt x="2" y="92"/>
                      </a:lnTo>
                      <a:lnTo>
                        <a:pt x="2" y="98"/>
                      </a:lnTo>
                      <a:lnTo>
                        <a:pt x="2" y="104"/>
                      </a:lnTo>
                      <a:lnTo>
                        <a:pt x="2" y="110"/>
                      </a:lnTo>
                      <a:lnTo>
                        <a:pt x="2" y="117"/>
                      </a:lnTo>
                      <a:lnTo>
                        <a:pt x="0" y="122"/>
                      </a:lnTo>
                      <a:lnTo>
                        <a:pt x="0" y="128"/>
                      </a:lnTo>
                      <a:lnTo>
                        <a:pt x="0" y="134"/>
                      </a:lnTo>
                      <a:lnTo>
                        <a:pt x="0" y="141"/>
                      </a:lnTo>
                      <a:lnTo>
                        <a:pt x="0" y="147"/>
                      </a:lnTo>
                      <a:lnTo>
                        <a:pt x="0" y="154"/>
                      </a:lnTo>
                      <a:lnTo>
                        <a:pt x="0" y="160"/>
                      </a:lnTo>
                      <a:lnTo>
                        <a:pt x="0" y="167"/>
                      </a:lnTo>
                      <a:lnTo>
                        <a:pt x="0" y="174"/>
                      </a:lnTo>
                      <a:lnTo>
                        <a:pt x="0" y="181"/>
                      </a:lnTo>
                      <a:lnTo>
                        <a:pt x="0" y="188"/>
                      </a:lnTo>
                      <a:lnTo>
                        <a:pt x="0" y="196"/>
                      </a:lnTo>
                      <a:lnTo>
                        <a:pt x="0" y="203"/>
                      </a:lnTo>
                      <a:lnTo>
                        <a:pt x="0" y="210"/>
                      </a:lnTo>
                      <a:lnTo>
                        <a:pt x="0" y="218"/>
                      </a:lnTo>
                      <a:lnTo>
                        <a:pt x="0" y="225"/>
                      </a:lnTo>
                      <a:lnTo>
                        <a:pt x="0" y="232"/>
                      </a:lnTo>
                      <a:lnTo>
                        <a:pt x="0" y="240"/>
                      </a:lnTo>
                      <a:lnTo>
                        <a:pt x="0" y="247"/>
                      </a:lnTo>
                      <a:lnTo>
                        <a:pt x="0" y="255"/>
                      </a:lnTo>
                      <a:lnTo>
                        <a:pt x="0" y="262"/>
                      </a:lnTo>
                      <a:lnTo>
                        <a:pt x="0" y="269"/>
                      </a:lnTo>
                      <a:lnTo>
                        <a:pt x="0" y="278"/>
                      </a:lnTo>
                      <a:lnTo>
                        <a:pt x="0" y="286"/>
                      </a:lnTo>
                      <a:lnTo>
                        <a:pt x="0" y="293"/>
                      </a:lnTo>
                      <a:lnTo>
                        <a:pt x="0" y="301"/>
                      </a:lnTo>
                      <a:lnTo>
                        <a:pt x="0" y="308"/>
                      </a:lnTo>
                      <a:lnTo>
                        <a:pt x="0" y="317"/>
                      </a:lnTo>
                      <a:lnTo>
                        <a:pt x="0" y="325"/>
                      </a:lnTo>
                      <a:lnTo>
                        <a:pt x="0" y="332"/>
                      </a:lnTo>
                      <a:lnTo>
                        <a:pt x="0" y="340"/>
                      </a:lnTo>
                      <a:lnTo>
                        <a:pt x="0" y="349"/>
                      </a:lnTo>
                      <a:lnTo>
                        <a:pt x="0" y="364"/>
                      </a:lnTo>
                      <a:lnTo>
                        <a:pt x="0" y="381"/>
                      </a:lnTo>
                      <a:lnTo>
                        <a:pt x="0" y="395"/>
                      </a:lnTo>
                      <a:lnTo>
                        <a:pt x="0" y="410"/>
                      </a:lnTo>
                      <a:lnTo>
                        <a:pt x="0" y="424"/>
                      </a:lnTo>
                      <a:lnTo>
                        <a:pt x="2" y="439"/>
                      </a:lnTo>
                      <a:lnTo>
                        <a:pt x="2" y="452"/>
                      </a:lnTo>
                      <a:lnTo>
                        <a:pt x="3" y="465"/>
                      </a:lnTo>
                      <a:lnTo>
                        <a:pt x="3" y="478"/>
                      </a:lnTo>
                      <a:lnTo>
                        <a:pt x="3" y="490"/>
                      </a:lnTo>
                      <a:lnTo>
                        <a:pt x="3" y="502"/>
                      </a:lnTo>
                      <a:lnTo>
                        <a:pt x="4" y="514"/>
                      </a:lnTo>
                      <a:lnTo>
                        <a:pt x="4" y="524"/>
                      </a:lnTo>
                      <a:lnTo>
                        <a:pt x="5" y="535"/>
                      </a:lnTo>
                      <a:lnTo>
                        <a:pt x="5" y="546"/>
                      </a:lnTo>
                      <a:lnTo>
                        <a:pt x="6" y="556"/>
                      </a:lnTo>
                      <a:lnTo>
                        <a:pt x="6" y="565"/>
                      </a:lnTo>
                      <a:lnTo>
                        <a:pt x="7" y="575"/>
                      </a:lnTo>
                      <a:lnTo>
                        <a:pt x="7" y="584"/>
                      </a:lnTo>
                      <a:lnTo>
                        <a:pt x="9" y="593"/>
                      </a:lnTo>
                      <a:lnTo>
                        <a:pt x="10" y="600"/>
                      </a:lnTo>
                      <a:lnTo>
                        <a:pt x="10" y="609"/>
                      </a:lnTo>
                      <a:lnTo>
                        <a:pt x="11" y="617"/>
                      </a:lnTo>
                      <a:lnTo>
                        <a:pt x="12" y="625"/>
                      </a:lnTo>
                      <a:lnTo>
                        <a:pt x="12" y="631"/>
                      </a:lnTo>
                      <a:lnTo>
                        <a:pt x="13" y="638"/>
                      </a:lnTo>
                      <a:lnTo>
                        <a:pt x="15" y="646"/>
                      </a:lnTo>
                      <a:lnTo>
                        <a:pt x="15" y="651"/>
                      </a:lnTo>
                      <a:lnTo>
                        <a:pt x="16" y="657"/>
                      </a:lnTo>
                      <a:lnTo>
                        <a:pt x="17" y="663"/>
                      </a:lnTo>
                      <a:lnTo>
                        <a:pt x="17" y="669"/>
                      </a:lnTo>
                      <a:lnTo>
                        <a:pt x="19" y="674"/>
                      </a:lnTo>
                      <a:lnTo>
                        <a:pt x="21" y="679"/>
                      </a:lnTo>
                      <a:lnTo>
                        <a:pt x="21" y="685"/>
                      </a:lnTo>
                      <a:lnTo>
                        <a:pt x="22" y="689"/>
                      </a:lnTo>
                      <a:lnTo>
                        <a:pt x="23" y="693"/>
                      </a:lnTo>
                      <a:lnTo>
                        <a:pt x="23" y="697"/>
                      </a:lnTo>
                      <a:lnTo>
                        <a:pt x="25" y="701"/>
                      </a:lnTo>
                      <a:lnTo>
                        <a:pt x="25" y="705"/>
                      </a:lnTo>
                      <a:lnTo>
                        <a:pt x="26" y="708"/>
                      </a:lnTo>
                      <a:lnTo>
                        <a:pt x="28" y="712"/>
                      </a:lnTo>
                      <a:lnTo>
                        <a:pt x="28" y="714"/>
                      </a:lnTo>
                      <a:lnTo>
                        <a:pt x="29" y="718"/>
                      </a:lnTo>
                      <a:lnTo>
                        <a:pt x="30" y="720"/>
                      </a:lnTo>
                      <a:lnTo>
                        <a:pt x="30" y="723"/>
                      </a:lnTo>
                      <a:lnTo>
                        <a:pt x="32" y="726"/>
                      </a:lnTo>
                      <a:lnTo>
                        <a:pt x="32" y="729"/>
                      </a:lnTo>
                      <a:lnTo>
                        <a:pt x="34" y="731"/>
                      </a:lnTo>
                      <a:lnTo>
                        <a:pt x="35" y="735"/>
                      </a:lnTo>
                      <a:lnTo>
                        <a:pt x="37" y="738"/>
                      </a:lnTo>
                      <a:lnTo>
                        <a:pt x="38" y="740"/>
                      </a:lnTo>
                      <a:lnTo>
                        <a:pt x="41" y="744"/>
                      </a:lnTo>
                      <a:lnTo>
                        <a:pt x="43" y="749"/>
                      </a:lnTo>
                      <a:lnTo>
                        <a:pt x="48" y="752"/>
                      </a:lnTo>
                      <a:lnTo>
                        <a:pt x="50" y="757"/>
                      </a:lnTo>
                      <a:lnTo>
                        <a:pt x="55" y="762"/>
                      </a:lnTo>
                      <a:lnTo>
                        <a:pt x="56" y="763"/>
                      </a:lnTo>
                      <a:lnTo>
                        <a:pt x="61" y="765"/>
                      </a:lnTo>
                      <a:lnTo>
                        <a:pt x="63" y="768"/>
                      </a:lnTo>
                      <a:lnTo>
                        <a:pt x="68" y="771"/>
                      </a:lnTo>
                      <a:lnTo>
                        <a:pt x="70" y="773"/>
                      </a:lnTo>
                      <a:lnTo>
                        <a:pt x="73" y="774"/>
                      </a:lnTo>
                      <a:lnTo>
                        <a:pt x="75" y="775"/>
                      </a:lnTo>
                      <a:lnTo>
                        <a:pt x="79" y="775"/>
                      </a:lnTo>
                      <a:lnTo>
                        <a:pt x="81" y="777"/>
                      </a:lnTo>
                      <a:lnTo>
                        <a:pt x="85" y="778"/>
                      </a:lnTo>
                      <a:lnTo>
                        <a:pt x="88" y="780"/>
                      </a:lnTo>
                      <a:lnTo>
                        <a:pt x="92" y="781"/>
                      </a:lnTo>
                      <a:lnTo>
                        <a:pt x="96" y="782"/>
                      </a:lnTo>
                      <a:lnTo>
                        <a:pt x="100" y="783"/>
                      </a:lnTo>
                      <a:lnTo>
                        <a:pt x="105" y="784"/>
                      </a:lnTo>
                      <a:lnTo>
                        <a:pt x="110" y="786"/>
                      </a:lnTo>
                      <a:lnTo>
                        <a:pt x="114" y="786"/>
                      </a:lnTo>
                      <a:lnTo>
                        <a:pt x="119" y="788"/>
                      </a:lnTo>
                      <a:lnTo>
                        <a:pt x="125" y="788"/>
                      </a:lnTo>
                      <a:lnTo>
                        <a:pt x="131" y="790"/>
                      </a:lnTo>
                      <a:lnTo>
                        <a:pt x="137" y="790"/>
                      </a:lnTo>
                      <a:lnTo>
                        <a:pt x="144" y="793"/>
                      </a:lnTo>
                      <a:lnTo>
                        <a:pt x="150" y="793"/>
                      </a:lnTo>
                      <a:lnTo>
                        <a:pt x="157" y="794"/>
                      </a:lnTo>
                      <a:lnTo>
                        <a:pt x="164" y="795"/>
                      </a:lnTo>
                      <a:lnTo>
                        <a:pt x="172" y="796"/>
                      </a:lnTo>
                      <a:lnTo>
                        <a:pt x="181" y="796"/>
                      </a:lnTo>
                      <a:lnTo>
                        <a:pt x="190" y="799"/>
                      </a:lnTo>
                      <a:lnTo>
                        <a:pt x="198" y="799"/>
                      </a:lnTo>
                      <a:lnTo>
                        <a:pt x="208" y="800"/>
                      </a:lnTo>
                      <a:lnTo>
                        <a:pt x="217" y="800"/>
                      </a:lnTo>
                      <a:lnTo>
                        <a:pt x="228" y="801"/>
                      </a:lnTo>
                      <a:lnTo>
                        <a:pt x="238" y="801"/>
                      </a:lnTo>
                      <a:lnTo>
                        <a:pt x="250" y="802"/>
                      </a:lnTo>
                      <a:lnTo>
                        <a:pt x="260" y="803"/>
                      </a:lnTo>
                      <a:lnTo>
                        <a:pt x="273" y="803"/>
                      </a:lnTo>
                      <a:lnTo>
                        <a:pt x="284" y="803"/>
                      </a:lnTo>
                      <a:lnTo>
                        <a:pt x="297" y="805"/>
                      </a:lnTo>
                      <a:lnTo>
                        <a:pt x="310" y="806"/>
                      </a:lnTo>
                      <a:lnTo>
                        <a:pt x="324" y="806"/>
                      </a:lnTo>
                      <a:lnTo>
                        <a:pt x="339" y="806"/>
                      </a:lnTo>
                      <a:lnTo>
                        <a:pt x="352" y="806"/>
                      </a:lnTo>
                      <a:lnTo>
                        <a:pt x="367" y="807"/>
                      </a:lnTo>
                      <a:lnTo>
                        <a:pt x="384" y="808"/>
                      </a:lnTo>
                      <a:lnTo>
                        <a:pt x="399" y="808"/>
                      </a:lnTo>
                      <a:lnTo>
                        <a:pt x="416" y="808"/>
                      </a:lnTo>
                      <a:lnTo>
                        <a:pt x="432" y="808"/>
                      </a:lnTo>
                      <a:lnTo>
                        <a:pt x="451" y="808"/>
                      </a:lnTo>
                      <a:lnTo>
                        <a:pt x="470" y="808"/>
                      </a:lnTo>
                      <a:lnTo>
                        <a:pt x="488" y="808"/>
                      </a:lnTo>
                      <a:lnTo>
                        <a:pt x="508" y="808"/>
                      </a:lnTo>
                      <a:lnTo>
                        <a:pt x="528" y="808"/>
                      </a:lnTo>
                      <a:lnTo>
                        <a:pt x="538" y="808"/>
                      </a:lnTo>
                      <a:lnTo>
                        <a:pt x="546" y="808"/>
                      </a:lnTo>
                      <a:lnTo>
                        <a:pt x="557" y="807"/>
                      </a:lnTo>
                      <a:lnTo>
                        <a:pt x="566" y="807"/>
                      </a:lnTo>
                      <a:lnTo>
                        <a:pt x="575" y="806"/>
                      </a:lnTo>
                      <a:lnTo>
                        <a:pt x="585" y="806"/>
                      </a:lnTo>
                      <a:lnTo>
                        <a:pt x="595" y="806"/>
                      </a:lnTo>
                      <a:lnTo>
                        <a:pt x="604" y="806"/>
                      </a:lnTo>
                      <a:lnTo>
                        <a:pt x="614" y="806"/>
                      </a:lnTo>
                      <a:lnTo>
                        <a:pt x="622" y="806"/>
                      </a:lnTo>
                      <a:lnTo>
                        <a:pt x="632" y="806"/>
                      </a:lnTo>
                      <a:lnTo>
                        <a:pt x="641" y="806"/>
                      </a:lnTo>
                      <a:lnTo>
                        <a:pt x="651" y="806"/>
                      </a:lnTo>
                      <a:lnTo>
                        <a:pt x="660" y="806"/>
                      </a:lnTo>
                      <a:lnTo>
                        <a:pt x="668" y="806"/>
                      </a:lnTo>
                      <a:lnTo>
                        <a:pt x="678" y="806"/>
                      </a:lnTo>
                      <a:lnTo>
                        <a:pt x="686" y="805"/>
                      </a:lnTo>
                      <a:lnTo>
                        <a:pt x="696" y="803"/>
                      </a:lnTo>
                      <a:lnTo>
                        <a:pt x="704" y="803"/>
                      </a:lnTo>
                      <a:lnTo>
                        <a:pt x="713" y="803"/>
                      </a:lnTo>
                      <a:lnTo>
                        <a:pt x="722" y="803"/>
                      </a:lnTo>
                      <a:lnTo>
                        <a:pt x="730" y="803"/>
                      </a:lnTo>
                      <a:lnTo>
                        <a:pt x="738" y="803"/>
                      </a:lnTo>
                      <a:lnTo>
                        <a:pt x="747" y="803"/>
                      </a:lnTo>
                      <a:lnTo>
                        <a:pt x="755" y="802"/>
                      </a:lnTo>
                      <a:lnTo>
                        <a:pt x="763" y="801"/>
                      </a:lnTo>
                      <a:lnTo>
                        <a:pt x="772" y="801"/>
                      </a:lnTo>
                      <a:lnTo>
                        <a:pt x="780" y="801"/>
                      </a:lnTo>
                      <a:lnTo>
                        <a:pt x="787" y="801"/>
                      </a:lnTo>
                      <a:lnTo>
                        <a:pt x="794" y="801"/>
                      </a:lnTo>
                      <a:lnTo>
                        <a:pt x="802" y="801"/>
                      </a:lnTo>
                      <a:lnTo>
                        <a:pt x="810" y="801"/>
                      </a:lnTo>
                      <a:lnTo>
                        <a:pt x="817" y="801"/>
                      </a:lnTo>
                      <a:lnTo>
                        <a:pt x="824" y="800"/>
                      </a:lnTo>
                      <a:lnTo>
                        <a:pt x="830" y="800"/>
                      </a:lnTo>
                      <a:lnTo>
                        <a:pt x="838" y="800"/>
                      </a:lnTo>
                      <a:lnTo>
                        <a:pt x="844" y="799"/>
                      </a:lnTo>
                      <a:lnTo>
                        <a:pt x="850" y="799"/>
                      </a:lnTo>
                      <a:lnTo>
                        <a:pt x="856" y="799"/>
                      </a:lnTo>
                      <a:lnTo>
                        <a:pt x="863" y="799"/>
                      </a:lnTo>
                      <a:lnTo>
                        <a:pt x="868" y="797"/>
                      </a:lnTo>
                      <a:lnTo>
                        <a:pt x="875" y="797"/>
                      </a:lnTo>
                      <a:lnTo>
                        <a:pt x="881" y="797"/>
                      </a:lnTo>
                      <a:lnTo>
                        <a:pt x="885" y="797"/>
                      </a:lnTo>
                      <a:lnTo>
                        <a:pt x="890" y="796"/>
                      </a:lnTo>
                      <a:lnTo>
                        <a:pt x="896" y="796"/>
                      </a:lnTo>
                      <a:lnTo>
                        <a:pt x="901" y="796"/>
                      </a:lnTo>
                      <a:lnTo>
                        <a:pt x="906" y="796"/>
                      </a:lnTo>
                      <a:lnTo>
                        <a:pt x="909" y="796"/>
                      </a:lnTo>
                      <a:lnTo>
                        <a:pt x="914" y="795"/>
                      </a:lnTo>
                      <a:lnTo>
                        <a:pt x="919" y="795"/>
                      </a:lnTo>
                      <a:lnTo>
                        <a:pt x="921" y="795"/>
                      </a:lnTo>
                      <a:lnTo>
                        <a:pt x="925" y="794"/>
                      </a:lnTo>
                      <a:lnTo>
                        <a:pt x="928" y="794"/>
                      </a:lnTo>
                      <a:lnTo>
                        <a:pt x="932" y="794"/>
                      </a:lnTo>
                      <a:lnTo>
                        <a:pt x="935" y="794"/>
                      </a:lnTo>
                      <a:lnTo>
                        <a:pt x="940" y="794"/>
                      </a:lnTo>
                      <a:lnTo>
                        <a:pt x="944" y="794"/>
                      </a:lnTo>
                      <a:lnTo>
                        <a:pt x="947" y="794"/>
                      </a:lnTo>
                      <a:lnTo>
                        <a:pt x="950" y="794"/>
                      </a:lnTo>
                      <a:lnTo>
                        <a:pt x="952" y="793"/>
                      </a:lnTo>
                      <a:lnTo>
                        <a:pt x="954" y="790"/>
                      </a:lnTo>
                      <a:lnTo>
                        <a:pt x="954" y="788"/>
                      </a:lnTo>
                      <a:lnTo>
                        <a:pt x="954" y="786"/>
                      </a:lnTo>
                      <a:lnTo>
                        <a:pt x="954" y="783"/>
                      </a:lnTo>
                      <a:lnTo>
                        <a:pt x="954" y="781"/>
                      </a:lnTo>
                      <a:lnTo>
                        <a:pt x="954" y="777"/>
                      </a:lnTo>
                      <a:lnTo>
                        <a:pt x="953" y="774"/>
                      </a:lnTo>
                      <a:lnTo>
                        <a:pt x="952" y="770"/>
                      </a:lnTo>
                      <a:lnTo>
                        <a:pt x="952" y="767"/>
                      </a:lnTo>
                      <a:lnTo>
                        <a:pt x="951" y="763"/>
                      </a:lnTo>
                      <a:lnTo>
                        <a:pt x="950" y="759"/>
                      </a:lnTo>
                      <a:lnTo>
                        <a:pt x="950" y="755"/>
                      </a:lnTo>
                      <a:lnTo>
                        <a:pt x="948" y="751"/>
                      </a:lnTo>
                      <a:lnTo>
                        <a:pt x="946" y="748"/>
                      </a:lnTo>
                      <a:lnTo>
                        <a:pt x="945" y="743"/>
                      </a:lnTo>
                      <a:lnTo>
                        <a:pt x="944" y="739"/>
                      </a:lnTo>
                      <a:lnTo>
                        <a:pt x="942" y="736"/>
                      </a:lnTo>
                      <a:lnTo>
                        <a:pt x="941" y="732"/>
                      </a:lnTo>
                      <a:lnTo>
                        <a:pt x="939" y="729"/>
                      </a:lnTo>
                      <a:lnTo>
                        <a:pt x="939" y="725"/>
                      </a:lnTo>
                      <a:lnTo>
                        <a:pt x="938" y="723"/>
                      </a:lnTo>
                      <a:lnTo>
                        <a:pt x="937" y="720"/>
                      </a:lnTo>
                      <a:lnTo>
                        <a:pt x="934" y="717"/>
                      </a:lnTo>
                      <a:lnTo>
                        <a:pt x="934" y="714"/>
                      </a:lnTo>
                      <a:lnTo>
                        <a:pt x="934" y="713"/>
                      </a:lnTo>
                      <a:lnTo>
                        <a:pt x="932" y="711"/>
                      </a:lnTo>
                      <a:lnTo>
                        <a:pt x="932" y="71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Freeform 44"/>
                <p:cNvSpPr/>
                <p:nvPr/>
              </p:nvSpPr>
              <p:spPr>
                <a:xfrm>
                  <a:off x="7359480" y="1990800"/>
                  <a:ext cx="320400" cy="61920"/>
                </a:xfrm>
                <a:custGeom>
                  <a:avLst/>
                  <a:gdLst>
                    <a:gd name="textAreaLeft" fmla="*/ 0 w 320400"/>
                    <a:gd name="textAreaRight" fmla="*/ 320760 w 3204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05" h="119">
                      <a:moveTo>
                        <a:pt x="0" y="34"/>
                      </a:moveTo>
                      <a:lnTo>
                        <a:pt x="14" y="119"/>
                      </a:lnTo>
                      <a:lnTo>
                        <a:pt x="23" y="117"/>
                      </a:lnTo>
                      <a:lnTo>
                        <a:pt x="34" y="114"/>
                      </a:lnTo>
                      <a:lnTo>
                        <a:pt x="42" y="112"/>
                      </a:lnTo>
                      <a:lnTo>
                        <a:pt x="52" y="111"/>
                      </a:lnTo>
                      <a:lnTo>
                        <a:pt x="62" y="110"/>
                      </a:lnTo>
                      <a:lnTo>
                        <a:pt x="72" y="108"/>
                      </a:lnTo>
                      <a:lnTo>
                        <a:pt x="80" y="106"/>
                      </a:lnTo>
                      <a:lnTo>
                        <a:pt x="91" y="105"/>
                      </a:lnTo>
                      <a:lnTo>
                        <a:pt x="100" y="104"/>
                      </a:lnTo>
                      <a:lnTo>
                        <a:pt x="110" y="101"/>
                      </a:lnTo>
                      <a:lnTo>
                        <a:pt x="119" y="101"/>
                      </a:lnTo>
                      <a:lnTo>
                        <a:pt x="129" y="99"/>
                      </a:lnTo>
                      <a:lnTo>
                        <a:pt x="138" y="98"/>
                      </a:lnTo>
                      <a:lnTo>
                        <a:pt x="148" y="97"/>
                      </a:lnTo>
                      <a:lnTo>
                        <a:pt x="156" y="97"/>
                      </a:lnTo>
                      <a:lnTo>
                        <a:pt x="166" y="95"/>
                      </a:lnTo>
                      <a:lnTo>
                        <a:pt x="176" y="94"/>
                      </a:lnTo>
                      <a:lnTo>
                        <a:pt x="185" y="94"/>
                      </a:lnTo>
                      <a:lnTo>
                        <a:pt x="194" y="93"/>
                      </a:lnTo>
                      <a:lnTo>
                        <a:pt x="204" y="92"/>
                      </a:lnTo>
                      <a:lnTo>
                        <a:pt x="212" y="92"/>
                      </a:lnTo>
                      <a:lnTo>
                        <a:pt x="221" y="91"/>
                      </a:lnTo>
                      <a:lnTo>
                        <a:pt x="231" y="89"/>
                      </a:lnTo>
                      <a:lnTo>
                        <a:pt x="239" y="89"/>
                      </a:lnTo>
                      <a:lnTo>
                        <a:pt x="249" y="89"/>
                      </a:lnTo>
                      <a:lnTo>
                        <a:pt x="257" y="88"/>
                      </a:lnTo>
                      <a:lnTo>
                        <a:pt x="268" y="88"/>
                      </a:lnTo>
                      <a:lnTo>
                        <a:pt x="276" y="88"/>
                      </a:lnTo>
                      <a:lnTo>
                        <a:pt x="286" y="87"/>
                      </a:lnTo>
                      <a:lnTo>
                        <a:pt x="294" y="87"/>
                      </a:lnTo>
                      <a:lnTo>
                        <a:pt x="303" y="87"/>
                      </a:lnTo>
                      <a:lnTo>
                        <a:pt x="313" y="87"/>
                      </a:lnTo>
                      <a:lnTo>
                        <a:pt x="321" y="86"/>
                      </a:lnTo>
                      <a:lnTo>
                        <a:pt x="329" y="86"/>
                      </a:lnTo>
                      <a:lnTo>
                        <a:pt x="339" y="86"/>
                      </a:lnTo>
                      <a:lnTo>
                        <a:pt x="347" y="86"/>
                      </a:lnTo>
                      <a:lnTo>
                        <a:pt x="356" y="86"/>
                      </a:lnTo>
                      <a:lnTo>
                        <a:pt x="365" y="86"/>
                      </a:lnTo>
                      <a:lnTo>
                        <a:pt x="373" y="86"/>
                      </a:lnTo>
                      <a:lnTo>
                        <a:pt x="383" y="87"/>
                      </a:lnTo>
                      <a:lnTo>
                        <a:pt x="391" y="87"/>
                      </a:lnTo>
                      <a:lnTo>
                        <a:pt x="399" y="88"/>
                      </a:lnTo>
                      <a:lnTo>
                        <a:pt x="409" y="88"/>
                      </a:lnTo>
                      <a:lnTo>
                        <a:pt x="417" y="89"/>
                      </a:lnTo>
                      <a:lnTo>
                        <a:pt x="427" y="89"/>
                      </a:lnTo>
                      <a:lnTo>
                        <a:pt x="435" y="91"/>
                      </a:lnTo>
                      <a:lnTo>
                        <a:pt x="443" y="91"/>
                      </a:lnTo>
                      <a:lnTo>
                        <a:pt x="453" y="92"/>
                      </a:lnTo>
                      <a:lnTo>
                        <a:pt x="461" y="92"/>
                      </a:lnTo>
                      <a:lnTo>
                        <a:pt x="469" y="93"/>
                      </a:lnTo>
                      <a:lnTo>
                        <a:pt x="478" y="94"/>
                      </a:lnTo>
                      <a:lnTo>
                        <a:pt x="487" y="95"/>
                      </a:lnTo>
                      <a:lnTo>
                        <a:pt x="496" y="97"/>
                      </a:lnTo>
                      <a:lnTo>
                        <a:pt x="503" y="97"/>
                      </a:lnTo>
                      <a:lnTo>
                        <a:pt x="512" y="98"/>
                      </a:lnTo>
                      <a:lnTo>
                        <a:pt x="520" y="99"/>
                      </a:lnTo>
                      <a:lnTo>
                        <a:pt x="529" y="100"/>
                      </a:lnTo>
                      <a:lnTo>
                        <a:pt x="537" y="101"/>
                      </a:lnTo>
                      <a:lnTo>
                        <a:pt x="545" y="104"/>
                      </a:lnTo>
                      <a:lnTo>
                        <a:pt x="555" y="104"/>
                      </a:lnTo>
                      <a:lnTo>
                        <a:pt x="563" y="106"/>
                      </a:lnTo>
                      <a:lnTo>
                        <a:pt x="571" y="107"/>
                      </a:lnTo>
                      <a:lnTo>
                        <a:pt x="580" y="110"/>
                      </a:lnTo>
                      <a:lnTo>
                        <a:pt x="589" y="111"/>
                      </a:lnTo>
                      <a:lnTo>
                        <a:pt x="605" y="25"/>
                      </a:lnTo>
                      <a:lnTo>
                        <a:pt x="594" y="23"/>
                      </a:lnTo>
                      <a:lnTo>
                        <a:pt x="586" y="22"/>
                      </a:lnTo>
                      <a:lnTo>
                        <a:pt x="576" y="21"/>
                      </a:lnTo>
                      <a:lnTo>
                        <a:pt x="568" y="18"/>
                      </a:lnTo>
                      <a:lnTo>
                        <a:pt x="558" y="18"/>
                      </a:lnTo>
                      <a:lnTo>
                        <a:pt x="550" y="16"/>
                      </a:lnTo>
                      <a:lnTo>
                        <a:pt x="541" y="15"/>
                      </a:lnTo>
                      <a:lnTo>
                        <a:pt x="532" y="14"/>
                      </a:lnTo>
                      <a:lnTo>
                        <a:pt x="523" y="12"/>
                      </a:lnTo>
                      <a:lnTo>
                        <a:pt x="513" y="11"/>
                      </a:lnTo>
                      <a:lnTo>
                        <a:pt x="505" y="10"/>
                      </a:lnTo>
                      <a:lnTo>
                        <a:pt x="496" y="9"/>
                      </a:lnTo>
                      <a:lnTo>
                        <a:pt x="487" y="8"/>
                      </a:lnTo>
                      <a:lnTo>
                        <a:pt x="478" y="8"/>
                      </a:lnTo>
                      <a:lnTo>
                        <a:pt x="468" y="6"/>
                      </a:lnTo>
                      <a:lnTo>
                        <a:pt x="460" y="5"/>
                      </a:lnTo>
                      <a:lnTo>
                        <a:pt x="450" y="4"/>
                      </a:lnTo>
                      <a:lnTo>
                        <a:pt x="441" y="4"/>
                      </a:lnTo>
                      <a:lnTo>
                        <a:pt x="431" y="3"/>
                      </a:lnTo>
                      <a:lnTo>
                        <a:pt x="423" y="3"/>
                      </a:lnTo>
                      <a:lnTo>
                        <a:pt x="414" y="2"/>
                      </a:lnTo>
                      <a:lnTo>
                        <a:pt x="404" y="2"/>
                      </a:lnTo>
                      <a:lnTo>
                        <a:pt x="395" y="0"/>
                      </a:lnTo>
                      <a:lnTo>
                        <a:pt x="386" y="0"/>
                      </a:lnTo>
                      <a:lnTo>
                        <a:pt x="377" y="0"/>
                      </a:lnTo>
                      <a:lnTo>
                        <a:pt x="369" y="0"/>
                      </a:lnTo>
                      <a:lnTo>
                        <a:pt x="359" y="0"/>
                      </a:lnTo>
                      <a:lnTo>
                        <a:pt x="350" y="0"/>
                      </a:lnTo>
                      <a:lnTo>
                        <a:pt x="340" y="0"/>
                      </a:lnTo>
                      <a:lnTo>
                        <a:pt x="331" y="0"/>
                      </a:lnTo>
                      <a:lnTo>
                        <a:pt x="321" y="0"/>
                      </a:lnTo>
                      <a:lnTo>
                        <a:pt x="312" y="0"/>
                      </a:lnTo>
                      <a:lnTo>
                        <a:pt x="302" y="0"/>
                      </a:lnTo>
                      <a:lnTo>
                        <a:pt x="293" y="0"/>
                      </a:lnTo>
                      <a:lnTo>
                        <a:pt x="283" y="0"/>
                      </a:lnTo>
                      <a:lnTo>
                        <a:pt x="274" y="0"/>
                      </a:lnTo>
                      <a:lnTo>
                        <a:pt x="264" y="0"/>
                      </a:lnTo>
                      <a:lnTo>
                        <a:pt x="255" y="2"/>
                      </a:lnTo>
                      <a:lnTo>
                        <a:pt x="245" y="2"/>
                      </a:lnTo>
                      <a:lnTo>
                        <a:pt x="236" y="3"/>
                      </a:lnTo>
                      <a:lnTo>
                        <a:pt x="226" y="3"/>
                      </a:lnTo>
                      <a:lnTo>
                        <a:pt x="217" y="4"/>
                      </a:lnTo>
                      <a:lnTo>
                        <a:pt x="207" y="5"/>
                      </a:lnTo>
                      <a:lnTo>
                        <a:pt x="197" y="5"/>
                      </a:lnTo>
                      <a:lnTo>
                        <a:pt x="187" y="6"/>
                      </a:lnTo>
                      <a:lnTo>
                        <a:pt x="178" y="8"/>
                      </a:lnTo>
                      <a:lnTo>
                        <a:pt x="168" y="8"/>
                      </a:lnTo>
                      <a:lnTo>
                        <a:pt x="159" y="10"/>
                      </a:lnTo>
                      <a:lnTo>
                        <a:pt x="149" y="10"/>
                      </a:lnTo>
                      <a:lnTo>
                        <a:pt x="138" y="11"/>
                      </a:lnTo>
                      <a:lnTo>
                        <a:pt x="128" y="14"/>
                      </a:lnTo>
                      <a:lnTo>
                        <a:pt x="118" y="14"/>
                      </a:lnTo>
                      <a:lnTo>
                        <a:pt x="109" y="16"/>
                      </a:lnTo>
                      <a:lnTo>
                        <a:pt x="99" y="17"/>
                      </a:lnTo>
                      <a:lnTo>
                        <a:pt x="89" y="18"/>
                      </a:lnTo>
                      <a:lnTo>
                        <a:pt x="80" y="19"/>
                      </a:lnTo>
                      <a:lnTo>
                        <a:pt x="70" y="21"/>
                      </a:lnTo>
                      <a:lnTo>
                        <a:pt x="60" y="23"/>
                      </a:lnTo>
                      <a:lnTo>
                        <a:pt x="49" y="24"/>
                      </a:lnTo>
                      <a:lnTo>
                        <a:pt x="40" y="25"/>
                      </a:lnTo>
                      <a:lnTo>
                        <a:pt x="29" y="28"/>
                      </a:lnTo>
                      <a:lnTo>
                        <a:pt x="20" y="29"/>
                      </a:lnTo>
                      <a:lnTo>
                        <a:pt x="9" y="3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Freeform 45"/>
                <p:cNvSpPr/>
                <p:nvPr/>
              </p:nvSpPr>
              <p:spPr>
                <a:xfrm>
                  <a:off x="7246800" y="2376720"/>
                  <a:ext cx="603000" cy="52560"/>
                </a:xfrm>
                <a:custGeom>
                  <a:avLst/>
                  <a:gdLst>
                    <a:gd name="textAreaLeft" fmla="*/ 0 w 603000"/>
                    <a:gd name="textAreaRight" fmla="*/ 603360 w 60300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1140" h="99">
                      <a:moveTo>
                        <a:pt x="0" y="13"/>
                      </a:moveTo>
                      <a:lnTo>
                        <a:pt x="3" y="99"/>
                      </a:lnTo>
                      <a:lnTo>
                        <a:pt x="19" y="97"/>
                      </a:lnTo>
                      <a:lnTo>
                        <a:pt x="35" y="97"/>
                      </a:lnTo>
                      <a:lnTo>
                        <a:pt x="52" y="97"/>
                      </a:lnTo>
                      <a:lnTo>
                        <a:pt x="69" y="96"/>
                      </a:lnTo>
                      <a:lnTo>
                        <a:pt x="86" y="94"/>
                      </a:lnTo>
                      <a:lnTo>
                        <a:pt x="102" y="94"/>
                      </a:lnTo>
                      <a:lnTo>
                        <a:pt x="120" y="94"/>
                      </a:lnTo>
                      <a:lnTo>
                        <a:pt x="137" y="94"/>
                      </a:lnTo>
                      <a:lnTo>
                        <a:pt x="154" y="93"/>
                      </a:lnTo>
                      <a:lnTo>
                        <a:pt x="171" y="92"/>
                      </a:lnTo>
                      <a:lnTo>
                        <a:pt x="188" y="92"/>
                      </a:lnTo>
                      <a:lnTo>
                        <a:pt x="204" y="92"/>
                      </a:lnTo>
                      <a:lnTo>
                        <a:pt x="222" y="92"/>
                      </a:lnTo>
                      <a:lnTo>
                        <a:pt x="240" y="91"/>
                      </a:lnTo>
                      <a:lnTo>
                        <a:pt x="256" y="91"/>
                      </a:lnTo>
                      <a:lnTo>
                        <a:pt x="274" y="91"/>
                      </a:lnTo>
                      <a:lnTo>
                        <a:pt x="291" y="90"/>
                      </a:lnTo>
                      <a:lnTo>
                        <a:pt x="309" y="90"/>
                      </a:lnTo>
                      <a:lnTo>
                        <a:pt x="326" y="90"/>
                      </a:lnTo>
                      <a:lnTo>
                        <a:pt x="343" y="90"/>
                      </a:lnTo>
                      <a:lnTo>
                        <a:pt x="361" y="89"/>
                      </a:lnTo>
                      <a:lnTo>
                        <a:pt x="379" y="89"/>
                      </a:lnTo>
                      <a:lnTo>
                        <a:pt x="395" y="87"/>
                      </a:lnTo>
                      <a:lnTo>
                        <a:pt x="413" y="87"/>
                      </a:lnTo>
                      <a:lnTo>
                        <a:pt x="430" y="87"/>
                      </a:lnTo>
                      <a:lnTo>
                        <a:pt x="447" y="87"/>
                      </a:lnTo>
                      <a:lnTo>
                        <a:pt x="465" y="87"/>
                      </a:lnTo>
                      <a:lnTo>
                        <a:pt x="483" y="87"/>
                      </a:lnTo>
                      <a:lnTo>
                        <a:pt x="501" y="87"/>
                      </a:lnTo>
                      <a:lnTo>
                        <a:pt x="519" y="87"/>
                      </a:lnTo>
                      <a:lnTo>
                        <a:pt x="536" y="87"/>
                      </a:lnTo>
                      <a:lnTo>
                        <a:pt x="554" y="87"/>
                      </a:lnTo>
                      <a:lnTo>
                        <a:pt x="572" y="86"/>
                      </a:lnTo>
                      <a:lnTo>
                        <a:pt x="590" y="86"/>
                      </a:lnTo>
                      <a:lnTo>
                        <a:pt x="606" y="86"/>
                      </a:lnTo>
                      <a:lnTo>
                        <a:pt x="625" y="86"/>
                      </a:lnTo>
                      <a:lnTo>
                        <a:pt x="643" y="86"/>
                      </a:lnTo>
                      <a:lnTo>
                        <a:pt x="661" y="86"/>
                      </a:lnTo>
                      <a:lnTo>
                        <a:pt x="679" y="86"/>
                      </a:lnTo>
                      <a:lnTo>
                        <a:pt x="698" y="87"/>
                      </a:lnTo>
                      <a:lnTo>
                        <a:pt x="714" y="87"/>
                      </a:lnTo>
                      <a:lnTo>
                        <a:pt x="733" y="87"/>
                      </a:lnTo>
                      <a:lnTo>
                        <a:pt x="751" y="87"/>
                      </a:lnTo>
                      <a:lnTo>
                        <a:pt x="769" y="87"/>
                      </a:lnTo>
                      <a:lnTo>
                        <a:pt x="787" y="87"/>
                      </a:lnTo>
                      <a:lnTo>
                        <a:pt x="805" y="87"/>
                      </a:lnTo>
                      <a:lnTo>
                        <a:pt x="824" y="87"/>
                      </a:lnTo>
                      <a:lnTo>
                        <a:pt x="843" y="89"/>
                      </a:lnTo>
                      <a:lnTo>
                        <a:pt x="860" y="89"/>
                      </a:lnTo>
                      <a:lnTo>
                        <a:pt x="878" y="89"/>
                      </a:lnTo>
                      <a:lnTo>
                        <a:pt x="896" y="90"/>
                      </a:lnTo>
                      <a:lnTo>
                        <a:pt x="915" y="90"/>
                      </a:lnTo>
                      <a:lnTo>
                        <a:pt x="934" y="90"/>
                      </a:lnTo>
                      <a:lnTo>
                        <a:pt x="952" y="91"/>
                      </a:lnTo>
                      <a:lnTo>
                        <a:pt x="970" y="91"/>
                      </a:lnTo>
                      <a:lnTo>
                        <a:pt x="989" y="92"/>
                      </a:lnTo>
                      <a:lnTo>
                        <a:pt x="1006" y="92"/>
                      </a:lnTo>
                      <a:lnTo>
                        <a:pt x="1024" y="93"/>
                      </a:lnTo>
                      <a:lnTo>
                        <a:pt x="1043" y="94"/>
                      </a:lnTo>
                      <a:lnTo>
                        <a:pt x="1062" y="94"/>
                      </a:lnTo>
                      <a:lnTo>
                        <a:pt x="1080" y="96"/>
                      </a:lnTo>
                      <a:lnTo>
                        <a:pt x="1099" y="97"/>
                      </a:lnTo>
                      <a:lnTo>
                        <a:pt x="1118" y="97"/>
                      </a:lnTo>
                      <a:lnTo>
                        <a:pt x="1136" y="99"/>
                      </a:lnTo>
                      <a:lnTo>
                        <a:pt x="1140" y="13"/>
                      </a:lnTo>
                      <a:lnTo>
                        <a:pt x="1121" y="11"/>
                      </a:lnTo>
                      <a:lnTo>
                        <a:pt x="1102" y="10"/>
                      </a:lnTo>
                      <a:lnTo>
                        <a:pt x="1083" y="9"/>
                      </a:lnTo>
                      <a:lnTo>
                        <a:pt x="1066" y="9"/>
                      </a:lnTo>
                      <a:lnTo>
                        <a:pt x="1047" y="8"/>
                      </a:lnTo>
                      <a:lnTo>
                        <a:pt x="1028" y="7"/>
                      </a:lnTo>
                      <a:lnTo>
                        <a:pt x="1010" y="7"/>
                      </a:lnTo>
                      <a:lnTo>
                        <a:pt x="991" y="7"/>
                      </a:lnTo>
                      <a:lnTo>
                        <a:pt x="972" y="4"/>
                      </a:lnTo>
                      <a:lnTo>
                        <a:pt x="954" y="4"/>
                      </a:lnTo>
                      <a:lnTo>
                        <a:pt x="936" y="4"/>
                      </a:lnTo>
                      <a:lnTo>
                        <a:pt x="917" y="4"/>
                      </a:lnTo>
                      <a:lnTo>
                        <a:pt x="898" y="3"/>
                      </a:lnTo>
                      <a:lnTo>
                        <a:pt x="881" y="2"/>
                      </a:lnTo>
                      <a:lnTo>
                        <a:pt x="863" y="2"/>
                      </a:lnTo>
                      <a:lnTo>
                        <a:pt x="844" y="2"/>
                      </a:lnTo>
                      <a:lnTo>
                        <a:pt x="825" y="1"/>
                      </a:lnTo>
                      <a:lnTo>
                        <a:pt x="807" y="1"/>
                      </a:lnTo>
                      <a:lnTo>
                        <a:pt x="789" y="1"/>
                      </a:lnTo>
                      <a:lnTo>
                        <a:pt x="771" y="1"/>
                      </a:lnTo>
                      <a:lnTo>
                        <a:pt x="752" y="1"/>
                      </a:lnTo>
                      <a:lnTo>
                        <a:pt x="733" y="1"/>
                      </a:lnTo>
                      <a:lnTo>
                        <a:pt x="716" y="1"/>
                      </a:lnTo>
                      <a:lnTo>
                        <a:pt x="698" y="1"/>
                      </a:lnTo>
                      <a:lnTo>
                        <a:pt x="680" y="0"/>
                      </a:lnTo>
                      <a:lnTo>
                        <a:pt x="662" y="0"/>
                      </a:lnTo>
                      <a:lnTo>
                        <a:pt x="643" y="0"/>
                      </a:lnTo>
                      <a:lnTo>
                        <a:pt x="625" y="0"/>
                      </a:lnTo>
                      <a:lnTo>
                        <a:pt x="608" y="0"/>
                      </a:lnTo>
                      <a:lnTo>
                        <a:pt x="590" y="0"/>
                      </a:lnTo>
                      <a:lnTo>
                        <a:pt x="572" y="0"/>
                      </a:lnTo>
                      <a:lnTo>
                        <a:pt x="554" y="1"/>
                      </a:lnTo>
                      <a:lnTo>
                        <a:pt x="536" y="1"/>
                      </a:lnTo>
                      <a:lnTo>
                        <a:pt x="519" y="1"/>
                      </a:lnTo>
                      <a:lnTo>
                        <a:pt x="501" y="1"/>
                      </a:lnTo>
                      <a:lnTo>
                        <a:pt x="483" y="1"/>
                      </a:lnTo>
                      <a:lnTo>
                        <a:pt x="465" y="1"/>
                      </a:lnTo>
                      <a:lnTo>
                        <a:pt x="447" y="1"/>
                      </a:lnTo>
                      <a:lnTo>
                        <a:pt x="430" y="1"/>
                      </a:lnTo>
                      <a:lnTo>
                        <a:pt x="412" y="1"/>
                      </a:lnTo>
                      <a:lnTo>
                        <a:pt x="394" y="1"/>
                      </a:lnTo>
                      <a:lnTo>
                        <a:pt x="376" y="2"/>
                      </a:lnTo>
                      <a:lnTo>
                        <a:pt x="359" y="2"/>
                      </a:lnTo>
                      <a:lnTo>
                        <a:pt x="342" y="3"/>
                      </a:lnTo>
                      <a:lnTo>
                        <a:pt x="324" y="3"/>
                      </a:lnTo>
                      <a:lnTo>
                        <a:pt x="307" y="4"/>
                      </a:lnTo>
                      <a:lnTo>
                        <a:pt x="291" y="4"/>
                      </a:lnTo>
                      <a:lnTo>
                        <a:pt x="273" y="4"/>
                      </a:lnTo>
                      <a:lnTo>
                        <a:pt x="255" y="4"/>
                      </a:lnTo>
                      <a:lnTo>
                        <a:pt x="237" y="4"/>
                      </a:lnTo>
                      <a:lnTo>
                        <a:pt x="221" y="5"/>
                      </a:lnTo>
                      <a:lnTo>
                        <a:pt x="203" y="7"/>
                      </a:lnTo>
                      <a:lnTo>
                        <a:pt x="186" y="7"/>
                      </a:lnTo>
                      <a:lnTo>
                        <a:pt x="169" y="7"/>
                      </a:lnTo>
                      <a:lnTo>
                        <a:pt x="151" y="7"/>
                      </a:lnTo>
                      <a:lnTo>
                        <a:pt x="135" y="8"/>
                      </a:lnTo>
                      <a:lnTo>
                        <a:pt x="118" y="8"/>
                      </a:lnTo>
                      <a:lnTo>
                        <a:pt x="101" y="9"/>
                      </a:lnTo>
                      <a:lnTo>
                        <a:pt x="83" y="9"/>
                      </a:lnTo>
                      <a:lnTo>
                        <a:pt x="68" y="9"/>
                      </a:lnTo>
                      <a:lnTo>
                        <a:pt x="50" y="10"/>
                      </a:lnTo>
                      <a:lnTo>
                        <a:pt x="33" y="11"/>
                      </a:lnTo>
                      <a:lnTo>
                        <a:pt x="17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Freeform 46"/>
                <p:cNvSpPr/>
                <p:nvPr/>
              </p:nvSpPr>
              <p:spPr>
                <a:xfrm>
                  <a:off x="7162920" y="2381400"/>
                  <a:ext cx="106200" cy="20340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03400"/>
                    <a:gd name="textAreaBottom" fmla="*/ 203760 h 203400"/>
                  </a:gdLst>
                  <a:ahLst/>
                  <a:rect l="textAreaLeft" t="textAreaTop" r="textAreaRight" b="textAreaBottom"/>
                  <a:pathLst>
                    <a:path w="202" h="383">
                      <a:moveTo>
                        <a:pt x="109" y="6"/>
                      </a:moveTo>
                      <a:lnTo>
                        <a:pt x="104" y="13"/>
                      </a:lnTo>
                      <a:lnTo>
                        <a:pt x="101" y="20"/>
                      </a:lnTo>
                      <a:lnTo>
                        <a:pt x="98" y="27"/>
                      </a:lnTo>
                      <a:lnTo>
                        <a:pt x="96" y="34"/>
                      </a:lnTo>
                      <a:lnTo>
                        <a:pt x="94" y="42"/>
                      </a:lnTo>
                      <a:lnTo>
                        <a:pt x="90" y="49"/>
                      </a:lnTo>
                      <a:lnTo>
                        <a:pt x="88" y="56"/>
                      </a:lnTo>
                      <a:lnTo>
                        <a:pt x="85" y="63"/>
                      </a:lnTo>
                      <a:lnTo>
                        <a:pt x="82" y="69"/>
                      </a:lnTo>
                      <a:lnTo>
                        <a:pt x="79" y="76"/>
                      </a:lnTo>
                      <a:lnTo>
                        <a:pt x="77" y="82"/>
                      </a:lnTo>
                      <a:lnTo>
                        <a:pt x="75" y="88"/>
                      </a:lnTo>
                      <a:lnTo>
                        <a:pt x="72" y="95"/>
                      </a:lnTo>
                      <a:lnTo>
                        <a:pt x="70" y="101"/>
                      </a:lnTo>
                      <a:lnTo>
                        <a:pt x="68" y="108"/>
                      </a:lnTo>
                      <a:lnTo>
                        <a:pt x="65" y="114"/>
                      </a:lnTo>
                      <a:lnTo>
                        <a:pt x="63" y="121"/>
                      </a:lnTo>
                      <a:lnTo>
                        <a:pt x="61" y="126"/>
                      </a:lnTo>
                      <a:lnTo>
                        <a:pt x="58" y="133"/>
                      </a:lnTo>
                      <a:lnTo>
                        <a:pt x="56" y="139"/>
                      </a:lnTo>
                      <a:lnTo>
                        <a:pt x="53" y="145"/>
                      </a:lnTo>
                      <a:lnTo>
                        <a:pt x="52" y="152"/>
                      </a:lnTo>
                      <a:lnTo>
                        <a:pt x="50" y="157"/>
                      </a:lnTo>
                      <a:lnTo>
                        <a:pt x="49" y="164"/>
                      </a:lnTo>
                      <a:lnTo>
                        <a:pt x="46" y="170"/>
                      </a:lnTo>
                      <a:lnTo>
                        <a:pt x="45" y="175"/>
                      </a:lnTo>
                      <a:lnTo>
                        <a:pt x="43" y="180"/>
                      </a:lnTo>
                      <a:lnTo>
                        <a:pt x="42" y="186"/>
                      </a:lnTo>
                      <a:lnTo>
                        <a:pt x="39" y="192"/>
                      </a:lnTo>
                      <a:lnTo>
                        <a:pt x="38" y="198"/>
                      </a:lnTo>
                      <a:lnTo>
                        <a:pt x="37" y="204"/>
                      </a:lnTo>
                      <a:lnTo>
                        <a:pt x="36" y="210"/>
                      </a:lnTo>
                      <a:lnTo>
                        <a:pt x="33" y="215"/>
                      </a:lnTo>
                      <a:lnTo>
                        <a:pt x="32" y="221"/>
                      </a:lnTo>
                      <a:lnTo>
                        <a:pt x="31" y="226"/>
                      </a:lnTo>
                      <a:lnTo>
                        <a:pt x="28" y="232"/>
                      </a:lnTo>
                      <a:lnTo>
                        <a:pt x="28" y="237"/>
                      </a:lnTo>
                      <a:lnTo>
                        <a:pt x="26" y="243"/>
                      </a:lnTo>
                      <a:lnTo>
                        <a:pt x="25" y="248"/>
                      </a:lnTo>
                      <a:lnTo>
                        <a:pt x="23" y="253"/>
                      </a:lnTo>
                      <a:lnTo>
                        <a:pt x="21" y="259"/>
                      </a:lnTo>
                      <a:lnTo>
                        <a:pt x="20" y="264"/>
                      </a:lnTo>
                      <a:lnTo>
                        <a:pt x="20" y="269"/>
                      </a:lnTo>
                      <a:lnTo>
                        <a:pt x="18" y="275"/>
                      </a:lnTo>
                      <a:lnTo>
                        <a:pt x="18" y="281"/>
                      </a:lnTo>
                      <a:lnTo>
                        <a:pt x="15" y="286"/>
                      </a:lnTo>
                      <a:lnTo>
                        <a:pt x="15" y="291"/>
                      </a:lnTo>
                      <a:lnTo>
                        <a:pt x="14" y="297"/>
                      </a:lnTo>
                      <a:lnTo>
                        <a:pt x="13" y="302"/>
                      </a:lnTo>
                      <a:lnTo>
                        <a:pt x="12" y="307"/>
                      </a:lnTo>
                      <a:lnTo>
                        <a:pt x="11" y="312"/>
                      </a:lnTo>
                      <a:lnTo>
                        <a:pt x="11" y="319"/>
                      </a:lnTo>
                      <a:lnTo>
                        <a:pt x="8" y="324"/>
                      </a:lnTo>
                      <a:lnTo>
                        <a:pt x="7" y="329"/>
                      </a:lnTo>
                      <a:lnTo>
                        <a:pt x="7" y="334"/>
                      </a:lnTo>
                      <a:lnTo>
                        <a:pt x="7" y="340"/>
                      </a:lnTo>
                      <a:lnTo>
                        <a:pt x="5" y="345"/>
                      </a:lnTo>
                      <a:lnTo>
                        <a:pt x="5" y="350"/>
                      </a:lnTo>
                      <a:lnTo>
                        <a:pt x="5" y="356"/>
                      </a:lnTo>
                      <a:lnTo>
                        <a:pt x="4" y="362"/>
                      </a:lnTo>
                      <a:lnTo>
                        <a:pt x="2" y="367"/>
                      </a:lnTo>
                      <a:lnTo>
                        <a:pt x="2" y="372"/>
                      </a:lnTo>
                      <a:lnTo>
                        <a:pt x="1" y="378"/>
                      </a:lnTo>
                      <a:lnTo>
                        <a:pt x="0" y="383"/>
                      </a:lnTo>
                      <a:lnTo>
                        <a:pt x="93" y="383"/>
                      </a:lnTo>
                      <a:lnTo>
                        <a:pt x="93" y="378"/>
                      </a:lnTo>
                      <a:lnTo>
                        <a:pt x="94" y="372"/>
                      </a:lnTo>
                      <a:lnTo>
                        <a:pt x="94" y="367"/>
                      </a:lnTo>
                      <a:lnTo>
                        <a:pt x="95" y="362"/>
                      </a:lnTo>
                      <a:lnTo>
                        <a:pt x="96" y="357"/>
                      </a:lnTo>
                      <a:lnTo>
                        <a:pt x="96" y="351"/>
                      </a:lnTo>
                      <a:lnTo>
                        <a:pt x="98" y="347"/>
                      </a:lnTo>
                      <a:lnTo>
                        <a:pt x="98" y="342"/>
                      </a:lnTo>
                      <a:lnTo>
                        <a:pt x="100" y="336"/>
                      </a:lnTo>
                      <a:lnTo>
                        <a:pt x="101" y="331"/>
                      </a:lnTo>
                      <a:lnTo>
                        <a:pt x="101" y="325"/>
                      </a:lnTo>
                      <a:lnTo>
                        <a:pt x="103" y="321"/>
                      </a:lnTo>
                      <a:lnTo>
                        <a:pt x="104" y="315"/>
                      </a:lnTo>
                      <a:lnTo>
                        <a:pt x="107" y="310"/>
                      </a:lnTo>
                      <a:lnTo>
                        <a:pt x="107" y="304"/>
                      </a:lnTo>
                      <a:lnTo>
                        <a:pt x="109" y="299"/>
                      </a:lnTo>
                      <a:lnTo>
                        <a:pt x="109" y="293"/>
                      </a:lnTo>
                      <a:lnTo>
                        <a:pt x="112" y="288"/>
                      </a:lnTo>
                      <a:lnTo>
                        <a:pt x="113" y="284"/>
                      </a:lnTo>
                      <a:lnTo>
                        <a:pt x="114" y="278"/>
                      </a:lnTo>
                      <a:lnTo>
                        <a:pt x="116" y="272"/>
                      </a:lnTo>
                      <a:lnTo>
                        <a:pt x="117" y="266"/>
                      </a:lnTo>
                      <a:lnTo>
                        <a:pt x="119" y="261"/>
                      </a:lnTo>
                      <a:lnTo>
                        <a:pt x="121" y="255"/>
                      </a:lnTo>
                      <a:lnTo>
                        <a:pt x="122" y="249"/>
                      </a:lnTo>
                      <a:lnTo>
                        <a:pt x="125" y="243"/>
                      </a:lnTo>
                      <a:lnTo>
                        <a:pt x="126" y="237"/>
                      </a:lnTo>
                      <a:lnTo>
                        <a:pt x="127" y="233"/>
                      </a:lnTo>
                      <a:lnTo>
                        <a:pt x="129" y="227"/>
                      </a:lnTo>
                      <a:lnTo>
                        <a:pt x="132" y="221"/>
                      </a:lnTo>
                      <a:lnTo>
                        <a:pt x="133" y="215"/>
                      </a:lnTo>
                      <a:lnTo>
                        <a:pt x="134" y="209"/>
                      </a:lnTo>
                      <a:lnTo>
                        <a:pt x="136" y="203"/>
                      </a:lnTo>
                      <a:lnTo>
                        <a:pt x="138" y="197"/>
                      </a:lnTo>
                      <a:lnTo>
                        <a:pt x="140" y="190"/>
                      </a:lnTo>
                      <a:lnTo>
                        <a:pt x="142" y="185"/>
                      </a:lnTo>
                      <a:lnTo>
                        <a:pt x="144" y="178"/>
                      </a:lnTo>
                      <a:lnTo>
                        <a:pt x="145" y="172"/>
                      </a:lnTo>
                      <a:lnTo>
                        <a:pt x="147" y="166"/>
                      </a:lnTo>
                      <a:lnTo>
                        <a:pt x="150" y="160"/>
                      </a:lnTo>
                      <a:lnTo>
                        <a:pt x="152" y="154"/>
                      </a:lnTo>
                      <a:lnTo>
                        <a:pt x="153" y="147"/>
                      </a:lnTo>
                      <a:lnTo>
                        <a:pt x="155" y="141"/>
                      </a:lnTo>
                      <a:lnTo>
                        <a:pt x="158" y="134"/>
                      </a:lnTo>
                      <a:lnTo>
                        <a:pt x="159" y="128"/>
                      </a:lnTo>
                      <a:lnTo>
                        <a:pt x="163" y="121"/>
                      </a:lnTo>
                      <a:lnTo>
                        <a:pt x="164" y="116"/>
                      </a:lnTo>
                      <a:lnTo>
                        <a:pt x="166" y="109"/>
                      </a:lnTo>
                      <a:lnTo>
                        <a:pt x="168" y="103"/>
                      </a:lnTo>
                      <a:lnTo>
                        <a:pt x="171" y="96"/>
                      </a:lnTo>
                      <a:lnTo>
                        <a:pt x="172" y="89"/>
                      </a:lnTo>
                      <a:lnTo>
                        <a:pt x="174" y="83"/>
                      </a:lnTo>
                      <a:lnTo>
                        <a:pt x="177" y="76"/>
                      </a:lnTo>
                      <a:lnTo>
                        <a:pt x="179" y="70"/>
                      </a:lnTo>
                      <a:lnTo>
                        <a:pt x="182" y="63"/>
                      </a:lnTo>
                      <a:lnTo>
                        <a:pt x="184" y="56"/>
                      </a:lnTo>
                      <a:lnTo>
                        <a:pt x="185" y="49"/>
                      </a:lnTo>
                      <a:lnTo>
                        <a:pt x="187" y="43"/>
                      </a:lnTo>
                      <a:lnTo>
                        <a:pt x="190" y="36"/>
                      </a:lnTo>
                      <a:lnTo>
                        <a:pt x="192" y="29"/>
                      </a:lnTo>
                      <a:lnTo>
                        <a:pt x="195" y="21"/>
                      </a:lnTo>
                      <a:lnTo>
                        <a:pt x="197" y="15"/>
                      </a:lnTo>
                      <a:lnTo>
                        <a:pt x="198" y="7"/>
                      </a:lnTo>
                      <a:lnTo>
                        <a:pt x="202" y="0"/>
                      </a:lnTo>
                      <a:lnTo>
                        <a:pt x="109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Freeform 47"/>
                <p:cNvSpPr/>
                <p:nvPr/>
              </p:nvSpPr>
              <p:spPr>
                <a:xfrm>
                  <a:off x="7813440" y="2383200"/>
                  <a:ext cx="101520" cy="19656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96560"/>
                    <a:gd name="textAreaBottom" fmla="*/ 196920 h 196560"/>
                  </a:gdLst>
                  <a:ahLst/>
                  <a:rect l="textAreaLeft" t="textAreaTop" r="textAreaRight" b="textAreaBottom"/>
                  <a:pathLst>
                    <a:path w="193" h="372">
                      <a:moveTo>
                        <a:pt x="74" y="0"/>
                      </a:moveTo>
                      <a:lnTo>
                        <a:pt x="0" y="49"/>
                      </a:lnTo>
                      <a:lnTo>
                        <a:pt x="3" y="54"/>
                      </a:lnTo>
                      <a:lnTo>
                        <a:pt x="5" y="60"/>
                      </a:lnTo>
                      <a:lnTo>
                        <a:pt x="9" y="66"/>
                      </a:lnTo>
                      <a:lnTo>
                        <a:pt x="11" y="72"/>
                      </a:lnTo>
                      <a:lnTo>
                        <a:pt x="15" y="76"/>
                      </a:lnTo>
                      <a:lnTo>
                        <a:pt x="17" y="82"/>
                      </a:lnTo>
                      <a:lnTo>
                        <a:pt x="21" y="88"/>
                      </a:lnTo>
                      <a:lnTo>
                        <a:pt x="23" y="94"/>
                      </a:lnTo>
                      <a:lnTo>
                        <a:pt x="25" y="99"/>
                      </a:lnTo>
                      <a:lnTo>
                        <a:pt x="28" y="104"/>
                      </a:lnTo>
                      <a:lnTo>
                        <a:pt x="30" y="110"/>
                      </a:lnTo>
                      <a:lnTo>
                        <a:pt x="34" y="114"/>
                      </a:lnTo>
                      <a:lnTo>
                        <a:pt x="36" y="120"/>
                      </a:lnTo>
                      <a:lnTo>
                        <a:pt x="38" y="126"/>
                      </a:lnTo>
                      <a:lnTo>
                        <a:pt x="41" y="131"/>
                      </a:lnTo>
                      <a:lnTo>
                        <a:pt x="43" y="137"/>
                      </a:lnTo>
                      <a:lnTo>
                        <a:pt x="45" y="142"/>
                      </a:lnTo>
                      <a:lnTo>
                        <a:pt x="48" y="148"/>
                      </a:lnTo>
                      <a:lnTo>
                        <a:pt x="50" y="152"/>
                      </a:lnTo>
                      <a:lnTo>
                        <a:pt x="53" y="157"/>
                      </a:lnTo>
                      <a:lnTo>
                        <a:pt x="54" y="162"/>
                      </a:lnTo>
                      <a:lnTo>
                        <a:pt x="56" y="168"/>
                      </a:lnTo>
                      <a:lnTo>
                        <a:pt x="59" y="173"/>
                      </a:lnTo>
                      <a:lnTo>
                        <a:pt x="61" y="178"/>
                      </a:lnTo>
                      <a:lnTo>
                        <a:pt x="63" y="183"/>
                      </a:lnTo>
                      <a:lnTo>
                        <a:pt x="64" y="188"/>
                      </a:lnTo>
                      <a:lnTo>
                        <a:pt x="66" y="194"/>
                      </a:lnTo>
                      <a:lnTo>
                        <a:pt x="68" y="199"/>
                      </a:lnTo>
                      <a:lnTo>
                        <a:pt x="70" y="203"/>
                      </a:lnTo>
                      <a:lnTo>
                        <a:pt x="72" y="209"/>
                      </a:lnTo>
                      <a:lnTo>
                        <a:pt x="74" y="214"/>
                      </a:lnTo>
                      <a:lnTo>
                        <a:pt x="76" y="220"/>
                      </a:lnTo>
                      <a:lnTo>
                        <a:pt x="78" y="225"/>
                      </a:lnTo>
                      <a:lnTo>
                        <a:pt x="79" y="230"/>
                      </a:lnTo>
                      <a:lnTo>
                        <a:pt x="80" y="234"/>
                      </a:lnTo>
                      <a:lnTo>
                        <a:pt x="81" y="239"/>
                      </a:lnTo>
                      <a:lnTo>
                        <a:pt x="83" y="244"/>
                      </a:lnTo>
                      <a:lnTo>
                        <a:pt x="85" y="248"/>
                      </a:lnTo>
                      <a:lnTo>
                        <a:pt x="86" y="253"/>
                      </a:lnTo>
                      <a:lnTo>
                        <a:pt x="87" y="259"/>
                      </a:lnTo>
                      <a:lnTo>
                        <a:pt x="89" y="264"/>
                      </a:lnTo>
                      <a:lnTo>
                        <a:pt x="89" y="269"/>
                      </a:lnTo>
                      <a:lnTo>
                        <a:pt x="92" y="273"/>
                      </a:lnTo>
                      <a:lnTo>
                        <a:pt x="92" y="278"/>
                      </a:lnTo>
                      <a:lnTo>
                        <a:pt x="93" y="283"/>
                      </a:lnTo>
                      <a:lnTo>
                        <a:pt x="94" y="288"/>
                      </a:lnTo>
                      <a:lnTo>
                        <a:pt x="95" y="292"/>
                      </a:lnTo>
                      <a:lnTo>
                        <a:pt x="97" y="297"/>
                      </a:lnTo>
                      <a:lnTo>
                        <a:pt x="97" y="302"/>
                      </a:lnTo>
                      <a:lnTo>
                        <a:pt x="98" y="307"/>
                      </a:lnTo>
                      <a:lnTo>
                        <a:pt x="99" y="311"/>
                      </a:lnTo>
                      <a:lnTo>
                        <a:pt x="99" y="316"/>
                      </a:lnTo>
                      <a:lnTo>
                        <a:pt x="100" y="320"/>
                      </a:lnTo>
                      <a:lnTo>
                        <a:pt x="101" y="324"/>
                      </a:lnTo>
                      <a:lnTo>
                        <a:pt x="101" y="329"/>
                      </a:lnTo>
                      <a:lnTo>
                        <a:pt x="102" y="335"/>
                      </a:lnTo>
                      <a:lnTo>
                        <a:pt x="102" y="339"/>
                      </a:lnTo>
                      <a:lnTo>
                        <a:pt x="104" y="343"/>
                      </a:lnTo>
                      <a:lnTo>
                        <a:pt x="104" y="348"/>
                      </a:lnTo>
                      <a:lnTo>
                        <a:pt x="104" y="353"/>
                      </a:lnTo>
                      <a:lnTo>
                        <a:pt x="105" y="358"/>
                      </a:lnTo>
                      <a:lnTo>
                        <a:pt x="105" y="362"/>
                      </a:lnTo>
                      <a:lnTo>
                        <a:pt x="106" y="367"/>
                      </a:lnTo>
                      <a:lnTo>
                        <a:pt x="106" y="372"/>
                      </a:lnTo>
                      <a:lnTo>
                        <a:pt x="193" y="366"/>
                      </a:lnTo>
                      <a:lnTo>
                        <a:pt x="191" y="360"/>
                      </a:lnTo>
                      <a:lnTo>
                        <a:pt x="191" y="355"/>
                      </a:lnTo>
                      <a:lnTo>
                        <a:pt x="190" y="349"/>
                      </a:lnTo>
                      <a:lnTo>
                        <a:pt x="190" y="345"/>
                      </a:lnTo>
                      <a:lnTo>
                        <a:pt x="190" y="340"/>
                      </a:lnTo>
                      <a:lnTo>
                        <a:pt x="189" y="334"/>
                      </a:lnTo>
                      <a:lnTo>
                        <a:pt x="188" y="329"/>
                      </a:lnTo>
                      <a:lnTo>
                        <a:pt x="188" y="323"/>
                      </a:lnTo>
                      <a:lnTo>
                        <a:pt x="188" y="317"/>
                      </a:lnTo>
                      <a:lnTo>
                        <a:pt x="186" y="313"/>
                      </a:lnTo>
                      <a:lnTo>
                        <a:pt x="186" y="307"/>
                      </a:lnTo>
                      <a:lnTo>
                        <a:pt x="186" y="302"/>
                      </a:lnTo>
                      <a:lnTo>
                        <a:pt x="183" y="297"/>
                      </a:lnTo>
                      <a:lnTo>
                        <a:pt x="182" y="291"/>
                      </a:lnTo>
                      <a:lnTo>
                        <a:pt x="182" y="286"/>
                      </a:lnTo>
                      <a:lnTo>
                        <a:pt x="182" y="282"/>
                      </a:lnTo>
                      <a:lnTo>
                        <a:pt x="180" y="276"/>
                      </a:lnTo>
                      <a:lnTo>
                        <a:pt x="180" y="269"/>
                      </a:lnTo>
                      <a:lnTo>
                        <a:pt x="177" y="264"/>
                      </a:lnTo>
                      <a:lnTo>
                        <a:pt x="177" y="259"/>
                      </a:lnTo>
                      <a:lnTo>
                        <a:pt x="175" y="253"/>
                      </a:lnTo>
                      <a:lnTo>
                        <a:pt x="174" y="247"/>
                      </a:lnTo>
                      <a:lnTo>
                        <a:pt x="172" y="241"/>
                      </a:lnTo>
                      <a:lnTo>
                        <a:pt x="171" y="235"/>
                      </a:lnTo>
                      <a:lnTo>
                        <a:pt x="170" y="231"/>
                      </a:lnTo>
                      <a:lnTo>
                        <a:pt x="168" y="225"/>
                      </a:lnTo>
                      <a:lnTo>
                        <a:pt x="167" y="219"/>
                      </a:lnTo>
                      <a:lnTo>
                        <a:pt x="165" y="214"/>
                      </a:lnTo>
                      <a:lnTo>
                        <a:pt x="163" y="208"/>
                      </a:lnTo>
                      <a:lnTo>
                        <a:pt x="162" y="203"/>
                      </a:lnTo>
                      <a:lnTo>
                        <a:pt x="159" y="197"/>
                      </a:lnTo>
                      <a:lnTo>
                        <a:pt x="158" y="192"/>
                      </a:lnTo>
                      <a:lnTo>
                        <a:pt x="156" y="186"/>
                      </a:lnTo>
                      <a:lnTo>
                        <a:pt x="155" y="180"/>
                      </a:lnTo>
                      <a:lnTo>
                        <a:pt x="152" y="175"/>
                      </a:lnTo>
                      <a:lnTo>
                        <a:pt x="150" y="169"/>
                      </a:lnTo>
                      <a:lnTo>
                        <a:pt x="148" y="163"/>
                      </a:lnTo>
                      <a:lnTo>
                        <a:pt x="146" y="157"/>
                      </a:lnTo>
                      <a:lnTo>
                        <a:pt x="144" y="152"/>
                      </a:lnTo>
                      <a:lnTo>
                        <a:pt x="142" y="145"/>
                      </a:lnTo>
                      <a:lnTo>
                        <a:pt x="139" y="139"/>
                      </a:lnTo>
                      <a:lnTo>
                        <a:pt x="137" y="135"/>
                      </a:lnTo>
                      <a:lnTo>
                        <a:pt x="134" y="127"/>
                      </a:lnTo>
                      <a:lnTo>
                        <a:pt x="132" y="121"/>
                      </a:lnTo>
                      <a:lnTo>
                        <a:pt x="130" y="116"/>
                      </a:lnTo>
                      <a:lnTo>
                        <a:pt x="127" y="110"/>
                      </a:lnTo>
                      <a:lnTo>
                        <a:pt x="125" y="104"/>
                      </a:lnTo>
                      <a:lnTo>
                        <a:pt x="123" y="99"/>
                      </a:lnTo>
                      <a:lnTo>
                        <a:pt x="119" y="92"/>
                      </a:lnTo>
                      <a:lnTo>
                        <a:pt x="117" y="86"/>
                      </a:lnTo>
                      <a:lnTo>
                        <a:pt x="114" y="80"/>
                      </a:lnTo>
                      <a:lnTo>
                        <a:pt x="111" y="74"/>
                      </a:lnTo>
                      <a:lnTo>
                        <a:pt x="108" y="68"/>
                      </a:lnTo>
                      <a:lnTo>
                        <a:pt x="105" y="62"/>
                      </a:lnTo>
                      <a:lnTo>
                        <a:pt x="102" y="56"/>
                      </a:lnTo>
                      <a:lnTo>
                        <a:pt x="99" y="50"/>
                      </a:lnTo>
                      <a:lnTo>
                        <a:pt x="97" y="43"/>
                      </a:lnTo>
                      <a:lnTo>
                        <a:pt x="93" y="37"/>
                      </a:lnTo>
                      <a:lnTo>
                        <a:pt x="89" y="31"/>
                      </a:lnTo>
                      <a:lnTo>
                        <a:pt x="86" y="25"/>
                      </a:lnTo>
                      <a:lnTo>
                        <a:pt x="83" y="18"/>
                      </a:lnTo>
                      <a:lnTo>
                        <a:pt x="80" y="12"/>
                      </a:lnTo>
                      <a:lnTo>
                        <a:pt x="76" y="5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Freeform 48"/>
                <p:cNvSpPr/>
                <p:nvPr/>
              </p:nvSpPr>
              <p:spPr>
                <a:xfrm>
                  <a:off x="7283520" y="2443320"/>
                  <a:ext cx="39240" cy="4140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9">
                      <a:moveTo>
                        <a:pt x="38" y="79"/>
                      </a:moveTo>
                      <a:lnTo>
                        <a:pt x="41" y="78"/>
                      </a:lnTo>
                      <a:lnTo>
                        <a:pt x="45" y="78"/>
                      </a:lnTo>
                      <a:lnTo>
                        <a:pt x="49" y="76"/>
                      </a:lnTo>
                      <a:lnTo>
                        <a:pt x="53" y="75"/>
                      </a:lnTo>
                      <a:lnTo>
                        <a:pt x="57" y="73"/>
                      </a:lnTo>
                      <a:lnTo>
                        <a:pt x="59" y="72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3"/>
                      </a:lnTo>
                      <a:lnTo>
                        <a:pt x="70" y="61"/>
                      </a:lnTo>
                      <a:lnTo>
                        <a:pt x="72" y="57"/>
                      </a:lnTo>
                      <a:lnTo>
                        <a:pt x="74" y="55"/>
                      </a:lnTo>
                      <a:lnTo>
                        <a:pt x="74" y="51"/>
                      </a:lnTo>
                      <a:lnTo>
                        <a:pt x="77" y="47"/>
                      </a:lnTo>
                      <a:lnTo>
                        <a:pt x="77" y="43"/>
                      </a:lnTo>
                      <a:lnTo>
                        <a:pt x="77" y="40"/>
                      </a:lnTo>
                      <a:lnTo>
                        <a:pt x="77" y="36"/>
                      </a:lnTo>
                      <a:lnTo>
                        <a:pt x="77" y="31"/>
                      </a:lnTo>
                      <a:lnTo>
                        <a:pt x="74" y="28"/>
                      </a:lnTo>
                      <a:lnTo>
                        <a:pt x="74" y="24"/>
                      </a:lnTo>
                      <a:lnTo>
                        <a:pt x="72" y="21"/>
                      </a:lnTo>
                      <a:lnTo>
                        <a:pt x="70" y="18"/>
                      </a:lnTo>
                      <a:lnTo>
                        <a:pt x="67" y="15"/>
                      </a:lnTo>
                      <a:lnTo>
                        <a:pt x="65" y="12"/>
                      </a:lnTo>
                      <a:lnTo>
                        <a:pt x="63" y="10"/>
                      </a:lnTo>
                      <a:lnTo>
                        <a:pt x="59" y="7"/>
                      </a:lnTo>
                      <a:lnTo>
                        <a:pt x="57" y="5"/>
                      </a:lnTo>
                      <a:lnTo>
                        <a:pt x="53" y="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3"/>
                      </a:lnTo>
                      <a:lnTo>
                        <a:pt x="22" y="3"/>
                      </a:lnTo>
                      <a:lnTo>
                        <a:pt x="19" y="5"/>
                      </a:lnTo>
                      <a:lnTo>
                        <a:pt x="16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6" y="18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1" y="47"/>
                      </a:lnTo>
                      <a:lnTo>
                        <a:pt x="1" y="51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8" y="63"/>
                      </a:lnTo>
                      <a:lnTo>
                        <a:pt x="11" y="67"/>
                      </a:lnTo>
                      <a:lnTo>
                        <a:pt x="14" y="69"/>
                      </a:lnTo>
                      <a:lnTo>
                        <a:pt x="16" y="72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8"/>
                      </a:lnTo>
                      <a:lnTo>
                        <a:pt x="34" y="78"/>
                      </a:lnTo>
                      <a:lnTo>
                        <a:pt x="38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Freeform 49"/>
                <p:cNvSpPr/>
                <p:nvPr/>
              </p:nvSpPr>
              <p:spPr>
                <a:xfrm>
                  <a:off x="7364160" y="244656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3" y="76"/>
                      </a:lnTo>
                      <a:lnTo>
                        <a:pt x="46" y="76"/>
                      </a:lnTo>
                      <a:lnTo>
                        <a:pt x="50" y="75"/>
                      </a:lnTo>
                      <a:lnTo>
                        <a:pt x="53" y="74"/>
                      </a:lnTo>
                      <a:lnTo>
                        <a:pt x="56" y="71"/>
                      </a:lnTo>
                      <a:lnTo>
                        <a:pt x="59" y="70"/>
                      </a:lnTo>
                      <a:lnTo>
                        <a:pt x="63" y="68"/>
                      </a:lnTo>
                      <a:lnTo>
                        <a:pt x="67" y="65"/>
                      </a:lnTo>
                      <a:lnTo>
                        <a:pt x="69" y="62"/>
                      </a:lnTo>
                      <a:lnTo>
                        <a:pt x="71" y="59"/>
                      </a:lnTo>
                      <a:lnTo>
                        <a:pt x="72" y="56"/>
                      </a:lnTo>
                      <a:lnTo>
                        <a:pt x="74" y="54"/>
                      </a:lnTo>
                      <a:lnTo>
                        <a:pt x="75" y="49"/>
                      </a:lnTo>
                      <a:lnTo>
                        <a:pt x="76" y="46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76" y="31"/>
                      </a:lnTo>
                      <a:lnTo>
                        <a:pt x="75" y="26"/>
                      </a:lnTo>
                      <a:lnTo>
                        <a:pt x="74" y="23"/>
                      </a:lnTo>
                      <a:lnTo>
                        <a:pt x="72" y="19"/>
                      </a:lnTo>
                      <a:lnTo>
                        <a:pt x="71" y="16"/>
                      </a:lnTo>
                      <a:lnTo>
                        <a:pt x="69" y="13"/>
                      </a:lnTo>
                      <a:lnTo>
                        <a:pt x="67" y="11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3" y="2"/>
                      </a:lnTo>
                      <a:lnTo>
                        <a:pt x="20" y="5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2" y="54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5"/>
                      </a:lnTo>
                      <a:lnTo>
                        <a:pt x="13" y="68"/>
                      </a:lnTo>
                      <a:lnTo>
                        <a:pt x="17" y="70"/>
                      </a:lnTo>
                      <a:lnTo>
                        <a:pt x="20" y="71"/>
                      </a:lnTo>
                      <a:lnTo>
                        <a:pt x="23" y="74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Freeform 50"/>
                <p:cNvSpPr/>
                <p:nvPr/>
              </p:nvSpPr>
              <p:spPr>
                <a:xfrm>
                  <a:off x="744192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41" y="77"/>
                      </a:moveTo>
                      <a:lnTo>
                        <a:pt x="43" y="76"/>
                      </a:lnTo>
                      <a:lnTo>
                        <a:pt x="48" y="76"/>
                      </a:lnTo>
                      <a:lnTo>
                        <a:pt x="51" y="75"/>
                      </a:lnTo>
                      <a:lnTo>
                        <a:pt x="55" y="73"/>
                      </a:lnTo>
                      <a:lnTo>
                        <a:pt x="57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1" y="59"/>
                      </a:lnTo>
                      <a:lnTo>
                        <a:pt x="74" y="56"/>
                      </a:lnTo>
                      <a:lnTo>
                        <a:pt x="75" y="53"/>
                      </a:lnTo>
                      <a:lnTo>
                        <a:pt x="76" y="48"/>
                      </a:lnTo>
                      <a:lnTo>
                        <a:pt x="77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7" y="31"/>
                      </a:lnTo>
                      <a:lnTo>
                        <a:pt x="76" y="26"/>
                      </a:lnTo>
                      <a:lnTo>
                        <a:pt x="75" y="22"/>
                      </a:lnTo>
                      <a:lnTo>
                        <a:pt x="74" y="19"/>
                      </a:lnTo>
                      <a:lnTo>
                        <a:pt x="71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4"/>
                      </a:lnTo>
                      <a:lnTo>
                        <a:pt x="57" y="3"/>
                      </a:lnTo>
                      <a:lnTo>
                        <a:pt x="55" y="2"/>
                      </a:lnTo>
                      <a:lnTo>
                        <a:pt x="51" y="0"/>
                      </a:lnTo>
                      <a:lnTo>
                        <a:pt x="48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7"/>
                      </a:lnTo>
                      <a:lnTo>
                        <a:pt x="13" y="10"/>
                      </a:lnTo>
                      <a:lnTo>
                        <a:pt x="10" y="13"/>
                      </a:lnTo>
                      <a:lnTo>
                        <a:pt x="7" y="15"/>
                      </a:lnTo>
                      <a:lnTo>
                        <a:pt x="5" y="19"/>
                      </a:lnTo>
                      <a:lnTo>
                        <a:pt x="4" y="22"/>
                      </a:lnTo>
                      <a:lnTo>
                        <a:pt x="3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3" y="48"/>
                      </a:lnTo>
                      <a:lnTo>
                        <a:pt x="4" y="53"/>
                      </a:lnTo>
                      <a:lnTo>
                        <a:pt x="5" y="56"/>
                      </a:lnTo>
                      <a:lnTo>
                        <a:pt x="7" y="59"/>
                      </a:lnTo>
                      <a:lnTo>
                        <a:pt x="10" y="61"/>
                      </a:lnTo>
                      <a:lnTo>
                        <a:pt x="13" y="65"/>
                      </a:lnTo>
                      <a:lnTo>
                        <a:pt x="16" y="67"/>
                      </a:lnTo>
                      <a:lnTo>
                        <a:pt x="18" y="70"/>
                      </a:lnTo>
                      <a:lnTo>
                        <a:pt x="20" y="71"/>
                      </a:lnTo>
                      <a:lnTo>
                        <a:pt x="25" y="73"/>
                      </a:lnTo>
                      <a:lnTo>
                        <a:pt x="27" y="75"/>
                      </a:lnTo>
                      <a:lnTo>
                        <a:pt x="31" y="76"/>
                      </a:lnTo>
                      <a:lnTo>
                        <a:pt x="36" y="76"/>
                      </a:lnTo>
                      <a:lnTo>
                        <a:pt x="41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Freeform 51"/>
                <p:cNvSpPr/>
                <p:nvPr/>
              </p:nvSpPr>
              <p:spPr>
                <a:xfrm>
                  <a:off x="75214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6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7"/>
                      </a:lnTo>
                      <a:lnTo>
                        <a:pt x="50" y="76"/>
                      </a:lnTo>
                      <a:lnTo>
                        <a:pt x="53" y="75"/>
                      </a:lnTo>
                      <a:lnTo>
                        <a:pt x="55" y="73"/>
                      </a:lnTo>
                      <a:lnTo>
                        <a:pt x="59" y="71"/>
                      </a:lnTo>
                      <a:lnTo>
                        <a:pt x="63" y="69"/>
                      </a:lnTo>
                      <a:lnTo>
                        <a:pt x="65" y="67"/>
                      </a:lnTo>
                      <a:lnTo>
                        <a:pt x="67" y="64"/>
                      </a:lnTo>
                      <a:lnTo>
                        <a:pt x="70" y="61"/>
                      </a:lnTo>
                      <a:lnTo>
                        <a:pt x="71" y="57"/>
                      </a:lnTo>
                      <a:lnTo>
                        <a:pt x="73" y="55"/>
                      </a:lnTo>
                      <a:lnTo>
                        <a:pt x="74" y="51"/>
                      </a:lnTo>
                      <a:lnTo>
                        <a:pt x="76" y="46"/>
                      </a:lnTo>
                      <a:lnTo>
                        <a:pt x="76" y="43"/>
                      </a:lnTo>
                      <a:lnTo>
                        <a:pt x="76" y="39"/>
                      </a:lnTo>
                      <a:lnTo>
                        <a:pt x="76" y="36"/>
                      </a:lnTo>
                      <a:lnTo>
                        <a:pt x="76" y="31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7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7"/>
                      </a:lnTo>
                      <a:lnTo>
                        <a:pt x="55" y="5"/>
                      </a:lnTo>
                      <a:lnTo>
                        <a:pt x="53" y="2"/>
                      </a:lnTo>
                      <a:lnTo>
                        <a:pt x="50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29" y="0"/>
                      </a:lnTo>
                      <a:lnTo>
                        <a:pt x="26" y="2"/>
                      </a:lnTo>
                      <a:lnTo>
                        <a:pt x="22" y="2"/>
                      </a:lnTo>
                      <a:lnTo>
                        <a:pt x="19" y="5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6" y="17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1" y="51"/>
                      </a:lnTo>
                      <a:lnTo>
                        <a:pt x="2" y="55"/>
                      </a:lnTo>
                      <a:lnTo>
                        <a:pt x="3" y="57"/>
                      </a:lnTo>
                      <a:lnTo>
                        <a:pt x="6" y="61"/>
                      </a:lnTo>
                      <a:lnTo>
                        <a:pt x="7" y="64"/>
                      </a:lnTo>
                      <a:lnTo>
                        <a:pt x="10" y="67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6"/>
                      </a:lnTo>
                      <a:lnTo>
                        <a:pt x="29" y="77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Freeform 52"/>
                <p:cNvSpPr/>
                <p:nvPr/>
              </p:nvSpPr>
              <p:spPr>
                <a:xfrm>
                  <a:off x="7599240" y="2445120"/>
                  <a:ext cx="41040" cy="4104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9" y="77"/>
                      </a:moveTo>
                      <a:lnTo>
                        <a:pt x="42" y="76"/>
                      </a:lnTo>
                      <a:lnTo>
                        <a:pt x="46" y="76"/>
                      </a:lnTo>
                      <a:lnTo>
                        <a:pt x="49" y="75"/>
                      </a:lnTo>
                      <a:lnTo>
                        <a:pt x="53" y="73"/>
                      </a:lnTo>
                      <a:lnTo>
                        <a:pt x="55" y="71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6" y="65"/>
                      </a:lnTo>
                      <a:lnTo>
                        <a:pt x="67" y="61"/>
                      </a:lnTo>
                      <a:lnTo>
                        <a:pt x="70" y="59"/>
                      </a:lnTo>
                      <a:lnTo>
                        <a:pt x="72" y="56"/>
                      </a:lnTo>
                      <a:lnTo>
                        <a:pt x="73" y="53"/>
                      </a:lnTo>
                      <a:lnTo>
                        <a:pt x="74" y="48"/>
                      </a:lnTo>
                      <a:lnTo>
                        <a:pt x="77" y="45"/>
                      </a:lnTo>
                      <a:lnTo>
                        <a:pt x="77" y="41"/>
                      </a:lnTo>
                      <a:lnTo>
                        <a:pt x="77" y="38"/>
                      </a:lnTo>
                      <a:lnTo>
                        <a:pt x="77" y="34"/>
                      </a:lnTo>
                      <a:lnTo>
                        <a:pt x="77" y="31"/>
                      </a:lnTo>
                      <a:lnTo>
                        <a:pt x="74" y="26"/>
                      </a:lnTo>
                      <a:lnTo>
                        <a:pt x="73" y="22"/>
                      </a:lnTo>
                      <a:lnTo>
                        <a:pt x="72" y="19"/>
                      </a:lnTo>
                      <a:lnTo>
                        <a:pt x="70" y="15"/>
                      </a:lnTo>
                      <a:lnTo>
                        <a:pt x="67" y="13"/>
                      </a:lnTo>
                      <a:lnTo>
                        <a:pt x="66" y="10"/>
                      </a:lnTo>
                      <a:lnTo>
                        <a:pt x="63" y="7"/>
                      </a:lnTo>
                      <a:lnTo>
                        <a:pt x="59" y="4"/>
                      </a:lnTo>
                      <a:lnTo>
                        <a:pt x="55" y="3"/>
                      </a:lnTo>
                      <a:lnTo>
                        <a:pt x="53" y="2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7" y="0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6" y="4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8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3" y="22"/>
                      </a:lnTo>
                      <a:lnTo>
                        <a:pt x="1" y="26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5"/>
                      </a:lnTo>
                      <a:lnTo>
                        <a:pt x="1" y="48"/>
                      </a:lnTo>
                      <a:lnTo>
                        <a:pt x="3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8" y="61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1"/>
                      </a:lnTo>
                      <a:lnTo>
                        <a:pt x="23" y="73"/>
                      </a:lnTo>
                      <a:lnTo>
                        <a:pt x="27" y="75"/>
                      </a:lnTo>
                      <a:lnTo>
                        <a:pt x="30" y="76"/>
                      </a:lnTo>
                      <a:lnTo>
                        <a:pt x="35" y="76"/>
                      </a:lnTo>
                      <a:lnTo>
                        <a:pt x="39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Freeform 53"/>
                <p:cNvSpPr/>
                <p:nvPr/>
              </p:nvSpPr>
              <p:spPr>
                <a:xfrm>
                  <a:off x="7681680" y="2446560"/>
                  <a:ext cx="41040" cy="414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39" y="78"/>
                      </a:moveTo>
                      <a:lnTo>
                        <a:pt x="43" y="77"/>
                      </a:lnTo>
                      <a:lnTo>
                        <a:pt x="46" y="77"/>
                      </a:lnTo>
                      <a:lnTo>
                        <a:pt x="50" y="76"/>
                      </a:lnTo>
                      <a:lnTo>
                        <a:pt x="55" y="75"/>
                      </a:lnTo>
                      <a:lnTo>
                        <a:pt x="57" y="73"/>
                      </a:lnTo>
                      <a:lnTo>
                        <a:pt x="61" y="71"/>
                      </a:lnTo>
                      <a:lnTo>
                        <a:pt x="63" y="69"/>
                      </a:lnTo>
                      <a:lnTo>
                        <a:pt x="67" y="67"/>
                      </a:lnTo>
                      <a:lnTo>
                        <a:pt x="68" y="64"/>
                      </a:lnTo>
                      <a:lnTo>
                        <a:pt x="70" y="61"/>
                      </a:lnTo>
                      <a:lnTo>
                        <a:pt x="74" y="57"/>
                      </a:lnTo>
                      <a:lnTo>
                        <a:pt x="75" y="55"/>
                      </a:lnTo>
                      <a:lnTo>
                        <a:pt x="76" y="51"/>
                      </a:lnTo>
                      <a:lnTo>
                        <a:pt x="77" y="46"/>
                      </a:lnTo>
                      <a:lnTo>
                        <a:pt x="78" y="43"/>
                      </a:lnTo>
                      <a:lnTo>
                        <a:pt x="78" y="39"/>
                      </a:lnTo>
                      <a:lnTo>
                        <a:pt x="78" y="36"/>
                      </a:lnTo>
                      <a:lnTo>
                        <a:pt x="77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4" y="20"/>
                      </a:lnTo>
                      <a:lnTo>
                        <a:pt x="70" y="17"/>
                      </a:lnTo>
                      <a:lnTo>
                        <a:pt x="68" y="14"/>
                      </a:lnTo>
                      <a:lnTo>
                        <a:pt x="67" y="12"/>
                      </a:lnTo>
                      <a:lnTo>
                        <a:pt x="63" y="8"/>
                      </a:lnTo>
                      <a:lnTo>
                        <a:pt x="61" y="7"/>
                      </a:lnTo>
                      <a:lnTo>
                        <a:pt x="57" y="5"/>
                      </a:lnTo>
                      <a:lnTo>
                        <a:pt x="55" y="2"/>
                      </a:lnTo>
                      <a:lnTo>
                        <a:pt x="50" y="2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0" y="5"/>
                      </a:lnTo>
                      <a:lnTo>
                        <a:pt x="18" y="7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8" y="14"/>
                      </a:lnTo>
                      <a:lnTo>
                        <a:pt x="7" y="17"/>
                      </a:lnTo>
                      <a:lnTo>
                        <a:pt x="5" y="20"/>
                      </a:lnTo>
                      <a:lnTo>
                        <a:pt x="4" y="24"/>
                      </a:lnTo>
                      <a:lnTo>
                        <a:pt x="2" y="27"/>
                      </a:lnTo>
                      <a:lnTo>
                        <a:pt x="1" y="31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0" y="43"/>
                      </a:lnTo>
                      <a:lnTo>
                        <a:pt x="1" y="46"/>
                      </a:lnTo>
                      <a:lnTo>
                        <a:pt x="2" y="51"/>
                      </a:lnTo>
                      <a:lnTo>
                        <a:pt x="4" y="55"/>
                      </a:lnTo>
                      <a:lnTo>
                        <a:pt x="5" y="57"/>
                      </a:lnTo>
                      <a:lnTo>
                        <a:pt x="7" y="61"/>
                      </a:lnTo>
                      <a:lnTo>
                        <a:pt x="8" y="64"/>
                      </a:lnTo>
                      <a:lnTo>
                        <a:pt x="12" y="67"/>
                      </a:lnTo>
                      <a:lnTo>
                        <a:pt x="14" y="69"/>
                      </a:lnTo>
                      <a:lnTo>
                        <a:pt x="18" y="71"/>
                      </a:lnTo>
                      <a:lnTo>
                        <a:pt x="20" y="73"/>
                      </a:lnTo>
                      <a:lnTo>
                        <a:pt x="24" y="75"/>
                      </a:lnTo>
                      <a:lnTo>
                        <a:pt x="27" y="76"/>
                      </a:lnTo>
                      <a:lnTo>
                        <a:pt x="31" y="77"/>
                      </a:lnTo>
                      <a:lnTo>
                        <a:pt x="36" y="77"/>
                      </a:lnTo>
                      <a:lnTo>
                        <a:pt x="39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Freeform 54"/>
                <p:cNvSpPr/>
                <p:nvPr/>
              </p:nvSpPr>
              <p:spPr>
                <a:xfrm>
                  <a:off x="7761240" y="2445120"/>
                  <a:ext cx="39240" cy="41040"/>
                </a:xfrm>
                <a:custGeom>
                  <a:avLst/>
                  <a:gdLst>
                    <a:gd name="textAreaLeft" fmla="*/ 0 w 39240"/>
                    <a:gd name="textAreaRight" fmla="*/ 39240 w 3924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5" h="78">
                      <a:moveTo>
                        <a:pt x="38" y="78"/>
                      </a:moveTo>
                      <a:lnTo>
                        <a:pt x="41" y="78"/>
                      </a:lnTo>
                      <a:lnTo>
                        <a:pt x="45" y="77"/>
                      </a:lnTo>
                      <a:lnTo>
                        <a:pt x="48" y="76"/>
                      </a:lnTo>
                      <a:lnTo>
                        <a:pt x="52" y="75"/>
                      </a:lnTo>
                      <a:lnTo>
                        <a:pt x="54" y="72"/>
                      </a:lnTo>
                      <a:lnTo>
                        <a:pt x="58" y="71"/>
                      </a:lnTo>
                      <a:lnTo>
                        <a:pt x="61" y="69"/>
                      </a:lnTo>
                      <a:lnTo>
                        <a:pt x="65" y="66"/>
                      </a:lnTo>
                      <a:lnTo>
                        <a:pt x="66" y="63"/>
                      </a:lnTo>
                      <a:lnTo>
                        <a:pt x="68" y="60"/>
                      </a:lnTo>
                      <a:lnTo>
                        <a:pt x="70" y="57"/>
                      </a:lnTo>
                      <a:lnTo>
                        <a:pt x="72" y="53"/>
                      </a:lnTo>
                      <a:lnTo>
                        <a:pt x="73" y="51"/>
                      </a:lnTo>
                      <a:lnTo>
                        <a:pt x="75" y="46"/>
                      </a:lnTo>
                      <a:lnTo>
                        <a:pt x="75" y="42"/>
                      </a:lnTo>
                      <a:lnTo>
                        <a:pt x="75" y="39"/>
                      </a:lnTo>
                      <a:lnTo>
                        <a:pt x="75" y="35"/>
                      </a:lnTo>
                      <a:lnTo>
                        <a:pt x="75" y="31"/>
                      </a:lnTo>
                      <a:lnTo>
                        <a:pt x="73" y="26"/>
                      </a:lnTo>
                      <a:lnTo>
                        <a:pt x="72" y="23"/>
                      </a:lnTo>
                      <a:lnTo>
                        <a:pt x="70" y="20"/>
                      </a:lnTo>
                      <a:lnTo>
                        <a:pt x="68" y="18"/>
                      </a:lnTo>
                      <a:lnTo>
                        <a:pt x="66" y="14"/>
                      </a:lnTo>
                      <a:lnTo>
                        <a:pt x="65" y="12"/>
                      </a:lnTo>
                      <a:lnTo>
                        <a:pt x="61" y="9"/>
                      </a:lnTo>
                      <a:lnTo>
                        <a:pt x="58" y="7"/>
                      </a:lnTo>
                      <a:lnTo>
                        <a:pt x="54" y="4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5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9" y="1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19" y="4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8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0" y="51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6"/>
                      </a:lnTo>
                      <a:lnTo>
                        <a:pt x="13" y="69"/>
                      </a:lnTo>
                      <a:lnTo>
                        <a:pt x="15" y="71"/>
                      </a:lnTo>
                      <a:lnTo>
                        <a:pt x="19" y="72"/>
                      </a:lnTo>
                      <a:lnTo>
                        <a:pt x="22" y="75"/>
                      </a:lnTo>
                      <a:lnTo>
                        <a:pt x="24" y="76"/>
                      </a:lnTo>
                      <a:lnTo>
                        <a:pt x="29" y="77"/>
                      </a:lnTo>
                      <a:lnTo>
                        <a:pt x="33" y="78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Freeform 55"/>
                <p:cNvSpPr/>
                <p:nvPr/>
              </p:nvSpPr>
              <p:spPr>
                <a:xfrm>
                  <a:off x="732312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7" h="78">
                      <a:moveTo>
                        <a:pt x="38" y="78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50" y="76"/>
                      </a:lnTo>
                      <a:lnTo>
                        <a:pt x="53" y="73"/>
                      </a:lnTo>
                      <a:lnTo>
                        <a:pt x="56" y="72"/>
                      </a:lnTo>
                      <a:lnTo>
                        <a:pt x="59" y="70"/>
                      </a:lnTo>
                      <a:lnTo>
                        <a:pt x="63" y="67"/>
                      </a:lnTo>
                      <a:lnTo>
                        <a:pt x="65" y="65"/>
                      </a:lnTo>
                      <a:lnTo>
                        <a:pt x="67" y="63"/>
                      </a:lnTo>
                      <a:lnTo>
                        <a:pt x="70" y="60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6"/>
                      </a:lnTo>
                      <a:lnTo>
                        <a:pt x="76" y="42"/>
                      </a:lnTo>
                      <a:lnTo>
                        <a:pt x="77" y="39"/>
                      </a:lnTo>
                      <a:lnTo>
                        <a:pt x="76" y="35"/>
                      </a:lnTo>
                      <a:lnTo>
                        <a:pt x="76" y="29"/>
                      </a:lnTo>
                      <a:lnTo>
                        <a:pt x="74" y="27"/>
                      </a:lnTo>
                      <a:lnTo>
                        <a:pt x="73" y="24"/>
                      </a:lnTo>
                      <a:lnTo>
                        <a:pt x="71" y="20"/>
                      </a:lnTo>
                      <a:lnTo>
                        <a:pt x="70" y="16"/>
                      </a:lnTo>
                      <a:lnTo>
                        <a:pt x="67" y="14"/>
                      </a:lnTo>
                      <a:lnTo>
                        <a:pt x="65" y="12"/>
                      </a:lnTo>
                      <a:lnTo>
                        <a:pt x="63" y="8"/>
                      </a:lnTo>
                      <a:lnTo>
                        <a:pt x="59" y="6"/>
                      </a:lnTo>
                      <a:lnTo>
                        <a:pt x="56" y="5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5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0" y="12"/>
                      </a:lnTo>
                      <a:lnTo>
                        <a:pt x="7" y="14"/>
                      </a:lnTo>
                      <a:lnTo>
                        <a:pt x="4" y="16"/>
                      </a:lnTo>
                      <a:lnTo>
                        <a:pt x="3" y="20"/>
                      </a:lnTo>
                      <a:lnTo>
                        <a:pt x="2" y="24"/>
                      </a:lnTo>
                      <a:lnTo>
                        <a:pt x="1" y="27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0" y="42"/>
                      </a:lnTo>
                      <a:lnTo>
                        <a:pt x="0" y="46"/>
                      </a:lnTo>
                      <a:lnTo>
                        <a:pt x="1" y="50"/>
                      </a:lnTo>
                      <a:lnTo>
                        <a:pt x="2" y="53"/>
                      </a:lnTo>
                      <a:lnTo>
                        <a:pt x="3" y="56"/>
                      </a:lnTo>
                      <a:lnTo>
                        <a:pt x="4" y="60"/>
                      </a:lnTo>
                      <a:lnTo>
                        <a:pt x="7" y="63"/>
                      </a:lnTo>
                      <a:lnTo>
                        <a:pt x="10" y="65"/>
                      </a:lnTo>
                      <a:lnTo>
                        <a:pt x="13" y="67"/>
                      </a:lnTo>
                      <a:lnTo>
                        <a:pt x="16" y="70"/>
                      </a:lnTo>
                      <a:lnTo>
                        <a:pt x="20" y="72"/>
                      </a:lnTo>
                      <a:lnTo>
                        <a:pt x="22" y="73"/>
                      </a:lnTo>
                      <a:lnTo>
                        <a:pt x="26" y="76"/>
                      </a:lnTo>
                      <a:lnTo>
                        <a:pt x="31" y="76"/>
                      </a:lnTo>
                      <a:lnTo>
                        <a:pt x="34" y="77"/>
                      </a:lnTo>
                      <a:lnTo>
                        <a:pt x="38" y="78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Freeform 56"/>
                <p:cNvSpPr/>
                <p:nvPr/>
              </p:nvSpPr>
              <p:spPr>
                <a:xfrm>
                  <a:off x="7405560" y="2492640"/>
                  <a:ext cx="42480" cy="3960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9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6" y="71"/>
                      </a:lnTo>
                      <a:lnTo>
                        <a:pt x="61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9" y="61"/>
                      </a:lnTo>
                      <a:lnTo>
                        <a:pt x="72" y="58"/>
                      </a:lnTo>
                      <a:lnTo>
                        <a:pt x="73" y="56"/>
                      </a:lnTo>
                      <a:lnTo>
                        <a:pt x="74" y="53"/>
                      </a:lnTo>
                      <a:lnTo>
                        <a:pt x="76" y="48"/>
                      </a:lnTo>
                      <a:lnTo>
                        <a:pt x="76" y="45"/>
                      </a:lnTo>
                      <a:lnTo>
                        <a:pt x="77" y="40"/>
                      </a:lnTo>
                      <a:lnTo>
                        <a:pt x="79" y="38"/>
                      </a:lnTo>
                      <a:lnTo>
                        <a:pt x="77" y="33"/>
                      </a:lnTo>
                      <a:lnTo>
                        <a:pt x="76" y="29"/>
                      </a:lnTo>
                      <a:lnTo>
                        <a:pt x="76" y="25"/>
                      </a:lnTo>
                      <a:lnTo>
                        <a:pt x="74" y="22"/>
                      </a:lnTo>
                      <a:lnTo>
                        <a:pt x="73" y="19"/>
                      </a:lnTo>
                      <a:lnTo>
                        <a:pt x="72" y="15"/>
                      </a:lnTo>
                      <a:lnTo>
                        <a:pt x="69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1" y="5"/>
                      </a:lnTo>
                      <a:lnTo>
                        <a:pt x="56" y="3"/>
                      </a:lnTo>
                      <a:lnTo>
                        <a:pt x="54" y="2"/>
                      </a:lnTo>
                      <a:lnTo>
                        <a:pt x="50" y="0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8" y="0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5" y="19"/>
                      </a:lnTo>
                      <a:lnTo>
                        <a:pt x="3" y="22"/>
                      </a:lnTo>
                      <a:lnTo>
                        <a:pt x="2" y="25"/>
                      </a:lnTo>
                      <a:lnTo>
                        <a:pt x="0" y="29"/>
                      </a:lnTo>
                      <a:lnTo>
                        <a:pt x="0" y="3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5"/>
                      </a:lnTo>
                      <a:lnTo>
                        <a:pt x="2" y="48"/>
                      </a:lnTo>
                      <a:lnTo>
                        <a:pt x="3" y="53"/>
                      </a:lnTo>
                      <a:lnTo>
                        <a:pt x="5" y="56"/>
                      </a:lnTo>
                      <a:lnTo>
                        <a:pt x="6" y="58"/>
                      </a:lnTo>
                      <a:lnTo>
                        <a:pt x="9" y="61"/>
                      </a:lnTo>
                      <a:lnTo>
                        <a:pt x="12" y="65"/>
                      </a:lnTo>
                      <a:lnTo>
                        <a:pt x="15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8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Freeform 57"/>
                <p:cNvSpPr/>
                <p:nvPr/>
              </p:nvSpPr>
              <p:spPr>
                <a:xfrm>
                  <a:off x="7483320" y="2491200"/>
                  <a:ext cx="42480" cy="4104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41040"/>
                    <a:gd name="textAreaBottom" fmla="*/ 41400 h 41040"/>
                  </a:gdLst>
                  <a:ahLst/>
                  <a:rect l="textAreaLeft" t="textAreaTop" r="textAreaRight" b="textAreaBottom"/>
                  <a:pathLst>
                    <a:path w="79" h="79">
                      <a:moveTo>
                        <a:pt x="40" y="79"/>
                      </a:moveTo>
                      <a:lnTo>
                        <a:pt x="43" y="79"/>
                      </a:lnTo>
                      <a:lnTo>
                        <a:pt x="47" y="78"/>
                      </a:lnTo>
                      <a:lnTo>
                        <a:pt x="52" y="76"/>
                      </a:lnTo>
                      <a:lnTo>
                        <a:pt x="54" y="75"/>
                      </a:lnTo>
                      <a:lnTo>
                        <a:pt x="57" y="73"/>
                      </a:lnTo>
                      <a:lnTo>
                        <a:pt x="61" y="70"/>
                      </a:lnTo>
                      <a:lnTo>
                        <a:pt x="63" y="68"/>
                      </a:lnTo>
                      <a:lnTo>
                        <a:pt x="67" y="67"/>
                      </a:lnTo>
                      <a:lnTo>
                        <a:pt x="69" y="63"/>
                      </a:lnTo>
                      <a:lnTo>
                        <a:pt x="72" y="61"/>
                      </a:lnTo>
                      <a:lnTo>
                        <a:pt x="73" y="59"/>
                      </a:lnTo>
                      <a:lnTo>
                        <a:pt x="75" y="55"/>
                      </a:lnTo>
                      <a:lnTo>
                        <a:pt x="76" y="50"/>
                      </a:lnTo>
                      <a:lnTo>
                        <a:pt x="78" y="48"/>
                      </a:lnTo>
                      <a:lnTo>
                        <a:pt x="78" y="43"/>
                      </a:lnTo>
                      <a:lnTo>
                        <a:pt x="79" y="41"/>
                      </a:lnTo>
                      <a:lnTo>
                        <a:pt x="78" y="35"/>
                      </a:lnTo>
                      <a:lnTo>
                        <a:pt x="78" y="31"/>
                      </a:lnTo>
                      <a:lnTo>
                        <a:pt x="76" y="28"/>
                      </a:lnTo>
                      <a:lnTo>
                        <a:pt x="75" y="25"/>
                      </a:lnTo>
                      <a:lnTo>
                        <a:pt x="73" y="21"/>
                      </a:lnTo>
                      <a:lnTo>
                        <a:pt x="72" y="18"/>
                      </a:lnTo>
                      <a:lnTo>
                        <a:pt x="69" y="15"/>
                      </a:lnTo>
                      <a:lnTo>
                        <a:pt x="67" y="12"/>
                      </a:lnTo>
                      <a:lnTo>
                        <a:pt x="63" y="10"/>
                      </a:lnTo>
                      <a:lnTo>
                        <a:pt x="61" y="8"/>
                      </a:lnTo>
                      <a:lnTo>
                        <a:pt x="57" y="5"/>
                      </a:lnTo>
                      <a:lnTo>
                        <a:pt x="54" y="4"/>
                      </a:lnTo>
                      <a:lnTo>
                        <a:pt x="52" y="3"/>
                      </a:lnTo>
                      <a:lnTo>
                        <a:pt x="47" y="2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1" y="2"/>
                      </a:lnTo>
                      <a:lnTo>
                        <a:pt x="28" y="3"/>
                      </a:lnTo>
                      <a:lnTo>
                        <a:pt x="24" y="4"/>
                      </a:lnTo>
                      <a:lnTo>
                        <a:pt x="21" y="5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2" y="12"/>
                      </a:lnTo>
                      <a:lnTo>
                        <a:pt x="10" y="15"/>
                      </a:lnTo>
                      <a:lnTo>
                        <a:pt x="8" y="18"/>
                      </a:lnTo>
                      <a:lnTo>
                        <a:pt x="5" y="21"/>
                      </a:lnTo>
                      <a:lnTo>
                        <a:pt x="4" y="25"/>
                      </a:lnTo>
                      <a:lnTo>
                        <a:pt x="3" y="28"/>
                      </a:lnTo>
                      <a:lnTo>
                        <a:pt x="2" y="31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4" y="55"/>
                      </a:lnTo>
                      <a:lnTo>
                        <a:pt x="5" y="59"/>
                      </a:lnTo>
                      <a:lnTo>
                        <a:pt x="8" y="61"/>
                      </a:lnTo>
                      <a:lnTo>
                        <a:pt x="10" y="63"/>
                      </a:lnTo>
                      <a:lnTo>
                        <a:pt x="12" y="67"/>
                      </a:lnTo>
                      <a:lnTo>
                        <a:pt x="15" y="68"/>
                      </a:lnTo>
                      <a:lnTo>
                        <a:pt x="18" y="70"/>
                      </a:lnTo>
                      <a:lnTo>
                        <a:pt x="21" y="73"/>
                      </a:lnTo>
                      <a:lnTo>
                        <a:pt x="24" y="75"/>
                      </a:lnTo>
                      <a:lnTo>
                        <a:pt x="28" y="76"/>
                      </a:lnTo>
                      <a:lnTo>
                        <a:pt x="31" y="78"/>
                      </a:lnTo>
                      <a:lnTo>
                        <a:pt x="36" y="79"/>
                      </a:lnTo>
                      <a:lnTo>
                        <a:pt x="40" y="7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Freeform 58"/>
                <p:cNvSpPr/>
                <p:nvPr/>
              </p:nvSpPr>
              <p:spPr>
                <a:xfrm>
                  <a:off x="7561080" y="2492640"/>
                  <a:ext cx="41040" cy="39600"/>
                </a:xfrm>
                <a:custGeom>
                  <a:avLst/>
                  <a:gdLst>
                    <a:gd name="textAreaLeft" fmla="*/ 0 w 41040"/>
                    <a:gd name="textAreaRight" fmla="*/ 41400 w 410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78" h="76">
                      <a:moveTo>
                        <a:pt x="40" y="76"/>
                      </a:moveTo>
                      <a:lnTo>
                        <a:pt x="43" y="76"/>
                      </a:lnTo>
                      <a:lnTo>
                        <a:pt x="47" y="76"/>
                      </a:lnTo>
                      <a:lnTo>
                        <a:pt x="50" y="73"/>
                      </a:lnTo>
                      <a:lnTo>
                        <a:pt x="54" y="73"/>
                      </a:lnTo>
                      <a:lnTo>
                        <a:pt x="57" y="71"/>
                      </a:lnTo>
                      <a:lnTo>
                        <a:pt x="60" y="70"/>
                      </a:lnTo>
                      <a:lnTo>
                        <a:pt x="63" y="67"/>
                      </a:lnTo>
                      <a:lnTo>
                        <a:pt x="67" y="65"/>
                      </a:lnTo>
                      <a:lnTo>
                        <a:pt x="68" y="63"/>
                      </a:lnTo>
                      <a:lnTo>
                        <a:pt x="70" y="59"/>
                      </a:lnTo>
                      <a:lnTo>
                        <a:pt x="73" y="56"/>
                      </a:lnTo>
                      <a:lnTo>
                        <a:pt x="75" y="53"/>
                      </a:lnTo>
                      <a:lnTo>
                        <a:pt x="75" y="50"/>
                      </a:lnTo>
                      <a:lnTo>
                        <a:pt x="78" y="45"/>
                      </a:lnTo>
                      <a:lnTo>
                        <a:pt x="78" y="41"/>
                      </a:lnTo>
                      <a:lnTo>
                        <a:pt x="78" y="38"/>
                      </a:lnTo>
                      <a:lnTo>
                        <a:pt x="78" y="34"/>
                      </a:lnTo>
                      <a:lnTo>
                        <a:pt x="78" y="29"/>
                      </a:lnTo>
                      <a:lnTo>
                        <a:pt x="75" y="26"/>
                      </a:lnTo>
                      <a:lnTo>
                        <a:pt x="75" y="22"/>
                      </a:lnTo>
                      <a:lnTo>
                        <a:pt x="73" y="19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7" y="10"/>
                      </a:lnTo>
                      <a:lnTo>
                        <a:pt x="63" y="7"/>
                      </a:lnTo>
                      <a:lnTo>
                        <a:pt x="60" y="6"/>
                      </a:lnTo>
                      <a:lnTo>
                        <a:pt x="57" y="3"/>
                      </a:lnTo>
                      <a:lnTo>
                        <a:pt x="54" y="2"/>
                      </a:lnTo>
                      <a:lnTo>
                        <a:pt x="50" y="1"/>
                      </a:lnTo>
                      <a:lnTo>
                        <a:pt x="47" y="0"/>
                      </a:lnTo>
                      <a:lnTo>
                        <a:pt x="43" y="0"/>
                      </a:lnTo>
                      <a:lnTo>
                        <a:pt x="40" y="0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6"/>
                      </a:lnTo>
                      <a:lnTo>
                        <a:pt x="13" y="7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6" y="15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2" y="26"/>
                      </a:lnTo>
                      <a:lnTo>
                        <a:pt x="2" y="29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2" y="45"/>
                      </a:lnTo>
                      <a:lnTo>
                        <a:pt x="2" y="50"/>
                      </a:lnTo>
                      <a:lnTo>
                        <a:pt x="4" y="53"/>
                      </a:lnTo>
                      <a:lnTo>
                        <a:pt x="4" y="56"/>
                      </a:lnTo>
                      <a:lnTo>
                        <a:pt x="6" y="59"/>
                      </a:lnTo>
                      <a:lnTo>
                        <a:pt x="9" y="63"/>
                      </a:lnTo>
                      <a:lnTo>
                        <a:pt x="11" y="65"/>
                      </a:lnTo>
                      <a:lnTo>
                        <a:pt x="13" y="67"/>
                      </a:lnTo>
                      <a:lnTo>
                        <a:pt x="17" y="70"/>
                      </a:lnTo>
                      <a:lnTo>
                        <a:pt x="21" y="71"/>
                      </a:lnTo>
                      <a:lnTo>
                        <a:pt x="24" y="73"/>
                      </a:lnTo>
                      <a:lnTo>
                        <a:pt x="27" y="73"/>
                      </a:lnTo>
                      <a:lnTo>
                        <a:pt x="31" y="76"/>
                      </a:lnTo>
                      <a:lnTo>
                        <a:pt x="35" y="76"/>
                      </a:lnTo>
                      <a:lnTo>
                        <a:pt x="40" y="7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Freeform 59"/>
                <p:cNvSpPr/>
                <p:nvPr/>
              </p:nvSpPr>
              <p:spPr>
                <a:xfrm>
                  <a:off x="7643880" y="2492640"/>
                  <a:ext cx="40680" cy="4140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78" h="77">
                      <a:moveTo>
                        <a:pt x="38" y="77"/>
                      </a:moveTo>
                      <a:lnTo>
                        <a:pt x="41" y="76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3" y="72"/>
                      </a:lnTo>
                      <a:lnTo>
                        <a:pt x="56" y="71"/>
                      </a:lnTo>
                      <a:lnTo>
                        <a:pt x="60" y="69"/>
                      </a:lnTo>
                      <a:lnTo>
                        <a:pt x="63" y="66"/>
                      </a:lnTo>
                      <a:lnTo>
                        <a:pt x="65" y="64"/>
                      </a:lnTo>
                      <a:lnTo>
                        <a:pt x="67" y="62"/>
                      </a:lnTo>
                      <a:lnTo>
                        <a:pt x="70" y="59"/>
                      </a:lnTo>
                      <a:lnTo>
                        <a:pt x="71" y="56"/>
                      </a:lnTo>
                      <a:lnTo>
                        <a:pt x="73" y="53"/>
                      </a:lnTo>
                      <a:lnTo>
                        <a:pt x="76" y="49"/>
                      </a:lnTo>
                      <a:lnTo>
                        <a:pt x="76" y="45"/>
                      </a:lnTo>
                      <a:lnTo>
                        <a:pt x="77" y="41"/>
                      </a:lnTo>
                      <a:lnTo>
                        <a:pt x="78" y="38"/>
                      </a:lnTo>
                      <a:lnTo>
                        <a:pt x="77" y="34"/>
                      </a:lnTo>
                      <a:lnTo>
                        <a:pt x="76" y="28"/>
                      </a:lnTo>
                      <a:lnTo>
                        <a:pt x="76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3" y="8"/>
                      </a:lnTo>
                      <a:lnTo>
                        <a:pt x="60" y="6"/>
                      </a:lnTo>
                      <a:lnTo>
                        <a:pt x="56" y="4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6" y="1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6" y="6"/>
                      </a:lnTo>
                      <a:lnTo>
                        <a:pt x="13" y="8"/>
                      </a:lnTo>
                      <a:lnTo>
                        <a:pt x="11" y="11"/>
                      </a:lnTo>
                      <a:lnTo>
                        <a:pt x="8" y="13"/>
                      </a:lnTo>
                      <a:lnTo>
                        <a:pt x="6" y="17"/>
                      </a:lnTo>
                      <a:lnTo>
                        <a:pt x="5" y="19"/>
                      </a:lnTo>
                      <a:lnTo>
                        <a:pt x="2" y="23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1" y="49"/>
                      </a:lnTo>
                      <a:lnTo>
                        <a:pt x="2" y="53"/>
                      </a:lnTo>
                      <a:lnTo>
                        <a:pt x="5" y="56"/>
                      </a:lnTo>
                      <a:lnTo>
                        <a:pt x="6" y="59"/>
                      </a:lnTo>
                      <a:lnTo>
                        <a:pt x="8" y="62"/>
                      </a:lnTo>
                      <a:lnTo>
                        <a:pt x="11" y="64"/>
                      </a:lnTo>
                      <a:lnTo>
                        <a:pt x="13" y="66"/>
                      </a:lnTo>
                      <a:lnTo>
                        <a:pt x="16" y="69"/>
                      </a:lnTo>
                      <a:lnTo>
                        <a:pt x="20" y="71"/>
                      </a:lnTo>
                      <a:lnTo>
                        <a:pt x="22" y="72"/>
                      </a:lnTo>
                      <a:lnTo>
                        <a:pt x="26" y="75"/>
                      </a:lnTo>
                      <a:lnTo>
                        <a:pt x="31" y="75"/>
                      </a:lnTo>
                      <a:lnTo>
                        <a:pt x="34" y="76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Freeform 60"/>
                <p:cNvSpPr/>
                <p:nvPr/>
              </p:nvSpPr>
              <p:spPr>
                <a:xfrm>
                  <a:off x="7724520" y="2494080"/>
                  <a:ext cx="39600" cy="399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77" h="77">
                      <a:moveTo>
                        <a:pt x="38" y="77"/>
                      </a:moveTo>
                      <a:lnTo>
                        <a:pt x="41" y="77"/>
                      </a:lnTo>
                      <a:lnTo>
                        <a:pt x="45" y="76"/>
                      </a:lnTo>
                      <a:lnTo>
                        <a:pt x="48" y="75"/>
                      </a:lnTo>
                      <a:lnTo>
                        <a:pt x="53" y="75"/>
                      </a:lnTo>
                      <a:lnTo>
                        <a:pt x="56" y="73"/>
                      </a:lnTo>
                      <a:lnTo>
                        <a:pt x="59" y="70"/>
                      </a:lnTo>
                      <a:lnTo>
                        <a:pt x="61" y="67"/>
                      </a:lnTo>
                      <a:lnTo>
                        <a:pt x="65" y="66"/>
                      </a:lnTo>
                      <a:lnTo>
                        <a:pt x="67" y="62"/>
                      </a:lnTo>
                      <a:lnTo>
                        <a:pt x="70" y="60"/>
                      </a:lnTo>
                      <a:lnTo>
                        <a:pt x="71" y="57"/>
                      </a:lnTo>
                      <a:lnTo>
                        <a:pt x="73" y="53"/>
                      </a:lnTo>
                      <a:lnTo>
                        <a:pt x="74" y="50"/>
                      </a:lnTo>
                      <a:lnTo>
                        <a:pt x="76" y="45"/>
                      </a:lnTo>
                      <a:lnTo>
                        <a:pt x="76" y="42"/>
                      </a:lnTo>
                      <a:lnTo>
                        <a:pt x="77" y="38"/>
                      </a:lnTo>
                      <a:lnTo>
                        <a:pt x="76" y="35"/>
                      </a:lnTo>
                      <a:lnTo>
                        <a:pt x="76" y="30"/>
                      </a:lnTo>
                      <a:lnTo>
                        <a:pt x="74" y="26"/>
                      </a:lnTo>
                      <a:lnTo>
                        <a:pt x="73" y="23"/>
                      </a:lnTo>
                      <a:lnTo>
                        <a:pt x="71" y="19"/>
                      </a:lnTo>
                      <a:lnTo>
                        <a:pt x="70" y="17"/>
                      </a:lnTo>
                      <a:lnTo>
                        <a:pt x="67" y="13"/>
                      </a:lnTo>
                      <a:lnTo>
                        <a:pt x="65" y="11"/>
                      </a:lnTo>
                      <a:lnTo>
                        <a:pt x="61" y="9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3" y="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5" y="6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4" y="17"/>
                      </a:lnTo>
                      <a:lnTo>
                        <a:pt x="3" y="19"/>
                      </a:lnTo>
                      <a:lnTo>
                        <a:pt x="2" y="23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0" y="50"/>
                      </a:lnTo>
                      <a:lnTo>
                        <a:pt x="2" y="53"/>
                      </a:lnTo>
                      <a:lnTo>
                        <a:pt x="3" y="57"/>
                      </a:lnTo>
                      <a:lnTo>
                        <a:pt x="4" y="60"/>
                      </a:lnTo>
                      <a:lnTo>
                        <a:pt x="7" y="62"/>
                      </a:lnTo>
                      <a:lnTo>
                        <a:pt x="10" y="66"/>
                      </a:lnTo>
                      <a:lnTo>
                        <a:pt x="13" y="67"/>
                      </a:lnTo>
                      <a:lnTo>
                        <a:pt x="15" y="70"/>
                      </a:lnTo>
                      <a:lnTo>
                        <a:pt x="19" y="73"/>
                      </a:lnTo>
                      <a:lnTo>
                        <a:pt x="22" y="75"/>
                      </a:lnTo>
                      <a:lnTo>
                        <a:pt x="26" y="75"/>
                      </a:lnTo>
                      <a:lnTo>
                        <a:pt x="31" y="76"/>
                      </a:lnTo>
                      <a:lnTo>
                        <a:pt x="33" y="77"/>
                      </a:lnTo>
                      <a:lnTo>
                        <a:pt x="38" y="77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Freeform 61"/>
                <p:cNvSpPr/>
                <p:nvPr/>
              </p:nvSpPr>
              <p:spPr>
                <a:xfrm>
                  <a:off x="7489800" y="1908360"/>
                  <a:ext cx="29880" cy="1440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56" h="27">
                      <a:moveTo>
                        <a:pt x="51" y="0"/>
                      </a:moveTo>
                      <a:lnTo>
                        <a:pt x="51" y="4"/>
                      </a:lnTo>
                      <a:lnTo>
                        <a:pt x="51" y="8"/>
                      </a:lnTo>
                      <a:lnTo>
                        <a:pt x="51" y="12"/>
                      </a:lnTo>
                      <a:lnTo>
                        <a:pt x="53" y="15"/>
                      </a:lnTo>
                      <a:lnTo>
                        <a:pt x="53" y="19"/>
                      </a:lnTo>
                      <a:lnTo>
                        <a:pt x="54" y="22"/>
                      </a:lnTo>
                      <a:lnTo>
                        <a:pt x="55" y="25"/>
                      </a:lnTo>
                      <a:lnTo>
                        <a:pt x="56" y="27"/>
                      </a:lnTo>
                      <a:lnTo>
                        <a:pt x="51" y="27"/>
                      </a:lnTo>
                      <a:lnTo>
                        <a:pt x="48" y="27"/>
                      </a:lnTo>
                      <a:lnTo>
                        <a:pt x="44" y="27"/>
                      </a:lnTo>
                      <a:lnTo>
                        <a:pt x="41" y="27"/>
                      </a:lnTo>
                      <a:lnTo>
                        <a:pt x="37" y="26"/>
                      </a:lnTo>
                      <a:lnTo>
                        <a:pt x="34" y="25"/>
                      </a:lnTo>
                      <a:lnTo>
                        <a:pt x="29" y="23"/>
                      </a:lnTo>
                      <a:lnTo>
                        <a:pt x="26" y="22"/>
                      </a:lnTo>
                      <a:lnTo>
                        <a:pt x="23" y="20"/>
                      </a:lnTo>
                      <a:lnTo>
                        <a:pt x="19" y="18"/>
                      </a:lnTo>
                      <a:lnTo>
                        <a:pt x="16" y="14"/>
                      </a:lnTo>
                      <a:lnTo>
                        <a:pt x="13" y="12"/>
                      </a:lnTo>
                      <a:lnTo>
                        <a:pt x="9" y="9"/>
                      </a:lnTo>
                      <a:lnTo>
                        <a:pt x="6" y="7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9" y="1"/>
                      </a:lnTo>
                      <a:lnTo>
                        <a:pt x="23" y="1"/>
                      </a:lnTo>
                      <a:lnTo>
                        <a:pt x="26" y="1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Freeform 62"/>
                <p:cNvSpPr/>
                <p:nvPr/>
              </p:nvSpPr>
              <p:spPr>
                <a:xfrm>
                  <a:off x="7272360" y="1908360"/>
                  <a:ext cx="516960" cy="74520"/>
                </a:xfrm>
                <a:custGeom>
                  <a:avLst/>
                  <a:gdLst>
                    <a:gd name="textAreaLeft" fmla="*/ 0 w 516960"/>
                    <a:gd name="textAreaRight" fmla="*/ 517320 w 5169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976" h="139">
                      <a:moveTo>
                        <a:pt x="811" y="11"/>
                      </a:moveTo>
                      <a:lnTo>
                        <a:pt x="812" y="11"/>
                      </a:lnTo>
                      <a:lnTo>
                        <a:pt x="816" y="11"/>
                      </a:lnTo>
                      <a:lnTo>
                        <a:pt x="818" y="11"/>
                      </a:lnTo>
                      <a:lnTo>
                        <a:pt x="822" y="12"/>
                      </a:lnTo>
                      <a:lnTo>
                        <a:pt x="824" y="12"/>
                      </a:lnTo>
                      <a:lnTo>
                        <a:pt x="829" y="12"/>
                      </a:lnTo>
                      <a:lnTo>
                        <a:pt x="827" y="13"/>
                      </a:lnTo>
                      <a:lnTo>
                        <a:pt x="824" y="14"/>
                      </a:lnTo>
                      <a:lnTo>
                        <a:pt x="821" y="16"/>
                      </a:lnTo>
                      <a:lnTo>
                        <a:pt x="818" y="18"/>
                      </a:lnTo>
                      <a:lnTo>
                        <a:pt x="816" y="18"/>
                      </a:lnTo>
                      <a:lnTo>
                        <a:pt x="812" y="20"/>
                      </a:lnTo>
                      <a:lnTo>
                        <a:pt x="810" y="21"/>
                      </a:lnTo>
                      <a:lnTo>
                        <a:pt x="808" y="23"/>
                      </a:lnTo>
                      <a:lnTo>
                        <a:pt x="804" y="24"/>
                      </a:lnTo>
                      <a:lnTo>
                        <a:pt x="802" y="25"/>
                      </a:lnTo>
                      <a:lnTo>
                        <a:pt x="798" y="26"/>
                      </a:lnTo>
                      <a:lnTo>
                        <a:pt x="795" y="27"/>
                      </a:lnTo>
                      <a:lnTo>
                        <a:pt x="792" y="29"/>
                      </a:lnTo>
                      <a:lnTo>
                        <a:pt x="790" y="30"/>
                      </a:lnTo>
                      <a:lnTo>
                        <a:pt x="785" y="31"/>
                      </a:lnTo>
                      <a:lnTo>
                        <a:pt x="783" y="32"/>
                      </a:lnTo>
                      <a:lnTo>
                        <a:pt x="779" y="33"/>
                      </a:lnTo>
                      <a:lnTo>
                        <a:pt x="777" y="33"/>
                      </a:lnTo>
                      <a:lnTo>
                        <a:pt x="772" y="35"/>
                      </a:lnTo>
                      <a:lnTo>
                        <a:pt x="770" y="36"/>
                      </a:lnTo>
                      <a:lnTo>
                        <a:pt x="766" y="36"/>
                      </a:lnTo>
                      <a:lnTo>
                        <a:pt x="764" y="36"/>
                      </a:lnTo>
                      <a:lnTo>
                        <a:pt x="761" y="36"/>
                      </a:lnTo>
                      <a:lnTo>
                        <a:pt x="758" y="36"/>
                      </a:lnTo>
                      <a:lnTo>
                        <a:pt x="755" y="35"/>
                      </a:lnTo>
                      <a:lnTo>
                        <a:pt x="752" y="33"/>
                      </a:lnTo>
                      <a:lnTo>
                        <a:pt x="750" y="32"/>
                      </a:lnTo>
                      <a:lnTo>
                        <a:pt x="748" y="31"/>
                      </a:lnTo>
                      <a:lnTo>
                        <a:pt x="746" y="29"/>
                      </a:lnTo>
                      <a:lnTo>
                        <a:pt x="744" y="26"/>
                      </a:lnTo>
                      <a:lnTo>
                        <a:pt x="741" y="24"/>
                      </a:lnTo>
                      <a:lnTo>
                        <a:pt x="740" y="21"/>
                      </a:lnTo>
                      <a:lnTo>
                        <a:pt x="735" y="24"/>
                      </a:lnTo>
                      <a:lnTo>
                        <a:pt x="732" y="25"/>
                      </a:lnTo>
                      <a:lnTo>
                        <a:pt x="727" y="27"/>
                      </a:lnTo>
                      <a:lnTo>
                        <a:pt x="723" y="30"/>
                      </a:lnTo>
                      <a:lnTo>
                        <a:pt x="721" y="32"/>
                      </a:lnTo>
                      <a:lnTo>
                        <a:pt x="719" y="33"/>
                      </a:lnTo>
                      <a:lnTo>
                        <a:pt x="716" y="36"/>
                      </a:lnTo>
                      <a:lnTo>
                        <a:pt x="715" y="38"/>
                      </a:lnTo>
                      <a:lnTo>
                        <a:pt x="712" y="40"/>
                      </a:lnTo>
                      <a:lnTo>
                        <a:pt x="710" y="43"/>
                      </a:lnTo>
                      <a:lnTo>
                        <a:pt x="708" y="45"/>
                      </a:lnTo>
                      <a:lnTo>
                        <a:pt x="707" y="46"/>
                      </a:lnTo>
                      <a:lnTo>
                        <a:pt x="704" y="46"/>
                      </a:lnTo>
                      <a:lnTo>
                        <a:pt x="702" y="46"/>
                      </a:lnTo>
                      <a:lnTo>
                        <a:pt x="698" y="44"/>
                      </a:lnTo>
                      <a:lnTo>
                        <a:pt x="695" y="42"/>
                      </a:lnTo>
                      <a:lnTo>
                        <a:pt x="691" y="39"/>
                      </a:lnTo>
                      <a:lnTo>
                        <a:pt x="688" y="38"/>
                      </a:lnTo>
                      <a:lnTo>
                        <a:pt x="684" y="36"/>
                      </a:lnTo>
                      <a:lnTo>
                        <a:pt x="681" y="32"/>
                      </a:lnTo>
                      <a:lnTo>
                        <a:pt x="678" y="31"/>
                      </a:lnTo>
                      <a:lnTo>
                        <a:pt x="676" y="30"/>
                      </a:lnTo>
                      <a:lnTo>
                        <a:pt x="672" y="27"/>
                      </a:lnTo>
                      <a:lnTo>
                        <a:pt x="670" y="26"/>
                      </a:lnTo>
                      <a:lnTo>
                        <a:pt x="666" y="24"/>
                      </a:lnTo>
                      <a:lnTo>
                        <a:pt x="664" y="23"/>
                      </a:lnTo>
                      <a:lnTo>
                        <a:pt x="661" y="20"/>
                      </a:lnTo>
                      <a:lnTo>
                        <a:pt x="658" y="18"/>
                      </a:lnTo>
                      <a:lnTo>
                        <a:pt x="656" y="23"/>
                      </a:lnTo>
                      <a:lnTo>
                        <a:pt x="653" y="29"/>
                      </a:lnTo>
                      <a:lnTo>
                        <a:pt x="652" y="32"/>
                      </a:lnTo>
                      <a:lnTo>
                        <a:pt x="650" y="38"/>
                      </a:lnTo>
                      <a:lnTo>
                        <a:pt x="650" y="42"/>
                      </a:lnTo>
                      <a:lnTo>
                        <a:pt x="649" y="45"/>
                      </a:lnTo>
                      <a:lnTo>
                        <a:pt x="647" y="49"/>
                      </a:lnTo>
                      <a:lnTo>
                        <a:pt x="647" y="52"/>
                      </a:lnTo>
                      <a:lnTo>
                        <a:pt x="647" y="55"/>
                      </a:lnTo>
                      <a:lnTo>
                        <a:pt x="647" y="58"/>
                      </a:lnTo>
                      <a:lnTo>
                        <a:pt x="647" y="61"/>
                      </a:lnTo>
                      <a:lnTo>
                        <a:pt x="650" y="63"/>
                      </a:lnTo>
                      <a:lnTo>
                        <a:pt x="650" y="67"/>
                      </a:lnTo>
                      <a:lnTo>
                        <a:pt x="653" y="70"/>
                      </a:lnTo>
                      <a:lnTo>
                        <a:pt x="657" y="71"/>
                      </a:lnTo>
                      <a:lnTo>
                        <a:pt x="661" y="74"/>
                      </a:lnTo>
                      <a:lnTo>
                        <a:pt x="664" y="74"/>
                      </a:lnTo>
                      <a:lnTo>
                        <a:pt x="669" y="74"/>
                      </a:lnTo>
                      <a:lnTo>
                        <a:pt x="671" y="74"/>
                      </a:lnTo>
                      <a:lnTo>
                        <a:pt x="674" y="74"/>
                      </a:lnTo>
                      <a:lnTo>
                        <a:pt x="677" y="74"/>
                      </a:lnTo>
                      <a:lnTo>
                        <a:pt x="681" y="74"/>
                      </a:lnTo>
                      <a:lnTo>
                        <a:pt x="683" y="73"/>
                      </a:lnTo>
                      <a:lnTo>
                        <a:pt x="685" y="73"/>
                      </a:lnTo>
                      <a:lnTo>
                        <a:pt x="688" y="71"/>
                      </a:lnTo>
                      <a:lnTo>
                        <a:pt x="691" y="71"/>
                      </a:lnTo>
                      <a:lnTo>
                        <a:pt x="695" y="70"/>
                      </a:lnTo>
                      <a:lnTo>
                        <a:pt x="697" y="69"/>
                      </a:lnTo>
                      <a:lnTo>
                        <a:pt x="701" y="68"/>
                      </a:lnTo>
                      <a:lnTo>
                        <a:pt x="704" y="67"/>
                      </a:lnTo>
                      <a:lnTo>
                        <a:pt x="707" y="65"/>
                      </a:lnTo>
                      <a:lnTo>
                        <a:pt x="710" y="65"/>
                      </a:lnTo>
                      <a:lnTo>
                        <a:pt x="714" y="64"/>
                      </a:lnTo>
                      <a:lnTo>
                        <a:pt x="717" y="63"/>
                      </a:lnTo>
                      <a:lnTo>
                        <a:pt x="720" y="62"/>
                      </a:lnTo>
                      <a:lnTo>
                        <a:pt x="723" y="61"/>
                      </a:lnTo>
                      <a:lnTo>
                        <a:pt x="726" y="59"/>
                      </a:lnTo>
                      <a:lnTo>
                        <a:pt x="729" y="58"/>
                      </a:lnTo>
                      <a:lnTo>
                        <a:pt x="733" y="58"/>
                      </a:lnTo>
                      <a:lnTo>
                        <a:pt x="736" y="57"/>
                      </a:lnTo>
                      <a:lnTo>
                        <a:pt x="739" y="56"/>
                      </a:lnTo>
                      <a:lnTo>
                        <a:pt x="741" y="56"/>
                      </a:lnTo>
                      <a:lnTo>
                        <a:pt x="744" y="55"/>
                      </a:lnTo>
                      <a:lnTo>
                        <a:pt x="747" y="55"/>
                      </a:lnTo>
                      <a:lnTo>
                        <a:pt x="751" y="54"/>
                      </a:lnTo>
                      <a:lnTo>
                        <a:pt x="753" y="54"/>
                      </a:lnTo>
                      <a:lnTo>
                        <a:pt x="758" y="52"/>
                      </a:lnTo>
                      <a:lnTo>
                        <a:pt x="763" y="54"/>
                      </a:lnTo>
                      <a:lnTo>
                        <a:pt x="766" y="54"/>
                      </a:lnTo>
                      <a:lnTo>
                        <a:pt x="770" y="55"/>
                      </a:lnTo>
                      <a:lnTo>
                        <a:pt x="772" y="56"/>
                      </a:lnTo>
                      <a:lnTo>
                        <a:pt x="774" y="59"/>
                      </a:lnTo>
                      <a:lnTo>
                        <a:pt x="774" y="63"/>
                      </a:lnTo>
                      <a:lnTo>
                        <a:pt x="777" y="65"/>
                      </a:lnTo>
                      <a:lnTo>
                        <a:pt x="777" y="68"/>
                      </a:lnTo>
                      <a:lnTo>
                        <a:pt x="779" y="71"/>
                      </a:lnTo>
                      <a:lnTo>
                        <a:pt x="780" y="74"/>
                      </a:lnTo>
                      <a:lnTo>
                        <a:pt x="782" y="77"/>
                      </a:lnTo>
                      <a:lnTo>
                        <a:pt x="784" y="80"/>
                      </a:lnTo>
                      <a:lnTo>
                        <a:pt x="786" y="82"/>
                      </a:lnTo>
                      <a:lnTo>
                        <a:pt x="790" y="83"/>
                      </a:lnTo>
                      <a:lnTo>
                        <a:pt x="792" y="86"/>
                      </a:lnTo>
                      <a:lnTo>
                        <a:pt x="795" y="87"/>
                      </a:lnTo>
                      <a:lnTo>
                        <a:pt x="798" y="88"/>
                      </a:lnTo>
                      <a:lnTo>
                        <a:pt x="801" y="88"/>
                      </a:lnTo>
                      <a:lnTo>
                        <a:pt x="804" y="90"/>
                      </a:lnTo>
                      <a:lnTo>
                        <a:pt x="808" y="90"/>
                      </a:lnTo>
                      <a:lnTo>
                        <a:pt x="812" y="92"/>
                      </a:lnTo>
                      <a:lnTo>
                        <a:pt x="816" y="92"/>
                      </a:lnTo>
                      <a:lnTo>
                        <a:pt x="820" y="92"/>
                      </a:lnTo>
                      <a:lnTo>
                        <a:pt x="823" y="90"/>
                      </a:lnTo>
                      <a:lnTo>
                        <a:pt x="828" y="89"/>
                      </a:lnTo>
                      <a:lnTo>
                        <a:pt x="831" y="88"/>
                      </a:lnTo>
                      <a:lnTo>
                        <a:pt x="836" y="86"/>
                      </a:lnTo>
                      <a:lnTo>
                        <a:pt x="840" y="83"/>
                      </a:lnTo>
                      <a:lnTo>
                        <a:pt x="846" y="82"/>
                      </a:lnTo>
                      <a:lnTo>
                        <a:pt x="849" y="78"/>
                      </a:lnTo>
                      <a:lnTo>
                        <a:pt x="853" y="76"/>
                      </a:lnTo>
                      <a:lnTo>
                        <a:pt x="857" y="71"/>
                      </a:lnTo>
                      <a:lnTo>
                        <a:pt x="862" y="68"/>
                      </a:lnTo>
                      <a:lnTo>
                        <a:pt x="867" y="63"/>
                      </a:lnTo>
                      <a:lnTo>
                        <a:pt x="871" y="58"/>
                      </a:lnTo>
                      <a:lnTo>
                        <a:pt x="873" y="56"/>
                      </a:lnTo>
                      <a:lnTo>
                        <a:pt x="875" y="54"/>
                      </a:lnTo>
                      <a:lnTo>
                        <a:pt x="878" y="50"/>
                      </a:lnTo>
                      <a:lnTo>
                        <a:pt x="880" y="48"/>
                      </a:lnTo>
                      <a:lnTo>
                        <a:pt x="878" y="45"/>
                      </a:lnTo>
                      <a:lnTo>
                        <a:pt x="875" y="44"/>
                      </a:lnTo>
                      <a:lnTo>
                        <a:pt x="873" y="43"/>
                      </a:lnTo>
                      <a:lnTo>
                        <a:pt x="868" y="43"/>
                      </a:lnTo>
                      <a:lnTo>
                        <a:pt x="865" y="43"/>
                      </a:lnTo>
                      <a:lnTo>
                        <a:pt x="860" y="43"/>
                      </a:lnTo>
                      <a:lnTo>
                        <a:pt x="855" y="43"/>
                      </a:lnTo>
                      <a:lnTo>
                        <a:pt x="850" y="43"/>
                      </a:lnTo>
                      <a:lnTo>
                        <a:pt x="847" y="43"/>
                      </a:lnTo>
                      <a:lnTo>
                        <a:pt x="844" y="43"/>
                      </a:lnTo>
                      <a:lnTo>
                        <a:pt x="842" y="43"/>
                      </a:lnTo>
                      <a:lnTo>
                        <a:pt x="840" y="44"/>
                      </a:lnTo>
                      <a:lnTo>
                        <a:pt x="835" y="44"/>
                      </a:lnTo>
                      <a:lnTo>
                        <a:pt x="830" y="44"/>
                      </a:lnTo>
                      <a:lnTo>
                        <a:pt x="825" y="43"/>
                      </a:lnTo>
                      <a:lnTo>
                        <a:pt x="823" y="43"/>
                      </a:lnTo>
                      <a:lnTo>
                        <a:pt x="820" y="40"/>
                      </a:lnTo>
                      <a:lnTo>
                        <a:pt x="820" y="39"/>
                      </a:lnTo>
                      <a:lnTo>
                        <a:pt x="821" y="37"/>
                      </a:lnTo>
                      <a:lnTo>
                        <a:pt x="822" y="33"/>
                      </a:lnTo>
                      <a:lnTo>
                        <a:pt x="824" y="31"/>
                      </a:lnTo>
                      <a:lnTo>
                        <a:pt x="827" y="30"/>
                      </a:lnTo>
                      <a:lnTo>
                        <a:pt x="829" y="25"/>
                      </a:lnTo>
                      <a:lnTo>
                        <a:pt x="833" y="23"/>
                      </a:lnTo>
                      <a:lnTo>
                        <a:pt x="834" y="19"/>
                      </a:lnTo>
                      <a:lnTo>
                        <a:pt x="836" y="17"/>
                      </a:lnTo>
                      <a:lnTo>
                        <a:pt x="837" y="14"/>
                      </a:lnTo>
                      <a:lnTo>
                        <a:pt x="839" y="12"/>
                      </a:lnTo>
                      <a:lnTo>
                        <a:pt x="842" y="12"/>
                      </a:lnTo>
                      <a:lnTo>
                        <a:pt x="847" y="12"/>
                      </a:lnTo>
                      <a:lnTo>
                        <a:pt x="852" y="12"/>
                      </a:lnTo>
                      <a:lnTo>
                        <a:pt x="857" y="13"/>
                      </a:lnTo>
                      <a:lnTo>
                        <a:pt x="860" y="13"/>
                      </a:lnTo>
                      <a:lnTo>
                        <a:pt x="862" y="13"/>
                      </a:lnTo>
                      <a:lnTo>
                        <a:pt x="865" y="13"/>
                      </a:lnTo>
                      <a:lnTo>
                        <a:pt x="868" y="13"/>
                      </a:lnTo>
                      <a:lnTo>
                        <a:pt x="871" y="13"/>
                      </a:lnTo>
                      <a:lnTo>
                        <a:pt x="873" y="14"/>
                      </a:lnTo>
                      <a:lnTo>
                        <a:pt x="875" y="14"/>
                      </a:lnTo>
                      <a:lnTo>
                        <a:pt x="879" y="16"/>
                      </a:lnTo>
                      <a:lnTo>
                        <a:pt x="881" y="16"/>
                      </a:lnTo>
                      <a:lnTo>
                        <a:pt x="885" y="16"/>
                      </a:lnTo>
                      <a:lnTo>
                        <a:pt x="888" y="16"/>
                      </a:lnTo>
                      <a:lnTo>
                        <a:pt x="891" y="16"/>
                      </a:lnTo>
                      <a:lnTo>
                        <a:pt x="893" y="16"/>
                      </a:lnTo>
                      <a:lnTo>
                        <a:pt x="895" y="16"/>
                      </a:lnTo>
                      <a:lnTo>
                        <a:pt x="899" y="16"/>
                      </a:lnTo>
                      <a:lnTo>
                        <a:pt x="901" y="16"/>
                      </a:lnTo>
                      <a:lnTo>
                        <a:pt x="904" y="16"/>
                      </a:lnTo>
                      <a:lnTo>
                        <a:pt x="907" y="16"/>
                      </a:lnTo>
                      <a:lnTo>
                        <a:pt x="910" y="16"/>
                      </a:lnTo>
                      <a:lnTo>
                        <a:pt x="913" y="16"/>
                      </a:lnTo>
                      <a:lnTo>
                        <a:pt x="916" y="16"/>
                      </a:lnTo>
                      <a:lnTo>
                        <a:pt x="918" y="17"/>
                      </a:lnTo>
                      <a:lnTo>
                        <a:pt x="922" y="17"/>
                      </a:lnTo>
                      <a:lnTo>
                        <a:pt x="924" y="18"/>
                      </a:lnTo>
                      <a:lnTo>
                        <a:pt x="929" y="18"/>
                      </a:lnTo>
                      <a:lnTo>
                        <a:pt x="935" y="18"/>
                      </a:lnTo>
                      <a:lnTo>
                        <a:pt x="939" y="18"/>
                      </a:lnTo>
                      <a:lnTo>
                        <a:pt x="944" y="18"/>
                      </a:lnTo>
                      <a:lnTo>
                        <a:pt x="949" y="18"/>
                      </a:lnTo>
                      <a:lnTo>
                        <a:pt x="954" y="18"/>
                      </a:lnTo>
                      <a:lnTo>
                        <a:pt x="956" y="18"/>
                      </a:lnTo>
                      <a:lnTo>
                        <a:pt x="961" y="19"/>
                      </a:lnTo>
                      <a:lnTo>
                        <a:pt x="964" y="19"/>
                      </a:lnTo>
                      <a:lnTo>
                        <a:pt x="967" y="19"/>
                      </a:lnTo>
                      <a:lnTo>
                        <a:pt x="969" y="19"/>
                      </a:lnTo>
                      <a:lnTo>
                        <a:pt x="971" y="20"/>
                      </a:lnTo>
                      <a:lnTo>
                        <a:pt x="974" y="20"/>
                      </a:lnTo>
                      <a:lnTo>
                        <a:pt x="976" y="20"/>
                      </a:lnTo>
                      <a:lnTo>
                        <a:pt x="973" y="106"/>
                      </a:lnTo>
                      <a:lnTo>
                        <a:pt x="806" y="97"/>
                      </a:lnTo>
                      <a:lnTo>
                        <a:pt x="793" y="96"/>
                      </a:lnTo>
                      <a:lnTo>
                        <a:pt x="782" y="96"/>
                      </a:lnTo>
                      <a:lnTo>
                        <a:pt x="770" y="95"/>
                      </a:lnTo>
                      <a:lnTo>
                        <a:pt x="757" y="95"/>
                      </a:lnTo>
                      <a:lnTo>
                        <a:pt x="744" y="94"/>
                      </a:lnTo>
                      <a:lnTo>
                        <a:pt x="732" y="94"/>
                      </a:lnTo>
                      <a:lnTo>
                        <a:pt x="719" y="93"/>
                      </a:lnTo>
                      <a:lnTo>
                        <a:pt x="706" y="92"/>
                      </a:lnTo>
                      <a:lnTo>
                        <a:pt x="694" y="92"/>
                      </a:lnTo>
                      <a:lnTo>
                        <a:pt x="681" y="90"/>
                      </a:lnTo>
                      <a:lnTo>
                        <a:pt x="668" y="89"/>
                      </a:lnTo>
                      <a:lnTo>
                        <a:pt x="656" y="88"/>
                      </a:lnTo>
                      <a:lnTo>
                        <a:pt x="643" y="88"/>
                      </a:lnTo>
                      <a:lnTo>
                        <a:pt x="630" y="88"/>
                      </a:lnTo>
                      <a:lnTo>
                        <a:pt x="618" y="87"/>
                      </a:lnTo>
                      <a:lnTo>
                        <a:pt x="606" y="87"/>
                      </a:lnTo>
                      <a:lnTo>
                        <a:pt x="593" y="86"/>
                      </a:lnTo>
                      <a:lnTo>
                        <a:pt x="580" y="86"/>
                      </a:lnTo>
                      <a:lnTo>
                        <a:pt x="568" y="86"/>
                      </a:lnTo>
                      <a:lnTo>
                        <a:pt x="555" y="86"/>
                      </a:lnTo>
                      <a:lnTo>
                        <a:pt x="543" y="84"/>
                      </a:lnTo>
                      <a:lnTo>
                        <a:pt x="530" y="84"/>
                      </a:lnTo>
                      <a:lnTo>
                        <a:pt x="518" y="84"/>
                      </a:lnTo>
                      <a:lnTo>
                        <a:pt x="505" y="84"/>
                      </a:lnTo>
                      <a:lnTo>
                        <a:pt x="492" y="84"/>
                      </a:lnTo>
                      <a:lnTo>
                        <a:pt x="480" y="84"/>
                      </a:lnTo>
                      <a:lnTo>
                        <a:pt x="468" y="84"/>
                      </a:lnTo>
                      <a:lnTo>
                        <a:pt x="455" y="84"/>
                      </a:lnTo>
                      <a:lnTo>
                        <a:pt x="442" y="84"/>
                      </a:lnTo>
                      <a:lnTo>
                        <a:pt x="430" y="84"/>
                      </a:lnTo>
                      <a:lnTo>
                        <a:pt x="418" y="86"/>
                      </a:lnTo>
                      <a:lnTo>
                        <a:pt x="407" y="86"/>
                      </a:lnTo>
                      <a:lnTo>
                        <a:pt x="394" y="86"/>
                      </a:lnTo>
                      <a:lnTo>
                        <a:pt x="382" y="86"/>
                      </a:lnTo>
                      <a:lnTo>
                        <a:pt x="369" y="86"/>
                      </a:lnTo>
                      <a:lnTo>
                        <a:pt x="357" y="87"/>
                      </a:lnTo>
                      <a:lnTo>
                        <a:pt x="344" y="87"/>
                      </a:lnTo>
                      <a:lnTo>
                        <a:pt x="332" y="88"/>
                      </a:lnTo>
                      <a:lnTo>
                        <a:pt x="320" y="88"/>
                      </a:lnTo>
                      <a:lnTo>
                        <a:pt x="308" y="90"/>
                      </a:lnTo>
                      <a:lnTo>
                        <a:pt x="295" y="90"/>
                      </a:lnTo>
                      <a:lnTo>
                        <a:pt x="283" y="92"/>
                      </a:lnTo>
                      <a:lnTo>
                        <a:pt x="270" y="93"/>
                      </a:lnTo>
                      <a:lnTo>
                        <a:pt x="258" y="94"/>
                      </a:lnTo>
                      <a:lnTo>
                        <a:pt x="245" y="95"/>
                      </a:lnTo>
                      <a:lnTo>
                        <a:pt x="235" y="96"/>
                      </a:lnTo>
                      <a:lnTo>
                        <a:pt x="223" y="99"/>
                      </a:lnTo>
                      <a:lnTo>
                        <a:pt x="210" y="100"/>
                      </a:lnTo>
                      <a:lnTo>
                        <a:pt x="198" y="101"/>
                      </a:lnTo>
                      <a:lnTo>
                        <a:pt x="186" y="103"/>
                      </a:lnTo>
                      <a:lnTo>
                        <a:pt x="174" y="105"/>
                      </a:lnTo>
                      <a:lnTo>
                        <a:pt x="162" y="106"/>
                      </a:lnTo>
                      <a:lnTo>
                        <a:pt x="150" y="108"/>
                      </a:lnTo>
                      <a:lnTo>
                        <a:pt x="138" y="111"/>
                      </a:lnTo>
                      <a:lnTo>
                        <a:pt x="127" y="113"/>
                      </a:lnTo>
                      <a:lnTo>
                        <a:pt x="116" y="115"/>
                      </a:lnTo>
                      <a:lnTo>
                        <a:pt x="103" y="118"/>
                      </a:lnTo>
                      <a:lnTo>
                        <a:pt x="92" y="120"/>
                      </a:lnTo>
                      <a:lnTo>
                        <a:pt x="80" y="124"/>
                      </a:lnTo>
                      <a:lnTo>
                        <a:pt x="70" y="126"/>
                      </a:lnTo>
                      <a:lnTo>
                        <a:pt x="58" y="130"/>
                      </a:lnTo>
                      <a:lnTo>
                        <a:pt x="46" y="132"/>
                      </a:lnTo>
                      <a:lnTo>
                        <a:pt x="35" y="134"/>
                      </a:lnTo>
                      <a:lnTo>
                        <a:pt x="23" y="139"/>
                      </a:lnTo>
                      <a:lnTo>
                        <a:pt x="0" y="56"/>
                      </a:lnTo>
                      <a:lnTo>
                        <a:pt x="4" y="54"/>
                      </a:lnTo>
                      <a:lnTo>
                        <a:pt x="10" y="52"/>
                      </a:lnTo>
                      <a:lnTo>
                        <a:pt x="13" y="51"/>
                      </a:lnTo>
                      <a:lnTo>
                        <a:pt x="15" y="50"/>
                      </a:lnTo>
                      <a:lnTo>
                        <a:pt x="17" y="50"/>
                      </a:lnTo>
                      <a:lnTo>
                        <a:pt x="21" y="49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3" y="45"/>
                      </a:lnTo>
                      <a:lnTo>
                        <a:pt x="36" y="45"/>
                      </a:lnTo>
                      <a:lnTo>
                        <a:pt x="39" y="44"/>
                      </a:lnTo>
                      <a:lnTo>
                        <a:pt x="42" y="44"/>
                      </a:lnTo>
                      <a:lnTo>
                        <a:pt x="45" y="43"/>
                      </a:lnTo>
                      <a:lnTo>
                        <a:pt x="47" y="43"/>
                      </a:lnTo>
                      <a:lnTo>
                        <a:pt x="49" y="42"/>
                      </a:lnTo>
                      <a:lnTo>
                        <a:pt x="53" y="40"/>
                      </a:lnTo>
                      <a:lnTo>
                        <a:pt x="55" y="40"/>
                      </a:lnTo>
                      <a:lnTo>
                        <a:pt x="58" y="39"/>
                      </a:lnTo>
                      <a:lnTo>
                        <a:pt x="60" y="38"/>
                      </a:lnTo>
                      <a:lnTo>
                        <a:pt x="64" y="38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71" y="36"/>
                      </a:lnTo>
                      <a:lnTo>
                        <a:pt x="74" y="36"/>
                      </a:lnTo>
                      <a:lnTo>
                        <a:pt x="77" y="35"/>
                      </a:lnTo>
                      <a:lnTo>
                        <a:pt x="80" y="35"/>
                      </a:lnTo>
                      <a:lnTo>
                        <a:pt x="83" y="33"/>
                      </a:lnTo>
                      <a:lnTo>
                        <a:pt x="86" y="33"/>
                      </a:lnTo>
                      <a:lnTo>
                        <a:pt x="89" y="32"/>
                      </a:lnTo>
                      <a:lnTo>
                        <a:pt x="91" y="32"/>
                      </a:lnTo>
                      <a:lnTo>
                        <a:pt x="93" y="31"/>
                      </a:lnTo>
                      <a:lnTo>
                        <a:pt x="96" y="31"/>
                      </a:lnTo>
                      <a:lnTo>
                        <a:pt x="98" y="30"/>
                      </a:lnTo>
                      <a:lnTo>
                        <a:pt x="100" y="30"/>
                      </a:lnTo>
                      <a:lnTo>
                        <a:pt x="104" y="29"/>
                      </a:lnTo>
                      <a:lnTo>
                        <a:pt x="108" y="29"/>
                      </a:lnTo>
                      <a:lnTo>
                        <a:pt x="110" y="27"/>
                      </a:lnTo>
                      <a:lnTo>
                        <a:pt x="112" y="27"/>
                      </a:lnTo>
                      <a:lnTo>
                        <a:pt x="115" y="27"/>
                      </a:lnTo>
                      <a:lnTo>
                        <a:pt x="118" y="26"/>
                      </a:lnTo>
                      <a:lnTo>
                        <a:pt x="121" y="26"/>
                      </a:lnTo>
                      <a:lnTo>
                        <a:pt x="123" y="25"/>
                      </a:lnTo>
                      <a:lnTo>
                        <a:pt x="127" y="25"/>
                      </a:lnTo>
                      <a:lnTo>
                        <a:pt x="129" y="25"/>
                      </a:lnTo>
                      <a:lnTo>
                        <a:pt x="131" y="24"/>
                      </a:lnTo>
                      <a:lnTo>
                        <a:pt x="134" y="24"/>
                      </a:lnTo>
                      <a:lnTo>
                        <a:pt x="136" y="23"/>
                      </a:lnTo>
                      <a:lnTo>
                        <a:pt x="140" y="23"/>
                      </a:lnTo>
                      <a:lnTo>
                        <a:pt x="142" y="21"/>
                      </a:lnTo>
                      <a:lnTo>
                        <a:pt x="144" y="21"/>
                      </a:lnTo>
                      <a:lnTo>
                        <a:pt x="148" y="20"/>
                      </a:lnTo>
                      <a:lnTo>
                        <a:pt x="150" y="20"/>
                      </a:lnTo>
                      <a:lnTo>
                        <a:pt x="153" y="20"/>
                      </a:lnTo>
                      <a:lnTo>
                        <a:pt x="156" y="20"/>
                      </a:lnTo>
                      <a:lnTo>
                        <a:pt x="159" y="20"/>
                      </a:lnTo>
                      <a:lnTo>
                        <a:pt x="162" y="20"/>
                      </a:lnTo>
                      <a:lnTo>
                        <a:pt x="165" y="19"/>
                      </a:lnTo>
                      <a:lnTo>
                        <a:pt x="167" y="18"/>
                      </a:lnTo>
                      <a:lnTo>
                        <a:pt x="170" y="18"/>
                      </a:lnTo>
                      <a:lnTo>
                        <a:pt x="173" y="18"/>
                      </a:lnTo>
                      <a:lnTo>
                        <a:pt x="173" y="20"/>
                      </a:lnTo>
                      <a:lnTo>
                        <a:pt x="174" y="24"/>
                      </a:lnTo>
                      <a:lnTo>
                        <a:pt x="175" y="26"/>
                      </a:lnTo>
                      <a:lnTo>
                        <a:pt x="176" y="30"/>
                      </a:lnTo>
                      <a:lnTo>
                        <a:pt x="176" y="32"/>
                      </a:lnTo>
                      <a:lnTo>
                        <a:pt x="178" y="36"/>
                      </a:lnTo>
                      <a:lnTo>
                        <a:pt x="179" y="38"/>
                      </a:lnTo>
                      <a:lnTo>
                        <a:pt x="179" y="43"/>
                      </a:lnTo>
                      <a:lnTo>
                        <a:pt x="184" y="43"/>
                      </a:lnTo>
                      <a:lnTo>
                        <a:pt x="187" y="43"/>
                      </a:lnTo>
                      <a:lnTo>
                        <a:pt x="192" y="43"/>
                      </a:lnTo>
                      <a:lnTo>
                        <a:pt x="197" y="43"/>
                      </a:lnTo>
                      <a:lnTo>
                        <a:pt x="200" y="43"/>
                      </a:lnTo>
                      <a:lnTo>
                        <a:pt x="205" y="43"/>
                      </a:lnTo>
                      <a:lnTo>
                        <a:pt x="210" y="43"/>
                      </a:lnTo>
                      <a:lnTo>
                        <a:pt x="214" y="43"/>
                      </a:lnTo>
                      <a:lnTo>
                        <a:pt x="214" y="39"/>
                      </a:lnTo>
                      <a:lnTo>
                        <a:pt x="217" y="36"/>
                      </a:lnTo>
                      <a:lnTo>
                        <a:pt x="219" y="33"/>
                      </a:lnTo>
                      <a:lnTo>
                        <a:pt x="220" y="32"/>
                      </a:lnTo>
                      <a:lnTo>
                        <a:pt x="224" y="27"/>
                      </a:lnTo>
                      <a:lnTo>
                        <a:pt x="227" y="25"/>
                      </a:lnTo>
                      <a:lnTo>
                        <a:pt x="230" y="24"/>
                      </a:lnTo>
                      <a:lnTo>
                        <a:pt x="233" y="23"/>
                      </a:lnTo>
                      <a:lnTo>
                        <a:pt x="237" y="23"/>
                      </a:lnTo>
                      <a:lnTo>
                        <a:pt x="241" y="23"/>
                      </a:lnTo>
                      <a:lnTo>
                        <a:pt x="243" y="23"/>
                      </a:lnTo>
                      <a:lnTo>
                        <a:pt x="245" y="25"/>
                      </a:lnTo>
                      <a:lnTo>
                        <a:pt x="248" y="26"/>
                      </a:lnTo>
                      <a:lnTo>
                        <a:pt x="250" y="30"/>
                      </a:lnTo>
                      <a:lnTo>
                        <a:pt x="252" y="32"/>
                      </a:lnTo>
                      <a:lnTo>
                        <a:pt x="256" y="36"/>
                      </a:lnTo>
                      <a:lnTo>
                        <a:pt x="258" y="38"/>
                      </a:lnTo>
                      <a:lnTo>
                        <a:pt x="262" y="43"/>
                      </a:lnTo>
                      <a:lnTo>
                        <a:pt x="264" y="46"/>
                      </a:lnTo>
                      <a:lnTo>
                        <a:pt x="267" y="50"/>
                      </a:lnTo>
                      <a:lnTo>
                        <a:pt x="269" y="54"/>
                      </a:lnTo>
                      <a:lnTo>
                        <a:pt x="273" y="58"/>
                      </a:lnTo>
                      <a:lnTo>
                        <a:pt x="275" y="62"/>
                      </a:lnTo>
                      <a:lnTo>
                        <a:pt x="277" y="65"/>
                      </a:lnTo>
                      <a:lnTo>
                        <a:pt x="281" y="69"/>
                      </a:lnTo>
                      <a:lnTo>
                        <a:pt x="284" y="73"/>
                      </a:lnTo>
                      <a:lnTo>
                        <a:pt x="287" y="75"/>
                      </a:lnTo>
                      <a:lnTo>
                        <a:pt x="290" y="78"/>
                      </a:lnTo>
                      <a:lnTo>
                        <a:pt x="293" y="81"/>
                      </a:lnTo>
                      <a:lnTo>
                        <a:pt x="297" y="82"/>
                      </a:lnTo>
                      <a:lnTo>
                        <a:pt x="301" y="83"/>
                      </a:lnTo>
                      <a:lnTo>
                        <a:pt x="305" y="83"/>
                      </a:lnTo>
                      <a:lnTo>
                        <a:pt x="308" y="83"/>
                      </a:lnTo>
                      <a:lnTo>
                        <a:pt x="314" y="83"/>
                      </a:lnTo>
                      <a:lnTo>
                        <a:pt x="315" y="81"/>
                      </a:lnTo>
                      <a:lnTo>
                        <a:pt x="316" y="77"/>
                      </a:lnTo>
                      <a:lnTo>
                        <a:pt x="319" y="75"/>
                      </a:lnTo>
                      <a:lnTo>
                        <a:pt x="320" y="73"/>
                      </a:lnTo>
                      <a:lnTo>
                        <a:pt x="321" y="70"/>
                      </a:lnTo>
                      <a:lnTo>
                        <a:pt x="321" y="67"/>
                      </a:lnTo>
                      <a:lnTo>
                        <a:pt x="322" y="64"/>
                      </a:lnTo>
                      <a:lnTo>
                        <a:pt x="324" y="62"/>
                      </a:lnTo>
                      <a:lnTo>
                        <a:pt x="324" y="59"/>
                      </a:lnTo>
                      <a:lnTo>
                        <a:pt x="324" y="57"/>
                      </a:lnTo>
                      <a:lnTo>
                        <a:pt x="324" y="54"/>
                      </a:lnTo>
                      <a:lnTo>
                        <a:pt x="324" y="51"/>
                      </a:lnTo>
                      <a:lnTo>
                        <a:pt x="324" y="46"/>
                      </a:lnTo>
                      <a:lnTo>
                        <a:pt x="324" y="42"/>
                      </a:lnTo>
                      <a:lnTo>
                        <a:pt x="321" y="36"/>
                      </a:lnTo>
                      <a:lnTo>
                        <a:pt x="320" y="31"/>
                      </a:lnTo>
                      <a:lnTo>
                        <a:pt x="318" y="26"/>
                      </a:lnTo>
                      <a:lnTo>
                        <a:pt x="315" y="21"/>
                      </a:lnTo>
                      <a:lnTo>
                        <a:pt x="311" y="18"/>
                      </a:lnTo>
                      <a:lnTo>
                        <a:pt x="308" y="12"/>
                      </a:lnTo>
                      <a:lnTo>
                        <a:pt x="303" y="8"/>
                      </a:lnTo>
                      <a:lnTo>
                        <a:pt x="300" y="5"/>
                      </a:lnTo>
                      <a:lnTo>
                        <a:pt x="303" y="5"/>
                      </a:lnTo>
                      <a:lnTo>
                        <a:pt x="307" y="4"/>
                      </a:lnTo>
                      <a:lnTo>
                        <a:pt x="309" y="2"/>
                      </a:lnTo>
                      <a:lnTo>
                        <a:pt x="314" y="2"/>
                      </a:lnTo>
                      <a:lnTo>
                        <a:pt x="316" y="2"/>
                      </a:lnTo>
                      <a:lnTo>
                        <a:pt x="320" y="2"/>
                      </a:lnTo>
                      <a:lnTo>
                        <a:pt x="324" y="2"/>
                      </a:lnTo>
                      <a:lnTo>
                        <a:pt x="327" y="2"/>
                      </a:lnTo>
                      <a:lnTo>
                        <a:pt x="331" y="2"/>
                      </a:lnTo>
                      <a:lnTo>
                        <a:pt x="334" y="2"/>
                      </a:lnTo>
                      <a:lnTo>
                        <a:pt x="337" y="1"/>
                      </a:lnTo>
                      <a:lnTo>
                        <a:pt x="341" y="1"/>
                      </a:lnTo>
                      <a:lnTo>
                        <a:pt x="344" y="1"/>
                      </a:lnTo>
                      <a:lnTo>
                        <a:pt x="347" y="1"/>
                      </a:lnTo>
                      <a:lnTo>
                        <a:pt x="351" y="1"/>
                      </a:lnTo>
                      <a:lnTo>
                        <a:pt x="354" y="1"/>
                      </a:lnTo>
                      <a:lnTo>
                        <a:pt x="353" y="4"/>
                      </a:lnTo>
                      <a:lnTo>
                        <a:pt x="352" y="6"/>
                      </a:lnTo>
                      <a:lnTo>
                        <a:pt x="350" y="10"/>
                      </a:lnTo>
                      <a:lnTo>
                        <a:pt x="348" y="13"/>
                      </a:lnTo>
                      <a:lnTo>
                        <a:pt x="353" y="16"/>
                      </a:lnTo>
                      <a:lnTo>
                        <a:pt x="357" y="18"/>
                      </a:lnTo>
                      <a:lnTo>
                        <a:pt x="360" y="19"/>
                      </a:lnTo>
                      <a:lnTo>
                        <a:pt x="364" y="21"/>
                      </a:lnTo>
                      <a:lnTo>
                        <a:pt x="366" y="23"/>
                      </a:lnTo>
                      <a:lnTo>
                        <a:pt x="370" y="26"/>
                      </a:lnTo>
                      <a:lnTo>
                        <a:pt x="373" y="27"/>
                      </a:lnTo>
                      <a:lnTo>
                        <a:pt x="378" y="31"/>
                      </a:lnTo>
                      <a:lnTo>
                        <a:pt x="379" y="33"/>
                      </a:lnTo>
                      <a:lnTo>
                        <a:pt x="382" y="37"/>
                      </a:lnTo>
                      <a:lnTo>
                        <a:pt x="384" y="39"/>
                      </a:lnTo>
                      <a:lnTo>
                        <a:pt x="386" y="43"/>
                      </a:lnTo>
                      <a:lnTo>
                        <a:pt x="391" y="48"/>
                      </a:lnTo>
                      <a:lnTo>
                        <a:pt x="396" y="52"/>
                      </a:lnTo>
                      <a:lnTo>
                        <a:pt x="401" y="56"/>
                      </a:lnTo>
                      <a:lnTo>
                        <a:pt x="407" y="58"/>
                      </a:lnTo>
                      <a:lnTo>
                        <a:pt x="409" y="59"/>
                      </a:lnTo>
                      <a:lnTo>
                        <a:pt x="411" y="61"/>
                      </a:lnTo>
                      <a:lnTo>
                        <a:pt x="415" y="62"/>
                      </a:lnTo>
                      <a:lnTo>
                        <a:pt x="417" y="63"/>
                      </a:lnTo>
                      <a:lnTo>
                        <a:pt x="420" y="63"/>
                      </a:lnTo>
                      <a:lnTo>
                        <a:pt x="422" y="64"/>
                      </a:lnTo>
                      <a:lnTo>
                        <a:pt x="424" y="64"/>
                      </a:lnTo>
                      <a:lnTo>
                        <a:pt x="428" y="64"/>
                      </a:lnTo>
                      <a:lnTo>
                        <a:pt x="430" y="64"/>
                      </a:lnTo>
                      <a:lnTo>
                        <a:pt x="434" y="64"/>
                      </a:lnTo>
                      <a:lnTo>
                        <a:pt x="436" y="64"/>
                      </a:lnTo>
                      <a:lnTo>
                        <a:pt x="440" y="65"/>
                      </a:lnTo>
                      <a:lnTo>
                        <a:pt x="442" y="64"/>
                      </a:lnTo>
                      <a:lnTo>
                        <a:pt x="445" y="64"/>
                      </a:lnTo>
                      <a:lnTo>
                        <a:pt x="448" y="63"/>
                      </a:lnTo>
                      <a:lnTo>
                        <a:pt x="451" y="63"/>
                      </a:lnTo>
                      <a:lnTo>
                        <a:pt x="453" y="62"/>
                      </a:lnTo>
                      <a:lnTo>
                        <a:pt x="455" y="62"/>
                      </a:lnTo>
                      <a:lnTo>
                        <a:pt x="458" y="61"/>
                      </a:lnTo>
                      <a:lnTo>
                        <a:pt x="461" y="61"/>
                      </a:lnTo>
                      <a:lnTo>
                        <a:pt x="466" y="57"/>
                      </a:lnTo>
                      <a:lnTo>
                        <a:pt x="471" y="55"/>
                      </a:lnTo>
                      <a:lnTo>
                        <a:pt x="475" y="52"/>
                      </a:lnTo>
                      <a:lnTo>
                        <a:pt x="480" y="49"/>
                      </a:lnTo>
                      <a:lnTo>
                        <a:pt x="485" y="45"/>
                      </a:lnTo>
                      <a:lnTo>
                        <a:pt x="488" y="42"/>
                      </a:lnTo>
                      <a:lnTo>
                        <a:pt x="493" y="38"/>
                      </a:lnTo>
                      <a:lnTo>
                        <a:pt x="497" y="35"/>
                      </a:lnTo>
                      <a:lnTo>
                        <a:pt x="499" y="30"/>
                      </a:lnTo>
                      <a:lnTo>
                        <a:pt x="503" y="25"/>
                      </a:lnTo>
                      <a:lnTo>
                        <a:pt x="505" y="21"/>
                      </a:lnTo>
                      <a:lnTo>
                        <a:pt x="507" y="18"/>
                      </a:lnTo>
                      <a:lnTo>
                        <a:pt x="509" y="12"/>
                      </a:lnTo>
                      <a:lnTo>
                        <a:pt x="510" y="7"/>
                      </a:lnTo>
                      <a:lnTo>
                        <a:pt x="511" y="4"/>
                      </a:lnTo>
                      <a:lnTo>
                        <a:pt x="511" y="0"/>
                      </a:lnTo>
                      <a:lnTo>
                        <a:pt x="515" y="0"/>
                      </a:lnTo>
                      <a:lnTo>
                        <a:pt x="518" y="0"/>
                      </a:lnTo>
                      <a:lnTo>
                        <a:pt x="523" y="0"/>
                      </a:lnTo>
                      <a:lnTo>
                        <a:pt x="528" y="0"/>
                      </a:lnTo>
                      <a:lnTo>
                        <a:pt x="531" y="0"/>
                      </a:lnTo>
                      <a:lnTo>
                        <a:pt x="535" y="0"/>
                      </a:lnTo>
                      <a:lnTo>
                        <a:pt x="538" y="0"/>
                      </a:lnTo>
                      <a:lnTo>
                        <a:pt x="544" y="0"/>
                      </a:lnTo>
                      <a:lnTo>
                        <a:pt x="538" y="2"/>
                      </a:lnTo>
                      <a:lnTo>
                        <a:pt x="536" y="5"/>
                      </a:lnTo>
                      <a:lnTo>
                        <a:pt x="534" y="7"/>
                      </a:lnTo>
                      <a:lnTo>
                        <a:pt x="531" y="10"/>
                      </a:lnTo>
                      <a:lnTo>
                        <a:pt x="526" y="16"/>
                      </a:lnTo>
                      <a:lnTo>
                        <a:pt x="522" y="20"/>
                      </a:lnTo>
                      <a:lnTo>
                        <a:pt x="518" y="24"/>
                      </a:lnTo>
                      <a:lnTo>
                        <a:pt x="517" y="29"/>
                      </a:lnTo>
                      <a:lnTo>
                        <a:pt x="516" y="33"/>
                      </a:lnTo>
                      <a:lnTo>
                        <a:pt x="516" y="38"/>
                      </a:lnTo>
                      <a:lnTo>
                        <a:pt x="516" y="40"/>
                      </a:lnTo>
                      <a:lnTo>
                        <a:pt x="516" y="45"/>
                      </a:lnTo>
                      <a:lnTo>
                        <a:pt x="518" y="48"/>
                      </a:lnTo>
                      <a:lnTo>
                        <a:pt x="521" y="51"/>
                      </a:lnTo>
                      <a:lnTo>
                        <a:pt x="523" y="54"/>
                      </a:lnTo>
                      <a:lnTo>
                        <a:pt x="525" y="57"/>
                      </a:lnTo>
                      <a:lnTo>
                        <a:pt x="529" y="59"/>
                      </a:lnTo>
                      <a:lnTo>
                        <a:pt x="534" y="62"/>
                      </a:lnTo>
                      <a:lnTo>
                        <a:pt x="536" y="63"/>
                      </a:lnTo>
                      <a:lnTo>
                        <a:pt x="541" y="65"/>
                      </a:lnTo>
                      <a:lnTo>
                        <a:pt x="545" y="67"/>
                      </a:lnTo>
                      <a:lnTo>
                        <a:pt x="549" y="68"/>
                      </a:lnTo>
                      <a:lnTo>
                        <a:pt x="554" y="69"/>
                      </a:lnTo>
                      <a:lnTo>
                        <a:pt x="558" y="70"/>
                      </a:lnTo>
                      <a:lnTo>
                        <a:pt x="564" y="70"/>
                      </a:lnTo>
                      <a:lnTo>
                        <a:pt x="569" y="71"/>
                      </a:lnTo>
                      <a:lnTo>
                        <a:pt x="573" y="71"/>
                      </a:lnTo>
                      <a:lnTo>
                        <a:pt x="577" y="71"/>
                      </a:lnTo>
                      <a:lnTo>
                        <a:pt x="582" y="71"/>
                      </a:lnTo>
                      <a:lnTo>
                        <a:pt x="586" y="71"/>
                      </a:lnTo>
                      <a:lnTo>
                        <a:pt x="589" y="70"/>
                      </a:lnTo>
                      <a:lnTo>
                        <a:pt x="593" y="70"/>
                      </a:lnTo>
                      <a:lnTo>
                        <a:pt x="595" y="69"/>
                      </a:lnTo>
                      <a:lnTo>
                        <a:pt x="599" y="68"/>
                      </a:lnTo>
                      <a:lnTo>
                        <a:pt x="598" y="64"/>
                      </a:lnTo>
                      <a:lnTo>
                        <a:pt x="596" y="61"/>
                      </a:lnTo>
                      <a:lnTo>
                        <a:pt x="596" y="58"/>
                      </a:lnTo>
                      <a:lnTo>
                        <a:pt x="596" y="56"/>
                      </a:lnTo>
                      <a:lnTo>
                        <a:pt x="595" y="52"/>
                      </a:lnTo>
                      <a:lnTo>
                        <a:pt x="595" y="50"/>
                      </a:lnTo>
                      <a:lnTo>
                        <a:pt x="594" y="48"/>
                      </a:lnTo>
                      <a:lnTo>
                        <a:pt x="594" y="45"/>
                      </a:lnTo>
                      <a:lnTo>
                        <a:pt x="593" y="40"/>
                      </a:lnTo>
                      <a:lnTo>
                        <a:pt x="592" y="37"/>
                      </a:lnTo>
                      <a:lnTo>
                        <a:pt x="591" y="33"/>
                      </a:lnTo>
                      <a:lnTo>
                        <a:pt x="591" y="31"/>
                      </a:lnTo>
                      <a:lnTo>
                        <a:pt x="589" y="27"/>
                      </a:lnTo>
                      <a:lnTo>
                        <a:pt x="588" y="26"/>
                      </a:lnTo>
                      <a:lnTo>
                        <a:pt x="587" y="24"/>
                      </a:lnTo>
                      <a:lnTo>
                        <a:pt x="586" y="23"/>
                      </a:lnTo>
                      <a:lnTo>
                        <a:pt x="583" y="20"/>
                      </a:lnTo>
                      <a:lnTo>
                        <a:pt x="582" y="19"/>
                      </a:lnTo>
                      <a:lnTo>
                        <a:pt x="577" y="18"/>
                      </a:lnTo>
                      <a:lnTo>
                        <a:pt x="575" y="17"/>
                      </a:lnTo>
                      <a:lnTo>
                        <a:pt x="572" y="16"/>
                      </a:lnTo>
                      <a:lnTo>
                        <a:pt x="569" y="14"/>
                      </a:lnTo>
                      <a:lnTo>
                        <a:pt x="564" y="12"/>
                      </a:lnTo>
                      <a:lnTo>
                        <a:pt x="562" y="8"/>
                      </a:lnTo>
                      <a:lnTo>
                        <a:pt x="558" y="6"/>
                      </a:lnTo>
                      <a:lnTo>
                        <a:pt x="556" y="5"/>
                      </a:lnTo>
                      <a:lnTo>
                        <a:pt x="554" y="2"/>
                      </a:lnTo>
                      <a:lnTo>
                        <a:pt x="551" y="0"/>
                      </a:lnTo>
                      <a:lnTo>
                        <a:pt x="556" y="0"/>
                      </a:lnTo>
                      <a:lnTo>
                        <a:pt x="560" y="0"/>
                      </a:lnTo>
                      <a:lnTo>
                        <a:pt x="564" y="0"/>
                      </a:lnTo>
                      <a:lnTo>
                        <a:pt x="568" y="0"/>
                      </a:lnTo>
                      <a:lnTo>
                        <a:pt x="572" y="0"/>
                      </a:lnTo>
                      <a:lnTo>
                        <a:pt x="576" y="0"/>
                      </a:lnTo>
                      <a:lnTo>
                        <a:pt x="580" y="0"/>
                      </a:lnTo>
                      <a:lnTo>
                        <a:pt x="585" y="0"/>
                      </a:lnTo>
                      <a:lnTo>
                        <a:pt x="588" y="0"/>
                      </a:lnTo>
                      <a:lnTo>
                        <a:pt x="592" y="0"/>
                      </a:lnTo>
                      <a:lnTo>
                        <a:pt x="596" y="0"/>
                      </a:lnTo>
                      <a:lnTo>
                        <a:pt x="600" y="0"/>
                      </a:lnTo>
                      <a:lnTo>
                        <a:pt x="605" y="0"/>
                      </a:lnTo>
                      <a:lnTo>
                        <a:pt x="608" y="0"/>
                      </a:lnTo>
                      <a:lnTo>
                        <a:pt x="612" y="0"/>
                      </a:lnTo>
                      <a:lnTo>
                        <a:pt x="617" y="1"/>
                      </a:lnTo>
                      <a:lnTo>
                        <a:pt x="620" y="1"/>
                      </a:lnTo>
                      <a:lnTo>
                        <a:pt x="625" y="1"/>
                      </a:lnTo>
                      <a:lnTo>
                        <a:pt x="628" y="1"/>
                      </a:lnTo>
                      <a:lnTo>
                        <a:pt x="632" y="2"/>
                      </a:lnTo>
                      <a:lnTo>
                        <a:pt x="637" y="2"/>
                      </a:lnTo>
                      <a:lnTo>
                        <a:pt x="640" y="2"/>
                      </a:lnTo>
                      <a:lnTo>
                        <a:pt x="645" y="2"/>
                      </a:lnTo>
                      <a:lnTo>
                        <a:pt x="650" y="2"/>
                      </a:lnTo>
                      <a:lnTo>
                        <a:pt x="652" y="2"/>
                      </a:lnTo>
                      <a:lnTo>
                        <a:pt x="657" y="2"/>
                      </a:lnTo>
                      <a:lnTo>
                        <a:pt x="661" y="2"/>
                      </a:lnTo>
                      <a:lnTo>
                        <a:pt x="665" y="2"/>
                      </a:lnTo>
                      <a:lnTo>
                        <a:pt x="669" y="2"/>
                      </a:lnTo>
                      <a:lnTo>
                        <a:pt x="672" y="4"/>
                      </a:lnTo>
                      <a:lnTo>
                        <a:pt x="678" y="4"/>
                      </a:lnTo>
                      <a:lnTo>
                        <a:pt x="682" y="5"/>
                      </a:lnTo>
                      <a:lnTo>
                        <a:pt x="685" y="5"/>
                      </a:lnTo>
                      <a:lnTo>
                        <a:pt x="689" y="5"/>
                      </a:lnTo>
                      <a:lnTo>
                        <a:pt x="694" y="5"/>
                      </a:lnTo>
                      <a:lnTo>
                        <a:pt x="697" y="5"/>
                      </a:lnTo>
                      <a:lnTo>
                        <a:pt x="701" y="5"/>
                      </a:lnTo>
                      <a:lnTo>
                        <a:pt x="706" y="5"/>
                      </a:lnTo>
                      <a:lnTo>
                        <a:pt x="709" y="5"/>
                      </a:lnTo>
                      <a:lnTo>
                        <a:pt x="714" y="5"/>
                      </a:lnTo>
                      <a:lnTo>
                        <a:pt x="717" y="5"/>
                      </a:lnTo>
                      <a:lnTo>
                        <a:pt x="721" y="5"/>
                      </a:lnTo>
                      <a:lnTo>
                        <a:pt x="726" y="6"/>
                      </a:lnTo>
                      <a:lnTo>
                        <a:pt x="731" y="6"/>
                      </a:lnTo>
                      <a:lnTo>
                        <a:pt x="734" y="6"/>
                      </a:lnTo>
                      <a:lnTo>
                        <a:pt x="738" y="6"/>
                      </a:lnTo>
                      <a:lnTo>
                        <a:pt x="741" y="7"/>
                      </a:lnTo>
                      <a:lnTo>
                        <a:pt x="746" y="7"/>
                      </a:lnTo>
                      <a:lnTo>
                        <a:pt x="751" y="7"/>
                      </a:lnTo>
                      <a:lnTo>
                        <a:pt x="754" y="7"/>
                      </a:lnTo>
                      <a:lnTo>
                        <a:pt x="759" y="7"/>
                      </a:lnTo>
                      <a:lnTo>
                        <a:pt x="763" y="7"/>
                      </a:lnTo>
                      <a:lnTo>
                        <a:pt x="766" y="7"/>
                      </a:lnTo>
                      <a:lnTo>
                        <a:pt x="770" y="8"/>
                      </a:lnTo>
                      <a:lnTo>
                        <a:pt x="774" y="8"/>
                      </a:lnTo>
                      <a:lnTo>
                        <a:pt x="779" y="10"/>
                      </a:lnTo>
                      <a:lnTo>
                        <a:pt x="783" y="10"/>
                      </a:lnTo>
                      <a:lnTo>
                        <a:pt x="786" y="10"/>
                      </a:lnTo>
                      <a:lnTo>
                        <a:pt x="791" y="10"/>
                      </a:lnTo>
                      <a:lnTo>
                        <a:pt x="795" y="10"/>
                      </a:lnTo>
                      <a:lnTo>
                        <a:pt x="799" y="10"/>
                      </a:lnTo>
                      <a:lnTo>
                        <a:pt x="803" y="10"/>
                      </a:lnTo>
                      <a:lnTo>
                        <a:pt x="808" y="11"/>
                      </a:lnTo>
                      <a:lnTo>
                        <a:pt x="811" y="1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Freeform 63"/>
                <p:cNvSpPr/>
                <p:nvPr/>
              </p:nvSpPr>
              <p:spPr>
                <a:xfrm>
                  <a:off x="7694640" y="2149560"/>
                  <a:ext cx="5760" cy="64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3" h="14">
                      <a:moveTo>
                        <a:pt x="13" y="14"/>
                      </a:moveTo>
                      <a:lnTo>
                        <a:pt x="8" y="11"/>
                      </a:lnTo>
                      <a:lnTo>
                        <a:pt x="5" y="8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2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Freeform 64"/>
                <p:cNvSpPr/>
                <p:nvPr/>
              </p:nvSpPr>
              <p:spPr>
                <a:xfrm>
                  <a:off x="7162920" y="2549880"/>
                  <a:ext cx="753840" cy="56880"/>
                </a:xfrm>
                <a:custGeom>
                  <a:avLst/>
                  <a:gdLst>
                    <a:gd name="textAreaLeft" fmla="*/ 0 w 753840"/>
                    <a:gd name="textAreaRight" fmla="*/ 754200 w 7538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425" h="109">
                      <a:moveTo>
                        <a:pt x="13" y="6"/>
                      </a:moveTo>
                      <a:lnTo>
                        <a:pt x="14" y="6"/>
                      </a:lnTo>
                      <a:lnTo>
                        <a:pt x="17" y="6"/>
                      </a:lnTo>
                      <a:lnTo>
                        <a:pt x="20" y="6"/>
                      </a:lnTo>
                      <a:lnTo>
                        <a:pt x="24" y="6"/>
                      </a:lnTo>
                      <a:lnTo>
                        <a:pt x="28" y="7"/>
                      </a:lnTo>
                      <a:lnTo>
                        <a:pt x="31" y="7"/>
                      </a:lnTo>
                      <a:lnTo>
                        <a:pt x="34" y="8"/>
                      </a:lnTo>
                      <a:lnTo>
                        <a:pt x="37" y="8"/>
                      </a:lnTo>
                      <a:lnTo>
                        <a:pt x="40" y="8"/>
                      </a:lnTo>
                      <a:lnTo>
                        <a:pt x="44" y="8"/>
                      </a:lnTo>
                      <a:lnTo>
                        <a:pt x="47" y="9"/>
                      </a:lnTo>
                      <a:lnTo>
                        <a:pt x="51" y="9"/>
                      </a:lnTo>
                      <a:lnTo>
                        <a:pt x="55" y="10"/>
                      </a:lnTo>
                      <a:lnTo>
                        <a:pt x="58" y="10"/>
                      </a:lnTo>
                      <a:lnTo>
                        <a:pt x="63" y="10"/>
                      </a:lnTo>
                      <a:lnTo>
                        <a:pt x="68" y="10"/>
                      </a:lnTo>
                      <a:lnTo>
                        <a:pt x="71" y="12"/>
                      </a:lnTo>
                      <a:lnTo>
                        <a:pt x="76" y="12"/>
                      </a:lnTo>
                      <a:lnTo>
                        <a:pt x="81" y="13"/>
                      </a:lnTo>
                      <a:lnTo>
                        <a:pt x="85" y="13"/>
                      </a:lnTo>
                      <a:lnTo>
                        <a:pt x="90" y="13"/>
                      </a:lnTo>
                      <a:lnTo>
                        <a:pt x="95" y="14"/>
                      </a:lnTo>
                      <a:lnTo>
                        <a:pt x="101" y="14"/>
                      </a:lnTo>
                      <a:lnTo>
                        <a:pt x="104" y="15"/>
                      </a:lnTo>
                      <a:lnTo>
                        <a:pt x="112" y="15"/>
                      </a:lnTo>
                      <a:lnTo>
                        <a:pt x="116" y="15"/>
                      </a:lnTo>
                      <a:lnTo>
                        <a:pt x="121" y="16"/>
                      </a:lnTo>
                      <a:lnTo>
                        <a:pt x="126" y="16"/>
                      </a:lnTo>
                      <a:lnTo>
                        <a:pt x="132" y="18"/>
                      </a:lnTo>
                      <a:lnTo>
                        <a:pt x="136" y="18"/>
                      </a:lnTo>
                      <a:lnTo>
                        <a:pt x="142" y="18"/>
                      </a:lnTo>
                      <a:lnTo>
                        <a:pt x="147" y="18"/>
                      </a:lnTo>
                      <a:lnTo>
                        <a:pt x="153" y="19"/>
                      </a:lnTo>
                      <a:lnTo>
                        <a:pt x="159" y="19"/>
                      </a:lnTo>
                      <a:lnTo>
                        <a:pt x="165" y="19"/>
                      </a:lnTo>
                      <a:lnTo>
                        <a:pt x="170" y="20"/>
                      </a:lnTo>
                      <a:lnTo>
                        <a:pt x="176" y="20"/>
                      </a:lnTo>
                      <a:lnTo>
                        <a:pt x="182" y="20"/>
                      </a:lnTo>
                      <a:lnTo>
                        <a:pt x="187" y="21"/>
                      </a:lnTo>
                      <a:lnTo>
                        <a:pt x="193" y="21"/>
                      </a:lnTo>
                      <a:lnTo>
                        <a:pt x="199" y="21"/>
                      </a:lnTo>
                      <a:lnTo>
                        <a:pt x="204" y="21"/>
                      </a:lnTo>
                      <a:lnTo>
                        <a:pt x="210" y="21"/>
                      </a:lnTo>
                      <a:lnTo>
                        <a:pt x="215" y="21"/>
                      </a:lnTo>
                      <a:lnTo>
                        <a:pt x="221" y="22"/>
                      </a:lnTo>
                      <a:lnTo>
                        <a:pt x="225" y="22"/>
                      </a:lnTo>
                      <a:lnTo>
                        <a:pt x="231" y="22"/>
                      </a:lnTo>
                      <a:lnTo>
                        <a:pt x="237" y="22"/>
                      </a:lnTo>
                      <a:lnTo>
                        <a:pt x="243" y="22"/>
                      </a:lnTo>
                      <a:lnTo>
                        <a:pt x="248" y="22"/>
                      </a:lnTo>
                      <a:lnTo>
                        <a:pt x="253" y="22"/>
                      </a:lnTo>
                      <a:lnTo>
                        <a:pt x="259" y="22"/>
                      </a:lnTo>
                      <a:lnTo>
                        <a:pt x="263" y="22"/>
                      </a:lnTo>
                      <a:lnTo>
                        <a:pt x="268" y="22"/>
                      </a:lnTo>
                      <a:lnTo>
                        <a:pt x="274" y="22"/>
                      </a:lnTo>
                      <a:lnTo>
                        <a:pt x="279" y="22"/>
                      </a:lnTo>
                      <a:lnTo>
                        <a:pt x="284" y="22"/>
                      </a:lnTo>
                      <a:lnTo>
                        <a:pt x="288" y="21"/>
                      </a:lnTo>
                      <a:lnTo>
                        <a:pt x="292" y="21"/>
                      </a:lnTo>
                      <a:lnTo>
                        <a:pt x="294" y="21"/>
                      </a:lnTo>
                      <a:lnTo>
                        <a:pt x="297" y="21"/>
                      </a:lnTo>
                      <a:lnTo>
                        <a:pt x="299" y="21"/>
                      </a:lnTo>
                      <a:lnTo>
                        <a:pt x="303" y="21"/>
                      </a:lnTo>
                      <a:lnTo>
                        <a:pt x="305" y="20"/>
                      </a:lnTo>
                      <a:lnTo>
                        <a:pt x="306" y="20"/>
                      </a:lnTo>
                      <a:lnTo>
                        <a:pt x="310" y="20"/>
                      </a:lnTo>
                      <a:lnTo>
                        <a:pt x="313" y="20"/>
                      </a:lnTo>
                      <a:lnTo>
                        <a:pt x="316" y="20"/>
                      </a:lnTo>
                      <a:lnTo>
                        <a:pt x="319" y="20"/>
                      </a:lnTo>
                      <a:lnTo>
                        <a:pt x="322" y="20"/>
                      </a:lnTo>
                      <a:lnTo>
                        <a:pt x="324" y="20"/>
                      </a:lnTo>
                      <a:lnTo>
                        <a:pt x="327" y="19"/>
                      </a:lnTo>
                      <a:lnTo>
                        <a:pt x="330" y="19"/>
                      </a:lnTo>
                      <a:lnTo>
                        <a:pt x="335" y="19"/>
                      </a:lnTo>
                      <a:lnTo>
                        <a:pt x="337" y="19"/>
                      </a:lnTo>
                      <a:lnTo>
                        <a:pt x="339" y="19"/>
                      </a:lnTo>
                      <a:lnTo>
                        <a:pt x="344" y="19"/>
                      </a:lnTo>
                      <a:lnTo>
                        <a:pt x="346" y="19"/>
                      </a:lnTo>
                      <a:lnTo>
                        <a:pt x="351" y="19"/>
                      </a:lnTo>
                      <a:lnTo>
                        <a:pt x="355" y="18"/>
                      </a:lnTo>
                      <a:lnTo>
                        <a:pt x="357" y="18"/>
                      </a:lnTo>
                      <a:lnTo>
                        <a:pt x="361" y="18"/>
                      </a:lnTo>
                      <a:lnTo>
                        <a:pt x="364" y="18"/>
                      </a:lnTo>
                      <a:lnTo>
                        <a:pt x="369" y="18"/>
                      </a:lnTo>
                      <a:lnTo>
                        <a:pt x="373" y="18"/>
                      </a:lnTo>
                      <a:lnTo>
                        <a:pt x="376" y="18"/>
                      </a:lnTo>
                      <a:lnTo>
                        <a:pt x="381" y="18"/>
                      </a:lnTo>
                      <a:lnTo>
                        <a:pt x="384" y="18"/>
                      </a:lnTo>
                      <a:lnTo>
                        <a:pt x="388" y="18"/>
                      </a:lnTo>
                      <a:lnTo>
                        <a:pt x="392" y="18"/>
                      </a:lnTo>
                      <a:lnTo>
                        <a:pt x="396" y="18"/>
                      </a:lnTo>
                      <a:lnTo>
                        <a:pt x="400" y="16"/>
                      </a:lnTo>
                      <a:lnTo>
                        <a:pt x="403" y="16"/>
                      </a:lnTo>
                      <a:lnTo>
                        <a:pt x="408" y="16"/>
                      </a:lnTo>
                      <a:lnTo>
                        <a:pt x="412" y="16"/>
                      </a:lnTo>
                      <a:lnTo>
                        <a:pt x="415" y="16"/>
                      </a:lnTo>
                      <a:lnTo>
                        <a:pt x="420" y="16"/>
                      </a:lnTo>
                      <a:lnTo>
                        <a:pt x="425" y="16"/>
                      </a:lnTo>
                      <a:lnTo>
                        <a:pt x="428" y="16"/>
                      </a:lnTo>
                      <a:lnTo>
                        <a:pt x="433" y="16"/>
                      </a:lnTo>
                      <a:lnTo>
                        <a:pt x="438" y="16"/>
                      </a:lnTo>
                      <a:lnTo>
                        <a:pt x="441" y="16"/>
                      </a:lnTo>
                      <a:lnTo>
                        <a:pt x="446" y="16"/>
                      </a:lnTo>
                      <a:lnTo>
                        <a:pt x="451" y="15"/>
                      </a:lnTo>
                      <a:lnTo>
                        <a:pt x="456" y="15"/>
                      </a:lnTo>
                      <a:lnTo>
                        <a:pt x="459" y="15"/>
                      </a:lnTo>
                      <a:lnTo>
                        <a:pt x="463" y="15"/>
                      </a:lnTo>
                      <a:lnTo>
                        <a:pt x="469" y="15"/>
                      </a:lnTo>
                      <a:lnTo>
                        <a:pt x="472" y="15"/>
                      </a:lnTo>
                      <a:lnTo>
                        <a:pt x="477" y="15"/>
                      </a:lnTo>
                      <a:lnTo>
                        <a:pt x="482" y="15"/>
                      </a:lnTo>
                      <a:lnTo>
                        <a:pt x="486" y="15"/>
                      </a:lnTo>
                      <a:lnTo>
                        <a:pt x="490" y="15"/>
                      </a:lnTo>
                      <a:lnTo>
                        <a:pt x="495" y="15"/>
                      </a:lnTo>
                      <a:lnTo>
                        <a:pt x="500" y="15"/>
                      </a:lnTo>
                      <a:lnTo>
                        <a:pt x="504" y="15"/>
                      </a:lnTo>
                      <a:lnTo>
                        <a:pt x="509" y="15"/>
                      </a:lnTo>
                      <a:lnTo>
                        <a:pt x="514" y="15"/>
                      </a:lnTo>
                      <a:lnTo>
                        <a:pt x="519" y="15"/>
                      </a:lnTo>
                      <a:lnTo>
                        <a:pt x="516" y="16"/>
                      </a:lnTo>
                      <a:lnTo>
                        <a:pt x="513" y="18"/>
                      </a:lnTo>
                      <a:lnTo>
                        <a:pt x="510" y="18"/>
                      </a:lnTo>
                      <a:lnTo>
                        <a:pt x="507" y="20"/>
                      </a:lnTo>
                      <a:lnTo>
                        <a:pt x="504" y="21"/>
                      </a:lnTo>
                      <a:lnTo>
                        <a:pt x="501" y="21"/>
                      </a:lnTo>
                      <a:lnTo>
                        <a:pt x="498" y="24"/>
                      </a:lnTo>
                      <a:lnTo>
                        <a:pt x="497" y="25"/>
                      </a:lnTo>
                      <a:lnTo>
                        <a:pt x="491" y="27"/>
                      </a:lnTo>
                      <a:lnTo>
                        <a:pt x="488" y="29"/>
                      </a:lnTo>
                      <a:lnTo>
                        <a:pt x="483" y="33"/>
                      </a:lnTo>
                      <a:lnTo>
                        <a:pt x="479" y="37"/>
                      </a:lnTo>
                      <a:lnTo>
                        <a:pt x="476" y="40"/>
                      </a:lnTo>
                      <a:lnTo>
                        <a:pt x="473" y="45"/>
                      </a:lnTo>
                      <a:lnTo>
                        <a:pt x="471" y="46"/>
                      </a:lnTo>
                      <a:lnTo>
                        <a:pt x="471" y="48"/>
                      </a:lnTo>
                      <a:lnTo>
                        <a:pt x="470" y="51"/>
                      </a:lnTo>
                      <a:lnTo>
                        <a:pt x="469" y="54"/>
                      </a:lnTo>
                      <a:lnTo>
                        <a:pt x="469" y="56"/>
                      </a:lnTo>
                      <a:lnTo>
                        <a:pt x="469" y="59"/>
                      </a:lnTo>
                      <a:lnTo>
                        <a:pt x="467" y="62"/>
                      </a:lnTo>
                      <a:lnTo>
                        <a:pt x="467" y="65"/>
                      </a:lnTo>
                      <a:lnTo>
                        <a:pt x="467" y="69"/>
                      </a:lnTo>
                      <a:lnTo>
                        <a:pt x="467" y="71"/>
                      </a:lnTo>
                      <a:lnTo>
                        <a:pt x="469" y="75"/>
                      </a:lnTo>
                      <a:lnTo>
                        <a:pt x="469" y="79"/>
                      </a:lnTo>
                      <a:lnTo>
                        <a:pt x="471" y="78"/>
                      </a:lnTo>
                      <a:lnTo>
                        <a:pt x="473" y="78"/>
                      </a:lnTo>
                      <a:lnTo>
                        <a:pt x="476" y="77"/>
                      </a:lnTo>
                      <a:lnTo>
                        <a:pt x="479" y="77"/>
                      </a:lnTo>
                      <a:lnTo>
                        <a:pt x="482" y="76"/>
                      </a:lnTo>
                      <a:lnTo>
                        <a:pt x="484" y="76"/>
                      </a:lnTo>
                      <a:lnTo>
                        <a:pt x="486" y="76"/>
                      </a:lnTo>
                      <a:lnTo>
                        <a:pt x="490" y="75"/>
                      </a:lnTo>
                      <a:lnTo>
                        <a:pt x="495" y="73"/>
                      </a:lnTo>
                      <a:lnTo>
                        <a:pt x="500" y="71"/>
                      </a:lnTo>
                      <a:lnTo>
                        <a:pt x="504" y="71"/>
                      </a:lnTo>
                      <a:lnTo>
                        <a:pt x="510" y="70"/>
                      </a:lnTo>
                      <a:lnTo>
                        <a:pt x="515" y="67"/>
                      </a:lnTo>
                      <a:lnTo>
                        <a:pt x="519" y="66"/>
                      </a:lnTo>
                      <a:lnTo>
                        <a:pt x="524" y="64"/>
                      </a:lnTo>
                      <a:lnTo>
                        <a:pt x="529" y="63"/>
                      </a:lnTo>
                      <a:lnTo>
                        <a:pt x="534" y="60"/>
                      </a:lnTo>
                      <a:lnTo>
                        <a:pt x="539" y="59"/>
                      </a:lnTo>
                      <a:lnTo>
                        <a:pt x="543" y="56"/>
                      </a:lnTo>
                      <a:lnTo>
                        <a:pt x="548" y="54"/>
                      </a:lnTo>
                      <a:lnTo>
                        <a:pt x="552" y="52"/>
                      </a:lnTo>
                      <a:lnTo>
                        <a:pt x="556" y="51"/>
                      </a:lnTo>
                      <a:lnTo>
                        <a:pt x="562" y="48"/>
                      </a:lnTo>
                      <a:lnTo>
                        <a:pt x="567" y="46"/>
                      </a:lnTo>
                      <a:lnTo>
                        <a:pt x="571" y="44"/>
                      </a:lnTo>
                      <a:lnTo>
                        <a:pt x="577" y="41"/>
                      </a:lnTo>
                      <a:lnTo>
                        <a:pt x="581" y="39"/>
                      </a:lnTo>
                      <a:lnTo>
                        <a:pt x="586" y="38"/>
                      </a:lnTo>
                      <a:lnTo>
                        <a:pt x="591" y="35"/>
                      </a:lnTo>
                      <a:lnTo>
                        <a:pt x="596" y="34"/>
                      </a:lnTo>
                      <a:lnTo>
                        <a:pt x="600" y="33"/>
                      </a:lnTo>
                      <a:lnTo>
                        <a:pt x="606" y="31"/>
                      </a:lnTo>
                      <a:lnTo>
                        <a:pt x="611" y="29"/>
                      </a:lnTo>
                      <a:lnTo>
                        <a:pt x="616" y="28"/>
                      </a:lnTo>
                      <a:lnTo>
                        <a:pt x="619" y="27"/>
                      </a:lnTo>
                      <a:lnTo>
                        <a:pt x="622" y="27"/>
                      </a:lnTo>
                      <a:lnTo>
                        <a:pt x="625" y="26"/>
                      </a:lnTo>
                      <a:lnTo>
                        <a:pt x="628" y="26"/>
                      </a:lnTo>
                      <a:lnTo>
                        <a:pt x="625" y="24"/>
                      </a:lnTo>
                      <a:lnTo>
                        <a:pt x="624" y="21"/>
                      </a:lnTo>
                      <a:lnTo>
                        <a:pt x="621" y="18"/>
                      </a:lnTo>
                      <a:lnTo>
                        <a:pt x="618" y="14"/>
                      </a:lnTo>
                      <a:lnTo>
                        <a:pt x="621" y="13"/>
                      </a:lnTo>
                      <a:lnTo>
                        <a:pt x="625" y="13"/>
                      </a:lnTo>
                      <a:lnTo>
                        <a:pt x="628" y="13"/>
                      </a:lnTo>
                      <a:lnTo>
                        <a:pt x="632" y="13"/>
                      </a:lnTo>
                      <a:lnTo>
                        <a:pt x="637" y="13"/>
                      </a:lnTo>
                      <a:lnTo>
                        <a:pt x="641" y="13"/>
                      </a:lnTo>
                      <a:lnTo>
                        <a:pt x="644" y="13"/>
                      </a:lnTo>
                      <a:lnTo>
                        <a:pt x="648" y="13"/>
                      </a:lnTo>
                      <a:lnTo>
                        <a:pt x="651" y="13"/>
                      </a:lnTo>
                      <a:lnTo>
                        <a:pt x="656" y="13"/>
                      </a:lnTo>
                      <a:lnTo>
                        <a:pt x="660" y="13"/>
                      </a:lnTo>
                      <a:lnTo>
                        <a:pt x="663" y="13"/>
                      </a:lnTo>
                      <a:lnTo>
                        <a:pt x="667" y="13"/>
                      </a:lnTo>
                      <a:lnTo>
                        <a:pt x="670" y="13"/>
                      </a:lnTo>
                      <a:lnTo>
                        <a:pt x="674" y="13"/>
                      </a:lnTo>
                      <a:lnTo>
                        <a:pt x="679" y="13"/>
                      </a:lnTo>
                      <a:lnTo>
                        <a:pt x="682" y="13"/>
                      </a:lnTo>
                      <a:lnTo>
                        <a:pt x="686" y="13"/>
                      </a:lnTo>
                      <a:lnTo>
                        <a:pt x="689" y="13"/>
                      </a:lnTo>
                      <a:lnTo>
                        <a:pt x="693" y="13"/>
                      </a:lnTo>
                      <a:lnTo>
                        <a:pt x="696" y="13"/>
                      </a:lnTo>
                      <a:lnTo>
                        <a:pt x="700" y="13"/>
                      </a:lnTo>
                      <a:lnTo>
                        <a:pt x="704" y="13"/>
                      </a:lnTo>
                      <a:lnTo>
                        <a:pt x="707" y="13"/>
                      </a:lnTo>
                      <a:lnTo>
                        <a:pt x="711" y="13"/>
                      </a:lnTo>
                      <a:lnTo>
                        <a:pt x="714" y="13"/>
                      </a:lnTo>
                      <a:lnTo>
                        <a:pt x="718" y="13"/>
                      </a:lnTo>
                      <a:lnTo>
                        <a:pt x="721" y="13"/>
                      </a:lnTo>
                      <a:lnTo>
                        <a:pt x="724" y="13"/>
                      </a:lnTo>
                      <a:lnTo>
                        <a:pt x="729" y="13"/>
                      </a:lnTo>
                      <a:lnTo>
                        <a:pt x="731" y="13"/>
                      </a:lnTo>
                      <a:lnTo>
                        <a:pt x="734" y="14"/>
                      </a:lnTo>
                      <a:lnTo>
                        <a:pt x="738" y="14"/>
                      </a:lnTo>
                      <a:lnTo>
                        <a:pt x="742" y="14"/>
                      </a:lnTo>
                      <a:lnTo>
                        <a:pt x="744" y="14"/>
                      </a:lnTo>
                      <a:lnTo>
                        <a:pt x="746" y="14"/>
                      </a:lnTo>
                      <a:lnTo>
                        <a:pt x="750" y="14"/>
                      </a:lnTo>
                      <a:lnTo>
                        <a:pt x="753" y="14"/>
                      </a:lnTo>
                      <a:lnTo>
                        <a:pt x="756" y="14"/>
                      </a:lnTo>
                      <a:lnTo>
                        <a:pt x="759" y="14"/>
                      </a:lnTo>
                      <a:lnTo>
                        <a:pt x="762" y="14"/>
                      </a:lnTo>
                      <a:lnTo>
                        <a:pt x="764" y="14"/>
                      </a:lnTo>
                      <a:lnTo>
                        <a:pt x="766" y="14"/>
                      </a:lnTo>
                      <a:lnTo>
                        <a:pt x="770" y="15"/>
                      </a:lnTo>
                      <a:lnTo>
                        <a:pt x="772" y="15"/>
                      </a:lnTo>
                      <a:lnTo>
                        <a:pt x="775" y="15"/>
                      </a:lnTo>
                      <a:lnTo>
                        <a:pt x="778" y="15"/>
                      </a:lnTo>
                      <a:lnTo>
                        <a:pt x="781" y="15"/>
                      </a:lnTo>
                      <a:lnTo>
                        <a:pt x="785" y="15"/>
                      </a:lnTo>
                      <a:lnTo>
                        <a:pt x="790" y="15"/>
                      </a:lnTo>
                      <a:lnTo>
                        <a:pt x="795" y="15"/>
                      </a:lnTo>
                      <a:lnTo>
                        <a:pt x="800" y="16"/>
                      </a:lnTo>
                      <a:lnTo>
                        <a:pt x="804" y="16"/>
                      </a:lnTo>
                      <a:lnTo>
                        <a:pt x="808" y="16"/>
                      </a:lnTo>
                      <a:lnTo>
                        <a:pt x="813" y="18"/>
                      </a:lnTo>
                      <a:lnTo>
                        <a:pt x="816" y="18"/>
                      </a:lnTo>
                      <a:lnTo>
                        <a:pt x="815" y="21"/>
                      </a:lnTo>
                      <a:lnTo>
                        <a:pt x="816" y="25"/>
                      </a:lnTo>
                      <a:lnTo>
                        <a:pt x="816" y="28"/>
                      </a:lnTo>
                      <a:lnTo>
                        <a:pt x="818" y="33"/>
                      </a:lnTo>
                      <a:lnTo>
                        <a:pt x="820" y="37"/>
                      </a:lnTo>
                      <a:lnTo>
                        <a:pt x="821" y="41"/>
                      </a:lnTo>
                      <a:lnTo>
                        <a:pt x="823" y="45"/>
                      </a:lnTo>
                      <a:lnTo>
                        <a:pt x="827" y="48"/>
                      </a:lnTo>
                      <a:lnTo>
                        <a:pt x="829" y="52"/>
                      </a:lnTo>
                      <a:lnTo>
                        <a:pt x="833" y="56"/>
                      </a:lnTo>
                      <a:lnTo>
                        <a:pt x="835" y="59"/>
                      </a:lnTo>
                      <a:lnTo>
                        <a:pt x="840" y="64"/>
                      </a:lnTo>
                      <a:lnTo>
                        <a:pt x="842" y="66"/>
                      </a:lnTo>
                      <a:lnTo>
                        <a:pt x="847" y="70"/>
                      </a:lnTo>
                      <a:lnTo>
                        <a:pt x="852" y="73"/>
                      </a:lnTo>
                      <a:lnTo>
                        <a:pt x="855" y="76"/>
                      </a:lnTo>
                      <a:lnTo>
                        <a:pt x="860" y="79"/>
                      </a:lnTo>
                      <a:lnTo>
                        <a:pt x="865" y="82"/>
                      </a:lnTo>
                      <a:lnTo>
                        <a:pt x="870" y="83"/>
                      </a:lnTo>
                      <a:lnTo>
                        <a:pt x="874" y="85"/>
                      </a:lnTo>
                      <a:lnTo>
                        <a:pt x="878" y="86"/>
                      </a:lnTo>
                      <a:lnTo>
                        <a:pt x="884" y="89"/>
                      </a:lnTo>
                      <a:lnTo>
                        <a:pt x="889" y="89"/>
                      </a:lnTo>
                      <a:lnTo>
                        <a:pt x="893" y="91"/>
                      </a:lnTo>
                      <a:lnTo>
                        <a:pt x="898" y="91"/>
                      </a:lnTo>
                      <a:lnTo>
                        <a:pt x="902" y="91"/>
                      </a:lnTo>
                      <a:lnTo>
                        <a:pt x="906" y="91"/>
                      </a:lnTo>
                      <a:lnTo>
                        <a:pt x="911" y="91"/>
                      </a:lnTo>
                      <a:lnTo>
                        <a:pt x="915" y="89"/>
                      </a:lnTo>
                      <a:lnTo>
                        <a:pt x="920" y="89"/>
                      </a:lnTo>
                      <a:lnTo>
                        <a:pt x="923" y="86"/>
                      </a:lnTo>
                      <a:lnTo>
                        <a:pt x="927" y="85"/>
                      </a:lnTo>
                      <a:lnTo>
                        <a:pt x="925" y="83"/>
                      </a:lnTo>
                      <a:lnTo>
                        <a:pt x="924" y="79"/>
                      </a:lnTo>
                      <a:lnTo>
                        <a:pt x="923" y="77"/>
                      </a:lnTo>
                      <a:lnTo>
                        <a:pt x="922" y="75"/>
                      </a:lnTo>
                      <a:lnTo>
                        <a:pt x="920" y="70"/>
                      </a:lnTo>
                      <a:lnTo>
                        <a:pt x="917" y="65"/>
                      </a:lnTo>
                      <a:lnTo>
                        <a:pt x="915" y="62"/>
                      </a:lnTo>
                      <a:lnTo>
                        <a:pt x="911" y="56"/>
                      </a:lnTo>
                      <a:lnTo>
                        <a:pt x="909" y="52"/>
                      </a:lnTo>
                      <a:lnTo>
                        <a:pt x="906" y="48"/>
                      </a:lnTo>
                      <a:lnTo>
                        <a:pt x="902" y="44"/>
                      </a:lnTo>
                      <a:lnTo>
                        <a:pt x="898" y="40"/>
                      </a:lnTo>
                      <a:lnTo>
                        <a:pt x="895" y="37"/>
                      </a:lnTo>
                      <a:lnTo>
                        <a:pt x="891" y="33"/>
                      </a:lnTo>
                      <a:lnTo>
                        <a:pt x="889" y="31"/>
                      </a:lnTo>
                      <a:lnTo>
                        <a:pt x="884" y="27"/>
                      </a:lnTo>
                      <a:lnTo>
                        <a:pt x="879" y="25"/>
                      </a:lnTo>
                      <a:lnTo>
                        <a:pt x="876" y="22"/>
                      </a:lnTo>
                      <a:lnTo>
                        <a:pt x="878" y="22"/>
                      </a:lnTo>
                      <a:lnTo>
                        <a:pt x="880" y="22"/>
                      </a:lnTo>
                      <a:lnTo>
                        <a:pt x="884" y="22"/>
                      </a:lnTo>
                      <a:lnTo>
                        <a:pt x="886" y="22"/>
                      </a:lnTo>
                      <a:lnTo>
                        <a:pt x="890" y="22"/>
                      </a:lnTo>
                      <a:lnTo>
                        <a:pt x="892" y="22"/>
                      </a:lnTo>
                      <a:lnTo>
                        <a:pt x="896" y="22"/>
                      </a:lnTo>
                      <a:lnTo>
                        <a:pt x="898" y="22"/>
                      </a:lnTo>
                      <a:lnTo>
                        <a:pt x="902" y="22"/>
                      </a:lnTo>
                      <a:lnTo>
                        <a:pt x="904" y="22"/>
                      </a:lnTo>
                      <a:lnTo>
                        <a:pt x="908" y="22"/>
                      </a:lnTo>
                      <a:lnTo>
                        <a:pt x="911" y="22"/>
                      </a:lnTo>
                      <a:lnTo>
                        <a:pt x="915" y="22"/>
                      </a:lnTo>
                      <a:lnTo>
                        <a:pt x="918" y="22"/>
                      </a:lnTo>
                      <a:lnTo>
                        <a:pt x="922" y="22"/>
                      </a:lnTo>
                      <a:lnTo>
                        <a:pt x="925" y="22"/>
                      </a:lnTo>
                      <a:lnTo>
                        <a:pt x="928" y="21"/>
                      </a:lnTo>
                      <a:lnTo>
                        <a:pt x="931" y="21"/>
                      </a:lnTo>
                      <a:lnTo>
                        <a:pt x="935" y="21"/>
                      </a:lnTo>
                      <a:lnTo>
                        <a:pt x="940" y="21"/>
                      </a:lnTo>
                      <a:lnTo>
                        <a:pt x="942" y="21"/>
                      </a:lnTo>
                      <a:lnTo>
                        <a:pt x="947" y="21"/>
                      </a:lnTo>
                      <a:lnTo>
                        <a:pt x="949" y="21"/>
                      </a:lnTo>
                      <a:lnTo>
                        <a:pt x="954" y="21"/>
                      </a:lnTo>
                      <a:lnTo>
                        <a:pt x="956" y="21"/>
                      </a:lnTo>
                      <a:lnTo>
                        <a:pt x="961" y="21"/>
                      </a:lnTo>
                      <a:lnTo>
                        <a:pt x="965" y="21"/>
                      </a:lnTo>
                      <a:lnTo>
                        <a:pt x="969" y="21"/>
                      </a:lnTo>
                      <a:lnTo>
                        <a:pt x="972" y="21"/>
                      </a:lnTo>
                      <a:lnTo>
                        <a:pt x="976" y="21"/>
                      </a:lnTo>
                      <a:lnTo>
                        <a:pt x="980" y="21"/>
                      </a:lnTo>
                      <a:lnTo>
                        <a:pt x="985" y="21"/>
                      </a:lnTo>
                      <a:lnTo>
                        <a:pt x="988" y="21"/>
                      </a:lnTo>
                      <a:lnTo>
                        <a:pt x="992" y="21"/>
                      </a:lnTo>
                      <a:lnTo>
                        <a:pt x="995" y="21"/>
                      </a:lnTo>
                      <a:lnTo>
                        <a:pt x="1000" y="21"/>
                      </a:lnTo>
                      <a:lnTo>
                        <a:pt x="1004" y="20"/>
                      </a:lnTo>
                      <a:lnTo>
                        <a:pt x="1007" y="20"/>
                      </a:lnTo>
                      <a:lnTo>
                        <a:pt x="1012" y="20"/>
                      </a:lnTo>
                      <a:lnTo>
                        <a:pt x="1017" y="20"/>
                      </a:lnTo>
                      <a:lnTo>
                        <a:pt x="1020" y="20"/>
                      </a:lnTo>
                      <a:lnTo>
                        <a:pt x="1025" y="20"/>
                      </a:lnTo>
                      <a:lnTo>
                        <a:pt x="1029" y="20"/>
                      </a:lnTo>
                      <a:lnTo>
                        <a:pt x="1033" y="20"/>
                      </a:lnTo>
                      <a:lnTo>
                        <a:pt x="1038" y="20"/>
                      </a:lnTo>
                      <a:lnTo>
                        <a:pt x="1042" y="20"/>
                      </a:lnTo>
                      <a:lnTo>
                        <a:pt x="1047" y="20"/>
                      </a:lnTo>
                      <a:lnTo>
                        <a:pt x="1050" y="20"/>
                      </a:lnTo>
                      <a:lnTo>
                        <a:pt x="1055" y="19"/>
                      </a:lnTo>
                      <a:lnTo>
                        <a:pt x="1060" y="19"/>
                      </a:lnTo>
                      <a:lnTo>
                        <a:pt x="1063" y="19"/>
                      </a:lnTo>
                      <a:lnTo>
                        <a:pt x="1068" y="19"/>
                      </a:lnTo>
                      <a:lnTo>
                        <a:pt x="1073" y="19"/>
                      </a:lnTo>
                      <a:lnTo>
                        <a:pt x="1076" y="19"/>
                      </a:lnTo>
                      <a:lnTo>
                        <a:pt x="1081" y="19"/>
                      </a:lnTo>
                      <a:lnTo>
                        <a:pt x="1084" y="19"/>
                      </a:lnTo>
                      <a:lnTo>
                        <a:pt x="1089" y="18"/>
                      </a:lnTo>
                      <a:lnTo>
                        <a:pt x="1094" y="18"/>
                      </a:lnTo>
                      <a:lnTo>
                        <a:pt x="1099" y="18"/>
                      </a:lnTo>
                      <a:lnTo>
                        <a:pt x="1102" y="18"/>
                      </a:lnTo>
                      <a:lnTo>
                        <a:pt x="1107" y="18"/>
                      </a:lnTo>
                      <a:lnTo>
                        <a:pt x="1112" y="18"/>
                      </a:lnTo>
                      <a:lnTo>
                        <a:pt x="1115" y="18"/>
                      </a:lnTo>
                      <a:lnTo>
                        <a:pt x="1120" y="18"/>
                      </a:lnTo>
                      <a:lnTo>
                        <a:pt x="1118" y="21"/>
                      </a:lnTo>
                      <a:lnTo>
                        <a:pt x="1115" y="24"/>
                      </a:lnTo>
                      <a:lnTo>
                        <a:pt x="1113" y="27"/>
                      </a:lnTo>
                      <a:lnTo>
                        <a:pt x="1112" y="31"/>
                      </a:lnTo>
                      <a:lnTo>
                        <a:pt x="1108" y="34"/>
                      </a:lnTo>
                      <a:lnTo>
                        <a:pt x="1106" y="38"/>
                      </a:lnTo>
                      <a:lnTo>
                        <a:pt x="1103" y="41"/>
                      </a:lnTo>
                      <a:lnTo>
                        <a:pt x="1103" y="44"/>
                      </a:lnTo>
                      <a:lnTo>
                        <a:pt x="1107" y="44"/>
                      </a:lnTo>
                      <a:lnTo>
                        <a:pt x="1113" y="45"/>
                      </a:lnTo>
                      <a:lnTo>
                        <a:pt x="1117" y="46"/>
                      </a:lnTo>
                      <a:lnTo>
                        <a:pt x="1122" y="47"/>
                      </a:lnTo>
                      <a:lnTo>
                        <a:pt x="1127" y="48"/>
                      </a:lnTo>
                      <a:lnTo>
                        <a:pt x="1132" y="50"/>
                      </a:lnTo>
                      <a:lnTo>
                        <a:pt x="1137" y="52"/>
                      </a:lnTo>
                      <a:lnTo>
                        <a:pt x="1141" y="54"/>
                      </a:lnTo>
                      <a:lnTo>
                        <a:pt x="1146" y="56"/>
                      </a:lnTo>
                      <a:lnTo>
                        <a:pt x="1151" y="59"/>
                      </a:lnTo>
                      <a:lnTo>
                        <a:pt x="1156" y="60"/>
                      </a:lnTo>
                      <a:lnTo>
                        <a:pt x="1160" y="64"/>
                      </a:lnTo>
                      <a:lnTo>
                        <a:pt x="1164" y="66"/>
                      </a:lnTo>
                      <a:lnTo>
                        <a:pt x="1170" y="69"/>
                      </a:lnTo>
                      <a:lnTo>
                        <a:pt x="1175" y="71"/>
                      </a:lnTo>
                      <a:lnTo>
                        <a:pt x="1179" y="73"/>
                      </a:lnTo>
                      <a:lnTo>
                        <a:pt x="1184" y="75"/>
                      </a:lnTo>
                      <a:lnTo>
                        <a:pt x="1189" y="76"/>
                      </a:lnTo>
                      <a:lnTo>
                        <a:pt x="1194" y="78"/>
                      </a:lnTo>
                      <a:lnTo>
                        <a:pt x="1198" y="81"/>
                      </a:lnTo>
                      <a:lnTo>
                        <a:pt x="1202" y="82"/>
                      </a:lnTo>
                      <a:lnTo>
                        <a:pt x="1208" y="82"/>
                      </a:lnTo>
                      <a:lnTo>
                        <a:pt x="1213" y="83"/>
                      </a:lnTo>
                      <a:lnTo>
                        <a:pt x="1217" y="83"/>
                      </a:lnTo>
                      <a:lnTo>
                        <a:pt x="1221" y="83"/>
                      </a:lnTo>
                      <a:lnTo>
                        <a:pt x="1227" y="82"/>
                      </a:lnTo>
                      <a:lnTo>
                        <a:pt x="1230" y="81"/>
                      </a:lnTo>
                      <a:lnTo>
                        <a:pt x="1236" y="79"/>
                      </a:lnTo>
                      <a:lnTo>
                        <a:pt x="1241" y="76"/>
                      </a:lnTo>
                      <a:lnTo>
                        <a:pt x="1246" y="73"/>
                      </a:lnTo>
                      <a:lnTo>
                        <a:pt x="1251" y="71"/>
                      </a:lnTo>
                      <a:lnTo>
                        <a:pt x="1257" y="67"/>
                      </a:lnTo>
                      <a:lnTo>
                        <a:pt x="1251" y="64"/>
                      </a:lnTo>
                      <a:lnTo>
                        <a:pt x="1246" y="59"/>
                      </a:lnTo>
                      <a:lnTo>
                        <a:pt x="1241" y="56"/>
                      </a:lnTo>
                      <a:lnTo>
                        <a:pt x="1236" y="52"/>
                      </a:lnTo>
                      <a:lnTo>
                        <a:pt x="1232" y="48"/>
                      </a:lnTo>
                      <a:lnTo>
                        <a:pt x="1227" y="45"/>
                      </a:lnTo>
                      <a:lnTo>
                        <a:pt x="1222" y="41"/>
                      </a:lnTo>
                      <a:lnTo>
                        <a:pt x="1217" y="38"/>
                      </a:lnTo>
                      <a:lnTo>
                        <a:pt x="1213" y="34"/>
                      </a:lnTo>
                      <a:lnTo>
                        <a:pt x="1208" y="31"/>
                      </a:lnTo>
                      <a:lnTo>
                        <a:pt x="1202" y="28"/>
                      </a:lnTo>
                      <a:lnTo>
                        <a:pt x="1197" y="26"/>
                      </a:lnTo>
                      <a:lnTo>
                        <a:pt x="1192" y="22"/>
                      </a:lnTo>
                      <a:lnTo>
                        <a:pt x="1188" y="20"/>
                      </a:lnTo>
                      <a:lnTo>
                        <a:pt x="1182" y="18"/>
                      </a:lnTo>
                      <a:lnTo>
                        <a:pt x="1177" y="15"/>
                      </a:lnTo>
                      <a:lnTo>
                        <a:pt x="1182" y="15"/>
                      </a:lnTo>
                      <a:lnTo>
                        <a:pt x="1187" y="15"/>
                      </a:lnTo>
                      <a:lnTo>
                        <a:pt x="1190" y="14"/>
                      </a:lnTo>
                      <a:lnTo>
                        <a:pt x="1195" y="14"/>
                      </a:lnTo>
                      <a:lnTo>
                        <a:pt x="1200" y="14"/>
                      </a:lnTo>
                      <a:lnTo>
                        <a:pt x="1203" y="14"/>
                      </a:lnTo>
                      <a:lnTo>
                        <a:pt x="1208" y="13"/>
                      </a:lnTo>
                      <a:lnTo>
                        <a:pt x="1213" y="13"/>
                      </a:lnTo>
                      <a:lnTo>
                        <a:pt x="1217" y="13"/>
                      </a:lnTo>
                      <a:lnTo>
                        <a:pt x="1221" y="13"/>
                      </a:lnTo>
                      <a:lnTo>
                        <a:pt x="1226" y="13"/>
                      </a:lnTo>
                      <a:lnTo>
                        <a:pt x="1230" y="13"/>
                      </a:lnTo>
                      <a:lnTo>
                        <a:pt x="1234" y="12"/>
                      </a:lnTo>
                      <a:lnTo>
                        <a:pt x="1239" y="12"/>
                      </a:lnTo>
                      <a:lnTo>
                        <a:pt x="1243" y="12"/>
                      </a:lnTo>
                      <a:lnTo>
                        <a:pt x="1247" y="12"/>
                      </a:lnTo>
                      <a:lnTo>
                        <a:pt x="1251" y="12"/>
                      </a:lnTo>
                      <a:lnTo>
                        <a:pt x="1255" y="10"/>
                      </a:lnTo>
                      <a:lnTo>
                        <a:pt x="1260" y="10"/>
                      </a:lnTo>
                      <a:lnTo>
                        <a:pt x="1264" y="10"/>
                      </a:lnTo>
                      <a:lnTo>
                        <a:pt x="1268" y="10"/>
                      </a:lnTo>
                      <a:lnTo>
                        <a:pt x="1272" y="10"/>
                      </a:lnTo>
                      <a:lnTo>
                        <a:pt x="1275" y="9"/>
                      </a:lnTo>
                      <a:lnTo>
                        <a:pt x="1280" y="9"/>
                      </a:lnTo>
                      <a:lnTo>
                        <a:pt x="1284" y="9"/>
                      </a:lnTo>
                      <a:lnTo>
                        <a:pt x="1289" y="9"/>
                      </a:lnTo>
                      <a:lnTo>
                        <a:pt x="1291" y="8"/>
                      </a:lnTo>
                      <a:lnTo>
                        <a:pt x="1296" y="8"/>
                      </a:lnTo>
                      <a:lnTo>
                        <a:pt x="1300" y="8"/>
                      </a:lnTo>
                      <a:lnTo>
                        <a:pt x="1304" y="8"/>
                      </a:lnTo>
                      <a:lnTo>
                        <a:pt x="1309" y="8"/>
                      </a:lnTo>
                      <a:lnTo>
                        <a:pt x="1312" y="8"/>
                      </a:lnTo>
                      <a:lnTo>
                        <a:pt x="1316" y="8"/>
                      </a:lnTo>
                      <a:lnTo>
                        <a:pt x="1319" y="7"/>
                      </a:lnTo>
                      <a:lnTo>
                        <a:pt x="1323" y="7"/>
                      </a:lnTo>
                      <a:lnTo>
                        <a:pt x="1327" y="7"/>
                      </a:lnTo>
                      <a:lnTo>
                        <a:pt x="1330" y="6"/>
                      </a:lnTo>
                      <a:lnTo>
                        <a:pt x="1334" y="6"/>
                      </a:lnTo>
                      <a:lnTo>
                        <a:pt x="1338" y="6"/>
                      </a:lnTo>
                      <a:lnTo>
                        <a:pt x="1342" y="6"/>
                      </a:lnTo>
                      <a:lnTo>
                        <a:pt x="1346" y="6"/>
                      </a:lnTo>
                      <a:lnTo>
                        <a:pt x="1349" y="5"/>
                      </a:lnTo>
                      <a:lnTo>
                        <a:pt x="1351" y="5"/>
                      </a:lnTo>
                      <a:lnTo>
                        <a:pt x="1356" y="5"/>
                      </a:lnTo>
                      <a:lnTo>
                        <a:pt x="1359" y="5"/>
                      </a:lnTo>
                      <a:lnTo>
                        <a:pt x="1362" y="3"/>
                      </a:lnTo>
                      <a:lnTo>
                        <a:pt x="1366" y="3"/>
                      </a:lnTo>
                      <a:lnTo>
                        <a:pt x="1369" y="3"/>
                      </a:lnTo>
                      <a:lnTo>
                        <a:pt x="1372" y="3"/>
                      </a:lnTo>
                      <a:lnTo>
                        <a:pt x="1375" y="3"/>
                      </a:lnTo>
                      <a:lnTo>
                        <a:pt x="1379" y="3"/>
                      </a:lnTo>
                      <a:lnTo>
                        <a:pt x="1382" y="3"/>
                      </a:lnTo>
                      <a:lnTo>
                        <a:pt x="1385" y="2"/>
                      </a:lnTo>
                      <a:lnTo>
                        <a:pt x="1387" y="2"/>
                      </a:lnTo>
                      <a:lnTo>
                        <a:pt x="1389" y="1"/>
                      </a:lnTo>
                      <a:lnTo>
                        <a:pt x="1393" y="1"/>
                      </a:lnTo>
                      <a:lnTo>
                        <a:pt x="1395" y="1"/>
                      </a:lnTo>
                      <a:lnTo>
                        <a:pt x="1398" y="0"/>
                      </a:lnTo>
                      <a:lnTo>
                        <a:pt x="1401" y="0"/>
                      </a:lnTo>
                      <a:lnTo>
                        <a:pt x="1405" y="0"/>
                      </a:lnTo>
                      <a:lnTo>
                        <a:pt x="1407" y="0"/>
                      </a:lnTo>
                      <a:lnTo>
                        <a:pt x="1410" y="0"/>
                      </a:lnTo>
                      <a:lnTo>
                        <a:pt x="1412" y="0"/>
                      </a:lnTo>
                      <a:lnTo>
                        <a:pt x="1416" y="0"/>
                      </a:lnTo>
                      <a:lnTo>
                        <a:pt x="1425" y="84"/>
                      </a:lnTo>
                      <a:lnTo>
                        <a:pt x="1424" y="84"/>
                      </a:lnTo>
                      <a:lnTo>
                        <a:pt x="1421" y="84"/>
                      </a:lnTo>
                      <a:lnTo>
                        <a:pt x="1420" y="84"/>
                      </a:lnTo>
                      <a:lnTo>
                        <a:pt x="1416" y="84"/>
                      </a:lnTo>
                      <a:lnTo>
                        <a:pt x="1412" y="85"/>
                      </a:lnTo>
                      <a:lnTo>
                        <a:pt x="1407" y="85"/>
                      </a:lnTo>
                      <a:lnTo>
                        <a:pt x="1402" y="86"/>
                      </a:lnTo>
                      <a:lnTo>
                        <a:pt x="1400" y="86"/>
                      </a:lnTo>
                      <a:lnTo>
                        <a:pt x="1397" y="86"/>
                      </a:lnTo>
                      <a:lnTo>
                        <a:pt x="1393" y="86"/>
                      </a:lnTo>
                      <a:lnTo>
                        <a:pt x="1389" y="88"/>
                      </a:lnTo>
                      <a:lnTo>
                        <a:pt x="1387" y="88"/>
                      </a:lnTo>
                      <a:lnTo>
                        <a:pt x="1383" y="89"/>
                      </a:lnTo>
                      <a:lnTo>
                        <a:pt x="1380" y="89"/>
                      </a:lnTo>
                      <a:lnTo>
                        <a:pt x="1376" y="89"/>
                      </a:lnTo>
                      <a:lnTo>
                        <a:pt x="1372" y="89"/>
                      </a:lnTo>
                      <a:lnTo>
                        <a:pt x="1368" y="90"/>
                      </a:lnTo>
                      <a:lnTo>
                        <a:pt x="1363" y="90"/>
                      </a:lnTo>
                      <a:lnTo>
                        <a:pt x="1360" y="91"/>
                      </a:lnTo>
                      <a:lnTo>
                        <a:pt x="1354" y="91"/>
                      </a:lnTo>
                      <a:lnTo>
                        <a:pt x="1350" y="91"/>
                      </a:lnTo>
                      <a:lnTo>
                        <a:pt x="1346" y="92"/>
                      </a:lnTo>
                      <a:lnTo>
                        <a:pt x="1341" y="94"/>
                      </a:lnTo>
                      <a:lnTo>
                        <a:pt x="1335" y="94"/>
                      </a:lnTo>
                      <a:lnTo>
                        <a:pt x="1329" y="94"/>
                      </a:lnTo>
                      <a:lnTo>
                        <a:pt x="1324" y="94"/>
                      </a:lnTo>
                      <a:lnTo>
                        <a:pt x="1319" y="95"/>
                      </a:lnTo>
                      <a:lnTo>
                        <a:pt x="1312" y="96"/>
                      </a:lnTo>
                      <a:lnTo>
                        <a:pt x="1306" y="96"/>
                      </a:lnTo>
                      <a:lnTo>
                        <a:pt x="1302" y="97"/>
                      </a:lnTo>
                      <a:lnTo>
                        <a:pt x="1296" y="97"/>
                      </a:lnTo>
                      <a:lnTo>
                        <a:pt x="1289" y="97"/>
                      </a:lnTo>
                      <a:lnTo>
                        <a:pt x="1283" y="97"/>
                      </a:lnTo>
                      <a:lnTo>
                        <a:pt x="1275" y="98"/>
                      </a:lnTo>
                      <a:lnTo>
                        <a:pt x="1270" y="100"/>
                      </a:lnTo>
                      <a:lnTo>
                        <a:pt x="1262" y="100"/>
                      </a:lnTo>
                      <a:lnTo>
                        <a:pt x="1255" y="100"/>
                      </a:lnTo>
                      <a:lnTo>
                        <a:pt x="1249" y="100"/>
                      </a:lnTo>
                      <a:lnTo>
                        <a:pt x="1242" y="102"/>
                      </a:lnTo>
                      <a:lnTo>
                        <a:pt x="1235" y="102"/>
                      </a:lnTo>
                      <a:lnTo>
                        <a:pt x="1228" y="102"/>
                      </a:lnTo>
                      <a:lnTo>
                        <a:pt x="1220" y="102"/>
                      </a:lnTo>
                      <a:lnTo>
                        <a:pt x="1213" y="102"/>
                      </a:lnTo>
                      <a:lnTo>
                        <a:pt x="1205" y="103"/>
                      </a:lnTo>
                      <a:lnTo>
                        <a:pt x="1197" y="104"/>
                      </a:lnTo>
                      <a:lnTo>
                        <a:pt x="1190" y="104"/>
                      </a:lnTo>
                      <a:lnTo>
                        <a:pt x="1182" y="104"/>
                      </a:lnTo>
                      <a:lnTo>
                        <a:pt x="1173" y="104"/>
                      </a:lnTo>
                      <a:lnTo>
                        <a:pt x="1165" y="104"/>
                      </a:lnTo>
                      <a:lnTo>
                        <a:pt x="1157" y="105"/>
                      </a:lnTo>
                      <a:lnTo>
                        <a:pt x="1149" y="107"/>
                      </a:lnTo>
                      <a:lnTo>
                        <a:pt x="1140" y="107"/>
                      </a:lnTo>
                      <a:lnTo>
                        <a:pt x="1132" y="107"/>
                      </a:lnTo>
                      <a:lnTo>
                        <a:pt x="1122" y="107"/>
                      </a:lnTo>
                      <a:lnTo>
                        <a:pt x="1114" y="107"/>
                      </a:lnTo>
                      <a:lnTo>
                        <a:pt x="1112" y="103"/>
                      </a:lnTo>
                      <a:lnTo>
                        <a:pt x="1108" y="100"/>
                      </a:lnTo>
                      <a:lnTo>
                        <a:pt x="1106" y="95"/>
                      </a:lnTo>
                      <a:lnTo>
                        <a:pt x="1102" y="91"/>
                      </a:lnTo>
                      <a:lnTo>
                        <a:pt x="1099" y="89"/>
                      </a:lnTo>
                      <a:lnTo>
                        <a:pt x="1096" y="85"/>
                      </a:lnTo>
                      <a:lnTo>
                        <a:pt x="1094" y="82"/>
                      </a:lnTo>
                      <a:lnTo>
                        <a:pt x="1090" y="79"/>
                      </a:lnTo>
                      <a:lnTo>
                        <a:pt x="1086" y="76"/>
                      </a:lnTo>
                      <a:lnTo>
                        <a:pt x="1083" y="73"/>
                      </a:lnTo>
                      <a:lnTo>
                        <a:pt x="1080" y="71"/>
                      </a:lnTo>
                      <a:lnTo>
                        <a:pt x="1076" y="70"/>
                      </a:lnTo>
                      <a:lnTo>
                        <a:pt x="1074" y="67"/>
                      </a:lnTo>
                      <a:lnTo>
                        <a:pt x="1070" y="65"/>
                      </a:lnTo>
                      <a:lnTo>
                        <a:pt x="1065" y="64"/>
                      </a:lnTo>
                      <a:lnTo>
                        <a:pt x="1063" y="62"/>
                      </a:lnTo>
                      <a:lnTo>
                        <a:pt x="1060" y="60"/>
                      </a:lnTo>
                      <a:lnTo>
                        <a:pt x="1056" y="58"/>
                      </a:lnTo>
                      <a:lnTo>
                        <a:pt x="1051" y="56"/>
                      </a:lnTo>
                      <a:lnTo>
                        <a:pt x="1048" y="56"/>
                      </a:lnTo>
                      <a:lnTo>
                        <a:pt x="1044" y="53"/>
                      </a:lnTo>
                      <a:lnTo>
                        <a:pt x="1041" y="52"/>
                      </a:lnTo>
                      <a:lnTo>
                        <a:pt x="1037" y="51"/>
                      </a:lnTo>
                      <a:lnTo>
                        <a:pt x="1033" y="50"/>
                      </a:lnTo>
                      <a:lnTo>
                        <a:pt x="1030" y="48"/>
                      </a:lnTo>
                      <a:lnTo>
                        <a:pt x="1026" y="46"/>
                      </a:lnTo>
                      <a:lnTo>
                        <a:pt x="1022" y="45"/>
                      </a:lnTo>
                      <a:lnTo>
                        <a:pt x="1018" y="44"/>
                      </a:lnTo>
                      <a:lnTo>
                        <a:pt x="1014" y="43"/>
                      </a:lnTo>
                      <a:lnTo>
                        <a:pt x="1011" y="41"/>
                      </a:lnTo>
                      <a:lnTo>
                        <a:pt x="1007" y="39"/>
                      </a:lnTo>
                      <a:lnTo>
                        <a:pt x="1004" y="38"/>
                      </a:lnTo>
                      <a:lnTo>
                        <a:pt x="1001" y="38"/>
                      </a:lnTo>
                      <a:lnTo>
                        <a:pt x="1000" y="39"/>
                      </a:lnTo>
                      <a:lnTo>
                        <a:pt x="998" y="40"/>
                      </a:lnTo>
                      <a:lnTo>
                        <a:pt x="994" y="41"/>
                      </a:lnTo>
                      <a:lnTo>
                        <a:pt x="990" y="43"/>
                      </a:lnTo>
                      <a:lnTo>
                        <a:pt x="987" y="45"/>
                      </a:lnTo>
                      <a:lnTo>
                        <a:pt x="982" y="47"/>
                      </a:lnTo>
                      <a:lnTo>
                        <a:pt x="980" y="51"/>
                      </a:lnTo>
                      <a:lnTo>
                        <a:pt x="974" y="53"/>
                      </a:lnTo>
                      <a:lnTo>
                        <a:pt x="971" y="56"/>
                      </a:lnTo>
                      <a:lnTo>
                        <a:pt x="967" y="58"/>
                      </a:lnTo>
                      <a:lnTo>
                        <a:pt x="962" y="60"/>
                      </a:lnTo>
                      <a:lnTo>
                        <a:pt x="959" y="62"/>
                      </a:lnTo>
                      <a:lnTo>
                        <a:pt x="956" y="64"/>
                      </a:lnTo>
                      <a:lnTo>
                        <a:pt x="952" y="65"/>
                      </a:lnTo>
                      <a:lnTo>
                        <a:pt x="950" y="67"/>
                      </a:lnTo>
                      <a:lnTo>
                        <a:pt x="952" y="69"/>
                      </a:lnTo>
                      <a:lnTo>
                        <a:pt x="955" y="71"/>
                      </a:lnTo>
                      <a:lnTo>
                        <a:pt x="959" y="76"/>
                      </a:lnTo>
                      <a:lnTo>
                        <a:pt x="962" y="79"/>
                      </a:lnTo>
                      <a:lnTo>
                        <a:pt x="965" y="82"/>
                      </a:lnTo>
                      <a:lnTo>
                        <a:pt x="969" y="85"/>
                      </a:lnTo>
                      <a:lnTo>
                        <a:pt x="972" y="88"/>
                      </a:lnTo>
                      <a:lnTo>
                        <a:pt x="974" y="91"/>
                      </a:lnTo>
                      <a:lnTo>
                        <a:pt x="976" y="89"/>
                      </a:lnTo>
                      <a:lnTo>
                        <a:pt x="980" y="86"/>
                      </a:lnTo>
                      <a:lnTo>
                        <a:pt x="982" y="85"/>
                      </a:lnTo>
                      <a:lnTo>
                        <a:pt x="985" y="84"/>
                      </a:lnTo>
                      <a:lnTo>
                        <a:pt x="987" y="83"/>
                      </a:lnTo>
                      <a:lnTo>
                        <a:pt x="990" y="83"/>
                      </a:lnTo>
                      <a:lnTo>
                        <a:pt x="992" y="82"/>
                      </a:lnTo>
                      <a:lnTo>
                        <a:pt x="995" y="82"/>
                      </a:lnTo>
                      <a:lnTo>
                        <a:pt x="1000" y="82"/>
                      </a:lnTo>
                      <a:lnTo>
                        <a:pt x="1005" y="83"/>
                      </a:lnTo>
                      <a:lnTo>
                        <a:pt x="1010" y="84"/>
                      </a:lnTo>
                      <a:lnTo>
                        <a:pt x="1014" y="85"/>
                      </a:lnTo>
                      <a:lnTo>
                        <a:pt x="1018" y="86"/>
                      </a:lnTo>
                      <a:lnTo>
                        <a:pt x="1023" y="89"/>
                      </a:lnTo>
                      <a:lnTo>
                        <a:pt x="1026" y="91"/>
                      </a:lnTo>
                      <a:lnTo>
                        <a:pt x="1031" y="96"/>
                      </a:lnTo>
                      <a:lnTo>
                        <a:pt x="1035" y="98"/>
                      </a:lnTo>
                      <a:lnTo>
                        <a:pt x="1038" y="102"/>
                      </a:lnTo>
                      <a:lnTo>
                        <a:pt x="1043" y="104"/>
                      </a:lnTo>
                      <a:lnTo>
                        <a:pt x="1047" y="109"/>
                      </a:lnTo>
                      <a:lnTo>
                        <a:pt x="1042" y="109"/>
                      </a:lnTo>
                      <a:lnTo>
                        <a:pt x="1037" y="109"/>
                      </a:lnTo>
                      <a:lnTo>
                        <a:pt x="1032" y="109"/>
                      </a:lnTo>
                      <a:lnTo>
                        <a:pt x="1028" y="109"/>
                      </a:lnTo>
                      <a:lnTo>
                        <a:pt x="1022" y="109"/>
                      </a:lnTo>
                      <a:lnTo>
                        <a:pt x="1018" y="109"/>
                      </a:lnTo>
                      <a:lnTo>
                        <a:pt x="1012" y="109"/>
                      </a:lnTo>
                      <a:lnTo>
                        <a:pt x="1007" y="109"/>
                      </a:lnTo>
                      <a:lnTo>
                        <a:pt x="1003" y="108"/>
                      </a:lnTo>
                      <a:lnTo>
                        <a:pt x="998" y="108"/>
                      </a:lnTo>
                      <a:lnTo>
                        <a:pt x="992" y="108"/>
                      </a:lnTo>
                      <a:lnTo>
                        <a:pt x="987" y="108"/>
                      </a:lnTo>
                      <a:lnTo>
                        <a:pt x="982" y="108"/>
                      </a:lnTo>
                      <a:lnTo>
                        <a:pt x="978" y="108"/>
                      </a:lnTo>
                      <a:lnTo>
                        <a:pt x="973" y="108"/>
                      </a:lnTo>
                      <a:lnTo>
                        <a:pt x="968" y="108"/>
                      </a:lnTo>
                      <a:lnTo>
                        <a:pt x="965" y="107"/>
                      </a:lnTo>
                      <a:lnTo>
                        <a:pt x="962" y="107"/>
                      </a:lnTo>
                      <a:lnTo>
                        <a:pt x="960" y="107"/>
                      </a:lnTo>
                      <a:lnTo>
                        <a:pt x="958" y="107"/>
                      </a:lnTo>
                      <a:lnTo>
                        <a:pt x="954" y="107"/>
                      </a:lnTo>
                      <a:lnTo>
                        <a:pt x="952" y="107"/>
                      </a:lnTo>
                      <a:lnTo>
                        <a:pt x="949" y="107"/>
                      </a:lnTo>
                      <a:lnTo>
                        <a:pt x="947" y="107"/>
                      </a:lnTo>
                      <a:lnTo>
                        <a:pt x="944" y="107"/>
                      </a:lnTo>
                      <a:lnTo>
                        <a:pt x="942" y="107"/>
                      </a:lnTo>
                      <a:lnTo>
                        <a:pt x="940" y="107"/>
                      </a:lnTo>
                      <a:lnTo>
                        <a:pt x="936" y="107"/>
                      </a:lnTo>
                      <a:lnTo>
                        <a:pt x="931" y="107"/>
                      </a:lnTo>
                      <a:lnTo>
                        <a:pt x="927" y="107"/>
                      </a:lnTo>
                      <a:lnTo>
                        <a:pt x="924" y="107"/>
                      </a:lnTo>
                      <a:lnTo>
                        <a:pt x="921" y="107"/>
                      </a:lnTo>
                      <a:lnTo>
                        <a:pt x="918" y="107"/>
                      </a:lnTo>
                      <a:lnTo>
                        <a:pt x="916" y="107"/>
                      </a:lnTo>
                      <a:lnTo>
                        <a:pt x="914" y="107"/>
                      </a:lnTo>
                      <a:lnTo>
                        <a:pt x="910" y="107"/>
                      </a:lnTo>
                      <a:lnTo>
                        <a:pt x="908" y="107"/>
                      </a:lnTo>
                      <a:lnTo>
                        <a:pt x="905" y="107"/>
                      </a:lnTo>
                      <a:lnTo>
                        <a:pt x="903" y="105"/>
                      </a:lnTo>
                      <a:lnTo>
                        <a:pt x="899" y="105"/>
                      </a:lnTo>
                      <a:lnTo>
                        <a:pt x="897" y="105"/>
                      </a:lnTo>
                      <a:lnTo>
                        <a:pt x="895" y="105"/>
                      </a:lnTo>
                      <a:lnTo>
                        <a:pt x="892" y="105"/>
                      </a:lnTo>
                      <a:lnTo>
                        <a:pt x="889" y="105"/>
                      </a:lnTo>
                      <a:lnTo>
                        <a:pt x="886" y="105"/>
                      </a:lnTo>
                      <a:lnTo>
                        <a:pt x="884" y="105"/>
                      </a:lnTo>
                      <a:lnTo>
                        <a:pt x="880" y="104"/>
                      </a:lnTo>
                      <a:lnTo>
                        <a:pt x="877" y="104"/>
                      </a:lnTo>
                      <a:lnTo>
                        <a:pt x="873" y="104"/>
                      </a:lnTo>
                      <a:lnTo>
                        <a:pt x="870" y="104"/>
                      </a:lnTo>
                      <a:lnTo>
                        <a:pt x="866" y="104"/>
                      </a:lnTo>
                      <a:lnTo>
                        <a:pt x="863" y="104"/>
                      </a:lnTo>
                      <a:lnTo>
                        <a:pt x="858" y="104"/>
                      </a:lnTo>
                      <a:lnTo>
                        <a:pt x="855" y="104"/>
                      </a:lnTo>
                      <a:lnTo>
                        <a:pt x="852" y="104"/>
                      </a:lnTo>
                      <a:lnTo>
                        <a:pt x="848" y="104"/>
                      </a:lnTo>
                      <a:lnTo>
                        <a:pt x="845" y="104"/>
                      </a:lnTo>
                      <a:lnTo>
                        <a:pt x="840" y="104"/>
                      </a:lnTo>
                      <a:lnTo>
                        <a:pt x="838" y="104"/>
                      </a:lnTo>
                      <a:lnTo>
                        <a:pt x="834" y="104"/>
                      </a:lnTo>
                      <a:lnTo>
                        <a:pt x="831" y="104"/>
                      </a:lnTo>
                      <a:lnTo>
                        <a:pt x="827" y="104"/>
                      </a:lnTo>
                      <a:lnTo>
                        <a:pt x="826" y="100"/>
                      </a:lnTo>
                      <a:lnTo>
                        <a:pt x="826" y="96"/>
                      </a:lnTo>
                      <a:lnTo>
                        <a:pt x="825" y="91"/>
                      </a:lnTo>
                      <a:lnTo>
                        <a:pt x="823" y="89"/>
                      </a:lnTo>
                      <a:lnTo>
                        <a:pt x="822" y="84"/>
                      </a:lnTo>
                      <a:lnTo>
                        <a:pt x="822" y="81"/>
                      </a:lnTo>
                      <a:lnTo>
                        <a:pt x="821" y="76"/>
                      </a:lnTo>
                      <a:lnTo>
                        <a:pt x="821" y="73"/>
                      </a:lnTo>
                      <a:lnTo>
                        <a:pt x="818" y="73"/>
                      </a:lnTo>
                      <a:lnTo>
                        <a:pt x="814" y="76"/>
                      </a:lnTo>
                      <a:lnTo>
                        <a:pt x="810" y="76"/>
                      </a:lnTo>
                      <a:lnTo>
                        <a:pt x="807" y="78"/>
                      </a:lnTo>
                      <a:lnTo>
                        <a:pt x="803" y="78"/>
                      </a:lnTo>
                      <a:lnTo>
                        <a:pt x="800" y="78"/>
                      </a:lnTo>
                      <a:lnTo>
                        <a:pt x="797" y="76"/>
                      </a:lnTo>
                      <a:lnTo>
                        <a:pt x="795" y="76"/>
                      </a:lnTo>
                      <a:lnTo>
                        <a:pt x="793" y="75"/>
                      </a:lnTo>
                      <a:lnTo>
                        <a:pt x="790" y="73"/>
                      </a:lnTo>
                      <a:lnTo>
                        <a:pt x="787" y="71"/>
                      </a:lnTo>
                      <a:lnTo>
                        <a:pt x="784" y="70"/>
                      </a:lnTo>
                      <a:lnTo>
                        <a:pt x="780" y="66"/>
                      </a:lnTo>
                      <a:lnTo>
                        <a:pt x="775" y="62"/>
                      </a:lnTo>
                      <a:lnTo>
                        <a:pt x="772" y="59"/>
                      </a:lnTo>
                      <a:lnTo>
                        <a:pt x="770" y="56"/>
                      </a:lnTo>
                      <a:lnTo>
                        <a:pt x="766" y="53"/>
                      </a:lnTo>
                      <a:lnTo>
                        <a:pt x="765" y="51"/>
                      </a:lnTo>
                      <a:lnTo>
                        <a:pt x="761" y="46"/>
                      </a:lnTo>
                      <a:lnTo>
                        <a:pt x="756" y="41"/>
                      </a:lnTo>
                      <a:lnTo>
                        <a:pt x="753" y="39"/>
                      </a:lnTo>
                      <a:lnTo>
                        <a:pt x="751" y="38"/>
                      </a:lnTo>
                      <a:lnTo>
                        <a:pt x="748" y="35"/>
                      </a:lnTo>
                      <a:lnTo>
                        <a:pt x="745" y="34"/>
                      </a:lnTo>
                      <a:lnTo>
                        <a:pt x="742" y="33"/>
                      </a:lnTo>
                      <a:lnTo>
                        <a:pt x="739" y="33"/>
                      </a:lnTo>
                      <a:lnTo>
                        <a:pt x="737" y="32"/>
                      </a:lnTo>
                      <a:lnTo>
                        <a:pt x="733" y="32"/>
                      </a:lnTo>
                      <a:lnTo>
                        <a:pt x="729" y="37"/>
                      </a:lnTo>
                      <a:lnTo>
                        <a:pt x="726" y="41"/>
                      </a:lnTo>
                      <a:lnTo>
                        <a:pt x="724" y="46"/>
                      </a:lnTo>
                      <a:lnTo>
                        <a:pt x="721" y="52"/>
                      </a:lnTo>
                      <a:lnTo>
                        <a:pt x="720" y="56"/>
                      </a:lnTo>
                      <a:lnTo>
                        <a:pt x="720" y="62"/>
                      </a:lnTo>
                      <a:lnTo>
                        <a:pt x="721" y="66"/>
                      </a:lnTo>
                      <a:lnTo>
                        <a:pt x="723" y="71"/>
                      </a:lnTo>
                      <a:lnTo>
                        <a:pt x="724" y="73"/>
                      </a:lnTo>
                      <a:lnTo>
                        <a:pt x="726" y="79"/>
                      </a:lnTo>
                      <a:lnTo>
                        <a:pt x="729" y="83"/>
                      </a:lnTo>
                      <a:lnTo>
                        <a:pt x="732" y="86"/>
                      </a:lnTo>
                      <a:lnTo>
                        <a:pt x="734" y="91"/>
                      </a:lnTo>
                      <a:lnTo>
                        <a:pt x="739" y="94"/>
                      </a:lnTo>
                      <a:lnTo>
                        <a:pt x="744" y="97"/>
                      </a:lnTo>
                      <a:lnTo>
                        <a:pt x="749" y="102"/>
                      </a:lnTo>
                      <a:lnTo>
                        <a:pt x="744" y="102"/>
                      </a:lnTo>
                      <a:lnTo>
                        <a:pt x="742" y="102"/>
                      </a:lnTo>
                      <a:lnTo>
                        <a:pt x="739" y="102"/>
                      </a:lnTo>
                      <a:lnTo>
                        <a:pt x="737" y="102"/>
                      </a:lnTo>
                      <a:lnTo>
                        <a:pt x="733" y="101"/>
                      </a:lnTo>
                      <a:lnTo>
                        <a:pt x="730" y="101"/>
                      </a:lnTo>
                      <a:lnTo>
                        <a:pt x="726" y="101"/>
                      </a:lnTo>
                      <a:lnTo>
                        <a:pt x="724" y="101"/>
                      </a:lnTo>
                      <a:lnTo>
                        <a:pt x="721" y="101"/>
                      </a:lnTo>
                      <a:lnTo>
                        <a:pt x="719" y="101"/>
                      </a:lnTo>
                      <a:lnTo>
                        <a:pt x="715" y="101"/>
                      </a:lnTo>
                      <a:lnTo>
                        <a:pt x="713" y="101"/>
                      </a:lnTo>
                      <a:lnTo>
                        <a:pt x="710" y="101"/>
                      </a:lnTo>
                      <a:lnTo>
                        <a:pt x="707" y="101"/>
                      </a:lnTo>
                      <a:lnTo>
                        <a:pt x="704" y="101"/>
                      </a:lnTo>
                      <a:lnTo>
                        <a:pt x="701" y="101"/>
                      </a:lnTo>
                      <a:lnTo>
                        <a:pt x="699" y="100"/>
                      </a:lnTo>
                      <a:lnTo>
                        <a:pt x="695" y="100"/>
                      </a:lnTo>
                      <a:lnTo>
                        <a:pt x="693" y="100"/>
                      </a:lnTo>
                      <a:lnTo>
                        <a:pt x="689" y="100"/>
                      </a:lnTo>
                      <a:lnTo>
                        <a:pt x="687" y="100"/>
                      </a:lnTo>
                      <a:lnTo>
                        <a:pt x="683" y="100"/>
                      </a:lnTo>
                      <a:lnTo>
                        <a:pt x="681" y="100"/>
                      </a:lnTo>
                      <a:lnTo>
                        <a:pt x="679" y="100"/>
                      </a:lnTo>
                      <a:lnTo>
                        <a:pt x="676" y="100"/>
                      </a:lnTo>
                      <a:lnTo>
                        <a:pt x="673" y="100"/>
                      </a:lnTo>
                      <a:lnTo>
                        <a:pt x="669" y="100"/>
                      </a:lnTo>
                      <a:lnTo>
                        <a:pt x="667" y="100"/>
                      </a:lnTo>
                      <a:lnTo>
                        <a:pt x="664" y="100"/>
                      </a:lnTo>
                      <a:lnTo>
                        <a:pt x="662" y="100"/>
                      </a:lnTo>
                      <a:lnTo>
                        <a:pt x="659" y="100"/>
                      </a:lnTo>
                      <a:lnTo>
                        <a:pt x="656" y="100"/>
                      </a:lnTo>
                      <a:lnTo>
                        <a:pt x="661" y="96"/>
                      </a:lnTo>
                      <a:lnTo>
                        <a:pt x="666" y="91"/>
                      </a:lnTo>
                      <a:lnTo>
                        <a:pt x="670" y="86"/>
                      </a:lnTo>
                      <a:lnTo>
                        <a:pt x="675" y="82"/>
                      </a:lnTo>
                      <a:lnTo>
                        <a:pt x="676" y="79"/>
                      </a:lnTo>
                      <a:lnTo>
                        <a:pt x="679" y="76"/>
                      </a:lnTo>
                      <a:lnTo>
                        <a:pt x="679" y="72"/>
                      </a:lnTo>
                      <a:lnTo>
                        <a:pt x="681" y="70"/>
                      </a:lnTo>
                      <a:lnTo>
                        <a:pt x="682" y="66"/>
                      </a:lnTo>
                      <a:lnTo>
                        <a:pt x="683" y="63"/>
                      </a:lnTo>
                      <a:lnTo>
                        <a:pt x="685" y="59"/>
                      </a:lnTo>
                      <a:lnTo>
                        <a:pt x="686" y="56"/>
                      </a:lnTo>
                      <a:lnTo>
                        <a:pt x="683" y="53"/>
                      </a:lnTo>
                      <a:lnTo>
                        <a:pt x="680" y="52"/>
                      </a:lnTo>
                      <a:lnTo>
                        <a:pt x="677" y="51"/>
                      </a:lnTo>
                      <a:lnTo>
                        <a:pt x="674" y="51"/>
                      </a:lnTo>
                      <a:lnTo>
                        <a:pt x="670" y="50"/>
                      </a:lnTo>
                      <a:lnTo>
                        <a:pt x="668" y="50"/>
                      </a:lnTo>
                      <a:lnTo>
                        <a:pt x="664" y="50"/>
                      </a:lnTo>
                      <a:lnTo>
                        <a:pt x="662" y="50"/>
                      </a:lnTo>
                      <a:lnTo>
                        <a:pt x="659" y="48"/>
                      </a:lnTo>
                      <a:lnTo>
                        <a:pt x="656" y="48"/>
                      </a:lnTo>
                      <a:lnTo>
                        <a:pt x="651" y="50"/>
                      </a:lnTo>
                      <a:lnTo>
                        <a:pt x="649" y="50"/>
                      </a:lnTo>
                      <a:lnTo>
                        <a:pt x="645" y="50"/>
                      </a:lnTo>
                      <a:lnTo>
                        <a:pt x="643" y="51"/>
                      </a:lnTo>
                      <a:lnTo>
                        <a:pt x="640" y="51"/>
                      </a:lnTo>
                      <a:lnTo>
                        <a:pt x="636" y="52"/>
                      </a:lnTo>
                      <a:lnTo>
                        <a:pt x="632" y="52"/>
                      </a:lnTo>
                      <a:lnTo>
                        <a:pt x="630" y="52"/>
                      </a:lnTo>
                      <a:lnTo>
                        <a:pt x="625" y="52"/>
                      </a:lnTo>
                      <a:lnTo>
                        <a:pt x="623" y="53"/>
                      </a:lnTo>
                      <a:lnTo>
                        <a:pt x="619" y="53"/>
                      </a:lnTo>
                      <a:lnTo>
                        <a:pt x="616" y="53"/>
                      </a:lnTo>
                      <a:lnTo>
                        <a:pt x="612" y="53"/>
                      </a:lnTo>
                      <a:lnTo>
                        <a:pt x="610" y="53"/>
                      </a:lnTo>
                      <a:lnTo>
                        <a:pt x="607" y="52"/>
                      </a:lnTo>
                      <a:lnTo>
                        <a:pt x="604" y="52"/>
                      </a:lnTo>
                      <a:lnTo>
                        <a:pt x="600" y="51"/>
                      </a:lnTo>
                      <a:lnTo>
                        <a:pt x="598" y="51"/>
                      </a:lnTo>
                      <a:lnTo>
                        <a:pt x="594" y="48"/>
                      </a:lnTo>
                      <a:lnTo>
                        <a:pt x="592" y="47"/>
                      </a:lnTo>
                      <a:lnTo>
                        <a:pt x="589" y="46"/>
                      </a:lnTo>
                      <a:lnTo>
                        <a:pt x="586" y="44"/>
                      </a:lnTo>
                      <a:lnTo>
                        <a:pt x="585" y="46"/>
                      </a:lnTo>
                      <a:lnTo>
                        <a:pt x="585" y="48"/>
                      </a:lnTo>
                      <a:lnTo>
                        <a:pt x="584" y="51"/>
                      </a:lnTo>
                      <a:lnTo>
                        <a:pt x="583" y="53"/>
                      </a:lnTo>
                      <a:lnTo>
                        <a:pt x="583" y="56"/>
                      </a:lnTo>
                      <a:lnTo>
                        <a:pt x="581" y="60"/>
                      </a:lnTo>
                      <a:lnTo>
                        <a:pt x="580" y="64"/>
                      </a:lnTo>
                      <a:lnTo>
                        <a:pt x="580" y="69"/>
                      </a:lnTo>
                      <a:lnTo>
                        <a:pt x="579" y="72"/>
                      </a:lnTo>
                      <a:lnTo>
                        <a:pt x="579" y="76"/>
                      </a:lnTo>
                      <a:lnTo>
                        <a:pt x="578" y="81"/>
                      </a:lnTo>
                      <a:lnTo>
                        <a:pt x="577" y="85"/>
                      </a:lnTo>
                      <a:lnTo>
                        <a:pt x="577" y="89"/>
                      </a:lnTo>
                      <a:lnTo>
                        <a:pt x="577" y="92"/>
                      </a:lnTo>
                      <a:lnTo>
                        <a:pt x="575" y="97"/>
                      </a:lnTo>
                      <a:lnTo>
                        <a:pt x="575" y="101"/>
                      </a:lnTo>
                      <a:lnTo>
                        <a:pt x="572" y="101"/>
                      </a:lnTo>
                      <a:lnTo>
                        <a:pt x="570" y="101"/>
                      </a:lnTo>
                      <a:lnTo>
                        <a:pt x="567" y="101"/>
                      </a:lnTo>
                      <a:lnTo>
                        <a:pt x="564" y="101"/>
                      </a:lnTo>
                      <a:lnTo>
                        <a:pt x="560" y="101"/>
                      </a:lnTo>
                      <a:lnTo>
                        <a:pt x="556" y="101"/>
                      </a:lnTo>
                      <a:lnTo>
                        <a:pt x="554" y="101"/>
                      </a:lnTo>
                      <a:lnTo>
                        <a:pt x="552" y="101"/>
                      </a:lnTo>
                      <a:lnTo>
                        <a:pt x="549" y="101"/>
                      </a:lnTo>
                      <a:lnTo>
                        <a:pt x="546" y="101"/>
                      </a:lnTo>
                      <a:lnTo>
                        <a:pt x="542" y="101"/>
                      </a:lnTo>
                      <a:lnTo>
                        <a:pt x="540" y="101"/>
                      </a:lnTo>
                      <a:lnTo>
                        <a:pt x="536" y="101"/>
                      </a:lnTo>
                      <a:lnTo>
                        <a:pt x="534" y="101"/>
                      </a:lnTo>
                      <a:lnTo>
                        <a:pt x="532" y="101"/>
                      </a:lnTo>
                      <a:lnTo>
                        <a:pt x="529" y="101"/>
                      </a:lnTo>
                      <a:lnTo>
                        <a:pt x="526" y="101"/>
                      </a:lnTo>
                      <a:lnTo>
                        <a:pt x="523" y="101"/>
                      </a:lnTo>
                      <a:lnTo>
                        <a:pt x="520" y="101"/>
                      </a:lnTo>
                      <a:lnTo>
                        <a:pt x="516" y="101"/>
                      </a:lnTo>
                      <a:lnTo>
                        <a:pt x="514" y="101"/>
                      </a:lnTo>
                      <a:lnTo>
                        <a:pt x="511" y="101"/>
                      </a:lnTo>
                      <a:lnTo>
                        <a:pt x="509" y="101"/>
                      </a:lnTo>
                      <a:lnTo>
                        <a:pt x="507" y="101"/>
                      </a:lnTo>
                      <a:lnTo>
                        <a:pt x="503" y="101"/>
                      </a:lnTo>
                      <a:lnTo>
                        <a:pt x="501" y="101"/>
                      </a:lnTo>
                      <a:lnTo>
                        <a:pt x="497" y="101"/>
                      </a:lnTo>
                      <a:lnTo>
                        <a:pt x="495" y="101"/>
                      </a:lnTo>
                      <a:lnTo>
                        <a:pt x="492" y="101"/>
                      </a:lnTo>
                      <a:lnTo>
                        <a:pt x="490" y="101"/>
                      </a:lnTo>
                      <a:lnTo>
                        <a:pt x="486" y="101"/>
                      </a:lnTo>
                      <a:lnTo>
                        <a:pt x="484" y="102"/>
                      </a:lnTo>
                      <a:lnTo>
                        <a:pt x="482" y="102"/>
                      </a:lnTo>
                      <a:lnTo>
                        <a:pt x="478" y="102"/>
                      </a:lnTo>
                      <a:lnTo>
                        <a:pt x="476" y="102"/>
                      </a:lnTo>
                      <a:lnTo>
                        <a:pt x="473" y="102"/>
                      </a:lnTo>
                      <a:lnTo>
                        <a:pt x="471" y="102"/>
                      </a:lnTo>
                      <a:lnTo>
                        <a:pt x="469" y="102"/>
                      </a:lnTo>
                      <a:lnTo>
                        <a:pt x="466" y="102"/>
                      </a:lnTo>
                      <a:lnTo>
                        <a:pt x="463" y="102"/>
                      </a:lnTo>
                      <a:lnTo>
                        <a:pt x="460" y="102"/>
                      </a:lnTo>
                      <a:lnTo>
                        <a:pt x="457" y="102"/>
                      </a:lnTo>
                      <a:lnTo>
                        <a:pt x="456" y="102"/>
                      </a:lnTo>
                      <a:lnTo>
                        <a:pt x="453" y="102"/>
                      </a:lnTo>
                      <a:lnTo>
                        <a:pt x="447" y="102"/>
                      </a:lnTo>
                      <a:lnTo>
                        <a:pt x="443" y="102"/>
                      </a:lnTo>
                      <a:lnTo>
                        <a:pt x="440" y="102"/>
                      </a:lnTo>
                      <a:lnTo>
                        <a:pt x="437" y="102"/>
                      </a:lnTo>
                      <a:lnTo>
                        <a:pt x="434" y="102"/>
                      </a:lnTo>
                      <a:lnTo>
                        <a:pt x="432" y="102"/>
                      </a:lnTo>
                      <a:lnTo>
                        <a:pt x="427" y="102"/>
                      </a:lnTo>
                      <a:lnTo>
                        <a:pt x="422" y="102"/>
                      </a:lnTo>
                      <a:lnTo>
                        <a:pt x="416" y="102"/>
                      </a:lnTo>
                      <a:lnTo>
                        <a:pt x="413" y="103"/>
                      </a:lnTo>
                      <a:lnTo>
                        <a:pt x="407" y="103"/>
                      </a:lnTo>
                      <a:lnTo>
                        <a:pt x="402" y="104"/>
                      </a:lnTo>
                      <a:lnTo>
                        <a:pt x="405" y="100"/>
                      </a:lnTo>
                      <a:lnTo>
                        <a:pt x="405" y="97"/>
                      </a:lnTo>
                      <a:lnTo>
                        <a:pt x="407" y="94"/>
                      </a:lnTo>
                      <a:lnTo>
                        <a:pt x="408" y="91"/>
                      </a:lnTo>
                      <a:lnTo>
                        <a:pt x="408" y="86"/>
                      </a:lnTo>
                      <a:lnTo>
                        <a:pt x="409" y="84"/>
                      </a:lnTo>
                      <a:lnTo>
                        <a:pt x="408" y="82"/>
                      </a:lnTo>
                      <a:lnTo>
                        <a:pt x="408" y="78"/>
                      </a:lnTo>
                      <a:lnTo>
                        <a:pt x="407" y="76"/>
                      </a:lnTo>
                      <a:lnTo>
                        <a:pt x="405" y="73"/>
                      </a:lnTo>
                      <a:lnTo>
                        <a:pt x="403" y="71"/>
                      </a:lnTo>
                      <a:lnTo>
                        <a:pt x="402" y="69"/>
                      </a:lnTo>
                      <a:lnTo>
                        <a:pt x="399" y="67"/>
                      </a:lnTo>
                      <a:lnTo>
                        <a:pt x="395" y="66"/>
                      </a:lnTo>
                      <a:lnTo>
                        <a:pt x="392" y="66"/>
                      </a:lnTo>
                      <a:lnTo>
                        <a:pt x="387" y="67"/>
                      </a:lnTo>
                      <a:lnTo>
                        <a:pt x="383" y="71"/>
                      </a:lnTo>
                      <a:lnTo>
                        <a:pt x="381" y="73"/>
                      </a:lnTo>
                      <a:lnTo>
                        <a:pt x="378" y="76"/>
                      </a:lnTo>
                      <a:lnTo>
                        <a:pt x="375" y="79"/>
                      </a:lnTo>
                      <a:lnTo>
                        <a:pt x="375" y="83"/>
                      </a:lnTo>
                      <a:lnTo>
                        <a:pt x="375" y="86"/>
                      </a:lnTo>
                      <a:lnTo>
                        <a:pt x="375" y="89"/>
                      </a:lnTo>
                      <a:lnTo>
                        <a:pt x="375" y="94"/>
                      </a:lnTo>
                      <a:lnTo>
                        <a:pt x="375" y="96"/>
                      </a:lnTo>
                      <a:lnTo>
                        <a:pt x="375" y="100"/>
                      </a:lnTo>
                      <a:lnTo>
                        <a:pt x="375" y="102"/>
                      </a:lnTo>
                      <a:lnTo>
                        <a:pt x="376" y="104"/>
                      </a:lnTo>
                      <a:lnTo>
                        <a:pt x="373" y="104"/>
                      </a:lnTo>
                      <a:lnTo>
                        <a:pt x="369" y="104"/>
                      </a:lnTo>
                      <a:lnTo>
                        <a:pt x="365" y="104"/>
                      </a:lnTo>
                      <a:lnTo>
                        <a:pt x="363" y="104"/>
                      </a:lnTo>
                      <a:lnTo>
                        <a:pt x="360" y="104"/>
                      </a:lnTo>
                      <a:lnTo>
                        <a:pt x="357" y="104"/>
                      </a:lnTo>
                      <a:lnTo>
                        <a:pt x="355" y="104"/>
                      </a:lnTo>
                      <a:lnTo>
                        <a:pt x="351" y="104"/>
                      </a:lnTo>
                      <a:lnTo>
                        <a:pt x="348" y="104"/>
                      </a:lnTo>
                      <a:lnTo>
                        <a:pt x="344" y="104"/>
                      </a:lnTo>
                      <a:lnTo>
                        <a:pt x="342" y="104"/>
                      </a:lnTo>
                      <a:lnTo>
                        <a:pt x="339" y="104"/>
                      </a:lnTo>
                      <a:lnTo>
                        <a:pt x="337" y="104"/>
                      </a:lnTo>
                      <a:lnTo>
                        <a:pt x="333" y="104"/>
                      </a:lnTo>
                      <a:lnTo>
                        <a:pt x="330" y="104"/>
                      </a:lnTo>
                      <a:lnTo>
                        <a:pt x="327" y="104"/>
                      </a:lnTo>
                      <a:lnTo>
                        <a:pt x="324" y="104"/>
                      </a:lnTo>
                      <a:lnTo>
                        <a:pt x="322" y="104"/>
                      </a:lnTo>
                      <a:lnTo>
                        <a:pt x="319" y="104"/>
                      </a:lnTo>
                      <a:lnTo>
                        <a:pt x="317" y="104"/>
                      </a:lnTo>
                      <a:lnTo>
                        <a:pt x="313" y="104"/>
                      </a:lnTo>
                      <a:lnTo>
                        <a:pt x="311" y="104"/>
                      </a:lnTo>
                      <a:lnTo>
                        <a:pt x="307" y="104"/>
                      </a:lnTo>
                      <a:lnTo>
                        <a:pt x="305" y="104"/>
                      </a:lnTo>
                      <a:lnTo>
                        <a:pt x="303" y="104"/>
                      </a:lnTo>
                      <a:lnTo>
                        <a:pt x="299" y="104"/>
                      </a:lnTo>
                      <a:lnTo>
                        <a:pt x="297" y="104"/>
                      </a:lnTo>
                      <a:lnTo>
                        <a:pt x="294" y="104"/>
                      </a:lnTo>
                      <a:lnTo>
                        <a:pt x="288" y="104"/>
                      </a:lnTo>
                      <a:lnTo>
                        <a:pt x="284" y="105"/>
                      </a:lnTo>
                      <a:lnTo>
                        <a:pt x="281" y="105"/>
                      </a:lnTo>
                      <a:lnTo>
                        <a:pt x="279" y="105"/>
                      </a:lnTo>
                      <a:lnTo>
                        <a:pt x="276" y="105"/>
                      </a:lnTo>
                      <a:lnTo>
                        <a:pt x="273" y="105"/>
                      </a:lnTo>
                      <a:lnTo>
                        <a:pt x="268" y="105"/>
                      </a:lnTo>
                      <a:lnTo>
                        <a:pt x="263" y="105"/>
                      </a:lnTo>
                      <a:lnTo>
                        <a:pt x="259" y="105"/>
                      </a:lnTo>
                      <a:lnTo>
                        <a:pt x="253" y="105"/>
                      </a:lnTo>
                      <a:lnTo>
                        <a:pt x="249" y="105"/>
                      </a:lnTo>
                      <a:lnTo>
                        <a:pt x="246" y="105"/>
                      </a:lnTo>
                      <a:lnTo>
                        <a:pt x="241" y="105"/>
                      </a:lnTo>
                      <a:lnTo>
                        <a:pt x="235" y="105"/>
                      </a:lnTo>
                      <a:lnTo>
                        <a:pt x="230" y="105"/>
                      </a:lnTo>
                      <a:lnTo>
                        <a:pt x="227" y="105"/>
                      </a:lnTo>
                      <a:lnTo>
                        <a:pt x="223" y="105"/>
                      </a:lnTo>
                      <a:lnTo>
                        <a:pt x="218" y="105"/>
                      </a:lnTo>
                      <a:lnTo>
                        <a:pt x="215" y="105"/>
                      </a:lnTo>
                      <a:lnTo>
                        <a:pt x="210" y="105"/>
                      </a:lnTo>
                      <a:lnTo>
                        <a:pt x="204" y="104"/>
                      </a:lnTo>
                      <a:lnTo>
                        <a:pt x="198" y="104"/>
                      </a:lnTo>
                      <a:lnTo>
                        <a:pt x="192" y="104"/>
                      </a:lnTo>
                      <a:lnTo>
                        <a:pt x="187" y="104"/>
                      </a:lnTo>
                      <a:lnTo>
                        <a:pt x="182" y="104"/>
                      </a:lnTo>
                      <a:lnTo>
                        <a:pt x="176" y="104"/>
                      </a:lnTo>
                      <a:lnTo>
                        <a:pt x="170" y="104"/>
                      </a:lnTo>
                      <a:lnTo>
                        <a:pt x="165" y="104"/>
                      </a:lnTo>
                      <a:lnTo>
                        <a:pt x="159" y="103"/>
                      </a:lnTo>
                      <a:lnTo>
                        <a:pt x="153" y="102"/>
                      </a:lnTo>
                      <a:lnTo>
                        <a:pt x="148" y="102"/>
                      </a:lnTo>
                      <a:lnTo>
                        <a:pt x="144" y="102"/>
                      </a:lnTo>
                      <a:lnTo>
                        <a:pt x="138" y="102"/>
                      </a:lnTo>
                      <a:lnTo>
                        <a:pt x="134" y="102"/>
                      </a:lnTo>
                      <a:lnTo>
                        <a:pt x="128" y="102"/>
                      </a:lnTo>
                      <a:lnTo>
                        <a:pt x="125" y="102"/>
                      </a:lnTo>
                      <a:lnTo>
                        <a:pt x="119" y="102"/>
                      </a:lnTo>
                      <a:lnTo>
                        <a:pt x="114" y="101"/>
                      </a:lnTo>
                      <a:lnTo>
                        <a:pt x="109" y="100"/>
                      </a:lnTo>
                      <a:lnTo>
                        <a:pt x="104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1" y="100"/>
                      </a:lnTo>
                      <a:lnTo>
                        <a:pt x="88" y="100"/>
                      </a:lnTo>
                      <a:lnTo>
                        <a:pt x="83" y="100"/>
                      </a:lnTo>
                      <a:lnTo>
                        <a:pt x="78" y="98"/>
                      </a:lnTo>
                      <a:lnTo>
                        <a:pt x="75" y="97"/>
                      </a:lnTo>
                      <a:lnTo>
                        <a:pt x="71" y="97"/>
                      </a:lnTo>
                      <a:lnTo>
                        <a:pt x="68" y="97"/>
                      </a:lnTo>
                      <a:lnTo>
                        <a:pt x="64" y="97"/>
                      </a:lnTo>
                      <a:lnTo>
                        <a:pt x="61" y="97"/>
                      </a:lnTo>
                      <a:lnTo>
                        <a:pt x="57" y="97"/>
                      </a:lnTo>
                      <a:lnTo>
                        <a:pt x="53" y="97"/>
                      </a:lnTo>
                      <a:lnTo>
                        <a:pt x="50" y="96"/>
                      </a:lnTo>
                      <a:lnTo>
                        <a:pt x="46" y="96"/>
                      </a:lnTo>
                      <a:lnTo>
                        <a:pt x="44" y="96"/>
                      </a:lnTo>
                      <a:lnTo>
                        <a:pt x="40" y="95"/>
                      </a:lnTo>
                      <a:lnTo>
                        <a:pt x="38" y="94"/>
                      </a:lnTo>
                      <a:lnTo>
                        <a:pt x="34" y="94"/>
                      </a:lnTo>
                      <a:lnTo>
                        <a:pt x="33" y="94"/>
                      </a:lnTo>
                      <a:lnTo>
                        <a:pt x="30" y="94"/>
                      </a:lnTo>
                      <a:lnTo>
                        <a:pt x="26" y="94"/>
                      </a:lnTo>
                      <a:lnTo>
                        <a:pt x="24" y="94"/>
                      </a:lnTo>
                      <a:lnTo>
                        <a:pt x="23" y="94"/>
                      </a:lnTo>
                      <a:lnTo>
                        <a:pt x="18" y="91"/>
                      </a:lnTo>
                      <a:lnTo>
                        <a:pt x="14" y="91"/>
                      </a:lnTo>
                      <a:lnTo>
                        <a:pt x="11" y="91"/>
                      </a:lnTo>
                      <a:lnTo>
                        <a:pt x="7" y="91"/>
                      </a:lnTo>
                      <a:lnTo>
                        <a:pt x="5" y="91"/>
                      </a:lnTo>
                      <a:lnTo>
                        <a:pt x="2" y="91"/>
                      </a:lnTo>
                      <a:lnTo>
                        <a:pt x="0" y="91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Freeform 65"/>
                <p:cNvSpPr/>
                <p:nvPr/>
              </p:nvSpPr>
              <p:spPr>
                <a:xfrm>
                  <a:off x="7377120" y="2133720"/>
                  <a:ext cx="18720" cy="493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6" h="91">
                      <a:moveTo>
                        <a:pt x="36" y="91"/>
                      </a:moveTo>
                      <a:lnTo>
                        <a:pt x="33" y="91"/>
                      </a:lnTo>
                      <a:lnTo>
                        <a:pt x="29" y="91"/>
                      </a:lnTo>
                      <a:lnTo>
                        <a:pt x="27" y="89"/>
                      </a:lnTo>
                      <a:lnTo>
                        <a:pt x="23" y="89"/>
                      </a:lnTo>
                      <a:lnTo>
                        <a:pt x="17" y="88"/>
                      </a:lnTo>
                      <a:lnTo>
                        <a:pt x="15" y="87"/>
                      </a:lnTo>
                      <a:lnTo>
                        <a:pt x="10" y="85"/>
                      </a:lnTo>
                      <a:lnTo>
                        <a:pt x="8" y="83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7"/>
                      </a:lnTo>
                      <a:lnTo>
                        <a:pt x="0" y="64"/>
                      </a:lnTo>
                      <a:lnTo>
                        <a:pt x="1" y="61"/>
                      </a:lnTo>
                      <a:lnTo>
                        <a:pt x="3" y="58"/>
                      </a:lnTo>
                      <a:lnTo>
                        <a:pt x="3" y="55"/>
                      </a:lnTo>
                      <a:lnTo>
                        <a:pt x="6" y="51"/>
                      </a:lnTo>
                      <a:lnTo>
                        <a:pt x="7" y="48"/>
                      </a:lnTo>
                      <a:lnTo>
                        <a:pt x="9" y="45"/>
                      </a:lnTo>
                      <a:lnTo>
                        <a:pt x="11" y="41"/>
                      </a:lnTo>
                      <a:lnTo>
                        <a:pt x="13" y="37"/>
                      </a:lnTo>
                      <a:lnTo>
                        <a:pt x="15" y="34"/>
                      </a:lnTo>
                      <a:lnTo>
                        <a:pt x="19" y="30"/>
                      </a:lnTo>
                      <a:lnTo>
                        <a:pt x="20" y="26"/>
                      </a:lnTo>
                      <a:lnTo>
                        <a:pt x="23" y="23"/>
                      </a:lnTo>
                      <a:lnTo>
                        <a:pt x="26" y="19"/>
                      </a:lnTo>
                      <a:lnTo>
                        <a:pt x="28" y="15"/>
                      </a:lnTo>
                      <a:lnTo>
                        <a:pt x="30" y="12"/>
                      </a:lnTo>
                      <a:lnTo>
                        <a:pt x="32" y="7"/>
                      </a:lnTo>
                      <a:lnTo>
                        <a:pt x="33" y="4"/>
                      </a:lnTo>
                      <a:lnTo>
                        <a:pt x="35" y="0"/>
                      </a:lnTo>
                      <a:lnTo>
                        <a:pt x="35" y="4"/>
                      </a:lnTo>
                      <a:lnTo>
                        <a:pt x="35" y="6"/>
                      </a:lnTo>
                      <a:lnTo>
                        <a:pt x="35" y="10"/>
                      </a:lnTo>
                      <a:lnTo>
                        <a:pt x="35" y="12"/>
                      </a:lnTo>
                      <a:lnTo>
                        <a:pt x="35" y="15"/>
                      </a:lnTo>
                      <a:lnTo>
                        <a:pt x="35" y="17"/>
                      </a:lnTo>
                      <a:lnTo>
                        <a:pt x="35" y="20"/>
                      </a:lnTo>
                      <a:lnTo>
                        <a:pt x="35" y="23"/>
                      </a:lnTo>
                      <a:lnTo>
                        <a:pt x="35" y="26"/>
                      </a:lnTo>
                      <a:lnTo>
                        <a:pt x="35" y="30"/>
                      </a:lnTo>
                      <a:lnTo>
                        <a:pt x="35" y="32"/>
                      </a:lnTo>
                      <a:lnTo>
                        <a:pt x="35" y="35"/>
                      </a:lnTo>
                      <a:lnTo>
                        <a:pt x="35" y="37"/>
                      </a:lnTo>
                      <a:lnTo>
                        <a:pt x="35" y="41"/>
                      </a:lnTo>
                      <a:lnTo>
                        <a:pt x="35" y="43"/>
                      </a:lnTo>
                      <a:lnTo>
                        <a:pt x="35" y="47"/>
                      </a:lnTo>
                      <a:lnTo>
                        <a:pt x="35" y="49"/>
                      </a:lnTo>
                      <a:lnTo>
                        <a:pt x="35" y="53"/>
                      </a:lnTo>
                      <a:lnTo>
                        <a:pt x="35" y="55"/>
                      </a:lnTo>
                      <a:lnTo>
                        <a:pt x="35" y="57"/>
                      </a:lnTo>
                      <a:lnTo>
                        <a:pt x="35" y="61"/>
                      </a:lnTo>
                      <a:lnTo>
                        <a:pt x="35" y="63"/>
                      </a:lnTo>
                      <a:lnTo>
                        <a:pt x="35" y="67"/>
                      </a:lnTo>
                      <a:lnTo>
                        <a:pt x="35" y="69"/>
                      </a:lnTo>
                      <a:lnTo>
                        <a:pt x="35" y="72"/>
                      </a:lnTo>
                      <a:lnTo>
                        <a:pt x="35" y="75"/>
                      </a:lnTo>
                      <a:lnTo>
                        <a:pt x="35" y="77"/>
                      </a:lnTo>
                      <a:lnTo>
                        <a:pt x="35" y="80"/>
                      </a:lnTo>
                      <a:lnTo>
                        <a:pt x="35" y="82"/>
                      </a:lnTo>
                      <a:lnTo>
                        <a:pt x="35" y="86"/>
                      </a:lnTo>
                      <a:lnTo>
                        <a:pt x="35" y="88"/>
                      </a:lnTo>
                      <a:lnTo>
                        <a:pt x="36" y="91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Freeform 66"/>
                <p:cNvSpPr/>
                <p:nvPr/>
              </p:nvSpPr>
              <p:spPr>
                <a:xfrm>
                  <a:off x="7348320" y="2005200"/>
                  <a:ext cx="353880" cy="28116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281160"/>
                    <a:gd name="textAreaBottom" fmla="*/ 281520 h 281160"/>
                  </a:gdLst>
                  <a:ahLst/>
                  <a:rect l="textAreaLeft" t="textAreaTop" r="textAreaRight" b="textAreaBottom"/>
                  <a:pathLst>
                    <a:path w="667" h="531">
                      <a:moveTo>
                        <a:pt x="22" y="4"/>
                      </a:moveTo>
                      <a:lnTo>
                        <a:pt x="105" y="26"/>
                      </a:lnTo>
                      <a:lnTo>
                        <a:pt x="105" y="27"/>
                      </a:lnTo>
                      <a:lnTo>
                        <a:pt x="105" y="29"/>
                      </a:lnTo>
                      <a:lnTo>
                        <a:pt x="104" y="30"/>
                      </a:lnTo>
                      <a:lnTo>
                        <a:pt x="104" y="33"/>
                      </a:lnTo>
                      <a:lnTo>
                        <a:pt x="104" y="35"/>
                      </a:lnTo>
                      <a:lnTo>
                        <a:pt x="104" y="38"/>
                      </a:lnTo>
                      <a:lnTo>
                        <a:pt x="104" y="41"/>
                      </a:lnTo>
                      <a:lnTo>
                        <a:pt x="104" y="45"/>
                      </a:lnTo>
                      <a:lnTo>
                        <a:pt x="102" y="48"/>
                      </a:lnTo>
                      <a:lnTo>
                        <a:pt x="101" y="53"/>
                      </a:lnTo>
                      <a:lnTo>
                        <a:pt x="101" y="54"/>
                      </a:lnTo>
                      <a:lnTo>
                        <a:pt x="101" y="57"/>
                      </a:lnTo>
                      <a:lnTo>
                        <a:pt x="101" y="59"/>
                      </a:lnTo>
                      <a:lnTo>
                        <a:pt x="101" y="62"/>
                      </a:lnTo>
                      <a:lnTo>
                        <a:pt x="101" y="65"/>
                      </a:lnTo>
                      <a:lnTo>
                        <a:pt x="101" y="67"/>
                      </a:lnTo>
                      <a:lnTo>
                        <a:pt x="101" y="71"/>
                      </a:lnTo>
                      <a:lnTo>
                        <a:pt x="101" y="73"/>
                      </a:lnTo>
                      <a:lnTo>
                        <a:pt x="100" y="76"/>
                      </a:lnTo>
                      <a:lnTo>
                        <a:pt x="99" y="79"/>
                      </a:lnTo>
                      <a:lnTo>
                        <a:pt x="99" y="81"/>
                      </a:lnTo>
                      <a:lnTo>
                        <a:pt x="99" y="85"/>
                      </a:lnTo>
                      <a:lnTo>
                        <a:pt x="99" y="87"/>
                      </a:lnTo>
                      <a:lnTo>
                        <a:pt x="99" y="90"/>
                      </a:lnTo>
                      <a:lnTo>
                        <a:pt x="99" y="95"/>
                      </a:lnTo>
                      <a:lnTo>
                        <a:pt x="99" y="97"/>
                      </a:lnTo>
                      <a:lnTo>
                        <a:pt x="98" y="100"/>
                      </a:lnTo>
                      <a:lnTo>
                        <a:pt x="97" y="105"/>
                      </a:lnTo>
                      <a:lnTo>
                        <a:pt x="97" y="108"/>
                      </a:lnTo>
                      <a:lnTo>
                        <a:pt x="97" y="112"/>
                      </a:lnTo>
                      <a:lnTo>
                        <a:pt x="97" y="115"/>
                      </a:lnTo>
                      <a:lnTo>
                        <a:pt x="97" y="119"/>
                      </a:lnTo>
                      <a:lnTo>
                        <a:pt x="97" y="123"/>
                      </a:lnTo>
                      <a:lnTo>
                        <a:pt x="97" y="128"/>
                      </a:lnTo>
                      <a:lnTo>
                        <a:pt x="95" y="131"/>
                      </a:lnTo>
                      <a:lnTo>
                        <a:pt x="94" y="135"/>
                      </a:lnTo>
                      <a:lnTo>
                        <a:pt x="94" y="138"/>
                      </a:lnTo>
                      <a:lnTo>
                        <a:pt x="94" y="143"/>
                      </a:lnTo>
                      <a:lnTo>
                        <a:pt x="94" y="148"/>
                      </a:lnTo>
                      <a:lnTo>
                        <a:pt x="94" y="152"/>
                      </a:lnTo>
                      <a:lnTo>
                        <a:pt x="93" y="156"/>
                      </a:lnTo>
                      <a:lnTo>
                        <a:pt x="93" y="161"/>
                      </a:lnTo>
                      <a:lnTo>
                        <a:pt x="92" y="165"/>
                      </a:lnTo>
                      <a:lnTo>
                        <a:pt x="92" y="169"/>
                      </a:lnTo>
                      <a:lnTo>
                        <a:pt x="91" y="173"/>
                      </a:lnTo>
                      <a:lnTo>
                        <a:pt x="91" y="179"/>
                      </a:lnTo>
                      <a:lnTo>
                        <a:pt x="91" y="182"/>
                      </a:lnTo>
                      <a:lnTo>
                        <a:pt x="91" y="187"/>
                      </a:lnTo>
                      <a:lnTo>
                        <a:pt x="91" y="192"/>
                      </a:lnTo>
                      <a:lnTo>
                        <a:pt x="91" y="198"/>
                      </a:lnTo>
                      <a:lnTo>
                        <a:pt x="89" y="201"/>
                      </a:lnTo>
                      <a:lnTo>
                        <a:pt x="89" y="207"/>
                      </a:lnTo>
                      <a:lnTo>
                        <a:pt x="89" y="211"/>
                      </a:lnTo>
                      <a:lnTo>
                        <a:pt x="89" y="217"/>
                      </a:lnTo>
                      <a:lnTo>
                        <a:pt x="88" y="214"/>
                      </a:lnTo>
                      <a:lnTo>
                        <a:pt x="86" y="211"/>
                      </a:lnTo>
                      <a:lnTo>
                        <a:pt x="83" y="207"/>
                      </a:lnTo>
                      <a:lnTo>
                        <a:pt x="80" y="205"/>
                      </a:lnTo>
                      <a:lnTo>
                        <a:pt x="76" y="201"/>
                      </a:lnTo>
                      <a:lnTo>
                        <a:pt x="70" y="199"/>
                      </a:lnTo>
                      <a:lnTo>
                        <a:pt x="68" y="198"/>
                      </a:lnTo>
                      <a:lnTo>
                        <a:pt x="66" y="197"/>
                      </a:lnTo>
                      <a:lnTo>
                        <a:pt x="63" y="197"/>
                      </a:lnTo>
                      <a:lnTo>
                        <a:pt x="61" y="195"/>
                      </a:lnTo>
                      <a:lnTo>
                        <a:pt x="60" y="197"/>
                      </a:lnTo>
                      <a:lnTo>
                        <a:pt x="59" y="199"/>
                      </a:lnTo>
                      <a:lnTo>
                        <a:pt x="59" y="201"/>
                      </a:lnTo>
                      <a:lnTo>
                        <a:pt x="57" y="206"/>
                      </a:lnTo>
                      <a:lnTo>
                        <a:pt x="56" y="208"/>
                      </a:lnTo>
                      <a:lnTo>
                        <a:pt x="55" y="213"/>
                      </a:lnTo>
                      <a:lnTo>
                        <a:pt x="54" y="218"/>
                      </a:lnTo>
                      <a:lnTo>
                        <a:pt x="54" y="222"/>
                      </a:lnTo>
                      <a:lnTo>
                        <a:pt x="53" y="226"/>
                      </a:lnTo>
                      <a:lnTo>
                        <a:pt x="53" y="231"/>
                      </a:lnTo>
                      <a:lnTo>
                        <a:pt x="53" y="235"/>
                      </a:lnTo>
                      <a:lnTo>
                        <a:pt x="53" y="239"/>
                      </a:lnTo>
                      <a:lnTo>
                        <a:pt x="53" y="243"/>
                      </a:lnTo>
                      <a:lnTo>
                        <a:pt x="53" y="246"/>
                      </a:lnTo>
                      <a:lnTo>
                        <a:pt x="54" y="250"/>
                      </a:lnTo>
                      <a:lnTo>
                        <a:pt x="56" y="254"/>
                      </a:lnTo>
                      <a:lnTo>
                        <a:pt x="51" y="255"/>
                      </a:lnTo>
                      <a:lnTo>
                        <a:pt x="48" y="257"/>
                      </a:lnTo>
                      <a:lnTo>
                        <a:pt x="44" y="257"/>
                      </a:lnTo>
                      <a:lnTo>
                        <a:pt x="41" y="260"/>
                      </a:lnTo>
                      <a:lnTo>
                        <a:pt x="38" y="262"/>
                      </a:lnTo>
                      <a:lnTo>
                        <a:pt x="35" y="263"/>
                      </a:lnTo>
                      <a:lnTo>
                        <a:pt x="32" y="264"/>
                      </a:lnTo>
                      <a:lnTo>
                        <a:pt x="30" y="267"/>
                      </a:lnTo>
                      <a:lnTo>
                        <a:pt x="25" y="271"/>
                      </a:lnTo>
                      <a:lnTo>
                        <a:pt x="22" y="275"/>
                      </a:lnTo>
                      <a:lnTo>
                        <a:pt x="19" y="280"/>
                      </a:lnTo>
                      <a:lnTo>
                        <a:pt x="17" y="284"/>
                      </a:lnTo>
                      <a:lnTo>
                        <a:pt x="15" y="289"/>
                      </a:lnTo>
                      <a:lnTo>
                        <a:pt x="13" y="294"/>
                      </a:lnTo>
                      <a:lnTo>
                        <a:pt x="12" y="299"/>
                      </a:lnTo>
                      <a:lnTo>
                        <a:pt x="12" y="303"/>
                      </a:lnTo>
                      <a:lnTo>
                        <a:pt x="12" y="306"/>
                      </a:lnTo>
                      <a:lnTo>
                        <a:pt x="12" y="308"/>
                      </a:lnTo>
                      <a:lnTo>
                        <a:pt x="12" y="312"/>
                      </a:lnTo>
                      <a:lnTo>
                        <a:pt x="13" y="314"/>
                      </a:lnTo>
                      <a:lnTo>
                        <a:pt x="13" y="317"/>
                      </a:lnTo>
                      <a:lnTo>
                        <a:pt x="15" y="319"/>
                      </a:lnTo>
                      <a:lnTo>
                        <a:pt x="15" y="322"/>
                      </a:lnTo>
                      <a:lnTo>
                        <a:pt x="17" y="325"/>
                      </a:lnTo>
                      <a:lnTo>
                        <a:pt x="18" y="330"/>
                      </a:lnTo>
                      <a:lnTo>
                        <a:pt x="21" y="336"/>
                      </a:lnTo>
                      <a:lnTo>
                        <a:pt x="21" y="338"/>
                      </a:lnTo>
                      <a:lnTo>
                        <a:pt x="23" y="340"/>
                      </a:lnTo>
                      <a:lnTo>
                        <a:pt x="24" y="343"/>
                      </a:lnTo>
                      <a:lnTo>
                        <a:pt x="25" y="345"/>
                      </a:lnTo>
                      <a:lnTo>
                        <a:pt x="28" y="351"/>
                      </a:lnTo>
                      <a:lnTo>
                        <a:pt x="31" y="356"/>
                      </a:lnTo>
                      <a:lnTo>
                        <a:pt x="32" y="358"/>
                      </a:lnTo>
                      <a:lnTo>
                        <a:pt x="35" y="360"/>
                      </a:lnTo>
                      <a:lnTo>
                        <a:pt x="36" y="364"/>
                      </a:lnTo>
                      <a:lnTo>
                        <a:pt x="38" y="368"/>
                      </a:lnTo>
                      <a:lnTo>
                        <a:pt x="42" y="372"/>
                      </a:lnTo>
                      <a:lnTo>
                        <a:pt x="45" y="376"/>
                      </a:lnTo>
                      <a:lnTo>
                        <a:pt x="49" y="381"/>
                      </a:lnTo>
                      <a:lnTo>
                        <a:pt x="53" y="387"/>
                      </a:lnTo>
                      <a:lnTo>
                        <a:pt x="56" y="391"/>
                      </a:lnTo>
                      <a:lnTo>
                        <a:pt x="60" y="396"/>
                      </a:lnTo>
                      <a:lnTo>
                        <a:pt x="63" y="400"/>
                      </a:lnTo>
                      <a:lnTo>
                        <a:pt x="67" y="404"/>
                      </a:lnTo>
                      <a:lnTo>
                        <a:pt x="68" y="401"/>
                      </a:lnTo>
                      <a:lnTo>
                        <a:pt x="70" y="396"/>
                      </a:lnTo>
                      <a:lnTo>
                        <a:pt x="73" y="394"/>
                      </a:lnTo>
                      <a:lnTo>
                        <a:pt x="74" y="391"/>
                      </a:lnTo>
                      <a:lnTo>
                        <a:pt x="76" y="388"/>
                      </a:lnTo>
                      <a:lnTo>
                        <a:pt x="78" y="384"/>
                      </a:lnTo>
                      <a:lnTo>
                        <a:pt x="79" y="381"/>
                      </a:lnTo>
                      <a:lnTo>
                        <a:pt x="81" y="378"/>
                      </a:lnTo>
                      <a:lnTo>
                        <a:pt x="81" y="374"/>
                      </a:lnTo>
                      <a:lnTo>
                        <a:pt x="83" y="371"/>
                      </a:lnTo>
                      <a:lnTo>
                        <a:pt x="86" y="366"/>
                      </a:lnTo>
                      <a:lnTo>
                        <a:pt x="87" y="363"/>
                      </a:lnTo>
                      <a:lnTo>
                        <a:pt x="88" y="358"/>
                      </a:lnTo>
                      <a:lnTo>
                        <a:pt x="91" y="356"/>
                      </a:lnTo>
                      <a:lnTo>
                        <a:pt x="91" y="359"/>
                      </a:lnTo>
                      <a:lnTo>
                        <a:pt x="91" y="363"/>
                      </a:lnTo>
                      <a:lnTo>
                        <a:pt x="91" y="366"/>
                      </a:lnTo>
                      <a:lnTo>
                        <a:pt x="91" y="370"/>
                      </a:lnTo>
                      <a:lnTo>
                        <a:pt x="91" y="374"/>
                      </a:lnTo>
                      <a:lnTo>
                        <a:pt x="91" y="376"/>
                      </a:lnTo>
                      <a:lnTo>
                        <a:pt x="92" y="379"/>
                      </a:lnTo>
                      <a:lnTo>
                        <a:pt x="92" y="383"/>
                      </a:lnTo>
                      <a:lnTo>
                        <a:pt x="92" y="387"/>
                      </a:lnTo>
                      <a:lnTo>
                        <a:pt x="93" y="389"/>
                      </a:lnTo>
                      <a:lnTo>
                        <a:pt x="94" y="391"/>
                      </a:lnTo>
                      <a:lnTo>
                        <a:pt x="94" y="396"/>
                      </a:lnTo>
                      <a:lnTo>
                        <a:pt x="94" y="398"/>
                      </a:lnTo>
                      <a:lnTo>
                        <a:pt x="94" y="401"/>
                      </a:lnTo>
                      <a:lnTo>
                        <a:pt x="94" y="404"/>
                      </a:lnTo>
                      <a:lnTo>
                        <a:pt x="95" y="407"/>
                      </a:lnTo>
                      <a:lnTo>
                        <a:pt x="92" y="408"/>
                      </a:lnTo>
                      <a:lnTo>
                        <a:pt x="88" y="409"/>
                      </a:lnTo>
                      <a:lnTo>
                        <a:pt x="83" y="411"/>
                      </a:lnTo>
                      <a:lnTo>
                        <a:pt x="81" y="414"/>
                      </a:lnTo>
                      <a:lnTo>
                        <a:pt x="76" y="416"/>
                      </a:lnTo>
                      <a:lnTo>
                        <a:pt x="70" y="419"/>
                      </a:lnTo>
                      <a:lnTo>
                        <a:pt x="66" y="421"/>
                      </a:lnTo>
                      <a:lnTo>
                        <a:pt x="62" y="425"/>
                      </a:lnTo>
                      <a:lnTo>
                        <a:pt x="57" y="427"/>
                      </a:lnTo>
                      <a:lnTo>
                        <a:pt x="53" y="429"/>
                      </a:lnTo>
                      <a:lnTo>
                        <a:pt x="48" y="432"/>
                      </a:lnTo>
                      <a:lnTo>
                        <a:pt x="44" y="435"/>
                      </a:lnTo>
                      <a:lnTo>
                        <a:pt x="40" y="438"/>
                      </a:lnTo>
                      <a:lnTo>
                        <a:pt x="37" y="440"/>
                      </a:lnTo>
                      <a:lnTo>
                        <a:pt x="34" y="442"/>
                      </a:lnTo>
                      <a:lnTo>
                        <a:pt x="32" y="445"/>
                      </a:lnTo>
                      <a:lnTo>
                        <a:pt x="36" y="445"/>
                      </a:lnTo>
                      <a:lnTo>
                        <a:pt x="41" y="445"/>
                      </a:lnTo>
                      <a:lnTo>
                        <a:pt x="44" y="445"/>
                      </a:lnTo>
                      <a:lnTo>
                        <a:pt x="48" y="445"/>
                      </a:lnTo>
                      <a:lnTo>
                        <a:pt x="53" y="445"/>
                      </a:lnTo>
                      <a:lnTo>
                        <a:pt x="56" y="445"/>
                      </a:lnTo>
                      <a:lnTo>
                        <a:pt x="61" y="445"/>
                      </a:lnTo>
                      <a:lnTo>
                        <a:pt x="66" y="445"/>
                      </a:lnTo>
                      <a:lnTo>
                        <a:pt x="66" y="447"/>
                      </a:lnTo>
                      <a:lnTo>
                        <a:pt x="68" y="449"/>
                      </a:lnTo>
                      <a:lnTo>
                        <a:pt x="69" y="452"/>
                      </a:lnTo>
                      <a:lnTo>
                        <a:pt x="70" y="454"/>
                      </a:lnTo>
                      <a:lnTo>
                        <a:pt x="74" y="457"/>
                      </a:lnTo>
                      <a:lnTo>
                        <a:pt x="78" y="460"/>
                      </a:lnTo>
                      <a:lnTo>
                        <a:pt x="81" y="461"/>
                      </a:lnTo>
                      <a:lnTo>
                        <a:pt x="85" y="463"/>
                      </a:lnTo>
                      <a:lnTo>
                        <a:pt x="88" y="463"/>
                      </a:lnTo>
                      <a:lnTo>
                        <a:pt x="92" y="463"/>
                      </a:lnTo>
                      <a:lnTo>
                        <a:pt x="94" y="461"/>
                      </a:lnTo>
                      <a:lnTo>
                        <a:pt x="99" y="459"/>
                      </a:lnTo>
                      <a:lnTo>
                        <a:pt x="101" y="458"/>
                      </a:lnTo>
                      <a:lnTo>
                        <a:pt x="104" y="455"/>
                      </a:lnTo>
                      <a:lnTo>
                        <a:pt x="107" y="452"/>
                      </a:lnTo>
                      <a:lnTo>
                        <a:pt x="110" y="449"/>
                      </a:lnTo>
                      <a:lnTo>
                        <a:pt x="112" y="446"/>
                      </a:lnTo>
                      <a:lnTo>
                        <a:pt x="114" y="442"/>
                      </a:lnTo>
                      <a:lnTo>
                        <a:pt x="117" y="442"/>
                      </a:lnTo>
                      <a:lnTo>
                        <a:pt x="121" y="444"/>
                      </a:lnTo>
                      <a:lnTo>
                        <a:pt x="125" y="445"/>
                      </a:lnTo>
                      <a:lnTo>
                        <a:pt x="130" y="446"/>
                      </a:lnTo>
                      <a:lnTo>
                        <a:pt x="133" y="446"/>
                      </a:lnTo>
                      <a:lnTo>
                        <a:pt x="138" y="446"/>
                      </a:lnTo>
                      <a:lnTo>
                        <a:pt x="142" y="446"/>
                      </a:lnTo>
                      <a:lnTo>
                        <a:pt x="146" y="447"/>
                      </a:lnTo>
                      <a:lnTo>
                        <a:pt x="149" y="446"/>
                      </a:lnTo>
                      <a:lnTo>
                        <a:pt x="152" y="446"/>
                      </a:lnTo>
                      <a:lnTo>
                        <a:pt x="156" y="446"/>
                      </a:lnTo>
                      <a:lnTo>
                        <a:pt x="158" y="446"/>
                      </a:lnTo>
                      <a:lnTo>
                        <a:pt x="162" y="446"/>
                      </a:lnTo>
                      <a:lnTo>
                        <a:pt x="164" y="446"/>
                      </a:lnTo>
                      <a:lnTo>
                        <a:pt x="175" y="446"/>
                      </a:lnTo>
                      <a:lnTo>
                        <a:pt x="184" y="447"/>
                      </a:lnTo>
                      <a:lnTo>
                        <a:pt x="195" y="447"/>
                      </a:lnTo>
                      <a:lnTo>
                        <a:pt x="204" y="447"/>
                      </a:lnTo>
                      <a:lnTo>
                        <a:pt x="215" y="447"/>
                      </a:lnTo>
                      <a:lnTo>
                        <a:pt x="225" y="447"/>
                      </a:lnTo>
                      <a:lnTo>
                        <a:pt x="235" y="447"/>
                      </a:lnTo>
                      <a:lnTo>
                        <a:pt x="246" y="447"/>
                      </a:lnTo>
                      <a:lnTo>
                        <a:pt x="255" y="447"/>
                      </a:lnTo>
                      <a:lnTo>
                        <a:pt x="265" y="447"/>
                      </a:lnTo>
                      <a:lnTo>
                        <a:pt x="274" y="447"/>
                      </a:lnTo>
                      <a:lnTo>
                        <a:pt x="285" y="447"/>
                      </a:lnTo>
                      <a:lnTo>
                        <a:pt x="293" y="447"/>
                      </a:lnTo>
                      <a:lnTo>
                        <a:pt x="304" y="447"/>
                      </a:lnTo>
                      <a:lnTo>
                        <a:pt x="314" y="447"/>
                      </a:lnTo>
                      <a:lnTo>
                        <a:pt x="323" y="447"/>
                      </a:lnTo>
                      <a:lnTo>
                        <a:pt x="331" y="447"/>
                      </a:lnTo>
                      <a:lnTo>
                        <a:pt x="341" y="446"/>
                      </a:lnTo>
                      <a:lnTo>
                        <a:pt x="349" y="446"/>
                      </a:lnTo>
                      <a:lnTo>
                        <a:pt x="359" y="446"/>
                      </a:lnTo>
                      <a:lnTo>
                        <a:pt x="367" y="445"/>
                      </a:lnTo>
                      <a:lnTo>
                        <a:pt x="377" y="445"/>
                      </a:lnTo>
                      <a:lnTo>
                        <a:pt x="385" y="445"/>
                      </a:lnTo>
                      <a:lnTo>
                        <a:pt x="393" y="445"/>
                      </a:lnTo>
                      <a:lnTo>
                        <a:pt x="401" y="445"/>
                      </a:lnTo>
                      <a:lnTo>
                        <a:pt x="410" y="444"/>
                      </a:lnTo>
                      <a:lnTo>
                        <a:pt x="417" y="444"/>
                      </a:lnTo>
                      <a:lnTo>
                        <a:pt x="425" y="444"/>
                      </a:lnTo>
                      <a:lnTo>
                        <a:pt x="432" y="442"/>
                      </a:lnTo>
                      <a:lnTo>
                        <a:pt x="441" y="442"/>
                      </a:lnTo>
                      <a:lnTo>
                        <a:pt x="448" y="442"/>
                      </a:lnTo>
                      <a:lnTo>
                        <a:pt x="455" y="442"/>
                      </a:lnTo>
                      <a:lnTo>
                        <a:pt x="462" y="441"/>
                      </a:lnTo>
                      <a:lnTo>
                        <a:pt x="468" y="441"/>
                      </a:lnTo>
                      <a:lnTo>
                        <a:pt x="475" y="440"/>
                      </a:lnTo>
                      <a:lnTo>
                        <a:pt x="482" y="440"/>
                      </a:lnTo>
                      <a:lnTo>
                        <a:pt x="488" y="439"/>
                      </a:lnTo>
                      <a:lnTo>
                        <a:pt x="494" y="439"/>
                      </a:lnTo>
                      <a:lnTo>
                        <a:pt x="500" y="439"/>
                      </a:lnTo>
                      <a:lnTo>
                        <a:pt x="506" y="439"/>
                      </a:lnTo>
                      <a:lnTo>
                        <a:pt x="512" y="438"/>
                      </a:lnTo>
                      <a:lnTo>
                        <a:pt x="517" y="438"/>
                      </a:lnTo>
                      <a:lnTo>
                        <a:pt x="521" y="436"/>
                      </a:lnTo>
                      <a:lnTo>
                        <a:pt x="526" y="436"/>
                      </a:lnTo>
                      <a:lnTo>
                        <a:pt x="532" y="436"/>
                      </a:lnTo>
                      <a:lnTo>
                        <a:pt x="537" y="436"/>
                      </a:lnTo>
                      <a:lnTo>
                        <a:pt x="540" y="435"/>
                      </a:lnTo>
                      <a:lnTo>
                        <a:pt x="545" y="435"/>
                      </a:lnTo>
                      <a:lnTo>
                        <a:pt x="549" y="435"/>
                      </a:lnTo>
                      <a:lnTo>
                        <a:pt x="552" y="434"/>
                      </a:lnTo>
                      <a:lnTo>
                        <a:pt x="556" y="434"/>
                      </a:lnTo>
                      <a:lnTo>
                        <a:pt x="559" y="434"/>
                      </a:lnTo>
                      <a:lnTo>
                        <a:pt x="562" y="434"/>
                      </a:lnTo>
                      <a:lnTo>
                        <a:pt x="564" y="433"/>
                      </a:lnTo>
                      <a:lnTo>
                        <a:pt x="566" y="433"/>
                      </a:lnTo>
                      <a:lnTo>
                        <a:pt x="570" y="433"/>
                      </a:lnTo>
                      <a:lnTo>
                        <a:pt x="572" y="433"/>
                      </a:lnTo>
                      <a:lnTo>
                        <a:pt x="576" y="433"/>
                      </a:lnTo>
                      <a:lnTo>
                        <a:pt x="577" y="433"/>
                      </a:lnTo>
                      <a:lnTo>
                        <a:pt x="578" y="433"/>
                      </a:lnTo>
                      <a:lnTo>
                        <a:pt x="578" y="432"/>
                      </a:lnTo>
                      <a:lnTo>
                        <a:pt x="578" y="428"/>
                      </a:lnTo>
                      <a:lnTo>
                        <a:pt x="578" y="425"/>
                      </a:lnTo>
                      <a:lnTo>
                        <a:pt x="578" y="422"/>
                      </a:lnTo>
                      <a:lnTo>
                        <a:pt x="578" y="419"/>
                      </a:lnTo>
                      <a:lnTo>
                        <a:pt x="578" y="415"/>
                      </a:lnTo>
                      <a:lnTo>
                        <a:pt x="578" y="410"/>
                      </a:lnTo>
                      <a:lnTo>
                        <a:pt x="578" y="406"/>
                      </a:lnTo>
                      <a:lnTo>
                        <a:pt x="578" y="402"/>
                      </a:lnTo>
                      <a:lnTo>
                        <a:pt x="578" y="400"/>
                      </a:lnTo>
                      <a:lnTo>
                        <a:pt x="578" y="397"/>
                      </a:lnTo>
                      <a:lnTo>
                        <a:pt x="578" y="395"/>
                      </a:lnTo>
                      <a:lnTo>
                        <a:pt x="578" y="391"/>
                      </a:lnTo>
                      <a:lnTo>
                        <a:pt x="578" y="389"/>
                      </a:lnTo>
                      <a:lnTo>
                        <a:pt x="578" y="385"/>
                      </a:lnTo>
                      <a:lnTo>
                        <a:pt x="578" y="383"/>
                      </a:lnTo>
                      <a:lnTo>
                        <a:pt x="578" y="378"/>
                      </a:lnTo>
                      <a:lnTo>
                        <a:pt x="578" y="376"/>
                      </a:lnTo>
                      <a:lnTo>
                        <a:pt x="578" y="372"/>
                      </a:lnTo>
                      <a:lnTo>
                        <a:pt x="579" y="369"/>
                      </a:lnTo>
                      <a:lnTo>
                        <a:pt x="578" y="364"/>
                      </a:lnTo>
                      <a:lnTo>
                        <a:pt x="578" y="360"/>
                      </a:lnTo>
                      <a:lnTo>
                        <a:pt x="578" y="357"/>
                      </a:lnTo>
                      <a:lnTo>
                        <a:pt x="578" y="353"/>
                      </a:lnTo>
                      <a:lnTo>
                        <a:pt x="578" y="349"/>
                      </a:lnTo>
                      <a:lnTo>
                        <a:pt x="578" y="344"/>
                      </a:lnTo>
                      <a:lnTo>
                        <a:pt x="578" y="340"/>
                      </a:lnTo>
                      <a:lnTo>
                        <a:pt x="578" y="336"/>
                      </a:lnTo>
                      <a:lnTo>
                        <a:pt x="578" y="331"/>
                      </a:lnTo>
                      <a:lnTo>
                        <a:pt x="578" y="327"/>
                      </a:lnTo>
                      <a:lnTo>
                        <a:pt x="578" y="322"/>
                      </a:lnTo>
                      <a:lnTo>
                        <a:pt x="578" y="318"/>
                      </a:lnTo>
                      <a:lnTo>
                        <a:pt x="578" y="313"/>
                      </a:lnTo>
                      <a:lnTo>
                        <a:pt x="578" y="308"/>
                      </a:lnTo>
                      <a:lnTo>
                        <a:pt x="578" y="303"/>
                      </a:lnTo>
                      <a:lnTo>
                        <a:pt x="578" y="300"/>
                      </a:lnTo>
                      <a:lnTo>
                        <a:pt x="578" y="294"/>
                      </a:lnTo>
                      <a:lnTo>
                        <a:pt x="578" y="290"/>
                      </a:lnTo>
                      <a:lnTo>
                        <a:pt x="578" y="284"/>
                      </a:lnTo>
                      <a:lnTo>
                        <a:pt x="578" y="280"/>
                      </a:lnTo>
                      <a:lnTo>
                        <a:pt x="578" y="275"/>
                      </a:lnTo>
                      <a:lnTo>
                        <a:pt x="578" y="269"/>
                      </a:lnTo>
                      <a:lnTo>
                        <a:pt x="578" y="264"/>
                      </a:lnTo>
                      <a:lnTo>
                        <a:pt x="578" y="260"/>
                      </a:lnTo>
                      <a:lnTo>
                        <a:pt x="578" y="254"/>
                      </a:lnTo>
                      <a:lnTo>
                        <a:pt x="578" y="249"/>
                      </a:lnTo>
                      <a:lnTo>
                        <a:pt x="578" y="243"/>
                      </a:lnTo>
                      <a:lnTo>
                        <a:pt x="578" y="237"/>
                      </a:lnTo>
                      <a:lnTo>
                        <a:pt x="578" y="232"/>
                      </a:lnTo>
                      <a:lnTo>
                        <a:pt x="578" y="226"/>
                      </a:lnTo>
                      <a:lnTo>
                        <a:pt x="578" y="222"/>
                      </a:lnTo>
                      <a:lnTo>
                        <a:pt x="578" y="217"/>
                      </a:lnTo>
                      <a:lnTo>
                        <a:pt x="578" y="211"/>
                      </a:lnTo>
                      <a:lnTo>
                        <a:pt x="578" y="205"/>
                      </a:lnTo>
                      <a:lnTo>
                        <a:pt x="577" y="200"/>
                      </a:lnTo>
                      <a:lnTo>
                        <a:pt x="577" y="195"/>
                      </a:lnTo>
                      <a:lnTo>
                        <a:pt x="577" y="190"/>
                      </a:lnTo>
                      <a:lnTo>
                        <a:pt x="577" y="185"/>
                      </a:lnTo>
                      <a:lnTo>
                        <a:pt x="577" y="180"/>
                      </a:lnTo>
                      <a:lnTo>
                        <a:pt x="577" y="176"/>
                      </a:lnTo>
                      <a:lnTo>
                        <a:pt x="576" y="171"/>
                      </a:lnTo>
                      <a:lnTo>
                        <a:pt x="576" y="166"/>
                      </a:lnTo>
                      <a:lnTo>
                        <a:pt x="575" y="162"/>
                      </a:lnTo>
                      <a:lnTo>
                        <a:pt x="575" y="159"/>
                      </a:lnTo>
                      <a:lnTo>
                        <a:pt x="575" y="154"/>
                      </a:lnTo>
                      <a:lnTo>
                        <a:pt x="575" y="150"/>
                      </a:lnTo>
                      <a:lnTo>
                        <a:pt x="575" y="146"/>
                      </a:lnTo>
                      <a:lnTo>
                        <a:pt x="575" y="143"/>
                      </a:lnTo>
                      <a:lnTo>
                        <a:pt x="573" y="138"/>
                      </a:lnTo>
                      <a:lnTo>
                        <a:pt x="573" y="135"/>
                      </a:lnTo>
                      <a:lnTo>
                        <a:pt x="572" y="131"/>
                      </a:lnTo>
                      <a:lnTo>
                        <a:pt x="572" y="128"/>
                      </a:lnTo>
                      <a:lnTo>
                        <a:pt x="571" y="125"/>
                      </a:lnTo>
                      <a:lnTo>
                        <a:pt x="571" y="122"/>
                      </a:lnTo>
                      <a:lnTo>
                        <a:pt x="570" y="118"/>
                      </a:lnTo>
                      <a:lnTo>
                        <a:pt x="570" y="116"/>
                      </a:lnTo>
                      <a:lnTo>
                        <a:pt x="570" y="112"/>
                      </a:lnTo>
                      <a:lnTo>
                        <a:pt x="570" y="110"/>
                      </a:lnTo>
                      <a:lnTo>
                        <a:pt x="569" y="108"/>
                      </a:lnTo>
                      <a:lnTo>
                        <a:pt x="569" y="105"/>
                      </a:lnTo>
                      <a:lnTo>
                        <a:pt x="568" y="100"/>
                      </a:lnTo>
                      <a:lnTo>
                        <a:pt x="566" y="95"/>
                      </a:lnTo>
                      <a:lnTo>
                        <a:pt x="565" y="90"/>
                      </a:lnTo>
                      <a:lnTo>
                        <a:pt x="565" y="87"/>
                      </a:lnTo>
                      <a:lnTo>
                        <a:pt x="564" y="83"/>
                      </a:lnTo>
                      <a:lnTo>
                        <a:pt x="563" y="79"/>
                      </a:lnTo>
                      <a:lnTo>
                        <a:pt x="562" y="77"/>
                      </a:lnTo>
                      <a:lnTo>
                        <a:pt x="562" y="74"/>
                      </a:lnTo>
                      <a:lnTo>
                        <a:pt x="560" y="71"/>
                      </a:lnTo>
                      <a:lnTo>
                        <a:pt x="560" y="70"/>
                      </a:lnTo>
                      <a:lnTo>
                        <a:pt x="559" y="66"/>
                      </a:lnTo>
                      <a:lnTo>
                        <a:pt x="558" y="64"/>
                      </a:lnTo>
                      <a:lnTo>
                        <a:pt x="557" y="62"/>
                      </a:lnTo>
                      <a:lnTo>
                        <a:pt x="626" y="0"/>
                      </a:lnTo>
                      <a:lnTo>
                        <a:pt x="628" y="3"/>
                      </a:lnTo>
                      <a:lnTo>
                        <a:pt x="633" y="8"/>
                      </a:lnTo>
                      <a:lnTo>
                        <a:pt x="634" y="10"/>
                      </a:lnTo>
                      <a:lnTo>
                        <a:pt x="635" y="13"/>
                      </a:lnTo>
                      <a:lnTo>
                        <a:pt x="638" y="16"/>
                      </a:lnTo>
                      <a:lnTo>
                        <a:pt x="640" y="19"/>
                      </a:lnTo>
                      <a:lnTo>
                        <a:pt x="640" y="21"/>
                      </a:lnTo>
                      <a:lnTo>
                        <a:pt x="642" y="24"/>
                      </a:lnTo>
                      <a:lnTo>
                        <a:pt x="643" y="28"/>
                      </a:lnTo>
                      <a:lnTo>
                        <a:pt x="646" y="32"/>
                      </a:lnTo>
                      <a:lnTo>
                        <a:pt x="646" y="34"/>
                      </a:lnTo>
                      <a:lnTo>
                        <a:pt x="648" y="39"/>
                      </a:lnTo>
                      <a:lnTo>
                        <a:pt x="648" y="41"/>
                      </a:lnTo>
                      <a:lnTo>
                        <a:pt x="651" y="46"/>
                      </a:lnTo>
                      <a:lnTo>
                        <a:pt x="651" y="49"/>
                      </a:lnTo>
                      <a:lnTo>
                        <a:pt x="652" y="53"/>
                      </a:lnTo>
                      <a:lnTo>
                        <a:pt x="653" y="58"/>
                      </a:lnTo>
                      <a:lnTo>
                        <a:pt x="653" y="62"/>
                      </a:lnTo>
                      <a:lnTo>
                        <a:pt x="654" y="66"/>
                      </a:lnTo>
                      <a:lnTo>
                        <a:pt x="655" y="71"/>
                      </a:lnTo>
                      <a:lnTo>
                        <a:pt x="655" y="74"/>
                      </a:lnTo>
                      <a:lnTo>
                        <a:pt x="657" y="79"/>
                      </a:lnTo>
                      <a:lnTo>
                        <a:pt x="658" y="83"/>
                      </a:lnTo>
                      <a:lnTo>
                        <a:pt x="658" y="87"/>
                      </a:lnTo>
                      <a:lnTo>
                        <a:pt x="658" y="92"/>
                      </a:lnTo>
                      <a:lnTo>
                        <a:pt x="659" y="97"/>
                      </a:lnTo>
                      <a:lnTo>
                        <a:pt x="660" y="100"/>
                      </a:lnTo>
                      <a:lnTo>
                        <a:pt x="660" y="105"/>
                      </a:lnTo>
                      <a:lnTo>
                        <a:pt x="660" y="110"/>
                      </a:lnTo>
                      <a:lnTo>
                        <a:pt x="661" y="115"/>
                      </a:lnTo>
                      <a:lnTo>
                        <a:pt x="661" y="121"/>
                      </a:lnTo>
                      <a:lnTo>
                        <a:pt x="662" y="124"/>
                      </a:lnTo>
                      <a:lnTo>
                        <a:pt x="662" y="129"/>
                      </a:lnTo>
                      <a:lnTo>
                        <a:pt x="662" y="134"/>
                      </a:lnTo>
                      <a:lnTo>
                        <a:pt x="662" y="138"/>
                      </a:lnTo>
                      <a:lnTo>
                        <a:pt x="664" y="142"/>
                      </a:lnTo>
                      <a:lnTo>
                        <a:pt x="664" y="147"/>
                      </a:lnTo>
                      <a:lnTo>
                        <a:pt x="664" y="152"/>
                      </a:lnTo>
                      <a:lnTo>
                        <a:pt x="664" y="156"/>
                      </a:lnTo>
                      <a:lnTo>
                        <a:pt x="664" y="161"/>
                      </a:lnTo>
                      <a:lnTo>
                        <a:pt x="664" y="165"/>
                      </a:lnTo>
                      <a:lnTo>
                        <a:pt x="664" y="169"/>
                      </a:lnTo>
                      <a:lnTo>
                        <a:pt x="664" y="173"/>
                      </a:lnTo>
                      <a:lnTo>
                        <a:pt x="664" y="178"/>
                      </a:lnTo>
                      <a:lnTo>
                        <a:pt x="664" y="182"/>
                      </a:lnTo>
                      <a:lnTo>
                        <a:pt x="665" y="186"/>
                      </a:lnTo>
                      <a:lnTo>
                        <a:pt x="665" y="191"/>
                      </a:lnTo>
                      <a:lnTo>
                        <a:pt x="665" y="193"/>
                      </a:lnTo>
                      <a:lnTo>
                        <a:pt x="665" y="198"/>
                      </a:lnTo>
                      <a:lnTo>
                        <a:pt x="665" y="201"/>
                      </a:lnTo>
                      <a:lnTo>
                        <a:pt x="665" y="205"/>
                      </a:lnTo>
                      <a:lnTo>
                        <a:pt x="665" y="208"/>
                      </a:lnTo>
                      <a:lnTo>
                        <a:pt x="665" y="212"/>
                      </a:lnTo>
                      <a:lnTo>
                        <a:pt x="665" y="217"/>
                      </a:lnTo>
                      <a:lnTo>
                        <a:pt x="665" y="219"/>
                      </a:lnTo>
                      <a:lnTo>
                        <a:pt x="665" y="222"/>
                      </a:lnTo>
                      <a:lnTo>
                        <a:pt x="665" y="224"/>
                      </a:lnTo>
                      <a:lnTo>
                        <a:pt x="666" y="229"/>
                      </a:lnTo>
                      <a:lnTo>
                        <a:pt x="666" y="231"/>
                      </a:lnTo>
                      <a:lnTo>
                        <a:pt x="666" y="233"/>
                      </a:lnTo>
                      <a:lnTo>
                        <a:pt x="666" y="236"/>
                      </a:lnTo>
                      <a:lnTo>
                        <a:pt x="666" y="239"/>
                      </a:lnTo>
                      <a:lnTo>
                        <a:pt x="666" y="241"/>
                      </a:lnTo>
                      <a:lnTo>
                        <a:pt x="666" y="243"/>
                      </a:lnTo>
                      <a:lnTo>
                        <a:pt x="666" y="246"/>
                      </a:lnTo>
                      <a:lnTo>
                        <a:pt x="666" y="249"/>
                      </a:lnTo>
                      <a:lnTo>
                        <a:pt x="666" y="252"/>
                      </a:lnTo>
                      <a:lnTo>
                        <a:pt x="666" y="256"/>
                      </a:lnTo>
                      <a:lnTo>
                        <a:pt x="666" y="260"/>
                      </a:lnTo>
                      <a:lnTo>
                        <a:pt x="666" y="264"/>
                      </a:lnTo>
                      <a:lnTo>
                        <a:pt x="666" y="267"/>
                      </a:lnTo>
                      <a:lnTo>
                        <a:pt x="666" y="273"/>
                      </a:lnTo>
                      <a:lnTo>
                        <a:pt x="666" y="276"/>
                      </a:lnTo>
                      <a:lnTo>
                        <a:pt x="666" y="281"/>
                      </a:lnTo>
                      <a:lnTo>
                        <a:pt x="666" y="284"/>
                      </a:lnTo>
                      <a:lnTo>
                        <a:pt x="666" y="290"/>
                      </a:lnTo>
                      <a:lnTo>
                        <a:pt x="666" y="295"/>
                      </a:lnTo>
                      <a:lnTo>
                        <a:pt x="667" y="301"/>
                      </a:lnTo>
                      <a:lnTo>
                        <a:pt x="666" y="306"/>
                      </a:lnTo>
                      <a:lnTo>
                        <a:pt x="666" y="311"/>
                      </a:lnTo>
                      <a:lnTo>
                        <a:pt x="666" y="317"/>
                      </a:lnTo>
                      <a:lnTo>
                        <a:pt x="666" y="322"/>
                      </a:lnTo>
                      <a:lnTo>
                        <a:pt x="666" y="328"/>
                      </a:lnTo>
                      <a:lnTo>
                        <a:pt x="666" y="334"/>
                      </a:lnTo>
                      <a:lnTo>
                        <a:pt x="666" y="340"/>
                      </a:lnTo>
                      <a:lnTo>
                        <a:pt x="666" y="345"/>
                      </a:lnTo>
                      <a:lnTo>
                        <a:pt x="666" y="351"/>
                      </a:lnTo>
                      <a:lnTo>
                        <a:pt x="666" y="357"/>
                      </a:lnTo>
                      <a:lnTo>
                        <a:pt x="666" y="363"/>
                      </a:lnTo>
                      <a:lnTo>
                        <a:pt x="666" y="370"/>
                      </a:lnTo>
                      <a:lnTo>
                        <a:pt x="666" y="376"/>
                      </a:lnTo>
                      <a:lnTo>
                        <a:pt x="666" y="381"/>
                      </a:lnTo>
                      <a:lnTo>
                        <a:pt x="666" y="387"/>
                      </a:lnTo>
                      <a:lnTo>
                        <a:pt x="666" y="394"/>
                      </a:lnTo>
                      <a:lnTo>
                        <a:pt x="665" y="398"/>
                      </a:lnTo>
                      <a:lnTo>
                        <a:pt x="665" y="404"/>
                      </a:lnTo>
                      <a:lnTo>
                        <a:pt x="665" y="411"/>
                      </a:lnTo>
                      <a:lnTo>
                        <a:pt x="665" y="416"/>
                      </a:lnTo>
                      <a:lnTo>
                        <a:pt x="665" y="421"/>
                      </a:lnTo>
                      <a:lnTo>
                        <a:pt x="665" y="427"/>
                      </a:lnTo>
                      <a:lnTo>
                        <a:pt x="665" y="433"/>
                      </a:lnTo>
                      <a:lnTo>
                        <a:pt x="665" y="439"/>
                      </a:lnTo>
                      <a:lnTo>
                        <a:pt x="664" y="444"/>
                      </a:lnTo>
                      <a:lnTo>
                        <a:pt x="664" y="448"/>
                      </a:lnTo>
                      <a:lnTo>
                        <a:pt x="664" y="453"/>
                      </a:lnTo>
                      <a:lnTo>
                        <a:pt x="664" y="459"/>
                      </a:lnTo>
                      <a:lnTo>
                        <a:pt x="664" y="464"/>
                      </a:lnTo>
                      <a:lnTo>
                        <a:pt x="664" y="468"/>
                      </a:lnTo>
                      <a:lnTo>
                        <a:pt x="664" y="472"/>
                      </a:lnTo>
                      <a:lnTo>
                        <a:pt x="664" y="477"/>
                      </a:lnTo>
                      <a:lnTo>
                        <a:pt x="664" y="482"/>
                      </a:lnTo>
                      <a:lnTo>
                        <a:pt x="664" y="485"/>
                      </a:lnTo>
                      <a:lnTo>
                        <a:pt x="664" y="489"/>
                      </a:lnTo>
                      <a:lnTo>
                        <a:pt x="664" y="492"/>
                      </a:lnTo>
                      <a:lnTo>
                        <a:pt x="664" y="495"/>
                      </a:lnTo>
                      <a:lnTo>
                        <a:pt x="664" y="498"/>
                      </a:lnTo>
                      <a:lnTo>
                        <a:pt x="664" y="501"/>
                      </a:lnTo>
                      <a:lnTo>
                        <a:pt x="664" y="504"/>
                      </a:lnTo>
                      <a:lnTo>
                        <a:pt x="664" y="508"/>
                      </a:lnTo>
                      <a:lnTo>
                        <a:pt x="664" y="510"/>
                      </a:lnTo>
                      <a:lnTo>
                        <a:pt x="664" y="512"/>
                      </a:lnTo>
                      <a:lnTo>
                        <a:pt x="664" y="514"/>
                      </a:lnTo>
                      <a:lnTo>
                        <a:pt x="659" y="515"/>
                      </a:lnTo>
                      <a:lnTo>
                        <a:pt x="655" y="515"/>
                      </a:lnTo>
                      <a:lnTo>
                        <a:pt x="652" y="515"/>
                      </a:lnTo>
                      <a:lnTo>
                        <a:pt x="649" y="516"/>
                      </a:lnTo>
                      <a:lnTo>
                        <a:pt x="647" y="517"/>
                      </a:lnTo>
                      <a:lnTo>
                        <a:pt x="645" y="518"/>
                      </a:lnTo>
                      <a:lnTo>
                        <a:pt x="641" y="518"/>
                      </a:lnTo>
                      <a:lnTo>
                        <a:pt x="638" y="518"/>
                      </a:lnTo>
                      <a:lnTo>
                        <a:pt x="635" y="518"/>
                      </a:lnTo>
                      <a:lnTo>
                        <a:pt x="632" y="520"/>
                      </a:lnTo>
                      <a:lnTo>
                        <a:pt x="628" y="520"/>
                      </a:lnTo>
                      <a:lnTo>
                        <a:pt x="624" y="521"/>
                      </a:lnTo>
                      <a:lnTo>
                        <a:pt x="620" y="521"/>
                      </a:lnTo>
                      <a:lnTo>
                        <a:pt x="617" y="521"/>
                      </a:lnTo>
                      <a:lnTo>
                        <a:pt x="613" y="521"/>
                      </a:lnTo>
                      <a:lnTo>
                        <a:pt x="608" y="522"/>
                      </a:lnTo>
                      <a:lnTo>
                        <a:pt x="604" y="522"/>
                      </a:lnTo>
                      <a:lnTo>
                        <a:pt x="600" y="523"/>
                      </a:lnTo>
                      <a:lnTo>
                        <a:pt x="596" y="523"/>
                      </a:lnTo>
                      <a:lnTo>
                        <a:pt x="591" y="523"/>
                      </a:lnTo>
                      <a:lnTo>
                        <a:pt x="588" y="523"/>
                      </a:lnTo>
                      <a:lnTo>
                        <a:pt x="583" y="524"/>
                      </a:lnTo>
                      <a:lnTo>
                        <a:pt x="578" y="524"/>
                      </a:lnTo>
                      <a:lnTo>
                        <a:pt x="575" y="524"/>
                      </a:lnTo>
                      <a:lnTo>
                        <a:pt x="570" y="524"/>
                      </a:lnTo>
                      <a:lnTo>
                        <a:pt x="565" y="525"/>
                      </a:lnTo>
                      <a:lnTo>
                        <a:pt x="560" y="525"/>
                      </a:lnTo>
                      <a:lnTo>
                        <a:pt x="556" y="525"/>
                      </a:lnTo>
                      <a:lnTo>
                        <a:pt x="552" y="525"/>
                      </a:lnTo>
                      <a:lnTo>
                        <a:pt x="547" y="525"/>
                      </a:lnTo>
                      <a:lnTo>
                        <a:pt x="543" y="525"/>
                      </a:lnTo>
                      <a:lnTo>
                        <a:pt x="538" y="525"/>
                      </a:lnTo>
                      <a:lnTo>
                        <a:pt x="534" y="525"/>
                      </a:lnTo>
                      <a:lnTo>
                        <a:pt x="528" y="527"/>
                      </a:lnTo>
                      <a:lnTo>
                        <a:pt x="525" y="527"/>
                      </a:lnTo>
                      <a:lnTo>
                        <a:pt x="521" y="527"/>
                      </a:lnTo>
                      <a:lnTo>
                        <a:pt x="517" y="527"/>
                      </a:lnTo>
                      <a:lnTo>
                        <a:pt x="513" y="528"/>
                      </a:lnTo>
                      <a:lnTo>
                        <a:pt x="508" y="528"/>
                      </a:lnTo>
                      <a:lnTo>
                        <a:pt x="503" y="528"/>
                      </a:lnTo>
                      <a:lnTo>
                        <a:pt x="501" y="528"/>
                      </a:lnTo>
                      <a:lnTo>
                        <a:pt x="498" y="528"/>
                      </a:lnTo>
                      <a:lnTo>
                        <a:pt x="494" y="528"/>
                      </a:lnTo>
                      <a:lnTo>
                        <a:pt x="490" y="528"/>
                      </a:lnTo>
                      <a:lnTo>
                        <a:pt x="486" y="528"/>
                      </a:lnTo>
                      <a:lnTo>
                        <a:pt x="483" y="528"/>
                      </a:lnTo>
                      <a:lnTo>
                        <a:pt x="481" y="528"/>
                      </a:lnTo>
                      <a:lnTo>
                        <a:pt x="477" y="528"/>
                      </a:lnTo>
                      <a:lnTo>
                        <a:pt x="475" y="528"/>
                      </a:lnTo>
                      <a:lnTo>
                        <a:pt x="473" y="529"/>
                      </a:lnTo>
                      <a:lnTo>
                        <a:pt x="468" y="529"/>
                      </a:lnTo>
                      <a:lnTo>
                        <a:pt x="463" y="530"/>
                      </a:lnTo>
                      <a:lnTo>
                        <a:pt x="461" y="530"/>
                      </a:lnTo>
                      <a:lnTo>
                        <a:pt x="458" y="530"/>
                      </a:lnTo>
                      <a:lnTo>
                        <a:pt x="456" y="530"/>
                      </a:lnTo>
                      <a:lnTo>
                        <a:pt x="445" y="530"/>
                      </a:lnTo>
                      <a:lnTo>
                        <a:pt x="436" y="530"/>
                      </a:lnTo>
                      <a:lnTo>
                        <a:pt x="425" y="530"/>
                      </a:lnTo>
                      <a:lnTo>
                        <a:pt x="414" y="530"/>
                      </a:lnTo>
                      <a:lnTo>
                        <a:pt x="405" y="530"/>
                      </a:lnTo>
                      <a:lnTo>
                        <a:pt x="394" y="530"/>
                      </a:lnTo>
                      <a:lnTo>
                        <a:pt x="385" y="530"/>
                      </a:lnTo>
                      <a:lnTo>
                        <a:pt x="374" y="531"/>
                      </a:lnTo>
                      <a:lnTo>
                        <a:pt x="365" y="530"/>
                      </a:lnTo>
                      <a:lnTo>
                        <a:pt x="354" y="530"/>
                      </a:lnTo>
                      <a:lnTo>
                        <a:pt x="344" y="530"/>
                      </a:lnTo>
                      <a:lnTo>
                        <a:pt x="336" y="530"/>
                      </a:lnTo>
                      <a:lnTo>
                        <a:pt x="327" y="530"/>
                      </a:lnTo>
                      <a:lnTo>
                        <a:pt x="317" y="530"/>
                      </a:lnTo>
                      <a:lnTo>
                        <a:pt x="309" y="530"/>
                      </a:lnTo>
                      <a:lnTo>
                        <a:pt x="299" y="530"/>
                      </a:lnTo>
                      <a:lnTo>
                        <a:pt x="291" y="530"/>
                      </a:lnTo>
                      <a:lnTo>
                        <a:pt x="280" y="530"/>
                      </a:lnTo>
                      <a:lnTo>
                        <a:pt x="273" y="529"/>
                      </a:lnTo>
                      <a:lnTo>
                        <a:pt x="264" y="529"/>
                      </a:lnTo>
                      <a:lnTo>
                        <a:pt x="255" y="528"/>
                      </a:lnTo>
                      <a:lnTo>
                        <a:pt x="247" y="528"/>
                      </a:lnTo>
                      <a:lnTo>
                        <a:pt x="239" y="528"/>
                      </a:lnTo>
                      <a:lnTo>
                        <a:pt x="232" y="528"/>
                      </a:lnTo>
                      <a:lnTo>
                        <a:pt x="223" y="527"/>
                      </a:lnTo>
                      <a:lnTo>
                        <a:pt x="215" y="527"/>
                      </a:lnTo>
                      <a:lnTo>
                        <a:pt x="208" y="525"/>
                      </a:lnTo>
                      <a:lnTo>
                        <a:pt x="201" y="525"/>
                      </a:lnTo>
                      <a:lnTo>
                        <a:pt x="194" y="525"/>
                      </a:lnTo>
                      <a:lnTo>
                        <a:pt x="187" y="525"/>
                      </a:lnTo>
                      <a:lnTo>
                        <a:pt x="180" y="524"/>
                      </a:lnTo>
                      <a:lnTo>
                        <a:pt x="174" y="524"/>
                      </a:lnTo>
                      <a:lnTo>
                        <a:pt x="167" y="523"/>
                      </a:lnTo>
                      <a:lnTo>
                        <a:pt x="161" y="523"/>
                      </a:lnTo>
                      <a:lnTo>
                        <a:pt x="155" y="522"/>
                      </a:lnTo>
                      <a:lnTo>
                        <a:pt x="149" y="522"/>
                      </a:lnTo>
                      <a:lnTo>
                        <a:pt x="142" y="521"/>
                      </a:lnTo>
                      <a:lnTo>
                        <a:pt x="137" y="521"/>
                      </a:lnTo>
                      <a:lnTo>
                        <a:pt x="131" y="520"/>
                      </a:lnTo>
                      <a:lnTo>
                        <a:pt x="126" y="520"/>
                      </a:lnTo>
                      <a:lnTo>
                        <a:pt x="120" y="518"/>
                      </a:lnTo>
                      <a:lnTo>
                        <a:pt x="115" y="518"/>
                      </a:lnTo>
                      <a:lnTo>
                        <a:pt x="110" y="518"/>
                      </a:lnTo>
                      <a:lnTo>
                        <a:pt x="106" y="518"/>
                      </a:lnTo>
                      <a:lnTo>
                        <a:pt x="101" y="517"/>
                      </a:lnTo>
                      <a:lnTo>
                        <a:pt x="97" y="517"/>
                      </a:lnTo>
                      <a:lnTo>
                        <a:pt x="94" y="516"/>
                      </a:lnTo>
                      <a:lnTo>
                        <a:pt x="89" y="516"/>
                      </a:lnTo>
                      <a:lnTo>
                        <a:pt x="86" y="515"/>
                      </a:lnTo>
                      <a:lnTo>
                        <a:pt x="82" y="515"/>
                      </a:lnTo>
                      <a:lnTo>
                        <a:pt x="80" y="515"/>
                      </a:lnTo>
                      <a:lnTo>
                        <a:pt x="76" y="515"/>
                      </a:lnTo>
                      <a:lnTo>
                        <a:pt x="73" y="514"/>
                      </a:lnTo>
                      <a:lnTo>
                        <a:pt x="70" y="512"/>
                      </a:lnTo>
                      <a:lnTo>
                        <a:pt x="68" y="512"/>
                      </a:lnTo>
                      <a:lnTo>
                        <a:pt x="63" y="512"/>
                      </a:lnTo>
                      <a:lnTo>
                        <a:pt x="61" y="512"/>
                      </a:lnTo>
                      <a:lnTo>
                        <a:pt x="60" y="512"/>
                      </a:lnTo>
                      <a:lnTo>
                        <a:pt x="56" y="509"/>
                      </a:lnTo>
                      <a:lnTo>
                        <a:pt x="51" y="506"/>
                      </a:lnTo>
                      <a:lnTo>
                        <a:pt x="48" y="503"/>
                      </a:lnTo>
                      <a:lnTo>
                        <a:pt x="44" y="499"/>
                      </a:lnTo>
                      <a:lnTo>
                        <a:pt x="41" y="495"/>
                      </a:lnTo>
                      <a:lnTo>
                        <a:pt x="37" y="490"/>
                      </a:lnTo>
                      <a:lnTo>
                        <a:pt x="34" y="485"/>
                      </a:lnTo>
                      <a:lnTo>
                        <a:pt x="31" y="480"/>
                      </a:lnTo>
                      <a:lnTo>
                        <a:pt x="30" y="477"/>
                      </a:lnTo>
                      <a:lnTo>
                        <a:pt x="28" y="473"/>
                      </a:lnTo>
                      <a:lnTo>
                        <a:pt x="26" y="470"/>
                      </a:lnTo>
                      <a:lnTo>
                        <a:pt x="25" y="467"/>
                      </a:lnTo>
                      <a:lnTo>
                        <a:pt x="24" y="464"/>
                      </a:lnTo>
                      <a:lnTo>
                        <a:pt x="23" y="460"/>
                      </a:lnTo>
                      <a:lnTo>
                        <a:pt x="22" y="457"/>
                      </a:lnTo>
                      <a:lnTo>
                        <a:pt x="21" y="454"/>
                      </a:lnTo>
                      <a:lnTo>
                        <a:pt x="19" y="451"/>
                      </a:lnTo>
                      <a:lnTo>
                        <a:pt x="18" y="447"/>
                      </a:lnTo>
                      <a:lnTo>
                        <a:pt x="17" y="444"/>
                      </a:lnTo>
                      <a:lnTo>
                        <a:pt x="16" y="440"/>
                      </a:lnTo>
                      <a:lnTo>
                        <a:pt x="15" y="436"/>
                      </a:lnTo>
                      <a:lnTo>
                        <a:pt x="15" y="433"/>
                      </a:lnTo>
                      <a:lnTo>
                        <a:pt x="13" y="429"/>
                      </a:lnTo>
                      <a:lnTo>
                        <a:pt x="12" y="426"/>
                      </a:lnTo>
                      <a:lnTo>
                        <a:pt x="11" y="421"/>
                      </a:lnTo>
                      <a:lnTo>
                        <a:pt x="11" y="417"/>
                      </a:lnTo>
                      <a:lnTo>
                        <a:pt x="10" y="414"/>
                      </a:lnTo>
                      <a:lnTo>
                        <a:pt x="9" y="409"/>
                      </a:lnTo>
                      <a:lnTo>
                        <a:pt x="8" y="404"/>
                      </a:lnTo>
                      <a:lnTo>
                        <a:pt x="8" y="401"/>
                      </a:lnTo>
                      <a:lnTo>
                        <a:pt x="6" y="397"/>
                      </a:lnTo>
                      <a:lnTo>
                        <a:pt x="6" y="394"/>
                      </a:lnTo>
                      <a:lnTo>
                        <a:pt x="5" y="389"/>
                      </a:lnTo>
                      <a:lnTo>
                        <a:pt x="5" y="384"/>
                      </a:lnTo>
                      <a:lnTo>
                        <a:pt x="5" y="381"/>
                      </a:lnTo>
                      <a:lnTo>
                        <a:pt x="5" y="376"/>
                      </a:lnTo>
                      <a:lnTo>
                        <a:pt x="4" y="372"/>
                      </a:lnTo>
                      <a:lnTo>
                        <a:pt x="3" y="369"/>
                      </a:lnTo>
                      <a:lnTo>
                        <a:pt x="3" y="363"/>
                      </a:lnTo>
                      <a:lnTo>
                        <a:pt x="3" y="360"/>
                      </a:lnTo>
                      <a:lnTo>
                        <a:pt x="3" y="356"/>
                      </a:lnTo>
                      <a:lnTo>
                        <a:pt x="2" y="351"/>
                      </a:lnTo>
                      <a:lnTo>
                        <a:pt x="0" y="347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34"/>
                      </a:lnTo>
                      <a:lnTo>
                        <a:pt x="0" y="330"/>
                      </a:lnTo>
                      <a:lnTo>
                        <a:pt x="0" y="325"/>
                      </a:lnTo>
                      <a:lnTo>
                        <a:pt x="0" y="321"/>
                      </a:lnTo>
                      <a:lnTo>
                        <a:pt x="0" y="317"/>
                      </a:lnTo>
                      <a:lnTo>
                        <a:pt x="0" y="313"/>
                      </a:lnTo>
                      <a:lnTo>
                        <a:pt x="0" y="308"/>
                      </a:lnTo>
                      <a:lnTo>
                        <a:pt x="0" y="303"/>
                      </a:lnTo>
                      <a:lnTo>
                        <a:pt x="0" y="300"/>
                      </a:lnTo>
                      <a:lnTo>
                        <a:pt x="0" y="295"/>
                      </a:lnTo>
                      <a:lnTo>
                        <a:pt x="0" y="292"/>
                      </a:lnTo>
                      <a:lnTo>
                        <a:pt x="0" y="287"/>
                      </a:lnTo>
                      <a:lnTo>
                        <a:pt x="0" y="282"/>
                      </a:lnTo>
                      <a:lnTo>
                        <a:pt x="3" y="281"/>
                      </a:lnTo>
                      <a:lnTo>
                        <a:pt x="6" y="280"/>
                      </a:lnTo>
                      <a:lnTo>
                        <a:pt x="10" y="277"/>
                      </a:lnTo>
                      <a:lnTo>
                        <a:pt x="15" y="275"/>
                      </a:lnTo>
                      <a:lnTo>
                        <a:pt x="18" y="271"/>
                      </a:lnTo>
                      <a:lnTo>
                        <a:pt x="22" y="268"/>
                      </a:lnTo>
                      <a:lnTo>
                        <a:pt x="24" y="264"/>
                      </a:lnTo>
                      <a:lnTo>
                        <a:pt x="28" y="260"/>
                      </a:lnTo>
                      <a:lnTo>
                        <a:pt x="30" y="255"/>
                      </a:lnTo>
                      <a:lnTo>
                        <a:pt x="31" y="250"/>
                      </a:lnTo>
                      <a:lnTo>
                        <a:pt x="32" y="246"/>
                      </a:lnTo>
                      <a:lnTo>
                        <a:pt x="32" y="242"/>
                      </a:lnTo>
                      <a:lnTo>
                        <a:pt x="31" y="238"/>
                      </a:lnTo>
                      <a:lnTo>
                        <a:pt x="29" y="235"/>
                      </a:lnTo>
                      <a:lnTo>
                        <a:pt x="26" y="233"/>
                      </a:lnTo>
                      <a:lnTo>
                        <a:pt x="25" y="231"/>
                      </a:lnTo>
                      <a:lnTo>
                        <a:pt x="23" y="231"/>
                      </a:lnTo>
                      <a:lnTo>
                        <a:pt x="21" y="230"/>
                      </a:lnTo>
                      <a:lnTo>
                        <a:pt x="16" y="235"/>
                      </a:lnTo>
                      <a:lnTo>
                        <a:pt x="11" y="239"/>
                      </a:lnTo>
                      <a:lnTo>
                        <a:pt x="8" y="242"/>
                      </a:lnTo>
                      <a:lnTo>
                        <a:pt x="5" y="244"/>
                      </a:lnTo>
                      <a:lnTo>
                        <a:pt x="3" y="246"/>
                      </a:lnTo>
                      <a:lnTo>
                        <a:pt x="0" y="249"/>
                      </a:lnTo>
                      <a:lnTo>
                        <a:pt x="0" y="246"/>
                      </a:lnTo>
                      <a:lnTo>
                        <a:pt x="0" y="244"/>
                      </a:lnTo>
                      <a:lnTo>
                        <a:pt x="0" y="242"/>
                      </a:lnTo>
                      <a:lnTo>
                        <a:pt x="0" y="239"/>
                      </a:lnTo>
                      <a:lnTo>
                        <a:pt x="0" y="236"/>
                      </a:lnTo>
                      <a:lnTo>
                        <a:pt x="0" y="233"/>
                      </a:lnTo>
                      <a:lnTo>
                        <a:pt x="0" y="231"/>
                      </a:lnTo>
                      <a:lnTo>
                        <a:pt x="2" y="229"/>
                      </a:lnTo>
                      <a:lnTo>
                        <a:pt x="2" y="225"/>
                      </a:lnTo>
                      <a:lnTo>
                        <a:pt x="2" y="223"/>
                      </a:lnTo>
                      <a:lnTo>
                        <a:pt x="2" y="219"/>
                      </a:lnTo>
                      <a:lnTo>
                        <a:pt x="3" y="217"/>
                      </a:lnTo>
                      <a:lnTo>
                        <a:pt x="3" y="214"/>
                      </a:lnTo>
                      <a:lnTo>
                        <a:pt x="3" y="211"/>
                      </a:lnTo>
                      <a:lnTo>
                        <a:pt x="3" y="208"/>
                      </a:lnTo>
                      <a:lnTo>
                        <a:pt x="3" y="206"/>
                      </a:lnTo>
                      <a:lnTo>
                        <a:pt x="3" y="204"/>
                      </a:lnTo>
                      <a:lnTo>
                        <a:pt x="3" y="201"/>
                      </a:lnTo>
                      <a:lnTo>
                        <a:pt x="3" y="198"/>
                      </a:lnTo>
                      <a:lnTo>
                        <a:pt x="3" y="195"/>
                      </a:lnTo>
                      <a:lnTo>
                        <a:pt x="3" y="192"/>
                      </a:lnTo>
                      <a:lnTo>
                        <a:pt x="4" y="190"/>
                      </a:lnTo>
                      <a:lnTo>
                        <a:pt x="5" y="186"/>
                      </a:lnTo>
                      <a:lnTo>
                        <a:pt x="5" y="184"/>
                      </a:lnTo>
                      <a:lnTo>
                        <a:pt x="5" y="181"/>
                      </a:lnTo>
                      <a:lnTo>
                        <a:pt x="5" y="178"/>
                      </a:lnTo>
                      <a:lnTo>
                        <a:pt x="5" y="175"/>
                      </a:lnTo>
                      <a:lnTo>
                        <a:pt x="5" y="172"/>
                      </a:lnTo>
                      <a:lnTo>
                        <a:pt x="5" y="169"/>
                      </a:lnTo>
                      <a:lnTo>
                        <a:pt x="5" y="166"/>
                      </a:lnTo>
                      <a:lnTo>
                        <a:pt x="6" y="163"/>
                      </a:lnTo>
                      <a:lnTo>
                        <a:pt x="6" y="161"/>
                      </a:lnTo>
                      <a:lnTo>
                        <a:pt x="8" y="165"/>
                      </a:lnTo>
                      <a:lnTo>
                        <a:pt x="11" y="167"/>
                      </a:lnTo>
                      <a:lnTo>
                        <a:pt x="13" y="167"/>
                      </a:lnTo>
                      <a:lnTo>
                        <a:pt x="16" y="168"/>
                      </a:lnTo>
                      <a:lnTo>
                        <a:pt x="19" y="168"/>
                      </a:lnTo>
                      <a:lnTo>
                        <a:pt x="23" y="168"/>
                      </a:lnTo>
                      <a:lnTo>
                        <a:pt x="25" y="166"/>
                      </a:lnTo>
                      <a:lnTo>
                        <a:pt x="29" y="166"/>
                      </a:lnTo>
                      <a:lnTo>
                        <a:pt x="32" y="163"/>
                      </a:lnTo>
                      <a:lnTo>
                        <a:pt x="36" y="162"/>
                      </a:lnTo>
                      <a:lnTo>
                        <a:pt x="40" y="160"/>
                      </a:lnTo>
                      <a:lnTo>
                        <a:pt x="43" y="159"/>
                      </a:lnTo>
                      <a:lnTo>
                        <a:pt x="47" y="155"/>
                      </a:lnTo>
                      <a:lnTo>
                        <a:pt x="50" y="153"/>
                      </a:lnTo>
                      <a:lnTo>
                        <a:pt x="53" y="150"/>
                      </a:lnTo>
                      <a:lnTo>
                        <a:pt x="56" y="147"/>
                      </a:lnTo>
                      <a:lnTo>
                        <a:pt x="59" y="143"/>
                      </a:lnTo>
                      <a:lnTo>
                        <a:pt x="61" y="141"/>
                      </a:lnTo>
                      <a:lnTo>
                        <a:pt x="62" y="136"/>
                      </a:lnTo>
                      <a:lnTo>
                        <a:pt x="64" y="133"/>
                      </a:lnTo>
                      <a:lnTo>
                        <a:pt x="66" y="129"/>
                      </a:lnTo>
                      <a:lnTo>
                        <a:pt x="66" y="125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3" y="114"/>
                      </a:lnTo>
                      <a:lnTo>
                        <a:pt x="62" y="110"/>
                      </a:lnTo>
                      <a:lnTo>
                        <a:pt x="59" y="105"/>
                      </a:lnTo>
                      <a:lnTo>
                        <a:pt x="56" y="102"/>
                      </a:lnTo>
                      <a:lnTo>
                        <a:pt x="51" y="97"/>
                      </a:lnTo>
                      <a:lnTo>
                        <a:pt x="47" y="95"/>
                      </a:lnTo>
                      <a:lnTo>
                        <a:pt x="44" y="97"/>
                      </a:lnTo>
                      <a:lnTo>
                        <a:pt x="42" y="99"/>
                      </a:lnTo>
                      <a:lnTo>
                        <a:pt x="40" y="103"/>
                      </a:lnTo>
                      <a:lnTo>
                        <a:pt x="38" y="105"/>
                      </a:lnTo>
                      <a:lnTo>
                        <a:pt x="35" y="110"/>
                      </a:lnTo>
                      <a:lnTo>
                        <a:pt x="32" y="112"/>
                      </a:lnTo>
                      <a:lnTo>
                        <a:pt x="30" y="115"/>
                      </a:lnTo>
                      <a:lnTo>
                        <a:pt x="29" y="117"/>
                      </a:lnTo>
                      <a:lnTo>
                        <a:pt x="25" y="121"/>
                      </a:lnTo>
                      <a:lnTo>
                        <a:pt x="24" y="123"/>
                      </a:lnTo>
                      <a:lnTo>
                        <a:pt x="22" y="125"/>
                      </a:lnTo>
                      <a:lnTo>
                        <a:pt x="19" y="129"/>
                      </a:lnTo>
                      <a:lnTo>
                        <a:pt x="16" y="134"/>
                      </a:lnTo>
                      <a:lnTo>
                        <a:pt x="13" y="138"/>
                      </a:lnTo>
                      <a:lnTo>
                        <a:pt x="10" y="142"/>
                      </a:lnTo>
                      <a:lnTo>
                        <a:pt x="9" y="147"/>
                      </a:lnTo>
                      <a:lnTo>
                        <a:pt x="8" y="150"/>
                      </a:lnTo>
                      <a:lnTo>
                        <a:pt x="8" y="154"/>
                      </a:lnTo>
                      <a:lnTo>
                        <a:pt x="8" y="150"/>
                      </a:lnTo>
                      <a:lnTo>
                        <a:pt x="8" y="147"/>
                      </a:lnTo>
                      <a:lnTo>
                        <a:pt x="8" y="143"/>
                      </a:lnTo>
                      <a:lnTo>
                        <a:pt x="8" y="140"/>
                      </a:lnTo>
                      <a:lnTo>
                        <a:pt x="8" y="135"/>
                      </a:lnTo>
                      <a:lnTo>
                        <a:pt x="9" y="133"/>
                      </a:lnTo>
                      <a:lnTo>
                        <a:pt x="9" y="128"/>
                      </a:lnTo>
                      <a:lnTo>
                        <a:pt x="10" y="125"/>
                      </a:lnTo>
                      <a:lnTo>
                        <a:pt x="10" y="121"/>
                      </a:lnTo>
                      <a:lnTo>
                        <a:pt x="10" y="117"/>
                      </a:lnTo>
                      <a:lnTo>
                        <a:pt x="10" y="115"/>
                      </a:lnTo>
                      <a:lnTo>
                        <a:pt x="10" y="110"/>
                      </a:lnTo>
                      <a:lnTo>
                        <a:pt x="10" y="108"/>
                      </a:lnTo>
                      <a:lnTo>
                        <a:pt x="11" y="104"/>
                      </a:lnTo>
                      <a:lnTo>
                        <a:pt x="11" y="100"/>
                      </a:lnTo>
                      <a:lnTo>
                        <a:pt x="12" y="97"/>
                      </a:lnTo>
                      <a:lnTo>
                        <a:pt x="12" y="95"/>
                      </a:lnTo>
                      <a:lnTo>
                        <a:pt x="12" y="91"/>
                      </a:lnTo>
                      <a:lnTo>
                        <a:pt x="12" y="87"/>
                      </a:lnTo>
                      <a:lnTo>
                        <a:pt x="12" y="85"/>
                      </a:lnTo>
                      <a:lnTo>
                        <a:pt x="12" y="81"/>
                      </a:lnTo>
                      <a:lnTo>
                        <a:pt x="13" y="78"/>
                      </a:lnTo>
                      <a:lnTo>
                        <a:pt x="13" y="74"/>
                      </a:lnTo>
                      <a:lnTo>
                        <a:pt x="15" y="72"/>
                      </a:lnTo>
                      <a:lnTo>
                        <a:pt x="15" y="70"/>
                      </a:lnTo>
                      <a:lnTo>
                        <a:pt x="15" y="67"/>
                      </a:lnTo>
                      <a:lnTo>
                        <a:pt x="15" y="64"/>
                      </a:lnTo>
                      <a:lnTo>
                        <a:pt x="15" y="61"/>
                      </a:lnTo>
                      <a:lnTo>
                        <a:pt x="15" y="58"/>
                      </a:lnTo>
                      <a:lnTo>
                        <a:pt x="16" y="55"/>
                      </a:lnTo>
                      <a:lnTo>
                        <a:pt x="16" y="53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5"/>
                      </a:lnTo>
                      <a:lnTo>
                        <a:pt x="17" y="41"/>
                      </a:lnTo>
                      <a:lnTo>
                        <a:pt x="17" y="40"/>
                      </a:lnTo>
                      <a:lnTo>
                        <a:pt x="18" y="35"/>
                      </a:lnTo>
                      <a:lnTo>
                        <a:pt x="18" y="32"/>
                      </a:lnTo>
                      <a:lnTo>
                        <a:pt x="18" y="27"/>
                      </a:lnTo>
                      <a:lnTo>
                        <a:pt x="19" y="23"/>
                      </a:lnTo>
                      <a:lnTo>
                        <a:pt x="19" y="20"/>
                      </a:lnTo>
                      <a:lnTo>
                        <a:pt x="21" y="16"/>
                      </a:lnTo>
                      <a:lnTo>
                        <a:pt x="21" y="14"/>
                      </a:lnTo>
                      <a:lnTo>
                        <a:pt x="21" y="11"/>
                      </a:lnTo>
                      <a:lnTo>
                        <a:pt x="21" y="9"/>
                      </a:lnTo>
                      <a:lnTo>
                        <a:pt x="21" y="8"/>
                      </a:lnTo>
                      <a:lnTo>
                        <a:pt x="21" y="5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Freeform 67"/>
                <p:cNvSpPr/>
                <p:nvPr/>
              </p:nvSpPr>
              <p:spPr>
                <a:xfrm>
                  <a:off x="7437240" y="2557800"/>
                  <a:ext cx="21960" cy="158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0" y="0"/>
                      </a:moveTo>
                      <a:lnTo>
                        <a:pt x="43" y="3"/>
                      </a:lnTo>
                      <a:lnTo>
                        <a:pt x="42" y="6"/>
                      </a:lnTo>
                      <a:lnTo>
                        <a:pt x="41" y="9"/>
                      </a:lnTo>
                      <a:lnTo>
                        <a:pt x="40" y="11"/>
                      </a:lnTo>
                      <a:lnTo>
                        <a:pt x="37" y="13"/>
                      </a:lnTo>
                      <a:lnTo>
                        <a:pt x="37" y="16"/>
                      </a:lnTo>
                      <a:lnTo>
                        <a:pt x="35" y="18"/>
                      </a:lnTo>
                      <a:lnTo>
                        <a:pt x="33" y="20"/>
                      </a:lnTo>
                      <a:lnTo>
                        <a:pt x="32" y="23"/>
                      </a:lnTo>
                      <a:lnTo>
                        <a:pt x="30" y="26"/>
                      </a:lnTo>
                      <a:lnTo>
                        <a:pt x="26" y="29"/>
                      </a:lnTo>
                      <a:lnTo>
                        <a:pt x="20" y="31"/>
                      </a:lnTo>
                      <a:lnTo>
                        <a:pt x="16" y="30"/>
                      </a:lnTo>
                      <a:lnTo>
                        <a:pt x="13" y="28"/>
                      </a:lnTo>
                      <a:lnTo>
                        <a:pt x="13" y="24"/>
                      </a:lnTo>
                      <a:lnTo>
                        <a:pt x="13" y="20"/>
                      </a:lnTo>
                      <a:lnTo>
                        <a:pt x="13" y="17"/>
                      </a:lnTo>
                      <a:lnTo>
                        <a:pt x="13" y="13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Freeform 68"/>
                <p:cNvSpPr/>
                <p:nvPr/>
              </p:nvSpPr>
              <p:spPr>
                <a:xfrm>
                  <a:off x="7483320" y="25909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57" h="22">
                      <a:moveTo>
                        <a:pt x="57" y="19"/>
                      </a:moveTo>
                      <a:lnTo>
                        <a:pt x="0" y="22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3"/>
                      </a:lnTo>
                      <a:lnTo>
                        <a:pt x="29" y="4"/>
                      </a:lnTo>
                      <a:lnTo>
                        <a:pt x="32" y="6"/>
                      </a:lnTo>
                      <a:lnTo>
                        <a:pt x="36" y="7"/>
                      </a:lnTo>
                      <a:lnTo>
                        <a:pt x="39" y="8"/>
                      </a:lnTo>
                      <a:lnTo>
                        <a:pt x="43" y="11"/>
                      </a:lnTo>
                      <a:lnTo>
                        <a:pt x="45" y="13"/>
                      </a:lnTo>
                      <a:lnTo>
                        <a:pt x="49" y="13"/>
                      </a:lnTo>
                      <a:lnTo>
                        <a:pt x="51" y="16"/>
                      </a:lnTo>
                      <a:lnTo>
                        <a:pt x="56" y="18"/>
                      </a:lnTo>
                      <a:lnTo>
                        <a:pt x="57" y="19"/>
                      </a:lnTo>
                      <a:close/>
                    </a:path>
                  </a:pathLst>
                </a:custGeom>
                <a:solidFill>
                  <a:srgbClr val="babe90"/>
                </a:solidFill>
                <a:ln w="9360">
                  <a:solidFill>
                    <a:srgbClr val="8383a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8" name="Line 69"/>
            <p:cNvSpPr/>
            <p:nvPr/>
          </p:nvSpPr>
          <p:spPr>
            <a:xfrm>
              <a:off x="1600200" y="2286000"/>
              <a:ext cx="144792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09" name="Line 70"/>
            <p:cNvSpPr/>
            <p:nvPr/>
          </p:nvSpPr>
          <p:spPr>
            <a:xfrm>
              <a:off x="5867280" y="2286000"/>
              <a:ext cx="129564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410" name="Group 71"/>
            <p:cNvGrpSpPr/>
            <p:nvPr/>
          </p:nvGrpSpPr>
          <p:grpSpPr>
            <a:xfrm>
              <a:off x="3048120" y="1981080"/>
              <a:ext cx="576000" cy="585720"/>
              <a:chOff x="3048120" y="1981080"/>
              <a:chExt cx="576000" cy="585720"/>
            </a:xfrm>
          </p:grpSpPr>
          <p:sp>
            <p:nvSpPr>
              <p:cNvPr id="1411" name="AutoShape 72"/>
              <p:cNvSpPr/>
              <p:nvPr/>
            </p:nvSpPr>
            <p:spPr>
              <a:xfrm>
                <a:off x="3048120" y="1981080"/>
                <a:ext cx="576000" cy="5857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64801"/>
                  </a:gs>
                  <a:gs pos="100000">
                    <a:srgbClr val="fe9b03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12" name="Group 73"/>
              <p:cNvGrpSpPr/>
              <p:nvPr/>
            </p:nvGrpSpPr>
            <p:grpSpPr>
              <a:xfrm>
                <a:off x="3124080" y="2062080"/>
                <a:ext cx="443160" cy="127800"/>
                <a:chOff x="3124080" y="2062080"/>
                <a:chExt cx="443160" cy="127800"/>
              </a:xfrm>
            </p:grpSpPr>
            <p:sp>
              <p:nvSpPr>
                <p:cNvPr id="1413" name="Freeform 74"/>
                <p:cNvSpPr/>
                <p:nvPr/>
              </p:nvSpPr>
              <p:spPr>
                <a:xfrm>
                  <a:off x="3133800" y="206208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Freeform 75"/>
                <p:cNvSpPr/>
                <p:nvPr/>
              </p:nvSpPr>
              <p:spPr>
                <a:xfrm flipV="1">
                  <a:off x="3124080" y="206532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-360 h 124200"/>
                    <a:gd name="textAreaBottom" fmla="*/ 12420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5" name="Group 76"/>
            <p:cNvGrpSpPr/>
            <p:nvPr/>
          </p:nvGrpSpPr>
          <p:grpSpPr>
            <a:xfrm>
              <a:off x="5562720" y="1981080"/>
              <a:ext cx="576000" cy="585720"/>
              <a:chOff x="5562720" y="1981080"/>
              <a:chExt cx="576000" cy="585720"/>
            </a:xfrm>
          </p:grpSpPr>
          <p:sp>
            <p:nvSpPr>
              <p:cNvPr id="1416" name="AutoShape 77"/>
              <p:cNvSpPr/>
              <p:nvPr/>
            </p:nvSpPr>
            <p:spPr>
              <a:xfrm>
                <a:off x="5562720" y="1981080"/>
                <a:ext cx="576000" cy="58572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764801"/>
                  </a:gs>
                  <a:gs pos="100000">
                    <a:srgbClr val="fe9b03"/>
                  </a:gs>
                </a:gsLst>
                <a:lin ang="5400000"/>
              </a:gradFill>
              <a:ln w="12600">
                <a:solidFill>
                  <a:srgbClr val="8383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17" name="Group 78"/>
              <p:cNvGrpSpPr/>
              <p:nvPr/>
            </p:nvGrpSpPr>
            <p:grpSpPr>
              <a:xfrm>
                <a:off x="5638680" y="2062080"/>
                <a:ext cx="443160" cy="127800"/>
                <a:chOff x="5638680" y="2062080"/>
                <a:chExt cx="443160" cy="127800"/>
              </a:xfrm>
            </p:grpSpPr>
            <p:sp>
              <p:nvSpPr>
                <p:cNvPr id="1418" name="Freeform 79"/>
                <p:cNvSpPr/>
                <p:nvPr/>
              </p:nvSpPr>
              <p:spPr>
                <a:xfrm>
                  <a:off x="5648400" y="206208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124200"/>
                    <a:gd name="textAreaBottom" fmla="*/ 12456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Freeform 80"/>
                <p:cNvSpPr/>
                <p:nvPr/>
              </p:nvSpPr>
              <p:spPr>
                <a:xfrm flipV="1">
                  <a:off x="5638680" y="2065320"/>
                  <a:ext cx="433440" cy="1242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-360 h 124200"/>
                    <a:gd name="textAreaBottom" fmla="*/ 124200 h 124200"/>
                  </a:gdLst>
                  <a:ahLst/>
                  <a:rect l="textAreaLeft" t="textAreaTop" r="textAreaRight" b="textAreaBottom"/>
                  <a:pathLst>
                    <a:path w="273" h="90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198" y="90"/>
                      </a:lnTo>
                      <a:lnTo>
                        <a:pt x="273" y="90"/>
                      </a:lnTo>
                    </a:path>
                  </a:pathLst>
                </a:custGeom>
                <a:gradFill rotWithShape="0">
                  <a:gsLst>
                    <a:gs pos="0">
                      <a:srgbClr val="764801"/>
                    </a:gs>
                    <a:gs pos="100000">
                      <a:srgbClr val="fe9b03"/>
                    </a:gs>
                  </a:gsLst>
                  <a:lin ang="5400000"/>
                </a:gradFill>
                <a:ln w="9360">
                  <a:solidFill>
                    <a:srgbClr val="fefed6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20" name="Line 81"/>
            <p:cNvSpPr/>
            <p:nvPr/>
          </p:nvSpPr>
          <p:spPr>
            <a:xfrm>
              <a:off x="3657600" y="2286000"/>
              <a:ext cx="38088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21" name="Line 82"/>
            <p:cNvSpPr/>
            <p:nvPr/>
          </p:nvSpPr>
          <p:spPr>
            <a:xfrm>
              <a:off x="4114800" y="2286000"/>
              <a:ext cx="1066680" cy="0"/>
            </a:xfrm>
            <a:prstGeom prst="line">
              <a:avLst/>
            </a:prstGeom>
            <a:ln w="19080">
              <a:solidFill>
                <a:srgbClr val="8383a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22" name="Line 83"/>
            <p:cNvSpPr/>
            <p:nvPr/>
          </p:nvSpPr>
          <p:spPr>
            <a:xfrm>
              <a:off x="5181480" y="2286000"/>
              <a:ext cx="381240" cy="0"/>
            </a:xfrm>
            <a:prstGeom prst="line">
              <a:avLst/>
            </a:prstGeom>
            <a:ln cap="sq" w="1908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23" name="Group 84"/>
          <p:cNvGrpSpPr/>
          <p:nvPr/>
        </p:nvGrpSpPr>
        <p:grpSpPr>
          <a:xfrm>
            <a:off x="2286000" y="2438280"/>
            <a:ext cx="304920" cy="228600"/>
            <a:chOff x="2286000" y="2438280"/>
            <a:chExt cx="304920" cy="228600"/>
          </a:xfrm>
        </p:grpSpPr>
        <p:sp>
          <p:nvSpPr>
            <p:cNvPr id="1424" name="Rectangle 85"/>
            <p:cNvSpPr/>
            <p:nvPr/>
          </p:nvSpPr>
          <p:spPr>
            <a:xfrm>
              <a:off x="2438280" y="2438280"/>
              <a:ext cx="152640" cy="22860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25" name="Rectangle 86"/>
            <p:cNvSpPr/>
            <p:nvPr/>
          </p:nvSpPr>
          <p:spPr>
            <a:xfrm>
              <a:off x="2286000" y="2438280"/>
              <a:ext cx="152280" cy="2286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26" name="Group 87"/>
          <p:cNvGrpSpPr/>
          <p:nvPr/>
        </p:nvGrpSpPr>
        <p:grpSpPr>
          <a:xfrm>
            <a:off x="4800600" y="2438280"/>
            <a:ext cx="304920" cy="228600"/>
            <a:chOff x="4800600" y="2438280"/>
            <a:chExt cx="304920" cy="228600"/>
          </a:xfrm>
        </p:grpSpPr>
        <p:sp>
          <p:nvSpPr>
            <p:cNvPr id="1427" name="Rectangle 88"/>
            <p:cNvSpPr/>
            <p:nvPr/>
          </p:nvSpPr>
          <p:spPr>
            <a:xfrm>
              <a:off x="4952880" y="2438280"/>
              <a:ext cx="152640" cy="22860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28" name="Rectangle 89"/>
            <p:cNvSpPr/>
            <p:nvPr/>
          </p:nvSpPr>
          <p:spPr>
            <a:xfrm>
              <a:off x="4800600" y="2438280"/>
              <a:ext cx="152280" cy="2286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29" name="Group 90"/>
          <p:cNvGrpSpPr/>
          <p:nvPr/>
        </p:nvGrpSpPr>
        <p:grpSpPr>
          <a:xfrm>
            <a:off x="6781680" y="2438280"/>
            <a:ext cx="304920" cy="228600"/>
            <a:chOff x="6781680" y="2438280"/>
            <a:chExt cx="304920" cy="228600"/>
          </a:xfrm>
        </p:grpSpPr>
        <p:sp>
          <p:nvSpPr>
            <p:cNvPr id="1430" name="Rectangle 91"/>
            <p:cNvSpPr/>
            <p:nvPr/>
          </p:nvSpPr>
          <p:spPr>
            <a:xfrm>
              <a:off x="6933960" y="2438280"/>
              <a:ext cx="152640" cy="22860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31" name="Rectangle 92"/>
            <p:cNvSpPr/>
            <p:nvPr/>
          </p:nvSpPr>
          <p:spPr>
            <a:xfrm>
              <a:off x="6781680" y="2438280"/>
              <a:ext cx="152280" cy="2286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432" name="AutoShape 93"/>
          <p:cNvSpPr/>
          <p:nvPr/>
        </p:nvSpPr>
        <p:spPr>
          <a:xfrm>
            <a:off x="357120" y="2922480"/>
            <a:ext cx="7923240" cy="735120"/>
          </a:xfrm>
          <a:prstGeom prst="wedgeRectCallout">
            <a:avLst>
              <a:gd name="adj1" fmla="val -37675"/>
              <a:gd name="adj2" fmla="val -159935"/>
            </a:avLst>
          </a:prstGeom>
          <a:solidFill>
            <a:srgbClr val="c09e4a"/>
          </a:solidFill>
          <a:ln cap="sq" w="1260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25160" indent="-425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gestion Window = Congestion Window + Feedbac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3" name="Text Box 94"/>
          <p:cNvSpPr/>
          <p:nvPr/>
        </p:nvSpPr>
        <p:spPr>
          <a:xfrm>
            <a:off x="517680" y="4816440"/>
            <a:ext cx="8076960" cy="1191240"/>
          </a:xfrm>
          <a:prstGeom prst="rect">
            <a:avLst/>
          </a:prstGeom>
          <a:solidFill>
            <a:srgbClr val="790015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outers compute feedback without any per-flow state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434" name="Group 95"/>
          <p:cNvGrpSpPr/>
          <p:nvPr/>
        </p:nvGrpSpPr>
        <p:grpSpPr>
          <a:xfrm>
            <a:off x="6400800" y="1905120"/>
            <a:ext cx="609480" cy="228600"/>
            <a:chOff x="6400800" y="1905120"/>
            <a:chExt cx="609480" cy="228600"/>
          </a:xfrm>
        </p:grpSpPr>
        <p:sp>
          <p:nvSpPr>
            <p:cNvPr id="1435" name="Rectangle 96"/>
            <p:cNvSpPr/>
            <p:nvPr/>
          </p:nvSpPr>
          <p:spPr>
            <a:xfrm>
              <a:off x="6400800" y="1905120"/>
              <a:ext cx="533520" cy="2286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36" name="Rectangle 97"/>
            <p:cNvSpPr/>
            <p:nvPr/>
          </p:nvSpPr>
          <p:spPr>
            <a:xfrm>
              <a:off x="6858000" y="1905120"/>
              <a:ext cx="152280" cy="22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437" name="Rectangle 98"/>
          <p:cNvSpPr/>
          <p:nvPr/>
        </p:nvSpPr>
        <p:spPr>
          <a:xfrm>
            <a:off x="6248520" y="175248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does XCP Work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9" name="Text Box 100"/>
          <p:cNvSpPr/>
          <p:nvPr/>
        </p:nvSpPr>
        <p:spPr>
          <a:xfrm>
            <a:off x="787320" y="3889440"/>
            <a:ext cx="740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CP extends ECN and CSFQ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E8CD-F83F-4E66-A5C8-D74FB58A417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n XCP Router Compute the Feedback?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2" name="Rectangle 3"/>
          <p:cNvSpPr/>
          <p:nvPr/>
        </p:nvSpPr>
        <p:spPr>
          <a:xfrm>
            <a:off x="228600" y="1328760"/>
            <a:ext cx="4343400" cy="507204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724280" y="1328760"/>
            <a:ext cx="4267440" cy="507204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4" name="Text Box 5"/>
          <p:cNvSpPr/>
          <p:nvPr/>
        </p:nvSpPr>
        <p:spPr>
          <a:xfrm>
            <a:off x="228600" y="1328760"/>
            <a:ext cx="4495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ngestion Controlle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5" name="Text Box 6"/>
          <p:cNvSpPr/>
          <p:nvPr/>
        </p:nvSpPr>
        <p:spPr>
          <a:xfrm>
            <a:off x="4800600" y="1295280"/>
            <a:ext cx="4114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Fairness Controller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446" name="Group 26"/>
          <p:cNvGrpSpPr/>
          <p:nvPr/>
        </p:nvGrpSpPr>
        <p:grpSpPr>
          <a:xfrm>
            <a:off x="4724280" y="2009880"/>
            <a:ext cx="4324320" cy="4625280"/>
            <a:chOff x="4724280" y="2009880"/>
            <a:chExt cx="4324320" cy="4625280"/>
          </a:xfrm>
        </p:grpSpPr>
        <p:sp>
          <p:nvSpPr>
            <p:cNvPr id="1447" name="Text Box 8"/>
            <p:cNvSpPr/>
            <p:nvPr/>
          </p:nvSpPr>
          <p:spPr>
            <a:xfrm>
              <a:off x="4724280" y="2009880"/>
              <a:ext cx="40388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oal: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Divides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between flows to converge to fairness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48" name="Text Box 9"/>
            <p:cNvSpPr/>
            <p:nvPr/>
          </p:nvSpPr>
          <p:spPr>
            <a:xfrm>
              <a:off x="4791240" y="3000240"/>
              <a:ext cx="396216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Looks at a flow</a:t>
              </a:r>
              <a:r>
                <a:rPr b="0" lang="ja-JP" sz="2200" spc="-1" strike="noStrike">
                  <a:solidFill>
                    <a:srgbClr val="000000"/>
                  </a:solidFill>
                  <a:latin typeface="Comic Sans MS"/>
                </a:rPr>
                <a:t>’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s state in Congestion Header 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49" name="Text Box 10"/>
            <p:cNvSpPr/>
            <p:nvPr/>
          </p:nvSpPr>
          <p:spPr>
            <a:xfrm>
              <a:off x="4781520" y="3990600"/>
              <a:ext cx="4267080" cy="26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lgorithm: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If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&gt; 0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Divide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equally between flows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If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&lt; 0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Divide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between flows proportionally to their current rates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50" name="Group 11"/>
          <p:cNvGrpSpPr/>
          <p:nvPr/>
        </p:nvGrpSpPr>
        <p:grpSpPr>
          <a:xfrm>
            <a:off x="2228760" y="3508200"/>
            <a:ext cx="6131160" cy="662040"/>
            <a:chOff x="2228760" y="3508200"/>
            <a:chExt cx="6131160" cy="662040"/>
          </a:xfrm>
        </p:grpSpPr>
        <p:sp>
          <p:nvSpPr>
            <p:cNvPr id="1451" name="AutoShape 12"/>
            <p:cNvSpPr/>
            <p:nvPr/>
          </p:nvSpPr>
          <p:spPr>
            <a:xfrm>
              <a:off x="2228760" y="3520800"/>
              <a:ext cx="1590840" cy="649440"/>
            </a:xfrm>
            <a:prstGeom prst="wedgeRectCallout">
              <a:avLst>
                <a:gd name="adj1" fmla="val -85527"/>
                <a:gd name="adj2" fmla="val 60513"/>
              </a:avLst>
            </a:prstGeom>
            <a:solidFill>
              <a:srgbClr val="c09e4a"/>
            </a:solidFill>
            <a:ln cap="sq"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IMD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2" name="AutoShape 13"/>
            <p:cNvSpPr/>
            <p:nvPr/>
          </p:nvSpPr>
          <p:spPr>
            <a:xfrm>
              <a:off x="6769080" y="3508200"/>
              <a:ext cx="1590840" cy="649080"/>
            </a:xfrm>
            <a:prstGeom prst="wedgeRectCallout">
              <a:avLst>
                <a:gd name="adj1" fmla="val -84731"/>
                <a:gd name="adj2" fmla="val 74203"/>
              </a:avLst>
            </a:prstGeom>
            <a:solidFill>
              <a:srgbClr val="c09e4a"/>
            </a:solidFill>
            <a:ln cap="sq" w="1260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IMD</a:t>
              </a:r>
              <a:endParaRPr b="0" lang="en-US" sz="2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53" name="Group 14"/>
          <p:cNvGrpSpPr/>
          <p:nvPr/>
        </p:nvGrpSpPr>
        <p:grpSpPr>
          <a:xfrm>
            <a:off x="228600" y="2090880"/>
            <a:ext cx="4343400" cy="4400280"/>
            <a:chOff x="228600" y="2090880"/>
            <a:chExt cx="4343400" cy="4400280"/>
          </a:xfrm>
        </p:grpSpPr>
        <p:sp>
          <p:nvSpPr>
            <p:cNvPr id="1454" name="Text Box 15"/>
            <p:cNvSpPr/>
            <p:nvPr/>
          </p:nvSpPr>
          <p:spPr>
            <a:xfrm>
              <a:off x="228600" y="2090880"/>
              <a:ext cx="434340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oal: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Matches input traffic to link capacity &amp; drains the queue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5" name="Text Box 16"/>
            <p:cNvSpPr/>
            <p:nvPr/>
          </p:nvSpPr>
          <p:spPr>
            <a:xfrm>
              <a:off x="228600" y="3097440"/>
              <a:ext cx="396252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Looks at aggregate traffic &amp; queue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6" name="Text Box 17"/>
            <p:cNvSpPr/>
            <p:nvPr/>
          </p:nvSpPr>
          <p:spPr>
            <a:xfrm>
              <a:off x="228600" y="3996000"/>
              <a:ext cx="4343400" cy="24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lgorithm: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Aggregate traffic changes by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~ Spare Bandwidth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buClr>
                  <a:srgbClr val="8383ad"/>
                </a:buClr>
                <a:buFont typeface="Symbol" charset="2"/>
                <a:buChar char="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~ - Queue Size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So, 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Comic Sans MS"/>
                </a:rPr>
                <a:t> = 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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Comic Sans MS"/>
                </a:rPr>
                <a:t> d</a:t>
              </a:r>
              <a:r>
                <a:rPr b="0" i="1" lang="en-US" sz="2200" spc="-1" strike="noStrike" baseline="-25000">
                  <a:solidFill>
                    <a:srgbClr val="ff3300"/>
                  </a:solidFill>
                  <a:latin typeface="Comic Sans MS"/>
                </a:rPr>
                <a:t>avg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Comic Sans MS"/>
                </a:rPr>
                <a:t> Spare - 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i="1" lang="en-US" sz="2200" spc="-1" strike="noStrike">
                  <a:solidFill>
                    <a:srgbClr val="ff3300"/>
                  </a:solidFill>
                  <a:latin typeface="Comic Sans MS"/>
                </a:rPr>
                <a:t> Queue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457" name="Group 18"/>
          <p:cNvGrpSpPr/>
          <p:nvPr/>
        </p:nvGrpSpPr>
        <p:grpSpPr>
          <a:xfrm>
            <a:off x="266760" y="1351080"/>
            <a:ext cx="8653320" cy="2049480"/>
            <a:chOff x="266760" y="1351080"/>
            <a:chExt cx="8653320" cy="2049480"/>
          </a:xfrm>
        </p:grpSpPr>
        <p:sp>
          <p:nvSpPr>
            <p:cNvPr id="1458" name="Text Box 19"/>
            <p:cNvSpPr/>
            <p:nvPr/>
          </p:nvSpPr>
          <p:spPr>
            <a:xfrm>
              <a:off x="266760" y="1351080"/>
              <a:ext cx="8653320" cy="2049480"/>
            </a:xfrm>
            <a:prstGeom prst="rect">
              <a:avLst/>
            </a:prstGeom>
            <a:solidFill>
              <a:srgbClr val="790015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975"/>
                </a:spcAft>
                <a:buClr>
                  <a:srgbClr val="8383ad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975"/>
                </a:spcAft>
                <a:buClr>
                  <a:srgbClr val="8383ad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975"/>
                </a:spcAft>
                <a:buClr>
                  <a:srgbClr val="8383ad"/>
                </a:buClr>
                <a:buFont typeface="Symbol" charset="2"/>
                <a:buChar char="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9" name="Line 20"/>
            <p:cNvSpPr/>
            <p:nvPr/>
          </p:nvSpPr>
          <p:spPr>
            <a:xfrm>
              <a:off x="3986280" y="2336760"/>
              <a:ext cx="1422360" cy="0"/>
            </a:xfrm>
            <a:prstGeom prst="line">
              <a:avLst/>
            </a:prstGeom>
            <a:ln w="2844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0" name="Line 21"/>
            <p:cNvSpPr/>
            <p:nvPr/>
          </p:nvSpPr>
          <p:spPr>
            <a:xfrm>
              <a:off x="7558200" y="2311200"/>
              <a:ext cx="1125360" cy="12240"/>
            </a:xfrm>
            <a:prstGeom prst="line">
              <a:avLst/>
            </a:prstGeom>
            <a:ln w="2844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2040" bIns="-320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1" name="Line 22"/>
            <p:cNvSpPr/>
            <p:nvPr/>
          </p:nvSpPr>
          <p:spPr>
            <a:xfrm flipV="1">
              <a:off x="582480" y="2323440"/>
              <a:ext cx="1140120" cy="12600"/>
            </a:xfrm>
            <a:prstGeom prst="line">
              <a:avLst/>
            </a:prstGeom>
            <a:ln w="2844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1680" bIns="-316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2" name="Text Box 23"/>
            <p:cNvSpPr/>
            <p:nvPr/>
          </p:nvSpPr>
          <p:spPr>
            <a:xfrm>
              <a:off x="4440240" y="1765080"/>
              <a:ext cx="466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endParaRPr b="0" lang="en-US" sz="3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3" name="Text Box 24"/>
            <p:cNvSpPr/>
            <p:nvPr/>
          </p:nvSpPr>
          <p:spPr>
            <a:xfrm>
              <a:off x="1762200" y="1866600"/>
              <a:ext cx="2162160" cy="88092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Congestion Controller</a:t>
              </a:r>
              <a:endParaRPr b="0" lang="en-US" sz="2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4" name="Text Box 25"/>
            <p:cNvSpPr/>
            <p:nvPr/>
          </p:nvSpPr>
          <p:spPr>
            <a:xfrm>
              <a:off x="5446800" y="1866600"/>
              <a:ext cx="2162160" cy="880920"/>
            </a:xfrm>
            <a:prstGeom prst="rect">
              <a:avLst/>
            </a:prstGeom>
            <a:solidFill>
              <a:srgbClr val="8383ad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Fairness Controller</a:t>
              </a:r>
              <a:endParaRPr b="0" lang="en-US" sz="2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4AB8-5242-4213-B99A-09ABC6DADD8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466" name="Group 2"/>
          <p:cNvGrpSpPr/>
          <p:nvPr/>
        </p:nvGrpSpPr>
        <p:grpSpPr>
          <a:xfrm>
            <a:off x="200160" y="1914480"/>
            <a:ext cx="4448160" cy="4516200"/>
            <a:chOff x="200160" y="1914480"/>
            <a:chExt cx="4448160" cy="4516200"/>
          </a:xfrm>
        </p:grpSpPr>
        <p:grpSp>
          <p:nvGrpSpPr>
            <p:cNvPr id="1467" name="Group 3"/>
            <p:cNvGrpSpPr/>
            <p:nvPr/>
          </p:nvGrpSpPr>
          <p:grpSpPr>
            <a:xfrm>
              <a:off x="200160" y="1914480"/>
              <a:ext cx="4448160" cy="3240000"/>
              <a:chOff x="200160" y="1914480"/>
              <a:chExt cx="4448160" cy="3240000"/>
            </a:xfrm>
          </p:grpSpPr>
          <p:sp>
            <p:nvSpPr>
              <p:cNvPr id="1468" name="Text Box 4"/>
              <p:cNvSpPr/>
              <p:nvPr/>
            </p:nvSpPr>
            <p:spPr>
              <a:xfrm>
                <a:off x="304920" y="1914480"/>
                <a:ext cx="4343400" cy="87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Comic Sans MS"/>
                  </a:rPr>
                  <a:t>= 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Comic Sans MS"/>
                  </a:rPr>
                  <a:t> d</a:t>
                </a:r>
                <a:r>
                  <a:rPr b="0" i="1" lang="en-US" sz="2200" spc="-1" strike="noStrike" baseline="-25000">
                    <a:solidFill>
                      <a:srgbClr val="000000"/>
                    </a:solidFill>
                    <a:latin typeface="Comic Sans MS"/>
                  </a:rPr>
                  <a:t>avg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Comic Sans MS"/>
                  </a:rPr>
                  <a:t> Spare - 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Comic Sans MS"/>
                  </a:rPr>
                  <a:t> Queue</a:t>
                </a:r>
                <a:endParaRPr b="0" lang="en-US" sz="2200" spc="-1" strike="noStrike">
                  <a:solidFill>
                    <a:srgbClr val="8383ad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grpSp>
            <p:nvGrpSpPr>
              <p:cNvPr id="1469" name="Group 5"/>
              <p:cNvGrpSpPr/>
              <p:nvPr/>
            </p:nvGrpSpPr>
            <p:grpSpPr>
              <a:xfrm>
                <a:off x="257400" y="4233960"/>
                <a:ext cx="4086360" cy="920520"/>
                <a:chOff x="257400" y="4233960"/>
                <a:chExt cx="4086360" cy="920520"/>
              </a:xfrm>
            </p:grpSpPr>
            <p:sp>
              <p:nvSpPr>
                <p:cNvPr id="1470" name="Rectangle 6"/>
                <p:cNvSpPr/>
                <p:nvPr/>
              </p:nvSpPr>
              <p:spPr>
                <a:xfrm>
                  <a:off x="257400" y="4233960"/>
                  <a:ext cx="4086360" cy="920520"/>
                </a:xfrm>
                <a:prstGeom prst="rect">
                  <a:avLst/>
                </a:prstGeom>
                <a:solidFill>
                  <a:srgbClr val="d0dd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471" name="Object 7"/>
                    <p:cNvSpPr txBox="1"/>
                    <p:nvPr/>
                  </p:nvSpPr>
                  <p:spPr>
                    <a:xfrm>
                      <a:off x="459000" y="4233960"/>
                      <a:ext cx="3727440" cy="8506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0</m:t>
                          </m:r>
                          <m:r>
                            <m:t xml:space="preserve">&lt;</m:t>
                          </m:r>
                          <m:r>
                            <m:t xml:space="preserve">α</m:t>
                          </m:r>
                          <m:r>
                            <m:t xml:space="preserve">&lt;</m:t>
                          </m:r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den>
                          </m:f>
                          <m:m>
                            <m:mr>
                              <m:e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nd</m:t>
                                </m:r>
                                <m:m>
                                  <m:mr>
                                    <m:e/>
                                    <m:e>
                                      <m:r>
                                        <m:t xml:space="preserve">β</m:t>
                                      </m:r>
                                      <m:r>
                                        <m:t xml:space="preserve">=</m:t>
                                      </m:r>
                                      <m:sSup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</m:rad>
                                    </m:e>
                                  </m:mr>
                                </m:m>
                              </m:e>
                            </m:mr>
                          </m:m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472" name="Text Box 8"/>
              <p:cNvSpPr/>
              <p:nvPr/>
            </p:nvSpPr>
            <p:spPr>
              <a:xfrm>
                <a:off x="200160" y="2619360"/>
                <a:ext cx="4200480" cy="146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Theorem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Comic Sans MS"/>
                  </a:rPr>
                  <a:t>System converges to optimal utilization (i.e., stable) for any link bandwidth, delay, number of sources if:</a:t>
                </a:r>
                <a:endParaRPr b="0" lang="en-US" sz="22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473" name="Text Box 9"/>
            <p:cNvSpPr/>
            <p:nvPr/>
          </p:nvSpPr>
          <p:spPr>
            <a:xfrm>
              <a:off x="219240" y="5610240"/>
              <a:ext cx="4162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Proof based on Nyquist Criterion)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228600" y="18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Getting the devil out of the details …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75" name="Rectangle 11"/>
          <p:cNvSpPr/>
          <p:nvPr/>
        </p:nvSpPr>
        <p:spPr>
          <a:xfrm>
            <a:off x="133200" y="1295280"/>
            <a:ext cx="4343400" cy="521820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6" name="Rectangle 12"/>
          <p:cNvSpPr/>
          <p:nvPr/>
        </p:nvSpPr>
        <p:spPr>
          <a:xfrm>
            <a:off x="4629240" y="1295280"/>
            <a:ext cx="4314600" cy="521820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7" name="Text Box 13"/>
          <p:cNvSpPr/>
          <p:nvPr/>
        </p:nvSpPr>
        <p:spPr>
          <a:xfrm>
            <a:off x="133200" y="1324080"/>
            <a:ext cx="449604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Comic Sans MS"/>
              </a:rPr>
              <a:t>Congestion Controller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8" name="Text Box 14"/>
          <p:cNvSpPr/>
          <p:nvPr/>
        </p:nvSpPr>
        <p:spPr>
          <a:xfrm>
            <a:off x="4705200" y="1295280"/>
            <a:ext cx="41148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6600"/>
                </a:solidFill>
                <a:latin typeface="Comic Sans MS"/>
              </a:rPr>
              <a:t>Fairness Controller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9" name="Text Box 15"/>
          <p:cNvSpPr/>
          <p:nvPr/>
        </p:nvSpPr>
        <p:spPr>
          <a:xfrm>
            <a:off x="209520" y="5735520"/>
            <a:ext cx="4105440" cy="1007640"/>
          </a:xfrm>
          <a:prstGeom prst="rect">
            <a:avLst/>
          </a:prstGeom>
          <a:solidFill>
            <a:srgbClr val="790015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No Parameter Tuning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480" name="Group 16"/>
          <p:cNvGrpSpPr/>
          <p:nvPr/>
        </p:nvGrpSpPr>
        <p:grpSpPr>
          <a:xfrm>
            <a:off x="4667400" y="1697040"/>
            <a:ext cx="4476600" cy="4749120"/>
            <a:chOff x="4667400" y="1697040"/>
            <a:chExt cx="4476600" cy="4749120"/>
          </a:xfrm>
        </p:grpSpPr>
        <p:sp>
          <p:nvSpPr>
            <p:cNvPr id="1481" name="Text Box 17"/>
            <p:cNvSpPr/>
            <p:nvPr/>
          </p:nvSpPr>
          <p:spPr>
            <a:xfrm>
              <a:off x="4686480" y="1697040"/>
              <a:ext cx="4267080" cy="14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lgorithm: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f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&gt; 0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Divide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equally between flows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f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&lt; 0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Divide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between flows proportionally to their current rates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82" name="Text Box 18"/>
            <p:cNvSpPr/>
            <p:nvPr/>
          </p:nvSpPr>
          <p:spPr>
            <a:xfrm>
              <a:off x="4695840" y="3011400"/>
              <a:ext cx="396252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Need to estimate number of flows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3" name="Object 19"/>
                <p:cNvSpPr txBox="1"/>
                <p:nvPr/>
              </p:nvSpPr>
              <p:spPr>
                <a:xfrm>
                  <a:off x="5016600" y="4145040"/>
                  <a:ext cx="3544920" cy="78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pkts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  <m:r>
                            <m:t xml:space="preserve">T</m:t>
                          </m:r>
                        </m:sub>
                        <m:sup/>
                        <m:e>
                          <m:f>
                            <m:num>
                              <m:sSub>
                                <m:e/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T</m:t>
                              </m:r>
                              <m:r>
                                <m:t xml:space="preserve">×</m:t>
                              </m:r>
                              <m:r>
                                <m:t xml:space="preserve">(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wnd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kt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TT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kt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)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484" name="Text Box 20"/>
            <p:cNvSpPr/>
            <p:nvPr/>
          </p:nvSpPr>
          <p:spPr>
            <a:xfrm>
              <a:off x="4667400" y="5344920"/>
              <a:ext cx="4476600" cy="11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RTT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pkt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: Round Trip Time in header 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Cwn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pkt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: Congestion Window in head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: Counting Interval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485" name="Text Box 21"/>
          <p:cNvSpPr/>
          <p:nvPr/>
        </p:nvSpPr>
        <p:spPr>
          <a:xfrm>
            <a:off x="4724280" y="5751360"/>
            <a:ext cx="4143600" cy="550800"/>
          </a:xfrm>
          <a:prstGeom prst="rect">
            <a:avLst/>
          </a:prstGeom>
          <a:solidFill>
            <a:srgbClr val="790015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No Per-Flow State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cuss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meter 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 vs. 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do we need per flow tracking? At what c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Q vs. XCP/CSFQ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coarse-grained fairness sufficie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behaving routers/trusting the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loyment (and incentiv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painful is FQ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CP vs CSFQ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key dif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nularity of fairn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chanism vs. policy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ll see this in Q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E4C6-719B-457E-9F44-CF9B625D230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2A68-4D7F-44F1-A507-83F9F25CACD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mportant Less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es TCP implement AIM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iding window, slow start &amp; ack clo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to maintain ack clocking during loss recovery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ast recove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es TCP fully utilize a lin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 of router buff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being used in new/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hange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C05E-9C4F-4CDB-BECA-9C4F6ACA3A7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f flows are synchronize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gate window has same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buffer occupancy has same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-of-thumb still ho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4"/>
          <p:cNvSpPr/>
          <p:nvPr/>
        </p:nvSpPr>
        <p:spPr>
          <a:xfrm>
            <a:off x="2100240" y="1541520"/>
            <a:ext cx="5410080" cy="2895480"/>
          </a:xfrm>
          <a:custGeom>
            <a:avLst/>
            <a:gdLst>
              <a:gd name="textAreaLeft" fmla="*/ 0 w 5410080"/>
              <a:gd name="textAreaRight" fmla="*/ 5410440 w 541008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976" h="960">
                <a:moveTo>
                  <a:pt x="0" y="0"/>
                </a:moveTo>
                <a:lnTo>
                  <a:pt x="0" y="960"/>
                </a:lnTo>
                <a:lnTo>
                  <a:pt x="2976" y="960"/>
                </a:lnTo>
              </a:path>
            </a:pathLst>
          </a:custGeom>
          <a:noFill/>
          <a:ln w="12600">
            <a:solidFill>
              <a:srgbClr val="8383ad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637" name="Group 5"/>
          <p:cNvGrpSpPr/>
          <p:nvPr/>
        </p:nvGrpSpPr>
        <p:grpSpPr>
          <a:xfrm>
            <a:off x="2481120" y="3294000"/>
            <a:ext cx="4572000" cy="685800"/>
            <a:chOff x="2481120" y="3294000"/>
            <a:chExt cx="4572000" cy="685800"/>
          </a:xfrm>
        </p:grpSpPr>
        <p:grpSp>
          <p:nvGrpSpPr>
            <p:cNvPr id="638" name="Group 6"/>
            <p:cNvGrpSpPr/>
            <p:nvPr/>
          </p:nvGrpSpPr>
          <p:grpSpPr>
            <a:xfrm>
              <a:off x="2481120" y="3294000"/>
              <a:ext cx="1143000" cy="685800"/>
              <a:chOff x="2481120" y="3294000"/>
              <a:chExt cx="1143000" cy="685800"/>
            </a:xfrm>
          </p:grpSpPr>
          <p:sp>
            <p:nvSpPr>
              <p:cNvPr id="639" name="Freeform 7"/>
              <p:cNvSpPr/>
              <p:nvPr/>
            </p:nvSpPr>
            <p:spPr>
              <a:xfrm>
                <a:off x="2481120" y="329400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0" name="Line 8"/>
              <p:cNvSpPr/>
              <p:nvPr/>
            </p:nvSpPr>
            <p:spPr>
              <a:xfrm>
                <a:off x="3547800" y="329400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9"/>
            <p:cNvGrpSpPr/>
            <p:nvPr/>
          </p:nvGrpSpPr>
          <p:grpSpPr>
            <a:xfrm>
              <a:off x="3624120" y="3294000"/>
              <a:ext cx="1143000" cy="685800"/>
              <a:chOff x="3624120" y="3294000"/>
              <a:chExt cx="1143000" cy="685800"/>
            </a:xfrm>
          </p:grpSpPr>
          <p:sp>
            <p:nvSpPr>
              <p:cNvPr id="642" name="Freeform 10"/>
              <p:cNvSpPr/>
              <p:nvPr/>
            </p:nvSpPr>
            <p:spPr>
              <a:xfrm>
                <a:off x="3624120" y="329400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3" name="Line 11"/>
              <p:cNvSpPr/>
              <p:nvPr/>
            </p:nvSpPr>
            <p:spPr>
              <a:xfrm>
                <a:off x="4690800" y="329400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12"/>
            <p:cNvGrpSpPr/>
            <p:nvPr/>
          </p:nvGrpSpPr>
          <p:grpSpPr>
            <a:xfrm>
              <a:off x="4767120" y="3294000"/>
              <a:ext cx="1143000" cy="685800"/>
              <a:chOff x="4767120" y="3294000"/>
              <a:chExt cx="1143000" cy="685800"/>
            </a:xfrm>
          </p:grpSpPr>
          <p:sp>
            <p:nvSpPr>
              <p:cNvPr id="645" name="Freeform 13"/>
              <p:cNvSpPr/>
              <p:nvPr/>
            </p:nvSpPr>
            <p:spPr>
              <a:xfrm>
                <a:off x="4767120" y="329400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6" name="Line 14"/>
              <p:cNvSpPr/>
              <p:nvPr/>
            </p:nvSpPr>
            <p:spPr>
              <a:xfrm>
                <a:off x="5833800" y="329400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15"/>
            <p:cNvGrpSpPr/>
            <p:nvPr/>
          </p:nvGrpSpPr>
          <p:grpSpPr>
            <a:xfrm>
              <a:off x="5910120" y="3294000"/>
              <a:ext cx="1143000" cy="685800"/>
              <a:chOff x="5910120" y="3294000"/>
              <a:chExt cx="1143000" cy="685800"/>
            </a:xfrm>
          </p:grpSpPr>
          <p:sp>
            <p:nvSpPr>
              <p:cNvPr id="648" name="Freeform 16"/>
              <p:cNvSpPr/>
              <p:nvPr/>
            </p:nvSpPr>
            <p:spPr>
              <a:xfrm>
                <a:off x="5910120" y="329400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49" name="Line 17"/>
              <p:cNvSpPr/>
              <p:nvPr/>
            </p:nvSpPr>
            <p:spPr>
              <a:xfrm>
                <a:off x="6976800" y="329400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0" name="Line 18"/>
          <p:cNvSpPr/>
          <p:nvPr/>
        </p:nvSpPr>
        <p:spPr>
          <a:xfrm>
            <a:off x="1947960" y="3294000"/>
            <a:ext cx="1600200" cy="0"/>
          </a:xfrm>
          <a:prstGeom prst="line">
            <a:avLst/>
          </a:prstGeom>
          <a:ln cap="rnd" w="936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1" name="Line 19"/>
          <p:cNvSpPr/>
          <p:nvPr/>
        </p:nvSpPr>
        <p:spPr>
          <a:xfrm>
            <a:off x="1947960" y="3979800"/>
            <a:ext cx="1676160" cy="0"/>
          </a:xfrm>
          <a:prstGeom prst="line">
            <a:avLst/>
          </a:prstGeom>
          <a:ln cap="rnd" w="936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20"/>
              <p:cNvSpPr txBox="1"/>
              <p:nvPr/>
            </p:nvSpPr>
            <p:spPr>
              <a:xfrm>
                <a:off x="1467000" y="3675240"/>
                <a:ext cx="480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Text Box 21"/>
          <p:cNvSpPr/>
          <p:nvPr/>
        </p:nvSpPr>
        <p:spPr>
          <a:xfrm>
            <a:off x="6978600" y="4375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383ad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654" name="Group 22"/>
          <p:cNvGrpSpPr/>
          <p:nvPr/>
        </p:nvGrpSpPr>
        <p:grpSpPr>
          <a:xfrm>
            <a:off x="2514600" y="3313080"/>
            <a:ext cx="4572000" cy="685800"/>
            <a:chOff x="2514600" y="3313080"/>
            <a:chExt cx="4572000" cy="685800"/>
          </a:xfrm>
        </p:grpSpPr>
        <p:grpSp>
          <p:nvGrpSpPr>
            <p:cNvPr id="655" name="Group 23"/>
            <p:cNvGrpSpPr/>
            <p:nvPr/>
          </p:nvGrpSpPr>
          <p:grpSpPr>
            <a:xfrm>
              <a:off x="2514600" y="3313080"/>
              <a:ext cx="1143000" cy="685800"/>
              <a:chOff x="2514600" y="3313080"/>
              <a:chExt cx="1143000" cy="685800"/>
            </a:xfrm>
          </p:grpSpPr>
          <p:sp>
            <p:nvSpPr>
              <p:cNvPr id="656" name="Freeform 24"/>
              <p:cNvSpPr/>
              <p:nvPr/>
            </p:nvSpPr>
            <p:spPr>
              <a:xfrm>
                <a:off x="2514600" y="331308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57" name="Line 25"/>
              <p:cNvSpPr/>
              <p:nvPr/>
            </p:nvSpPr>
            <p:spPr>
              <a:xfrm>
                <a:off x="3581280" y="331308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Group 26"/>
            <p:cNvGrpSpPr/>
            <p:nvPr/>
          </p:nvGrpSpPr>
          <p:grpSpPr>
            <a:xfrm>
              <a:off x="3657600" y="3313080"/>
              <a:ext cx="1143000" cy="685800"/>
              <a:chOff x="3657600" y="3313080"/>
              <a:chExt cx="1143000" cy="685800"/>
            </a:xfrm>
          </p:grpSpPr>
          <p:sp>
            <p:nvSpPr>
              <p:cNvPr id="659" name="Freeform 27"/>
              <p:cNvSpPr/>
              <p:nvPr/>
            </p:nvSpPr>
            <p:spPr>
              <a:xfrm>
                <a:off x="3657600" y="331308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0" name="Line 28"/>
              <p:cNvSpPr/>
              <p:nvPr/>
            </p:nvSpPr>
            <p:spPr>
              <a:xfrm>
                <a:off x="4724280" y="331308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29"/>
            <p:cNvGrpSpPr/>
            <p:nvPr/>
          </p:nvGrpSpPr>
          <p:grpSpPr>
            <a:xfrm>
              <a:off x="4800600" y="3313080"/>
              <a:ext cx="1143000" cy="685800"/>
              <a:chOff x="4800600" y="3313080"/>
              <a:chExt cx="1143000" cy="685800"/>
            </a:xfrm>
          </p:grpSpPr>
          <p:sp>
            <p:nvSpPr>
              <p:cNvPr id="662" name="Freeform 30"/>
              <p:cNvSpPr/>
              <p:nvPr/>
            </p:nvSpPr>
            <p:spPr>
              <a:xfrm>
                <a:off x="4800600" y="331308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3" name="Line 31"/>
              <p:cNvSpPr/>
              <p:nvPr/>
            </p:nvSpPr>
            <p:spPr>
              <a:xfrm>
                <a:off x="5867280" y="331308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Group 32"/>
            <p:cNvGrpSpPr/>
            <p:nvPr/>
          </p:nvGrpSpPr>
          <p:grpSpPr>
            <a:xfrm>
              <a:off x="5943600" y="3313080"/>
              <a:ext cx="1143000" cy="685800"/>
              <a:chOff x="5943600" y="3313080"/>
              <a:chExt cx="1143000" cy="685800"/>
            </a:xfrm>
          </p:grpSpPr>
          <p:sp>
            <p:nvSpPr>
              <p:cNvPr id="665" name="Freeform 33"/>
              <p:cNvSpPr/>
              <p:nvPr/>
            </p:nvSpPr>
            <p:spPr>
              <a:xfrm>
                <a:off x="5943600" y="331308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6" name="Line 34"/>
              <p:cNvSpPr/>
              <p:nvPr/>
            </p:nvSpPr>
            <p:spPr>
              <a:xfrm>
                <a:off x="7010280" y="331308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Group 35"/>
          <p:cNvGrpSpPr/>
          <p:nvPr/>
        </p:nvGrpSpPr>
        <p:grpSpPr>
          <a:xfrm>
            <a:off x="2548080" y="3332160"/>
            <a:ext cx="4572000" cy="685800"/>
            <a:chOff x="2548080" y="3332160"/>
            <a:chExt cx="4572000" cy="685800"/>
          </a:xfrm>
        </p:grpSpPr>
        <p:grpSp>
          <p:nvGrpSpPr>
            <p:cNvPr id="668" name="Group 36"/>
            <p:cNvGrpSpPr/>
            <p:nvPr/>
          </p:nvGrpSpPr>
          <p:grpSpPr>
            <a:xfrm>
              <a:off x="2548080" y="3332160"/>
              <a:ext cx="1143000" cy="685800"/>
              <a:chOff x="2548080" y="3332160"/>
              <a:chExt cx="1143000" cy="685800"/>
            </a:xfrm>
          </p:grpSpPr>
          <p:sp>
            <p:nvSpPr>
              <p:cNvPr id="669" name="Freeform 37"/>
              <p:cNvSpPr/>
              <p:nvPr/>
            </p:nvSpPr>
            <p:spPr>
              <a:xfrm>
                <a:off x="2548080" y="333216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70" name="Line 38"/>
              <p:cNvSpPr/>
              <p:nvPr/>
            </p:nvSpPr>
            <p:spPr>
              <a:xfrm>
                <a:off x="3614760" y="333216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Group 39"/>
            <p:cNvGrpSpPr/>
            <p:nvPr/>
          </p:nvGrpSpPr>
          <p:grpSpPr>
            <a:xfrm>
              <a:off x="3691080" y="3332160"/>
              <a:ext cx="1143000" cy="685800"/>
              <a:chOff x="3691080" y="3332160"/>
              <a:chExt cx="1143000" cy="685800"/>
            </a:xfrm>
          </p:grpSpPr>
          <p:sp>
            <p:nvSpPr>
              <p:cNvPr id="672" name="Freeform 40"/>
              <p:cNvSpPr/>
              <p:nvPr/>
            </p:nvSpPr>
            <p:spPr>
              <a:xfrm>
                <a:off x="3691080" y="333216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73" name="Line 41"/>
              <p:cNvSpPr/>
              <p:nvPr/>
            </p:nvSpPr>
            <p:spPr>
              <a:xfrm>
                <a:off x="4757760" y="333216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Group 42"/>
            <p:cNvGrpSpPr/>
            <p:nvPr/>
          </p:nvGrpSpPr>
          <p:grpSpPr>
            <a:xfrm>
              <a:off x="4834080" y="3332160"/>
              <a:ext cx="1143000" cy="685800"/>
              <a:chOff x="4834080" y="3332160"/>
              <a:chExt cx="1143000" cy="685800"/>
            </a:xfrm>
          </p:grpSpPr>
          <p:sp>
            <p:nvSpPr>
              <p:cNvPr id="675" name="Freeform 43"/>
              <p:cNvSpPr/>
              <p:nvPr/>
            </p:nvSpPr>
            <p:spPr>
              <a:xfrm>
                <a:off x="4834080" y="333216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76" name="Line 44"/>
              <p:cNvSpPr/>
              <p:nvPr/>
            </p:nvSpPr>
            <p:spPr>
              <a:xfrm>
                <a:off x="5900760" y="333216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45"/>
            <p:cNvGrpSpPr/>
            <p:nvPr/>
          </p:nvGrpSpPr>
          <p:grpSpPr>
            <a:xfrm>
              <a:off x="5977080" y="3332160"/>
              <a:ext cx="1143000" cy="685800"/>
              <a:chOff x="5977080" y="3332160"/>
              <a:chExt cx="1143000" cy="685800"/>
            </a:xfrm>
          </p:grpSpPr>
          <p:sp>
            <p:nvSpPr>
              <p:cNvPr id="678" name="Freeform 46"/>
              <p:cNvSpPr/>
              <p:nvPr/>
            </p:nvSpPr>
            <p:spPr>
              <a:xfrm>
                <a:off x="5977080" y="333216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79" name="Line 47"/>
              <p:cNvSpPr/>
              <p:nvPr/>
            </p:nvSpPr>
            <p:spPr>
              <a:xfrm>
                <a:off x="7043760" y="333216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0" name="Group 48"/>
          <p:cNvGrpSpPr/>
          <p:nvPr/>
        </p:nvGrpSpPr>
        <p:grpSpPr>
          <a:xfrm>
            <a:off x="2581200" y="3351240"/>
            <a:ext cx="4572000" cy="685800"/>
            <a:chOff x="2581200" y="3351240"/>
            <a:chExt cx="4572000" cy="685800"/>
          </a:xfrm>
        </p:grpSpPr>
        <p:grpSp>
          <p:nvGrpSpPr>
            <p:cNvPr id="681" name="Group 49"/>
            <p:cNvGrpSpPr/>
            <p:nvPr/>
          </p:nvGrpSpPr>
          <p:grpSpPr>
            <a:xfrm>
              <a:off x="2581200" y="3351240"/>
              <a:ext cx="1143000" cy="685800"/>
              <a:chOff x="2581200" y="3351240"/>
              <a:chExt cx="1143000" cy="685800"/>
            </a:xfrm>
          </p:grpSpPr>
          <p:sp>
            <p:nvSpPr>
              <p:cNvPr id="682" name="Freeform 50"/>
              <p:cNvSpPr/>
              <p:nvPr/>
            </p:nvSpPr>
            <p:spPr>
              <a:xfrm>
                <a:off x="2581200" y="335124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83" name="Line 51"/>
              <p:cNvSpPr/>
              <p:nvPr/>
            </p:nvSpPr>
            <p:spPr>
              <a:xfrm>
                <a:off x="3647880" y="335124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52"/>
            <p:cNvGrpSpPr/>
            <p:nvPr/>
          </p:nvGrpSpPr>
          <p:grpSpPr>
            <a:xfrm>
              <a:off x="3724200" y="3351240"/>
              <a:ext cx="1143000" cy="685800"/>
              <a:chOff x="3724200" y="3351240"/>
              <a:chExt cx="1143000" cy="685800"/>
            </a:xfrm>
          </p:grpSpPr>
          <p:sp>
            <p:nvSpPr>
              <p:cNvPr id="685" name="Freeform 53"/>
              <p:cNvSpPr/>
              <p:nvPr/>
            </p:nvSpPr>
            <p:spPr>
              <a:xfrm>
                <a:off x="3724200" y="335124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86" name="Line 54"/>
              <p:cNvSpPr/>
              <p:nvPr/>
            </p:nvSpPr>
            <p:spPr>
              <a:xfrm>
                <a:off x="4790880" y="335124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55"/>
            <p:cNvGrpSpPr/>
            <p:nvPr/>
          </p:nvGrpSpPr>
          <p:grpSpPr>
            <a:xfrm>
              <a:off x="4867200" y="3351240"/>
              <a:ext cx="1143000" cy="685800"/>
              <a:chOff x="4867200" y="3351240"/>
              <a:chExt cx="1143000" cy="685800"/>
            </a:xfrm>
          </p:grpSpPr>
          <p:sp>
            <p:nvSpPr>
              <p:cNvPr id="688" name="Freeform 56"/>
              <p:cNvSpPr/>
              <p:nvPr/>
            </p:nvSpPr>
            <p:spPr>
              <a:xfrm>
                <a:off x="4867200" y="335124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89" name="Line 57"/>
              <p:cNvSpPr/>
              <p:nvPr/>
            </p:nvSpPr>
            <p:spPr>
              <a:xfrm>
                <a:off x="5933880" y="335124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Group 58"/>
            <p:cNvGrpSpPr/>
            <p:nvPr/>
          </p:nvGrpSpPr>
          <p:grpSpPr>
            <a:xfrm>
              <a:off x="6010200" y="3351240"/>
              <a:ext cx="1143000" cy="685800"/>
              <a:chOff x="6010200" y="3351240"/>
              <a:chExt cx="1143000" cy="685800"/>
            </a:xfrm>
          </p:grpSpPr>
          <p:sp>
            <p:nvSpPr>
              <p:cNvPr id="691" name="Freeform 59"/>
              <p:cNvSpPr/>
              <p:nvPr/>
            </p:nvSpPr>
            <p:spPr>
              <a:xfrm>
                <a:off x="6010200" y="3351240"/>
                <a:ext cx="1066680" cy="685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2" name="Line 60"/>
              <p:cNvSpPr/>
              <p:nvPr/>
            </p:nvSpPr>
            <p:spPr>
              <a:xfrm>
                <a:off x="7076880" y="3351240"/>
                <a:ext cx="76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3" name="Group 61"/>
          <p:cNvGrpSpPr/>
          <p:nvPr/>
        </p:nvGrpSpPr>
        <p:grpSpPr>
          <a:xfrm>
            <a:off x="2438280" y="1770120"/>
            <a:ext cx="4572000" cy="1142280"/>
            <a:chOff x="2438280" y="1770120"/>
            <a:chExt cx="4572000" cy="1142280"/>
          </a:xfrm>
        </p:grpSpPr>
        <p:grpSp>
          <p:nvGrpSpPr>
            <p:cNvPr id="694" name="Group 62"/>
            <p:cNvGrpSpPr/>
            <p:nvPr/>
          </p:nvGrpSpPr>
          <p:grpSpPr>
            <a:xfrm>
              <a:off x="2438280" y="1770120"/>
              <a:ext cx="1143000" cy="1142280"/>
              <a:chOff x="2438280" y="1770120"/>
              <a:chExt cx="1143000" cy="1142280"/>
            </a:xfrm>
          </p:grpSpPr>
          <p:sp>
            <p:nvSpPr>
              <p:cNvPr id="695" name="Freeform 63"/>
              <p:cNvSpPr/>
              <p:nvPr/>
            </p:nvSpPr>
            <p:spPr>
              <a:xfrm>
                <a:off x="2438280" y="1770120"/>
                <a:ext cx="1066680" cy="114228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1142280"/>
                  <a:gd name="textAreaBottom" fmla="*/ 1142640 h 114228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6" name="Line 64"/>
              <p:cNvSpPr/>
              <p:nvPr/>
            </p:nvSpPr>
            <p:spPr>
              <a:xfrm>
                <a:off x="3504960" y="1770120"/>
                <a:ext cx="76320" cy="114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Group 65"/>
            <p:cNvGrpSpPr/>
            <p:nvPr/>
          </p:nvGrpSpPr>
          <p:grpSpPr>
            <a:xfrm>
              <a:off x="3581280" y="1770120"/>
              <a:ext cx="1143000" cy="1142280"/>
              <a:chOff x="3581280" y="1770120"/>
              <a:chExt cx="1143000" cy="1142280"/>
            </a:xfrm>
          </p:grpSpPr>
          <p:sp>
            <p:nvSpPr>
              <p:cNvPr id="698" name="Freeform 66"/>
              <p:cNvSpPr/>
              <p:nvPr/>
            </p:nvSpPr>
            <p:spPr>
              <a:xfrm>
                <a:off x="3581280" y="1770120"/>
                <a:ext cx="1066680" cy="114228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1142280"/>
                  <a:gd name="textAreaBottom" fmla="*/ 1142640 h 114228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9" name="Line 67"/>
              <p:cNvSpPr/>
              <p:nvPr/>
            </p:nvSpPr>
            <p:spPr>
              <a:xfrm>
                <a:off x="4647960" y="1770120"/>
                <a:ext cx="76320" cy="114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Group 68"/>
            <p:cNvGrpSpPr/>
            <p:nvPr/>
          </p:nvGrpSpPr>
          <p:grpSpPr>
            <a:xfrm>
              <a:off x="4724280" y="1770120"/>
              <a:ext cx="1143000" cy="1142280"/>
              <a:chOff x="4724280" y="1770120"/>
              <a:chExt cx="1143000" cy="1142280"/>
            </a:xfrm>
          </p:grpSpPr>
          <p:sp>
            <p:nvSpPr>
              <p:cNvPr id="701" name="Freeform 69"/>
              <p:cNvSpPr/>
              <p:nvPr/>
            </p:nvSpPr>
            <p:spPr>
              <a:xfrm>
                <a:off x="4724280" y="1770120"/>
                <a:ext cx="1066680" cy="114228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1142280"/>
                  <a:gd name="textAreaBottom" fmla="*/ 1142640 h 114228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2" name="Line 70"/>
              <p:cNvSpPr/>
              <p:nvPr/>
            </p:nvSpPr>
            <p:spPr>
              <a:xfrm>
                <a:off x="5790960" y="1770120"/>
                <a:ext cx="76320" cy="114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Group 71"/>
            <p:cNvGrpSpPr/>
            <p:nvPr/>
          </p:nvGrpSpPr>
          <p:grpSpPr>
            <a:xfrm>
              <a:off x="5867280" y="1770120"/>
              <a:ext cx="1143000" cy="1142280"/>
              <a:chOff x="5867280" y="1770120"/>
              <a:chExt cx="1143000" cy="1142280"/>
            </a:xfrm>
          </p:grpSpPr>
          <p:sp>
            <p:nvSpPr>
              <p:cNvPr id="704" name="Freeform 72"/>
              <p:cNvSpPr/>
              <p:nvPr/>
            </p:nvSpPr>
            <p:spPr>
              <a:xfrm>
                <a:off x="5867280" y="1770120"/>
                <a:ext cx="1066680" cy="114228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1142280"/>
                  <a:gd name="textAreaBottom" fmla="*/ 1142640 h 114228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05" name="Line 73"/>
              <p:cNvSpPr/>
              <p:nvPr/>
            </p:nvSpPr>
            <p:spPr>
              <a:xfrm>
                <a:off x="6933960" y="1770120"/>
                <a:ext cx="76320" cy="114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06" name="Object 74"/>
          <p:cNvGraphicFramePr/>
          <p:nvPr/>
        </p:nvGraphicFramePr>
        <p:xfrm>
          <a:off x="1295280" y="2438280"/>
          <a:ext cx="7207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Object 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720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Object 75"/>
          <p:cNvGraphicFramePr/>
          <p:nvPr/>
        </p:nvGraphicFramePr>
        <p:xfrm>
          <a:off x="1409760" y="1523880"/>
          <a:ext cx="691920" cy="3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9" name="Object 7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1523880"/>
                    <a:ext cx="69192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Line 76"/>
          <p:cNvSpPr/>
          <p:nvPr/>
        </p:nvSpPr>
        <p:spPr>
          <a:xfrm>
            <a:off x="1947960" y="1770120"/>
            <a:ext cx="1600200" cy="0"/>
          </a:xfrm>
          <a:prstGeom prst="line">
            <a:avLst/>
          </a:prstGeom>
          <a:ln cap="rnd" w="936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1" name="Line 77"/>
          <p:cNvSpPr/>
          <p:nvPr/>
        </p:nvSpPr>
        <p:spPr>
          <a:xfrm>
            <a:off x="2023920" y="2913120"/>
            <a:ext cx="1600200" cy="0"/>
          </a:xfrm>
          <a:prstGeom prst="line">
            <a:avLst/>
          </a:prstGeom>
          <a:ln cap="rnd" w="936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78"/>
              <p:cNvSpPr txBox="1"/>
              <p:nvPr/>
            </p:nvSpPr>
            <p:spPr>
              <a:xfrm>
                <a:off x="1473120" y="3159000"/>
                <a:ext cx="4302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D04B-7EE0-4D58-9B91-8F28398FFBF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Lesson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ness and isolation in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this h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it achieve – e.g. do we still need congestion contr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O, drop-tail interacts poorly with TC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ous schemes to desynchronize flows and control loss rate (e.g. R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n resource allocation to fl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packet classification and sched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e-stateless FQ &amp; X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arse-grain fair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rying packet state can reduce complex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584E-E20F-471F-BE6C-52BEB0F0A78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xt: Data center topology/routing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make Ethernet scale to data center siz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land (read fu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(ski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TRA SLID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t of the slides are FY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1BB9-FC60-4080-B52B-2438D294799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-queu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-stateless F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ther FQ var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3101-C8F5-4051-A575-B3DDC1BF457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elay Allocation in FQ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delay for flows using less than fair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 finish times for sources whose queues drain temporar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based on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ead of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max 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max (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nversation is active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no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nversation is inactive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termines how much history to take into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equent senders do better when history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ochastic Fair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e a hash on each pack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ead of per-flow queue have a queue per hash b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ggressive flow steals traffic from other flows in the same ha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ues serviced in round-robin fash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problems with packet size unfair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y allocation across all que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no free buffers, drop packet from longest que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11DD-66C8-4618-A132-0A187BB8337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BB65-22B2-4891-A7F3-1560E9924FC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eficit Round Robi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queue is allowed to send Q bytes per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Q bytes are not sent (because packet is too large) deficit counter of queue keeps track of unused 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queue is empty, deficit counter is reset to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hash bins like Stochastic F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behavior as FQ but computationally simp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5A75-8703-45D4-9758-F8685A2E585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elf-clocked Fair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time to make computation of finish time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with basic F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be able to know which flows are really backlog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not have packet queued because they were serviced earlier in mapping of bit-by-bit to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necessary to know how bits sent map onto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real time to round is piecewise linea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ever slope can change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EF5F-ED84-4352-B286-F4AA12CE77E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elf-clocked FQ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finish time of the packet being serviced as the virtu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in this virtual time and the real round number can be unb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 of service to backlogged flows is bounded by factor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A54A-F20C-4BA0-8A10-A2590958C84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art-time Fair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are scheduled in order of their start not finish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clocke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rtual time = start time of packet i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advantag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handle variable rate service better than other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Slide Number Placeholder 6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6D5F-BCBC-4FF6-8B98-7D1158A5CFB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4" name="Rectangle 2"/>
          <p:cNvSpPr/>
          <p:nvPr/>
        </p:nvSpPr>
        <p:spPr>
          <a:xfrm>
            <a:off x="6781680" y="1736640"/>
            <a:ext cx="584280" cy="717480"/>
          </a:xfrm>
          <a:prstGeom prst="rect">
            <a:avLst/>
          </a:prstGeom>
          <a:solidFill>
            <a:srgbClr val="dddddd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5" name="Rectangle 3"/>
          <p:cNvSpPr/>
          <p:nvPr/>
        </p:nvSpPr>
        <p:spPr>
          <a:xfrm>
            <a:off x="6781680" y="1739880"/>
            <a:ext cx="584280" cy="717480"/>
          </a:xfrm>
          <a:prstGeom prst="rect">
            <a:avLst/>
          </a:prstGeom>
          <a:solidFill>
            <a:srgbClr val="dddddd"/>
          </a:solidFill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f flows are not synchronize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7" name="Freeform 5"/>
          <p:cNvSpPr/>
          <p:nvPr/>
        </p:nvSpPr>
        <p:spPr>
          <a:xfrm>
            <a:off x="1725480" y="1333440"/>
            <a:ext cx="4294440" cy="2895840"/>
          </a:xfrm>
          <a:custGeom>
            <a:avLst/>
            <a:gdLst>
              <a:gd name="textAreaLeft" fmla="*/ 0 w 4294440"/>
              <a:gd name="textAreaRight" fmla="*/ 4294800 w 429444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976" h="960">
                <a:moveTo>
                  <a:pt x="0" y="0"/>
                </a:moveTo>
                <a:lnTo>
                  <a:pt x="0" y="960"/>
                </a:lnTo>
                <a:lnTo>
                  <a:pt x="2976" y="960"/>
                </a:lnTo>
              </a:path>
            </a:pathLst>
          </a:custGeom>
          <a:noFill/>
          <a:ln w="12600">
            <a:solidFill>
              <a:srgbClr val="8383ad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8" name="Line 6"/>
          <p:cNvSpPr/>
          <p:nvPr/>
        </p:nvSpPr>
        <p:spPr>
          <a:xfrm>
            <a:off x="1573200" y="1947960"/>
            <a:ext cx="5361120" cy="0"/>
          </a:xfrm>
          <a:prstGeom prst="line">
            <a:avLst/>
          </a:prstGeom>
          <a:ln cap="rnd" w="936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9" name="Line 7"/>
          <p:cNvSpPr/>
          <p:nvPr/>
        </p:nvSpPr>
        <p:spPr>
          <a:xfrm>
            <a:off x="1620720" y="2233440"/>
            <a:ext cx="5313600" cy="0"/>
          </a:xfrm>
          <a:prstGeom prst="line">
            <a:avLst/>
          </a:prstGeom>
          <a:ln cap="rnd" w="936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20" name="Group 8"/>
          <p:cNvGrpSpPr/>
          <p:nvPr/>
        </p:nvGrpSpPr>
        <p:grpSpPr>
          <a:xfrm>
            <a:off x="4957920" y="3648240"/>
            <a:ext cx="661680" cy="228600"/>
            <a:chOff x="4957920" y="3648240"/>
            <a:chExt cx="661680" cy="228600"/>
          </a:xfrm>
        </p:grpSpPr>
        <p:sp>
          <p:nvSpPr>
            <p:cNvPr id="721" name="Freeform 9"/>
            <p:cNvSpPr/>
            <p:nvPr/>
          </p:nvSpPr>
          <p:spPr>
            <a:xfrm>
              <a:off x="4957920" y="3648240"/>
              <a:ext cx="661680" cy="228600"/>
            </a:xfrm>
            <a:custGeom>
              <a:avLst/>
              <a:gdLst>
                <a:gd name="textAreaLeft" fmla="*/ 0 w 661680"/>
                <a:gd name="textAreaRight" fmla="*/ 662040 w 661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2" name="Line 10"/>
            <p:cNvSpPr/>
            <p:nvPr/>
          </p:nvSpPr>
          <p:spPr>
            <a:xfrm>
              <a:off x="5619600" y="3648240"/>
              <a:ext cx="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23" name="Freeform 11"/>
          <p:cNvSpPr/>
          <p:nvPr/>
        </p:nvSpPr>
        <p:spPr>
          <a:xfrm>
            <a:off x="1728720" y="1884240"/>
            <a:ext cx="2157480" cy="463680"/>
          </a:xfrm>
          <a:custGeom>
            <a:avLst/>
            <a:gdLst>
              <a:gd name="textAreaLeft" fmla="*/ 0 w 2157480"/>
              <a:gd name="textAreaRight" fmla="*/ 2157840 w 2157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3144" h="292">
                <a:moveTo>
                  <a:pt x="0" y="181"/>
                </a:moveTo>
                <a:cubicBezTo>
                  <a:pt x="11" y="149"/>
                  <a:pt x="36" y="138"/>
                  <a:pt x="55" y="110"/>
                </a:cubicBezTo>
                <a:cubicBezTo>
                  <a:pt x="99" y="119"/>
                  <a:pt x="119" y="127"/>
                  <a:pt x="150" y="158"/>
                </a:cubicBezTo>
                <a:cubicBezTo>
                  <a:pt x="171" y="219"/>
                  <a:pt x="191" y="148"/>
                  <a:pt x="205" y="126"/>
                </a:cubicBezTo>
                <a:cubicBezTo>
                  <a:pt x="218" y="129"/>
                  <a:pt x="232" y="128"/>
                  <a:pt x="244" y="134"/>
                </a:cubicBezTo>
                <a:cubicBezTo>
                  <a:pt x="289" y="157"/>
                  <a:pt x="249" y="180"/>
                  <a:pt x="300" y="197"/>
                </a:cubicBezTo>
                <a:cubicBezTo>
                  <a:pt x="343" y="164"/>
                  <a:pt x="394" y="139"/>
                  <a:pt x="442" y="110"/>
                </a:cubicBezTo>
                <a:cubicBezTo>
                  <a:pt x="467" y="75"/>
                  <a:pt x="483" y="84"/>
                  <a:pt x="521" y="71"/>
                </a:cubicBezTo>
                <a:cubicBezTo>
                  <a:pt x="550" y="91"/>
                  <a:pt x="571" y="130"/>
                  <a:pt x="592" y="158"/>
                </a:cubicBezTo>
                <a:cubicBezTo>
                  <a:pt x="603" y="173"/>
                  <a:pt x="613" y="189"/>
                  <a:pt x="623" y="205"/>
                </a:cubicBezTo>
                <a:cubicBezTo>
                  <a:pt x="628" y="213"/>
                  <a:pt x="639" y="229"/>
                  <a:pt x="639" y="229"/>
                </a:cubicBezTo>
                <a:cubicBezTo>
                  <a:pt x="675" y="175"/>
                  <a:pt x="660" y="144"/>
                  <a:pt x="734" y="126"/>
                </a:cubicBezTo>
                <a:cubicBezTo>
                  <a:pt x="810" y="137"/>
                  <a:pt x="801" y="146"/>
                  <a:pt x="852" y="189"/>
                </a:cubicBezTo>
                <a:cubicBezTo>
                  <a:pt x="861" y="196"/>
                  <a:pt x="866" y="207"/>
                  <a:pt x="876" y="213"/>
                </a:cubicBezTo>
                <a:cubicBezTo>
                  <a:pt x="890" y="221"/>
                  <a:pt x="923" y="229"/>
                  <a:pt x="923" y="229"/>
                </a:cubicBezTo>
                <a:cubicBezTo>
                  <a:pt x="986" y="208"/>
                  <a:pt x="1031" y="118"/>
                  <a:pt x="1089" y="79"/>
                </a:cubicBezTo>
                <a:cubicBezTo>
                  <a:pt x="1109" y="50"/>
                  <a:pt x="1160" y="0"/>
                  <a:pt x="1160" y="0"/>
                </a:cubicBezTo>
                <a:cubicBezTo>
                  <a:pt x="1196" y="13"/>
                  <a:pt x="1239" y="39"/>
                  <a:pt x="1270" y="63"/>
                </a:cubicBezTo>
                <a:cubicBezTo>
                  <a:pt x="1299" y="85"/>
                  <a:pt x="1312" y="121"/>
                  <a:pt x="1341" y="142"/>
                </a:cubicBezTo>
                <a:cubicBezTo>
                  <a:pt x="1363" y="158"/>
                  <a:pt x="1394" y="172"/>
                  <a:pt x="1420" y="181"/>
                </a:cubicBezTo>
                <a:cubicBezTo>
                  <a:pt x="1446" y="178"/>
                  <a:pt x="1474" y="181"/>
                  <a:pt x="1499" y="173"/>
                </a:cubicBezTo>
                <a:cubicBezTo>
                  <a:pt x="1523" y="166"/>
                  <a:pt x="1528" y="134"/>
                  <a:pt x="1539" y="118"/>
                </a:cubicBezTo>
                <a:cubicBezTo>
                  <a:pt x="1562" y="85"/>
                  <a:pt x="1596" y="79"/>
                  <a:pt x="1633" y="71"/>
                </a:cubicBezTo>
                <a:cubicBezTo>
                  <a:pt x="1644" y="66"/>
                  <a:pt x="1653" y="55"/>
                  <a:pt x="1665" y="55"/>
                </a:cubicBezTo>
                <a:cubicBezTo>
                  <a:pt x="1725" y="55"/>
                  <a:pt x="1773" y="99"/>
                  <a:pt x="1799" y="150"/>
                </a:cubicBezTo>
                <a:cubicBezTo>
                  <a:pt x="1803" y="157"/>
                  <a:pt x="1802" y="167"/>
                  <a:pt x="1807" y="173"/>
                </a:cubicBezTo>
                <a:cubicBezTo>
                  <a:pt x="1815" y="182"/>
                  <a:pt x="1850" y="205"/>
                  <a:pt x="1862" y="213"/>
                </a:cubicBezTo>
                <a:cubicBezTo>
                  <a:pt x="1883" y="210"/>
                  <a:pt x="1905" y="212"/>
                  <a:pt x="1925" y="205"/>
                </a:cubicBezTo>
                <a:cubicBezTo>
                  <a:pt x="1936" y="201"/>
                  <a:pt x="1940" y="188"/>
                  <a:pt x="1949" y="181"/>
                </a:cubicBezTo>
                <a:cubicBezTo>
                  <a:pt x="1998" y="139"/>
                  <a:pt x="2097" y="36"/>
                  <a:pt x="2154" y="24"/>
                </a:cubicBezTo>
                <a:cubicBezTo>
                  <a:pt x="2172" y="29"/>
                  <a:pt x="2193" y="29"/>
                  <a:pt x="2209" y="39"/>
                </a:cubicBezTo>
                <a:cubicBezTo>
                  <a:pt x="2241" y="58"/>
                  <a:pt x="2273" y="97"/>
                  <a:pt x="2296" y="126"/>
                </a:cubicBezTo>
                <a:cubicBezTo>
                  <a:pt x="2304" y="168"/>
                  <a:pt x="2315" y="212"/>
                  <a:pt x="2351" y="237"/>
                </a:cubicBezTo>
                <a:cubicBezTo>
                  <a:pt x="2383" y="205"/>
                  <a:pt x="2401" y="169"/>
                  <a:pt x="2414" y="126"/>
                </a:cubicBezTo>
                <a:cubicBezTo>
                  <a:pt x="2429" y="75"/>
                  <a:pt x="2408" y="69"/>
                  <a:pt x="2462" y="55"/>
                </a:cubicBezTo>
                <a:cubicBezTo>
                  <a:pt x="2499" y="94"/>
                  <a:pt x="2512" y="157"/>
                  <a:pt x="2564" y="173"/>
                </a:cubicBezTo>
                <a:cubicBezTo>
                  <a:pt x="2651" y="155"/>
                  <a:pt x="2636" y="162"/>
                  <a:pt x="2683" y="95"/>
                </a:cubicBezTo>
                <a:cubicBezTo>
                  <a:pt x="2686" y="87"/>
                  <a:pt x="2686" y="65"/>
                  <a:pt x="2691" y="71"/>
                </a:cubicBezTo>
                <a:cubicBezTo>
                  <a:pt x="2707" y="91"/>
                  <a:pt x="2711" y="119"/>
                  <a:pt x="2722" y="142"/>
                </a:cubicBezTo>
                <a:cubicBezTo>
                  <a:pt x="2755" y="208"/>
                  <a:pt x="2779" y="256"/>
                  <a:pt x="2848" y="292"/>
                </a:cubicBezTo>
                <a:cubicBezTo>
                  <a:pt x="2864" y="289"/>
                  <a:pt x="2882" y="291"/>
                  <a:pt x="2896" y="284"/>
                </a:cubicBezTo>
                <a:cubicBezTo>
                  <a:pt x="2911" y="276"/>
                  <a:pt x="2911" y="249"/>
                  <a:pt x="2919" y="237"/>
                </a:cubicBezTo>
                <a:cubicBezTo>
                  <a:pt x="2965" y="165"/>
                  <a:pt x="3016" y="100"/>
                  <a:pt x="3038" y="16"/>
                </a:cubicBezTo>
                <a:cubicBezTo>
                  <a:pt x="3081" y="37"/>
                  <a:pt x="3072" y="48"/>
                  <a:pt x="3101" y="87"/>
                </a:cubicBezTo>
                <a:cubicBezTo>
                  <a:pt x="3104" y="97"/>
                  <a:pt x="3103" y="109"/>
                  <a:pt x="3109" y="118"/>
                </a:cubicBezTo>
                <a:cubicBezTo>
                  <a:pt x="3144" y="168"/>
                  <a:pt x="3140" y="120"/>
                  <a:pt x="3140" y="15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24" name="Freeform 12"/>
          <p:cNvSpPr/>
          <p:nvPr/>
        </p:nvSpPr>
        <p:spPr>
          <a:xfrm>
            <a:off x="3886200" y="1871640"/>
            <a:ext cx="2157480" cy="463680"/>
          </a:xfrm>
          <a:custGeom>
            <a:avLst/>
            <a:gdLst>
              <a:gd name="textAreaLeft" fmla="*/ 0 w 2157480"/>
              <a:gd name="textAreaRight" fmla="*/ 2157840 w 2157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3144" h="292">
                <a:moveTo>
                  <a:pt x="0" y="181"/>
                </a:moveTo>
                <a:cubicBezTo>
                  <a:pt x="11" y="149"/>
                  <a:pt x="36" y="138"/>
                  <a:pt x="55" y="110"/>
                </a:cubicBezTo>
                <a:cubicBezTo>
                  <a:pt x="99" y="119"/>
                  <a:pt x="119" y="127"/>
                  <a:pt x="150" y="158"/>
                </a:cubicBezTo>
                <a:cubicBezTo>
                  <a:pt x="171" y="219"/>
                  <a:pt x="191" y="148"/>
                  <a:pt x="205" y="126"/>
                </a:cubicBezTo>
                <a:cubicBezTo>
                  <a:pt x="218" y="129"/>
                  <a:pt x="232" y="128"/>
                  <a:pt x="244" y="134"/>
                </a:cubicBezTo>
                <a:cubicBezTo>
                  <a:pt x="289" y="157"/>
                  <a:pt x="249" y="180"/>
                  <a:pt x="300" y="197"/>
                </a:cubicBezTo>
                <a:cubicBezTo>
                  <a:pt x="343" y="164"/>
                  <a:pt x="394" y="139"/>
                  <a:pt x="442" y="110"/>
                </a:cubicBezTo>
                <a:cubicBezTo>
                  <a:pt x="467" y="75"/>
                  <a:pt x="483" y="84"/>
                  <a:pt x="521" y="71"/>
                </a:cubicBezTo>
                <a:cubicBezTo>
                  <a:pt x="550" y="91"/>
                  <a:pt x="571" y="130"/>
                  <a:pt x="592" y="158"/>
                </a:cubicBezTo>
                <a:cubicBezTo>
                  <a:pt x="603" y="173"/>
                  <a:pt x="613" y="189"/>
                  <a:pt x="623" y="205"/>
                </a:cubicBezTo>
                <a:cubicBezTo>
                  <a:pt x="628" y="213"/>
                  <a:pt x="639" y="229"/>
                  <a:pt x="639" y="229"/>
                </a:cubicBezTo>
                <a:cubicBezTo>
                  <a:pt x="675" y="175"/>
                  <a:pt x="660" y="144"/>
                  <a:pt x="734" y="126"/>
                </a:cubicBezTo>
                <a:cubicBezTo>
                  <a:pt x="810" y="137"/>
                  <a:pt x="801" y="146"/>
                  <a:pt x="852" y="189"/>
                </a:cubicBezTo>
                <a:cubicBezTo>
                  <a:pt x="861" y="196"/>
                  <a:pt x="866" y="207"/>
                  <a:pt x="876" y="213"/>
                </a:cubicBezTo>
                <a:cubicBezTo>
                  <a:pt x="890" y="221"/>
                  <a:pt x="923" y="229"/>
                  <a:pt x="923" y="229"/>
                </a:cubicBezTo>
                <a:cubicBezTo>
                  <a:pt x="986" y="208"/>
                  <a:pt x="1031" y="118"/>
                  <a:pt x="1089" y="79"/>
                </a:cubicBezTo>
                <a:cubicBezTo>
                  <a:pt x="1109" y="50"/>
                  <a:pt x="1160" y="0"/>
                  <a:pt x="1160" y="0"/>
                </a:cubicBezTo>
                <a:cubicBezTo>
                  <a:pt x="1196" y="13"/>
                  <a:pt x="1239" y="39"/>
                  <a:pt x="1270" y="63"/>
                </a:cubicBezTo>
                <a:cubicBezTo>
                  <a:pt x="1299" y="85"/>
                  <a:pt x="1312" y="121"/>
                  <a:pt x="1341" y="142"/>
                </a:cubicBezTo>
                <a:cubicBezTo>
                  <a:pt x="1363" y="158"/>
                  <a:pt x="1394" y="172"/>
                  <a:pt x="1420" y="181"/>
                </a:cubicBezTo>
                <a:cubicBezTo>
                  <a:pt x="1446" y="178"/>
                  <a:pt x="1474" y="181"/>
                  <a:pt x="1499" y="173"/>
                </a:cubicBezTo>
                <a:cubicBezTo>
                  <a:pt x="1523" y="166"/>
                  <a:pt x="1528" y="134"/>
                  <a:pt x="1539" y="118"/>
                </a:cubicBezTo>
                <a:cubicBezTo>
                  <a:pt x="1562" y="85"/>
                  <a:pt x="1596" y="79"/>
                  <a:pt x="1633" y="71"/>
                </a:cubicBezTo>
                <a:cubicBezTo>
                  <a:pt x="1644" y="66"/>
                  <a:pt x="1653" y="55"/>
                  <a:pt x="1665" y="55"/>
                </a:cubicBezTo>
                <a:cubicBezTo>
                  <a:pt x="1725" y="55"/>
                  <a:pt x="1773" y="99"/>
                  <a:pt x="1799" y="150"/>
                </a:cubicBezTo>
                <a:cubicBezTo>
                  <a:pt x="1803" y="157"/>
                  <a:pt x="1802" y="167"/>
                  <a:pt x="1807" y="173"/>
                </a:cubicBezTo>
                <a:cubicBezTo>
                  <a:pt x="1815" y="182"/>
                  <a:pt x="1850" y="205"/>
                  <a:pt x="1862" y="213"/>
                </a:cubicBezTo>
                <a:cubicBezTo>
                  <a:pt x="1883" y="210"/>
                  <a:pt x="1905" y="212"/>
                  <a:pt x="1925" y="205"/>
                </a:cubicBezTo>
                <a:cubicBezTo>
                  <a:pt x="1936" y="201"/>
                  <a:pt x="1940" y="188"/>
                  <a:pt x="1949" y="181"/>
                </a:cubicBezTo>
                <a:cubicBezTo>
                  <a:pt x="1998" y="139"/>
                  <a:pt x="2097" y="36"/>
                  <a:pt x="2154" y="24"/>
                </a:cubicBezTo>
                <a:cubicBezTo>
                  <a:pt x="2172" y="29"/>
                  <a:pt x="2193" y="29"/>
                  <a:pt x="2209" y="39"/>
                </a:cubicBezTo>
                <a:cubicBezTo>
                  <a:pt x="2241" y="58"/>
                  <a:pt x="2273" y="97"/>
                  <a:pt x="2296" y="126"/>
                </a:cubicBezTo>
                <a:cubicBezTo>
                  <a:pt x="2304" y="168"/>
                  <a:pt x="2315" y="212"/>
                  <a:pt x="2351" y="237"/>
                </a:cubicBezTo>
                <a:cubicBezTo>
                  <a:pt x="2383" y="205"/>
                  <a:pt x="2401" y="169"/>
                  <a:pt x="2414" y="126"/>
                </a:cubicBezTo>
                <a:cubicBezTo>
                  <a:pt x="2429" y="75"/>
                  <a:pt x="2408" y="69"/>
                  <a:pt x="2462" y="55"/>
                </a:cubicBezTo>
                <a:cubicBezTo>
                  <a:pt x="2499" y="94"/>
                  <a:pt x="2512" y="157"/>
                  <a:pt x="2564" y="173"/>
                </a:cubicBezTo>
                <a:cubicBezTo>
                  <a:pt x="2651" y="155"/>
                  <a:pt x="2636" y="162"/>
                  <a:pt x="2683" y="95"/>
                </a:cubicBezTo>
                <a:cubicBezTo>
                  <a:pt x="2686" y="87"/>
                  <a:pt x="2686" y="65"/>
                  <a:pt x="2691" y="71"/>
                </a:cubicBezTo>
                <a:cubicBezTo>
                  <a:pt x="2707" y="91"/>
                  <a:pt x="2711" y="119"/>
                  <a:pt x="2722" y="142"/>
                </a:cubicBezTo>
                <a:cubicBezTo>
                  <a:pt x="2755" y="208"/>
                  <a:pt x="2779" y="256"/>
                  <a:pt x="2848" y="292"/>
                </a:cubicBezTo>
                <a:cubicBezTo>
                  <a:pt x="2864" y="289"/>
                  <a:pt x="2882" y="291"/>
                  <a:pt x="2896" y="284"/>
                </a:cubicBezTo>
                <a:cubicBezTo>
                  <a:pt x="2911" y="276"/>
                  <a:pt x="2911" y="249"/>
                  <a:pt x="2919" y="237"/>
                </a:cubicBezTo>
                <a:cubicBezTo>
                  <a:pt x="2965" y="165"/>
                  <a:pt x="3016" y="100"/>
                  <a:pt x="3038" y="16"/>
                </a:cubicBezTo>
                <a:cubicBezTo>
                  <a:pt x="3081" y="37"/>
                  <a:pt x="3072" y="48"/>
                  <a:pt x="3101" y="87"/>
                </a:cubicBezTo>
                <a:cubicBezTo>
                  <a:pt x="3104" y="97"/>
                  <a:pt x="3103" y="109"/>
                  <a:pt x="3109" y="118"/>
                </a:cubicBezTo>
                <a:cubicBezTo>
                  <a:pt x="3144" y="168"/>
                  <a:pt x="3140" y="120"/>
                  <a:pt x="3140" y="15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25" name="Group 13"/>
          <p:cNvGrpSpPr/>
          <p:nvPr/>
        </p:nvGrpSpPr>
        <p:grpSpPr>
          <a:xfrm>
            <a:off x="6934320" y="1333440"/>
            <a:ext cx="1368360" cy="3620520"/>
            <a:chOff x="6934320" y="1333440"/>
            <a:chExt cx="1368360" cy="3620520"/>
          </a:xfrm>
        </p:grpSpPr>
        <p:sp>
          <p:nvSpPr>
            <p:cNvPr id="726" name="Freeform 14"/>
            <p:cNvSpPr/>
            <p:nvPr/>
          </p:nvSpPr>
          <p:spPr>
            <a:xfrm>
              <a:off x="6934320" y="1333440"/>
              <a:ext cx="1295280" cy="289548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2895480"/>
                <a:gd name="textAreaBottom" fmla="*/ 2895840 h 2895480"/>
              </a:gdLst>
              <a:ahLst/>
              <a:rect l="textAreaLeft" t="textAreaTop" r="textAreaRight" b="textAreaBottom"/>
              <a:pathLst>
                <a:path w="2976" h="960">
                  <a:moveTo>
                    <a:pt x="0" y="0"/>
                  </a:moveTo>
                  <a:lnTo>
                    <a:pt x="0" y="960"/>
                  </a:lnTo>
                  <a:lnTo>
                    <a:pt x="2976" y="960"/>
                  </a:lnTo>
                </a:path>
              </a:pathLst>
            </a:custGeom>
            <a:noFill/>
            <a:ln w="12600">
              <a:solidFill>
                <a:srgbClr val="8383ad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7" name="Freeform 15"/>
            <p:cNvSpPr/>
            <p:nvPr/>
          </p:nvSpPr>
          <p:spPr>
            <a:xfrm>
              <a:off x="6935760" y="1752480"/>
              <a:ext cx="284040" cy="61092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610920"/>
                <a:gd name="textAreaBottom" fmla="*/ 611280 h 610920"/>
              </a:gdLst>
              <a:ahLst/>
              <a:rect l="textAreaLeft" t="textAreaTop" r="textAreaRight" b="textAreaBottom"/>
              <a:pathLst>
                <a:path w="179" h="182">
                  <a:moveTo>
                    <a:pt x="21" y="0"/>
                  </a:moveTo>
                  <a:cubicBezTo>
                    <a:pt x="0" y="62"/>
                    <a:pt x="65" y="66"/>
                    <a:pt x="108" y="79"/>
                  </a:cubicBezTo>
                  <a:cubicBezTo>
                    <a:pt x="124" y="84"/>
                    <a:pt x="139" y="90"/>
                    <a:pt x="155" y="95"/>
                  </a:cubicBezTo>
                  <a:cubicBezTo>
                    <a:pt x="163" y="98"/>
                    <a:pt x="179" y="103"/>
                    <a:pt x="179" y="103"/>
                  </a:cubicBezTo>
                  <a:cubicBezTo>
                    <a:pt x="136" y="132"/>
                    <a:pt x="171" y="113"/>
                    <a:pt x="100" y="127"/>
                  </a:cubicBezTo>
                  <a:cubicBezTo>
                    <a:pt x="79" y="131"/>
                    <a:pt x="37" y="142"/>
                    <a:pt x="37" y="142"/>
                  </a:cubicBezTo>
                  <a:cubicBezTo>
                    <a:pt x="6" y="162"/>
                    <a:pt x="13" y="148"/>
                    <a:pt x="13" y="18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8" name="Line 16"/>
            <p:cNvSpPr/>
            <p:nvPr/>
          </p:nvSpPr>
          <p:spPr>
            <a:xfrm>
              <a:off x="6954840" y="2253960"/>
              <a:ext cx="0" cy="1962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9" name="Line 17"/>
            <p:cNvSpPr/>
            <p:nvPr/>
          </p:nvSpPr>
          <p:spPr>
            <a:xfrm flipV="1">
              <a:off x="6967440" y="1663200"/>
              <a:ext cx="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0" name="Text Box 18"/>
            <p:cNvSpPr/>
            <p:nvPr/>
          </p:nvSpPr>
          <p:spPr>
            <a:xfrm>
              <a:off x="6981840" y="4311360"/>
              <a:ext cx="132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Probability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Distribution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31" name="Text Box 19"/>
          <p:cNvSpPr/>
          <p:nvPr/>
        </p:nvSpPr>
        <p:spPr>
          <a:xfrm>
            <a:off x="1265400" y="1690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2" name="Text Box 20"/>
          <p:cNvSpPr/>
          <p:nvPr/>
        </p:nvSpPr>
        <p:spPr>
          <a:xfrm>
            <a:off x="126396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33" name="Group 21"/>
          <p:cNvGrpSpPr/>
          <p:nvPr/>
        </p:nvGrpSpPr>
        <p:grpSpPr>
          <a:xfrm>
            <a:off x="1719360" y="3762360"/>
            <a:ext cx="709200" cy="228600"/>
            <a:chOff x="1719360" y="3762360"/>
            <a:chExt cx="709200" cy="228600"/>
          </a:xfrm>
        </p:grpSpPr>
        <p:sp>
          <p:nvSpPr>
            <p:cNvPr id="734" name="Freeform 22"/>
            <p:cNvSpPr/>
            <p:nvPr/>
          </p:nvSpPr>
          <p:spPr>
            <a:xfrm>
              <a:off x="1719360" y="3762360"/>
              <a:ext cx="662040" cy="22860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5" name="Line 23"/>
            <p:cNvSpPr/>
            <p:nvPr/>
          </p:nvSpPr>
          <p:spPr>
            <a:xfrm>
              <a:off x="2381400" y="3762360"/>
              <a:ext cx="4716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36" name="Group 24"/>
          <p:cNvGrpSpPr/>
          <p:nvPr/>
        </p:nvGrpSpPr>
        <p:grpSpPr>
          <a:xfrm>
            <a:off x="2428920" y="3905280"/>
            <a:ext cx="313920" cy="152280"/>
            <a:chOff x="2428920" y="3905280"/>
            <a:chExt cx="313920" cy="152280"/>
          </a:xfrm>
        </p:grpSpPr>
        <p:sp>
          <p:nvSpPr>
            <p:cNvPr id="737" name="Freeform 25"/>
            <p:cNvSpPr/>
            <p:nvPr/>
          </p:nvSpPr>
          <p:spPr>
            <a:xfrm>
              <a:off x="2428920" y="3905280"/>
              <a:ext cx="292320" cy="759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8" name="Line 26"/>
            <p:cNvSpPr/>
            <p:nvPr/>
          </p:nvSpPr>
          <p:spPr>
            <a:xfrm>
              <a:off x="2721240" y="3905280"/>
              <a:ext cx="216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39" name="Group 27"/>
          <p:cNvGrpSpPr/>
          <p:nvPr/>
        </p:nvGrpSpPr>
        <p:grpSpPr>
          <a:xfrm>
            <a:off x="3984480" y="3664080"/>
            <a:ext cx="974880" cy="380880"/>
            <a:chOff x="3984480" y="3664080"/>
            <a:chExt cx="974880" cy="380880"/>
          </a:xfrm>
        </p:grpSpPr>
        <p:sp>
          <p:nvSpPr>
            <p:cNvPr id="740" name="Freeform 28"/>
            <p:cNvSpPr/>
            <p:nvPr/>
          </p:nvSpPr>
          <p:spPr>
            <a:xfrm>
              <a:off x="3984480" y="3664080"/>
              <a:ext cx="939960" cy="380880"/>
            </a:xfrm>
            <a:custGeom>
              <a:avLst/>
              <a:gdLst>
                <a:gd name="textAreaLeft" fmla="*/ 0 w 939960"/>
                <a:gd name="textAreaRight" fmla="*/ 940320 w 9399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1" name="Line 29"/>
            <p:cNvSpPr/>
            <p:nvPr/>
          </p:nvSpPr>
          <p:spPr>
            <a:xfrm>
              <a:off x="4924440" y="3664080"/>
              <a:ext cx="34920" cy="2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42" name="Group 30"/>
          <p:cNvGrpSpPr/>
          <p:nvPr/>
        </p:nvGrpSpPr>
        <p:grpSpPr>
          <a:xfrm>
            <a:off x="2743200" y="3676680"/>
            <a:ext cx="974880" cy="380880"/>
            <a:chOff x="2743200" y="3676680"/>
            <a:chExt cx="974880" cy="380880"/>
          </a:xfrm>
        </p:grpSpPr>
        <p:sp>
          <p:nvSpPr>
            <p:cNvPr id="743" name="Freeform 31"/>
            <p:cNvSpPr/>
            <p:nvPr/>
          </p:nvSpPr>
          <p:spPr>
            <a:xfrm>
              <a:off x="2743200" y="3676680"/>
              <a:ext cx="939960" cy="380880"/>
            </a:xfrm>
            <a:custGeom>
              <a:avLst/>
              <a:gdLst>
                <a:gd name="textAreaLeft" fmla="*/ 0 w 939960"/>
                <a:gd name="textAreaRight" fmla="*/ 940320 w 9399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4" name="Line 32"/>
            <p:cNvSpPr/>
            <p:nvPr/>
          </p:nvSpPr>
          <p:spPr>
            <a:xfrm>
              <a:off x="3683160" y="3676680"/>
              <a:ext cx="34920" cy="2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45" name="Group 33"/>
          <p:cNvGrpSpPr/>
          <p:nvPr/>
        </p:nvGrpSpPr>
        <p:grpSpPr>
          <a:xfrm>
            <a:off x="3714840" y="3676680"/>
            <a:ext cx="2255760" cy="457200"/>
            <a:chOff x="3714840" y="3676680"/>
            <a:chExt cx="2255760" cy="457200"/>
          </a:xfrm>
        </p:grpSpPr>
        <p:grpSp>
          <p:nvGrpSpPr>
            <p:cNvPr id="746" name="Group 34"/>
            <p:cNvGrpSpPr/>
            <p:nvPr/>
          </p:nvGrpSpPr>
          <p:grpSpPr>
            <a:xfrm>
              <a:off x="4726080" y="3867120"/>
              <a:ext cx="301680" cy="228600"/>
              <a:chOff x="4726080" y="3867120"/>
              <a:chExt cx="301680" cy="228600"/>
            </a:xfrm>
          </p:grpSpPr>
          <p:sp>
            <p:nvSpPr>
              <p:cNvPr id="747" name="Freeform 35"/>
              <p:cNvSpPr/>
              <p:nvPr/>
            </p:nvSpPr>
            <p:spPr>
              <a:xfrm>
                <a:off x="4726080" y="3867120"/>
                <a:ext cx="281160" cy="15264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48" name="Line 36"/>
              <p:cNvSpPr/>
              <p:nvPr/>
            </p:nvSpPr>
            <p:spPr>
              <a:xfrm>
                <a:off x="5007240" y="3867120"/>
                <a:ext cx="2052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37"/>
            <p:cNvGrpSpPr/>
            <p:nvPr/>
          </p:nvGrpSpPr>
          <p:grpSpPr>
            <a:xfrm>
              <a:off x="3714840" y="3676680"/>
              <a:ext cx="709200" cy="228600"/>
              <a:chOff x="3714840" y="3676680"/>
              <a:chExt cx="709200" cy="228600"/>
            </a:xfrm>
          </p:grpSpPr>
          <p:sp>
            <p:nvSpPr>
              <p:cNvPr id="750" name="Freeform 38"/>
              <p:cNvSpPr/>
              <p:nvPr/>
            </p:nvSpPr>
            <p:spPr>
              <a:xfrm>
                <a:off x="3714840" y="3676680"/>
                <a:ext cx="662040" cy="228600"/>
              </a:xfrm>
              <a:custGeom>
                <a:avLst/>
                <a:gdLst>
                  <a:gd name="textAreaLeft" fmla="*/ 0 w 662040"/>
                  <a:gd name="textAreaRight" fmla="*/ 662400 w 6620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1" name="Line 39"/>
              <p:cNvSpPr/>
              <p:nvPr/>
            </p:nvSpPr>
            <p:spPr>
              <a:xfrm>
                <a:off x="4376880" y="3676680"/>
                <a:ext cx="4716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40"/>
            <p:cNvGrpSpPr/>
            <p:nvPr/>
          </p:nvGrpSpPr>
          <p:grpSpPr>
            <a:xfrm>
              <a:off x="4424400" y="3733920"/>
              <a:ext cx="301680" cy="304920"/>
              <a:chOff x="4424400" y="3733920"/>
              <a:chExt cx="301680" cy="304920"/>
            </a:xfrm>
          </p:grpSpPr>
          <p:sp>
            <p:nvSpPr>
              <p:cNvPr id="753" name="Freeform 41"/>
              <p:cNvSpPr/>
              <p:nvPr/>
            </p:nvSpPr>
            <p:spPr>
              <a:xfrm>
                <a:off x="4424400" y="3733920"/>
                <a:ext cx="280800" cy="1522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4" name="Line 42"/>
              <p:cNvSpPr/>
              <p:nvPr/>
            </p:nvSpPr>
            <p:spPr>
              <a:xfrm>
                <a:off x="4705200" y="3733920"/>
                <a:ext cx="2088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43"/>
            <p:cNvGrpSpPr/>
            <p:nvPr/>
          </p:nvGrpSpPr>
          <p:grpSpPr>
            <a:xfrm>
              <a:off x="5027760" y="3981600"/>
              <a:ext cx="280800" cy="152280"/>
              <a:chOff x="5027760" y="3981600"/>
              <a:chExt cx="280800" cy="152280"/>
            </a:xfrm>
          </p:grpSpPr>
          <p:sp>
            <p:nvSpPr>
              <p:cNvPr id="756" name="Freeform 44"/>
              <p:cNvSpPr/>
              <p:nvPr/>
            </p:nvSpPr>
            <p:spPr>
              <a:xfrm>
                <a:off x="5027760" y="3981600"/>
                <a:ext cx="261720" cy="10152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7" name="Line 45"/>
              <p:cNvSpPr/>
              <p:nvPr/>
            </p:nvSpPr>
            <p:spPr>
              <a:xfrm>
                <a:off x="5289480" y="3981600"/>
                <a:ext cx="1908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46"/>
            <p:cNvGrpSpPr/>
            <p:nvPr/>
          </p:nvGrpSpPr>
          <p:grpSpPr>
            <a:xfrm>
              <a:off x="5308560" y="3876840"/>
              <a:ext cx="662040" cy="228600"/>
              <a:chOff x="5308560" y="3876840"/>
              <a:chExt cx="662040" cy="228600"/>
            </a:xfrm>
          </p:grpSpPr>
          <p:sp>
            <p:nvSpPr>
              <p:cNvPr id="759" name="Freeform 47"/>
              <p:cNvSpPr/>
              <p:nvPr/>
            </p:nvSpPr>
            <p:spPr>
              <a:xfrm>
                <a:off x="5308560" y="3876840"/>
                <a:ext cx="662040" cy="228600"/>
              </a:xfrm>
              <a:custGeom>
                <a:avLst/>
                <a:gdLst>
                  <a:gd name="textAreaLeft" fmla="*/ 0 w 662040"/>
                  <a:gd name="textAreaRight" fmla="*/ 662400 w 6620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60" name="Line 48"/>
              <p:cNvSpPr/>
              <p:nvPr/>
            </p:nvSpPr>
            <p:spPr>
              <a:xfrm>
                <a:off x="5970600" y="3876840"/>
                <a:ext cx="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1" name="Group 49"/>
          <p:cNvGrpSpPr/>
          <p:nvPr/>
        </p:nvGrpSpPr>
        <p:grpSpPr>
          <a:xfrm>
            <a:off x="1728720" y="3625920"/>
            <a:ext cx="2255760" cy="457200"/>
            <a:chOff x="1728720" y="3625920"/>
            <a:chExt cx="2255760" cy="457200"/>
          </a:xfrm>
        </p:grpSpPr>
        <p:grpSp>
          <p:nvGrpSpPr>
            <p:cNvPr id="762" name="Group 50"/>
            <p:cNvGrpSpPr/>
            <p:nvPr/>
          </p:nvGrpSpPr>
          <p:grpSpPr>
            <a:xfrm>
              <a:off x="2739960" y="3816360"/>
              <a:ext cx="301680" cy="228600"/>
              <a:chOff x="2739960" y="3816360"/>
              <a:chExt cx="301680" cy="228600"/>
            </a:xfrm>
          </p:grpSpPr>
          <p:sp>
            <p:nvSpPr>
              <p:cNvPr id="763" name="Freeform 51"/>
              <p:cNvSpPr/>
              <p:nvPr/>
            </p:nvSpPr>
            <p:spPr>
              <a:xfrm>
                <a:off x="2739960" y="3816360"/>
                <a:ext cx="281160" cy="15264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64" name="Line 52"/>
              <p:cNvSpPr/>
              <p:nvPr/>
            </p:nvSpPr>
            <p:spPr>
              <a:xfrm>
                <a:off x="3021120" y="3816360"/>
                <a:ext cx="2052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53"/>
            <p:cNvGrpSpPr/>
            <p:nvPr/>
          </p:nvGrpSpPr>
          <p:grpSpPr>
            <a:xfrm>
              <a:off x="1728720" y="3625920"/>
              <a:ext cx="709200" cy="228600"/>
              <a:chOff x="1728720" y="3625920"/>
              <a:chExt cx="709200" cy="228600"/>
            </a:xfrm>
          </p:grpSpPr>
          <p:sp>
            <p:nvSpPr>
              <p:cNvPr id="766" name="Freeform 54"/>
              <p:cNvSpPr/>
              <p:nvPr/>
            </p:nvSpPr>
            <p:spPr>
              <a:xfrm>
                <a:off x="1728720" y="3625920"/>
                <a:ext cx="662040" cy="228600"/>
              </a:xfrm>
              <a:custGeom>
                <a:avLst/>
                <a:gdLst>
                  <a:gd name="textAreaLeft" fmla="*/ 0 w 662040"/>
                  <a:gd name="textAreaRight" fmla="*/ 662400 w 6620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67" name="Line 55"/>
              <p:cNvSpPr/>
              <p:nvPr/>
            </p:nvSpPr>
            <p:spPr>
              <a:xfrm>
                <a:off x="2390760" y="3625920"/>
                <a:ext cx="4716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Group 56"/>
            <p:cNvGrpSpPr/>
            <p:nvPr/>
          </p:nvGrpSpPr>
          <p:grpSpPr>
            <a:xfrm>
              <a:off x="2438280" y="3683160"/>
              <a:ext cx="301680" cy="304920"/>
              <a:chOff x="2438280" y="3683160"/>
              <a:chExt cx="301680" cy="304920"/>
            </a:xfrm>
          </p:grpSpPr>
          <p:sp>
            <p:nvSpPr>
              <p:cNvPr id="769" name="Freeform 57"/>
              <p:cNvSpPr/>
              <p:nvPr/>
            </p:nvSpPr>
            <p:spPr>
              <a:xfrm>
                <a:off x="2438280" y="3683160"/>
                <a:ext cx="280800" cy="1522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0" name="Line 58"/>
              <p:cNvSpPr/>
              <p:nvPr/>
            </p:nvSpPr>
            <p:spPr>
              <a:xfrm>
                <a:off x="2719080" y="3683160"/>
                <a:ext cx="2088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59"/>
            <p:cNvGrpSpPr/>
            <p:nvPr/>
          </p:nvGrpSpPr>
          <p:grpSpPr>
            <a:xfrm>
              <a:off x="3041640" y="3930840"/>
              <a:ext cx="280800" cy="152280"/>
              <a:chOff x="3041640" y="3930840"/>
              <a:chExt cx="280800" cy="152280"/>
            </a:xfrm>
          </p:grpSpPr>
          <p:sp>
            <p:nvSpPr>
              <p:cNvPr id="772" name="Freeform 60"/>
              <p:cNvSpPr/>
              <p:nvPr/>
            </p:nvSpPr>
            <p:spPr>
              <a:xfrm>
                <a:off x="3041640" y="3930840"/>
                <a:ext cx="261720" cy="101520"/>
              </a:xfrm>
              <a:custGeom>
                <a:avLst/>
                <a:gdLst>
                  <a:gd name="textAreaLeft" fmla="*/ 0 w 261720"/>
                  <a:gd name="textAreaRight" fmla="*/ 262080 w 2617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3" name="Line 61"/>
              <p:cNvSpPr/>
              <p:nvPr/>
            </p:nvSpPr>
            <p:spPr>
              <a:xfrm>
                <a:off x="3303360" y="3930840"/>
                <a:ext cx="1908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62"/>
            <p:cNvGrpSpPr/>
            <p:nvPr/>
          </p:nvGrpSpPr>
          <p:grpSpPr>
            <a:xfrm>
              <a:off x="3322440" y="3826080"/>
              <a:ext cx="662040" cy="228600"/>
              <a:chOff x="3322440" y="3826080"/>
              <a:chExt cx="662040" cy="228600"/>
            </a:xfrm>
          </p:grpSpPr>
          <p:sp>
            <p:nvSpPr>
              <p:cNvPr id="775" name="Freeform 63"/>
              <p:cNvSpPr/>
              <p:nvPr/>
            </p:nvSpPr>
            <p:spPr>
              <a:xfrm>
                <a:off x="3322440" y="3826080"/>
                <a:ext cx="662040" cy="228600"/>
              </a:xfrm>
              <a:custGeom>
                <a:avLst/>
                <a:gdLst>
                  <a:gd name="textAreaLeft" fmla="*/ 0 w 662040"/>
                  <a:gd name="textAreaRight" fmla="*/ 662400 w 6620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480" h="528">
                    <a:moveTo>
                      <a:pt x="0" y="528"/>
                    </a:moveTo>
                    <a:cubicBezTo>
                      <a:pt x="44" y="444"/>
                      <a:pt x="88" y="360"/>
                      <a:pt x="144" y="288"/>
                    </a:cubicBezTo>
                    <a:cubicBezTo>
                      <a:pt x="200" y="216"/>
                      <a:pt x="280" y="144"/>
                      <a:pt x="336" y="96"/>
                    </a:cubicBezTo>
                    <a:cubicBezTo>
                      <a:pt x="392" y="48"/>
                      <a:pt x="436" y="24"/>
                      <a:pt x="480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76" name="Line 64"/>
              <p:cNvSpPr/>
              <p:nvPr/>
            </p:nvSpPr>
            <p:spPr>
              <a:xfrm>
                <a:off x="3984480" y="3826080"/>
                <a:ext cx="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7" name="Group 65"/>
          <p:cNvGrpSpPr/>
          <p:nvPr/>
        </p:nvGrpSpPr>
        <p:grpSpPr>
          <a:xfrm>
            <a:off x="457200" y="2570040"/>
            <a:ext cx="6324480" cy="3983040"/>
            <a:chOff x="457200" y="2570040"/>
            <a:chExt cx="6324480" cy="3983040"/>
          </a:xfrm>
        </p:grpSpPr>
        <p:sp>
          <p:nvSpPr>
            <p:cNvPr id="778" name="Rectangle 66"/>
            <p:cNvSpPr/>
            <p:nvPr/>
          </p:nvSpPr>
          <p:spPr>
            <a:xfrm>
              <a:off x="457200" y="2570040"/>
              <a:ext cx="6324480" cy="3983040"/>
            </a:xfrm>
            <a:prstGeom prst="rect">
              <a:avLst/>
            </a:prstGeom>
            <a:solidFill>
              <a:srgbClr val="fefed6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pic>
          <p:nvPicPr>
            <p:cNvPr id="779" name="Picture 67" descr=""/>
            <p:cNvPicPr/>
            <p:nvPr/>
          </p:nvPicPr>
          <p:blipFill>
            <a:blip r:embed="rId1"/>
            <a:stretch/>
          </p:blipFill>
          <p:spPr>
            <a:xfrm>
              <a:off x="577800" y="2808000"/>
              <a:ext cx="5899320" cy="356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0" name="Group 68"/>
          <p:cNvGrpSpPr/>
          <p:nvPr/>
        </p:nvGrpSpPr>
        <p:grpSpPr>
          <a:xfrm>
            <a:off x="1828800" y="3306600"/>
            <a:ext cx="3733920" cy="3170160"/>
            <a:chOff x="1828800" y="3306600"/>
            <a:chExt cx="3733920" cy="3170160"/>
          </a:xfrm>
        </p:grpSpPr>
        <p:sp>
          <p:nvSpPr>
            <p:cNvPr id="781" name="Line 69"/>
            <p:cNvSpPr/>
            <p:nvPr/>
          </p:nvSpPr>
          <p:spPr>
            <a:xfrm>
              <a:off x="1828800" y="3306600"/>
              <a:ext cx="0" cy="3170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2" name="Line 70"/>
            <p:cNvSpPr/>
            <p:nvPr/>
          </p:nvSpPr>
          <p:spPr>
            <a:xfrm>
              <a:off x="5562720" y="3306600"/>
              <a:ext cx="0" cy="3170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3" name="Line 71"/>
            <p:cNvSpPr/>
            <p:nvPr/>
          </p:nvSpPr>
          <p:spPr>
            <a:xfrm>
              <a:off x="1828800" y="4754520"/>
              <a:ext cx="373392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4" name="Text Box 72"/>
            <p:cNvSpPr/>
            <p:nvPr/>
          </p:nvSpPr>
          <p:spPr>
            <a:xfrm>
              <a:off x="3043440" y="438768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Buffer Size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5" name="Object 73"/>
              <p:cNvSpPr txBox="1"/>
              <p:nvPr/>
            </p:nvSpPr>
            <p:spPr>
              <a:xfrm>
                <a:off x="1212840" y="1273320"/>
                <a:ext cx="5065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W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7407E-006 L -0.35833 0.41112 E">
                                      <p:cBhvr>
                                        <p:cTn id="16" dur="1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8251-85C9-4590-96AC-83C659080C9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Model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congestion behavior of TCP can we predict what type of performance we should g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important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how often window is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increase rate and relates BW to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performance during loss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increas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C52C-081B-4E1C-975F-BD31FBE5E03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5" name="Rectangle 2"/>
          <p:cNvSpPr/>
          <p:nvPr/>
        </p:nvSpPr>
        <p:spPr>
          <a:xfrm>
            <a:off x="533520" y="2819520"/>
            <a:ext cx="822960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all TCP Behavi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27" name="Line 4"/>
          <p:cNvSpPr/>
          <p:nvPr/>
        </p:nvSpPr>
        <p:spPr>
          <a:xfrm>
            <a:off x="2438280" y="57150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8" name="Line 5"/>
          <p:cNvSpPr/>
          <p:nvPr/>
        </p:nvSpPr>
        <p:spPr>
          <a:xfrm flipV="1">
            <a:off x="2438280" y="2971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9" name="Text Box 6"/>
          <p:cNvSpPr/>
          <p:nvPr/>
        </p:nvSpPr>
        <p:spPr>
          <a:xfrm>
            <a:off x="4371120" y="5754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0" name="Text Box 7"/>
          <p:cNvSpPr/>
          <p:nvPr/>
        </p:nvSpPr>
        <p:spPr>
          <a:xfrm>
            <a:off x="1146600" y="39625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531" name="Group 8"/>
          <p:cNvGrpSpPr/>
          <p:nvPr/>
        </p:nvGrpSpPr>
        <p:grpSpPr>
          <a:xfrm>
            <a:off x="2438280" y="3352680"/>
            <a:ext cx="4114080" cy="2361600"/>
            <a:chOff x="2438280" y="3352680"/>
            <a:chExt cx="4114080" cy="2361600"/>
          </a:xfrm>
        </p:grpSpPr>
        <p:sp>
          <p:nvSpPr>
            <p:cNvPr id="1532" name="Freeform 9"/>
            <p:cNvSpPr/>
            <p:nvPr/>
          </p:nvSpPr>
          <p:spPr>
            <a:xfrm>
              <a:off x="2438280" y="3352680"/>
              <a:ext cx="1199880" cy="230508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2305080"/>
                <a:gd name="textAreaBottom" fmla="*/ 2305440 h 2305080"/>
              </a:gdLst>
              <a:ahLst/>
              <a:rect l="textAreaLeft" t="textAreaTop" r="textAreaRight" b="textAreaBottom"/>
              <a:pathLst>
                <a:path w="322" h="539">
                  <a:moveTo>
                    <a:pt x="0" y="539"/>
                  </a:moveTo>
                  <a:cubicBezTo>
                    <a:pt x="30" y="531"/>
                    <a:pt x="132" y="522"/>
                    <a:pt x="178" y="480"/>
                  </a:cubicBezTo>
                  <a:cubicBezTo>
                    <a:pt x="224" y="438"/>
                    <a:pt x="250" y="368"/>
                    <a:pt x="274" y="288"/>
                  </a:cubicBezTo>
                  <a:cubicBezTo>
                    <a:pt x="298" y="208"/>
                    <a:pt x="310" y="104"/>
                    <a:pt x="322" y="0"/>
                  </a:cubicBez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3" name="Line 10"/>
            <p:cNvSpPr/>
            <p:nvPr/>
          </p:nvSpPr>
          <p:spPr>
            <a:xfrm>
              <a:off x="3660840" y="3454560"/>
              <a:ext cx="0" cy="2259720"/>
            </a:xfrm>
            <a:prstGeom prst="line">
              <a:avLst/>
            </a:prstGeom>
            <a:ln w="936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4" name="Freeform 11"/>
            <p:cNvSpPr/>
            <p:nvPr/>
          </p:nvSpPr>
          <p:spPr>
            <a:xfrm>
              <a:off x="3690360" y="4892400"/>
              <a:ext cx="715680" cy="821520"/>
            </a:xfrm>
            <a:custGeom>
              <a:avLst/>
              <a:gdLst>
                <a:gd name="textAreaLeft" fmla="*/ 0 w 715680"/>
                <a:gd name="textAreaRight" fmla="*/ 716040 w 715680"/>
                <a:gd name="textAreaTop" fmla="*/ 0 h 821520"/>
                <a:gd name="textAreaBottom" fmla="*/ 821880 h 82152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192"/>
                  </a:moveTo>
                  <a:cubicBezTo>
                    <a:pt x="32" y="184"/>
                    <a:pt x="64" y="176"/>
                    <a:pt x="96" y="144"/>
                  </a:cubicBezTo>
                  <a:cubicBezTo>
                    <a:pt x="128" y="112"/>
                    <a:pt x="160" y="56"/>
                    <a:pt x="192" y="0"/>
                  </a:cubicBez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5" name="Line 12"/>
            <p:cNvSpPr/>
            <p:nvPr/>
          </p:nvSpPr>
          <p:spPr>
            <a:xfrm flipV="1">
              <a:off x="4406040" y="4482000"/>
              <a:ext cx="357120" cy="4104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6" name="Line 13"/>
            <p:cNvSpPr/>
            <p:nvPr/>
          </p:nvSpPr>
          <p:spPr>
            <a:xfrm>
              <a:off x="4763520" y="4482000"/>
              <a:ext cx="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7" name="Line 14"/>
            <p:cNvSpPr/>
            <p:nvPr/>
          </p:nvSpPr>
          <p:spPr>
            <a:xfrm flipV="1">
              <a:off x="4763520" y="4481640"/>
              <a:ext cx="35712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8" name="Line 15"/>
            <p:cNvSpPr/>
            <p:nvPr/>
          </p:nvSpPr>
          <p:spPr>
            <a:xfrm>
              <a:off x="5121000" y="4482000"/>
              <a:ext cx="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9" name="Line 16"/>
            <p:cNvSpPr/>
            <p:nvPr/>
          </p:nvSpPr>
          <p:spPr>
            <a:xfrm flipV="1">
              <a:off x="5121000" y="4481640"/>
              <a:ext cx="35820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0" name="Line 17"/>
            <p:cNvSpPr/>
            <p:nvPr/>
          </p:nvSpPr>
          <p:spPr>
            <a:xfrm>
              <a:off x="5479200" y="4482000"/>
              <a:ext cx="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1" name="Line 18"/>
            <p:cNvSpPr/>
            <p:nvPr/>
          </p:nvSpPr>
          <p:spPr>
            <a:xfrm flipV="1">
              <a:off x="5479200" y="4481640"/>
              <a:ext cx="35712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2" name="Line 19"/>
            <p:cNvSpPr/>
            <p:nvPr/>
          </p:nvSpPr>
          <p:spPr>
            <a:xfrm>
              <a:off x="5836680" y="4482000"/>
              <a:ext cx="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3" name="Line 20"/>
            <p:cNvSpPr/>
            <p:nvPr/>
          </p:nvSpPr>
          <p:spPr>
            <a:xfrm flipV="1">
              <a:off x="5836680" y="4481640"/>
              <a:ext cx="35712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4" name="Line 21"/>
            <p:cNvSpPr/>
            <p:nvPr/>
          </p:nvSpPr>
          <p:spPr>
            <a:xfrm>
              <a:off x="6194160" y="4482000"/>
              <a:ext cx="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5" name="Line 22"/>
            <p:cNvSpPr/>
            <p:nvPr/>
          </p:nvSpPr>
          <p:spPr>
            <a:xfrm flipV="1">
              <a:off x="6194160" y="4481640"/>
              <a:ext cx="35820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6" name="Line 23"/>
            <p:cNvSpPr/>
            <p:nvPr/>
          </p:nvSpPr>
          <p:spPr>
            <a:xfrm>
              <a:off x="6552360" y="4482000"/>
              <a:ext cx="0" cy="61596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547" name="Rectangle 24"/>
          <p:cNvSpPr/>
          <p:nvPr/>
        </p:nvSpPr>
        <p:spPr>
          <a:xfrm>
            <a:off x="685800" y="1219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8" name="Rectangle 25"/>
          <p:cNvSpPr/>
          <p:nvPr/>
        </p:nvSpPr>
        <p:spPr>
          <a:xfrm>
            <a:off x="3049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concentrate on steady state behavior with no timeouts and perfect loss recovery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49BD-12EC-4154-9D6B-42B3B70E5F0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imple TCP Mode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dditional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R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elayed 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teady state, TCP losses packet each time window reaches W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 drops to W/2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RTT window increases by 1 packe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/2 * RTT before nex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W = MSS * avg window/RT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S * (W + W/2)/(2 * R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75 * MSS * W / R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C485-6860-45FD-B30B-A8198335A3A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imple Loss Mode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loss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transferred between losses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g BW * tim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75 W/RTT) * (W/2 * RTT) = 3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acket lo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ss rate = p = 8/3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= sqrt( 8 / (3 * loss rate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W = .75 * MSS * W / R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W = MSS / (RTT * sqrt (2/3p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4DAB-0167-4B1D-B150-CE5505546BC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Friendli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mean to be TCP friend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is not going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new congestion control must compete with TCP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not clobber TCP flows and grab bulk of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also be able to hold its own, i.e. grab its fair share, or it will never become pop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is quantified/sh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evolved into evaluating loss/throughpu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shows 1/sqrt(p) behavior it i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s this really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Slide Number Placeholder 5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FB01-E6A3-4798-8290-198C6DDA85F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Central Limit Theorem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457200" y="1806480"/>
            <a:ext cx="822960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457200" y="16002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 tells us that the more variables (Congestion Windows of Flows) we have, the narrower the Gaussian (Fluctuation of sum of windows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of Gaussian decreases with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 size should also decreases with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Object 5"/>
              <p:cNvSpPr txBox="1"/>
              <p:nvPr/>
            </p:nvSpPr>
            <p:spPr>
              <a:xfrm>
                <a:off x="2744640" y="4038480"/>
                <a:ext cx="30290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×</m:t>
                        </m:r>
                        <m:r>
                          <m:t xml:space="preserve">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ct 6"/>
              <p:cNvSpPr txBox="1"/>
              <p:nvPr/>
            </p:nvSpPr>
            <p:spPr>
              <a:xfrm>
                <a:off x="5943600" y="2805120"/>
                <a:ext cx="4302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Object 7"/>
              <p:cNvSpPr txBox="1"/>
              <p:nvPr/>
            </p:nvSpPr>
            <p:spPr>
              <a:xfrm>
                <a:off x="6570720" y="3029040"/>
                <a:ext cx="44748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7ED6-0077-4256-9F73-99B084A0D5B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794" name="Picture 2" descr="new-simple"/>
          <p:cNvPicPr/>
          <p:nvPr/>
        </p:nvPicPr>
        <p:blipFill>
          <a:blip r:embed="rId1"/>
          <a:stretch/>
        </p:blipFill>
        <p:spPr>
          <a:xfrm>
            <a:off x="457200" y="1077840"/>
            <a:ext cx="7924680" cy="550548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404176"/>
                </a:solidFill>
                <a:latin typeface="Arial"/>
              </a:rPr>
              <a:t>Required buffer siz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796" name="Object 4"/>
          <p:cNvGraphicFramePr/>
          <p:nvPr/>
        </p:nvGraphicFramePr>
        <p:xfrm>
          <a:off x="3540240" y="3505320"/>
          <a:ext cx="844560" cy="75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40240" y="3505320"/>
                    <a:ext cx="84456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Line 5"/>
          <p:cNvSpPr/>
          <p:nvPr/>
        </p:nvSpPr>
        <p:spPr>
          <a:xfrm flipV="1">
            <a:off x="3124080" y="5105520"/>
            <a:ext cx="457200" cy="3808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9" name="Line 6"/>
          <p:cNvSpPr/>
          <p:nvPr/>
        </p:nvSpPr>
        <p:spPr>
          <a:xfrm>
            <a:off x="3962520" y="4289400"/>
            <a:ext cx="0" cy="6955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2089440" y="541008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05:05:24Z</dcterms:created>
  <dc:creator>Srinivasan Seshan</dc:creator>
  <dc:description/>
  <dc:language>en-US</dc:language>
  <cp:lastModifiedBy>Srinivasan Seshan</cp:lastModifiedBy>
  <dcterms:modified xsi:type="dcterms:W3CDTF">2017-02-22T17:33:11Z</dcterms:modified>
  <cp:revision>73</cp:revision>
  <dc:subject/>
  <dc:title>15-744: Computer Networking</dc:title>
</cp:coreProperties>
</file>