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83047-82C0-4A51-B1B8-7AD6862E8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201D7-6975-4BEB-BE05-7362913B7BD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1E559-E367-4A33-84E2-E99565D4E8C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B3AAF-BA60-49B5-9B14-7F4B5FF5C3E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1278000" y="3474720"/>
            <a:ext cx="704376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C9ED2-F7AF-4CB6-84DF-F3469E028C0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1278000" y="3474720"/>
            <a:ext cx="704376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311DE-E22E-471B-948C-F0459B92EDA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9F128-399A-4D97-9EB2-6F653CD7DD5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1278000" y="3474720"/>
            <a:ext cx="704376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37877-9CE6-47C1-81C4-FB818C19BDD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42204-99D6-4537-B9D7-24332253FCC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5A873-D12E-4AF9-B2A2-F0806EC3397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B1E94-527E-4101-A489-E9B924F838E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34D-3C78-48BB-92B8-F369ECCB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73B-6FED-4EC4-8381-36A66D9C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624-78C9-4E7D-94CB-C1086658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BB9-8651-4E80-A59A-F1718C22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3BD8-AF30-4CD9-9FAC-2147B996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5FBB-1AE2-4563-BE13-955B3F4E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7922-A899-4702-8A75-B6B0C16B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41F5-0F43-4661-991E-B2F95583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6D06-B927-4663-B318-56F3C77E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319B-A4E1-42E9-BFA8-389E78E7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2368-7692-4CCC-BDEC-C93D604D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1DE-65D6-40DB-BF7F-CD4BC31B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E29E-33EC-43EA-955D-1CFA13BC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7B66-5EF7-45DF-A1A3-9F63D76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6798-F914-4C6A-A11A-CF74A2E0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BBD3-FE02-412F-AFE9-F90C03CD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5E23-7149-4813-9694-B2D07F70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397-8651-4FF5-AE64-C928CFB8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FC4-437B-4AD2-B694-E488D786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440-1714-403D-BF70-A31B01D9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F6E-5358-4563-A68D-4B380F80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00E-4448-4FCC-B4D3-F5FDCF6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635-0C12-4095-86CC-4AB93B5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78E-5578-49F8-8F36-10D4BA5A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26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26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" name="Rectangle 26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4" name="Group 26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26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" name="Rectangle 27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" name="Group 27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27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" name="Rectangle 27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27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27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" name="Rectangle 27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27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27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" name="Rectangle 27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28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28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" name="Rectangle 28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8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8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" name="Rectangle 28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28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8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" name="Rectangle 28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352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292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" name="Rectangle 293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" name="Rectangle 294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" name="Rectangle 295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" name="Rectangle 296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" name="Rectangle 297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" name="Rectangle 298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" name="Rectangle 299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" name="Rectangle 300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" name="Rectangle 301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" name="Rectangle 302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" name="Rectangle 303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" name="Rectangle 304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" name="Rectangle 305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" name="Rectangle 306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" name="Rectangle 307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" name="Rectangle 308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" name="Rectangle 309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" name="Rectangle 310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" name="Rectangle 311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" name="Rectangle 312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" name="Rectangle 313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" name="Rectangle 314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" name="Rectangle 315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" name="Rectangle 316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" name="Rectangle 317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" name="Rectangle 318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" name="Rectangle 319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" name="Rectangle 320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" name="Rectangle 321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" name="Rectangle 322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" name="Rectangle 323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60" name="Group 3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3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3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3" name="Rectangle 3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3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6" name="Rectangle 3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3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9" name="Rectangle 3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3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2" name="Rectangle 3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3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5" name="Rectangle 3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3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8" name="Rectangle 3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3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1" name="Rectangle 3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3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4" name="Rectangle 3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3; 1-22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BA64-9348-44D8-B92D-766DF6A4597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8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38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0" name="Freeform 38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1" name="Freeform 38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" name="Freeform 38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3" name="Freeform 38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4" name="Freeform 38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5" name="Freeform 38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" name="Freeform 38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97" name="Group 38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39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9" name="Freeform 39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0" name="Freeform 39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1" name="Freeform 39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9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39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4" name="Freeform 39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5" name="Freeform 39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6" name="Freeform 398"/>
              <p:cNvSpPr/>
              <p:nvPr/>
            </p:nvSpPr>
            <p:spPr>
              <a:xfrm>
                <a:off x="877212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9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40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9" name="Freeform 40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0" name="Freeform 40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1" name="Freeform 40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112" name="Freeform 40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Freeform 40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40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40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40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40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Freeform 41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Freeform 41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41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Freeform 41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Freeform 41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41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41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41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41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41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42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42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Freeform 42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Freeform 42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42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315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70" name="Rectangle 9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75" name="Group 28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76" name="Group 7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77" name="Rectangle 1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78" name="Rectangle 1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80" name="Rectangle 1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1" name="Rectangle 1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83" name="Rectangle 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4" name="Rectangle 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86" name="Rectangle 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7" name="Rectangle 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89" name="Rectangle 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92" name="Rectangle 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3" name="Rectangle 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95" name="Rectangle 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6" name="Rectangle 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98" name="Rectangle 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9" name="Rectangle 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320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01" name="Group 321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02" name="Rectangle 322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3" name="Rectangle 323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24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05" name="Rectangle 325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6" name="Rectangle 326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27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08" name="Rectangle 328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9" name="Rectangle 329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330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11" name="Rectangle 331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2" name="Rectangle 332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333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14" name="Rectangle 334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5" name="Rectangle 335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36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17" name="Rectangle 337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8" name="Rectangle 338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39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20" name="Rectangle 340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1" name="Rectangle 341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342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23" name="Rectangle 343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4" name="Rectangle 344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345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26" name="Group 346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27" name="Rectangle 347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8" name="Rectangle 348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49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30" name="Rectangle 350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1" name="Rectangle 351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352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33" name="Rectangle 353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4" name="Rectangle 354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55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36" name="Rectangle 356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7" name="Rectangle 357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58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39" name="Rectangle 359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0" name="Rectangle 360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61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42" name="Rectangle 362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3" name="Rectangle 363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64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245" name="Rectangle 365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6" name="Rectangle 366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67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248" name="Rectangle 368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9" name="Rectangle 369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Group 443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251" name="Line 444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Freeform 445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Freeform 446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Freeform 447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Freeform 448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Freeform 449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Freeform 450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Freeform 451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259" name="Group 452"/>
            <p:cNvGrpSpPr/>
            <p:nvPr/>
          </p:nvGrpSpPr>
          <p:grpSpPr>
            <a:xfrm>
              <a:off x="4558680" y="5444280"/>
              <a:ext cx="272880" cy="225720"/>
              <a:chOff x="4558680" y="5444280"/>
              <a:chExt cx="272880" cy="225720"/>
            </a:xfrm>
          </p:grpSpPr>
          <p:sp>
            <p:nvSpPr>
              <p:cNvPr id="260" name="Freeform 453"/>
              <p:cNvSpPr/>
              <p:nvPr/>
            </p:nvSpPr>
            <p:spPr>
              <a:xfrm>
                <a:off x="4712760" y="5448960"/>
                <a:ext cx="118800" cy="10872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1" name="Freeform 454"/>
              <p:cNvSpPr/>
              <p:nvPr/>
            </p:nvSpPr>
            <p:spPr>
              <a:xfrm>
                <a:off x="4558680" y="5444280"/>
                <a:ext cx="154080" cy="11376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2" name="Freeform 455"/>
              <p:cNvSpPr/>
              <p:nvPr/>
            </p:nvSpPr>
            <p:spPr>
              <a:xfrm>
                <a:off x="4558680" y="555624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3" name="Freeform 456"/>
              <p:cNvSpPr/>
              <p:nvPr/>
            </p:nvSpPr>
            <p:spPr>
              <a:xfrm>
                <a:off x="4677480" y="5556240"/>
                <a:ext cx="152640" cy="11376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457"/>
            <p:cNvGrpSpPr/>
            <p:nvPr/>
          </p:nvGrpSpPr>
          <p:grpSpPr>
            <a:xfrm>
              <a:off x="4783680" y="5805360"/>
              <a:ext cx="272880" cy="225360"/>
              <a:chOff x="4783680" y="5805360"/>
              <a:chExt cx="272880" cy="225360"/>
            </a:xfrm>
          </p:grpSpPr>
          <p:sp>
            <p:nvSpPr>
              <p:cNvPr id="265" name="Freeform 458"/>
              <p:cNvSpPr/>
              <p:nvPr/>
            </p:nvSpPr>
            <p:spPr>
              <a:xfrm>
                <a:off x="4937760" y="581004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6" name="Freeform 459"/>
              <p:cNvSpPr/>
              <p:nvPr/>
            </p:nvSpPr>
            <p:spPr>
              <a:xfrm>
                <a:off x="478368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7" name="Freeform 460"/>
              <p:cNvSpPr/>
              <p:nvPr/>
            </p:nvSpPr>
            <p:spPr>
              <a:xfrm>
                <a:off x="4783680" y="591624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8" name="Freeform 461"/>
              <p:cNvSpPr/>
              <p:nvPr/>
            </p:nvSpPr>
            <p:spPr>
              <a:xfrm>
                <a:off x="490320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462"/>
            <p:cNvGrpSpPr/>
            <p:nvPr/>
          </p:nvGrpSpPr>
          <p:grpSpPr>
            <a:xfrm>
              <a:off x="4331880" y="5806440"/>
              <a:ext cx="273240" cy="225720"/>
              <a:chOff x="4331880" y="5806440"/>
              <a:chExt cx="273240" cy="225720"/>
            </a:xfrm>
          </p:grpSpPr>
          <p:sp>
            <p:nvSpPr>
              <p:cNvPr id="270" name="Freeform 463"/>
              <p:cNvSpPr/>
              <p:nvPr/>
            </p:nvSpPr>
            <p:spPr>
              <a:xfrm>
                <a:off x="4485960" y="581112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1" name="Freeform 464"/>
              <p:cNvSpPr/>
              <p:nvPr/>
            </p:nvSpPr>
            <p:spPr>
              <a:xfrm>
                <a:off x="4331880" y="580644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2" name="Freeform 465"/>
              <p:cNvSpPr/>
              <p:nvPr/>
            </p:nvSpPr>
            <p:spPr>
              <a:xfrm>
                <a:off x="4331880" y="591948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3" name="Freeform 466"/>
              <p:cNvSpPr/>
              <p:nvPr/>
            </p:nvSpPr>
            <p:spPr>
              <a:xfrm>
                <a:off x="4449240" y="591948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274" name="Freeform 467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Freeform 468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469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470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8" name="Line 471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9" name="Line 472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Freeform 473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Freeform 474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Line 475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Freeform 47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4" name="Freeform 477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5" name="Line 478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Line 479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Line 480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Line 481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Line 482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Line 483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Line 484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Freeform 48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Freeform 486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Line 487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3; 1-22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03A0-1BC2-4D67-934A-6C631D5A92E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bank.com/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2 Design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Standardiz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um set of assumptions for underlying 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um pack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delivery odds, but not 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form of addressing unless point to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ortant non-assumptio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ect re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, multi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y handling of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knowledge of delays, speeds, failur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so achieves Goal 3: Supporting Varieties of Networ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CA2C-4AE8-4D01-B053-E9E6E9CB4A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Hourgla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56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interconnect many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underlying technology from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rovides minimal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wa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80880" y="6033960"/>
            <a:ext cx="8305920" cy="52056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radeoff: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e2e01"/>
                </a:solidFill>
                <a:latin typeface="Arial"/>
              </a:rPr>
              <a:t>No assumptions, no guarantee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7516800" y="39625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7517520" y="25909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86560" y="2149560"/>
            <a:ext cx="1600200" cy="2574360"/>
            <a:chOff x="5686560" y="2149560"/>
            <a:chExt cx="1600200" cy="2574360"/>
          </a:xfrm>
        </p:grpSpPr>
        <p:grpSp>
          <p:nvGrpSpPr>
            <p:cNvPr id="378" name="Group 8"/>
            <p:cNvGrpSpPr/>
            <p:nvPr/>
          </p:nvGrpSpPr>
          <p:grpSpPr>
            <a:xfrm>
              <a:off x="5762880" y="2301480"/>
              <a:ext cx="1447920" cy="2285280"/>
              <a:chOff x="5762880" y="2301480"/>
              <a:chExt cx="1447920" cy="2285280"/>
            </a:xfrm>
          </p:grpSpPr>
          <p:sp>
            <p:nvSpPr>
              <p:cNvPr id="379" name="Rectangle 9"/>
              <p:cNvSpPr/>
              <p:nvPr/>
            </p:nvSpPr>
            <p:spPr>
              <a:xfrm>
                <a:off x="5762880" y="371088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0" name="Rectangle 10"/>
              <p:cNvSpPr/>
              <p:nvPr/>
            </p:nvSpPr>
            <p:spPr>
              <a:xfrm>
                <a:off x="5762880" y="3977640"/>
                <a:ext cx="1447920" cy="2664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1" name="Rectangle 11"/>
              <p:cNvSpPr/>
              <p:nvPr/>
            </p:nvSpPr>
            <p:spPr>
              <a:xfrm>
                <a:off x="5762880" y="4244400"/>
                <a:ext cx="1447920" cy="342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2" name="Rectangle 12"/>
              <p:cNvSpPr/>
              <p:nvPr/>
            </p:nvSpPr>
            <p:spPr>
              <a:xfrm>
                <a:off x="5762880" y="2301480"/>
                <a:ext cx="1447920" cy="3045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3" name="Rectangle 13"/>
              <p:cNvSpPr/>
              <p:nvPr/>
            </p:nvSpPr>
            <p:spPr>
              <a:xfrm>
                <a:off x="5762880" y="291096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4" name="Rectangle 14"/>
              <p:cNvSpPr/>
              <p:nvPr/>
            </p:nvSpPr>
            <p:spPr>
              <a:xfrm>
                <a:off x="5762880" y="3177720"/>
                <a:ext cx="1447920" cy="5328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85" name="Rectangle 15"/>
              <p:cNvSpPr/>
              <p:nvPr/>
            </p:nvSpPr>
            <p:spPr>
              <a:xfrm>
                <a:off x="5762880" y="2606040"/>
                <a:ext cx="1447920" cy="304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386" name="Freeform 16"/>
            <p:cNvSpPr/>
            <p:nvPr/>
          </p:nvSpPr>
          <p:spPr>
            <a:xfrm>
              <a:off x="5762880" y="2293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 flipV="1">
              <a:off x="5762880" y="3436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 flipH="1">
              <a:off x="6577200" y="2293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 flipH="1" flipV="1">
              <a:off x="6577200" y="3436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0" name="Rectangle 20"/>
            <p:cNvSpPr/>
            <p:nvPr/>
          </p:nvSpPr>
          <p:spPr>
            <a:xfrm>
              <a:off x="5686560" y="2255400"/>
              <a:ext cx="11448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1" name="Rectangle 21"/>
            <p:cNvSpPr/>
            <p:nvPr/>
          </p:nvSpPr>
          <p:spPr>
            <a:xfrm>
              <a:off x="7188480" y="2255400"/>
              <a:ext cx="3816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2" name="AutoShape 22"/>
            <p:cNvSpPr/>
            <p:nvPr/>
          </p:nvSpPr>
          <p:spPr>
            <a:xfrm>
              <a:off x="5686560" y="2149560"/>
              <a:ext cx="1600200" cy="151920"/>
            </a:xfrm>
            <a:prstGeom prst="roundRect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3" name="AutoShape 23"/>
            <p:cNvSpPr/>
            <p:nvPr/>
          </p:nvSpPr>
          <p:spPr>
            <a:xfrm>
              <a:off x="5686560" y="4571640"/>
              <a:ext cx="1600200" cy="15228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4" name="Rectangle 24"/>
            <p:cNvSpPr/>
            <p:nvPr/>
          </p:nvSpPr>
          <p:spPr>
            <a:xfrm>
              <a:off x="5727960" y="3398400"/>
              <a:ext cx="64764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5" name="Rectangle 25"/>
            <p:cNvSpPr/>
            <p:nvPr/>
          </p:nvSpPr>
          <p:spPr>
            <a:xfrm>
              <a:off x="6600960" y="3398400"/>
              <a:ext cx="64800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5731200" y="2377800"/>
              <a:ext cx="1523880" cy="21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mail  WWW  phone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SMTP  HTTP  RTP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TCP  UD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383ad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thernet   PP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SMA  async  sonet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opper  fiber  radio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97" name="Slide Number Placeholder 2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A2D4-7A14-4DD8-B6C9-0D3D9A91D6C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D859-3A70-4628-9A22-50D1C85C346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Layering (Principle 2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ken to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198108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981080" y="502920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733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733920" y="502920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548640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5486400" y="502920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7162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7162920" y="502920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1981080" y="3048120"/>
            <a:ext cx="1447920" cy="1523880"/>
            <a:chOff x="1981080" y="3048120"/>
            <a:chExt cx="1447920" cy="1523880"/>
          </a:xfrm>
        </p:grpSpPr>
        <p:sp>
          <p:nvSpPr>
            <p:cNvPr id="411" name="Rectangle 14"/>
            <p:cNvSpPr/>
            <p:nvPr/>
          </p:nvSpPr>
          <p:spPr>
            <a:xfrm>
              <a:off x="1981080" y="373392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Rectangle 15"/>
            <p:cNvSpPr/>
            <p:nvPr/>
          </p:nvSpPr>
          <p:spPr>
            <a:xfrm>
              <a:off x="1981080" y="304812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13" name="Group 16"/>
          <p:cNvGrpSpPr/>
          <p:nvPr/>
        </p:nvGrpSpPr>
        <p:grpSpPr>
          <a:xfrm>
            <a:off x="7162920" y="3048120"/>
            <a:ext cx="1447560" cy="1523880"/>
            <a:chOff x="7162920" y="3048120"/>
            <a:chExt cx="1447560" cy="1523880"/>
          </a:xfrm>
        </p:grpSpPr>
        <p:sp>
          <p:nvSpPr>
            <p:cNvPr id="414" name="Rectangle 17"/>
            <p:cNvSpPr/>
            <p:nvPr/>
          </p:nvSpPr>
          <p:spPr>
            <a:xfrm>
              <a:off x="7162920" y="3733920"/>
              <a:ext cx="144756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5" name="Rectangle 18"/>
            <p:cNvSpPr/>
            <p:nvPr/>
          </p:nvSpPr>
          <p:spPr>
            <a:xfrm>
              <a:off x="7162920" y="3048120"/>
              <a:ext cx="144756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16" name="Text Box 19"/>
          <p:cNvSpPr/>
          <p:nvPr/>
        </p:nvSpPr>
        <p:spPr>
          <a:xfrm>
            <a:off x="4041000" y="55468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5771520" y="5560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21"/>
          <p:cNvSpPr/>
          <p:nvPr/>
        </p:nvSpPr>
        <p:spPr>
          <a:xfrm>
            <a:off x="2353320" y="55468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22"/>
          <p:cNvSpPr/>
          <p:nvPr/>
        </p:nvSpPr>
        <p:spPr>
          <a:xfrm>
            <a:off x="7601400" y="5560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23"/>
          <p:cNvSpPr/>
          <p:nvPr/>
        </p:nvSpPr>
        <p:spPr>
          <a:xfrm>
            <a:off x="2666880" y="274320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Line 24"/>
          <p:cNvSpPr/>
          <p:nvPr/>
        </p:nvSpPr>
        <p:spPr>
          <a:xfrm>
            <a:off x="2666880" y="52578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Line 25"/>
          <p:cNvSpPr/>
          <p:nvPr/>
        </p:nvSpPr>
        <p:spPr>
          <a:xfrm flipV="1">
            <a:off x="4073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Line 26"/>
          <p:cNvSpPr/>
          <p:nvPr/>
        </p:nvSpPr>
        <p:spPr>
          <a:xfrm>
            <a:off x="4073400" y="48006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Line 27"/>
          <p:cNvSpPr/>
          <p:nvPr/>
        </p:nvSpPr>
        <p:spPr>
          <a:xfrm>
            <a:off x="491184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Line 28"/>
          <p:cNvSpPr/>
          <p:nvPr/>
        </p:nvSpPr>
        <p:spPr>
          <a:xfrm>
            <a:off x="4952880" y="52578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Line 29"/>
          <p:cNvSpPr/>
          <p:nvPr/>
        </p:nvSpPr>
        <p:spPr>
          <a:xfrm flipV="1">
            <a:off x="586728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Line 30"/>
          <p:cNvSpPr/>
          <p:nvPr/>
        </p:nvSpPr>
        <p:spPr>
          <a:xfrm>
            <a:off x="5867280" y="48006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Line 31"/>
          <p:cNvSpPr/>
          <p:nvPr/>
        </p:nvSpPr>
        <p:spPr>
          <a:xfrm>
            <a:off x="6629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Line 32"/>
          <p:cNvSpPr/>
          <p:nvPr/>
        </p:nvSpPr>
        <p:spPr>
          <a:xfrm>
            <a:off x="6629400" y="525780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Line 33"/>
          <p:cNvSpPr/>
          <p:nvPr/>
        </p:nvSpPr>
        <p:spPr>
          <a:xfrm flipV="1">
            <a:off x="7924680" y="274284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Text Box 34"/>
          <p:cNvSpPr/>
          <p:nvPr/>
        </p:nvSpPr>
        <p:spPr>
          <a:xfrm>
            <a:off x="613440" y="32608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Text Box 35"/>
          <p:cNvSpPr/>
          <p:nvPr/>
        </p:nvSpPr>
        <p:spPr>
          <a:xfrm>
            <a:off x="623520" y="39625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Text Box 36"/>
          <p:cNvSpPr/>
          <p:nvPr/>
        </p:nvSpPr>
        <p:spPr>
          <a:xfrm>
            <a:off x="617760" y="46483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Text Box 37"/>
          <p:cNvSpPr/>
          <p:nvPr/>
        </p:nvSpPr>
        <p:spPr>
          <a:xfrm>
            <a:off x="619920" y="5105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rviva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network disrupted and reconfigur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ng entities should not ca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igher-level state re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to achieve such reliabilit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an communication state be sto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5F0-44E3-4997-A6D1-D5D7BBBD6AA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685800" y="4038480"/>
          <a:ext cx="8002440" cy="247968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65844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Network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Host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Failure handing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Replication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Fate sharing”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Net Engineering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Tough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Simple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Switches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Maintain state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Stateless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Host trust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Less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89280" rIns="89280" tIns="44640" bIns="4464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400" spc="-1" strike="noStrike">
                          <a:solidFill>
                            <a:srgbClr val="2e2e01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89280" marR="89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3: Fate Shar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25909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e state information for an entity if and only if the entity itself is l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to lose TCP state if one endpoint cras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okay to lose if an intermediate router reboo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is still true in today’s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s and firewa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ivability compromise:  Heterogeneous network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ss information available to end hosts and Internet level recovery mechanis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990800" y="1825560"/>
            <a:ext cx="304560" cy="304920"/>
          </a:xfrm>
          <a:prstGeom prst="rect">
            <a:avLst/>
          </a:prstGeom>
          <a:solidFill>
            <a:srgbClr val="969696"/>
          </a:solidFill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6708600" y="1825560"/>
            <a:ext cx="303480" cy="304920"/>
          </a:xfrm>
          <a:prstGeom prst="rect">
            <a:avLst/>
          </a:prstGeom>
          <a:solidFill>
            <a:srgbClr val="969696"/>
          </a:solidFill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2979720" y="190188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3511440" y="1825560"/>
            <a:ext cx="152640" cy="1526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3816360" y="22050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4653000" y="17496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5033880" y="2130480"/>
            <a:ext cx="152640" cy="150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AutoShape 11"/>
          <p:cNvSpPr/>
          <p:nvPr/>
        </p:nvSpPr>
        <p:spPr>
          <a:xfrm>
            <a:off x="5946840" y="1978200"/>
            <a:ext cx="152280" cy="152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50760">
            <a:solidFill>
              <a:srgbClr val="babe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449" name="AutoShape 12"/>
          <p:cNvCxnSpPr>
            <a:stCxn id="441" idx="3"/>
            <a:endCxn id="443" idx="1"/>
          </p:cNvCxnSpPr>
          <p:nvPr/>
        </p:nvCxnSpPr>
        <p:spPr>
          <a:xfrm>
            <a:off x="2320560" y="1977840"/>
            <a:ext cx="633960" cy="10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0" name="AutoShape 13"/>
          <p:cNvCxnSpPr>
            <a:stCxn id="443" idx="3"/>
            <a:endCxn id="444" idx="1"/>
          </p:cNvCxnSpPr>
          <p:nvPr/>
        </p:nvCxnSpPr>
        <p:spPr>
          <a:xfrm flipV="1">
            <a:off x="3157200" y="1901880"/>
            <a:ext cx="329040" cy="766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1" name="AutoShape 14"/>
          <p:cNvCxnSpPr>
            <a:stCxn id="443" idx="3"/>
            <a:endCxn id="445" idx="1"/>
          </p:cNvCxnSpPr>
          <p:nvPr/>
        </p:nvCxnSpPr>
        <p:spPr>
          <a:xfrm>
            <a:off x="3157200" y="1978200"/>
            <a:ext cx="633960" cy="30384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2" name="AutoShape 15"/>
          <p:cNvCxnSpPr>
            <a:stCxn id="444" idx="3"/>
            <a:endCxn id="446" idx="1"/>
          </p:cNvCxnSpPr>
          <p:nvPr/>
        </p:nvCxnSpPr>
        <p:spPr>
          <a:xfrm flipV="1">
            <a:off x="3689280" y="1825560"/>
            <a:ext cx="938880" cy="766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3" name="AutoShape 16"/>
          <p:cNvCxnSpPr>
            <a:stCxn id="445" idx="3"/>
            <a:endCxn id="447" idx="1"/>
          </p:cNvCxnSpPr>
          <p:nvPr/>
        </p:nvCxnSpPr>
        <p:spPr>
          <a:xfrm flipV="1">
            <a:off x="3994200" y="2206080"/>
            <a:ext cx="1015200" cy="7524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4" name="AutoShape 17"/>
          <p:cNvCxnSpPr>
            <a:stCxn id="446" idx="3"/>
            <a:endCxn id="448" idx="1"/>
          </p:cNvCxnSpPr>
          <p:nvPr/>
        </p:nvCxnSpPr>
        <p:spPr>
          <a:xfrm>
            <a:off x="4830480" y="1825200"/>
            <a:ext cx="1091160" cy="22932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5" name="AutoShape 18"/>
          <p:cNvCxnSpPr>
            <a:stCxn id="447" idx="3"/>
            <a:endCxn id="448" idx="1"/>
          </p:cNvCxnSpPr>
          <p:nvPr/>
        </p:nvCxnSpPr>
        <p:spPr>
          <a:xfrm flipV="1">
            <a:off x="5211360" y="2053800"/>
            <a:ext cx="710280" cy="15336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cxnSp>
        <p:nvCxnSpPr>
          <p:cNvPr id="456" name="AutoShape 19"/>
          <p:cNvCxnSpPr>
            <a:stCxn id="448" idx="3"/>
            <a:endCxn id="442" idx="1"/>
          </p:cNvCxnSpPr>
          <p:nvPr/>
        </p:nvCxnSpPr>
        <p:spPr>
          <a:xfrm flipV="1">
            <a:off x="6124680" y="1977480"/>
            <a:ext cx="559080" cy="76680"/>
          </a:xfrm>
          <a:prstGeom prst="straightConnector1">
            <a:avLst/>
          </a:prstGeom>
          <a:ln w="50760">
            <a:solidFill>
              <a:srgbClr val="404176"/>
            </a:solidFill>
            <a:miter/>
          </a:ln>
        </p:spPr>
      </p:cxnSp>
      <p:sp>
        <p:nvSpPr>
          <p:cNvPr id="457" name="Text Box 20"/>
          <p:cNvSpPr/>
          <p:nvPr/>
        </p:nvSpPr>
        <p:spPr>
          <a:xfrm>
            <a:off x="685800" y="1447920"/>
            <a:ext cx="160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St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7094520" y="1749600"/>
            <a:ext cx="98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3768840" y="1825560"/>
            <a:ext cx="1341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Slide Number Placeholder 2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A3D2-3FC0-4439-BC86-0CE3BD0DBC9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12FB-88AD-467F-9F6E-6866A2A4149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4: Soft-sta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-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es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y for timeout – po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way to identify communication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echanism to provide non-best eff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surviv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A3E7-3CC6-45FA-9DEA-EF33A284DC2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5: End-to-End Argu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s with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lace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work (in switching e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functions that can only be correctly implemented by the endpoints – do not try to completely implement thes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 not a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06F5-472F-4C52-B0F4-A01724C3BE5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Oval 2"/>
          <p:cNvSpPr/>
          <p:nvPr/>
        </p:nvSpPr>
        <p:spPr>
          <a:xfrm>
            <a:off x="2362320" y="1981080"/>
            <a:ext cx="1066680" cy="68580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: Reliable File Transf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1: make each step reliable, and then concatena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2: end-to-end check and r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1523880" y="3581280"/>
            <a:ext cx="609840" cy="15264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1523880" y="3352680"/>
            <a:ext cx="609840" cy="3049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523880" y="3276720"/>
            <a:ext cx="609840" cy="1522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Oval 8"/>
          <p:cNvSpPr/>
          <p:nvPr/>
        </p:nvSpPr>
        <p:spPr>
          <a:xfrm>
            <a:off x="7086600" y="3581280"/>
            <a:ext cx="609480" cy="15264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7086600" y="3352680"/>
            <a:ext cx="609480" cy="3049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6" name="Oval 10"/>
          <p:cNvSpPr/>
          <p:nvPr/>
        </p:nvSpPr>
        <p:spPr>
          <a:xfrm>
            <a:off x="7086600" y="3276720"/>
            <a:ext cx="609480" cy="1522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2286000" y="1905120"/>
            <a:ext cx="1219320" cy="144756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Oval 12"/>
          <p:cNvSpPr/>
          <p:nvPr/>
        </p:nvSpPr>
        <p:spPr>
          <a:xfrm>
            <a:off x="2514600" y="2743200"/>
            <a:ext cx="914400" cy="53352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2500200" y="21448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Appl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Oval 14"/>
          <p:cNvSpPr/>
          <p:nvPr/>
        </p:nvSpPr>
        <p:spPr>
          <a:xfrm>
            <a:off x="5715000" y="1981080"/>
            <a:ext cx="1066680" cy="68580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5638680" y="1905120"/>
            <a:ext cx="1219320" cy="1447560"/>
          </a:xfrm>
          <a:prstGeom prst="rect">
            <a:avLst/>
          </a:prstGeom>
          <a:noFill/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Oval 16"/>
          <p:cNvSpPr/>
          <p:nvPr/>
        </p:nvSpPr>
        <p:spPr>
          <a:xfrm>
            <a:off x="5791320" y="2743200"/>
            <a:ext cx="914400" cy="53352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5852880" y="21448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Appl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743200" y="3505320"/>
            <a:ext cx="3886200" cy="0"/>
          </a:xfrm>
          <a:prstGeom prst="line">
            <a:avLst/>
          </a:prstGeom>
          <a:ln w="507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Line 19"/>
          <p:cNvSpPr/>
          <p:nvPr/>
        </p:nvSpPr>
        <p:spPr>
          <a:xfrm>
            <a:off x="2971800" y="3352680"/>
            <a:ext cx="0" cy="152640"/>
          </a:xfrm>
          <a:prstGeom prst="line">
            <a:avLst/>
          </a:prstGeom>
          <a:ln w="507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Line 20"/>
          <p:cNvSpPr/>
          <p:nvPr/>
        </p:nvSpPr>
        <p:spPr>
          <a:xfrm>
            <a:off x="6248520" y="3352680"/>
            <a:ext cx="0" cy="152640"/>
          </a:xfrm>
          <a:prstGeom prst="line">
            <a:avLst/>
          </a:prstGeom>
          <a:ln w="507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Freeform 21"/>
          <p:cNvSpPr/>
          <p:nvPr/>
        </p:nvSpPr>
        <p:spPr>
          <a:xfrm>
            <a:off x="2131920" y="2513160"/>
            <a:ext cx="612720" cy="758520"/>
          </a:xfrm>
          <a:custGeom>
            <a:avLst/>
            <a:gdLst>
              <a:gd name="textAreaLeft" fmla="*/ 0 w 612720"/>
              <a:gd name="textAreaRight" fmla="*/ 613080 w 61272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384" h="480">
                <a:moveTo>
                  <a:pt x="0" y="480"/>
                </a:moveTo>
                <a:lnTo>
                  <a:pt x="336" y="384"/>
                </a:lnTo>
                <a:lnTo>
                  <a:pt x="384" y="288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Line 22"/>
          <p:cNvSpPr/>
          <p:nvPr/>
        </p:nvSpPr>
        <p:spPr>
          <a:xfrm>
            <a:off x="3124080" y="2590920"/>
            <a:ext cx="76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Freeform 23"/>
          <p:cNvSpPr/>
          <p:nvPr/>
        </p:nvSpPr>
        <p:spPr>
          <a:xfrm>
            <a:off x="3200400" y="2971800"/>
            <a:ext cx="2819520" cy="4572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776" h="288">
                <a:moveTo>
                  <a:pt x="0" y="96"/>
                </a:moveTo>
                <a:lnTo>
                  <a:pt x="0" y="288"/>
                </a:lnTo>
                <a:lnTo>
                  <a:pt x="1776" y="288"/>
                </a:lnTo>
                <a:lnTo>
                  <a:pt x="17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Line 24"/>
          <p:cNvSpPr/>
          <p:nvPr/>
        </p:nvSpPr>
        <p:spPr>
          <a:xfrm flipV="1">
            <a:off x="6019920" y="2514600"/>
            <a:ext cx="759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Freeform 25"/>
          <p:cNvSpPr/>
          <p:nvPr/>
        </p:nvSpPr>
        <p:spPr>
          <a:xfrm>
            <a:off x="6400800" y="259092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32" h="432">
                <a:moveTo>
                  <a:pt x="0" y="0"/>
                </a:moveTo>
                <a:lnTo>
                  <a:pt x="48" y="288"/>
                </a:lnTo>
                <a:lnTo>
                  <a:pt x="240" y="384"/>
                </a:lnTo>
                <a:lnTo>
                  <a:pt x="432" y="4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2194200" y="15080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Host 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5550120" y="15080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Host 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Freeform 28"/>
          <p:cNvSpPr/>
          <p:nvPr/>
        </p:nvSpPr>
        <p:spPr>
          <a:xfrm>
            <a:off x="3200400" y="2438280"/>
            <a:ext cx="2819520" cy="9144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776" h="576">
                <a:moveTo>
                  <a:pt x="1776" y="48"/>
                </a:moveTo>
                <a:lnTo>
                  <a:pt x="1728" y="288"/>
                </a:lnTo>
                <a:lnTo>
                  <a:pt x="1728" y="576"/>
                </a:lnTo>
                <a:lnTo>
                  <a:pt x="48" y="576"/>
                </a:lnTo>
                <a:lnTo>
                  <a:pt x="48" y="38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6666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95" name="Group 29"/>
          <p:cNvGrpSpPr/>
          <p:nvPr/>
        </p:nvGrpSpPr>
        <p:grpSpPr>
          <a:xfrm>
            <a:off x="3276720" y="2438280"/>
            <a:ext cx="2666880" cy="867240"/>
            <a:chOff x="3276720" y="2438280"/>
            <a:chExt cx="2666880" cy="867240"/>
          </a:xfrm>
        </p:grpSpPr>
        <p:sp>
          <p:nvSpPr>
            <p:cNvPr id="496" name="Freeform 30"/>
            <p:cNvSpPr/>
            <p:nvPr/>
          </p:nvSpPr>
          <p:spPr>
            <a:xfrm>
              <a:off x="3276720" y="2438280"/>
              <a:ext cx="2666880" cy="83844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680" h="528">
                  <a:moveTo>
                    <a:pt x="0" y="0"/>
                  </a:moveTo>
                  <a:lnTo>
                    <a:pt x="48" y="288"/>
                  </a:lnTo>
                  <a:lnTo>
                    <a:pt x="48" y="528"/>
                  </a:lnTo>
                  <a:lnTo>
                    <a:pt x="1632" y="528"/>
                  </a:lnTo>
                  <a:lnTo>
                    <a:pt x="1632" y="336"/>
                  </a:lnTo>
                  <a:lnTo>
                    <a:pt x="1680" y="0"/>
                  </a:lnTo>
                </a:path>
              </a:pathLst>
            </a:custGeom>
            <a:noFill/>
            <a:ln w="38160">
              <a:solidFill>
                <a:srgbClr val="6666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7" name="Text Box 31"/>
            <p:cNvSpPr/>
            <p:nvPr/>
          </p:nvSpPr>
          <p:spPr>
            <a:xfrm>
              <a:off x="4099680" y="290664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383ad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2E Example: File Transf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ven if network guaranteed reliable deliv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provide end-to-end che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network card may mal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ceiver has to do the check anywa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ull functionality can only be entirely implemented at application layer; no need for reliability from lower la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es FTP look like E2E file transfe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provides reliability between kernels not di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there any need to implement reliability at lower laye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6116-6391-46B0-A39E-2804913BF88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7FB-0971-40CC-9DCD-ECB9DE77AEC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but only to improv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twork is highly un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some level of reliability help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try to achieve perfect reliabil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 a functionality at a lower level should have minimum performance impact on the applications that do not use the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nounc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ideas list – will update by W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idea discussion meetings (15m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rsday/Friday (1/26,1/2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bring signup to Wed l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k of two project ideas that interest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 propos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1pg – intro/related work/plan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by email noon 2/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huo’s Office Hours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 1:30-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F439-1515-4029-80FC-24082144B72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A2C3-74E2-4DB7-B9B4-37FB97D3298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done at the end points, and what by the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/sequenced deliv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/rou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Ethernet collision det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guarant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oal 2: Types of Serv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inciple 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network layer provides one simple service: best effort datagram (packet)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ckets are treated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imple core network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ing block from which other services (such as reliable data stream) can be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ibutes to scalability of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QoS support assumed from be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some underlying nets only supported reliabl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de Internet datagram service less useful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implement without network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is an ongoing deba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8683-B213-4EEF-AB44-D442DB9CBE8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es of Serv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CP vs. UD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apps that need reliability:  remote login or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lastic, loss-tolerant apps:  real-time voice or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in between, or with strong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cause of delay variation:  reliabl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net:  &lt;100ms 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delivery can add 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iginal Internet model:  “TCP/IP” one lay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pp was remote log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n came debugging, voic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differences caused the layer split, added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5FAC-810A-4E6B-BD6D-7F71FD2CA6E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2A53-67E2-4220-977B-B58737357C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oal 4: Decentraliz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inciple 7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ach network owned and managed separat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see this in BGP routing especi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inciple 7’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 conservative in what you send and liberal in what you ac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written r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pecially useful since many protocol specifications are ambigu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TCP will accept and ignore bogus acknowledg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DF48-6FC9-4336-8469-8EF5C62C0A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e “Other” go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taching a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must implement hard par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por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oo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overhead less important by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loss rate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es of scale wo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cheaper than most dedicat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59BD-CF38-4F60-99FD-61EA14B779A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7. Accountabi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ing?  (mostly flat-rate.  But phones have become that way also - people like i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ISP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et’s nest.  Complicated.  Political.  H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9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s, virus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ly a host problem.  But hosts very tru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9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ly optional.  Many philosophical issues of privacy vs.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dy sources aren’t handled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73B5-A249-476B-A0E1-A6F4254A34F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IP Design Weakness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administration and managem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deployment difficult a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no centralize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re “flag”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ctive networks the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4C47-7782-46E7-8847-C726FD5F375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: Internet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746360"/>
            <a:ext cx="42674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-switched datagra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is the “compatibility layer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glass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hosts and routers run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less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 flow state insid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800600" y="4876920"/>
            <a:ext cx="274320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>
            <a:off x="4800600" y="1905120"/>
            <a:ext cx="274320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>
            <a:off x="5791320" y="2971800"/>
            <a:ext cx="83808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Line 7"/>
          <p:cNvSpPr/>
          <p:nvPr/>
        </p:nvSpPr>
        <p:spPr>
          <a:xfrm>
            <a:off x="5791320" y="3657600"/>
            <a:ext cx="838080" cy="0"/>
          </a:xfrm>
          <a:prstGeom prst="line">
            <a:avLst/>
          </a:prstGeom>
          <a:ln w="572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5943600" y="312408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5486760" y="1981080"/>
            <a:ext cx="73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6401880" y="198108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6477120" y="441936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5726880" y="3885840"/>
            <a:ext cx="118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5179320" y="441936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Freeform 14"/>
          <p:cNvSpPr/>
          <p:nvPr/>
        </p:nvSpPr>
        <p:spPr>
          <a:xfrm>
            <a:off x="4800600" y="1905120"/>
            <a:ext cx="1155600" cy="29718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728" h="1872">
                <a:moveTo>
                  <a:pt x="0" y="0"/>
                </a:moveTo>
                <a:cubicBezTo>
                  <a:pt x="260" y="244"/>
                  <a:pt x="520" y="488"/>
                  <a:pt x="624" y="672"/>
                </a:cubicBezTo>
                <a:cubicBezTo>
                  <a:pt x="728" y="856"/>
                  <a:pt x="728" y="904"/>
                  <a:pt x="624" y="1104"/>
                </a:cubicBezTo>
                <a:cubicBezTo>
                  <a:pt x="520" y="1304"/>
                  <a:pt x="260" y="1588"/>
                  <a:pt x="0" y="1872"/>
                </a:cubicBezTo>
              </a:path>
            </a:pathLst>
          </a:custGeom>
          <a:noFill/>
          <a:ln w="5724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Freeform 15"/>
          <p:cNvSpPr/>
          <p:nvPr/>
        </p:nvSpPr>
        <p:spPr>
          <a:xfrm>
            <a:off x="6477120" y="1905120"/>
            <a:ext cx="1066680" cy="29718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672" h="1872">
                <a:moveTo>
                  <a:pt x="672" y="0"/>
                </a:moveTo>
                <a:cubicBezTo>
                  <a:pt x="432" y="244"/>
                  <a:pt x="192" y="488"/>
                  <a:pt x="96" y="672"/>
                </a:cubicBezTo>
                <a:cubicBezTo>
                  <a:pt x="0" y="856"/>
                  <a:pt x="0" y="904"/>
                  <a:pt x="96" y="1104"/>
                </a:cubicBezTo>
                <a:cubicBezTo>
                  <a:pt x="192" y="1304"/>
                  <a:pt x="432" y="1588"/>
                  <a:pt x="672" y="1872"/>
                </a:cubicBezTo>
              </a:path>
            </a:pathLst>
          </a:custGeom>
          <a:noFill/>
          <a:ln w="5724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28A2-4C01-418F-84A5-6F9352BAA1C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: Minimalist Approac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mb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 provide minimal functionalities to support conne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ressing, forwarding, rou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rt en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port layer or application performs more sophisticated function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ow control, error control, congestion contr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ommodate heterogeneous technologies (Ethernet, modem, satellite, wirel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diverse applications (telnet, ftp, Web, X window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ntralized network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045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es:  IP on every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9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…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erhaps they’re totally worth it in the context of the original Internet. Might not have worked without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10160" y="2514600"/>
            <a:ext cx="4152960" cy="2308320"/>
          </a:xfrm>
          <a:prstGeom prst="rect">
            <a:avLst/>
          </a:prstGeom>
          <a:solidFill>
            <a:srgbClr val="f9f9a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t of goals might seem to be nothing more than a checklist of all the desirable network features. It is important to understand that these goals are in order of importance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ntirely different network architecture would result if the order were chang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4097-DA39-484C-B874-3DAA84DB3CC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5D73-383B-4D23-8A6E-0B2BE834A3A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ecture: Design Consideration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determine split of function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ross protocol lay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ross network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SRC84] End-to-end Arguments in System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Cla88] Design Philosophy of the DARPA Internet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onal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CT90] Architectural Considerations for a New Generation of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Clark02] Tussle in Cyberspace: Defining Tomorrow’s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nges Over Tim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ed in simpler ti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goals, consistent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success came multiple goals – 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Ps must talk to provide connectivity but are fierce compet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cy of users vs. government’s need to 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’s desire to exchange files vs. copyright ow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deal with the tussle between concerns in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39B1-3011-471F-9828-1FD30BAE119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w Principle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 for variation in outc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design to be flexible to different uses/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olate tuss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designs uses separate ToS bits instead of overloading other parts of packet like por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QoS decisions from application/protoco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choi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llow all parties to make choices on interac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 between providers helps shape the tus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060D-6A4B-4411-BA99-7E799E559C1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grated Layer Processing (ILP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ing is convenient for architecture but not for implem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ing data manipulation operations across layers provides g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copy and checksum combined provides 90Mbps vs. 60Mbps sepa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design must be done carefully to enable I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ormance bottlene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aper: presentation overhead, application-specific processing &gt;&gt; other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ay: memory band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4000"/>
          </a:bodyPr>
          <a:p>
            <a:pPr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A313-011B-4BBD-AEA2-7EC63A6A211C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BE91-98E9-4E6A-9071-C9BD14A7C6B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lication Lever Framing (ALF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enable application to process data A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response to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ansmit (TCP app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(UDP app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pute/send new data (clever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 unit of application processing (ADU) to protocol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25E2-6126-4CC3-98BE-3E36C394BB7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lication Data Units Requirem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s can be processed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ing of ADUs should help identify position i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ough to process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size is too lar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SF Progra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x10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n Slat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the Internet Impasse through Virtualiz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rchitectu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d Data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ve Internet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35DA-5B40-4576-9D99-249CE95CE7F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amed Data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beginning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applications strictly focused on host-to-host interprocess communic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mote login, file transfer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was built around this host-to-host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chitecture is well-suited for communication between pairs of stationary h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 while to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 majority of Internet usage is data retrieval and service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 care about the content and are oblivious to location.  They are often oblivious as to delivery ti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etching headlines from CNN, videos from YouTube, TV from 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ing a bank account at </a:t>
            </a:r>
            <a:r>
              <a:rPr b="0" lang="en-US" sz="19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www.bank.com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787F-6491-461E-8EFC-0DA50CF9C18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1" descr=""/>
          <p:cNvPicPr/>
          <p:nvPr/>
        </p:nvPicPr>
        <p:blipFill>
          <a:blip r:embed="rId1"/>
          <a:stretch/>
        </p:blipFill>
        <p:spPr>
          <a:xfrm>
            <a:off x="1481040" y="3476520"/>
            <a:ext cx="1536840" cy="982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2825640" y="2948040"/>
            <a:ext cx="2490840" cy="1052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3"/>
          <a:stretch/>
        </p:blipFill>
        <p:spPr>
          <a:xfrm rot="228600">
            <a:off x="6224760" y="5497560"/>
            <a:ext cx="857160" cy="555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"/>
          <p:cNvPicPr/>
          <p:nvPr/>
        </p:nvPicPr>
        <p:blipFill>
          <a:blip r:embed="rId4"/>
          <a:stretch/>
        </p:blipFill>
        <p:spPr>
          <a:xfrm rot="19741800">
            <a:off x="6931080" y="358884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"/>
          <p:cNvPicPr/>
          <p:nvPr/>
        </p:nvPicPr>
        <p:blipFill>
          <a:blip r:embed="rId5"/>
          <a:stretch/>
        </p:blipFill>
        <p:spPr>
          <a:xfrm rot="228600">
            <a:off x="5823000" y="1854360"/>
            <a:ext cx="857160" cy="555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"/>
          <p:cNvPicPr/>
          <p:nvPr/>
        </p:nvPicPr>
        <p:blipFill>
          <a:blip r:embed="rId6"/>
          <a:stretch/>
        </p:blipFill>
        <p:spPr>
          <a:xfrm rot="228600">
            <a:off x="6788160" y="307800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7"/>
          <a:stretch/>
        </p:blipFill>
        <p:spPr>
          <a:xfrm rot="228600">
            <a:off x="5100480" y="1407960"/>
            <a:ext cx="857520" cy="5540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"/>
          <p:cNvPicPr/>
          <p:nvPr/>
        </p:nvPicPr>
        <p:blipFill>
          <a:blip r:embed="rId8"/>
          <a:stretch/>
        </p:blipFill>
        <p:spPr>
          <a:xfrm rot="19741800">
            <a:off x="6073920" y="2384280"/>
            <a:ext cx="231480" cy="401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"/>
          <p:cNvPicPr/>
          <p:nvPr/>
        </p:nvPicPr>
        <p:blipFill>
          <a:blip r:embed="rId9"/>
          <a:stretch/>
        </p:blipFill>
        <p:spPr>
          <a:xfrm rot="19741800">
            <a:off x="6921360" y="457164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"/>
          <p:cNvPicPr/>
          <p:nvPr/>
        </p:nvPicPr>
        <p:blipFill>
          <a:blip r:embed="rId10"/>
          <a:stretch/>
        </p:blipFill>
        <p:spPr>
          <a:xfrm rot="19741800">
            <a:off x="6805440" y="501768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"/>
          <p:cNvPicPr/>
          <p:nvPr/>
        </p:nvPicPr>
        <p:blipFill>
          <a:blip r:embed="rId11"/>
          <a:stretch/>
        </p:blipFill>
        <p:spPr>
          <a:xfrm rot="19741800">
            <a:off x="6859440" y="409860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2" descr=""/>
          <p:cNvPicPr/>
          <p:nvPr/>
        </p:nvPicPr>
        <p:blipFill>
          <a:blip r:embed="rId12"/>
          <a:stretch/>
        </p:blipFill>
        <p:spPr>
          <a:xfrm rot="19741800">
            <a:off x="6546960" y="2624040"/>
            <a:ext cx="231840" cy="4032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3" descr=""/>
          <p:cNvPicPr/>
          <p:nvPr/>
        </p:nvPicPr>
        <p:blipFill>
          <a:blip r:embed="rId13"/>
          <a:stretch/>
        </p:blipFill>
        <p:spPr>
          <a:xfrm>
            <a:off x="2816280" y="4054320"/>
            <a:ext cx="2490840" cy="982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4" descr=""/>
          <p:cNvPicPr/>
          <p:nvPr/>
        </p:nvPicPr>
        <p:blipFill>
          <a:blip r:embed="rId14"/>
          <a:stretch/>
        </p:blipFill>
        <p:spPr>
          <a:xfrm rot="228600">
            <a:off x="5502240" y="612288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5" descr=""/>
          <p:cNvPicPr/>
          <p:nvPr/>
        </p:nvPicPr>
        <p:blipFill>
          <a:blip r:embed="rId15"/>
          <a:stretch/>
        </p:blipFill>
        <p:spPr>
          <a:xfrm>
            <a:off x="4530600" y="202716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6" descr=""/>
          <p:cNvPicPr/>
          <p:nvPr/>
        </p:nvPicPr>
        <p:blipFill>
          <a:blip r:embed="rId16"/>
          <a:stretch/>
        </p:blipFill>
        <p:spPr>
          <a:xfrm>
            <a:off x="5343480" y="2948040"/>
            <a:ext cx="1320840" cy="1052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7" descr=""/>
          <p:cNvPicPr/>
          <p:nvPr/>
        </p:nvPicPr>
        <p:blipFill>
          <a:blip r:embed="rId17"/>
          <a:stretch/>
        </p:blipFill>
        <p:spPr>
          <a:xfrm>
            <a:off x="5370480" y="404496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8" descr=""/>
          <p:cNvPicPr/>
          <p:nvPr/>
        </p:nvPicPr>
        <p:blipFill>
          <a:blip r:embed="rId18"/>
          <a:stretch/>
        </p:blipFill>
        <p:spPr>
          <a:xfrm>
            <a:off x="4637160" y="4902120"/>
            <a:ext cx="1322280" cy="1054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9" descr=""/>
          <p:cNvPicPr/>
          <p:nvPr/>
        </p:nvPicPr>
        <p:blipFill>
          <a:blip r:embed="rId19"/>
          <a:stretch/>
        </p:blipFill>
        <p:spPr>
          <a:xfrm rot="19741800">
            <a:off x="6135840" y="5929200"/>
            <a:ext cx="231480" cy="401760"/>
          </a:xfrm>
          <a:prstGeom prst="rect">
            <a:avLst/>
          </a:prstGeom>
          <a:ln w="0">
            <a:noFill/>
          </a:ln>
        </p:spPr>
      </p:pic>
      <p:sp>
        <p:nvSpPr>
          <p:cNvPr id="587" name="Freeform 20"/>
          <p:cNvSpPr/>
          <p:nvPr/>
        </p:nvSpPr>
        <p:spPr>
          <a:xfrm>
            <a:off x="2678040" y="1866960"/>
            <a:ext cx="2692440" cy="1996920"/>
          </a:xfrm>
          <a:custGeom>
            <a:avLst/>
            <a:gdLst>
              <a:gd name="textAreaLeft" fmla="*/ 0 w 2692440"/>
              <a:gd name="textAreaRight" fmla="*/ 2692440 w 269244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17088" y="10242"/>
                  <a:pt x="21600" y="0"/>
                </a:cubicBezTo>
              </a:path>
            </a:pathLst>
          </a:custGeom>
          <a:noFill/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8" name="Freeform 21"/>
          <p:cNvSpPr/>
          <p:nvPr/>
        </p:nvSpPr>
        <p:spPr>
          <a:xfrm>
            <a:off x="2652840" y="2265480"/>
            <a:ext cx="3276360" cy="167004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14478" y="5313"/>
                  <a:pt x="21600" y="0"/>
                </a:cubicBezTo>
              </a:path>
            </a:pathLst>
          </a:custGeom>
          <a:noFill/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9" name="Freeform 22"/>
          <p:cNvSpPr/>
          <p:nvPr/>
        </p:nvSpPr>
        <p:spPr>
          <a:xfrm>
            <a:off x="2678040" y="2585880"/>
            <a:ext cx="3322800" cy="1384560"/>
          </a:xfrm>
          <a:custGeom>
            <a:avLst/>
            <a:gdLst>
              <a:gd name="textAreaLeft" fmla="*/ 0 w 3322800"/>
              <a:gd name="textAreaRight" fmla="*/ 3323160 w 332280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12252" y="3345"/>
                  <a:pt x="21600" y="0"/>
                </a:cubicBezTo>
              </a:path>
            </a:pathLst>
          </a:custGeom>
          <a:noFill/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0" name="Freeform 23"/>
          <p:cNvSpPr/>
          <p:nvPr/>
        </p:nvSpPr>
        <p:spPr>
          <a:xfrm>
            <a:off x="2697120" y="2881440"/>
            <a:ext cx="3857760" cy="112536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7050" y="8743"/>
                  <a:pt x="17650" y="10457"/>
                  <a:pt x="21600" y="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1" name="Freeform 24"/>
          <p:cNvSpPr/>
          <p:nvPr/>
        </p:nvSpPr>
        <p:spPr>
          <a:xfrm>
            <a:off x="2697120" y="3354480"/>
            <a:ext cx="4129200" cy="652320"/>
          </a:xfrm>
          <a:custGeom>
            <a:avLst/>
            <a:gdLst>
              <a:gd name="textAreaLeft" fmla="*/ 0 w 4129200"/>
              <a:gd name="textAreaRight" fmla="*/ 4129560 w 412920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4017" y="10948"/>
                  <a:pt x="17723" y="2663"/>
                  <a:pt x="21600" y="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2" name="Freeform 25"/>
          <p:cNvSpPr/>
          <p:nvPr/>
        </p:nvSpPr>
        <p:spPr>
          <a:xfrm>
            <a:off x="2703600" y="3705120"/>
            <a:ext cx="4128840" cy="363600"/>
          </a:xfrm>
          <a:custGeom>
            <a:avLst/>
            <a:gdLst>
              <a:gd name="textAreaLeft" fmla="*/ 0 w 4128840"/>
              <a:gd name="textAreaRight" fmla="*/ 4129200 w 41288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19640">
                <a:moveTo>
                  <a:pt x="0" y="19640"/>
                </a:moveTo>
                <a:cubicBezTo>
                  <a:pt x="4148" y="-803"/>
                  <a:pt x="17153" y="-1960"/>
                  <a:pt x="21600" y="1511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3" name="Freeform 26"/>
          <p:cNvSpPr/>
          <p:nvPr/>
        </p:nvSpPr>
        <p:spPr>
          <a:xfrm>
            <a:off x="2674800" y="4041720"/>
            <a:ext cx="4151520" cy="411120"/>
          </a:xfrm>
          <a:custGeom>
            <a:avLst/>
            <a:gdLst>
              <a:gd name="textAreaLeft" fmla="*/ 0 w 4151520"/>
              <a:gd name="textAreaRight" fmla="*/ 4151880 w 41515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1600" h="14667">
                <a:moveTo>
                  <a:pt x="0" y="0"/>
                </a:moveTo>
                <a:cubicBezTo>
                  <a:pt x="4164" y="5097"/>
                  <a:pt x="16441" y="21600"/>
                  <a:pt x="21600" y="11405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4" name="Freeform 27"/>
          <p:cNvSpPr/>
          <p:nvPr/>
        </p:nvSpPr>
        <p:spPr>
          <a:xfrm>
            <a:off x="2654280" y="4102200"/>
            <a:ext cx="4156200" cy="573120"/>
          </a:xfrm>
          <a:custGeom>
            <a:avLst/>
            <a:gdLst>
              <a:gd name="textAreaLeft" fmla="*/ 0 w 4156200"/>
              <a:gd name="textAreaRight" fmla="*/ 4156560 w 41562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118" y="5909"/>
                  <a:pt x="19595" y="19988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5" name="Freeform 28"/>
          <p:cNvSpPr/>
          <p:nvPr/>
        </p:nvSpPr>
        <p:spPr>
          <a:xfrm>
            <a:off x="2649600" y="4137120"/>
            <a:ext cx="4111560" cy="903240"/>
          </a:xfrm>
          <a:custGeom>
            <a:avLst/>
            <a:gdLst>
              <a:gd name="textAreaLeft" fmla="*/ 0 w 4111560"/>
              <a:gd name="textAreaRight" fmla="*/ 4111920 w 4111560"/>
              <a:gd name="textAreaTop" fmla="*/ 0 h 903240"/>
              <a:gd name="textAreaBottom" fmla="*/ 90360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2682" y="12131"/>
                  <a:pt x="17923" y="5881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6" name="Freeform 29"/>
          <p:cNvSpPr/>
          <p:nvPr/>
        </p:nvSpPr>
        <p:spPr>
          <a:xfrm>
            <a:off x="2637000" y="4164120"/>
            <a:ext cx="3614400" cy="1504800"/>
          </a:xfrm>
          <a:custGeom>
            <a:avLst/>
            <a:gdLst>
              <a:gd name="textAreaLeft" fmla="*/ 0 w 3614400"/>
              <a:gd name="textAreaRight" fmla="*/ 3614760 w 3614400"/>
              <a:gd name="textAreaTop" fmla="*/ 0 h 1504800"/>
              <a:gd name="textAreaBottom" fmla="*/ 1505160 h 15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8754" y="4922"/>
                  <a:pt x="8555" y="1504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7" name="Freeform 30"/>
          <p:cNvSpPr/>
          <p:nvPr/>
        </p:nvSpPr>
        <p:spPr>
          <a:xfrm>
            <a:off x="2619360" y="4187880"/>
            <a:ext cx="3479760" cy="1749240"/>
          </a:xfrm>
          <a:custGeom>
            <a:avLst/>
            <a:gdLst>
              <a:gd name="textAreaLeft" fmla="*/ 0 w 3479760"/>
              <a:gd name="textAreaRight" fmla="*/ 3480120 w 3479760"/>
              <a:gd name="textAreaTop" fmla="*/ 0 h 1749240"/>
              <a:gd name="textAreaBottom" fmla="*/ 1749600 h 17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9490" y="4499"/>
                  <a:pt x="15425" y="8234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Freeform 31"/>
          <p:cNvSpPr/>
          <p:nvPr/>
        </p:nvSpPr>
        <p:spPr>
          <a:xfrm>
            <a:off x="2627280" y="4187880"/>
            <a:ext cx="3105360" cy="1936800"/>
          </a:xfrm>
          <a:custGeom>
            <a:avLst/>
            <a:gdLst>
              <a:gd name="textAreaLeft" fmla="*/ 0 w 3105360"/>
              <a:gd name="textAreaRight" fmla="*/ 3105720 w 310536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5915" y="7387"/>
                  <a:pt x="18866" y="12457"/>
                  <a:pt x="21600" y="21600"/>
                </a:cubicBezTo>
              </a:path>
            </a:pathLst>
          </a:custGeom>
          <a:noFill/>
          <a:ln w="50760">
            <a:solidFill>
              <a:srgbClr val="81818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9" name="AutoShape 32"/>
          <p:cNvSpPr/>
          <p:nvPr/>
        </p:nvSpPr>
        <p:spPr>
          <a:xfrm>
            <a:off x="1866960" y="3836880"/>
            <a:ext cx="895320" cy="40176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464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00" name="Picture 33" descr=""/>
          <p:cNvPicPr/>
          <p:nvPr/>
        </p:nvPicPr>
        <p:blipFill>
          <a:blip r:embed="rId20"/>
          <a:stretch/>
        </p:blipFill>
        <p:spPr>
          <a:xfrm>
            <a:off x="1911240" y="3854520"/>
            <a:ext cx="803520" cy="3366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4"/>
          <p:cNvSpPr/>
          <p:nvPr/>
        </p:nvSpPr>
        <p:spPr>
          <a:xfrm>
            <a:off x="3214080" y="310932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2" name="Rectangle 35"/>
          <p:cNvSpPr/>
          <p:nvPr/>
        </p:nvSpPr>
        <p:spPr>
          <a:xfrm>
            <a:off x="3097440" y="471672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  <a:ea typeface="ＭＳ Ｐゴシック"/>
              </a:rPr>
              <a:t>What does the network look like…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DF73-3960-4B0C-B054-B4734C0F146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1" descr=""/>
          <p:cNvPicPr/>
          <p:nvPr/>
        </p:nvPicPr>
        <p:blipFill>
          <a:blip r:embed="rId1"/>
          <a:stretch/>
        </p:blipFill>
        <p:spPr>
          <a:xfrm>
            <a:off x="1481040" y="3390840"/>
            <a:ext cx="1536840" cy="9828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2"/>
          <a:stretch/>
        </p:blipFill>
        <p:spPr>
          <a:xfrm>
            <a:off x="2825640" y="2862360"/>
            <a:ext cx="2490840" cy="10540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 rot="228600">
            <a:off x="6224760" y="541332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4"/>
          <a:stretch/>
        </p:blipFill>
        <p:spPr>
          <a:xfrm rot="19741800">
            <a:off x="6931080" y="3503520"/>
            <a:ext cx="231840" cy="4032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5"/>
          <a:stretch/>
        </p:blipFill>
        <p:spPr>
          <a:xfrm rot="228600">
            <a:off x="5823000" y="177012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"/>
          <p:cNvPicPr/>
          <p:nvPr/>
        </p:nvPicPr>
        <p:blipFill>
          <a:blip r:embed="rId6"/>
          <a:stretch/>
        </p:blipFill>
        <p:spPr>
          <a:xfrm rot="228600">
            <a:off x="6788160" y="2992320"/>
            <a:ext cx="857160" cy="5558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7" descr=""/>
          <p:cNvPicPr/>
          <p:nvPr/>
        </p:nvPicPr>
        <p:blipFill>
          <a:blip r:embed="rId7"/>
          <a:stretch/>
        </p:blipFill>
        <p:spPr>
          <a:xfrm rot="228600">
            <a:off x="5100480" y="1324080"/>
            <a:ext cx="857520" cy="554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8" descr=""/>
          <p:cNvPicPr/>
          <p:nvPr/>
        </p:nvPicPr>
        <p:blipFill>
          <a:blip r:embed="rId8"/>
          <a:stretch/>
        </p:blipFill>
        <p:spPr>
          <a:xfrm rot="19741800">
            <a:off x="6073920" y="2298600"/>
            <a:ext cx="231480" cy="4017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9" descr=""/>
          <p:cNvPicPr/>
          <p:nvPr/>
        </p:nvPicPr>
        <p:blipFill>
          <a:blip r:embed="rId9"/>
          <a:stretch/>
        </p:blipFill>
        <p:spPr>
          <a:xfrm rot="19741800">
            <a:off x="6921360" y="4485960"/>
            <a:ext cx="231840" cy="4017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0" descr=""/>
          <p:cNvPicPr/>
          <p:nvPr/>
        </p:nvPicPr>
        <p:blipFill>
          <a:blip r:embed="rId10"/>
          <a:stretch/>
        </p:blipFill>
        <p:spPr>
          <a:xfrm rot="19741800">
            <a:off x="6805440" y="4932360"/>
            <a:ext cx="231840" cy="403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1" descr=""/>
          <p:cNvPicPr/>
          <p:nvPr/>
        </p:nvPicPr>
        <p:blipFill>
          <a:blip r:embed="rId11"/>
          <a:stretch/>
        </p:blipFill>
        <p:spPr>
          <a:xfrm rot="19741800">
            <a:off x="6859080" y="4012920"/>
            <a:ext cx="231840" cy="401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2" descr=""/>
          <p:cNvPicPr/>
          <p:nvPr/>
        </p:nvPicPr>
        <p:blipFill>
          <a:blip r:embed="rId12"/>
          <a:stretch/>
        </p:blipFill>
        <p:spPr>
          <a:xfrm rot="19741800">
            <a:off x="6546600" y="2539800"/>
            <a:ext cx="231840" cy="401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3" descr=""/>
          <p:cNvPicPr/>
          <p:nvPr/>
        </p:nvPicPr>
        <p:blipFill>
          <a:blip r:embed="rId13"/>
          <a:stretch/>
        </p:blipFill>
        <p:spPr>
          <a:xfrm>
            <a:off x="2816280" y="3970440"/>
            <a:ext cx="2490840" cy="9810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4" descr=""/>
          <p:cNvPicPr/>
          <p:nvPr/>
        </p:nvPicPr>
        <p:blipFill>
          <a:blip r:embed="rId14"/>
          <a:stretch/>
        </p:blipFill>
        <p:spPr>
          <a:xfrm rot="228600">
            <a:off x="5502240" y="603900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5" descr=""/>
          <p:cNvPicPr/>
          <p:nvPr/>
        </p:nvPicPr>
        <p:blipFill>
          <a:blip r:embed="rId15"/>
          <a:stretch/>
        </p:blipFill>
        <p:spPr>
          <a:xfrm>
            <a:off x="4530600" y="194328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6" descr=""/>
          <p:cNvPicPr/>
          <p:nvPr/>
        </p:nvPicPr>
        <p:blipFill>
          <a:blip r:embed="rId16"/>
          <a:stretch/>
        </p:blipFill>
        <p:spPr>
          <a:xfrm>
            <a:off x="5343480" y="286236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7" descr=""/>
          <p:cNvPicPr/>
          <p:nvPr/>
        </p:nvPicPr>
        <p:blipFill>
          <a:blip r:embed="rId17"/>
          <a:stretch/>
        </p:blipFill>
        <p:spPr>
          <a:xfrm>
            <a:off x="5370480" y="3960720"/>
            <a:ext cx="1320840" cy="1054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8" descr=""/>
          <p:cNvPicPr/>
          <p:nvPr/>
        </p:nvPicPr>
        <p:blipFill>
          <a:blip r:embed="rId18"/>
          <a:stretch/>
        </p:blipFill>
        <p:spPr>
          <a:xfrm>
            <a:off x="4637160" y="4818240"/>
            <a:ext cx="1322280" cy="10540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9" descr=""/>
          <p:cNvPicPr/>
          <p:nvPr/>
        </p:nvPicPr>
        <p:blipFill>
          <a:blip r:embed="rId19"/>
          <a:stretch/>
        </p:blipFill>
        <p:spPr>
          <a:xfrm rot="19741800">
            <a:off x="6135840" y="5843520"/>
            <a:ext cx="231480" cy="401760"/>
          </a:xfrm>
          <a:prstGeom prst="rect">
            <a:avLst/>
          </a:prstGeom>
          <a:ln w="0">
            <a:noFill/>
          </a:ln>
        </p:spPr>
      </p:pic>
      <p:sp>
        <p:nvSpPr>
          <p:cNvPr id="624" name="Oval 20"/>
          <p:cNvSpPr/>
          <p:nvPr/>
        </p:nvSpPr>
        <p:spPr>
          <a:xfrm>
            <a:off x="3956040" y="3278160"/>
            <a:ext cx="21420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Oval 21"/>
          <p:cNvSpPr/>
          <p:nvPr/>
        </p:nvSpPr>
        <p:spPr>
          <a:xfrm>
            <a:off x="3956040" y="4349880"/>
            <a:ext cx="21420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Oval 22"/>
          <p:cNvSpPr/>
          <p:nvPr/>
        </p:nvSpPr>
        <p:spPr>
          <a:xfrm>
            <a:off x="5081760" y="2395440"/>
            <a:ext cx="214200" cy="21456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Oval 23"/>
          <p:cNvSpPr/>
          <p:nvPr/>
        </p:nvSpPr>
        <p:spPr>
          <a:xfrm>
            <a:off x="5894280" y="3278160"/>
            <a:ext cx="21456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8" name="Oval 24"/>
          <p:cNvSpPr/>
          <p:nvPr/>
        </p:nvSpPr>
        <p:spPr>
          <a:xfrm>
            <a:off x="5929200" y="4376880"/>
            <a:ext cx="21456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9" name="Oval 25"/>
          <p:cNvSpPr/>
          <p:nvPr/>
        </p:nvSpPr>
        <p:spPr>
          <a:xfrm>
            <a:off x="5197320" y="5234040"/>
            <a:ext cx="214560" cy="214200"/>
          </a:xfrm>
          <a:prstGeom prst="ellipse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0" name="Line 26"/>
          <p:cNvSpPr/>
          <p:nvPr/>
        </p:nvSpPr>
        <p:spPr>
          <a:xfrm flipV="1">
            <a:off x="2780640" y="3424320"/>
            <a:ext cx="1150920" cy="3794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1" name="Line 27"/>
          <p:cNvSpPr/>
          <p:nvPr/>
        </p:nvSpPr>
        <p:spPr>
          <a:xfrm>
            <a:off x="2784600" y="4048200"/>
            <a:ext cx="1157040" cy="3729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2" name="Line 28"/>
          <p:cNvSpPr/>
          <p:nvPr/>
        </p:nvSpPr>
        <p:spPr>
          <a:xfrm flipV="1">
            <a:off x="4160160" y="2587680"/>
            <a:ext cx="933480" cy="7063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3" name="Line 29"/>
          <p:cNvSpPr/>
          <p:nvPr/>
        </p:nvSpPr>
        <p:spPr>
          <a:xfrm flipV="1">
            <a:off x="5302080" y="2170080"/>
            <a:ext cx="617760" cy="2541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4" name="Line 30"/>
          <p:cNvSpPr/>
          <p:nvPr/>
        </p:nvSpPr>
        <p:spPr>
          <a:xfrm flipV="1">
            <a:off x="5230800" y="1816200"/>
            <a:ext cx="185760" cy="5443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5" name="Line 31"/>
          <p:cNvSpPr/>
          <p:nvPr/>
        </p:nvSpPr>
        <p:spPr>
          <a:xfrm flipV="1">
            <a:off x="5325480" y="2468520"/>
            <a:ext cx="672840" cy="446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6" name="Line 32"/>
          <p:cNvSpPr/>
          <p:nvPr/>
        </p:nvSpPr>
        <p:spPr>
          <a:xfrm flipV="1">
            <a:off x="4201560" y="3395520"/>
            <a:ext cx="1662120" cy="2088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7" name="Line 33"/>
          <p:cNvSpPr/>
          <p:nvPr/>
        </p:nvSpPr>
        <p:spPr>
          <a:xfrm>
            <a:off x="4205160" y="4432320"/>
            <a:ext cx="1710000" cy="4140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8" name="Line 34"/>
          <p:cNvSpPr/>
          <p:nvPr/>
        </p:nvSpPr>
        <p:spPr>
          <a:xfrm>
            <a:off x="4176720" y="4546440"/>
            <a:ext cx="1031760" cy="7207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9" name="AutoShape 35"/>
          <p:cNvSpPr/>
          <p:nvPr/>
        </p:nvSpPr>
        <p:spPr>
          <a:xfrm>
            <a:off x="1857240" y="3716280"/>
            <a:ext cx="895320" cy="401760"/>
          </a:xfrm>
          <a:prstGeom prst="roundRect">
            <a:avLst>
              <a:gd name="adj" fmla="val 33333"/>
            </a:avLst>
          </a:prstGeom>
          <a:gradFill rotWithShape="0">
            <a:gsLst>
              <a:gs pos="0">
                <a:srgbClr val="ffffff"/>
              </a:gs>
              <a:gs pos="100000">
                <a:srgbClr val="464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40" name="Picture 36" descr=""/>
          <p:cNvPicPr/>
          <p:nvPr/>
        </p:nvPicPr>
        <p:blipFill>
          <a:blip r:embed="rId20"/>
          <a:stretch/>
        </p:blipFill>
        <p:spPr>
          <a:xfrm>
            <a:off x="1903320" y="3762360"/>
            <a:ext cx="803520" cy="316080"/>
          </a:xfrm>
          <a:prstGeom prst="rect">
            <a:avLst/>
          </a:prstGeom>
          <a:ln w="0">
            <a:noFill/>
          </a:ln>
        </p:spPr>
      </p:pic>
      <p:sp>
        <p:nvSpPr>
          <p:cNvPr id="641" name="Line 37"/>
          <p:cNvSpPr/>
          <p:nvPr/>
        </p:nvSpPr>
        <p:spPr>
          <a:xfrm flipV="1">
            <a:off x="6122160" y="2877840"/>
            <a:ext cx="497160" cy="43020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2" name="Line 38"/>
          <p:cNvSpPr/>
          <p:nvPr/>
        </p:nvSpPr>
        <p:spPr>
          <a:xfrm flipV="1">
            <a:off x="6151680" y="3352680"/>
            <a:ext cx="696960" cy="381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 flipV="1">
            <a:off x="6191280" y="4255920"/>
            <a:ext cx="660240" cy="2066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Line 40"/>
          <p:cNvSpPr/>
          <p:nvPr/>
        </p:nvSpPr>
        <p:spPr>
          <a:xfrm>
            <a:off x="6116760" y="3470400"/>
            <a:ext cx="755640" cy="21276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5" name="Line 41"/>
          <p:cNvSpPr/>
          <p:nvPr/>
        </p:nvSpPr>
        <p:spPr>
          <a:xfrm>
            <a:off x="6191280" y="4537080"/>
            <a:ext cx="657360" cy="9828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6" name="Line 42"/>
          <p:cNvSpPr/>
          <p:nvPr/>
        </p:nvSpPr>
        <p:spPr>
          <a:xfrm>
            <a:off x="6156360" y="4591080"/>
            <a:ext cx="584280" cy="3668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7" name="Line 43"/>
          <p:cNvSpPr/>
          <p:nvPr/>
        </p:nvSpPr>
        <p:spPr>
          <a:xfrm>
            <a:off x="5460840" y="5376960"/>
            <a:ext cx="828720" cy="24120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Line 44"/>
          <p:cNvSpPr/>
          <p:nvPr/>
        </p:nvSpPr>
        <p:spPr>
          <a:xfrm>
            <a:off x="5430960" y="5440320"/>
            <a:ext cx="650880" cy="43992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Line 45"/>
          <p:cNvSpPr/>
          <p:nvPr/>
        </p:nvSpPr>
        <p:spPr>
          <a:xfrm>
            <a:off x="5367240" y="5486400"/>
            <a:ext cx="266760" cy="541440"/>
          </a:xfrm>
          <a:prstGeom prst="line">
            <a:avLst/>
          </a:prstGeom>
          <a:ln w="50760">
            <a:solidFill>
              <a:srgbClr val="7d7d7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0" name="Rectangle 46"/>
          <p:cNvSpPr/>
          <p:nvPr/>
        </p:nvSpPr>
        <p:spPr>
          <a:xfrm>
            <a:off x="3214080" y="302472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1" name="Rectangle 47"/>
          <p:cNvSpPr/>
          <p:nvPr/>
        </p:nvSpPr>
        <p:spPr>
          <a:xfrm>
            <a:off x="3097440" y="463176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434"/>
                </a:solidFill>
                <a:latin typeface="Arial"/>
                <a:ea typeface="Gill Sans"/>
              </a:rPr>
              <a:t>IS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  <a:ea typeface="ＭＳ Ｐゴシック"/>
              </a:rPr>
              <a:t>What should the network look like…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B6AD-AFD5-4C8F-A6A1-A5C8A55BF51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obilityFirst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655" name="Content Placeholder 4" descr=""/>
          <p:cNvPicPr/>
          <p:nvPr/>
        </p:nvPicPr>
        <p:blipFill>
          <a:blip r:embed="rId1"/>
          <a:srcRect l="0" t="-12915" r="0" b="-12915"/>
          <a:stretch/>
        </p:blipFill>
        <p:spPr>
          <a:xfrm>
            <a:off x="291960" y="1068480"/>
            <a:ext cx="8294760" cy="5627520"/>
          </a:xfrm>
          <a:prstGeom prst="rect">
            <a:avLst/>
          </a:prstGeom>
          <a:ln w="0">
            <a:noFill/>
          </a:ln>
        </p:spPr>
      </p:pic>
      <p:sp>
        <p:nvSpPr>
          <p:cNvPr id="656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F7CF-2CC8-477A-8517-5A9A4E8F38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8DE6-D5E2-4CCA-BCF4-30F622F1360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sign principles in inter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 History of Internet Evolu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4560" y="5181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change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after 19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C9D3-5A05-4E6E-8D4A-67AA78DE9E3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1827360" cy="3048120"/>
          </a:xfrm>
          <a:prstGeom prst="rect">
            <a:avLst/>
          </a:prstGeom>
          <a:ln w="0">
            <a:noFill/>
          </a:ln>
        </p:spPr>
      </p:pic>
      <p:sp>
        <p:nvSpPr>
          <p:cNvPr id="661" name="TextBox 4"/>
          <p:cNvSpPr/>
          <p:nvPr/>
        </p:nvSpPr>
        <p:spPr>
          <a:xfrm>
            <a:off x="3890160" y="321480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62" name="Straight Arrow Connector 7"/>
          <p:cNvCxnSpPr>
            <a:stCxn id="661" idx="1"/>
          </p:cNvCxnSpPr>
          <p:nvPr/>
        </p:nvCxnSpPr>
        <p:spPr>
          <a:xfrm flipH="1">
            <a:off x="2057040" y="3506400"/>
            <a:ext cx="1829520" cy="1080"/>
          </a:xfrm>
          <a:prstGeom prst="straightConnector1">
            <a:avLst/>
          </a:prstGeom>
          <a:ln w="25560">
            <a:solidFill>
              <a:srgbClr val="7f7faa"/>
            </a:solidFill>
            <a:miter/>
            <a:tailEnd len="med" type="arrow" w="med"/>
          </a:ln>
        </p:spPr>
      </p:cxnSp>
      <p:sp>
        <p:nvSpPr>
          <p:cNvPr id="663" name="TextBox 8"/>
          <p:cNvSpPr/>
          <p:nvPr/>
        </p:nvSpPr>
        <p:spPr>
          <a:xfrm>
            <a:off x="2933280" y="198108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TextBox 9"/>
          <p:cNvSpPr/>
          <p:nvPr/>
        </p:nvSpPr>
        <p:spPr>
          <a:xfrm>
            <a:off x="2952360" y="444492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4955040" y="2960640"/>
            <a:ext cx="37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bo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and below I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XIA: An Evolvable Internet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243000" y="2540160"/>
            <a:ext cx="4721040" cy="2565360"/>
          </a:xfrm>
          <a:prstGeom prst="ellipse">
            <a:avLst/>
          </a:prstGeom>
          <a:solidFill>
            <a:srgbClr val="babe90">
              <a:alpha val="47000"/>
            </a:srgbClr>
          </a:solidFill>
          <a:ln w="9360">
            <a:solidFill>
              <a:srgbClr val="b7bb8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sign a network in which we can gracefully introduce new functionalit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Rectangle 10"/>
          <p:cNvSpPr/>
          <p:nvPr/>
        </p:nvSpPr>
        <p:spPr>
          <a:xfrm>
            <a:off x="609480" y="1957320"/>
            <a:ext cx="35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twork desig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669" name="Group 21"/>
          <p:cNvGrpSpPr/>
          <p:nvPr/>
        </p:nvGrpSpPr>
        <p:grpSpPr>
          <a:xfrm>
            <a:off x="3708360" y="1957320"/>
            <a:ext cx="4630680" cy="3110040"/>
            <a:chOff x="3708360" y="1957320"/>
            <a:chExt cx="4630680" cy="3110040"/>
          </a:xfrm>
        </p:grpSpPr>
        <p:sp>
          <p:nvSpPr>
            <p:cNvPr id="670" name="Oval 5"/>
            <p:cNvSpPr/>
            <p:nvPr/>
          </p:nvSpPr>
          <p:spPr>
            <a:xfrm>
              <a:off x="3708360" y="2500920"/>
              <a:ext cx="4630680" cy="2566440"/>
            </a:xfrm>
            <a:prstGeom prst="ellipse">
              <a:avLst/>
            </a:prstGeom>
            <a:solidFill>
              <a:srgbClr val="37374a">
                <a:alpha val="23000"/>
              </a:srgbClr>
            </a:solidFill>
            <a:ln w="9360">
              <a:solidFill>
                <a:srgbClr val="b7bb8c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w should the end-points change when the networks provide new functionality? 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1" name="Rectangle 11"/>
            <p:cNvSpPr/>
            <p:nvPr/>
          </p:nvSpPr>
          <p:spPr>
            <a:xfrm>
              <a:off x="4690800" y="1957320"/>
              <a:ext cx="322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End-point design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672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AC8B-460E-40CE-9412-F0C8A62B95D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XIA: Evolvable Set of Princip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3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he intended communicating entities reduces complexity and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to force all communication at a lower level (hosts), as in today’s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the network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C0AD-45A7-4B4E-954C-6D0BA9427047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76" name="Picture 6" descr="MC900433956[1]"/>
          <p:cNvPicPr/>
          <p:nvPr/>
        </p:nvPicPr>
        <p:blipFill>
          <a:blip r:embed="rId1"/>
          <a:stretch/>
        </p:blipFill>
        <p:spPr>
          <a:xfrm>
            <a:off x="5538960" y="4892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0" descr="C:\Documents and Settings\prs\Local Settings\Temporary Internet Files\Content.IE5\SX03GD4B\MCj04399430000[1].wmf"/>
          <p:cNvPicPr/>
          <p:nvPr/>
        </p:nvPicPr>
        <p:blipFill>
          <a:blip r:embed="rId2"/>
          <a:stretch/>
        </p:blipFill>
        <p:spPr>
          <a:xfrm flipH="1">
            <a:off x="1692360" y="4495680"/>
            <a:ext cx="1062000" cy="1393920"/>
          </a:xfrm>
          <a:prstGeom prst="rect">
            <a:avLst/>
          </a:prstGeom>
          <a:ln w="0">
            <a:noFill/>
          </a:ln>
        </p:spPr>
      </p:pic>
      <p:sp>
        <p:nvSpPr>
          <p:cNvPr id="678" name="AutoShape 8"/>
          <p:cNvSpPr/>
          <p:nvPr/>
        </p:nvSpPr>
        <p:spPr>
          <a:xfrm flipH="1">
            <a:off x="5741280" y="4057560"/>
            <a:ext cx="452520" cy="5968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79" name="Picture 12" descr="MC900110849[1]"/>
          <p:cNvPicPr/>
          <p:nvPr/>
        </p:nvPicPr>
        <p:blipFill>
          <a:blip r:embed="rId3"/>
          <a:stretch/>
        </p:blipFill>
        <p:spPr>
          <a:xfrm>
            <a:off x="5616720" y="5856120"/>
            <a:ext cx="787320" cy="781200"/>
          </a:xfrm>
          <a:prstGeom prst="rect">
            <a:avLst/>
          </a:prstGeom>
          <a:ln w="0">
            <a:noFill/>
          </a:ln>
        </p:spPr>
      </p:pic>
      <p:sp>
        <p:nvSpPr>
          <p:cNvPr id="680" name="Line 13"/>
          <p:cNvSpPr/>
          <p:nvPr/>
        </p:nvSpPr>
        <p:spPr>
          <a:xfrm flipV="1">
            <a:off x="2754360" y="4295520"/>
            <a:ext cx="2987640" cy="58716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1" name="Line 14"/>
          <p:cNvSpPr/>
          <p:nvPr/>
        </p:nvSpPr>
        <p:spPr>
          <a:xfrm>
            <a:off x="2754360" y="5222880"/>
            <a:ext cx="2784600" cy="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2" name="Line 15"/>
          <p:cNvSpPr/>
          <p:nvPr/>
        </p:nvSpPr>
        <p:spPr>
          <a:xfrm>
            <a:off x="2754360" y="5611680"/>
            <a:ext cx="2784600" cy="51624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1909080" y="58896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6592680" y="407844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6552720" y="495468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6654600" y="5813280"/>
            <a:ext cx="8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6570000" y="43434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581fe9 ...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6555240" y="52228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9389fa …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1751040" y="6116760"/>
            <a:ext cx="9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4e881 …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6536160" y="633240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c0348 …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9587-77DD-4B19-81A1-CE0BC871F52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principles in inter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P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62DC-35ED-407A-93A0-30DAE955F8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 Problem (1991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space de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nger of running out of classe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 too small for most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ew class A – IANA (Internet Assigned Numbers Authority) very careful about g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 – greates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sely populated – but people refuse to give it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2563-7BE6-4BCF-9901-A7144D52FC8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457200" y="1447920"/>
            <a:ext cx="830592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 Utilization (‘98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700" name="Picture 4" descr="map_small"/>
          <p:cNvPicPr/>
          <p:nvPr/>
        </p:nvPicPr>
        <p:blipFill>
          <a:blip r:embed="rId1"/>
          <a:stretch/>
        </p:blipFill>
        <p:spPr>
          <a:xfrm>
            <a:off x="2133720" y="1550880"/>
            <a:ext cx="5010120" cy="446904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5"/>
          <p:cNvSpPr/>
          <p:nvPr/>
        </p:nvSpPr>
        <p:spPr>
          <a:xfrm>
            <a:off x="1193400" y="6095880"/>
            <a:ext cx="66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caida.org/outreach/resources/learn/ipv4space/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A3B1-A955-49FB-A34C-B886AAD4579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4 Routing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router forwarding tables were growing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A: 128 networks, 16M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: 16K networks, 64K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: 2M networks, 256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its does not give enough space encode network location information inside address – i.e., create a structured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E3A5-CA08-47D8-8737-4DBE97B7235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lution 1 – CID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multiple class C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consecutive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C1338 – Classless Inter-Domain Routing (CI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A497-9C86-4CDA-A0E6-7850B3F678C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assless Inter-Domain 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classes to determine network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any range of addresses to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mon part of address as network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ddresses 192.4.16 - 196.4.31 have the first 20 bits in common. Thus, we use this as the network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mask is /20, /xx is valid for almost any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 more efficient usage of address space (and router t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898C-B17A-4753-9EFB-2FE89F41AE4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lution 2 - N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solution to address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udge (but usef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s between your network and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s local network layer addresses to global IP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pool of global IP addresses (less than number of hosts on your net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5481-E4DF-42FE-99AD-3EF8F5BBA4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Goals [Clark88]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ARPANET and ARPA packet radio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communication service even in the presence of network and router failu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multiple types 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ccommodate a variety of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distribute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host attachment with a low level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st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resource account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413F-6E07-4AF8-BA14-AB47996DAC5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457200" y="1447920"/>
            <a:ext cx="83059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AT Illust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7" name="Oval 4"/>
          <p:cNvSpPr/>
          <p:nvPr/>
        </p:nvSpPr>
        <p:spPr>
          <a:xfrm>
            <a:off x="1905120" y="2209680"/>
            <a:ext cx="1885680" cy="10670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5943600" y="2286000"/>
            <a:ext cx="1905120" cy="99072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719" name="Group 6"/>
          <p:cNvGrpSpPr/>
          <p:nvPr/>
        </p:nvGrpSpPr>
        <p:grpSpPr>
          <a:xfrm>
            <a:off x="4629240" y="2087640"/>
            <a:ext cx="457200" cy="1143000"/>
            <a:chOff x="4629240" y="2087640"/>
            <a:chExt cx="457200" cy="1143000"/>
          </a:xfrm>
        </p:grpSpPr>
        <p:sp>
          <p:nvSpPr>
            <p:cNvPr id="720" name="Rectangle 7"/>
            <p:cNvSpPr/>
            <p:nvPr/>
          </p:nvSpPr>
          <p:spPr>
            <a:xfrm>
              <a:off x="4629240" y="2087640"/>
              <a:ext cx="457200" cy="1143000"/>
            </a:xfrm>
            <a:prstGeom prst="rect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1" name="Line 8"/>
            <p:cNvSpPr/>
            <p:nvPr/>
          </p:nvSpPr>
          <p:spPr>
            <a:xfrm>
              <a:off x="4629240" y="307836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2" name="Line 9"/>
            <p:cNvSpPr/>
            <p:nvPr/>
          </p:nvSpPr>
          <p:spPr>
            <a:xfrm>
              <a:off x="4629240" y="292572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3" name="Line 10"/>
            <p:cNvSpPr/>
            <p:nvPr/>
          </p:nvSpPr>
          <p:spPr>
            <a:xfrm>
              <a:off x="4629240" y="277344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4" name="Line 11"/>
            <p:cNvSpPr/>
            <p:nvPr/>
          </p:nvSpPr>
          <p:spPr>
            <a:xfrm>
              <a:off x="4629240" y="262116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5" name="Line 12"/>
            <p:cNvSpPr/>
            <p:nvPr/>
          </p:nvSpPr>
          <p:spPr>
            <a:xfrm>
              <a:off x="4629240" y="2468520"/>
              <a:ext cx="45720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726" name="Text Box 13"/>
          <p:cNvSpPr/>
          <p:nvPr/>
        </p:nvSpPr>
        <p:spPr>
          <a:xfrm>
            <a:off x="3581280" y="1523880"/>
            <a:ext cx="253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ol of global IP addresse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Line 14"/>
          <p:cNvSpPr/>
          <p:nvPr/>
        </p:nvSpPr>
        <p:spPr>
          <a:xfrm>
            <a:off x="4857840" y="3230640"/>
            <a:ext cx="0" cy="1522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611280" y="4267080"/>
            <a:ext cx="746604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indent="-10800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: Source (S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s to talk to Destination (D)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-16812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pp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-16812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outgoing packe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-16812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incoming packe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108000" indent="-108000"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&amp; S can be just IP addresses or IP addresses + port #’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9" name="Line 16"/>
          <p:cNvSpPr/>
          <p:nvPr/>
        </p:nvSpPr>
        <p:spPr>
          <a:xfrm flipH="1">
            <a:off x="1600200" y="3595680"/>
            <a:ext cx="4572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Freeform 17"/>
          <p:cNvSpPr/>
          <p:nvPr/>
        </p:nvSpPr>
        <p:spPr>
          <a:xfrm>
            <a:off x="3638520" y="2938320"/>
            <a:ext cx="990720" cy="414360"/>
          </a:xfrm>
          <a:custGeom>
            <a:avLst/>
            <a:gdLst>
              <a:gd name="textAreaLeft" fmla="*/ 0 w 990720"/>
              <a:gd name="textAreaRight" fmla="*/ 991080 w 99072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720" h="568">
                <a:moveTo>
                  <a:pt x="720" y="40"/>
                </a:moveTo>
                <a:cubicBezTo>
                  <a:pt x="516" y="20"/>
                  <a:pt x="312" y="0"/>
                  <a:pt x="192" y="88"/>
                </a:cubicBezTo>
                <a:cubicBezTo>
                  <a:pt x="72" y="176"/>
                  <a:pt x="36" y="372"/>
                  <a:pt x="0" y="568"/>
                </a:cubicBezTo>
              </a:path>
            </a:pathLst>
          </a:custGeom>
          <a:noFill/>
          <a:ln w="936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1" name="Line 18"/>
          <p:cNvSpPr/>
          <p:nvPr/>
        </p:nvSpPr>
        <p:spPr>
          <a:xfrm>
            <a:off x="4857840" y="2087640"/>
            <a:ext cx="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4837320" y="2155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4586040" y="21556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Text Box 21"/>
          <p:cNvSpPr/>
          <p:nvPr/>
        </p:nvSpPr>
        <p:spPr>
          <a:xfrm>
            <a:off x="6279840" y="3413160"/>
            <a:ext cx="418320" cy="4057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Text Box 22"/>
          <p:cNvSpPr/>
          <p:nvPr/>
        </p:nvSpPr>
        <p:spPr>
          <a:xfrm>
            <a:off x="6672960" y="3413160"/>
            <a:ext cx="406080" cy="4057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6" name="Line 23"/>
          <p:cNvSpPr/>
          <p:nvPr/>
        </p:nvSpPr>
        <p:spPr>
          <a:xfrm flipH="1">
            <a:off x="5715000" y="3579840"/>
            <a:ext cx="45720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7" name="Text Box 24"/>
          <p:cNvSpPr/>
          <p:nvPr/>
        </p:nvSpPr>
        <p:spPr>
          <a:xfrm>
            <a:off x="7088760" y="3413160"/>
            <a:ext cx="662400" cy="3682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Line 25"/>
          <p:cNvSpPr/>
          <p:nvPr/>
        </p:nvSpPr>
        <p:spPr>
          <a:xfrm>
            <a:off x="3790800" y="2743200"/>
            <a:ext cx="762120" cy="8380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9" name="Rectangle 26"/>
          <p:cNvSpPr/>
          <p:nvPr/>
        </p:nvSpPr>
        <p:spPr>
          <a:xfrm>
            <a:off x="4552920" y="3382920"/>
            <a:ext cx="68580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0" name="Line 27"/>
          <p:cNvSpPr/>
          <p:nvPr/>
        </p:nvSpPr>
        <p:spPr>
          <a:xfrm flipV="1">
            <a:off x="5238720" y="2819520"/>
            <a:ext cx="704880" cy="76176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Text Box 28"/>
          <p:cNvSpPr/>
          <p:nvPr/>
        </p:nvSpPr>
        <p:spPr>
          <a:xfrm>
            <a:off x="190512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594360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Text Box 30"/>
          <p:cNvSpPr/>
          <p:nvPr/>
        </p:nvSpPr>
        <p:spPr>
          <a:xfrm>
            <a:off x="2184120" y="3413160"/>
            <a:ext cx="418320" cy="4057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4" name="Text Box 31"/>
          <p:cNvSpPr/>
          <p:nvPr/>
        </p:nvSpPr>
        <p:spPr>
          <a:xfrm>
            <a:off x="2570040" y="3413160"/>
            <a:ext cx="858960" cy="4057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5" name="Text Box 32"/>
          <p:cNvSpPr/>
          <p:nvPr/>
        </p:nvSpPr>
        <p:spPr>
          <a:xfrm>
            <a:off x="2993040" y="3413160"/>
            <a:ext cx="662400" cy="3682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80AE-1451-46C0-A304-CA960901C87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lution 3 - IPv6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– addresses are 128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infrequently used parts of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byte fixed size vs. 20+ byt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removes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s on upper layer protocols to provide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eliminates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th MTU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280 byte M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630B-C482-443B-A013-66ED7781BA3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6 Cha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560" y="1446120"/>
            <a:ext cx="8458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 replaced with traffic class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soft stat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s well onto TCP connection or stream of UDP packets on host-port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uto-configuration using hardware MAC address to provide uniqu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E233-309C-45B9-9967-65D4932C685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6 Chang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field replaced by next header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protocol demultiplexing as well as op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are added using next header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header does not need to be processed by every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erformance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options practical/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AFC3-4555-424D-8FCA-7DB760C20C7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: IP Desig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impl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rts not so useful (TOS, o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to show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ear what the solution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6C54-3962-4D72-9164-58ECFA0639B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Lectures: 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lecture on 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-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,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176"/>
                </a:solidFill>
                <a:latin typeface="Arial"/>
              </a:rPr>
              <a:t>EXTRA SLIDES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6939-32E9-4B23-B2A0-2888BC3BC7A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A3CC-14F7-42E2-8302-675A2873C85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agment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packets can be 64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ink-layers have different M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P packet into multiple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header on each fr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fields in header to help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e router may fragment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do reassemb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nodes – avoids unnecess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gerous to do at intermediate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ths through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5982-5077-466E-AB51-C376BDB8FD4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agmentation is Harmfu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esources poo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costs pe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if we can send large chunk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 case: packet just bigger than M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end-to-en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a fra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sembly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ing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9DD3-F951-42FF-B4B4-60EE48D495C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th MTU Discov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s dynamically discover minimum MTU of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MTU to MTU for first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datagrams with Don’t Fragment bi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CMP “pkt too big” msg, decrease M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path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(&gt;5mins, or &gt;1min after previous increase), increase M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outers will return proper M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U values cached in rout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83FC-1933-4D3B-ACB4-98C5D3DD44C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oal 0: Connecting Networ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internetwork various network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PANET, X.25 networks, LANs, satellite networks, packet networks, serial link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ces between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form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 – bandwidth/lat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rate/pattern/hand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972-AE6D-4213-8E69-612F70A7637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is IP Design Standardized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ar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every 4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s and email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ject kings, presidents, and voting; we believe in rough consensus and running code” (Dave Clark 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2 independent, interoperable implementations for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2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Multicast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6CBA-2FA0-4D57-9886-3255F18D5FE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7" name="Rectangle 2"/>
          <p:cNvSpPr/>
          <p:nvPr/>
        </p:nvSpPr>
        <p:spPr>
          <a:xfrm>
            <a:off x="457200" y="1905120"/>
            <a:ext cx="83059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4 Header – RFC791 (1981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1828800" y="312408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0" name="Rectangle 5"/>
          <p:cNvSpPr/>
          <p:nvPr/>
        </p:nvSpPr>
        <p:spPr>
          <a:xfrm>
            <a:off x="1828800" y="342900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1828800" y="3733920"/>
            <a:ext cx="5486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1828800" y="403848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Rectangle 8"/>
          <p:cNvSpPr/>
          <p:nvPr/>
        </p:nvSpPr>
        <p:spPr>
          <a:xfrm>
            <a:off x="1828800" y="434340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1828800" y="4648320"/>
            <a:ext cx="5486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5" name="Line 10"/>
          <p:cNvSpPr/>
          <p:nvPr/>
        </p:nvSpPr>
        <p:spPr>
          <a:xfrm flipV="1">
            <a:off x="18288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6" name="Line 11"/>
          <p:cNvSpPr/>
          <p:nvPr/>
        </p:nvSpPr>
        <p:spPr>
          <a:xfrm flipV="1">
            <a:off x="518148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Line 12"/>
          <p:cNvSpPr/>
          <p:nvPr/>
        </p:nvSpPr>
        <p:spPr>
          <a:xfrm flipV="1">
            <a:off x="25146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Line 13"/>
          <p:cNvSpPr/>
          <p:nvPr/>
        </p:nvSpPr>
        <p:spPr>
          <a:xfrm flipV="1">
            <a:off x="73152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Line 14"/>
          <p:cNvSpPr/>
          <p:nvPr/>
        </p:nvSpPr>
        <p:spPr>
          <a:xfrm flipV="1">
            <a:off x="59436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Text Box 15"/>
          <p:cNvSpPr/>
          <p:nvPr/>
        </p:nvSpPr>
        <p:spPr>
          <a:xfrm>
            <a:off x="1738080" y="267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Text Box 16"/>
          <p:cNvSpPr/>
          <p:nvPr/>
        </p:nvSpPr>
        <p:spPr>
          <a:xfrm>
            <a:off x="2363760" y="267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2" name="Text Box 17"/>
          <p:cNvSpPr/>
          <p:nvPr/>
        </p:nvSpPr>
        <p:spPr>
          <a:xfrm>
            <a:off x="434448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3" name="Text Box 18"/>
          <p:cNvSpPr/>
          <p:nvPr/>
        </p:nvSpPr>
        <p:spPr>
          <a:xfrm>
            <a:off x="579528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4" name="Text Box 19"/>
          <p:cNvSpPr/>
          <p:nvPr/>
        </p:nvSpPr>
        <p:spPr>
          <a:xfrm>
            <a:off x="716400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5" name="Rectangle 20"/>
          <p:cNvSpPr/>
          <p:nvPr/>
        </p:nvSpPr>
        <p:spPr>
          <a:xfrm>
            <a:off x="1828800" y="31240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6" name="Rectangle 21"/>
          <p:cNvSpPr/>
          <p:nvPr/>
        </p:nvSpPr>
        <p:spPr>
          <a:xfrm>
            <a:off x="2514600" y="312408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7" name="Rectangle 22"/>
          <p:cNvSpPr/>
          <p:nvPr/>
        </p:nvSpPr>
        <p:spPr>
          <a:xfrm>
            <a:off x="3200400" y="312408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8" name="Rectangle 23"/>
          <p:cNvSpPr/>
          <p:nvPr/>
        </p:nvSpPr>
        <p:spPr>
          <a:xfrm>
            <a:off x="4572000" y="3124080"/>
            <a:ext cx="2743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9" name="Rectangle 24"/>
          <p:cNvSpPr/>
          <p:nvPr/>
        </p:nvSpPr>
        <p:spPr>
          <a:xfrm>
            <a:off x="1828800" y="3429000"/>
            <a:ext cx="2743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0" name="Rectangle 25"/>
          <p:cNvSpPr/>
          <p:nvPr/>
        </p:nvSpPr>
        <p:spPr>
          <a:xfrm>
            <a:off x="4572000" y="342900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1" name="Rectangle 26"/>
          <p:cNvSpPr/>
          <p:nvPr/>
        </p:nvSpPr>
        <p:spPr>
          <a:xfrm>
            <a:off x="5181480" y="3429000"/>
            <a:ext cx="213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2" name="Rectangle 27"/>
          <p:cNvSpPr/>
          <p:nvPr/>
        </p:nvSpPr>
        <p:spPr>
          <a:xfrm>
            <a:off x="1828800" y="37339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Liv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3" name="Rectangle 28"/>
          <p:cNvSpPr/>
          <p:nvPr/>
        </p:nvSpPr>
        <p:spPr>
          <a:xfrm>
            <a:off x="3200400" y="37339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4" name="Rectangle 29"/>
          <p:cNvSpPr/>
          <p:nvPr/>
        </p:nvSpPr>
        <p:spPr>
          <a:xfrm>
            <a:off x="4572000" y="3733920"/>
            <a:ext cx="2743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5" name="Rectangle 30"/>
          <p:cNvSpPr/>
          <p:nvPr/>
        </p:nvSpPr>
        <p:spPr>
          <a:xfrm>
            <a:off x="1828800" y="4648320"/>
            <a:ext cx="4114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6" name="Rectangle 31"/>
          <p:cNvSpPr/>
          <p:nvPr/>
        </p:nvSpPr>
        <p:spPr>
          <a:xfrm>
            <a:off x="5943600" y="46483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7" name="Line 32"/>
          <p:cNvSpPr/>
          <p:nvPr/>
        </p:nvSpPr>
        <p:spPr>
          <a:xfrm flipV="1">
            <a:off x="32004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3049560" y="267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9" name="Text Box 34"/>
          <p:cNvSpPr/>
          <p:nvPr/>
        </p:nvSpPr>
        <p:spPr>
          <a:xfrm>
            <a:off x="4953960" y="2678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0" name="Line 35"/>
          <p:cNvSpPr/>
          <p:nvPr/>
        </p:nvSpPr>
        <p:spPr>
          <a:xfrm flipV="1">
            <a:off x="4572000" y="29714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9608-A138-426F-8B06-A7695C620D9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Type of Serv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bits of prec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of dela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of throughpu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of reliabilit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d by DiffS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261D-4F4E-4227-9E1B-E0BC1C4D4BD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agmentation Related Fie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IP fr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tch up with other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fragment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agment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is fragment lies in entire IP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in 8 octet units (11 bit f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5A88-74E6-42BE-9581-391321E251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Fie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length (in 32 bit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packets exit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ultiplexing to higher layer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ome degree of header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weak – 16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ource routing, record rou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ly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5C2F-E123-4ACC-91EB-3749BBB5B99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ressing in IP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es are names of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Name System (DNS) names are names of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 binds host names to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 binds interface names to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360A-3846-482D-BBE6-D61A9319B2A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ressing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length or variable leng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ering choice: IP uses fixed length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532F-A482-4BE0-B870-E6C3361C83F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ressing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vs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formation would routers need to route to Ethernet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tructure for designing scalable binding from interface name to rou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levels? Fixed? Var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B9DF-7543-41DA-8710-EC98E303376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457200" y="3962520"/>
            <a:ext cx="830592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length: 32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lassful structure (19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IP address size: 4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: 128 networks, 16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B: 16K networks, 64K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: 2M networks, 256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761400" y="4267080"/>
            <a:ext cx="192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igh Order Bi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2943000" y="4267080"/>
            <a:ext cx="33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ma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bits of net, 24 bits of 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bits of net, 16 bits of 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 bits of net, 8 bits of 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7408080" y="4267080"/>
            <a:ext cx="8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s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DD74-6F97-4D85-85A2-96E397C7F12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7" name="Rectangle 2"/>
          <p:cNvSpPr/>
          <p:nvPr/>
        </p:nvSpPr>
        <p:spPr>
          <a:xfrm>
            <a:off x="457200" y="1676520"/>
            <a:ext cx="83059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Address Classes </a:t>
            </a: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(Some are Obsolete)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2117880" y="2514600"/>
            <a:ext cx="182880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3946680" y="2514600"/>
            <a:ext cx="419076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2498400" y="1930320"/>
            <a:ext cx="111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ID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5470920" y="193032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3778200" y="220968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4937040" y="2209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959760" y="2449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7908840" y="2209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7" name="Rectangle 12"/>
          <p:cNvSpPr/>
          <p:nvPr/>
        </p:nvSpPr>
        <p:spPr>
          <a:xfrm>
            <a:off x="2117880" y="3200400"/>
            <a:ext cx="306684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8" name="Rectangle 13"/>
          <p:cNvSpPr/>
          <p:nvPr/>
        </p:nvSpPr>
        <p:spPr>
          <a:xfrm>
            <a:off x="5165640" y="3200400"/>
            <a:ext cx="297180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9" name="Rectangle 14"/>
          <p:cNvSpPr/>
          <p:nvPr/>
        </p:nvSpPr>
        <p:spPr>
          <a:xfrm>
            <a:off x="2117880" y="2514600"/>
            <a:ext cx="15228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959760" y="3154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1" name="Rectangle 16"/>
          <p:cNvSpPr/>
          <p:nvPr/>
        </p:nvSpPr>
        <p:spPr>
          <a:xfrm>
            <a:off x="2117880" y="3200400"/>
            <a:ext cx="30456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2" name="Rectangle 17"/>
          <p:cNvSpPr/>
          <p:nvPr/>
        </p:nvSpPr>
        <p:spPr>
          <a:xfrm>
            <a:off x="2117880" y="3886200"/>
            <a:ext cx="449568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3" name="Rectangle 18"/>
          <p:cNvSpPr/>
          <p:nvPr/>
        </p:nvSpPr>
        <p:spPr>
          <a:xfrm>
            <a:off x="6613560" y="3886200"/>
            <a:ext cx="152388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4" name="Text Box 19"/>
          <p:cNvSpPr/>
          <p:nvPr/>
        </p:nvSpPr>
        <p:spPr>
          <a:xfrm>
            <a:off x="959040" y="38401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5" name="Rectangle 20"/>
          <p:cNvSpPr/>
          <p:nvPr/>
        </p:nvSpPr>
        <p:spPr>
          <a:xfrm>
            <a:off x="2117880" y="3886200"/>
            <a:ext cx="38088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6" name="Rectangle 21"/>
          <p:cNvSpPr/>
          <p:nvPr/>
        </p:nvSpPr>
        <p:spPr>
          <a:xfrm>
            <a:off x="2117880" y="4572000"/>
            <a:ext cx="6019560" cy="38088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Address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7" name="Text Box 22"/>
          <p:cNvSpPr/>
          <p:nvPr/>
        </p:nvSpPr>
        <p:spPr>
          <a:xfrm>
            <a:off x="959040" y="4525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8" name="Rectangle 23"/>
          <p:cNvSpPr/>
          <p:nvPr/>
        </p:nvSpPr>
        <p:spPr>
          <a:xfrm>
            <a:off x="2117880" y="4572000"/>
            <a:ext cx="533160" cy="38088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9" name="Rectangle 24"/>
          <p:cNvSpPr/>
          <p:nvPr/>
        </p:nvSpPr>
        <p:spPr>
          <a:xfrm>
            <a:off x="2117880" y="5181480"/>
            <a:ext cx="6019560" cy="38124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d for experimen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0" name="Text Box 25"/>
          <p:cNvSpPr/>
          <p:nvPr/>
        </p:nvSpPr>
        <p:spPr>
          <a:xfrm>
            <a:off x="959760" y="51354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1" name="Rectangle 26"/>
          <p:cNvSpPr/>
          <p:nvPr/>
        </p:nvSpPr>
        <p:spPr>
          <a:xfrm>
            <a:off x="2117880" y="5181480"/>
            <a:ext cx="53316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6308640" y="2209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A5AD-0706-4061-9F35-8619DACAEBF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1: Address Forma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ne address format to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ide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y translation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e 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lower level addresses to common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D235-8C5E-44C2-9F7F-5CC8DDCF220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ome Special IP Address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7.0.0.1: local host (a.k.a. the loopback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bits all set to 0: network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bits all set to 1: broadcas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30F7-A14B-4425-9BEE-2552AD55FDA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 Addressing – RFC917 (1984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lass A &amp; B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ew LANs have close to 64K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lectrical/LAN limitations, performance or administrative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imple way to get multiple “networ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ridging,  multiple IP networks or split up single network address ranges (sub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reduce the total number of network addresses that are as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U case study in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se not to adopt – concern that it would not be widely support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B567-6079-4910-AC97-71E4C35570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0" name="Rectangle 2"/>
          <p:cNvSpPr/>
          <p:nvPr/>
        </p:nvSpPr>
        <p:spPr>
          <a:xfrm>
            <a:off x="457200" y="3124080"/>
            <a:ext cx="83059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1" name="Rectangle 3"/>
          <p:cNvSpPr/>
          <p:nvPr/>
        </p:nvSpPr>
        <p:spPr>
          <a:xfrm>
            <a:off x="4267080" y="3429000"/>
            <a:ext cx="3276720" cy="6094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4267080" y="4267080"/>
            <a:ext cx="1447920" cy="6098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990720" y="4267080"/>
            <a:ext cx="3276360" cy="6098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length subnet mas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subnet a class B into several ch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8"/>
          <p:cNvSpPr/>
          <p:nvPr/>
        </p:nvSpPr>
        <p:spPr>
          <a:xfrm>
            <a:off x="990720" y="3429000"/>
            <a:ext cx="3276360" cy="6094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7" name="Line 9"/>
          <p:cNvSpPr/>
          <p:nvPr/>
        </p:nvSpPr>
        <p:spPr>
          <a:xfrm>
            <a:off x="4267080" y="3429000"/>
            <a:ext cx="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8" name="Text Box 10"/>
          <p:cNvSpPr/>
          <p:nvPr/>
        </p:nvSpPr>
        <p:spPr>
          <a:xfrm>
            <a:off x="1203480" y="35164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9" name="Text Box 11"/>
          <p:cNvSpPr/>
          <p:nvPr/>
        </p:nvSpPr>
        <p:spPr>
          <a:xfrm>
            <a:off x="5334840" y="35514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5715000" y="4267080"/>
            <a:ext cx="1828800" cy="6098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1" name="Text Box 13"/>
          <p:cNvSpPr/>
          <p:nvPr/>
        </p:nvSpPr>
        <p:spPr>
          <a:xfrm>
            <a:off x="1203480" y="43545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2" name="Text Box 14"/>
          <p:cNvSpPr/>
          <p:nvPr/>
        </p:nvSpPr>
        <p:spPr>
          <a:xfrm>
            <a:off x="6477840" y="43894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3" name="Text Box 15"/>
          <p:cNvSpPr/>
          <p:nvPr/>
        </p:nvSpPr>
        <p:spPr>
          <a:xfrm>
            <a:off x="4541400" y="43894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4" name="Line 16"/>
          <p:cNvSpPr/>
          <p:nvPr/>
        </p:nvSpPr>
        <p:spPr>
          <a:xfrm>
            <a:off x="5715000" y="4267080"/>
            <a:ext cx="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5" name="Rectangle 17"/>
          <p:cNvSpPr/>
          <p:nvPr/>
        </p:nvSpPr>
        <p:spPr>
          <a:xfrm>
            <a:off x="990720" y="5105520"/>
            <a:ext cx="6553080" cy="6094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6" name="Text Box 18"/>
          <p:cNvSpPr/>
          <p:nvPr/>
        </p:nvSpPr>
        <p:spPr>
          <a:xfrm>
            <a:off x="1203840" y="51926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7" name="Text Box 19"/>
          <p:cNvSpPr/>
          <p:nvPr/>
        </p:nvSpPr>
        <p:spPr>
          <a:xfrm>
            <a:off x="5943600" y="522756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8" name="Line 20"/>
          <p:cNvSpPr/>
          <p:nvPr/>
        </p:nvSpPr>
        <p:spPr>
          <a:xfrm>
            <a:off x="5715000" y="5105520"/>
            <a:ext cx="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9" name="Text Box 21"/>
          <p:cNvSpPr/>
          <p:nvPr/>
        </p:nvSpPr>
        <p:spPr>
          <a:xfrm>
            <a:off x="4496400" y="5227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111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0" name="Text Box 22"/>
          <p:cNvSpPr/>
          <p:nvPr/>
        </p:nvSpPr>
        <p:spPr>
          <a:xfrm>
            <a:off x="7772400" y="5227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87EA-4066-4A88-A65D-1DF073A923C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ting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n organization was assigned address 150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&lt; 100 hosts per sub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host bits do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etwork m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1 11111111 11111111 1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B302-D30E-46D1-97CE-CD334F4A306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457200" y="2895480"/>
            <a:ext cx="830592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bnet Addressing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3301920" y="3336840"/>
            <a:ext cx="7621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6121440" y="3336840"/>
            <a:ext cx="762120" cy="5335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9" name="Rectangle 6"/>
          <p:cNvSpPr/>
          <p:nvPr/>
        </p:nvSpPr>
        <p:spPr>
          <a:xfrm>
            <a:off x="4902120" y="4869000"/>
            <a:ext cx="762120" cy="5331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6654960" y="4869000"/>
            <a:ext cx="761760" cy="5331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4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463840" y="4869000"/>
            <a:ext cx="762120" cy="5331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2" name="Line 9"/>
          <p:cNvSpPr/>
          <p:nvPr/>
        </p:nvSpPr>
        <p:spPr>
          <a:xfrm>
            <a:off x="2540160" y="432756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3" name="Line 10"/>
          <p:cNvSpPr/>
          <p:nvPr/>
        </p:nvSpPr>
        <p:spPr>
          <a:xfrm>
            <a:off x="3683160" y="3870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4" name="Line 11"/>
          <p:cNvSpPr/>
          <p:nvPr/>
        </p:nvSpPr>
        <p:spPr>
          <a:xfrm>
            <a:off x="6502320" y="3870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5" name="Line 12"/>
          <p:cNvSpPr/>
          <p:nvPr/>
        </p:nvSpPr>
        <p:spPr>
          <a:xfrm>
            <a:off x="2514600" y="585936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6" name="Line 13"/>
          <p:cNvSpPr/>
          <p:nvPr/>
        </p:nvSpPr>
        <p:spPr>
          <a:xfrm>
            <a:off x="2844720" y="5402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7" name="Line 14"/>
          <p:cNvSpPr/>
          <p:nvPr/>
        </p:nvSpPr>
        <p:spPr>
          <a:xfrm>
            <a:off x="5283360" y="5402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8" name="Line 15"/>
          <p:cNvSpPr/>
          <p:nvPr/>
        </p:nvSpPr>
        <p:spPr>
          <a:xfrm>
            <a:off x="7035840" y="54021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9" name="Line 16"/>
          <p:cNvSpPr/>
          <p:nvPr/>
        </p:nvSpPr>
        <p:spPr>
          <a:xfrm>
            <a:off x="2844720" y="43275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0" name="Text Box 17"/>
          <p:cNvSpPr/>
          <p:nvPr/>
        </p:nvSpPr>
        <p:spPr>
          <a:xfrm>
            <a:off x="4372560" y="3968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.100.12.128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1" name="Text Box 18"/>
          <p:cNvSpPr/>
          <p:nvPr/>
        </p:nvSpPr>
        <p:spPr>
          <a:xfrm>
            <a:off x="2847240" y="30020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15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2" name="Text Box 19"/>
          <p:cNvSpPr/>
          <p:nvPr/>
        </p:nvSpPr>
        <p:spPr>
          <a:xfrm>
            <a:off x="5722200" y="30020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176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3" name="Text Box 20"/>
          <p:cNvSpPr/>
          <p:nvPr/>
        </p:nvSpPr>
        <p:spPr>
          <a:xfrm>
            <a:off x="2770920" y="450216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129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4" name="Text Box 21"/>
          <p:cNvSpPr/>
          <p:nvPr/>
        </p:nvSpPr>
        <p:spPr>
          <a:xfrm>
            <a:off x="5210280" y="58816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.100.12.0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2771280" y="534816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6" name="Line 23"/>
          <p:cNvSpPr/>
          <p:nvPr/>
        </p:nvSpPr>
        <p:spPr>
          <a:xfrm flipH="1">
            <a:off x="1066320" y="508968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7" name="Text Box 24"/>
          <p:cNvSpPr/>
          <p:nvPr/>
        </p:nvSpPr>
        <p:spPr>
          <a:xfrm>
            <a:off x="939600" y="5135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8" name="Text Box 25"/>
          <p:cNvSpPr/>
          <p:nvPr/>
        </p:nvSpPr>
        <p:spPr>
          <a:xfrm>
            <a:off x="6352560" y="45021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55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4523760" y="45021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12.2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1069200" y="46544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.100.0.1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1" name="Text Box 28"/>
          <p:cNvSpPr/>
          <p:nvPr/>
        </p:nvSpPr>
        <p:spPr>
          <a:xfrm>
            <a:off x="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2" name="Rectangle 29"/>
          <p:cNvSpPr/>
          <p:nvPr/>
        </p:nvSpPr>
        <p:spPr>
          <a:xfrm>
            <a:off x="3049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packet arrives with address 150.100.12.176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AND address with subnet mas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D1A1-B7AC-4A90-86BF-113FC8F5761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4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8F77-BBEA-48F6-878C-3540558730D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v6 Head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8" name="Rectangle 3"/>
          <p:cNvSpPr/>
          <p:nvPr/>
        </p:nvSpPr>
        <p:spPr>
          <a:xfrm>
            <a:off x="457200" y="1905120"/>
            <a:ext cx="83059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1828800" y="2835360"/>
            <a:ext cx="5486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0" name="Rectangle 5"/>
          <p:cNvSpPr/>
          <p:nvPr/>
        </p:nvSpPr>
        <p:spPr>
          <a:xfrm>
            <a:off x="1828800" y="3139920"/>
            <a:ext cx="5486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1828800" y="3444840"/>
            <a:ext cx="5486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1828800" y="4664160"/>
            <a:ext cx="5486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3" name="Line 8"/>
          <p:cNvSpPr/>
          <p:nvPr/>
        </p:nvSpPr>
        <p:spPr>
          <a:xfrm flipV="1">
            <a:off x="18288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4" name="Line 9"/>
          <p:cNvSpPr/>
          <p:nvPr/>
        </p:nvSpPr>
        <p:spPr>
          <a:xfrm flipV="1">
            <a:off x="518148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5" name="Line 10"/>
          <p:cNvSpPr/>
          <p:nvPr/>
        </p:nvSpPr>
        <p:spPr>
          <a:xfrm flipV="1">
            <a:off x="25146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6" name="Line 11"/>
          <p:cNvSpPr/>
          <p:nvPr/>
        </p:nvSpPr>
        <p:spPr>
          <a:xfrm flipV="1">
            <a:off x="73152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7" name="Line 12"/>
          <p:cNvSpPr/>
          <p:nvPr/>
        </p:nvSpPr>
        <p:spPr>
          <a:xfrm flipV="1">
            <a:off x="59436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173844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236376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434484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579564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716436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3" name="Rectangle 18"/>
          <p:cNvSpPr/>
          <p:nvPr/>
        </p:nvSpPr>
        <p:spPr>
          <a:xfrm>
            <a:off x="1828800" y="2835360"/>
            <a:ext cx="685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Rectangle 19"/>
          <p:cNvSpPr/>
          <p:nvPr/>
        </p:nvSpPr>
        <p:spPr>
          <a:xfrm>
            <a:off x="2514600" y="283536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5" name="Rectangle 20"/>
          <p:cNvSpPr/>
          <p:nvPr/>
        </p:nvSpPr>
        <p:spPr>
          <a:xfrm>
            <a:off x="3809880" y="2835360"/>
            <a:ext cx="3505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6" name="Rectangle 21"/>
          <p:cNvSpPr/>
          <p:nvPr/>
        </p:nvSpPr>
        <p:spPr>
          <a:xfrm>
            <a:off x="1828800" y="3139920"/>
            <a:ext cx="2743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7" name="Rectangle 22"/>
          <p:cNvSpPr/>
          <p:nvPr/>
        </p:nvSpPr>
        <p:spPr>
          <a:xfrm>
            <a:off x="4572000" y="313992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8" name="Rectangle 23"/>
          <p:cNvSpPr/>
          <p:nvPr/>
        </p:nvSpPr>
        <p:spPr>
          <a:xfrm>
            <a:off x="5943600" y="313992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9" name="Line 24"/>
          <p:cNvSpPr/>
          <p:nvPr/>
        </p:nvSpPr>
        <p:spPr>
          <a:xfrm flipV="1">
            <a:off x="380988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0" name="Text Box 25"/>
          <p:cNvSpPr/>
          <p:nvPr/>
        </p:nvSpPr>
        <p:spPr>
          <a:xfrm>
            <a:off x="358272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1" name="Text Box 26"/>
          <p:cNvSpPr/>
          <p:nvPr/>
        </p:nvSpPr>
        <p:spPr>
          <a:xfrm>
            <a:off x="4954320" y="2362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2" name="Line 27"/>
          <p:cNvSpPr/>
          <p:nvPr/>
        </p:nvSpPr>
        <p:spPr>
          <a:xfrm flipV="1">
            <a:off x="4572000" y="268272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1764-4B2F-4E23-9321-712DD6F20A2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inciple 4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e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state only at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endpoint failure disrupt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surviv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E023-4C74-48AC-A451-4406A4F62D6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 &amp; End-to-End Argu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one higher level service implemented at transport layer: reliable data delivery (T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nhancement; used by a large variety of applications (Telnet, FTP, H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impact other applications (can use UD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TCP &amp; IP were integrated – Reed successfully argued for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else implemented at applic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34CF-B7F7-4706-8022-90BB387F597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2: Different Packet Siz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maximum packet size over all net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inefficient or high threshold to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fragmentation/re-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frag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re-assemb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0F1D-30C7-44F0-8705-A6A599A35A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ateway Alterna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in dealing with different features supported b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poorly with number of network types (N^2 conver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over everything”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ign Principl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assumptions abou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5:38Z</dcterms:created>
  <dc:creator>Srinivasan Seshan</dc:creator>
  <dc:description/>
  <dc:language>en-US</dc:language>
  <cp:lastModifiedBy>Srinivasan Seshan</cp:lastModifiedBy>
  <cp:lastPrinted>2010-09-10T18:03:24Z</cp:lastPrinted>
  <dcterms:modified xsi:type="dcterms:W3CDTF">2017-01-20T01:12:29Z</dcterms:modified>
  <cp:revision>147</cp:revision>
  <dc:subject/>
  <dc:title>15-744: Computer Networking</dc:title>
</cp:coreProperties>
</file>