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F2BFA-A969-442D-A5AB-B4DD36B94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71482-C92D-4BD8-88F1-176C0AB8791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2F07D-16D3-48A3-9C53-FE3DCF6C82D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FD078-B1F7-4243-BBE6-5A68247F14D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7BD34-F58C-4D28-8997-91EE0845DD1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865F5-E6B6-4D71-8EA5-13185969999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BCFBE-4CF6-4391-8319-DE359D6A871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09051-8829-47A6-9C00-9E169467C47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672B-4D3F-45B6-9279-782912FB193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04A3C-EDD9-4115-A583-6E4A3F6FFC8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F2608-B79E-4894-973F-028A39EA17A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B2D-61B7-4C3C-B757-91E0EAB7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C51-0157-40BA-BE25-299B75C9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880-AD24-4CC5-A0E8-1681E942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8BC-F1FE-4378-AAC2-8D619853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9582-790D-4A26-B79F-BC06A243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2890-03BC-4757-820B-87B83E08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E045-2BA5-4023-B8B3-766449CB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93D8-4B4B-4814-AE81-5BF24759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5474-533E-47FC-B0A5-70DD942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12CF-A654-49BD-85E7-5E2E538E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F11E-77AE-416F-BD4F-E1DB3908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2BE-F7E3-49F9-9FB8-CC8B63F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91F2-FC37-4C63-BBD8-9FB91E3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1DD3-FA00-467A-8343-AA8552C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311-3B3D-4A82-BD02-84883499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EFC-71DC-4E15-AAC0-C2D3E44C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C931-93AE-490B-9001-DEFE53FE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3E0-2529-4EA9-9912-E0A1BC8C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5A8-A69C-4E7C-88FD-7EE970E1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BC2-98C5-4D0E-810E-EF044E67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B1B-7772-41D3-BE5B-F212035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845-5124-4DFE-95F5-76EBCC1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D21-0355-4665-92C1-327D93DE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005-6FB6-4296-A78D-4726918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26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26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" name="Rectangle 26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6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26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" name="Rectangle 27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" name="Group 27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27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" name="Rectangle 27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27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27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" name="Rectangle 27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27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27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" name="Rectangle 27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8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28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" name="Rectangle 28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8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8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" name="Rectangle 28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28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8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" name="Rectangle 28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352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292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" name="Rectangle 293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" name="Rectangle 294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" name="Rectangle 295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" name="Rectangle 296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" name="Rectangle 297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" name="Rectangle 298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" name="Rectangle 299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" name="Rectangle 300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" name="Rectangle 301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" name="Rectangle 302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" name="Rectangle 303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" name="Rectangle 304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" name="Rectangle 306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" name="Rectangle 307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" name="Rectangle 308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" name="Rectangle 309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" name="Rectangle 310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" name="Rectangle 311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" name="Rectangle 312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" name="Rectangle 313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" name="Rectangle 314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" name="Rectangle 315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" name="Rectangle 316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" name="Rectangle 317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" name="Rectangle 318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" name="Rectangle 319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" name="Rectangle 320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" name="Rectangle 321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" name="Rectangle 322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" name="Rectangle 323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60" name="Group 3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3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3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3" name="Rectangle 3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3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" name="Rectangle 3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3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9" name="Rectangle 3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3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2" name="Rectangle 3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3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" name="Rectangle 3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3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8" name="Rectangle 3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3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1" name="Rectangle 3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3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4" name="Rectangle 3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3; 1-22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67DD-39E3-494B-AE16-63F7025491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8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38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" name="Freeform 38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1" name="Freeform 38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" name="Freeform 38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3" name="Freeform 38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4" name="Freeform 38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5" name="Freeform 38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" name="Freeform 38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97" name="Group 38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39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9" name="Freeform 39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0" name="Freeform 39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1" name="Freeform 39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9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39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4" name="Freeform 39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5" name="Freeform 39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6" name="Freeform 398"/>
              <p:cNvSpPr/>
              <p:nvPr/>
            </p:nvSpPr>
            <p:spPr>
              <a:xfrm>
                <a:off x="877212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9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40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9" name="Freeform 40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0" name="Freeform 40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1" name="Freeform 40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12" name="Freeform 40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40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40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40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40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40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Freeform 41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Freeform 41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41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Freeform 41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Freeform 41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41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41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41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41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41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42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42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Freeform 42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Freeform 42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42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15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70" name="Rectangle 9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75" name="Group 28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76" name="Group 7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77" name="Rectangle 1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78" name="Rectangle 1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80" name="Rectangle 1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1" name="Rectangle 1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83" name="Rectangle 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86" name="Rectangle 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89" name="Rectangle 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92" name="Rectangle 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95" name="Rectangle 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98" name="Rectangle 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320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01" name="Group 321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02" name="Rectangle 322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Rectangle 323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24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05" name="Rectangle 325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6" name="Rectangle 326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27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08" name="Rectangle 328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9" name="Rectangle 329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330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11" name="Rectangle 331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2" name="Rectangle 332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33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14" name="Rectangle 334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5" name="Rectangle 335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36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17" name="Rectangle 337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8" name="Rectangle 338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39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20" name="Rectangle 340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1" name="Rectangle 341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42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23" name="Rectangle 343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4" name="Rectangle 344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345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26" name="Group 346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27" name="Rectangle 347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8" name="Rectangle 348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49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30" name="Rectangle 350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1" name="Rectangle 351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52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33" name="Rectangle 353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4" name="Rectangle 354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55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36" name="Rectangle 356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7" name="Rectangle 357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58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39" name="Rectangle 359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0" name="Rectangle 360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61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42" name="Rectangle 362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3" name="Rectangle 363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64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245" name="Rectangle 365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6" name="Rectangle 366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67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248" name="Rectangle 368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9" name="Rectangle 369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43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251" name="Line 444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Freeform 445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Freeform 446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Freeform 447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Freeform 448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Freeform 449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Freeform 450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Freeform 451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59" name="Group 452"/>
            <p:cNvGrpSpPr/>
            <p:nvPr/>
          </p:nvGrpSpPr>
          <p:grpSpPr>
            <a:xfrm>
              <a:off x="4558680" y="5444280"/>
              <a:ext cx="272880" cy="225720"/>
              <a:chOff x="4558680" y="5444280"/>
              <a:chExt cx="272880" cy="225720"/>
            </a:xfrm>
          </p:grpSpPr>
          <p:sp>
            <p:nvSpPr>
              <p:cNvPr id="260" name="Freeform 453"/>
              <p:cNvSpPr/>
              <p:nvPr/>
            </p:nvSpPr>
            <p:spPr>
              <a:xfrm>
                <a:off x="4712760" y="5448960"/>
                <a:ext cx="118800" cy="10872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1" name="Freeform 454"/>
              <p:cNvSpPr/>
              <p:nvPr/>
            </p:nvSpPr>
            <p:spPr>
              <a:xfrm>
                <a:off x="4558680" y="5444280"/>
                <a:ext cx="154080" cy="11376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2" name="Freeform 455"/>
              <p:cNvSpPr/>
              <p:nvPr/>
            </p:nvSpPr>
            <p:spPr>
              <a:xfrm>
                <a:off x="4558680" y="555624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3" name="Freeform 456"/>
              <p:cNvSpPr/>
              <p:nvPr/>
            </p:nvSpPr>
            <p:spPr>
              <a:xfrm>
                <a:off x="4677480" y="5556240"/>
                <a:ext cx="152640" cy="11376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457"/>
            <p:cNvGrpSpPr/>
            <p:nvPr/>
          </p:nvGrpSpPr>
          <p:grpSpPr>
            <a:xfrm>
              <a:off x="4783680" y="5805360"/>
              <a:ext cx="272880" cy="225360"/>
              <a:chOff x="4783680" y="5805360"/>
              <a:chExt cx="272880" cy="225360"/>
            </a:xfrm>
          </p:grpSpPr>
          <p:sp>
            <p:nvSpPr>
              <p:cNvPr id="265" name="Freeform 458"/>
              <p:cNvSpPr/>
              <p:nvPr/>
            </p:nvSpPr>
            <p:spPr>
              <a:xfrm>
                <a:off x="4937760" y="581004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6" name="Freeform 459"/>
              <p:cNvSpPr/>
              <p:nvPr/>
            </p:nvSpPr>
            <p:spPr>
              <a:xfrm>
                <a:off x="478368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7" name="Freeform 460"/>
              <p:cNvSpPr/>
              <p:nvPr/>
            </p:nvSpPr>
            <p:spPr>
              <a:xfrm>
                <a:off x="4783680" y="591624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8" name="Freeform 461"/>
              <p:cNvSpPr/>
              <p:nvPr/>
            </p:nvSpPr>
            <p:spPr>
              <a:xfrm>
                <a:off x="490320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462"/>
            <p:cNvGrpSpPr/>
            <p:nvPr/>
          </p:nvGrpSpPr>
          <p:grpSpPr>
            <a:xfrm>
              <a:off x="4331880" y="5806440"/>
              <a:ext cx="273240" cy="225720"/>
              <a:chOff x="4331880" y="5806440"/>
              <a:chExt cx="273240" cy="225720"/>
            </a:xfrm>
          </p:grpSpPr>
          <p:sp>
            <p:nvSpPr>
              <p:cNvPr id="270" name="Freeform 463"/>
              <p:cNvSpPr/>
              <p:nvPr/>
            </p:nvSpPr>
            <p:spPr>
              <a:xfrm>
                <a:off x="4485960" y="581112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1" name="Freeform 464"/>
              <p:cNvSpPr/>
              <p:nvPr/>
            </p:nvSpPr>
            <p:spPr>
              <a:xfrm>
                <a:off x="4331880" y="580644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2" name="Freeform 465"/>
              <p:cNvSpPr/>
              <p:nvPr/>
            </p:nvSpPr>
            <p:spPr>
              <a:xfrm>
                <a:off x="4331880" y="591948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3" name="Freeform 466"/>
              <p:cNvSpPr/>
              <p:nvPr/>
            </p:nvSpPr>
            <p:spPr>
              <a:xfrm>
                <a:off x="4449240" y="591948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274" name="Freeform 467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Freeform 468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469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470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8" name="Line 471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9" name="Line 472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Freeform 473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Freeform 474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Line 475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Freeform 47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4" name="Freeform 477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5" name="Line 478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Line 479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Line 480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Line 481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Line 482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Line 483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Line 484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Freeform 48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Freeform 486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Line 487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3; 1-22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7F4-7DC3-46E2-A192-EF04B40F3F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bank.com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 Design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Standard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um set of assumptions for underlying 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pack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delivery odds, but not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form of addressing unless point to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ortant non-assump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ect 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, multi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handling of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knowledge of delays, speeds, failur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so achieves Goal 3: Supporting Varieties of Networ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80E8-7967-44E2-A9B8-48693782DF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Hourgla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interconnect many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underlying technology fr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minima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wa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80880" y="6033960"/>
            <a:ext cx="8305920" cy="52056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radeoff: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e2e01"/>
                </a:solidFill>
                <a:latin typeface="Arial"/>
              </a:rPr>
              <a:t>No assumptions, no guarantee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516800" y="39625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7517520" y="25909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86560" y="2149560"/>
            <a:ext cx="1600200" cy="2574360"/>
            <a:chOff x="5686560" y="2149560"/>
            <a:chExt cx="1600200" cy="2574360"/>
          </a:xfrm>
        </p:grpSpPr>
        <p:grpSp>
          <p:nvGrpSpPr>
            <p:cNvPr id="378" name="Group 8"/>
            <p:cNvGrpSpPr/>
            <p:nvPr/>
          </p:nvGrpSpPr>
          <p:grpSpPr>
            <a:xfrm>
              <a:off x="5762880" y="2301480"/>
              <a:ext cx="1447920" cy="2285280"/>
              <a:chOff x="5762880" y="2301480"/>
              <a:chExt cx="1447920" cy="2285280"/>
            </a:xfrm>
          </p:grpSpPr>
          <p:sp>
            <p:nvSpPr>
              <p:cNvPr id="379" name="Rectangle 9"/>
              <p:cNvSpPr/>
              <p:nvPr/>
            </p:nvSpPr>
            <p:spPr>
              <a:xfrm>
                <a:off x="5762880" y="371088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0" name="Rectangle 10"/>
              <p:cNvSpPr/>
              <p:nvPr/>
            </p:nvSpPr>
            <p:spPr>
              <a:xfrm>
                <a:off x="5762880" y="3977640"/>
                <a:ext cx="1447920" cy="2664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1" name="Rectangle 11"/>
              <p:cNvSpPr/>
              <p:nvPr/>
            </p:nvSpPr>
            <p:spPr>
              <a:xfrm>
                <a:off x="5762880" y="4244400"/>
                <a:ext cx="1447920" cy="342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5762880" y="2301480"/>
                <a:ext cx="144792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3" name="Rectangle 13"/>
              <p:cNvSpPr/>
              <p:nvPr/>
            </p:nvSpPr>
            <p:spPr>
              <a:xfrm>
                <a:off x="5762880" y="291096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4" name="Rectangle 14"/>
              <p:cNvSpPr/>
              <p:nvPr/>
            </p:nvSpPr>
            <p:spPr>
              <a:xfrm>
                <a:off x="5762880" y="3177720"/>
                <a:ext cx="1447920" cy="5328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5" name="Rectangle 15"/>
              <p:cNvSpPr/>
              <p:nvPr/>
            </p:nvSpPr>
            <p:spPr>
              <a:xfrm>
                <a:off x="5762880" y="2606040"/>
                <a:ext cx="144792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386" name="Freeform 16"/>
            <p:cNvSpPr/>
            <p:nvPr/>
          </p:nvSpPr>
          <p:spPr>
            <a:xfrm>
              <a:off x="5762880" y="2293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 flipV="1">
              <a:off x="5762880" y="3436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 flipH="1">
              <a:off x="6577200" y="2293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 flipH="1" flipV="1">
              <a:off x="6577200" y="3436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Rectangle 20"/>
            <p:cNvSpPr/>
            <p:nvPr/>
          </p:nvSpPr>
          <p:spPr>
            <a:xfrm>
              <a:off x="5686560" y="2255400"/>
              <a:ext cx="11448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Rectangle 21"/>
            <p:cNvSpPr/>
            <p:nvPr/>
          </p:nvSpPr>
          <p:spPr>
            <a:xfrm>
              <a:off x="7188480" y="2255400"/>
              <a:ext cx="3816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AutoShape 22"/>
            <p:cNvSpPr/>
            <p:nvPr/>
          </p:nvSpPr>
          <p:spPr>
            <a:xfrm>
              <a:off x="5686560" y="2149560"/>
              <a:ext cx="1600200" cy="15192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AutoShape 23"/>
            <p:cNvSpPr/>
            <p:nvPr/>
          </p:nvSpPr>
          <p:spPr>
            <a:xfrm>
              <a:off x="5686560" y="4571640"/>
              <a:ext cx="1600200" cy="15228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Rectangle 24"/>
            <p:cNvSpPr/>
            <p:nvPr/>
          </p:nvSpPr>
          <p:spPr>
            <a:xfrm>
              <a:off x="5727960" y="3398400"/>
              <a:ext cx="64764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Rectangle 25"/>
            <p:cNvSpPr/>
            <p:nvPr/>
          </p:nvSpPr>
          <p:spPr>
            <a:xfrm>
              <a:off x="6600960" y="3398400"/>
              <a:ext cx="64800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5731200" y="2377800"/>
              <a:ext cx="1523880" cy="21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mail  WWW  phone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SMTP  HTTP  RTP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TCP  UD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383ad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thernet   PP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SMA  async  sonet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opper  fiber  radio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97" name="Slide Number Placeholder 2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F24-6FEA-4D9E-B239-334D83E55E0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D96C-A97E-47EF-87D8-6B95F115BC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Layering (Principle 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ken to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198108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98108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733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733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548640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548640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7162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7162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1981080" y="3048120"/>
            <a:ext cx="1447920" cy="1523880"/>
            <a:chOff x="1981080" y="3048120"/>
            <a:chExt cx="1447920" cy="1523880"/>
          </a:xfrm>
        </p:grpSpPr>
        <p:sp>
          <p:nvSpPr>
            <p:cNvPr id="411" name="Rectangle 14"/>
            <p:cNvSpPr/>
            <p:nvPr/>
          </p:nvSpPr>
          <p:spPr>
            <a:xfrm>
              <a:off x="1981080" y="373392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Rectangle 15"/>
            <p:cNvSpPr/>
            <p:nvPr/>
          </p:nvSpPr>
          <p:spPr>
            <a:xfrm>
              <a:off x="1981080" y="304812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13" name="Group 16"/>
          <p:cNvGrpSpPr/>
          <p:nvPr/>
        </p:nvGrpSpPr>
        <p:grpSpPr>
          <a:xfrm>
            <a:off x="7162920" y="3048120"/>
            <a:ext cx="1447560" cy="1523880"/>
            <a:chOff x="7162920" y="3048120"/>
            <a:chExt cx="1447560" cy="1523880"/>
          </a:xfrm>
        </p:grpSpPr>
        <p:sp>
          <p:nvSpPr>
            <p:cNvPr id="414" name="Rectangle 17"/>
            <p:cNvSpPr/>
            <p:nvPr/>
          </p:nvSpPr>
          <p:spPr>
            <a:xfrm>
              <a:off x="7162920" y="3733920"/>
              <a:ext cx="144756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7162920" y="3048120"/>
              <a:ext cx="144756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16" name="Text Box 19"/>
          <p:cNvSpPr/>
          <p:nvPr/>
        </p:nvSpPr>
        <p:spPr>
          <a:xfrm>
            <a:off x="4041000" y="55468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5771520" y="5560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353320" y="55468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7601400" y="556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23"/>
          <p:cNvSpPr/>
          <p:nvPr/>
        </p:nvSpPr>
        <p:spPr>
          <a:xfrm>
            <a:off x="2666880" y="27432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Line 24"/>
          <p:cNvSpPr/>
          <p:nvPr/>
        </p:nvSpPr>
        <p:spPr>
          <a:xfrm>
            <a:off x="2666880" y="5257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Line 25"/>
          <p:cNvSpPr/>
          <p:nvPr/>
        </p:nvSpPr>
        <p:spPr>
          <a:xfrm flipV="1">
            <a:off x="4073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Line 26"/>
          <p:cNvSpPr/>
          <p:nvPr/>
        </p:nvSpPr>
        <p:spPr>
          <a:xfrm>
            <a:off x="4073400" y="4800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Line 27"/>
          <p:cNvSpPr/>
          <p:nvPr/>
        </p:nvSpPr>
        <p:spPr>
          <a:xfrm>
            <a:off x="491184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Line 28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Line 29"/>
          <p:cNvSpPr/>
          <p:nvPr/>
        </p:nvSpPr>
        <p:spPr>
          <a:xfrm flipV="1">
            <a:off x="586728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Line 30"/>
          <p:cNvSpPr/>
          <p:nvPr/>
        </p:nvSpPr>
        <p:spPr>
          <a:xfrm>
            <a:off x="5867280" y="48006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Line 31"/>
          <p:cNvSpPr/>
          <p:nvPr/>
        </p:nvSpPr>
        <p:spPr>
          <a:xfrm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Line 32"/>
          <p:cNvSpPr/>
          <p:nvPr/>
        </p:nvSpPr>
        <p:spPr>
          <a:xfrm>
            <a:off x="6629400" y="52578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Line 33"/>
          <p:cNvSpPr/>
          <p:nvPr/>
        </p:nvSpPr>
        <p:spPr>
          <a:xfrm flipV="1">
            <a:off x="7924680" y="274284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Text Box 34"/>
          <p:cNvSpPr/>
          <p:nvPr/>
        </p:nvSpPr>
        <p:spPr>
          <a:xfrm>
            <a:off x="613440" y="3260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Text Box 35"/>
          <p:cNvSpPr/>
          <p:nvPr/>
        </p:nvSpPr>
        <p:spPr>
          <a:xfrm>
            <a:off x="623520" y="3962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>
            <a:off x="617760" y="4648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Text Box 37"/>
          <p:cNvSpPr/>
          <p:nvPr/>
        </p:nvSpPr>
        <p:spPr>
          <a:xfrm>
            <a:off x="61992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rviva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network disrupted and reconfigu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ng entities should not ca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igher-level state re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to achieve such reliabilit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communication state be st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0D4C-D786-4CA9-A95E-D77D357CAA1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85800" y="4038480"/>
          <a:ext cx="8002440" cy="247968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65844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Network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Hos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Failure handing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Replication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Fate sharing”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Net Engineering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impl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witche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Maintain stat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tateles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Host trus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Les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3: Fate Shar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e state information for an entity if and only if the entity itself is l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to lose TCP state if one endpoint cras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okay to lose if an intermediate router reboo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is still true in today’s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s and firewa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ivability compromise:  Heterogeneous network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ss information available to end hosts and Internet level recovery mech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990800" y="1825560"/>
            <a:ext cx="304560" cy="304920"/>
          </a:xfrm>
          <a:prstGeom prst="rect">
            <a:avLst/>
          </a:prstGeom>
          <a:solidFill>
            <a:srgbClr val="969696"/>
          </a:solidFill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6708600" y="1825560"/>
            <a:ext cx="303480" cy="304920"/>
          </a:xfrm>
          <a:prstGeom prst="rect">
            <a:avLst/>
          </a:prstGeom>
          <a:solidFill>
            <a:srgbClr val="969696"/>
          </a:solidFill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979720" y="190188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3511440" y="1825560"/>
            <a:ext cx="152640" cy="152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3816360" y="22050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4653000" y="17496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5033880" y="2130480"/>
            <a:ext cx="152640" cy="150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5946840" y="19782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449" name="AutoShape 12"/>
          <p:cNvCxnSpPr>
            <a:stCxn id="441" idx="3"/>
            <a:endCxn id="443" idx="1"/>
          </p:cNvCxnSpPr>
          <p:nvPr/>
        </p:nvCxnSpPr>
        <p:spPr>
          <a:xfrm>
            <a:off x="2320560" y="1977840"/>
            <a:ext cx="633960" cy="10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0" name="AutoShape 13"/>
          <p:cNvCxnSpPr>
            <a:stCxn id="443" idx="3"/>
            <a:endCxn id="444" idx="1"/>
          </p:cNvCxnSpPr>
          <p:nvPr/>
        </p:nvCxnSpPr>
        <p:spPr>
          <a:xfrm flipV="1">
            <a:off x="3157200" y="1901880"/>
            <a:ext cx="32904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1" name="AutoShape 14"/>
          <p:cNvCxnSpPr>
            <a:stCxn id="443" idx="3"/>
            <a:endCxn id="445" idx="1"/>
          </p:cNvCxnSpPr>
          <p:nvPr/>
        </p:nvCxnSpPr>
        <p:spPr>
          <a:xfrm>
            <a:off x="3157200" y="1978200"/>
            <a:ext cx="633960" cy="30384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2" name="AutoShape 15"/>
          <p:cNvCxnSpPr>
            <a:stCxn id="444" idx="3"/>
            <a:endCxn id="446" idx="1"/>
          </p:cNvCxnSpPr>
          <p:nvPr/>
        </p:nvCxnSpPr>
        <p:spPr>
          <a:xfrm flipV="1">
            <a:off x="3689280" y="1825560"/>
            <a:ext cx="93888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3" name="AutoShape 16"/>
          <p:cNvCxnSpPr>
            <a:stCxn id="445" idx="3"/>
            <a:endCxn id="447" idx="1"/>
          </p:cNvCxnSpPr>
          <p:nvPr/>
        </p:nvCxnSpPr>
        <p:spPr>
          <a:xfrm flipV="1">
            <a:off x="3994200" y="2206080"/>
            <a:ext cx="1015200" cy="7524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4" name="AutoShape 17"/>
          <p:cNvCxnSpPr>
            <a:stCxn id="446" idx="3"/>
            <a:endCxn id="448" idx="1"/>
          </p:cNvCxnSpPr>
          <p:nvPr/>
        </p:nvCxnSpPr>
        <p:spPr>
          <a:xfrm>
            <a:off x="4830480" y="1825200"/>
            <a:ext cx="1091160" cy="22932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5" name="AutoShape 18"/>
          <p:cNvCxnSpPr>
            <a:stCxn id="447" idx="3"/>
            <a:endCxn id="448" idx="1"/>
          </p:cNvCxnSpPr>
          <p:nvPr/>
        </p:nvCxnSpPr>
        <p:spPr>
          <a:xfrm flipV="1">
            <a:off x="5211360" y="2053800"/>
            <a:ext cx="710280" cy="15336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6" name="AutoShape 19"/>
          <p:cNvCxnSpPr>
            <a:stCxn id="448" idx="3"/>
            <a:endCxn id="442" idx="1"/>
          </p:cNvCxnSpPr>
          <p:nvPr/>
        </p:nvCxnSpPr>
        <p:spPr>
          <a:xfrm flipV="1">
            <a:off x="6124680" y="1977480"/>
            <a:ext cx="55908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sp>
        <p:nvSpPr>
          <p:cNvPr id="457" name="Text Box 20"/>
          <p:cNvSpPr/>
          <p:nvPr/>
        </p:nvSpPr>
        <p:spPr>
          <a:xfrm>
            <a:off x="685800" y="1447920"/>
            <a:ext cx="160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7094520" y="1749600"/>
            <a:ext cx="98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3768840" y="1825560"/>
            <a:ext cx="1341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Slide Number Placeholder 2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B66D-F9E1-4FC2-9E9A-5BF910A26C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6034-A072-4DB5-8A35-2971E89BC24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4: Soft-sta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y for timeout – po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way to identify communication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chanism to provide non-best eff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urvi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1C9E-4B66-4EB2-8E0C-B163DF9369E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5: End-to-End Argu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s with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lace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(in switching 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unctions that can only be correctly implemented by the endpoints – do not try to completely implement thes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 not a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4220-6F4C-4169-83F3-D4B007BDF6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Oval 2"/>
          <p:cNvSpPr/>
          <p:nvPr/>
        </p:nvSpPr>
        <p:spPr>
          <a:xfrm>
            <a:off x="2362320" y="1981080"/>
            <a:ext cx="1066680" cy="6858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: Reliable File Transf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make each step reliable, and then concatena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end-to-end check and r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1523880" y="3581280"/>
            <a:ext cx="609840" cy="1526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523880" y="3352680"/>
            <a:ext cx="609840" cy="3049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523880" y="3276720"/>
            <a:ext cx="609840" cy="152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Oval 8"/>
          <p:cNvSpPr/>
          <p:nvPr/>
        </p:nvSpPr>
        <p:spPr>
          <a:xfrm>
            <a:off x="7086600" y="3581280"/>
            <a:ext cx="609480" cy="1526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7086600" y="3352680"/>
            <a:ext cx="609480" cy="3049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Oval 10"/>
          <p:cNvSpPr/>
          <p:nvPr/>
        </p:nvSpPr>
        <p:spPr>
          <a:xfrm>
            <a:off x="7086600" y="3276720"/>
            <a:ext cx="609480" cy="152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2286000" y="1905120"/>
            <a:ext cx="1219320" cy="14475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Oval 12"/>
          <p:cNvSpPr/>
          <p:nvPr/>
        </p:nvSpPr>
        <p:spPr>
          <a:xfrm>
            <a:off x="2514600" y="2743200"/>
            <a:ext cx="914400" cy="533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2500200" y="2144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pp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Oval 14"/>
          <p:cNvSpPr/>
          <p:nvPr/>
        </p:nvSpPr>
        <p:spPr>
          <a:xfrm>
            <a:off x="5715000" y="1981080"/>
            <a:ext cx="1066680" cy="6858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5638680" y="1905120"/>
            <a:ext cx="1219320" cy="14475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Oval 16"/>
          <p:cNvSpPr/>
          <p:nvPr/>
        </p:nvSpPr>
        <p:spPr>
          <a:xfrm>
            <a:off x="5791320" y="2743200"/>
            <a:ext cx="914400" cy="533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5852880" y="2144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pp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743200" y="3505320"/>
            <a:ext cx="3886200" cy="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Line 19"/>
          <p:cNvSpPr/>
          <p:nvPr/>
        </p:nvSpPr>
        <p:spPr>
          <a:xfrm>
            <a:off x="2971800" y="3352680"/>
            <a:ext cx="0" cy="15264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Line 20"/>
          <p:cNvSpPr/>
          <p:nvPr/>
        </p:nvSpPr>
        <p:spPr>
          <a:xfrm>
            <a:off x="6248520" y="3352680"/>
            <a:ext cx="0" cy="15264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Freeform 21"/>
          <p:cNvSpPr/>
          <p:nvPr/>
        </p:nvSpPr>
        <p:spPr>
          <a:xfrm>
            <a:off x="2131920" y="2513160"/>
            <a:ext cx="612720" cy="758520"/>
          </a:xfrm>
          <a:custGeom>
            <a:avLst/>
            <a:gdLst>
              <a:gd name="textAreaLeft" fmla="*/ 0 w 612720"/>
              <a:gd name="textAreaRight" fmla="*/ 613080 w 61272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384" h="480">
                <a:moveTo>
                  <a:pt x="0" y="480"/>
                </a:moveTo>
                <a:lnTo>
                  <a:pt x="336" y="384"/>
                </a:lnTo>
                <a:lnTo>
                  <a:pt x="384" y="288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Line 22"/>
          <p:cNvSpPr/>
          <p:nvPr/>
        </p:nvSpPr>
        <p:spPr>
          <a:xfrm>
            <a:off x="3124080" y="2590920"/>
            <a:ext cx="76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Freeform 23"/>
          <p:cNvSpPr/>
          <p:nvPr/>
        </p:nvSpPr>
        <p:spPr>
          <a:xfrm>
            <a:off x="3200400" y="2971800"/>
            <a:ext cx="2819520" cy="457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776" h="288">
                <a:moveTo>
                  <a:pt x="0" y="96"/>
                </a:moveTo>
                <a:lnTo>
                  <a:pt x="0" y="288"/>
                </a:lnTo>
                <a:lnTo>
                  <a:pt x="1776" y="288"/>
                </a:lnTo>
                <a:lnTo>
                  <a:pt x="17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Line 24"/>
          <p:cNvSpPr/>
          <p:nvPr/>
        </p:nvSpPr>
        <p:spPr>
          <a:xfrm flipV="1">
            <a:off x="6019920" y="2514600"/>
            <a:ext cx="759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Freeform 25"/>
          <p:cNvSpPr/>
          <p:nvPr/>
        </p:nvSpPr>
        <p:spPr>
          <a:xfrm>
            <a:off x="6400800" y="259092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32" h="432">
                <a:moveTo>
                  <a:pt x="0" y="0"/>
                </a:moveTo>
                <a:lnTo>
                  <a:pt x="48" y="288"/>
                </a:lnTo>
                <a:lnTo>
                  <a:pt x="240" y="384"/>
                </a:lnTo>
                <a:lnTo>
                  <a:pt x="432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2194200" y="1508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Host 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5550120" y="1508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Host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Freeform 28"/>
          <p:cNvSpPr/>
          <p:nvPr/>
        </p:nvSpPr>
        <p:spPr>
          <a:xfrm>
            <a:off x="3200400" y="2438280"/>
            <a:ext cx="2819520" cy="914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776" h="576">
                <a:moveTo>
                  <a:pt x="1776" y="48"/>
                </a:moveTo>
                <a:lnTo>
                  <a:pt x="1728" y="288"/>
                </a:lnTo>
                <a:lnTo>
                  <a:pt x="1728" y="576"/>
                </a:lnTo>
                <a:lnTo>
                  <a:pt x="48" y="576"/>
                </a:lnTo>
                <a:lnTo>
                  <a:pt x="48" y="3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6666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95" name="Group 29"/>
          <p:cNvGrpSpPr/>
          <p:nvPr/>
        </p:nvGrpSpPr>
        <p:grpSpPr>
          <a:xfrm>
            <a:off x="3276720" y="2438280"/>
            <a:ext cx="2666880" cy="867240"/>
            <a:chOff x="3276720" y="2438280"/>
            <a:chExt cx="2666880" cy="867240"/>
          </a:xfrm>
        </p:grpSpPr>
        <p:sp>
          <p:nvSpPr>
            <p:cNvPr id="496" name="Freeform 30"/>
            <p:cNvSpPr/>
            <p:nvPr/>
          </p:nvSpPr>
          <p:spPr>
            <a:xfrm>
              <a:off x="3276720" y="2438280"/>
              <a:ext cx="2666880" cy="83844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680" h="528">
                  <a:moveTo>
                    <a:pt x="0" y="0"/>
                  </a:moveTo>
                  <a:lnTo>
                    <a:pt x="48" y="288"/>
                  </a:lnTo>
                  <a:lnTo>
                    <a:pt x="48" y="528"/>
                  </a:lnTo>
                  <a:lnTo>
                    <a:pt x="1632" y="528"/>
                  </a:lnTo>
                  <a:lnTo>
                    <a:pt x="1632" y="336"/>
                  </a:lnTo>
                  <a:lnTo>
                    <a:pt x="1680" y="0"/>
                  </a:lnTo>
                </a:path>
              </a:pathLst>
            </a:custGeom>
            <a:noFill/>
            <a:ln w="38160">
              <a:solidFill>
                <a:srgbClr val="6666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Text Box 31"/>
            <p:cNvSpPr/>
            <p:nvPr/>
          </p:nvSpPr>
          <p:spPr>
            <a:xfrm>
              <a:off x="4099680" y="2906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2E Example: File Transf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en if network guaranteed reliable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provide end-to-end che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network card may mal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ceiver has to do the check anyw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ll functionality can only be entirely implemented at application layer; no need for reliability from lower la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es FTP look like E2E file transf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provides reliability between kernels not d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ere any need to implement reliability at lower lay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68C6-E5A2-46E9-9DFF-D46CDBD400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9A6-2936-4BF0-AD18-DA51E2851EC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ut only to improv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is highly 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some level of reliability help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ry to achieve perfect reliabi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a functionality at a lower level should have minimum performance impact on the applications that do not use the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nounc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ideas list – will update by 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idea discussion meetings (15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rsday/Friday (1/26,1/2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bring signup to Wed l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k of two project ideas that interes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propos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1pg – intro/related work/plan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by email noon 2/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huo’s Office Hours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 1:30-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5D29-692E-4EBC-84BF-31DEA965FB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C29-8DED-4058-BAA6-0F105F8D031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at the end points, and what by th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/sequenced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/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Ethernet collision det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guarant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2: Types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inciple 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etwork layer provides one simple service: best effort datagram (packet)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ckets are treated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imple core network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block from which other services (such as reliable data stream) can be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tes to scalability of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QoS support assumed from be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some underlying nets only supported reliabl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de Internet datagram service less useful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implement without network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is an ongoing deba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753-DC52-4D8E-B397-A326CBB1E4F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es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CP vs. UD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apps that need reliability:  remote login or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lastic, loss-tolerant apps:  real-time voice or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in between, or with strong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cause of delay variation:  reliabl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net:  &lt;100ms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delivery can add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iginal Internet model:  “TCP/IP” one lay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pp was remote log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n came debugging, voi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ifferences caused the layer split, added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2124-D23E-476A-9BBE-2769CD0DEF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8EB-7914-4C1C-9D5F-C12C6381A0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4: Decentral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inciple 7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ach network owned and managed separ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see this in BGP routing especi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inciple 7’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 conservative in what you send and liberal in what you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written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ially useful since many protocol specifications are ambigu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TCP will accept and ignore bogus acknowledg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7618-3BB1-4FF7-A7CD-F8D396E993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“Other” go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taching a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ust implement hard pa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oo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overhead less important by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loss rate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scale wo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heaper than most dedica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A55B-9AD1-4047-90E5-A457400F88B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7. Accounta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?  (mostly flat-rate.  But phones have become that way also - people like i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ISP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et’s nest.  Complicated.  Political.  H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s, viru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ly a host problem.  But hosts very tr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ly optional.  Many philosophical issues of privacy vs.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dy sources aren’t handle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E366-AC8B-498F-B9A3-277D548653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P Design Weakn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administration and manage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eployment difficult a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no centralize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“flag”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ctive networks the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216B-2C92-4C54-8745-F199496EBD8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Interne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746360"/>
            <a:ext cx="4267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-switched datagra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is the “compatibility layer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glas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osts and routers ru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 flow state insid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800600" y="4876920"/>
            <a:ext cx="274320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>
            <a:off x="4800600" y="1905120"/>
            <a:ext cx="274320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>
            <a:off x="5791320" y="2971800"/>
            <a:ext cx="83808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>
            <a:off x="5791320" y="3657600"/>
            <a:ext cx="83808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5943600" y="312408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5486760" y="198108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6401880" y="198108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6477120" y="441936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5726880" y="3885840"/>
            <a:ext cx="118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5179320" y="441936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Freeform 14"/>
          <p:cNvSpPr/>
          <p:nvPr/>
        </p:nvSpPr>
        <p:spPr>
          <a:xfrm>
            <a:off x="4800600" y="1905120"/>
            <a:ext cx="1155600" cy="29718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728" h="1872">
                <a:moveTo>
                  <a:pt x="0" y="0"/>
                </a:moveTo>
                <a:cubicBezTo>
                  <a:pt x="260" y="244"/>
                  <a:pt x="520" y="488"/>
                  <a:pt x="624" y="672"/>
                </a:cubicBezTo>
                <a:cubicBezTo>
                  <a:pt x="728" y="856"/>
                  <a:pt x="728" y="904"/>
                  <a:pt x="624" y="1104"/>
                </a:cubicBezTo>
                <a:cubicBezTo>
                  <a:pt x="520" y="1304"/>
                  <a:pt x="260" y="1588"/>
                  <a:pt x="0" y="1872"/>
                </a:cubicBezTo>
              </a:path>
            </a:pathLst>
          </a:custGeom>
          <a:noFill/>
          <a:ln w="5724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Freeform 15"/>
          <p:cNvSpPr/>
          <p:nvPr/>
        </p:nvSpPr>
        <p:spPr>
          <a:xfrm>
            <a:off x="6477120" y="1905120"/>
            <a:ext cx="1066680" cy="2971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672" h="1872">
                <a:moveTo>
                  <a:pt x="672" y="0"/>
                </a:moveTo>
                <a:cubicBezTo>
                  <a:pt x="432" y="244"/>
                  <a:pt x="192" y="488"/>
                  <a:pt x="96" y="672"/>
                </a:cubicBezTo>
                <a:cubicBezTo>
                  <a:pt x="0" y="856"/>
                  <a:pt x="0" y="904"/>
                  <a:pt x="96" y="1104"/>
                </a:cubicBezTo>
                <a:cubicBezTo>
                  <a:pt x="192" y="1304"/>
                  <a:pt x="432" y="1588"/>
                  <a:pt x="672" y="1872"/>
                </a:cubicBezTo>
              </a:path>
            </a:pathLst>
          </a:custGeom>
          <a:noFill/>
          <a:ln w="5724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323C-CF16-43F3-8256-751AD0DD18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Minimalist Approac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mb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 provide minimal functionalities to support 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ressing, forwarding, rou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 en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ort layer or application performs more sophisticated function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ow control, error control, congestion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mmodate heterogeneous technologies (Ethernet, modem, satellite, wirel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diverse applications (telnet, ftp, Web, X window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ntralized network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045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es:  IP on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erhaps they’re totally worth it in the context of the original Internet. Might not have worked withou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10160" y="2514600"/>
            <a:ext cx="4152960" cy="2308320"/>
          </a:xfrm>
          <a:prstGeom prst="rect">
            <a:avLst/>
          </a:prstGeom>
          <a:solidFill>
            <a:srgbClr val="f9f9a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t of goals might seem to be nothing more than a checklist of all the desirable network features. It is important to understand that these goals are in order of importance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tirely different network architecture would result if the order were chan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BED8-19B2-4842-AFFB-2606F88DC1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1A83-53E6-421B-9B3B-89AB09C7B7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ecture: Design Consideration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al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T90] Architectural Considerations for a New Generation of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lark02] Tussle in Cyberspace: Defining Tomorrow’s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nges Over Tim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ed in simpler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goals, consistent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success came multiple goals –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Ps must talk to provide connectivity but are fierce compet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cy of users vs. government’s need to 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’s desire to exchange files vs. copyright ow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deal with the tussle between concerns in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0A8-E444-4C2D-B34C-E071C5970F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w Principle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for variation in outc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esign to be flexible to different uses/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olate tuss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designs uses separate ToS bits instead of overloading other parts of packet like por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QoS decisions from application/protoco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choi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llow all parties to make choices on intera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between providers helps shape the tus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1A79-88AC-4D97-9096-15CA24B7A6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grated Layer Processing (ILP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ing is convenient for architecture but not for implem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ing data manipulation operations across layers provides g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copy and checksum combined provides 90Mbps vs. 60Mbps sepa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design must be done carefully to enable I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 bottlene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aper: presentation overhead, application-specific processing &gt;&gt; other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ay: memory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4000"/>
          </a:bodyPr>
          <a:p>
            <a:pPr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DC7F-1EB2-4341-A931-EB7E75AC64EA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5FA2-4C12-4A4B-B9E2-E9FB9BEB8F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lication Lever Framing (ALF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enable application to process data A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response to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ansmit (TCP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(UDP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/send new data (clever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 unit of application processing (ADU) to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BCBF-77D6-4B29-B1D2-858EAA3D75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lication Data Units Requir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s can be processed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of ADUs should help identify position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ough to proces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size is too la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SF Progra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x1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n Slat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the Internet Impasse through Virtualiz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rchitectu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Data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Interne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92B3-1085-4C36-B616-D1146EC9FA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med Data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eginning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applications strictly focused on host-to-host interprocess communi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 login, file transfer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was built around this host-to-host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e is well-suited for communication between pairs of stationary h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 while to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Internet usage is data retrieval and service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 care about the content and are oblivious to location.  They are often oblivious as to delivery ti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tching headlines from CNN, videos from YouTube, TV from 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ing a bank account at </a:t>
            </a:r>
            <a:r>
              <a:rPr b="0" lang="en-US" sz="19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www.bank.com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68B-FA96-415F-BF48-F4DF1FA2BC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481040" y="3476520"/>
            <a:ext cx="1536840" cy="982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2825640" y="2948040"/>
            <a:ext cx="2490840" cy="1052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 rot="228600">
            <a:off x="6224760" y="5497560"/>
            <a:ext cx="85716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4"/>
          <a:stretch/>
        </p:blipFill>
        <p:spPr>
          <a:xfrm rot="19741800">
            <a:off x="6931080" y="358884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5"/>
          <a:stretch/>
        </p:blipFill>
        <p:spPr>
          <a:xfrm rot="228600">
            <a:off x="5823000" y="1854360"/>
            <a:ext cx="857160" cy="555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"/>
          <p:cNvPicPr/>
          <p:nvPr/>
        </p:nvPicPr>
        <p:blipFill>
          <a:blip r:embed="rId6"/>
          <a:stretch/>
        </p:blipFill>
        <p:spPr>
          <a:xfrm rot="228600">
            <a:off x="6788160" y="307800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7"/>
          <a:stretch/>
        </p:blipFill>
        <p:spPr>
          <a:xfrm rot="228600">
            <a:off x="5100480" y="1407960"/>
            <a:ext cx="857520" cy="554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"/>
          <p:cNvPicPr/>
          <p:nvPr/>
        </p:nvPicPr>
        <p:blipFill>
          <a:blip r:embed="rId8"/>
          <a:stretch/>
        </p:blipFill>
        <p:spPr>
          <a:xfrm rot="19741800">
            <a:off x="6073920" y="2384280"/>
            <a:ext cx="231480" cy="401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"/>
          <p:cNvPicPr/>
          <p:nvPr/>
        </p:nvPicPr>
        <p:blipFill>
          <a:blip r:embed="rId9"/>
          <a:stretch/>
        </p:blipFill>
        <p:spPr>
          <a:xfrm rot="19741800">
            <a:off x="6921360" y="457164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"/>
          <p:cNvPicPr/>
          <p:nvPr/>
        </p:nvPicPr>
        <p:blipFill>
          <a:blip r:embed="rId10"/>
          <a:stretch/>
        </p:blipFill>
        <p:spPr>
          <a:xfrm rot="19741800">
            <a:off x="6805440" y="501768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11"/>
          <a:stretch/>
        </p:blipFill>
        <p:spPr>
          <a:xfrm rot="19741800">
            <a:off x="6859440" y="409860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"/>
          <p:cNvPicPr/>
          <p:nvPr/>
        </p:nvPicPr>
        <p:blipFill>
          <a:blip r:embed="rId12"/>
          <a:stretch/>
        </p:blipFill>
        <p:spPr>
          <a:xfrm rot="19741800">
            <a:off x="6546960" y="262404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3" descr=""/>
          <p:cNvPicPr/>
          <p:nvPr/>
        </p:nvPicPr>
        <p:blipFill>
          <a:blip r:embed="rId13"/>
          <a:stretch/>
        </p:blipFill>
        <p:spPr>
          <a:xfrm>
            <a:off x="2816280" y="4054320"/>
            <a:ext cx="2490840" cy="982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4" descr=""/>
          <p:cNvPicPr/>
          <p:nvPr/>
        </p:nvPicPr>
        <p:blipFill>
          <a:blip r:embed="rId14"/>
          <a:stretch/>
        </p:blipFill>
        <p:spPr>
          <a:xfrm rot="228600">
            <a:off x="5502240" y="612288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5" descr=""/>
          <p:cNvPicPr/>
          <p:nvPr/>
        </p:nvPicPr>
        <p:blipFill>
          <a:blip r:embed="rId15"/>
          <a:stretch/>
        </p:blipFill>
        <p:spPr>
          <a:xfrm>
            <a:off x="4530600" y="20271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6" descr=""/>
          <p:cNvPicPr/>
          <p:nvPr/>
        </p:nvPicPr>
        <p:blipFill>
          <a:blip r:embed="rId16"/>
          <a:stretch/>
        </p:blipFill>
        <p:spPr>
          <a:xfrm>
            <a:off x="5343480" y="2948040"/>
            <a:ext cx="1320840" cy="1052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7" descr=""/>
          <p:cNvPicPr/>
          <p:nvPr/>
        </p:nvPicPr>
        <p:blipFill>
          <a:blip r:embed="rId17"/>
          <a:stretch/>
        </p:blipFill>
        <p:spPr>
          <a:xfrm>
            <a:off x="5370480" y="40449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8" descr=""/>
          <p:cNvPicPr/>
          <p:nvPr/>
        </p:nvPicPr>
        <p:blipFill>
          <a:blip r:embed="rId18"/>
          <a:stretch/>
        </p:blipFill>
        <p:spPr>
          <a:xfrm>
            <a:off x="4637160" y="4902120"/>
            <a:ext cx="1322280" cy="1054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9" descr=""/>
          <p:cNvPicPr/>
          <p:nvPr/>
        </p:nvPicPr>
        <p:blipFill>
          <a:blip r:embed="rId19"/>
          <a:stretch/>
        </p:blipFill>
        <p:spPr>
          <a:xfrm rot="19741800">
            <a:off x="6135840" y="5929200"/>
            <a:ext cx="231480" cy="401760"/>
          </a:xfrm>
          <a:prstGeom prst="rect">
            <a:avLst/>
          </a:prstGeom>
          <a:ln w="0">
            <a:noFill/>
          </a:ln>
        </p:spPr>
      </p:pic>
      <p:sp>
        <p:nvSpPr>
          <p:cNvPr id="587" name="Freeform 20"/>
          <p:cNvSpPr/>
          <p:nvPr/>
        </p:nvSpPr>
        <p:spPr>
          <a:xfrm>
            <a:off x="2678040" y="1866960"/>
            <a:ext cx="2692440" cy="199692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7088" y="10242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8" name="Freeform 21"/>
          <p:cNvSpPr/>
          <p:nvPr/>
        </p:nvSpPr>
        <p:spPr>
          <a:xfrm>
            <a:off x="2652840" y="2265480"/>
            <a:ext cx="3276360" cy="167004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4478" y="5313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9" name="Freeform 22"/>
          <p:cNvSpPr/>
          <p:nvPr/>
        </p:nvSpPr>
        <p:spPr>
          <a:xfrm>
            <a:off x="2678040" y="2585880"/>
            <a:ext cx="3322800" cy="1384560"/>
          </a:xfrm>
          <a:custGeom>
            <a:avLst/>
            <a:gdLst>
              <a:gd name="textAreaLeft" fmla="*/ 0 w 3322800"/>
              <a:gd name="textAreaRight" fmla="*/ 3323160 w 332280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2252" y="3345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Freeform 23"/>
          <p:cNvSpPr/>
          <p:nvPr/>
        </p:nvSpPr>
        <p:spPr>
          <a:xfrm>
            <a:off x="2697120" y="2881440"/>
            <a:ext cx="3857760" cy="112536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7050" y="8743"/>
                  <a:pt x="17650" y="10457"/>
                  <a:pt x="21600" y="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1" name="Freeform 24"/>
          <p:cNvSpPr/>
          <p:nvPr/>
        </p:nvSpPr>
        <p:spPr>
          <a:xfrm>
            <a:off x="2697120" y="3354480"/>
            <a:ext cx="4129200" cy="652320"/>
          </a:xfrm>
          <a:custGeom>
            <a:avLst/>
            <a:gdLst>
              <a:gd name="textAreaLeft" fmla="*/ 0 w 4129200"/>
              <a:gd name="textAreaRight" fmla="*/ 4129560 w 412920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4017" y="10948"/>
                  <a:pt x="17723" y="2663"/>
                  <a:pt x="21600" y="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2" name="Freeform 25"/>
          <p:cNvSpPr/>
          <p:nvPr/>
        </p:nvSpPr>
        <p:spPr>
          <a:xfrm>
            <a:off x="2703600" y="3705120"/>
            <a:ext cx="4128840" cy="363600"/>
          </a:xfrm>
          <a:custGeom>
            <a:avLst/>
            <a:gdLst>
              <a:gd name="textAreaLeft" fmla="*/ 0 w 4128840"/>
              <a:gd name="textAreaRight" fmla="*/ 4129200 w 41288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19640">
                <a:moveTo>
                  <a:pt x="0" y="19640"/>
                </a:moveTo>
                <a:cubicBezTo>
                  <a:pt x="4148" y="-803"/>
                  <a:pt x="17153" y="-1960"/>
                  <a:pt x="21600" y="1511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2674800" y="4041720"/>
            <a:ext cx="4151520" cy="411120"/>
          </a:xfrm>
          <a:custGeom>
            <a:avLst/>
            <a:gdLst>
              <a:gd name="textAreaLeft" fmla="*/ 0 w 4151520"/>
              <a:gd name="textAreaRight" fmla="*/ 4151880 w 41515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1600" h="14667">
                <a:moveTo>
                  <a:pt x="0" y="0"/>
                </a:moveTo>
                <a:cubicBezTo>
                  <a:pt x="4164" y="5097"/>
                  <a:pt x="16441" y="21600"/>
                  <a:pt x="21600" y="11405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4" name="Freeform 27"/>
          <p:cNvSpPr/>
          <p:nvPr/>
        </p:nvSpPr>
        <p:spPr>
          <a:xfrm>
            <a:off x="2654280" y="4102200"/>
            <a:ext cx="4156200" cy="573120"/>
          </a:xfrm>
          <a:custGeom>
            <a:avLst/>
            <a:gdLst>
              <a:gd name="textAreaLeft" fmla="*/ 0 w 4156200"/>
              <a:gd name="textAreaRight" fmla="*/ 4156560 w 4156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118" y="5909"/>
                  <a:pt x="19595" y="19988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5" name="Freeform 28"/>
          <p:cNvSpPr/>
          <p:nvPr/>
        </p:nvSpPr>
        <p:spPr>
          <a:xfrm>
            <a:off x="2649600" y="4137120"/>
            <a:ext cx="4111560" cy="903240"/>
          </a:xfrm>
          <a:custGeom>
            <a:avLst/>
            <a:gdLst>
              <a:gd name="textAreaLeft" fmla="*/ 0 w 4111560"/>
              <a:gd name="textAreaRight" fmla="*/ 4111920 w 411156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2682" y="12131"/>
                  <a:pt x="17923" y="5881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6" name="Freeform 29"/>
          <p:cNvSpPr/>
          <p:nvPr/>
        </p:nvSpPr>
        <p:spPr>
          <a:xfrm>
            <a:off x="2637000" y="4164120"/>
            <a:ext cx="3614400" cy="1504800"/>
          </a:xfrm>
          <a:custGeom>
            <a:avLst/>
            <a:gdLst>
              <a:gd name="textAreaLeft" fmla="*/ 0 w 3614400"/>
              <a:gd name="textAreaRight" fmla="*/ 3614760 w 361440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8754" y="4922"/>
                  <a:pt x="8555" y="1504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7" name="Freeform 30"/>
          <p:cNvSpPr/>
          <p:nvPr/>
        </p:nvSpPr>
        <p:spPr>
          <a:xfrm>
            <a:off x="2619360" y="4187880"/>
            <a:ext cx="3479760" cy="1749240"/>
          </a:xfrm>
          <a:custGeom>
            <a:avLst/>
            <a:gdLst>
              <a:gd name="textAreaLeft" fmla="*/ 0 w 3479760"/>
              <a:gd name="textAreaRight" fmla="*/ 3480120 w 3479760"/>
              <a:gd name="textAreaTop" fmla="*/ 0 h 1749240"/>
              <a:gd name="textAreaBottom" fmla="*/ 1749600 h 17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490" y="4499"/>
                  <a:pt x="15425" y="8234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Freeform 31"/>
          <p:cNvSpPr/>
          <p:nvPr/>
        </p:nvSpPr>
        <p:spPr>
          <a:xfrm>
            <a:off x="2627280" y="4187880"/>
            <a:ext cx="3105360" cy="1936800"/>
          </a:xfrm>
          <a:custGeom>
            <a:avLst/>
            <a:gdLst>
              <a:gd name="textAreaLeft" fmla="*/ 0 w 3105360"/>
              <a:gd name="textAreaRight" fmla="*/ 3105720 w 310536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5915" y="7387"/>
                  <a:pt x="18866" y="12457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9" name="AutoShape 32"/>
          <p:cNvSpPr/>
          <p:nvPr/>
        </p:nvSpPr>
        <p:spPr>
          <a:xfrm>
            <a:off x="1866960" y="3836880"/>
            <a:ext cx="895320" cy="40176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464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00" name="Picture 33" descr=""/>
          <p:cNvPicPr/>
          <p:nvPr/>
        </p:nvPicPr>
        <p:blipFill>
          <a:blip r:embed="rId20"/>
          <a:stretch/>
        </p:blipFill>
        <p:spPr>
          <a:xfrm>
            <a:off x="1911240" y="3854520"/>
            <a:ext cx="803520" cy="3366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4"/>
          <p:cNvSpPr/>
          <p:nvPr/>
        </p:nvSpPr>
        <p:spPr>
          <a:xfrm>
            <a:off x="3214080" y="31093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Rectangle 35"/>
          <p:cNvSpPr/>
          <p:nvPr/>
        </p:nvSpPr>
        <p:spPr>
          <a:xfrm>
            <a:off x="3097440" y="47167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ＭＳ Ｐゴシック"/>
              </a:rPr>
              <a:t>What does the network look like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7D5-1980-4808-BCC2-530D38BBCF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" descr=""/>
          <p:cNvPicPr/>
          <p:nvPr/>
        </p:nvPicPr>
        <p:blipFill>
          <a:blip r:embed="rId1"/>
          <a:stretch/>
        </p:blipFill>
        <p:spPr>
          <a:xfrm>
            <a:off x="1481040" y="3390840"/>
            <a:ext cx="1536840" cy="9828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2825640" y="2862360"/>
            <a:ext cx="2490840" cy="10540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 rot="228600">
            <a:off x="6224760" y="541332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4"/>
          <a:stretch/>
        </p:blipFill>
        <p:spPr>
          <a:xfrm rot="19741800">
            <a:off x="6931080" y="350352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5"/>
          <a:stretch/>
        </p:blipFill>
        <p:spPr>
          <a:xfrm rot="228600">
            <a:off x="5823000" y="177012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6"/>
          <a:stretch/>
        </p:blipFill>
        <p:spPr>
          <a:xfrm rot="228600">
            <a:off x="6788160" y="2992320"/>
            <a:ext cx="857160" cy="5558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"/>
          <p:cNvPicPr/>
          <p:nvPr/>
        </p:nvPicPr>
        <p:blipFill>
          <a:blip r:embed="rId7"/>
          <a:stretch/>
        </p:blipFill>
        <p:spPr>
          <a:xfrm rot="228600">
            <a:off x="5100480" y="1324080"/>
            <a:ext cx="857520" cy="554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8" descr=""/>
          <p:cNvPicPr/>
          <p:nvPr/>
        </p:nvPicPr>
        <p:blipFill>
          <a:blip r:embed="rId8"/>
          <a:stretch/>
        </p:blipFill>
        <p:spPr>
          <a:xfrm rot="19741800">
            <a:off x="6073920" y="2298600"/>
            <a:ext cx="231480" cy="4017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"/>
          <p:cNvPicPr/>
          <p:nvPr/>
        </p:nvPicPr>
        <p:blipFill>
          <a:blip r:embed="rId9"/>
          <a:stretch/>
        </p:blipFill>
        <p:spPr>
          <a:xfrm rot="19741800">
            <a:off x="6921360" y="448596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0" descr=""/>
          <p:cNvPicPr/>
          <p:nvPr/>
        </p:nvPicPr>
        <p:blipFill>
          <a:blip r:embed="rId10"/>
          <a:stretch/>
        </p:blipFill>
        <p:spPr>
          <a:xfrm rot="19741800">
            <a:off x="6805440" y="493236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1" descr=""/>
          <p:cNvPicPr/>
          <p:nvPr/>
        </p:nvPicPr>
        <p:blipFill>
          <a:blip r:embed="rId11"/>
          <a:stretch/>
        </p:blipFill>
        <p:spPr>
          <a:xfrm rot="19741800">
            <a:off x="6859080" y="4012920"/>
            <a:ext cx="231840" cy="401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" descr=""/>
          <p:cNvPicPr/>
          <p:nvPr/>
        </p:nvPicPr>
        <p:blipFill>
          <a:blip r:embed="rId12"/>
          <a:stretch/>
        </p:blipFill>
        <p:spPr>
          <a:xfrm rot="19741800">
            <a:off x="6546600" y="2539800"/>
            <a:ext cx="231840" cy="401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"/>
          <p:cNvPicPr/>
          <p:nvPr/>
        </p:nvPicPr>
        <p:blipFill>
          <a:blip r:embed="rId13"/>
          <a:stretch/>
        </p:blipFill>
        <p:spPr>
          <a:xfrm>
            <a:off x="2816280" y="3970440"/>
            <a:ext cx="2490840" cy="981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4" descr=""/>
          <p:cNvPicPr/>
          <p:nvPr/>
        </p:nvPicPr>
        <p:blipFill>
          <a:blip r:embed="rId14"/>
          <a:stretch/>
        </p:blipFill>
        <p:spPr>
          <a:xfrm rot="228600">
            <a:off x="5502240" y="603900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5" descr=""/>
          <p:cNvPicPr/>
          <p:nvPr/>
        </p:nvPicPr>
        <p:blipFill>
          <a:blip r:embed="rId15"/>
          <a:stretch/>
        </p:blipFill>
        <p:spPr>
          <a:xfrm>
            <a:off x="4530600" y="194328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6" descr=""/>
          <p:cNvPicPr/>
          <p:nvPr/>
        </p:nvPicPr>
        <p:blipFill>
          <a:blip r:embed="rId16"/>
          <a:stretch/>
        </p:blipFill>
        <p:spPr>
          <a:xfrm>
            <a:off x="5343480" y="28623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7" descr=""/>
          <p:cNvPicPr/>
          <p:nvPr/>
        </p:nvPicPr>
        <p:blipFill>
          <a:blip r:embed="rId17"/>
          <a:stretch/>
        </p:blipFill>
        <p:spPr>
          <a:xfrm>
            <a:off x="5370480" y="396072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8" descr=""/>
          <p:cNvPicPr/>
          <p:nvPr/>
        </p:nvPicPr>
        <p:blipFill>
          <a:blip r:embed="rId18"/>
          <a:stretch/>
        </p:blipFill>
        <p:spPr>
          <a:xfrm>
            <a:off x="4637160" y="4818240"/>
            <a:ext cx="1322280" cy="1054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9" descr=""/>
          <p:cNvPicPr/>
          <p:nvPr/>
        </p:nvPicPr>
        <p:blipFill>
          <a:blip r:embed="rId19"/>
          <a:stretch/>
        </p:blipFill>
        <p:spPr>
          <a:xfrm rot="19741800">
            <a:off x="6135840" y="5843520"/>
            <a:ext cx="231480" cy="401760"/>
          </a:xfrm>
          <a:prstGeom prst="rect">
            <a:avLst/>
          </a:prstGeom>
          <a:ln w="0">
            <a:noFill/>
          </a:ln>
        </p:spPr>
      </p:pic>
      <p:sp>
        <p:nvSpPr>
          <p:cNvPr id="624" name="Oval 20"/>
          <p:cNvSpPr/>
          <p:nvPr/>
        </p:nvSpPr>
        <p:spPr>
          <a:xfrm>
            <a:off x="3956040" y="3278160"/>
            <a:ext cx="21420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Oval 21"/>
          <p:cNvSpPr/>
          <p:nvPr/>
        </p:nvSpPr>
        <p:spPr>
          <a:xfrm>
            <a:off x="3956040" y="4349880"/>
            <a:ext cx="21420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Oval 22"/>
          <p:cNvSpPr/>
          <p:nvPr/>
        </p:nvSpPr>
        <p:spPr>
          <a:xfrm>
            <a:off x="5081760" y="2395440"/>
            <a:ext cx="214200" cy="21456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Oval 23"/>
          <p:cNvSpPr/>
          <p:nvPr/>
        </p:nvSpPr>
        <p:spPr>
          <a:xfrm>
            <a:off x="5894280" y="327816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8" name="Oval 24"/>
          <p:cNvSpPr/>
          <p:nvPr/>
        </p:nvSpPr>
        <p:spPr>
          <a:xfrm>
            <a:off x="5929200" y="437688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9" name="Oval 25"/>
          <p:cNvSpPr/>
          <p:nvPr/>
        </p:nvSpPr>
        <p:spPr>
          <a:xfrm>
            <a:off x="5197320" y="523404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0" name="Line 26"/>
          <p:cNvSpPr/>
          <p:nvPr/>
        </p:nvSpPr>
        <p:spPr>
          <a:xfrm flipV="1">
            <a:off x="2780640" y="3424320"/>
            <a:ext cx="1150920" cy="3794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1" name="Line 27"/>
          <p:cNvSpPr/>
          <p:nvPr/>
        </p:nvSpPr>
        <p:spPr>
          <a:xfrm>
            <a:off x="2784600" y="4048200"/>
            <a:ext cx="1157040" cy="3729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2" name="Line 28"/>
          <p:cNvSpPr/>
          <p:nvPr/>
        </p:nvSpPr>
        <p:spPr>
          <a:xfrm flipV="1">
            <a:off x="4160160" y="2587680"/>
            <a:ext cx="933480" cy="7063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3" name="Line 29"/>
          <p:cNvSpPr/>
          <p:nvPr/>
        </p:nvSpPr>
        <p:spPr>
          <a:xfrm flipV="1">
            <a:off x="5302080" y="2170080"/>
            <a:ext cx="617760" cy="2541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4" name="Line 30"/>
          <p:cNvSpPr/>
          <p:nvPr/>
        </p:nvSpPr>
        <p:spPr>
          <a:xfrm flipV="1">
            <a:off x="5230800" y="1816200"/>
            <a:ext cx="185760" cy="5443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5" name="Line 31"/>
          <p:cNvSpPr/>
          <p:nvPr/>
        </p:nvSpPr>
        <p:spPr>
          <a:xfrm flipV="1">
            <a:off x="5325480" y="2468520"/>
            <a:ext cx="672840" cy="446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6" name="Line 32"/>
          <p:cNvSpPr/>
          <p:nvPr/>
        </p:nvSpPr>
        <p:spPr>
          <a:xfrm flipV="1">
            <a:off x="4201560" y="3395520"/>
            <a:ext cx="1662120" cy="2088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7" name="Line 33"/>
          <p:cNvSpPr/>
          <p:nvPr/>
        </p:nvSpPr>
        <p:spPr>
          <a:xfrm>
            <a:off x="4205160" y="4432320"/>
            <a:ext cx="1710000" cy="414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8" name="Line 34"/>
          <p:cNvSpPr/>
          <p:nvPr/>
        </p:nvSpPr>
        <p:spPr>
          <a:xfrm>
            <a:off x="4176720" y="4546440"/>
            <a:ext cx="1031760" cy="7207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AutoShape 35"/>
          <p:cNvSpPr/>
          <p:nvPr/>
        </p:nvSpPr>
        <p:spPr>
          <a:xfrm>
            <a:off x="1857240" y="3716280"/>
            <a:ext cx="895320" cy="40176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464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40" name="Picture 36" descr=""/>
          <p:cNvPicPr/>
          <p:nvPr/>
        </p:nvPicPr>
        <p:blipFill>
          <a:blip r:embed="rId20"/>
          <a:stretch/>
        </p:blipFill>
        <p:spPr>
          <a:xfrm>
            <a:off x="1903320" y="3762360"/>
            <a:ext cx="803520" cy="316080"/>
          </a:xfrm>
          <a:prstGeom prst="rect">
            <a:avLst/>
          </a:prstGeom>
          <a:ln w="0">
            <a:noFill/>
          </a:ln>
        </p:spPr>
      </p:pic>
      <p:sp>
        <p:nvSpPr>
          <p:cNvPr id="641" name="Line 37"/>
          <p:cNvSpPr/>
          <p:nvPr/>
        </p:nvSpPr>
        <p:spPr>
          <a:xfrm flipV="1">
            <a:off x="6122160" y="2877840"/>
            <a:ext cx="497160" cy="4302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2" name="Line 38"/>
          <p:cNvSpPr/>
          <p:nvPr/>
        </p:nvSpPr>
        <p:spPr>
          <a:xfrm flipV="1">
            <a:off x="6151680" y="3352680"/>
            <a:ext cx="696960" cy="381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 flipV="1">
            <a:off x="6191280" y="4255920"/>
            <a:ext cx="660240" cy="2066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116760" y="3470400"/>
            <a:ext cx="755640" cy="2127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Line 41"/>
          <p:cNvSpPr/>
          <p:nvPr/>
        </p:nvSpPr>
        <p:spPr>
          <a:xfrm>
            <a:off x="6191280" y="4537080"/>
            <a:ext cx="657360" cy="9828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6" name="Line 42"/>
          <p:cNvSpPr/>
          <p:nvPr/>
        </p:nvSpPr>
        <p:spPr>
          <a:xfrm>
            <a:off x="6156360" y="4591080"/>
            <a:ext cx="584280" cy="3668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7" name="Line 43"/>
          <p:cNvSpPr/>
          <p:nvPr/>
        </p:nvSpPr>
        <p:spPr>
          <a:xfrm>
            <a:off x="5460840" y="5376960"/>
            <a:ext cx="828720" cy="2412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Line 44"/>
          <p:cNvSpPr/>
          <p:nvPr/>
        </p:nvSpPr>
        <p:spPr>
          <a:xfrm>
            <a:off x="5430960" y="5440320"/>
            <a:ext cx="650880" cy="4399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Line 45"/>
          <p:cNvSpPr/>
          <p:nvPr/>
        </p:nvSpPr>
        <p:spPr>
          <a:xfrm>
            <a:off x="5367240" y="5486400"/>
            <a:ext cx="266760" cy="5414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0" name="Rectangle 46"/>
          <p:cNvSpPr/>
          <p:nvPr/>
        </p:nvSpPr>
        <p:spPr>
          <a:xfrm>
            <a:off x="3214080" y="30247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1" name="Rectangle 47"/>
          <p:cNvSpPr/>
          <p:nvPr/>
        </p:nvSpPr>
        <p:spPr>
          <a:xfrm>
            <a:off x="3097440" y="46317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ＭＳ Ｐゴシック"/>
              </a:rPr>
              <a:t>What should the network look like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B7A1-35F0-4998-BB74-26DE0D21699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obilityFirs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655" name="Content Placeholder 4" descr=""/>
          <p:cNvPicPr/>
          <p:nvPr/>
        </p:nvPicPr>
        <p:blipFill>
          <a:blip r:embed="rId1"/>
          <a:srcRect l="0" t="-12915" r="0" b="-12915"/>
          <a:stretch/>
        </p:blipFill>
        <p:spPr>
          <a:xfrm>
            <a:off x="291960" y="1068480"/>
            <a:ext cx="8294760" cy="5627520"/>
          </a:xfrm>
          <a:prstGeom prst="rect">
            <a:avLst/>
          </a:prstGeom>
          <a:ln w="0">
            <a:noFill/>
          </a:ln>
        </p:spPr>
      </p:pic>
      <p:sp>
        <p:nvSpPr>
          <p:cNvPr id="656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DF1-9535-4230-8FD8-D570DAA596B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1EB8-4D34-4D7E-B9A2-AB7B76F77B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ign principles in inter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 History of Internet Evolu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4560" y="5181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change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after 19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21FC-7277-4D2F-BB1A-3D10C43113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827360" cy="3048120"/>
          </a:xfrm>
          <a:prstGeom prst="rect">
            <a:avLst/>
          </a:prstGeom>
          <a:ln w="0">
            <a:noFill/>
          </a:ln>
        </p:spPr>
      </p:pic>
      <p:sp>
        <p:nvSpPr>
          <p:cNvPr id="661" name="TextBox 4"/>
          <p:cNvSpPr/>
          <p:nvPr/>
        </p:nvSpPr>
        <p:spPr>
          <a:xfrm>
            <a:off x="3890160" y="3214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62" name="Straight Arrow Connector 7"/>
          <p:cNvCxnSpPr>
            <a:stCxn id="661" idx="1"/>
          </p:cNvCxnSpPr>
          <p:nvPr/>
        </p:nvCxnSpPr>
        <p:spPr>
          <a:xfrm flipH="1">
            <a:off x="2057040" y="3506400"/>
            <a:ext cx="1829520" cy="1080"/>
          </a:xfrm>
          <a:prstGeom prst="straightConnector1">
            <a:avLst/>
          </a:prstGeom>
          <a:ln w="25560">
            <a:solidFill>
              <a:srgbClr val="7f7faa"/>
            </a:solidFill>
            <a:miter/>
            <a:tailEnd len="med" type="arrow" w="med"/>
          </a:ln>
        </p:spPr>
      </p:cxnSp>
      <p:sp>
        <p:nvSpPr>
          <p:cNvPr id="663" name="TextBox 8"/>
          <p:cNvSpPr/>
          <p:nvPr/>
        </p:nvSpPr>
        <p:spPr>
          <a:xfrm>
            <a:off x="2933280" y="198108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2952360" y="444492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4955040" y="2960640"/>
            <a:ext cx="37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bo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and below 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IA: An Evolvable Interne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43000" y="2540160"/>
            <a:ext cx="4721040" cy="2565360"/>
          </a:xfrm>
          <a:prstGeom prst="ellipse">
            <a:avLst/>
          </a:prstGeom>
          <a:solidFill>
            <a:srgbClr val="babe90">
              <a:alpha val="47000"/>
            </a:srgbClr>
          </a:solidFill>
          <a:ln w="9360">
            <a:solidFill>
              <a:srgbClr val="b7bb8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sign a network in which we can gracefully introduce new functionalit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Rectangle 10"/>
          <p:cNvSpPr/>
          <p:nvPr/>
        </p:nvSpPr>
        <p:spPr>
          <a:xfrm>
            <a:off x="609480" y="1957320"/>
            <a:ext cx="35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twork desig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669" name="Group 21"/>
          <p:cNvGrpSpPr/>
          <p:nvPr/>
        </p:nvGrpSpPr>
        <p:grpSpPr>
          <a:xfrm>
            <a:off x="3708360" y="1957320"/>
            <a:ext cx="4630680" cy="3110040"/>
            <a:chOff x="3708360" y="1957320"/>
            <a:chExt cx="4630680" cy="3110040"/>
          </a:xfrm>
        </p:grpSpPr>
        <p:sp>
          <p:nvSpPr>
            <p:cNvPr id="670" name="Oval 5"/>
            <p:cNvSpPr/>
            <p:nvPr/>
          </p:nvSpPr>
          <p:spPr>
            <a:xfrm>
              <a:off x="3708360" y="2500920"/>
              <a:ext cx="4630680" cy="2566440"/>
            </a:xfrm>
            <a:prstGeom prst="ellipse">
              <a:avLst/>
            </a:prstGeom>
            <a:solidFill>
              <a:srgbClr val="37374a">
                <a:alpha val="23000"/>
              </a:srgbClr>
            </a:solidFill>
            <a:ln w="9360">
              <a:solidFill>
                <a:srgbClr val="b7bb8c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 should the end-points change when the networks provide new functionality? 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1" name="Rectangle 11"/>
            <p:cNvSpPr/>
            <p:nvPr/>
          </p:nvSpPr>
          <p:spPr>
            <a:xfrm>
              <a:off x="4690800" y="1957320"/>
              <a:ext cx="322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End-point design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72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4850-1189-4A8C-8F3F-BFB7778098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IA: Evolvable Set of Princip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3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he intended communicating entities reduces complexity and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force all communication at a lower level (hosts), as in today’s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the network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664-F62F-45D5-A008-04F54EA2125F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6" name="Picture 6" descr="MC900433956[1]"/>
          <p:cNvPicPr/>
          <p:nvPr/>
        </p:nvPicPr>
        <p:blipFill>
          <a:blip r:embed="rId1"/>
          <a:stretch/>
        </p:blipFill>
        <p:spPr>
          <a:xfrm>
            <a:off x="5538960" y="4892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0" descr="C:\Documents and Settings\prs\Local Settings\Temporary Internet Files\Content.IE5\SX03GD4B\MCj04399430000[1].wmf"/>
          <p:cNvPicPr/>
          <p:nvPr/>
        </p:nvPicPr>
        <p:blipFill>
          <a:blip r:embed="rId2"/>
          <a:stretch/>
        </p:blipFill>
        <p:spPr>
          <a:xfrm flipH="1">
            <a:off x="1692360" y="4495680"/>
            <a:ext cx="1062000" cy="139392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8"/>
          <p:cNvSpPr/>
          <p:nvPr/>
        </p:nvSpPr>
        <p:spPr>
          <a:xfrm flipH="1">
            <a:off x="5741280" y="4057560"/>
            <a:ext cx="452520" cy="5968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9" name="Picture 12" descr="MC900110849[1]"/>
          <p:cNvPicPr/>
          <p:nvPr/>
        </p:nvPicPr>
        <p:blipFill>
          <a:blip r:embed="rId3"/>
          <a:stretch/>
        </p:blipFill>
        <p:spPr>
          <a:xfrm>
            <a:off x="5616720" y="5856120"/>
            <a:ext cx="787320" cy="781200"/>
          </a:xfrm>
          <a:prstGeom prst="rect">
            <a:avLst/>
          </a:prstGeom>
          <a:ln w="0">
            <a:noFill/>
          </a:ln>
        </p:spPr>
      </p:pic>
      <p:sp>
        <p:nvSpPr>
          <p:cNvPr id="680" name="Line 13"/>
          <p:cNvSpPr/>
          <p:nvPr/>
        </p:nvSpPr>
        <p:spPr>
          <a:xfrm flipV="1">
            <a:off x="2754360" y="4295520"/>
            <a:ext cx="2987640" cy="58716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1" name="Line 14"/>
          <p:cNvSpPr/>
          <p:nvPr/>
        </p:nvSpPr>
        <p:spPr>
          <a:xfrm>
            <a:off x="2754360" y="5222880"/>
            <a:ext cx="2784600" cy="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Line 15"/>
          <p:cNvSpPr/>
          <p:nvPr/>
        </p:nvSpPr>
        <p:spPr>
          <a:xfrm>
            <a:off x="2754360" y="5611680"/>
            <a:ext cx="2784600" cy="51624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1909080" y="58896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6592680" y="407844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6552720" y="495468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6654600" y="581328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6570000" y="43434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581fe9 ...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6555240" y="52228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9389fa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1751040" y="611676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4e881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6536160" y="633240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c0348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D67-13DF-4B73-8E27-7F722696907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principles in inter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6D20-04CA-4B4C-9AF4-0D4B88EF18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Problem (199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space 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nger of running out of class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 too small for most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class A – IANA (Internet Assigned Numbers Authority) very careful about g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 – great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ly populated – but people refuse to give it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8D17-EE31-44CF-B27C-9E50DEC291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Utilization (‘98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700" name="Picture 4" descr="map_small"/>
          <p:cNvPicPr/>
          <p:nvPr/>
        </p:nvPicPr>
        <p:blipFill>
          <a:blip r:embed="rId1"/>
          <a:stretch/>
        </p:blipFill>
        <p:spPr>
          <a:xfrm>
            <a:off x="2133720" y="1550880"/>
            <a:ext cx="5010120" cy="446904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5"/>
          <p:cNvSpPr/>
          <p:nvPr/>
        </p:nvSpPr>
        <p:spPr>
          <a:xfrm>
            <a:off x="1193400" y="6095880"/>
            <a:ext cx="66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aida.org/outreach/resources/learn/ipv4space/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9973-22F6-4233-A94A-9AD3AF6984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Routing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router forwarding tables were growing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: 128 networks, 16M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: 16K networks, 64K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: 2M networks, 256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its does not give enough space encode network location information inside address – i.e., create a structured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80F7-EA58-4734-A69D-47477B985D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1 – CID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multiple class C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nsecutive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1338 – Classless Inter-Domain Routing (CI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3AB-5097-4993-8595-4F9F5ACA39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assless Inter-Domain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classes to determine network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ny range of addresses to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on part of address as network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ddresses 192.4.16 - 196.4.31 have the first 20 bits in common. Thus, we use this as the network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mask is /20, /xx is valid for almost any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more efficient usage of address space (and router t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602-9445-426F-B517-8D8B95EACB4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2 - N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solution to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udge (but us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s between your network and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s local network layer addresses to global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pool of global IP addresses (less than number of hosts on your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E4BC-4D0F-4E4E-8D22-4374380105F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oals [Clark88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ARPANET and ARPA packet radio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communication service even in the presence of network and router failu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multiple types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ccommodate a variety of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istribute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host attachment with a low level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st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resource accoun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E1D-B1F1-45D9-8FCE-D2F12E80AAA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457200" y="1447920"/>
            <a:ext cx="83059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T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Oval 4"/>
          <p:cNvSpPr/>
          <p:nvPr/>
        </p:nvSpPr>
        <p:spPr>
          <a:xfrm>
            <a:off x="1905120" y="2209680"/>
            <a:ext cx="1885680" cy="10670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5943600" y="2286000"/>
            <a:ext cx="1905120" cy="9907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719" name="Group 6"/>
          <p:cNvGrpSpPr/>
          <p:nvPr/>
        </p:nvGrpSpPr>
        <p:grpSpPr>
          <a:xfrm>
            <a:off x="4629240" y="2087640"/>
            <a:ext cx="457200" cy="1143000"/>
            <a:chOff x="4629240" y="2087640"/>
            <a:chExt cx="457200" cy="1143000"/>
          </a:xfrm>
        </p:grpSpPr>
        <p:sp>
          <p:nvSpPr>
            <p:cNvPr id="720" name="Rectangle 7"/>
            <p:cNvSpPr/>
            <p:nvPr/>
          </p:nvSpPr>
          <p:spPr>
            <a:xfrm>
              <a:off x="4629240" y="2087640"/>
              <a:ext cx="457200" cy="1143000"/>
            </a:xfrm>
            <a:prstGeom prst="rect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1" name="Line 8"/>
            <p:cNvSpPr/>
            <p:nvPr/>
          </p:nvSpPr>
          <p:spPr>
            <a:xfrm>
              <a:off x="4629240" y="307836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2" name="Line 9"/>
            <p:cNvSpPr/>
            <p:nvPr/>
          </p:nvSpPr>
          <p:spPr>
            <a:xfrm>
              <a:off x="4629240" y="292572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3" name="Line 10"/>
            <p:cNvSpPr/>
            <p:nvPr/>
          </p:nvSpPr>
          <p:spPr>
            <a:xfrm>
              <a:off x="4629240" y="277344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4" name="Line 11"/>
            <p:cNvSpPr/>
            <p:nvPr/>
          </p:nvSpPr>
          <p:spPr>
            <a:xfrm>
              <a:off x="4629240" y="262116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5" name="Line 12"/>
            <p:cNvSpPr/>
            <p:nvPr/>
          </p:nvSpPr>
          <p:spPr>
            <a:xfrm>
              <a:off x="4629240" y="246852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726" name="Text Box 13"/>
          <p:cNvSpPr/>
          <p:nvPr/>
        </p:nvSpPr>
        <p:spPr>
          <a:xfrm>
            <a:off x="3581280" y="1523880"/>
            <a:ext cx="253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l of global IP address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4857840" y="3230640"/>
            <a:ext cx="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611280" y="4267080"/>
            <a:ext cx="74660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: Source (S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s to talk to Destination (D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pp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outgoing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ncoming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108000" indent="-10800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&amp; S can be just IP addresses or IP addresses + port #’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9" name="Line 16"/>
          <p:cNvSpPr/>
          <p:nvPr/>
        </p:nvSpPr>
        <p:spPr>
          <a:xfrm flipH="1">
            <a:off x="1600200" y="3595680"/>
            <a:ext cx="4572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3638520" y="2938320"/>
            <a:ext cx="990720" cy="414360"/>
          </a:xfrm>
          <a:custGeom>
            <a:avLst/>
            <a:gdLst>
              <a:gd name="textAreaLeft" fmla="*/ 0 w 990720"/>
              <a:gd name="textAreaRight" fmla="*/ 991080 w 9907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720" h="568">
                <a:moveTo>
                  <a:pt x="720" y="40"/>
                </a:moveTo>
                <a:cubicBezTo>
                  <a:pt x="516" y="20"/>
                  <a:pt x="312" y="0"/>
                  <a:pt x="192" y="88"/>
                </a:cubicBezTo>
                <a:cubicBezTo>
                  <a:pt x="72" y="176"/>
                  <a:pt x="36" y="372"/>
                  <a:pt x="0" y="56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4857840" y="2087640"/>
            <a:ext cx="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4837320" y="2155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4586040" y="21556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Text Box 21"/>
          <p:cNvSpPr/>
          <p:nvPr/>
        </p:nvSpPr>
        <p:spPr>
          <a:xfrm>
            <a:off x="6279840" y="3413160"/>
            <a:ext cx="418320" cy="405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Text Box 22"/>
          <p:cNvSpPr/>
          <p:nvPr/>
        </p:nvSpPr>
        <p:spPr>
          <a:xfrm>
            <a:off x="6672960" y="3413160"/>
            <a:ext cx="406080" cy="4057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 flipH="1">
            <a:off x="5715000" y="3579840"/>
            <a:ext cx="4572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7" name="Text Box 24"/>
          <p:cNvSpPr/>
          <p:nvPr/>
        </p:nvSpPr>
        <p:spPr>
          <a:xfrm>
            <a:off x="7088760" y="3413160"/>
            <a:ext cx="66240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3790800" y="2743200"/>
            <a:ext cx="762120" cy="8380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Rectangle 26"/>
          <p:cNvSpPr/>
          <p:nvPr/>
        </p:nvSpPr>
        <p:spPr>
          <a:xfrm>
            <a:off x="4552920" y="3382920"/>
            <a:ext cx="68580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Line 27"/>
          <p:cNvSpPr/>
          <p:nvPr/>
        </p:nvSpPr>
        <p:spPr>
          <a:xfrm flipV="1">
            <a:off x="5238720" y="2819520"/>
            <a:ext cx="704880" cy="76176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Text Box 28"/>
          <p:cNvSpPr/>
          <p:nvPr/>
        </p:nvSpPr>
        <p:spPr>
          <a:xfrm>
            <a:off x="190512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59436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Text Box 30"/>
          <p:cNvSpPr/>
          <p:nvPr/>
        </p:nvSpPr>
        <p:spPr>
          <a:xfrm>
            <a:off x="2184120" y="3413160"/>
            <a:ext cx="418320" cy="405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4" name="Text Box 31"/>
          <p:cNvSpPr/>
          <p:nvPr/>
        </p:nvSpPr>
        <p:spPr>
          <a:xfrm>
            <a:off x="2570040" y="3413160"/>
            <a:ext cx="858960" cy="4057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5" name="Text Box 32"/>
          <p:cNvSpPr/>
          <p:nvPr/>
        </p:nvSpPr>
        <p:spPr>
          <a:xfrm>
            <a:off x="2993040" y="3413160"/>
            <a:ext cx="66240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2F2-EAF7-4176-A523-A14E9A8A11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3 - IPv6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– addresses are 128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infrequently used parts of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byte fixed size vs. 20+ byt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removes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s on upper layer protocols to provide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eliminates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th MTU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280 byte M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490F-CB4A-4F99-B5E5-19C60584C70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Cha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560" y="1446120"/>
            <a:ext cx="8458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 replaced with traffic class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soft stat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well onto TCP connection or stream of UDP packets on host-por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uto-configuration using hardware MAC address to provide uniqu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5C9A-6D7F-469F-B90F-41E76179B7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Cha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field replaced by next header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protocol demultiplexing as well as op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are added using next head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header does not need to be processed by every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rforman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options practical/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5017-194B-4479-BE6E-050D93523A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IP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rts not so useful (TOS, o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to show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what the solution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E1B-9F40-4BB4-83FB-ECC6976B44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s: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lecture on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,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1BE2-EA29-4F2F-841A-8A3BB82B266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CDC-BE2C-4AC8-AAAC-DE78709E8E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packets can be 64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ink-layers have different M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P packet into multiple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header on each 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fields in header to help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router may fragment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do reassemb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nodes – avoids unnecess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to do at intermediate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throug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538-05C8-468B-ABC3-310296C6CD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 is Harmfu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sources poo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costs p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f we can send large chunk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case: packet just bigger than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end-to-e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a fra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mbly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ing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55C0-E31B-4E60-B761-43D76FCFF7A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th MTU Dis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dynamically discover minimum MTU of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MTU to MTU for first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datagrams with Don’t Fragment bi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CMP “pkt too big” msg, decrease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path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(&gt;5mins, or &gt;1min after previous increase), increase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uters will return proper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U values cached in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D62-8BE1-4331-8D1D-29AAAE8C62C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0: Connecting Networ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internetwork various network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PANET, X.25 networks, LANs, satellite networks, packet networks, serial link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ces between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– bandwidth/la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rate/pattern/hand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FECD-3146-4202-94A0-5A11C6EE93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is IP Design Standardiz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ever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s and email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ject kings, presidents, and voting; we believe in rough consensus and running code” (Dave Clark 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2 independent, interoperable implementations for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2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Multicast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48B1-D86D-4710-AFA8-A708CE618E4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457200" y="1905120"/>
            <a:ext cx="83059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Header – RFC791 (198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1828800" y="312408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0" name="Rectangle 5"/>
          <p:cNvSpPr/>
          <p:nvPr/>
        </p:nvSpPr>
        <p:spPr>
          <a:xfrm>
            <a:off x="1828800" y="342900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1828800" y="373392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1828800" y="403848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Rectangle 8"/>
          <p:cNvSpPr/>
          <p:nvPr/>
        </p:nvSpPr>
        <p:spPr>
          <a:xfrm>
            <a:off x="1828800" y="434340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1828800" y="464832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Line 10"/>
          <p:cNvSpPr/>
          <p:nvPr/>
        </p:nvSpPr>
        <p:spPr>
          <a:xfrm flipV="1">
            <a:off x="18288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Line 11"/>
          <p:cNvSpPr/>
          <p:nvPr/>
        </p:nvSpPr>
        <p:spPr>
          <a:xfrm flipV="1">
            <a:off x="518148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Line 12"/>
          <p:cNvSpPr/>
          <p:nvPr/>
        </p:nvSpPr>
        <p:spPr>
          <a:xfrm flipV="1">
            <a:off x="25146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Line 13"/>
          <p:cNvSpPr/>
          <p:nvPr/>
        </p:nvSpPr>
        <p:spPr>
          <a:xfrm flipV="1">
            <a:off x="73152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Line 14"/>
          <p:cNvSpPr/>
          <p:nvPr/>
        </p:nvSpPr>
        <p:spPr>
          <a:xfrm flipV="1">
            <a:off x="59436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173808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Text Box 16"/>
          <p:cNvSpPr/>
          <p:nvPr/>
        </p:nvSpPr>
        <p:spPr>
          <a:xfrm>
            <a:off x="236376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434448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579528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4" name="Text Box 19"/>
          <p:cNvSpPr/>
          <p:nvPr/>
        </p:nvSpPr>
        <p:spPr>
          <a:xfrm>
            <a:off x="716400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5" name="Rectangle 20"/>
          <p:cNvSpPr/>
          <p:nvPr/>
        </p:nvSpPr>
        <p:spPr>
          <a:xfrm>
            <a:off x="1828800" y="31240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6" name="Rectangle 21"/>
          <p:cNvSpPr/>
          <p:nvPr/>
        </p:nvSpPr>
        <p:spPr>
          <a:xfrm>
            <a:off x="2514600" y="31240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7" name="Rectangle 22"/>
          <p:cNvSpPr/>
          <p:nvPr/>
        </p:nvSpPr>
        <p:spPr>
          <a:xfrm>
            <a:off x="3200400" y="312408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8" name="Rectangle 23"/>
          <p:cNvSpPr/>
          <p:nvPr/>
        </p:nvSpPr>
        <p:spPr>
          <a:xfrm>
            <a:off x="4572000" y="312408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9" name="Rectangle 24"/>
          <p:cNvSpPr/>
          <p:nvPr/>
        </p:nvSpPr>
        <p:spPr>
          <a:xfrm>
            <a:off x="1828800" y="342900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Rectangle 25"/>
          <p:cNvSpPr/>
          <p:nvPr/>
        </p:nvSpPr>
        <p:spPr>
          <a:xfrm>
            <a:off x="4572000" y="34290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1" name="Rectangle 26"/>
          <p:cNvSpPr/>
          <p:nvPr/>
        </p:nvSpPr>
        <p:spPr>
          <a:xfrm>
            <a:off x="5181480" y="342900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2" name="Rectangle 27"/>
          <p:cNvSpPr/>
          <p:nvPr/>
        </p:nvSpPr>
        <p:spPr>
          <a:xfrm>
            <a:off x="182880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3" name="Rectangle 28"/>
          <p:cNvSpPr/>
          <p:nvPr/>
        </p:nvSpPr>
        <p:spPr>
          <a:xfrm>
            <a:off x="320040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4" name="Rectangle 29"/>
          <p:cNvSpPr/>
          <p:nvPr/>
        </p:nvSpPr>
        <p:spPr>
          <a:xfrm>
            <a:off x="4572000" y="3733920"/>
            <a:ext cx="2743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5" name="Rectangle 30"/>
          <p:cNvSpPr/>
          <p:nvPr/>
        </p:nvSpPr>
        <p:spPr>
          <a:xfrm>
            <a:off x="1828800" y="4648320"/>
            <a:ext cx="4114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6" name="Rectangle 31"/>
          <p:cNvSpPr/>
          <p:nvPr/>
        </p:nvSpPr>
        <p:spPr>
          <a:xfrm>
            <a:off x="5943600" y="46483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7" name="Line 32"/>
          <p:cNvSpPr/>
          <p:nvPr/>
        </p:nvSpPr>
        <p:spPr>
          <a:xfrm flipV="1">
            <a:off x="32004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304956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9" name="Text Box 34"/>
          <p:cNvSpPr/>
          <p:nvPr/>
        </p:nvSpPr>
        <p:spPr>
          <a:xfrm>
            <a:off x="495396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0" name="Line 35"/>
          <p:cNvSpPr/>
          <p:nvPr/>
        </p:nvSpPr>
        <p:spPr>
          <a:xfrm flipV="1">
            <a:off x="45720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5644-3AD7-468A-A3BE-F0A63E276E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Type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bits of prec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del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throughpu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reliabil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d by Diff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9591-EB64-4668-8563-14CF7EBA60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 Related Fie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IP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tch up with other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ragment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agment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is fragment lies in entire IP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in 8 octet units (11 bi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4358-5FCD-432B-BC1E-284AFC82A4C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Fie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length (in 32 bit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packets exit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ultiplexing to higher layer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ome degree of header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weak – 16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ource routing, record rou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ly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A859-BFBA-406E-B36E-3EC4EDF324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in I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es are names of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Name System (DNS) names are names of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binds host names to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binds interface names to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61A6-0641-4FC6-ADA9-158E068120D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r variable l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choice: IP uses fixed length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C2FA-7EB9-4174-B09D-4647D7FEE2D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vs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would routers need to route to Ethernet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tructure for designing scalable binding from interface name to ro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levels? Fixed?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29D9-FA0C-4FB3-802B-BB14557C12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457200" y="3962520"/>
            <a:ext cx="830592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length: 32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lassful structure (19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P address size: 4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: 128 networks, 16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B: 16K networks, 64K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: 2M networks, 256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761400" y="4267080"/>
            <a:ext cx="192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igh Order Bi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2943000" y="4267080"/>
            <a:ext cx="33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ma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bits of net, 24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bits of net, 16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bits of net, 8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7408080" y="4267080"/>
            <a:ext cx="8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B488-19BC-42D0-8C34-00002E46D14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457200" y="1676520"/>
            <a:ext cx="83059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Classes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(Some are Obsolete)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2117880" y="2514600"/>
            <a:ext cx="182880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3946680" y="2514600"/>
            <a:ext cx="419076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2498400" y="193032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5470920" y="19303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3778200" y="220968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49370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959760" y="2449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79088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7" name="Rectangle 12"/>
          <p:cNvSpPr/>
          <p:nvPr/>
        </p:nvSpPr>
        <p:spPr>
          <a:xfrm>
            <a:off x="2117880" y="3200400"/>
            <a:ext cx="306684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8" name="Rectangle 13"/>
          <p:cNvSpPr/>
          <p:nvPr/>
        </p:nvSpPr>
        <p:spPr>
          <a:xfrm>
            <a:off x="5165640" y="3200400"/>
            <a:ext cx="297180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9" name="Rectangle 14"/>
          <p:cNvSpPr/>
          <p:nvPr/>
        </p:nvSpPr>
        <p:spPr>
          <a:xfrm>
            <a:off x="2117880" y="2514600"/>
            <a:ext cx="15228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959760" y="3154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1" name="Rectangle 16"/>
          <p:cNvSpPr/>
          <p:nvPr/>
        </p:nvSpPr>
        <p:spPr>
          <a:xfrm>
            <a:off x="2117880" y="3200400"/>
            <a:ext cx="30456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Rectangle 17"/>
          <p:cNvSpPr/>
          <p:nvPr/>
        </p:nvSpPr>
        <p:spPr>
          <a:xfrm>
            <a:off x="2117880" y="3886200"/>
            <a:ext cx="449568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3" name="Rectangle 18"/>
          <p:cNvSpPr/>
          <p:nvPr/>
        </p:nvSpPr>
        <p:spPr>
          <a:xfrm>
            <a:off x="6613560" y="3886200"/>
            <a:ext cx="152388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959040" y="38401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Rectangle 20"/>
          <p:cNvSpPr/>
          <p:nvPr/>
        </p:nvSpPr>
        <p:spPr>
          <a:xfrm>
            <a:off x="2117880" y="3886200"/>
            <a:ext cx="38088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117880" y="4572000"/>
            <a:ext cx="6019560" cy="38088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Address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959040" y="4525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8" name="Rectangle 23"/>
          <p:cNvSpPr/>
          <p:nvPr/>
        </p:nvSpPr>
        <p:spPr>
          <a:xfrm>
            <a:off x="2117880" y="4572000"/>
            <a:ext cx="53316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9" name="Rectangle 24"/>
          <p:cNvSpPr/>
          <p:nvPr/>
        </p:nvSpPr>
        <p:spPr>
          <a:xfrm>
            <a:off x="2117880" y="5181480"/>
            <a:ext cx="6019560" cy="38124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for experimen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959760" y="51354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1" name="Rectangle 26"/>
          <p:cNvSpPr/>
          <p:nvPr/>
        </p:nvSpPr>
        <p:spPr>
          <a:xfrm>
            <a:off x="2117880" y="5181480"/>
            <a:ext cx="53316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63086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0C3D-C7F5-4D06-AD50-B5EDDC46FD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1: Address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ne address format to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ide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ranslat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lower level addresses to common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0CF-16C6-4512-B220-B2D3EC82288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me Special IP Addr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7.0.0.1: local host (a.k.a. the loopbac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bits all set to 0: networ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bits all set to 1: broadcas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BE7B-3920-4184-A975-6F900F04B22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 Addressing – RFC917 (1984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lass A &amp; B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LANs have close to 64K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lectrical/LAN limitations, performance or administrative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imple way to get multiple “networ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ridging,  multiple IP networks or split up single network address ranges (sub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reduce the total number of network addresses that are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U case study in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se not to adopt – concern that it would not be widely support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D70-D19F-4015-99EE-92C48885766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457200" y="3124080"/>
            <a:ext cx="83059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4267080" y="3429000"/>
            <a:ext cx="3276720" cy="6094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4267080" y="4267080"/>
            <a:ext cx="1447920" cy="6098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990720" y="4267080"/>
            <a:ext cx="3276360" cy="6098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subnet ma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subnet a class B into several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8"/>
          <p:cNvSpPr/>
          <p:nvPr/>
        </p:nvSpPr>
        <p:spPr>
          <a:xfrm>
            <a:off x="990720" y="3429000"/>
            <a:ext cx="3276360" cy="6094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7" name="Line 9"/>
          <p:cNvSpPr/>
          <p:nvPr/>
        </p:nvSpPr>
        <p:spPr>
          <a:xfrm>
            <a:off x="4267080" y="3429000"/>
            <a:ext cx="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8" name="Text Box 10"/>
          <p:cNvSpPr/>
          <p:nvPr/>
        </p:nvSpPr>
        <p:spPr>
          <a:xfrm>
            <a:off x="1203480" y="35164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9" name="Text Box 11"/>
          <p:cNvSpPr/>
          <p:nvPr/>
        </p:nvSpPr>
        <p:spPr>
          <a:xfrm>
            <a:off x="5334840" y="35514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5715000" y="4267080"/>
            <a:ext cx="1828800" cy="6098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1" name="Text Box 13"/>
          <p:cNvSpPr/>
          <p:nvPr/>
        </p:nvSpPr>
        <p:spPr>
          <a:xfrm>
            <a:off x="1203480" y="43545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2" name="Text Box 14"/>
          <p:cNvSpPr/>
          <p:nvPr/>
        </p:nvSpPr>
        <p:spPr>
          <a:xfrm>
            <a:off x="6477840" y="4389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3" name="Text Box 15"/>
          <p:cNvSpPr/>
          <p:nvPr/>
        </p:nvSpPr>
        <p:spPr>
          <a:xfrm>
            <a:off x="4541400" y="4389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4" name="Line 16"/>
          <p:cNvSpPr/>
          <p:nvPr/>
        </p:nvSpPr>
        <p:spPr>
          <a:xfrm>
            <a:off x="5715000" y="4267080"/>
            <a:ext cx="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5" name="Rectangle 17"/>
          <p:cNvSpPr/>
          <p:nvPr/>
        </p:nvSpPr>
        <p:spPr>
          <a:xfrm>
            <a:off x="990720" y="5105520"/>
            <a:ext cx="6553080" cy="6094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6" name="Text Box 18"/>
          <p:cNvSpPr/>
          <p:nvPr/>
        </p:nvSpPr>
        <p:spPr>
          <a:xfrm>
            <a:off x="1203840" y="51926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7" name="Text Box 19"/>
          <p:cNvSpPr/>
          <p:nvPr/>
        </p:nvSpPr>
        <p:spPr>
          <a:xfrm>
            <a:off x="5943600" y="522756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8" name="Line 20"/>
          <p:cNvSpPr/>
          <p:nvPr/>
        </p:nvSpPr>
        <p:spPr>
          <a:xfrm>
            <a:off x="5715000" y="5105520"/>
            <a:ext cx="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9" name="Text Box 21"/>
          <p:cNvSpPr/>
          <p:nvPr/>
        </p:nvSpPr>
        <p:spPr>
          <a:xfrm>
            <a:off x="4496400" y="5227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111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0" name="Text Box 22"/>
          <p:cNvSpPr/>
          <p:nvPr/>
        </p:nvSpPr>
        <p:spPr>
          <a:xfrm>
            <a:off x="7772400" y="5227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8092-9A16-43FA-9A3E-BCFB0B2097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ting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n organization was assigned address 150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&lt; 100 hosts per sub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host bits do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twork m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 11111111 11111111 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90C-D68E-4024-8CB0-AC40FA3C99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457200" y="2895480"/>
            <a:ext cx="8305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 Addressing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3301920" y="3336840"/>
            <a:ext cx="762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6121440" y="3336840"/>
            <a:ext cx="762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9" name="Rectangle 6"/>
          <p:cNvSpPr/>
          <p:nvPr/>
        </p:nvSpPr>
        <p:spPr>
          <a:xfrm>
            <a:off x="4902120" y="4869000"/>
            <a:ext cx="762120" cy="533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6654960" y="4869000"/>
            <a:ext cx="761760" cy="533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463840" y="4869000"/>
            <a:ext cx="762120" cy="5331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2" name="Line 9"/>
          <p:cNvSpPr/>
          <p:nvPr/>
        </p:nvSpPr>
        <p:spPr>
          <a:xfrm>
            <a:off x="2540160" y="432756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3" name="Line 10"/>
          <p:cNvSpPr/>
          <p:nvPr/>
        </p:nvSpPr>
        <p:spPr>
          <a:xfrm>
            <a:off x="3683160" y="3870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4" name="Line 11"/>
          <p:cNvSpPr/>
          <p:nvPr/>
        </p:nvSpPr>
        <p:spPr>
          <a:xfrm>
            <a:off x="6502320" y="3870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5" name="Line 12"/>
          <p:cNvSpPr/>
          <p:nvPr/>
        </p:nvSpPr>
        <p:spPr>
          <a:xfrm>
            <a:off x="2514600" y="585936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6" name="Line 13"/>
          <p:cNvSpPr/>
          <p:nvPr/>
        </p:nvSpPr>
        <p:spPr>
          <a:xfrm>
            <a:off x="284472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7" name="Line 14"/>
          <p:cNvSpPr/>
          <p:nvPr/>
        </p:nvSpPr>
        <p:spPr>
          <a:xfrm>
            <a:off x="528336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8" name="Line 15"/>
          <p:cNvSpPr/>
          <p:nvPr/>
        </p:nvSpPr>
        <p:spPr>
          <a:xfrm>
            <a:off x="703584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9" name="Line 16"/>
          <p:cNvSpPr/>
          <p:nvPr/>
        </p:nvSpPr>
        <p:spPr>
          <a:xfrm>
            <a:off x="2844720" y="43275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0" name="Text Box 17"/>
          <p:cNvSpPr/>
          <p:nvPr/>
        </p:nvSpPr>
        <p:spPr>
          <a:xfrm>
            <a:off x="4372560" y="3968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100.12.128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1" name="Text Box 18"/>
          <p:cNvSpPr/>
          <p:nvPr/>
        </p:nvSpPr>
        <p:spPr>
          <a:xfrm>
            <a:off x="2847240" y="30020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5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2" name="Text Box 19"/>
          <p:cNvSpPr/>
          <p:nvPr/>
        </p:nvSpPr>
        <p:spPr>
          <a:xfrm>
            <a:off x="5722200" y="30020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7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3" name="Text Box 20"/>
          <p:cNvSpPr/>
          <p:nvPr/>
        </p:nvSpPr>
        <p:spPr>
          <a:xfrm>
            <a:off x="2770920" y="45021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29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5210280" y="5881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100.12.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2771280" y="534816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6" name="Line 23"/>
          <p:cNvSpPr/>
          <p:nvPr/>
        </p:nvSpPr>
        <p:spPr>
          <a:xfrm flipH="1">
            <a:off x="1066320" y="50896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939600" y="5135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6352560" y="45021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55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523760" y="45021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2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1069200" y="4654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0.1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1" name="Text Box 28"/>
          <p:cNvSpPr/>
          <p:nvPr/>
        </p:nvSpPr>
        <p:spPr>
          <a:xfrm>
            <a:off x="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2" name="Rectangle 29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packet arrives with address 150.100.12.176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AND address with subnet mas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7E84-C839-45DD-9E41-48AE44E552D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1673-9E51-45A4-8A36-83098E3C566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Head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8" name="Rectangle 3"/>
          <p:cNvSpPr/>
          <p:nvPr/>
        </p:nvSpPr>
        <p:spPr>
          <a:xfrm>
            <a:off x="457200" y="1905120"/>
            <a:ext cx="83059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1828800" y="283536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1828800" y="313992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1828800" y="3444840"/>
            <a:ext cx="5486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1828800" y="4664160"/>
            <a:ext cx="5486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3" name="Line 8"/>
          <p:cNvSpPr/>
          <p:nvPr/>
        </p:nvSpPr>
        <p:spPr>
          <a:xfrm flipV="1">
            <a:off x="18288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4" name="Line 9"/>
          <p:cNvSpPr/>
          <p:nvPr/>
        </p:nvSpPr>
        <p:spPr>
          <a:xfrm flipV="1">
            <a:off x="518148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5" name="Line 10"/>
          <p:cNvSpPr/>
          <p:nvPr/>
        </p:nvSpPr>
        <p:spPr>
          <a:xfrm flipV="1">
            <a:off x="25146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6" name="Line 11"/>
          <p:cNvSpPr/>
          <p:nvPr/>
        </p:nvSpPr>
        <p:spPr>
          <a:xfrm flipV="1">
            <a:off x="73152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7" name="Line 12"/>
          <p:cNvSpPr/>
          <p:nvPr/>
        </p:nvSpPr>
        <p:spPr>
          <a:xfrm flipV="1">
            <a:off x="59436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173844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236376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434484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579564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716436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3" name="Rectangle 18"/>
          <p:cNvSpPr/>
          <p:nvPr/>
        </p:nvSpPr>
        <p:spPr>
          <a:xfrm>
            <a:off x="1828800" y="2835360"/>
            <a:ext cx="685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Rectangle 19"/>
          <p:cNvSpPr/>
          <p:nvPr/>
        </p:nvSpPr>
        <p:spPr>
          <a:xfrm>
            <a:off x="2514600" y="283536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5" name="Rectangle 20"/>
          <p:cNvSpPr/>
          <p:nvPr/>
        </p:nvSpPr>
        <p:spPr>
          <a:xfrm>
            <a:off x="3809880" y="2835360"/>
            <a:ext cx="3505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6" name="Rectangle 21"/>
          <p:cNvSpPr/>
          <p:nvPr/>
        </p:nvSpPr>
        <p:spPr>
          <a:xfrm>
            <a:off x="1828800" y="313992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7" name="Rectangle 22"/>
          <p:cNvSpPr/>
          <p:nvPr/>
        </p:nvSpPr>
        <p:spPr>
          <a:xfrm>
            <a:off x="4572000" y="313992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8" name="Rectangle 23"/>
          <p:cNvSpPr/>
          <p:nvPr/>
        </p:nvSpPr>
        <p:spPr>
          <a:xfrm>
            <a:off x="5943600" y="313992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9" name="Line 24"/>
          <p:cNvSpPr/>
          <p:nvPr/>
        </p:nvSpPr>
        <p:spPr>
          <a:xfrm flipV="1">
            <a:off x="380988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358272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495432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2" name="Line 27"/>
          <p:cNvSpPr/>
          <p:nvPr/>
        </p:nvSpPr>
        <p:spPr>
          <a:xfrm flipV="1">
            <a:off x="45720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2B64-0114-4ABE-9E00-1FC3566EE5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4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state only at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endpoint failure disrupt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urvi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FD3B-3FB3-4A78-9C92-FC4393D7CFD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&amp; End-to-End Argu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higher level service implemented at transport layer: reliable data delivery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nhancement; used by a large variety of applications (Telnet, FTP, 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impact other applications (can use UD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TCP &amp; IP were integrated – Reed successfully argued for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else implemented at applic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1702-F3D0-4AE6-996B-FC169CBA9E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2: Different Packet Siz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maximum packet size over all net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inefficient or high threshold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fragmentation/re-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frag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re-assemb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526-4665-4F95-8070-8D740E5A90E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ateway Alterna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in dealing with different features supported b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orly with number of network types (N^2 conver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over everything”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 Princi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assumptions abou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5:38Z</dcterms:created>
  <dc:creator>Srinivasan Seshan</dc:creator>
  <dc:description/>
  <dc:language>en-US</dc:language>
  <cp:lastModifiedBy>Srinivasan Seshan</cp:lastModifiedBy>
  <cp:lastPrinted>2010-09-10T18:03:24Z</cp:lastPrinted>
  <dcterms:modified xsi:type="dcterms:W3CDTF">2017-01-20T01:12:29Z</dcterms:modified>
  <cp:revision>147</cp:revision>
  <dc:subject/>
  <dc:title>15-744: Computer Networking</dc:title>
</cp:coreProperties>
</file>