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2F77-A18F-4C02-A331-41D8D2E86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6790-3BD4-4268-B9B1-8DE59DEDF9D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6C677-3E19-4119-B5D2-2083C9EBB9B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 applications: video, audio, telnet, ftp, http, rpc – what are thei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02D7C-76B1-49E6-BC83-934FA91F77A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3A11E-7055-44A6-A829-688598FC78C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FF8B0-0311-4C24-98F6-8515DDBD212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3D37-F8B8-4988-B428-49A26821413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9161-FEDB-40F5-824C-A5237D45EF2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analogy – soci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070A6-AA42-45A6-9430-CD04D2DCE24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9304-F5BC-4D6F-B384-17C928EC57A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A2C-03D2-47C1-A2F7-A916A481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1F9-DCCB-463F-A203-574279D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8F0-CB7F-4FB2-A42B-0632E197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D30-3C2A-4023-8DD1-073CBE8F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BB9-85BA-465D-951B-D313910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2CF-39B1-46D6-A18F-CFCD1D15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285F-5DC6-4E6E-B0AB-0ED4BC7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D6BB-C476-44D7-A426-A79FE3E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3F87-DC3E-4637-8E94-00CF2DD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07C-2360-4841-9C64-07136AFC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2AC-C88F-410B-819D-A322736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991-CA80-419F-B0FA-61A821C0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358-BE53-434E-803E-51AD696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CB60-D762-4805-B91B-BFC45CA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81D-D329-4585-8231-B1DEBE2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809D-439E-460C-8E2A-0D2CE8F8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490-1C11-4D5A-B4B0-47FDC0A5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BF5-A327-421E-86C2-5104F15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C52-70C5-4AEC-8A59-D11ED7E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214-A218-46DE-B2AD-68ABE9BA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14C-AF69-4078-8F91-452F8D0E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9B1-C6CC-4902-AB4D-588EDBC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2A5-9172-4A4C-A1DE-23FED12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BEF-3575-4245-A941-F0EDEB1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50F-CD39-4502-96E6-50EB9AB575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714-603B-49D2-B183-7FF45C16D1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zhuoc@cs.cmu.edu" TargetMode="External"/><Relationship Id="rId2" Type="http://schemas.openxmlformats.org/officeDocument/2006/relationships/hyperlink" Target="mailto:srini@cs.cmu.edu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 Intro to Comput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FB35-2CE0-42F5-AAAC-0A682AD731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urse Materi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s or pdf on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classic and rec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0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text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udents not familiar with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son &amp; Davie, Kurose &amp; Ross, Tanenbaum &amp; Weth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7B5-253A-4690-994A-B88940230C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r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assignment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roblem sets &amp; hands-on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+ discussion site participation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exam + final exam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book, in-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r 3 person project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focus of 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ject productive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C41-AD09-42DA-94F4-85B6CD7BD2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 Cover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physical and data lin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undergraduat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expected to know this or learn this along th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on network to application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deal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rules and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e protocol trade-of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this way and not anoth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FE12-1835-45BE-B5A3-D77E6EF333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 Top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 management (FQ,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33480" y="1525680"/>
            <a:ext cx="43052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n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/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ome TB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 (due tomorrow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zhuoc@cs.cmu.edu &amp; srini@cs.cmu.ed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cture choices f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ntence version of project interest areas &amp; list of project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 want to apply game theory to network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quest for TBD lecture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E78-22C9-4C0E-A7EE-968AC210804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6FF-009B-4A25-901E-72065E4044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0BF-A4F7-4788-A532-FBBE47121C2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is/Friday Lecture: Design Considerations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E27-F785-4095-B291-2ED7A7D1A0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Objective of Network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between applications on differen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application needs/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pattern (bursty or constant bit r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arget (multipoint or single destination, mobile or f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6AF-F01C-4366-9DA7-271C0D7E5AA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685800" y="1600200"/>
            <a:ext cx="80773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ck in the Old Days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7" name="Picture 4" descr="Click To Preview"/>
          <p:cNvPicPr/>
          <p:nvPr/>
        </p:nvPicPr>
        <p:blipFill>
          <a:blip r:embed="rId1"/>
          <a:stretch/>
        </p:blipFill>
        <p:spPr>
          <a:xfrm>
            <a:off x="4114800" y="1752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lick To Preview"/>
          <p:cNvPicPr/>
          <p:nvPr/>
        </p:nvPicPr>
        <p:blipFill>
          <a:blip r:embed="rId2"/>
          <a:stretch/>
        </p:blipFill>
        <p:spPr>
          <a:xfrm>
            <a:off x="1020600" y="34290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lick To Preview"/>
          <p:cNvPicPr/>
          <p:nvPr/>
        </p:nvPicPr>
        <p:blipFill>
          <a:blip r:embed="rId3">
            <a:grayscl/>
          </a:blip>
          <a:stretch/>
        </p:blipFill>
        <p:spPr>
          <a:xfrm>
            <a:off x="974880" y="419112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lick To Preview"/>
          <p:cNvPicPr/>
          <p:nvPr/>
        </p:nvPicPr>
        <p:blipFill>
          <a:blip r:embed="rId4"/>
          <a:stretch/>
        </p:blipFill>
        <p:spPr>
          <a:xfrm>
            <a:off x="1020600" y="2590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01" name="Line 8"/>
          <p:cNvSpPr/>
          <p:nvPr/>
        </p:nvSpPr>
        <p:spPr>
          <a:xfrm>
            <a:off x="1828800" y="3048120"/>
            <a:ext cx="56386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828800" y="3733920"/>
            <a:ext cx="5638680" cy="0"/>
          </a:xfrm>
          <a:prstGeom prst="line">
            <a:avLst/>
          </a:prstGeom>
          <a:ln w="28440">
            <a:solidFill>
              <a:srgbClr val="c09e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828800" y="5257800"/>
            <a:ext cx="5638680" cy="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12" descr="Click To Preview"/>
          <p:cNvPicPr/>
          <p:nvPr/>
        </p:nvPicPr>
        <p:blipFill>
          <a:blip r:embed="rId5"/>
          <a:stretch/>
        </p:blipFill>
        <p:spPr>
          <a:xfrm>
            <a:off x="7620120" y="33526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lick To Preview"/>
          <p:cNvPicPr/>
          <p:nvPr/>
        </p:nvPicPr>
        <p:blipFill>
          <a:blip r:embed="rId6">
            <a:grayscl/>
          </a:blip>
          <a:stretch/>
        </p:blipFill>
        <p:spPr>
          <a:xfrm>
            <a:off x="762012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lick To Preview"/>
          <p:cNvPicPr/>
          <p:nvPr/>
        </p:nvPicPr>
        <p:blipFill>
          <a:blip r:embed="rId7"/>
          <a:stretch/>
        </p:blipFill>
        <p:spPr>
          <a:xfrm>
            <a:off x="7620120" y="4876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Click To Preview"/>
          <p:cNvPicPr/>
          <p:nvPr/>
        </p:nvPicPr>
        <p:blipFill>
          <a:blip r:embed="rId8"/>
          <a:stretch/>
        </p:blipFill>
        <p:spPr>
          <a:xfrm>
            <a:off x="914400" y="4952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Click To Preview"/>
          <p:cNvPicPr/>
          <p:nvPr/>
        </p:nvPicPr>
        <p:blipFill>
          <a:blip r:embed="rId9"/>
          <a:stretch/>
        </p:blipFill>
        <p:spPr>
          <a:xfrm>
            <a:off x="7620120" y="41148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7"/>
          <p:cNvSpPr/>
          <p:nvPr/>
        </p:nvSpPr>
        <p:spPr>
          <a:xfrm>
            <a:off x="3809880" y="2743200"/>
            <a:ext cx="1524240" cy="3048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411480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4114800" y="5257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4114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DAB-1274-4849-92FD-C972033042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457200" y="182880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 (Internet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1765440" y="3409920"/>
            <a:ext cx="99036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413400" y="3409920"/>
            <a:ext cx="99072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2568600" y="38498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6364440" y="386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62611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137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517920" y="3638520"/>
            <a:ext cx="2286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397512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44323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4584600" y="3638520"/>
            <a:ext cx="7621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5651640" y="3638520"/>
            <a:ext cx="7596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588024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4280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2039760" y="3691080"/>
            <a:ext cx="505080" cy="353520"/>
            <a:chOff x="2039760" y="3691080"/>
            <a:chExt cx="505080" cy="353520"/>
          </a:xfrm>
        </p:grpSpPr>
        <p:sp>
          <p:nvSpPr>
            <p:cNvPr id="432" name="Freeform 18"/>
            <p:cNvSpPr/>
            <p:nvPr/>
          </p:nvSpPr>
          <p:spPr>
            <a:xfrm>
              <a:off x="203976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38140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27160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35" name="Text Box 21"/>
          <p:cNvSpPr/>
          <p:nvPr/>
        </p:nvSpPr>
        <p:spPr>
          <a:xfrm>
            <a:off x="3762720" y="2590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6" name="Picture 22" descr="Click To Preview"/>
          <p:cNvPicPr/>
          <p:nvPr/>
        </p:nvPicPr>
        <p:blipFill>
          <a:blip r:embed="rId1"/>
          <a:stretch/>
        </p:blipFill>
        <p:spPr>
          <a:xfrm>
            <a:off x="8001000" y="4648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3" descr="Click To Preview"/>
          <p:cNvPicPr/>
          <p:nvPr/>
        </p:nvPicPr>
        <p:blipFill>
          <a:blip r:embed="rId2"/>
          <a:stretch/>
        </p:blipFill>
        <p:spPr>
          <a:xfrm>
            <a:off x="609480" y="46022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4" descr="Click To Preview"/>
          <p:cNvPicPr/>
          <p:nvPr/>
        </p:nvPicPr>
        <p:blipFill>
          <a:blip r:embed="rId3"/>
          <a:stretch/>
        </p:blipFill>
        <p:spPr>
          <a:xfrm>
            <a:off x="6397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5" descr="Click To Preview"/>
          <p:cNvPicPr/>
          <p:nvPr/>
        </p:nvPicPr>
        <p:blipFill>
          <a:blip r:embed="rId4"/>
          <a:stretch/>
        </p:blipFill>
        <p:spPr>
          <a:xfrm>
            <a:off x="639720" y="23922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6" descr="Click To Preview"/>
          <p:cNvPicPr/>
          <p:nvPr/>
        </p:nvPicPr>
        <p:blipFill>
          <a:blip r:embed="rId5">
            <a:grayscl/>
          </a:blip>
          <a:stretch/>
        </p:blipFill>
        <p:spPr>
          <a:xfrm>
            <a:off x="8031240" y="2514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Click To Preview"/>
          <p:cNvPicPr/>
          <p:nvPr/>
        </p:nvPicPr>
        <p:blipFill>
          <a:blip r:embed="rId6"/>
          <a:stretch/>
        </p:blipFill>
        <p:spPr>
          <a:xfrm>
            <a:off x="8001000" y="3535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42" name="Line 28"/>
          <p:cNvSpPr/>
          <p:nvPr/>
        </p:nvSpPr>
        <p:spPr>
          <a:xfrm>
            <a:off x="2679840" y="40957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2679840" y="3638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45" name="Group 31"/>
          <p:cNvGrpSpPr/>
          <p:nvPr/>
        </p:nvGrpSpPr>
        <p:grpSpPr>
          <a:xfrm>
            <a:off x="1371600" y="2895480"/>
            <a:ext cx="914400" cy="2057040"/>
            <a:chOff x="1371600" y="2895480"/>
            <a:chExt cx="914400" cy="2057040"/>
          </a:xfrm>
        </p:grpSpPr>
        <p:sp>
          <p:nvSpPr>
            <p:cNvPr id="446" name="Line 32"/>
            <p:cNvSpPr/>
            <p:nvPr/>
          </p:nvSpPr>
          <p:spPr>
            <a:xfrm>
              <a:off x="1447920" y="289548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>
              <a:off x="1447920" y="388620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Line 34"/>
            <p:cNvSpPr/>
            <p:nvPr/>
          </p:nvSpPr>
          <p:spPr>
            <a:xfrm flipV="1">
              <a:off x="1371600" y="388584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49" name="Group 35"/>
          <p:cNvGrpSpPr/>
          <p:nvPr/>
        </p:nvGrpSpPr>
        <p:grpSpPr>
          <a:xfrm>
            <a:off x="7010280" y="2819520"/>
            <a:ext cx="914400" cy="2057040"/>
            <a:chOff x="7010280" y="2819520"/>
            <a:chExt cx="914400" cy="2057040"/>
          </a:xfrm>
        </p:grpSpPr>
        <p:sp>
          <p:nvSpPr>
            <p:cNvPr id="450" name="Line 36"/>
            <p:cNvSpPr/>
            <p:nvPr/>
          </p:nvSpPr>
          <p:spPr>
            <a:xfrm flipH="1" flipV="1">
              <a:off x="7010280" y="388584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H="1">
              <a:off x="7010280" y="388584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Line 38"/>
            <p:cNvSpPr/>
            <p:nvPr/>
          </p:nvSpPr>
          <p:spPr>
            <a:xfrm flipH="1">
              <a:off x="7010280" y="281952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53" name="Group 39"/>
          <p:cNvGrpSpPr/>
          <p:nvPr/>
        </p:nvGrpSpPr>
        <p:grpSpPr>
          <a:xfrm>
            <a:off x="6781680" y="3691080"/>
            <a:ext cx="505080" cy="353520"/>
            <a:chOff x="6781680" y="3691080"/>
            <a:chExt cx="505080" cy="353520"/>
          </a:xfrm>
        </p:grpSpPr>
        <p:sp>
          <p:nvSpPr>
            <p:cNvPr id="454" name="Freeform 40"/>
            <p:cNvSpPr/>
            <p:nvPr/>
          </p:nvSpPr>
          <p:spPr>
            <a:xfrm>
              <a:off x="678168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Line 41"/>
            <p:cNvSpPr/>
            <p:nvPr/>
          </p:nvSpPr>
          <p:spPr>
            <a:xfrm>
              <a:off x="712332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701352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501-A259-4752-8880-AEFDB5BEF1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e packets from differ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: resources used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ypes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bursty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1016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re self contain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lternate paths – re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CB68-956D-4D51-88A6-27C9FCCB20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30E-1909-4CF8-A35E-A3C9D50F824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472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76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5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5EE8-4A80-4901-AB49-39DD8BBFD2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9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12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513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17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Freeform 30"/>
          <p:cNvSpPr/>
          <p:nvPr/>
        </p:nvSpPr>
        <p:spPr>
          <a:xfrm>
            <a:off x="6173640" y="347832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Freeform 31"/>
          <p:cNvSpPr/>
          <p:nvPr/>
        </p:nvSpPr>
        <p:spPr>
          <a:xfrm>
            <a:off x="6553080" y="358128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Freeform 33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Freeform 34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Freeform 42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Freeform 43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Line 44"/>
          <p:cNvSpPr/>
          <p:nvPr/>
        </p:nvSpPr>
        <p:spPr>
          <a:xfrm flipH="1" flipV="1">
            <a:off x="6553080" y="3276720"/>
            <a:ext cx="76320" cy="3045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ter: node that connect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96C0-1029-49AB-A2A3-12F4FB1C16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translate between various network technolo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72D2-B419-4178-BD55-7A8C95128D4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9BF6-8734-483E-BA41-9219F1C87A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B47E-E219-475E-ACCD-084BEA76589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47E-ADE5-4C87-80C7-9C6F7A71CD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6DB-2826-42E0-B543-C877B9D77D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Find Nod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861720" y="33278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81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6315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19810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19810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72" name="Picture 9" descr="Computer5"/>
          <p:cNvPicPr/>
          <p:nvPr/>
        </p:nvPicPr>
        <p:blipFill>
          <a:blip r:embed="rId1"/>
          <a:stretch/>
        </p:blipFill>
        <p:spPr>
          <a:xfrm>
            <a:off x="907920" y="2895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Computer5"/>
          <p:cNvPicPr/>
          <p:nvPr/>
        </p:nvPicPr>
        <p:blipFill>
          <a:blip r:embed="rId2"/>
          <a:stretch/>
        </p:blipFill>
        <p:spPr>
          <a:xfrm>
            <a:off x="7238880" y="281952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574" name="Line 11"/>
          <p:cNvSpPr/>
          <p:nvPr/>
        </p:nvSpPr>
        <p:spPr>
          <a:xfrm>
            <a:off x="58672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76" name="Group 13"/>
          <p:cNvGrpSpPr/>
          <p:nvPr/>
        </p:nvGrpSpPr>
        <p:grpSpPr>
          <a:xfrm>
            <a:off x="3505320" y="2895480"/>
            <a:ext cx="1980360" cy="1370880"/>
            <a:chOff x="3505320" y="2895480"/>
            <a:chExt cx="1980360" cy="1370880"/>
          </a:xfrm>
        </p:grpSpPr>
        <p:sp>
          <p:nvSpPr>
            <p:cNvPr id="577" name="Freeform 14"/>
            <p:cNvSpPr/>
            <p:nvPr/>
          </p:nvSpPr>
          <p:spPr>
            <a:xfrm>
              <a:off x="4618080" y="2924280"/>
              <a:ext cx="867600" cy="664920"/>
            </a:xfrm>
            <a:custGeom>
              <a:avLst/>
              <a:gdLst>
                <a:gd name="textAreaLeft" fmla="*/ 0 w 867600"/>
                <a:gd name="textAreaRight" fmla="*/ 867960 w 867600"/>
                <a:gd name="textAreaTop" fmla="*/ 0 h 664920"/>
                <a:gd name="textAreaBottom" fmla="*/ 664920 h 66492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3505320" y="2895480"/>
              <a:ext cx="1122120" cy="688680"/>
            </a:xfrm>
            <a:custGeom>
              <a:avLst/>
              <a:gdLst>
                <a:gd name="textAreaLeft" fmla="*/ 0 w 1122120"/>
                <a:gd name="textAreaRight" fmla="*/ 1122120 w 112212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9" name="Freeform 16"/>
            <p:cNvSpPr/>
            <p:nvPr/>
          </p:nvSpPr>
          <p:spPr>
            <a:xfrm>
              <a:off x="3505320" y="3578400"/>
              <a:ext cx="852840" cy="66816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0" name="Freeform 17"/>
            <p:cNvSpPr/>
            <p:nvPr/>
          </p:nvSpPr>
          <p:spPr>
            <a:xfrm>
              <a:off x="4363560" y="3578400"/>
              <a:ext cx="1112760" cy="68796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81" name="Text Box 20"/>
          <p:cNvSpPr/>
          <p:nvPr/>
        </p:nvSpPr>
        <p:spPr>
          <a:xfrm>
            <a:off x="26668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aming and rou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59B7-FCF4-4759-97BE-911956E806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1905120" y="3352680"/>
            <a:ext cx="49831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996560" y="284868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 the IP address for www.cmu.edu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1981080" y="3809880"/>
            <a:ext cx="4927680" cy="0"/>
          </a:xfrm>
          <a:prstGeom prst="line">
            <a:avLst/>
          </a:prstGeom>
          <a:ln w="38160">
            <a:solidFill>
              <a:srgbClr val="c09e4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3240360" y="33516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8.2.11.4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846360" y="510552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human readable names to logical endpo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6208920" y="4266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DNS Serv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1" name="Picture 10" descr="Computer5"/>
          <p:cNvPicPr/>
          <p:nvPr/>
        </p:nvPicPr>
        <p:blipFill>
          <a:blip r:embed="rId1"/>
          <a:stretch/>
        </p:blipFill>
        <p:spPr>
          <a:xfrm>
            <a:off x="636480" y="2971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paketaro box"/>
          <p:cNvPicPr/>
          <p:nvPr/>
        </p:nvPicPr>
        <p:blipFill>
          <a:blip r:embed="rId2"/>
          <a:stretch/>
        </p:blipFill>
        <p:spPr>
          <a:xfrm>
            <a:off x="7238880" y="3048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459360" y="4266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CC5-2F37-44F7-92F8-3B25240FDD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o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 Who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: Srinivasan Se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s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ini@cs.c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: by ap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Zhuo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zhuoc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uoc [at] cs [at] cmu [dot] 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1574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479A-AEB8-46D0-AC79-72ABF99CB4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3048840" y="48776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3428280" y="34297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493520" y="51062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7009560" y="2896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1751760" y="29725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1217520" y="29725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1225440" y="464868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7770960" y="27439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1371600" y="541224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1682640" y="5410080"/>
            <a:ext cx="1461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1606680" y="4876920"/>
            <a:ext cx="222120" cy="152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2139840" y="4724280"/>
            <a:ext cx="69840" cy="1526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9" name="Line 16"/>
          <p:cNvSpPr/>
          <p:nvPr/>
        </p:nvSpPr>
        <p:spPr>
          <a:xfrm flipV="1">
            <a:off x="2666880" y="5029200"/>
            <a:ext cx="3873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0" name="AutoShape 17"/>
          <p:cNvCxnSpPr>
            <a:endCxn id="602" idx="2"/>
          </p:cNvCxnSpPr>
          <p:nvPr/>
        </p:nvCxnSpPr>
        <p:spPr>
          <a:xfrm flipH="1" rot="16200000">
            <a:off x="1126080" y="3070440"/>
            <a:ext cx="2520" cy="534240"/>
          </a:xfrm>
          <a:prstGeom prst="bentConnector3">
            <a:avLst>
              <a:gd name="adj1" fmla="val 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1" name="AutoShape 18"/>
          <p:cNvCxnSpPr>
            <a:stCxn id="602" idx="2"/>
            <a:endCxn id="601" idx="2"/>
          </p:cNvCxnSpPr>
          <p:nvPr/>
        </p:nvCxnSpPr>
        <p:spPr>
          <a:xfrm flipH="1" flipV="1" rot="5400000">
            <a:off x="1638720" y="3058560"/>
            <a:ext cx="34200" cy="52596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2" name="Line 19"/>
          <p:cNvSpPr/>
          <p:nvPr/>
        </p:nvSpPr>
        <p:spPr>
          <a:xfrm>
            <a:off x="1903320" y="3581280"/>
            <a:ext cx="152568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3" name="Line 20"/>
          <p:cNvSpPr/>
          <p:nvPr/>
        </p:nvSpPr>
        <p:spPr>
          <a:xfrm flipV="1">
            <a:off x="3351240" y="3733560"/>
            <a:ext cx="230040" cy="11430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Line 21"/>
          <p:cNvSpPr/>
          <p:nvPr/>
        </p:nvSpPr>
        <p:spPr>
          <a:xfrm flipH="1">
            <a:off x="5486040" y="3200400"/>
            <a:ext cx="1522440" cy="9144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5" name="AutoShape 22"/>
          <p:cNvCxnSpPr>
            <a:stCxn id="604" idx="1"/>
          </p:cNvCxnSpPr>
          <p:nvPr/>
        </p:nvCxnSpPr>
        <p:spPr>
          <a:xfrm flipH="1" flipV="1" rot="10800000">
            <a:off x="7770600" y="2924640"/>
            <a:ext cx="2160" cy="610200"/>
          </a:xfrm>
          <a:prstGeom prst="bentConnector3">
            <a:avLst>
              <a:gd name="adj1" fmla="val -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6" name="AutoShape 23"/>
          <p:cNvCxnSpPr>
            <a:stCxn id="604" idx="1"/>
            <a:endCxn id="600" idx="3"/>
          </p:cNvCxnSpPr>
          <p:nvPr/>
        </p:nvCxnSpPr>
        <p:spPr>
          <a:xfrm flipV="1" rot="10800000">
            <a:off x="7342920" y="2924640"/>
            <a:ext cx="428040" cy="137160"/>
          </a:xfrm>
          <a:prstGeom prst="bentConnector3">
            <a:avLst>
              <a:gd name="adj1" fmla="val 49747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7" name="AutoShape 24"/>
          <p:cNvSpPr/>
          <p:nvPr/>
        </p:nvSpPr>
        <p:spPr>
          <a:xfrm>
            <a:off x="1911960" y="44204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Line 25"/>
          <p:cNvSpPr/>
          <p:nvPr/>
        </p:nvSpPr>
        <p:spPr>
          <a:xfrm flipV="1">
            <a:off x="2209680" y="3733560"/>
            <a:ext cx="1371600" cy="6858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AutoShape 26"/>
          <p:cNvSpPr/>
          <p:nvPr/>
        </p:nvSpPr>
        <p:spPr>
          <a:xfrm>
            <a:off x="4571280" y="22104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AutoShape 27"/>
          <p:cNvSpPr/>
          <p:nvPr/>
        </p:nvSpPr>
        <p:spPr>
          <a:xfrm>
            <a:off x="4037040" y="221040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21" name="AutoShape 28"/>
          <p:cNvCxnSpPr>
            <a:stCxn id="620" idx="2"/>
            <a:endCxn id="619" idx="2"/>
          </p:cNvCxnSpPr>
          <p:nvPr/>
        </p:nvCxnSpPr>
        <p:spPr>
          <a:xfrm flipH="1" flipV="1" rot="5400000">
            <a:off x="4458960" y="2296440"/>
            <a:ext cx="34200" cy="52632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22" name="Line 29"/>
          <p:cNvSpPr/>
          <p:nvPr/>
        </p:nvSpPr>
        <p:spPr>
          <a:xfrm>
            <a:off x="4722840" y="2819520"/>
            <a:ext cx="534960" cy="121896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AutoShape 30"/>
          <p:cNvSpPr/>
          <p:nvPr/>
        </p:nvSpPr>
        <p:spPr>
          <a:xfrm>
            <a:off x="5180760" y="4039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Freeform 31"/>
          <p:cNvSpPr/>
          <p:nvPr/>
        </p:nvSpPr>
        <p:spPr>
          <a:xfrm>
            <a:off x="684360" y="3200400"/>
            <a:ext cx="1307880" cy="507960"/>
          </a:xfrm>
          <a:custGeom>
            <a:avLst/>
            <a:gdLst>
              <a:gd name="textAreaLeft" fmla="*/ 0 w 1307880"/>
              <a:gd name="textAreaRight" fmla="*/ 1307880 w 1307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824" h="320">
                <a:moveTo>
                  <a:pt x="48" y="96"/>
                </a:moveTo>
                <a:cubicBezTo>
                  <a:pt x="24" y="152"/>
                  <a:pt x="0" y="208"/>
                  <a:pt x="48" y="240"/>
                </a:cubicBezTo>
                <a:cubicBezTo>
                  <a:pt x="96" y="272"/>
                  <a:pt x="232" y="280"/>
                  <a:pt x="336" y="288"/>
                </a:cubicBezTo>
                <a:cubicBezTo>
                  <a:pt x="440" y="296"/>
                  <a:pt x="608" y="320"/>
                  <a:pt x="672" y="288"/>
                </a:cubicBezTo>
                <a:cubicBezTo>
                  <a:pt x="736" y="256"/>
                  <a:pt x="712" y="136"/>
                  <a:pt x="720" y="96"/>
                </a:cubicBezTo>
                <a:cubicBezTo>
                  <a:pt x="728" y="56"/>
                  <a:pt x="712" y="64"/>
                  <a:pt x="720" y="48"/>
                </a:cubicBezTo>
                <a:cubicBezTo>
                  <a:pt x="728" y="32"/>
                  <a:pt x="752" y="0"/>
                  <a:pt x="768" y="0"/>
                </a:cubicBezTo>
                <a:cubicBezTo>
                  <a:pt x="784" y="0"/>
                  <a:pt x="808" y="32"/>
                  <a:pt x="816" y="48"/>
                </a:cubicBezTo>
                <a:cubicBezTo>
                  <a:pt x="824" y="64"/>
                  <a:pt x="820" y="80"/>
                  <a:pt x="816" y="9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Freeform 32"/>
          <p:cNvSpPr/>
          <p:nvPr/>
        </p:nvSpPr>
        <p:spPr>
          <a:xfrm>
            <a:off x="1836720" y="3009960"/>
            <a:ext cx="5934240" cy="1128600"/>
          </a:xfrm>
          <a:custGeom>
            <a:avLst/>
            <a:gdLst>
              <a:gd name="textAreaLeft" fmla="*/ 0 w 5934240"/>
              <a:gd name="textAreaRight" fmla="*/ 5934600 w 59342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3738" h="711">
                <a:moveTo>
                  <a:pt x="90" y="216"/>
                </a:moveTo>
                <a:cubicBezTo>
                  <a:pt x="58" y="256"/>
                  <a:pt x="0" y="318"/>
                  <a:pt x="90" y="360"/>
                </a:cubicBezTo>
                <a:cubicBezTo>
                  <a:pt x="180" y="402"/>
                  <a:pt x="476" y="453"/>
                  <a:pt x="628" y="469"/>
                </a:cubicBezTo>
                <a:cubicBezTo>
                  <a:pt x="780" y="485"/>
                  <a:pt x="900" y="466"/>
                  <a:pt x="1002" y="456"/>
                </a:cubicBezTo>
                <a:cubicBezTo>
                  <a:pt x="1104" y="446"/>
                  <a:pt x="1162" y="406"/>
                  <a:pt x="1242" y="408"/>
                </a:cubicBezTo>
                <a:cubicBezTo>
                  <a:pt x="1322" y="410"/>
                  <a:pt x="1367" y="432"/>
                  <a:pt x="1485" y="469"/>
                </a:cubicBezTo>
                <a:cubicBezTo>
                  <a:pt x="1603" y="506"/>
                  <a:pt x="1854" y="593"/>
                  <a:pt x="1953" y="630"/>
                </a:cubicBezTo>
                <a:cubicBezTo>
                  <a:pt x="2052" y="667"/>
                  <a:pt x="2033" y="677"/>
                  <a:pt x="2077" y="689"/>
                </a:cubicBezTo>
                <a:cubicBezTo>
                  <a:pt x="2121" y="701"/>
                  <a:pt x="2168" y="711"/>
                  <a:pt x="2216" y="704"/>
                </a:cubicBezTo>
                <a:cubicBezTo>
                  <a:pt x="2264" y="697"/>
                  <a:pt x="2309" y="679"/>
                  <a:pt x="2363" y="645"/>
                </a:cubicBezTo>
                <a:cubicBezTo>
                  <a:pt x="2417" y="611"/>
                  <a:pt x="2483" y="543"/>
                  <a:pt x="2538" y="499"/>
                </a:cubicBezTo>
                <a:cubicBezTo>
                  <a:pt x="2593" y="455"/>
                  <a:pt x="2615" y="433"/>
                  <a:pt x="2692" y="382"/>
                </a:cubicBezTo>
                <a:cubicBezTo>
                  <a:pt x="2769" y="331"/>
                  <a:pt x="2915" y="240"/>
                  <a:pt x="2999" y="191"/>
                </a:cubicBezTo>
                <a:cubicBezTo>
                  <a:pt x="3083" y="142"/>
                  <a:pt x="3130" y="117"/>
                  <a:pt x="3197" y="89"/>
                </a:cubicBezTo>
                <a:cubicBezTo>
                  <a:pt x="3264" y="61"/>
                  <a:pt x="3344" y="35"/>
                  <a:pt x="3402" y="24"/>
                </a:cubicBezTo>
                <a:cubicBezTo>
                  <a:pt x="3460" y="13"/>
                  <a:pt x="3514" y="0"/>
                  <a:pt x="3546" y="24"/>
                </a:cubicBezTo>
                <a:cubicBezTo>
                  <a:pt x="3578" y="48"/>
                  <a:pt x="3586" y="120"/>
                  <a:pt x="3594" y="168"/>
                </a:cubicBezTo>
                <a:cubicBezTo>
                  <a:pt x="3602" y="216"/>
                  <a:pt x="3570" y="288"/>
                  <a:pt x="3594" y="312"/>
                </a:cubicBezTo>
                <a:cubicBezTo>
                  <a:pt x="3618" y="336"/>
                  <a:pt x="3678" y="324"/>
                  <a:pt x="3738" y="31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Line 33"/>
          <p:cNvSpPr/>
          <p:nvPr/>
        </p:nvSpPr>
        <p:spPr>
          <a:xfrm flipH="1">
            <a:off x="2055600" y="2438280"/>
            <a:ext cx="306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Line 34"/>
          <p:cNvSpPr/>
          <p:nvPr/>
        </p:nvSpPr>
        <p:spPr>
          <a:xfrm>
            <a:off x="2666880" y="2438280"/>
            <a:ext cx="760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1752480" y="1752480"/>
            <a:ext cx="1447920" cy="733320"/>
          </a:xfrm>
          <a:prstGeom prst="rect">
            <a:avLst/>
          </a:prstGeom>
          <a:solidFill>
            <a:srgbClr val="fe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s send packet towards 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Line 36"/>
          <p:cNvSpPr/>
          <p:nvPr/>
        </p:nvSpPr>
        <p:spPr>
          <a:xfrm flipH="1" flipV="1">
            <a:off x="8838720" y="1294920"/>
            <a:ext cx="30492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37"/>
          <p:cNvSpPr/>
          <p:nvPr/>
        </p:nvSpPr>
        <p:spPr>
          <a:xfrm>
            <a:off x="3352680" y="5105520"/>
            <a:ext cx="1143000" cy="228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38"/>
          <p:cNvSpPr/>
          <p:nvPr/>
        </p:nvSpPr>
        <p:spPr>
          <a:xfrm flipH="1" flipV="1">
            <a:off x="3733920" y="3733920"/>
            <a:ext cx="914400" cy="1371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39"/>
          <p:cNvSpPr/>
          <p:nvPr/>
        </p:nvSpPr>
        <p:spPr>
          <a:xfrm flipH="1">
            <a:off x="4800600" y="4267080"/>
            <a:ext cx="380880" cy="8384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40"/>
          <p:cNvSpPr/>
          <p:nvPr/>
        </p:nvSpPr>
        <p:spPr>
          <a:xfrm flipH="1" flipV="1">
            <a:off x="4876920" y="2438280"/>
            <a:ext cx="2133360" cy="6098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 flipH="1" flipV="1">
            <a:off x="3733560" y="3733920"/>
            <a:ext cx="1447560" cy="38088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Text Box 42"/>
          <p:cNvSpPr/>
          <p:nvPr/>
        </p:nvSpPr>
        <p:spPr>
          <a:xfrm>
            <a:off x="7552440" y="4991040"/>
            <a:ext cx="1271880" cy="7855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Host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: Router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36" name="Picture 43" descr="Computer5"/>
          <p:cNvPicPr/>
          <p:nvPr/>
        </p:nvPicPr>
        <p:blipFill>
          <a:blip r:embed="rId1"/>
          <a:stretch/>
        </p:blipFill>
        <p:spPr>
          <a:xfrm>
            <a:off x="457200" y="2709720"/>
            <a:ext cx="731880" cy="642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4" descr="paketaro box"/>
          <p:cNvPicPr/>
          <p:nvPr/>
        </p:nvPicPr>
        <p:blipFill>
          <a:blip r:embed="rId2"/>
          <a:stretch/>
        </p:blipFill>
        <p:spPr>
          <a:xfrm>
            <a:off x="7696080" y="32004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5"/>
          <p:cNvGrpSpPr/>
          <p:nvPr/>
        </p:nvGrpSpPr>
        <p:grpSpPr>
          <a:xfrm>
            <a:off x="1739880" y="4876920"/>
            <a:ext cx="1003320" cy="745920"/>
            <a:chOff x="1739880" y="4876920"/>
            <a:chExt cx="1003320" cy="745920"/>
          </a:xfrm>
        </p:grpSpPr>
        <p:sp>
          <p:nvSpPr>
            <p:cNvPr id="639" name="Freeform 46"/>
            <p:cNvSpPr/>
            <p:nvPr/>
          </p:nvSpPr>
          <p:spPr>
            <a:xfrm>
              <a:off x="2303640" y="489276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0" name="Freeform 47"/>
            <p:cNvSpPr/>
            <p:nvPr/>
          </p:nvSpPr>
          <p:spPr>
            <a:xfrm>
              <a:off x="1739880" y="487692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1" name="Freeform 48"/>
            <p:cNvSpPr/>
            <p:nvPr/>
          </p:nvSpPr>
          <p:spPr>
            <a:xfrm>
              <a:off x="1739880" y="524844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2" name="Freeform 49"/>
            <p:cNvSpPr/>
            <p:nvPr/>
          </p:nvSpPr>
          <p:spPr>
            <a:xfrm>
              <a:off x="2174760" y="524844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C92-AF75-4017-BBD2-47FB29B8E7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eting Application Deman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and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8014-331B-4C73-9263-DFA22DCC83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457200" y="388620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Corrupt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1981080" y="2424240"/>
            <a:ext cx="1503360" cy="61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64660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5375160" y="22392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828800" y="2743200"/>
            <a:ext cx="1515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57200" y="3886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57" name="Picture 12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paketaro box"/>
          <p:cNvPicPr/>
          <p:nvPr/>
        </p:nvPicPr>
        <p:blipFill>
          <a:blip r:embed="rId2"/>
          <a:stretch/>
        </p:blipFill>
        <p:spPr>
          <a:xfrm>
            <a:off x="7391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Data Corrup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7,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4038480" y="4876920"/>
            <a:ext cx="3812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1" name="Rectangle 26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2" name="Rectangle 27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3" name="Picture 28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9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0"/>
          <p:cNvGrpSpPr/>
          <p:nvPr/>
        </p:nvGrpSpPr>
        <p:grpSpPr>
          <a:xfrm>
            <a:off x="3657600" y="2133720"/>
            <a:ext cx="1675800" cy="1066320"/>
            <a:chOff x="3657600" y="2133720"/>
            <a:chExt cx="1675800" cy="1066320"/>
          </a:xfrm>
        </p:grpSpPr>
        <p:sp>
          <p:nvSpPr>
            <p:cNvPr id="676" name="Freeform 31"/>
            <p:cNvSpPr/>
            <p:nvPr/>
          </p:nvSpPr>
          <p:spPr>
            <a:xfrm>
              <a:off x="4599360" y="2156040"/>
              <a:ext cx="734040" cy="51696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7" name="Freeform 32"/>
            <p:cNvSpPr/>
            <p:nvPr/>
          </p:nvSpPr>
          <p:spPr>
            <a:xfrm>
              <a:off x="3657600" y="2133720"/>
              <a:ext cx="949680" cy="5356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8" name="Freeform 33"/>
            <p:cNvSpPr/>
            <p:nvPr/>
          </p:nvSpPr>
          <p:spPr>
            <a:xfrm>
              <a:off x="3657600" y="2664720"/>
              <a:ext cx="721440" cy="51984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9" name="Freeform 34"/>
            <p:cNvSpPr/>
            <p:nvPr/>
          </p:nvSpPr>
          <p:spPr>
            <a:xfrm>
              <a:off x="4384080" y="2664720"/>
              <a:ext cx="941760" cy="53532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80" name="Text Box 35"/>
          <p:cNvSpPr/>
          <p:nvPr/>
        </p:nvSpPr>
        <p:spPr>
          <a:xfrm>
            <a:off x="5005440" y="4343400"/>
            <a:ext cx="6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037-A16C-4150-AD0D-B83DFA6A9FD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Network is Overload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533520" y="1600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Network Overloa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bursts: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buffer overfl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justs rate until load = resourc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533520" y="403848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ing and Congestion Contr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89" name="Group 9"/>
          <p:cNvGrpSpPr/>
          <p:nvPr/>
        </p:nvGrpSpPr>
        <p:grpSpPr>
          <a:xfrm>
            <a:off x="3429000" y="2286000"/>
            <a:ext cx="5056200" cy="1014120"/>
            <a:chOff x="3429000" y="2286000"/>
            <a:chExt cx="5056200" cy="1014120"/>
          </a:xfrm>
        </p:grpSpPr>
        <p:sp>
          <p:nvSpPr>
            <p:cNvPr id="690" name="Oval 10"/>
            <p:cNvSpPr/>
            <p:nvPr/>
          </p:nvSpPr>
          <p:spPr>
            <a:xfrm>
              <a:off x="3429000" y="2286000"/>
              <a:ext cx="990720" cy="914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4232520" y="2762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2" name="Line 12"/>
            <p:cNvSpPr/>
            <p:nvPr/>
          </p:nvSpPr>
          <p:spPr>
            <a:xfrm>
              <a:off x="8028000" y="2739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3" name="Rectangle 13"/>
            <p:cNvSpPr/>
            <p:nvPr/>
          </p:nvSpPr>
          <p:spPr>
            <a:xfrm>
              <a:off x="7912080" y="2514600"/>
              <a:ext cx="7632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4" name="Rectangle 14"/>
            <p:cNvSpPr/>
            <p:nvPr/>
          </p:nvSpPr>
          <p:spPr>
            <a:xfrm>
              <a:off x="39499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5" name="Rectangle 15"/>
            <p:cNvSpPr/>
            <p:nvPr/>
          </p:nvSpPr>
          <p:spPr>
            <a:xfrm>
              <a:off x="5181840" y="2514600"/>
              <a:ext cx="22860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6" name="Rectangle 16"/>
            <p:cNvSpPr/>
            <p:nvPr/>
          </p:nvSpPr>
          <p:spPr>
            <a:xfrm>
              <a:off x="539748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7" name="Rectangle 17"/>
            <p:cNvSpPr/>
            <p:nvPr/>
          </p:nvSpPr>
          <p:spPr>
            <a:xfrm>
              <a:off x="6235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8" name="Rectangle 18"/>
            <p:cNvSpPr/>
            <p:nvPr/>
          </p:nvSpPr>
          <p:spPr>
            <a:xfrm>
              <a:off x="6540480" y="2514600"/>
              <a:ext cx="76212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9" name="Rectangle 19"/>
            <p:cNvSpPr/>
            <p:nvPr/>
          </p:nvSpPr>
          <p:spPr>
            <a:xfrm>
              <a:off x="7315200" y="2514600"/>
              <a:ext cx="763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0" name="Rectangle 20"/>
            <p:cNvSpPr/>
            <p:nvPr/>
          </p:nvSpPr>
          <p:spPr>
            <a:xfrm>
              <a:off x="753120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1" name="Rectangle 21"/>
            <p:cNvSpPr/>
            <p:nvPr/>
          </p:nvSpPr>
          <p:spPr>
            <a:xfrm>
              <a:off x="57787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2" name="Rectangle 22"/>
            <p:cNvSpPr/>
            <p:nvPr/>
          </p:nvSpPr>
          <p:spPr>
            <a:xfrm>
              <a:off x="5092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3" name="Rectangle 23"/>
            <p:cNvSpPr/>
            <p:nvPr/>
          </p:nvSpPr>
          <p:spPr>
            <a:xfrm>
              <a:off x="494028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4" name="Rectangle 24"/>
            <p:cNvSpPr/>
            <p:nvPr/>
          </p:nvSpPr>
          <p:spPr>
            <a:xfrm>
              <a:off x="472464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5" name="Rectangle 25"/>
            <p:cNvSpPr/>
            <p:nvPr/>
          </p:nvSpPr>
          <p:spPr>
            <a:xfrm>
              <a:off x="5626080" y="2533680"/>
              <a:ext cx="15264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6" name="Rectangle 26"/>
            <p:cNvSpPr/>
            <p:nvPr/>
          </p:nvSpPr>
          <p:spPr>
            <a:xfrm>
              <a:off x="737892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7" name="Rectangle 27"/>
            <p:cNvSpPr/>
            <p:nvPr/>
          </p:nvSpPr>
          <p:spPr>
            <a:xfrm>
              <a:off x="585468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600732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9" name="Rectangle 29"/>
            <p:cNvSpPr/>
            <p:nvPr/>
          </p:nvSpPr>
          <p:spPr>
            <a:xfrm>
              <a:off x="775980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0" name="Rectangle 30"/>
            <p:cNvSpPr/>
            <p:nvPr/>
          </p:nvSpPr>
          <p:spPr>
            <a:xfrm>
              <a:off x="631188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1" name="Rectangle 31"/>
            <p:cNvSpPr/>
            <p:nvPr/>
          </p:nvSpPr>
          <p:spPr>
            <a:xfrm>
              <a:off x="40258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2" name="Rectangle 32"/>
            <p:cNvSpPr/>
            <p:nvPr/>
          </p:nvSpPr>
          <p:spPr>
            <a:xfrm>
              <a:off x="40258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3" name="Rectangle 33"/>
            <p:cNvSpPr/>
            <p:nvPr/>
          </p:nvSpPr>
          <p:spPr>
            <a:xfrm>
              <a:off x="37213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4" name="Rectangle 34"/>
            <p:cNvSpPr/>
            <p:nvPr/>
          </p:nvSpPr>
          <p:spPr>
            <a:xfrm>
              <a:off x="37972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5" name="Rectangle 35"/>
            <p:cNvSpPr/>
            <p:nvPr/>
          </p:nvSpPr>
          <p:spPr>
            <a:xfrm>
              <a:off x="37972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6" name="Freeform 36"/>
            <p:cNvSpPr/>
            <p:nvPr/>
          </p:nvSpPr>
          <p:spPr>
            <a:xfrm>
              <a:off x="3673440" y="2610000"/>
              <a:ext cx="505080" cy="3045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7" name="Rectangle 37"/>
            <p:cNvSpPr/>
            <p:nvPr/>
          </p:nvSpPr>
          <p:spPr>
            <a:xfrm rot="1080000">
              <a:off x="3644640" y="2990880"/>
              <a:ext cx="76320" cy="304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8" name="Rectangle 38"/>
            <p:cNvSpPr/>
            <p:nvPr/>
          </p:nvSpPr>
          <p:spPr>
            <a:xfrm rot="21300000">
              <a:off x="3492720" y="2990880"/>
              <a:ext cx="7596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9" name="Rectangle 39"/>
            <p:cNvSpPr/>
            <p:nvPr/>
          </p:nvSpPr>
          <p:spPr>
            <a:xfrm rot="20760000">
              <a:off x="3568680" y="2761920"/>
              <a:ext cx="7632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0" name="Rectangle 40"/>
            <p:cNvSpPr/>
            <p:nvPr/>
          </p:nvSpPr>
          <p:spPr>
            <a:xfrm>
              <a:off x="48643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41"/>
            <p:cNvSpPr/>
            <p:nvPr/>
          </p:nvSpPr>
          <p:spPr>
            <a:xfrm>
              <a:off x="4343400" y="299088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42"/>
            <p:cNvSpPr/>
            <p:nvPr/>
          </p:nvSpPr>
          <p:spPr>
            <a:xfrm>
              <a:off x="4343400" y="251460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723" name="Picture 43" descr="Click To Preview"/>
          <p:cNvPicPr/>
          <p:nvPr/>
        </p:nvPicPr>
        <p:blipFill>
          <a:blip r:embed="rId1"/>
          <a:stretch/>
        </p:blipFill>
        <p:spPr>
          <a:xfrm>
            <a:off x="1676520" y="2895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4" descr="Click To Preview"/>
          <p:cNvPicPr/>
          <p:nvPr/>
        </p:nvPicPr>
        <p:blipFill>
          <a:blip r:embed="rId2"/>
          <a:stretch/>
        </p:blipFill>
        <p:spPr>
          <a:xfrm>
            <a:off x="716040" y="2438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5" descr="Click To Preview"/>
          <p:cNvPicPr/>
          <p:nvPr/>
        </p:nvPicPr>
        <p:blipFill>
          <a:blip r:embed="rId3"/>
          <a:stretch/>
        </p:blipFill>
        <p:spPr>
          <a:xfrm>
            <a:off x="1600200" y="19051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26" name="Line 46"/>
          <p:cNvSpPr/>
          <p:nvPr/>
        </p:nvSpPr>
        <p:spPr>
          <a:xfrm>
            <a:off x="2362320" y="2362320"/>
            <a:ext cx="990360" cy="425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536840" y="2787480"/>
            <a:ext cx="1815840" cy="0"/>
          </a:xfrm>
          <a:prstGeom prst="line">
            <a:avLst/>
          </a:prstGeom>
          <a:ln w="9360">
            <a:solidFill>
              <a:srgbClr val="c09e4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Line 48"/>
          <p:cNvSpPr/>
          <p:nvPr/>
        </p:nvSpPr>
        <p:spPr>
          <a:xfrm flipV="1">
            <a:off x="2438280" y="2787120"/>
            <a:ext cx="914400" cy="41292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096A-AF54-404A-836E-6C02F4189A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Los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Line 5"/>
          <p:cNvSpPr/>
          <p:nvPr/>
        </p:nvSpPr>
        <p:spPr>
          <a:xfrm>
            <a:off x="198108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35" name="Picture 7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8" descr="paketaro box"/>
          <p:cNvPicPr/>
          <p:nvPr/>
        </p:nvPicPr>
        <p:blipFill>
          <a:blip r:embed="rId2"/>
          <a:stretch/>
        </p:blipFill>
        <p:spPr>
          <a:xfrm>
            <a:off x="7364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9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Lost Dat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3954240" y="4906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1752480" y="567216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1579680" y="51678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42" name="Picture 14" descr="Computer5"/>
          <p:cNvPicPr/>
          <p:nvPr/>
        </p:nvPicPr>
        <p:blipFill>
          <a:blip r:embed="rId3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5" descr="paketaro box"/>
          <p:cNvPicPr/>
          <p:nvPr/>
        </p:nvPicPr>
        <p:blipFill>
          <a:blip r:embed="rId4"/>
          <a:stretch/>
        </p:blipFill>
        <p:spPr>
          <a:xfrm>
            <a:off x="736452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6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imeout and Retransmi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5646600" y="518148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5467320" y="46774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1752480" y="5029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1579680" y="4525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49" name="Group 21"/>
          <p:cNvGrpSpPr/>
          <p:nvPr/>
        </p:nvGrpSpPr>
        <p:grpSpPr>
          <a:xfrm>
            <a:off x="3809880" y="2209680"/>
            <a:ext cx="1447200" cy="990360"/>
            <a:chOff x="3809880" y="2209680"/>
            <a:chExt cx="1447200" cy="990360"/>
          </a:xfrm>
        </p:grpSpPr>
        <p:sp>
          <p:nvSpPr>
            <p:cNvPr id="750" name="Freeform 22"/>
            <p:cNvSpPr/>
            <p:nvPr/>
          </p:nvSpPr>
          <p:spPr>
            <a:xfrm>
              <a:off x="4623120" y="223056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1" name="Freeform 23"/>
            <p:cNvSpPr/>
            <p:nvPr/>
          </p:nvSpPr>
          <p:spPr>
            <a:xfrm>
              <a:off x="3809880" y="2209680"/>
              <a:ext cx="820080" cy="49752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2" name="Freeform 24"/>
            <p:cNvSpPr/>
            <p:nvPr/>
          </p:nvSpPr>
          <p:spPr>
            <a:xfrm>
              <a:off x="3809880" y="2702880"/>
              <a:ext cx="623160" cy="48276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3" name="Freeform 25"/>
            <p:cNvSpPr/>
            <p:nvPr/>
          </p:nvSpPr>
          <p:spPr>
            <a:xfrm>
              <a:off x="4437360" y="2702880"/>
              <a:ext cx="813240" cy="49716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754" name="Group 26"/>
          <p:cNvGrpSpPr/>
          <p:nvPr/>
        </p:nvGrpSpPr>
        <p:grpSpPr>
          <a:xfrm>
            <a:off x="3809880" y="4648320"/>
            <a:ext cx="1447200" cy="990000"/>
            <a:chOff x="3809880" y="4648320"/>
            <a:chExt cx="1447200" cy="990000"/>
          </a:xfrm>
        </p:grpSpPr>
        <p:sp>
          <p:nvSpPr>
            <p:cNvPr id="755" name="Freeform 27"/>
            <p:cNvSpPr/>
            <p:nvPr/>
          </p:nvSpPr>
          <p:spPr>
            <a:xfrm>
              <a:off x="4623120" y="466920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3809880" y="4648320"/>
              <a:ext cx="820080" cy="49716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3809880" y="5141520"/>
              <a:ext cx="623160" cy="48240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437360" y="5141520"/>
              <a:ext cx="813240" cy="49680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1AAC-FB6E-40A6-A039-3C57EB097A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Packet siz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Fragment data across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Doesn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 Fi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09480" y="19810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thernet, max IP packet is 1.5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eb page is 10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61722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Rectangle 9"/>
          <p:cNvSpPr/>
          <p:nvPr/>
        </p:nvSpPr>
        <p:spPr>
          <a:xfrm>
            <a:off x="48006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Rectangle 10"/>
          <p:cNvSpPr/>
          <p:nvPr/>
        </p:nvSpPr>
        <p:spPr>
          <a:xfrm>
            <a:off x="34290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20574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0" name="Line 12"/>
          <p:cNvSpPr/>
          <p:nvPr/>
        </p:nvSpPr>
        <p:spPr>
          <a:xfrm>
            <a:off x="15238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Line 13"/>
          <p:cNvSpPr/>
          <p:nvPr/>
        </p:nvSpPr>
        <p:spPr>
          <a:xfrm>
            <a:off x="28954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>
            <a:off x="42670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3" name="Line 15"/>
          <p:cNvSpPr/>
          <p:nvPr/>
        </p:nvSpPr>
        <p:spPr>
          <a:xfrm>
            <a:off x="56386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Line 16"/>
          <p:cNvSpPr/>
          <p:nvPr/>
        </p:nvSpPr>
        <p:spPr>
          <a:xfrm>
            <a:off x="70102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6896160" y="5668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76" name="Picture 18" descr="Computer5"/>
          <p:cNvPicPr/>
          <p:nvPr/>
        </p:nvPicPr>
        <p:blipFill>
          <a:blip r:embed="rId1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9" descr="paketaro box"/>
          <p:cNvPicPr/>
          <p:nvPr/>
        </p:nvPicPr>
        <p:blipFill>
          <a:blip r:embed="rId2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28D-533E-45BB-AC32-C431106D144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53352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Sequence Numb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Out of Order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is Out of Order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61722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48006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34290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20574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15238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954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42670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56386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6934320" y="3031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T x.htinde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7086600" y="56980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2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3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4"/>
          <p:cNvSpPr/>
          <p:nvPr/>
        </p:nvSpPr>
        <p:spPr>
          <a:xfrm>
            <a:off x="403848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Line 25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Line 28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Rectangle 30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08" name="Picture 31" descr="Computer5"/>
          <p:cNvPicPr/>
          <p:nvPr/>
        </p:nvPicPr>
        <p:blipFill>
          <a:blip r:embed="rId1"/>
          <a:stretch/>
        </p:blipFill>
        <p:spPr>
          <a:xfrm>
            <a:off x="609480" y="1882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2" descr="paketaro box"/>
          <p:cNvPicPr/>
          <p:nvPr/>
        </p:nvPicPr>
        <p:blipFill>
          <a:blip r:embed="rId2"/>
          <a:stretch/>
        </p:blipFill>
        <p:spPr>
          <a:xfrm>
            <a:off x="7543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3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4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3DF-6051-442A-A20B-368A67FA8A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ts of Functions Need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x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/naming (locating pe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634C-65D7-4A6A-BF7F-83D413AA49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Layer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approach to network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2133720" y="4648320"/>
            <a:ext cx="480060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hardwa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2133720" y="4038480"/>
            <a:ext cx="480060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2133720" y="3429000"/>
            <a:ext cx="480060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to-application channel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2133720" y="2819520"/>
            <a:ext cx="48006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399D-F6E4-449A-8A50-55F6829036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in layer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ules governing communication between network elements (applications, hosts, ro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higher layers (AP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p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and order o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aken on receipt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5FA-BA30-420C-AA70-207D4D072C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tate-of-the-art in network protocols, architecture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networking research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he typical constraints and thought processes used in network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lass different from undergraduate networking (15-4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twork programmers vs. training network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655-A8AC-41C2-96DE-3BEAB9057E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 Characterist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relies on services from layer below and exports services to lay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fines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s implementation - layers can change without disturbing other layers (black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AFAA-6710-4A02-B71C-37AE75B9B8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9" name="Rectangle 39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35" name="Group 9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836" name="Rectangle 10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37" name="Rectangle 11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838" name="Group 12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839" name="Rectangle 13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41" name="Text Box 15"/>
          <p:cNvSpPr/>
          <p:nvPr/>
        </p:nvSpPr>
        <p:spPr>
          <a:xfrm>
            <a:off x="815040" y="53323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7469640" y="525636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2438280" y="32004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Line 1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Line 20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Text Box 21"/>
          <p:cNvSpPr/>
          <p:nvPr/>
        </p:nvSpPr>
        <p:spPr>
          <a:xfrm>
            <a:off x="3661560" y="28940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3812760" y="36561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Text Box 23"/>
          <p:cNvSpPr/>
          <p:nvPr/>
        </p:nvSpPr>
        <p:spPr>
          <a:xfrm>
            <a:off x="3867120" y="4189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24"/>
          <p:cNvSpPr/>
          <p:nvPr/>
        </p:nvSpPr>
        <p:spPr>
          <a:xfrm>
            <a:off x="4041000" y="4648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2438280" y="396252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Line 26"/>
          <p:cNvSpPr/>
          <p:nvPr/>
        </p:nvSpPr>
        <p:spPr>
          <a:xfrm>
            <a:off x="2438280" y="45720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Line 27"/>
          <p:cNvSpPr/>
          <p:nvPr/>
        </p:nvSpPr>
        <p:spPr>
          <a:xfrm>
            <a:off x="2438280" y="495288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Line 28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Line 29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Text Box 30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31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Text Box 35"/>
          <p:cNvSpPr/>
          <p:nvPr/>
        </p:nvSpPr>
        <p:spPr>
          <a:xfrm>
            <a:off x="1371240" y="57643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ing: technique to simplify complex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A61-9015-4B55-863B-9234E2E6EC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.g.: OSI Model: 7 Protocol Laye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520" y="1369800"/>
            <a:ext cx="8001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:  how to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nk: how to transmit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: how to rou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how to send packets end2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: how to tie flow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: byte ordering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ever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16B7-1875-4FA2-A8AD-767EA048E3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3" name="Rectangle 41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SI Layers and Loc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Rectangle 5"/>
          <p:cNvSpPr/>
          <p:nvPr/>
        </p:nvSpPr>
        <p:spPr>
          <a:xfrm>
            <a:off x="198108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198108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733920" y="4648320"/>
            <a:ext cx="144756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5411880" y="373392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541188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198108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198108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4116240" y="52578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5736240" y="52833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2380680" y="52689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7552800" y="52833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 flipV="1">
            <a:off x="403848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>
            <a:off x="487692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Text Box 37"/>
          <p:cNvSpPr/>
          <p:nvPr/>
        </p:nvSpPr>
        <p:spPr>
          <a:xfrm>
            <a:off x="683280" y="22096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38"/>
          <p:cNvSpPr/>
          <p:nvPr/>
        </p:nvSpPr>
        <p:spPr>
          <a:xfrm>
            <a:off x="685800" y="3429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39"/>
          <p:cNvSpPr/>
          <p:nvPr/>
        </p:nvSpPr>
        <p:spPr>
          <a:xfrm>
            <a:off x="686160" y="3809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40"/>
          <p:cNvSpPr/>
          <p:nvPr/>
        </p:nvSpPr>
        <p:spPr>
          <a:xfrm>
            <a:off x="685080" y="42670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198108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198108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45"/>
          <p:cNvSpPr/>
          <p:nvPr/>
        </p:nvSpPr>
        <p:spPr>
          <a:xfrm>
            <a:off x="683280" y="26668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46"/>
          <p:cNvSpPr/>
          <p:nvPr/>
        </p:nvSpPr>
        <p:spPr>
          <a:xfrm>
            <a:off x="684360" y="3048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54"/>
          <p:cNvSpPr/>
          <p:nvPr/>
        </p:nvSpPr>
        <p:spPr>
          <a:xfrm>
            <a:off x="5791320" y="3962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1981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Line 27"/>
          <p:cNvSpPr/>
          <p:nvPr/>
        </p:nvSpPr>
        <p:spPr>
          <a:xfrm>
            <a:off x="2666880" y="49528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2666880" y="198108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Text Box 58"/>
          <p:cNvSpPr/>
          <p:nvPr/>
        </p:nvSpPr>
        <p:spPr>
          <a:xfrm>
            <a:off x="685080" y="47242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3" name="Rectangle 75"/>
          <p:cNvSpPr/>
          <p:nvPr/>
        </p:nvSpPr>
        <p:spPr>
          <a:xfrm>
            <a:off x="708660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4" name="Rectangle 76"/>
          <p:cNvSpPr/>
          <p:nvPr/>
        </p:nvSpPr>
        <p:spPr>
          <a:xfrm>
            <a:off x="708660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77"/>
          <p:cNvSpPr/>
          <p:nvPr/>
        </p:nvSpPr>
        <p:spPr>
          <a:xfrm>
            <a:off x="708660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Rectangle 78"/>
          <p:cNvSpPr/>
          <p:nvPr/>
        </p:nvSpPr>
        <p:spPr>
          <a:xfrm>
            <a:off x="708660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7" name="Rectangle 79"/>
          <p:cNvSpPr/>
          <p:nvPr/>
        </p:nvSpPr>
        <p:spPr>
          <a:xfrm>
            <a:off x="708660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80"/>
          <p:cNvSpPr/>
          <p:nvPr/>
        </p:nvSpPr>
        <p:spPr>
          <a:xfrm>
            <a:off x="708660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81"/>
          <p:cNvSpPr/>
          <p:nvPr/>
        </p:nvSpPr>
        <p:spPr>
          <a:xfrm>
            <a:off x="708660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82"/>
          <p:cNvSpPr/>
          <p:nvPr/>
        </p:nvSpPr>
        <p:spPr>
          <a:xfrm>
            <a:off x="5410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Line 31"/>
          <p:cNvSpPr/>
          <p:nvPr/>
        </p:nvSpPr>
        <p:spPr>
          <a:xfrm>
            <a:off x="4876920" y="4952880"/>
            <a:ext cx="91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53"/>
          <p:cNvSpPr/>
          <p:nvPr/>
        </p:nvSpPr>
        <p:spPr>
          <a:xfrm flipV="1">
            <a:off x="5791320" y="396216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55"/>
          <p:cNvSpPr/>
          <p:nvPr/>
        </p:nvSpPr>
        <p:spPr>
          <a:xfrm>
            <a:off x="6629400" y="39625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04" name="Group 74"/>
          <p:cNvGrpSpPr/>
          <p:nvPr/>
        </p:nvGrpSpPr>
        <p:grpSpPr>
          <a:xfrm>
            <a:off x="6629400" y="1981080"/>
            <a:ext cx="1219320" cy="2971440"/>
            <a:chOff x="6629400" y="1981080"/>
            <a:chExt cx="1219320" cy="2971440"/>
          </a:xfrm>
        </p:grpSpPr>
        <p:sp>
          <p:nvSpPr>
            <p:cNvPr id="905" name="Line 35"/>
            <p:cNvSpPr/>
            <p:nvPr/>
          </p:nvSpPr>
          <p:spPr>
            <a:xfrm>
              <a:off x="6629400" y="495252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6" name="Line 36"/>
            <p:cNvSpPr/>
            <p:nvPr/>
          </p:nvSpPr>
          <p:spPr>
            <a:xfrm flipV="1">
              <a:off x="7848720" y="1981080"/>
              <a:ext cx="0" cy="297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814B-799A-4EDD-B889-A7829CD4DC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19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920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22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923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4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25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6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4495680" y="5029200"/>
            <a:ext cx="68580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2"/>
          <p:cNvSpPr/>
          <p:nvPr/>
        </p:nvSpPr>
        <p:spPr>
          <a:xfrm>
            <a:off x="6172200" y="5029200"/>
            <a:ext cx="76212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952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953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4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5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6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7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8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9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960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1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2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3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4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5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6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7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8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9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70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71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88B3-EA93-467B-B354-1980FDB3273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DD2-4F2E-419C-BBE2-00CB131DA3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 Layering Harmful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N may duplicate lower level functionality (e.g., error re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may need same info (timestamp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adherence to layering may hur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B73F-9239-489F-AFA1-16D360F27D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iday 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y Friday) Email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zhuoc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srini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lecture choices for critique/public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 that lecture dates may shi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opic choice for first TBD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sentence version of project interest &amp; list of project part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I want to apply game theory to network rou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be posting some questions on Piazza to answer about the two papers for Friday’s lecture (post response by 5pm on Thursd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8238-BE89-408B-B08E-8AA40C480D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B05A-B8D7-4009-B31E-D3BBB8A5D3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 Encapsu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25909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85" name="Group 5"/>
          <p:cNvGrpSpPr/>
          <p:nvPr/>
        </p:nvGrpSpPr>
        <p:grpSpPr>
          <a:xfrm>
            <a:off x="2590920" y="3733920"/>
            <a:ext cx="761760" cy="304560"/>
            <a:chOff x="2590920" y="3733920"/>
            <a:chExt cx="761760" cy="304560"/>
          </a:xfrm>
        </p:grpSpPr>
        <p:sp>
          <p:nvSpPr>
            <p:cNvPr id="986" name="Rectangle 6"/>
            <p:cNvSpPr/>
            <p:nvPr/>
          </p:nvSpPr>
          <p:spPr>
            <a:xfrm rot="10800000">
              <a:off x="274320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87" name="Rectangle 7"/>
            <p:cNvSpPr/>
            <p:nvPr/>
          </p:nvSpPr>
          <p:spPr>
            <a:xfrm rot="10800000">
              <a:off x="259092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88" name="Group 8"/>
          <p:cNvGrpSpPr/>
          <p:nvPr/>
        </p:nvGrpSpPr>
        <p:grpSpPr>
          <a:xfrm>
            <a:off x="2590920" y="4343040"/>
            <a:ext cx="914400" cy="304920"/>
            <a:chOff x="2590920" y="4343040"/>
            <a:chExt cx="914400" cy="304920"/>
          </a:xfrm>
        </p:grpSpPr>
        <p:sp>
          <p:nvSpPr>
            <p:cNvPr id="989" name="Rectangle 9"/>
            <p:cNvSpPr/>
            <p:nvPr/>
          </p:nvSpPr>
          <p:spPr>
            <a:xfrm rot="10800000">
              <a:off x="28958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0" name="Rectangle 10"/>
            <p:cNvSpPr/>
            <p:nvPr/>
          </p:nvSpPr>
          <p:spPr>
            <a:xfrm rot="10800000">
              <a:off x="26672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1" name="Rectangle 11"/>
            <p:cNvSpPr/>
            <p:nvPr/>
          </p:nvSpPr>
          <p:spPr>
            <a:xfrm rot="10800000">
              <a:off x="25909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92" name="Group 12"/>
          <p:cNvGrpSpPr/>
          <p:nvPr/>
        </p:nvGrpSpPr>
        <p:grpSpPr>
          <a:xfrm>
            <a:off x="2590560" y="4800240"/>
            <a:ext cx="1143000" cy="304920"/>
            <a:chOff x="2590560" y="4800240"/>
            <a:chExt cx="1143000" cy="304920"/>
          </a:xfrm>
        </p:grpSpPr>
        <p:sp>
          <p:nvSpPr>
            <p:cNvPr id="993" name="Rectangle 13"/>
            <p:cNvSpPr/>
            <p:nvPr/>
          </p:nvSpPr>
          <p:spPr>
            <a:xfrm rot="10800000">
              <a:off x="31240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4" name="Rectangle 14"/>
            <p:cNvSpPr/>
            <p:nvPr/>
          </p:nvSpPr>
          <p:spPr>
            <a:xfrm rot="10800000">
              <a:off x="28954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5" name="Rectangle 15"/>
            <p:cNvSpPr/>
            <p:nvPr/>
          </p:nvSpPr>
          <p:spPr>
            <a:xfrm rot="10800000">
              <a:off x="26668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 rot="10800000">
              <a:off x="25905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97" name="Rectangle 17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8" name="Rectangle 18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9" name="Rectangle 19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0" name="Rectangle 20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01" name="Group 21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1002" name="Rectangle 22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3" name="Rectangle 23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04" name="Group 24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1005" name="Rectangle 25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6" name="Rectangle 26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07" name="Line 2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8" name="Line 28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9" name="Line 2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0" name="Line 30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1" name="Line 31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2" name="Rectangle 32"/>
          <p:cNvSpPr/>
          <p:nvPr/>
        </p:nvSpPr>
        <p:spPr>
          <a:xfrm>
            <a:off x="57913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13" name="Group 33"/>
          <p:cNvGrpSpPr/>
          <p:nvPr/>
        </p:nvGrpSpPr>
        <p:grpSpPr>
          <a:xfrm>
            <a:off x="5715000" y="3733920"/>
            <a:ext cx="761760" cy="304560"/>
            <a:chOff x="5715000" y="3733920"/>
            <a:chExt cx="761760" cy="304560"/>
          </a:xfrm>
        </p:grpSpPr>
        <p:sp>
          <p:nvSpPr>
            <p:cNvPr id="1014" name="Rectangle 34"/>
            <p:cNvSpPr/>
            <p:nvPr/>
          </p:nvSpPr>
          <p:spPr>
            <a:xfrm rot="10800000">
              <a:off x="586728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5" name="Rectangle 35"/>
            <p:cNvSpPr/>
            <p:nvPr/>
          </p:nvSpPr>
          <p:spPr>
            <a:xfrm rot="10800000">
              <a:off x="571500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16" name="Group 36"/>
          <p:cNvGrpSpPr/>
          <p:nvPr/>
        </p:nvGrpSpPr>
        <p:grpSpPr>
          <a:xfrm>
            <a:off x="5562720" y="4343040"/>
            <a:ext cx="914400" cy="304920"/>
            <a:chOff x="5562720" y="4343040"/>
            <a:chExt cx="914400" cy="304920"/>
          </a:xfrm>
        </p:grpSpPr>
        <p:sp>
          <p:nvSpPr>
            <p:cNvPr id="1017" name="Rectangle 37"/>
            <p:cNvSpPr/>
            <p:nvPr/>
          </p:nvSpPr>
          <p:spPr>
            <a:xfrm rot="10800000">
              <a:off x="58676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8" name="Rectangle 38"/>
            <p:cNvSpPr/>
            <p:nvPr/>
          </p:nvSpPr>
          <p:spPr>
            <a:xfrm rot="10800000">
              <a:off x="56390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9" name="Rectangle 39"/>
            <p:cNvSpPr/>
            <p:nvPr/>
          </p:nvSpPr>
          <p:spPr>
            <a:xfrm rot="10800000">
              <a:off x="55627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20" name="Group 40"/>
          <p:cNvGrpSpPr/>
          <p:nvPr/>
        </p:nvGrpSpPr>
        <p:grpSpPr>
          <a:xfrm>
            <a:off x="5333760" y="4800240"/>
            <a:ext cx="1143000" cy="304920"/>
            <a:chOff x="5333760" y="4800240"/>
            <a:chExt cx="1143000" cy="304920"/>
          </a:xfrm>
        </p:grpSpPr>
        <p:sp>
          <p:nvSpPr>
            <p:cNvPr id="1021" name="Rectangle 41"/>
            <p:cNvSpPr/>
            <p:nvPr/>
          </p:nvSpPr>
          <p:spPr>
            <a:xfrm rot="10800000">
              <a:off x="58672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2" name="Rectangle 42"/>
            <p:cNvSpPr/>
            <p:nvPr/>
          </p:nvSpPr>
          <p:spPr>
            <a:xfrm rot="10800000">
              <a:off x="56386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3" name="Rectangle 43"/>
            <p:cNvSpPr/>
            <p:nvPr/>
          </p:nvSpPr>
          <p:spPr>
            <a:xfrm rot="10800000">
              <a:off x="54100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4" name="Rectangle 44"/>
            <p:cNvSpPr/>
            <p:nvPr/>
          </p:nvSpPr>
          <p:spPr>
            <a:xfrm rot="10800000">
              <a:off x="53337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25" name="Text Box 45"/>
          <p:cNvSpPr/>
          <p:nvPr/>
        </p:nvSpPr>
        <p:spPr>
          <a:xfrm>
            <a:off x="3720240" y="28954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6" name="Text Box 46"/>
          <p:cNvSpPr/>
          <p:nvPr/>
        </p:nvSpPr>
        <p:spPr>
          <a:xfrm>
            <a:off x="3732840" y="3657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7" name="Text Box 47"/>
          <p:cNvSpPr/>
          <p:nvPr/>
        </p:nvSpPr>
        <p:spPr>
          <a:xfrm>
            <a:off x="3532680" y="434340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/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8" name="Text Box 48"/>
          <p:cNvSpPr/>
          <p:nvPr/>
        </p:nvSpPr>
        <p:spPr>
          <a:xfrm>
            <a:off x="3809160" y="480060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9" name="Text Box 49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0" name="Text Box 50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EB15-20CA-4BCA-8204-2972265E53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eb P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regular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A47-4CFC-408B-B268-3394AA18D7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 Demultiplex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s at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47242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3808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762120" y="2895480"/>
            <a:ext cx="68580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160020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32767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243828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1143000" y="3581280"/>
            <a:ext cx="685800" cy="3812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2895480" y="35812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2057400" y="4343400"/>
            <a:ext cx="685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3" name="Rectangle 13"/>
          <p:cNvSpPr/>
          <p:nvPr/>
        </p:nvSpPr>
        <p:spPr>
          <a:xfrm>
            <a:off x="685800" y="5105520"/>
            <a:ext cx="68580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4" name="Rectangle 14"/>
          <p:cNvSpPr/>
          <p:nvPr/>
        </p:nvSpPr>
        <p:spPr>
          <a:xfrm>
            <a:off x="18288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5" name="Rectangle 15"/>
          <p:cNvSpPr/>
          <p:nvPr/>
        </p:nvSpPr>
        <p:spPr>
          <a:xfrm>
            <a:off x="34290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6" name="Rectangle 16"/>
          <p:cNvSpPr/>
          <p:nvPr/>
        </p:nvSpPr>
        <p:spPr>
          <a:xfrm>
            <a:off x="2590920" y="51055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1047" name="AutoShape 17"/>
          <p:cNvCxnSpPr>
            <a:stCxn id="1036" idx="2"/>
            <a:endCxn id="1040" idx="0"/>
          </p:cNvCxnSpPr>
          <p:nvPr/>
        </p:nvCxnSpPr>
        <p:spPr>
          <a:xfrm>
            <a:off x="1104480" y="3276720"/>
            <a:ext cx="3819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AutoShape 18"/>
          <p:cNvCxnSpPr>
            <a:endCxn id="1040" idx="0"/>
          </p:cNvCxnSpPr>
          <p:nvPr/>
        </p:nvCxnSpPr>
        <p:spPr>
          <a:xfrm flipH="1">
            <a:off x="148572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9" name="AutoShape 19"/>
          <p:cNvCxnSpPr>
            <a:stCxn id="1039" idx="2"/>
          </p:cNvCxnSpPr>
          <p:nvPr/>
        </p:nvCxnSpPr>
        <p:spPr>
          <a:xfrm>
            <a:off x="278136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0" name="AutoShape 20"/>
          <p:cNvCxnSpPr>
            <a:stCxn id="1038" idx="2"/>
          </p:cNvCxnSpPr>
          <p:nvPr/>
        </p:nvCxnSpPr>
        <p:spPr>
          <a:xfrm flipH="1">
            <a:off x="320004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1" name="AutoShape 21"/>
          <p:cNvCxnSpPr>
            <a:stCxn id="1040" idx="2"/>
            <a:endCxn id="1042" idx="0"/>
          </p:cNvCxnSpPr>
          <p:nvPr/>
        </p:nvCxnSpPr>
        <p:spPr>
          <a:xfrm>
            <a:off x="1486080" y="39625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2" name="AutoShape 22"/>
          <p:cNvCxnSpPr>
            <a:stCxn id="1041" idx="2"/>
            <a:endCxn id="1042" idx="0"/>
          </p:cNvCxnSpPr>
          <p:nvPr/>
        </p:nvCxnSpPr>
        <p:spPr>
          <a:xfrm flipH="1">
            <a:off x="2400120" y="39625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3" name="AutoShape 23"/>
          <p:cNvCxnSpPr>
            <a:stCxn id="1042" idx="2"/>
            <a:endCxn id="1045" idx="0"/>
          </p:cNvCxnSpPr>
          <p:nvPr/>
        </p:nvCxnSpPr>
        <p:spPr>
          <a:xfrm>
            <a:off x="240048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4" name="AutoShape 24"/>
          <p:cNvCxnSpPr>
            <a:stCxn id="1042" idx="2"/>
            <a:endCxn id="1043" idx="0"/>
          </p:cNvCxnSpPr>
          <p:nvPr/>
        </p:nvCxnSpPr>
        <p:spPr>
          <a:xfrm flipH="1">
            <a:off x="102852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5" name="AutoShape 25"/>
          <p:cNvCxnSpPr>
            <a:stCxn id="1042" idx="2"/>
            <a:endCxn id="1044" idx="0"/>
          </p:cNvCxnSpPr>
          <p:nvPr/>
        </p:nvCxnSpPr>
        <p:spPr>
          <a:xfrm flipH="1">
            <a:off x="2171160" y="47239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6" name="Rectangle 26"/>
          <p:cNvSpPr/>
          <p:nvPr/>
        </p:nvSpPr>
        <p:spPr>
          <a:xfrm rot="10800000">
            <a:off x="7086240" y="3809520"/>
            <a:ext cx="1143000" cy="838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 rot="10800000">
            <a:off x="6248520" y="3809520"/>
            <a:ext cx="838080" cy="8384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8" name="Rectangle 28"/>
          <p:cNvSpPr/>
          <p:nvPr/>
        </p:nvSpPr>
        <p:spPr>
          <a:xfrm>
            <a:off x="990720" y="4343400"/>
            <a:ext cx="685800" cy="3808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7151760" y="4800600"/>
            <a:ext cx="11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0" name="Rectangle 30"/>
          <p:cNvSpPr/>
          <p:nvPr/>
        </p:nvSpPr>
        <p:spPr>
          <a:xfrm rot="10800000">
            <a:off x="5334120" y="3809520"/>
            <a:ext cx="914400" cy="8384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6095880" y="4800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5334120" y="4800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 flipH="1">
            <a:off x="5334120" y="358128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4" name="Line 34"/>
          <p:cNvSpPr/>
          <p:nvPr/>
        </p:nvSpPr>
        <p:spPr>
          <a:xfrm>
            <a:off x="6858000" y="3581280"/>
            <a:ext cx="13716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65" name="Group 35"/>
          <p:cNvGrpSpPr/>
          <p:nvPr/>
        </p:nvGrpSpPr>
        <p:grpSpPr>
          <a:xfrm>
            <a:off x="6248160" y="3276720"/>
            <a:ext cx="1143000" cy="304560"/>
            <a:chOff x="6248160" y="3276720"/>
            <a:chExt cx="1143000" cy="304560"/>
          </a:xfrm>
        </p:grpSpPr>
        <p:sp>
          <p:nvSpPr>
            <p:cNvPr id="1066" name="Rectangle 36"/>
            <p:cNvSpPr/>
            <p:nvPr/>
          </p:nvSpPr>
          <p:spPr>
            <a:xfrm rot="10800000">
              <a:off x="6781680" y="32767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7" name="Rectangle 37"/>
            <p:cNvSpPr/>
            <p:nvPr/>
          </p:nvSpPr>
          <p:spPr>
            <a:xfrm rot="10800000">
              <a:off x="6553080" y="3276720"/>
              <a:ext cx="30492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8" name="Rectangle 38"/>
            <p:cNvSpPr/>
            <p:nvPr/>
          </p:nvSpPr>
          <p:spPr>
            <a:xfrm rot="10800000">
              <a:off x="6324480" y="3276720"/>
              <a:ext cx="30492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9" name="Rectangle 39"/>
            <p:cNvSpPr/>
            <p:nvPr/>
          </p:nvSpPr>
          <p:spPr>
            <a:xfrm rot="10800000">
              <a:off x="6248160" y="3276720"/>
              <a:ext cx="22860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ia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signup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azza.com/cmu/spring2017/157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BC5-29C1-42B4-B2CC-ACAEEC1897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lecture, post a brief comment about each pap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I would like to read the reviews before the lecture, you should have this done by 5pm the day before the lec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critique and appreciate systems 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student will present on the lecture topic once this seme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min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a relevant but uncovered p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sign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0799-2E24-4B39-A7C5-40F715EDDD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read a paper (3-pass approach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im abstract/intro + section headings + references (5-10m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ough assessment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ill read your paper at thi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but ignore details (e.g. proofs) (1h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eneral understanding of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lated work you need to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rtual re-implementation” (1-3hr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idde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with techniqu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101-0BE2-4C50-B98D-E022AE5A44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read a pap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cri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apers are part “marketing” </a:t>
            </a:r>
            <a:r>
              <a:rPr b="0" lang="mr-IN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ying to show their design in the best possibl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apers may be “o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easy to become overly critical especially once you know top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what you learned from th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or why not keep this paper in syllab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sues are left open for future resear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important implications of the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ould you have done differently or differently n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1EB0-5468-4CFB-A261-335896AE1C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4:38:59Z</dcterms:created>
  <dc:creator>Srinivasan Seshan</dc:creator>
  <dc:description/>
  <dc:language>en-US</dc:language>
  <cp:lastModifiedBy>Srinivasan Seshan</cp:lastModifiedBy>
  <dcterms:modified xsi:type="dcterms:W3CDTF">2017-01-19T20:27:20Z</dcterms:modified>
  <cp:revision>14</cp:revision>
  <dc:subject/>
  <dc:title>15-744: Computer Networking</dc:title>
</cp:coreProperties>
</file>