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Building the digital library community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Mark Ockerblo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8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Standards are a partial solution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nderful thing about standards is that there are so many to choose from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SGML/XML, Word processor formats, HTML, PDF, Quark, specialized scientific formats, page image formats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: USMARC, Dublin Core, RDF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allow common understanding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one standard fits 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 sources may make different data cho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common denonimator often not good en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s, applications, standards change (sometimes quick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OM: A data model for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mediating among diverse data format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unfamiliar formats to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ed on via outside services that understand the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familiar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d into usable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needs of a particular application or u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igration from obsolete technology to new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for data that 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ble as a (typed or typable) sequence of bytes,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ble through a well-defined, working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OM lets you get this...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1612800"/>
            <a:ext cx="516888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from thi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5000" y="1536840"/>
            <a:ext cx="568908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om: Sherry T Haddock &lt;shaddock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: caeti@nosc.m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ject: CAETI Community Meeting In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e: Thu, 15 Feb 1996 17:12:52 -0600 (C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me-Version: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ype: MULTIPART/MIXED; BOUNDARY="608184028-521714262-824425972=:20798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: Sherry T Haddock &lt;shaddock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message is in MIME format.  The first part should be readable tex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le the remaining parts are likely unreadable without MIME-aware too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d mail to mime@docserver.cac.washington.edu for more inf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-608184028-521714262-824425972=:207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ype: TEXT/PLAIN; charset=US-ASC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e are maps detailing the March CAETI Community Meeting Location.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nks agai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erry &lt;shaddock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-608184028-521714262-824425972=:207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ype: TEXT/PLAIN; charset=US-ASCII; name="CaetiMap.hqx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ransfer-Encoding: BASE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ID: &lt;Pine.SUN.3.90.960215171252.20798B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Descriptio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FRoaXMgZmlsZSBtdXN0IGJlIGNvbnZlcnRlZCB3aXRoIEJpbkhleCA0Lj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QoNCjojODBLQ0E0VCklZUtGISI2NiUzYzgmIjgtYCMzIiQpIU4hLSlEMyV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C1tNGkrJ2EnWiUhTiIhbCEhLSFyW20NCg0KKiEhQiFOIVgiISohJCEzIzM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EhISFtIU4hLSIhKiEkcltxMyFgIzMjMnEzcnJxM1hJaHJOIS1BISohJCF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w0KDQozIWAzIU4hLSYhKiEkIkojMyFgRiFOIS0pISohJCMzIzMhYFMhTi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EqISQkISMzIWBkIU4hLTEhKiEkcltxDQoNCjMhcmxyTiEtNCEqISQlSiM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WEtIU4hLTghKiEkJjMjMyFhQiFOITJxcmohJHJbcTNycnEzVCEiNSEqIX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46760" y="4491000"/>
            <a:ext cx="223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ail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ME-attach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6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hex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OM: Key idea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14200" indent="-214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s can be described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nformation they con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hey represent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hey relate to other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models capture these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 use an object-oriented metadata schema to describe data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useful format info, services, distributed throughout the N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s give uniform access to diverse knowledge bases, servi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 use a network of mediators (type brokers) to assist with unfamiliar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219320"/>
            <a:ext cx="54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038480"/>
            <a:ext cx="54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12408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563868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he architecture supporting TOM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simplified)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8640" y="2597040"/>
            <a:ext cx="1435320" cy="825480"/>
            <a:chOff x="3968640" y="2597040"/>
            <a:chExt cx="1435320" cy="825480"/>
          </a:xfrm>
        </p:grpSpPr>
        <p:sp>
          <p:nvSpPr>
            <p:cNvPr id="73" name=""/>
            <p:cNvSpPr/>
            <p:nvPr/>
          </p:nvSpPr>
          <p:spPr>
            <a:xfrm>
              <a:off x="3968640" y="2597040"/>
              <a:ext cx="143532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3760" y="2720880"/>
              <a:ext cx="915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473960" y="2139840"/>
            <a:ext cx="1359000" cy="673200"/>
            <a:chOff x="7473960" y="2139840"/>
            <a:chExt cx="1359000" cy="673200"/>
          </a:xfrm>
        </p:grpSpPr>
        <p:sp>
          <p:nvSpPr>
            <p:cNvPr id="76" name=""/>
            <p:cNvSpPr/>
            <p:nvPr/>
          </p:nvSpPr>
          <p:spPr>
            <a:xfrm>
              <a:off x="7473960" y="21398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82760" y="234000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11240" y="1911240"/>
            <a:ext cx="1359000" cy="673200"/>
            <a:chOff x="1911240" y="1911240"/>
            <a:chExt cx="1359000" cy="673200"/>
          </a:xfrm>
        </p:grpSpPr>
        <p:sp>
          <p:nvSpPr>
            <p:cNvPr id="79" name=""/>
            <p:cNvSpPr/>
            <p:nvPr/>
          </p:nvSpPr>
          <p:spPr>
            <a:xfrm>
              <a:off x="1911240" y="19112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7120" y="211140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758960" y="5187960"/>
            <a:ext cx="1359000" cy="673200"/>
            <a:chOff x="1758960" y="5187960"/>
            <a:chExt cx="1359000" cy="673200"/>
          </a:xfrm>
        </p:grpSpPr>
        <p:sp>
          <p:nvSpPr>
            <p:cNvPr id="82" name=""/>
            <p:cNvSpPr/>
            <p:nvPr/>
          </p:nvSpPr>
          <p:spPr>
            <a:xfrm>
              <a:off x="1758960" y="5187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04480" y="538812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301760" y="2901960"/>
            <a:ext cx="1359000" cy="673200"/>
            <a:chOff x="1301760" y="2901960"/>
            <a:chExt cx="1359000" cy="673200"/>
          </a:xfrm>
        </p:grpSpPr>
        <p:sp>
          <p:nvSpPr>
            <p:cNvPr id="85" name=""/>
            <p:cNvSpPr/>
            <p:nvPr/>
          </p:nvSpPr>
          <p:spPr>
            <a:xfrm>
              <a:off x="1301760" y="2901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47280" y="310212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169040" y="3282840"/>
            <a:ext cx="1359000" cy="673200"/>
            <a:chOff x="7169040" y="3282840"/>
            <a:chExt cx="1359000" cy="673200"/>
          </a:xfrm>
        </p:grpSpPr>
        <p:sp>
          <p:nvSpPr>
            <p:cNvPr id="88" name=""/>
            <p:cNvSpPr/>
            <p:nvPr/>
          </p:nvSpPr>
          <p:spPr>
            <a:xfrm>
              <a:off x="7169040" y="32828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77840" y="348300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473960" y="4044960"/>
            <a:ext cx="1359000" cy="673200"/>
            <a:chOff x="7473960" y="4044960"/>
            <a:chExt cx="1359000" cy="673200"/>
          </a:xfrm>
        </p:grpSpPr>
        <p:sp>
          <p:nvSpPr>
            <p:cNvPr id="91" name=""/>
            <p:cNvSpPr/>
            <p:nvPr/>
          </p:nvSpPr>
          <p:spPr>
            <a:xfrm>
              <a:off x="7473960" y="4044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82760" y="424512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273560" y="5187960"/>
            <a:ext cx="1434960" cy="825480"/>
            <a:chOff x="4273560" y="5187960"/>
            <a:chExt cx="1434960" cy="825480"/>
          </a:xfrm>
        </p:grpSpPr>
        <p:sp>
          <p:nvSpPr>
            <p:cNvPr id="94" name=""/>
            <p:cNvSpPr/>
            <p:nvPr/>
          </p:nvSpPr>
          <p:spPr>
            <a:xfrm>
              <a:off x="4273560" y="5187960"/>
              <a:ext cx="14349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58320" y="5311800"/>
              <a:ext cx="915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66120" y="1197000"/>
            <a:ext cx="2138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inf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 convers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9760" y="1501920"/>
            <a:ext cx="2287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67960" y="1349280"/>
            <a:ext cx="2592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inf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, inv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f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38120" y="3940200"/>
            <a:ext cx="1744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rade inf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9160" y="2444760"/>
            <a:ext cx="4446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25640" y="3117600"/>
            <a:ext cx="978120" cy="88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479920" y="2521080"/>
            <a:ext cx="184176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8840" y="3206880"/>
            <a:ext cx="151128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8840" y="3359160"/>
            <a:ext cx="181620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2160" y="3511440"/>
            <a:ext cx="368280" cy="158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0520" y="4168800"/>
            <a:ext cx="288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 can also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ormats, operat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informati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82840" y="5486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860800" y="4730760"/>
            <a:ext cx="176508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What’s good about this design?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simple (and therefore flexible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, basic, well understood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ccommoda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past, present and future data formats with good breadth and depth of expressive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an be composed with a wide variety of programs and databases (including the Web, off-the-shelf progra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start with very low investment, then incr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scalable (largely by taking advantage of distributed, interactive nature of Net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one can define new  formats and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 coordinate contributions from Net commu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A cooperative library network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simplified)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68640" y="2597040"/>
            <a:ext cx="1435320" cy="825480"/>
            <a:chOff x="3968640" y="2597040"/>
            <a:chExt cx="1435320" cy="825480"/>
          </a:xfrm>
        </p:grpSpPr>
        <p:sp>
          <p:nvSpPr>
            <p:cNvPr id="113" name=""/>
            <p:cNvSpPr/>
            <p:nvPr/>
          </p:nvSpPr>
          <p:spPr>
            <a:xfrm>
              <a:off x="3968640" y="2597040"/>
              <a:ext cx="143532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33960" y="2720880"/>
              <a:ext cx="955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br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473960" y="2139840"/>
            <a:ext cx="1359000" cy="673200"/>
            <a:chOff x="7473960" y="2139840"/>
            <a:chExt cx="1359000" cy="673200"/>
          </a:xfrm>
        </p:grpSpPr>
        <p:sp>
          <p:nvSpPr>
            <p:cNvPr id="116" name=""/>
            <p:cNvSpPr/>
            <p:nvPr/>
          </p:nvSpPr>
          <p:spPr>
            <a:xfrm>
              <a:off x="7473960" y="21398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82760" y="234000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911240" y="1911240"/>
            <a:ext cx="1359000" cy="673200"/>
            <a:chOff x="1911240" y="1911240"/>
            <a:chExt cx="1359000" cy="673200"/>
          </a:xfrm>
        </p:grpSpPr>
        <p:sp>
          <p:nvSpPr>
            <p:cNvPr id="119" name=""/>
            <p:cNvSpPr/>
            <p:nvPr/>
          </p:nvSpPr>
          <p:spPr>
            <a:xfrm>
              <a:off x="1911240" y="19112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57120" y="211140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758960" y="5187960"/>
            <a:ext cx="1359000" cy="673200"/>
            <a:chOff x="1758960" y="5187960"/>
            <a:chExt cx="1359000" cy="673200"/>
          </a:xfrm>
        </p:grpSpPr>
        <p:sp>
          <p:nvSpPr>
            <p:cNvPr id="122" name=""/>
            <p:cNvSpPr/>
            <p:nvPr/>
          </p:nvSpPr>
          <p:spPr>
            <a:xfrm>
              <a:off x="1758960" y="5187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04480" y="538812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01760" y="2901960"/>
            <a:ext cx="1359000" cy="673200"/>
            <a:chOff x="1301760" y="2901960"/>
            <a:chExt cx="1359000" cy="673200"/>
          </a:xfrm>
        </p:grpSpPr>
        <p:sp>
          <p:nvSpPr>
            <p:cNvPr id="125" name=""/>
            <p:cNvSpPr/>
            <p:nvPr/>
          </p:nvSpPr>
          <p:spPr>
            <a:xfrm>
              <a:off x="1301760" y="2901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7280" y="310212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169040" y="3282840"/>
            <a:ext cx="1359000" cy="673200"/>
            <a:chOff x="7169040" y="3282840"/>
            <a:chExt cx="1359000" cy="673200"/>
          </a:xfrm>
        </p:grpSpPr>
        <p:sp>
          <p:nvSpPr>
            <p:cNvPr id="128" name=""/>
            <p:cNvSpPr/>
            <p:nvPr/>
          </p:nvSpPr>
          <p:spPr>
            <a:xfrm>
              <a:off x="7169040" y="32828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77840" y="348300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473960" y="4044960"/>
            <a:ext cx="1359000" cy="673200"/>
            <a:chOff x="7473960" y="4044960"/>
            <a:chExt cx="1359000" cy="673200"/>
          </a:xfrm>
        </p:grpSpPr>
        <p:sp>
          <p:nvSpPr>
            <p:cNvPr id="131" name=""/>
            <p:cNvSpPr/>
            <p:nvPr/>
          </p:nvSpPr>
          <p:spPr>
            <a:xfrm>
              <a:off x="7473960" y="4044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82760" y="424512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273560" y="5187960"/>
            <a:ext cx="1434960" cy="825480"/>
            <a:chOff x="4273560" y="5187960"/>
            <a:chExt cx="1434960" cy="825480"/>
          </a:xfrm>
        </p:grpSpPr>
        <p:sp>
          <p:nvSpPr>
            <p:cNvPr id="134" name=""/>
            <p:cNvSpPr/>
            <p:nvPr/>
          </p:nvSpPr>
          <p:spPr>
            <a:xfrm>
              <a:off x="4273560" y="5187960"/>
              <a:ext cx="14349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38520" y="5311800"/>
              <a:ext cx="955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br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8600" y="1447920"/>
            <a:ext cx="2212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 get inf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arch, convert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840" y="1523880"/>
            <a:ext cx="1906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prov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7960" y="1349280"/>
            <a:ext cx="2592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inf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, inv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f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8120" y="3940200"/>
            <a:ext cx="1744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rade inf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9160" y="2444760"/>
            <a:ext cx="4446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825640" y="3117600"/>
            <a:ext cx="978120" cy="88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479920" y="2521080"/>
            <a:ext cx="184176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8840" y="3206880"/>
            <a:ext cx="151128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8840" y="3359160"/>
            <a:ext cx="181620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2160" y="3511440"/>
            <a:ext cx="368280" cy="158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1600" y="4168800"/>
            <a:ext cx="2885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 can also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materials, metada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2840" y="5486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0800" y="4730760"/>
            <a:ext cx="176508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he importance of open content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content and/or metadata gives each library boost from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distributed indexing and cross-refer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Vista et al made possible by open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replication, minimizing risk of information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flexibility in adapting and migrating information to new sit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can improve, augment resources and feed them back to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large-scale digital libraries are built around commu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ly: distributed, cooperative infrastructure (e.g. broker architecture of TOM) developed by experts in multiple dom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ly: cooperation between disciplines, organizations; designs that meet the needs of various constitu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libraries like Penn’s can take a leading role in creating DL commu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much of the collections,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provide testbeds, help their users, gain vis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revolutionary benefits, with the right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he library community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uries of people who have created the works we can read and research in the libr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dern-day community of library maintainers and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a collection of information and peo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is organized in a usable man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are trained professionals, supported by their universities, govern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one libr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o find out more: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home pag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 service, other demos, technical details, thesis docu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tom.cs.cmu.edu/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-Line Books Pa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, Book People archives, copyright entries, selected resources on on-line texts and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cs.cmu.edu/books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home pag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cs.cmu.edu/~spok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he digital revolution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of the Internet (both people and data) is growing exponenti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 of the information library users want is now dig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ular appea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-instant, cheap access to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dth (and sometimes depth) of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store, serve large quantities of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bout anyone can easily publish content, as well as “consume”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often hard to find the high-quality information you really need (obscure, or not put on-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coordination of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actions abound (noise mixed in with sig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A vision: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Revolutions in learning, teaching, creating, collaborating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arge libraries (tens of millions of “volumes”) available to scholars, students, general publ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: enables distance learning, collab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ble quickly, at low cost, through a variety of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ly searchable, citable, extendable, preserv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kinds of resources available (e.g. conceptual networks, intelligent tutor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A nightmare?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sands of uncoordinated, isolated syste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hibitive cost structur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use systems, lacking the affordances of previous medi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and metadata that become unusable within 10-20 years -- or l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4 Not foun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 becomes unreachable… content becomes unreadabl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An opportunity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es can take the lead in forming communities for digit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expertise in managing information and organizing it for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re much of the cont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libraries can play special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large collections, variety of expert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DLs both serve the university and promot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need to be both conservative and innov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are both technical and so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 science, computer science, HCI, sociology/anthropology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 and support (politics, economics…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Some design challenges in digital librarie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oging/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done at much finer gr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ways of searching for th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kinds of metadata may be impor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/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ation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A key design principle: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Sharing the work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even at small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ed cataloging: The On-Line Books P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400 listings, 1M hits/month (60% nongraphic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ing crucial metadata: Catalog of Copyright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ed acquisition: Catholic Encyclop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project dialogue: Book People mailing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libraries, projects can enhance each other’s collections at larger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A specific problem: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Data format mismatch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of the information in a digital library is from outside sources, in variety of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lients only understand a few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therefore cannot effectively use many mate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ay be in incomprehensible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ay be in form not easily worked w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ularly problemat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 that have complex (but useful) stru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acy data and programs (obsolete format assum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information in large libraries is “legacy”; long lifespan essential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5T09:50:31Z</dcterms:created>
  <dc:creator>John Ockerbloom</dc:creator>
  <dc:description/>
  <dc:language>en-US</dc:language>
  <cp:lastModifiedBy>spok</cp:lastModifiedBy>
  <cp:lastPrinted>1999-02-06T22:06:23Z</cp:lastPrinted>
  <dcterms:modified xsi:type="dcterms:W3CDTF">1999-02-12T22:48:33Z</dcterms:modified>
  <cp:revision>53</cp:revision>
  <dc:subject/>
  <dc:title>Mediating Among Diverse Data Formats</dc:title>
</cp:coreProperties>
</file>