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png" ContentType="image/pn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4F93A-FF46-480E-9DA0-D420087FD0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7918-E765-49A9-BE30-980CD41BC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E23B-27A0-4B80-9D52-E9C0503B6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5186-AF69-4A27-ACBB-FDA20B6E8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D0843-CA31-452C-A184-CC6C38899D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B0AC2-9CA4-4BDB-BB1A-F41A189BB1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A22E4-95DD-4203-9B35-3779BE82D6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1E48F-3C2C-49D6-8A10-E495A9DA3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3E91-6F96-493F-8D1C-508825DF9E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C9243-6AE5-4BDF-94A7-610D1E0B65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EEB2D-CCCD-41DF-BF97-DBEA71A6F1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AE9C-8B5E-417E-A0E5-72C3483ED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089FC-A4AB-4664-A39A-2E6FB66D9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98E7A-0B83-4EC6-9C3B-1B782D7255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E4B47-13A3-4A1C-80EE-DE92CB9C6A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7FB5D-745B-4F86-BC04-339D541C65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29DA5-D83D-47F7-B8ED-FCF1FD8C35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5D19-9BCB-4861-9AAF-870B9F198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BE94E-0B0D-4B54-98B6-3449F61A9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C52D-B799-47B0-ACDF-A61F78C0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E378-D498-4C7B-910F-B15D5253B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0563-D744-49B0-A273-73A6380B6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F562-924A-446C-846F-4B7F17FB8E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BC809-A57E-4EC8-AC53-0E13EEAA4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F2F7-916E-47D6-A451-5AC2910B0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A063-4599-4FFC-8B15-735BF6117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19320" y="4419720"/>
            <a:ext cx="6476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teve Seitz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Carnegie Mellon Univers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University of Washingt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cs.cmu.edu/~sei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Passive 3D Photography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IGGRAPH 2000 Course on</a:t>
            </a:r>
            <a:br>
              <a:rPr sz="3000"/>
            </a:b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3D Photograph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85920" y="1819440"/>
            <a:ext cx="6181560" cy="386712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erspective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95280" y="3580920"/>
            <a:ext cx="6172200" cy="1752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0840" y="4743360"/>
            <a:ext cx="2752920" cy="9334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295280" y="3123720"/>
            <a:ext cx="6172200" cy="1752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295280" y="2666520"/>
            <a:ext cx="6172200" cy="1752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295280" y="2209320"/>
            <a:ext cx="6172200" cy="1752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295280" y="1828440"/>
            <a:ext cx="5943600" cy="16765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295280" y="1828440"/>
            <a:ext cx="4343400" cy="12193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95280" y="1828440"/>
            <a:ext cx="2667240" cy="7621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295280" y="1828440"/>
            <a:ext cx="1067040" cy="304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24120" y="4933800"/>
            <a:ext cx="2266920" cy="7430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48040" y="5114880"/>
            <a:ext cx="1695240" cy="5619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5305320"/>
            <a:ext cx="1152360" cy="3812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43440" y="4572000"/>
            <a:ext cx="3267000" cy="10954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410000"/>
            <a:ext cx="2876400" cy="9622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2120" y="4229280"/>
            <a:ext cx="2286000" cy="761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1600" y="4067280"/>
            <a:ext cx="1666800" cy="5619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62640" y="3895560"/>
            <a:ext cx="1085760" cy="3621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3753000"/>
            <a:ext cx="581040" cy="1807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3619440"/>
            <a:ext cx="152280" cy="381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j0078717" descr=""/>
          <p:cNvPicPr/>
          <p:nvPr/>
        </p:nvPicPr>
        <p:blipFill>
          <a:blip r:embed="rId1"/>
          <a:stretch/>
        </p:blipFill>
        <p:spPr>
          <a:xfrm>
            <a:off x="4121280" y="2428920"/>
            <a:ext cx="90792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j0078717" descr=""/>
          <p:cNvPicPr/>
          <p:nvPr/>
        </p:nvPicPr>
        <p:blipFill>
          <a:blip r:embed="rId2"/>
          <a:stretch/>
        </p:blipFill>
        <p:spPr>
          <a:xfrm>
            <a:off x="1620720" y="3135240"/>
            <a:ext cx="90828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j0078717" descr=""/>
          <p:cNvPicPr/>
          <p:nvPr/>
        </p:nvPicPr>
        <p:blipFill>
          <a:blip r:embed="rId3"/>
          <a:stretch/>
        </p:blipFill>
        <p:spPr>
          <a:xfrm>
            <a:off x="6145200" y="1878120"/>
            <a:ext cx="90792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85920" y="1819440"/>
            <a:ext cx="6181560" cy="386712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erspective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295280" y="1819440"/>
            <a:ext cx="6181920" cy="3876480"/>
            <a:chOff x="1295280" y="1819440"/>
            <a:chExt cx="6181920" cy="3876480"/>
          </a:xfrm>
        </p:grpSpPr>
        <p:sp>
          <p:nvSpPr>
            <p:cNvPr id="139" name=""/>
            <p:cNvSpPr/>
            <p:nvPr/>
          </p:nvSpPr>
          <p:spPr>
            <a:xfrm flipV="1">
              <a:off x="1295280" y="3580920"/>
              <a:ext cx="6172200" cy="17528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295280" y="3486240"/>
              <a:ext cx="6181920" cy="1247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295280" y="3362040"/>
              <a:ext cx="6172200" cy="8571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295280" y="3238560"/>
              <a:ext cx="6172200" cy="3808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3095640"/>
              <a:ext cx="617220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2514600"/>
              <a:ext cx="6172200" cy="457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295280" y="1981080"/>
              <a:ext cx="6172200" cy="9144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8480" y="5067360"/>
              <a:ext cx="1224000" cy="604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57640" y="4772160"/>
              <a:ext cx="2762280" cy="923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6360" y="4552920"/>
              <a:ext cx="3371760" cy="8762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14920" y="4362480"/>
              <a:ext cx="2752560" cy="6573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91200" y="4248000"/>
              <a:ext cx="2266920" cy="466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14840" y="4140360"/>
              <a:ext cx="1943280" cy="3236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0" y="4076640"/>
              <a:ext cx="1647720" cy="2192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39000" y="3990960"/>
              <a:ext cx="1419120" cy="181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57880" y="3933720"/>
              <a:ext cx="1209600" cy="1335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86480" y="3867120"/>
              <a:ext cx="971640" cy="104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3809880"/>
              <a:ext cx="752400" cy="856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3680" y="3743280"/>
              <a:ext cx="523800" cy="666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95960" y="3705120"/>
              <a:ext cx="371520" cy="381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257960" y="3657600"/>
              <a:ext cx="209520" cy="19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0600" y="3610080"/>
              <a:ext cx="5688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86080" y="1828800"/>
              <a:ext cx="4181400" cy="9334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4280" y="1819440"/>
              <a:ext cx="2733840" cy="8380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1828800"/>
              <a:ext cx="1990800" cy="7333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67440" y="1828800"/>
              <a:ext cx="1400040" cy="6192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48320" y="1828800"/>
              <a:ext cx="1019160" cy="5335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81680" y="1828800"/>
              <a:ext cx="676440" cy="40968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39080" y="1828800"/>
              <a:ext cx="428400" cy="3049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19800" y="1828800"/>
              <a:ext cx="247680" cy="19044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2440" y="1819440"/>
              <a:ext cx="85680" cy="10476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0" name="j0078717" descr=""/>
          <p:cNvPicPr/>
          <p:nvPr/>
        </p:nvPicPr>
        <p:blipFill>
          <a:blip r:embed="rId1"/>
          <a:stretch/>
        </p:blipFill>
        <p:spPr>
          <a:xfrm>
            <a:off x="6145200" y="1897200"/>
            <a:ext cx="907920" cy="2361960"/>
          </a:xfrm>
          <a:prstGeom prst="rect">
            <a:avLst/>
          </a:prstGeom>
          <a:ln w="0">
            <a:noFill/>
          </a:ln>
        </p:spPr>
      </p:pic>
      <p:pic>
        <p:nvPicPr>
          <p:cNvPr id="171" name="j0078717" descr=""/>
          <p:cNvPicPr/>
          <p:nvPr/>
        </p:nvPicPr>
        <p:blipFill>
          <a:blip r:embed="rId2"/>
          <a:stretch/>
        </p:blipFill>
        <p:spPr>
          <a:xfrm>
            <a:off x="1620720" y="3135240"/>
            <a:ext cx="908280" cy="2362320"/>
          </a:xfrm>
          <a:prstGeom prst="rect">
            <a:avLst/>
          </a:prstGeom>
          <a:ln w="0">
            <a:noFill/>
          </a:ln>
        </p:spPr>
      </p:pic>
      <p:pic>
        <p:nvPicPr>
          <p:cNvPr id="172" name="j0078717" descr=""/>
          <p:cNvPicPr/>
          <p:nvPr/>
        </p:nvPicPr>
        <p:blipFill>
          <a:blip r:embed="rId3"/>
          <a:stretch/>
        </p:blipFill>
        <p:spPr>
          <a:xfrm>
            <a:off x="4121280" y="2428920"/>
            <a:ext cx="90792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85920" y="1819440"/>
            <a:ext cx="6181560" cy="3867120"/>
          </a:xfrm>
          <a:prstGeom prst="rect">
            <a:avLst/>
          </a:prstGeom>
          <a:solidFill>
            <a:srgbClr val="77777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erspective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295280" y="3580920"/>
            <a:ext cx="6172200" cy="17528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95280" y="3486240"/>
            <a:ext cx="6181920" cy="1247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95280" y="3362040"/>
            <a:ext cx="6172200" cy="8571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3238560"/>
            <a:ext cx="6172200" cy="3808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095640"/>
            <a:ext cx="617220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95280" y="2514600"/>
            <a:ext cx="6172200" cy="4572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6172200" cy="9144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38480" y="5067360"/>
            <a:ext cx="1224000" cy="6048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57640" y="4772160"/>
            <a:ext cx="2762280" cy="923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86360" y="4552920"/>
            <a:ext cx="3371760" cy="8762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14920" y="4362480"/>
            <a:ext cx="2752560" cy="6573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91200" y="4248000"/>
            <a:ext cx="2266920" cy="466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4840" y="4140360"/>
            <a:ext cx="1943280" cy="3236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10400" y="4076640"/>
            <a:ext cx="1647720" cy="2192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39000" y="3990960"/>
            <a:ext cx="1419120" cy="1810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57880" y="3933720"/>
            <a:ext cx="1209600" cy="1335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86480" y="3867120"/>
            <a:ext cx="971640" cy="104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809880"/>
            <a:ext cx="752400" cy="856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43680" y="3743280"/>
            <a:ext cx="523800" cy="66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95960" y="3705120"/>
            <a:ext cx="371520" cy="381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57960" y="3657600"/>
            <a:ext cx="209520" cy="190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10600" y="3610080"/>
            <a:ext cx="568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86080" y="1828800"/>
            <a:ext cx="4181400" cy="9334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819440"/>
            <a:ext cx="2733840" cy="8380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1828800"/>
            <a:ext cx="1990800" cy="7333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67440" y="1828800"/>
            <a:ext cx="1400040" cy="6192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448320" y="1828800"/>
            <a:ext cx="1019160" cy="5335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1828800"/>
            <a:ext cx="676440" cy="4096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39080" y="1828800"/>
            <a:ext cx="428400" cy="3049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19800" y="1828800"/>
            <a:ext cx="247680" cy="19044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72440" y="1819440"/>
            <a:ext cx="85680" cy="10476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j0078717" descr=""/>
          <p:cNvPicPr/>
          <p:nvPr/>
        </p:nvPicPr>
        <p:blipFill>
          <a:blip r:embed="rId1"/>
          <a:stretch/>
        </p:blipFill>
        <p:spPr>
          <a:xfrm>
            <a:off x="5707080" y="3112920"/>
            <a:ext cx="431640" cy="1121040"/>
          </a:xfrm>
          <a:prstGeom prst="rect">
            <a:avLst/>
          </a:prstGeom>
          <a:ln w="0">
            <a:noFill/>
          </a:ln>
        </p:spPr>
      </p:pic>
      <p:pic>
        <p:nvPicPr>
          <p:cNvPr id="207" name="j0078717" descr=""/>
          <p:cNvPicPr/>
          <p:nvPr/>
        </p:nvPicPr>
        <p:blipFill>
          <a:blip r:embed="rId2"/>
          <a:stretch/>
        </p:blipFill>
        <p:spPr>
          <a:xfrm>
            <a:off x="4097160" y="3106800"/>
            <a:ext cx="633600" cy="1647720"/>
          </a:xfrm>
          <a:prstGeom prst="rect">
            <a:avLst/>
          </a:prstGeom>
          <a:ln w="0">
            <a:noFill/>
          </a:ln>
        </p:spPr>
      </p:pic>
      <p:pic>
        <p:nvPicPr>
          <p:cNvPr id="208" name="j0078717" descr=""/>
          <p:cNvPicPr/>
          <p:nvPr/>
        </p:nvPicPr>
        <p:blipFill>
          <a:blip r:embed="rId3"/>
          <a:stretch/>
        </p:blipFill>
        <p:spPr>
          <a:xfrm>
            <a:off x="1620720" y="3135240"/>
            <a:ext cx="90828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j0078717" descr=""/>
          <p:cNvPicPr/>
          <p:nvPr/>
        </p:nvPicPr>
        <p:blipFill>
          <a:blip r:embed="rId4"/>
          <a:stretch/>
        </p:blipFill>
        <p:spPr>
          <a:xfrm>
            <a:off x="6784920" y="3100320"/>
            <a:ext cx="306360" cy="7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240" y="2693880"/>
            <a:ext cx="91137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2693520"/>
            <a:ext cx="9138960" cy="4159080"/>
            <a:chOff x="0" y="2693520"/>
            <a:chExt cx="9138960" cy="4159080"/>
          </a:xfrm>
        </p:grpSpPr>
        <p:sp>
          <p:nvSpPr>
            <p:cNvPr id="212" name=""/>
            <p:cNvSpPr/>
            <p:nvPr/>
          </p:nvSpPr>
          <p:spPr>
            <a:xfrm flipH="1">
              <a:off x="14040" y="2693880"/>
              <a:ext cx="8232120" cy="3391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268280" y="2693520"/>
              <a:ext cx="6977880" cy="4159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490560" y="2693880"/>
              <a:ext cx="4755960" cy="41457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492160" y="2693880"/>
              <a:ext cx="2754360" cy="4120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442280" y="2693880"/>
              <a:ext cx="804240" cy="4120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246160" y="2693880"/>
              <a:ext cx="867960" cy="2093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8258400" y="2693520"/>
              <a:ext cx="880560" cy="911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58400" y="2693880"/>
              <a:ext cx="870840" cy="438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8258400" y="2693520"/>
              <a:ext cx="844560" cy="204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8440" y="2693880"/>
              <a:ext cx="8229960" cy="2247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0" y="2693880"/>
              <a:ext cx="8232480" cy="1347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4400" y="2693880"/>
              <a:ext cx="8218080" cy="770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0" y="2693880"/>
              <a:ext cx="8232480" cy="322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480" y="2698560"/>
            <a:ext cx="9118080" cy="4159080"/>
            <a:chOff x="6480" y="2698560"/>
            <a:chExt cx="9118080" cy="4159080"/>
          </a:xfrm>
        </p:grpSpPr>
        <p:sp>
          <p:nvSpPr>
            <p:cNvPr id="226" name=""/>
            <p:cNvSpPr/>
            <p:nvPr/>
          </p:nvSpPr>
          <p:spPr>
            <a:xfrm>
              <a:off x="897120" y="2698920"/>
              <a:ext cx="8213400" cy="3390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897120" y="2698920"/>
              <a:ext cx="6962040" cy="415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896760" y="2698560"/>
              <a:ext cx="4745160" cy="414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897120" y="2698560"/>
              <a:ext cx="2747880" cy="4120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897120" y="2698560"/>
              <a:ext cx="802440" cy="4120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0600" y="2698920"/>
              <a:ext cx="866160" cy="209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480" y="2698560"/>
              <a:ext cx="878400" cy="911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6200" y="2698920"/>
              <a:ext cx="868680" cy="438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480" y="2698920"/>
              <a:ext cx="842400" cy="203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85240" y="2698560"/>
              <a:ext cx="8211240" cy="2247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910800" y="2698560"/>
              <a:ext cx="8213760" cy="1347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910800" y="2698920"/>
              <a:ext cx="8199360" cy="77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910800" y="2698920"/>
              <a:ext cx="8213760" cy="322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anishing Point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1971720"/>
            <a:ext cx="8238960" cy="3443400"/>
            <a:chOff x="0" y="1971720"/>
            <a:chExt cx="8238960" cy="3443400"/>
          </a:xfrm>
        </p:grpSpPr>
        <p:sp>
          <p:nvSpPr>
            <p:cNvPr id="241" name=""/>
            <p:cNvSpPr/>
            <p:nvPr/>
          </p:nvSpPr>
          <p:spPr>
            <a:xfrm flipH="1">
              <a:off x="0" y="2706840"/>
              <a:ext cx="8238960" cy="2708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0" y="1971720"/>
              <a:ext cx="8238960" cy="7351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3" name="j0078717" descr=""/>
          <p:cNvPicPr/>
          <p:nvPr/>
        </p:nvPicPr>
        <p:blipFill>
          <a:blip r:embed="rId1"/>
          <a:stretch/>
        </p:blipFill>
        <p:spPr>
          <a:xfrm>
            <a:off x="5695920" y="2438280"/>
            <a:ext cx="324000" cy="1067040"/>
          </a:xfrm>
          <a:prstGeom prst="rect">
            <a:avLst/>
          </a:prstGeom>
          <a:ln w="0">
            <a:noFill/>
          </a:ln>
        </p:spPr>
      </p:pic>
      <p:pic>
        <p:nvPicPr>
          <p:cNvPr id="244" name="j0078717" descr=""/>
          <p:cNvPicPr/>
          <p:nvPr/>
        </p:nvPicPr>
        <p:blipFill>
          <a:blip r:embed="rId2"/>
          <a:stretch/>
        </p:blipFill>
        <p:spPr>
          <a:xfrm>
            <a:off x="801720" y="2097000"/>
            <a:ext cx="907920" cy="2990880"/>
          </a:xfrm>
          <a:prstGeom prst="rect">
            <a:avLst/>
          </a:prstGeom>
          <a:ln w="0">
            <a:noFill/>
          </a:ln>
        </p:spPr>
      </p:pic>
      <p:pic>
        <p:nvPicPr>
          <p:cNvPr id="245" name="j0078717" descr=""/>
          <p:cNvPicPr/>
          <p:nvPr/>
        </p:nvPicPr>
        <p:blipFill>
          <a:blip r:embed="rId3"/>
          <a:stretch/>
        </p:blipFill>
        <p:spPr>
          <a:xfrm>
            <a:off x="3543480" y="2308320"/>
            <a:ext cx="572760" cy="1890720"/>
          </a:xfrm>
          <a:prstGeom prst="rect">
            <a:avLst/>
          </a:prstGeom>
          <a:ln w="0">
            <a:noFill/>
          </a:ln>
        </p:spPr>
      </p:pic>
      <p:pic>
        <p:nvPicPr>
          <p:cNvPr id="246" name="j0078717" descr=""/>
          <p:cNvPicPr/>
          <p:nvPr/>
        </p:nvPicPr>
        <p:blipFill>
          <a:blip r:embed="rId4"/>
          <a:stretch/>
        </p:blipFill>
        <p:spPr>
          <a:xfrm>
            <a:off x="7139160" y="2595600"/>
            <a:ext cx="139680" cy="465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131600" y="158544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anis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4680" y="2209680"/>
            <a:ext cx="30492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240" y="2693880"/>
            <a:ext cx="911376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2693520"/>
            <a:ext cx="9138960" cy="4159080"/>
            <a:chOff x="0" y="2693520"/>
            <a:chExt cx="9138960" cy="4159080"/>
          </a:xfrm>
        </p:grpSpPr>
        <p:sp>
          <p:nvSpPr>
            <p:cNvPr id="251" name=""/>
            <p:cNvSpPr/>
            <p:nvPr/>
          </p:nvSpPr>
          <p:spPr>
            <a:xfrm flipH="1">
              <a:off x="14040" y="2693880"/>
              <a:ext cx="8232120" cy="33912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1268280" y="2693520"/>
              <a:ext cx="6977880" cy="4159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490560" y="2693880"/>
              <a:ext cx="4755960" cy="41457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492160" y="2693880"/>
              <a:ext cx="2754360" cy="4120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442280" y="2693880"/>
              <a:ext cx="804240" cy="4120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8246160" y="2693880"/>
              <a:ext cx="867960" cy="20930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8258400" y="2693520"/>
              <a:ext cx="880560" cy="9111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58400" y="2693880"/>
              <a:ext cx="870840" cy="4384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8258400" y="2693520"/>
              <a:ext cx="844560" cy="204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8440" y="2693880"/>
              <a:ext cx="8229960" cy="2247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0" y="2693880"/>
              <a:ext cx="8232480" cy="134784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14400" y="2693880"/>
              <a:ext cx="8218080" cy="7704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0" y="2693880"/>
              <a:ext cx="8232480" cy="32256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480" y="2698560"/>
            <a:ext cx="9118080" cy="4159080"/>
            <a:chOff x="6480" y="2698560"/>
            <a:chExt cx="9118080" cy="4159080"/>
          </a:xfrm>
        </p:grpSpPr>
        <p:sp>
          <p:nvSpPr>
            <p:cNvPr id="265" name=""/>
            <p:cNvSpPr/>
            <p:nvPr/>
          </p:nvSpPr>
          <p:spPr>
            <a:xfrm>
              <a:off x="897120" y="2698920"/>
              <a:ext cx="8213400" cy="33908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897120" y="2698920"/>
              <a:ext cx="6962040" cy="4158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flipV="1">
              <a:off x="896760" y="2698560"/>
              <a:ext cx="4745160" cy="4145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897120" y="2698560"/>
              <a:ext cx="2747880" cy="4120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897120" y="2698560"/>
              <a:ext cx="802440" cy="41202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600" y="2698920"/>
              <a:ext cx="866160" cy="20930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480" y="2698560"/>
              <a:ext cx="878400" cy="9111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6200" y="2698920"/>
              <a:ext cx="868680" cy="438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2480" y="2698920"/>
              <a:ext cx="842400" cy="203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885240" y="2698560"/>
              <a:ext cx="8211240" cy="2247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910800" y="2698560"/>
              <a:ext cx="8213760" cy="1347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910800" y="2698920"/>
              <a:ext cx="8199360" cy="7704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910800" y="2698920"/>
              <a:ext cx="8213760" cy="3225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easuring Heigh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342960" y="2695320"/>
            <a:ext cx="2523960" cy="20286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5867280" y="1219320"/>
            <a:ext cx="685800" cy="3504960"/>
            <a:chOff x="5867280" y="1219320"/>
            <a:chExt cx="685800" cy="3504960"/>
          </a:xfrm>
        </p:grpSpPr>
        <p:sp>
          <p:nvSpPr>
            <p:cNvPr id="281" name=""/>
            <p:cNvSpPr/>
            <p:nvPr/>
          </p:nvSpPr>
          <p:spPr>
            <a:xfrm>
              <a:off x="5867280" y="1219320"/>
              <a:ext cx="609840" cy="3504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67280" y="45720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7280" y="441972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67280" y="42670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867280" y="41148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396252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67280" y="38098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67280" y="36576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67280" y="35053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67280" y="33526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67280" y="32004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67280" y="304812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7280" y="289548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7280" y="27432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7220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7220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2200" y="2666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7280" y="259092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24382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67280" y="228600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72200" y="2057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7280" y="213372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67280" y="19810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67280" y="18288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67280" y="1676520"/>
              <a:ext cx="304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7220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7280" y="152388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67280" y="1371600"/>
              <a:ext cx="152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343320" y="1200240"/>
            <a:ext cx="4276800" cy="1504440"/>
            <a:chOff x="3343320" y="1200240"/>
            <a:chExt cx="4276800" cy="1504440"/>
          </a:xfrm>
        </p:grpSpPr>
        <p:sp>
          <p:nvSpPr>
            <p:cNvPr id="310" name=""/>
            <p:cNvSpPr/>
            <p:nvPr/>
          </p:nvSpPr>
          <p:spPr>
            <a:xfrm flipV="1">
              <a:off x="3343320" y="1428480"/>
              <a:ext cx="2523960" cy="1276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67280" y="1428840"/>
              <a:ext cx="990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1680" y="12002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5.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57360" y="2685960"/>
            <a:ext cx="6962760" cy="2037960"/>
            <a:chOff x="657360" y="2685960"/>
            <a:chExt cx="6962760" cy="2037960"/>
          </a:xfrm>
        </p:grpSpPr>
        <p:sp>
          <p:nvSpPr>
            <p:cNvPr id="314" name=""/>
            <p:cNvSpPr/>
            <p:nvPr/>
          </p:nvSpPr>
          <p:spPr>
            <a:xfrm flipH="1" flipV="1">
              <a:off x="685440" y="2704680"/>
              <a:ext cx="5181480" cy="20192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7360" y="2685960"/>
              <a:ext cx="5200560" cy="3049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57920" y="2990880"/>
              <a:ext cx="100008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1680" y="2762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2.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8" name="turtle" descr=""/>
          <p:cNvPicPr/>
          <p:nvPr/>
        </p:nvPicPr>
        <p:blipFill>
          <a:blip r:embed="rId1"/>
          <a:stretch/>
        </p:blipFill>
        <p:spPr>
          <a:xfrm>
            <a:off x="1752480" y="2784600"/>
            <a:ext cx="1371600" cy="730080"/>
          </a:xfrm>
          <a:prstGeom prst="rect">
            <a:avLst/>
          </a:prstGeom>
          <a:ln w="0">
            <a:noFill/>
          </a:ln>
        </p:spPr>
      </p:pic>
      <p:pic>
        <p:nvPicPr>
          <p:cNvPr id="319" name="j0078717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573120" cy="17384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0" y="2286000"/>
            <a:ext cx="9144000" cy="459720"/>
            <a:chOff x="0" y="2286000"/>
            <a:chExt cx="9144000" cy="459720"/>
          </a:xfrm>
        </p:grpSpPr>
        <p:sp>
          <p:nvSpPr>
            <p:cNvPr id="321" name=""/>
            <p:cNvSpPr/>
            <p:nvPr/>
          </p:nvSpPr>
          <p:spPr>
            <a:xfrm>
              <a:off x="0" y="2692440"/>
              <a:ext cx="914400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3416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9900"/>
                  </a:solidFill>
                  <a:latin typeface="Times New Roman"/>
                </a:rPr>
                <a:t>3.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457200" y="4724280"/>
            <a:ext cx="84582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66"/>
                </a:solidFill>
                <a:latin typeface="Arial"/>
              </a:rPr>
              <a:t>Same Concepts Enab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Reconstructing X, Y, and 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omputing camera projection matri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liminating the rul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ingle View Metrology”  [Criminisi 99]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ingle View Metrology”  [Criminisi 99]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46324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746360" y="5896800"/>
            <a:ext cx="586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e Music Less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Jan Vermeer, 1662-6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Royal Collection of Her Majesty Queen Elizabeth 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Morphable Models” [Blanz 99]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1430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Vide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ereo Reconstruc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e Stereo Problem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hape from two (or more) ima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iological motiv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828800" y="3203640"/>
            <a:ext cx="2646360" cy="327348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5661000" y="3182400"/>
            <a:ext cx="739800" cy="1337400"/>
            <a:chOff x="5661000" y="3182400"/>
            <a:chExt cx="739800" cy="1337400"/>
          </a:xfrm>
        </p:grpSpPr>
        <p:sp>
          <p:nvSpPr>
            <p:cNvPr id="335" name=""/>
            <p:cNvSpPr/>
            <p:nvPr/>
          </p:nvSpPr>
          <p:spPr>
            <a:xfrm rot="16200000">
              <a:off x="5557680" y="371880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8480000">
              <a:off x="6086160" y="3230640"/>
              <a:ext cx="238320" cy="23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8480000">
              <a:off x="6267960" y="336780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8480000">
              <a:off x="6131880" y="327564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6263280" y="348336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6094440" y="350352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6118200" y="3525120"/>
              <a:ext cx="5580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8900000">
              <a:off x="6094080" y="425916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8900000">
              <a:off x="6184440" y="4257000"/>
              <a:ext cx="3348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5661000" y="366192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6111720" y="3745800"/>
              <a:ext cx="32220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16200000">
              <a:off x="6123960" y="352764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6122880" y="382716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60440" y="379152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661000" y="4706640"/>
            <a:ext cx="739800" cy="1337400"/>
            <a:chOff x="5661000" y="4706640"/>
            <a:chExt cx="739800" cy="1337400"/>
          </a:xfrm>
        </p:grpSpPr>
        <p:sp>
          <p:nvSpPr>
            <p:cNvPr id="350" name=""/>
            <p:cNvSpPr/>
            <p:nvPr/>
          </p:nvSpPr>
          <p:spPr>
            <a:xfrm rot="16200000">
              <a:off x="5557680" y="524304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480000">
              <a:off x="6086160" y="4754880"/>
              <a:ext cx="238320" cy="23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8480000">
              <a:off x="6267960" y="489204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8480000">
              <a:off x="6131880" y="479988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6200000">
              <a:off x="6263280" y="500760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6094440" y="50277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6118200" y="5049360"/>
              <a:ext cx="5580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8900000">
              <a:off x="6094080" y="578340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8900000">
              <a:off x="6184440" y="5781240"/>
              <a:ext cx="3348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661000" y="518616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6111720" y="5270040"/>
              <a:ext cx="32220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6200000">
              <a:off x="6123960" y="505188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6122880" y="53514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5860440" y="531576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935040" y="411444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ewpo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6553080" y="3886200"/>
            <a:ext cx="53352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553080" y="5029200"/>
            <a:ext cx="60984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ereo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2209680"/>
            <a:ext cx="121932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4876920" y="2209680"/>
            <a:ext cx="121896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3200400"/>
            <a:ext cx="609480" cy="38088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209680"/>
            <a:ext cx="1752840" cy="990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2743200" y="2209680"/>
            <a:ext cx="1066680" cy="9144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133720" y="3124080"/>
            <a:ext cx="609480" cy="45720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31240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20040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53120" y="356220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72080" y="2133720"/>
            <a:ext cx="114120" cy="114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38120" y="175176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cene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89520" y="37332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cal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668320" y="321408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mage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had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5" name="makeup2" descr=""/>
          <p:cNvPicPr/>
          <p:nvPr/>
        </p:nvPicPr>
        <p:blipFill>
          <a:blip r:embed="rId1"/>
          <a:stretch/>
        </p:blipFill>
        <p:spPr>
          <a:xfrm>
            <a:off x="2557440" y="1371600"/>
            <a:ext cx="5519880" cy="413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isual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52160" y="5500080"/>
            <a:ext cx="44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le Norman Cosmetics, Los Ange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 flipH="1" flipV="1">
            <a:off x="3446640" y="1974960"/>
            <a:ext cx="2116080" cy="12254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2743200" y="1752480"/>
            <a:ext cx="152388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ereo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09680" y="2209680"/>
            <a:ext cx="121932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876920" y="2209680"/>
            <a:ext cx="1218960" cy="175284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358128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3124080"/>
            <a:ext cx="7632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62720" y="3200400"/>
            <a:ext cx="75960" cy="76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53120" y="356220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53000" y="210492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4267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Basic Principle:  Triangul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ives reconstruction as intersection of two ray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51055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point correspon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 flipH="1" flipV="1">
            <a:off x="3276720" y="2666880"/>
            <a:ext cx="2286000" cy="13716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971800"/>
            <a:ext cx="121932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876920" y="2971800"/>
            <a:ext cx="1218960" cy="1752480"/>
          </a:xfrm>
          <a:custGeom>
            <a:avLst/>
            <a:gdLst/>
            <a:ahLst/>
            <a:rect l="l" t="t" r="r" b="b"/>
            <a:pathLst>
              <a:path w="768" h="1104">
                <a:moveTo>
                  <a:pt x="0" y="0"/>
                </a:moveTo>
                <a:lnTo>
                  <a:pt x="0" y="720"/>
                </a:lnTo>
                <a:lnTo>
                  <a:pt x="768" y="1104"/>
                </a:lnTo>
                <a:lnTo>
                  <a:pt x="768" y="384"/>
                </a:ln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2666880" y="2514600"/>
            <a:ext cx="1676520" cy="14097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ereo Correspondenc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Determine Pixel Correspondenc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irs of points that correspond to same scene poi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019240" y="438156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210360" y="4381560"/>
            <a:ext cx="76320" cy="763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Epipolar Constrai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es correspondence problem to 1D search along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conjugat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pipolar li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57400" y="2971800"/>
            <a:ext cx="4191120" cy="1447920"/>
            <a:chOff x="2057400" y="2971800"/>
            <a:chExt cx="4191120" cy="1447920"/>
          </a:xfrm>
        </p:grpSpPr>
        <p:grpSp>
          <p:nvGrpSpPr>
            <p:cNvPr id="404" name=""/>
            <p:cNvGrpSpPr/>
            <p:nvPr/>
          </p:nvGrpSpPr>
          <p:grpSpPr>
            <a:xfrm>
              <a:off x="2057400" y="2971800"/>
              <a:ext cx="4191120" cy="1447920"/>
              <a:chOff x="2057400" y="2971800"/>
              <a:chExt cx="4191120" cy="1447920"/>
            </a:xfrm>
          </p:grpSpPr>
          <p:sp>
            <p:nvSpPr>
              <p:cNvPr id="405" name=""/>
              <p:cNvSpPr/>
              <p:nvPr/>
            </p:nvSpPr>
            <p:spPr>
              <a:xfrm>
                <a:off x="2057400" y="2971800"/>
                <a:ext cx="4191120" cy="1447920"/>
              </a:xfrm>
              <a:custGeom>
                <a:avLst/>
                <a:gdLst/>
                <a:ahLst/>
                <a:rect l="l" t="t" r="r" b="b"/>
                <a:pathLst>
                  <a:path w="2640" h="912">
                    <a:moveTo>
                      <a:pt x="0" y="912"/>
                    </a:moveTo>
                    <a:lnTo>
                      <a:pt x="2640" y="912"/>
                    </a:lnTo>
                    <a:lnTo>
                      <a:pt x="1104" y="0"/>
                    </a:lnTo>
                    <a:lnTo>
                      <a:pt x="0" y="912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876920" y="3581280"/>
                <a:ext cx="0" cy="6858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29000" y="3581280"/>
                <a:ext cx="0" cy="7621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123720" y="3428640"/>
                <a:ext cx="304920" cy="152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 flipH="1">
              <a:off x="3366000" y="3762000"/>
              <a:ext cx="155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epipolar pla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876920" y="3594960"/>
            <a:ext cx="2755440" cy="672120"/>
            <a:chOff x="4876920" y="3594960"/>
            <a:chExt cx="2755440" cy="672120"/>
          </a:xfrm>
        </p:grpSpPr>
        <p:sp>
          <p:nvSpPr>
            <p:cNvPr id="411" name=""/>
            <p:cNvSpPr/>
            <p:nvPr/>
          </p:nvSpPr>
          <p:spPr>
            <a:xfrm flipV="1">
              <a:off x="4876920" y="3809880"/>
              <a:ext cx="1218960" cy="457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02720" y="3594960"/>
              <a:ext cx="15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666720" y="3518640"/>
            <a:ext cx="2755440" cy="824400"/>
            <a:chOff x="666720" y="3518640"/>
            <a:chExt cx="2755440" cy="824400"/>
          </a:xfrm>
        </p:grpSpPr>
        <p:sp>
          <p:nvSpPr>
            <p:cNvPr id="414" name=""/>
            <p:cNvSpPr/>
            <p:nvPr/>
          </p:nvSpPr>
          <p:spPr>
            <a:xfrm flipH="1">
              <a:off x="666360" y="3518640"/>
              <a:ext cx="15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epipolar li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2209320" y="3657240"/>
              <a:ext cx="1212840" cy="685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524560" y="39625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38440" y="387684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3000" y="2895480"/>
            <a:ext cx="114120" cy="114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ereo Matching Algorithm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atch Pixels in Conjugate Epipolar Lin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ssume color of point does not chang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itfal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peculariti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-contrast reg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cclu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age err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mera calibration err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umerous approa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ynamic programming [Baker 81,Ohta 85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moothness functiona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e images (trinocular, N-ocular) [Okutomi 93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 cuts [Boykov 00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51814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Reconstruct 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eometr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mera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2217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5661000" y="1426680"/>
            <a:ext cx="739800" cy="1337400"/>
            <a:chOff x="5661000" y="1426680"/>
            <a:chExt cx="739800" cy="1337400"/>
          </a:xfrm>
        </p:grpSpPr>
        <p:sp>
          <p:nvSpPr>
            <p:cNvPr id="425" name=""/>
            <p:cNvSpPr/>
            <p:nvPr/>
          </p:nvSpPr>
          <p:spPr>
            <a:xfrm rot="16200000">
              <a:off x="5557680" y="196308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8480000">
              <a:off x="6086160" y="1474920"/>
              <a:ext cx="238320" cy="23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480000">
              <a:off x="6267960" y="161208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480000">
              <a:off x="6131880" y="151992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263280" y="172764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6094440" y="174780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6118200" y="1769400"/>
              <a:ext cx="5580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6094080" y="250344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6184440" y="2501280"/>
              <a:ext cx="3348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6200000">
              <a:off x="5661000" y="190620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6111720" y="1990080"/>
              <a:ext cx="32220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6200000">
              <a:off x="6123960" y="177192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6200000">
              <a:off x="6122880" y="207144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6200000">
              <a:off x="5860440" y="20358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935040" y="2358720"/>
            <a:ext cx="136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am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ewpo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6553080" y="2130480"/>
            <a:ext cx="53352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4280" y="1346040"/>
            <a:ext cx="4902120" cy="3403800"/>
          </a:xfrm>
          <a:custGeom>
            <a:avLst/>
            <a:gdLst/>
            <a:ahLst/>
            <a:rect l="l" t="t" r="r" b="b"/>
            <a:pathLst>
              <a:path w="3088" h="2144">
                <a:moveTo>
                  <a:pt x="3088" y="496"/>
                </a:moveTo>
                <a:cubicBezTo>
                  <a:pt x="2896" y="488"/>
                  <a:pt x="2704" y="480"/>
                  <a:pt x="2608" y="544"/>
                </a:cubicBezTo>
                <a:cubicBezTo>
                  <a:pt x="2512" y="608"/>
                  <a:pt x="2480" y="752"/>
                  <a:pt x="2512" y="880"/>
                </a:cubicBezTo>
                <a:cubicBezTo>
                  <a:pt x="2544" y="1008"/>
                  <a:pt x="2824" y="1128"/>
                  <a:pt x="2800" y="1312"/>
                </a:cubicBezTo>
                <a:cubicBezTo>
                  <a:pt x="2776" y="1496"/>
                  <a:pt x="2672" y="1872"/>
                  <a:pt x="2368" y="1984"/>
                </a:cubicBezTo>
                <a:cubicBezTo>
                  <a:pt x="2064" y="2096"/>
                  <a:pt x="1352" y="2144"/>
                  <a:pt x="976" y="1984"/>
                </a:cubicBezTo>
                <a:cubicBezTo>
                  <a:pt x="600" y="1824"/>
                  <a:pt x="224" y="1328"/>
                  <a:pt x="112" y="1024"/>
                </a:cubicBezTo>
                <a:cubicBezTo>
                  <a:pt x="0" y="720"/>
                  <a:pt x="248" y="320"/>
                  <a:pt x="304" y="160"/>
                </a:cubicBezTo>
                <a:cubicBezTo>
                  <a:pt x="360" y="0"/>
                  <a:pt x="404" y="32"/>
                  <a:pt x="448" y="64"/>
                </a:cubicBezTo>
              </a:path>
            </a:pathLst>
          </a:custGeom>
          <a:noFill/>
          <a:ln w="2844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566800" y="4211640"/>
            <a:ext cx="1337040" cy="739800"/>
            <a:chOff x="2566800" y="4211640"/>
            <a:chExt cx="1337040" cy="739800"/>
          </a:xfrm>
        </p:grpSpPr>
        <p:sp>
          <p:nvSpPr>
            <p:cNvPr id="443" name=""/>
            <p:cNvSpPr/>
            <p:nvPr/>
          </p:nvSpPr>
          <p:spPr>
            <a:xfrm>
              <a:off x="2589120" y="462276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2280000">
              <a:off x="3617640" y="4637160"/>
              <a:ext cx="237960" cy="23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2280000">
              <a:off x="3638160" y="479556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280000">
              <a:off x="3661920" y="4683240"/>
              <a:ext cx="147600" cy="14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65360" y="487044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481560" y="464508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3520" y="4668840"/>
              <a:ext cx="55800" cy="55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700000">
              <a:off x="2611440" y="4645080"/>
              <a:ext cx="21600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2700000">
              <a:off x="2704320" y="4644000"/>
              <a:ext cx="3348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24360" y="4211640"/>
              <a:ext cx="39816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62160" y="4708440"/>
              <a:ext cx="32256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92560" y="457056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94120" y="457056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94120" y="457056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533160" y="1809000"/>
            <a:ext cx="739800" cy="1337400"/>
            <a:chOff x="533160" y="1809000"/>
            <a:chExt cx="739800" cy="1337400"/>
          </a:xfrm>
        </p:grpSpPr>
        <p:sp>
          <p:nvSpPr>
            <p:cNvPr id="458" name=""/>
            <p:cNvSpPr/>
            <p:nvPr/>
          </p:nvSpPr>
          <p:spPr>
            <a:xfrm rot="5400000">
              <a:off x="85320" y="2347560"/>
              <a:ext cx="1290600" cy="262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680000">
              <a:off x="609120" y="2859840"/>
              <a:ext cx="238320" cy="23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680000">
              <a:off x="610200" y="2859120"/>
              <a:ext cx="55440" cy="101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680000">
              <a:off x="654120" y="2906640"/>
              <a:ext cx="14760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476640" y="2764080"/>
              <a:ext cx="193680" cy="81000"/>
            </a:xfrm>
            <a:custGeom>
              <a:avLst/>
              <a:gdLst/>
              <a:ahLst/>
              <a:rect l="l" t="t" r="r" b="b"/>
              <a:pathLst>
                <a:path w="122" h="51">
                  <a:moveTo>
                    <a:pt x="87" y="0"/>
                  </a:moveTo>
                  <a:lnTo>
                    <a:pt x="0" y="41"/>
                  </a:lnTo>
                  <a:lnTo>
                    <a:pt x="11" y="50"/>
                  </a:lnTo>
                  <a:lnTo>
                    <a:pt x="121" y="27"/>
                  </a:lnTo>
                  <a:lnTo>
                    <a:pt x="87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5400000">
              <a:off x="738000" y="27237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5400000">
              <a:off x="759960" y="2747880"/>
              <a:ext cx="55800" cy="5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8100000">
              <a:off x="623520" y="185364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8100000">
              <a:off x="715680" y="1855440"/>
              <a:ext cx="33480" cy="216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b4b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874440" y="2268360"/>
              <a:ext cx="398520" cy="398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74747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499680" y="2352240"/>
              <a:ext cx="322200" cy="230400"/>
            </a:xfrm>
            <a:custGeom>
              <a:avLst/>
              <a:gdLst/>
              <a:ahLst/>
              <a:rect l="l" t="t" r="r" b="b"/>
              <a:pathLst>
                <a:path w="203" h="145">
                  <a:moveTo>
                    <a:pt x="144" y="0"/>
                  </a:moveTo>
                  <a:lnTo>
                    <a:pt x="58" y="0"/>
                  </a:lnTo>
                  <a:lnTo>
                    <a:pt x="0" y="144"/>
                  </a:lnTo>
                  <a:lnTo>
                    <a:pt x="202" y="14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649800" y="2432880"/>
              <a:ext cx="160200" cy="368280"/>
            </a:xfrm>
            <a:custGeom>
              <a:avLst/>
              <a:gdLst/>
              <a:ahLst/>
              <a:rect l="l" t="t" r="r" b="b"/>
              <a:pathLst>
                <a:path w="101" h="232">
                  <a:moveTo>
                    <a:pt x="100" y="0"/>
                  </a:moveTo>
                  <a:lnTo>
                    <a:pt x="0" y="87"/>
                  </a:lnTo>
                  <a:lnTo>
                    <a:pt x="57" y="231"/>
                  </a:lnTo>
                  <a:lnTo>
                    <a:pt x="100" y="202"/>
                  </a:lnTo>
                  <a:lnTo>
                    <a:pt x="100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648720" y="2133000"/>
              <a:ext cx="162000" cy="368280"/>
            </a:xfrm>
            <a:custGeom>
              <a:avLst/>
              <a:gdLst/>
              <a:ahLst/>
              <a:rect l="l" t="t" r="r" b="b"/>
              <a:pathLst>
                <a:path w="102" h="232">
                  <a:moveTo>
                    <a:pt x="0" y="0"/>
                  </a:moveTo>
                  <a:lnTo>
                    <a:pt x="101" y="87"/>
                  </a:lnTo>
                  <a:lnTo>
                    <a:pt x="43" y="231"/>
                  </a:lnTo>
                  <a:lnTo>
                    <a:pt x="0" y="20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5400000">
              <a:off x="614880" y="2397600"/>
              <a:ext cx="458640" cy="139680"/>
            </a:xfrm>
            <a:custGeom>
              <a:avLst/>
              <a:gdLst/>
              <a:ahLst/>
              <a:rect l="l" t="t" r="r" b="b"/>
              <a:pathLst>
                <a:path w="289" h="88">
                  <a:moveTo>
                    <a:pt x="288" y="0"/>
                  </a:moveTo>
                  <a:lnTo>
                    <a:pt x="0" y="0"/>
                  </a:lnTo>
                  <a:lnTo>
                    <a:pt x="101" y="87"/>
                  </a:lnTo>
                  <a:lnTo>
                    <a:pt x="187" y="87"/>
                  </a:lnTo>
                  <a:lnTo>
                    <a:pt x="288" y="0"/>
                  </a:lnTo>
                </a:path>
              </a:pathLst>
            </a:custGeom>
            <a:gradFill rotWithShape="0">
              <a:gsLst>
                <a:gs pos="0">
                  <a:srgbClr val="828282"/>
                </a:gs>
                <a:gs pos="100000">
                  <a:srgbClr val="dadada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e SFM Problem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construct scen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eometr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and camera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tion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from two or more ima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2666880"/>
            <a:ext cx="16002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r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D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666880" y="3048120"/>
            <a:ext cx="1600200" cy="99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tim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3352680"/>
            <a:ext cx="16002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m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010280" y="3657600"/>
            <a:ext cx="16002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it Surfa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3200400"/>
            <a:ext cx="30492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3505320"/>
            <a:ext cx="304560" cy="3045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3809880"/>
            <a:ext cx="304920" cy="304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p 1:  Track Featur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tect good featur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rners, line seg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nd correspondences between fram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-based corre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heinz1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2133360" cy="1800360"/>
          </a:xfrm>
          <a:prstGeom prst="rect">
            <a:avLst/>
          </a:prstGeom>
          <a:ln w="0">
            <a:noFill/>
          </a:ln>
        </p:spPr>
      </p:pic>
      <p:pic>
        <p:nvPicPr>
          <p:cNvPr id="484" name="heinz3" descr=""/>
          <p:cNvPicPr/>
          <p:nvPr/>
        </p:nvPicPr>
        <p:blipFill>
          <a:blip r:embed="rId2"/>
          <a:stretch/>
        </p:blipFill>
        <p:spPr>
          <a:xfrm>
            <a:off x="3505320" y="1295280"/>
            <a:ext cx="2133360" cy="1797120"/>
          </a:xfrm>
          <a:prstGeom prst="rect">
            <a:avLst/>
          </a:prstGeom>
          <a:ln w="0">
            <a:noFill/>
          </a:ln>
        </p:spPr>
      </p:pic>
      <p:pic>
        <p:nvPicPr>
          <p:cNvPr id="485" name="heinz5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2133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p 2:  Estimate Motion and Structur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rthographic projection, e.g.,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Tomasi 92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 or 3 views at a time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Hartley 00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1447920"/>
            <a:ext cx="6400800" cy="3047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983240" y="1725480"/>
            <a:ext cx="5109840" cy="2452680"/>
            <a:chOff x="1983240" y="1725480"/>
            <a:chExt cx="5109840" cy="2452680"/>
          </a:xfrm>
        </p:grpSpPr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2308320" y="1725480"/>
                  <a:ext cx="4784760" cy="238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/>
                      </m:limLow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mr>
                                <m:mr>
                                  <m:e>
                                    <m:r>
                                      <m:t xml:space="preserve">⋮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/>
                      </m:limLow>
                      <m:r>
                        <m:t xml:space="preserve"> </m:t>
                      </m:r>
                      <m:limLow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t xml:space="preserve">⋯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d>
                        </m:e>
                        <m:lim/>
                      </m:limLow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"/>
            <p:cNvSpPr/>
            <p:nvPr/>
          </p:nvSpPr>
          <p:spPr>
            <a:xfrm>
              <a:off x="1983240" y="370260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Imag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05680" y="37184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Mo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7200" y="289440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tructu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p 3:  Refine Estimat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nlinear optimization over cameras and point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Hartley 94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ndle adjustment” in photogrammetr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tructure from Mot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p 4:  Recover Surfac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mage-based triangulation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Morris 00, Baillard 99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lhouettes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Fitzgibbon 98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reo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Pollefeys 99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badTL" descr=""/>
          <p:cNvPicPr/>
          <p:nvPr/>
        </p:nvPicPr>
        <p:blipFill>
          <a:blip r:embed="rId1"/>
          <a:stretch/>
        </p:blipFill>
        <p:spPr>
          <a:xfrm>
            <a:off x="1219320" y="1216080"/>
            <a:ext cx="3297240" cy="3203640"/>
          </a:xfrm>
          <a:prstGeom prst="rect">
            <a:avLst/>
          </a:prstGeom>
          <a:ln w="0">
            <a:noFill/>
          </a:ln>
        </p:spPr>
      </p:pic>
      <p:pic>
        <p:nvPicPr>
          <p:cNvPr id="499" name="goodTL" descr=""/>
          <p:cNvPicPr/>
          <p:nvPr/>
        </p:nvPicPr>
        <p:blipFill>
          <a:blip r:embed="rId2"/>
          <a:stretch/>
        </p:blipFill>
        <p:spPr>
          <a:xfrm>
            <a:off x="4714920" y="121932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657440" y="396144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or me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82200" y="39614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ood me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224880" y="4417200"/>
            <a:ext cx="28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rris and Kanade,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mputer Vision Home Pag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www.cs.cmu.edu/afs/cs/project/cil/ftp/html/vision.htm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mputer Vision Textbook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. Faugeras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Three-Dimensional Computer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MIT Press, 1993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. Trucco and A. Verri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Introductory Techniques for 3-D Computer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Prentice-Hall, 1998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. S. Nalwa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A Guided Tour of Computer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Addison-Wesley, 1993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. Jain, R. Kasturi and B. G. Schunck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Machine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McGraw-Hill, 1995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. Klette, K. Schluns and A. Koschan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Computer Vision: Three-Dimensional Data from Images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Springer-Verlag, 1998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. Sonka, V. Hlavac and R. Boyle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Image Processing, Analysis, and Machine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Brooks/Cole Publishing, 1999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. H. Ballard and C. M. Brown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Computer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Prentice-Hall, 1982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. K. P. Horn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Robot 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McGraw-Hill, 1986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. Koenderink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Solid Shape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MIT Press, 1990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. Marr, </a:t>
            </a:r>
            <a:r>
              <a:rPr b="1" i="1" lang="en-US" sz="1500" spc="-1" strike="noStrike">
                <a:solidFill>
                  <a:srgbClr val="ffffff"/>
                </a:solidFill>
                <a:latin typeface="Arial"/>
              </a:rPr>
              <a:t>Vision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, Freeman, 1982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5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isual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Shad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extur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cat1" descr=""/>
          <p:cNvPicPr/>
          <p:nvPr/>
        </p:nvPicPr>
        <p:blipFill>
          <a:blip r:embed="rId1"/>
          <a:stretch/>
        </p:blipFill>
        <p:spPr>
          <a:xfrm>
            <a:off x="3279600" y="1219320"/>
            <a:ext cx="3426120" cy="4267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84080" y="55000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e Visual Cliff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by William Vandivert, 19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ingle View Modeling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V. Blanz &amp; T. Vetter, “A Morphable Model for the Synthesis of 3D Faces”, SIGGRAPH 99, pp. 187-19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. Criminisi, I. Reid, &amp; A. Zisserman, “Single View Metrology”, ICCV 2000, pp. 434-441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B. K. P. Horn &amp; M. Brooks, “Shape from Shading”, 1989, MIT Press, Cambridge, M.A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Y. Horry, K. Anjyo, &amp; K. Arai, “Tour into the Picture”, SIGGRAPH 97, pp. 225-232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. Zhang, P-S. Tsai, J. Cryer, &amp; M. Shah, “Shape from Shading:  A Survey”, IEEE Trans. on PAMI, 21(8), 1999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tereo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Y. Boykov, O. Veksler, &amp; R. Zabih, “Fast Approximate Energy Minimization via Graph Cuts”, ICCV, 1999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Y. Ohta &amp; T. Kanade, "Stereo by Intra- and Inter-Scanline Search Using Dynamic Programming", IEEE Trans. on PAMI, 7(2), 1985, pp. 129-154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. Okutomi &amp; T. Kanade, ”A Multiple-Baseline Stereo", IEEE Trans. on Pattern Analysis and Machine Intelligence", 15(4), 1993, 353-363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tructure from Motion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. Baillard &amp; A. Zisserman, “Automatic Reconstruction of Planar Models from Multiple Views”, CVPR 99, pp. 559-565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.W. Fitzgibbon, G. Cross, &amp; A. Zisserman, “Automatic 3D Model Construction for Turn-Table Sequences”, SMILE Workshop, 1998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. Hartley &amp; A. Zisserman, “Multiple View Geometry”, Cambridge Univ. Press, 2000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R. Hartley, “Euclidean Reconstruction from Uncalibrated Views”, In Applications of Invariance in Computer Vision, Springer-Verlag, 1994, pp. 237-256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. Morris &amp; T. Kanade, “Image-Consistent Surface Triangulation”, CVPR 00, pp. 332-338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. Pollefeys, R. Koch &amp; L. Van Gool, “Self-Calibration and Metric Reconstruction in spite of Varying and Unknown Internal Camera Parameters”, Int. J. of Computer Vision, 32(1), 1999, pp. 7-25.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62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. Tomasi &amp; T. Kanade, ”Shape and Motion from Image Streams Under Orthography:  A Factorization Method", Int. Journal of Computer Vision, 9(2), 1992, pp. 137-154. 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ibliograph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isual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depth_dep1" descr=""/>
          <p:cNvPicPr/>
          <p:nvPr/>
        </p:nvPicPr>
        <p:blipFill>
          <a:blip r:embed="rId1"/>
          <a:stretch/>
        </p:blipFill>
        <p:spPr>
          <a:xfrm>
            <a:off x="2374920" y="1390680"/>
            <a:ext cx="2690640" cy="4021200"/>
          </a:xfrm>
          <a:prstGeom prst="rect">
            <a:avLst/>
          </a:prstGeom>
          <a:ln w="0">
            <a:noFill/>
          </a:ln>
        </p:spPr>
      </p:pic>
      <p:pic>
        <p:nvPicPr>
          <p:cNvPr id="94" name="depth_ae_dep2" descr=""/>
          <p:cNvPicPr/>
          <p:nvPr/>
        </p:nvPicPr>
        <p:blipFill>
          <a:blip r:embed="rId2"/>
          <a:stretch/>
        </p:blipFill>
        <p:spPr>
          <a:xfrm>
            <a:off x="5334120" y="1390680"/>
            <a:ext cx="2712960" cy="4019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36320" y="540936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e Art of Photography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Can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Shad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Textur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ocu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garg1" descr=""/>
          <p:cNvPicPr/>
          <p:nvPr/>
        </p:nvPicPr>
        <p:blipFill>
          <a:blip r:embed="rId1"/>
          <a:stretch/>
        </p:blipFill>
        <p:spPr>
          <a:xfrm>
            <a:off x="2314440" y="1424160"/>
            <a:ext cx="2043360" cy="3300120"/>
          </a:xfrm>
          <a:prstGeom prst="rect">
            <a:avLst/>
          </a:prstGeom>
          <a:ln w="0">
            <a:noFill/>
          </a:ln>
        </p:spPr>
      </p:pic>
      <p:pic>
        <p:nvPicPr>
          <p:cNvPr id="98" name="garg2" descr=""/>
          <p:cNvPicPr/>
          <p:nvPr/>
        </p:nvPicPr>
        <p:blipFill>
          <a:blip r:embed="rId2"/>
          <a:stretch/>
        </p:blipFill>
        <p:spPr>
          <a:xfrm>
            <a:off x="4433760" y="1424160"/>
            <a:ext cx="2043360" cy="3300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isual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garg3" descr=""/>
          <p:cNvPicPr/>
          <p:nvPr/>
        </p:nvPicPr>
        <p:blipFill>
          <a:blip r:embed="rId3"/>
          <a:stretch/>
        </p:blipFill>
        <p:spPr>
          <a:xfrm>
            <a:off x="6567480" y="1424160"/>
            <a:ext cx="2043000" cy="330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Shad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Textur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Focu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otion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Visual Cue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1752480"/>
            <a:ext cx="44960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Other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hado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lhouet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r-refle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ght Polariz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Shading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Texture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Focu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69696"/>
                </a:solidFill>
                <a:latin typeface="Arial"/>
              </a:rPr>
              <a:t>Motion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5627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hape From 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 = shading, texture, focus, motion, ..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Talk Outline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Overview Leading Approach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876240" indent="-419040">
              <a:spcBef>
                <a:spcPts val="68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ngle view model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spcBef>
                <a:spcPts val="68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reo reconstr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419040">
              <a:spcBef>
                <a:spcPts val="68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ructure from mo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ingle View Modeling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crlakewd" descr=""/>
          <p:cNvPicPr/>
          <p:nvPr/>
        </p:nvPicPr>
        <p:blipFill>
          <a:blip r:embed="rId1"/>
          <a:stretch/>
        </p:blipFill>
        <p:spPr>
          <a:xfrm>
            <a:off x="117360" y="1523880"/>
            <a:ext cx="895032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How Do Humans Do This?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Good Guesswork Based on Prior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se lines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ok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parallel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ok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like a cube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ok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like a shadow”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omputers Can Do This Too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hape from shading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[Horn 89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aided model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ur into the Picture” [Horry 97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acade” [Debevec 96]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ngle View Metrology” [Criminisi 99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earning approach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rphable Models” [Blanz 99]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05:01:05Z</dcterms:created>
  <dc:creator>Steve Seitz</dc:creator>
  <dc:description/>
  <dc:language>en-US</dc:language>
  <cp:lastModifiedBy>Steve Seitz</cp:lastModifiedBy>
  <cp:lastPrinted>1999-04-21T05:05:26Z</cp:lastPrinted>
  <dcterms:modified xsi:type="dcterms:W3CDTF">2000-07-24T02:53:39Z</dcterms:modified>
  <cp:revision>206</cp:revision>
  <dc:subject/>
  <dc:title>Voxel-Based 3D Reconstruction</dc:title>
</cp:coreProperties>
</file>