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BE843-4E83-4B6A-86AD-B957114F21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299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A8A35-CB3B-4FED-B181-494963FBF5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29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29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88524-3D57-4E26-A360-0BF15FE805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299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299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299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EEA8B-3E94-4CEA-9ABC-5433F5F2C4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B441C9-7B6E-4783-BD98-2B89CA6A60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1DF99C-CB9C-4140-B9CD-1B2E5CC8E8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C0062-1EC3-4BB5-8518-F9163D6D19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DC8B98-9AF4-4BD5-9C17-D925B5C8FF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B880ED-DA2A-49FE-BD90-E7DA894E3C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B933B-13A1-47A2-90C1-02A3CC9ADF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729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9594A-6783-4E23-A0DB-11D59424B6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2A2AC-FC7C-419A-B4BB-B3929902B5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729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D54AC7-710B-450A-9ED6-85C9F96B81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299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F1EE72-421E-4E20-8919-EB8B52DB22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7299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E5CAC-37E0-4CFC-B510-40C9E1EB26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29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729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F14547-4FEE-4754-97C4-8D8793ECC7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7299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7299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7299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B75C65-97D2-433B-988A-D795569F6A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7E5E9-91F2-4C11-B1BF-B36AC5C89B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A8EE4-4933-4DD4-937B-E4B6E525A6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B5962-AE65-4671-8E57-135CFC5964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3DBD5-9998-47D8-A682-4D3795A694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29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8A129-424B-4E6C-928B-2E0F60C056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29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B3F90-6C06-4567-A7A9-2DC50B4FF0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299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B32AF-BD77-46CC-A148-739F106792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Second Outline Level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Third Outline Level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Fourth Outline Level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Fifth Outline Level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Sixth Outline Level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Seventh Outline Level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3F3A-1F38-4171-9458-AAC6B06435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990720"/>
            <a:ext cx="8229600" cy="0"/>
          </a:xfrm>
          <a:prstGeom prst="line">
            <a:avLst/>
          </a:prstGeom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685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506B-2A33-4EDB-A419-321D91E595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lvl="1" marL="457200" indent="0"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ffffff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55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55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55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imes New Roman"/>
              </a:rPr>
              <a:t>Introduction</a:t>
            </a:r>
            <a:endParaRPr b="1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441936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cc66"/>
                </a:solidFill>
                <a:latin typeface="Arial"/>
              </a:rPr>
              <a:t>Steve Seitz</a:t>
            </a:r>
            <a:endParaRPr b="1" i="1" lang="en-US" sz="30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Carnegie Mellon University</a:t>
            </a:r>
            <a:endParaRPr b="1" i="1" lang="en-US" sz="20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cc66"/>
                </a:solidFill>
                <a:latin typeface="Arial"/>
              </a:rPr>
              <a:t>Brian Curless</a:t>
            </a:r>
            <a:endParaRPr b="1" i="1" lang="en-US" sz="30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University of Washington</a:t>
            </a:r>
            <a:endParaRPr b="1" i="1" lang="en-US" sz="20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4572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cc66"/>
                </a:solidFill>
                <a:latin typeface="Arial"/>
              </a:rPr>
              <a:t>SIGGRAPH 2000 Course on</a:t>
            </a:r>
            <a:br>
              <a:rPr sz="3000"/>
            </a:br>
            <a:r>
              <a:rPr b="1" i="1" lang="en-US" sz="3000" spc="-1" strike="noStrike">
                <a:solidFill>
                  <a:srgbClr val="ffcc66"/>
                </a:solidFill>
                <a:latin typeface="Arial"/>
              </a:rPr>
              <a:t>3D Photography</a:t>
            </a:r>
            <a:br>
              <a:rPr sz="3000"/>
            </a:br>
            <a:r>
              <a:rPr b="1" i="1" lang="en-US" sz="3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ttp://www.cs.cmu.edu/~seitz/course/3DPhoto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Speakers  (Afternoon Session)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Jean-Yves Bouguet 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tel Corporation</a:t>
            </a:r>
            <a:endParaRPr b="1" i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55627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2:15pm</a:t>
            </a: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  Desktop 3D Photograph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shadow2" descr=""/>
          <p:cNvPicPr/>
          <p:nvPr/>
        </p:nvPicPr>
        <p:blipFill>
          <a:blip r:embed="rId1"/>
          <a:stretch/>
        </p:blipFill>
        <p:spPr>
          <a:xfrm>
            <a:off x="2514600" y="1878120"/>
            <a:ext cx="4038480" cy="353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Speakers   (Afternoon Session)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Marc Levoy 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anford University</a:t>
            </a:r>
            <a:endParaRPr b="1" i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55627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:55pm</a:t>
            </a: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  The Digital Michelangelo Projec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digital_michelangelo" descr=""/>
          <p:cNvPicPr/>
          <p:nvPr/>
        </p:nvPicPr>
        <p:blipFill>
          <a:blip r:embed="rId1"/>
          <a:stretch/>
        </p:blipFill>
        <p:spPr>
          <a:xfrm>
            <a:off x="2757600" y="1752480"/>
            <a:ext cx="36432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What Not to Expec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Build-your-own” 3D camera instruction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What to Expec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actical understanding of issu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Overview of major approach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atest research resul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urrent capabilities, limitation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Course Objective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Course Notes</a:t>
            </a:r>
            <a:br>
              <a:rPr sz="3400"/>
            </a:b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http://www.cs.cmu.edu/~seitz/course/3DPhoto.html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Slides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crobat versions of speakers’ sli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Abstracts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igital Michelangelo Projec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assive vision intro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ling architecture from photograph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Models, Movies, Online Presentations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VRML models, HTM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Quicktime mov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Papers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lectronic versions of relevant publicatio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3D Photography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382920" y="1295280"/>
            <a:ext cx="1722600" cy="213048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304920" y="1653840"/>
            <a:ext cx="3276360" cy="2156040"/>
            <a:chOff x="304920" y="1653840"/>
            <a:chExt cx="3276360" cy="2156040"/>
          </a:xfrm>
        </p:grpSpPr>
        <p:grpSp>
          <p:nvGrpSpPr>
            <p:cNvPr id="87" name=""/>
            <p:cNvGrpSpPr/>
            <p:nvPr/>
          </p:nvGrpSpPr>
          <p:grpSpPr>
            <a:xfrm>
              <a:off x="304920" y="1653840"/>
              <a:ext cx="3276360" cy="2156040"/>
              <a:chOff x="304920" y="1653840"/>
              <a:chExt cx="3276360" cy="2156040"/>
            </a:xfrm>
          </p:grpSpPr>
          <p:sp>
            <p:nvSpPr>
              <p:cNvPr id="88" name=""/>
              <p:cNvSpPr/>
              <p:nvPr/>
            </p:nvSpPr>
            <p:spPr>
              <a:xfrm>
                <a:off x="533520" y="3276720"/>
                <a:ext cx="3047760" cy="5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00"/>
                    </a:solidFill>
                    <a:latin typeface="Arial"/>
                  </a:rPr>
                  <a:t> </a:t>
                </a:r>
                <a:r>
                  <a:rPr b="1" lang="en-US" sz="2800" spc="-1" strike="noStrike">
                    <a:solidFill>
                      <a:srgbClr val="ffff00"/>
                    </a:solidFill>
                    <a:latin typeface="Arial"/>
                  </a:rPr>
                  <a:t>2D Photography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9" name=""/>
              <p:cNvGrpSpPr/>
              <p:nvPr/>
            </p:nvGrpSpPr>
            <p:grpSpPr>
              <a:xfrm>
                <a:off x="1850760" y="1653840"/>
                <a:ext cx="739800" cy="1337400"/>
                <a:chOff x="1850760" y="1653840"/>
                <a:chExt cx="739800" cy="1337400"/>
              </a:xfrm>
            </p:grpSpPr>
            <p:sp>
              <p:nvSpPr>
                <p:cNvPr id="90" name=""/>
                <p:cNvSpPr/>
                <p:nvPr/>
              </p:nvSpPr>
              <p:spPr>
                <a:xfrm flipH="1" rot="5400000">
                  <a:off x="1402920" y="2190240"/>
                  <a:ext cx="1290600" cy="262080"/>
                </a:xfrm>
                <a:prstGeom prst="rect">
                  <a:avLst/>
                </a:prstGeom>
                <a:solidFill>
                  <a:srgbClr val="dadada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 flipH="1" rot="3120000">
                  <a:off x="1926720" y="1702080"/>
                  <a:ext cx="238680" cy="237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H="1" rot="3120000">
                  <a:off x="1928160" y="1839240"/>
                  <a:ext cx="55440" cy="101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4b4b4b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flipH="1" rot="3120000">
                  <a:off x="1972080" y="1747080"/>
                  <a:ext cx="147600" cy="14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4b4b4b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 flipH="1" rot="5400000">
                  <a:off x="1793880" y="1954800"/>
                  <a:ext cx="193680" cy="81000"/>
                </a:xfrm>
                <a:custGeom>
                  <a:avLst/>
                  <a:gdLst/>
                  <a:ahLst/>
                  <a:rect l="l" t="t" r="r" b="b"/>
                  <a:pathLst>
                    <a:path w="122" h="51">
                      <a:moveTo>
                        <a:pt x="87" y="0"/>
                      </a:moveTo>
                      <a:lnTo>
                        <a:pt x="0" y="41"/>
                      </a:lnTo>
                      <a:lnTo>
                        <a:pt x="11" y="50"/>
                      </a:lnTo>
                      <a:lnTo>
                        <a:pt x="121" y="27"/>
                      </a:lnTo>
                      <a:lnTo>
                        <a:pt x="87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b4b4b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flipH="1" rot="5400000">
                  <a:off x="2055600" y="1974960"/>
                  <a:ext cx="101520" cy="1015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flipH="1" rot="5400000">
                  <a:off x="2077200" y="1996560"/>
                  <a:ext cx="55800" cy="5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4b4b4b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H="1" rot="2700000">
                  <a:off x="1940760" y="2730600"/>
                  <a:ext cx="216000" cy="215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H="1" rot="2700000">
                  <a:off x="2033280" y="2728440"/>
                  <a:ext cx="33480" cy="216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4b4b4b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 flipH="1" rot="5400000">
                  <a:off x="2191680" y="2133360"/>
                  <a:ext cx="398520" cy="398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474747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rot="5400000">
                  <a:off x="1817280" y="2217240"/>
                  <a:ext cx="322200" cy="230400"/>
                </a:xfrm>
                <a:custGeom>
                  <a:avLst/>
                  <a:gdLst/>
                  <a:ahLst/>
                  <a:rect l="l" t="t" r="r" b="b"/>
                  <a:pathLst>
                    <a:path w="203" h="145">
                      <a:moveTo>
                        <a:pt x="144" y="0"/>
                      </a:moveTo>
                      <a:lnTo>
                        <a:pt x="58" y="0"/>
                      </a:lnTo>
                      <a:lnTo>
                        <a:pt x="0" y="144"/>
                      </a:lnTo>
                      <a:lnTo>
                        <a:pt x="202" y="144"/>
                      </a:lnTo>
                      <a:lnTo>
                        <a:pt x="144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adada"/>
                    </a:gs>
                    <a:gs pos="100000">
                      <a:srgbClr val="828282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flipH="1" rot="5400000">
                  <a:off x="1967040" y="1999080"/>
                  <a:ext cx="160200" cy="368280"/>
                </a:xfrm>
                <a:custGeom>
                  <a:avLst/>
                  <a:gdLst/>
                  <a:ahLst/>
                  <a:rect l="l" t="t" r="r" b="b"/>
                  <a:pathLst>
                    <a:path w="101" h="232">
                      <a:moveTo>
                        <a:pt x="100" y="0"/>
                      </a:moveTo>
                      <a:lnTo>
                        <a:pt x="0" y="87"/>
                      </a:lnTo>
                      <a:lnTo>
                        <a:pt x="57" y="231"/>
                      </a:lnTo>
                      <a:lnTo>
                        <a:pt x="100" y="202"/>
                      </a:lnTo>
                      <a:lnTo>
                        <a:pt x="10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828282"/>
                    </a:gs>
                    <a:gs pos="100000">
                      <a:srgbClr val="dadada"/>
                    </a:gs>
                  </a:gsLst>
                  <a:lin ang="108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flipH="1" rot="5400000">
                  <a:off x="1965960" y="2298600"/>
                  <a:ext cx="162000" cy="368280"/>
                </a:xfrm>
                <a:custGeom>
                  <a:avLst/>
                  <a:gdLst/>
                  <a:ahLst/>
                  <a:rect l="l" t="t" r="r" b="b"/>
                  <a:pathLst>
                    <a:path w="102" h="232">
                      <a:moveTo>
                        <a:pt x="0" y="0"/>
                      </a:moveTo>
                      <a:lnTo>
                        <a:pt x="101" y="87"/>
                      </a:lnTo>
                      <a:lnTo>
                        <a:pt x="43" y="231"/>
                      </a:lnTo>
                      <a:lnTo>
                        <a:pt x="0" y="202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adada"/>
                    </a:gs>
                    <a:gs pos="100000">
                      <a:srgbClr val="828282"/>
                    </a:gs>
                  </a:gsLst>
                  <a:lin ang="108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H="1" rot="5400000">
                  <a:off x="1932480" y="2262960"/>
                  <a:ext cx="458640" cy="139680"/>
                </a:xfrm>
                <a:custGeom>
                  <a:avLst/>
                  <a:gdLst/>
                  <a:ahLst/>
                  <a:rect l="l" t="t" r="r" b="b"/>
                  <a:pathLst>
                    <a:path w="289" h="88">
                      <a:moveTo>
                        <a:pt x="288" y="0"/>
                      </a:moveTo>
                      <a:lnTo>
                        <a:pt x="0" y="0"/>
                      </a:lnTo>
                      <a:lnTo>
                        <a:pt x="101" y="87"/>
                      </a:lnTo>
                      <a:lnTo>
                        <a:pt x="187" y="87"/>
                      </a:lnTo>
                      <a:lnTo>
                        <a:pt x="288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828282"/>
                    </a:gs>
                    <a:gs pos="100000">
                      <a:srgbClr val="dadada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" name=""/>
              <p:cNvSpPr/>
              <p:nvPr/>
            </p:nvSpPr>
            <p:spPr>
              <a:xfrm flipH="1">
                <a:off x="304920" y="2057400"/>
                <a:ext cx="121896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Arial"/>
                  </a:rPr>
                  <a:t>Ligh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2819520" y="1828800"/>
                <a:ext cx="457200" cy="3049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2819520" y="2286000"/>
                <a:ext cx="45720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 flipV="1">
                <a:off x="2819520" y="2514240"/>
                <a:ext cx="457200" cy="22860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1371600" y="2320920"/>
                <a:ext cx="38088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2625120" y="2726280"/>
              <a:ext cx="80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Ligh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139720" y="1658520"/>
            <a:ext cx="4003920" cy="2151360"/>
            <a:chOff x="5139720" y="1658520"/>
            <a:chExt cx="4003920" cy="2151360"/>
          </a:xfrm>
        </p:grpSpPr>
        <p:grpSp>
          <p:nvGrpSpPr>
            <p:cNvPr id="111" name=""/>
            <p:cNvGrpSpPr/>
            <p:nvPr/>
          </p:nvGrpSpPr>
          <p:grpSpPr>
            <a:xfrm>
              <a:off x="5334120" y="1658520"/>
              <a:ext cx="3809520" cy="2151360"/>
              <a:chOff x="5334120" y="1658520"/>
              <a:chExt cx="3809520" cy="2151360"/>
            </a:xfrm>
          </p:grpSpPr>
          <p:grpSp>
            <p:nvGrpSpPr>
              <p:cNvPr id="112" name=""/>
              <p:cNvGrpSpPr/>
              <p:nvPr/>
            </p:nvGrpSpPr>
            <p:grpSpPr>
              <a:xfrm>
                <a:off x="5943600" y="1658520"/>
                <a:ext cx="739800" cy="1337400"/>
                <a:chOff x="5943600" y="1658520"/>
                <a:chExt cx="739800" cy="1337400"/>
              </a:xfrm>
            </p:grpSpPr>
            <p:sp>
              <p:nvSpPr>
                <p:cNvPr id="113" name=""/>
                <p:cNvSpPr/>
                <p:nvPr/>
              </p:nvSpPr>
              <p:spPr>
                <a:xfrm rot="16200000">
                  <a:off x="5840280" y="2194920"/>
                  <a:ext cx="1290600" cy="262080"/>
                </a:xfrm>
                <a:prstGeom prst="rect">
                  <a:avLst/>
                </a:prstGeom>
                <a:solidFill>
                  <a:srgbClr val="dadada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rot="18480000">
                  <a:off x="6368760" y="1706760"/>
                  <a:ext cx="238320" cy="2379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rot="18480000">
                  <a:off x="6550560" y="1843920"/>
                  <a:ext cx="55440" cy="101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4b4b4b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rot="18480000">
                  <a:off x="6414480" y="1751760"/>
                  <a:ext cx="147600" cy="14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4b4b4b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rot="16200000">
                  <a:off x="6545880" y="1959480"/>
                  <a:ext cx="193680" cy="81000"/>
                </a:xfrm>
                <a:custGeom>
                  <a:avLst/>
                  <a:gdLst/>
                  <a:ahLst/>
                  <a:rect l="l" t="t" r="r" b="b"/>
                  <a:pathLst>
                    <a:path w="122" h="51">
                      <a:moveTo>
                        <a:pt x="87" y="0"/>
                      </a:moveTo>
                      <a:lnTo>
                        <a:pt x="0" y="41"/>
                      </a:lnTo>
                      <a:lnTo>
                        <a:pt x="11" y="50"/>
                      </a:lnTo>
                      <a:lnTo>
                        <a:pt x="121" y="27"/>
                      </a:lnTo>
                      <a:lnTo>
                        <a:pt x="87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b4b4b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rot="16200000">
                  <a:off x="6377040" y="1979640"/>
                  <a:ext cx="101520" cy="1015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rot="16200000">
                  <a:off x="6400800" y="2001240"/>
                  <a:ext cx="55800" cy="55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4b4b4b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rot="18900000">
                  <a:off x="6376680" y="2735280"/>
                  <a:ext cx="216000" cy="215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dadad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rot="18900000">
                  <a:off x="6467040" y="2733120"/>
                  <a:ext cx="33480" cy="216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4b4b4b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 rot="16200000">
                  <a:off x="5943600" y="2138040"/>
                  <a:ext cx="398520" cy="398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474747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 rot="16200000">
                  <a:off x="6394320" y="2221920"/>
                  <a:ext cx="322200" cy="230400"/>
                </a:xfrm>
                <a:custGeom>
                  <a:avLst/>
                  <a:gdLst/>
                  <a:ahLst/>
                  <a:rect l="l" t="t" r="r" b="b"/>
                  <a:pathLst>
                    <a:path w="203" h="145">
                      <a:moveTo>
                        <a:pt x="144" y="0"/>
                      </a:moveTo>
                      <a:lnTo>
                        <a:pt x="58" y="0"/>
                      </a:lnTo>
                      <a:lnTo>
                        <a:pt x="0" y="144"/>
                      </a:lnTo>
                      <a:lnTo>
                        <a:pt x="202" y="144"/>
                      </a:lnTo>
                      <a:lnTo>
                        <a:pt x="144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adada"/>
                    </a:gs>
                    <a:gs pos="100000">
                      <a:srgbClr val="828282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rot="16200000">
                  <a:off x="6406560" y="2003760"/>
                  <a:ext cx="160200" cy="368280"/>
                </a:xfrm>
                <a:custGeom>
                  <a:avLst/>
                  <a:gdLst/>
                  <a:ahLst/>
                  <a:rect l="l" t="t" r="r" b="b"/>
                  <a:pathLst>
                    <a:path w="101" h="232">
                      <a:moveTo>
                        <a:pt x="100" y="0"/>
                      </a:moveTo>
                      <a:lnTo>
                        <a:pt x="0" y="87"/>
                      </a:lnTo>
                      <a:lnTo>
                        <a:pt x="57" y="231"/>
                      </a:lnTo>
                      <a:lnTo>
                        <a:pt x="100" y="202"/>
                      </a:lnTo>
                      <a:lnTo>
                        <a:pt x="10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828282"/>
                    </a:gs>
                    <a:gs pos="100000">
                      <a:srgbClr val="dadada"/>
                    </a:gs>
                  </a:gsLst>
                  <a:lin ang="108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rot="16200000">
                  <a:off x="6405480" y="2303280"/>
                  <a:ext cx="162000" cy="368280"/>
                </a:xfrm>
                <a:custGeom>
                  <a:avLst/>
                  <a:gdLst/>
                  <a:ahLst/>
                  <a:rect l="l" t="t" r="r" b="b"/>
                  <a:pathLst>
                    <a:path w="102" h="232">
                      <a:moveTo>
                        <a:pt x="0" y="0"/>
                      </a:moveTo>
                      <a:lnTo>
                        <a:pt x="101" y="87"/>
                      </a:lnTo>
                      <a:lnTo>
                        <a:pt x="43" y="231"/>
                      </a:lnTo>
                      <a:lnTo>
                        <a:pt x="0" y="202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adada"/>
                    </a:gs>
                    <a:gs pos="100000">
                      <a:srgbClr val="828282"/>
                    </a:gs>
                  </a:gsLst>
                  <a:lin ang="108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rot="16200000">
                  <a:off x="6143040" y="2267640"/>
                  <a:ext cx="458640" cy="139680"/>
                </a:xfrm>
                <a:custGeom>
                  <a:avLst/>
                  <a:gdLst/>
                  <a:ahLst/>
                  <a:rect l="l" t="t" r="r" b="b"/>
                  <a:pathLst>
                    <a:path w="289" h="88">
                      <a:moveTo>
                        <a:pt x="288" y="0"/>
                      </a:moveTo>
                      <a:lnTo>
                        <a:pt x="0" y="0"/>
                      </a:lnTo>
                      <a:lnTo>
                        <a:pt x="101" y="87"/>
                      </a:lnTo>
                      <a:lnTo>
                        <a:pt x="187" y="87"/>
                      </a:lnTo>
                      <a:lnTo>
                        <a:pt x="288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828282"/>
                    </a:gs>
                    <a:gs pos="100000">
                      <a:srgbClr val="dadada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5334120" y="1828800"/>
                <a:ext cx="457200" cy="3049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334120" y="2286000"/>
                <a:ext cx="45720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5334120" y="2514240"/>
                <a:ext cx="457200" cy="22860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7009560" y="2133720"/>
                <a:ext cx="2133720" cy="5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Arial"/>
                  </a:rPr>
                  <a:t>Geometry</a:t>
                </a:r>
                <a:br>
                  <a:rPr sz="2400"/>
                </a:br>
                <a:br>
                  <a:rPr sz="2400"/>
                </a:br>
                <a:r>
                  <a:rPr b="1" lang="en-US" sz="2400" spc="-1" strike="noStrike">
                    <a:solidFill>
                      <a:srgbClr val="ffff00"/>
                    </a:solidFill>
                    <a:latin typeface="Arial"/>
                  </a:rPr>
                  <a:t>Reflectanc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6781680" y="2133360"/>
                <a:ext cx="457200" cy="1522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781680" y="2438280"/>
                <a:ext cx="381240" cy="1526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715000" y="3276720"/>
                <a:ext cx="3048120" cy="5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00"/>
                    </a:solidFill>
                    <a:latin typeface="Arial"/>
                  </a:rPr>
                  <a:t> </a:t>
                </a:r>
                <a:r>
                  <a:rPr b="1" lang="en-US" sz="2800" spc="-1" strike="noStrike">
                    <a:solidFill>
                      <a:srgbClr val="ffff00"/>
                    </a:solidFill>
                    <a:latin typeface="Arial"/>
                  </a:rPr>
                  <a:t>3D Photography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5139720" y="2726280"/>
              <a:ext cx="80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Ligh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5800" y="11430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Objects Radiate Visible Ligh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3D Photography from 2D Photography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697120" y="1828800"/>
            <a:ext cx="1722600" cy="21304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85800" y="3962520"/>
            <a:ext cx="77724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This Pattern of Light Depends 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cene illumin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urface geometr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urface reflectanc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85800" y="2160000"/>
            <a:ext cx="7772400" cy="4469040"/>
            <a:chOff x="685800" y="2160000"/>
            <a:chExt cx="7772400" cy="4469040"/>
          </a:xfrm>
        </p:grpSpPr>
        <p:sp>
          <p:nvSpPr>
            <p:cNvPr id="140" name=""/>
            <p:cNvSpPr/>
            <p:nvPr/>
          </p:nvSpPr>
          <p:spPr>
            <a:xfrm>
              <a:off x="685800" y="5714640"/>
              <a:ext cx="7772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cc66"/>
                  </a:solidFill>
                  <a:latin typeface="Arial"/>
                </a:rPr>
                <a:t>Cameras Capture This Light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89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Enables analysis of scene structure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5943600" y="2160000"/>
              <a:ext cx="739800" cy="1337400"/>
              <a:chOff x="5943600" y="2160000"/>
              <a:chExt cx="739800" cy="1337400"/>
            </a:xfrm>
          </p:grpSpPr>
          <p:sp>
            <p:nvSpPr>
              <p:cNvPr id="142" name=""/>
              <p:cNvSpPr/>
              <p:nvPr/>
            </p:nvSpPr>
            <p:spPr>
              <a:xfrm rot="16200000">
                <a:off x="5840280" y="2696400"/>
                <a:ext cx="1290600" cy="26208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18480000">
                <a:off x="6368760" y="2208240"/>
                <a:ext cx="238320" cy="237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8480000">
                <a:off x="6550560" y="2345400"/>
                <a:ext cx="55440" cy="1015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4b4b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8480000">
                <a:off x="6414480" y="2253240"/>
                <a:ext cx="147600" cy="146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4b4b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200000">
                <a:off x="6545880" y="2460960"/>
                <a:ext cx="193680" cy="81000"/>
              </a:xfrm>
              <a:custGeom>
                <a:avLst/>
                <a:gdLst/>
                <a:ahLst/>
                <a:rect l="l" t="t" r="r" b="b"/>
                <a:pathLst>
                  <a:path w="122" h="51">
                    <a:moveTo>
                      <a:pt x="87" y="0"/>
                    </a:moveTo>
                    <a:lnTo>
                      <a:pt x="0" y="41"/>
                    </a:lnTo>
                    <a:lnTo>
                      <a:pt x="11" y="50"/>
                    </a:lnTo>
                    <a:lnTo>
                      <a:pt x="121" y="27"/>
                    </a:lnTo>
                    <a:lnTo>
                      <a:pt x="87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4b4b4b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6200000">
                <a:off x="6377040" y="2481120"/>
                <a:ext cx="101520" cy="101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6200000">
                <a:off x="6400800" y="2502720"/>
                <a:ext cx="55800" cy="55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4b4b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18900000">
                <a:off x="6376680" y="3236760"/>
                <a:ext cx="216000" cy="215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dadad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8900000">
                <a:off x="6467040" y="3234600"/>
                <a:ext cx="33480" cy="216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4b4b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16200000">
                <a:off x="5943600" y="2639520"/>
                <a:ext cx="398520" cy="3985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474747"/>
                  </a:gs>
                  <a:gs pos="100000">
                    <a:srgbClr val="000000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16200000">
                <a:off x="6394320" y="2723400"/>
                <a:ext cx="322200" cy="230400"/>
              </a:xfrm>
              <a:custGeom>
                <a:avLst/>
                <a:gdLst/>
                <a:ahLst/>
                <a:rect l="l" t="t" r="r" b="b"/>
                <a:pathLst>
                  <a:path w="203" h="145">
                    <a:moveTo>
                      <a:pt x="144" y="0"/>
                    </a:moveTo>
                    <a:lnTo>
                      <a:pt x="58" y="0"/>
                    </a:lnTo>
                    <a:lnTo>
                      <a:pt x="0" y="144"/>
                    </a:lnTo>
                    <a:lnTo>
                      <a:pt x="202" y="144"/>
                    </a:lnTo>
                    <a:lnTo>
                      <a:pt x="144" y="0"/>
                    </a:lnTo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100000">
                    <a:srgbClr val="828282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16200000">
                <a:off x="6406560" y="2505240"/>
                <a:ext cx="160200" cy="368280"/>
              </a:xfrm>
              <a:custGeom>
                <a:avLst/>
                <a:gdLst/>
                <a:ahLst/>
                <a:rect l="l" t="t" r="r" b="b"/>
                <a:pathLst>
                  <a:path w="101" h="232">
                    <a:moveTo>
                      <a:pt x="100" y="0"/>
                    </a:moveTo>
                    <a:lnTo>
                      <a:pt x="0" y="87"/>
                    </a:lnTo>
                    <a:lnTo>
                      <a:pt x="57" y="231"/>
                    </a:lnTo>
                    <a:lnTo>
                      <a:pt x="100" y="202"/>
                    </a:lnTo>
                    <a:lnTo>
                      <a:pt x="100" y="0"/>
                    </a:lnTo>
                  </a:path>
                </a:pathLst>
              </a:custGeom>
              <a:gradFill rotWithShape="0">
                <a:gsLst>
                  <a:gs pos="0">
                    <a:srgbClr val="828282"/>
                  </a:gs>
                  <a:gs pos="100000">
                    <a:srgbClr val="dadada"/>
                  </a:gs>
                </a:gsLst>
                <a:lin ang="108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16200000">
                <a:off x="6405480" y="2804760"/>
                <a:ext cx="162000" cy="368280"/>
              </a:xfrm>
              <a:custGeom>
                <a:avLst/>
                <a:gdLst/>
                <a:ahLst/>
                <a:rect l="l" t="t" r="r" b="b"/>
                <a:pathLst>
                  <a:path w="102" h="232">
                    <a:moveTo>
                      <a:pt x="0" y="0"/>
                    </a:moveTo>
                    <a:lnTo>
                      <a:pt x="101" y="87"/>
                    </a:lnTo>
                    <a:lnTo>
                      <a:pt x="43" y="231"/>
                    </a:lnTo>
                    <a:lnTo>
                      <a:pt x="0" y="202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100000">
                    <a:srgbClr val="828282"/>
                  </a:gs>
                </a:gsLst>
                <a:lin ang="108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16200000">
                <a:off x="6143040" y="2769120"/>
                <a:ext cx="458640" cy="139680"/>
              </a:xfrm>
              <a:custGeom>
                <a:avLst/>
                <a:gdLst/>
                <a:ahLst/>
                <a:rect l="l" t="t" r="r" b="b"/>
                <a:pathLst>
                  <a:path w="289" h="88">
                    <a:moveTo>
                      <a:pt x="288" y="0"/>
                    </a:moveTo>
                    <a:lnTo>
                      <a:pt x="0" y="0"/>
                    </a:lnTo>
                    <a:lnTo>
                      <a:pt x="101" y="87"/>
                    </a:lnTo>
                    <a:lnTo>
                      <a:pt x="187" y="87"/>
                    </a:lnTo>
                    <a:lnTo>
                      <a:pt x="288" y="0"/>
                    </a:lnTo>
                  </a:path>
                </a:pathLst>
              </a:custGeom>
              <a:gradFill rotWithShape="0">
                <a:gsLst>
                  <a:gs pos="0">
                    <a:srgbClr val="828282"/>
                  </a:gs>
                  <a:gs pos="100000">
                    <a:srgbClr val="dadada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"/>
          <p:cNvSpPr/>
          <p:nvPr/>
        </p:nvSpPr>
        <p:spPr>
          <a:xfrm flipV="1">
            <a:off x="4572000" y="2133360"/>
            <a:ext cx="533520" cy="2286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48320" y="2666880"/>
            <a:ext cx="45720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3124080"/>
            <a:ext cx="457200" cy="763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3505320"/>
            <a:ext cx="457200" cy="2286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Objectiv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fer structure from radiated ligh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Two Sty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9900"/>
                </a:solidFill>
                <a:latin typeface="Arial"/>
              </a:rPr>
              <a:t>Passive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sensing of light already in environ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idely applicabl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hea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rittle, less accura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8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9900"/>
                </a:solidFill>
                <a:latin typeface="Arial"/>
              </a:rPr>
              <a:t>Active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control of illumin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t always viabl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xpensive but getting cheape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&gt;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xtremely accura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Passive vs. Active 3D Photography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172200" y="3152880"/>
            <a:ext cx="2546280" cy="2471760"/>
            <a:chOff x="6172200" y="3152880"/>
            <a:chExt cx="2546280" cy="2471760"/>
          </a:xfrm>
        </p:grpSpPr>
        <p:sp>
          <p:nvSpPr>
            <p:cNvPr id="163" name=""/>
            <p:cNvSpPr/>
            <p:nvPr/>
          </p:nvSpPr>
          <p:spPr>
            <a:xfrm>
              <a:off x="7130880" y="3152880"/>
              <a:ext cx="1479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Morn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Ses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86600" y="4799160"/>
              <a:ext cx="1631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Afterno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Sess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172200" y="3581280"/>
              <a:ext cx="9144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172200" y="5257800"/>
              <a:ext cx="9144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Speakers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Jean-Yves Bouguet,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tel Corporation</a:t>
            </a:r>
            <a:endParaRPr b="1" i="1" lang="en-US" sz="22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Brian Curless,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niversity of Washington</a:t>
            </a:r>
            <a:endParaRPr b="1" i="1" lang="en-US" sz="22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Paul Debevec,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niversity of Southern California</a:t>
            </a:r>
            <a:endParaRPr b="1" i="1" lang="en-US" sz="22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Marc Levoy,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anford University</a:t>
            </a:r>
            <a:endParaRPr b="1" i="1" lang="en-US" sz="22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Shree Nayar,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lumbia University</a:t>
            </a:r>
            <a:endParaRPr b="1" i="1" lang="en-US" sz="22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Steven Seitz,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1" i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Speakers  (Morning Session)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Shree Nayar 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lumbia University</a:t>
            </a:r>
            <a:endParaRPr b="1" i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5627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8:40am</a:t>
            </a: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  Sensing for Vision and Graphic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grenada" descr=""/>
          <p:cNvPicPr/>
          <p:nvPr/>
        </p:nvPicPr>
        <p:blipFill>
          <a:blip r:embed="rId1"/>
          <a:stretch/>
        </p:blipFill>
        <p:spPr>
          <a:xfrm>
            <a:off x="2971800" y="182880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Speakers  (Morning Session)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Steven Seitz 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arnegie Mellon University / U. Washington</a:t>
            </a:r>
            <a:endParaRPr b="1" i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53341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9:30am</a:t>
            </a: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  Overview of Passive Vis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10:30am</a:t>
            </a: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 From Images to Voxel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dino.0.3" descr=""/>
          <p:cNvPicPr/>
          <p:nvPr/>
        </p:nvPicPr>
        <p:blipFill>
          <a:blip r:embed="rId1"/>
          <a:stretch/>
        </p:blipFill>
        <p:spPr>
          <a:xfrm>
            <a:off x="1933560" y="1720800"/>
            <a:ext cx="1974960" cy="3537000"/>
          </a:xfrm>
          <a:prstGeom prst="rect">
            <a:avLst/>
          </a:prstGeom>
          <a:ln w="0">
            <a:noFill/>
          </a:ln>
        </p:spPr>
      </p:pic>
      <p:pic>
        <p:nvPicPr>
          <p:cNvPr id="177" name="flowyover.re" descr=""/>
          <p:cNvPicPr/>
          <p:nvPr/>
        </p:nvPicPr>
        <p:blipFill>
          <a:blip r:embed="rId2"/>
          <a:stretch/>
        </p:blipFill>
        <p:spPr>
          <a:xfrm>
            <a:off x="4114800" y="1989000"/>
            <a:ext cx="2814480" cy="326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Speakers  (Morning Session)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Paul Debevec 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.S.C, Institute for Creative Technologies</a:t>
            </a:r>
            <a:endParaRPr b="1" i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80" name="debevec" descr=""/>
          <p:cNvPicPr/>
          <p:nvPr/>
        </p:nvPicPr>
        <p:blipFill>
          <a:blip r:embed="rId1"/>
          <a:stretch/>
        </p:blipFill>
        <p:spPr>
          <a:xfrm>
            <a:off x="2228760" y="1905120"/>
            <a:ext cx="4629240" cy="3429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57200" y="55627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11:15am</a:t>
            </a: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  Facade:  Modeling Architectural Scen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Speakers  (Afternoon Session)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Brian Curless 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niversity of Washington</a:t>
            </a:r>
            <a:endParaRPr b="1" i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53341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1:30pm</a:t>
            </a: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  Overview of Active Vis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3:15pm</a:t>
            </a: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  Shape and Appearance from Images and                     </a:t>
            </a: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Range Dat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curless" descr=""/>
          <p:cNvPicPr/>
          <p:nvPr/>
        </p:nvPicPr>
        <p:blipFill>
          <a:blip r:embed="rId1"/>
          <a:stretch/>
        </p:blipFill>
        <p:spPr>
          <a:xfrm>
            <a:off x="2438280" y="1828800"/>
            <a:ext cx="3886200" cy="3397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1T05:01:05Z</dcterms:created>
  <dc:creator>Steve Seitz</dc:creator>
  <dc:description/>
  <dc:language>en-US</dc:language>
  <cp:lastModifiedBy>Steve Seitz</cp:lastModifiedBy>
  <cp:lastPrinted>1999-04-21T05:05:26Z</cp:lastPrinted>
  <dcterms:modified xsi:type="dcterms:W3CDTF">2000-07-22T21:12:14Z</dcterms:modified>
  <cp:revision>160</cp:revision>
  <dc:subject/>
  <dc:title>Voxel-Based 3D Reconstruction</dc:title>
</cp:coreProperties>
</file>