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C0FF-93E7-4066-8EDE-80ED0C09F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6F921-F336-4F7D-AF01-1DDA6BC1F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32CE-A0CF-467F-9BAE-DAB8A5734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211A-2214-464D-B035-070F5EA2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B99F6-0EE5-47FB-8D7E-17C0CBFC3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129CF-9AE0-41A1-AE78-62AF07C2B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9FA32-44EB-47B5-82A0-95913FFE4A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D075D-534B-4F94-A851-BB00C49FEC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FEAEC-1E43-4C57-962C-F84E8266E8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F2E62-A44B-4CE5-9398-7262929A3A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7B3F5-AFF0-48A0-997C-7743765E5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3D46-3282-403C-949F-B5711341B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7EAF5-5201-4C51-A7E0-648A35DA3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99BF8-90EA-4501-BF46-223CDE597A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A357E-7894-4D42-85B5-B436D59CCD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19BC-4D8C-44FD-975A-E65F3654D2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299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1BBB6-91B7-43D3-8163-AB690DF79F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FF98-D7C0-4B61-A9DF-44C87C04F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D4559-64AD-4723-8A58-53B014E03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A274D-3C95-47EF-9233-D9DF64B18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FD962-A8C8-4A74-8279-1796C9D33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A565-CCE8-4449-85FD-262844CB9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299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8838-AAAB-4449-9293-CFB369BD3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299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4379-A880-44B1-BEB9-7EBA0A6A8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i="1" lang="en-US" sz="2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9F25-3208-49E3-B886-4EAF0DADB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990720"/>
            <a:ext cx="8229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5867280"/>
            <a:ext cx="8229600" cy="0"/>
          </a:xfrm>
          <a:prstGeom prst="line">
            <a:avLst/>
          </a:prstGeom>
          <a:ln w="22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0119-AE3D-4FC9-8075-CE285D10E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3D Photography:  Morning Sess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:3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Introduction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itz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:4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Sensing for Vision and Graphic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yar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:3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Overview of Passive Vision Techniqu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itz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:0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reak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:15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Overview of Passive Vision Techniqu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itz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0:3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From Images to Voxel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itz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1:15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Façade: Modeling Architectural Scen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bevec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o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unch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5943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Page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http://www.cs.cmu.edu/~seitz/course/3DPhoto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3D Photography:  Afternoon Session</a:t>
            </a:r>
            <a:endParaRPr b="1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:30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Overview of Active Vision Technique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urles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:15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Desktop 3D Photograph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ougue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:00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reak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:15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Shape and Appearance From Images and Range Data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urless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:55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Application: The Digital Michelangelo Project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(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evo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:55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ffcc00"/>
                </a:solidFill>
                <a:latin typeface="Arial"/>
              </a:rPr>
              <a:t>Closing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943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Page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http://www.cs.cmu.edu/~seitz/course/3DPhoto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1T05:01:05Z</dcterms:created>
  <dc:creator>Steve Seitz</dc:creator>
  <dc:description/>
  <dc:language>en-US</dc:language>
  <cp:lastModifiedBy>Steve Seitz</cp:lastModifiedBy>
  <cp:lastPrinted>1999-04-21T05:05:26Z</cp:lastPrinted>
  <dcterms:modified xsi:type="dcterms:W3CDTF">2000-07-24T02:50:06Z</dcterms:modified>
  <cp:revision>161</cp:revision>
  <dc:subject/>
  <dc:title>Voxel-Based 3D Reconstruction</dc:title>
</cp:coreProperties>
</file>