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8E0F-ADAF-4001-BA83-565412A76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B3D6-B5BB-4AD6-B8FB-07E2949BC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70F9-CE62-499A-ACC0-998751156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6C7D-FD02-409D-9596-128C6F05F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FF4B3-01CE-424D-B7C1-C9A1448B6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EF60C-C141-44EF-82A8-2E94BCDBF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FEEF2-4CC1-43E5-888C-0C7E3373A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C68E9-7116-444A-8A95-FBE79FF4C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DABBC-281D-4F8B-B418-D643C3B49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FD155-67B5-4C71-A951-6A4198803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0AD5E-8C61-4EFC-971E-4CA0292FA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79E9-F01D-4216-8A0C-BE08DDB69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44BEE-04D2-4B19-A1B8-36644511C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14AB4-1B63-492C-92DF-90DE80C77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F1A49-0B90-4981-8455-A7824B597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D96A4-AF0A-4741-8930-B5A0375AD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A1BDE-B69A-4081-86E3-1DA0685DD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46D1-ED14-4C8A-A1BB-2E0E4493B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508D-CDF9-438D-BF37-1685BDD21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5E36-DBED-4A82-AB95-0709CF4DB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DF56-B61A-453E-9F5E-3D3B499CA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4DCC-7409-48BD-8E46-6E45033B8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6AB8-83ED-4098-8E10-132ACB8D4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1836-CA0D-45BC-96DF-E97A6F6DF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77880" y="4892760"/>
            <a:ext cx="838080" cy="75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63520" y="5416560"/>
            <a:ext cx="0" cy="22860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11240" y="5416560"/>
            <a:ext cx="0" cy="22860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46240" y="4968720"/>
            <a:ext cx="1766880" cy="457200"/>
          </a:xfrm>
          <a:prstGeom prst="rect">
            <a:avLst/>
          </a:prstGeom>
          <a:solidFill>
            <a:srgbClr val="cbcbcb"/>
          </a:solidFill>
          <a:ln cap="sq"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905120"/>
            <a:ext cx="9144000" cy="129528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54200" y="4282920"/>
            <a:ext cx="685800" cy="609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0440" y="5137200"/>
            <a:ext cx="120600" cy="1220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01480" y="5589720"/>
            <a:ext cx="533520" cy="1522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41560" y="5589720"/>
            <a:ext cx="533160" cy="1522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1560" y="5457960"/>
            <a:ext cx="75960" cy="759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54000" y="5457960"/>
            <a:ext cx="76320" cy="759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4080" y="5137200"/>
            <a:ext cx="120960" cy="1220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5029200"/>
            <a:ext cx="198144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Black"/>
              </a:rPr>
              <a:t>TWELF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welf(Q):</a:t>
            </a:r>
            <a:br>
              <a:rPr sz="4400"/>
            </a:b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Adding Rationals to Twelf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742840" y="4266720"/>
            <a:ext cx="57150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o Vir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partment of Mathemat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rnegie Mellon Univers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onstraint Solver Definit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me: Arithmetic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pends upon: Unif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gnatur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ational : type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+ : rational -&gt; rational -&gt; rational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* : rational -&gt; rational -&gt; rational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ecial constant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Courier New"/>
              </a:rPr>
              <a:t>q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: rational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for all rational numbers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85800" y="20574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Operational Semantic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pon invocation, the CS should always return immediatel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th failure, if the new constraint is inconsistent with the oth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th a partially-instantiated proof object, if the constraint is consist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acktracking should usually fail on a constraint, even if there are other proof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Operational Semantic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8080" y="2743200"/>
            <a:ext cx="46483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?- P : X &gt; 0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olving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X = X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P = X1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onstraints remain on X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More? 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o more solu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p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Operational Semantic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 user-defined constants of target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N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c : 0 &gt; 1.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 dynamic clauses of target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NO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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?- P : {x : rational} x * x &gt;= 0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09480" y="2057400"/>
            <a:ext cx="7925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re are a few restrictions in the use of a predicate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defined by a C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olver for Linear Equaliti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3520" y="3352320"/>
            <a:ext cx="80769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tending the normal form definition to include sums of literals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1" lang="en-US" sz="40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L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difying unification to perform variable elimination (on normalized expressions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 do not define an equality predicate, but rather handle linear equalities b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olver for Linear Equaliti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dvantag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re elega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orks during type reconstruction to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sadvantag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creases Twelf core code complexi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raction with other components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62120" y="2133720"/>
            <a:ext cx="7162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s solver does adhere much to the CS specification given befo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olver for Linear Equaliti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gnatu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rational : typ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~ : rational -&gt; rational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+ : rational -&gt; rational -&gt; rational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- : rational -&gt; rational -&gt; rational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* : rational -&gt; rational -&gt; rational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pecial consta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q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: rational.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for all rationals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olver for Linear Equaliti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3520" y="20574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" y="2666880"/>
            <a:ext cx="7086600" cy="2012040"/>
          </a:xfrm>
          <a:prstGeom prst="rect">
            <a:avLst/>
          </a:prstGeom>
          <a:noFill/>
          <a:ln cap="sq" w="1908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list : rational -&gt; typ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nil : list 0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,   : rational -&gt; list N -&gt; list (N + 1).  %infix right 100 ,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append : list M -&gt; list N -&gt; list (M + N) -&gt; typ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app_nil  : append nil L2 L2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app_cons : append (X , L1) L2 (X , L3) &lt;- append L1 L2 L3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" y="4800600"/>
            <a:ext cx="7086600" cy="158580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?- L : list 3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olving..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mpty Substitution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L = 0 , 0 , 0 , nil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More? 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mpty Substitution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L = 1 , 0 , 0 , nil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olver for Linear Inequaliti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variant of the simplex implementation in the Nelson-Oppen TP, wi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of objec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rict inequali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5029200"/>
            <a:ext cx="3657600" cy="36828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more informati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5562720"/>
            <a:ext cx="9144000" cy="916920"/>
          </a:xfrm>
          <a:prstGeom prst="rect">
            <a:avLst/>
          </a:prstGeom>
          <a:gradFill rotWithShape="0">
            <a:gsLst>
              <a:gs pos="0">
                <a:srgbClr val="002e5c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. Nels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echniques for program verification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echnical Report CSL-81-10, Xerox Palo Alto Research Center, 198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olver for Linear Inequaliti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gnatu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gt;  : rational -&gt; rational -&gt; type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gt;= : rational -&gt; rational -&gt; type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+&gt;   : {Z:rational} X &gt; Y  -&gt; (X + Z) &gt;  (Y + Z).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+&gt;=  : {Z:rational} X &gt;= Y -&gt; (X + Z) &gt;= (Y + Z).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gt;&gt;=  : X &gt; Y -&gt; X &gt;= Y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0&gt;=0 : 0 &gt;= 0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pecial consta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Courier New"/>
              </a:rPr>
              <a:t>q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gt;0 : </a:t>
            </a:r>
            <a:r>
              <a:rPr b="1" i="1" lang="en-US" sz="1600" spc="-1" strike="noStrike">
                <a:solidFill>
                  <a:srgbClr val="ffffff"/>
                </a:solidFill>
                <a:latin typeface="Courier New"/>
              </a:rPr>
              <a:t>q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&gt; 0.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for all positive rationals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General Over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tension based on Twelf 1.2 co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andles rationals (infinite precision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olves equalities and inequalities over Q using CLP techniqu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vides general structures to implement Constraint Solvers as loadable modul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olver for Linear Inequaliti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9480" y="20574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85800" y="2971800"/>
            <a:ext cx="3429000" cy="1159560"/>
          </a:xfrm>
          <a:prstGeom prst="rect">
            <a:avLst/>
          </a:prstGeom>
          <a:noFill/>
          <a:ln cap="sq" w="1908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min : rational -&gt; rational -&gt; rational -&gt;  typ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m1 : Y &gt; X  -&gt; min X Y X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m2 : X &gt;= Y -&gt; min X Y Y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" y="4495680"/>
            <a:ext cx="3429000" cy="1372680"/>
          </a:xfrm>
          <a:prstGeom prst="rect">
            <a:avLst/>
          </a:prstGeom>
          <a:noFill/>
          <a:ln cap="sq"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?- P : min 19 99 Z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olving..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Z = 19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 = m1 (+&gt; 19 80&gt;0)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More? 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No more solu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971800"/>
            <a:ext cx="3962520" cy="2864520"/>
          </a:xfrm>
          <a:prstGeom prst="rect">
            <a:avLst/>
          </a:prstGeom>
          <a:noFill/>
          <a:ln cap="sq"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?- P : min 19 X Z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olving..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Z = 19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X = X1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 = m1 (+&gt; 19 X2)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Constraints remain on X1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More? 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Z = X3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X = X3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 = m2 (+&gt;= X3 X4)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Constraints remain on X3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More? 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No more solu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olver for Linear Inequaliti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equalities are pre-processed before being passed to the simplex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ight-hand-side equal to 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P : X &gt;= X  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P’ : (X - X) &gt;= 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mplifi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P’ : (X - X) &gt;= 0  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P’ : 0 &gt;= 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stant inequalities are solved directl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implex Algorithm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ores constraints as a matrix with rational coeffici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set of constraints is solved when it admits only one (numerical) solu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proof objects generated will always be trivial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q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0 : </a:t>
            </a: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q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&gt; 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=0 : </a:t>
            </a: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&gt;= 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(&gt;&gt;= </a:t>
            </a: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q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0) : </a:t>
            </a:r>
            <a:r>
              <a:rPr b="1" i="1" lang="en-US" sz="2000" spc="-1" strike="noStrike">
                <a:solidFill>
                  <a:srgbClr val="ffffff"/>
                </a:solidFill>
                <a:latin typeface="Courier New"/>
              </a:rPr>
              <a:t>q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&gt;= 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ture Pla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nish and test the current system!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lement other CS modules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g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oolea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straint Handling Rules (CHRs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5029200"/>
            <a:ext cx="3657600" cy="36828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more informati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5562720"/>
            <a:ext cx="9144000" cy="916920"/>
          </a:xfrm>
          <a:prstGeom prst="rect">
            <a:avLst/>
          </a:prstGeom>
          <a:gradFill rotWithShape="0">
            <a:gsLst>
              <a:gs pos="0">
                <a:srgbClr val="002e5c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. Frühwirt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ory and Practice of Constraint Handling Rules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Journal of Logic Programming, Vol. 37(1-3), pp. 95-138, October 199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Applicat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uchstone Compil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ditional CLP us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ircuit analysi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lanning and schedu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isting Twelf progra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5029200"/>
            <a:ext cx="3657600" cy="36828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more informati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5562720"/>
            <a:ext cx="9144000" cy="916920"/>
          </a:xfrm>
          <a:prstGeom prst="rect">
            <a:avLst/>
          </a:prstGeom>
          <a:gradFill rotWithShape="0">
            <a:gsLst>
              <a:gs pos="0">
                <a:srgbClr val="002e5c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. Necul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mpiling with Proofs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h.D. dissertation, Technical Report CMU-CS-98-154, Carnegie Mellon University, 199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welf Architectur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welf is already a CLP languag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lex-Flex and Flex-Rigid pairs are delayed as hard constrai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straints are awakened when the head variable of the Flex term is instantiat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4724280"/>
            <a:ext cx="3657600" cy="36828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more informati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5257800"/>
            <a:ext cx="9144000" cy="1191240"/>
          </a:xfrm>
          <a:prstGeom prst="rect">
            <a:avLst/>
          </a:prstGeom>
          <a:gradFill rotWithShape="0">
            <a:gsLst>
              <a:gs pos="0">
                <a:srgbClr val="002e5c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. Michaylov and F. Pfenn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igher-Order Logic Programming as Constraint Logic Programming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ceedings of the 1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imes New Roman"/>
              </a:rPr>
              <a:t>st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Workshop on Principles and Practice of Constraint Programm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ewport, Rhode Island, 1993, pp. 221-2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 flipH="1">
            <a:off x="4723920" y="2438280"/>
            <a:ext cx="381240" cy="0"/>
          </a:xfrm>
          <a:prstGeom prst="line">
            <a:avLst/>
          </a:prstGeom>
          <a:ln cap="sq"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welf Architectur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43200" y="2286000"/>
            <a:ext cx="1905120" cy="33732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?- G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26400" y="228600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of Eng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33920" y="2819520"/>
            <a:ext cx="0" cy="533160"/>
          </a:xfrm>
          <a:prstGeom prst="line">
            <a:avLst/>
          </a:prstGeom>
          <a:ln cap="sq" w="127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429000"/>
            <a:ext cx="1905120" cy="3708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</a:rPr>
              <a:t>?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M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602360" y="3429000"/>
            <a:ext cx="96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nific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743200" y="4876920"/>
            <a:ext cx="1905120" cy="1143000"/>
          </a:xfrm>
          <a:prstGeom prst="ellipse">
            <a:avLst/>
          </a:prstGeom>
          <a:solidFill>
            <a:srgbClr val="9999ff"/>
          </a:solidFill>
          <a:ln cap="sq"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48120" y="5105520"/>
            <a:ext cx="1295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X(c) =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</a:rPr>
              <a:t>?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Y(d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5105520" y="2437920"/>
            <a:ext cx="0" cy="1219320"/>
          </a:xfrm>
          <a:prstGeom prst="line">
            <a:avLst/>
          </a:prstGeom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21564600">
            <a:off x="5257800" y="3580920"/>
            <a:ext cx="8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Z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44480" y="5257800"/>
            <a:ext cx="9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strai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to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24280" y="3657600"/>
            <a:ext cx="1447920" cy="0"/>
          </a:xfrm>
          <a:prstGeom prst="line">
            <a:avLst/>
          </a:prstGeom>
          <a:ln cap="sq"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733920" y="3886200"/>
            <a:ext cx="0" cy="914400"/>
          </a:xfrm>
          <a:prstGeom prst="line">
            <a:avLst/>
          </a:prstGeom>
          <a:ln cap="sq" w="127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4723920" y="5486400"/>
            <a:ext cx="381240" cy="0"/>
          </a:xfrm>
          <a:prstGeom prst="line">
            <a:avLst/>
          </a:prstGeom>
          <a:ln cap="sq"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05520" y="3657600"/>
            <a:ext cx="0" cy="1828800"/>
          </a:xfrm>
          <a:prstGeom prst="line">
            <a:avLst/>
          </a:prstGeom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5440200">
            <a:off x="4905720" y="4540320"/>
            <a:ext cx="85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Z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5440200">
            <a:off x="4905720" y="2864160"/>
            <a:ext cx="85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Z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248520" y="3352680"/>
            <a:ext cx="990360" cy="914400"/>
          </a:xfrm>
          <a:prstGeom prst="rect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324480" y="3429000"/>
            <a:ext cx="1295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Z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249240" y="4419720"/>
            <a:ext cx="102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ndo Sta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2971800"/>
            <a:ext cx="8001000" cy="3200400"/>
          </a:xfrm>
          <a:prstGeom prst="rect">
            <a:avLst/>
          </a:prstGeom>
          <a:noFill/>
          <a:ln w="2844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78960" y="6248520"/>
            <a:ext cx="263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Unification Constraint Sol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welf(Q) Architectur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92468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ification is seen as a constraint solving modu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re are possibly many other modu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straints of these other modules are expressed as predicates (type families)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: rational -&gt; rational -&gt; typ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welf(Q) Architectur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straint Solver (CS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ould be able to solve constraints for the types it defin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y invoke other CS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straint Solver Manager (CSM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stalls CS modules in the syst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spatches a constraint to the right CS during proof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ynchronizes the internal state of all the CSs during backtrack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 flipH="1">
            <a:off x="4114800" y="2438280"/>
            <a:ext cx="4038480" cy="0"/>
          </a:xfrm>
          <a:prstGeom prst="line">
            <a:avLst/>
          </a:prstGeom>
          <a:ln cap="sq" w="38160">
            <a:solidFill>
              <a:srgbClr val="ffffff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2362320" y="5866920"/>
            <a:ext cx="0" cy="304920"/>
          </a:xfrm>
          <a:prstGeom prst="line">
            <a:avLst/>
          </a:prstGeom>
          <a:ln cap="sq"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welf(Q) Architectur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33720" y="2286000"/>
            <a:ext cx="1904760" cy="33732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?- G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1240" y="2286000"/>
            <a:ext cx="168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of Search Eng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362320" y="2819520"/>
            <a:ext cx="0" cy="1752480"/>
          </a:xfrm>
          <a:prstGeom prst="line">
            <a:avLst/>
          </a:prstGeom>
          <a:ln cap="sq" w="127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828800" y="5029200"/>
            <a:ext cx="762120" cy="26712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1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1" lang="en-US" sz="1000" spc="-1" strike="noStrike" baseline="30000">
                <a:solidFill>
                  <a:srgbClr val="ffffff"/>
                </a:solidFill>
                <a:latin typeface="Arial"/>
              </a:rPr>
              <a:t>?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M</a:t>
            </a:r>
            <a:r>
              <a:rPr b="1" lang="en-US" sz="1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05120" y="5410080"/>
            <a:ext cx="380880" cy="304920"/>
          </a:xfrm>
          <a:prstGeom prst="ellipse">
            <a:avLst/>
          </a:prstGeom>
          <a:solidFill>
            <a:srgbClr val="9999ff"/>
          </a:solidFill>
          <a:ln cap="sq"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5029200"/>
            <a:ext cx="228600" cy="457200"/>
          </a:xfrm>
          <a:prstGeom prst="rect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52480" y="4952880"/>
            <a:ext cx="1219320" cy="838440"/>
          </a:xfrm>
          <a:prstGeom prst="rect">
            <a:avLst/>
          </a:prstGeom>
          <a:noFill/>
          <a:ln w="2844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75080" y="457200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Unification C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733920" y="2819520"/>
            <a:ext cx="0" cy="228600"/>
          </a:xfrm>
          <a:prstGeom prst="line">
            <a:avLst/>
          </a:prstGeom>
          <a:ln cap="sq"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733920" y="3048120"/>
            <a:ext cx="1828800" cy="0"/>
          </a:xfrm>
          <a:prstGeom prst="line">
            <a:avLst/>
          </a:prstGeom>
          <a:ln cap="sq"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562720" y="3048120"/>
            <a:ext cx="0" cy="533160"/>
          </a:xfrm>
          <a:prstGeom prst="line">
            <a:avLst/>
          </a:prstGeom>
          <a:ln cap="sq" w="12708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657600" y="3733920"/>
            <a:ext cx="4191120" cy="304560"/>
          </a:xfrm>
          <a:prstGeom prst="octagon">
            <a:avLst>
              <a:gd name="adj" fmla="val 29287"/>
            </a:avLst>
          </a:prstGeom>
          <a:solidFill>
            <a:srgbClr val="996633"/>
          </a:solidFill>
          <a:ln cap="sq"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49560" y="373392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S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4191120"/>
            <a:ext cx="0" cy="609480"/>
          </a:xfrm>
          <a:prstGeom prst="line">
            <a:avLst/>
          </a:prstGeom>
          <a:ln cap="sq" w="12708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791320" y="4191120"/>
            <a:ext cx="0" cy="609480"/>
          </a:xfrm>
          <a:prstGeom prst="line">
            <a:avLst/>
          </a:prstGeom>
          <a:ln cap="sq" w="12708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09880" y="5029200"/>
            <a:ext cx="533520" cy="26712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1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86200" y="5410080"/>
            <a:ext cx="380880" cy="304920"/>
          </a:xfrm>
          <a:prstGeom prst="ellipse">
            <a:avLst/>
          </a:prstGeom>
          <a:solidFill>
            <a:srgbClr val="9999ff"/>
          </a:solidFill>
          <a:ln cap="sq"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419720" y="5029200"/>
            <a:ext cx="228600" cy="457200"/>
          </a:xfrm>
          <a:prstGeom prst="rect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733920" y="4952880"/>
            <a:ext cx="990360" cy="838440"/>
          </a:xfrm>
          <a:prstGeom prst="rect">
            <a:avLst/>
          </a:prstGeom>
          <a:noFill/>
          <a:ln w="2844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267080" y="4572000"/>
            <a:ext cx="533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CS</a:t>
            </a:r>
            <a:r>
              <a:rPr b="1" lang="en-US" sz="1400" spc="-1" strike="noStrike" baseline="-25000">
                <a:solidFill>
                  <a:srgbClr val="ffcc66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119480" y="5100480"/>
            <a:ext cx="763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5029200"/>
            <a:ext cx="533160" cy="26712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1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638680" y="5410080"/>
            <a:ext cx="381240" cy="304920"/>
          </a:xfrm>
          <a:prstGeom prst="ellipse">
            <a:avLst/>
          </a:prstGeom>
          <a:solidFill>
            <a:srgbClr val="9999ff"/>
          </a:solidFill>
          <a:ln cap="sq"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172200" y="5029200"/>
            <a:ext cx="228600" cy="457200"/>
          </a:xfrm>
          <a:prstGeom prst="rect">
            <a:avLst/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486400" y="4952880"/>
            <a:ext cx="990720" cy="838440"/>
          </a:xfrm>
          <a:prstGeom prst="rect">
            <a:avLst/>
          </a:prstGeom>
          <a:noFill/>
          <a:ln w="2844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19920" y="4572000"/>
            <a:ext cx="533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CS</a:t>
            </a:r>
            <a:r>
              <a:rPr b="1" lang="en-US" sz="1400" spc="-1" strike="noStrike" baseline="-25000">
                <a:solidFill>
                  <a:srgbClr val="ffcc66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872320" y="5100480"/>
            <a:ext cx="7596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8153280" y="2438280"/>
            <a:ext cx="0" cy="3733920"/>
          </a:xfrm>
          <a:prstGeom prst="line">
            <a:avLst/>
          </a:prstGeom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4038480" y="5866920"/>
            <a:ext cx="0" cy="304920"/>
          </a:xfrm>
          <a:prstGeom prst="line">
            <a:avLst/>
          </a:prstGeom>
          <a:ln cap="sq"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5791320" y="5866920"/>
            <a:ext cx="0" cy="304920"/>
          </a:xfrm>
          <a:prstGeom prst="line">
            <a:avLst/>
          </a:prstGeom>
          <a:ln cap="sq"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7162920" y="4952880"/>
            <a:ext cx="380880" cy="0"/>
          </a:xfrm>
          <a:prstGeom prst="line">
            <a:avLst/>
          </a:prstGeom>
          <a:ln w="28440">
            <a:solidFill>
              <a:srgbClr val="ffcc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7162920" y="5791320"/>
            <a:ext cx="380880" cy="0"/>
          </a:xfrm>
          <a:prstGeom prst="line">
            <a:avLst/>
          </a:prstGeom>
          <a:ln w="28440">
            <a:solidFill>
              <a:srgbClr val="ffcc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238880" y="4952520"/>
            <a:ext cx="0" cy="838440"/>
          </a:xfrm>
          <a:prstGeom prst="line">
            <a:avLst/>
          </a:prstGeom>
          <a:ln w="28440">
            <a:solidFill>
              <a:srgbClr val="ffcc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391520" y="52578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66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21564600">
            <a:off x="5867280" y="1980720"/>
            <a:ext cx="8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Z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2362320" y="6172200"/>
            <a:ext cx="5790960" cy="0"/>
          </a:xfrm>
          <a:prstGeom prst="line">
            <a:avLst/>
          </a:prstGeom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rot="21564600">
            <a:off x="5257800" y="6095520"/>
            <a:ext cx="8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Z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rot="5425200">
            <a:off x="7953120" y="4235760"/>
            <a:ext cx="85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Z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543800" y="4191120"/>
            <a:ext cx="0" cy="609480"/>
          </a:xfrm>
          <a:prstGeom prst="line">
            <a:avLst/>
          </a:prstGeom>
          <a:ln cap="sq" w="12708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3123720" y="5334120"/>
            <a:ext cx="381240" cy="0"/>
          </a:xfrm>
          <a:prstGeom prst="line">
            <a:avLst/>
          </a:prstGeom>
          <a:ln cap="sq" w="12708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6629400" y="5334120"/>
            <a:ext cx="457200" cy="0"/>
          </a:xfrm>
          <a:prstGeom prst="line">
            <a:avLst/>
          </a:prstGeom>
          <a:ln cap="sq" w="12708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5334120"/>
            <a:ext cx="457200" cy="0"/>
          </a:xfrm>
          <a:prstGeom prst="line">
            <a:avLst/>
          </a:prstGeom>
          <a:ln cap="sq" w="12708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onstraint Solver Definit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ts na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list of CSs it depends up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signature contain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ype family constants (constraint predicate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rm constants for constructing proof objec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ts of countably-many “special” consta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2057400"/>
            <a:ext cx="47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ch CS must specif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9T18:24:06Z</dcterms:created>
  <dc:creator>Roberto Virga</dc:creator>
  <dc:description/>
  <cp:keywords>logical frameworks constraint logic programming</cp:keywords>
  <dc:language>en-US</dc:language>
  <cp:lastModifiedBy>Roberto Virga</cp:lastModifiedBy>
  <dcterms:modified xsi:type="dcterms:W3CDTF">1999-04-19T17:30:16Z</dcterms:modified>
  <cp:revision>45</cp:revision>
  <dc:subject>Twelf(Q)</dc:subject>
  <dc:title>Twelf(Q)  Adding rationals to Twelf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cs.cmu.edu/~rvirga/</vt:lpwstr>
  </property>
  <property fmtid="{D5CDD505-2E9C-101B-9397-08002B2CF9AE}" pid="9" name="LinkColor">
    <vt:r8>16711782</vt:r8>
  </property>
  <property fmtid="{D5CDD505-2E9C-101B-9397-08002B2CF9AE}" pid="10" name="MailAddress">
    <vt:lpwstr>rvirga+@cs.cmu.edu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Documents\Roberto\Microsoft Office\PowerPoint</vt:lpwstr>
  </property>
  <property fmtid="{D5CDD505-2E9C-101B-9397-08002B2CF9AE}" pid="14" name="ScreenSize">
    <vt:r8>3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