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B70-A4AA-4058-9FE7-0E002C39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E16-E6DE-4F25-B900-74D90E43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0DA-EBA9-4003-B3F9-C69416A9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7B6-4720-48E7-A5E0-2C2E160A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9C8F-9D2D-49B1-8D38-087D41B7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D830-14C8-40C2-B43A-192FCC92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6786-12CE-45C9-B95E-1FB31BE8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B688-9710-4CDA-A96E-3D763F51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602F-B84A-4F9A-99C2-881D66BC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433F-880F-4CC0-ACC7-E5946E1C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AC74-4DA5-4A4A-A382-B856C73F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D87-E748-423C-ADAE-4E540B51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1E99-B3B7-4813-8618-47D3D0C3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E7CF-9395-4943-84A3-EA44D283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6699-ADC1-41FA-8C77-A31C462C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CCB1-2EA7-4AFC-AADA-BD8D7607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638A-0126-4D6D-BFCD-28842485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E13-8865-4312-B60A-C3AE55EA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DF2-9846-40D3-ADB4-82FBAFBE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B01-F177-4C40-83AB-EC24A759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752-EF8D-46B8-9A28-C57CA098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F31-8580-4A9E-932F-4C4FC72D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D4B-4063-4005-AA73-94515FF0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646-8D75-45D7-B63E-FA341685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7880" y="4892760"/>
            <a:ext cx="83808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63520" y="5416560"/>
            <a:ext cx="0" cy="2286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1240" y="5416560"/>
            <a:ext cx="0" cy="2286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6240" y="4968720"/>
            <a:ext cx="1766880" cy="457200"/>
          </a:xfrm>
          <a:prstGeom prst="rect">
            <a:avLst/>
          </a:prstGeom>
          <a:solidFill>
            <a:srgbClr val="cbcbcb"/>
          </a:solidFill>
          <a:ln cap="sq"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05120"/>
            <a:ext cx="9144000" cy="129528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4200" y="4282920"/>
            <a:ext cx="685800" cy="609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440" y="5137200"/>
            <a:ext cx="120600" cy="122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1480" y="5589720"/>
            <a:ext cx="53352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1560" y="5589720"/>
            <a:ext cx="53316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1560" y="5457960"/>
            <a:ext cx="75960" cy="759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4000" y="5457960"/>
            <a:ext cx="76320" cy="759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4080" y="5137200"/>
            <a:ext cx="120960" cy="122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029200"/>
            <a:ext cx="19814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WELF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(Q)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dding Rationals to Twelf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742840" y="4266720"/>
            <a:ext cx="5715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o Vir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artment of Mathem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straint Solver Defini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me: Arithmet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ends upon: Unif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atu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ational : typ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+ : rational -&gt; rational -&gt; rational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* : rational -&gt; rational -&gt; rational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 constan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: rational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r all rational number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erational Semanti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pon invocation, the CS should always return immediate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failure, if the new constraint is inconsistent with the oth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a partially-instantiated proof object, if the constraint is consis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tracking should usually fail on a constraint, even if there are other proof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erational Semanti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2743200"/>
            <a:ext cx="4648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?- P : X &gt; 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olving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 = 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 = X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straints remain on 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ore?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o more solu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erational Semanti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user-defined constants of targe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 : 0 &gt; 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dynamic clauses of targe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?- P : {x : rational} x * x &gt;= 0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0574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a few restrictions in the use of a predicat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fined by a 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ding the normal form definition to include sums of literal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4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ifying unification to perform variable elimination (on normalized expression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do not define an equality predicate, but rather handle linear equalities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eleg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s during type reconstruction to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reases Twelf core code complex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action with other component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13372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solver does adhere much to the CS specification given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gna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ational : typ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~ : rational -&gt; rati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+ : rational -&gt; rational -&gt; rati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 : rational -&gt; rational -&gt; rati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: rational -&gt; rational -&gt; rati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al const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: rational.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for all rational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20574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666880"/>
            <a:ext cx="7086600" cy="2012040"/>
          </a:xfrm>
          <a:prstGeom prst="rect">
            <a:avLst/>
          </a:prstGeom>
          <a:noFill/>
          <a:ln cap="sq" w="1908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list : rational -&gt; typ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il : list 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,   : rational -&gt; list N -&gt; list (N + 1).  %infix right 100 ,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ppend : list M -&gt; list N -&gt; list (M + N) -&gt; typ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pp_nil  : append nil L2 L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pp_cons : append (X , L1) L2 (X , L3) &lt;- append L1 L2 L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4800600"/>
            <a:ext cx="7086600" cy="15858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?- L : list 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olving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mpty Substitu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L = 0 , 0 , 0 , ni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ore?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mpty Substitu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L = 1 , 0 , 0 , ni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In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variant of the simplex implementation in the Nelson-Oppen TP, wi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of obj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ict inequa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029200"/>
            <a:ext cx="3657600" cy="3682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562720"/>
            <a:ext cx="9144000" cy="916920"/>
          </a:xfrm>
          <a:prstGeom prst="rect">
            <a:avLst/>
          </a:prstGeom>
          <a:gradFill rotWithShape="0">
            <a:gsLst>
              <a:gs pos="0">
                <a:srgbClr val="002e5c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. Nel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iques for program verification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ical Report CSL-81-10, Xerox Palo Alto Research Center, 198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In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gna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gt;  : rational -&gt; rational -&gt; typ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gt;= : rational -&gt; rational -&gt; typ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+&gt;   : {Z:rational} X &gt; Y  -&gt; (X + Z) &gt;  (Y + Z)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+&gt;=  : {Z:rational} X &gt;= Y -&gt; (X + Z) &gt;= (Y + Z)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gt;&gt;=  : X &gt; Y -&gt; X &gt;= Y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&gt;=0 : 0 &gt;= 0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al const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gt;0 : </a:t>
            </a: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&gt; 0.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r all positive rational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eneral 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on based on Twelf 1.2 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ndles rationals (infinite precisio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ves equalities and inequalities over Q using CLP techniq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vides general structures to implement Constraint Solvers as loadable modu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In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057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971800"/>
            <a:ext cx="3429000" cy="1159560"/>
          </a:xfrm>
          <a:prstGeom prst="rect">
            <a:avLst/>
          </a:prstGeom>
          <a:noFill/>
          <a:ln cap="sq" w="1908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in : rational -&gt; rational -&gt; rational -&gt;  typ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1 : Y &gt; X  -&gt; min X Y 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2 : X &gt;= Y -&gt; min X Y 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495680"/>
            <a:ext cx="3429000" cy="1372680"/>
          </a:xfrm>
          <a:prstGeom prst="rect">
            <a:avLst/>
          </a:pr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?- P : min 19 99 Z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olving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Z = 1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 = m1 (+&gt; 19 80&gt;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ore?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o more solu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971800"/>
            <a:ext cx="3962520" cy="2864520"/>
          </a:xfrm>
          <a:prstGeom prst="rect">
            <a:avLst/>
          </a:pr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?- P : min 19 X Z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olving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Z = 19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X = X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 = m1 (+&gt; 19 X2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onstraints remain on X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ore?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Z = X3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X = X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 = m2 (+&gt;= X3 X4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onstraints remain on X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ore?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o more solu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In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equalities are pre-processed before being passed to the simple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ght-hand-side equal to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 : X &gt;= X 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P’ : (X - X) &gt;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if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’ : (X - X) &gt;= 0 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P’ : 0 &gt;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inequalities are solved direct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implex Algorith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res constraints as a matrix with rational coeffici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et of constraints is solved when it admits only one (numerical)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oof objects generated will always be trivial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0 :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&gt;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=0 :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&gt;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&gt;&gt;=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0) :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&gt;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ture Pla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ish and test the current system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 other CS modul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le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aint Handling Rules (CHR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029200"/>
            <a:ext cx="3657600" cy="3682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5562720"/>
            <a:ext cx="9144000" cy="916920"/>
          </a:xfrm>
          <a:prstGeom prst="rect">
            <a:avLst/>
          </a:prstGeom>
          <a:gradFill rotWithShape="0">
            <a:gsLst>
              <a:gs pos="0">
                <a:srgbClr val="002e5c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. Frühwir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ory and Practice of Constraint Handling Rul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al of Logic Programming, Vol. 37(1-3), pp. 95-138, October 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uchstone Compil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itional CLP u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rcuit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nning and schedu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ing Twelf pro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029200"/>
            <a:ext cx="3657600" cy="3682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62720"/>
            <a:ext cx="9144000" cy="916920"/>
          </a:xfrm>
          <a:prstGeom prst="rect">
            <a:avLst/>
          </a:prstGeom>
          <a:gradFill rotWithShape="0">
            <a:gsLst>
              <a:gs pos="0">
                <a:srgbClr val="002e5c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. Necu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iling with Proof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.D. dissertation, Technical Report CMU-CS-98-154, Carnegie Mellon University, 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 Archite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elf is already a CLP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ex-Flex and Flex-Rigid pairs are delayed as hard constra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aints are awakened when the head variable of the Flex term is instantia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724280"/>
            <a:ext cx="3657600" cy="3682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257800"/>
            <a:ext cx="9144000" cy="1191240"/>
          </a:xfrm>
          <a:prstGeom prst="rect">
            <a:avLst/>
          </a:prstGeom>
          <a:gradFill rotWithShape="0">
            <a:gsLst>
              <a:gs pos="0">
                <a:srgbClr val="002e5c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. Michaylov and F. Pfen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igher-Order Logic Programming as Constraint Logic Programming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ceedings of the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Workshop on Principles and Practice of Constraint Programm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wport, Rhode Island, 1993, pp. 221-2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H="1">
            <a:off x="4723920" y="2438280"/>
            <a:ext cx="38124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 Archite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286000"/>
            <a:ext cx="1905120" cy="3373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?- 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6400" y="22860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of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2819520"/>
            <a:ext cx="0" cy="53316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429000"/>
            <a:ext cx="1905120" cy="370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2360" y="342900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876920"/>
            <a:ext cx="1905120" cy="114300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5105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(c) =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Y(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105520" y="2437920"/>
            <a:ext cx="0" cy="121932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1564600">
            <a:off x="5257800" y="35809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4480" y="5257800"/>
            <a:ext cx="9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657600"/>
            <a:ext cx="144792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3886200"/>
            <a:ext cx="0" cy="914400"/>
          </a:xfrm>
          <a:prstGeom prst="line">
            <a:avLst/>
          </a:prstGeom>
          <a:ln cap="sq" w="127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723920" y="5486400"/>
            <a:ext cx="38124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3657600"/>
            <a:ext cx="0" cy="18288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40200">
            <a:off x="4905720" y="454032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40200">
            <a:off x="4905720" y="286416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3352680"/>
            <a:ext cx="990360" cy="91440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429000"/>
            <a:ext cx="1295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9240" y="441972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do S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971800"/>
            <a:ext cx="8001000" cy="320040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8960" y="62485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Unification Constraint Sol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(Q) Archite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fication is seen as a constraint solving mo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possibly many other mod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aints of these other modules are expressed as predicates (type families)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: rational -&gt; rational -&gt; typ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(Q) Archite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aint Solver (C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uld be able to solve constraints for the types it def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y invoke other C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aint Solver Manager (CS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s CS modules in the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patches a constraint to the right CS during proof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nchronizes the internal state of all the CSs during backtrac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 flipH="1">
            <a:off x="4114800" y="2438280"/>
            <a:ext cx="403848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362320" y="5866920"/>
            <a:ext cx="0" cy="3049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(Q) Archite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2286000"/>
            <a:ext cx="1904760" cy="3373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?- 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1240" y="228600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of Search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2819520"/>
            <a:ext cx="0" cy="175248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029200"/>
            <a:ext cx="762120" cy="2671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5410080"/>
            <a:ext cx="380880" cy="30492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5029200"/>
            <a:ext cx="228600" cy="45720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4952880"/>
            <a:ext cx="1219320" cy="83844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5080" y="45720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Unification 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2819520"/>
            <a:ext cx="0" cy="228600"/>
          </a:xfrm>
          <a:prstGeom prst="line">
            <a:avLst/>
          </a:prstGeom>
          <a:ln cap="sq"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3048120"/>
            <a:ext cx="1828800" cy="0"/>
          </a:xfrm>
          <a:prstGeom prst="line">
            <a:avLst/>
          </a:prstGeom>
          <a:ln cap="sq"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3048120"/>
            <a:ext cx="0" cy="53316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3733920"/>
            <a:ext cx="4191120" cy="304560"/>
          </a:xfrm>
          <a:prstGeom prst="octagon">
            <a:avLst>
              <a:gd name="adj" fmla="val 29287"/>
            </a:avLst>
          </a:prstGeom>
          <a:solidFill>
            <a:srgbClr val="996633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560" y="373392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4191120"/>
            <a:ext cx="0" cy="60948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5029200"/>
            <a:ext cx="533520" cy="2671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5410080"/>
            <a:ext cx="380880" cy="30492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5029200"/>
            <a:ext cx="228600" cy="45720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4952880"/>
            <a:ext cx="990360" cy="83844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45720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CS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9480" y="5100480"/>
            <a:ext cx="76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5029200"/>
            <a:ext cx="533160" cy="2671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5410080"/>
            <a:ext cx="381240" cy="30492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5029200"/>
            <a:ext cx="228600" cy="45720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4952880"/>
            <a:ext cx="990720" cy="83844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572000"/>
            <a:ext cx="53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CS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72320" y="5100480"/>
            <a:ext cx="759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8153280" y="2438280"/>
            <a:ext cx="0" cy="373392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038480" y="5866920"/>
            <a:ext cx="0" cy="3049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791320" y="5866920"/>
            <a:ext cx="0" cy="3049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162920" y="4952880"/>
            <a:ext cx="380880" cy="0"/>
          </a:xfrm>
          <a:prstGeom prst="line">
            <a:avLst/>
          </a:prstGeom>
          <a:ln w="2844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162920" y="5791320"/>
            <a:ext cx="380880" cy="0"/>
          </a:xfrm>
          <a:prstGeom prst="line">
            <a:avLst/>
          </a:prstGeom>
          <a:ln w="2844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238880" y="4952520"/>
            <a:ext cx="0" cy="838440"/>
          </a:xfrm>
          <a:prstGeom prst="line">
            <a:avLst/>
          </a:prstGeom>
          <a:ln w="2844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257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1564600">
            <a:off x="5867280" y="19807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362320" y="6172200"/>
            <a:ext cx="579096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21564600">
            <a:off x="5257800" y="60955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25200">
            <a:off x="7953120" y="423576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4191120"/>
            <a:ext cx="0" cy="60948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123720" y="5334120"/>
            <a:ext cx="381240" cy="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629400" y="5334120"/>
            <a:ext cx="457200" cy="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5334120"/>
            <a:ext cx="457200" cy="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straint Solver Defini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s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st of CSs it depends u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ignature contai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family constants (constraint predicat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m constants for constructing proof obje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s of countably-many “special” const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057400"/>
            <a:ext cx="47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CS must specif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18:24:06Z</dcterms:created>
  <dc:creator>Roberto Virga</dc:creator>
  <dc:description/>
  <cp:keywords>logical frameworks constraint logic programming</cp:keywords>
  <dc:language>en-US</dc:language>
  <cp:lastModifiedBy>Roberto Virga</cp:lastModifiedBy>
  <dcterms:modified xsi:type="dcterms:W3CDTF">1999-04-19T17:30:16Z</dcterms:modified>
  <cp:revision>45</cp:revision>
  <dc:subject>Twelf(Q)</dc:subject>
  <dc:title>Twelf(Q)  Adding rationals to Twel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rvirga/</vt:lpwstr>
  </property>
  <property fmtid="{D5CDD505-2E9C-101B-9397-08002B2CF9AE}" pid="9" name="LinkColor">
    <vt:r8>16711782</vt:r8>
  </property>
  <property fmtid="{D5CDD505-2E9C-101B-9397-08002B2CF9AE}" pid="10" name="MailAddress">
    <vt:lpwstr>rvirga+@cs.cmu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Documents\Roberto\Microsoft Office\PowerPoint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