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A7B-067F-4043-A8DF-94365B4C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364572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44A3-13EF-4829-BB64-C209D206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88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CA3-A6CC-4982-A6CD-562D6D42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508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56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508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56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FB3-767D-4254-A601-DB6A1F6A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A457-3833-46D6-BFAA-17AD539A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BC44-B3FC-4F2E-AC5F-CA88C644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D967-7E92-481F-97F5-7CBFCA74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54B9-04B6-4FC7-9E74-109BEEA6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6528-C54B-45A2-AA97-F22F604E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80640" y="182160"/>
            <a:ext cx="81630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D9A6-5BE7-4CF4-90DC-A3D4FBAB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CFEC-07E5-4388-BF27-A995D822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71B-804D-472A-ACF4-94C544F2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688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9896-8B91-4C8C-A494-E08FD9A1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FE8C-9A43-4A16-AC46-B16E0422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912600" y="364572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D128-8E27-4285-958B-503E8695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688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AB25-6D61-4FF9-81E1-6B306ADB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65508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39756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91260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65508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39756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93B0-1BBD-43D2-876D-D0BF4F48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8FF-5F75-4FF2-95F6-A0AA738D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9CB-A16F-4C14-AC90-D512E260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D0B-C6AD-42DB-A620-074FE840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80640" y="182160"/>
            <a:ext cx="81630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5B1-6784-443F-8971-FA2E8243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256-93DB-40E2-99C2-4874F5A2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88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ECF-8181-42EC-9A47-2D9451CA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500-422E-44EC-80B4-1D7BB88F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00800"/>
            <a:ext cx="2330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90640" y="65973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0880" y="6621120"/>
            <a:ext cx="19051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7204-324F-45F1-AFD0-7FA7CCAA32C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2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3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9400" y="1215720"/>
            <a:ext cx="7678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9D5F-74FF-4F30-993F-2DF5A21BF16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37000" y="2287440"/>
            <a:ext cx="54403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ICT for Sustainable Developmen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ngalore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nuary 14-16,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80640" y="30456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4 Themes and Working Group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8240" y="907560"/>
            <a:ext cx="8645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rastructure develop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ludes sectors such as water &amp; sanitation, energy and transportation)*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sic human needs and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ludes aspects such as healthcare, water, agriculture and basic education)*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conomic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ludes aspects such as job creation, poverty alleviation, e-commerce, agriculture and higher education)*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ower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ludes issues such as alienation, peace, transparency, democracy, e-governance and gender)*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Each working group will begin with a brief presentation of the white paper prepared for that topic. Enabling IC technologies will be discussed in each group. Working group chairs and rapporteurs will prepare a summary of the conclusions and recommendations for each theme for presentation in main workshop plenar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FAF-E6F6-4F82-A8D6-82539B3E41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3360" y="304560"/>
            <a:ext cx="8540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White Papers and Pre-Workshop Effort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tepapers for Discussion are under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will be based on input from various expe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profession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s from NSF, UN, WB, other ICT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questionnaires are on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ttp://www.cs.cmu.edu/~rtongia/itsd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124-00E2-47BB-9B39-F0BE98FD22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7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ICT and Development (Groups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8000" y="4041000"/>
            <a:ext cx="8991720" cy="2175480"/>
            <a:chOff x="108000" y="4041000"/>
            <a:chExt cx="8991720" cy="2175480"/>
          </a:xfrm>
        </p:grpSpPr>
        <p:sp>
          <p:nvSpPr>
            <p:cNvPr id="171" name=""/>
            <p:cNvSpPr/>
            <p:nvPr/>
          </p:nvSpPr>
          <p:spPr>
            <a:xfrm>
              <a:off x="1251000" y="539100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Water &amp; Sanit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8000" y="502272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nergy &amp; Transport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94000" y="502272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Healthca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37000" y="532764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gricultu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80000" y="502272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Job Creation &amp; Poverty Redu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23000" y="532764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du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66000" y="502272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lienation, Peace, &amp; Prosperi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09000" y="532764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Transparency, Democracy, &amp; E-Govern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>
              <a:stCxn id="171" idx="0"/>
              <a:endCxn id="180" idx="2"/>
            </p:cNvCxnSpPr>
            <p:nvPr/>
          </p:nvCxnSpPr>
          <p:spPr>
            <a:xfrm flipV="1">
              <a:off x="1746000" y="4041360"/>
              <a:ext cx="1857960" cy="13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1" name=""/>
            <p:cNvCxnSpPr>
              <a:stCxn id="171" idx="0"/>
              <a:endCxn id="182" idx="2"/>
            </p:cNvCxnSpPr>
            <p:nvPr/>
          </p:nvCxnSpPr>
          <p:spPr>
            <a:xfrm flipH="1" flipV="1">
              <a:off x="1393200" y="4041360"/>
              <a:ext cx="353160" cy="13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3" name=""/>
            <p:cNvCxnSpPr>
              <a:stCxn id="172" idx="0"/>
              <a:endCxn id="182" idx="2"/>
            </p:cNvCxnSpPr>
            <p:nvPr/>
          </p:nvCxnSpPr>
          <p:spPr>
            <a:xfrm flipV="1">
              <a:off x="603360" y="4041000"/>
              <a:ext cx="791280" cy="98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4" name=""/>
            <p:cNvCxnSpPr>
              <a:stCxn id="174" idx="0"/>
              <a:endCxn id="185" idx="2"/>
            </p:cNvCxnSpPr>
            <p:nvPr/>
          </p:nvCxnSpPr>
          <p:spPr>
            <a:xfrm flipV="1">
              <a:off x="4032000" y="4041360"/>
              <a:ext cx="1857960" cy="12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6" name=""/>
            <p:cNvCxnSpPr>
              <a:stCxn id="175" idx="0"/>
              <a:endCxn id="185" idx="2"/>
            </p:cNvCxnSpPr>
            <p:nvPr/>
          </p:nvCxnSpPr>
          <p:spPr>
            <a:xfrm flipV="1">
              <a:off x="5175360" y="4041000"/>
              <a:ext cx="714960" cy="98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7" name=""/>
            <p:cNvCxnSpPr>
              <a:stCxn id="174" idx="0"/>
              <a:endCxn id="180" idx="2"/>
            </p:cNvCxnSpPr>
            <p:nvPr/>
          </p:nvCxnSpPr>
          <p:spPr>
            <a:xfrm flipH="1" flipV="1">
              <a:off x="3602880" y="4041360"/>
              <a:ext cx="429480" cy="12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8" name=""/>
            <p:cNvCxnSpPr>
              <a:stCxn id="176" idx="0"/>
              <a:endCxn id="189" idx="2"/>
            </p:cNvCxnSpPr>
            <p:nvPr/>
          </p:nvCxnSpPr>
          <p:spPr>
            <a:xfrm flipV="1">
              <a:off x="6318000" y="4041360"/>
              <a:ext cx="1781640" cy="12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90" name=""/>
            <p:cNvCxnSpPr>
              <a:stCxn id="177" idx="0"/>
              <a:endCxn id="189" idx="2"/>
            </p:cNvCxnSpPr>
            <p:nvPr/>
          </p:nvCxnSpPr>
          <p:spPr>
            <a:xfrm flipV="1">
              <a:off x="7461360" y="4041000"/>
              <a:ext cx="638280" cy="98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91" name=""/>
            <p:cNvCxnSpPr>
              <a:stCxn id="178" idx="0"/>
              <a:endCxn id="189" idx="2"/>
            </p:cNvCxnSpPr>
            <p:nvPr/>
          </p:nvCxnSpPr>
          <p:spPr>
            <a:xfrm flipH="1" flipV="1">
              <a:off x="8098560" y="4041360"/>
              <a:ext cx="505800" cy="12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92" name=""/>
            <p:cNvCxnSpPr>
              <a:stCxn id="176" idx="0"/>
              <a:endCxn id="185" idx="2"/>
            </p:cNvCxnSpPr>
            <p:nvPr/>
          </p:nvCxnSpPr>
          <p:spPr>
            <a:xfrm flipH="1" flipV="1">
              <a:off x="5888880" y="4041360"/>
              <a:ext cx="429480" cy="12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93" name=""/>
            <p:cNvCxnSpPr>
              <a:stCxn id="173" idx="0"/>
              <a:endCxn id="180" idx="2"/>
            </p:cNvCxnSpPr>
            <p:nvPr/>
          </p:nvCxnSpPr>
          <p:spPr>
            <a:xfrm flipV="1">
              <a:off x="2889360" y="4041000"/>
              <a:ext cx="714960" cy="98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</p:grpSp>
      <p:grpSp>
        <p:nvGrpSpPr>
          <p:cNvPr id="194" name=""/>
          <p:cNvGrpSpPr/>
          <p:nvPr/>
        </p:nvGrpSpPr>
        <p:grpSpPr>
          <a:xfrm>
            <a:off x="-115920" y="2772720"/>
            <a:ext cx="9175680" cy="1259640"/>
            <a:chOff x="-115920" y="2772720"/>
            <a:chExt cx="9175680" cy="1259640"/>
          </a:xfrm>
        </p:grpSpPr>
        <p:sp>
          <p:nvSpPr>
            <p:cNvPr id="180" name=""/>
            <p:cNvSpPr/>
            <p:nvPr/>
          </p:nvSpPr>
          <p:spPr>
            <a:xfrm>
              <a:off x="2643120" y="2825640"/>
              <a:ext cx="1920960" cy="12067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Basic Human Needs and Develo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39160" y="2825640"/>
              <a:ext cx="1920600" cy="12067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Empower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3440" y="2825640"/>
              <a:ext cx="1920960" cy="12067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Infrastructure Develo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29120" y="2825640"/>
              <a:ext cx="1920960" cy="12067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Economic Develo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0800000">
              <a:off x="-115560" y="2772720"/>
              <a:ext cx="60696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The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96840" y="1173600"/>
            <a:ext cx="8555040" cy="1626840"/>
            <a:chOff x="96840" y="1173600"/>
            <a:chExt cx="8555040" cy="1626840"/>
          </a:xfrm>
        </p:grpSpPr>
        <p:sp>
          <p:nvSpPr>
            <p:cNvPr id="197" name=""/>
            <p:cNvSpPr/>
            <p:nvPr/>
          </p:nvSpPr>
          <p:spPr>
            <a:xfrm>
              <a:off x="1108080" y="1220760"/>
              <a:ext cx="7543800" cy="113832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uman-Computer Interaction, Sensors, Communication, Databases/Information Systems, Controllers/Actuators/Effec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87680" y="2389320"/>
              <a:ext cx="106200" cy="411120"/>
            </a:xfrm>
            <a:prstGeom prst="upDownArrow">
              <a:avLst>
                <a:gd name="adj1" fmla="val 50000"/>
                <a:gd name="adj2" fmla="val 7706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92440" y="2389320"/>
              <a:ext cx="106560" cy="411120"/>
            </a:xfrm>
            <a:prstGeom prst="upDownArrow">
              <a:avLst>
                <a:gd name="adj1" fmla="val 50000"/>
                <a:gd name="adj2" fmla="val 768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0360" y="2389320"/>
              <a:ext cx="106560" cy="411120"/>
            </a:xfrm>
            <a:prstGeom prst="upDownArrow">
              <a:avLst>
                <a:gd name="adj1" fmla="val 50000"/>
                <a:gd name="adj2" fmla="val 768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6560" y="2389320"/>
              <a:ext cx="106200" cy="411120"/>
            </a:xfrm>
            <a:prstGeom prst="upDownArrow">
              <a:avLst>
                <a:gd name="adj1" fmla="val 50000"/>
                <a:gd name="adj2" fmla="val 7706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0800000">
              <a:off x="96840" y="1173600"/>
              <a:ext cx="91188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nab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B44-93A4-4DA3-A38F-F2713F9DDA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60840"/>
            <a:ext cx="9144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Development Needs Drive ICT Research (</a:t>
            </a:r>
            <a:r>
              <a:rPr b="1" i="1" lang="en-US" sz="1600" spc="-1" strike="noStrike">
                <a:solidFill>
                  <a:srgbClr val="003366"/>
                </a:solidFill>
                <a:latin typeface="Verdana"/>
              </a:rPr>
              <a:t>examples only, non-exhaustive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71400" y="1166760"/>
            <a:ext cx="8051760" cy="4197240"/>
            <a:chOff x="671400" y="1166760"/>
            <a:chExt cx="8051760" cy="4197240"/>
          </a:xfrm>
        </p:grpSpPr>
        <p:sp>
          <p:nvSpPr>
            <p:cNvPr id="205" name=""/>
            <p:cNvSpPr/>
            <p:nvPr/>
          </p:nvSpPr>
          <p:spPr>
            <a:xfrm>
              <a:off x="673200" y="3297240"/>
              <a:ext cx="128880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lectricity Load Manag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1400" y="1166760"/>
              <a:ext cx="128916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dvanced Urban Transpor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3200" y="2195640"/>
              <a:ext cx="128880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lectricity Theft Redu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68560" y="3298680"/>
              <a:ext cx="128916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Remote Medical Detection / Diagnos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68560" y="2195640"/>
              <a:ext cx="128916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Health Monitoring and Epidemiolog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54480" y="2195640"/>
              <a:ext cx="128916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gricultural Price Discover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54480" y="3298680"/>
              <a:ext cx="128916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xpanding Markets for Rural / Traditional Good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34360" y="3297240"/>
              <a:ext cx="128880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ational and Global Inclusivene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16200" y="4408560"/>
              <a:ext cx="128880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Water Manag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4360" y="4406760"/>
              <a:ext cx="128880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igital Librar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34360" y="2195640"/>
              <a:ext cx="128880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-Govern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17960" y="1168560"/>
              <a:ext cx="128916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isaster / Weather Forecasting and Warn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17960" y="4408560"/>
              <a:ext cx="128916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rip and Advanced Irrig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07200" y="1168560"/>
              <a:ext cx="128916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istance and e-Learn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99520" y="5492520"/>
            <a:ext cx="8844480" cy="1414440"/>
            <a:chOff x="299520" y="5492520"/>
            <a:chExt cx="8844480" cy="1414440"/>
          </a:xfrm>
        </p:grpSpPr>
        <p:sp>
          <p:nvSpPr>
            <p:cNvPr id="220" name=""/>
            <p:cNvSpPr/>
            <p:nvPr/>
          </p:nvSpPr>
          <p:spPr>
            <a:xfrm>
              <a:off x="1044720" y="5616720"/>
              <a:ext cx="8067600" cy="72540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sors, 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mmunication, Databases/Information Systems (</a:t>
              </a:r>
              <a:r>
                <a:rPr b="0" lang="en-US" sz="24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, Controllers/Actuators/Effectors (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, Human-Computer Interaction 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0800000">
              <a:off x="299520" y="5492520"/>
              <a:ext cx="790200" cy="10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ab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57480" y="6326280"/>
              <a:ext cx="788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ncorporates issues of: OS, Protocols, Robustness, Software, Hardware, Power Management, Regulation, Security,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01680" y="439560"/>
            <a:ext cx="8746920" cy="642960"/>
            <a:chOff x="301680" y="439560"/>
            <a:chExt cx="8746920" cy="642960"/>
          </a:xfrm>
        </p:grpSpPr>
        <p:sp>
          <p:nvSpPr>
            <p:cNvPr id="224" name=""/>
            <p:cNvSpPr/>
            <p:nvPr/>
          </p:nvSpPr>
          <p:spPr>
            <a:xfrm>
              <a:off x="2511360" y="439560"/>
              <a:ext cx="204156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Basic Human Needs and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7400" y="439560"/>
              <a:ext cx="204120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mpower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680" y="439560"/>
              <a:ext cx="204156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nfrastructure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97360" y="439560"/>
              <a:ext cx="204156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conomic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08600" y="1131840"/>
            <a:ext cx="8606520" cy="4291920"/>
            <a:chOff x="408600" y="1131840"/>
            <a:chExt cx="8606520" cy="4291920"/>
          </a:xfrm>
        </p:grpSpPr>
        <p:sp>
          <p:nvSpPr>
            <p:cNvPr id="229" name=""/>
            <p:cNvSpPr/>
            <p:nvPr/>
          </p:nvSpPr>
          <p:spPr>
            <a:xfrm>
              <a:off x="655560" y="3311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35120" y="3932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3080" y="39654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67880" y="288936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4120" y="1131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87320" y="1781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8600" y="18162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92280" y="120960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7120" y="2241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23960" y="2797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1920" y="28623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47840" y="32860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35200" y="4384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68400" y="5033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89680" y="50688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73360" y="446256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06800" y="4402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40360" y="50515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61640" y="508644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46600" y="3276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79800" y="39258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84760" y="33544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46600" y="219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95640" y="2847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4760" y="222876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6800" y="1154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40360" y="1803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44960" y="123192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85320" y="178452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67520" y="2830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72120" y="217980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44160" y="277956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57800" y="3946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62760" y="329580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34800" y="389556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99520" y="28670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04120" y="221616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76160" y="28162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48600" y="18381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69040" y="11872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41080" y="178740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99520" y="3916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04120" y="326556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76160" y="38656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99520" y="5056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04120" y="440532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76160" y="50054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47160" y="141444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23320" y="379260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89840" y="360360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526-CE01-4355-838F-001F4671E3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1092240" y="23760"/>
            <a:ext cx="4317480" cy="3338280"/>
            <a:chOff x="1092240" y="23760"/>
            <a:chExt cx="4317480" cy="3338280"/>
          </a:xfrm>
        </p:grpSpPr>
        <p:sp>
          <p:nvSpPr>
            <p:cNvPr id="280" name=""/>
            <p:cNvSpPr/>
            <p:nvPr/>
          </p:nvSpPr>
          <p:spPr>
            <a:xfrm>
              <a:off x="1092240" y="23760"/>
              <a:ext cx="4317480" cy="33382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94040" y="1873080"/>
              <a:ext cx="141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ngalore Worksh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5835600" y="790560"/>
            <a:ext cx="33084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cc66"/>
                </a:solidFill>
                <a:latin typeface="Verdana"/>
              </a:rPr>
              <a:t>Research, Development, and Diffusion Process Template for I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ues of Appropriateness, Affordability, and Impact a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ICT research and design, instead of merely affecting penetration and deploy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758880"/>
            <a:ext cx="91440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stainable Development Nee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2452680"/>
            <a:ext cx="860400" cy="627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65560" y="239760"/>
            <a:ext cx="9651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commendations from UN, WB, NGOs, and Developing Country Govt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9360" y="266760"/>
            <a:ext cx="8920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ports from Workshop Breakout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1585800"/>
            <a:ext cx="91440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dentification of Enabling 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2557440"/>
            <a:ext cx="947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T R&amp;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6319800"/>
            <a:ext cx="91440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5530680"/>
            <a:ext cx="914400" cy="5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06520" y="3710160"/>
            <a:ext cx="915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pplication Custom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87480" y="4533840"/>
            <a:ext cx="828720" cy="608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cessi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fforda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cepta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87480" y="3508200"/>
            <a:ext cx="828720" cy="606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gineer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5200" y="4467240"/>
            <a:ext cx="1005120" cy="738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-evalu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f Policies, Institutions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nd Incentiv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6" idx="3"/>
            <a:endCxn id="283" idx="1"/>
          </p:cNvCxnSpPr>
          <p:nvPr/>
        </p:nvCxnSpPr>
        <p:spPr>
          <a:xfrm>
            <a:off x="2341440" y="530280"/>
            <a:ext cx="402480" cy="49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85" idx="1"/>
            <a:endCxn id="283" idx="3"/>
          </p:cNvCxnSpPr>
          <p:nvPr/>
        </p:nvCxnSpPr>
        <p:spPr>
          <a:xfrm flipH="1">
            <a:off x="3656880" y="501480"/>
            <a:ext cx="50868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83" idx="2"/>
            <a:endCxn id="287" idx="0"/>
          </p:cNvCxnSpPr>
          <p:nvPr/>
        </p:nvCxnSpPr>
        <p:spPr>
          <a:xfrm>
            <a:off x="3200040" y="1282680"/>
            <a:ext cx="1080" cy="3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6" idx="2"/>
            <a:endCxn id="287" idx="1"/>
          </p:cNvCxnSpPr>
          <p:nvPr/>
        </p:nvCxnSpPr>
        <p:spPr>
          <a:xfrm>
            <a:off x="1895040" y="791640"/>
            <a:ext cx="848520" cy="105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7" idx="2"/>
            <a:endCxn id="284" idx="0"/>
          </p:cNvCxnSpPr>
          <p:nvPr/>
        </p:nvCxnSpPr>
        <p:spPr>
          <a:xfrm>
            <a:off x="3200400" y="2111400"/>
            <a:ext cx="216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84" idx="2"/>
            <a:endCxn id="293" idx="0"/>
          </p:cNvCxnSpPr>
          <p:nvPr/>
        </p:nvCxnSpPr>
        <p:spPr>
          <a:xfrm>
            <a:off x="3201480" y="3079800"/>
            <a:ext cx="108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3" idx="2"/>
            <a:endCxn id="292" idx="0"/>
          </p:cNvCxnSpPr>
          <p:nvPr/>
        </p:nvCxnSpPr>
        <p:spPr>
          <a:xfrm>
            <a:off x="3201480" y="4114800"/>
            <a:ext cx="10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92" idx="2"/>
            <a:endCxn id="290" idx="0"/>
          </p:cNvCxnSpPr>
          <p:nvPr/>
        </p:nvCxnSpPr>
        <p:spPr>
          <a:xfrm flipH="1">
            <a:off x="3200040" y="5141880"/>
            <a:ext cx="21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0" idx="2"/>
            <a:endCxn id="289" idx="0"/>
          </p:cNvCxnSpPr>
          <p:nvPr/>
        </p:nvCxnSpPr>
        <p:spPr>
          <a:xfrm>
            <a:off x="3200040" y="6054840"/>
            <a:ext cx="108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293" idx="1"/>
            <a:endCxn id="291" idx="3"/>
          </p:cNvCxnSpPr>
          <p:nvPr/>
        </p:nvCxnSpPr>
        <p:spPr>
          <a:xfrm flipH="1">
            <a:off x="2322000" y="3811320"/>
            <a:ext cx="46584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4" idx="0"/>
            <a:endCxn id="291" idx="2"/>
          </p:cNvCxnSpPr>
          <p:nvPr/>
        </p:nvCxnSpPr>
        <p:spPr>
          <a:xfrm flipV="1">
            <a:off x="798120" y="4166640"/>
            <a:ext cx="106740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94" idx="0"/>
            <a:endCxn id="288" idx="2"/>
          </p:cNvCxnSpPr>
          <p:nvPr/>
        </p:nvCxnSpPr>
        <p:spPr>
          <a:xfrm flipV="1">
            <a:off x="798120" y="2972880"/>
            <a:ext cx="1080" cy="149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84" idx="1"/>
            <a:endCxn id="288" idx="3"/>
          </p:cNvCxnSpPr>
          <p:nvPr/>
        </p:nvCxnSpPr>
        <p:spPr>
          <a:xfrm flipH="1" flipV="1">
            <a:off x="1270800" y="2765160"/>
            <a:ext cx="1500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2" idx="1"/>
            <a:endCxn id="294" idx="3"/>
          </p:cNvCxnSpPr>
          <p:nvPr/>
        </p:nvCxnSpPr>
        <p:spPr>
          <a:xfrm flipH="1" flipV="1">
            <a:off x="1299600" y="4836240"/>
            <a:ext cx="1487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0"/>
            <a:endCxn id="293" idx="0"/>
          </p:cNvCxnSpPr>
          <p:nvPr/>
        </p:nvCxnSpPr>
        <p:spPr>
          <a:xfrm flipH="1" flipV="1" rot="5400000">
            <a:off x="2432160" y="2940120"/>
            <a:ext cx="202680" cy="1337400"/>
          </a:xfrm>
          <a:prstGeom prst="bentConnector3">
            <a:avLst>
              <a:gd name="adj1" fmla="val 2133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294" idx="2"/>
            <a:endCxn id="290" idx="1"/>
          </p:cNvCxnSpPr>
          <p:nvPr/>
        </p:nvCxnSpPr>
        <p:spPr>
          <a:xfrm flipH="1" rot="16200000">
            <a:off x="1477080" y="4526280"/>
            <a:ext cx="588240" cy="194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8" idx="0"/>
            <a:endCxn id="284" idx="0"/>
          </p:cNvCxnSpPr>
          <p:nvPr/>
        </p:nvCxnSpPr>
        <p:spPr>
          <a:xfrm flipH="1" flipV="1" rot="5400000">
            <a:off x="1947600" y="1302840"/>
            <a:ext cx="105480" cy="2404080"/>
          </a:xfrm>
          <a:prstGeom prst="bentConnector3">
            <a:avLst>
              <a:gd name="adj1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1837800" y="257508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74280" y="382572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4400" y="485136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89" idx="3"/>
            <a:endCxn id="290" idx="3"/>
          </p:cNvCxnSpPr>
          <p:nvPr/>
        </p:nvCxnSpPr>
        <p:spPr>
          <a:xfrm flipV="1">
            <a:off x="3657600" y="5792400"/>
            <a:ext cx="2160" cy="789840"/>
          </a:xfrm>
          <a:prstGeom prst="curvedConnector5">
            <a:avLst>
              <a:gd name="adj1" fmla="val 14400000"/>
              <a:gd name="adj2" fmla="val 49977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89" idx="3"/>
            <a:endCxn id="292" idx="3"/>
          </p:cNvCxnSpPr>
          <p:nvPr/>
        </p:nvCxnSpPr>
        <p:spPr>
          <a:xfrm flipH="1" flipV="1">
            <a:off x="3615840" y="4838400"/>
            <a:ext cx="41760" cy="1743840"/>
          </a:xfrm>
          <a:prstGeom prst="curvedConnector5">
            <a:avLst>
              <a:gd name="adj1" fmla="val -791304"/>
              <a:gd name="adj2" fmla="val 49989"/>
              <a:gd name="adj3" fmla="val -791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0" idx="3"/>
            <a:endCxn id="293" idx="3"/>
          </p:cNvCxnSpPr>
          <p:nvPr/>
        </p:nvCxnSpPr>
        <p:spPr>
          <a:xfrm flipH="1" flipV="1">
            <a:off x="3615840" y="3810960"/>
            <a:ext cx="41760" cy="1981800"/>
          </a:xfrm>
          <a:prstGeom prst="curvedConnector5">
            <a:avLst>
              <a:gd name="adj1" fmla="val -744347"/>
              <a:gd name="adj2" fmla="val 50000"/>
              <a:gd name="adj3" fmla="val -7443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290" idx="3"/>
            <a:endCxn id="284" idx="3"/>
          </p:cNvCxnSpPr>
          <p:nvPr/>
        </p:nvCxnSpPr>
        <p:spPr>
          <a:xfrm flipH="1" flipV="1">
            <a:off x="3631320" y="2766240"/>
            <a:ext cx="26280" cy="3026520"/>
          </a:xfrm>
          <a:prstGeom prst="curvedConnector5">
            <a:avLst>
              <a:gd name="adj1" fmla="val -1537500"/>
              <a:gd name="adj2" fmla="val 50000"/>
              <a:gd name="adj3" fmla="val -15375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290" idx="3"/>
            <a:endCxn id="287" idx="3"/>
          </p:cNvCxnSpPr>
          <p:nvPr/>
        </p:nvCxnSpPr>
        <p:spPr>
          <a:xfrm flipV="1">
            <a:off x="3657600" y="1848960"/>
            <a:ext cx="2160" cy="3944160"/>
          </a:xfrm>
          <a:prstGeom prst="curvedConnector5">
            <a:avLst>
              <a:gd name="adj1" fmla="val 30500000"/>
              <a:gd name="adj2" fmla="val 49995"/>
              <a:gd name="adj3" fmla="val 30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2906280" y="517212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06280" y="312912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06280" y="415620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991320" y="4896360"/>
            <a:ext cx="30204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9520" y="5189400"/>
            <a:ext cx="51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VI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9160" y="4130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VI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3320" y="6113520"/>
            <a:ext cx="1947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rocess Flow Diagr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nabling IT for Sustainable Develop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6760" y="6599160"/>
            <a:ext cx="1041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© 2003 ES, VSA, &amp; 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366720" y="2598480"/>
            <a:ext cx="2803680" cy="2685240"/>
            <a:chOff x="3366720" y="2598480"/>
            <a:chExt cx="2803680" cy="2685240"/>
          </a:xfrm>
        </p:grpSpPr>
        <p:sp>
          <p:nvSpPr>
            <p:cNvPr id="329" name=""/>
            <p:cNvSpPr/>
            <p:nvPr/>
          </p:nvSpPr>
          <p:spPr>
            <a:xfrm rot="3868800">
              <a:off x="3666960" y="2898360"/>
              <a:ext cx="1801440" cy="1802160"/>
            </a:xfrm>
            <a:custGeom>
              <a:avLst/>
              <a:gdLst>
                <a:gd name="textAreaLeft" fmla="*/ 0 w 1801440"/>
                <a:gd name="textAreaRight" fmla="*/ 1801800 w 1801440"/>
                <a:gd name="textAreaTop" fmla="*/ 0 h 1802160"/>
                <a:gd name="textAreaBottom" fmla="*/ 1802520 h 18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75" y="12743"/>
                  </a:moveTo>
                  <a:arcTo wR="-8841" hR="-8841" stAng="10038276" swAng="-5136149"/>
                  <a:lnTo>
                    <a:pt x="9241" y="113"/>
                  </a:lnTo>
                  <a:arcTo wR="10800" hR="10800" stAng="-5897873" swAng="5136149"/>
                  <a:lnTo>
                    <a:pt x="23970" y="7833"/>
                  </a:lnTo>
                  <a:lnTo>
                    <a:pt x="21189" y="12231"/>
                  </a:lnTo>
                  <a:lnTo>
                    <a:pt x="16791" y="945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04680" y="4763520"/>
              <a:ext cx="166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dentification of Case Exempla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290" idx="3"/>
            <a:endCxn id="292" idx="3"/>
          </p:cNvCxnSpPr>
          <p:nvPr/>
        </p:nvCxnSpPr>
        <p:spPr>
          <a:xfrm flipH="1" flipV="1">
            <a:off x="3615840" y="4838400"/>
            <a:ext cx="41760" cy="954720"/>
          </a:xfrm>
          <a:prstGeom prst="curvedConnector5">
            <a:avLst>
              <a:gd name="adj1" fmla="val -558260"/>
              <a:gd name="adj2" fmla="val 49981"/>
              <a:gd name="adj3" fmla="val -5582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FD8-E5A8-4450-A6DD-833B17DA08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41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R&amp;D Areas in IC Technologie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25100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>
              <a:lnSpc>
                <a:spcPct val="105000"/>
              </a:lnSpc>
              <a:spcBef>
                <a:spcPts val="125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-Computer Inter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ing and Interfacing with I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e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vic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ICT (like computers/hardware with compelling price/performan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5000"/>
              </a:lnSpc>
              <a:spcBef>
                <a:spcPts val="125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quire and Convert observations into digital form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5000"/>
              </a:lnSpc>
              <a:spcBef>
                <a:spcPts val="125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ch &amp; Richness of networ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5000"/>
              </a:lnSpc>
              <a:spcBef>
                <a:spcPts val="125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bases/Informatio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ing knowledge and contextual bases and algorithms for decision-ma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5000"/>
              </a:lnSpc>
              <a:spcBef>
                <a:spcPts val="125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lers/Actuators/Effe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ffecting change (feedback) in nature and the operating dom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any ICT R&amp;D areas are inter-disciplin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484-842B-4694-A492-4D9219C3BE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09800" y="18216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Research Question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15760" y="1122480"/>
            <a:ext cx="733572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CT are immediately availabl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evelopment needs do they satisfy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are technologies currently used for develop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required to modify and re-engineer existing technologies for development objectiv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needs require the development of new technologies and infrastructure to be satisfi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impediments to wide-scale deployment of technology (Technological, Social and Financial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modifications and other development oriented factors such 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ccessi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fforda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ccepta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fect the development, selection and deployment of technolog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-2094840" y="3359880"/>
            <a:ext cx="47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CT Availability and Applic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15800" y="1278360"/>
            <a:ext cx="1565280" cy="4743720"/>
            <a:chOff x="415800" y="1278360"/>
            <a:chExt cx="1565280" cy="4743720"/>
          </a:xfrm>
        </p:grpSpPr>
        <p:sp>
          <p:nvSpPr>
            <p:cNvPr id="338" name=""/>
            <p:cNvSpPr/>
            <p:nvPr/>
          </p:nvSpPr>
          <p:spPr>
            <a:xfrm rot="19416000">
              <a:off x="654840" y="1607400"/>
              <a:ext cx="122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Verdana"/>
                </a:rPr>
                <a:t>Short-te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9418400">
              <a:off x="531000" y="2579400"/>
              <a:ext cx="149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Verdana"/>
                </a:rPr>
                <a:t>Medium-te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9413600">
              <a:off x="656640" y="347616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Verdana"/>
                </a:rPr>
                <a:t>Long-te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9413600">
              <a:off x="445320" y="5064120"/>
              <a:ext cx="146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Verdana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Verdana"/>
                </a:rPr>
                <a:t>ICT Nex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6D6-D6B2-4ED5-A349-76EEB9407CB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0640" y="24336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The Research Questions (cont.)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60680" y="1122480"/>
            <a:ext cx="736272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issues in disseminatin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usefu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formation; how could it be localized and made user-friendly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hould be the policies that govern the availability of such information; how could transactions between producer and consumer be made pareto-optimal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hould be the role of the Government and multilateral organizations (WB, UN, etc.) in ensuring ICT innovations are sustainable in the developing worl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ICT minimize the divide between the haves and have nots? Can it address concerns regarding the inclusivity of youth and the disempowered into the global mainstream?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-459360" y="327384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ross-Cutt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3B2-344F-48C0-B21D-CB20EB70E92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Deliverabl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109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CT for SD: Research Age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incorpo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ort-term agenda – IC Technologies exist and need to be appli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ium-term agenda – ICT needs modification to be applic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ng-term agenda – Appropriate ICT to be develop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ancing technology-push and demand-pu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Group will create 3-4 exemplars for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ual research as per the process flow diagrams is a longer-term initiative (e.g., building sensors for pathogen detec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workshop’s output will enable researchers to follow-up with funding agencies for such pro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1B34-8A20-45C9-94E5-472D0751A7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1040" y="153000"/>
            <a:ext cx="8472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SF-CMU-IISc-NIAS-MultiLateral Agency Synergie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71200" y="1217160"/>
            <a:ext cx="81104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effort wi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 greater feedback for basic ICT research to make it  relev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 address issues of global importance, such as the environment, epidemics like SARS, etc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international partnerships amongst scholars and researchers, as well as governments, industry, and NG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includes implementing projects and research pla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environments also offer low-cost test-beds for new and leapfrogging technologies, designs, and paradig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sitize industry to global commercial opportunities in SD and social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A80-2D2D-43C8-995B-7F359E9391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Imperativ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countries are starved of resources for human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nations are poor; around 2.5 billion people earn less than $2 a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frastructure is inadequate or un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ies to overcome these deprivations are often unknown, untested or not deployed in the developing worl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ource: Millennium Development Goals, UN Human Development Indic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4FF-347C-4515-BE8D-FAA2FA82D4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A69-9FC2-4073-BB10-73E6DD6EA09A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CT as an Enabling Technology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and Communications Technology (ICT) is an all-purpose 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wth of ICT technology – bandwidth, computational speed and storage – is spectac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p-frogging technologies do not demand a large or preexisting resource 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cessful applications have emerged but remain largely untapped for sustainable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E08-ED7A-49A3-8C1C-ED7844C4C5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Vis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CT is not the cure-all to the world’s problem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t can be a powerful tool to facilitate and enable affordable solutions f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structure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ic Human Needs and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conomic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ower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ever, appropriate ICT is not yet available for many Sustainable Development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1F2-74BE-46BF-860C-B54A714765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0640" y="30456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The Goals of the Bangalore Workshop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1520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pendium of the R&amp;D agenda—engineering, economic and social—in ICT for S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cation of ICT enabled pilot projects for demonstration and diffusion by the WB, UN and the govern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exemplars for RD&amp;D (Research, development and deployme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mmendation of the organizational structures, collaboration options and linkages between various stakeholders for executing the R&amp;D age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de dissemination of the proceedings and recommendations of the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E1F-4DDC-4735-B2B0-558F3A2A52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71200" y="43236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The Bangalore Workshop: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ICT and Sustainable Developmen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1760" y="1885680"/>
            <a:ext cx="892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be held in Bangalore, India – January 14-16,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ed by CMU, IISc and NIAS (India) with NSF, UN, and World Bank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tio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y invitation on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Expected to be around 90. Approximately 25 experts from the US (ICT and ICT/Development), 30 from developing countries, and 35 from multilateral organizations, government agencies and In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A72-E12E-4A25-B52C-8488E6EF71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80640" y="-108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The Bangalore Workshop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rovisional Agenda (highlights)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58600" y="1223640"/>
            <a:ext cx="8110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nuary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930 – 1045: Inaugural s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esident of India has been invited to inaugurate the worksh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00 – 1230: Keynote lectures by Dr. Nitin Desai (on WSIS) and Prof. Richard Newton (on I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30 – 1400: Lu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0 – 1700: Four parallel working groups on 4 major themes (details follow belo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75C-9704-4A39-BC9B-CD09320A03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80640" y="30456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rovisional Agenda (cont.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8920" y="1122480"/>
            <a:ext cx="857412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th Janu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930 – 1015:  Keynote Address by Prof. Joseph Stiglitz (on Economics and Developme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30 – 1230: Working group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30 – 1400: Lunch – Intervention by Dr. Ronald Lehman (on Development and Secur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400 – 1700: Presentations by the 4 Working Groups and Discu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rastructure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sic human needs and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conomic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enation, Empowerment, and eGovern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430-72B9-4E10-B6D5-D2721A2717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0640" y="12996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rovisional Agenda (cont.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600" y="818640"/>
            <a:ext cx="8110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th Janu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30 – 1045: Research Agenda Prioritization and Discu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45 – 1200: Linkages, Partnerships, and Mechanisms for 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00 – 1230: Where do we go from 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30 – 1240: Closing Rema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7th January (option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ustry and laboratory visits in and around Bangal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low-up meetings on specific action i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ere are several additional addresses during the workshop on select themes and topics, by Prof. Raj Reddy, Prof. V. S. Arunachalam, Prof. Susana Finquelievich, and ot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3917-E53A-41E0-A962-5CF785E997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8:47:32Z</dcterms:created>
  <dc:creator>Rahul Tongia</dc:creator>
  <dc:description/>
  <dc:language>en-US</dc:language>
  <cp:lastModifiedBy>Rahul Tongia</cp:lastModifiedBy>
  <dcterms:modified xsi:type="dcterms:W3CDTF">2004-04-30T05:05:21Z</dcterms:modified>
  <cp:revision>96</cp:revision>
  <dc:subject/>
  <dc:title>NSF-WB-UN ICT-SD Bangalore Workshop</dc:title>
</cp:coreProperties>
</file>