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4.jpeg" ContentType="image/jpeg"/>
  <Override PartName="/ppt/media/image31.jpeg" ContentType="image/jpeg"/>
  <Override PartName="/ppt/media/image25.png" ContentType="image/png"/>
  <Override PartName="/ppt/media/image5.jpeg" ContentType="image/jpeg"/>
  <Override PartName="/ppt/media/image32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0.jpeg" ContentType="image/jpeg"/>
  <Override PartName="/ppt/media/image22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BECA-8950-4606-BCFE-7DE7C8D4AB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 classification we use tends to not pick up colors blended with pink but does pick up colors blended with wh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a 0.5 pixel bias in the centroid of the color region which then makes distance readings be too smal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rker_color_offset parameter corrects for this bias by moving the centroid of the colored re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arameter should be –0.5 in order to make the colored region move the 0.5 pixels towards the pink re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last slid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endpoints o1 and o2 of the representation of the intersecting obst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A1 = angle between target, robot, and 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A2 = angle between target, robot, and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at which this occurs is called the switch point or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1FF-C3F6-4267-BDC2-A9EC6374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760-A827-4CEE-977D-008A64E3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516-0BE8-47CB-9842-4EBABFC6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A3D-6937-4754-A623-3421254B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57FC-8174-41BD-BC49-A6432882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2729-65A5-40BB-859A-48CE1915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F9F3-AB9A-4C7E-9826-C8E948CA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9E2D-2487-4782-B507-1E2EE74C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1497-4D77-42EF-A8D9-CC82B4D6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0255-47C6-44DE-8714-F62407AB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52DA-97DD-4406-B2E7-83D90C5A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3EAB-78DD-4C96-9289-F1AD1503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8C7E-3BDB-46BD-8C09-B0F4FE4C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D54E-F122-4289-9BDF-39695083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70B4-8FD2-4263-846D-418A861D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DEB5-BE15-4292-9E10-BDEB5326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FE60-21D9-4A91-90A8-A78378EC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68F7-5B40-425A-9130-16D15479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6A3F-3337-4A75-9618-9C74635C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7A98-0AE6-4EE1-9927-D085F6BA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B2F9-3125-43DF-9F6F-0D6D685E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8CD-EDE5-48A8-AD4F-90DFC7C6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09FF-72D5-4AF5-830E-B87CC8B9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4767-3E5A-466D-B408-E961CE95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99B1-B941-4CD8-93D9-D9489A2E38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9A31-9653-44DE-860A-134B00E208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sual Sonar: </a:t>
            </a:r>
            <a:br>
              <a:rPr sz="44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bstacle Detection for the AIB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705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ul E. Rybs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-491 CMRoboBit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ing an Intelligent AIBO Rob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. Manuela Velo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iate walls and l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ter #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is a wall if it is a least 50mm w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ter #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is a wall if the number of white pixels in the image is greater than the number of green pixel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 in sca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c0002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743200" cy="2243160"/>
          </a:xfrm>
          <a:prstGeom prst="rect">
            <a:avLst/>
          </a:prstGeom>
          <a:ln w="0">
            <a:noFill/>
          </a:ln>
        </p:spPr>
      </p:pic>
      <p:pic>
        <p:nvPicPr>
          <p:cNvPr id="180" name="c1092" descr=""/>
          <p:cNvPicPr/>
          <p:nvPr/>
        </p:nvPicPr>
        <p:blipFill>
          <a:blip r:embed="rId2"/>
          <a:stretch/>
        </p:blipFill>
        <p:spPr>
          <a:xfrm>
            <a:off x="5410080" y="4419720"/>
            <a:ext cx="27432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eping Maps Curr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ti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points are updated according to the robot’s estimated egomo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 uncertainty will increase due to odometric drift and cumulative errors due to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s of moving objects will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certainty decreases as age incr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een points are “forgotten” after 4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vigating from the AIBO Point of 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562360" cy="45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gocentric Point-Based 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724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preting th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represen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s are very nois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laps are hard to interpr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 clusters show tre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cupancy gr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abilistic tessellation of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grid cell maintains a probability (likelihood) of occupa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oint_example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90" name="occ_example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lculating Occupancy of Grid Ce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all of the points found in a grid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re are any points at all, the grid is marked as being ob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tacles increase likelihood of occupa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espace decreases likelihood of occupa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tions are summed and normal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sum is greater than a threshold (0.3), the cell is considered occupied with an associated confi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abilistic Representation of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876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Points and 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876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ple Behavior for Navigating with Visual Son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path ahead is clear, go straigh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 accumulate positions of obstacles to left and right of rob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rn towards the most open dir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turn speed proportional to object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linear speed inversely proportional to turn sp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aibo_obstacles2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200400" cy="2406600"/>
          </a:xfrm>
          <a:prstGeom prst="rect">
            <a:avLst/>
          </a:prstGeom>
          <a:ln w="0">
            <a:noFill/>
          </a:ln>
        </p:spPr>
      </p:pic>
      <p:pic>
        <p:nvPicPr>
          <p:cNvPr id="200" name="aibo_obstacles3" descr=""/>
          <p:cNvPicPr/>
          <p:nvPr/>
        </p:nvPicPr>
        <p:blipFill>
          <a:blip r:embed="rId2"/>
          <a:stretch/>
        </p:blipFill>
        <p:spPr>
          <a:xfrm>
            <a:off x="5410080" y="4343400"/>
            <a:ext cx="31752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vigating with Visual Son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78168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edmonton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2990880" cy="38862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D Spatial Reasoning fo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bile Robo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07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ract meaningful spatial data from sens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r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rate sensing/odome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positions of landma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sors identify distinguishable featur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c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dometry less impor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ative relationships between landma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sors identify lo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5672160" y="5867280"/>
            <a:ext cx="231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monton Convention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AAI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radish.sourceforge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019560" y="2133720"/>
            <a:ext cx="1371960" cy="1981080"/>
            <a:chOff x="6019560" y="2133720"/>
            <a:chExt cx="1371960" cy="1981080"/>
          </a:xfrm>
        </p:grpSpPr>
        <p:sp>
          <p:nvSpPr>
            <p:cNvPr id="113" name=""/>
            <p:cNvSpPr/>
            <p:nvPr/>
          </p:nvSpPr>
          <p:spPr>
            <a:xfrm flipH="1" flipV="1">
              <a:off x="6629400" y="2743200"/>
              <a:ext cx="38088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6629400" y="274284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24480" y="29718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19920" y="297180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19920" y="27432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29400" y="25146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629040" y="236232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05720" y="2133720"/>
              <a:ext cx="759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781680" y="2133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77120" y="2438280"/>
              <a:ext cx="15228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6019560" y="2438280"/>
              <a:ext cx="759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10280" y="25909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7009920" y="259056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238880" y="2438280"/>
              <a:ext cx="763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86600" y="24382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81680" y="2362320"/>
              <a:ext cx="30492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38880" y="2743200"/>
              <a:ext cx="763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05720" y="29718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05720" y="32004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629400" y="3429000"/>
              <a:ext cx="763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72200" y="37339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6705360" y="3429000"/>
              <a:ext cx="22860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6934320" y="3504960"/>
              <a:ext cx="30456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7238880" y="3276720"/>
              <a:ext cx="1526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15200" y="30481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238880" y="358092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7238880" y="388584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86600" y="41148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ing Visual Sonar Data from Log Fi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ump_vision_r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ump_move_upd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fig/spout.cf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captured log file with local model 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 lmt &lt;logfil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sion.cf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le (points at config fi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s_file=“colors.txt”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esh_base=“thresh”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rker_color_offset=-0.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ace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step through log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enable point 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enable occupancy-grid 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essing the Visual Sonar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fil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gs/agent/WorldModel/LocalModel.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point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region defined by arbitrary bounding b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a function to each point in a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general query interfa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basis – unit vector in x direction relative to robo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center – center of query relative to robo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range – major, minor size of query in basis reference fra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query_full(vector2f ego_basis, vector2f ego_center, vector2f range, Processor &amp; proc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easy robot centric interface for rectangles (corresponds to a ba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of (1.0,0.0)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minv – minimum values for robot relative bounding bo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 maxv – maximum values for robot relative bounding bo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query_simple(vector2f ego_minv, vector2f ego_maxv,Processor &amp; proc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essing the Visual Sonar Occupancy Gr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file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gs/agent/WorldModel/LocalModel.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pancy grid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ulate occupancy of a full 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calc_occ_grid_cells(int x1, int y2, int x2, int y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culate the occupancy of a single c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calc_occupancy(OccGridEntry *cell, vector2f ego_basis, vector2f ego_center, vector2f range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a pointer to a grid c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st OccGridEntry *get_occ_grid_cell(int x_cell, int y_cell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ell contains information 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 [0.0,1.0] (0.0=clear, 1.0=obstac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idence [0.0,…] (number of reading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dence of each object clas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iciency Consid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s are stored in a binary tre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for quicker lookup in arbitrary reg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many lookups will cause skippe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s should be accessed only if absolutely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ndant lookups should be avoided if at all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kd-tree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300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easy is it to follow boundari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dometric drift will causes misalig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 merges obstacle &amp; non-obstacle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do you define the bound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do path plann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view provides poor global spatial awar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 of AIBO body must be taken into account in order to avoid collisions and leg tan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ature Extraction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5" name="a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16" name="b" descr=""/>
          <p:cNvPicPr/>
          <p:nvPr/>
        </p:nvPicPr>
        <p:blipFill>
          <a:blip r:embed="rId2"/>
          <a:stretch/>
        </p:blipFill>
        <p:spPr>
          <a:xfrm>
            <a:off x="3505320" y="2057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c" descr=""/>
          <p:cNvPicPr/>
          <p:nvPr/>
        </p:nvPicPr>
        <p:blipFill>
          <a:blip r:embed="rId3"/>
          <a:stretch/>
        </p:blipFill>
        <p:spPr>
          <a:xfrm>
            <a:off x="5867280" y="20574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371600" y="3962520"/>
            <a:ext cx="15890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ccupancy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3962520"/>
            <a:ext cx="10368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sta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4038480"/>
            <a:ext cx="16588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osest Obsta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5943600"/>
            <a:ext cx="11750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ght W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e" descr=""/>
          <p:cNvPicPr/>
          <p:nvPr/>
        </p:nvPicPr>
        <p:blipFill>
          <a:blip r:embed="rId4"/>
          <a:stretch/>
        </p:blipFill>
        <p:spPr>
          <a:xfrm>
            <a:off x="2819520" y="4800600"/>
            <a:ext cx="3267000" cy="828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581280" y="5791320"/>
            <a:ext cx="16588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ugh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d_right" descr=""/>
          <p:cNvPicPr/>
          <p:nvPr/>
        </p:nvPicPr>
        <p:blipFill>
          <a:blip r:embed="rId5"/>
          <a:stretch/>
        </p:blipFill>
        <p:spPr>
          <a:xfrm>
            <a:off x="990720" y="4572000"/>
            <a:ext cx="1255680" cy="1295280"/>
          </a:xfrm>
          <a:prstGeom prst="rect">
            <a:avLst/>
          </a:prstGeom>
          <a:ln w="0">
            <a:noFill/>
          </a:ln>
        </p:spPr>
      </p:pic>
      <p:pic>
        <p:nvPicPr>
          <p:cNvPr id="225" name="f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1181160" cy="1218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858000" y="5943600"/>
            <a:ext cx="6224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641840"/>
            <a:ext cx="923760" cy="387360"/>
          </a:xfrm>
          <a:prstGeom prst="rect">
            <a:avLst/>
          </a:prstGeom>
          <a:noFill/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1280" y="6324480"/>
            <a:ext cx="808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ference: 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P. E. Rybski, S. A. Stoeter, M. D. Erickson, M. Gini, D. F. Hougen, N. Papanikolopoulos, "A Team of Robotic Agents for Surveillance,"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Proceedings of the Fourth International Conference on Autonomous Agents, pp. 9-16, Barcelona, Spain, June 2000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gh Transform* for L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n the space of parameters for most likely line 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=mx+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up an accumulat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(m,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x,y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int increments the accumulator for each valid line parameter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ighest-valued entrie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(m,c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rrespond to the most likely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wn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s dependent on discretization of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Reference : Ballard and Brown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mputer Vis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gh Transform Visualiz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2" name="hough_transform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631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th Planning from Sensor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sensor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s a global world model based on sensing the environ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uaranteed to find an existing sol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utationally heav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quires frequent local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sensor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gate using sensors around local ob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ch simpler to impl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guaranteed to converge – will get stuck in a local minima with no hope of esca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2708640" y="6095880"/>
            <a:ext cx="49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e’d like something in the midd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g Path Planning 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. Lumelsky and A. Stepanov, “Path-Planning Strategies for a Point Mobile Automaton Moving Amidst Unknown Obstacles of Arbitrary Shape”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gorithmic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7) 2: 403-43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 Kamon, E. Rivlin, and E. Rimon, “A New Range-Sensor Based Globally Convergent Navigation Algorithm for Mobile Robots”, i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c. IEEE Conf. Robotics Autom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1996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. L. Laubach and J. W. Burdick, “An Autonomous Sensor-Based Path-Planner for Planetary Microrovers”, i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c. IEEE Conf. Robotics Automation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9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Vision to Avoid Obstac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ultrasonic range sens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some assumptions, vision can return range and bearing readings to obsta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 local model of the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ual Sonar on the AIB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ning into other robots during games (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ing non-standard obstacles outside of g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IBO only has a monocular cam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patial reasoning must happen at fr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all obstacles are as well-defined as the b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g Path Planning Method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e local with global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aranteed to converge if a solu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41148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 to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1320" y="40384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 an obs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3809880"/>
            <a:ext cx="152388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15000" y="3809880"/>
            <a:ext cx="152388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5181480"/>
            <a:ext cx="2895480" cy="533520"/>
          </a:xfrm>
          <a:custGeom>
            <a:avLst/>
            <a:gdLst/>
            <a:ahLst/>
            <a:rect l="l" t="t" r="r" b="b"/>
            <a:pathLst>
              <a:path w="1824" h="336">
                <a:moveTo>
                  <a:pt x="0" y="0"/>
                </a:moveTo>
                <a:cubicBezTo>
                  <a:pt x="280" y="168"/>
                  <a:pt x="560" y="336"/>
                  <a:pt x="864" y="336"/>
                </a:cubicBezTo>
                <a:cubicBezTo>
                  <a:pt x="1168" y="336"/>
                  <a:pt x="1664" y="56"/>
                  <a:pt x="18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047400" y="3429000"/>
            <a:ext cx="2895480" cy="533520"/>
          </a:xfrm>
          <a:custGeom>
            <a:avLst/>
            <a:gdLst/>
            <a:ahLst/>
            <a:rect l="l" t="t" r="r" b="b"/>
            <a:pathLst>
              <a:path w="1824" h="336">
                <a:moveTo>
                  <a:pt x="0" y="0"/>
                </a:moveTo>
                <a:cubicBezTo>
                  <a:pt x="280" y="168"/>
                  <a:pt x="560" y="336"/>
                  <a:pt x="864" y="336"/>
                </a:cubicBezTo>
                <a:cubicBezTo>
                  <a:pt x="1168" y="336"/>
                  <a:pt x="1664" y="56"/>
                  <a:pt x="18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3657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72760" y="568008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ing condi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oosing a locally optimal dir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1: Non-concave obsta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the endpoints o1 and o2 of the representation of the intersecting obsta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A1 = angle between target, robot, and o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A2 = angle between target, robot, and 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ion = min(A1, A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568840" y="2463840"/>
            <a:ext cx="295776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oosing a locally optimal dir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2: Concave obsta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M = the point where the direction between the robot and the target would intersect the obsta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(M, 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distance between M and the targ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(M, 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&lt; d(o1,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(M,T) &lt; d(o2,T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 from drive to goal to boundary fo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ion = min(A1, A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154480" y="2093760"/>
            <a:ext cx="36338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ngent Bug Leaving Cond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_followed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the minimal distance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served along the obstacle so f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reachable point in the visible (within sensor range) environment of the rob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ving condition is true w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(P,T) &lt; d_followed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leavingcondition2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718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sual Son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radial_model_chokechain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800600" cy="4754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36520" y="3124080"/>
            <a:ext cx="17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 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3429000"/>
            <a:ext cx="18288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99280" y="236232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705360" y="2819520"/>
            <a:ext cx="1143000" cy="533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3640" y="4910040"/>
            <a:ext cx="155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723920" y="5334120"/>
            <a:ext cx="2590920" cy="152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257440" y="4038120"/>
            <a:ext cx="2057400" cy="129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4267080"/>
            <a:ext cx="304920" cy="0"/>
          </a:xfrm>
          <a:prstGeom prst="line">
            <a:avLst/>
          </a:prstGeom>
          <a:ln w="1908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4000" y="4419720"/>
            <a:ext cx="125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e4a8"/>
                </a:solidFill>
                <a:latin typeface="Tahoma"/>
              </a:rPr>
              <a:t>Robot H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sual Sonar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image by col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ally scan image at fixed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regions of freespace and obstacles in each sca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elative egocentric (x,y) point for the start of each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poi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nsate for egomo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nsate for uncertain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unseen points that are too o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age Seg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 pixels into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tac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 rob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ue rob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te w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llow go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yan go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col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sp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en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fined occupanc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ange b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te 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c1295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2743200" cy="2244960"/>
          </a:xfrm>
          <a:prstGeom prst="rect">
            <a:avLst/>
          </a:prstGeom>
          <a:ln w="0">
            <a:noFill/>
          </a:ln>
        </p:spPr>
      </p:pic>
      <p:pic>
        <p:nvPicPr>
          <p:cNvPr id="159" name="c2332" descr=""/>
          <p:cNvPicPr/>
          <p:nvPr/>
        </p:nvPicPr>
        <p:blipFill>
          <a:blip r:embed="rId2"/>
          <a:stretch/>
        </p:blipFill>
        <p:spPr>
          <a:xfrm>
            <a:off x="5486400" y="4419720"/>
            <a:ext cx="27432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anning Image for Ob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vsonar_radial_view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3429000" cy="2814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411480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anlines projected from origin for egocentric coordinates in 5 degree inc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top-view" descr=""/>
          <p:cNvPicPr/>
          <p:nvPr/>
        </p:nvPicPr>
        <p:blipFill>
          <a:blip r:embed="rId2"/>
          <a:stretch/>
        </p:blipFill>
        <p:spPr>
          <a:xfrm>
            <a:off x="2933640" y="3886200"/>
            <a:ext cx="2179800" cy="2357280"/>
          </a:xfrm>
          <a:prstGeom prst="rect">
            <a:avLst/>
          </a:prstGeom>
          <a:ln w="0">
            <a:noFill/>
          </a:ln>
        </p:spPr>
      </p:pic>
      <p:pic>
        <p:nvPicPr>
          <p:cNvPr id="164" name="robo-coordinates" descr=""/>
          <p:cNvPicPr/>
          <p:nvPr/>
        </p:nvPicPr>
        <p:blipFill>
          <a:blip r:embed="rId3"/>
          <a:stretch/>
        </p:blipFill>
        <p:spPr>
          <a:xfrm>
            <a:off x="228600" y="2057400"/>
            <a:ext cx="3333600" cy="1860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9880" y="6164280"/>
            <a:ext cx="381240" cy="45720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83600" y="6248520"/>
            <a:ext cx="8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p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f rob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7440" y="5562720"/>
            <a:ext cx="40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anlines projected onto RL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1467400">
            <a:off x="3932280" y="5957640"/>
            <a:ext cx="152280" cy="228600"/>
          </a:xfrm>
          <a:prstGeom prst="rect">
            <a:avLst/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asuring Distances with the AIBO’s Came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 common ground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objects are on the ground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ed objects will appear further a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distance causes loss of re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distance-measure" descr=""/>
          <p:cNvPicPr/>
          <p:nvPr/>
        </p:nvPicPr>
        <p:blipFill>
          <a:blip r:embed="rId1"/>
          <a:stretch/>
        </p:blipFill>
        <p:spPr>
          <a:xfrm>
            <a:off x="152280" y="4105440"/>
            <a:ext cx="88297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ntifying Objects in Im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ong each scanli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continuous line of object col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ter out noise pix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colors out to 2 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c1376" descr=""/>
          <p:cNvPicPr/>
          <p:nvPr/>
        </p:nvPicPr>
        <p:blipFill>
          <a:blip r:embed="rId1"/>
          <a:stretch/>
        </p:blipFill>
        <p:spPr>
          <a:xfrm>
            <a:off x="152280" y="4495680"/>
            <a:ext cx="2743200" cy="2243160"/>
          </a:xfrm>
          <a:prstGeom prst="rect">
            <a:avLst/>
          </a:prstGeom>
          <a:ln w="0">
            <a:noFill/>
          </a:ln>
        </p:spPr>
      </p:pic>
      <p:pic>
        <p:nvPicPr>
          <p:cNvPr id="175" name="c1504" descr=""/>
          <p:cNvPicPr/>
          <p:nvPr/>
        </p:nvPicPr>
        <p:blipFill>
          <a:blip r:embed="rId2"/>
          <a:stretch/>
        </p:blipFill>
        <p:spPr>
          <a:xfrm>
            <a:off x="3200400" y="4495680"/>
            <a:ext cx="2743200" cy="2244960"/>
          </a:xfrm>
          <a:prstGeom prst="rect">
            <a:avLst/>
          </a:prstGeom>
          <a:ln w="0">
            <a:noFill/>
          </a:ln>
        </p:spPr>
      </p:pic>
      <p:pic>
        <p:nvPicPr>
          <p:cNvPr id="176" name="c1669" descr=""/>
          <p:cNvPicPr/>
          <p:nvPr/>
        </p:nvPicPr>
        <p:blipFill>
          <a:blip r:embed="rId3"/>
          <a:stretch/>
        </p:blipFill>
        <p:spPr>
          <a:xfrm>
            <a:off x="6248520" y="4495680"/>
            <a:ext cx="274320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2:47:38Z</dcterms:created>
  <dc:creator> </dc:creator>
  <dc:description/>
  <dc:language>en-US</dc:language>
  <cp:lastModifiedBy> </cp:lastModifiedBy>
  <dcterms:modified xsi:type="dcterms:W3CDTF">2003-10-06T16:06:54Z</dcterms:modified>
  <cp:revision>359</cp:revision>
  <dc:subject/>
  <dc:title>Visual Sonar: Obstacle Detection with AIBOs</dc:title>
</cp:coreProperties>
</file>