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30.jpeg" ContentType="image/jpeg"/>
  <Override PartName="/ppt/media/image7.wmf" ContentType="image/x-wmf"/>
  <Override PartName="/ppt/media/image11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9.wmf" ContentType="image/x-wmf"/>
  <Override PartName="/ppt/media/image4.wmf" ContentType="image/x-wmf"/>
  <Override PartName="/ppt/media/image1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png" ContentType="image/png"/>
  <Override PartName="/ppt/media/image28.jpeg" ContentType="image/jpe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4.wmf" ContentType="image/x-wmf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137-DAC2-47C8-87B1-C95F1E70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427-652D-470B-BC9E-C6259079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F9F-FEE2-4641-89B6-68DB5DA3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23F-0DC4-4CFA-A616-74D758F3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434D-1C97-4FFA-A51A-8F749A55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F844-3668-4906-A796-441479F0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CBD-0DC3-4F4D-B098-A7FB2EEE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B06B-9232-4172-BD9C-939AFFD9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7233-59B0-449F-91AE-E4BD12D8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BE51-1A81-4ACD-B3F9-4757328A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4ED1-7776-40FB-A040-1E7DD42A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F23-3748-48ED-A627-749D3C0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6611-64BC-4B34-AD57-42CF29E5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F1C3-22F1-4DDA-BE5B-25D41513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F92A-030F-45B9-B174-67ABA027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8A5E-37D1-446E-B083-29981B27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5C95-C464-4412-BFB1-85EFA569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153-E169-4B31-AB1E-55673803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147-AFF5-4B74-823E-2029872C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57D-0821-49E2-ACBF-82416BF9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7F4-0810-4691-B134-5F4D8B35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291-CA1A-4004-B60D-C5C4F939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735-E074-428E-BE5E-4D2A843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1C8-1660-4D43-9155-9430649F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CD9F-FF04-4C9E-B851-0B58FBEF1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E10D-D892-4831-956D-A4ACBA860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RoboBits: Actuators,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ela Vel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 Aiwaz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ia Cher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anks to Jim Bruc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cott Lenser, and Doug V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-491, Fall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arnegie Mel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backw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joint configuration given position &amp; orientation of tool (end effec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plex (path planning &amp; dynam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solved either algebraically or geometr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ility of no solution, one solution, or multiple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276720"/>
            <a:ext cx="36576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configuration of each joint if the end effector is located at (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-)? (Solve for (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,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tool is at {l1, l2, -}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2133720"/>
            <a:ext cx="304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assume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2971800"/>
            <a:ext cx="3047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wo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2286000" cy="393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28600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D Contr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sic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n joints, each with a desired position which we have spec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joint has an actuator which is given a command in units of tor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common method for determining required torques is by feedback from joint sens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ontrol Lo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2311560"/>
            <a:ext cx="77724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PID Control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rtional, Integral, &amp; Derivativ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: Multiply current error by constant to try to resolve err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l: Multiply sum of errors by constant to resolve steady state error (error after system has come to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ivative: Multiply time derivative of error change by constant to resolve error as quickly as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concepts make up the low level functionality of the AIB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ed once and used repeated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ore information about PID Control and Forward &amp; Inverse Kinematics take Matt Mason’s Robotic Manipulation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bot Mo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51-parameter structure is used to specify the gait of the robot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3200400"/>
            <a:ext cx="35812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Global Paramet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ight of Bod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gle of Bod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op Amplitude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way Amplitude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Walk Perio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of Leg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200400"/>
            <a:ext cx="426708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eg Paramet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eutral Kinematic Position (3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ifting Velocity (3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ift Time (1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t Down Velocity (3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t Down Time (1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ries of set positions for the rob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r interpolation between the fr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ematics and interpolation provided by CMWalk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robot in desired positions and query the values of the j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8308800" cy="1108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720720"/>
            <a:ext cx="8308800" cy="1108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82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lligent Complete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2590920"/>
            <a:ext cx="2479680" cy="1044360"/>
            <a:chOff x="5791320" y="2590920"/>
            <a:chExt cx="2479680" cy="1044360"/>
          </a:xfrm>
        </p:grpSpPr>
        <p:sp>
          <p:nvSpPr>
            <p:cNvPr id="92" name=""/>
            <p:cNvSpPr/>
            <p:nvPr/>
          </p:nvSpPr>
          <p:spPr>
            <a:xfrm>
              <a:off x="6386400" y="2590920"/>
              <a:ext cx="1359000" cy="1044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1320" y="2971440"/>
              <a:ext cx="247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A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58000" y="4038480"/>
            <a:ext cx="1295280" cy="5223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>
            <a:off x="1523880" y="4854600"/>
            <a:ext cx="6077160" cy="78408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rnal Wor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962520"/>
            <a:ext cx="1200240" cy="52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580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0504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5520" y="4572000"/>
            <a:ext cx="800280" cy="34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843600" y="4572000"/>
            <a:ext cx="479520" cy="262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083000" y="4572000"/>
            <a:ext cx="56052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322760" y="4572000"/>
            <a:ext cx="63972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9880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Cogn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52480" y="365724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36576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ry Effective Kic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 Sensitivity to Paramet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od Settings for Effective K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 Sensitivity to Paramet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ct Same Settings - La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 Sensitivity to Paramet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od Settings for the La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76320" y="609120"/>
            <a:ext cx="929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roaches for Parameter Set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al and err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dious, but controlled, and provides knowledge of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arameter space, local vs. global opt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led change by 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or Control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essage to OVirtualRobotComm contains a set of target angles for the j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target is used for a PID controller (part of the AIBO robot) that controls each mo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target angle is used for one 8ms motor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essage contains at least 4 motor frames (32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of Kicks in Behavi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ffec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kicking 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l vision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l trajectory angl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ck strength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ck selection for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compar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onia Chernova’s senior 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curacy of Object Detection Varies -- Robot Standing --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269960" y="609588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stance (mm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403520" y="609588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stance (mm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curacy of Object Detection Varies -- Robot Pacing --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46360" y="1981080"/>
            <a:ext cx="565128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422600" y="579132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stance (mm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33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curacy of Object Detection Varies – Robot Spinning -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ny AIBO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ll Trajectory Ang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the angle of the ball’s trajectory relative to the rob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k ball’s trajectory after the k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ain information about ball position in each vision 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angle of trajectory using linear re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gle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03320" y="1981080"/>
            <a:ext cx="5337360" cy="4114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193280" y="61722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ward K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47800" y="61722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Head K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36840" y="61722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 Head K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7086240" y="5562360"/>
            <a:ext cx="6858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5120" y="5562720"/>
            <a:ext cx="7617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876920" y="5866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trengt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the distance the ball will travel after a ki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ssible to track entire path of the 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only the final location of the ball relative to the kick 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failure rate of the kick using distance thres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ward Kick Distance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46360" y="1981080"/>
            <a:ext cx="565128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 rot="16200000">
            <a:off x="3390840" y="3619440"/>
            <a:ext cx="76320" cy="152640"/>
          </a:xfrm>
          <a:prstGeom prst="triangle">
            <a:avLst>
              <a:gd name="adj" fmla="val 55556"/>
            </a:avLst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ad Kick Distance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17520" y="1523880"/>
            <a:ext cx="6707160" cy="5170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 flipV="1" rot="10800000">
            <a:off x="6018840" y="4837680"/>
            <a:ext cx="114120" cy="190440"/>
          </a:xfrm>
          <a:prstGeom prst="triangle">
            <a:avLst>
              <a:gd name="adj" fmla="val 55556"/>
            </a:avLst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 rot="10800000">
            <a:off x="6018840" y="2895480"/>
            <a:ext cx="114120" cy="190800"/>
          </a:xfrm>
          <a:prstGeom prst="triangle">
            <a:avLst>
              <a:gd name="adj" fmla="val 55556"/>
            </a:avLst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el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rporate the kick models into the selection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bot knows its position on the field relative to the goal and the desired ball traj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bot selects appropriate kick by referencing the kick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no kick fits desired criteria, robot selects closest matching kick and turns/dribbles ball to appropriate posi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election Performa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143680" y="2468520"/>
          <a:ext cx="3695400" cy="3246480"/>
        </p:xfrm>
        <a:graphic>
          <a:graphicData uri="http://schemas.openxmlformats.org/drawingml/2006/table">
            <a:tbl>
              <a:tblPr/>
              <a:tblGrid>
                <a:gridCol w="799920"/>
                <a:gridCol w="1352520"/>
                <a:gridCol w="1542960"/>
              </a:tblGrid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eriment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Pack’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ling &amp; Predi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6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6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7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01640" y="3008160"/>
            <a:ext cx="3774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election in 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ly moving a four-legged robot is challen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ness of motion is highly sensitive to motion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Walk provides the kinematics computations, so parameter setting can be at a high level of abstr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lly, we would like to set parameters automatic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The Motion Interfac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386160" y="3198960"/>
            <a:ext cx="2371680" cy="193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121560" y="1695600"/>
            <a:ext cx="27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ia Chern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IBO Actua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 degrees of freedom with a continuously controllable range of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DOF in each leg (12 tot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DOF in the 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DOF in the 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DOF in the j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joint is controlled by specifying to a desir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oint ang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OVirtualRobotCom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binary motors for the 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eaker for general sound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7708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Motion Interf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50920" y="3767040"/>
            <a:ext cx="2135160" cy="1227240"/>
            <a:chOff x="1150920" y="3767040"/>
            <a:chExt cx="2135160" cy="1227240"/>
          </a:xfrm>
        </p:grpSpPr>
        <p:sp>
          <p:nvSpPr>
            <p:cNvPr id="222" name=""/>
            <p:cNvSpPr/>
            <p:nvPr/>
          </p:nvSpPr>
          <p:spPr>
            <a:xfrm>
              <a:off x="1150920" y="3767040"/>
              <a:ext cx="2135160" cy="1227240"/>
            </a:xfrm>
            <a:prstGeom prst="roundRect">
              <a:avLst>
                <a:gd name="adj" fmla="val 1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0920" y="4224600"/>
              <a:ext cx="21351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Walk Engin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156200" y="5653080"/>
            <a:ext cx="831600" cy="80964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230480" y="2519280"/>
            <a:ext cx="1960560" cy="789120"/>
            <a:chOff x="1230480" y="2519280"/>
            <a:chExt cx="1960560" cy="789120"/>
          </a:xfrm>
        </p:grpSpPr>
        <p:sp>
          <p:nvSpPr>
            <p:cNvPr id="226" name=""/>
            <p:cNvSpPr/>
            <p:nvPr/>
          </p:nvSpPr>
          <p:spPr>
            <a:xfrm>
              <a:off x="1230480" y="2519280"/>
              <a:ext cx="1960560" cy="789120"/>
            </a:xfrm>
            <a:prstGeom prst="roundRect">
              <a:avLst>
                <a:gd name="adj" fmla="val 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30480" y="2756880"/>
              <a:ext cx="19605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Walk Paramet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195640" y="3325680"/>
            <a:ext cx="1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95640" y="4957920"/>
            <a:ext cx="23144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788080" y="3747960"/>
            <a:ext cx="2224080" cy="1227240"/>
            <a:chOff x="5788080" y="3747960"/>
            <a:chExt cx="2224080" cy="1227240"/>
          </a:xfrm>
        </p:grpSpPr>
        <p:sp>
          <p:nvSpPr>
            <p:cNvPr id="231" name=""/>
            <p:cNvSpPr/>
            <p:nvPr/>
          </p:nvSpPr>
          <p:spPr>
            <a:xfrm>
              <a:off x="5788080" y="3747960"/>
              <a:ext cx="2224080" cy="1227240"/>
            </a:xfrm>
            <a:prstGeom prst="roundRect">
              <a:avLst>
                <a:gd name="adj" fmla="val 1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88080" y="4205520"/>
              <a:ext cx="2224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Frame Interpolato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1000" y="2475000"/>
            <a:ext cx="1962000" cy="788760"/>
            <a:chOff x="5931000" y="2475000"/>
            <a:chExt cx="1962000" cy="788760"/>
          </a:xfrm>
        </p:grpSpPr>
        <p:sp>
          <p:nvSpPr>
            <p:cNvPr id="234" name=""/>
            <p:cNvSpPr/>
            <p:nvPr/>
          </p:nvSpPr>
          <p:spPr>
            <a:xfrm>
              <a:off x="5931000" y="2475000"/>
              <a:ext cx="1962000" cy="788760"/>
            </a:xfrm>
            <a:prstGeom prst="roundRect">
              <a:avLst>
                <a:gd name="adj" fmla="val 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31000" y="2712600"/>
              <a:ext cx="19620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Motion Fram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97600" y="3281400"/>
            <a:ext cx="180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681080" y="4913280"/>
            <a:ext cx="222084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80840" y="1844640"/>
            <a:ext cx="2952000" cy="312480"/>
            <a:chOff x="780840" y="1844640"/>
            <a:chExt cx="2952000" cy="312480"/>
          </a:xfrm>
        </p:grpSpPr>
        <p:sp>
          <p:nvSpPr>
            <p:cNvPr id="239" name=""/>
            <p:cNvSpPr/>
            <p:nvPr/>
          </p:nvSpPr>
          <p:spPr>
            <a:xfrm>
              <a:off x="835200" y="1844640"/>
              <a:ext cx="2842920" cy="3110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0840" y="1844640"/>
              <a:ext cx="2952000" cy="31248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Dynamic Walking Motio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77680" y="1903320"/>
            <a:ext cx="3087720" cy="312480"/>
            <a:chOff x="5377680" y="1903320"/>
            <a:chExt cx="3087720" cy="312480"/>
          </a:xfrm>
        </p:grpSpPr>
        <p:sp>
          <p:nvSpPr>
            <p:cNvPr id="242" name=""/>
            <p:cNvSpPr/>
            <p:nvPr/>
          </p:nvSpPr>
          <p:spPr>
            <a:xfrm>
              <a:off x="5418000" y="1903320"/>
              <a:ext cx="3006720" cy="3114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77680" y="1903320"/>
              <a:ext cx="3087720" cy="31248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Static Frame-Based Motio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ordinate Fra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89280" y="3178080"/>
            <a:ext cx="1773000" cy="3149640"/>
          </a:xfrm>
          <a:custGeom>
            <a:avLst/>
            <a:gdLst>
              <a:gd name="textAreaLeft" fmla="*/ 360 w 1773000"/>
              <a:gd name="textAreaRight" fmla="*/ 1772640 w 1773000"/>
              <a:gd name="textAreaTop" fmla="*/ 360 h 3149640"/>
              <a:gd name="textAreaBottom" fmla="*/ 3149280 h 3149640"/>
            </a:gdLst>
            <a:ahLst/>
            <a:rect l="textAreaLeft" t="textAreaTop" r="textAreaRight" b="textAreaBottom"/>
            <a:pathLst>
              <a:path w="21600" h="38368">
                <a:moveTo>
                  <a:pt x="17" y="0"/>
                </a:moveTo>
                <a:arcTo wR="17" hR="17" stAng="16200000" swAng="-5400000"/>
                <a:lnTo>
                  <a:pt x="0" y="38351"/>
                </a:lnTo>
                <a:arcTo wR="17" hR="17" stAng="10800000" swAng="-5400000"/>
                <a:lnTo>
                  <a:pt x="21583" y="38368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8600" y="2343240"/>
            <a:ext cx="936720" cy="1230120"/>
          </a:xfrm>
          <a:custGeom>
            <a:avLst/>
            <a:gdLst>
              <a:gd name="textAreaLeft" fmla="*/ 360 w 936720"/>
              <a:gd name="textAreaRight" fmla="*/ 936360 w 936720"/>
              <a:gd name="textAreaTop" fmla="*/ 360 h 1230120"/>
              <a:gd name="textAreaBottom" fmla="*/ 1229760 h 1230120"/>
            </a:gdLst>
            <a:ahLst/>
            <a:rect l="textAreaLeft" t="textAreaTop" r="textAreaRight" b="textAreaBottom"/>
            <a:pathLst>
              <a:path w="21600" h="28363">
                <a:moveTo>
                  <a:pt x="33" y="0"/>
                </a:moveTo>
                <a:arcTo wR="33" hR="33" stAng="16200000" swAng="-5400000"/>
                <a:lnTo>
                  <a:pt x="0" y="28330"/>
                </a:lnTo>
                <a:arcTo wR="33" hR="33" stAng="10800000" swAng="-5400000"/>
                <a:lnTo>
                  <a:pt x="21567" y="28363"/>
                </a:lnTo>
                <a:arcTo wR="33" hR="33" stAng="5400000" swAng="-5400000"/>
                <a:lnTo>
                  <a:pt x="21600" y="33"/>
                </a:lnTo>
                <a:arcTo wR="33" hR="3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419120" y="3530520"/>
            <a:ext cx="451080" cy="817560"/>
            <a:chOff x="1419120" y="3530520"/>
            <a:chExt cx="451080" cy="817560"/>
          </a:xfrm>
        </p:grpSpPr>
        <p:sp>
          <p:nvSpPr>
            <p:cNvPr id="248" name=""/>
            <p:cNvSpPr/>
            <p:nvPr/>
          </p:nvSpPr>
          <p:spPr>
            <a:xfrm>
              <a:off x="1419120" y="3530520"/>
              <a:ext cx="451080" cy="817560"/>
            </a:xfrm>
            <a:custGeom>
              <a:avLst/>
              <a:gdLst>
                <a:gd name="textAreaLeft" fmla="*/ 360 w 451080"/>
                <a:gd name="textAreaRight" fmla="*/ 450720 w 45108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35">
                  <a:moveTo>
                    <a:pt x="69" y="0"/>
                  </a:moveTo>
                  <a:arcTo wR="69" hR="69" stAng="16200000" swAng="-5400000"/>
                  <a:lnTo>
                    <a:pt x="0" y="39066"/>
                  </a:lnTo>
                  <a:arcTo wR="69" hR="69" stAng="10800000" swAng="-5400000"/>
                  <a:lnTo>
                    <a:pt x="21531" y="39135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19120" y="3782160"/>
              <a:ext cx="451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9120" y="5257800"/>
            <a:ext cx="451080" cy="817560"/>
            <a:chOff x="1419120" y="5257800"/>
            <a:chExt cx="451080" cy="817560"/>
          </a:xfrm>
        </p:grpSpPr>
        <p:sp>
          <p:nvSpPr>
            <p:cNvPr id="251" name=""/>
            <p:cNvSpPr/>
            <p:nvPr/>
          </p:nvSpPr>
          <p:spPr>
            <a:xfrm>
              <a:off x="1419120" y="5257800"/>
              <a:ext cx="451080" cy="817560"/>
            </a:xfrm>
            <a:custGeom>
              <a:avLst/>
              <a:gdLst>
                <a:gd name="textAreaLeft" fmla="*/ 360 w 451080"/>
                <a:gd name="textAreaRight" fmla="*/ 450720 w 45108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35">
                  <a:moveTo>
                    <a:pt x="69" y="0"/>
                  </a:moveTo>
                  <a:arcTo wR="69" hR="69" stAng="16200000" swAng="-5400000"/>
                  <a:lnTo>
                    <a:pt x="0" y="39066"/>
                  </a:lnTo>
                  <a:arcTo wR="69" hR="69" stAng="10800000" swAng="-5400000"/>
                  <a:lnTo>
                    <a:pt x="21531" y="39135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19120" y="5509440"/>
              <a:ext cx="451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673440" y="5257800"/>
            <a:ext cx="450720" cy="817560"/>
            <a:chOff x="3673440" y="5257800"/>
            <a:chExt cx="450720" cy="817560"/>
          </a:xfrm>
        </p:grpSpPr>
        <p:sp>
          <p:nvSpPr>
            <p:cNvPr id="254" name=""/>
            <p:cNvSpPr/>
            <p:nvPr/>
          </p:nvSpPr>
          <p:spPr>
            <a:xfrm>
              <a:off x="3673440" y="5257800"/>
              <a:ext cx="450720" cy="817560"/>
            </a:xfrm>
            <a:custGeom>
              <a:avLst/>
              <a:gdLst>
                <a:gd name="textAreaLeft" fmla="*/ 360 w 450720"/>
                <a:gd name="textAreaRight" fmla="*/ 450360 w 45072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66">
                  <a:moveTo>
                    <a:pt x="69" y="0"/>
                  </a:moveTo>
                  <a:arcTo wR="69" hR="69" stAng="16200000" swAng="-5400000"/>
                  <a:lnTo>
                    <a:pt x="0" y="39097"/>
                  </a:lnTo>
                  <a:arcTo wR="69" hR="69" stAng="10800000" swAng="-5400000"/>
                  <a:lnTo>
                    <a:pt x="21531" y="39166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73440" y="5509440"/>
              <a:ext cx="45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73440" y="3530520"/>
            <a:ext cx="450720" cy="817560"/>
            <a:chOff x="3673440" y="3530520"/>
            <a:chExt cx="450720" cy="817560"/>
          </a:xfrm>
        </p:grpSpPr>
        <p:sp>
          <p:nvSpPr>
            <p:cNvPr id="257" name=""/>
            <p:cNvSpPr/>
            <p:nvPr/>
          </p:nvSpPr>
          <p:spPr>
            <a:xfrm>
              <a:off x="3673440" y="3530520"/>
              <a:ext cx="450720" cy="817560"/>
            </a:xfrm>
            <a:custGeom>
              <a:avLst/>
              <a:gdLst>
                <a:gd name="textAreaLeft" fmla="*/ 360 w 450720"/>
                <a:gd name="textAreaRight" fmla="*/ 450360 w 45072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66">
                  <a:moveTo>
                    <a:pt x="69" y="0"/>
                  </a:moveTo>
                  <a:arcTo wR="69" hR="69" stAng="16200000" swAng="-5400000"/>
                  <a:lnTo>
                    <a:pt x="0" y="39097"/>
                  </a:lnTo>
                  <a:arcTo wR="69" hR="69" stAng="10800000" swAng="-5400000"/>
                  <a:lnTo>
                    <a:pt x="21531" y="39166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3440" y="3782160"/>
              <a:ext cx="45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62280" y="2166840"/>
            <a:ext cx="11160" cy="98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81120" y="3164040"/>
            <a:ext cx="11858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22680" y="3470400"/>
            <a:ext cx="1440" cy="63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66840" y="4100400"/>
            <a:ext cx="5558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050920" y="3749760"/>
            <a:ext cx="142200" cy="312480"/>
            <a:chOff x="2050920" y="3749760"/>
            <a:chExt cx="142200" cy="312480"/>
          </a:xfrm>
        </p:grpSpPr>
        <p:sp>
          <p:nvSpPr>
            <p:cNvPr id="264" name=""/>
            <p:cNvSpPr/>
            <p:nvPr/>
          </p:nvSpPr>
          <p:spPr>
            <a:xfrm>
              <a:off x="2050920" y="3749760"/>
              <a:ext cx="128520" cy="31104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311040"/>
                <a:gd name="textAreaBottom" fmla="*/ 310680 h 311040"/>
              </a:gdLst>
              <a:ahLst/>
              <a:rect l="textAreaLeft" t="textAreaTop" r="textAreaRight" b="textAreaBottom"/>
              <a:pathLst>
                <a:path w="21600" h="52190">
                  <a:moveTo>
                    <a:pt x="240" y="0"/>
                  </a:moveTo>
                  <a:arcTo wR="240" hR="240" stAng="16200000" swAng="-5400000"/>
                  <a:lnTo>
                    <a:pt x="0" y="51950"/>
                  </a:lnTo>
                  <a:arcTo wR="240" hR="240" stAng="10800000" swAng="-5400000"/>
                  <a:lnTo>
                    <a:pt x="21360" y="52190"/>
                  </a:lnTo>
                  <a:arcTo wR="240" hR="240" stAng="5400000" swAng="-5400000"/>
                  <a:lnTo>
                    <a:pt x="21600" y="240"/>
                  </a:lnTo>
                  <a:arcTo wR="240" hR="2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050920" y="3749760"/>
              <a:ext cx="142200" cy="312480"/>
              <a:chOff x="2050920" y="3749760"/>
              <a:chExt cx="142200" cy="312480"/>
            </a:xfrm>
          </p:grpSpPr>
          <p:sp>
            <p:nvSpPr>
              <p:cNvPr id="266" name=""/>
              <p:cNvSpPr/>
              <p:nvPr/>
            </p:nvSpPr>
            <p:spPr>
              <a:xfrm>
                <a:off x="2050920" y="3749760"/>
                <a:ext cx="128520" cy="311040"/>
              </a:xfrm>
              <a:custGeom>
                <a:avLst/>
                <a:gdLst>
                  <a:gd name="textAreaLeft" fmla="*/ 360 w 128520"/>
                  <a:gd name="textAreaRight" fmla="*/ 128160 w 128520"/>
                  <a:gd name="textAreaTop" fmla="*/ 360 h 311040"/>
                  <a:gd name="textAreaBottom" fmla="*/ 310680 h 311040"/>
                </a:gdLst>
                <a:ahLst/>
                <a:rect l="textAreaLeft" t="textAreaTop" r="textAreaRight" b="textAreaBottom"/>
                <a:pathLst>
                  <a:path w="21600" h="52190">
                    <a:moveTo>
                      <a:pt x="240" y="0"/>
                    </a:moveTo>
                    <a:arcTo wR="240" hR="240" stAng="16200000" swAng="-5400000"/>
                    <a:lnTo>
                      <a:pt x="0" y="51950"/>
                    </a:lnTo>
                    <a:arcTo wR="240" hR="240" stAng="10800000" swAng="-5400000"/>
                    <a:lnTo>
                      <a:pt x="21360" y="52190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51640" y="3749760"/>
                <a:ext cx="141480" cy="312480"/>
              </a:xfrm>
              <a:custGeom>
                <a:avLst/>
                <a:gdLst>
                  <a:gd name="textAreaLeft" fmla="*/ 360 w 141480"/>
                  <a:gd name="textAreaRight" fmla="*/ 141120 w 141480"/>
                  <a:gd name="textAreaTop" fmla="*/ 360 h 312480"/>
                  <a:gd name="textAreaBottom" fmla="*/ 312120 h 312480"/>
                </a:gdLst>
                <a:ahLst/>
                <a:rect l="textAreaLeft" t="textAreaTop" r="textAreaRight" b="textAreaBottom"/>
                <a:pathLst>
                  <a:path w="21600" h="47641">
                    <a:moveTo>
                      <a:pt x="240" y="0"/>
                    </a:moveTo>
                    <a:arcTo wR="240" hR="240" stAng="16200000" swAng="-5400000"/>
                    <a:lnTo>
                      <a:pt x="0" y="47401"/>
                    </a:lnTo>
                    <a:arcTo wR="240" hR="240" stAng="10800000" swAng="-5400000"/>
                    <a:lnTo>
                      <a:pt x="21360" y="47641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2808360" y="3227400"/>
            <a:ext cx="135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95440" y="2803680"/>
            <a:ext cx="142200" cy="312480"/>
            <a:chOff x="1495440" y="2803680"/>
            <a:chExt cx="142200" cy="312480"/>
          </a:xfrm>
        </p:grpSpPr>
        <p:sp>
          <p:nvSpPr>
            <p:cNvPr id="270" name=""/>
            <p:cNvSpPr/>
            <p:nvPr/>
          </p:nvSpPr>
          <p:spPr>
            <a:xfrm>
              <a:off x="1495440" y="2803680"/>
              <a:ext cx="128520" cy="31104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311040"/>
                <a:gd name="textAreaBottom" fmla="*/ 310680 h 311040"/>
              </a:gdLst>
              <a:ahLst/>
              <a:rect l="textAreaLeft" t="textAreaTop" r="textAreaRight" b="textAreaBottom"/>
              <a:pathLst>
                <a:path w="21600" h="52190">
                  <a:moveTo>
                    <a:pt x="240" y="0"/>
                  </a:moveTo>
                  <a:arcTo wR="240" hR="240" stAng="16200000" swAng="-5400000"/>
                  <a:lnTo>
                    <a:pt x="0" y="51950"/>
                  </a:lnTo>
                  <a:arcTo wR="240" hR="240" stAng="10800000" swAng="-5400000"/>
                  <a:lnTo>
                    <a:pt x="21360" y="52190"/>
                  </a:lnTo>
                  <a:arcTo wR="240" hR="240" stAng="5400000" swAng="-5400000"/>
                  <a:lnTo>
                    <a:pt x="21600" y="240"/>
                  </a:lnTo>
                  <a:arcTo wR="240" hR="2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495440" y="2803680"/>
              <a:ext cx="142200" cy="312480"/>
              <a:chOff x="1495440" y="2803680"/>
              <a:chExt cx="142200" cy="312480"/>
            </a:xfrm>
          </p:grpSpPr>
          <p:sp>
            <p:nvSpPr>
              <p:cNvPr id="272" name=""/>
              <p:cNvSpPr/>
              <p:nvPr/>
            </p:nvSpPr>
            <p:spPr>
              <a:xfrm>
                <a:off x="1495440" y="2803680"/>
                <a:ext cx="128520" cy="311040"/>
              </a:xfrm>
              <a:custGeom>
                <a:avLst/>
                <a:gdLst>
                  <a:gd name="textAreaLeft" fmla="*/ 360 w 128520"/>
                  <a:gd name="textAreaRight" fmla="*/ 128160 w 128520"/>
                  <a:gd name="textAreaTop" fmla="*/ 360 h 311040"/>
                  <a:gd name="textAreaBottom" fmla="*/ 310680 h 311040"/>
                </a:gdLst>
                <a:ahLst/>
                <a:rect l="textAreaLeft" t="textAreaTop" r="textAreaRight" b="textAreaBottom"/>
                <a:pathLst>
                  <a:path w="21600" h="52190">
                    <a:moveTo>
                      <a:pt x="240" y="0"/>
                    </a:moveTo>
                    <a:arcTo wR="240" hR="240" stAng="16200000" swAng="-5400000"/>
                    <a:lnTo>
                      <a:pt x="0" y="51950"/>
                    </a:lnTo>
                    <a:arcTo wR="240" hR="240" stAng="10800000" swAng="-5400000"/>
                    <a:lnTo>
                      <a:pt x="21360" y="52190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96160" y="2803680"/>
                <a:ext cx="141480" cy="312480"/>
              </a:xfrm>
              <a:custGeom>
                <a:avLst/>
                <a:gdLst>
                  <a:gd name="textAreaLeft" fmla="*/ 360 w 141480"/>
                  <a:gd name="textAreaRight" fmla="*/ 141120 w 141480"/>
                  <a:gd name="textAreaTop" fmla="*/ 360 h 312480"/>
                  <a:gd name="textAreaBottom" fmla="*/ 312120 h 312480"/>
                </a:gdLst>
                <a:ahLst/>
                <a:rect l="textAreaLeft" t="textAreaTop" r="textAreaRight" b="textAreaBottom"/>
                <a:pathLst>
                  <a:path w="21600" h="47641">
                    <a:moveTo>
                      <a:pt x="240" y="0"/>
                    </a:moveTo>
                    <a:arcTo wR="240" hR="240" stAng="16200000" swAng="-5400000"/>
                    <a:lnTo>
                      <a:pt x="0" y="47401"/>
                    </a:lnTo>
                    <a:arcTo wR="240" hR="240" stAng="10800000" swAng="-5400000"/>
                    <a:lnTo>
                      <a:pt x="21360" y="47641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2841480" y="1854360"/>
            <a:ext cx="135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4560" y="4173480"/>
            <a:ext cx="1932120" cy="892080"/>
          </a:xfrm>
          <a:prstGeom prst="line">
            <a:avLst/>
          </a:prstGeom>
          <a:ln w="1098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030480" y="2776320"/>
            <a:ext cx="2124000" cy="260280"/>
          </a:xfrm>
          <a:prstGeom prst="line">
            <a:avLst/>
          </a:prstGeom>
          <a:ln w="1098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117040" y="5051520"/>
            <a:ext cx="2919960" cy="312480"/>
            <a:chOff x="5117040" y="5051520"/>
            <a:chExt cx="2919960" cy="312480"/>
          </a:xfrm>
        </p:grpSpPr>
        <p:sp>
          <p:nvSpPr>
            <p:cNvPr id="278" name=""/>
            <p:cNvSpPr/>
            <p:nvPr/>
          </p:nvSpPr>
          <p:spPr>
            <a:xfrm>
              <a:off x="5243400" y="5051520"/>
              <a:ext cx="266868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117040" y="5051520"/>
              <a:ext cx="2919960" cy="312480"/>
              <a:chOff x="5117040" y="5051520"/>
              <a:chExt cx="2919960" cy="312480"/>
            </a:xfrm>
          </p:grpSpPr>
          <p:sp>
            <p:nvSpPr>
              <p:cNvPr id="280" name=""/>
              <p:cNvSpPr/>
              <p:nvPr/>
            </p:nvSpPr>
            <p:spPr>
              <a:xfrm>
                <a:off x="5243400" y="5051520"/>
                <a:ext cx="2667240" cy="3078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17040" y="5051520"/>
                <a:ext cx="291996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Motion Coordinate Fram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5408280" y="2708280"/>
            <a:ext cx="2840760" cy="312480"/>
            <a:chOff x="5408280" y="2708280"/>
            <a:chExt cx="2840760" cy="312480"/>
          </a:xfrm>
        </p:grpSpPr>
        <p:sp>
          <p:nvSpPr>
            <p:cNvPr id="283" name=""/>
            <p:cNvSpPr/>
            <p:nvPr/>
          </p:nvSpPr>
          <p:spPr>
            <a:xfrm>
              <a:off x="5448240" y="2708280"/>
              <a:ext cx="276228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408280" y="2708280"/>
              <a:ext cx="2840760" cy="312480"/>
              <a:chOff x="5408280" y="2708280"/>
              <a:chExt cx="2840760" cy="312480"/>
            </a:xfrm>
          </p:grpSpPr>
          <p:sp>
            <p:nvSpPr>
              <p:cNvPr id="285" name=""/>
              <p:cNvSpPr/>
              <p:nvPr/>
            </p:nvSpPr>
            <p:spPr>
              <a:xfrm>
                <a:off x="5448240" y="2708280"/>
                <a:ext cx="276048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08280" y="2708280"/>
                <a:ext cx="284076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Vision Coordinate Fram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 flipH="1" flipV="1">
            <a:off x="2428560" y="3671640"/>
            <a:ext cx="298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04920" y="2311560"/>
            <a:ext cx="665280" cy="85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427120" y="2525400"/>
            <a:ext cx="3445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03440" y="3747960"/>
            <a:ext cx="223920" cy="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11000" y="2278080"/>
            <a:ext cx="124920" cy="312480"/>
          </a:xfrm>
          <a:custGeom>
            <a:avLst/>
            <a:gdLst>
              <a:gd name="textAreaLeft" fmla="*/ 360 w 124920"/>
              <a:gd name="textAreaRight" fmla="*/ 124560 w 124920"/>
              <a:gd name="textAreaTop" fmla="*/ 360 h 312480"/>
              <a:gd name="textAreaBottom" fmla="*/ 312120 h 312480"/>
            </a:gdLst>
            <a:ahLst/>
            <a:rect l="textAreaLeft" t="textAreaTop" r="textAreaRight" b="textAreaBottom"/>
            <a:pathLst>
              <a:path w="21600" h="53938">
                <a:moveTo>
                  <a:pt x="257" y="0"/>
                </a:moveTo>
                <a:arcTo wR="257" hR="257" stAng="16200000" swAng="-5400000"/>
                <a:lnTo>
                  <a:pt x="0" y="53681"/>
                </a:lnTo>
                <a:arcTo wR="257" hR="257" stAng="10800000" swAng="-5400000"/>
                <a:lnTo>
                  <a:pt x="21343" y="53938"/>
                </a:lnTo>
                <a:arcTo wR="257" hR="257" stAng="5400000" swAng="-5400000"/>
                <a:lnTo>
                  <a:pt x="21600" y="257"/>
                </a:lnTo>
                <a:arcTo wR="257" hR="25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1000" y="3452760"/>
            <a:ext cx="124920" cy="312480"/>
          </a:xfrm>
          <a:custGeom>
            <a:avLst/>
            <a:gdLst>
              <a:gd name="textAreaLeft" fmla="*/ 360 w 124920"/>
              <a:gd name="textAreaRight" fmla="*/ 124560 w 124920"/>
              <a:gd name="textAreaTop" fmla="*/ 360 h 312480"/>
              <a:gd name="textAreaBottom" fmla="*/ 312120 h 312480"/>
            </a:gdLst>
            <a:ahLst/>
            <a:rect l="textAreaLeft" t="textAreaTop" r="textAreaRight" b="textAreaBottom"/>
            <a:pathLst>
              <a:path w="21600" h="53938">
                <a:moveTo>
                  <a:pt x="257" y="0"/>
                </a:moveTo>
                <a:arcTo wR="257" hR="257" stAng="16200000" swAng="-5400000"/>
                <a:lnTo>
                  <a:pt x="0" y="53681"/>
                </a:lnTo>
                <a:arcTo wR="257" hR="257" stAng="10800000" swAng="-5400000"/>
                <a:lnTo>
                  <a:pt x="21343" y="53938"/>
                </a:lnTo>
                <a:arcTo wR="257" hR="257" stAng="5400000" swAng="-5400000"/>
                <a:lnTo>
                  <a:pt x="21600" y="257"/>
                </a:lnTo>
                <a:arcTo wR="257" hR="25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Walk Engine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87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f the inverse kinematics have been done for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you have to deal with are the “motion parameters”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our Goal: Create fluid, stable 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2459160"/>
            <a:ext cx="435636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utral Kinematic Position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ont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ck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27400" y="2533320"/>
            <a:ext cx="3811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ight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le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p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way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alk Period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320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Leg Parameters (46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2456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Body Parameters (5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eutral Kinematic Positio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3D vector relative to the motion coordinate frame) - Position of the leg on the ground at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some poi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during the walk cycl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k of it as the position the legs would be in if the dog was pacing in place using your walk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24280" y="6181560"/>
            <a:ext cx="187200" cy="1605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11760" y="5711760"/>
            <a:ext cx="32068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ath of the leg during 1 cyc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86040" y="5405400"/>
            <a:ext cx="2521080" cy="866880"/>
          </a:xfrm>
          <a:custGeom>
            <a:avLst/>
            <a:gdLst/>
            <a:ahLst/>
            <a:rect l="l" t="t" r="r" b="b"/>
            <a:pathLst>
              <a:path w="7717" h="2655">
                <a:moveTo>
                  <a:pt x="7700" y="2654"/>
                </a:moveTo>
                <a:lnTo>
                  <a:pt x="7713" y="2532"/>
                </a:lnTo>
                <a:lnTo>
                  <a:pt x="7716" y="2410"/>
                </a:lnTo>
                <a:lnTo>
                  <a:pt x="7709" y="2287"/>
                </a:lnTo>
                <a:lnTo>
                  <a:pt x="7692" y="2165"/>
                </a:lnTo>
                <a:lnTo>
                  <a:pt x="7666" y="2044"/>
                </a:lnTo>
                <a:lnTo>
                  <a:pt x="7630" y="1923"/>
                </a:lnTo>
                <a:lnTo>
                  <a:pt x="7585" y="1804"/>
                </a:lnTo>
                <a:lnTo>
                  <a:pt x="7530" y="1687"/>
                </a:lnTo>
                <a:lnTo>
                  <a:pt x="7465" y="1571"/>
                </a:lnTo>
                <a:lnTo>
                  <a:pt x="7392" y="1458"/>
                </a:lnTo>
                <a:lnTo>
                  <a:pt x="7310" y="1347"/>
                </a:lnTo>
                <a:lnTo>
                  <a:pt x="7219" y="1238"/>
                </a:lnTo>
                <a:lnTo>
                  <a:pt x="7119" y="1133"/>
                </a:lnTo>
                <a:lnTo>
                  <a:pt x="7011" y="1031"/>
                </a:lnTo>
                <a:lnTo>
                  <a:pt x="6895" y="933"/>
                </a:lnTo>
                <a:lnTo>
                  <a:pt x="6772" y="838"/>
                </a:lnTo>
                <a:lnTo>
                  <a:pt x="6641" y="748"/>
                </a:lnTo>
                <a:lnTo>
                  <a:pt x="6503" y="662"/>
                </a:lnTo>
                <a:lnTo>
                  <a:pt x="6358" y="580"/>
                </a:lnTo>
                <a:lnTo>
                  <a:pt x="6207" y="503"/>
                </a:lnTo>
                <a:lnTo>
                  <a:pt x="6050" y="431"/>
                </a:lnTo>
                <a:lnTo>
                  <a:pt x="5888" y="364"/>
                </a:lnTo>
                <a:lnTo>
                  <a:pt x="5720" y="302"/>
                </a:lnTo>
                <a:lnTo>
                  <a:pt x="5548" y="246"/>
                </a:lnTo>
                <a:lnTo>
                  <a:pt x="5371" y="195"/>
                </a:lnTo>
                <a:lnTo>
                  <a:pt x="5190" y="150"/>
                </a:lnTo>
                <a:lnTo>
                  <a:pt x="5005" y="110"/>
                </a:lnTo>
                <a:lnTo>
                  <a:pt x="4819" y="77"/>
                </a:lnTo>
                <a:lnTo>
                  <a:pt x="4630" y="49"/>
                </a:lnTo>
                <a:lnTo>
                  <a:pt x="4438" y="28"/>
                </a:lnTo>
                <a:lnTo>
                  <a:pt x="4246" y="12"/>
                </a:lnTo>
                <a:lnTo>
                  <a:pt x="4052" y="3"/>
                </a:lnTo>
                <a:lnTo>
                  <a:pt x="3858" y="0"/>
                </a:lnTo>
                <a:lnTo>
                  <a:pt x="3664" y="3"/>
                </a:lnTo>
                <a:lnTo>
                  <a:pt x="3470" y="12"/>
                </a:lnTo>
                <a:lnTo>
                  <a:pt x="3278" y="28"/>
                </a:lnTo>
                <a:lnTo>
                  <a:pt x="3086" y="49"/>
                </a:lnTo>
                <a:lnTo>
                  <a:pt x="2897" y="77"/>
                </a:lnTo>
                <a:lnTo>
                  <a:pt x="2711" y="110"/>
                </a:lnTo>
                <a:lnTo>
                  <a:pt x="2526" y="150"/>
                </a:lnTo>
                <a:lnTo>
                  <a:pt x="2345" y="195"/>
                </a:lnTo>
                <a:lnTo>
                  <a:pt x="2168" y="246"/>
                </a:lnTo>
                <a:lnTo>
                  <a:pt x="1996" y="302"/>
                </a:lnTo>
                <a:lnTo>
                  <a:pt x="1828" y="364"/>
                </a:lnTo>
                <a:lnTo>
                  <a:pt x="1666" y="431"/>
                </a:lnTo>
                <a:lnTo>
                  <a:pt x="1509" y="503"/>
                </a:lnTo>
                <a:lnTo>
                  <a:pt x="1358" y="580"/>
                </a:lnTo>
                <a:lnTo>
                  <a:pt x="1213" y="662"/>
                </a:lnTo>
                <a:lnTo>
                  <a:pt x="1075" y="748"/>
                </a:lnTo>
                <a:lnTo>
                  <a:pt x="944" y="838"/>
                </a:lnTo>
                <a:lnTo>
                  <a:pt x="821" y="933"/>
                </a:lnTo>
                <a:lnTo>
                  <a:pt x="705" y="1031"/>
                </a:lnTo>
                <a:lnTo>
                  <a:pt x="597" y="1133"/>
                </a:lnTo>
                <a:lnTo>
                  <a:pt x="497" y="1238"/>
                </a:lnTo>
                <a:lnTo>
                  <a:pt x="406" y="1347"/>
                </a:lnTo>
                <a:lnTo>
                  <a:pt x="324" y="1458"/>
                </a:lnTo>
                <a:lnTo>
                  <a:pt x="251" y="1571"/>
                </a:lnTo>
                <a:lnTo>
                  <a:pt x="186" y="1687"/>
                </a:lnTo>
                <a:lnTo>
                  <a:pt x="131" y="1804"/>
                </a:lnTo>
                <a:lnTo>
                  <a:pt x="86" y="1923"/>
                </a:lnTo>
                <a:lnTo>
                  <a:pt x="50" y="2044"/>
                </a:lnTo>
                <a:lnTo>
                  <a:pt x="24" y="2165"/>
                </a:lnTo>
                <a:lnTo>
                  <a:pt x="7" y="2287"/>
                </a:lnTo>
                <a:lnTo>
                  <a:pt x="0" y="2410"/>
                </a:lnTo>
                <a:lnTo>
                  <a:pt x="3" y="2532"/>
                </a:lnTo>
                <a:lnTo>
                  <a:pt x="16" y="2654"/>
                </a:lnTo>
                <a:lnTo>
                  <a:pt x="7700" y="26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276720" y="6264360"/>
            <a:ext cx="28080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949480" y="5721120"/>
            <a:ext cx="157320" cy="9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97360" y="5564160"/>
            <a:ext cx="20016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72840" y="1906560"/>
            <a:ext cx="780732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ft Velocit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3D vector) – Velocity (mm/sec) with which the leg is lifted off the 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own Velocit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3D vector) – Velocity (mm/sec) with which the leg is placed on the groun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ft Time and Down Ti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This controls the order of the legs by specifying a percentage of the time through the time cycle that each leg is m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ront and Back Leg Height Li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mm) – Upper bound on the height of the airpath of the front and back le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47840" y="5519880"/>
            <a:ext cx="2152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838600" y="5500800"/>
            <a:ext cx="27432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305080" y="5092560"/>
            <a:ext cx="14400" cy="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7760" y="5430960"/>
            <a:ext cx="190440" cy="16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4520" y="4973760"/>
            <a:ext cx="1844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59160" y="4987800"/>
            <a:ext cx="182520" cy="513000"/>
          </a:xfrm>
          <a:custGeom>
            <a:avLst/>
            <a:gdLst/>
            <a:ahLst/>
            <a:rect l="l" t="t" r="r" b="b"/>
            <a:pathLst>
              <a:path w="561" h="1571">
                <a:moveTo>
                  <a:pt x="0" y="0"/>
                </a:moveTo>
                <a:cubicBezTo>
                  <a:pt x="402" y="315"/>
                  <a:pt x="560" y="854"/>
                  <a:pt x="492" y="1345"/>
                </a:cubicBezTo>
                <a:lnTo>
                  <a:pt x="447" y="15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39920" y="4987800"/>
            <a:ext cx="158760" cy="513000"/>
          </a:xfrm>
          <a:custGeom>
            <a:avLst/>
            <a:gdLst/>
            <a:ahLst/>
            <a:rect l="l" t="t" r="r" b="b"/>
            <a:pathLst>
              <a:path w="486" h="1571">
                <a:moveTo>
                  <a:pt x="37" y="1570"/>
                </a:moveTo>
                <a:cubicBezTo>
                  <a:pt x="19" y="1052"/>
                  <a:pt x="0" y="450"/>
                  <a:pt x="396" y="45"/>
                </a:cubicBezTo>
                <a:lnTo>
                  <a:pt x="48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765680" y="4959360"/>
            <a:ext cx="15840" cy="58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35680" y="4917960"/>
            <a:ext cx="27986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ir path of leg with height lim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2840" y="1744560"/>
            <a:ext cx="780732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ody Ang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radians) – Angle of the body relative to the ground measured at the origin of the motion coordinate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ody Heigh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mm) – Height of the body relative to the ground measured at the origin of the motion coordinate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alk Perio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ms) – Time of one walk cycl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op and Sway Amplitud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mm) – Amplitude of vertical and horizontal oscillations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</a:rPr>
              <a:t>(Value usually set to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eating a Parameter Se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43120" y="1835280"/>
            <a:ext cx="38894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tion::WalkParam w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neutral.set( 125, 82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neutral.set( 125,-82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neutral.set( -100, 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neutral.set( -100,-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period = 64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lift_vel.set(0,0, 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lift_vel.set(0,0, 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lift_vel.set(0,0, 15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lift_vel.set(0,0, 15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375240" y="2471760"/>
            <a:ext cx="315720" cy="974520"/>
            <a:chOff x="6375240" y="2471760"/>
            <a:chExt cx="315720" cy="974520"/>
          </a:xfrm>
        </p:grpSpPr>
        <p:sp>
          <p:nvSpPr>
            <p:cNvPr id="326" name=""/>
            <p:cNvSpPr/>
            <p:nvPr/>
          </p:nvSpPr>
          <p:spPr>
            <a:xfrm>
              <a:off x="6375240" y="2471760"/>
              <a:ext cx="314640" cy="465840"/>
            </a:xfrm>
            <a:custGeom>
              <a:avLst/>
              <a:gdLst/>
              <a:ahLst/>
              <a:rect l="l" t="t" r="r" b="b"/>
              <a:pathLst>
                <a:path w="970" h="1495">
                  <a:moveTo>
                    <a:pt x="0" y="81"/>
                  </a:moveTo>
                  <a:cubicBezTo>
                    <a:pt x="187" y="0"/>
                    <a:pt x="375" y="209"/>
                    <a:pt x="408" y="420"/>
                  </a:cubicBezTo>
                  <a:cubicBezTo>
                    <a:pt x="436" y="606"/>
                    <a:pt x="441" y="797"/>
                    <a:pt x="453" y="985"/>
                  </a:cubicBezTo>
                  <a:cubicBezTo>
                    <a:pt x="469" y="1235"/>
                    <a:pt x="656" y="1431"/>
                    <a:pt x="849" y="1456"/>
                  </a:cubicBezTo>
                  <a:lnTo>
                    <a:pt x="969" y="1494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19520" y="2937600"/>
              <a:ext cx="271440" cy="508680"/>
            </a:xfrm>
            <a:custGeom>
              <a:avLst/>
              <a:gdLst/>
              <a:ahLst/>
              <a:rect l="l" t="t" r="r" b="b"/>
              <a:pathLst>
                <a:path w="839" h="1630">
                  <a:moveTo>
                    <a:pt x="0" y="1540"/>
                  </a:moveTo>
                  <a:cubicBezTo>
                    <a:pt x="162" y="1629"/>
                    <a:pt x="324" y="1400"/>
                    <a:pt x="352" y="1170"/>
                  </a:cubicBezTo>
                  <a:cubicBezTo>
                    <a:pt x="377" y="969"/>
                    <a:pt x="381" y="760"/>
                    <a:pt x="392" y="555"/>
                  </a:cubicBezTo>
                  <a:cubicBezTo>
                    <a:pt x="406" y="282"/>
                    <a:pt x="566" y="68"/>
                    <a:pt x="734" y="41"/>
                  </a:cubicBezTo>
                  <a:lnTo>
                    <a:pt x="838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801120" y="2786040"/>
            <a:ext cx="2330280" cy="312480"/>
            <a:chOff x="6801120" y="2786040"/>
            <a:chExt cx="2330280" cy="312480"/>
          </a:xfrm>
        </p:grpSpPr>
        <p:sp>
          <p:nvSpPr>
            <p:cNvPr id="329" name=""/>
            <p:cNvSpPr/>
            <p:nvPr/>
          </p:nvSpPr>
          <p:spPr>
            <a:xfrm>
              <a:off x="6835680" y="2786040"/>
              <a:ext cx="226224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801120" y="2786040"/>
              <a:ext cx="2330280" cy="312480"/>
              <a:chOff x="6801120" y="2786040"/>
              <a:chExt cx="2330280" cy="312480"/>
            </a:xfrm>
          </p:grpSpPr>
          <p:sp>
            <p:nvSpPr>
              <p:cNvPr id="331" name=""/>
              <p:cNvSpPr/>
              <p:nvPr/>
            </p:nvSpPr>
            <p:spPr>
              <a:xfrm>
                <a:off x="6835680" y="2786040"/>
                <a:ext cx="226080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01120" y="2786040"/>
                <a:ext cx="233028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Neutral Leg Position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6473880" y="4135320"/>
            <a:ext cx="317160" cy="976320"/>
            <a:chOff x="6473880" y="4135320"/>
            <a:chExt cx="317160" cy="976320"/>
          </a:xfrm>
        </p:grpSpPr>
        <p:sp>
          <p:nvSpPr>
            <p:cNvPr id="334" name=""/>
            <p:cNvSpPr/>
            <p:nvPr/>
          </p:nvSpPr>
          <p:spPr>
            <a:xfrm>
              <a:off x="6473880" y="4135320"/>
              <a:ext cx="316080" cy="466920"/>
            </a:xfrm>
            <a:custGeom>
              <a:avLst/>
              <a:gdLst/>
              <a:ahLst/>
              <a:rect l="l" t="t" r="r" b="b"/>
              <a:pathLst>
                <a:path w="973" h="1495">
                  <a:moveTo>
                    <a:pt x="0" y="81"/>
                  </a:moveTo>
                  <a:cubicBezTo>
                    <a:pt x="189" y="0"/>
                    <a:pt x="376" y="209"/>
                    <a:pt x="409" y="420"/>
                  </a:cubicBezTo>
                  <a:cubicBezTo>
                    <a:pt x="438" y="604"/>
                    <a:pt x="443" y="796"/>
                    <a:pt x="455" y="985"/>
                  </a:cubicBezTo>
                  <a:cubicBezTo>
                    <a:pt x="471" y="1234"/>
                    <a:pt x="657" y="1431"/>
                    <a:pt x="851" y="1456"/>
                  </a:cubicBezTo>
                  <a:lnTo>
                    <a:pt x="972" y="1494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16360" y="4602240"/>
              <a:ext cx="274680" cy="509400"/>
            </a:xfrm>
            <a:custGeom>
              <a:avLst/>
              <a:gdLst/>
              <a:ahLst/>
              <a:rect l="l" t="t" r="r" b="b"/>
              <a:pathLst>
                <a:path w="845" h="1630">
                  <a:moveTo>
                    <a:pt x="0" y="1540"/>
                  </a:moveTo>
                  <a:cubicBezTo>
                    <a:pt x="164" y="1629"/>
                    <a:pt x="328" y="1400"/>
                    <a:pt x="357" y="1170"/>
                  </a:cubicBezTo>
                  <a:cubicBezTo>
                    <a:pt x="381" y="968"/>
                    <a:pt x="385" y="760"/>
                    <a:pt x="396" y="554"/>
                  </a:cubicBezTo>
                  <a:cubicBezTo>
                    <a:pt x="410" y="281"/>
                    <a:pt x="572" y="66"/>
                    <a:pt x="739" y="41"/>
                  </a:cubicBezTo>
                  <a:lnTo>
                    <a:pt x="844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914880" y="4451400"/>
            <a:ext cx="1452240" cy="312480"/>
            <a:chOff x="6914880" y="4451400"/>
            <a:chExt cx="1452240" cy="312480"/>
          </a:xfrm>
        </p:grpSpPr>
        <p:sp>
          <p:nvSpPr>
            <p:cNvPr id="337" name=""/>
            <p:cNvSpPr/>
            <p:nvPr/>
          </p:nvSpPr>
          <p:spPr>
            <a:xfrm>
              <a:off x="6934320" y="4451400"/>
              <a:ext cx="141444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914880" y="4451400"/>
              <a:ext cx="1452240" cy="312480"/>
              <a:chOff x="6914880" y="4451400"/>
              <a:chExt cx="1452240" cy="312480"/>
            </a:xfrm>
          </p:grpSpPr>
          <p:sp>
            <p:nvSpPr>
              <p:cNvPr id="339" name=""/>
              <p:cNvSpPr/>
              <p:nvPr/>
            </p:nvSpPr>
            <p:spPr>
              <a:xfrm>
                <a:off x="6934320" y="4451400"/>
                <a:ext cx="141300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914880" y="4451400"/>
                <a:ext cx="145224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Lift Velocit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6539040" y="5573880"/>
            <a:ext cx="317160" cy="974160"/>
            <a:chOff x="6539040" y="5573880"/>
            <a:chExt cx="317160" cy="974160"/>
          </a:xfrm>
        </p:grpSpPr>
        <p:sp>
          <p:nvSpPr>
            <p:cNvPr id="342" name=""/>
            <p:cNvSpPr/>
            <p:nvPr/>
          </p:nvSpPr>
          <p:spPr>
            <a:xfrm>
              <a:off x="6539040" y="5573880"/>
              <a:ext cx="316080" cy="465840"/>
            </a:xfrm>
            <a:custGeom>
              <a:avLst/>
              <a:gdLst/>
              <a:ahLst/>
              <a:rect l="l" t="t" r="r" b="b"/>
              <a:pathLst>
                <a:path w="972" h="1494">
                  <a:moveTo>
                    <a:pt x="0" y="81"/>
                  </a:moveTo>
                  <a:cubicBezTo>
                    <a:pt x="188" y="0"/>
                    <a:pt x="377" y="209"/>
                    <a:pt x="410" y="420"/>
                  </a:cubicBezTo>
                  <a:cubicBezTo>
                    <a:pt x="438" y="604"/>
                    <a:pt x="443" y="796"/>
                    <a:pt x="455" y="985"/>
                  </a:cubicBezTo>
                  <a:cubicBezTo>
                    <a:pt x="471" y="1233"/>
                    <a:pt x="657" y="1430"/>
                    <a:pt x="850" y="1455"/>
                  </a:cubicBezTo>
                  <a:lnTo>
                    <a:pt x="971" y="1493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81880" y="6039720"/>
              <a:ext cx="274320" cy="508320"/>
            </a:xfrm>
            <a:custGeom>
              <a:avLst/>
              <a:gdLst/>
              <a:ahLst/>
              <a:rect l="l" t="t" r="r" b="b"/>
              <a:pathLst>
                <a:path w="844" h="1630">
                  <a:moveTo>
                    <a:pt x="0" y="1540"/>
                  </a:moveTo>
                  <a:cubicBezTo>
                    <a:pt x="164" y="1629"/>
                    <a:pt x="327" y="1400"/>
                    <a:pt x="356" y="1171"/>
                  </a:cubicBezTo>
                  <a:cubicBezTo>
                    <a:pt x="380" y="968"/>
                    <a:pt x="384" y="760"/>
                    <a:pt x="395" y="554"/>
                  </a:cubicBezTo>
                  <a:cubicBezTo>
                    <a:pt x="409" y="282"/>
                    <a:pt x="571" y="67"/>
                    <a:pt x="738" y="41"/>
                  </a:cubicBezTo>
                  <a:lnTo>
                    <a:pt x="843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976440" y="5888160"/>
            <a:ext cx="1716120" cy="312480"/>
            <a:chOff x="6976440" y="5888160"/>
            <a:chExt cx="1716120" cy="312480"/>
          </a:xfrm>
        </p:grpSpPr>
        <p:sp>
          <p:nvSpPr>
            <p:cNvPr id="345" name=""/>
            <p:cNvSpPr/>
            <p:nvPr/>
          </p:nvSpPr>
          <p:spPr>
            <a:xfrm>
              <a:off x="6997680" y="5888160"/>
              <a:ext cx="1674720" cy="3110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6976440" y="5888160"/>
              <a:ext cx="1716120" cy="312480"/>
              <a:chOff x="6976440" y="5888160"/>
              <a:chExt cx="1716120" cy="312480"/>
            </a:xfrm>
          </p:grpSpPr>
          <p:sp>
            <p:nvSpPr>
              <p:cNvPr id="347" name=""/>
              <p:cNvSpPr/>
              <p:nvPr/>
            </p:nvSpPr>
            <p:spPr>
              <a:xfrm>
                <a:off x="6997680" y="5888160"/>
                <a:ext cx="1673280" cy="3092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76440" y="5888160"/>
                <a:ext cx="171612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Down Velocit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 flipH="1">
            <a:off x="5881320" y="3691080"/>
            <a:ext cx="1182600" cy="144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171200" y="3537000"/>
            <a:ext cx="1546920" cy="623880"/>
            <a:chOff x="7171200" y="3537000"/>
            <a:chExt cx="1546920" cy="623880"/>
          </a:xfrm>
        </p:grpSpPr>
        <p:sp>
          <p:nvSpPr>
            <p:cNvPr id="351" name=""/>
            <p:cNvSpPr/>
            <p:nvPr/>
          </p:nvSpPr>
          <p:spPr>
            <a:xfrm>
              <a:off x="7194600" y="3537000"/>
              <a:ext cx="1501560" cy="623880"/>
            </a:xfrm>
            <a:prstGeom prst="roundRect">
              <a:avLst>
                <a:gd name="adj" fmla="val 22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7171200" y="3537000"/>
              <a:ext cx="1546920" cy="623880"/>
              <a:chOff x="7171200" y="3537000"/>
              <a:chExt cx="1546920" cy="623880"/>
            </a:xfrm>
          </p:grpSpPr>
          <p:sp>
            <p:nvSpPr>
              <p:cNvPr id="353" name=""/>
              <p:cNvSpPr/>
              <p:nvPr/>
            </p:nvSpPr>
            <p:spPr>
              <a:xfrm>
                <a:off x="7194600" y="3537000"/>
                <a:ext cx="1499760" cy="62244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71200" y="3537000"/>
                <a:ext cx="1546920" cy="62388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Motion Cycl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Period (ms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"/>
          <p:cNvSpPr/>
          <p:nvPr/>
        </p:nvSpPr>
        <p:spPr>
          <a:xfrm flipH="1">
            <a:off x="5881320" y="2023920"/>
            <a:ext cx="1182600" cy="18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194600" y="1871640"/>
            <a:ext cx="1871640" cy="312480"/>
            <a:chOff x="7194600" y="1871640"/>
            <a:chExt cx="1871640" cy="312480"/>
          </a:xfrm>
        </p:grpSpPr>
        <p:sp>
          <p:nvSpPr>
            <p:cNvPr id="357" name=""/>
            <p:cNvSpPr/>
            <p:nvPr/>
          </p:nvSpPr>
          <p:spPr>
            <a:xfrm>
              <a:off x="7194600" y="1871640"/>
              <a:ext cx="1831680" cy="3110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194600" y="1871640"/>
              <a:ext cx="1871640" cy="312480"/>
              <a:chOff x="7194600" y="1871640"/>
              <a:chExt cx="1871640" cy="312480"/>
            </a:xfrm>
          </p:grpSpPr>
          <p:sp>
            <p:nvSpPr>
              <p:cNvPr id="359" name=""/>
              <p:cNvSpPr/>
              <p:nvPr/>
            </p:nvSpPr>
            <p:spPr>
              <a:xfrm>
                <a:off x="7194600" y="1871640"/>
                <a:ext cx="1831680" cy="3110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97840" y="1871640"/>
                <a:ext cx="186840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Parameter Struct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482760" y="3206880"/>
            <a:ext cx="16984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Values are in millimeters, milliseconds or radian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eating a Parameter Se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6840" y="1903320"/>
            <a:ext cx="661176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lift_time=0.0000; wp.leg[0].down_time=0.5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lift_time=0.5000; wp.leg[1].down_time=1.0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lift_time=0.5000; wp.leg[2].down_time=1.0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lift_time=0.0000; wp.leg[3].down_time=0.5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body_angle  = RAD(16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body_height = 9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hop 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sway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front_height = 9.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back_height = 9.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ut = fopen("walk_xy.prm","wb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f(out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write(&amp;wp,sizeof(wp),1,ou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close(ou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257960" y="2013120"/>
            <a:ext cx="315720" cy="974160"/>
            <a:chOff x="7257960" y="2013120"/>
            <a:chExt cx="315720" cy="974160"/>
          </a:xfrm>
        </p:grpSpPr>
        <p:sp>
          <p:nvSpPr>
            <p:cNvPr id="365" name=""/>
            <p:cNvSpPr/>
            <p:nvPr/>
          </p:nvSpPr>
          <p:spPr>
            <a:xfrm>
              <a:off x="7257960" y="2013120"/>
              <a:ext cx="314640" cy="465840"/>
            </a:xfrm>
            <a:custGeom>
              <a:avLst/>
              <a:gdLst/>
              <a:ahLst/>
              <a:rect l="l" t="t" r="r" b="b"/>
              <a:pathLst>
                <a:path w="973" h="1495">
                  <a:moveTo>
                    <a:pt x="0" y="81"/>
                  </a:moveTo>
                  <a:cubicBezTo>
                    <a:pt x="189" y="0"/>
                    <a:pt x="376" y="209"/>
                    <a:pt x="409" y="420"/>
                  </a:cubicBezTo>
                  <a:cubicBezTo>
                    <a:pt x="438" y="604"/>
                    <a:pt x="443" y="796"/>
                    <a:pt x="455" y="985"/>
                  </a:cubicBezTo>
                  <a:cubicBezTo>
                    <a:pt x="471" y="1234"/>
                    <a:pt x="657" y="1431"/>
                    <a:pt x="851" y="1456"/>
                  </a:cubicBezTo>
                  <a:lnTo>
                    <a:pt x="972" y="1494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00440" y="2478960"/>
              <a:ext cx="273240" cy="508320"/>
            </a:xfrm>
            <a:custGeom>
              <a:avLst/>
              <a:gdLst/>
              <a:ahLst/>
              <a:rect l="l" t="t" r="r" b="b"/>
              <a:pathLst>
                <a:path w="845" h="1630">
                  <a:moveTo>
                    <a:pt x="0" y="1540"/>
                  </a:moveTo>
                  <a:cubicBezTo>
                    <a:pt x="164" y="1629"/>
                    <a:pt x="328" y="1400"/>
                    <a:pt x="357" y="1170"/>
                  </a:cubicBezTo>
                  <a:cubicBezTo>
                    <a:pt x="381" y="968"/>
                    <a:pt x="385" y="760"/>
                    <a:pt x="396" y="554"/>
                  </a:cubicBezTo>
                  <a:cubicBezTo>
                    <a:pt x="410" y="281"/>
                    <a:pt x="572" y="66"/>
                    <a:pt x="739" y="41"/>
                  </a:cubicBezTo>
                  <a:lnTo>
                    <a:pt x="844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702920" y="2328840"/>
            <a:ext cx="1156680" cy="312480"/>
            <a:chOff x="7702920" y="2328840"/>
            <a:chExt cx="1156680" cy="312480"/>
          </a:xfrm>
        </p:grpSpPr>
        <p:sp>
          <p:nvSpPr>
            <p:cNvPr id="368" name=""/>
            <p:cNvSpPr/>
            <p:nvPr/>
          </p:nvSpPr>
          <p:spPr>
            <a:xfrm>
              <a:off x="7716960" y="2328840"/>
              <a:ext cx="113004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7702920" y="2328840"/>
              <a:ext cx="1156680" cy="312480"/>
              <a:chOff x="7702920" y="2328840"/>
              <a:chExt cx="1156680" cy="312480"/>
            </a:xfrm>
          </p:grpSpPr>
          <p:sp>
            <p:nvSpPr>
              <p:cNvPr id="370" name=""/>
              <p:cNvSpPr/>
              <p:nvPr/>
            </p:nvSpPr>
            <p:spPr>
              <a:xfrm>
                <a:off x="7716960" y="2328840"/>
                <a:ext cx="112824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702920" y="2328840"/>
                <a:ext cx="115668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Leg Order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5102280" y="5311800"/>
            <a:ext cx="315360" cy="1213920"/>
            <a:chOff x="5102280" y="5311800"/>
            <a:chExt cx="315360" cy="1213920"/>
          </a:xfrm>
        </p:grpSpPr>
        <p:sp>
          <p:nvSpPr>
            <p:cNvPr id="373" name=""/>
            <p:cNvSpPr/>
            <p:nvPr/>
          </p:nvSpPr>
          <p:spPr>
            <a:xfrm>
              <a:off x="5102280" y="5311800"/>
              <a:ext cx="314280" cy="582840"/>
            </a:xfrm>
            <a:custGeom>
              <a:avLst/>
              <a:gdLst/>
              <a:ahLst/>
              <a:rect l="l" t="t" r="r" b="b"/>
              <a:pathLst>
                <a:path w="972" h="1864">
                  <a:moveTo>
                    <a:pt x="0" y="101"/>
                  </a:moveTo>
                  <a:cubicBezTo>
                    <a:pt x="188" y="0"/>
                    <a:pt x="377" y="260"/>
                    <a:pt x="410" y="524"/>
                  </a:cubicBezTo>
                  <a:cubicBezTo>
                    <a:pt x="438" y="754"/>
                    <a:pt x="443" y="994"/>
                    <a:pt x="455" y="1228"/>
                  </a:cubicBezTo>
                  <a:cubicBezTo>
                    <a:pt x="471" y="1539"/>
                    <a:pt x="657" y="1785"/>
                    <a:pt x="850" y="1816"/>
                  </a:cubicBezTo>
                  <a:lnTo>
                    <a:pt x="971" y="1863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4760" y="5890320"/>
              <a:ext cx="272880" cy="635400"/>
            </a:xfrm>
            <a:custGeom>
              <a:avLst/>
              <a:gdLst/>
              <a:ahLst/>
              <a:rect l="l" t="t" r="r" b="b"/>
              <a:pathLst>
                <a:path w="844" h="2035">
                  <a:moveTo>
                    <a:pt x="0" y="1924"/>
                  </a:moveTo>
                  <a:cubicBezTo>
                    <a:pt x="164" y="2034"/>
                    <a:pt x="327" y="1749"/>
                    <a:pt x="356" y="1462"/>
                  </a:cubicBezTo>
                  <a:cubicBezTo>
                    <a:pt x="380" y="1211"/>
                    <a:pt x="384" y="948"/>
                    <a:pt x="395" y="692"/>
                  </a:cubicBezTo>
                  <a:cubicBezTo>
                    <a:pt x="409" y="352"/>
                    <a:pt x="571" y="84"/>
                    <a:pt x="738" y="51"/>
                  </a:cubicBezTo>
                  <a:lnTo>
                    <a:pt x="843" y="0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560920" y="5703840"/>
            <a:ext cx="1927080" cy="387360"/>
            <a:chOff x="5560920" y="5703840"/>
            <a:chExt cx="1927080" cy="387360"/>
          </a:xfrm>
        </p:grpSpPr>
        <p:sp>
          <p:nvSpPr>
            <p:cNvPr id="376" name=""/>
            <p:cNvSpPr/>
            <p:nvPr/>
          </p:nvSpPr>
          <p:spPr>
            <a:xfrm>
              <a:off x="5560920" y="5703840"/>
              <a:ext cx="1883880" cy="38736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560920" y="5703840"/>
              <a:ext cx="1927080" cy="387360"/>
              <a:chOff x="5560920" y="5703840"/>
              <a:chExt cx="1927080" cy="387360"/>
            </a:xfrm>
          </p:grpSpPr>
          <p:sp>
            <p:nvSpPr>
              <p:cNvPr id="378" name=""/>
              <p:cNvSpPr/>
              <p:nvPr/>
            </p:nvSpPr>
            <p:spPr>
              <a:xfrm>
                <a:off x="5560920" y="5703840"/>
                <a:ext cx="1883880" cy="387360"/>
              </a:xfrm>
              <a:prstGeom prst="roundRect">
                <a:avLst>
                  <a:gd name="adj" fmla="val 3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2360" y="5703840"/>
                <a:ext cx="1925640" cy="311760"/>
              </a:xfrm>
              <a:prstGeom prst="roundRect">
                <a:avLst>
                  <a:gd name="adj" fmla="val 3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Save to .prm Fil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3730680" y="4422600"/>
            <a:ext cx="317160" cy="568080"/>
            <a:chOff x="3730680" y="4422600"/>
            <a:chExt cx="317160" cy="568080"/>
          </a:xfrm>
        </p:grpSpPr>
        <p:sp>
          <p:nvSpPr>
            <p:cNvPr id="381" name=""/>
            <p:cNvSpPr/>
            <p:nvPr/>
          </p:nvSpPr>
          <p:spPr>
            <a:xfrm>
              <a:off x="3730680" y="4422600"/>
              <a:ext cx="316080" cy="273240"/>
            </a:xfrm>
            <a:custGeom>
              <a:avLst/>
              <a:gdLst/>
              <a:ahLst/>
              <a:rect l="l" t="t" r="r" b="b"/>
              <a:pathLst>
                <a:path w="972" h="876">
                  <a:moveTo>
                    <a:pt x="0" y="48"/>
                  </a:moveTo>
                  <a:cubicBezTo>
                    <a:pt x="188" y="0"/>
                    <a:pt x="377" y="123"/>
                    <a:pt x="410" y="246"/>
                  </a:cubicBezTo>
                  <a:cubicBezTo>
                    <a:pt x="438" y="354"/>
                    <a:pt x="443" y="468"/>
                    <a:pt x="455" y="577"/>
                  </a:cubicBezTo>
                  <a:cubicBezTo>
                    <a:pt x="471" y="723"/>
                    <a:pt x="657" y="839"/>
                    <a:pt x="850" y="853"/>
                  </a:cubicBezTo>
                  <a:lnTo>
                    <a:pt x="971" y="875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73520" y="4692960"/>
              <a:ext cx="274320" cy="297720"/>
            </a:xfrm>
            <a:custGeom>
              <a:avLst/>
              <a:gdLst/>
              <a:ahLst/>
              <a:rect l="l" t="t" r="r" b="b"/>
              <a:pathLst>
                <a:path w="844" h="955">
                  <a:moveTo>
                    <a:pt x="0" y="902"/>
                  </a:moveTo>
                  <a:cubicBezTo>
                    <a:pt x="164" y="954"/>
                    <a:pt x="327" y="820"/>
                    <a:pt x="356" y="687"/>
                  </a:cubicBezTo>
                  <a:cubicBezTo>
                    <a:pt x="380" y="567"/>
                    <a:pt x="384" y="443"/>
                    <a:pt x="395" y="324"/>
                  </a:cubicBezTo>
                  <a:cubicBezTo>
                    <a:pt x="409" y="165"/>
                    <a:pt x="571" y="39"/>
                    <a:pt x="738" y="24"/>
                  </a:cubicBezTo>
                  <a:lnTo>
                    <a:pt x="843" y="0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123800" y="4608360"/>
            <a:ext cx="3742920" cy="312480"/>
            <a:chOff x="4123800" y="4608360"/>
            <a:chExt cx="3742920" cy="312480"/>
          </a:xfrm>
        </p:grpSpPr>
        <p:sp>
          <p:nvSpPr>
            <p:cNvPr id="384" name=""/>
            <p:cNvSpPr/>
            <p:nvPr/>
          </p:nvSpPr>
          <p:spPr>
            <a:xfrm>
              <a:off x="4191120" y="4608360"/>
              <a:ext cx="360972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4123800" y="4608360"/>
              <a:ext cx="3742920" cy="312480"/>
              <a:chOff x="4123800" y="4608360"/>
              <a:chExt cx="3742920" cy="312480"/>
            </a:xfrm>
          </p:grpSpPr>
          <p:sp>
            <p:nvSpPr>
              <p:cNvPr id="386" name=""/>
              <p:cNvSpPr/>
              <p:nvPr/>
            </p:nvSpPr>
            <p:spPr>
              <a:xfrm>
                <a:off x="4191120" y="4608360"/>
                <a:ext cx="3607920" cy="3078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23800" y="4608360"/>
                <a:ext cx="374292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Limit how high the legs are lifted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Pack Walk Eng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est level: desired angles for j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: CMPack WalkEng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level of abs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natural settings to specify desired pos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all the kinematics compu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both walking and ki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imary 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72840" y="2459160"/>
            <a:ext cx="450828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3366"/>
                </a:solidFill>
                <a:latin typeface="Times New Roman"/>
              </a:rPr>
              <a:t>Neutral Kinematic Position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ont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ck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0040" y="2438280"/>
            <a:ext cx="3811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Times New Roman"/>
              </a:rPr>
              <a:t>Height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Times New Roman"/>
              </a:rPr>
              <a:t>Angle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p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way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Times New Roman"/>
              </a:rPr>
              <a:t>Walk Period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320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Leg Parameters (46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456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Body Parameters (5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unning Your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1447920"/>
            <a:ext cx="922032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dit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/genwalk.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mpiling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./gen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Kinemaric Errors=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aving to the sti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cp walk_xy.prm /memstick/mo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u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unning Your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1371600"/>
            <a:ext cx="9067680" cy="46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mpiling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./gen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Kinemaric Errors=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aving to the sti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cp walk_xy.prm /memstick/mo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u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19640" y="3413160"/>
            <a:ext cx="1420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5280" y="3281400"/>
            <a:ext cx="27669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3366"/>
                </a:solidFill>
                <a:latin typeface="Times New Roman"/>
              </a:rPr>
              <a:t>What are these error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me-Based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82800" y="1932120"/>
            <a:ext cx="516744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me-Based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motion is described by a series of “frames” which specify the position of the robot, and a time to interpolate between fram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vement between frames is calculated through linear interpolation of each j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72840" y="504360"/>
            <a:ext cx="780732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position of the robot in each frame can be described using any of the following: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sition of the legs - in terms of angles of each joint or position of the foot in motion coordin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gle of the head (tilt, pan, rol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dy height and 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gle of the m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76920" y="4610160"/>
            <a:ext cx="261936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struct BodyState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BodyPosition p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LegState leg[4]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HeadState head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outhState mouth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73200" y="228240"/>
            <a:ext cx="80899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amples: Valid Motion Fra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6720" y="4487760"/>
            <a:ext cx="3086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0, 0.0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1, 0.0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2, 0.1, 0.0, 0.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3, 0.1, 0.0, 0.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51600" y="1600200"/>
            <a:ext cx="35193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odyPos(b,98,RAD(16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eadAng(b, 0.5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uthAng(b,-.7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0, 123, 8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1, 123,-8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2, -80  , 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3, -80  ,-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3960" y="1523880"/>
            <a:ext cx="3682800" cy="25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odyPos(b,98,RAD(16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eadAng(b, 0.5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0, 123,  85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1, 123,-85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2, 0.1, 0.0, 0.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3, 0.1, 0.0, 0.2);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92640" y="4800600"/>
            <a:ext cx="219564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unning Your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1523880"/>
            <a:ext cx="929628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dit: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~/dogs/agent/Motion/genmot/genmisc.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mpiling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./gen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Kinemaric Errors=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aving to the sti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cp k_bump.mot /memstick/mo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u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n your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mand-&gt;motion_cmd = MOTION_KICK_BU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Joint Angle Limi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992240" y="2104920"/>
            <a:ext cx="515952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3520"/>
            <a:ext cx="8991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Forward Kinematics, Inverse Kinematics, &amp; PID Control in a Nutshe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6320" y="3429000"/>
            <a:ext cx="899136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 Aiwaz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5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readings will be made available off the Webp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dnesday’s lab will be about debugging tools using wavelan communication to and from the rob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 2 is due in class on Wednesday and Homework 3 will be handed out th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deCuir, SONY, USA, will present the new ERS-7 robots at the beginning of the class on Monday, September 2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ward Kinema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s position in space based on joint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avit-Hartenberg Co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ually simple (follow conven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simple 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4419360" cy="378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osition &amp; orientation of the tool (end effector) relative to the origi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464832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5029200" cy="407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5048280" cy="408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62520" y="4191120"/>
            <a:ext cx="1581120" cy="407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28600" y="2209680"/>
            <a:ext cx="3581280" cy="307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86200" y="2209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solved trigonometrical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9:05:46Z</dcterms:created>
  <dc:creator>mmv</dc:creator>
  <dc:description/>
  <dc:language>en-US</dc:language>
  <cp:lastModifiedBy>mmv</cp:lastModifiedBy>
  <dcterms:modified xsi:type="dcterms:W3CDTF">2003-09-18T14:16:17Z</dcterms:modified>
  <cp:revision>115</cp:revision>
  <dc:subject/>
  <dc:title>Pick-Up Robot Soccer Teams: Team Cognition in Adversarial Tasks</dc:title>
</cp:coreProperties>
</file>