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12A-8DF1-4911-8797-EBB97E8A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029-2F18-45C1-8EB0-2EE6ECF6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BAE-9EFB-44AE-9ADF-5A861B8B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7D0-A792-4A35-9619-8AC22207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EF83-DECB-443C-808E-6F908E96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5C92-B60B-424B-B244-4B77767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B49E-0E76-4A44-99DD-87B34DB4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B20B-A6C8-45C8-8FCC-FA3E284E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00EB-C532-4705-AA48-BCB6C6CC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C0DA-B903-4ACF-9D29-83000557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C2C6-6AF3-4BA4-AE2E-75DFB7B8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BCE-D6C9-49D1-A103-F1DEEBA3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381B-8053-44B2-B690-2164244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B907-EA44-4031-9896-DB4EBD35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CE9F-97E3-47A3-875E-D21D0E0F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8650-6AFC-412F-BE14-B7BE0781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D078-26A9-441E-B004-74F5E6E8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40F-C8AE-41B1-8C91-E1161EF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BFA-F3B0-4B67-8493-1AEA90B2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6BE-DB4A-4E4B-9EBC-1C000400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C74-471C-4732-BD23-CE790C22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B9D-9751-4EF6-AE88-29E6105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36D-6B7B-4E94-8BB7-4243E401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0F9-2FA2-4167-B461-13DE303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2DAF-C07D-480C-850E-9C4C0D04D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3CC7-431C-4316-94C2-9DFCFD840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.cmu.edu/~coral" TargetMode="External"/><Relationship Id="rId2" Type="http://schemas.openxmlformats.org/officeDocument/2006/relationships/hyperlink" Target="http://www.cs.cmu.edu/~coral" TargetMode="External"/><Relationship Id="rId3" Type="http://schemas.openxmlformats.org/officeDocument/2006/relationships/hyperlink" Target="http://www.cs.cmu.edu/~coral" TargetMode="External"/><Relationship Id="rId4" Type="http://schemas.openxmlformats.org/officeDocument/2006/relationships/hyperlink" Target="http://www.cs.cmu.edu/~coral" TargetMode="External"/><Relationship Id="rId5" Type="http://schemas.openxmlformats.org/officeDocument/2006/relationships/hyperlink" Target="http://www.cs.cmu.edu/~coral" TargetMode="External"/><Relationship Id="rId6" Type="http://schemas.openxmlformats.org/officeDocument/2006/relationships/hyperlink" Target="http://www.cs.cmu.edu/~coral" TargetMode="External"/><Relationship Id="rId7" Type="http://schemas.openxmlformats.org/officeDocument/2006/relationships/hyperlink" Target="http://www.cs.cmu.edu/~coral" TargetMode="External"/><Relationship Id="rId8" Type="http://schemas.openxmlformats.org/officeDocument/2006/relationships/hyperlink" Target="http://www.robocup.org/" TargetMode="External"/><Relationship Id="rId9" Type="http://schemas.openxmlformats.org/officeDocument/2006/relationships/hyperlink" Target="http://openr.aibo.com/" TargetMode="External"/><Relationship Id="rId10" Type="http://schemas.openxmlformats.org/officeDocument/2006/relationships/hyperlink" Target="http://www.cs.cmu.edu/~tekkotsu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RoboBits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ating an Intelligent AIBO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s: Prof. Manuela Veloso &amp; Scott Len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: Douglas Vail &amp; Nick Aiwaz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ther Support: Dr. Paul Rybski, Sonia Cher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-491, Fall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andrew.cmu.edu/course/15-4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arnegie Mel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yllab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-robot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valu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ekly home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s-on lab work with the AIBO rob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also include written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s: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project: 2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s of 2 or 3 students: each student in the group must be fully responsible for each ho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ources and Rea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ings and videos are available at: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cmu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/~co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BOs are being used widely in RoboCup: 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http://www.robocup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penR Web page has a lot of information: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http://openr.aibo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kotsu is a serious effort to build an API for the AIBOs: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http://www.cs.cmu.edu/~tekkot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oralbanner3" descr=""/>
          <p:cNvPicPr/>
          <p:nvPr/>
        </p:nvPicPr>
        <p:blipFill>
          <a:blip r:embed="rId11"/>
          <a:stretch/>
        </p:blipFill>
        <p:spPr>
          <a:xfrm>
            <a:off x="152280" y="2438280"/>
            <a:ext cx="876312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This New Cour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robot soccer experienc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: since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ified: simulation, small-size, Sony 4-leg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work, frustration, fun, struggle, su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T learned 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029200"/>
            <a:ext cx="8381880" cy="532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ating teams of complete intelligent rob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gged Robot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arkable hardware - SONY AIBO rob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Sony_Robot_Dog-ball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4495680" cy="2697120"/>
          </a:xfrm>
          <a:prstGeom prst="rect">
            <a:avLst/>
          </a:prstGeom>
          <a:ln w="0">
            <a:noFill/>
          </a:ln>
        </p:spPr>
      </p:pic>
      <p:pic>
        <p:nvPicPr>
          <p:cNvPr id="96" name="Sonydogs_1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58128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lligent Complete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91320" y="2590920"/>
            <a:ext cx="2479680" cy="1044360"/>
            <a:chOff x="5791320" y="2590920"/>
            <a:chExt cx="2479680" cy="1044360"/>
          </a:xfrm>
        </p:grpSpPr>
        <p:sp>
          <p:nvSpPr>
            <p:cNvPr id="99" name=""/>
            <p:cNvSpPr/>
            <p:nvPr/>
          </p:nvSpPr>
          <p:spPr>
            <a:xfrm>
              <a:off x="6386400" y="2590920"/>
              <a:ext cx="1359000" cy="1044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2971440"/>
              <a:ext cx="247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A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0" y="4038480"/>
            <a:ext cx="1295280" cy="522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6052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loud"/>
          <p:cNvSpPr/>
          <p:nvPr/>
        </p:nvSpPr>
        <p:spPr>
          <a:xfrm>
            <a:off x="1523880" y="4854600"/>
            <a:ext cx="6077160" cy="78408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rnal Wor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3962520"/>
            <a:ext cx="1200240" cy="52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80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504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25520" y="4572000"/>
            <a:ext cx="800280" cy="34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43600" y="4572000"/>
            <a:ext cx="479520" cy="262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083000" y="4572000"/>
            <a:ext cx="56052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322760" y="4572000"/>
            <a:ext cx="63972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9880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Cogn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752480" y="365724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36576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utonom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ng, modeling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iors, action selection, planning,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-robot coordination, 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to opponent, multi-agent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on, navigation, obstacle avoid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ception: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-time and robu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calib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red blobs  identified as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comp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VISION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7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gnition: Behavi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819520"/>
            <a:ext cx="175248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819520"/>
            <a:ext cx="175248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343400"/>
            <a:ext cx="175284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676520"/>
            <a:ext cx="175284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213336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209680"/>
            <a:ext cx="15238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971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00600" y="29718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99120" y="19051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4920" y="4038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to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8440" y="32004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99520" y="32004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3920" y="20574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6920" y="4724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3480" y="47242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next to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4191120"/>
            <a:ext cx="1981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133360" y="4190760"/>
            <a:ext cx="14475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33760" y="4114800"/>
            <a:ext cx="15238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: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-legged w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 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ing, ki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71560" y="3798720"/>
            <a:ext cx="6000120" cy="1382760"/>
            <a:chOff x="1771560" y="3798720"/>
            <a:chExt cx="6000120" cy="1382760"/>
          </a:xfrm>
        </p:grpSpPr>
        <p:grpSp>
          <p:nvGrpSpPr>
            <p:cNvPr id="143" name=""/>
            <p:cNvGrpSpPr/>
            <p:nvPr/>
          </p:nvGrpSpPr>
          <p:grpSpPr>
            <a:xfrm>
              <a:off x="1771560" y="3798720"/>
              <a:ext cx="2011680" cy="1379520"/>
              <a:chOff x="1771560" y="3798720"/>
              <a:chExt cx="2011680" cy="13795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1560" y="3798720"/>
                <a:ext cx="2011680" cy="13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771560" y="3798720"/>
                <a:ext cx="2011680" cy="137952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735720" y="3798720"/>
              <a:ext cx="2011680" cy="1379520"/>
              <a:chOff x="3735720" y="3798720"/>
              <a:chExt cx="2011680" cy="1379520"/>
            </a:xfrm>
          </p:grpSpPr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5720" y="3798720"/>
                <a:ext cx="2011680" cy="13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3735720" y="3798720"/>
                <a:ext cx="2011680" cy="137952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745960" y="3798720"/>
              <a:ext cx="2025720" cy="1382760"/>
              <a:chOff x="5745960" y="3798720"/>
              <a:chExt cx="2025720" cy="1382760"/>
            </a:xfrm>
          </p:grpSpPr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61440" y="3798720"/>
                <a:ext cx="2010240" cy="13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45960" y="3798720"/>
                <a:ext cx="2010240" cy="138276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1808280" y="5257800"/>
            <a:ext cx="5964120" cy="1509840"/>
            <a:chOff x="1808280" y="5257800"/>
            <a:chExt cx="5964120" cy="1509840"/>
          </a:xfrm>
        </p:grpSpPr>
        <p:grpSp>
          <p:nvGrpSpPr>
            <p:cNvPr id="153" name=""/>
            <p:cNvGrpSpPr/>
            <p:nvPr/>
          </p:nvGrpSpPr>
          <p:grpSpPr>
            <a:xfrm>
              <a:off x="1808280" y="5257800"/>
              <a:ext cx="2008080" cy="1509840"/>
              <a:chOff x="1808280" y="5257800"/>
              <a:chExt cx="2008080" cy="15098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8280" y="5257800"/>
                <a:ext cx="2008080" cy="15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1808280" y="5257800"/>
                <a:ext cx="2008080" cy="150984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772080" y="5257800"/>
              <a:ext cx="2008080" cy="1506600"/>
              <a:chOff x="3772080" y="5257800"/>
              <a:chExt cx="2008080" cy="1506600"/>
            </a:xfrm>
          </p:grpSpPr>
          <p:pic>
            <p:nvPicPr>
              <p:cNvPr id="1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72080" y="5257800"/>
                <a:ext cx="2008080" cy="15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3772080" y="5257800"/>
                <a:ext cx="2008080" cy="150660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767560" y="5257800"/>
              <a:ext cx="2004840" cy="1506600"/>
              <a:chOff x="5767560" y="5257800"/>
              <a:chExt cx="2004840" cy="1506600"/>
            </a:xfrm>
          </p:grpSpPr>
          <p:pic>
            <p:nvPicPr>
              <p:cNvPr id="16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67560" y="5257800"/>
                <a:ext cx="2004840" cy="15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5767560" y="5257800"/>
                <a:ext cx="2004840" cy="150660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is New Cour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yond robot soc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RoboBit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CMPack, break into modular robot “bi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the CMRoboBits within a concrete rob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B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ly available to the public since June’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ust hardware, modular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9:05:46Z</dcterms:created>
  <dc:creator>mmv</dc:creator>
  <dc:description/>
  <dc:language>en-US</dc:language>
  <cp:lastModifiedBy>mmv</cp:lastModifiedBy>
  <dcterms:modified xsi:type="dcterms:W3CDTF">2003-09-04T12:53:36Z</dcterms:modified>
  <cp:revision>99</cp:revision>
  <dc:subject/>
  <dc:title>Pick-Up Robot Soccer Teams: Team Cognition in Adversarial Tasks</dc:title>
</cp:coreProperties>
</file>