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4D8-D666-4D4E-9D03-3257E126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05F-652E-4794-BC61-BFB3E8A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624-E95C-440E-8F9D-C28A462A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042-854B-4AF4-999B-C2D5A0C8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CCF-48E8-419A-8D79-8CE50BB2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D010-A798-4A18-9566-88CA218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30BB-2247-41BD-935F-F28EF48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BAB9-CB3C-4305-9960-AF1ACBC7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AFB9-FD4E-4325-B76F-7EE5B9A3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A06E-23C1-48CE-AB97-8C0DF24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2113-82EE-4318-AA4C-E9D4A6FC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35F-C039-4236-A548-5728C324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465F-E3CD-415F-A4FA-49422F1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0855-3B5D-4B5F-A703-9DEC060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B194-0D08-408F-B531-8B40983C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4B18-EE8D-4126-94C2-DF04D7A6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22A7-19FB-4AEA-B34F-A35A65CC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AF1-4B8B-41D6-A646-D4B0E86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892-2482-4A01-B02F-636D0F4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936-537B-4760-8235-6FC424AF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963-FA3F-44CC-B962-85D7E623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703-1564-408B-BB03-FC75D07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672-F78B-44F2-8718-7DC09EA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C0D-F637-4940-B034-20F73C2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1526-BD40-4405-A0E5-9DCFA5012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3D99-8DB0-4D0B-984C-38DE15609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.cmu.edu/~coral" TargetMode="External"/><Relationship Id="rId2" Type="http://schemas.openxmlformats.org/officeDocument/2006/relationships/hyperlink" Target="http://www.cs.cmu.edu/~coral" TargetMode="External"/><Relationship Id="rId3" Type="http://schemas.openxmlformats.org/officeDocument/2006/relationships/hyperlink" Target="http://www.cs.cmu.edu/~coral" TargetMode="External"/><Relationship Id="rId4" Type="http://schemas.openxmlformats.org/officeDocument/2006/relationships/hyperlink" Target="http://www.cs.cmu.edu/~coral" TargetMode="External"/><Relationship Id="rId5" Type="http://schemas.openxmlformats.org/officeDocument/2006/relationships/hyperlink" Target="http://www.cs.cmu.edu/~coral" TargetMode="External"/><Relationship Id="rId6" Type="http://schemas.openxmlformats.org/officeDocument/2006/relationships/hyperlink" Target="http://www.cs.cmu.edu/~coral" TargetMode="External"/><Relationship Id="rId7" Type="http://schemas.openxmlformats.org/officeDocument/2006/relationships/hyperlink" Target="http://www.cs.cmu.edu/~coral" TargetMode="External"/><Relationship Id="rId8" Type="http://schemas.openxmlformats.org/officeDocument/2006/relationships/hyperlink" Target="http://www.robocup.org/" TargetMode="External"/><Relationship Id="rId9" Type="http://schemas.openxmlformats.org/officeDocument/2006/relationships/hyperlink" Target="http://openr.aibo.com/" TargetMode="External"/><Relationship Id="rId10" Type="http://schemas.openxmlformats.org/officeDocument/2006/relationships/hyperlink" Target="http://www.cs.cmu.edu/~tekkotsu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RoboBits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ating an Intelligent AIBO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s: Prof. Manuela Veloso &amp; Scott Len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: Douglas Vail &amp; 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ther Support: Dr. Paul Rybski, Sonia Cher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-491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andrew.cmu.edu/course/15-4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arnegie Me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yllab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robot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valu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ekly home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s-on lab work with the AIBO rob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also include written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s: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project: 2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s of 2 or 3 students: each student in the group must be fully responsible for each ho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ources and Rea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s and videos are available at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cmu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/~c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BOs are being used widely in RoboCup: 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http://www.robocup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penR Web page has a lot of information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http://openr.aibo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kotsu is a serious effort to build an API for the AIBOs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http://www.cs.cmu.edu/~tekkot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oralbanner3" descr=""/>
          <p:cNvPicPr/>
          <p:nvPr/>
        </p:nvPicPr>
        <p:blipFill>
          <a:blip r:embed="rId11"/>
          <a:stretch/>
        </p:blipFill>
        <p:spPr>
          <a:xfrm>
            <a:off x="152280" y="2438280"/>
            <a:ext cx="876312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This New Cour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robot soccer experienc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: since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fied: simulation, small-size, Sony 4-leg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work, frustration, fun, struggle, 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T learned 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029200"/>
            <a:ext cx="8381880" cy="532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ating teams of complete intelligent rob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gged Robot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rkable hardware - SONY AIBO rob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Sony_Robot_Dog-ball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4495680" cy="2697120"/>
          </a:xfrm>
          <a:prstGeom prst="rect">
            <a:avLst/>
          </a:prstGeom>
          <a:ln w="0">
            <a:noFill/>
          </a:ln>
        </p:spPr>
      </p:pic>
      <p:pic>
        <p:nvPicPr>
          <p:cNvPr id="96" name="Sonydogs_1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5812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lligent Complete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91320" y="2590920"/>
            <a:ext cx="2479680" cy="1044360"/>
            <a:chOff x="5791320" y="2590920"/>
            <a:chExt cx="2479680" cy="1044360"/>
          </a:xfrm>
        </p:grpSpPr>
        <p:sp>
          <p:nvSpPr>
            <p:cNvPr id="99" name=""/>
            <p:cNvSpPr/>
            <p:nvPr/>
          </p:nvSpPr>
          <p:spPr>
            <a:xfrm>
              <a:off x="6386400" y="2590920"/>
              <a:ext cx="1359000" cy="1044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2971440"/>
              <a:ext cx="24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A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0" y="4038480"/>
            <a:ext cx="1295280" cy="522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6052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>
            <a:off x="1523880" y="4854600"/>
            <a:ext cx="6077160" cy="784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Wor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3962520"/>
            <a:ext cx="1200240" cy="52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80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504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25520" y="4572000"/>
            <a:ext cx="800280" cy="34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43600" y="4572000"/>
            <a:ext cx="47952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83000" y="4572000"/>
            <a:ext cx="56052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322760" y="4572000"/>
            <a:ext cx="63972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9880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Cogn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52480" y="3657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36576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utonom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ng, modeling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s, action selection, planning,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-robot coordination, 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to opponent, multi-agent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on, navigation, obstacle avoid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ception: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-time and 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calib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ed blobs  identified as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comp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VISION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7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gnition: Behavi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819520"/>
            <a:ext cx="175248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819520"/>
            <a:ext cx="175248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343400"/>
            <a:ext cx="17528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676520"/>
            <a:ext cx="17528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213336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209680"/>
            <a:ext cx="15238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971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00600" y="29718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9120" y="19051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4920" y="4038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to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8440" y="32004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99520" y="32004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920" y="20574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6920" y="4724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3480" y="47242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next to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191120"/>
            <a:ext cx="1981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133360" y="4190760"/>
            <a:ext cx="14475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33760" y="4114800"/>
            <a:ext cx="15238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: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-legged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ing, k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71560" y="3798720"/>
            <a:ext cx="6000120" cy="1382760"/>
            <a:chOff x="1771560" y="3798720"/>
            <a:chExt cx="6000120" cy="1382760"/>
          </a:xfrm>
        </p:grpSpPr>
        <p:grpSp>
          <p:nvGrpSpPr>
            <p:cNvPr id="143" name=""/>
            <p:cNvGrpSpPr/>
            <p:nvPr/>
          </p:nvGrpSpPr>
          <p:grpSpPr>
            <a:xfrm>
              <a:off x="1771560" y="3798720"/>
              <a:ext cx="2011680" cy="1379520"/>
              <a:chOff x="1771560" y="3798720"/>
              <a:chExt cx="2011680" cy="1379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1560" y="3798720"/>
                <a:ext cx="2011680" cy="13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771560" y="3798720"/>
                <a:ext cx="2011680" cy="137952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735720" y="3798720"/>
              <a:ext cx="2011680" cy="1379520"/>
              <a:chOff x="3735720" y="3798720"/>
              <a:chExt cx="2011680" cy="137952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5720" y="3798720"/>
                <a:ext cx="2011680" cy="13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735720" y="3798720"/>
                <a:ext cx="2011680" cy="137952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745960" y="3798720"/>
              <a:ext cx="2025720" cy="1382760"/>
              <a:chOff x="5745960" y="3798720"/>
              <a:chExt cx="2025720" cy="1382760"/>
            </a:xfrm>
          </p:grpSpPr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61440" y="3798720"/>
                <a:ext cx="2010240" cy="13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45960" y="3798720"/>
                <a:ext cx="2010240" cy="138276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1808280" y="5257800"/>
            <a:ext cx="5964120" cy="1509840"/>
            <a:chOff x="1808280" y="5257800"/>
            <a:chExt cx="5964120" cy="1509840"/>
          </a:xfrm>
        </p:grpSpPr>
        <p:grpSp>
          <p:nvGrpSpPr>
            <p:cNvPr id="153" name=""/>
            <p:cNvGrpSpPr/>
            <p:nvPr/>
          </p:nvGrpSpPr>
          <p:grpSpPr>
            <a:xfrm>
              <a:off x="1808280" y="5257800"/>
              <a:ext cx="2008080" cy="1509840"/>
              <a:chOff x="1808280" y="5257800"/>
              <a:chExt cx="2008080" cy="15098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8280" y="5257800"/>
                <a:ext cx="2008080" cy="15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1808280" y="5257800"/>
                <a:ext cx="2008080" cy="150984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772080" y="5257800"/>
              <a:ext cx="2008080" cy="1506600"/>
              <a:chOff x="3772080" y="5257800"/>
              <a:chExt cx="2008080" cy="1506600"/>
            </a:xfrm>
          </p:grpSpPr>
          <p:pic>
            <p:nvPicPr>
              <p:cNvPr id="1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72080" y="5257800"/>
                <a:ext cx="2008080" cy="15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3772080" y="5257800"/>
                <a:ext cx="2008080" cy="150660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767560" y="5257800"/>
              <a:ext cx="2004840" cy="1506600"/>
              <a:chOff x="5767560" y="5257800"/>
              <a:chExt cx="2004840" cy="1506600"/>
            </a:xfrm>
          </p:grpSpPr>
          <p:pic>
            <p:nvPicPr>
              <p:cNvPr id="16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67560" y="5257800"/>
                <a:ext cx="2004840" cy="15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767560" y="5257800"/>
                <a:ext cx="2004840" cy="150660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is New Cour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yond robot soc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RoboBi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CMPack, break into modular robot “bi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the CMRoboBits within a concrete rob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B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ly available to the public since June’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 hardware, modular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9:05:46Z</dcterms:created>
  <dc:creator>mmv</dc:creator>
  <dc:description/>
  <dc:language>en-US</dc:language>
  <cp:lastModifiedBy>mmv</cp:lastModifiedBy>
  <dcterms:modified xsi:type="dcterms:W3CDTF">2003-09-04T12:53:36Z</dcterms:modified>
  <cp:revision>99</cp:revision>
  <dc:subject/>
  <dc:title>Pick-Up Robot Soccer Teams: Team Cognition in Adversarial Tasks</dc:title>
</cp:coreProperties>
</file>