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CCA-3D18-469B-8130-BF261D70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60F-23C2-4BFA-88F3-AF2FFEA0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0AD-A0BB-42C3-BAC5-19A9908C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11F-BF86-474C-83C4-55E3EC95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71D2-EEFB-43F8-8809-1FEB5D1F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C73D-6BF7-41D8-A0FD-33107E19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0B74-2879-49C8-B0AD-7A536EA9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6934-5777-40B0-8BF6-027E3B2F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465E-AC91-4B19-BC86-9C1EF8E3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5B3-5A2E-4110-80E1-96A97C02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4B49-2C99-4D79-B627-C4CC3633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FC1-E07C-40CC-B9BC-1EBB199A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74B1-ADFF-4EEA-8FBF-81F97702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BCCA-CF63-4DD2-97EA-4E09AE8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9D31-1D14-4869-B827-02B0DC4B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CE46-4078-4C04-8090-DF484A06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789-F361-4CFA-A72D-9D1B6CF6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064-89DD-4AD5-9FEF-543954D6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7BE-0A2B-4D07-8560-9D0C21B4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AA1-AD84-4F7B-90AA-8E5213CE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40B-4458-4693-8722-266EB1AA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5E1-AA6C-48F2-BC31-1B7ACDA1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F87-CC64-419C-BB41-AD0EF526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27C-86B2-4BD9-855C-7149B4AA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9254-4D20-455C-9246-8EDAD7768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265B-7BD5-4E0B-8774-888294717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.cmu.edu/~coral" TargetMode="External"/><Relationship Id="rId2" Type="http://schemas.openxmlformats.org/officeDocument/2006/relationships/hyperlink" Target="http://www.cs.cmu.edu/~coral" TargetMode="External"/><Relationship Id="rId3" Type="http://schemas.openxmlformats.org/officeDocument/2006/relationships/hyperlink" Target="http://www.cs.cmu.edu/~coral" TargetMode="External"/><Relationship Id="rId4" Type="http://schemas.openxmlformats.org/officeDocument/2006/relationships/hyperlink" Target="http://www.cs.cmu.edu/~coral" TargetMode="External"/><Relationship Id="rId5" Type="http://schemas.openxmlformats.org/officeDocument/2006/relationships/hyperlink" Target="http://www.cs.cmu.edu/~coral" TargetMode="External"/><Relationship Id="rId6" Type="http://schemas.openxmlformats.org/officeDocument/2006/relationships/hyperlink" Target="http://www.cs.cmu.edu/~coral" TargetMode="External"/><Relationship Id="rId7" Type="http://schemas.openxmlformats.org/officeDocument/2006/relationships/hyperlink" Target="http://www.cs.cmu.edu/~coral" TargetMode="External"/><Relationship Id="rId8" Type="http://schemas.openxmlformats.org/officeDocument/2006/relationships/hyperlink" Target="http://www.robocup.org/" TargetMode="External"/><Relationship Id="rId9" Type="http://schemas.openxmlformats.org/officeDocument/2006/relationships/hyperlink" Target="http://openr.aibo.com/" TargetMode="External"/><Relationship Id="rId10" Type="http://schemas.openxmlformats.org/officeDocument/2006/relationships/hyperlink" Target="http://www.cs.cmu.edu/~tekkotsu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RoboBits: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ating an Intelligent AIBO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s: Prof. Manuela Veloso &amp; Scott Len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: Douglas Vail &amp; Nick Aiwaz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ther Support: Dr. Paul Rybski, Sonia Cher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-491, Fall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andrew.cmu.edu/course/15-4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Science Depar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arnegie Mel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yllab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-robot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valu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ekly home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s-on lab work with the AIBO rob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also include written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meworks: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l project: 2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s of 2 or 3 students: each student in the group must be fully responsible for each ho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ources and Rea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ings and videos are available at: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cmu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7"/>
              </a:rPr>
              <a:t>/~co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BOs are being used widely in RoboCup: 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8"/>
              </a:rPr>
              <a:t>http://www.robocup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penR Web page has a lot of information: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9"/>
              </a:rPr>
              <a:t>http://openr.aibo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kotsu is a serious effort to build an API for the AIBOs: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Times New Roman"/>
                <a:hlinkClick r:id="rId10"/>
              </a:rPr>
              <a:t>http://www.cs.cmu.edu/~tekkot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oralbanner3" descr=""/>
          <p:cNvPicPr/>
          <p:nvPr/>
        </p:nvPicPr>
        <p:blipFill>
          <a:blip r:embed="rId11"/>
          <a:stretch/>
        </p:blipFill>
        <p:spPr>
          <a:xfrm>
            <a:off x="152280" y="2438280"/>
            <a:ext cx="876312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This New Cour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robot soccer experienc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: since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ersified: simulation, small-size, Sony 4-leg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work, frustration, fun, struggle, su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T learned 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029200"/>
            <a:ext cx="8381880" cy="532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reating teams of complete intelligent rob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gged Robot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arkable hardware - SONY AIBO rob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Sony_Robot_Dog-ball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4495680" cy="2697120"/>
          </a:xfrm>
          <a:prstGeom prst="rect">
            <a:avLst/>
          </a:prstGeom>
          <a:ln w="0">
            <a:noFill/>
          </a:ln>
        </p:spPr>
      </p:pic>
      <p:pic>
        <p:nvPicPr>
          <p:cNvPr id="96" name="Sonydogs_1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58128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lligent Complete Robo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91320" y="2590920"/>
            <a:ext cx="2479680" cy="1044360"/>
            <a:chOff x="5791320" y="2590920"/>
            <a:chExt cx="2479680" cy="1044360"/>
          </a:xfrm>
        </p:grpSpPr>
        <p:sp>
          <p:nvSpPr>
            <p:cNvPr id="99" name=""/>
            <p:cNvSpPr/>
            <p:nvPr/>
          </p:nvSpPr>
          <p:spPr>
            <a:xfrm>
              <a:off x="6386400" y="2590920"/>
              <a:ext cx="1359000" cy="10443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2971440"/>
              <a:ext cx="247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Verdana"/>
                </a:rPr>
                <a:t>A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0" y="4038480"/>
            <a:ext cx="1295280" cy="52236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6052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Per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loud"/>
          <p:cNvSpPr/>
          <p:nvPr/>
        </p:nvSpPr>
        <p:spPr>
          <a:xfrm>
            <a:off x="1523880" y="4854600"/>
            <a:ext cx="6077160" cy="78408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rnal Wor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3962520"/>
            <a:ext cx="1200240" cy="52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580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5040" y="4572000"/>
            <a:ext cx="639720" cy="262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25520" y="4572000"/>
            <a:ext cx="800280" cy="34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43600" y="4572000"/>
            <a:ext cx="479520" cy="262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083000" y="4572000"/>
            <a:ext cx="560520" cy="3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322760" y="4572000"/>
            <a:ext cx="63972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98800" y="2590920"/>
            <a:ext cx="1359000" cy="104436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Cogn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752480" y="365724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124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36576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utonom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ce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ng, modeling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iors, action selection, planning,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-robot coordination, 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to opponent, multi-agent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on, navigation, obstacle avoid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ception: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-time and robu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calib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red blobs  identified as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comp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VISION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7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gnition: Behavi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819520"/>
            <a:ext cx="175248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819520"/>
            <a:ext cx="175248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343400"/>
            <a:ext cx="175284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1676520"/>
            <a:ext cx="175284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09680" y="213336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209680"/>
            <a:ext cx="15238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971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00600" y="29718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99120" y="19051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4920" y="4038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to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8440" y="32004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99520" y="320040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3920" y="20574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6920" y="4724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3480" y="47242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next to 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4191120"/>
            <a:ext cx="1981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133360" y="4190760"/>
            <a:ext cx="144756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33760" y="4114800"/>
            <a:ext cx="15238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: Mo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-legged w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 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ing, ki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71560" y="3798720"/>
            <a:ext cx="6000120" cy="1382760"/>
            <a:chOff x="1771560" y="3798720"/>
            <a:chExt cx="6000120" cy="1382760"/>
          </a:xfrm>
        </p:grpSpPr>
        <p:grpSp>
          <p:nvGrpSpPr>
            <p:cNvPr id="143" name=""/>
            <p:cNvGrpSpPr/>
            <p:nvPr/>
          </p:nvGrpSpPr>
          <p:grpSpPr>
            <a:xfrm>
              <a:off x="1771560" y="3798720"/>
              <a:ext cx="2011680" cy="1379520"/>
              <a:chOff x="1771560" y="3798720"/>
              <a:chExt cx="2011680" cy="13795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1560" y="3798720"/>
                <a:ext cx="2011680" cy="13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771560" y="3798720"/>
                <a:ext cx="2011680" cy="137952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735720" y="3798720"/>
              <a:ext cx="2011680" cy="1379520"/>
              <a:chOff x="3735720" y="3798720"/>
              <a:chExt cx="2011680" cy="1379520"/>
            </a:xfrm>
          </p:grpSpPr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5720" y="3798720"/>
                <a:ext cx="2011680" cy="13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3735720" y="3798720"/>
                <a:ext cx="2011680" cy="137952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745960" y="3798720"/>
              <a:ext cx="2025720" cy="1382760"/>
              <a:chOff x="5745960" y="3798720"/>
              <a:chExt cx="2025720" cy="1382760"/>
            </a:xfrm>
          </p:grpSpPr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61440" y="3798720"/>
                <a:ext cx="2010240" cy="13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5745960" y="3798720"/>
                <a:ext cx="2010240" cy="138276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1808280" y="5257800"/>
            <a:ext cx="5964120" cy="1509840"/>
            <a:chOff x="1808280" y="5257800"/>
            <a:chExt cx="5964120" cy="1509840"/>
          </a:xfrm>
        </p:grpSpPr>
        <p:grpSp>
          <p:nvGrpSpPr>
            <p:cNvPr id="153" name=""/>
            <p:cNvGrpSpPr/>
            <p:nvPr/>
          </p:nvGrpSpPr>
          <p:grpSpPr>
            <a:xfrm>
              <a:off x="1808280" y="5257800"/>
              <a:ext cx="2008080" cy="1509840"/>
              <a:chOff x="1808280" y="5257800"/>
              <a:chExt cx="2008080" cy="15098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8280" y="5257800"/>
                <a:ext cx="2008080" cy="15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1808280" y="5257800"/>
                <a:ext cx="2008080" cy="150984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772080" y="5257800"/>
              <a:ext cx="2008080" cy="1506600"/>
              <a:chOff x="3772080" y="5257800"/>
              <a:chExt cx="2008080" cy="1506600"/>
            </a:xfrm>
          </p:grpSpPr>
          <p:pic>
            <p:nvPicPr>
              <p:cNvPr id="1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72080" y="5257800"/>
                <a:ext cx="2008080" cy="15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3772080" y="5257800"/>
                <a:ext cx="2008080" cy="150660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767560" y="5257800"/>
              <a:ext cx="2004840" cy="1506600"/>
              <a:chOff x="5767560" y="5257800"/>
              <a:chExt cx="2004840" cy="1506600"/>
            </a:xfrm>
          </p:grpSpPr>
          <p:pic>
            <p:nvPicPr>
              <p:cNvPr id="16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67560" y="5257800"/>
                <a:ext cx="2004840" cy="150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5767560" y="5257800"/>
                <a:ext cx="2004840" cy="1506600"/>
              </a:xfrm>
              <a:prstGeom prst="roundRect">
                <a:avLst>
                  <a:gd name="adj" fmla="val 102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is New Cours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yond robot soc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RoboBit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CMPack, break into modular robot “bi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the CMRoboBits within a concrete rob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B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ly available to the public since June’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ust hardware, modular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9:05:46Z</dcterms:created>
  <dc:creator>mmv</dc:creator>
  <dc:description/>
  <dc:language>en-US</dc:language>
  <cp:lastModifiedBy>mmv</cp:lastModifiedBy>
  <dcterms:modified xsi:type="dcterms:W3CDTF">2003-09-04T12:53:36Z</dcterms:modified>
  <cp:revision>99</cp:revision>
  <dc:subject/>
  <dc:title>Pick-Up Robot Soccer Teams: Team Cognition in Adversarial Tasks</dc:title>
</cp:coreProperties>
</file>