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AutoShape 1"/>
          <p:cNvSpPr/>
          <p:nvPr/>
        </p:nvSpPr>
        <p:spPr>
          <a:xfrm>
            <a:off x="0" y="0"/>
            <a:ext cx="6985080" cy="9283680"/>
          </a:xfrm>
          <a:custGeom>
            <a:avLst/>
            <a:gdLst>
              <a:gd name="textAreaLeft" fmla="*/ 360 w 6985080"/>
              <a:gd name="textAreaRight" fmla="*/ 6984720 w 69850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08">
                <a:moveTo>
                  <a:pt x="5" y="0"/>
                </a:moveTo>
                <a:arcTo wR="5" hR="5" stAng="16200000" swAng="-5400000"/>
                <a:lnTo>
                  <a:pt x="0" y="28703"/>
                </a:lnTo>
                <a:arcTo wR="5" hR="5" stAng="10800000" swAng="-5400000"/>
                <a:lnTo>
                  <a:pt x="21595" y="2870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AutoShape 2"/>
          <p:cNvSpPr/>
          <p:nvPr/>
        </p:nvSpPr>
        <p:spPr>
          <a:xfrm>
            <a:off x="0" y="0"/>
            <a:ext cx="6985080" cy="9283680"/>
          </a:xfrm>
          <a:custGeom>
            <a:avLst/>
            <a:gdLst>
              <a:gd name="textAreaLeft" fmla="*/ 360 w 6985080"/>
              <a:gd name="textAreaRight" fmla="*/ 6984720 w 69850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08">
                <a:moveTo>
                  <a:pt x="5" y="0"/>
                </a:moveTo>
                <a:arcTo wR="5" hR="5" stAng="16200000" swAng="-5400000"/>
                <a:lnTo>
                  <a:pt x="0" y="28703"/>
                </a:lnTo>
                <a:arcTo wR="5" hR="5" stAng="10800000" swAng="-5400000"/>
                <a:lnTo>
                  <a:pt x="21595" y="2870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AutoShape 3"/>
          <p:cNvSpPr/>
          <p:nvPr/>
        </p:nvSpPr>
        <p:spPr>
          <a:xfrm>
            <a:off x="0" y="0"/>
            <a:ext cx="6985080" cy="9283680"/>
          </a:xfrm>
          <a:custGeom>
            <a:avLst/>
            <a:gdLst>
              <a:gd name="textAreaLeft" fmla="*/ 360 w 6985080"/>
              <a:gd name="textAreaRight" fmla="*/ 6984720 w 69850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08">
                <a:moveTo>
                  <a:pt x="5" y="0"/>
                </a:moveTo>
                <a:arcTo wR="5" hR="5" stAng="16200000" swAng="-5400000"/>
                <a:lnTo>
                  <a:pt x="0" y="28703"/>
                </a:lnTo>
                <a:arcTo wR="5" hR="5" stAng="10800000" swAng="-5400000"/>
                <a:lnTo>
                  <a:pt x="21595" y="2870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0" y="0"/>
            <a:ext cx="6985080" cy="9283680"/>
          </a:xfrm>
          <a:custGeom>
            <a:avLst/>
            <a:gdLst>
              <a:gd name="textAreaLeft" fmla="*/ 360 w 6985080"/>
              <a:gd name="textAreaRight" fmla="*/ 6984720 w 69850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08">
                <a:moveTo>
                  <a:pt x="5" y="0"/>
                </a:moveTo>
                <a:arcTo wR="5" hR="5" stAng="16200000" swAng="-5400000"/>
                <a:lnTo>
                  <a:pt x="0" y="28703"/>
                </a:lnTo>
                <a:arcTo wR="5" hR="5" stAng="10800000" swAng="-5400000"/>
                <a:lnTo>
                  <a:pt x="21595" y="2870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0" y="0"/>
            <a:ext cx="6986520" cy="9283680"/>
          </a:xfrm>
          <a:custGeom>
            <a:avLst/>
            <a:gdLst>
              <a:gd name="textAreaLeft" fmla="*/ 360 w 6986520"/>
              <a:gd name="textAreaRight" fmla="*/ 6986160 w 698652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02">
                <a:moveTo>
                  <a:pt x="5" y="0"/>
                </a:moveTo>
                <a:arcTo wR="5" hR="5" stAng="16200000" swAng="-5400000"/>
                <a:lnTo>
                  <a:pt x="0" y="28697"/>
                </a:lnTo>
                <a:arcTo wR="5" hR="5" stAng="10800000" swAng="-5400000"/>
                <a:lnTo>
                  <a:pt x="21595" y="2870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946080" y="701640"/>
            <a:ext cx="5092920" cy="3468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1812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-13926960" y="-11055240"/>
            <a:ext cx="15671520" cy="117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70000" y="704880"/>
            <a:ext cx="4643280" cy="34812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, Fire, Wind,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tar: the Last Airb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70000" y="704880"/>
            <a:ext cx="4643280" cy="34812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Boeing project is going to work on hand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70000" y="704880"/>
            <a:ext cx="4643280" cy="34812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panese alphabet name: “a-e-i-o-u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70000" y="704880"/>
            <a:ext cx="4643280" cy="34812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tal letters usually located in the upper tray of the printer’s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cameral” – for clar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70000" y="704880"/>
            <a:ext cx="4643280" cy="34812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gus”, “Kullane”, “D-L” (was a “y” sou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waiian “l” vs “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70000" y="704880"/>
            <a:ext cx="4643280" cy="3481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sailles, Dubois, Presque Is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70000" y="704880"/>
            <a:ext cx="4643280" cy="34812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gmentative and Alternative Communication”/Assistive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minspeak.com/CoreVocabulary.php#.VGSLdlfF_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issymbols: words do not correspond to any one language’s phonetic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to facilitate communication between linguistic communities (multiglot Ukra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ant to go to the cinem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-13928760" y="-11055240"/>
            <a:ext cx="15675120" cy="117554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1812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is a Sweet pot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70000" y="704880"/>
            <a:ext cx="4643280" cy="3481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unicode.org/charts/PDF/U1F300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oji rendered differently in different OS/device/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al interpretations of emotion,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ne carriers, unicode, etc. Gets involved in political and sociological dialogue – why support turban and not black, 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70000" y="704880"/>
            <a:ext cx="4643280" cy="34812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ffrey Sampson, “Writing system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70000" y="704880"/>
            <a:ext cx="4643280" cy="3481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a knotted strings: qui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 spiral of pi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70000" y="704880"/>
            <a:ext cx="4643280" cy="3481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heduanna is one of earliest known female n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9800" y="25200"/>
            <a:ext cx="836136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8280" y="1561680"/>
            <a:ext cx="829800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68280" y="3786480"/>
            <a:ext cx="829800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9800" y="25200"/>
            <a:ext cx="836136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68280" y="1561680"/>
            <a:ext cx="404928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20240" y="1561680"/>
            <a:ext cx="404928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68280" y="3786480"/>
            <a:ext cx="404928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20240" y="3786480"/>
            <a:ext cx="404928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9800" y="25200"/>
            <a:ext cx="836136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8280" y="1561680"/>
            <a:ext cx="267156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3760" y="1561680"/>
            <a:ext cx="267156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79240" y="1561680"/>
            <a:ext cx="267156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8280" y="3786480"/>
            <a:ext cx="267156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3760" y="3786480"/>
            <a:ext cx="267156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79240" y="3786480"/>
            <a:ext cx="267156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9800" y="25200"/>
            <a:ext cx="836136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68280" y="1561680"/>
            <a:ext cx="829800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9800" y="25200"/>
            <a:ext cx="836136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68280" y="1561680"/>
            <a:ext cx="829800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9800" y="25200"/>
            <a:ext cx="836136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68280" y="1561680"/>
            <a:ext cx="404928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20240" y="1561680"/>
            <a:ext cx="404928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9800" y="25200"/>
            <a:ext cx="836136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69800" y="25200"/>
            <a:ext cx="8361360" cy="34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9800" y="25200"/>
            <a:ext cx="836136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8280" y="1561680"/>
            <a:ext cx="404928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0240" y="1561680"/>
            <a:ext cx="404928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68280" y="3786480"/>
            <a:ext cx="404928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9800" y="25200"/>
            <a:ext cx="836136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68280" y="1561680"/>
            <a:ext cx="829800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9800" y="25200"/>
            <a:ext cx="836136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8280" y="1561680"/>
            <a:ext cx="404928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0240" y="1561680"/>
            <a:ext cx="404928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20240" y="3786480"/>
            <a:ext cx="404928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9800" y="25200"/>
            <a:ext cx="836136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8280" y="1561680"/>
            <a:ext cx="404928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0240" y="1561680"/>
            <a:ext cx="404928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68280" y="3786480"/>
            <a:ext cx="829800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9800" y="25200"/>
            <a:ext cx="836136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8280" y="1561680"/>
            <a:ext cx="829800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8280" y="3786480"/>
            <a:ext cx="829800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9800" y="25200"/>
            <a:ext cx="836136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8280" y="1561680"/>
            <a:ext cx="404928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0240" y="1561680"/>
            <a:ext cx="404928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68280" y="3786480"/>
            <a:ext cx="404928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20240" y="3786480"/>
            <a:ext cx="404928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9800" y="25200"/>
            <a:ext cx="836136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8280" y="1561680"/>
            <a:ext cx="267156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73760" y="1561680"/>
            <a:ext cx="267156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79240" y="1561680"/>
            <a:ext cx="267156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68280" y="3786480"/>
            <a:ext cx="267156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73760" y="3786480"/>
            <a:ext cx="267156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79240" y="3786480"/>
            <a:ext cx="267156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9800" y="25200"/>
            <a:ext cx="836136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68280" y="1561680"/>
            <a:ext cx="829800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9800" y="25200"/>
            <a:ext cx="836136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8280" y="1561680"/>
            <a:ext cx="404928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20240" y="1561680"/>
            <a:ext cx="404928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9800" y="25200"/>
            <a:ext cx="836136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9800" y="25200"/>
            <a:ext cx="8361360" cy="34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9800" y="25200"/>
            <a:ext cx="836136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68280" y="1561680"/>
            <a:ext cx="404928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20240" y="1561680"/>
            <a:ext cx="404928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68280" y="3786480"/>
            <a:ext cx="404928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9800" y="25200"/>
            <a:ext cx="836136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8280" y="1561680"/>
            <a:ext cx="404928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20240" y="1561680"/>
            <a:ext cx="404928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20240" y="3786480"/>
            <a:ext cx="404928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9800" y="25200"/>
            <a:ext cx="836136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8280" y="1561680"/>
            <a:ext cx="404928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0240" y="1561680"/>
            <a:ext cx="404928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68280" y="3786480"/>
            <a:ext cx="829800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0" y="0"/>
            <a:ext cx="9144000" cy="806400"/>
          </a:xfrm>
          <a:prstGeom prst="roundRect">
            <a:avLst>
              <a:gd name="adj" fmla="val 194"/>
            </a:avLst>
          </a:prstGeom>
          <a:gradFill rotWithShape="0">
            <a:gsLst>
              <a:gs pos="0">
                <a:srgbClr val="4a65ea"/>
              </a:gs>
              <a:gs pos="100000">
                <a:srgbClr val="dfe4f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Line 2"/>
          <p:cNvSpPr/>
          <p:nvPr/>
        </p:nvSpPr>
        <p:spPr>
          <a:xfrm>
            <a:off x="0" y="800280"/>
            <a:ext cx="9144000" cy="14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9800" y="25200"/>
            <a:ext cx="836136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68280" y="1561680"/>
            <a:ext cx="829800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71400" y="1906200"/>
            <a:ext cx="780120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1"/>
          <p:cNvSpPr/>
          <p:nvPr/>
        </p:nvSpPr>
        <p:spPr>
          <a:xfrm>
            <a:off x="851040" y="2558880"/>
            <a:ext cx="8189640" cy="84240"/>
          </a:xfrm>
          <a:prstGeom prst="roundRect">
            <a:avLst>
              <a:gd name="adj" fmla="val 1921"/>
            </a:avLst>
          </a:prstGeom>
          <a:gradFill rotWithShape="0">
            <a:gsLst>
              <a:gs pos="0">
                <a:srgbClr val="f2f6fb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AutoShape 2"/>
          <p:cNvSpPr/>
          <p:nvPr/>
        </p:nvSpPr>
        <p:spPr>
          <a:xfrm>
            <a:off x="177840" y="228600"/>
            <a:ext cx="74520" cy="5803920"/>
          </a:xfrm>
          <a:custGeom>
            <a:avLst/>
            <a:gdLst>
              <a:gd name="textAreaLeft" fmla="*/ 360 w 74520"/>
              <a:gd name="textAreaRight" fmla="*/ 74160 w 74520"/>
              <a:gd name="textAreaTop" fmla="*/ 360 h 5803920"/>
              <a:gd name="textAreaBottom" fmla="*/ 5803560 h 5803920"/>
            </a:gdLst>
            <a:ahLst/>
            <a:rect l="textAreaLeft" t="textAreaTop" r="textAreaRight" b="textAreaBottom"/>
            <a:pathLst>
              <a:path w="21600" h="1674312">
                <a:moveTo>
                  <a:pt x="469" y="0"/>
                </a:moveTo>
                <a:arcTo wR="469" hR="469" stAng="16200000" swAng="-5400000"/>
                <a:lnTo>
                  <a:pt x="0" y="1673843"/>
                </a:lnTo>
                <a:arcTo wR="469" hR="469" stAng="10800000" swAng="-5400000"/>
                <a:lnTo>
                  <a:pt x="21131" y="1674312"/>
                </a:lnTo>
                <a:arcTo wR="469" hR="469" stAng="5400000" swAng="-5400000"/>
                <a:lnTo>
                  <a:pt x="21600" y="469"/>
                </a:lnTo>
                <a:arcTo wR="469" hR="469" stAng="0" swAng="-5400000"/>
                <a:close/>
              </a:path>
            </a:pathLst>
          </a:custGeom>
          <a:gradFill rotWithShape="0">
            <a:gsLst>
              <a:gs pos="0">
                <a:srgbClr val="0066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AutoShape 3"/>
          <p:cNvSpPr/>
          <p:nvPr/>
        </p:nvSpPr>
        <p:spPr>
          <a:xfrm>
            <a:off x="495360" y="641520"/>
            <a:ext cx="74520" cy="5168880"/>
          </a:xfrm>
          <a:custGeom>
            <a:avLst/>
            <a:gdLst>
              <a:gd name="textAreaLeft" fmla="*/ 360 w 74520"/>
              <a:gd name="textAreaRight" fmla="*/ 74160 w 74520"/>
              <a:gd name="textAreaTop" fmla="*/ 360 h 5168880"/>
              <a:gd name="textAreaBottom" fmla="*/ 5168520 h 5168880"/>
            </a:gdLst>
            <a:ahLst/>
            <a:rect l="textAreaLeft" t="textAreaTop" r="textAreaRight" b="textAreaBottom"/>
            <a:pathLst>
              <a:path w="21600" h="1491127">
                <a:moveTo>
                  <a:pt x="469" y="0"/>
                </a:moveTo>
                <a:arcTo wR="469" hR="469" stAng="16200000" swAng="-5400000"/>
                <a:lnTo>
                  <a:pt x="0" y="1490658"/>
                </a:lnTo>
                <a:arcTo wR="469" hR="469" stAng="10800000" swAng="-5400000"/>
                <a:lnTo>
                  <a:pt x="21131" y="1491127"/>
                </a:lnTo>
                <a:arcTo wR="469" hR="469" stAng="5400000" swAng="-5400000"/>
                <a:lnTo>
                  <a:pt x="21600" y="469"/>
                </a:lnTo>
                <a:arcTo wR="469" hR="469" stAng="0" swAng="-5400000"/>
                <a:close/>
              </a:path>
            </a:pathLst>
          </a:custGeom>
          <a:gradFill rotWithShape="0">
            <a:gsLst>
              <a:gs pos="0">
                <a:srgbClr val="0066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800280" y="939960"/>
            <a:ext cx="74520" cy="4572000"/>
          </a:xfrm>
          <a:custGeom>
            <a:avLst/>
            <a:gdLst>
              <a:gd name="textAreaLeft" fmla="*/ 360 w 74520"/>
              <a:gd name="textAreaRight" fmla="*/ 74160 w 74520"/>
              <a:gd name="textAreaTop" fmla="*/ 360 h 4572000"/>
              <a:gd name="textAreaBottom" fmla="*/ 4571640 h 4572000"/>
            </a:gdLst>
            <a:ahLst/>
            <a:rect l="textAreaLeft" t="textAreaTop" r="textAreaRight" b="textAreaBottom"/>
            <a:pathLst>
              <a:path w="21600" h="1318950">
                <a:moveTo>
                  <a:pt x="469" y="0"/>
                </a:moveTo>
                <a:arcTo wR="469" hR="469" stAng="16200000" swAng="-5400000"/>
                <a:lnTo>
                  <a:pt x="0" y="1318481"/>
                </a:lnTo>
                <a:arcTo wR="469" hR="469" stAng="10800000" swAng="-5400000"/>
                <a:lnTo>
                  <a:pt x="21131" y="1318950"/>
                </a:lnTo>
                <a:arcTo wR="469" hR="469" stAng="5400000" swAng="-5400000"/>
                <a:lnTo>
                  <a:pt x="21600" y="469"/>
                </a:lnTo>
                <a:arcTo wR="469" hR="469" stAng="0" swAng="-5400000"/>
                <a:close/>
              </a:path>
            </a:pathLst>
          </a:custGeom>
          <a:gradFill rotWithShape="0">
            <a:gsLst>
              <a:gs pos="0">
                <a:srgbClr val="0066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1066680"/>
            <a:ext cx="8229600" cy="13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minar on Endangered Languages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6"/>
          <p:cNvSpPr/>
          <p:nvPr/>
        </p:nvSpPr>
        <p:spPr>
          <a:xfrm>
            <a:off x="330120" y="457200"/>
            <a:ext cx="87480" cy="5397480"/>
          </a:xfrm>
          <a:custGeom>
            <a:avLst/>
            <a:gdLst>
              <a:gd name="textAreaLeft" fmla="*/ 360 w 87480"/>
              <a:gd name="textAreaRight" fmla="*/ 87120 w 87480"/>
              <a:gd name="textAreaTop" fmla="*/ 360 h 5397480"/>
              <a:gd name="textAreaBottom" fmla="*/ 5397120 h 5397480"/>
            </a:gdLst>
            <a:ahLst/>
            <a:rect l="textAreaLeft" t="textAreaTop" r="textAreaRight" b="textAreaBottom"/>
            <a:pathLst>
              <a:path w="21600" h="1327338">
                <a:moveTo>
                  <a:pt x="400" y="0"/>
                </a:moveTo>
                <a:arcTo wR="400" hR="400" stAng="16200000" swAng="-5400000"/>
                <a:lnTo>
                  <a:pt x="0" y="1326938"/>
                </a:lnTo>
                <a:arcTo wR="400" hR="400" stAng="10800000" swAng="-5400000"/>
                <a:lnTo>
                  <a:pt x="21200" y="1327338"/>
                </a:lnTo>
                <a:arcTo wR="400" hR="400" stAng="5400000" swAng="-5400000"/>
                <a:lnTo>
                  <a:pt x="21600" y="400"/>
                </a:lnTo>
                <a:arcTo wR="400" hR="400" stAng="0" swAng="-5400000"/>
                <a:close/>
              </a:path>
            </a:pathLst>
          </a:custGeom>
          <a:gradFill rotWithShape="0">
            <a:gsLst>
              <a:gs pos="0">
                <a:srgbClr val="0066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647640" y="774720"/>
            <a:ext cx="74520" cy="4876920"/>
          </a:xfrm>
          <a:custGeom>
            <a:avLst/>
            <a:gdLst>
              <a:gd name="textAreaLeft" fmla="*/ 360 w 74520"/>
              <a:gd name="textAreaRight" fmla="*/ 74160 w 74520"/>
              <a:gd name="textAreaTop" fmla="*/ 360 h 4876920"/>
              <a:gd name="textAreaBottom" fmla="*/ 4876560 h 4876920"/>
            </a:gdLst>
            <a:ahLst/>
            <a:rect l="textAreaLeft" t="textAreaTop" r="textAreaRight" b="textAreaBottom"/>
            <a:pathLst>
              <a:path w="21600" h="1406908">
                <a:moveTo>
                  <a:pt x="469" y="0"/>
                </a:moveTo>
                <a:arcTo wR="469" hR="469" stAng="16200000" swAng="-5400000"/>
                <a:lnTo>
                  <a:pt x="0" y="1406439"/>
                </a:lnTo>
                <a:arcTo wR="469" hR="469" stAng="10800000" swAng="-5400000"/>
                <a:lnTo>
                  <a:pt x="21131" y="1406908"/>
                </a:lnTo>
                <a:arcTo wR="469" hR="469" stAng="5400000" swAng="-5400000"/>
                <a:lnTo>
                  <a:pt x="21600" y="469"/>
                </a:lnTo>
                <a:arcTo wR="469" hR="469" stAng="0" swAng="-5400000"/>
                <a:close/>
              </a:path>
            </a:pathLst>
          </a:custGeom>
          <a:gradFill rotWithShape="0">
            <a:gsLst>
              <a:gs pos="0">
                <a:srgbClr val="0066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143000" y="3276720"/>
            <a:ext cx="7162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riting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9800" y="25560"/>
            <a:ext cx="8367840" cy="7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cript can become stylized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7920" y="1561680"/>
            <a:ext cx="83041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639720" y="2560680"/>
            <a:ext cx="1333440" cy="1504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2"/>
          <a:stretch/>
        </p:blipFill>
        <p:spPr>
          <a:xfrm>
            <a:off x="2193840" y="2560680"/>
            <a:ext cx="1279440" cy="1554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3"/>
          <a:stretch/>
        </p:blipFill>
        <p:spPr>
          <a:xfrm>
            <a:off x="3749760" y="2560680"/>
            <a:ext cx="1631880" cy="1571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4"/>
          <a:stretch/>
        </p:blipFill>
        <p:spPr>
          <a:xfrm>
            <a:off x="5668920" y="2560680"/>
            <a:ext cx="1554120" cy="15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9800" y="25560"/>
            <a:ext cx="8367840" cy="7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cript can become stylized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67920" y="1562040"/>
            <a:ext cx="830412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SimSun"/>
              </a:rPr>
              <a:t>土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SimSun"/>
              </a:rPr>
              <a:t>火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SimSun"/>
              </a:rPr>
              <a:t>水       風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639720" y="2560680"/>
            <a:ext cx="1333440" cy="1504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2193840" y="2560680"/>
            <a:ext cx="1279440" cy="1554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3"/>
          <a:stretch/>
        </p:blipFill>
        <p:spPr>
          <a:xfrm>
            <a:off x="3749760" y="2560680"/>
            <a:ext cx="1631880" cy="1571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4"/>
          <a:stretch/>
        </p:blipFill>
        <p:spPr>
          <a:xfrm>
            <a:off x="5668920" y="2560680"/>
            <a:ext cx="1554120" cy="15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9800" y="25560"/>
            <a:ext cx="8367840" cy="7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tylized Decorativ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67920" y="1561680"/>
            <a:ext cx="8304120" cy="58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2176560" y="1279440"/>
            <a:ext cx="4316400" cy="55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9800" y="25560"/>
            <a:ext cx="8367840" cy="7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tylized not so decorativ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67920" y="1561680"/>
            <a:ext cx="8304120" cy="58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2000160" y="1479600"/>
            <a:ext cx="5181840" cy="39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9800" y="25560"/>
            <a:ext cx="8367840" cy="7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lphabetic Order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096560"/>
            <a:ext cx="8304120" cy="593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80000"/>
              </a:lnSpc>
              <a:spcBef>
                <a:spcPts val="799"/>
              </a:spcBef>
              <a:buClr>
                <a:srgbClr val="4a65ea"/>
              </a:buClr>
              <a:buSzPct val="75000"/>
              <a:buFont typeface="Monotype Sorts" charset="2"/>
              <a:buChar char="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 does this occur?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ll its the order of the alphabe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honetic (ish) Ordering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y tables (Sanskrit, Japanese Kana)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4a65ea"/>
              </a:buClr>
              <a:buSzPct val="75000"/>
              <a:buFont typeface="Monotype Sorts" charset="2"/>
              <a:buChar char="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y unicode/ascii order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That came later)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4a65ea"/>
              </a:buClr>
              <a:buSzPct val="75000"/>
              <a:buFont typeface="Monotype Sorts" charset="2"/>
              <a:buChar char="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y order of the stars/King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9800" y="25560"/>
            <a:ext cx="8367840" cy="7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Writing Distinction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096560"/>
            <a:ext cx="8304120" cy="593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80000"/>
              </a:lnSpc>
              <a:spcBef>
                <a:spcPts val="799"/>
              </a:spcBef>
              <a:buClr>
                <a:srgbClr val="4a65ea"/>
              </a:buClr>
              <a:buSzPct val="75000"/>
              <a:buFont typeface="Monotype Sorts" charset="2"/>
              <a:buChar char="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pper and Lower Cas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se was the printer's cas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why do European languages have this)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4a65ea"/>
              </a:buClr>
              <a:buSzPct val="75000"/>
              <a:buFont typeface="Monotype Sorts" charset="2"/>
              <a:buChar char="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nguage origin spelling artifact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h and gh in English (Greek, Germanic)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lent initial w and k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ales vs Whal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apanese (Kanji, Hiragana, Katakana)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spcBef>
                <a:spcPts val="7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9800" y="25560"/>
            <a:ext cx="8367840" cy="7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Writing causes Standardiz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31560" y="975960"/>
            <a:ext cx="8304120" cy="63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80000"/>
              </a:lnSpc>
              <a:spcBef>
                <a:spcPts val="799"/>
              </a:spcBef>
              <a:buClr>
                <a:srgbClr val="4a65ea"/>
              </a:buClr>
              <a:buSzPct val="75000"/>
              <a:buFont typeface="Monotype Sorts" charset="2"/>
              <a:buChar char="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moval of previously supported lett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4a65ea"/>
              </a:buClr>
              <a:buSzPct val="75000"/>
              <a:buFont typeface="Monotype Sorts" charset="2"/>
              <a:buChar char="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e Olde …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Þ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deleted from alphabet so replaced with y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 “Ye” is still pronounced “the”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4a65ea"/>
              </a:buClr>
              <a:buSzPct val="75000"/>
              <a:buFont typeface="Monotype Sorts" charset="2"/>
              <a:buChar char="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nzies, Culzean, Dalzell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Ȝ deleted from alphabet so replaced with z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mostly old Scots names)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4a65ea"/>
              </a:buClr>
              <a:buSzPct val="75000"/>
              <a:buFont typeface="Monotype Sorts" charset="2"/>
              <a:buChar char="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ften printing encourages more standardization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Æ, ß (“f” in English and ss in German)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4a65ea"/>
              </a:buClr>
              <a:buSzPct val="75000"/>
              <a:buFont typeface="Monotype Sorts" charset="2"/>
              <a:buChar char="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ut new letters too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@ &amp; %  (its about taxes again)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9800" y="25560"/>
            <a:ext cx="8367840" cy="7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Writing causes Standardiz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31560" y="975960"/>
            <a:ext cx="8304120" cy="593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80000"/>
              </a:lnSpc>
              <a:spcBef>
                <a:spcPts val="799"/>
              </a:spcBef>
              <a:buClr>
                <a:srgbClr val="4a65ea"/>
              </a:buClr>
              <a:buSzPct val="75000"/>
              <a:buFont typeface="Monotype Sorts" charset="2"/>
              <a:buChar char="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moves dialectal variation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ail vs gaol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uppence, thruppenc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4a65ea"/>
              </a:buClr>
              <a:buSzPct val="75000"/>
              <a:buFont typeface="Monotype Sorts" charset="2"/>
              <a:buChar char="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ack correction of pronuncia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ehead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wry, indictment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9800" y="25560"/>
            <a:ext cx="8367840" cy="7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onstructed Writing System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778040" y="1504800"/>
            <a:ext cx="5384880" cy="26290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382680" y="4648320"/>
            <a:ext cx="83041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4800" indent="-334800">
              <a:lnSpc>
                <a:spcPct val="80000"/>
              </a:lnSpc>
              <a:spcBef>
                <a:spcPts val="799"/>
              </a:spcBef>
              <a:buClr>
                <a:srgbClr val="4a65ea"/>
              </a:buClr>
              <a:buFont typeface="Monotype Sorts" charset="2"/>
              <a:buChar char="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ng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484280" indent="-56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Phonetically def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484280" indent="-56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Configurable bloc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484280" indent="-56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11,172 mathematical possibilities</a:t>
            </a:r>
            <a:r>
              <a:rPr b="0" i="1" lang="ko-KR" sz="2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ource: wikipedia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1" descr=""/>
          <p:cNvPicPr/>
          <p:nvPr/>
        </p:nvPicPr>
        <p:blipFill>
          <a:blip r:embed="rId2"/>
          <a:stretch/>
        </p:blipFill>
        <p:spPr>
          <a:xfrm>
            <a:off x="5711760" y="4267080"/>
            <a:ext cx="32799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9800" y="25560"/>
            <a:ext cx="8367840" cy="7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ew” writing system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67920" y="1561680"/>
            <a:ext cx="830412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80000"/>
              </a:lnSpc>
              <a:spcBef>
                <a:spcPts val="799"/>
              </a:spcBef>
              <a:buClr>
                <a:srgbClr val="4a65ea"/>
              </a:buClr>
              <a:buSzPct val="75000"/>
              <a:buFont typeface="Monotype Sorts" charset="2"/>
              <a:buChar char="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ietnames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p to 19</a:t>
            </a:r>
            <a:r>
              <a:rPr b="0" i="1" lang="en-US" sz="2800" spc="-1" strike="noStrike" baseline="33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Century Hanzi based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laced with Romanization plus diacritic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4a65ea"/>
              </a:buClr>
              <a:buSzPct val="75000"/>
              <a:buFont typeface="Monotype Sorts" charset="2"/>
              <a:buChar char="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aelic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d match (19</a:t>
            </a:r>
            <a:r>
              <a:rPr b="0" i="1" lang="en-US" sz="2800" spc="-1" strike="noStrike" baseline="33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Century) pronuncia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4a65ea"/>
              </a:buClr>
              <a:buSzPct val="75000"/>
              <a:buFont typeface="Monotype Sorts" charset="2"/>
              <a:buChar char="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jibwe (Anishinaabe/Chippewa)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ᓂᔑᓈᐯᒧᐎᓐ (19</a:t>
            </a:r>
            <a:r>
              <a:rPr b="0" lang="en-US" sz="2800" spc="-1" strike="noStrike" baseline="33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ntury)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4a65ea"/>
              </a:buClr>
              <a:buSzPct val="75000"/>
              <a:buFont typeface="Monotype Sorts" charset="2"/>
              <a:buChar char="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al nota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spcBef>
                <a:spcPts val="7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9800" y="25560"/>
            <a:ext cx="8367840" cy="7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Writing System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67920" y="1561680"/>
            <a:ext cx="8304120" cy="55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99"/>
              </a:spcBef>
              <a:buClr>
                <a:srgbClr val="4a65ea"/>
              </a:buClr>
              <a:buSzPct val="75000"/>
              <a:buFont typeface="Monotype Sorts" charset="2"/>
              <a:buChar char="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fferent Writing System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4a65ea"/>
              </a:buClr>
              <a:buSzPct val="75000"/>
              <a:buFont typeface="Monotype Sorts" charset="2"/>
              <a:buChar char="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makes a writing system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4a65ea"/>
              </a:buClr>
              <a:buSzPct val="75000"/>
              <a:buFont typeface="Monotype Sorts" charset="2"/>
              <a:buChar char="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ndardization vs Historical artifact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4a65ea"/>
              </a:buClr>
              <a:buSzPct val="75000"/>
              <a:buFont typeface="Monotype Sorts" charset="2"/>
              <a:buChar char="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structed Writing System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4a65ea"/>
              </a:buClr>
              <a:buSzPct val="75000"/>
              <a:buFont typeface="Monotype Sorts" charset="2"/>
              <a:buChar char="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mputing and its influence on writing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0">
              <a:spcBef>
                <a:spcPts val="7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9800" y="25560"/>
            <a:ext cx="8367840" cy="7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AC Languag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1000" y="1109520"/>
            <a:ext cx="830412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inspeak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issymbol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1332000" y="1736640"/>
            <a:ext cx="6350040" cy="1981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1955880" y="4681440"/>
            <a:ext cx="490212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9800" y="25200"/>
            <a:ext cx="836136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3505320" y="25909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2"/>
          <a:stretch/>
        </p:blipFill>
        <p:spPr>
          <a:xfrm>
            <a:off x="6248520" y="2438280"/>
            <a:ext cx="2082600" cy="2082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3"/>
          <a:stretch/>
        </p:blipFill>
        <p:spPr>
          <a:xfrm>
            <a:off x="609480" y="2514600"/>
            <a:ext cx="241308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9800" y="25560"/>
            <a:ext cx="8367840" cy="7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ontemporary Writing Influenc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67920" y="1562040"/>
            <a:ext cx="83041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80000"/>
              </a:lnSpc>
              <a:spcBef>
                <a:spcPts val="799"/>
              </a:spcBef>
              <a:buClr>
                <a:srgbClr val="4a65ea"/>
              </a:buClr>
              <a:buSzPct val="75000"/>
              <a:buFont typeface="Monotype Sorts" charset="2"/>
              <a:buChar char="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w writing systems emerging from new devices and communication pattern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335160">
              <a:lnSpc>
                <a:spcPct val="80000"/>
              </a:lnSpc>
              <a:spcBef>
                <a:spcPts val="700"/>
              </a:spcBef>
              <a:buClr>
                <a:srgbClr val="4a65ea"/>
              </a:buClr>
              <a:buSzPct val="75000"/>
              <a:buFont typeface="Monotype Sorts" charset="2"/>
              <a:buChar char="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moji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ource: iemoji.com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143000" y="32767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"/>
          <p:cNvPicPr/>
          <p:nvPr/>
        </p:nvPicPr>
        <p:blipFill>
          <a:blip r:embed="rId2"/>
          <a:stretch/>
        </p:blipFill>
        <p:spPr>
          <a:xfrm>
            <a:off x="3505320" y="327672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3"/>
          <a:stretch/>
        </p:blipFill>
        <p:spPr>
          <a:xfrm>
            <a:off x="3505320" y="487692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4"/>
          <a:stretch/>
        </p:blipFill>
        <p:spPr>
          <a:xfrm>
            <a:off x="5867280" y="5029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"/>
          <p:cNvPicPr/>
          <p:nvPr/>
        </p:nvPicPr>
        <p:blipFill>
          <a:blip r:embed="rId5"/>
          <a:stretch/>
        </p:blipFill>
        <p:spPr>
          <a:xfrm>
            <a:off x="1066680" y="49528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/>
          <p:cNvPicPr/>
          <p:nvPr/>
        </p:nvPicPr>
        <p:blipFill>
          <a:blip r:embed="rId6"/>
          <a:stretch/>
        </p:blipFill>
        <p:spPr>
          <a:xfrm>
            <a:off x="5715000" y="32767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9800" y="25560"/>
            <a:ext cx="8367840" cy="7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ontemporary Writing Influenc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67920" y="1562040"/>
            <a:ext cx="830412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80000"/>
              </a:lnSpc>
              <a:spcBef>
                <a:spcPts val="799"/>
              </a:spcBef>
              <a:buClr>
                <a:srgbClr val="4a65ea"/>
              </a:buClr>
              <a:buSzPct val="75000"/>
              <a:buFont typeface="Monotype Sorts" charset="2"/>
              <a:buChar char="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puter/Typewriter influenced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wo spaces” between sentenc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in unicode so can't use i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w symbols :-)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'Labelling' is now 'labeling'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spcBef>
                <a:spcPts val="7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9800" y="25560"/>
            <a:ext cx="8367840" cy="7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ontemporary Writing Influenc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67920" y="1562040"/>
            <a:ext cx="830412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80000"/>
              </a:lnSpc>
              <a:spcBef>
                <a:spcPts val="799"/>
              </a:spcBef>
              <a:buClr>
                <a:srgbClr val="4a65ea"/>
              </a:buClr>
              <a:buSzPct val="75000"/>
              <a:buFont typeface="Monotype Sorts" charset="2"/>
              <a:buChar char="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l input is romanized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ic languag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inese, Japanese use roman as inpu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4a65ea"/>
              </a:buClr>
              <a:buSzPct val="75000"/>
              <a:buFont typeface="Monotype Sorts" charset="2"/>
              <a:buChar char="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ny languages have romanized vers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abizi, Greeklish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omanagari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spcBef>
                <a:spcPts val="7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9800" y="202680"/>
            <a:ext cx="83678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67920" y="1561680"/>
            <a:ext cx="8304120" cy="46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9800" y="25560"/>
            <a:ext cx="8367840" cy="7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ypes of Writing System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67920" y="1562040"/>
            <a:ext cx="83041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99"/>
              </a:spcBef>
              <a:buClr>
                <a:srgbClr val="4a65ea"/>
              </a:buClr>
              <a:buSzPct val="75000"/>
              <a:buFont typeface="Monotype Sorts" charset="2"/>
              <a:buChar char="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pson 1985: “Writing Systems”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gographic systems: Chines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honographic Systems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284560" indent="-4543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yllabic: Linear B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84560" indent="-4543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sonantal: West Semiti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84560" indent="-4543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gmental: Greek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84560" indent="-4543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eatural: Hangu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9800" y="25560"/>
            <a:ext cx="8367840" cy="7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istory of Writing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67920" y="1562040"/>
            <a:ext cx="8304120" cy="44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4a65ea"/>
              </a:buClr>
              <a:buSzPct val="75000"/>
              <a:buFont typeface="Monotype Sorts" charset="2"/>
              <a:buChar char="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arliest writing system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sopotamia around 3200BC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soamerica around 600BC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ina around 1200BC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4a65ea"/>
              </a:buClr>
              <a:buSzPct val="75000"/>
              <a:buFont typeface="Monotype Sorts" charset="2"/>
              <a:buChar char="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ut there is considerable controversy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4a65ea"/>
              </a:buClr>
              <a:buSzPct val="75000"/>
              <a:buFont typeface="Monotype Sorts" charset="2"/>
              <a:buChar char="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re than numb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rkings, counting beads ..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4a65ea"/>
              </a:buClr>
              <a:buSzPct val="75000"/>
              <a:buFont typeface="Monotype Sorts" charset="2"/>
              <a:buChar char="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re than painting pictures/sign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9800" y="25560"/>
            <a:ext cx="8367840" cy="7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Writing Developmen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2320" y="1006200"/>
            <a:ext cx="8304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4a65ea"/>
              </a:buClr>
              <a:buSzPct val="75000"/>
              <a:buFont typeface="Monotype Sorts" charset="2"/>
              <a:buChar char="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icture Writing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resent actual objects, times, etc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4a65ea"/>
              </a:buClr>
              <a:buSzPct val="75000"/>
              <a:buFont typeface="Monotype Sorts" charset="2"/>
              <a:buChar char="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ransitiona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resenting the abstract idea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ukaghir example: is it writing?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4a65ea"/>
              </a:buClr>
              <a:buSzPct val="75000"/>
              <a:buFont typeface="Monotype Sorts" charset="2"/>
              <a:buChar char="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honologica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resent things with similar sound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9800" y="25560"/>
            <a:ext cx="8367840" cy="7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Writing Us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74480" y="1096920"/>
            <a:ext cx="8304120" cy="62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4a65ea"/>
              </a:buClr>
              <a:buSzPct val="75000"/>
              <a:buFont typeface="Monotype Sorts" charset="2"/>
              <a:buChar char="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xes, taxes and taxe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cord who owns what when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 much you have to pay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4a65ea"/>
              </a:buClr>
              <a:buSzPct val="75000"/>
              <a:buFont typeface="Monotype Sorts" charset="2"/>
              <a:buChar char="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ules, religion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ws (Hammurabi ~1770BCE)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tune telling (Oracle Bones ~1300BCE)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4a65ea"/>
              </a:buClr>
              <a:buSzPct val="75000"/>
              <a:buFont typeface="Monotype Sorts" charset="2"/>
              <a:buChar char="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istories/Literatur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arly authors whose names we know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tahhotep (Egypt) and Enheduanna (Sumerian) 2400BC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9800" y="25560"/>
            <a:ext cx="8367840" cy="7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What things are writing?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67920" y="1561680"/>
            <a:ext cx="83041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80000"/>
              </a:lnSpc>
              <a:spcBef>
                <a:spcPts val="799"/>
              </a:spcBef>
              <a:buClr>
                <a:srgbClr val="4a65ea"/>
              </a:buClr>
              <a:buSzPct val="75000"/>
              <a:buFont typeface="Monotype Sorts" charset="2"/>
              <a:buChar char="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nown writing systems follow Zipf's Law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me things are very frequen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me things are very infrequen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4a65ea"/>
              </a:buClr>
              <a:buSzPct val="75000"/>
              <a:buFont typeface="Monotype Sorts" charset="2"/>
              <a:buChar char="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ut things that follow Zipf's Law may or may not be writing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us Scrip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mish Barn Symbol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near A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9800" y="25560"/>
            <a:ext cx="8367840" cy="7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ow is Writing Don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7920" y="1561680"/>
            <a:ext cx="83041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80000"/>
              </a:lnSpc>
              <a:spcBef>
                <a:spcPts val="799"/>
              </a:spcBef>
              <a:buClr>
                <a:srgbClr val="4a65ea"/>
              </a:buClr>
              <a:buSzPct val="75000"/>
              <a:buFont typeface="Monotype Sorts" charset="2"/>
              <a:buChar char="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ften influenced by the medium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uneiform – easy to cut in stone/paper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ursive script 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SimSun"/>
              </a:rPr>
              <a:t>書法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4a65ea"/>
              </a:buClr>
              <a:buSzPct val="75000"/>
              <a:buFont typeface="Monotype Sorts" charset="2"/>
              <a:buChar char="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ften borrow someone else's scrip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inese Characters for Japanes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tin script for Vietnames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tin script for English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9800" y="25560"/>
            <a:ext cx="8367840" cy="7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irec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67920" y="1561680"/>
            <a:ext cx="83041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80000"/>
              </a:lnSpc>
              <a:spcBef>
                <a:spcPts val="799"/>
              </a:spcBef>
              <a:buClr>
                <a:srgbClr val="4a65ea"/>
              </a:buClr>
              <a:buSzPct val="75000"/>
              <a:buFont typeface="Monotype Sorts" charset="2"/>
              <a:buChar char="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ft to right: English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99"/>
              </a:spcBef>
              <a:buClr>
                <a:srgbClr val="4a65ea"/>
              </a:buClr>
              <a:buSzPct val="75000"/>
              <a:buFont typeface="Monotype Sorts" charset="2"/>
              <a:buChar char="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ight to left: Arabic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99"/>
              </a:spcBef>
              <a:buClr>
                <a:srgbClr val="4a65ea"/>
              </a:buClr>
              <a:buSzPct val="75000"/>
              <a:buFont typeface="Monotype Sorts" charset="2"/>
              <a:buChar char="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ertical (right to left): Chinese/Japanes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99"/>
              </a:spcBef>
              <a:buClr>
                <a:srgbClr val="4a65ea"/>
              </a:buClr>
              <a:buSzPct val="75000"/>
              <a:buFont typeface="Monotype Sorts" charset="2"/>
              <a:buChar char="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ustrophedon (like an ox)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ft to right to left: Ancient Greek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4a65ea"/>
              </a:buClr>
              <a:buSzPct val="75000"/>
              <a:buFont typeface="Monotype Sorts" charset="2"/>
              <a:buChar char="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rection the faces look: Maya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spcBef>
                <a:spcPts val="7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spcBef>
                <a:spcPts val="7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ef</dc:creator>
  <dc:description/>
  <dc:language>en-US</dc:language>
  <cp:lastModifiedBy>ref</cp:lastModifiedBy>
  <cp:lastPrinted>2015-11-05T19:38:17Z</cp:lastPrinted>
  <dcterms:modified xsi:type="dcterms:W3CDTF">2015-11-05T21:41:36Z</dcterms:modified>
  <cp:revision>258</cp:revision>
  <dc:subject/>
  <dc:title>Blizzard Challenge 2005: Evaluating corpus-based speech synthesis on common datasets</dc:title>
</cp:coreProperties>
</file>