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B38A-834E-4B02-BB75-E4086740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CBD-5814-46F1-BA23-2423699A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1D0B-FB0E-4587-8E20-67FD8102A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think logical syllogisms are wei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dles where you are only supposed to use the given premises, not your background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abstract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difficult without making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F8F1-D3A9-4D87-93F5-76608E600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6F5-4EA5-457F-9F74-52428BFC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2F3B-38B3-40EF-ADD6-3DC850516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 local storyt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4F4B-AB1E-4C8E-AF9D-07E9C253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dhi system is great as-is.”(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eg Mexicans not good at Spanish! (10% = 10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18E4-058A-4EF7-961B-5D89A1631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9601-BCD9-4172-9A6B-DEBDBA4E4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7EF9-B736-44BB-980F-86AD98398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“Geeks”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arallels in India, China, Yucata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changed their brai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1BF1-F1D4-4A1A-B00F-05EE7299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 is seen as the normal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can’t “say” a textboo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F6A1-BE93-45C8-8C7E-8BA35EE6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learning to re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s a baby?  Alm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6 of the world is not even minimally literate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4ED7-0207-46C3-B479-F8F0F207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ink of words as visual, static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1F3-E555-41FF-8432-6D7180854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n’t get these slides at al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gat Y” in B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nser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knowledge was so hard to put together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from Africa about recording of saga that had never changed in centu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6F61-03C0-4A92-9EB2-47382EF09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nderfully made Amazonian arrow in anthropology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aking a fire from scratch is very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EBB-29B6-457B-A653-F37F537DE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6D2-6DD2-4D91-BE61-848F2CEE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B93-4E9E-4865-B979-E7226B9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AE3-F4BE-41A7-8D87-FAE3BEA9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949-2B42-4AEC-B10B-046F46F2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DA9-6E44-4508-B6E1-9775D6A8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5E3-7361-4ED3-9BC6-0970E7C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0E2-E58F-413F-B022-AE2FB2B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F55-1B24-4242-8900-8567D303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866-F04D-4641-A4E4-8A27643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B22-76BE-41E1-9661-C4A2B32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38C-02F1-40EE-94B2-F854BBE9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7C7-8A7A-4422-8070-331B9B7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6442-4084-4A2D-BAD6-B7468680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ral cultures; or,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effect of literacy on though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Frede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Technologie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this is relevant to E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ver 6000 languages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1000-3000 e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ri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hat have a writing system don’t really use it (written Pashto is mostly the BBC Web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bout 80 languages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ell phones are becoming ub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Language Technologies Institute (LTI), we want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ave languages by using 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LT-based services in many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to adapt LT to oral cul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Full context vide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” instructions don’t work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points are alien; unimportant, uninteresting, trivial.  Unworthy of paying attention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people a dramatic story, with people and places th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 (or they’ll as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needs to build a wall; posts an audio job ad; a friend shows a brick-layer how to use the system; the brick-layer gets the jo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, I never understood what computers were for.  Now I see why I should use thi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J Sherwani’s HealthLin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in many places, villages have no medical services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olution: community health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training, many can’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Line provides medical info over th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must be designed so oral people can u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esign for oral us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bstract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nus/hierarch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unusu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a dramatic, grounded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imple sentence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ters. All info must be traceable to someone.  Otherwise it will be ignored as untrustwort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alect issu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lthLine experience in Da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language: “Urdu should be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3% understood Urdu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o provincial language, Sind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70% understood Sindhi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ay, how about Baloch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local, minor, oral, unintelligible dia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s it “really” Balochi? What does that even mean, in a fluid oral continuum of dialect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ritten languages have dictionaries, etc., that define a standard dialec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o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ae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L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er J O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 and Literacy: The Technologizing of the 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198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hanzeb Sherwani, Nosheen Ali, Carolyn Rose, Roni Rosenfeld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-Grounded HCID: Understanding the Oral 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 Technologies &amp; International 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ember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Literacy changes the way you </a:t>
            </a:r>
            <a:r>
              <a:rPr b="0" i="1" lang="en-US" sz="4000" spc="-1" strike="noStrike">
                <a:solidFill>
                  <a:srgbClr val="808000"/>
                </a:solidFill>
                <a:latin typeface="Times New Roman"/>
              </a:rPr>
              <a:t>think</a:t>
            </a: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/writing has changed the way you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relatively recent rea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er J Ong wrote a great book about thi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 and Lite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arts with the beginnings of Western Civ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Ancient Geek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the Greeks inv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ryth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Europe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, science, mathematics, theatre, history, medicine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had been around for thousands of years alr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had always been done by “scrib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al Athens was the first culture wher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m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were reading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 (Iliad/Odyssey) was earlier, and o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lato: Writing is ba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o described why orality is bet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word is a made thing, not a living th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text can’t answer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text can’t have a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weakens th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down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old fogies complaining about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rality is our natural sit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te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are weird!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don’t know how to read, and don’t k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 does. But everyone tal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imagine that you’ve never kn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 could write, or even what wri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, most Native Americans before Europeans show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orality is lik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is organized as folklore: proverbs, folk stories, po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are only seen(!) (experienced) as sounds passing from one mind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never stored outside of someone’s head; only kept alive through ret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rally repeated things sur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vanishes unless actively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ictionaries!  You never hear an unknown word, because unused words v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formation in oral cultur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encountered as narr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ed to your lif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fixed in form or content; ada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ists, tables, charts, bullet points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ids are crucial since speech vani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, you can backtrack, so you get 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ythm, rhyme, clichés, repetition, repetition,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Which of these things does </a:t>
            </a:r>
            <a:r>
              <a:rPr b="0" i="1" lang="en-US" sz="4000" spc="-1" strike="noStrike">
                <a:solidFill>
                  <a:srgbClr val="8080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go with the others?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4" descr="Handsaw"/>
          <p:cNvPicPr/>
          <p:nvPr/>
        </p:nvPicPr>
        <p:blipFill>
          <a:blip r:embed="rId1"/>
          <a:stretch/>
        </p:blipFill>
        <p:spPr>
          <a:xfrm>
            <a:off x="1042920" y="1981080"/>
            <a:ext cx="309564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axe1"/>
          <p:cNvPicPr/>
          <p:nvPr/>
        </p:nvPicPr>
        <p:blipFill>
          <a:blip r:embed="rId2"/>
          <a:stretch/>
        </p:blipFill>
        <p:spPr>
          <a:xfrm>
            <a:off x="5029200" y="1992240"/>
            <a:ext cx="3048120" cy="19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river_log"/>
          <p:cNvPicPr/>
          <p:nvPr/>
        </p:nvPicPr>
        <p:blipFill>
          <a:blip r:embed="rId3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hammer"/>
          <p:cNvPicPr/>
          <p:nvPr/>
        </p:nvPicPr>
        <p:blipFill>
          <a:blip r:embed="rId4"/>
          <a:stretch/>
        </p:blipFill>
        <p:spPr>
          <a:xfrm>
            <a:off x="5105520" y="3886200"/>
            <a:ext cx="2341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chool’s out forever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through apprentice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ork for/with and talk with a 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“study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uals or text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“tests”, no multiple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se people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or your frien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ell ph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b people do not live to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ask General C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f</dc:creator>
  <dc:description/>
  <dc:language>en-US</dc:language>
  <cp:lastModifiedBy>ref</cp:lastModifiedBy>
  <cp:lastPrinted>2015-10-15T17:14:14Z</cp:lastPrinted>
  <dcterms:modified xsi:type="dcterms:W3CDTF">2015-10-15T20:47:40Z</dcterms:modified>
  <cp:revision>145</cp:revision>
  <dc:subject/>
  <dc:title>PowerPoint Presentation</dc:title>
</cp:coreProperties>
</file>