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EEFE-AABC-4385-9AC5-6BC8325F4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AD46-8BF3-42E8-91B1-597EF147A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356B-63A6-4AAA-8928-F298AD11B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think logical syllogisms are wei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ddles where you are only supposed to use the given premises, not your background knowled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much abstract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difficult without making 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9580-9E95-43AB-A896-6B45391B5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8857-5A0C-4D46-9F0F-69DBD9D08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C9B3-DE2D-4DC1-98E5-895217C72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re local storytel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494E-BDCB-4D3F-9B9E-D96751DB8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ndhi system is great as-is.”(!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s of eg Mexicans not good at Spanish! (10% = 10 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CE9C-993A-4518-B97F-00F335A00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F3A0-DA70-4CCF-A8AE-035948EDC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C9AE-50E6-4946-A8CF-4F20E4633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“Geeks”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arallels in India, China, Yucatan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changed their brain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E146-ED85-483D-AE30-F78EB7BBD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log is seen as the normal sit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you can’t “say” a textbook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2EC4-0C1F-42BE-A38F-AEC657878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remember learning to rea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s a baby?  Alm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/6 of the world is not even minimally literate n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488F-C3DE-4049-A28B-8752143FF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think of words as visual, static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1AC2-0D9C-48C4-85EF-9D92B6EF3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ouldn’t get these slides at all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begat Y” in B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conserv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knowledge was so hard to put together in the first 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y from Africa about recording of saga that had never changed in centu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A72C-0BC1-4B02-B971-A79F4CFF5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nderfully made Amazonian arrow in anthropology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making a fire from scratch is very h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4556-6CE2-4F62-95F7-1099987C8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98B7-C3D1-4948-843F-2C60F316F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605D-E44D-4191-9117-FBA4A291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4FFB-84D5-4759-875B-1DF153C2E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4124-C589-4C3D-822F-C7031DC75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B9C0-6CAD-4F06-953B-6E35E7E8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E79F-8404-4ED2-871F-99FE8BE3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2897-0121-4308-8311-16FC2F67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5C05-91D6-4E23-AF6B-8386904D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C874-6477-4C61-998E-12A76FEA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B5CD-02EF-49B4-84A7-05F0A26B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9D2A-A6C6-40B6-BA30-8ECEB9D1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8FC7-37F8-463B-9390-29068A32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AB3F-3A84-4BF0-9E61-015E79435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Oral cultures; or, </a:t>
            </a:r>
            <a:br>
              <a:rPr sz="4400"/>
            </a:b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the effect of literacy on though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Frede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guage Technologies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tober 20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Why this is relevant to EL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over 6000 languages to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1000-3000 ev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a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writing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that have a writing system don’t really use it (written Pashto is mostly the BBC Websi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bout 80 languages have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iter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cell phones are becoming ubiquit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the Language Technologies Institute (LTI), we want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save languages by using 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LT-based services in many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have to adapt LT to oral cul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Full context video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” instructions don’t work at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tract points are alien; unimportant, uninteresting, trivial.  Unworthy of paying attention 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 people a dramatic story, with people and places the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al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now (or they’ll ask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loyer needs to build a wall; posts an audio job ad; a friend shows a brick-layer how to use the system; the brick-layer gets the job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h, I never understood what computers were for.  Now I see why I should use thi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J Sherwani’s HealthLin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 in many places, villages have no medical services at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solution: community health wor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much training, many can’t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lthLine provides medical info over the 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it must be designed so oral people can use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Design for oral user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abstract instru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menus/hierarch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unusual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l a dramatic, grounded s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imple sentence struct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ourc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way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tters. All info must be traceable to someone.  Otherwise it will be ignored as untrustworth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Dialect issue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ealthLine experience in Dad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onal language: “Urdu should be fin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33% understood Urdu at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itch to provincial language, Sindh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70% understood Sindhi at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kay, how about Baloch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a local, minor, oral, unintelligible dia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s it “really” Balochi? What does that even mean, in a fluid oral continuum of dialects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Written languages have dictionaries, etc., that define a standard dialec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Source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to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aedr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Let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lter J Ong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rality and Literacy: The Technologizing of the Wo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198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hanzeb Sherwani, Nosheen Ali, Carolyn Rose, Roni Rosenfeld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rality-Grounded HCID: Understanding the Oral Us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formation Technologies &amp; International Develop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December 2009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00"/>
                </a:solidFill>
                <a:latin typeface="Times New Roman"/>
              </a:rPr>
              <a:t>Literacy changes the way you </a:t>
            </a:r>
            <a:r>
              <a:rPr b="0" i="1" lang="en-US" sz="4000" spc="-1" strike="noStrike">
                <a:solidFill>
                  <a:srgbClr val="808000"/>
                </a:solidFill>
                <a:latin typeface="Times New Roman"/>
              </a:rPr>
              <a:t>think</a:t>
            </a:r>
            <a:r>
              <a:rPr b="0" lang="en-US" sz="4000" spc="-1" strike="noStrike">
                <a:solidFill>
                  <a:srgbClr val="808000"/>
                </a:solidFill>
                <a:latin typeface="Times New Roman"/>
              </a:rPr>
              <a:t>!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/writing has changed the way you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ra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ork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a relatively recent real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lter J Ong wrote a great book about this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rality and Literac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starts with the beginnings of Western Civi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The Ancient Geek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did the Greeks inven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verythin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in Europe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ilosophy, science, mathematics, theatre, history, medicine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ing had been around for thousands of years alrea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it had always been done by “scribe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ical Athens was the first culture where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ma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ople were reading and 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r (Iliad/Odyssey) was earlier, and ora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Plato: Writing is ba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to described why orality is bett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ten word is a made thing, not a living thou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ten text can’t answer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ten text can’t have a discu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ing weakens the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ro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 down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st like old fogies complaining about th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Orality is our natural situatio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ical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ter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ople are weird!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ople don’t know how to read, and don’t know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ny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o does. But everyone tal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to imagine that you’ve never know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ny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o could write, or even what writ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g, most Native Americans before Europeans showed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What orality is lik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ledge is organized as folklore: proverbs, folk stories, po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s are only seen(!) (experienced) as sounds passing from one mind to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s never stored outside of someone’s head; only kept alive through rete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orally repeated things surv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ledge vanishes unless actively preser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dictionaries!  You never hear an unknown word, because unused words van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Information in oral culture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encountered as narrat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lated to your life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ver fixed in form or content; adap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lists, tables, charts, bullet points(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ids are crucial since speech vanis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reading, you can backtrack, so you get la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hythm, rhyme, clichés, repetition, repetition, dr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00"/>
                </a:solidFill>
                <a:latin typeface="Times New Roman"/>
              </a:rPr>
              <a:t>Which of these things does </a:t>
            </a:r>
            <a:r>
              <a:rPr b="0" i="1" lang="en-US" sz="4000" spc="-1" strike="noStrike">
                <a:solidFill>
                  <a:srgbClr val="808000"/>
                </a:solidFill>
                <a:latin typeface="Times New Roman"/>
              </a:rPr>
              <a:t>not</a:t>
            </a:r>
            <a:r>
              <a:rPr b="0" lang="en-US" sz="4000" spc="-1" strike="noStrike">
                <a:solidFill>
                  <a:srgbClr val="808000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808000"/>
                </a:solidFill>
                <a:latin typeface="Times New Roman"/>
              </a:rPr>
              <a:t>go with the others?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3" name="Picture 4" descr="Handsaw"/>
          <p:cNvPicPr/>
          <p:nvPr/>
        </p:nvPicPr>
        <p:blipFill>
          <a:blip r:embed="rId1"/>
          <a:stretch/>
        </p:blipFill>
        <p:spPr>
          <a:xfrm>
            <a:off x="1042920" y="1981080"/>
            <a:ext cx="3095640" cy="1981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axe1"/>
          <p:cNvPicPr/>
          <p:nvPr/>
        </p:nvPicPr>
        <p:blipFill>
          <a:blip r:embed="rId2"/>
          <a:stretch/>
        </p:blipFill>
        <p:spPr>
          <a:xfrm>
            <a:off x="5029200" y="1992240"/>
            <a:ext cx="3048120" cy="1957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river_log"/>
          <p:cNvPicPr/>
          <p:nvPr/>
        </p:nvPicPr>
        <p:blipFill>
          <a:blip r:embed="rId3"/>
          <a:stretch/>
        </p:blipFill>
        <p:spPr>
          <a:xfrm>
            <a:off x="1270080" y="411480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hammer"/>
          <p:cNvPicPr/>
          <p:nvPr/>
        </p:nvPicPr>
        <p:blipFill>
          <a:blip r:embed="rId4"/>
          <a:stretch/>
        </p:blipFill>
        <p:spPr>
          <a:xfrm>
            <a:off x="5105520" y="3886200"/>
            <a:ext cx="234144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School’s out forever!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through apprentice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work for/with and talk with a m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“studyin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nuals or textboo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“tests”, no multiple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that these people ar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u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you or your friend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k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cell ph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b people do not live to reprodu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, ask General Cu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ef</dc:creator>
  <dc:description/>
  <dc:language>en-US</dc:language>
  <cp:lastModifiedBy>ref</cp:lastModifiedBy>
  <cp:lastPrinted>2015-10-15T17:14:14Z</cp:lastPrinted>
  <dcterms:modified xsi:type="dcterms:W3CDTF">2015-10-15T20:47:40Z</dcterms:modified>
  <cp:revision>145</cp:revision>
  <dc:subject/>
  <dc:title>PowerPoint Presentation</dc:title>
</cp:coreProperties>
</file>