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7FB8-1227-4444-A1F0-089CB8F1E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120C-5B4E-4623-8283-E8DCA233F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6B1B-1A0F-4A73-BA14-73A680001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think logical syllogisms are wei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ddles where you are only supposed to use the given premises, not your background 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abstract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difficult without making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CC33-E5AD-4CC8-B8A9-C54587E9C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0E24-A165-4246-97EE-F5A62DE6C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69C0-4D90-4BE2-B3E2-0A5A5C0D5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re local storytel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861E-C758-4ECF-A18B-076E6DDA6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dhi system is great as-is.”(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eg Mexicans not good at Spanish! (10% = 10 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BD53-E92E-42C9-A659-32A2BECE3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A127-9642-4420-8647-5FDF6F645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C577-ED81-4E4D-A726-2ECC2BBFE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“Geeks”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arallels in India, China, Yucata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changed their brain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D8BC-ABAE-4DFD-AC6E-13553E427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 is seen as the normal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you can’t “say” a textbook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7E74-473F-4318-BA9D-CB3C47C00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learning to rea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s a baby?  Alm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/6 of the world is not even minimally literate 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5746-E35B-4B1D-A8EF-EAF2FE1DD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hink of words as visual, static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EB2D-A0DA-40F4-A4BE-7F311E627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n’t get these slides at al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begat Y” in B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conser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knowledge was so hard to put together in the first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y from Africa about recording of saga that had never changed in centu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A815-16C2-49B2-AF6F-C536AFA5D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nderfully made Amazonian arrow in anthropology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making a fire from scratch is very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6420-76B6-4FD8-B580-2834CD71E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EC4-02FB-43F6-B283-C8B2C769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8BE-4613-42CE-86BD-8D74BB2C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57C-1D98-408C-A84E-35DDD25A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8C0-AEF2-4F2E-BAE6-90B6A8DB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73D-3E48-49F6-9B1D-B8B4BF0B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74E-C15B-41B4-8C06-7B7FF256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BB8-CD75-4D84-B5FA-61A140A0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49F-A2DE-4948-AB56-897ED22B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4B3-15BC-418B-8A3C-0F526387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A2E-42F4-44C4-B6A5-E1661664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25B-09BD-4C2E-92FC-7D64B2CF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127-4E2F-46BF-ABCD-DF9C5E03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AF55-DD8E-4B60-9170-A302920E0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ral cultures; or, </a:t>
            </a:r>
            <a:br>
              <a:rPr sz="4400"/>
            </a:b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e effect of literacy on though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Frede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Technologies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y this is relevant to EL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over 6000 languages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1000-3000 e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wri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hat have a writing system don’t really use it (written Pashto is mostly the BBC Webs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bout 80 languages hav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ell phones are becoming ubiquit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Language Technologies Institute (LTI), we want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save languages by using 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LT-based services in many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to adapt LT to oral cul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Full context video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” instructions don’t work 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points are alien; unimportant, uninteresting, trivial.  Unworthy of paying attention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people a dramatic story, with people and places the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now (or they’ll as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r needs to build a wall; posts an audio job ad; a friend shows a brick-layer how to use the system; the brick-layer gets the job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, I never understood what computers were for.  Now I see why I should use thi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J Sherwani’s HealthLin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in many places, villages have no medical services 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solution: community health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training, many can’t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lthLine provides medical info over the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must be designed so oral people can us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esign for oral use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bstract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enus/hierarch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unusual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a dramatic, grounded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imple sentence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ur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ters. All info must be traceable to someone.  Otherwise it will be ignored as untrustwort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ialect issu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althLine experience in Dad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language: “Urdu should be fin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33% understood Urdu a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to provincial language, Sind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70% understood Sindhi a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ay, how about Baloch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 local, minor, oral, unintelligible dia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s it “really” Balochi? What does that even mean, in a fluid oral continuum of dialect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ritten languages have dictionaries, etc., that define a standard dialec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o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aedr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Le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ter J O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ality and Literacy: The Technologizing of the 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198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hanzeb Sherwani, Nosheen Ali, Carolyn Rose, Roni Rosenfeld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ality-Grounded HCID: Understanding the Oral U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ormation Technologies &amp; International Develop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cember 200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Literacy changes the way you </a:t>
            </a:r>
            <a:r>
              <a:rPr b="0" i="1" lang="en-US" sz="4000" spc="-1" strike="noStrike">
                <a:solidFill>
                  <a:srgbClr val="808000"/>
                </a:solidFill>
                <a:latin typeface="Times New Roman"/>
              </a:rPr>
              <a:t>think</a:t>
            </a: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/writing has changed the way you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rk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relatively recent real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ter J Ong wrote a great book about thi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ality and Litera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tarts with the beginnings of Western Civ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e Ancient Geek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id the Greeks inv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ryth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 Europe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, science, mathematics, theatre, history, medicine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had been around for thousands of years alre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had always been done by “scrib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al Athens was the first culture wher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m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ople were reading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r (Iliad/Odyssey) was earlier, and or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Plato: Writing is ba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o described why orality is bett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ten word is a made thing, not a living tho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ten text can’t answer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ten text can’t have a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weakens the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down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ike old fogies complaining about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rality is our natural situ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te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ople are weird!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ople don’t know how to read, and don’t kn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y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o does. But everyone tal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imagine that you’ve never know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y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o could write, or even what wri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, most Native Americans before Europeans showe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 orality is lik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is organized as folklore: proverbs, folk stories, po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are only seen(!) (experienced) as sounds passing from one mind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never stored outside of someone’s head; only kept alive through ret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rally repeated things surv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vanishes unless actively p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dictionaries!  You never hear an unknown word, because unused words v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nformation in oral cultur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encountered as narra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ed to your life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fixed in form or content; adap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lists, tables, charts, bullet points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ids are crucial since speech vani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ading, you can backtrack, so you get l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hythm, rhyme, clichés, repetition, repetition, d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Which of these things does </a:t>
            </a:r>
            <a:r>
              <a:rPr b="0" i="1" lang="en-US" sz="4000" spc="-1" strike="noStrike">
                <a:solidFill>
                  <a:srgbClr val="808000"/>
                </a:solidFill>
                <a:latin typeface="Times New Roman"/>
              </a:rPr>
              <a:t>not</a:t>
            </a: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go with the others?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4" descr="Handsaw"/>
          <p:cNvPicPr/>
          <p:nvPr/>
        </p:nvPicPr>
        <p:blipFill>
          <a:blip r:embed="rId1"/>
          <a:stretch/>
        </p:blipFill>
        <p:spPr>
          <a:xfrm>
            <a:off x="1042920" y="1981080"/>
            <a:ext cx="309564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axe1"/>
          <p:cNvPicPr/>
          <p:nvPr/>
        </p:nvPicPr>
        <p:blipFill>
          <a:blip r:embed="rId2"/>
          <a:stretch/>
        </p:blipFill>
        <p:spPr>
          <a:xfrm>
            <a:off x="5029200" y="1992240"/>
            <a:ext cx="3048120" cy="195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river_log"/>
          <p:cNvPicPr/>
          <p:nvPr/>
        </p:nvPicPr>
        <p:blipFill>
          <a:blip r:embed="rId3"/>
          <a:stretch/>
        </p:blipFill>
        <p:spPr>
          <a:xfrm>
            <a:off x="1270080" y="4114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hammer"/>
          <p:cNvPicPr/>
          <p:nvPr/>
        </p:nvPicPr>
        <p:blipFill>
          <a:blip r:embed="rId4"/>
          <a:stretch/>
        </p:blipFill>
        <p:spPr>
          <a:xfrm>
            <a:off x="5105520" y="3886200"/>
            <a:ext cx="23414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chool’s out forever!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through apprentice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ork for/with and talk with a m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“study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uals or text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“tests”, no multiple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ese people ar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or your frien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ell ph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b people do not live to repro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, ask General Cu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f</dc:creator>
  <dc:description/>
  <dc:language>en-US</dc:language>
  <cp:lastModifiedBy>ref</cp:lastModifiedBy>
  <cp:lastPrinted>2015-10-15T17:14:14Z</cp:lastPrinted>
  <dcterms:modified xsi:type="dcterms:W3CDTF">2015-10-15T20:47:40Z</dcterms:modified>
  <cp:revision>145</cp:revision>
  <dc:subject/>
  <dc:title>PowerPoint Presentation</dc:title>
</cp:coreProperties>
</file>