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890-0B40-41E1-80DC-59D2CBA2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957-6BDE-4E4D-B09F-CD5E236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164-6448-4B00-96BE-DC2A9A8D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E48-081F-4E0F-B29C-71E88C45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F3B-093D-4D8A-8820-6DDFEB1C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BAF-852D-4AF0-BA3F-C8677010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4CC-0349-4152-83DF-AC627C06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104-D963-4D3A-A9B1-0B18882E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670-4C00-48C4-A7E6-A6F08C4D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AD4-A649-49E0-AC19-8265A041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943-5B41-46FA-A3F1-4FCFAE6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3F8-839E-41EA-B846-EB17CDC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9F30-2F01-4171-8816-08109D7C2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kebot Assem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AD2-A2E3-43EC-B83A-F54CD169A0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518148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and punch head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it by hand before scre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tr3a_026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tr3a_024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C37-CB63-4938-AB39-D888332DF6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 servo t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5486400"/>
            <a:ext cx="6553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 four 4-40 holes on the Tilt Plate that attaches to the tilt servo ho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r3a_030" descr=""/>
          <p:cNvPicPr/>
          <p:nvPr/>
        </p:nvPicPr>
        <p:blipFill>
          <a:blip r:embed="rId1"/>
          <a:stretch/>
        </p:blipFill>
        <p:spPr>
          <a:xfrm>
            <a:off x="1828800" y="1422360"/>
            <a:ext cx="5410080" cy="360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DFD-C777-46E5-9EB2-5DE77466CE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518148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w together head pieces using plastic scr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two standoffs for the CMUcam using two 4-40 x 3/8 scr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r3a_027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tr3a_035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9BD-F608-48F0-8713-F3DFE13AD8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per N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5638680"/>
            <a:ext cx="6553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 four 4-40 holes for the pan servo horn, then assemble upper neck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tr3a_038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tr3a_037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tr3a_042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F6A-CAB0-4EA3-95DC-9F7113BD51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N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5257800"/>
            <a:ext cx="655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, file and assemble lower neck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r3a_028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4C9-33BB-4BF9-A572-8801FC1650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k to Top Frame attac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5181480"/>
            <a:ext cx="6553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ender washers and screws to hold down lower neck on upper frame (the one with the steering servo m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r3a_033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tr3a_034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34B-9907-437E-8BBA-C5E5BF524D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fit lower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5334120"/>
            <a:ext cx="655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it lower frame– file a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r3a_040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360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85F-D064-42C8-AEC6-5BFE0CFB87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KingPin bu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257800"/>
            <a:ext cx="655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 top bushing piece into slots in lower neck, below top frame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r3a_049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AF2-67BB-4AD2-8E44-3A7BD024A6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h upper bushing and lower frame to lower n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r3a_052" descr=""/>
          <p:cNvPicPr/>
          <p:nvPr/>
        </p:nvPicPr>
        <p:blipFill>
          <a:blip r:embed="rId1"/>
          <a:stretch/>
        </p:blipFill>
        <p:spPr>
          <a:xfrm>
            <a:off x="1676520" y="1803240"/>
            <a:ext cx="5638680" cy="37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2B1-0D48-407B-ABEB-C8714F31FF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fit main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60199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, file and test fit main body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r3a_059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04" name="tr3a_066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tr3a_067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366-459B-4D3F-A6E8-3A7A9EFC52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o Horn Enlar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tr3a_00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4190760" cy="2793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495288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teering servo, middle of 3-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head servoes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inside (x 4 per ser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r3a_004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DF9-06ED-41AA-BC11-AFE9A08315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body final f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7913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center battery gate h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r3a_071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tr3a_070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35C-8D13-4000-A3A6-4913479F3A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ew together main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r3a_076" descr=""/>
          <p:cNvPicPr/>
          <p:nvPr/>
        </p:nvPicPr>
        <p:blipFill>
          <a:blip r:embed="rId1"/>
          <a:stretch/>
        </p:blipFill>
        <p:spPr>
          <a:xfrm>
            <a:off x="4495680" y="28954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tr3a_075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172-F172-40A6-96FB-53DB42136C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tery holder gate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5715000"/>
            <a:ext cx="6553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ay require fil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r3a_08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248520" cy="41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D77-5822-4843-ACCD-45447AB46C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per shelf 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5627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it upper shelf with aluminum side 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tr3a_077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tr3a_079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FDD-74B9-4E6D-8718-65DAF40D26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h upper sh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715000"/>
            <a:ext cx="6553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screws each side: 8-32 x ½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tr3a_08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0FF-3615-4BDC-9454-360943F6DD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k assembly and frame attac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10080"/>
            <a:ext cx="6553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e on upper and lower frame and neck assembly and tighten: 6-32 x 5/8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r3a_08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tr3a_083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8B5-59D5-49B8-8679-653851C885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gpin and wheel assem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5105520"/>
            <a:ext cx="6553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de kingpin up through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upper bushing is 1 wave washer then 1 metal col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tr3a_085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30" name="tr3a_087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E03-08DA-4D6A-99A8-0C6DB78AAC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ering servo attac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105520"/>
            <a:ext cx="6553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p two 4-40 holes on plastic collar, then attach to round servo horn using two 4-40 x 3/8 scre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h servo horn to servo using the servo horn scr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 steering servo with metal collar loose, then tighten while pushing down on col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r3a_091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tr3a_092" descr=""/>
          <p:cNvPicPr/>
          <p:nvPr/>
        </p:nvPicPr>
        <p:blipFill>
          <a:blip r:embed="rId2"/>
          <a:stretch/>
        </p:blipFill>
        <p:spPr>
          <a:xfrm>
            <a:off x="4343400" y="22860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586-797F-4994-AC26-D8394B9942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ew down steering ser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tr3a_093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386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E7C-08A1-454C-A388-C229CAF01D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r axles and whe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6172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rear axles and wheels, then c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tr3a_096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tr3a_097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tr3a_099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84C-1FD6-471F-BC4E-F6040E142F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or M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95288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x 10-24 x ¾” hold aluminum mounts on motor.  Note gap should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r3a_002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33B-1859-4511-A182-752D12CC0D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per neck attac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5410080"/>
            <a:ext cx="6553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neck pan ser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and attach upper neck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tr3a_101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tr3a_103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tr3a_104" descr=""/>
          <p:cNvPicPr/>
          <p:nvPr/>
        </p:nvPicPr>
        <p:blipFill>
          <a:blip r:embed="rId3"/>
          <a:stretch/>
        </p:blipFill>
        <p:spPr>
          <a:xfrm>
            <a:off x="4114800" y="25909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662-8ADF-4806-BDC4-EDEA64457C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h head to upper n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410080"/>
            <a:ext cx="6553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tilt ser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and attach head to tilt ser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30C-9112-4486-AC16-4BA742BEC6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or Mount – plastic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95288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and file plastic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both plastic angles- use 2 holes on each side: 10-24 x 5/8” and ¾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r3a_003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tr3a_006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C48-3933-46D4-9C00-AA60737335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or Mount - Comp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r3a_007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E3F-11C7-4A3F-8B80-59A5BB769B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g Pin Att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257800"/>
            <a:ext cx="6553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king pin with 3 bolts on each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32 x 5/8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r3a_010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tr3a_013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1D7-6730-49AA-B97F-E22783EC75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b to motor shaft attac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95288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set screws hold the hub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et screw hits the shaft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r3a_014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A9D-613F-4915-93C2-7BF3752BED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re on wheel stretch-f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5181480"/>
            <a:ext cx="655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l on tire to expand for a few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with Cyanoacrylate (super g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r3a_015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tr3a_017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028-F547-4C04-AF96-CD9B21E540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ire to Kingp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95288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wheel onto the motor hub using two washers and one nut.  Use threadlock on nut holding wheel on motor hu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r3a_021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105160" cy="34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371-E53A-4C7B-A769-9704784410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8:47:54Z</dcterms:created>
  <dc:creator>INourbakhsh</dc:creator>
  <dc:description/>
  <dc:language>en-US</dc:language>
  <cp:lastModifiedBy>INourbakhsh</cp:lastModifiedBy>
  <dcterms:modified xsi:type="dcterms:W3CDTF">2002-06-29T01:48:03Z</dcterms:modified>
  <cp:revision>14</cp:revision>
  <dc:subject/>
  <dc:title>Trikebot Assembly</dc:title>
</cp:coreProperties>
</file>