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4D0-897C-4C8C-982F-75AF77A5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0A3-DAEA-4C38-BAE7-727C8BD5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C51-99F8-45D3-BEC7-4BC7486F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CBA-7DF6-4DEC-9471-672DFD19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76F-8B04-4832-9639-6F35A54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D94-7A2B-4DB5-93E4-4B323C5F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A05-74A5-4FF1-8B82-6E19C9D3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897-ABA4-462E-9948-56289A6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1C4-ED84-4C85-9DE5-25362FA6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E68-CD81-49A6-855F-AABB4EAA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03A-8E20-44FF-8A81-C4C3B42D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ABB-7D5B-472E-801D-84E70CE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CE6D-4BA8-4E84-AA20-3DA713D7D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3997" r="0" b="6704"/>
          <a:stretch/>
        </p:blipFill>
        <p:spPr>
          <a:xfrm>
            <a:off x="0" y="68580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13997" r="0" b="6704"/>
          <a:stretch/>
        </p:blipFill>
        <p:spPr>
          <a:xfrm>
            <a:off x="0" y="312408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3997" r="0" b="6704"/>
          <a:stretch/>
        </p:blipFill>
        <p:spPr>
          <a:xfrm>
            <a:off x="0" y="380988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029200"/>
            <a:ext cx="914400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609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0481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4008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685800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572000"/>
            <a:ext cx="297180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SP data.  Known start times,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22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learning rate .0001 (needed it low to assure increasing data likelih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P(Y|S) ~ 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7391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produce, use try-PSSP-7-13-04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7150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6324480"/>
            <a:ext cx="1676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2895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5715000"/>
            <a:ext cx="1524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3581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licate using try-PSSP-7-13-04b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419720"/>
            <a:ext cx="213372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SP data.  Known start times, 3 processes   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20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rate .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P(Y|S) ~ 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4:47:10Z</dcterms:created>
  <dc:creator>Tom M. Mitchell</dc:creator>
  <dc:description/>
  <dc:language>en-US</dc:language>
  <cp:lastModifiedBy>School of Computer Science</cp:lastModifiedBy>
  <dcterms:modified xsi:type="dcterms:W3CDTF">2004-07-15T20:08:13Z</dcterms:modified>
  <cp:revision>22</cp:revision>
  <dc:subject/>
  <dc:title>Slide 1</dc:title>
</cp:coreProperties>
</file>