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23088" cy="9424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DB48-9392-4F0A-B339-EFDEE5CB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716D-1E68-465A-A795-CD32BBF7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BEC-0714-4A71-9A2D-E8FD91E7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B3A0-5495-447E-B04D-359CEED0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C3F2-E837-45FA-AC9D-6C4760CF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7CD-8B74-4632-BBB2-0DE5429C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11A-6157-4AB4-A213-38982E91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0B4-CFE3-4594-8836-D7EDA012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6B3-73F9-4A55-B28E-ACB087E3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565-0228-47C4-864A-9DC5A6A4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A9AF-7F5C-46EF-9E33-9B2ED2C4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0C2B-A4FA-4A95-B551-F78CE93A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595C-D0C6-44FF-BE95-DDD41742F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562" t="8166" r="8594" b="520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42432" t="32293" r="18034" b="38544"/>
          <a:stretch/>
        </p:blipFill>
        <p:spPr>
          <a:xfrm>
            <a:off x="5562720" y="4724280"/>
            <a:ext cx="3581280" cy="2133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0" y="6216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g, Hutchins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chell.  BI 03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23:32:42Z</dcterms:created>
  <dc:creator>School of Computer Science</dc:creator>
  <dc:description/>
  <dc:language>en-US</dc:language>
  <cp:lastModifiedBy>School of Computer Science</cp:lastModifiedBy>
  <dcterms:modified xsi:type="dcterms:W3CDTF">2003-12-08T00:32:38Z</dcterms:modified>
  <cp:revision>2</cp:revision>
  <dc:subject/>
  <dc:title>Slide 1</dc:title>
</cp:coreProperties>
</file>