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E98-0E80-490C-AA3F-CBCB2F58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635-EC29-48FF-8706-9105AA99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FFE-C271-4282-B276-8565DB15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300-BE9C-42F5-BE48-8D647329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5812-4F7D-4DB5-A4C8-C68DFEEE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31DD-6857-4003-84DE-974B424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BDB-7614-4F27-90E5-78F6F62B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1C0B-A6F8-4170-B4F2-63EAF4D1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CBEF-CE2C-4764-A701-395904ED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D714-1D56-455D-A6B6-3FCCEBC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7F04-AAFE-40EA-A0EF-0F1DC4F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25B-A907-46BF-800C-6205EA27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17CF-19C0-4E04-B91C-CE737BA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2CD3-7AD9-4095-8589-15F1D713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BFCD-4FC6-45F5-86C7-CA8FF66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91E9-C62A-4BEF-A682-8873B997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93D4-421E-49CD-AF47-FFCF34A6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08E-D336-4D93-ACAD-F6CB43E0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0DA-E663-4D0C-AE92-8BFEF4BC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343-CA6A-47F2-B200-0E67630D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145-ED89-4280-99A8-F2144018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84E-68A4-4163-B5D2-551D596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E4D-AE50-4575-9CBC-871A233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566-F82B-49BF-9F11-80B6FD1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3CC5-02B8-4B6E-8C94-CC96ABB7D4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6441-632A-42ED-9832-8C6ADCFBC0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ting Cognitive States with Machin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s: Xuerui Wang, Rebecca Hutchinson, Tom M. Mitc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ors: Luis Barrios, Marcel Just, Stefan Niculescu, Francisco Perei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PS Decembe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udy: Pictures and Senten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answers whether sentence describes picture by pressing the appropriate butt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half of trials, order is SP, other half are 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re acquired every 0.5 seco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fMRI(t,t+8)-&gt;{Picture,Sentence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46200" y="2666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240" y="2209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56080" y="22096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09440" y="2666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17520" y="2666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2800" y="19051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824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336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880" y="32004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00200" y="26668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9552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3 normal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 trials per subject (half SP, half P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s and pictures describe 3 symbols: *, +, and $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“The star is above the plus.”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876920"/>
            <a:ext cx="2438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9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2057400"/>
          <a:ext cx="7467120" cy="966960"/>
        </p:xfrm>
        <a:graphic>
          <a:graphicData uri="http://schemas.openxmlformats.org/drawingml/2006/table">
            <a:tbl>
              <a:tblPr/>
              <a:tblGrid>
                <a:gridCol w="1063440"/>
                <a:gridCol w="1070640"/>
                <a:gridCol w="1067400"/>
                <a:gridCol w="1064160"/>
                <a:gridCol w="1063800"/>
                <a:gridCol w="1070640"/>
                <a:gridCol w="10670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25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5% confidence intervals per subject are 10%-15% lar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of default classifier is 5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selection: Top 240 most active voxels in br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5880" y="20574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9800" y="2514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3048120"/>
          <a:ext cx="7467480" cy="94932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440"/>
                <a:gridCol w="1063800"/>
                <a:gridCol w="1068480"/>
                <a:gridCol w="1072800"/>
                <a:gridCol w="10638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5880" y="31240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9800" y="35812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n you train across multiple subjec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use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tomic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tion across su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5853" t="25553" r="5183" b="35706"/>
          <a:stretch/>
        </p:blipFill>
        <p:spPr>
          <a:xfrm>
            <a:off x="152280" y="2133720"/>
            <a:ext cx="8991720" cy="2895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2120" y="50292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 voxels are the best predictors for the Semantic Categories study, shown for 3 different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pert defines anatomical Regions of Interest (ROIs) that divide each subject’s brain into pie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mpute representative variables for each area (e.g. mean activity) to compare across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in contrast to approaches that morph brains into canonical coordinate frames (e.g. the Talairach metho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e-one-subject out accuracies (13 subj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ative variable is average of all voxels per ROI (7 ROIs for this stud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with average of single subject accura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19320" y="3733920"/>
          <a:ext cx="7772400" cy="2314440"/>
        </p:xfrm>
        <a:graphic>
          <a:graphicData uri="http://schemas.openxmlformats.org/drawingml/2006/table">
            <a:tbl>
              <a:tblPr/>
              <a:tblGrid>
                <a:gridCol w="1103040"/>
                <a:gridCol w="1143000"/>
                <a:gridCol w="1084320"/>
                <a:gridCol w="1125720"/>
                <a:gridCol w="1095120"/>
                <a:gridCol w="1114560"/>
                <a:gridCol w="11066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 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N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V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 flipV="1">
            <a:off x="346536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7540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8508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3640" y="6216480"/>
            <a:ext cx="85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the results here do not correspond exactly to the results shown earli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perimental conditions are somewhat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abstracts the brain at the ROI level to compare across su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possible to train a classifier on a set of subjects and get significant results on a new subject (outside the training s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ultiple subjects gives more training data but more variability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this tradeoff works to our advantage, giving better results than single-subject methods, and sometimes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9:30:49Z</dcterms:created>
  <dc:creator>School of Computer Science</dc:creator>
  <dc:description/>
  <dc:language>en-US</dc:language>
  <cp:lastModifiedBy>School of Computer Science</cp:lastModifiedBy>
  <dcterms:modified xsi:type="dcterms:W3CDTF">2004-04-12T20:44:17Z</dcterms:modified>
  <cp:revision>10</cp:revision>
  <dc:subject/>
  <dc:title>Detecting Cognitive States with Machine Learning</dc:title>
</cp:coreProperties>
</file>