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6.wmf" ContentType="image/x-wmf"/>
  <Override PartName="/ppt/media/image15.png" ContentType="image/png"/>
  <Override PartName="/ppt/media/image1.jpeg" ContentType="image/jpeg"/>
  <Override PartName="/ppt/media/image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F201-1284-44F8-8B18-7A2261E4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413000"/>
            <a:ext cx="85028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542760"/>
            <a:ext cx="85028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C7BC-346C-4D9B-BF24-88CAA275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413000"/>
            <a:ext cx="4149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7600" y="1413000"/>
            <a:ext cx="4149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542760"/>
            <a:ext cx="4149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7600" y="3542760"/>
            <a:ext cx="4149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F00E-4779-43C4-97EC-50D4DC5B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413000"/>
            <a:ext cx="27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5480" y="1413000"/>
            <a:ext cx="27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800" y="1413000"/>
            <a:ext cx="27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542760"/>
            <a:ext cx="27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5480" y="3542760"/>
            <a:ext cx="27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800" y="3542760"/>
            <a:ext cx="27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C528-EA0B-46F5-B9F2-A61807EB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413000"/>
            <a:ext cx="85028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AF8A-B11D-4FD2-A35E-61601529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413000"/>
            <a:ext cx="850284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B877-7C22-4C00-9707-64E23561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413000"/>
            <a:ext cx="4149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7600" y="1413000"/>
            <a:ext cx="4149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8E3A-1613-41C3-8D63-38EAEAA9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6BAD-EEED-41D0-A22C-13A9EB92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48196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3A6A-94C8-4094-9214-31E000A6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413000"/>
            <a:ext cx="4149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7600" y="1413000"/>
            <a:ext cx="4149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542760"/>
            <a:ext cx="4149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C5CC-3530-4738-B9A5-C5490223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413000"/>
            <a:ext cx="4149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7600" y="1413000"/>
            <a:ext cx="4149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7600" y="3542760"/>
            <a:ext cx="4149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A376-2183-4877-8969-426CF795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413000"/>
            <a:ext cx="4149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7600" y="1413000"/>
            <a:ext cx="4149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542760"/>
            <a:ext cx="85028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18B5-F6FB-46C7-BC3E-9293FDBF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dd013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3000"/>
            <a:ext cx="850284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0880" indent="-5608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3120" indent="-46044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64480" indent="-43992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926360" indent="-46044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6640" indent="-43812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6640" indent="-4381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6640" indent="-4381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0168-9C42-4604-A39F-37302D88ED88}" type="datetime2">
              <a:rPr b="0" lang="zh-CN" sz="1200" spc="-1" strike="noStrike">
                <a:solidFill>
                  <a:srgbClr val="ffffff"/>
                </a:solidFill>
                <a:latin typeface="Tahoma"/>
              </a:rPr>
              <a:t>2026年7月30日 星期四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83920" y="6324480"/>
            <a:ext cx="4838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F8F3-F271-4B30-B195-6C590A3BC380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5840" y="1023120"/>
            <a:ext cx="831060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Using Machine Learning to Detect Cognitive States across Multiple Subjects</a:t>
            </a:r>
            <a:endParaRPr b="1" lang="en-US" sz="32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235240"/>
            <a:ext cx="914400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6640" indent="-56664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uerui W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isor: Prof. Tom Mitch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er for Automated Learning and Disco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y 15,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0" y="157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44680" y="6124680"/>
            <a:ext cx="44053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 borrowed some slides from Tom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ABA2-3DCA-48E3-96D9-376B2F1199E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DD2A6-E614-4BBC-8345-9D1E49034D31}" type="datetime2">
              <a:rPr lang="en-US"/>
              <a:t>Thursday, July 30, 2026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352520"/>
            <a:ext cx="9144000" cy="0"/>
          </a:xfrm>
          <a:prstGeom prst="line">
            <a:avLst/>
          </a:prstGeom>
          <a:ln w="66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3720" y="1693800"/>
            <a:ext cx="7297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Arial"/>
              </a:rPr>
              <a:t>The problem</a:t>
            </a:r>
            <a:r>
              <a:rPr b="1" lang="en-US" sz="3200" spc="-1" strike="noStrike">
                <a:solidFill>
                  <a:srgbClr val="ffcc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282160" y="1501920"/>
            <a:ext cx="545760" cy="4986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282160" y="1503360"/>
            <a:ext cx="545760" cy="995400"/>
          </a:xfrm>
          <a:prstGeom prst="rect">
            <a:avLst/>
          </a:prstGeom>
          <a:solidFill>
            <a:srgbClr val="ff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35760" y="1359000"/>
            <a:ext cx="4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28120" y="640080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66200" y="226548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360" y="2666880"/>
            <a:ext cx="727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a553"/>
                </a:solidFill>
                <a:latin typeface="Arial"/>
              </a:rPr>
              <a:t>Appro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83600" y="2508120"/>
            <a:ext cx="544320" cy="62712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32720" y="2922480"/>
            <a:ext cx="6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82160" y="3129120"/>
            <a:ext cx="545760" cy="1055520"/>
          </a:xfrm>
          <a:prstGeom prst="rect">
            <a:avLst/>
          </a:prstGeom>
          <a:solidFill>
            <a:srgbClr val="ff7c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93200" y="3968640"/>
            <a:ext cx="5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5760" y="4645080"/>
            <a:ext cx="727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3e0ff"/>
                </a:solidFill>
                <a:latin typeface="Arial"/>
              </a:rPr>
              <a:t>Cross-subject classif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82160" y="4186080"/>
            <a:ext cx="545760" cy="1925640"/>
          </a:xfrm>
          <a:prstGeom prst="rect">
            <a:avLst/>
          </a:prstGeom>
          <a:solidFill>
            <a:srgbClr val="b3e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69080" y="593424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82160" y="6084720"/>
            <a:ext cx="545760" cy="54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 algn="ctr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1360" y="3661560"/>
            <a:ext cx="4881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Arial"/>
              </a:rPr>
              <a:t>Two case stu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872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5760" y="5605560"/>
            <a:ext cx="727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2200" y="370440"/>
            <a:ext cx="8310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Using Machine Learning to Detect Cognitive States across Multiple Su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69040" y="1536840"/>
            <a:ext cx="1498680" cy="0"/>
          </a:xfrm>
          <a:prstGeom prst="line">
            <a:avLst/>
          </a:prstGeom>
          <a:ln w="10152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02520" y="2481120"/>
            <a:ext cx="1498320" cy="0"/>
          </a:xfrm>
          <a:prstGeom prst="line">
            <a:avLst/>
          </a:prstGeom>
          <a:ln w="101520">
            <a:solidFill>
              <a:srgbClr val="01a5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CCFF-62E3-43A5-A1DC-CA555EFD052D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5E48B-06DE-4611-871D-835E3FE2D1A4}" type="datetime2">
              <a:rPr lang="en-US"/>
              <a:t>Thursday, July 30, 2026</a:t>
            </a:fld>
          </a:p>
        </p:txBody>
      </p:sp>
    </p:spTree>
  </p:cSld>
  <p:transition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07407E-006 L -4.72222E-006 0.13774 E">
                                      <p:cBhvr>
                                        <p:cTn id="93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400" y="972720"/>
            <a:ext cx="78166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013"/>
                </a:solidFill>
                <a:latin typeface="Arial"/>
              </a:rPr>
              <a:t>Learning Methods</a:t>
            </a:r>
            <a:endParaRPr b="1" lang="en-US" sz="36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1881360"/>
            <a:ext cx="7147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ussian Naïve Bayes Classifier (GN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arest Neighbor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 Vector Machine (SV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1160" y="4624560"/>
            <a:ext cx="71899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ve one subject out cross valid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dom guessing = 5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1120" y="3673440"/>
            <a:ext cx="7817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013"/>
                </a:solidFill>
                <a:latin typeface="Arial"/>
              </a:rPr>
              <a:t>Result Eval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F738-1759-4563-AE41-A612B8E3CAC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FC64C-1B24-48A9-8CF8-A3CE02809333}" type="datetime2">
              <a:rPr lang="en-US"/>
              <a:t>Thursday, July 30, 20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3240" y="501480"/>
            <a:ext cx="848196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013"/>
                </a:solidFill>
                <a:latin typeface="Arial"/>
              </a:rPr>
              <a:t>Significantly Better than Random Guessing?</a:t>
            </a:r>
            <a:r>
              <a:rPr b="1" lang="en-US" sz="4800" spc="-1" strike="noStrike">
                <a:solidFill>
                  <a:srgbClr val="fdd013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dd01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459080" y="1509840"/>
                <a:ext cx="6163920" cy="29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s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s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s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306600" y="5272200"/>
            <a:ext cx="2346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per bound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94E6-A1DF-4FB5-A648-80823CB78AD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4BEEA-5212-45B1-B794-6FFB4E7A421A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6240" y="939600"/>
            <a:ext cx="84819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013"/>
                </a:solidFill>
                <a:latin typeface="Arial"/>
              </a:rPr>
              <a:t>Feature Selection and Abstraction</a:t>
            </a:r>
            <a:endParaRPr b="1" lang="en-US" sz="36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9440" y="1795320"/>
            <a:ext cx="79149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dd0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d013"/>
                </a:solidFill>
                <a:latin typeface="Arial"/>
              </a:rPr>
              <a:t>Average</a:t>
            </a:r>
            <a:r>
              <a:rPr b="0" lang="en-US" sz="2400" spc="-1" strike="noStrike">
                <a:solidFill>
                  <a:srgbClr val="fdd013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e average all voxels in an ROI into a supervox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dd0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d013"/>
                </a:solidFill>
                <a:latin typeface="Arial"/>
              </a:rPr>
              <a:t>ActiveAvg(n)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each ROI, we first select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st active voxels, and then average the selected voxels into a supervox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001"/>
              </a:spcBef>
              <a:buClr>
                <a:srgbClr val="fdd0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d013"/>
                </a:solidFill>
                <a:latin typeface="Arial"/>
              </a:rPr>
              <a:t>Active(n)</a:t>
            </a:r>
            <a:r>
              <a:rPr b="0" lang="en-US" sz="2400" spc="-1" strike="noStrike">
                <a:solidFill>
                  <a:srgbClr val="fdd013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e select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st active voxels in the whole brain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5189400"/>
            <a:ext cx="89694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ity-based selection Vs. Discriminability-based se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CEB7-57E9-445A-8EAA-0B741EC8C5A0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84941-75FB-4342-8C19-048FC705720D}" type="datetime2">
              <a:rPr lang="en-US"/>
              <a:t>Thursday, July 30, 2026</a:t>
            </a:fld>
          </a:p>
        </p:txBody>
      </p:sp>
    </p:spTree>
  </p:cSld>
  <p:transition spd="med"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352520"/>
            <a:ext cx="9144000" cy="0"/>
          </a:xfrm>
          <a:prstGeom prst="line">
            <a:avLst/>
          </a:prstGeom>
          <a:ln w="66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3720" y="1693800"/>
            <a:ext cx="7297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Arial"/>
              </a:rPr>
              <a:t>The problem</a:t>
            </a:r>
            <a:r>
              <a:rPr b="1" lang="en-US" sz="3200" spc="-1" strike="noStrike">
                <a:solidFill>
                  <a:srgbClr val="ffcc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82160" y="1501920"/>
            <a:ext cx="545760" cy="4986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82160" y="1503360"/>
            <a:ext cx="545760" cy="995400"/>
          </a:xfrm>
          <a:prstGeom prst="rect">
            <a:avLst/>
          </a:prstGeom>
          <a:solidFill>
            <a:srgbClr val="ff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835760" y="1359000"/>
            <a:ext cx="4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28120" y="640080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66200" y="226548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360" y="2666880"/>
            <a:ext cx="727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a553"/>
                </a:solidFill>
                <a:latin typeface="Arial"/>
              </a:rPr>
              <a:t>Appro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83600" y="2508120"/>
            <a:ext cx="544320" cy="62712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32720" y="2922480"/>
            <a:ext cx="6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82160" y="3129120"/>
            <a:ext cx="545760" cy="1055520"/>
          </a:xfrm>
          <a:prstGeom prst="rect">
            <a:avLst/>
          </a:prstGeom>
          <a:solidFill>
            <a:srgbClr val="ff7c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93200" y="3968640"/>
            <a:ext cx="5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5760" y="4645080"/>
            <a:ext cx="727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3e0ff"/>
                </a:solidFill>
                <a:latin typeface="Arial"/>
              </a:rPr>
              <a:t>Cross-subject classif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82160" y="4186080"/>
            <a:ext cx="545760" cy="1925640"/>
          </a:xfrm>
          <a:prstGeom prst="rect">
            <a:avLst/>
          </a:prstGeom>
          <a:solidFill>
            <a:srgbClr val="b3e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69080" y="593424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82160" y="6108840"/>
            <a:ext cx="54576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1360" y="3661560"/>
            <a:ext cx="4881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Arial"/>
              </a:rPr>
              <a:t>Two case stu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872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5760" y="5605560"/>
            <a:ext cx="727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2200" y="370440"/>
            <a:ext cx="8310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Using Machine Learning to Detect Cognitive States across Multiple Su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69040" y="2500200"/>
            <a:ext cx="1498680" cy="0"/>
          </a:xfrm>
          <a:prstGeom prst="line">
            <a:avLst/>
          </a:prstGeom>
          <a:ln w="101520">
            <a:solidFill>
              <a:srgbClr val="01a5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72280" y="3154320"/>
            <a:ext cx="1498680" cy="0"/>
          </a:xfrm>
          <a:prstGeom prst="line">
            <a:avLst/>
          </a:prstGeom>
          <a:ln w="10152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0762-1222-4082-8C93-5D93FC8DDA6C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5636F-4968-4ABA-B1D4-FB407B14CB7C}" type="datetime2">
              <a:rPr lang="en-US"/>
              <a:t>Thursday, July 30, 2026</a:t>
            </a:fld>
          </a:p>
        </p:txBody>
      </p:sp>
    </p:spTree>
  </p:cSld>
  <p:transition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33333E-006 L -4.72222E-006 0.09121 E">
                                      <p:cBhvr>
                                        <p:cTn id="116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819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Study 1: Sentence versus Picture</a:t>
            </a:r>
            <a:endParaRPr b="1" lang="en-US" sz="32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1120" y="1488960"/>
            <a:ext cx="41673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al: read sentence, view picture, and answer whether sentence describes picture correct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 presented first in half of trials (PS), sentence first in other half (SP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4160" y="1498680"/>
            <a:ext cx="3975120" cy="35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e every 0.5 secon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teen subjec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possible objects: star, dollar, pl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ed by Just et a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03120" y="5421240"/>
                <a:ext cx="87044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fMR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equence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entence,Pictur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BFDF-0EB0-4840-A29A-150C7E06040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76E6F-FCCB-4034-B09A-9871E29AB8FB}" type="datetime2">
              <a:rPr lang="en-US"/>
              <a:t>Thursday, July 30, 2026</a:t>
            </a:fld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168560" y="2819520"/>
            <a:ext cx="698472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is true that the star is above the plu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06640" y="900000"/>
            <a:ext cx="69847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_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29160" y="2844720"/>
            <a:ext cx="139680" cy="139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71680" indent="-5716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077E-5407-457F-896B-123320A1DF1A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68574-4022-40CC-B45E-EE353EFF5316}" type="datetime2">
              <a:rPr lang="en-US"/>
              <a:t>Thursday, July 30, 2026</a:t>
            </a:fld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74680" y="517680"/>
            <a:ext cx="8481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d013"/>
                </a:solidFill>
                <a:latin typeface="Arial"/>
              </a:rPr>
              <a:t>Difference between Affirmative and Negated Trials 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912960" y="1095480"/>
            <a:ext cx="7277040" cy="545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2764-A733-4C70-A8FB-F4687F3EC26F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7DC9C-E9F1-472E-84B4-C0FE0F1FE3FD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12960" y="1095480"/>
            <a:ext cx="7261200" cy="5445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74680" y="517680"/>
            <a:ext cx="8481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d013"/>
                </a:solidFill>
                <a:latin typeface="Arial"/>
              </a:rPr>
              <a:t>Difference between Affirmative and Negated Trials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0FD2-AEB8-4CEF-91FE-73140F4F97A3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BBB66-18BD-420E-A25E-F3A21DEA86C7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352520"/>
            <a:ext cx="9144000" cy="0"/>
          </a:xfrm>
          <a:prstGeom prst="line">
            <a:avLst/>
          </a:prstGeom>
          <a:ln w="66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3720" y="1693800"/>
            <a:ext cx="7297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Arial"/>
              </a:rPr>
              <a:t>The problem</a:t>
            </a:r>
            <a:r>
              <a:rPr b="1" lang="en-US" sz="3200" spc="-1" strike="noStrike">
                <a:solidFill>
                  <a:srgbClr val="ffcc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82160" y="1501920"/>
            <a:ext cx="545760" cy="4986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82160" y="1503360"/>
            <a:ext cx="545760" cy="995400"/>
          </a:xfrm>
          <a:prstGeom prst="rect">
            <a:avLst/>
          </a:prstGeom>
          <a:solidFill>
            <a:srgbClr val="ff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35760" y="1359000"/>
            <a:ext cx="4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728120" y="640080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66200" y="226548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360" y="2666880"/>
            <a:ext cx="727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a553"/>
                </a:solidFill>
                <a:latin typeface="Arial"/>
              </a:rPr>
              <a:t>Appro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83600" y="2508120"/>
            <a:ext cx="544320" cy="62712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32720" y="2922480"/>
            <a:ext cx="6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82160" y="3129120"/>
            <a:ext cx="545760" cy="1055520"/>
          </a:xfrm>
          <a:prstGeom prst="rect">
            <a:avLst/>
          </a:prstGeom>
          <a:solidFill>
            <a:srgbClr val="ff7c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93200" y="3968640"/>
            <a:ext cx="5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5760" y="4645080"/>
            <a:ext cx="727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3e0ff"/>
                </a:solidFill>
                <a:latin typeface="Arial"/>
              </a:rPr>
              <a:t>Cross-subject classif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282160" y="4186080"/>
            <a:ext cx="545760" cy="1925640"/>
          </a:xfrm>
          <a:prstGeom prst="rect">
            <a:avLst/>
          </a:prstGeom>
          <a:solidFill>
            <a:srgbClr val="b3e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69080" y="593424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282160" y="6108840"/>
            <a:ext cx="54576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360" y="3661560"/>
            <a:ext cx="4881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Arial"/>
              </a:rPr>
              <a:t>Two case stu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872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5760" y="5605560"/>
            <a:ext cx="727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69040" y="1568520"/>
            <a:ext cx="1498680" cy="0"/>
          </a:xfrm>
          <a:prstGeom prst="line">
            <a:avLst/>
          </a:prstGeom>
          <a:ln w="10152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2200" y="370440"/>
            <a:ext cx="8310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Using Machine Learning to Detect Cognitive States across Multiple Su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B9C5-DE7E-4D2E-BA62-9BEFDF3FD45A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4EAAD-810E-428B-8569-54ACAAD3A2EB}" type="datetime2">
              <a:rPr lang="en-US"/>
              <a:t>Thursday, July 30, 2026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74680" y="517680"/>
            <a:ext cx="8481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d013"/>
                </a:solidFill>
                <a:latin typeface="Arial"/>
              </a:rPr>
              <a:t>Difference between Affirmative and Negated Trials (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12960" y="1095480"/>
            <a:ext cx="7245360" cy="543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E214-CDAE-48CA-8F56-394F016E63EC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A5188-6C6A-4144-AFF9-9BE4B297C793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4800" y="1096560"/>
            <a:ext cx="84823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013"/>
                </a:solidFill>
                <a:latin typeface="Arial"/>
              </a:rPr>
              <a:t>Normalization</a:t>
            </a:r>
            <a:endParaRPr b="1" lang="en-US" sz="3600" spc="-1" strike="noStrike">
              <a:solidFill>
                <a:srgbClr val="fdd01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519280" y="2298600"/>
                <a:ext cx="3675240" cy="14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t</m:t>
                            </m:r>
                          </m:lim>
                        </m:limLow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t</m:t>
                            </m:r>
                          </m:lim>
                        </m:limLow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t</m:t>
                            </m:r>
                          </m:lim>
                        </m:limLow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844560" y="4122720"/>
            <a:ext cx="7689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’s an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’s are the data from a trial before and after normalization, respective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D1D8-604C-4FE5-AEF0-4ED5C2E8BB29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97E9A-B32C-4C8C-AD81-9D4C45F290D7}" type="datetime2">
              <a:rPr lang="en-US"/>
              <a:t>Thursday, July 30, 2026</a:t>
            </a:fld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8480" y="563040"/>
            <a:ext cx="8481960" cy="86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013"/>
                </a:solidFill>
                <a:latin typeface="Arial"/>
              </a:rPr>
              <a:t>Average accuracies of single subject classifiers in the Sentence versus Picture study</a:t>
            </a:r>
            <a:endParaRPr b="1" lang="en-US" sz="2800" spc="-1" strike="noStrike">
              <a:solidFill>
                <a:srgbClr val="fdd013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27160" y="1530360"/>
          <a:ext cx="8716680" cy="4521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7160" y="1530360"/>
                    <a:ext cx="871668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2CA0-2ACF-408D-A267-01E55D1D0E48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B57EB-E9F4-42ED-A45A-0359C82D2CE3}" type="datetime2">
              <a:rPr lang="en-US"/>
              <a:t>Thursday, July 30, 2026</a:t>
            </a:fld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503280"/>
            <a:ext cx="8481960" cy="86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013"/>
                </a:solidFill>
                <a:latin typeface="Arial"/>
              </a:rPr>
              <a:t>Average accuracies of single subject classifiers in the Sentence versus Picture study</a:t>
            </a:r>
            <a:endParaRPr b="1" lang="en-US" sz="2800" spc="-1" strike="noStrike">
              <a:solidFill>
                <a:srgbClr val="fdd013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55560" y="1647720"/>
          <a:ext cx="7740720" cy="4383360"/>
        </p:xfrm>
        <a:graphic>
          <a:graphicData uri="http://schemas.openxmlformats.org/drawingml/2006/table">
            <a:tbl>
              <a:tblPr/>
              <a:tblGrid>
                <a:gridCol w="1548000"/>
                <a:gridCol w="1549440"/>
                <a:gridCol w="1546200"/>
                <a:gridCol w="1549440"/>
                <a:gridCol w="154764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IFI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 + P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.5% (90.6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.5% (79.6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.6% (66.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V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.7% (89.0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.5% (83.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.2% (69.8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.1% (86.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.6% (61.9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.8% (59.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.2% (87.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.8% (69.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.6% (59.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.0% (89.4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.9% (74.6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.9% (60.4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Avg(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.0% (95.4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.0% (88.1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.1% (75.4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Avg(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.8% (94.4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.2% (82.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.0% (71.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Avg(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.8% (95.4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.4% (83.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.6% (73.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Avg(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.0% (95.0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.7% (86.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.6% (73.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(14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.5% (96.9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.0% (89.0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.2% (84.3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(14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.3% (94.0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.7% (83.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.2% (86.0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(14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.2% (96.0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.9% (86.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.8% (87.0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(14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.9% (96.3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.6% (86.9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.1% (86.1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1920960" y="6248520"/>
            <a:ext cx="55483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accuracies within parenthesis are with normalizati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AAE7-0FFF-4054-8C70-5550A9451172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8DFC1-C146-429B-9196-AC45DEC926D6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641520"/>
            <a:ext cx="84819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Study 2: Syntactic Ambiguity</a:t>
            </a:r>
            <a:endParaRPr b="1" lang="en-US" sz="32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6280" y="1434960"/>
            <a:ext cx="380988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al: Read sentence, read a T/F question, and answer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sentences are ambiguous,  and others n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1330200"/>
            <a:ext cx="380988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e every 1.5 seco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su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 ambiguous, ten unambiguous sentences per su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ed by J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66840" y="5321160"/>
                <a:ext cx="8777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fMR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equence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mbiguous,Unambiguou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200C-D8F7-4CD7-BFC3-F045D4E52860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B04F1-CEAF-48DE-BE6E-F7C24D4911AC}" type="datetime2">
              <a:rPr lang="en-US"/>
              <a:t>Thursday, July 30, 2026</a:t>
            </a:fld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4819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Study 2: Syntactic Ambiguity</a:t>
            </a:r>
            <a:endParaRPr b="1" lang="en-US" sz="32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6600" y="2130480"/>
            <a:ext cx="8502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perienced soldiers warned about the dangers conducted the midnight raid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perienced solders spoke about the dangers before the midnight raid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99D9-595E-4FF6-B7EA-BD5C7EF9793D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AED97-299D-4FFB-BAAA-C563F47C339D}" type="datetime2">
              <a:rPr lang="en-US"/>
              <a:t>Thursday, July 30, 20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86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013"/>
                </a:solidFill>
                <a:latin typeface="Arial"/>
              </a:rPr>
              <a:t>Average accuracies of single subject classifiers in the Syntactic Ambiguity study</a:t>
            </a:r>
            <a:endParaRPr b="1" lang="en-US" sz="2800" spc="-1" strike="noStrike">
              <a:solidFill>
                <a:srgbClr val="fdd013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73240" y="1413000"/>
          <a:ext cx="6735600" cy="4383000"/>
        </p:xfrm>
        <a:graphic>
          <a:graphicData uri="http://schemas.openxmlformats.org/drawingml/2006/table">
            <a:tbl>
              <a:tblPr/>
              <a:tblGrid>
                <a:gridCol w="2117520"/>
                <a:gridCol w="2408400"/>
                <a:gridCol w="220968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IFI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G. ACCURAC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V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Avg(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Avg(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Avg(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Avg(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(8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(8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(8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(8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803D-C37A-4B2F-8968-25AC96105FD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7EDFD-1C7A-453C-A0AE-BBB7B605BFC8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352520"/>
            <a:ext cx="9144000" cy="0"/>
          </a:xfrm>
          <a:prstGeom prst="line">
            <a:avLst/>
          </a:prstGeom>
          <a:ln w="66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3720" y="1693800"/>
            <a:ext cx="7297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Arial"/>
              </a:rPr>
              <a:t>The problem</a:t>
            </a:r>
            <a:r>
              <a:rPr b="1" lang="en-US" sz="3200" spc="-1" strike="noStrike">
                <a:solidFill>
                  <a:srgbClr val="ffcc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282160" y="1501920"/>
            <a:ext cx="545760" cy="4986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82160" y="1503360"/>
            <a:ext cx="545760" cy="995400"/>
          </a:xfrm>
          <a:prstGeom prst="rect">
            <a:avLst/>
          </a:prstGeom>
          <a:solidFill>
            <a:srgbClr val="ff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35760" y="1359000"/>
            <a:ext cx="4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28120" y="640080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66200" y="226548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360" y="2666880"/>
            <a:ext cx="727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a553"/>
                </a:solidFill>
                <a:latin typeface="Arial"/>
              </a:rPr>
              <a:t>Appro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83600" y="2508120"/>
            <a:ext cx="544320" cy="62712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32720" y="2922480"/>
            <a:ext cx="6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82160" y="3129120"/>
            <a:ext cx="545760" cy="1055520"/>
          </a:xfrm>
          <a:prstGeom prst="rect">
            <a:avLst/>
          </a:prstGeom>
          <a:solidFill>
            <a:srgbClr val="ff7c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93200" y="3968640"/>
            <a:ext cx="5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5760" y="4645080"/>
            <a:ext cx="727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3e0ff"/>
                </a:solidFill>
                <a:latin typeface="Arial"/>
              </a:rPr>
              <a:t>Cross-subject classif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82160" y="4186080"/>
            <a:ext cx="545760" cy="1925640"/>
          </a:xfrm>
          <a:prstGeom prst="rect">
            <a:avLst/>
          </a:prstGeom>
          <a:solidFill>
            <a:srgbClr val="b3e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69080" y="593424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82160" y="6108840"/>
            <a:ext cx="54576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360" y="3661560"/>
            <a:ext cx="4881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Arial"/>
              </a:rPr>
              <a:t>Two case stu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872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5760" y="5605560"/>
            <a:ext cx="727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2200" y="370440"/>
            <a:ext cx="8310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Using Machine Learning to Detect Cognitive States across Multiple Su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53200" y="3124080"/>
            <a:ext cx="1498680" cy="0"/>
          </a:xfrm>
          <a:prstGeom prst="line">
            <a:avLst/>
          </a:prstGeom>
          <a:ln w="10152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3480" y="4202280"/>
            <a:ext cx="1498680" cy="0"/>
          </a:xfrm>
          <a:prstGeom prst="line">
            <a:avLst/>
          </a:prstGeom>
          <a:ln w="101520">
            <a:solidFill>
              <a:srgbClr val="b3e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6DFC-C0A8-4593-966D-0C3DC10B9A56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9D561-77B7-47DA-9142-F90DFC0C90C8}" type="datetime2">
              <a:rPr lang="en-US"/>
              <a:t>Thursday, July 30, 2026</a:t>
            </a:fld>
          </a:p>
        </p:txBody>
      </p:sp>
    </p:spTree>
  </p:cSld>
  <p:transition>
    <p:dissolv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44444E-006 L -0.0033 0.15092 E">
                                      <p:cBhvr>
                                        <p:cTn id="164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8196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Lowest accuracy that is significantly better than random guessing</a:t>
            </a:r>
            <a:endParaRPr b="1" lang="en-US" sz="3200" spc="-1" strike="noStrike">
              <a:solidFill>
                <a:srgbClr val="fdd013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74680" y="1857240"/>
          <a:ext cx="8502480" cy="1154160"/>
        </p:xfrm>
        <a:graphic>
          <a:graphicData uri="http://schemas.openxmlformats.org/drawingml/2006/table">
            <a:tbl>
              <a:tblPr/>
              <a:tblGrid>
                <a:gridCol w="1904760"/>
                <a:gridCol w="1586160"/>
                <a:gridCol w="1674720"/>
                <a:gridCol w="1636560"/>
                <a:gridCol w="170028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+P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NTACTIC AMBIGU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of exampl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est accurac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.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.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.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508040" y="3278160"/>
                <a:ext cx="6027840" cy="290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s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s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s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0929-FCAC-441F-A3ED-A7F3E230962B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30EEC-BC40-48CE-BC0A-DBBEB19B6F00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972720"/>
            <a:ext cx="78166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013"/>
                </a:solidFill>
                <a:latin typeface="Arial"/>
              </a:rPr>
              <a:t>ROI Mapping</a:t>
            </a:r>
            <a:endParaRPr b="1" lang="en-US" sz="36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1881360"/>
            <a:ext cx="7147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advantage of the anatomically defined ROIs as basis for spatially abstracting the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all or some voxles in an ROI into supervoxel and combine data in terms of RO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09720" y="4578480"/>
            <a:ext cx="71895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 fMRI data from different subjects into the standard Talairach-Tournoux coordin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2680" y="3763800"/>
            <a:ext cx="7816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013"/>
                </a:solidFill>
                <a:latin typeface="Arial"/>
              </a:rPr>
              <a:t>Talairach Transfor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19F4-1EE5-416E-BCCA-D8C6F82F87C1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F750B-8ECD-4384-95F1-10C69E2EC03A}" type="datetime2">
              <a:rPr lang="en-US"/>
              <a:t>Thursday, July 30, 20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400" y="507600"/>
            <a:ext cx="78166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013"/>
                </a:solidFill>
                <a:latin typeface="Arial"/>
              </a:rPr>
              <a:t>functional Magnetic Resonance Imaging (fMRI)</a:t>
            </a:r>
            <a:endParaRPr b="1" lang="en-US" sz="36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16000" y="1693800"/>
            <a:ext cx="60292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R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Structural/Anatomical Im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MR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Functional Im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859120"/>
            <a:ext cx="876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013"/>
                </a:solidFill>
                <a:latin typeface="Arial"/>
              </a:rPr>
              <a:t>Blood Oxygen Level Dependent (BOL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23920" y="4187880"/>
            <a:ext cx="60292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ndicator of neural ac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5667480"/>
            <a:ext cx="8763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013"/>
                </a:solidFill>
                <a:latin typeface="Arial"/>
              </a:rPr>
              <a:t>Region of Interest (ROI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4897440"/>
            <a:ext cx="8763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013"/>
                </a:solidFill>
                <a:latin typeface="Arial"/>
              </a:rPr>
              <a:t>Vox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6F14-870F-4D85-A766-EFF949AD9D5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A2621-7D1A-4C7C-8F91-D6BB66877B9C}" type="datetime2">
              <a:rPr lang="en-US"/>
              <a:t>Thursday, July 30, 2026</a:t>
            </a:fld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64680" y="853560"/>
            <a:ext cx="84819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ROI Mapping Vs. Talairach transformation</a:t>
            </a:r>
            <a:endParaRPr b="1" lang="en-US" sz="3200" spc="-1" strike="noStrike">
              <a:solidFill>
                <a:srgbClr val="fdd013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14200" y="2133720"/>
          <a:ext cx="8532720" cy="2293920"/>
        </p:xfrm>
        <a:graphic>
          <a:graphicData uri="http://schemas.openxmlformats.org/drawingml/2006/table">
            <a:tbl>
              <a:tblPr/>
              <a:tblGrid>
                <a:gridCol w="2558880"/>
                <a:gridCol w="3130560"/>
                <a:gridCol w="28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I MAPP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AIRA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tial resolu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I of irregular sha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4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m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ubic vox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ci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ally decreases noi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roduces additional noi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icienc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als with smaller data se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als with larger data se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x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eas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raordinarily complex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ckground knowled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E9A4-BF2C-4245-9974-A213DE813FC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0A1C3-1924-44A8-A45C-26AE887F8A34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34800" y="2728800"/>
            <a:ext cx="848232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d013"/>
                </a:solidFill>
                <a:latin typeface="Arial"/>
              </a:rPr>
              <a:t>METHOD 1:</a:t>
            </a:r>
            <a:br>
              <a:rPr sz="4000"/>
            </a:br>
            <a:r>
              <a:rPr b="1" lang="en-US" sz="4000" spc="-1" strike="noStrike">
                <a:solidFill>
                  <a:srgbClr val="fdd013"/>
                </a:solidFill>
                <a:latin typeface="Arial"/>
              </a:rPr>
              <a:t>ROI MAPPING</a:t>
            </a:r>
            <a:endParaRPr b="1" lang="en-US" sz="40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B054-EBB5-454D-AFBB-7AD9FB0ADDA1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575E5-4303-4141-B4AE-643030E20B0C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759960"/>
            <a:ext cx="848196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Cross-subject Classifier ---- ROI mapping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fdd013"/>
                </a:solidFill>
                <a:latin typeface="Arial"/>
              </a:rPr>
              <a:t>Study 1: Sentence versus Picture</a:t>
            </a:r>
            <a:endParaRPr b="1" lang="en-US" sz="2400" spc="-1" strike="noStrike">
              <a:solidFill>
                <a:srgbClr val="fdd013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95280" y="2479680"/>
          <a:ext cx="8502480" cy="3138480"/>
        </p:xfrm>
        <a:graphic>
          <a:graphicData uri="http://schemas.openxmlformats.org/drawingml/2006/table">
            <a:tbl>
              <a:tblPr/>
              <a:tblGrid>
                <a:gridCol w="1699920"/>
                <a:gridCol w="1701720"/>
                <a:gridCol w="1698840"/>
                <a:gridCol w="1701720"/>
                <a:gridCol w="170028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IFI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 + P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.7% (88.8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.1% (82.3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.5% (74.3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V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.8% (86.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.4% (77.1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.8% (75.3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.4% (84.8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.6% (73.8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.6% (63.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.9% (86.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.8% (75.8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.5% (67.3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.4% (88.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.9% (78.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.7% (68.3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Avg(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.2% (92.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.6% (87.3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.4% (72.8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Avg(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.8% (91.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.2% (83.8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.4% (66.0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Avg(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.9% (93.1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.5% (86.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.0% (71.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Avg(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.1% (93.8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.8% (87.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.6% (72.0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1874880" y="5958000"/>
            <a:ext cx="55483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accuracies within parenthesis are with normalizati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E677-5046-4F26-A276-F19F79895CE7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7260F-992E-4E68-8554-F4C79421B1EB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853560"/>
            <a:ext cx="84819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SP Dataset ---- ROI Mapping</a:t>
            </a:r>
            <a:endParaRPr b="1" lang="en-US" sz="3200" spc="-1" strike="noStrike">
              <a:solidFill>
                <a:srgbClr val="fdd013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5760" y="1368360"/>
          <a:ext cx="8447040" cy="4386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5760" y="1368360"/>
                    <a:ext cx="844704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EEB0-9CB3-41E2-AA84-315C68562EC9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6FEE9-3C59-495E-8EA3-5ED764CF8182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853560"/>
            <a:ext cx="84819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PS Dataset ---- ROI Mapping</a:t>
            </a:r>
            <a:endParaRPr b="1" lang="en-US" sz="32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1492200"/>
            <a:ext cx="6811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001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8640" y="1370160"/>
          <a:ext cx="8437680" cy="4387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8640" y="1370160"/>
                    <a:ext cx="8437680" cy="43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0815-CC77-4248-8089-257488F5F0D0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4BCB8-BE23-4116-AC7B-A16EE8551884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853560"/>
            <a:ext cx="84819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SP+PS Dataset ---- ROI Mapping</a:t>
            </a:r>
            <a:endParaRPr b="1" lang="en-US" sz="3200" spc="-1" strike="noStrike">
              <a:solidFill>
                <a:srgbClr val="fdd013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5760" y="1370160"/>
          <a:ext cx="8427960" cy="4389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5760" y="1370160"/>
                    <a:ext cx="8427960" cy="43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C115-2472-4233-80B7-E1C3658AA311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46FCB-A487-4F10-B323-C99463F65B40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336600" y="2281320"/>
          <a:ext cx="8502480" cy="3138480"/>
        </p:xfrm>
        <a:graphic>
          <a:graphicData uri="http://schemas.openxmlformats.org/drawingml/2006/table">
            <a:tbl>
              <a:tblPr/>
              <a:tblGrid>
                <a:gridCol w="2673000"/>
                <a:gridCol w="3040200"/>
                <a:gridCol w="278928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IFI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G. ACCURAC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V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Avg(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Avg(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Avg(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Avg(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759960"/>
            <a:ext cx="8481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Cross-subject Classifier ---- ROI mapping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fdd013"/>
                </a:solidFill>
                <a:latin typeface="Arial"/>
              </a:rPr>
              <a:t>Study 2: Syntactic Ambiguity</a:t>
            </a:r>
            <a:endParaRPr b="1" lang="en-US" sz="24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1DA9-3D2F-47B2-978D-4986E8B6E86B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0EB23-103C-44F0-8FBD-CCCEB214BAC6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502920"/>
            <a:ext cx="84819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Syntactic Ambiguity ---- ROI Mapping</a:t>
            </a:r>
            <a:endParaRPr b="1" lang="en-US" sz="3200" spc="-1" strike="noStrike">
              <a:solidFill>
                <a:srgbClr val="fdd013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55760" y="1370160"/>
          <a:ext cx="8022960" cy="4662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5760" y="1370160"/>
                    <a:ext cx="802296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008F-C079-4A67-966D-B8F610D0B8F0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63DD99-02C3-44CB-93B5-231DED5F570B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0400" y="2666520"/>
            <a:ext cx="848196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d013"/>
                </a:solidFill>
                <a:latin typeface="Arial"/>
              </a:rPr>
              <a:t>METHOD 2:</a:t>
            </a:r>
            <a:br>
              <a:rPr sz="4000"/>
            </a:br>
            <a:r>
              <a:rPr b="1" lang="en-US" sz="4000" spc="-1" strike="noStrike">
                <a:solidFill>
                  <a:srgbClr val="fdd013"/>
                </a:solidFill>
                <a:latin typeface="Arial"/>
              </a:rPr>
              <a:t>TALAIRACH TRANSFORMATION</a:t>
            </a:r>
            <a:br>
              <a:rPr sz="4000"/>
            </a:br>
            <a:r>
              <a:rPr b="1" lang="en-US" sz="4000" spc="-1" strike="noStrike">
                <a:solidFill>
                  <a:srgbClr val="fdd013"/>
                </a:solidFill>
                <a:latin typeface="Arial"/>
              </a:rPr>
              <a:t>(Syntactic Ambiguity)</a:t>
            </a:r>
            <a:endParaRPr b="1" lang="en-US" sz="40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1020-43FB-4F01-9A0A-CD64AB86060A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AA5B7-5DB4-4AF8-A568-F0CFBF1199B8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297080" y="4745160"/>
            <a:ext cx="7308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d01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dd013"/>
                </a:solidFill>
                <a:latin typeface="Arial"/>
              </a:rPr>
              <a:t>Subject D</a:t>
            </a:r>
            <a:r>
              <a:rPr b="1" lang="en-US" sz="2400" spc="-1" strike="noStrike">
                <a:solidFill>
                  <a:srgbClr val="fdd01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dd01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dd013"/>
                </a:solidFill>
                <a:latin typeface="Arial"/>
              </a:rPr>
              <a:t>Subject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7160" y="1015560"/>
            <a:ext cx="848196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gittal view in Talairach space</a:t>
            </a:r>
            <a:endParaRPr b="1" lang="en-US" sz="24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38720" y="6545160"/>
            <a:ext cx="5915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dd013"/>
                </a:solidFill>
                <a:latin typeface="Arial"/>
              </a:rPr>
              <a:t>(# of voxels with activity value greater than 50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8840" y="5167440"/>
            <a:ext cx="1131840" cy="42048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71640" y="5224320"/>
            <a:ext cx="81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ff"/>
                </a:solidFill>
                <a:latin typeface="Arial"/>
              </a:rPr>
              <a:t>1217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53040" y="5137200"/>
            <a:ext cx="1131840" cy="42048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05280" y="6067440"/>
            <a:ext cx="1131840" cy="42084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40240" y="5194440"/>
            <a:ext cx="81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ff"/>
                </a:solidFill>
                <a:latin typeface="Arial"/>
              </a:rPr>
              <a:t>116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65560" y="6108840"/>
            <a:ext cx="81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ff"/>
                </a:solidFill>
                <a:latin typeface="Arial"/>
              </a:rPr>
              <a:t>729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68600" y="5559480"/>
            <a:ext cx="654120" cy="522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875120" y="5545080"/>
            <a:ext cx="479520" cy="59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244520" y="1413000"/>
            <a:ext cx="3189240" cy="33638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4627440" y="1411200"/>
            <a:ext cx="3194280" cy="33670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17520" y="436680"/>
            <a:ext cx="8481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Do the scanning bands overlap exact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D7E3-899C-4622-B66D-091D31C90826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53BAD-9904-43D9-A941-EB9981BA2DA5}" type="datetime2">
              <a:rPr lang="en-US"/>
              <a:t>Thursday, July 30, 20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rcRect l="1562" t="8166" r="8594" b="5207"/>
          <a:stretch/>
        </p:blipFill>
        <p:spPr>
          <a:xfrm>
            <a:off x="1135080" y="1041480"/>
            <a:ext cx="7237440" cy="5427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5760" y="439560"/>
            <a:ext cx="7816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013"/>
                </a:solidFill>
                <a:latin typeface="Arial"/>
              </a:rPr>
              <a:t>A Small Portion of fMRI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9C5E-B903-4A32-B4D3-C753A6BCACE1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4BFEE-7E8E-40A8-BAAB-BE531B8EB052}" type="datetime2">
              <a:rPr lang="en-US"/>
              <a:t>Thursday, July 30, 2026</a:t>
            </a:fld>
          </a:p>
        </p:txBody>
      </p:sp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004760" y="1015920"/>
            <a:ext cx="7239240" cy="54291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31640" y="453960"/>
            <a:ext cx="7871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d013"/>
                </a:solidFill>
                <a:latin typeface="Arial"/>
              </a:rPr>
              <a:t># of voxels Vs. Intensity thresh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4755-B696-4A35-9654-DFFFF6158319}" type="slidenum">
              <a:t>4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A1098-56AE-4523-84B7-637ED841CC7E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862280" y="955800"/>
            <a:ext cx="5284800" cy="5572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31640" y="453960"/>
            <a:ext cx="7871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d013"/>
                </a:solidFill>
                <a:latin typeface="Arial"/>
              </a:rPr>
              <a:t>5449 Voxels in Talairach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DAB7-2754-4103-80AD-55B7B56031E9}" type="slidenum">
              <a:t>4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8D591-B3F6-4093-9892-0AD627AC589B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380880" y="3559320"/>
          <a:ext cx="8502840" cy="1920600"/>
        </p:xfrm>
        <a:graphic>
          <a:graphicData uri="http://schemas.openxmlformats.org/drawingml/2006/table">
            <a:tbl>
              <a:tblPr/>
              <a:tblGrid>
                <a:gridCol w="2833920"/>
                <a:gridCol w="2835360"/>
                <a:gridCol w="2833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IFI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ST ACCURAC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OF VOXELS (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,98,100,1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V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2,194,1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517680"/>
            <a:ext cx="8481960" cy="25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Cross-subject Classifier ---- Talairach transformation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fdd013"/>
                </a:solidFill>
                <a:latin typeface="Arial"/>
              </a:rPr>
              <a:t>Study 2: Syntactic Ambiguity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out feature selection, best accuracy is 59% (SVM).</a:t>
            </a:r>
            <a:br>
              <a:rPr sz="2000"/>
            </a:br>
            <a:endParaRPr b="1" lang="en-US" sz="20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37040" y="3011400"/>
            <a:ext cx="2928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A215-A663-4D6B-BB1B-9E9DD6AF6263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12CA7-D766-4128-B45D-156FA0056C7B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1352520"/>
            <a:ext cx="9144000" cy="0"/>
          </a:xfrm>
          <a:prstGeom prst="line">
            <a:avLst/>
          </a:prstGeom>
          <a:ln w="66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3720" y="1693800"/>
            <a:ext cx="7297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Arial"/>
              </a:rPr>
              <a:t>Approach </a:t>
            </a:r>
            <a:r>
              <a:rPr b="1" lang="en-US" sz="3200" spc="-1" strike="noStrike">
                <a:solidFill>
                  <a:srgbClr val="ffcc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82160" y="1501920"/>
            <a:ext cx="545760" cy="4986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82160" y="1503360"/>
            <a:ext cx="545760" cy="898560"/>
          </a:xfrm>
          <a:prstGeom prst="rect">
            <a:avLst/>
          </a:prstGeom>
          <a:solidFill>
            <a:srgbClr val="ff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31280" y="1370160"/>
            <a:ext cx="5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88160" y="640080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66200" y="226836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1360" y="2666880"/>
            <a:ext cx="727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a553"/>
                </a:solidFill>
                <a:latin typeface="Arial"/>
              </a:rPr>
              <a:t>Two Case stu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283600" y="2395440"/>
            <a:ext cx="544320" cy="14194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48560" y="3606840"/>
            <a:ext cx="6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282160" y="3813120"/>
            <a:ext cx="545760" cy="1163520"/>
          </a:xfrm>
          <a:prstGeom prst="rect">
            <a:avLst/>
          </a:prstGeom>
          <a:solidFill>
            <a:srgbClr val="ff7c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50000" y="477360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5760" y="4630680"/>
            <a:ext cx="727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3e0ff"/>
                </a:solidFill>
                <a:latin typeface="Arial"/>
              </a:rPr>
              <a:t>Talairach transformation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282160" y="4978440"/>
            <a:ext cx="545760" cy="1022400"/>
          </a:xfrm>
          <a:prstGeom prst="rect">
            <a:avLst/>
          </a:prstGeom>
          <a:solidFill>
            <a:srgbClr val="b3e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69080" y="572940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82160" y="5985000"/>
            <a:ext cx="545760" cy="61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360" y="3661560"/>
            <a:ext cx="4881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Arial"/>
              </a:rPr>
              <a:t>ROI mapping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6872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5760" y="5605560"/>
            <a:ext cx="727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dd01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37360" y="5105520"/>
            <a:ext cx="1498680" cy="0"/>
          </a:xfrm>
          <a:prstGeom prst="line">
            <a:avLst/>
          </a:prstGeom>
          <a:ln w="101520">
            <a:solidFill>
              <a:srgbClr val="b3e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2200" y="370440"/>
            <a:ext cx="8310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013"/>
                </a:solidFill>
                <a:latin typeface="Arial"/>
              </a:rPr>
              <a:t>Using Machine Learning to Detect Cognitive States across Multiple Su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56440" y="6032520"/>
            <a:ext cx="1498320" cy="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9B24-0A70-462B-A8E3-E58D55149B93}" type="slidenum">
              <a:t>4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1E237-2589-4764-8A71-631E8FC9963D}" type="datetime2">
              <a:rPr lang="en-US"/>
              <a:t>Thursday, July 30, 2026</a:t>
            </a:fld>
          </a:p>
        </p:txBody>
      </p:sp>
    </p:spTree>
  </p:cSld>
  <p:transition>
    <p:dissolv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4444E-006 L -2.5E-006 0.13125 E">
                                      <p:cBhvr>
                                        <p:cTn id="184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61440" y="536400"/>
            <a:ext cx="85568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d013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14160" y="1758960"/>
            <a:ext cx="7972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train classifiers across multiple subjects based upon fMRI data using ROI mapping or Talairach transform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7400" y="2824200"/>
            <a:ext cx="7972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even can train cross-subject classifiers across diverse contex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9200" y="3699000"/>
            <a:ext cx="7972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-subject classifier accuracy is comparable to single subject classifier accurac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22440" y="4670280"/>
            <a:ext cx="7972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crease in the sparsity of the training set after combining data from different subjects greatly compensates for the variability among subjec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265B-F7B1-474D-95D3-B6C1293228A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331DD-4A57-4664-9B1F-6BA2154EBAB4}" type="datetime2">
              <a:rPr lang="en-US"/>
              <a:t>Thursday, July 30, 2026</a:t>
            </a:fld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61440" y="536400"/>
            <a:ext cx="85568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d013"/>
                </a:solidFill>
                <a:latin typeface="Arial"/>
              </a:rPr>
              <a:t>Future Work</a:t>
            </a:r>
            <a:endParaRPr b="1" lang="en-US" sz="40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83920" y="2033280"/>
            <a:ext cx="7972200" cy="21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the temporal behavior of fMRI data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 data from multiple studi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dd01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the computational cognitive models into accoun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4ECC-330C-4603-8516-3902792AC40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E5D4A-41E4-44DD-9C4E-0D42D9981720}" type="datetime2">
              <a:rPr lang="en-US"/>
              <a:t>Thursday, July 30, 20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105552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d013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dd013"/>
                </a:solidFill>
                <a:latin typeface="Arial"/>
              </a:rPr>
              <a:t>Thank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251240" y="1011240"/>
            <a:ext cx="341316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f. Tom Mitch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f. Marcel Ju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f. William Ed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uis Barr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ladimir Cherkassk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becca Hutchin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othy Kel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rishna Kumaraswam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ika La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du Niculesc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ncisco Per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cardo Sil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el We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iaofan Zha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D625-97B6-4F12-86D5-FC960EADCD51}" type="slidenum">
              <a:t>4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9145B-9C4B-4E1D-A948-47A24B3082A3}" type="datetime2">
              <a:rPr lang="en-US"/>
              <a:t>Thursday, July 30, 20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4920" y="98424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d013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dd013"/>
                </a:solidFill>
                <a:latin typeface="Arial"/>
              </a:rPr>
              <a:t>Questions</a:t>
            </a:r>
            <a:endParaRPr b="1" lang="en-US" sz="40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66480" y="4257720"/>
            <a:ext cx="877716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r: http://www.cs.cmu.edu/~xuerui/xuerui_kdd.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lides: http://www.cs.cmu.edu/~xuerui/xuerui_kdd.pp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301920" y="1569960"/>
            <a:ext cx="2635200" cy="258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1436-348C-4DD1-9C1F-C1BEE92C91D2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45655-741E-4021-B12A-60548414547A}" type="datetime2">
              <a:rPr lang="en-US"/>
              <a:t>Thursday, July 30, 2026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1240" y="625320"/>
            <a:ext cx="84819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013"/>
                </a:solidFill>
                <a:latin typeface="Arial"/>
              </a:rPr>
              <a:t>Goal of This Project</a:t>
            </a:r>
            <a:endParaRPr b="1" lang="en-US" sz="36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6040" y="3571920"/>
            <a:ext cx="829944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explore the use of machine learning methods to approximate classification functions of the following fo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11200" y="4800600"/>
                <a:ext cx="8020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fMR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equence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CognitiveStat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493560" y="1743120"/>
            <a:ext cx="789012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machine learning classifiers to automatically decode multiple subjects’ cognitive states, given their fMRI activity at a time interv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A0A2-8280-4F52-B1E5-83C64E9E348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AF03A-FE8F-4673-8060-CEEA370617C1}" type="datetime2">
              <a:rPr lang="en-US"/>
              <a:t>Thursday, July 30, 2026</a:t>
            </a:fld>
          </a:p>
        </p:txBody>
      </p:sp>
    </p:spTree>
  </p:cSld>
  <p:transition spd="med">
    <p:wipe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1128600"/>
            <a:ext cx="84819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013"/>
                </a:solidFill>
                <a:latin typeface="Arial"/>
              </a:rPr>
              <a:t>Why multiple subjects?</a:t>
            </a:r>
            <a:endParaRPr b="1" lang="en-US" sz="36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9760" y="2079720"/>
            <a:ext cx="78897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usef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icultie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tomical variability among su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ctional variability among su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C4F2-500B-4BAF-BFD0-B08EC0A54E0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3B8AD-9A77-4941-8799-1BE6617556EF}" type="datetime2">
              <a:rPr lang="en-US"/>
              <a:t>Thursday, July 30, 2026</a:t>
            </a:fld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1240" y="624960"/>
            <a:ext cx="84819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013"/>
                </a:solidFill>
                <a:latin typeface="Arial"/>
              </a:rPr>
              <a:t>The Role of Training Classifiers in fMRI Data Analysis</a:t>
            </a:r>
            <a:endParaRPr b="1" lang="en-US" sz="36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6640" y="2257560"/>
            <a:ext cx="80121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ead of some descriptive summary of fMRI data, we want some predictive analysis of fMRI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7680" y="3340080"/>
            <a:ext cx="758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rn the mapping from observed fMRI data to the subject’s state, instead of the mapping from the subject’s task to activity in particular reg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1480" y="4803840"/>
            <a:ext cx="75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lassify the cognitive states based upon a single time interval instead of computing some statistics of the whole fMRI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B29C-DE09-4ED6-A2F0-C7C3FDF40E16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F0B548-113E-47FA-BBDB-BE899C08EDFC}" type="datetime2">
              <a:rPr lang="en-US"/>
              <a:t>Thursday, July 30, 2026</a:t>
            </a:fld>
          </a:p>
        </p:txBody>
      </p:sp>
    </p:spTree>
  </p:cSld>
  <p:transition spd="med">
    <p:wipe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71240" y="625320"/>
            <a:ext cx="84819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013"/>
                </a:solidFill>
                <a:latin typeface="Arial"/>
              </a:rPr>
              <a:t>Is This Problem Interesting?</a:t>
            </a:r>
            <a:endParaRPr b="1" lang="en-US" sz="3600" spc="-1" strike="noStrike">
              <a:solidFill>
                <a:srgbClr val="fdd013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0800" y="1770120"/>
            <a:ext cx="80121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basis for new approaches to studying human reasoning processes in both normal and abnormal popul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ful to scientists and clinicians across a range of cognitive science research and diagnostic medical applic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ase study of machine learning from extremely high dimensional, sparse, and noisy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6C81-A7B7-4054-87DD-FD5310D97B4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C8F75-E716-4B61-85CA-F0A338DA9246}" type="datetime2">
              <a:rPr lang="en-US"/>
              <a:t>Thursday, July 30, 2026</a:t>
            </a:fld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000" y="202680"/>
            <a:ext cx="8556480" cy="10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d013"/>
                </a:solidFill>
                <a:latin typeface="Arial"/>
              </a:rPr>
              <a:t>Human Visual Recognition</a:t>
            </a:r>
            <a:br>
              <a:rPr sz="4400"/>
            </a:br>
            <a:r>
              <a:rPr b="1" lang="en-US" sz="2800" spc="-1" strike="noStrike">
                <a:solidFill>
                  <a:srgbClr val="fdd013"/>
                </a:solidFill>
                <a:latin typeface="Arial"/>
              </a:rPr>
              <a:t>[Haxby et al., 2001]</a:t>
            </a:r>
            <a:endParaRPr b="1" lang="en-US" sz="2800" spc="-1" strike="noStrike">
              <a:solidFill>
                <a:srgbClr val="fdd013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41146" t="9898" r="14844" b="8333"/>
          <a:stretch/>
        </p:blipFill>
        <p:spPr>
          <a:xfrm>
            <a:off x="3618000" y="896760"/>
            <a:ext cx="4278240" cy="59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1D6C-1A9F-49A0-9DBB-6A9AAD39435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C991A-9217-4529-B197-E85E60B157C1}" type="datetime2">
              <a:rPr lang="en-US"/>
              <a:t>Thursday, July 30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4T18:38:01Z</dcterms:created>
  <dc:creator>Xuerui Wang</dc:creator>
  <dc:description/>
  <dc:language>en-US</dc:language>
  <cp:lastModifiedBy>xuerui</cp:lastModifiedBy>
  <dcterms:modified xsi:type="dcterms:W3CDTF">2003-05-15T17:03:40Z</dcterms:modified>
  <cp:revision>282</cp:revision>
  <dc:subject/>
  <dc:title>Research and Design for Knowledge Management System</dc:title>
</cp:coreProperties>
</file>