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4AFD-9618-4358-ABE7-E90AAFD5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FDBA-6954-4819-9D8F-D6F2BA59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40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40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FF05-B196-469A-A329-44B99DE8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302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302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40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40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40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CF53-A229-49A2-9778-14EC1083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3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D24F-800A-4531-B566-AC06CBCB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E35-4912-42C3-974F-73032D2D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F7A-E527-4AD5-9822-5134C54E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E8E-6E79-4C18-BE8A-91C4E401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840" y="152280"/>
            <a:ext cx="855648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8FA-B947-4CCA-8733-1520EAE3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40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C8E7-F217-4217-974D-94D5005B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40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40FB-0A65-4D97-BF15-81293171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37D-CCB2-4DC6-9497-475A8DE0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840" y="152280"/>
            <a:ext cx="85564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629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D555-2898-4440-A31B-4E97A301D95C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33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0240" y="52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SimSun"/>
              </a:rPr>
              <a:t>Classifying Instantaneous Cognitive States from fMRI Data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20840" y="2374920"/>
            <a:ext cx="640080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m Mitchell, Rebecca Hutchinson, Marcel Just, Stefan Niculescu, Francisco Pereira, Xuerui W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vember,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D6E-41B1-4D3B-93FD-9660806E66C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68560" y="2819520"/>
            <a:ext cx="6984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6141-396C-4197-8CE0-D8619A6D81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0" y="3530520"/>
            <a:ext cx="13968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F2C3-9EFC-462E-B5B4-6208EC12799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Is Subject Viewing Picture or Sentence?</a:t>
            </a:r>
            <a:endParaRPr b="1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4582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 subjects, 40 training trials (40 pics, 40 sentenc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397 - 2864 voxels per subject, 7 RO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MRI snapshot taken every half seco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fMRI(t,t+8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{Picture, Sentence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ve two out cross-validation was used to assess the performance of the classif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VMs and GNB worked better than kN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72E-D070-4FD9-8080-C0D3FF8C072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52280"/>
            <a:ext cx="9144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Error for Single-Subject Classifi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0" y="1141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7640" y="1558800"/>
            <a:ext cx="9145080" cy="3358800"/>
            <a:chOff x="17640" y="1558800"/>
            <a:chExt cx="9145080" cy="3358800"/>
          </a:xfrm>
        </p:grpSpPr>
        <p:grpSp>
          <p:nvGrpSpPr>
            <p:cNvPr id="79" name=""/>
            <p:cNvGrpSpPr/>
            <p:nvPr/>
          </p:nvGrpSpPr>
          <p:grpSpPr>
            <a:xfrm>
              <a:off x="23040" y="1561680"/>
              <a:ext cx="9132480" cy="3353040"/>
              <a:chOff x="23040" y="1561680"/>
              <a:chExt cx="9132480" cy="335304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23040" y="1561680"/>
                <a:ext cx="2526120" cy="1067040"/>
                <a:chOff x="23040" y="1561680"/>
                <a:chExt cx="2526120" cy="10670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42200" y="1561680"/>
                  <a:ext cx="2287440" cy="106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Dataset \ Classifier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3040" y="1561680"/>
                  <a:ext cx="2526120" cy="106704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549520" y="1561680"/>
                <a:ext cx="1320480" cy="1067040"/>
                <a:chOff x="2549520" y="1561680"/>
                <a:chExt cx="1320480" cy="10670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667960" y="1561680"/>
                  <a:ext cx="1082520" cy="106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GN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549520" y="1561680"/>
                  <a:ext cx="1320480" cy="106704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3870360" y="1561680"/>
                <a:ext cx="1321200" cy="1067040"/>
                <a:chOff x="3870360" y="1561680"/>
                <a:chExt cx="1321200" cy="106704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3989520" y="1561680"/>
                  <a:ext cx="1082520" cy="106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SV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870360" y="1561680"/>
                  <a:ext cx="1321200" cy="106704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192280" y="1561680"/>
                <a:ext cx="1320480" cy="1067040"/>
                <a:chOff x="5192280" y="1561680"/>
                <a:chExt cx="1320480" cy="106704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310720" y="1561680"/>
                  <a:ext cx="1082520" cy="106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1N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192280" y="1561680"/>
                  <a:ext cx="1320480" cy="106704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6513480" y="1561680"/>
                <a:ext cx="1320480" cy="1067040"/>
                <a:chOff x="6513480" y="1561680"/>
                <a:chExt cx="1320480" cy="106704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6632640" y="1561680"/>
                  <a:ext cx="1082520" cy="106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3N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513480" y="1561680"/>
                  <a:ext cx="1320480" cy="106704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7834320" y="1561680"/>
                <a:ext cx="1321200" cy="1067040"/>
                <a:chOff x="7834320" y="1561680"/>
                <a:chExt cx="1321200" cy="10670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7953480" y="1561680"/>
                  <a:ext cx="1082520" cy="106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5N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834320" y="1561680"/>
                  <a:ext cx="1321200" cy="106704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23040" y="2628720"/>
                <a:ext cx="2526120" cy="761760"/>
                <a:chOff x="23040" y="2628720"/>
                <a:chExt cx="2526120" cy="7617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42200" y="2628720"/>
                  <a:ext cx="228744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S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3040" y="2628720"/>
                  <a:ext cx="2526120" cy="76176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549520" y="2628720"/>
                <a:ext cx="1320480" cy="761760"/>
                <a:chOff x="2549520" y="2628720"/>
                <a:chExt cx="1320480" cy="7617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667960" y="2628720"/>
                  <a:ext cx="108252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549520" y="2628720"/>
                  <a:ext cx="1320480" cy="76176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870360" y="2628720"/>
                <a:ext cx="1321200" cy="761760"/>
                <a:chOff x="3870360" y="2628720"/>
                <a:chExt cx="1321200" cy="761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989520" y="2628720"/>
                  <a:ext cx="108252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1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870360" y="2628720"/>
                  <a:ext cx="1321200" cy="76176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192280" y="2628720"/>
                <a:ext cx="1320480" cy="761760"/>
                <a:chOff x="5192280" y="2628720"/>
                <a:chExt cx="1320480" cy="7617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310720" y="2628720"/>
                  <a:ext cx="108252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1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192280" y="2628720"/>
                  <a:ext cx="1320480" cy="76176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513480" y="2628720"/>
                <a:ext cx="1320480" cy="761760"/>
                <a:chOff x="6513480" y="2628720"/>
                <a:chExt cx="1320480" cy="7617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632640" y="2628720"/>
                  <a:ext cx="108252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1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513480" y="2628720"/>
                  <a:ext cx="1320480" cy="76176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7834320" y="2628720"/>
                <a:ext cx="1321200" cy="761760"/>
                <a:chOff x="7834320" y="2628720"/>
                <a:chExt cx="1321200" cy="7617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7953480" y="2628720"/>
                  <a:ext cx="108252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834320" y="2628720"/>
                  <a:ext cx="1321200" cy="76176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3040" y="3390480"/>
                <a:ext cx="2526120" cy="762120"/>
                <a:chOff x="23040" y="3390480"/>
                <a:chExt cx="2526120" cy="76212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42200" y="3390480"/>
                  <a:ext cx="228744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P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3040" y="3390480"/>
                  <a:ext cx="252612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549520" y="3390480"/>
                <a:ext cx="1320480" cy="762120"/>
                <a:chOff x="2549520" y="3390480"/>
                <a:chExt cx="1320480" cy="7621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667960" y="339048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549520" y="3390480"/>
                  <a:ext cx="132048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3870360" y="3390480"/>
                <a:ext cx="1321200" cy="762120"/>
                <a:chOff x="3870360" y="3390480"/>
                <a:chExt cx="1321200" cy="7621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989520" y="339048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1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870360" y="3390480"/>
                  <a:ext cx="132120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192280" y="3390480"/>
                <a:ext cx="1320480" cy="762120"/>
                <a:chOff x="5192280" y="3390480"/>
                <a:chExt cx="1320480" cy="7621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310720" y="339048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3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192280" y="3390480"/>
                  <a:ext cx="132048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513480" y="3390480"/>
                <a:ext cx="1320480" cy="762120"/>
                <a:chOff x="6513480" y="3390480"/>
                <a:chExt cx="1320480" cy="7621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632640" y="339048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3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513480" y="3390480"/>
                  <a:ext cx="132048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7834320" y="3390480"/>
                <a:ext cx="1321200" cy="762120"/>
                <a:chOff x="7834320" y="3390480"/>
                <a:chExt cx="1321200" cy="7621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953480" y="339048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834320" y="3390480"/>
                  <a:ext cx="132120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23040" y="4152600"/>
                <a:ext cx="2526120" cy="762120"/>
                <a:chOff x="23040" y="4152600"/>
                <a:chExt cx="2526120" cy="7621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42200" y="4152600"/>
                  <a:ext cx="228744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SP + P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3040" y="4152600"/>
                  <a:ext cx="252612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549520" y="4152600"/>
                <a:ext cx="1320480" cy="762120"/>
                <a:chOff x="2549520" y="4152600"/>
                <a:chExt cx="1320480" cy="7621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667960" y="415260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2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549520" y="4152600"/>
                  <a:ext cx="132048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3870360" y="4152600"/>
                <a:ext cx="1321200" cy="762120"/>
                <a:chOff x="3870360" y="4152600"/>
                <a:chExt cx="1321200" cy="7621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989520" y="415260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3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870360" y="4152600"/>
                  <a:ext cx="132120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192280" y="4152600"/>
                <a:ext cx="1320480" cy="762120"/>
                <a:chOff x="5192280" y="4152600"/>
                <a:chExt cx="1320480" cy="7621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310720" y="415260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4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92280" y="4152600"/>
                  <a:ext cx="132048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6513480" y="4152600"/>
                <a:ext cx="1320480" cy="762120"/>
                <a:chOff x="6513480" y="4152600"/>
                <a:chExt cx="1320480" cy="7621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6632640" y="415260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4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513480" y="4152600"/>
                  <a:ext cx="132048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7834320" y="4152600"/>
                <a:ext cx="1321200" cy="762120"/>
                <a:chOff x="7834320" y="4152600"/>
                <a:chExt cx="1321200" cy="7621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953480" y="415260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3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834320" y="4152600"/>
                  <a:ext cx="132120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2" name=""/>
            <p:cNvSpPr/>
            <p:nvPr/>
          </p:nvSpPr>
          <p:spPr>
            <a:xfrm>
              <a:off x="17640" y="1558800"/>
              <a:ext cx="9145080" cy="3358800"/>
            </a:xfrm>
            <a:prstGeom prst="rect">
              <a:avLst/>
            </a:prstGeom>
            <a:noFill/>
            <a:ln w="475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440" y="5106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3040" y="5268960"/>
            <a:ext cx="8723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5% confidence intervals per subject are 10% - 15% lar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uracy of default classifier is 5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2F4-12DD-4FC8-BE12-F55AD6F7D5A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3758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Can We Train Subject-Indep Classifiers?</a:t>
            </a:r>
            <a:endParaRPr b="1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6102" t="21834" r="20396" b="4710"/>
          <a:stretch/>
        </p:blipFill>
        <p:spPr>
          <a:xfrm>
            <a:off x="0" y="887400"/>
            <a:ext cx="5275440" cy="3954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3"/>
          <a:srcRect l="52091" t="30649" r="1617" b="21071"/>
          <a:stretch/>
        </p:blipFill>
        <p:spPr>
          <a:xfrm>
            <a:off x="4202280" y="2489040"/>
            <a:ext cx="4767120" cy="37306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658D-0B48-4BCC-9326-AA3C4CAC799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1840" y="152280"/>
            <a:ext cx="85564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Training Cross-Subject Classifiers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62040"/>
            <a:ext cx="810576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ach: define supervoxels based on anatomically defined regions of inte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ize per voxel activity for each su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value scaled now in [0,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to seven brain region supervox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6 snapshots for each supervox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n on n-1 subjects, test on 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ve one subject out cross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CF2-730E-4C34-A955-D4F55DA4197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7640" y="1460520"/>
            <a:ext cx="9143640" cy="3359160"/>
            <a:chOff x="17640" y="1460520"/>
            <a:chExt cx="9143640" cy="3359160"/>
          </a:xfrm>
        </p:grpSpPr>
        <p:grpSp>
          <p:nvGrpSpPr>
            <p:cNvPr id="161" name=""/>
            <p:cNvGrpSpPr/>
            <p:nvPr/>
          </p:nvGrpSpPr>
          <p:grpSpPr>
            <a:xfrm>
              <a:off x="23040" y="1463760"/>
              <a:ext cx="9131040" cy="3352680"/>
              <a:chOff x="23040" y="1463760"/>
              <a:chExt cx="9131040" cy="335268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23040" y="1463760"/>
                <a:ext cx="2525760" cy="1066680"/>
                <a:chOff x="23040" y="1463760"/>
                <a:chExt cx="2525760" cy="10666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42200" y="1463760"/>
                  <a:ext cx="228708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Dataset \ Classifier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3040" y="1463760"/>
                  <a:ext cx="2525760" cy="106668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549160" y="1463760"/>
                <a:ext cx="1320480" cy="1066680"/>
                <a:chOff x="2549160" y="1463760"/>
                <a:chExt cx="1320480" cy="1066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667600" y="1463760"/>
                  <a:ext cx="10825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GN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549160" y="1463760"/>
                  <a:ext cx="1320480" cy="106668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3870000" y="1463760"/>
                <a:ext cx="1320840" cy="1066680"/>
                <a:chOff x="3870000" y="1463760"/>
                <a:chExt cx="1320840" cy="10666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989160" y="1463760"/>
                  <a:ext cx="108216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SV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870000" y="1463760"/>
                  <a:ext cx="1320840" cy="106668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191560" y="1463760"/>
                <a:ext cx="1320480" cy="1066680"/>
                <a:chOff x="5191560" y="1463760"/>
                <a:chExt cx="1320480" cy="1066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310000" y="1463760"/>
                  <a:ext cx="10825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1N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191560" y="1463760"/>
                  <a:ext cx="1320480" cy="106668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6512400" y="1463760"/>
                <a:ext cx="1320480" cy="1066680"/>
                <a:chOff x="6512400" y="1463760"/>
                <a:chExt cx="1320480" cy="1066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631560" y="1463760"/>
                  <a:ext cx="10825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3N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512400" y="1463760"/>
                  <a:ext cx="1320480" cy="106668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7833240" y="1463760"/>
                <a:ext cx="1320840" cy="1066680"/>
                <a:chOff x="7833240" y="1463760"/>
                <a:chExt cx="1320840" cy="1066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7952400" y="1463760"/>
                  <a:ext cx="108216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5N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833240" y="1463760"/>
                  <a:ext cx="1320840" cy="106668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23040" y="2530440"/>
                <a:ext cx="2525760" cy="762120"/>
                <a:chOff x="23040" y="2530440"/>
                <a:chExt cx="2525760" cy="762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42200" y="2530440"/>
                  <a:ext cx="22870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S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3040" y="2530440"/>
                  <a:ext cx="252576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549160" y="2530440"/>
                <a:ext cx="1320480" cy="762120"/>
                <a:chOff x="2549160" y="2530440"/>
                <a:chExt cx="1320480" cy="762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667600" y="253044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1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549160" y="2530440"/>
                  <a:ext cx="132048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3870000" y="2530440"/>
                <a:ext cx="1320840" cy="762120"/>
                <a:chOff x="3870000" y="2530440"/>
                <a:chExt cx="1320840" cy="7621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3989160" y="2530440"/>
                  <a:ext cx="108216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1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870000" y="2530440"/>
                  <a:ext cx="132084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5191560" y="2530440"/>
                <a:ext cx="1320480" cy="762120"/>
                <a:chOff x="5191560" y="2530440"/>
                <a:chExt cx="1320480" cy="7621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310000" y="253044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1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191560" y="2530440"/>
                  <a:ext cx="132048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6512400" y="2530440"/>
                <a:ext cx="1320480" cy="762120"/>
                <a:chOff x="6512400" y="2530440"/>
                <a:chExt cx="1320480" cy="7621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631560" y="253044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1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512400" y="2530440"/>
                  <a:ext cx="132048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7833240" y="2530440"/>
                <a:ext cx="1320840" cy="762120"/>
                <a:chOff x="7833240" y="2530440"/>
                <a:chExt cx="1320840" cy="7621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7952400" y="2530440"/>
                  <a:ext cx="108216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1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833240" y="2530440"/>
                  <a:ext cx="132084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3040" y="3292560"/>
                <a:ext cx="2525760" cy="761760"/>
                <a:chOff x="23040" y="3292560"/>
                <a:chExt cx="2525760" cy="7617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42200" y="3292560"/>
                  <a:ext cx="228708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P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3040" y="3292560"/>
                  <a:ext cx="2525760" cy="76176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2549160" y="3292560"/>
                <a:ext cx="1320480" cy="761760"/>
                <a:chOff x="2549160" y="3292560"/>
                <a:chExt cx="1320480" cy="7617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667600" y="3292560"/>
                  <a:ext cx="108252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549160" y="3292560"/>
                  <a:ext cx="1320480" cy="76176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3870000" y="3292560"/>
                <a:ext cx="1320840" cy="761760"/>
                <a:chOff x="3870000" y="3292560"/>
                <a:chExt cx="1320840" cy="7617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3989160" y="3292560"/>
                  <a:ext cx="108216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2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870000" y="3292560"/>
                  <a:ext cx="1320840" cy="76176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191560" y="3292560"/>
                <a:ext cx="1320480" cy="761760"/>
                <a:chOff x="5191560" y="3292560"/>
                <a:chExt cx="1320480" cy="7617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310000" y="3292560"/>
                  <a:ext cx="108252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191560" y="3292560"/>
                  <a:ext cx="1320480" cy="76176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512400" y="3292560"/>
                <a:ext cx="1320480" cy="761760"/>
                <a:chOff x="6512400" y="3292560"/>
                <a:chExt cx="1320480" cy="7617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631560" y="3292560"/>
                  <a:ext cx="108252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2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512400" y="3292560"/>
                  <a:ext cx="1320480" cy="76176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833240" y="3292560"/>
                <a:ext cx="1320840" cy="761760"/>
                <a:chOff x="7833240" y="3292560"/>
                <a:chExt cx="1320840" cy="7617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7952400" y="3292560"/>
                  <a:ext cx="108216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2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833240" y="3292560"/>
                  <a:ext cx="1320840" cy="76176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23040" y="4054320"/>
                <a:ext cx="2525760" cy="762120"/>
                <a:chOff x="23040" y="4054320"/>
                <a:chExt cx="2525760" cy="7621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42200" y="4054320"/>
                  <a:ext cx="22870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SP + P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3040" y="4054320"/>
                  <a:ext cx="252576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2549160" y="4054320"/>
                <a:ext cx="1320480" cy="762120"/>
                <a:chOff x="2549160" y="4054320"/>
                <a:chExt cx="1320480" cy="7621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2667600" y="405432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3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549160" y="4054320"/>
                  <a:ext cx="132048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870000" y="4054320"/>
                <a:ext cx="1320840" cy="762120"/>
                <a:chOff x="3870000" y="4054320"/>
                <a:chExt cx="1320840" cy="7621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989160" y="4054320"/>
                  <a:ext cx="108216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870000" y="4054320"/>
                  <a:ext cx="132084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5191560" y="4054320"/>
                <a:ext cx="1320480" cy="762120"/>
                <a:chOff x="5191560" y="4054320"/>
                <a:chExt cx="1320480" cy="7621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10000" y="405432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3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191560" y="4054320"/>
                  <a:ext cx="132048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512400" y="4054320"/>
                <a:ext cx="1320480" cy="762120"/>
                <a:chOff x="6512400" y="4054320"/>
                <a:chExt cx="1320480" cy="7621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631560" y="405432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512400" y="4054320"/>
                  <a:ext cx="132048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7833240" y="4054320"/>
                <a:ext cx="1320840" cy="762120"/>
                <a:chOff x="7833240" y="4054320"/>
                <a:chExt cx="1320840" cy="7621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952400" y="4054320"/>
                  <a:ext cx="108216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3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833240" y="4054320"/>
                  <a:ext cx="132084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" name=""/>
            <p:cNvSpPr/>
            <p:nvPr/>
          </p:nvSpPr>
          <p:spPr>
            <a:xfrm>
              <a:off x="17640" y="1460520"/>
              <a:ext cx="9143640" cy="3359160"/>
            </a:xfrm>
            <a:prstGeom prst="rect">
              <a:avLst/>
            </a:prstGeom>
            <a:noFill/>
            <a:ln w="475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18960" y="5268960"/>
            <a:ext cx="8562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5% confidence intervals approximately 5%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uracy of default classifier is 5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0520" y="261720"/>
            <a:ext cx="85564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Error for Cross Subject Classifiers</a:t>
            </a: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BE30-1BDA-4EC3-BEEA-2298825498D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3360" y="-360"/>
            <a:ext cx="85564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Study 2: Word Categories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10880" y="1486080"/>
            <a:ext cx="36781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mily membe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ccup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o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tchen i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welling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ilding par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62440" y="1552680"/>
            <a:ext cx="3678120" cy="39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 legged anim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lo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u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eget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50CD-1513-4EB7-8CA4-350636DE589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31840" y="152280"/>
            <a:ext cx="85564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Word Categories Study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330200"/>
            <a:ext cx="84582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 blocks of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gory name (2 se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d (400 msec), Blank screen (1200 msec);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d (400 msec), Blank screen (1200 msec);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ject answers whether each word in categ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 words per block, nearly all in categ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egory blocks interspersed with 5 fixation blo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036D-7E0D-4AC1-A4AF-E9CB739924E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Training Classifier for Word Categories</a:t>
            </a:r>
            <a:endParaRPr b="1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560" y="1165320"/>
            <a:ext cx="8839080" cy="53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neurologically normal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470 - 11,136 voxels per subject, 30 RO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MRI snapshot taken every sec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fMRI(t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rd Catego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ning metho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N, GN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ve one example out from each clas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VMs not tried since this is not binary classific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1E3-989C-47C2-8AFA-A1262C3D34C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1840" y="152280"/>
            <a:ext cx="85564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fMRI and Cognitive Modeling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096920"/>
            <a:ext cx="91440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generative model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sk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gnitive state seq.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verage fMR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RO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 subject-independent, gross anatomical reg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ss subject-subject variation, trial-trial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h greater precision, reverse the pred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fMRI, behavioral data, stimulus&gt; of single subject, single trial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gnitive state seq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FC9C-0BC4-476D-B257-91F9F35FD5E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31840" y="152280"/>
            <a:ext cx="85564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Study 2: Results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83920" y="1271160"/>
            <a:ext cx="81644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ifier outputs ranked list of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by the fraction of classes ranked ahead of true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=perfect, 0.5=random, 1.0 unbelievably 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0" y="17510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884160" y="3673440"/>
            <a:ext cx="7356240" cy="1741680"/>
            <a:chOff x="884160" y="3673440"/>
            <a:chExt cx="7356240" cy="1741680"/>
          </a:xfrm>
        </p:grpSpPr>
        <p:grpSp>
          <p:nvGrpSpPr>
            <p:cNvPr id="248" name=""/>
            <p:cNvGrpSpPr/>
            <p:nvPr/>
          </p:nvGrpSpPr>
          <p:grpSpPr>
            <a:xfrm>
              <a:off x="889200" y="3675600"/>
              <a:ext cx="7344360" cy="1736280"/>
              <a:chOff x="889200" y="3675600"/>
              <a:chExt cx="7344360" cy="17362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889200" y="3675600"/>
                <a:ext cx="3048480" cy="868320"/>
                <a:chOff x="889200" y="3675600"/>
                <a:chExt cx="3048480" cy="8683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1000800" y="3675600"/>
                  <a:ext cx="2824560" cy="86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Dataset \ Classifi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89200" y="3675600"/>
                  <a:ext cx="3048480" cy="868320"/>
                </a:xfrm>
                <a:prstGeom prst="rect">
                  <a:avLst/>
                </a:prstGeom>
                <a:noFill/>
                <a:ln w="507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938040" y="3675600"/>
                <a:ext cx="1069560" cy="868320"/>
                <a:chOff x="3938040" y="3675600"/>
                <a:chExt cx="1069560" cy="8683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049640" y="3675600"/>
                  <a:ext cx="845640" cy="86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GN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938040" y="3675600"/>
                  <a:ext cx="1069560" cy="868320"/>
                </a:xfrm>
                <a:prstGeom prst="rect">
                  <a:avLst/>
                </a:prstGeom>
                <a:noFill/>
                <a:ln w="507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5008320" y="3675600"/>
                <a:ext cx="1069560" cy="868320"/>
                <a:chOff x="5008320" y="3675600"/>
                <a:chExt cx="1069560" cy="8683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119560" y="3675600"/>
                  <a:ext cx="846360" cy="86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1N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008320" y="3675600"/>
                  <a:ext cx="1069560" cy="868320"/>
                </a:xfrm>
                <a:prstGeom prst="rect">
                  <a:avLst/>
                </a:prstGeom>
                <a:noFill/>
                <a:ln w="507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6078600" y="3675600"/>
                <a:ext cx="1085040" cy="868320"/>
                <a:chOff x="6078600" y="3675600"/>
                <a:chExt cx="1085040" cy="8683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6189840" y="3675600"/>
                  <a:ext cx="861840" cy="86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3N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078600" y="3675600"/>
                  <a:ext cx="1085040" cy="868320"/>
                </a:xfrm>
                <a:prstGeom prst="rect">
                  <a:avLst/>
                </a:prstGeom>
                <a:noFill/>
                <a:ln w="507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7164000" y="3675600"/>
                <a:ext cx="1069560" cy="868320"/>
                <a:chOff x="7164000" y="3675600"/>
                <a:chExt cx="1069560" cy="86832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7275600" y="3675600"/>
                  <a:ext cx="845640" cy="86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5N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164000" y="3675600"/>
                  <a:ext cx="1069560" cy="868320"/>
                </a:xfrm>
                <a:prstGeom prst="rect">
                  <a:avLst/>
                </a:prstGeom>
                <a:noFill/>
                <a:ln w="507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889200" y="4543920"/>
                <a:ext cx="3048480" cy="867960"/>
                <a:chOff x="889200" y="4543920"/>
                <a:chExt cx="3048480" cy="8679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1000800" y="4543920"/>
                  <a:ext cx="2824560" cy="86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Word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89200" y="4543920"/>
                  <a:ext cx="3048480" cy="867960"/>
                </a:xfrm>
                <a:prstGeom prst="rect">
                  <a:avLst/>
                </a:prstGeom>
                <a:noFill/>
                <a:ln w="507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3938040" y="4543920"/>
                <a:ext cx="1069560" cy="867960"/>
                <a:chOff x="3938040" y="4543920"/>
                <a:chExt cx="1069560" cy="8679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049640" y="4543920"/>
                  <a:ext cx="845640" cy="86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938040" y="4543920"/>
                  <a:ext cx="1069560" cy="867960"/>
                </a:xfrm>
                <a:prstGeom prst="rect">
                  <a:avLst/>
                </a:prstGeom>
                <a:noFill/>
                <a:ln w="507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5008320" y="4543920"/>
                <a:ext cx="1069560" cy="867960"/>
                <a:chOff x="5008320" y="4543920"/>
                <a:chExt cx="1069560" cy="8679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119560" y="4543920"/>
                  <a:ext cx="846360" cy="86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008320" y="4543920"/>
                  <a:ext cx="1069560" cy="867960"/>
                </a:xfrm>
                <a:prstGeom prst="rect">
                  <a:avLst/>
                </a:prstGeom>
                <a:noFill/>
                <a:ln w="507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078600" y="4543920"/>
                <a:ext cx="1085040" cy="867960"/>
                <a:chOff x="6078600" y="4543920"/>
                <a:chExt cx="1085040" cy="8679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189840" y="4543920"/>
                  <a:ext cx="861840" cy="86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078600" y="4543920"/>
                  <a:ext cx="1085040" cy="867960"/>
                </a:xfrm>
                <a:prstGeom prst="rect">
                  <a:avLst/>
                </a:prstGeom>
                <a:noFill/>
                <a:ln w="507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7164000" y="4543920"/>
                <a:ext cx="1069560" cy="867960"/>
                <a:chOff x="7164000" y="4543920"/>
                <a:chExt cx="1069560" cy="8679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7275600" y="4543920"/>
                  <a:ext cx="845640" cy="86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164000" y="4543920"/>
                  <a:ext cx="1069560" cy="867960"/>
                </a:xfrm>
                <a:prstGeom prst="rect">
                  <a:avLst/>
                </a:prstGeom>
                <a:noFill/>
                <a:ln w="507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9" name=""/>
            <p:cNvSpPr/>
            <p:nvPr/>
          </p:nvSpPr>
          <p:spPr>
            <a:xfrm>
              <a:off x="884160" y="3673440"/>
              <a:ext cx="7356240" cy="1741680"/>
            </a:xfrm>
            <a:prstGeom prst="rect">
              <a:avLst/>
            </a:prstGeom>
            <a:noFill/>
            <a:ln w="507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440" y="44974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90B-65C0-42B1-9DF0-016AFFB2B0B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1840" y="152280"/>
            <a:ext cx="85564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Study 3: Syntactic Ambiguity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subject reading ambiguous or unambiguous senten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xperienced soldiers warned about the dangers conducted the midnight raid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xperienced soldiers spoke about the dangers before the midnight raid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seconds per sentence, 4 seconds to answer, 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13DE-AE6D-4675-8144-50BBDEBC089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31840" y="152280"/>
            <a:ext cx="85564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Study 3: Results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 subjects, 20 examples per subject (10 per cla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00 – 3508 voxels per subject, 4 RO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MRI snapshot each 1.5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rn fMRI(t,t+15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{Ambiguous, Not Ambiguous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most random results if no feature selection u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feature selection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VM - 77% accura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NB - 75% accura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NN – 72% accura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8C54-3E8D-481F-95F8-18DB6E25587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885960" y="1509840"/>
            <a:ext cx="7735680" cy="43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feature selection method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cti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st active available voxels according to a t-t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oiActi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st active voxels in each RO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oiActiveAv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average of the n most active voxels in each RO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n most discriminating voxels according to a trained classifi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cti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orks b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7080" y="225360"/>
            <a:ext cx="855684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Feature Selection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7FFC-BFC5-496B-8FE9-968D6852C94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440" y="-1297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7640" y="1359000"/>
            <a:ext cx="9145080" cy="4730760"/>
            <a:chOff x="17640" y="1359000"/>
            <a:chExt cx="9145080" cy="4730760"/>
          </a:xfrm>
        </p:grpSpPr>
        <p:grpSp>
          <p:nvGrpSpPr>
            <p:cNvPr id="289" name=""/>
            <p:cNvGrpSpPr/>
            <p:nvPr/>
          </p:nvGrpSpPr>
          <p:grpSpPr>
            <a:xfrm>
              <a:off x="23040" y="1360440"/>
              <a:ext cx="9133200" cy="4727160"/>
              <a:chOff x="23040" y="1360440"/>
              <a:chExt cx="9133200" cy="472716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23040" y="1360440"/>
                <a:ext cx="1257120" cy="981000"/>
                <a:chOff x="23040" y="1360440"/>
                <a:chExt cx="1257120" cy="981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40760" y="1360440"/>
                  <a:ext cx="102096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Dataset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3040" y="1360440"/>
                  <a:ext cx="1257120" cy="98100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280520" y="1360440"/>
                <a:ext cx="1311840" cy="981000"/>
                <a:chOff x="1280520" y="1360440"/>
                <a:chExt cx="1311840" cy="981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398240" y="1360440"/>
                  <a:ext cx="107640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Feature Selec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280520" y="1360440"/>
                  <a:ext cx="1311840" cy="98100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593080" y="1360440"/>
                <a:ext cx="1312560" cy="981000"/>
                <a:chOff x="2593080" y="1360440"/>
                <a:chExt cx="1312560" cy="9810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710800" y="1360440"/>
                  <a:ext cx="107640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GN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93080" y="1360440"/>
                  <a:ext cx="1312560" cy="98100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3906360" y="1360440"/>
                <a:ext cx="1311840" cy="981000"/>
                <a:chOff x="3906360" y="1360440"/>
                <a:chExt cx="1311840" cy="9810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023720" y="1360440"/>
                  <a:ext cx="107640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SV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906360" y="1360440"/>
                  <a:ext cx="1311840" cy="98100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218920" y="1360440"/>
                <a:ext cx="1311840" cy="981000"/>
                <a:chOff x="5218920" y="1360440"/>
                <a:chExt cx="1311840" cy="9810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336280" y="1360440"/>
                  <a:ext cx="107640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1N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218920" y="1360440"/>
                  <a:ext cx="1311840" cy="98100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6531120" y="1360440"/>
                <a:ext cx="1311840" cy="981000"/>
                <a:chOff x="6531120" y="1360440"/>
                <a:chExt cx="1311840" cy="9810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6648840" y="1360440"/>
                  <a:ext cx="107640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3N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531120" y="1360440"/>
                  <a:ext cx="1311840" cy="98100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7843680" y="1360440"/>
                <a:ext cx="1312560" cy="981000"/>
                <a:chOff x="7843680" y="1360440"/>
                <a:chExt cx="1312560" cy="9810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7961400" y="1360440"/>
                  <a:ext cx="107640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5N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843680" y="1360440"/>
                  <a:ext cx="1312560" cy="98100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3040" y="2341440"/>
                <a:ext cx="1257120" cy="624240"/>
                <a:chOff x="23040" y="2341440"/>
                <a:chExt cx="1257120" cy="6242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140760" y="2341440"/>
                  <a:ext cx="10209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PictureS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3040" y="2341440"/>
                  <a:ext cx="125712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1280520" y="2341440"/>
                <a:ext cx="1311840" cy="624240"/>
                <a:chOff x="1280520" y="2341440"/>
                <a:chExt cx="1311840" cy="62424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1398240" y="234144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N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280520" y="234144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2593080" y="2341440"/>
                <a:ext cx="1312560" cy="624240"/>
                <a:chOff x="2593080" y="2341440"/>
                <a:chExt cx="1312560" cy="6242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2710800" y="234144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2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593080" y="2341440"/>
                  <a:ext cx="131256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3906360" y="2341440"/>
                <a:ext cx="1311840" cy="624240"/>
                <a:chOff x="3906360" y="2341440"/>
                <a:chExt cx="1311840" cy="62424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4023720" y="234144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3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906360" y="234144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5218920" y="2341440"/>
                <a:ext cx="1311840" cy="624240"/>
                <a:chOff x="5218920" y="2341440"/>
                <a:chExt cx="1311840" cy="62424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5336280" y="234144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4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218920" y="234144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531120" y="2341440"/>
                <a:ext cx="1311840" cy="624240"/>
                <a:chOff x="6531120" y="2341440"/>
                <a:chExt cx="1311840" cy="6242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648840" y="234144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4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531120" y="234144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7843680" y="2341440"/>
                <a:ext cx="1312560" cy="624240"/>
                <a:chOff x="7843680" y="2341440"/>
                <a:chExt cx="1312560" cy="62424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7961400" y="234144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3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843680" y="2341440"/>
                  <a:ext cx="131256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23040" y="2965680"/>
                <a:ext cx="1257120" cy="624240"/>
                <a:chOff x="23040" y="2965680"/>
                <a:chExt cx="1257120" cy="6242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40760" y="2965680"/>
                  <a:ext cx="10209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3040" y="2965680"/>
                  <a:ext cx="125712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1280520" y="2965680"/>
                <a:ext cx="1311840" cy="624240"/>
                <a:chOff x="1280520" y="2965680"/>
                <a:chExt cx="1311840" cy="6242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1398240" y="296568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Activ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280520" y="296568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2593080" y="2965680"/>
                <a:ext cx="1312560" cy="624240"/>
                <a:chOff x="2593080" y="2965680"/>
                <a:chExt cx="1312560" cy="62424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710800" y="296568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1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593080" y="2965680"/>
                  <a:ext cx="131256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3906360" y="2965680"/>
                <a:ext cx="1311840" cy="624240"/>
                <a:chOff x="3906360" y="2965680"/>
                <a:chExt cx="1311840" cy="62424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4023720" y="296568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0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906360" y="296568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5218920" y="2965680"/>
                <a:ext cx="1311840" cy="624240"/>
                <a:chOff x="5218920" y="2965680"/>
                <a:chExt cx="1311840" cy="6242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5336280" y="296568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218920" y="296568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6531120" y="2965680"/>
                <a:ext cx="1311840" cy="624240"/>
                <a:chOff x="6531120" y="2965680"/>
                <a:chExt cx="1311840" cy="6242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6648840" y="296568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531120" y="296568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7843680" y="2965680"/>
                <a:ext cx="1312560" cy="624240"/>
                <a:chOff x="7843680" y="2965680"/>
                <a:chExt cx="1312560" cy="6242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7961400" y="296568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1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843680" y="2965680"/>
                  <a:ext cx="131256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23040" y="3590280"/>
                <a:ext cx="1257120" cy="624240"/>
                <a:chOff x="23040" y="3590280"/>
                <a:chExt cx="1257120" cy="6242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40760" y="3590280"/>
                  <a:ext cx="10209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Word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3040" y="3590280"/>
                  <a:ext cx="125712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280520" y="3590280"/>
                <a:ext cx="1311840" cy="624240"/>
                <a:chOff x="1280520" y="3590280"/>
                <a:chExt cx="1311840" cy="6242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398240" y="359028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N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280520" y="359028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593080" y="3590280"/>
                <a:ext cx="1312560" cy="624240"/>
                <a:chOff x="2593080" y="3590280"/>
                <a:chExt cx="1312560" cy="6242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710800" y="359028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593080" y="3590280"/>
                  <a:ext cx="131256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906360" y="3590280"/>
                <a:ext cx="1311840" cy="624240"/>
                <a:chOff x="3906360" y="3590280"/>
                <a:chExt cx="1311840" cy="6242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4023720" y="359028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N/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906360" y="359028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218920" y="3590280"/>
                <a:ext cx="1311840" cy="624240"/>
                <a:chOff x="5218920" y="3590280"/>
                <a:chExt cx="1311840" cy="6242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336280" y="359028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218920" y="359028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531120" y="3590280"/>
                <a:ext cx="1311840" cy="624240"/>
                <a:chOff x="6531120" y="3590280"/>
                <a:chExt cx="1311840" cy="6242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648840" y="359028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531120" y="359028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843680" y="3590280"/>
                <a:ext cx="1312560" cy="624240"/>
                <a:chOff x="7843680" y="3590280"/>
                <a:chExt cx="1312560" cy="6242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961400" y="359028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843680" y="3590280"/>
                  <a:ext cx="131256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23040" y="4214520"/>
                <a:ext cx="1257120" cy="624240"/>
                <a:chOff x="23040" y="4214520"/>
                <a:chExt cx="1257120" cy="6242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140760" y="4214520"/>
                  <a:ext cx="10209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3040" y="4214520"/>
                  <a:ext cx="125712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280520" y="4214520"/>
                <a:ext cx="1311840" cy="624240"/>
                <a:chOff x="1280520" y="4214520"/>
                <a:chExt cx="1311840" cy="6242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398240" y="421452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Activ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280520" y="421452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2593080" y="4214520"/>
                <a:ext cx="1312560" cy="624240"/>
                <a:chOff x="2593080" y="4214520"/>
                <a:chExt cx="1312560" cy="6242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710800" y="421452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0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593080" y="4214520"/>
                  <a:ext cx="131256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3906360" y="4214520"/>
                <a:ext cx="1311840" cy="624240"/>
                <a:chOff x="3906360" y="4214520"/>
                <a:chExt cx="1311840" cy="6242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4023720" y="421452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N/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906360" y="421452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5218920" y="4214520"/>
                <a:ext cx="1311840" cy="624240"/>
                <a:chOff x="5218920" y="4214520"/>
                <a:chExt cx="1311840" cy="62424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5336280" y="421452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3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218920" y="421452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6531120" y="4214520"/>
                <a:ext cx="1311840" cy="624240"/>
                <a:chOff x="6531120" y="4214520"/>
                <a:chExt cx="1311840" cy="62424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6648840" y="421452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531120" y="421452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7843680" y="4214520"/>
                <a:ext cx="1312560" cy="624240"/>
                <a:chOff x="7843680" y="4214520"/>
                <a:chExt cx="1312560" cy="6242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7961400" y="421452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1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843680" y="4214520"/>
                  <a:ext cx="131256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23040" y="4838760"/>
                <a:ext cx="1257120" cy="624240"/>
                <a:chOff x="23040" y="4838760"/>
                <a:chExt cx="1257120" cy="6242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140760" y="4838760"/>
                  <a:ext cx="10209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Sy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Am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3040" y="4838760"/>
                  <a:ext cx="125712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1280520" y="4838760"/>
                <a:ext cx="1311840" cy="624240"/>
                <a:chOff x="1280520" y="4838760"/>
                <a:chExt cx="1311840" cy="6242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1398240" y="483876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N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280520" y="483876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2593080" y="4838760"/>
                <a:ext cx="1312560" cy="624240"/>
                <a:chOff x="2593080" y="4838760"/>
                <a:chExt cx="1312560" cy="6242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2710800" y="483876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4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3080" y="4838760"/>
                  <a:ext cx="131256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3906360" y="4838760"/>
                <a:ext cx="1311840" cy="624240"/>
                <a:chOff x="3906360" y="4838760"/>
                <a:chExt cx="1311840" cy="6242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4023720" y="483876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3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906360" y="483876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5218920" y="4838760"/>
                <a:ext cx="1311840" cy="624240"/>
                <a:chOff x="5218920" y="4838760"/>
                <a:chExt cx="1311840" cy="6242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5336280" y="483876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18920" y="483876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6531120" y="4838760"/>
                <a:ext cx="1311840" cy="624240"/>
                <a:chOff x="6531120" y="4838760"/>
                <a:chExt cx="1311840" cy="6242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6648840" y="483876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4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531120" y="483876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7843680" y="4838760"/>
                <a:ext cx="1312560" cy="624240"/>
                <a:chOff x="7843680" y="4838760"/>
                <a:chExt cx="1312560" cy="62424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7961400" y="483876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4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843680" y="4838760"/>
                  <a:ext cx="131256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23040" y="5463360"/>
                <a:ext cx="1257120" cy="624240"/>
                <a:chOff x="23040" y="5463360"/>
                <a:chExt cx="1257120" cy="6242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40760" y="5463360"/>
                  <a:ext cx="10209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3040" y="5463360"/>
                  <a:ext cx="125712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280520" y="5463360"/>
                <a:ext cx="1311840" cy="624240"/>
                <a:chOff x="1280520" y="5463360"/>
                <a:chExt cx="1311840" cy="6242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398240" y="546336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Activ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280520" y="546336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2593080" y="5463360"/>
                <a:ext cx="1312560" cy="624240"/>
                <a:chOff x="2593080" y="5463360"/>
                <a:chExt cx="1312560" cy="6242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2710800" y="546336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593080" y="5463360"/>
                  <a:ext cx="131256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3906360" y="5463360"/>
                <a:ext cx="1311840" cy="624240"/>
                <a:chOff x="3906360" y="5463360"/>
                <a:chExt cx="1311840" cy="6242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4023720" y="546336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2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906360" y="546336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5218920" y="5463360"/>
                <a:ext cx="1311840" cy="624240"/>
                <a:chOff x="5218920" y="5463360"/>
                <a:chExt cx="1311840" cy="6242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5336280" y="546336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2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218920" y="546336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6531120" y="5463360"/>
                <a:ext cx="1311840" cy="624240"/>
                <a:chOff x="6531120" y="5463360"/>
                <a:chExt cx="1311840" cy="62424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6648840" y="546336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2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531120" y="546336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7843680" y="5463360"/>
                <a:ext cx="1312560" cy="624240"/>
                <a:chOff x="7843680" y="5463360"/>
                <a:chExt cx="1312560" cy="62424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7961400" y="546336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2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843680" y="5463360"/>
                  <a:ext cx="131256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7" name=""/>
            <p:cNvSpPr/>
            <p:nvPr/>
          </p:nvSpPr>
          <p:spPr>
            <a:xfrm>
              <a:off x="17640" y="1359000"/>
              <a:ext cx="9145080" cy="4730760"/>
            </a:xfrm>
            <a:prstGeom prst="rect">
              <a:avLst/>
            </a:prstGeom>
            <a:noFill/>
            <a:ln w="38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440" y="73929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61440" y="195120"/>
            <a:ext cx="855684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Feature Selection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10AE-A25D-4427-946D-0DCD0A76862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1840" y="152280"/>
            <a:ext cx="85564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ful training of classifiers for instantaneous cognitive state in three stu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subject classifiers trained by abstracting to anatomically defined RO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ature selection and abstraction are essent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AA45-81C2-46C2-B46E-29EECCD81DC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31840" y="152280"/>
            <a:ext cx="85564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Research Opportunities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ing temporal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MM’s, Temporal Bayes N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vering useful data abst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CA, PCA, hidden layers in Neural N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ging data from multiple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MRI, ERP, reactio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31C2-16A8-4EEE-B47C-3E12519C4D4E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276720" y="5110200"/>
            <a:ext cx="2666880" cy="1747800"/>
            <a:chOff x="3276720" y="5110200"/>
            <a:chExt cx="2666880" cy="1747800"/>
          </a:xfrm>
        </p:grpSpPr>
        <p:pic>
          <p:nvPicPr>
            <p:cNvPr id="46" name="" descr=""/>
            <p:cNvPicPr/>
            <p:nvPr/>
          </p:nvPicPr>
          <p:blipFill>
            <a:blip r:embed="rId2"/>
            <a:srcRect l="21668" t="47337" r="41643" b="22000"/>
            <a:stretch/>
          </p:blipFill>
          <p:spPr>
            <a:xfrm>
              <a:off x="3276720" y="5110200"/>
              <a:ext cx="266688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594760" y="5258520"/>
              <a:ext cx="341640" cy="10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 rot="3299400">
            <a:off x="5310720" y="5776200"/>
            <a:ext cx="27000" cy="118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33800" y="5996160"/>
            <a:ext cx="38592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rcRect l="30418" t="19403" r="20103" b="27476"/>
          <a:stretch/>
        </p:blipFill>
        <p:spPr>
          <a:xfrm>
            <a:off x="434880" y="1077840"/>
            <a:ext cx="2687760" cy="2309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27400" y="3398760"/>
            <a:ext cx="2135160" cy="2389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82760" y="3395520"/>
            <a:ext cx="2822400" cy="26686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710240" y="2540880"/>
            <a:ext cx="420480" cy="2444760"/>
          </a:xfrm>
          <a:prstGeom prst="downArrow">
            <a:avLst>
              <a:gd name="adj1" fmla="val 50000"/>
              <a:gd name="adj2" fmla="val 145355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1609560"/>
            <a:ext cx="21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gnitive stat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7720" y="217440"/>
            <a:ext cx="21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gnitive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68320" y="663480"/>
            <a:ext cx="1800" cy="401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87640" y="1895400"/>
            <a:ext cx="944640" cy="9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54640" y="3162240"/>
            <a:ext cx="236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sensors” of cognitiv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099040" y="4037040"/>
            <a:ext cx="3797280" cy="331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51600" y="174600"/>
            <a:ext cx="3092400" cy="2844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fMRI contain enough inform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e devise learning algorithms to construct such “virtual sensors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BC5-9C65-4677-9C73-064D600B7CA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rcRect l="1562" t="8333" r="9376" b="3125"/>
          <a:stretch/>
        </p:blipFill>
        <p:spPr>
          <a:xfrm>
            <a:off x="198360" y="738360"/>
            <a:ext cx="3375000" cy="251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5807160" y="5487840"/>
            <a:ext cx="227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rcRect l="3127" t="9376" r="8594" b="5207"/>
          <a:stretch/>
        </p:blipFill>
        <p:spPr>
          <a:xfrm>
            <a:off x="1508040" y="2233440"/>
            <a:ext cx="3425760" cy="24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rcRect l="1562" t="8333" r="8594" b="5207"/>
          <a:stretch/>
        </p:blipFill>
        <p:spPr>
          <a:xfrm>
            <a:off x="3260880" y="3659040"/>
            <a:ext cx="3321000" cy="239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5"/>
          <a:srcRect l="17254" t="18556" r="12060" b="23158"/>
          <a:stretch/>
        </p:blipFill>
        <p:spPr>
          <a:xfrm>
            <a:off x="5033880" y="0"/>
            <a:ext cx="4110120" cy="254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485B-2C78-4BC1-9E00-3EC2FC3E0ED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1562" t="8166" r="8594" b="5207"/>
          <a:stretch/>
        </p:blipFill>
        <p:spPr>
          <a:xfrm>
            <a:off x="0" y="231840"/>
            <a:ext cx="9144000" cy="662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882-B9C7-41C8-BD9E-1A0BE9FC9DA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5760" y="187200"/>
            <a:ext cx="855684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Learning Virtual Sensors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2920" y="1401480"/>
            <a:ext cx="781524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 fMRI(t,t+k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gnitive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ifi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ussian Naïve Bayes, SVM, kN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ed per subject, per 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ture selection/abs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 subset of voxels (by signal, by anatom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 subinterval of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erage activities over space,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lize voxel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A900-1271-4B8D-8223-3C71F97EDEE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1840" y="152280"/>
            <a:ext cx="85564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Study 1: Pictures and Sentences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330200"/>
            <a:ext cx="794556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ial: read sentence, view picture, answer whether sentence describes pi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 presented first in half of trials, sentence first in other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e possible objects: star, dollar, 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ected by Just et 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F6E5-3A24-43A9-9AF3-E125A5266D0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68560" y="2819520"/>
            <a:ext cx="698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true that the star is above the plu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4F5-1BD2-44A5-9461-531B991A60F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037-41D8-48C7-A5B3-B1CE7C53E3E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22:10:03Z</dcterms:created>
  <dc:creator>Stefan Niculescu</dc:creator>
  <dc:description>AMIA Presentation
November 2003</dc:description>
  <dc:language>en-US</dc:language>
  <cp:lastModifiedBy>Radu Stefan Niculescu</cp:lastModifiedBy>
  <dcterms:modified xsi:type="dcterms:W3CDTF">2003-11-07T20:36:33Z</dcterms:modified>
  <cp:revision>969</cp:revision>
  <dc:subject/>
  <dc:title>Learning fMRI based sensors of cognitive states</dc:title>
</cp:coreProperties>
</file>