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s.cmu.edu/~aw/gallery.html" TargetMode="External"/><Relationship Id="rId2" Type="http://schemas.openxmlformats.org/officeDocument/2006/relationships/hyperlink" Target="http://www.cs.cmu.edu/~aw/gallery.html" TargetMode="External"/><Relationship Id="rId3" Type="http://schemas.openxmlformats.org/officeDocument/2006/relationships/hyperlink" Target="http://www.cs.cmu.edu/~aw/gallery.html" TargetMode="External"/><Relationship Id="rId4" Type="http://schemas.openxmlformats.org/officeDocument/2006/relationships/hyperlink" Target="http://www.cs.cmu.edu/~aw/gallery.html" TargetMode="External"/><Relationship Id="rId5" Type="http://schemas.openxmlformats.org/officeDocument/2006/relationships/hyperlink" Target="http://www.gvu.gatech.edu/people/faculty/greg.turk/reaction_diffusion/reaction_diffusion.html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exture Mode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41680" y="5843520"/>
            <a:ext cx="42040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ul Heckbert, Nov.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-869, Image-Based Modeling and Ren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ction-Diffusion Textur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Computer Graphi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89160" y="5408280"/>
            <a:ext cx="2347920" cy="56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Witkin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hlinkClick r:id="rId2"/>
              </a:rPr>
              <a:t>-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hlinkClick r:id="rId3"/>
              </a:rPr>
              <a:t>Kass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hlinkClick r:id="rId4"/>
              </a:rPr>
              <a:t>‘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02280" y="5398920"/>
            <a:ext cx="136224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hlinkClick r:id="rId5"/>
              </a:rPr>
              <a:t>Turk ‘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zebra3" descr=""/>
          <p:cNvPicPr/>
          <p:nvPr/>
        </p:nvPicPr>
        <p:blipFill>
          <a:blip r:embed="rId6"/>
          <a:srcRect l="10711" t="10711" r="10349" b="10349"/>
          <a:stretch/>
        </p:blipFill>
        <p:spPr>
          <a:xfrm>
            <a:off x="4797360" y="1447920"/>
            <a:ext cx="3849840" cy="3849480"/>
          </a:xfrm>
          <a:prstGeom prst="rect">
            <a:avLst/>
          </a:prstGeom>
          <a:ln w="0">
            <a:noFill/>
          </a:ln>
        </p:spPr>
      </p:pic>
      <p:pic>
        <p:nvPicPr>
          <p:cNvPr id="69" name="space_cookies" descr=""/>
          <p:cNvPicPr/>
          <p:nvPr/>
        </p:nvPicPr>
        <p:blipFill>
          <a:blip r:embed="rId7"/>
          <a:stretch/>
        </p:blipFill>
        <p:spPr>
          <a:xfrm>
            <a:off x="201600" y="1981080"/>
            <a:ext cx="43704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ction-Diffu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s organic-looking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ly generalized to surfaces in 3-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general (try to do brick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 extremely diffic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ochastic Process Terminolog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ndom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nondeterministic value with a given probability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result of roll of d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cret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chastic 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quence or array of random variables, statistically inter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states of atoms in a crystal lat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ndom 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two-dimensional stochastic process, each pixel a random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andom field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on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statistical relationships are space-invariant (translate across the im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al prob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|B,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means probability of A given B and C, e.g. probability of snow today given snow yesterday and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ov Chai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r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rkov chain is a 1-D stochastic process in which each sample’s state is dependent on i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edecessors on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ful for synthesizing plausible-looking USENET articles, term papers, Congressional Report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: scan successiv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-tuples of training data, building hist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hesis: start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uple that occurred in training set, generate next using the collected probabilities, step forward, rep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ans more similar to training data, but more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79680" y="2378160"/>
          <a:ext cx="5830920" cy="2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9680" y="2378160"/>
                    <a:ext cx="583092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ov Chain Examp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of 2nd order word-level Markov Chain [Scientific American, June 1989, Dewdney] after training on 90,000 word philosophical es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imulacrum is tr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Ecclesia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we were to revive the fable is useless.  Perhaps only the allegory of simulation is unendurable--more cruel than Artaud's Theatre of Cruelty, which was the first to practice deterrence, abstraction, disconnection, deterritorialisation, etc.; and if it were our own past.  We are witnessing the end of the negative form.  But nothing separates one pole from the very swing of voting ''rights'' to electoral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rkov random field (MRF) is the generalization of Markov chains to two dimen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 homogeneous (stationary) first-order M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d by joint probability that pix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akes a cert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given the values of neighbo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,B,C,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order MRF’s use larger neighborhood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28195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32767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28195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43800" y="23623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001000" y="28195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53341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48769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48769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48769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53341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53341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57913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57913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57913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53341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48769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8769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48769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53341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53341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7913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57913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57913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53341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4197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53341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62485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nary Markov Random Field Examp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ragged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190760" cy="4191120"/>
          </a:xfrm>
          <a:prstGeom prst="rect">
            <a:avLst/>
          </a:prstGeom>
          <a:ln w="0">
            <a:noFill/>
          </a:ln>
        </p:spPr>
      </p:pic>
      <p:pic>
        <p:nvPicPr>
          <p:cNvPr id="112" name="check2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4190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ov Random Field Synthesis by Simulated Anneal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647712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0, 1, 2, 3, 10, 50 iterations, from upper left, in column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ror2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69608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xtu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ex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adly: a multidimensional signal obeying some statistical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ut note: properties of interest are viewer-dependent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narrowly: an image that looks approximately the same, to humans, from neighborhood to neighbor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enerate a new image, from an example, such that new image is sufficiently different from the original yet still appears to be generated by the same stochastic process as the original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De Bonet, ‘9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mag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parameter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ications of Texture Model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/video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.g. this region is tree, this region is sk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/video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erhaps store only a few floats per region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.g. hole-fill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/entert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.g. skin, cloth,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irable Properties of a Texture Mod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a wide range of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ify similar images identically, dissimilar images differ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generalized to surfaces in 3-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ant for compression, se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ant for decompression, computer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pular Texture Mode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ier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Hoc Proced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-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Parametric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ic Textu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21164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 assumption: the image is periodic, completely specified by a fundamental region, typically a parallel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llowance for statistical var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approach fine if image is periodi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oo limited as a general textur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08680" y="1009800"/>
            <a:ext cx="35305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ier Ser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 image as a sum of sinusoids of various frequencies and amplit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ell for modeling (non-cresting) waves in open water, maybe sand ripples, a few other smooth, periodic phenom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ory, Fourier series can approximate anything given enough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too many terms are required (proportional to the number of pixels) for general patte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571840" y="1870200"/>
                <a:ext cx="28321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 Hoc Procedural Method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hoose your favorite functions/im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uso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bic function interpolating random                                                                 values on a grid (Perlin “noise function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-drawn sha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eces of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Compose them any way you p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You’ve got an extensible texture mode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ar for procedural texture synthesis in computer graphic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: analysis usually impossib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: synthesis works very well in limited circum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997600" y="949320"/>
            <a:ext cx="2495520" cy="4054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957920" y="2263680"/>
            <a:ext cx="695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ction-Diffusion Mod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ing suggested a model for animals and plant patter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76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pothesized that pigment production is controlled by concentrations of two or more chemic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76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hemicals diffuse (spread out), dissipate (disappear), and re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ed by a nonlinear partial differential 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more general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tter permits anisotropy, space-variant (non-stationary) patte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392120" y="3817800"/>
          <a:ext cx="4584960" cy="13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2120" y="3817800"/>
                    <a:ext cx="458496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922320" y="5838840"/>
          <a:ext cx="732960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2320" y="5838840"/>
                    <a:ext cx="73296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4T10:20:35Z</dcterms:created>
  <dc:creator/>
  <dc:description/>
  <dc:language>en-US</dc:language>
  <cp:lastModifiedBy>Paul Heckbert</cp:lastModifiedBy>
  <cp:lastPrinted>1999-11-08T21:27:30Z</cp:lastPrinted>
  <dcterms:modified xsi:type="dcterms:W3CDTF">1999-11-08T22:04:13Z</dcterms:modified>
  <cp:revision>47</cp:revision>
  <dc:subject/>
  <dc:title>No Slide Title</dc:title>
</cp:coreProperties>
</file>