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812-B80C-42FF-BA95-2FC31C37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C81-D3D6-4C75-9C3D-D1688589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E24-19E9-4D73-882D-D099942F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EC7-1A22-4255-AA40-0E458E30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2C2-3204-4AD5-BE03-52432AFF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BE1-FCB8-499D-B74D-3CDFF495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8DC-D2EB-46BA-AC46-715DBA1C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CC2-88B7-43C5-97CB-0E878C47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A56-288C-4BE3-867E-FA672A9C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8DD-8C74-475E-BFFB-D51E7CFF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2FB-322D-47A0-B771-E94575CF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2745-198A-46D3-B68E-0E2071E0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320B-6D53-41C6-929D-F653BB6FB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avel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29C-3F9F-4C67-B10B-6F0E4D379B8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son to Fourier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is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usoids with frequencies in arithmetic pro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-time Fourier Transform (&amp; Gabor fil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is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usoid times Gaus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-width Gaussian “windo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is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ies in geometric pro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has constant shape independent of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719-B2C4-4C89-82D0-05CFC416A1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let Ap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im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tures less corrupted by patient motion than with Fourier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ro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clumping of galaxies to analyze structure at various scales, determine past &amp; future of uni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fractals, chaos, turbu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4B9D-F2AB-40B3-944D-7F50484D129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lets for Denoi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noise is independent random fluctuations at each sample of 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noise distributes itself uniformly across all coefficients of a wavelet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let transforms tend to concentrate most of the “energy” in a small number of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 out the small coefficients and you’ve removed (most of) the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knowledge about noise character requir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86F-579C-4198-9E02-077BE17A04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lets, Vision, and Hea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vision &amp; hea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tina and brain have receptive fields (filters) sensitive to spots and edges at a variety of scales and trans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what similar to wavelet multiresolut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hearing also uses approximately constant shape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vi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 techniques popular and powerful for matching, tracking,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 &amp; Laplacian pyramids – wavelet precur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proces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ature Mirror Filters – wavelet precur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3B4-3D5D-4582-B19A-30E73B39F7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 Represen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of samples (time dom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difference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yramid (hierarchic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usoids of various frequency (frequency dom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ecewise polynomials (finite supp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element method, sp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ve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hierarchical, finite supp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me/frequency dom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071-575E-40C0-A7D8-69E3BBA24D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Wavele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a family of representations u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ical (nested) basi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ite (“compact”)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functions often orthog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transforms, often linear-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753-F79D-4D15-A988-F89A8B7C71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e Example: Haar Wave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piecewise-constant functions over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qual sub-intervals of [0,1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: four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93E-2853-46B8-9348-8807C216F4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sted Function Spaces for Haar B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pace of all piecewise-constant functions represented over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qual sub-intervals of [0,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111-3607-4030-B281-DE1B3C0172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 Representations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irable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ty – approximate anything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ntinuities, nonperiodicity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able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, pictures, flow field, terrain data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 – approximate function with few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s compression, storage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to compute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/integral operators are sparse in this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ample function to representation in O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 O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C49-714D-4DC0-94C8-7A51CFC80E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let History, Part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5 Fourier analysis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5 Fast Fourier Transform (FFT)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0’s beginnings of wavelets in physics, vision, speech processing (ad h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theory … why/when do wavelets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6 Mallat unified the abov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5 Morlet &amp; Grossman continuous wavelet transform … asking: how can you get perfect reconstruction without redundan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122-190A-4173-96F6-3E17C3BE5B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let History, Part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5 Meyer tried to prove that no orthogonal wavelet other than Haar exists, found one by trial and erro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7 Mallat developed multiresolution theory, DWT, wavelet construction techniques (but still noncomp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8 Daubechies added theory: found compact, orthogonal wavelets with arbitrary number of vanishing mom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0’s: wavelets took off, attracting both theoreticians and engin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5A8-015B-4439-A129-93AD5B83A7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-Frequency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applications, you want to analyze a function in both time and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a musical s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transforms give you frequency information, smeari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s of a function give you temporal information, smearing frequ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e: substitute “space” for “time” for pi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CD3-6DC4-460C-AF26-6D38D73FD2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Dec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2-11T22:47:02Z</dcterms:modified>
  <cp:revision>105</cp:revision>
  <dc:subject/>
  <dc:title>Introduction</dc:title>
</cp:coreProperties>
</file>