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F80-B99D-4A26-BF95-969F23C5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862-9E33-4A41-9577-FD7C9164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0D2-9216-48B7-95CC-3057F220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BBD-F66D-470F-8613-632FA102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2B7-B9ED-42A5-9E1A-936AF381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9CF-E2F4-401D-84BC-8268A8FC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F4E-7A93-4CB6-AB83-E128820E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182-C38B-4093-8715-807C9757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7D39-BE45-4A55-927F-E68BFBB6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C25-214B-46EB-B2CE-F4F30ADE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B38-504D-4272-8F15-9D3C7663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AD7-45E4-439A-9D1F-60AEF6BD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B3A0-5DEB-40C7-9FB2-C22DC1C34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avel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24A-4A30-4D4E-AEE9-521A2A2A581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son to Fourier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is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usoids with frequencies in arithmetic pro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-time Fourier Transform (&amp; Gabor fil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is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usoid times Gaus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-width Gaussian “windo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is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ies in geometric pro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has constant shape independent of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A864-DC83-41D6-A6E0-FEEBD74713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let Ap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im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tures less corrupted by patient motion than with Fourier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ro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clumping of galaxies to analyze structure at various scales, determine past &amp; future of uni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fractals, chaos, turbu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849-8466-4AA5-B861-512685938A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lets for Denoi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noise is independent random fluctuations at each sample of 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noise distributes itself uniformly across all coefficients of a wavelet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let transforms tend to concentrate most of the “energy” in a small number of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 out the small coefficients and you’ve removed (most of) the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knowledge about noise character requir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D35-0BCB-41BB-8C6F-75737BE157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lets, Vision, and Hea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vision &amp; hea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tina and brain have receptive fields (filters) sensitive to spots and edges at a variety of scales and trans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what similar to wavelet multiresolut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hearing also uses approximately constant shape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vi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 techniques popular and powerful for matching, tracking,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 &amp; Laplacian pyramids – wavelet precur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proces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ature Mirror Filters – wavelet precur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6FF-A674-4E9D-8D93-28CA875F3E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 Represen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of samples (time dom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difference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yramid (hierarchic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usoids of various frequency (frequency dom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ecewise polynomials (finite supp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element method, sp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ve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hierarchical, finite supp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me/frequency dom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59B-7513-49D0-90B5-1D849FD20C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Wavele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a family of representations u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ical (nested) basi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ite (“compact”)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functions often orthog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transforms, often linear-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4DF-935C-493D-B5E2-8FFB6F22BD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e Example: Haar Wave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piecewise-constant functions over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qual sub-intervals of [0,1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: four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8F8-6CFB-4ADA-ABF2-236D1C5132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sted Function Spaces for Haar B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pace of all piecewise-constant functions represented over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qual sub-intervals of [0,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AFC-248D-4023-BB6D-ED5013DB87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 Representations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irable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ty – approximate anything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ntinuities, nonperiodicity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able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, pictures, flow field, terrain data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 – approximate function with few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s compression, storage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to compute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/integral operators are sparse in this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ample function to representation in O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 O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EC7-B645-4B15-9D3E-02DC2A4D0B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let History, Part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5 Fourier analysis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5 Fast Fourier Transform (FFT)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0’s beginnings of wavelets in physics, vision, speech processing (ad h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theory … why/when do wavelets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6 Mallat unified the abov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5 Morlet &amp; Grossman continuous wavelet transform … asking: how can you get perfect reconstruction without redundan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859-2CC4-4C0A-B52C-09AF211E8D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let History, Part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5 Meyer tried to prove that no orthogonal wavelet other than Haar exists, found one by trial and erro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7 Mallat developed multiresolution theory, DWT, wavelet construction techniques (but still noncomp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8 Daubechies added theory: found compact, orthogonal wavelets with arbitrary number of vanishing mom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0’s: wavelets took off, attracting both theoreticians and engin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E49-BA13-499A-BBA9-C1374735C5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-Frequency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applications, you want to analyze a function in both time and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a musical s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transforms give you frequency information, smeari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s of a function give you temporal information, smearing frequ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e: substitute “space” for “time” for pi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DEC-F79E-43A3-9321-E955A9B214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2-11T22:47:02Z</dcterms:modified>
  <cp:revision>105</cp:revision>
  <dc:subject/>
  <dc:title>Introduction</dc:title>
</cp:coreProperties>
</file>