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8AD8-B03E-4A2F-97A2-66C0C452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4684-8851-4171-AD7E-F62C9167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7F9B-FA89-4665-A6ED-6C4AAA615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9C3E-9112-4868-9803-4F5D7E57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0834-4FBE-4AA8-B45A-726195F8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063D-BEE1-4941-A503-C1891CBE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6988-7A68-4D08-AE13-02884E47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B37E-99E6-41DA-AB6A-A988404B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5E1B-33C1-40BE-9E90-08E2CE9A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1F86-10B2-4964-B361-3E4B1167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10A1-DFDB-4F11-A627-6071DFEC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C698-A5A8-46D0-BC8F-D96D07A3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400440"/>
            <a:ext cx="381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C2B4-E8B1-4A94-81AC-16521A951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avele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Heck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cience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4B83-CFF6-4DFC-85A0-4E5F72231FE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ison to Fourier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ie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s is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usoids with frequencies in arithmetic prog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-time Fourier Transform (&amp; Gabor fil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s is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usoid times Gauss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-width Gaussian “window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ve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s is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ies in geometric prog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s has constant shape independent of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AA97-07A7-47F9-BB4C-83890D47360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velet Ap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im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ctures less corrupted by patient motion than with Fourier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tro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 clumping of galaxies to analyze structure at various scales, determine past &amp; future of unive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 fractals, chaos, turbu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14C6-F8BC-408F-B5F0-D6F1A478726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velets for Denoi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noise is independent random fluctuations at each sample of a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noise distributes itself uniformly across all coefficients of a wavelet trans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velet transforms tend to concentrate most of the “energy” in a small number of coeffic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w out the small coefficients and you’ve removed (most of) the no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tle knowledge about noise character requir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B9A3-4274-4763-9970-EB05E7DC1DD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velets, Vision, and Hea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vision &amp; hea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tina and brain have receptive fields (filters) sensitive to spots and edges at a variety of scales and trans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what similar to wavelet multiresolut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hearing also uses approximately constant shape fil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vi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ramid techniques popular and powerful for matching, tracking,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 &amp; Laplacian pyramids – wavelet precur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process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drature Mirror Filters – wavelet precur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B93E-7B73-4D16-BD83-CD694931893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ction Represent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ce of samples (time doma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te difference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yramid (hierarchic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usoids of various frequency (frequency doma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ier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ecewise polynomials (finite suppo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te element method, sp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ve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hierarchical, finite suppo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ime/frequency dom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94F9-20D6-47A6-A0FE-6BE6A56822C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Wavele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a family of representations us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archical (nested) basis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ite (“compact”)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s functions often orthog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transforms, often linear-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E0F9-10B5-4BC0-93A3-8FF0818C7F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mple Example: Haar Wavel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piecewise-constant functions over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qual sub-intervals of [0,1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: four interv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7735-D259-48CB-8C02-E27575142D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sted Function Spaces for Haar Ba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 the space of all piecewise-constant functions represented over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qual sub-intervals of [0,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b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B359-7F40-46AB-9C00-A496A7F4E1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ction Representations –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irable 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ty – approximate anything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ntinuities, nonperiodicity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able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o, pictures, flow field, terrain data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ct – approximate function with few coeffic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tes compression, storage,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to compute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l/integral operators are sparse in this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ample function to representation in O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r O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4147-8CA4-4741-97CC-5B5B685CB0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velet History, Part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5 Fourier analysis develo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65 Fast Fourier Transform (FFT)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0’s beginnings of wavelets in physics, vision, speech processing (ad h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tle theory … why/when do wavelets wo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6 Mallat unified the abov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5 Morlet &amp; Grossman continuous wavelet transform … asking: how can you get perfect reconstruction without redundanc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0A14-BAAD-422C-9896-E64EE48CFC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velet History, Part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5 Meyer tried to prove that no orthogonal wavelet other than Haar exists, found one by trial and erro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7 Mallat developed multiresolution theory, DWT, wavelet construction techniques (but still noncomp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8 Daubechies added theory: found compact, orthogonal wavelets with arbitrary number of vanishing momen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0’s: wavelets took off, attracting both theoreticians and engin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3DCA-533C-4496-ADEF-CD637E4B392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me-Frequency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any applications, you want to analyze a function in both time and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ous to a musical s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ier transforms give you frequency information, smearing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s of a function give you temporal information, smearing frequ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e: substitute “space” for “time” for pi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7A28-72C4-45DE-AF34-7DC6378EE0A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1:15:06Z</dcterms:created>
  <dc:creator>Paul Heckbert</dc:creator>
  <dc:description/>
  <dc:language>en-US</dc:language>
  <cp:lastModifiedBy>Paul Heckbert</cp:lastModifiedBy>
  <dcterms:modified xsi:type="dcterms:W3CDTF">2000-12-11T22:47:02Z</dcterms:modified>
  <cp:revision>105</cp:revision>
  <dc:subject/>
  <dc:title>Introduction</dc:title>
</cp:coreProperties>
</file>