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EF4-B732-41AA-96CE-B7796BF3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C66-ED4C-4D02-8D3F-61FF5F0B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017-6B57-49F5-8F45-35E4D376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EA6-2D00-4B18-AA8D-28231893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A10-AFF0-49A5-928E-58795BB8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0C9-83DB-4489-9A29-8E438864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6C5-013F-4DF3-91F4-BC1A73A4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640-212E-43D4-ADC9-F939F120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FF7-F6BA-4A2D-94D7-543B2E3D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ECC-B6CB-44CD-9F7B-394A0439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8D5-7D02-4E61-897E-34C6246D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1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12A-BF88-4CC7-A675-7813588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40044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77F7-2066-448D-B47F-A65B60E59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ifferential Equ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Heck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D04-FACF-4200-80F7-A9157110C4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tring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83200" cy="51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8A5-3FF8-4807-977C-8D9FEF1362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ring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83560" cy="51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862-EA7B-42D2-8AC0-454327CA72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dstring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8356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or results when dt too bi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4000" y="1295280"/>
            <a:ext cx="118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=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=.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46280" y="4012920"/>
            <a:ext cx="263052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’s method unstable when step too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E15-0AAE-410E-90EF-B05BFD1C3A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 Solution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in space, transform into system of IV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in space and time, finite differenc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in space and time, finite element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ter methods yield spars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geometry and boundary conditions are simple (e.g. rectangular gr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y’re not (need mesh of triang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0E4-361B-447F-BD3A-FBE975A8B8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ial Equation Classe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of unkn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ry differential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E) – unknown is a function of one variabl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ial differential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DE) – unknown is a function of multiple variable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u(t,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equ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ial equation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’=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differential equation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p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=y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,  y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=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order DE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derivative, and no higher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’’=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8A8-B6C9-4595-A730-32FE84E83C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ial Equation Classe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&amp; nonline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ial equation: all terms linear in unknown and its deriv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’’+ax’+bx+c=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’=t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’’=1/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non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948-919F-4F9E-B367-E10BFACBDE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oisson200" descr=""/>
          <p:cNvPicPr/>
          <p:nvPr/>
        </p:nvPicPr>
        <p:blipFill>
          <a:blip r:embed="rId1"/>
          <a:stretch/>
        </p:blipFill>
        <p:spPr>
          <a:xfrm>
            <a:off x="6283440" y="1527120"/>
            <a:ext cx="2539800" cy="179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’s in Science &amp; Engineering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lace’s Equatio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ational / electrostatic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Equa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t,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con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 Equa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t,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E8B-A369-4A7F-B015-4DF738A9C3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DE’s in Science &amp; Engineering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ger Wave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lectron probability dens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er-Stokes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 flow (fluid velocity &amp;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wavepacket200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2539800" cy="1726920"/>
          </a:xfrm>
          <a:prstGeom prst="rect">
            <a:avLst/>
          </a:prstGeom>
          <a:ln w="0">
            <a:noFill/>
          </a:ln>
        </p:spPr>
      </p:pic>
      <p:pic>
        <p:nvPicPr>
          <p:cNvPr id="53" name="karman_vortex200" descr=""/>
          <p:cNvPicPr/>
          <p:nvPr/>
        </p:nvPicPr>
        <p:blipFill>
          <a:blip r:embed="rId2"/>
          <a:stretch/>
        </p:blipFill>
        <p:spPr>
          <a:xfrm>
            <a:off x="6095880" y="3494160"/>
            <a:ext cx="2540160" cy="124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25D-07BC-47F8-99FB-91F027DB8A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rder PDE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lassify conic cur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bxy+c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dx+ey+f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ellipse/parabola/hyperbola according to sign of discrimin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4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ly we classif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P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b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c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d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e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fu+g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lip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equilibr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bo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diffu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yperbo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wave mo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general PDE’s, class can change from point to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69B-B648-44A5-AA3A-D4592A004F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Wave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c 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x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cond.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4sin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y cond.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0) = 2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1)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,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ed using Euler’s metho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unknown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162400" y="5010120"/>
          <a:ext cx="23623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2400" y="5010120"/>
                    <a:ext cx="2362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C66-4FCC-4B98-9F32-70E95B7E0C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: Numerical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u0 =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u1 =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or t = 2*dt:dt:e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u2(2:n) = 2*u1(2:n)-u0(2: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*(dt/dx)^2*(u1(3:n+1)-2*u1(2:n)+u1(1:n-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0 = u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1 = u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95440" y="1390680"/>
          <a:ext cx="59180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390680"/>
                    <a:ext cx="5918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6757920" y="2440080"/>
            <a:ext cx="1758960" cy="1550160"/>
            <a:chOff x="6757920" y="2440080"/>
            <a:chExt cx="1758960" cy="1550160"/>
          </a:xfrm>
        </p:grpSpPr>
        <p:sp>
          <p:nvSpPr>
            <p:cNvPr id="65" name=""/>
            <p:cNvSpPr/>
            <p:nvPr/>
          </p:nvSpPr>
          <p:spPr>
            <a:xfrm>
              <a:off x="732816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8536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4256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28160" y="3048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85360" y="3048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42560" y="3048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816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8536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24256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69200" y="3089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823520" y="2628720"/>
              <a:ext cx="0" cy="9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57920" y="2440080"/>
              <a:ext cx="50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72760" y="29224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5120" y="335124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1560" y="3652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8880" y="3639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40600" y="3633840"/>
              <a:ext cx="4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045-C913-4904-92BC-C6974C4058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tring1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92920" cy="5173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Equ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3280" y="1295280"/>
            <a:ext cx="1370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=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=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859B - Introduction to Scientific Compu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0AA-6726-40B9-9B94-F2B2DCC029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Nov.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1:15:06Z</dcterms:created>
  <dc:creator>Paul Heckbert</dc:creator>
  <dc:description/>
  <dc:language>en-US</dc:language>
  <cp:lastModifiedBy>Paul Heckbert</cp:lastModifiedBy>
  <dcterms:modified xsi:type="dcterms:W3CDTF">2000-11-15T21:34:52Z</dcterms:modified>
  <cp:revision>88</cp:revision>
  <dc:subject/>
  <dc:title>Introduction</dc:title>
</cp:coreProperties>
</file>