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93A-6B5E-4584-954E-4A9D2CEB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516-A84A-4C45-906D-2D46F2E6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A86-47BF-4E7E-9A92-78AFAE87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8EB-3029-4908-A856-80A33A73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CCE-BC15-44A9-B55B-AC0027A4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5B3-E30A-4A4B-82A0-59AD7A06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C1B-3BA5-4F3E-9A7E-D6F57603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788-BB4E-4B58-9ECB-DC39E47E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D0F-0348-4EB6-9CDA-64FB9C5B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FEC-4B2B-46DE-B403-0639882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EFF-B8D5-4304-B8FF-56BE1E7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853-2C93-494A-BA30-C2050D0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0165-63E3-4DE7-BDCC-1FDBFA502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ifferential Equ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828-E92F-492F-9A25-001BCE068A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tring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83200" cy="51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B9D-5CFC-4EB6-8148-DEE84B9C4F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ring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83560" cy="51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7CB-23B3-4CD6-B3C6-8A7A48877D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dstring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8356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or results when dt too bi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4000" y="1295280"/>
            <a:ext cx="118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=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=.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46280" y="4012920"/>
            <a:ext cx="263052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’s method unstable when step too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18F-0859-4FB2-B57A-DA9466D74F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 Solution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in space, transform into system of IV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in space and time, finite differenc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in space and time, finite element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ter methods yield spars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geometry and boundary conditions are simple (e.g. rectangular gr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y’re not (need mesh of triang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971-9B21-437A-8533-03859C9036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ial Equation Classe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of unkn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ry differential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E) – unknown is a function of one variabl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ial differential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DE) – unknown is a function of multiple variable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u(t,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equ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ial equation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’=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differential equation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p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=y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,  y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=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order DE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derivative, and no higher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’’=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218-483D-4AFB-BA7D-7C1424D928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ial Equation Classe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&amp; nonline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ial equation: all terms linear in unknown and its deriv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’’+ax’+bx+c=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’=t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’’=1/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non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801-4B09-48CE-A88C-86C79DFB23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oisson200" descr=""/>
          <p:cNvPicPr/>
          <p:nvPr/>
        </p:nvPicPr>
        <p:blipFill>
          <a:blip r:embed="rId1"/>
          <a:stretch/>
        </p:blipFill>
        <p:spPr>
          <a:xfrm>
            <a:off x="6283440" y="1527120"/>
            <a:ext cx="2539800" cy="179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’s in Science &amp; Engineering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’s Equatio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ational / electrostatic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Equa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t,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con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 Equa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t,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D2B-2D3E-41AD-938C-90FC4DB496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’s in Science &amp; Engineering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ger Wave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lectron probability dens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er-Stokes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 flow (fluid velocity &amp;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wavepacket200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2539800" cy="1726920"/>
          </a:xfrm>
          <a:prstGeom prst="rect">
            <a:avLst/>
          </a:prstGeom>
          <a:ln w="0">
            <a:noFill/>
          </a:ln>
        </p:spPr>
      </p:pic>
      <p:pic>
        <p:nvPicPr>
          <p:cNvPr id="53" name="karman_vortex200" descr=""/>
          <p:cNvPicPr/>
          <p:nvPr/>
        </p:nvPicPr>
        <p:blipFill>
          <a:blip r:embed="rId2"/>
          <a:stretch/>
        </p:blipFill>
        <p:spPr>
          <a:xfrm>
            <a:off x="6095880" y="3494160"/>
            <a:ext cx="2540160" cy="124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8F5-8BED-44CE-8F8B-0EDD6784D4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rder PDE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lassify conic cur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bxy+c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dx+ey+f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ellipse/parabola/hyperbola according to sign of discrimin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4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ly we classif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P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b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c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d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e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fu+g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lip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equilibr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bo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diffu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yperbo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wave mo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general PDE’s, class can change from point to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C86-EDFF-47EB-B4B4-852929DC3A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Wave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c 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cond.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4sin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y cond.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0) = 2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1)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,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ed using Euler’s metho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unknown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162400" y="5010120"/>
          <a:ext cx="23623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2400" y="5010120"/>
                    <a:ext cx="2362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779-9578-4BFE-B334-6E18FB9F69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: Numerical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u0 =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u1 =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or t = 2*dt:dt:e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u2(2:n) = 2*u1(2:n)-u0(2: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*(dt/dx)^2*(u1(3:n+1)-2*u1(2:n)+u1(1:n-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0 = u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1 = u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95440" y="1390680"/>
          <a:ext cx="59180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390680"/>
                    <a:ext cx="5918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6757920" y="2440080"/>
            <a:ext cx="1758960" cy="1550160"/>
            <a:chOff x="6757920" y="2440080"/>
            <a:chExt cx="1758960" cy="1550160"/>
          </a:xfrm>
        </p:grpSpPr>
        <p:sp>
          <p:nvSpPr>
            <p:cNvPr id="65" name=""/>
            <p:cNvSpPr/>
            <p:nvPr/>
          </p:nvSpPr>
          <p:spPr>
            <a:xfrm>
              <a:off x="732816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8536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4256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28160" y="3048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85360" y="3048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42560" y="3048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816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8536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24256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69200" y="3089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823520" y="2628720"/>
              <a:ext cx="0" cy="9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57920" y="2440080"/>
              <a:ext cx="50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72760" y="29224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5120" y="335124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1560" y="3652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8880" y="3639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40600" y="3633840"/>
              <a:ext cx="4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5E4-D7D6-404E-B351-6C83D88015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tring1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92920" cy="5173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3280" y="1295280"/>
            <a:ext cx="1370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=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=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67E-2DCF-4A2C-923C-643E2D5C03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1-15T21:34:52Z</dcterms:modified>
  <cp:revision>88</cp:revision>
  <dc:subject/>
  <dc:title>Introduction</dc:title>
</cp:coreProperties>
</file>