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291-2A31-4FA6-AE82-71B0E984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5ED-8C0E-4E9C-B17F-20BFA38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46D-87C5-4173-8150-4F5B29DB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1FE-12B7-43BF-8170-2E6D83D7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FD2-4DE9-4942-BF77-1256D72C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CBA-3A43-40A9-A3EB-9C2D7603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234-47E5-4573-B6B8-FEB4DDE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975-4C6F-4293-A2D4-2B0C486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204-ECA0-4A03-BE20-2960048C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712-5D1D-4A16-AD50-38876FCD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DBE-5842-4999-8F4D-67C57252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334-855A-45BC-A7A6-57452A34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21DB-D57E-4094-9922-79435AAF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ifferential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EA1-1EDF-4C41-BCB4-DE7F777CFB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tring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83200" cy="51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8A3-A97C-43E1-AED2-6400451EF4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ring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83560" cy="51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A72-E99B-4BBE-A69C-41DBA0836D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dstring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8356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esults when dt too bi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4000" y="1295280"/>
            <a:ext cx="118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=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=.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46280" y="4012920"/>
            <a:ext cx="263052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’s method unstable when step too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35D-4A9E-4A49-8A71-3A45D91D80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 Solution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, transform into system of IV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 and time, finite differenc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 and time, finite element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er methods yield spars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geometry and boundary conditions are simple (e.g. rectangular gr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y’re not (need mesh of triang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62B-592A-4354-9891-95C10A2E54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ial Equation Classe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of unkn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ry differential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E) – unknown is a function of one variabl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ial differential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DE) – unknown is a function of multiple variable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u(t,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qu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ial equation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’=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differential equation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p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=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,  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=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order DE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derivative, and no higher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’’=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7B9-719C-42E4-ACAC-711CC25BD0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ial Equation Classe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&amp; nonline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ial equation: all terms linear in unknown and its deriv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’+ax’+bx+c=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=t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’=1/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non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EDB-FA79-4EAF-98AF-8FB9304413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oisson200" descr=""/>
          <p:cNvPicPr/>
          <p:nvPr/>
        </p:nvPicPr>
        <p:blipFill>
          <a:blip r:embed="rId1"/>
          <a:stretch/>
        </p:blipFill>
        <p:spPr>
          <a:xfrm>
            <a:off x="6283440" y="1527120"/>
            <a:ext cx="2539800" cy="179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in Science &amp; Engineering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’s Equatio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ational / electrostatic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Equa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t,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con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 Equa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t,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101-D688-49D0-AD6B-AD33D13D5B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in Science &amp; Engineering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ger Wav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lectron probability dens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er-Stokes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 flow (fluid velocity &amp;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wavepacket200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2539800" cy="1726920"/>
          </a:xfrm>
          <a:prstGeom prst="rect">
            <a:avLst/>
          </a:prstGeom>
          <a:ln w="0">
            <a:noFill/>
          </a:ln>
        </p:spPr>
      </p:pic>
      <p:pic>
        <p:nvPicPr>
          <p:cNvPr id="53" name="karman_vortex200" descr=""/>
          <p:cNvPicPr/>
          <p:nvPr/>
        </p:nvPicPr>
        <p:blipFill>
          <a:blip r:embed="rId2"/>
          <a:stretch/>
        </p:blipFill>
        <p:spPr>
          <a:xfrm>
            <a:off x="6095880" y="3494160"/>
            <a:ext cx="2540160" cy="12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8C8-8B94-4650-A60A-560B469682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der PDE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lassify conic cur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bxy+c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dx+ey+f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ellipse/parabola/hyperbola according to sign of discrimin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4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ly we classif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P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b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c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d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e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u+g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lip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equilibr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bo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diffu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perbo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wave mo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general PDE’s, class can change from point to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2F5-48D7-4E65-A1E0-684EEAC7C6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Wav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c 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cond.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4sin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y cond.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0) = 2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1)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d using Euler’s metho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unknown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162400" y="5010120"/>
          <a:ext cx="23623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2400" y="5010120"/>
                    <a:ext cx="2362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4D4-7A2A-4D5D-93A3-98A717FB75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: Numerical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0 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1 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or t = 2*dt:dt:e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2(2:n) = 2*u1(2:n)-u0(2: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*(dt/dx)^2*(u1(3:n+1)-2*u1(2:n)+u1(1:n-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0 = u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1 = u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95440" y="1390680"/>
          <a:ext cx="59180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390680"/>
                    <a:ext cx="5918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6757920" y="2440080"/>
            <a:ext cx="1758960" cy="1550160"/>
            <a:chOff x="6757920" y="2440080"/>
            <a:chExt cx="1758960" cy="1550160"/>
          </a:xfrm>
        </p:grpSpPr>
        <p:sp>
          <p:nvSpPr>
            <p:cNvPr id="65" name=""/>
            <p:cNvSpPr/>
            <p:nvPr/>
          </p:nvSpPr>
          <p:spPr>
            <a:xfrm>
              <a:off x="73281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853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425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281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853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25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81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853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425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69200" y="3089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823520" y="2628720"/>
              <a:ext cx="0" cy="9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57920" y="2440080"/>
              <a:ext cx="50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72760" y="29224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5120" y="335124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1560" y="3652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8880" y="3639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40600" y="363384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3BD-8DA5-457A-B5E2-64C664E54E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tring1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92920" cy="5173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3280" y="1295280"/>
            <a:ext cx="1370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=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=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1CB-646C-4332-9876-131D653C5B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1:34:52Z</dcterms:modified>
  <cp:revision>88</cp:revision>
  <dc:subject/>
  <dc:title>Introduction</dc:title>
</cp:coreProperties>
</file>