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EA7-0521-4E96-BEFB-37481CFC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57E-AF75-4CAB-83DA-0B65E610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491-17B5-4A70-8E01-268AF51B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15B-C132-4699-9061-3EFA12F5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EDF-7ABA-4E80-8105-55671B12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783-F363-4F65-9883-4EECDA14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A21-AA15-4892-B3E5-35232FC4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8AF-18A6-4877-A318-52250E5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6B7-4A24-488B-A8CB-98C5B993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2B1-28EC-4EF3-985A-05B23805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92F-5DC7-4CCC-9AA0-27CCB27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328-4D36-4060-81AD-BCCA5B1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FDF7-8440-4A1A-A5B6-63113CE8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ystems of Nonlinear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8FC-D6ED-4A82-A958-C05B9CA204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Intersection of Ellip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equations in 2 unknow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84E-F550-4629-965C-3B8F104EFB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imens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-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(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in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 (non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dimen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-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(linear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=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=0}  (nonlinear: two ellip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known as root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E58-0B6D-47BD-A19C-7FE5FE1E92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1-D Root-Finding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ec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Fractional Inter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332-6D01-45D2-92C7-354A9669A9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section 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inary 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l, and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such that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+b)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= 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e on right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=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e on left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convergence! (if you can find initial a,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only at a linear rate: |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755-191E-42BD-9099-1FEC747031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/f’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iverge (especially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uadratic 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derivative co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9F4-D006-4001-8F52-2B89B6619C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a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Newton, but approximates slope using point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/(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-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iv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te 1.6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6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534-30CD-4EC0-8CA3-9FC06873FC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Fractional Interpo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linear approximation, fit with fractional linear approxim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-u)/(vx-w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,v,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 b, c,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(a),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= (a-c)(b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/ [(a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(b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b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= c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+= h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te 1.8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8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7A2-E4CC-443E-AB58-1CAD0C7923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-D Root-Finding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ection: safe: never diverges, but s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’s method: risky but f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nt method &amp; linear fractional interpolation : less risky, mid-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: use a safe method where function poorly behaved, Newton’s method where it’s well-beha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6CE-A1BE-4A8F-8485-36735A2F14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dimensional Newton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rder Taylor series approx.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+h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(x)+f’(x)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+h)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=-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n’t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h=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teration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quires calculation of Jacobian – can b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2590920"/>
          <a:ext cx="802620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262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B58-1887-4DF2-950F-ED6ADC7637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0-03T14:19:08Z</dcterms:modified>
  <cp:revision>65</cp:revision>
  <dc:subject/>
  <dc:title>Introduction</dc:title>
</cp:coreProperties>
</file>