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D19-1C4A-44F0-A9F2-2E11DECD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992-6253-47D8-B603-9D774A7F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48C-9F7C-454B-BF99-1001F18E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E41-53A5-47AB-BD9E-392FAD45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918-ACD3-4479-B4A4-7A7BF60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7BB-C881-43F8-82B9-5DEADF6F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3FF-5998-435B-9C40-ED7A586F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A9D-C0DA-4443-A3D8-885303BD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352-3C72-4F23-83B5-BDACBD77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BCF-FDA2-4CAF-B269-A9CEE0D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AF0-D4CF-4DED-95E4-4E53A860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87D-11CA-4CF8-A123-AC094DA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7DFD-309E-4204-9989-6AE0C90B9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ystems of Nonlinear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7A2-BDEE-4B12-A9BA-692E06AE7D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Intersection of Ellip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equations in 2 unknow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392-126A-4CCB-A405-7EBABA6F2B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imens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-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(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in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 (non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dimen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-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(linear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=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=0}  (nonlinear: two ellip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known as root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C2B-8F83-4E5E-BDBA-92349D15EB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1-D Root-Finding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ec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Fractional Inter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C90-6288-45C0-91B4-E57ABB9C74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section 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inary 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l, and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such that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+b)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sig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= 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e on right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=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e on left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convergence! (if you can find initial a,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only at a linear rate: |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erro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676-589F-4DC2-80A3-20A991729F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/f’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iverge (especially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uadratic 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derivative co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DB5-8F89-4AE6-98B9-E57681F23A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ant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Newton, but approximates slope using point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/(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-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iv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te 1.6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6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496-A9F6-4899-BCF1-301654E772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Fractional Interpo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linear approximation, fit with fractional linear approxim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-u)/(vx-w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,v,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l, and initial gues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 b, c,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(a),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= (a-c)(b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/ [(a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(b-c)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b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= c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+= h; 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verges, does so 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te 1.8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|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8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2BD-27A3-490B-B14D-F34BF320F0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-D Root-Finding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ection: safe: never diverges, but s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’s method: risky but f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nt method &amp; linear fractional interpolation : less risky, mid-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: use a safe method where function poorly behaved, Newton’s method where it’s well-beha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C9B-5EB5-467D-881C-D8241244EC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dimensional Newton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rder Taylor series approx.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+h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(x)+f’(x)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+h)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=-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n’t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h=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teration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quires calculation of Jacobian – can b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2590920"/>
          <a:ext cx="802620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262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41F-13BE-474A-8D36-EABEEE4F09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0-03T14:19:08Z</dcterms:modified>
  <cp:revision>65</cp:revision>
  <dc:subject/>
  <dc:title>Introduction</dc:title>
</cp:coreProperties>
</file>