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DBA-452E-46EE-94F6-2BDE9E98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5AF-74BC-4B02-B03F-6AA1C1AC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E3B-A0B2-4A1F-9A2E-04313551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58F-9A76-4807-A1D2-04AAA83D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7F6-9B76-45D8-95B3-C7AF1E93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D53-41D7-48F6-8024-65980D18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D8C-E263-4919-ACF6-0D7D03B7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4E1-061B-4D3B-8B20-BA6DADD0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BC0-FA72-4CAA-A52D-B22D2362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6B6-E3B5-44AD-90CC-C441EF30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FFD-2B31-453A-835E-247BA2D1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4AD-FCD9-4836-89BA-992683B4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6B80-D2C0-495E-B264-57FDE7DE0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ystems of Nonlinear Equ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A50-9B4D-48CA-BCD0-C636AF0672F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Intersection of Ellip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equations in 2 unknow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7CC-9F5F-4457-8A07-68B09F7BFE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linea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imensio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-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 (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in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 (non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dimen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-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 (linear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=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=0}  (nonlinear: two ellip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known as root f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3BD-A340-4032-8660-950DD18869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1-D Root-Finding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sec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ton’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Fractional Interp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468-3B92-4966-A6F8-69426CD3DA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section 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inary Sear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l, and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such that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+b)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= 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e on right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=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e on left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convergence! (if you can find initial a,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only at a linear rate: |erro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erro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414-4633-41F1-885F-6D1BA5FC1D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ton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’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l, and initial gu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/f’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iverge (especially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converges, does so 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uadratic 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derivative comp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7B9-0E02-487E-BF3C-10528785EC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ant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Newton, but approximates slope using point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l, and initial gues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/(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-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iv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converges, does so 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ate 1.6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.6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646-F43F-4C58-B944-449B474558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ar Fractional Interpo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linear approximation, fit with fractional linear approxima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-u)/(vx-w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,v,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l, and initial gues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 b, c,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f(a),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f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= (a-c)(b-c)(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/ [(a-c)(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(b-c)(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= b; 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= c; 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+= h; 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f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converges, does so 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ate 1.83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.83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959-E96D-4F44-8897-F425513EE4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-D Root-Finding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section: safe: never diverges, but s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ton’s method: risky but f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nt method &amp; linear fractional interpolation : less risky, mid-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s: use a safe method where function poorly behaved, Newton’s method where it’s well-beha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335-3C41-4E46-88D3-4C445A4286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dimensional Newton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rder Taylor series approx.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+h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(x)+f’(x)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+h)=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=-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n’t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t 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h=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teration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quires calculation of Jacobian – can be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2590920"/>
          <a:ext cx="8026200" cy="13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262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145-9DD4-42AE-95B9-F2428EDE64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0-03T14:19:08Z</dcterms:modified>
  <cp:revision>65</cp:revision>
  <dc:subject/>
  <dc:title>Introduction</dc:title>
</cp:coreProperties>
</file>