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2E6-5862-405C-A8F2-B8479DC9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1FA-4C5D-4F1E-9149-7EB3F5D6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E41-F295-4573-93D6-D455FC8A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3D3-5D1B-49C8-8429-E007D7AE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CE4-FEB6-4F50-9120-04AC024A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C76-C9C4-4A4C-9120-3AA01B64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258-0AB8-4ACF-86DF-4A1CA687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A48-EC59-46BD-B361-AF90A653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C62-0612-409E-AD8F-6E2752BA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FD3-696E-44B8-9467-42648C9B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321-7D49-433B-B657-2EF9A08C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006-F79D-4F63-A7F8-2B9546AF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CCB9-0F20-4760-9742-D08FE3DB8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ultigrid Method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d Applic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17A-8D4F-450F-A5FF-B09409DBBC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ique of Multigrid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ks well for certai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articular, elliptic PDE's (linear or nonlinear) with smooth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s a problem with n unknowns in O(n)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 usually small, e.g. 10 "work unit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ork 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the work of one relaxation on the fine 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ultigrid methods are currently several orders of magnitude slower for non-elliptic steady-state (time-independent BV)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memory requirements: need mem for v &amp; f on finest grid, plus coarser grids; don’t nee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iz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requires more communication than some other parallel solver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B9E-F5C1-4E49-AA01-EE7465A9ED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ique of Multigrid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theory than some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's a bit of a black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careful tuning to get it working on a new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 black box, like, say, the conjugate gradient method or Gauss-Sei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when it works well, it's often the fa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other fast methods often require tuning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et top performance out of the conjugate gradient method often requires an application-specific preconditi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7FC-D3F2-4426-A63A-0AA2BF83CB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story of Multigr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64: first paper, Fedorenko,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constants: ~40,000 work units, no implement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77: Achi Brandt, Israel, made it practical, wrote seminal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 70's: Nicolaides, Hackbusch, and others proved convergence for certain PDE's; Brandt proved fast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 took off around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ere was (and still is) much skepticism from some because there was little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ay used to solve PDE's in many discip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research: a drive to achieve "textbook efficiency" for general flow simulations (all Mach numbers and Reynolds numb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what superseded by wavelet metho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B27-A46E-4A5C-9879-D93B7C59F4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Guide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gridders” prefer structured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and relaxation method are the only parts of the method that are highly problem-dependent; restriction and interpolation are gene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omplex domains, need extra relaxation steps near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rough boundar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concave cor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an be adaptive: can restrict processing at finer levels to sub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 parameters (how many relaxation steps and V cycles) can 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mmod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software loops until residual at each step is below some 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FD, align the grid with the boundary and the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9BA-F4DC-4093-B3C6-7252089CEE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andt’s Research Philosop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multigrid research, you should "very gradually increase the complexity of the problems” you attem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insist on obtaining for each problem the full efficiency” (e.g. 10 work 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ves for linear time with small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stalling numerical processes must be wro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are particularly important when discussing algorithms that are O(n); more than for algorithms that are, say,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ves for convergence proofs with small constants: “almost all other multigrid theories give estimates which are not quantitative or very unrealistic, rendering them useless in practi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348-AE3B-4244-8C6A-FEE17F6658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ational Fluid Dynamics (CF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ler equation - linear, inviscid (no viscos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er-Stokes equation - nonlinear, models visc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possible to simulate flow around an airplane, with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achieved in 19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 with multigr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ynolds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asure of the ratio of inertial and viscous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 large =&gt; turbulence, difficult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airplane, Re ~ 10^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2D3-12BF-4AF0-AA68-B5A6D5DDC20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FD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onic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is both below and above speed of sound (Mach no. &lt;1 or &gt;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PDE is elliptic where subsonic and hyperbolic where supers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Reynolds number steady state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non-ellip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boundary-fitted structured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undary layer tric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viscous simulation, flow near surface (of e.g. wing) has high gradient, since flow speed at surface is zero, but speed inches away could be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often want the elements (grid quadrilaterals) to be highly stretched (e.g.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spect rat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 of 4000:1) in boundary layer to get accurate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aspect ratio slows convergence or complicates the relaxation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37C-C15A-49CF-BA6C-BB68988FBA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Applications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fluid dynamics (CF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for which multigrid has been most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ther prediction (whole earth simul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gri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lliptic PDE to define geometry of grid nodes, create grid using multigri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-posed (underdetermined)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detection in noisy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find all straight features (lines, edges) in kxk pixel image in O(k log k)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ography (i.e. CAT sc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ing noisy data with a piecewise smooth function with known or unknown discontinu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24F-C87B-4E11-A727-B5B3CA1ED4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Applications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l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 by a dense nxn matrix in O(n)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if matrix (or kernel) is smooth; slower if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-body force comp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lecular 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mal rad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 Multipole Method is faster than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lg. only for n&gt;1000, they s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Brandt's method faster? (unpublish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32C-3CEF-4F80-BDE8-C7C6F65A21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Applications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 even if many local mi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each step can be interpreted as an optimization over a certain subspac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fo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ed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control, e.g. robot motion plan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up using finite element methods (unstructured grid), not finite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39A-7D63-4266-A95E-C3739B0AC1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ultigrid meth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level survey of applications of multigrid methods across science and engineering.  (Articles on this are hard to find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tate of the 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multigrid’s strengths &amp; weaknes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rrent resear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7A6-BB51-4049-A927-221FFE254F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Applications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eigenfunctions of Schroedinger's eqn. (the PDE governing quantum mechanics) to find electron densit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copic from microsc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stical physics, particle physics (Q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rive macroscopic properties (e.g. nonlinear elasticity) by using multigrid on microscopic level (on atomic for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ied wave/ray methods for simulating electromagnetic 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wave model (to simulate diffraction, interference, when wavelength comparable to scale of objects)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 model (to simulate free flight of photons in air/vacu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SI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ly non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E49-0BAA-4B38-961F-3620FF4484D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ed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structured multi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an unstructured grid (irregular topology), not structured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mplicates relaxation, restriction, &amp; interpolation, but permits solution on complex domains (e.g. around an aircraft wing with fla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gebraic multi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grid without the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ze and do clustering on graph implied by matrix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is A only -- no high level problem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main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 domain into (possibly overlapping) pi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alternately on each piece, using solution of other pieces as boundary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for complex domains, parallelizes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2C9-D309-443C-8762-C8FEF6A4816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ences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y comments in ital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88, The Weizmann Insitute Research in Multilevel Computation: 1988 Report, Proc. Copper Mtn. Conf. on Multigrid Methods, 1989 (53 pp.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Survey of recent applications. I found this quite thought-provok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82, Guide to Multigrid Development, in Hackbusch &amp; Trottenberg, eds., Multigrid Methods, pp. 220-312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uidelines for multigrid implementers.  Lo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97, The Gauss Center Research in Multiscale Scientific Computation, Proc. Copper Mtn. Conf. on Multigrid Methods, on web (50 pp.) http://www.wisdom.weizmann.ac.il/research.html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ore esoteric than 1988 report abo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80, Multilevel Adaptive Computations in Fluid Dynamics, AIAA J., vol. 18, pp. 1165-1172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Short, fairly read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77, Multi-Level Adaptive Solutions to Boundary-Value Problems, Mathematics of Computation, pp. 333-390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seminal paper on multigr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F84-1B5F-492D-9BFF-62D43C7ACE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ences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sseling, 1992, An Intro. to Multigrid Methods, chapter 8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ood textbo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sons &amp; Hall 1990, The Multigrid Method in Solid Mechanics, Intl. J. for Numer. Meth. in Eng., vol. 29, pp. 719-754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eriments applying MG to mechanical engineer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, Go, &amp; Zikatanov, 1997, Lecture Notes on Multilevel Methods for Elliptic Problems on Unstructured Grids, 77 pp., http://www.math.ucla.edu/~chan/mgpapers.html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 of the art in unstructured multigrid and domain decompos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lomo Ta’asan, CMU Math (convers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ry Miller, CMU CS (convers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ar Ghattas, CMU CE (convers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985-80DC-49A9-A651-F2EE6AFA92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piration for Multigrid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a PDE over simple domain (e.g. squ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sparse system Av=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solve iteratively with Gauss-Sei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iterations reduce residual a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iterations yield less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 Iterations reduce high frequencies in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rate on coarser grids to reduce lower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F1E-760D-469E-9FC9-97802DE55F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Poisson’s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ep of Gauss-Seidel “relaxes” each grid value to be the average of its four neighbors plu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f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xations required to solve this on a fixed gr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grid solves it on a hierarchy of gr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00200" y="1447920"/>
          <a:ext cx="60958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60958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753-C9AC-4C0E-828F-1FD57C9839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ments of Multigrid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x on a given grid a few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rsen (restrict)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(interpolate)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2C2-F218-4209-98FA-899292CA96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mmon Multigrid Sche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Multigrid V Cyc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75880" y="1905120"/>
            <a:ext cx="7935120" cy="3050280"/>
            <a:chOff x="875880" y="1905120"/>
            <a:chExt cx="7935120" cy="3050280"/>
          </a:xfrm>
        </p:grpSpPr>
        <p:sp>
          <p:nvSpPr>
            <p:cNvPr id="56" name=""/>
            <p:cNvSpPr/>
            <p:nvPr/>
          </p:nvSpPr>
          <p:spPr>
            <a:xfrm>
              <a:off x="5638320" y="449568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5320" y="43434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38862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52680" y="335268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52680" y="281952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52680" y="441972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62920" y="43434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988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4800" y="434340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19720" y="380988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3276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2920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34120" y="43434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868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48520" y="27432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53080" y="3276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48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72400" y="3276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77320" y="27432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191120" y="3886200"/>
              <a:ext cx="304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49568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410080" y="388620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71500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019920" y="2819160"/>
              <a:ext cx="30456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7238880" y="388620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4380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848720" y="2819160"/>
              <a:ext cx="30456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885840" y="388620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80024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5105520" y="3886200"/>
              <a:ext cx="304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6324120" y="2819160"/>
              <a:ext cx="30492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662904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6934320" y="3886200"/>
              <a:ext cx="304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5880" y="4191120"/>
              <a:ext cx="23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arsest grid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79720" y="2584440"/>
              <a:ext cx="201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est gri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724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19600" y="3124080"/>
              <a:ext cx="116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/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8680" y="3657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1000" y="2286000"/>
              <a:ext cx="763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08840" y="1905120"/>
              <a:ext cx="18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l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581280" y="388620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057400" y="5257800"/>
            <a:ext cx="5410080" cy="914400"/>
            <a:chOff x="2057400" y="5257800"/>
            <a:chExt cx="5410080" cy="914400"/>
          </a:xfrm>
        </p:grpSpPr>
        <p:sp>
          <p:nvSpPr>
            <p:cNvPr id="100" name=""/>
            <p:cNvSpPr/>
            <p:nvPr/>
          </p:nvSpPr>
          <p:spPr>
            <a:xfrm flipV="1">
              <a:off x="3886200" y="5410080"/>
              <a:ext cx="304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563868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5866920" y="5486040"/>
              <a:ext cx="30492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0560" y="5486400"/>
              <a:ext cx="9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rel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5960" y="548640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interpo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8120" y="5486400"/>
              <a:ext cx="120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restr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7400" y="5257800"/>
              <a:ext cx="54100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AD6-57A5-48BB-8582-317AAA12FB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Iterative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-Sei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s for all symmetric positive definit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Gradient (CG)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rate determined by conditio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condition number typically larger for fine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onditioned Conjugat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 of solving Av=f, solve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=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where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heap and M is close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much faster than CG, but conditioner M is problem-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rate is independent of condition number, problem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algorithm must be tuned for a given problem; not as general as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e: don’t need matrix A in memory – can compute it on the f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E6B-3468-48D1-A29D-CB5975EE96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t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2-D Poisson Equa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i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ian Eli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-Sei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T/cyclic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gr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476760" y="5334120"/>
            <a:ext cx="685800" cy="304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148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ptim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0B2-4850-479F-8CDE-BB68633BF0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mory Requirements of Multigr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st grid: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&amp; f arr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rsest grid: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+1/4+1/16+1/64+...) = 4/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only 33% more memory than storing th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8C9-42FF-43B9-AA58-67D38A4022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1-15T23:02:14Z</dcterms:modified>
  <cp:revision>97</cp:revision>
  <dc:subject/>
  <dc:title>Introduction</dc:title>
</cp:coreProperties>
</file>