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746-6B39-4AB2-AC64-9B373E23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05A-5283-4C53-9FA3-6955AAB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826-F004-4288-A71E-47F0961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D29-F910-45B1-8488-3C59C4F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1D7-3648-4307-AB76-9D786213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251-3772-401F-8569-5E4DE88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178-1E4B-4E7D-976B-EE4B3E99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2A2-A924-47A6-8D84-E1C8B2BE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63F-73F9-4A6F-9488-3E832218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1A6-6869-4D68-AF1D-230CC7B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297-F67C-4189-84A4-377918C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2CA-10D3-4C9F-B18E-6A1E61C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C19-109B-4ECC-88E2-29F2E553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ultigrid Method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Applic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23D-1361-44DD-A0F6-3884A977E9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ks well for certai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rticular, elliptic PDE's (linear or nonlinear) with smooth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s a problem with n unknowns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s usually small, e.g. 10 "work unit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ork 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the work of one relaxation on the fine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ltigrid methods are currently several orders of magnitude slower for non-elliptic steady-state (time-independent BV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memory requirements: need mem for v &amp; f on finest grid, plus coarser grids; don’t nee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z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requires more communication than some other parallel solver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F4C-155F-4E5E-8826-FC879B1ED2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que of Multigri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eory than som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's a bit of a black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areful tuning to get it working on a new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black box, like, say, the conjugate gradient method or Gauss-Sei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en it works well, it's often the fa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other fast methods often require tuning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op performance out of the conjugate gradient method often requires an application-specific preconditi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968-689F-480C-BE03-8F303E916F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4: first paper, Fedorenko,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constants: ~40,000 work units, no implement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7: Achi Brandt, Israel, made it practical, wrote seminal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 70's: Nicolaides, Hackbusch, and others proved convergence for certain PDE's; Brandt proved fast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took off around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re was (and still is) much skepticism from some because there was little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 used to solve PDE's in many discip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research: a drive to achieve "textbook efficiency" for general flow simulations (all Mach numbers and Reynolds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what superseded by wavelet metho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CD2-FD48-4727-B6B5-A3D6ECE390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Guid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ders” prefer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and relaxation method are the only parts of the method that are highly problem-dependent; restriction and interpolation are 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omplex domains, need extra relaxation steps near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rough 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oncave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an be adaptive: can restrict processing at finer levels to sub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 parameters (how many relaxation steps and V cycles)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mmod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software loops until residual at each step is below some 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FD, align the grid with the boundary and th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675-DD79-418B-9230-B942EB6CB1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ndt’s Research Philoso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multigrid research, you should "very gradually increase the complexity of the problems” you att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insist on obtaining for each problem the full efficiency” (e.g. 10 wor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linear time with small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stalling numerical processes must be wr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are particularly important when discussing algorithms that are O(n); more than for algorithms that are, say,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es for convergence proofs with small constants: “almost all other multigrid theories give estimates which are not quantitative or very unrealistic, rendering them useless in pract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238-1E32-418C-A802-B7C7C19878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ler equation - linear, inviscid (no viscos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er-Stokes equation - nonlinear, models visc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possible to simulate flow around an airplane, wit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chieved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with multigr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ynolds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e of the ratio of inertial and viscou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large =&gt; turbulence, difficult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airplane, Re ~ 10^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D80-AE10-4F44-A075-FDB8B47C40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FD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onic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is both below and above speed of sound (Mach no. &lt;1 or &gt;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PDE is elliptic where subsonic and hyperbolic where super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Reynolds number steady state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non-ellip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oundary-fitted 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y layer tri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viscous simulation, flow near surface (of e.g. wing) has high gradient, since flow speed at surface is zero, but speed inches away could be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often want the elements (grid quadrilaterals) to be highly stretched (e.g.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pect rat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of 4000:1) in boundary layer to get accurate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spect ratio slows convergence or complicates the relaxa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896-A7FA-4D5C-91C4-4A296A5145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fluid dynamics (C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or which multigrid has been mos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prediction (whole earth simul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gri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lliptic PDE to define geometry of grid nodes, create grid using multigr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-posed (underdetermined)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detection in nois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find all straight features (lines, edges) in kxk pixel image in O(k log 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ography (i.e. CAT s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ing noisy data with a piecewise smooth function with known or unknown discontinu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34F-B736-4CB6-AC71-30C25C2173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by a dense nxn matrix in O(n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f matrix (or kernel) is smooth; slower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body force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lecular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Multipole Method is faster than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g. only for n&gt;1000, they 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randt's method faster? (unpublish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BAE-8933-4718-9C61-2872E2CE29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even if many local mi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each step can be interpreted as an optimization over a certain subspac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fo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control, e.g. robot motion 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using finite element methods (unstructured grid), not finit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977-948B-49C8-A962-F4BAB2E773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ultigrid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survey of applications of multigrid methods across science and engineering.  (Articles on this are hard to fin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tate of the 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multigrid’s strengths &amp; weakn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rrent resea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B08-E884-4838-9D46-46AA45ED1C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grid Applications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eigenfunctions of Schroedinger's eqn. (the PDE governing quantum mechanics) to find electron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copic from microsc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al physics, particle physics (Q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macroscopic properties (e.g. nonlinear elasticity) by using multigrid on microscopic level (on atomic for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ed wave/ray methods for simulating electromagnetic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wave model (to simulate diffraction, interference, when wavelength comparable to scale of objects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model (to simulate free flight of photons in air/vacu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SI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AD9-A04E-41C1-8826-BBA695D61D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structured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n unstructured grid (irregular topology), not structured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mplicates relaxation, restriction, &amp; interpolation, but permits solution on complex domains (e.g. around an aircraft wing with fl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ebraic 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grid without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do clustering on graph implied by matrix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s A only -- no high level problem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domain into (possibly overlapping) pi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alternately on each piece, using solution of other pieces as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complex domains, paralleliz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A7B-4EE8-4F7D-8A30-BA701FA114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y comments in ital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8, The Weizmann Insitute Research in Multilevel Computation: 1988 Report, Proc. Copper Mtn. Conf. on Multigrid Methods, 1989 (53 pp.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urvey of recent applications. I found this quite thought-provok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2, Guide to Multigrid Development, in Hackbusch &amp; Trottenberg, eds., Multigrid Methods, pp. 220-312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uidelines for multigrid implementers.  Lo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97, The Gauss Center Research in Multiscale Scientific Computation, Proc. Copper Mtn. Conf. on Multigrid Methods, on web (50 pp.) http://www.wisdom.weizmann.ac.il/research.htm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re esoteric than 1988 report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80, Multilevel Adaptive Computations in Fluid Dynamics, AIAA J., vol. 18, pp. 1165-1172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Short, fairly read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dt, 1977, Multi-Level Adaptive Solutions to Boundary-Value Problems, Mathematics of Computation, pp. 333-390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seminal paper on multig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2EE-34B7-425C-9D7D-56BFAA29D4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sseling, 1992, An Intro. to Multigrid Methods, chapter 8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ood text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ons &amp; Hall 1990, The Multigrid Method in Solid Mechanics, Intl. J. for Numer. Meth. in Eng., vol. 29, pp. 719-754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eriments applying MG to mechanical enginee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, Go, &amp; Zikatanov, 1997, Lecture Notes on Multilevel Methods for Elliptic Problems on Unstructured Grids, 77 pp., http://www.math.ucla.edu/~chan/mgpapers.html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of the art in unstructured multigrid and domain decom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lomo Ta’asan, CMU Math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ry Miller, CMU CS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ar Ghattas, CMU CE (convers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11A-6325-4F23-9DDC-D4342D5CDC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piration for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PDE over simple domain (e.g. squ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parse system Av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solve iteratively with Gauss-Se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iterations reduce residual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iterations yield less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Iterations reduce high frequencies in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rate on coarser grids to reduce low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71C-FE40-400F-8606-211EBDFE90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oisson’s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of Gauss-Seidel “relaxes” each grid value to be the average of its four neighbors plu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xations required to solve this on a fixed 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grid solves it on a hierarchy of gr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1447920"/>
          <a:ext cx="6095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095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94D-2C6A-4925-82EB-DE9E4B01D9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ments of Multigrid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x on a given grid a few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rsen (restrict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(interpolate)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C0D-EBDE-4BA1-A687-7727382D31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mmon Multigrid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ultigrid V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75880" y="1905120"/>
            <a:ext cx="7935120" cy="3050280"/>
            <a:chOff x="875880" y="1905120"/>
            <a:chExt cx="7935120" cy="3050280"/>
          </a:xfrm>
        </p:grpSpPr>
        <p:sp>
          <p:nvSpPr>
            <p:cNvPr id="56" name=""/>
            <p:cNvSpPr/>
            <p:nvPr/>
          </p:nvSpPr>
          <p:spPr>
            <a:xfrm>
              <a:off x="5638320" y="44956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53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38862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335268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28195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441972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4800" y="434340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720" y="38098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43434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308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380988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72400" y="3276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77320" y="274320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911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49568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4100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7150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199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2388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4380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848720" y="2819160"/>
              <a:ext cx="30456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88584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8002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1055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6324120" y="281916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29040" y="335268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934320" y="388620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880" y="419112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arsest grid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79720" y="2584440"/>
              <a:ext cx="201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est gri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9600" y="3124080"/>
              <a:ext cx="11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8680" y="3657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286000"/>
              <a:ext cx="763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08840" y="190512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3886200"/>
              <a:ext cx="304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57400" y="5257800"/>
            <a:ext cx="5410080" cy="914400"/>
            <a:chOff x="2057400" y="5257800"/>
            <a:chExt cx="5410080" cy="914400"/>
          </a:xfrm>
        </p:grpSpPr>
        <p:sp>
          <p:nvSpPr>
            <p:cNvPr id="100" name=""/>
            <p:cNvSpPr/>
            <p:nvPr/>
          </p:nvSpPr>
          <p:spPr>
            <a:xfrm flipV="1">
              <a:off x="3886200" y="5410080"/>
              <a:ext cx="304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63868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866920" y="5486040"/>
              <a:ext cx="3049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560" y="548640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l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5960" y="548640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interpo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8120" y="548640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re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5257800"/>
              <a:ext cx="54100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AA7-6937-4A2C-A502-1754C0D1A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Iterative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s for all symmetric positive definit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Gradient (CG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determined by condit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ondition number typically larger for fine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ed Conjugat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solving Av=f, solv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=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where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heap and M is close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much faster than CG, but conditioner M is problem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rate is independent of condition number, problem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lgorithm must be tuned for a given problem; not as general as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: don’t need matrix A in memory – can compute it on the f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922-9A18-4DF4-84A1-717CAB114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2-D Poisson Equ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i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El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/cyclic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gr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O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476760" y="5334120"/>
            <a:ext cx="6858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148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pt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AEA-4873-460E-B653-FD7B55A3D6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Requirements of Multi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st grid: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 &amp; f arr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st grid: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+1/4+1/16+1/64+...) = 4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nly 33% more memory than storing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FCA-7CFA-4CD2-A85F-C9764F9AA9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3:02:14Z</dcterms:modified>
  <cp:revision>97</cp:revision>
  <dc:subject/>
  <dc:title>Introduction</dc:title>
</cp:coreProperties>
</file>