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9186863" cy="7037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60CF-28D1-42FE-8EF9-B99907906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8F61-EB6E-4839-B7D3-01C8EB78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1695-52F7-43A5-B94F-E99FA2FD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DA1B-4438-4E03-870E-65BE7B0F3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6565-9109-405E-B3C0-F5CD746C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74CC-822A-4287-858E-3EA08A39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FC05-9530-400B-ACA4-8022200F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F3D3-3B19-4072-B9E9-F9856768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917D-60FA-4CBE-9A0E-6B3958BE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B010-A2CE-4478-ADB0-4E20C034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78A9-A942-497D-9338-09F6D04D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40FF-E3A6-4C33-AB73-2CBC1F2A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400440"/>
            <a:ext cx="3810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C90A-7AE3-45AE-895E-1D6556E3B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inear Least Squar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l Heckb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Science 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2CC1-9B83-48C8-B88B-710D440D4DE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rthogonal and Hermitian Matr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quare matrix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thog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s rows are ortho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s columns are ortho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orthogonal matrices are often nam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ization: a matrix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rmiti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re superscript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notes complex conjugate trans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6671-3B32-400A-AF0A-19BB71E905D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useholder Transform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useholder transfor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termined by vector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pply it to a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mpu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981080" y="2362320"/>
          <a:ext cx="196848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362320"/>
                    <a:ext cx="196848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133720" y="3962520"/>
          <a:ext cx="4698720" cy="231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962520"/>
                    <a:ext cx="4698720" cy="23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 flipH="1">
            <a:off x="4038120" y="2514600"/>
            <a:ext cx="7621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4114440" y="304776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71080" y="2281320"/>
            <a:ext cx="25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outer product, n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n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99520" y="2971800"/>
            <a:ext cx="20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nner product, sca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648320" y="5334120"/>
            <a:ext cx="76176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11160" y="510552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ca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273E-86D0-4E1A-9213-400537ABAD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2057400" y="2438280"/>
          <a:ext cx="5778360" cy="367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438280"/>
                    <a:ext cx="5778360" cy="36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7010280" y="4876920"/>
          <a:ext cx="92736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4876920"/>
                    <a:ext cx="92736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5638680" y="2286000"/>
          <a:ext cx="53352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2286000"/>
                    <a:ext cx="5335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useholder Geome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reflected through the hyperplane perpendicular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B122-2511-46A5-9671-28560C7ED8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useholder Proper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ymmetric, si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rthogonal, si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066680" y="1905120"/>
          <a:ext cx="7480440" cy="109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05120"/>
                    <a:ext cx="748044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1066680" y="3581280"/>
          <a:ext cx="6845400" cy="266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3581280"/>
                    <a:ext cx="684540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66CB-7B5F-4124-908F-D3CEF823CBD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useholder to Zero Matrix El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’ll use Householder transformations to zero subdiagonal elements of a matri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ny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determines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solve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066680" y="4038480"/>
                <a:ext cx="7558200" cy="231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t xml:space="preserve">a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μ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</m:t>
                        </m:r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 is parenthesized scalar, related to length of 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α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e're free to choose </m:t>
                        </m:r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since 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does not affect </m:t>
                        </m:r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066680" y="3200400"/>
                <a:ext cx="3721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0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ACF2-F351-4BCB-AF8A-2B3D29C993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oosing the Vector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609480" y="1371600"/>
                <a:ext cx="7013520" cy="42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 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α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some scalar 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ut </m:t>
                        </m:r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a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ove this by expanding </m:t>
                        </m:r>
                        <m:sSub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a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</m:t>
                        </m:r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a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by design,   so 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ither sign will work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 avoid </m:t>
                        </m:r>
                        <m:r>
                          <m:t xml:space="preserve">v</m:t>
                        </m:r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0 we choose 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g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 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g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our answ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4AC1-7D2D-4627-9C70-29AF6CF40DD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lying Householder Transfo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compu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plicitly, that costs 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lo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use the formula given previousl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costs 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lops (if you pre-compu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pre-normal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, when using Householder transformations, you never compute the matrix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it’s only used in derivation and analy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600200" y="2438280"/>
                <a:ext cx="25779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v</m:t>
                            </m:r>
                          </m:den>
                        </m:f>
                      </m:e>
                    </m:d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F0DC-3B88-4BFF-B6EE-4611E23E2E4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R Decompos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useholder transforma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a good way to zero out subdiagonal elements of a matri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decompo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orthogonal (prove!) product of Householders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upper triang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determined syste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x=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ransformed into the easy-to-so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371600" y="2819520"/>
                <a:ext cx="50547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R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or  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QQ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Q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R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505320" y="5334120"/>
                <a:ext cx="17143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R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2460-BCC3-4952-906F-461C7DFFE34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8T21:15:06Z</dcterms:created>
  <dc:creator>Paul Heckbert</dc:creator>
  <dc:description/>
  <dc:language>en-US</dc:language>
  <cp:lastModifiedBy>Paul Heckbert</cp:lastModifiedBy>
  <dcterms:modified xsi:type="dcterms:W3CDTF">2000-09-28T03:18:11Z</dcterms:modified>
  <cp:revision>54</cp:revision>
  <dc:subject/>
  <dc:title>Introduction</dc:title>
</cp:coreProperties>
</file>