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69A-A4BF-4683-9705-ADD1E240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FFF-C05D-4B74-9E12-41F5C2EA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C77-E15C-41A1-970C-1D6F41BA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E03-4A88-4FE2-9849-B43CFF9B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7FB-D586-49B2-AB44-113C7B03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2F2-B0D0-41B5-AD5A-58E52ECA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EAD-D057-475E-9969-145793AB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7C7-947E-4CFC-B5EF-ACEC7F85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4FB-3F68-49BE-95E5-8AC6A16E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FB4-51DD-49E2-AC68-68ECC7DC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35D-0764-42F2-8C47-631636DE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7C8-4364-414E-9F66-37DD26D5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F602-A97F-443E-8994-AB1BB1CFD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near Least Squa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E11-8755-4149-BCA6-D5C6422DA98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thogonal and Hermitia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quare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thog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rows are ortho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columns are ortho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orthogonal matrices are often nam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: a matrix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rmit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superscrip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s complex conjugate trans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ECA-1E3C-4C00-B489-0EBBE3EB47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holder Transform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useholder transfor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d by vector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pply it to a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mp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981080" y="2362320"/>
          <a:ext cx="196848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19684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133720" y="3962520"/>
          <a:ext cx="4698720" cy="23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962520"/>
                    <a:ext cx="469872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 flipH="1">
            <a:off x="4038120" y="25146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114440" y="30477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71080" y="228132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outer product, n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99520" y="29718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ner product, sc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648320" y="5334120"/>
            <a:ext cx="7617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510552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c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A23-4D7C-4E6F-9355-70712F646C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057400" y="2438280"/>
          <a:ext cx="5778360" cy="36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438280"/>
                    <a:ext cx="5778360" cy="36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010280" y="4876920"/>
          <a:ext cx="92736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4876920"/>
                    <a:ext cx="9273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638680" y="2286000"/>
          <a:ext cx="5335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2286000"/>
                    <a:ext cx="533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holder Geome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flected through the hyperplane perpendicular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015-2F4C-4EA1-A9A4-77DA3873E3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holder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ymmetric,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rthogonal,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1905120"/>
          <a:ext cx="748044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4804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066680" y="3581280"/>
          <a:ext cx="684540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581280"/>
                    <a:ext cx="68454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2C9-45DD-4572-9D87-E098673171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holder to Zero Matrix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use Householder transformations to zero subdiagonal elements of a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y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determine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solv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4038480"/>
                <a:ext cx="7558200" cy="23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a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μ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 is parenthesized scalar, related to length of 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're free to choose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since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does not affect 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066680" y="3200400"/>
                <a:ext cx="3721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BDA-E430-4B75-A50B-FD39568AF6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oosing the Vecto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480" y="1371600"/>
                <a:ext cx="7013520" cy="42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some scalar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ve this by expanding </m:t>
                        </m:r>
                        <m:sSub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 design,   so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ither sign will wor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avoid </m:t>
                        </m:r>
                        <m:r>
                          <m:t xml:space="preserve">v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0 we choose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our answ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745-E42E-43FF-94F5-898C55FC4F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lying Householder Trans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comp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licitly, that costs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l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use the formula given previous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costs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lops (if you pre-comp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pre-normal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when using Householder transformations, you never compute the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it’s only used in derivation and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600200" y="2438280"/>
                <a:ext cx="25779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9AD-9E57-4665-84A9-CB8AC988C1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R De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holder transform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good way to zero out subdiagonal elements of a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compo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orthogonal (prove!) product of Householder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pper trian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determined syst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=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ansformed into the easy-to-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71600" y="2819520"/>
                <a:ext cx="5054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or 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QQ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05320" y="5334120"/>
                <a:ext cx="17143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449-6080-4EAB-AE46-E94E2BDCE4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09-28T03:18:11Z</dcterms:modified>
  <cp:revision>54</cp:revision>
  <dc:subject/>
  <dc:title>Introduction</dc:title>
</cp:coreProperties>
</file>