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077-F9ED-461C-BF9D-344ED517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90D-5E1C-442F-8BDE-ED312138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E05-6BDB-4FEB-9D68-F339B8F5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811-66BF-46E3-B6E9-E87231B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760-DCA6-45D5-B8A9-C04568B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50E-1702-4703-886D-5B561A32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34A-7FF5-4F25-9852-0F630DF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160-3E19-4C44-9B45-F8614BE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FBA-B6A1-40D6-B7D8-B1250349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B2D-89BE-4928-A334-2FFD0DA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642-0283-423F-A686-DE35881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2E4-E53A-45C3-919F-8B9442C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22B9-7BFB-4710-945F-BD581C48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itial Value Probl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8FA-F41B-49BD-AA0F-DC8C88528A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scillating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1CC-5DDF-47E7-8876-E48E457BA1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tabl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4E6-F30C-46FF-ADE2-D3DB22B171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cobian o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a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DE homogeneous and linear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J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 gen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76720" y="2286000"/>
                <a:ext cx="1092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11E-7B9F-4306-B832-695BCE88C8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ODE depends on Jacob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eigen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Re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  ODE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  ODE neutrally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,   ODE un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35E-15BB-4045-BDE9-9177246DD9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ility of numerical solution is related to, but not the same as stability of 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plification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numerical solution is the factor by which global error grows or shrinks each it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B29-6628-449C-B5D3-42F5F4BF06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Euler’s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depend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, in general,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 of Euler’s method is determined by eigen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al radi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1 then Euler’s method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e inside unit circle centered at –1, E.M. is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case:  0&lt;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&lt;2 iff stable, so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one eigen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larger than the ot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D5E-26FC-4B09-9AFC-B4DDBD4088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f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DE is 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eigenvalues have greatly differing magn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stiff ODE, one eigenvalue can force use of sm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using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79B-CCC4-46D9-B01D-867855F559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formation from future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ake a step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 method: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 method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Ay     f(t,y)=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A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-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- solve this system each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A2D-B534-4790-8510-DE8162B95B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B.E.M. 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-hJ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E.M. is stable independ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ondition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long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i.e. as long as 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methods such as this permit bigger steps to be taken (lar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646-47DF-4FEC-86D9-C25792AC71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EF3-ACD7-4E1A-90BB-D6BC8CC23B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ic First Order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&gt;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0D5-18A6-45FA-AD4C-99224FC4AD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very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3DF-0E10-480C-8D13-DB8857B73B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D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100y+100t+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, very st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1+t+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100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ler’s method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Euler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FD3-4045-426C-A77B-9724489F63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requires tiny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C79-5CA6-4273-A592-AE76B2DE6B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, with larger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1E9-3B71-4A2D-91DA-B909ED74F9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with too large a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olutions star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.99, 1, 1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1A5-3F6F-48DB-8A6D-D12188D6CE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 steps OK with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6C3-FB99-4FDA-838F-64EFB676A0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large steps OK, t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B56-ADB4-46C3-9EFE-C2BE0DCC99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pular IVP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ezoid method (a.k.a.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dams-Moul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Runge-Ku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ccurate then its global error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3E6-5D51-4617-AEAE-2E780112CE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[tv,yv] = euler(funcname,h,t0,tmax,y0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use Euler's method to solve y'=func(t,y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return tvec and yvec sampled at t=(t0:h:tmax) as col. vect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uncname is a string containing the name of fun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pparently func has to be in this file?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Paul Heckbe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30 Oct 2000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 = y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v = [t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v = [y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t0:h:tma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f = eval([funcname '(t,y)'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 = y+f*h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tv = [tv; t+h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v = [yv; y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1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2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7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3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example 9.1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100*y+100*t+1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3C5-C0F3-49AD-AAA0-7AE516A0E7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e3(h,fi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igure(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clf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hold on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max = .4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axis([0 tmax -5 15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xis([0 .05 .95 2]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irst draw "exact" solution in bl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0v = 2.^(0:4:8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y0v -y0v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.005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b--'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then draw approximate solution in 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(.95:.05:1.05) -5 5 10 15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h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ro-', 'LineWidth',2, 'MarkerSize',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ext(.32,-3, sprintf('h=%g', h), 'FontSize',20, 'Color','r'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val(['print -depsc2 ' file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un, e.g.  e3(.1, ‘a.ep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63A-3FB9-4842-8DA5-70A9D9E180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0E1-22A7-4DFE-ADE2-30C8ADFC68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08000" y="847800"/>
          <a:ext cx="7128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847800"/>
                    <a:ext cx="7128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B34-D8E3-442F-BC8D-5F9DD2E308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 large, numerical solution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 in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34F-59FC-4D91-B57D-757E09FF76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slow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370-C1EB-45C5-A11A-BB90970C29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a bit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7F0-D5B0-49F0-BD68-ACA59E7EF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rather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438-AA4D-4DC4-B1FB-97BC13510F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poor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3E7-A9F7-4C12-9B33-8413D3C584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31T21:31:33Z</dcterms:modified>
  <cp:revision>73</cp:revision>
  <dc:subject/>
  <dc:title>Introduction</dc:title>
</cp:coreProperties>
</file>