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1420-AF58-465C-AE48-47F9A9EE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3D93-1C92-4838-923C-6B34F121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891-2DE1-4C65-AC3C-C45D7D56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050F-608F-4856-A296-5971ECF7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05D-1458-4257-B1F3-6EB83AF0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5C1-DD82-454D-A68B-900A90AC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71F5-2E22-4C4F-9158-0C996B4A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3E2A-4ECF-4563-8FB7-163D791E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CDF8-1A59-4127-90AB-328D3520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C3B-D0F8-417F-A638-9673DE25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C54-BAA7-41B3-9622-DE92ED77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5B5-58B4-49FB-956E-8EB3F32C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EC0E-6F03-41AE-85E1-1A811ACF6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itial Value Probl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443A-3A89-484C-B3B2-65096BC228D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scillating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492F-6BE3-4F2D-9E33-389B5DEF500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stable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259-19A7-4470-96A0-2506E7A263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acobian of 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’=f(t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dimen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obia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quar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ODE homogeneous and linear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nstant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’=J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n gener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e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276720" y="2286000"/>
                <a:ext cx="1092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CEE-8871-4059-80DB-965FE03238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ility of ODE depends on Jacob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gi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(t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ts eigen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ma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 Re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,   ODE stable, lo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,   ODE neutrally stable, lo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0,   ODE unstable, lo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2F3A-0800-474B-84FB-9072554B6E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ility of Numerical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bility of numerical solution is related to, but not the same as stability of 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mplification fa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numerical solution is the factor by which global error grows or shrinks each it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2F3-23F5-4D66-BF1B-7CAADBA20A3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ility of Euler’s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fication factor of Euler’s method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+h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it depends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, in general,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ty of Euler’s method is determined by eigen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+h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tral radiu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+h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 ma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+h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+h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lt;1 then Euler’s method 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eigenvalu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e inside unit circle centered at –1, E.M. is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r case:  0&lt;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&lt;2 iff stable, so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2/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one eigen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uch larger than the oth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7FE-578B-4630-B670-FAD7B281CAA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iff 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DE is 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its eigenvalues have greatly differing magnitu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a stiff ODE, one eigenvalue can force use of sm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using Euler’s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5223-7AAA-41EF-8219-1ECF9E123B3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icit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information from future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ake a step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ler method: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f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ward Euler method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f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’=Ay     f(t,y)=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A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-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)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- solve this system each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9E3-2852-4A97-921D-2937D4B72A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ility of Backward Euler’s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fication factor of B.E.M. i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-hJ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E.M. is stable independen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conditionally s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long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, i.e. as long as ODE is 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it methods such as this permit bigger steps to be taken (larg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6F8-FF43-40C7-AE24-AE451D76EEB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E.M. with large st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C31-76C2-4178-92F3-2429DC8A31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ric First Order 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’=f(t,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=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(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&gt;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9795-1980-4EFF-97B9-8231F5B3B4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E.M. with very large st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CE29-84AA-43E1-8682-2746C7E0E53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D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100y+100t+1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E is stable, very st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olu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(t)= 1+t+c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-100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how sol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ler’s method in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ward Euler in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77D6-4947-443A-BBB3-9C63EAF6A4B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uler’s method requires tiny st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603-2FEC-4D64-B67E-A8DEAD0C3B6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uler’s method, with larger st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48B0-744A-4913-95BF-54233F7E393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012680" y="855720"/>
          <a:ext cx="711864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855720"/>
                    <a:ext cx="711864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uler’s method with too large a st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solutions start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.99, 1, 1.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FB8-143D-41EE-AEAE-CBAB82B59F9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rge steps OK with Backward Euler’s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E6B8-D0A3-41BB-A355-3126C491E2C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012680" y="855720"/>
          <a:ext cx="711864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855720"/>
                    <a:ext cx="711864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ry large steps OK, to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233-969E-4395-83A1-06085217E87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pular IVP Solution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ler’s method,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ward Euler’s method,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pezoid method (a.k.a.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 Adams-Moult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 Runge-Kut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method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 accurate then its global error i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19A8-6538-4547-9532-05B3D7B0040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lab code used to make E.M. pl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unction [tv,yv] = euler(funcname,h,t0,tmax,y0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use Euler's method to solve y'=func(t,y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return tvec and yvec sampled at t=(t0:h:tmax) as col. vector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funcname is a string containing the name of func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apparently func has to be in this file??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Paul Heckbe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30 Oct 2000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y = y0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tv = [t0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yv = [y0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or t = t0:h:tmax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f = eval([funcname '(t,y)']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y = y+f*h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tv = [tv; t+h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yv = [yv; y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unction f = func1(t,y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Heath fig 9.6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 = y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return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unction f = func2(t,y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Heath fig 9.7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 = -y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return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unction f = func3(t,y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Heath example 9.11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 = -100*y+100*t+101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2DF-CC3D-409C-B4C9-F10A4632CE4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lab code used to make E.M. pl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unction e3(h,file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igure(4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clf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hold on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tmax = .4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axis([0 tmax -5 15]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axis([0 .05 .95 2]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first draw "exact" solution in blu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y0v = 2.^(0:4:80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or y0 = [y0v -y0v]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[tv,yv] = euler('func3', .005, 0, tmax, y0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plot(tv,yv,'b--'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% then draw approximate solution in r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for y0 = [(.95:.05:1.05) -5 5 10 15]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[tv,yv] = euler('func3', h, 0, tmax, y0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plot(tv,yv,'ro-', 'LineWidth',2, 'MarkerSize',4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e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text(.32,-3, sprintf('h=%g', h), 'FontSize',20, 'Color','r'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eval(['print -depsc2 ' file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run, e.g.  e3(.1, ‘a.eps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D6E-2541-44E3-9163-20E88D43BED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ODE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E is un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olu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(t)=c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how solutions with Euler’s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952-246E-4AFC-A9D6-7466214184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008000" y="847800"/>
          <a:ext cx="7128000" cy="51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847800"/>
                    <a:ext cx="712800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51D-12F4-4A4D-9DCF-8F94ED82DD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DE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E is 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olu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(t)= c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-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o large, numerical solution is un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how solutions with Euler’s method in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401-B8C7-405B-A1CD-BC0E5B42A0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le but slow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42BD-5553-4FA6-B79B-3DEE925ABD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89000" y="855720"/>
          <a:ext cx="696600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855720"/>
                    <a:ext cx="696600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le, a bit inaccurate sol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ACCE-079D-40DD-AE28-336728E2BC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11320" y="855720"/>
          <a:ext cx="692136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855720"/>
                    <a:ext cx="69213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le, rather inaccurate sol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F59-049E-4AB9-A6F7-4B9F1ABC0E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89000" y="855720"/>
          <a:ext cx="696600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855720"/>
                    <a:ext cx="696600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’=-y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ble but poor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187-4151-4E23-8899-C4A1C25AB6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Oct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10-31T21:31:33Z</dcterms:modified>
  <cp:revision>73</cp:revision>
  <dc:subject/>
  <dc:title>Introduction</dc:title>
</cp:coreProperties>
</file>