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542E-38CD-4794-9BF8-0540D702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161F-1DE6-4689-AE8B-7194390C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482E-8D8A-4C65-A5D7-6365CE0F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562-412E-4D18-B679-1B0BC098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58E-4FD1-4B30-B498-3C30FB50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8E4-38E8-450C-9FAC-658EF87E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7462-D7A2-4BF9-B67B-A3CF3F0D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2E33-5DCA-40DF-BFCB-9F6AD43C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228-224C-4920-B517-BAA1C468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5873-D6B2-402A-9459-7D0D7579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A95-D05B-42B0-B696-50E64C4D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94FF-113E-40EC-9321-686DFB86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236C-552B-4CF7-9869-90725C529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itial Value Probl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5D8-792D-4D4C-9B0C-E349ED91021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scillating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81F-38C3-4455-A20A-33FF11D441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stable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140-B1C2-49AA-BEEC-D41DE79E01C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acobian of 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’=f(t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dimen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obia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quar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ODE homogeneous and linear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nstant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’=J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n gener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e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276720" y="2286000"/>
                <a:ext cx="1092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61E-4FBE-428E-B0F9-EC1C6147D45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ility of ODE depends on Jacob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gi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(t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ts eigen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ma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 Re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,   ODE stable, lo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,   ODE neutrally stable, lo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0,   ODE unstable, lo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67B-82CA-466A-8472-0AA64A0653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ility of Numerical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bility of numerical solution is related to, but not the same as stability of 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mplification fa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numerical solution is the factor by which global error grows or shrinks each it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C049-291F-4F82-8886-96D4CC1F39D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ility of Euler’s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fication factor of Euler’s method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+h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it depends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, in general,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ty of Euler’s method is determined by eigen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+h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tral radiu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+h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 ma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+h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+h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lt;1 then Euler’s method 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eigenvalu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e inside unit circle centered at –1, E.M. is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r case:  0&lt;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&lt;2 iff stable, so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2/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one eigen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uch larger than the oth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C2DF-3853-414B-9B99-660283BA919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iff 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DE is 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its eigenvalues have greatly differing magnitu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a stiff ODE, one eigenvalue can force use of sm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using Euler’s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630-C772-48CF-A83D-91D7023C4A6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icit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information from future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ake a step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ler method: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f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ward Euler method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f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’=Ay     f(t,y)=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A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-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)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- solve this system each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946-A76C-49AC-A600-500C136EC7C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ility of Backward Euler’s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fication factor of B.E.M. i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-hJ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E.M. is stable independen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conditionally s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long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, i.e. as long as ODE is 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it methods such as this permit bigger steps to be taken (larg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DFB-27F6-4418-830F-AC0D3B67A83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E.M. with large st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2E2C-2221-4556-8328-582B6CD07FB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ric First Order 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’=f(t,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=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(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&gt;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C71-CAFB-4AE4-9000-F9377A3768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E.M. with very large st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D74-1E59-40E1-AB5C-923BF1E73C7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D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100y+100t+1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E is stable, very st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olu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(t)= 1+t+c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-100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how sol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ler’s method in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ward Euler in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000-C583-4534-88DD-882089D5AE7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uler’s method requires tiny st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878C-90CD-4A59-9E43-56D16312470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uler’s method, with larger st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1C7-583C-4407-A0F0-49E3F68D2B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012680" y="855720"/>
          <a:ext cx="711864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855720"/>
                    <a:ext cx="711864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uler’s method with too large a st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solutions start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.99, 1, 1.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29CA-1E59-4BCF-B29D-8A0C15CA87F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rge steps OK with Backward Euler’s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C3B-C77C-4669-9969-BAC7F650B6F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012680" y="855720"/>
          <a:ext cx="711864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855720"/>
                    <a:ext cx="711864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ry large steps OK, to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8F5-B293-43B9-9737-B822B3E5528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pular IVP Solution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ler’s method,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ward Euler’s method,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pezoid method (a.k.a.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 Adams-Moult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 Runge-Kut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method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 accurate then its global error i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7F66-F343-4D4F-83C0-F8D48C98A7A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lab code used to make E.M. pl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unction [tv,yv] = euler(funcname,h,t0,tmax,y0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use Euler's method to solve y'=func(t,y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return tvec and yvec sampled at t=(t0:h:tmax) as col. vector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funcname is a string containing the name of func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apparently func has to be in this file??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Paul Heckbe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30 Oct 2000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y = y0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tv = [t0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yv = [y0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or t = t0:h:tmax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f = eval([funcname '(t,y)']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y = y+f*h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tv = [tv; t+h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yv = [yv; y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unction f = func1(t,y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Heath fig 9.6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 = y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return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unction f = func2(t,y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Heath fig 9.7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 = -y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return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unction f = func3(t,y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Heath example 9.11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 = -100*y+100*t+101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6F9-C7AB-4141-8FAC-3A1B5B9D793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lab code used to make E.M. pl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unction e3(h,file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igure(4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clf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hold on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tmax = .4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axis([0 tmax -5 15]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axis([0 .05 .95 2]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first draw "exact" solution in blu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y0v = 2.^(0:4:80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or y0 = [y0v -y0v]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[tv,yv] = euler('func3', .005, 0, tmax, y0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plot(tv,yv,'b--'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then draw approximate solution in r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or y0 = [(.95:.05:1.05) -5 5 10 15]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[tv,yv] = euler('func3', h, 0, tmax, y0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plot(tv,yv,'ro-', 'LineWidth',2, 'MarkerSize',4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e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text(.32,-3, sprintf('h=%g', h), 'FontSize',20, 'Color','r'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eval(['print -depsc2 ' file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run, e.g.  e3(.1, ‘a.eps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DB9B-845D-4593-8246-FD17A6B6E8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ODE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E is un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olu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(t)=c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how solutions with Euler’s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B70-73B0-47D0-8CF9-FC48021F75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008000" y="847800"/>
          <a:ext cx="7128000" cy="51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847800"/>
                    <a:ext cx="712800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5C90-0936-441E-A63F-C8AD2BBC5C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DE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E is 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olu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(t)= c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-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o large, numerical solution is un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how solutions with Euler’s method in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A7C8-1D56-4841-BA4B-945C73A487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le but slow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15B-9CEC-4FF8-8F18-34CDF3E27F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89000" y="855720"/>
          <a:ext cx="696600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855720"/>
                    <a:ext cx="696600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le, a bit inaccurate sol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AD9-A123-4766-B5F1-5D533887E4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le, rather inaccurate sol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A2D-25BE-44A1-B4A7-76429661B4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89000" y="855720"/>
          <a:ext cx="696600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855720"/>
                    <a:ext cx="696600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le but poor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9FB-C426-406A-AFD2-15F5F7B0456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10-31T21:31:33Z</dcterms:modified>
  <cp:revision>73</cp:revision>
  <dc:subject/>
  <dc:title>Introduction</dc:title>
</cp:coreProperties>
</file>