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9186863" cy="7037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1D61-2CBB-44EA-861D-D1D244766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186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21C6-2252-4BA9-8B6C-A4294ED03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6D98-4B5C-4131-85E0-18120BA0A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186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186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186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32E1-D2D9-473E-9CC2-674871FB9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AF52-27D6-47BA-AEF3-914683FC6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C7E4-CC02-48CC-8D28-FC4F5B340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E311-B47F-42F0-9FCC-7D14B82EC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6822-ACE3-4BA2-9923-30248944C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E1D7-65F2-4E4D-A469-7A1D2E2C3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A020-8B25-4441-B750-D5D88198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CA58-EC97-4D75-92E7-0C6A6FD6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186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6F05-5CD2-4229-AFD0-805909EE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6400440"/>
            <a:ext cx="3810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1785D-029D-419C-86DC-BB908513AB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parse Systems and Iterative Method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ul Heckb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r Science 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4E0A-E02B-48C6-AA66-BCB74587691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DE’s and Sparse 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ystem of equations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pa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en there are few nonzero coefficients, e.g.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nonzeros in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tri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tial Differential Equations generally yield sparse systems of equ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ral Equations generally yield dense (non-sparse) systems of equ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rse systems come from other sources besides PDE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8C9F-268B-4598-872E-F71AD90264B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: PDE Yielding Sparse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place’s Equation in 2-D: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y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main is unit square [0,1]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of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specified on bound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n in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5C22-EDCE-4D8B-92B7-744EFC97E36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55560" y="2862360"/>
            <a:ext cx="7970760" cy="822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parse Matrix Stor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ute force: store nxn array,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most of that is zeros – wasted space (and time)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tter: use data structure that stores only the nonz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l 1   2   3   4   5   6   7   8   9  10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l 0   1   0   0   1  -4   1   0   0   1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6 bit integer indices:  2, 5, 6, 7,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2 bit floats:           1, 1,-4, 1,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ory requirements,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nzer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ute force: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tes,  sparse data struc: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88F9-EAD2-4F91-8263-797D106821D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 Iterative Method: Gauss-Sei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 of equation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 ith equation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seudoco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til x stops chan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i = 1 to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[i]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b[i]-sum{j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}{a[i,j]*x[j]})/a[i,i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ifi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lues are fed back in immediat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ges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symmetric positive defin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E861-F9BB-42F8-A3E6-E3977F1B309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ariations on Gauss-Sei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cobi’s 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ke Gauss-Seidel except two copie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ector are kept, “old” and “new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feedback until a sweep throug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ows is comp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lf as fast as Gauss-Seidel, stricter convergence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cessive Overrelaxation (S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apolate between ol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ector and new Gauss-Sei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ector, typically by a fact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1 and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ster than Gauss-Sei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FEC7-456F-4AC7-A7F5-39FC478C139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jugate Gradient Meth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ly for symmetric positive definite, on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t linear system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x=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o optimization problem: minimize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x-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arabolic bow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ke gradient de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search in conjugate dir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in gradient direction, to avoid zigzag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help when bowl is elongated (cond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lar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D245-D282-48A2-B925-079B740BFBC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jugate Dire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0C6D-BA13-4C8C-9C67-7ECEA207ECB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vergence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jugate Gradient Meth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cond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/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conjugate gradient method converges linearly with coefficient (sqr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-1)/(sqr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+1) worst c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ten does much better: without roundoff error,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stinct eigenvalues, converg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teration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9969-3C6A-4E27-BD67-3809B9DC58A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8T21:15:06Z</dcterms:created>
  <dc:creator>Paul Heckbert</dc:creator>
  <dc:description/>
  <dc:language>en-US</dc:language>
  <cp:lastModifiedBy>Paul Heckbert</cp:lastModifiedBy>
  <dcterms:modified xsi:type="dcterms:W3CDTF">2000-11-15T23:05:50Z</dcterms:modified>
  <cp:revision>92</cp:revision>
  <dc:subject/>
  <dc:title>Introduction</dc:title>
</cp:coreProperties>
</file>