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01A-5359-49A4-B52C-E9DB00B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744-C261-4EF7-9E8A-AD6E69F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8C8-94F9-4730-AE95-B255ECE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3F1-9908-4C5F-8E84-965F8900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670-9167-4A2F-929B-E67C5B08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720-69FC-4AF1-8168-653B1C25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BD3-0180-47F8-9E63-CB6A14F9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824-2F29-4377-9F64-A91C149D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579-3D94-4F04-9B16-6A3B33B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81C-3434-4EC0-B1A6-1EE2552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805-7844-43B4-9BD2-E9626DD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986-4479-4DC5-9DAB-8F42E26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E11-DD0A-4339-B0AF-34E565773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parse Systems and Iterative Meth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CB1-7640-46F9-A18B-9671050707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and Spars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equation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re are few nonzero coefficients, e.g.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onzeros in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Differential Equations generally yield sparse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l Equations generally yield dense (non-sparse)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se systems come from other sources besides PDE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F5E-7373-46D4-A71B-A11E56DBEA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DE Yielding Spar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 in 2-D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is unit square [0,1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pecified on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DCC-7D6E-464D-8772-A4952647A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5560" y="2862360"/>
            <a:ext cx="7970760" cy="82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rse Matrix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te force: store nxn array,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ost of that is zeros – wasted space (and time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: use data structure that stores only the nonz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 1   2   3   4   5   6   7   8   9  10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 0   1   0   0   1  -4   1   0   0   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 bit integer indices:  2, 5, 6, 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 bit floats:           1, 1,-4, 1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s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ze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: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,  sparse data struc: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56F-C0A9-422C-AF7E-F22FDA0E3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Iterative Method: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of equ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ith equat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x stops cha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= 1 t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[i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b[i]-sum{j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}{a[i,j]*x[j]})/a[i,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re fed back i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s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positive de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972-DF91-4104-B953-59B8E72FE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tions on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’s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Gauss-Seidel except two cop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re kept, “old” and “ne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edback until a sweep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as fast as Gauss-Seidel, stricter convergen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ive Overrelaxation (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e between o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nd new Gauss-Sei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, typically by a fa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1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Gauss-Sei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147-D9A7-4B69-9F86-209A96BF5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for symmetric positive definite,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linear system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o optimization problem: minimiz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bolic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gradient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earch in conjugat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gradient direction, to avoid zigza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help when bowl is elongated (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ar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E9C-F32C-4460-BD24-0B9F5702DA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DAB-D185-48D4-A28F-A5352759D6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onjugate gradient method converges linearly with coefficient 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1)/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1) wor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es much better: without roundoff error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inct eigenvalues, converg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169-33D9-4BFB-86A0-5D2239CEDC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5:50Z</dcterms:modified>
  <cp:revision>92</cp:revision>
  <dc:subject/>
  <dc:title>Introduction</dc:title>
</cp:coreProperties>
</file>