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9186863" cy="7037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0954-5970-4380-8877-73CA339C4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186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7AD3-CD14-41ED-B489-C6B2F55EC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DAD3-0EF0-4452-90C7-41F7BB98D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186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186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186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425A-EA0E-4A00-8392-D66C8EB27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0E1F-1AA0-4794-AF2F-54C9582D5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2763-EE1A-4E46-B8B1-6A67BCD61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7665-8399-467E-A5DB-DF97155F8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6D33-BF6A-44E1-93DE-97DF9B967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32E3-C58B-4DEB-B646-B6365EA5D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669D-D4F5-4FCD-80B7-20D872AD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9BB6-10FC-4A6B-83E9-54D262D7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186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4493-DA3C-4263-ACAC-4B992B54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6400440"/>
            <a:ext cx="3810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DE41F-C1C5-4B6C-A8DD-201D9E95C4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parse Systems and Iterative Method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ul Heckb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r Science 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BEBA-C04A-4BDD-992A-776FFB127DE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DE’s and Sparse 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ystem of equations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pa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en there are few nonzero coefficients, e.g.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nonzeros in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tri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tial Differential Equations generally yield sparse systems of equ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ral Equations generally yield dense (non-sparse) systems of equ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rse systems come from other sources besides PDE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1568-F432-4C85-AE07-AFC2EEF28E3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: PDE Yielding Sparse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place’s Equation in 2-D: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y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main is unit square [0,1]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of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specified on bound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n in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3131-1265-4C6E-BA2C-E72DC75EA67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55560" y="2862360"/>
            <a:ext cx="7970760" cy="822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parse Matrix Stor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ute force: store nxn array,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most of that is zeros – wasted space (and time)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tter: use data structure that stores only the nonz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l 1   2   3   4   5   6   7   8   9  10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l 0   1   0   0   1  -4   1   0   0   1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6 bit integer indices:  2, 5, 6, 7,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2 bit floats:           1, 1,-4, 1,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ory requirements,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nzer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ute force: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tes,  sparse data struc: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05FF-CD19-4FBC-BDF5-83BF0514619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 Iterative Method: Gauss-Sei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 of equation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 ith equation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seudoco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til x stops chan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i = 1 to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[i]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b[i]-sum{j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}{a[i,j]*x[j]})/a[i,i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ifi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lues are fed back in immediat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ges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symmetric positive defin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51A8-FDBE-4776-919F-884C68B1E42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ariations on Gauss-Sei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cobi’s 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ke Gauss-Seidel except two copie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ector are kept, “old” and “new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feedback until a sweep throug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ows is comp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lf as fast as Gauss-Seidel, stricter convergence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cessive Overrelaxation (S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apolate between ol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ector and new Gauss-Sei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ector, typically by a fact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1 and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ster than Gauss-Sei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73C7-F637-484F-9BE2-721FA390EFB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jugate Gradient Meth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ly for symmetric positive definite, on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t linear system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x=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o optimization problem: minimize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x-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arabolic bow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ke gradient de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search in conjugate dir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in gradient direction, to avoid zigzag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help when bowl is elongated (cond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lar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E1ED-9E28-404A-8C4C-25452BC2FB0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jugate Dire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5773-D6C2-45A7-84B7-575D76659BB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vergence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jugate Gradient Meth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cond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/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conjugate gradient method converges linearly with coefficient (sqr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-1)/(sqr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+1) worst c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ten does much better: without roundoff error,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stinct eigenvalues, converg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teration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28B7-6D40-4664-9CDB-ED3568DC584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8T21:15:06Z</dcterms:created>
  <dc:creator>Paul Heckbert</dc:creator>
  <dc:description/>
  <dc:language>en-US</dc:language>
  <cp:lastModifiedBy>Paul Heckbert</cp:lastModifiedBy>
  <dcterms:modified xsi:type="dcterms:W3CDTF">2000-11-15T23:05:50Z</dcterms:modified>
  <cp:revision>92</cp:revision>
  <dc:subject/>
  <dc:title>Introduction</dc:title>
</cp:coreProperties>
</file>