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87C-64DE-43F2-B4B7-8A9D214D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A06-46B1-4DC1-9824-30D91E75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9908-64AE-4696-8775-967ECBD0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9259-5599-4E17-8905-A7B5B9A5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E5E1-3658-4D6E-9136-ACAFA460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F483-79E2-485A-AD51-312CF326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4542-BD47-4D78-BADF-887FE6B5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FFE-F681-4524-9BC7-0EB36EA9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8C7E-6F05-496B-B274-3EF02623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9AB-83E8-462E-832F-23FD844A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6592-21F5-4B85-ADF2-D5887504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ECE3-A1B8-4117-B02C-8C339A6D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40044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CAE6-AD48-479F-A241-F4270BA7B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ystems of Linear Equ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Heck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6CB-6E6B-461C-ADBA-26DF4FC510F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 Number of a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problems are harder to solve accurately than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ition 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measure of how sensitive a problem is to changes in its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&lt;1 or s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is well-condi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&gt;&gt;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is ill-condi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3276720"/>
          <a:ext cx="834408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76720"/>
                    <a:ext cx="834408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F83-90D1-4BBF-A75F-F9380737F41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 Number --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ll condition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-condi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ing a step on level gr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near cl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(x) near x=4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, s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(x) near x=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ca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 infin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(x) not near x=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(x) near x=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caus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e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7DCF-A981-4E13-88FD-157BEE2B483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stems of Linear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Ax=b for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and b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vectors (column matri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we’ll look at overdetermined and underdetermined systems, where the matrix is not square (#equations not equal to #unknow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EBD0-DEB5-43AF-9AB7-77A93A43DDB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rix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squar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tri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k is the max. no. of linearly independent rows or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rank = rank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k-deficient = rank is less th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ular matrix = determinant zero = no inverse = linearly dependent = rank-deficient = (Ax=0 for some nonzero 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830-8AFA-47D9-9892-C70FFCA92B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rix Rank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857680"/>
                <a:tab algn="l" pos="5457960"/>
                <a:tab algn="l" pos="8186760"/>
                <a:tab algn="l" pos="10915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k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k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k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990720" y="2057400"/>
                <a:ext cx="1015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990720" y="3581280"/>
                <a:ext cx="10015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704880" y="5105520"/>
                <a:ext cx="16891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809880" y="2057400"/>
                <a:ext cx="10162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803760" y="3581280"/>
                <a:ext cx="10285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562200" y="5181480"/>
                <a:ext cx="15242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477120" y="2057400"/>
                <a:ext cx="1015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EFB5-6D63-43BE-B1DB-C28F6E97FB9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ometric Interpretation - 2×2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section of 2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09480" y="2133720"/>
                <a:ext cx="4508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⇔</m:t>
                    </m:r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5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84" name=""/>
          <p:cNvGrpSpPr/>
          <p:nvPr/>
        </p:nvGrpSpPr>
        <p:grpSpPr>
          <a:xfrm>
            <a:off x="5714640" y="1447920"/>
            <a:ext cx="2718000" cy="1784520"/>
            <a:chOff x="5714640" y="1447920"/>
            <a:chExt cx="2718000" cy="1784520"/>
          </a:xfrm>
        </p:grpSpPr>
        <p:sp>
          <p:nvSpPr>
            <p:cNvPr id="85" name=""/>
            <p:cNvSpPr/>
            <p:nvPr/>
          </p:nvSpPr>
          <p:spPr>
            <a:xfrm>
              <a:off x="5792760" y="14479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43600" y="18288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91320" y="304812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24480" y="3048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600" y="3048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67480" y="3048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05720" y="3048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48720" y="3048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86728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5867280" y="2286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714640" y="1980720"/>
              <a:ext cx="243828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53080" y="2133720"/>
              <a:ext cx="106704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139240" y="28335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95880" y="190512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+2y=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15200" y="220968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-y=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48440" y="263052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52280" y="3657600"/>
                <a:ext cx="53341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</m:e>
                          </m:mr>
                        </m:m>
                      </m:e>
                    </m:d>
                    <m:r>
                      <m:t xml:space="preserve">⇔</m:t>
                    </m:r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</m:mr>
                      <m:m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102" name=""/>
          <p:cNvGrpSpPr/>
          <p:nvPr/>
        </p:nvGrpSpPr>
        <p:grpSpPr>
          <a:xfrm>
            <a:off x="5715000" y="3276720"/>
            <a:ext cx="2717640" cy="1828800"/>
            <a:chOff x="5715000" y="3276720"/>
            <a:chExt cx="2717640" cy="1828800"/>
          </a:xfrm>
        </p:grpSpPr>
        <p:sp>
          <p:nvSpPr>
            <p:cNvPr id="103" name=""/>
            <p:cNvSpPr/>
            <p:nvPr/>
          </p:nvSpPr>
          <p:spPr>
            <a:xfrm>
              <a:off x="5792760" y="32767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3600" y="36576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91320" y="487692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24480" y="4876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86600" y="4876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67480" y="4876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05720" y="4876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848720" y="4876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5867280" y="44960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5867280" y="4114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5715000" y="4191120"/>
              <a:ext cx="18288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39240" y="46627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9920" y="43434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+2y=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6400800" y="3810240"/>
              <a:ext cx="18288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8840" y="3810240"/>
              <a:ext cx="113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-3x-6y=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476760" y="3733920"/>
              <a:ext cx="228600" cy="457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49600" y="3810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 1 matrix means lines are parall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ines non-coincident, so no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-9, lines coincident, one-dimensional subspace of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5C3E-2980-473D-970C-38FBEAE94D0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ussian Elimination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U Decom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ussian Elimination on square matri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U de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unit lower triangular (1’s on diag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upper trian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70120" y="2654280"/>
          <a:ext cx="740376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2654280"/>
                    <a:ext cx="740376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70D5-0B6D-44D0-B9BB-D76EC025F07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ussian Elimination - com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.E. can be done on any squar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ngular then diagonal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ontain zero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partial pivoting is used (swapping rows during elimination) to reduce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.E. is an example of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lic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for solving linear systems – solve for solution in one sw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, more efficient algorithms can be used for specialized matrix types, as we’ll see l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B66-DC8C-4FA2-BD9F-13CEC81CA35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ving Systems with LU Decom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ol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x=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cost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 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y=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forw. substit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c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x=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back substit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c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er alternati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cost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cost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sts about 3 times as much as 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s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formula, read it as “solve a system”, not “invert a matrix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7A6-8776-4F74-9883-C36968C11D4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mmetric Positive Defin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Positive Definite – an important matrix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metric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=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definite: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is sp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omposition can be writt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=LL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lower triangular (not un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olesky factoriz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c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3 fl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ivoting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EC6-9B4B-46DA-AE41-94166ACA05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te of the Art in Scientific Compu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rospace: simulate subsonic &amp; supersonic air flow around full aircraft, no wind tu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space into millions of tetrahedra or parallelepipeds, solve sparse linear or nonlinear P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clear: simulate nuclear explos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ecially important because of nuclear test b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ther prediction: entire planet, 2 weeks into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trophysics: galactic coll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otive: simulate car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logy: simulate protein folding – drug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7EF-7862-4BCB-B70A-79B0FBAB92E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amer’s 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for solv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near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its c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7C9-167E-483F-8D38-EB8FD622813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ctor N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s differ by at most a constant factor, for fix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66680" y="1371600"/>
          <a:ext cx="617220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617220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066680" y="5334120"/>
          <a:ext cx="490248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334120"/>
                    <a:ext cx="49024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3DD-4D45-4B12-A038-5D39ED70ADB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rix N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x norm defined in terms of vector n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metric meaning: the maximum stretch resulting from application of this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ct result depends on whether 1-, 2-,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rm i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76520" y="2133720"/>
          <a:ext cx="218412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21841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92B-3060-49ED-902E-41A3391AD44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 Number of a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asure of how close a matrix is to sin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(singular matrix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3880" y="2362320"/>
          <a:ext cx="557532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62320"/>
                    <a:ext cx="557532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9008-CD9A-49C5-B65B-021093360F3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ategies for Simplifying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infinite process with finit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integrals to s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general matrices with simple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di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complex functions with simple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polynom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nonlinear problems with linear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differential equations with algebraic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linear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high-order systems with low-ord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infinite-dimensional spaces with finite-dim.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all real functions on [0,1] with samples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element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BA77-34C7-4802-845A-CC1E35F8F1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urces of Err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828960"/>
                <a:tab algn="l" pos="7658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ror typ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ample: car crash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828960"/>
                <a:tab algn="l" pos="7658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828960"/>
                <a:tab algn="l" pos="76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roximate car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828960"/>
                <a:tab algn="l" pos="76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measu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orrect tire friction coe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828960"/>
                <a:tab algn="l" pos="76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comput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ror in initial speed of 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828960"/>
                <a:tab algn="l" pos="76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ncation or discret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merical solution to dif.e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828960"/>
                <a:tab algn="l" pos="76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floats, not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828960"/>
                <a:tab algn="l" pos="7658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828960"/>
                <a:tab algn="l" pos="7658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step introduces some error, but magnitudes may differ grea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828960"/>
                <a:tab algn="l" pos="7658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the largest source of error –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ak link in the ch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06A-E0CF-497C-B3B5-93C831A809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ntifying Err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bsolute error) = (approximate value) – (true val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al difficulty with measuring err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any problems we cannot compute the exact answer, we can only approximate 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, the best we can do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stim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erro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2438280"/>
          <a:ext cx="839448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839448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0491-A2FE-4393-928F-60BCD71E23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gnificant Dig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f = 1./3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"%.20f\n", f);  // print to 20 dig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3333333432674408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get 7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ificant dig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 the rest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un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eporting results, only show the significant digi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7608-12E1-4F90-B7C5-DBF732642F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Floating Poin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widely used standard for floating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flo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4 bytes: 24 bit mantissa, 8 bit ex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7 significant 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st pos. no: 1.3e-38, largest: 3.4e+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do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8 bytes: 53 bit mantissa, 11 bit ex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16 significant 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st pos.: 2.3e-308, largest: 1.7e+3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nfinity (e.g. 1/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“not a number”, undefined (e.g. 0/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808D-F7E6-42EB-8459-2AC3B7C2ED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 program to test floating 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#include &lt;math.h&gt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ain()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int i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float f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double d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for (i=0; i&lt;55; i++)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f = 1. + pow(.5, i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 = 1. + pow(.5, i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printf("%2d  %.9f  %.18f\n", i, f, d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}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3E07-73B3-4DC3-BF08-9C619ADDA54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utput: precision of float &amp; dou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i  float        double  1+2^(-i)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0  2.000000000  2.000000000000000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1  1.500000000  1.500000000000000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2  1.250000000  1.250000000000000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3  1.125000000  1.125000000000000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4  1.062500000  1.062500000000000000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1  1.000000477  1.0000004768371582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2  1.000000238  1.0000002384185791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3  1.000000119  1.0000001192092896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4  1.000000000  1.000000059604644800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50  1.000000000  1.0000000000000009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51  1.000000000  1.0000000000000004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52  1.000000000  1.0000000000000002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53  1.000000000  1.000000000000000000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1DE7-EF91-4B3B-8987-78494BD6798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1:15:06Z</dcterms:created>
  <dc:creator>Paul Heckbert</dc:creator>
  <dc:description/>
  <dc:language>en-US</dc:language>
  <cp:lastModifiedBy>Paul Heckbert</cp:lastModifiedBy>
  <dcterms:modified xsi:type="dcterms:W3CDTF">2000-09-26T21:41:01Z</dcterms:modified>
  <cp:revision>28</cp:revision>
  <dc:subject/>
  <dc:title>Introduction</dc:title>
</cp:coreProperties>
</file>