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B2D-43F4-4DCC-8D70-01775865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58A-AE3F-498E-9192-CBCC913C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6C2-D028-458A-91F9-08D8B111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A3E-5E02-462B-8D65-04818004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481-49E2-4FA3-8F07-F19CA818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191-D9DD-494D-A5E3-B8D3BA2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ADA-C219-4C26-B179-C7E2AC5E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70D-67C0-45C3-B4A7-9BE6083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F5E-1CE5-4C9E-9D22-1E3469D1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E36-BC71-4FFA-A0FF-D755F4AC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EDB-16AC-4572-986B-4B7033BF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FB4-0D8A-4223-94BE-8492B4F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076A-6AB9-46A9-A520-44A839800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stems of Linear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599-E8A1-45D4-B506-ECCEEE6FEF0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of a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blems are harder to solve accurately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easure of how sensitive a problem is to changes in it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&lt;1 or 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s we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&gt;&gt;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s i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3276720"/>
          <a:ext cx="83440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344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8EA-A6F9-43AB-AC22-D7F05FEF26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--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 conditio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-condi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step on level 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near cl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(x) near x=4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, s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(x)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infin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(x) not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(x) near x=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ca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98B-CD93-4541-B935-F70BF7BC13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s of Linear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x=b for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and b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ectors (column matr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we’ll look at overdetermined and underdetermined systems, where the matrix is not square (#equations not equal to #unkn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6C3-A895-4BB8-B7AD-1DC9DFAD34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squa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is the max. no. of linearly independent rows o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rank = rank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-deficient = rank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ular matrix = determinant zero = no inverse = linearly dependent = rank-deficient = (Ax=0 for some nonzero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2E8-5B81-4FD7-809C-BF81C022CE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Rank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857680"/>
                <a:tab algn="l" pos="5457960"/>
                <a:tab algn="l" pos="8186760"/>
                <a:tab algn="l" pos="1091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90720" y="2057400"/>
                <a:ext cx="1015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90720" y="3581280"/>
                <a:ext cx="1001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04880" y="5105520"/>
                <a:ext cx="1689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809880" y="2057400"/>
                <a:ext cx="1016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03760" y="3581280"/>
                <a:ext cx="1028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562200" y="5181480"/>
                <a:ext cx="1524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77120" y="2057400"/>
                <a:ext cx="1015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905-B586-4239-AB8F-1BD595A24D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ometric Interpretation - 2×2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 of 2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9480" y="2133720"/>
                <a:ext cx="4508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5714640" y="1447920"/>
            <a:ext cx="2718000" cy="1784520"/>
            <a:chOff x="5714640" y="1447920"/>
            <a:chExt cx="2718000" cy="1784520"/>
          </a:xfrm>
        </p:grpSpPr>
        <p:sp>
          <p:nvSpPr>
            <p:cNvPr id="85" name=""/>
            <p:cNvSpPr/>
            <p:nvPr/>
          </p:nvSpPr>
          <p:spPr>
            <a:xfrm>
              <a:off x="5792760" y="1447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18288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30481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60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748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3048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86728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8672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714640" y="1980720"/>
              <a:ext cx="243828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53080" y="2133720"/>
              <a:ext cx="106704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39240" y="2833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190512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+2y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22096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-y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48440" y="26305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3657600"/>
                <a:ext cx="5334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5715000" y="3276720"/>
            <a:ext cx="2717640" cy="1828800"/>
            <a:chOff x="5715000" y="3276720"/>
            <a:chExt cx="2717640" cy="1828800"/>
          </a:xfrm>
        </p:grpSpPr>
        <p:sp>
          <p:nvSpPr>
            <p:cNvPr id="103" name=""/>
            <p:cNvSpPr/>
            <p:nvPr/>
          </p:nvSpPr>
          <p:spPr>
            <a:xfrm>
              <a:off x="5792760" y="3276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1320" y="4876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448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48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867280" y="4496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672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715000" y="419112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39240" y="4662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3434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+2y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400800" y="381024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8840" y="3810240"/>
              <a:ext cx="113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-3x-6y=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476760" y="3733920"/>
              <a:ext cx="22860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0" y="3810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 1 matrix means lines are parall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ines non-coincident, so no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9, lines coincident, one-dimensional subspac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A46-64A7-4FB1-8ECD-F50398B9BC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ian Elimination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Elimination on squar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nit lower triangular (1’s on diag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tri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70120" y="2654280"/>
          <a:ext cx="740376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2654280"/>
                    <a:ext cx="74037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511-7977-4B0B-8C8C-D9357C7610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ian Elimination -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E. can be done on any squar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gular then diagona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ontain zero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partial pivoting is used (swapping rows during elimination) to reduc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E. is an example of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for solving linear systems – solve for solution in one sw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, more efficient algorithms can be used for specialized matrix types, as we’ll see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BFB-0BDE-4678-87B4-2D90C24D32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ing Systems with LU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=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y=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forw.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x=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back sub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os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sts about 3 times as much as 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s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formula, read it as “solve a system”, not “invert a matri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533-418D-4055-8005-DB16474120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metric Positive Defin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Positive Definite – an important matrix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=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definite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is sp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omposition can be writt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LL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wer triangular (not un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lesky factor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c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 fl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ivoting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BF3-9134-495F-AC56-0D6AACF6D4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e of the Art in Scientific Comp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pace: simulate subsonic &amp; supersonic air flow around full aircraft, no wind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pace into millions of tetrahedra or parallelepipeds, solve sparse linear or nonlinear P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ar: simulate nuclear explo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important because of nuclear test b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ther prediction: entire planet, 2 weeks into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physics: galactic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otive: simulate ca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y: simulate protein folding – drug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DD9-4F06-4D3A-BAD5-9221A41C57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amer’s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solv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ea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s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2BA-9067-4E85-A406-482F2D3A1A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ctor N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s differ by at most a constant factor, for fix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371600"/>
          <a:ext cx="6172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172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6680" y="5334120"/>
          <a:ext cx="490248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334120"/>
                    <a:ext cx="4902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FA9-2695-4886-9B3E-563888C442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x N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norm defined in terms of vector n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ic meaning: the maximum stretch resulting from application of this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 result depends on whether 1-, 2-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rm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76520" y="2133720"/>
          <a:ext cx="21841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21841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D9E-AADC-4179-91E6-0EB4C51CDD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 Number of a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asure of how close a matrix is to si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(singular matrix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2362320"/>
          <a:ext cx="557532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57532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AA2-DB44-4247-91B1-452542B5E7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ategies for Simplifying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nfinite process with fini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integrals to s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general matrices with simpl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complex functions with simpl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nonlinear problems with linea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differential equations with algebraic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linea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high-order systems with low-ord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nfinite-dimensional spaces with finite-dim.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all real functions on [0,1] with sample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lement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B03-81AA-4354-B819-4B3A4F6B7A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urces of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typ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car crash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828960"/>
                <a:tab algn="l" pos="7658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e c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measu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orrect tire friction coe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comp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 in initial speed of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ion or discret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rical solution to dif.e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floats, not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828960"/>
                <a:tab algn="l" pos="7658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tep introduces some error, but magnitudes may differ grea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828960"/>
                <a:tab algn="l" pos="7658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the largest source of error –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ak link in the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3E2-D898-4ED5-A71C-A6C07A1FF7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tifying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solute error) = (approximate value) – (true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difficulty with measuring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problems we cannot compute the exact answer, we can only approximate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, the best we can d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438280"/>
          <a:ext cx="83944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3944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E6F-8DF8-4E36-A65B-3CEBD03FB4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ificant Dig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1./3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.20f\n", f);  // print to 20 dig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3333333432674408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7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ificant dig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the res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porting results, only show the significant digi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381-03A4-4530-B0FE-27546F8814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Floating Poin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widely used standard for floa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4 bytes: 24 bit mantissa, 8 bit 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7 significan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pos. no: 1.3e-38, largest: 3.4e+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8 bytes: 53 bit mantissa, 11 bit 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16 significan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pos.: 2.3e-308, largest: 1.7e+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nfinity (e.g. 1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“not a number”, undefined (e.g. 0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B85-FD88-4CC9-AE3E-77619BE8B6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program to test floating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#include &lt;math.h&gt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in(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int i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float f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double d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for (i=0; i&lt;55; i++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f = 1. + pow(.5, i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 = 1. + pow(.5, i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printf("%2d  %.9f  %.18f\n", i, f, d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236-6179-43CC-80E0-7DB0D167E6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put: precision of float &amp; dou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i  float        double  1+2^(-i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0  2.000000000  2.00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1  1.500000000  1.50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2  1.250000000  1.250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3  1.125000000  1.125000000000000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4  1.062500000  1.06250000000000000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1  1.000000477  1.0000004768371582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 1.000000238  1.0000002384185791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3  1.000000119  1.0000001192092896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4  1.000000000  1.00000005960464480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0  1.000000000  1.0000000000000009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1  1.000000000  1.0000000000000004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2  1.000000000  1.0000000000000002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53  1.000000000  1.000000000000000000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5AB-5057-4498-A218-522823D1C6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Sep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09-26T21:41:01Z</dcterms:modified>
  <cp:revision>28</cp:revision>
  <dc:subject/>
  <dc:title>Introduction</dc:title>
</cp:coreProperties>
</file>