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46C7-A80A-4B92-B1A6-BBE95A022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1CB3-A1AE-4C2D-82F0-610A45CDC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97DF-511C-4B81-B8F4-01AEE235E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9127-D163-4C54-9752-3038583AD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178B-3B26-49B4-9674-C6435C0C8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216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90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AFF0-6C00-42EF-88F1-86DF6C06E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FD0D-4988-4E98-AD5C-12A082001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C1AA-E33D-4106-8175-2D9B81B5B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4665-20BB-4BFB-B8E7-FA07BC2D5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A0ED-B463-47E6-B4F7-5E7508165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32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0ED4-C623-4B51-AA04-F8232CF6C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FDC2-0AF1-4EDD-9704-5207BE8F2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667400" y="55627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21AF-259D-4D02-82F6-C5E88FD6C543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256E-6421-4410-8A24-BE333B1A0E9C}" type="slidenum"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400440" y="65527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333cc"/>
                </a:solidFill>
                <a:latin typeface="HY엽서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333cc"/>
                </a:solidFill>
                <a:latin typeface="HY엽서L"/>
                <a:ea typeface="HY엽서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24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428640" y="3505320"/>
            <a:ext cx="2438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914400" cy="80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3333cc"/>
                </a:solidFill>
                <a:latin typeface="Tahoma"/>
              </a:rPr>
              <a:t>SMV Examples</a:t>
            </a:r>
            <a:endParaRPr b="1" lang="en-US" sz="4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ahoma"/>
              </a:rPr>
              <a:t>Bug Catching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 in 2006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Oct. 24, 20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8287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85272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8287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385272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32544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544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3672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13334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35780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450072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692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18363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69200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29" name=""/>
          <p:cNvCxnSpPr>
            <a:stCxn id="312" idx="1"/>
            <a:endCxn id="312" idx="0"/>
          </p:cNvCxnSpPr>
          <p:nvPr/>
        </p:nvCxnSpPr>
        <p:spPr>
          <a:xfrm flipH="1" flipV="1" rot="5400000">
            <a:off x="1148400" y="226872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13" idx="1"/>
            <a:endCxn id="313" idx="0"/>
          </p:cNvCxnSpPr>
          <p:nvPr/>
        </p:nvCxnSpPr>
        <p:spPr>
          <a:xfrm flipH="1" flipV="1" rot="5400000">
            <a:off x="417240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15" idx="5"/>
            <a:endCxn id="315" idx="4"/>
          </p:cNvCxnSpPr>
          <p:nvPr/>
        </p:nvCxnSpPr>
        <p:spPr>
          <a:xfrm rot="5400000">
            <a:off x="4579920" y="511704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24000" y="14832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Kripke stru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5364000" y="148320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Computation tre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804000" y="227664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370560" y="304812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7236000" y="3049560"/>
            <a:ext cx="720720" cy="45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37" name=""/>
          <p:cNvCxnSpPr>
            <a:stCxn id="334" idx="4"/>
            <a:endCxn id="335" idx="0"/>
          </p:cNvCxnSpPr>
          <p:nvPr/>
        </p:nvCxnSpPr>
        <p:spPr>
          <a:xfrm flipH="1">
            <a:off x="6730560" y="2727000"/>
            <a:ext cx="43416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4" idx="4"/>
            <a:endCxn id="336" idx="0"/>
          </p:cNvCxnSpPr>
          <p:nvPr/>
        </p:nvCxnSpPr>
        <p:spPr>
          <a:xfrm>
            <a:off x="7164360" y="272700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5578560" y="34995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805440" y="4290840"/>
            <a:ext cx="720720" cy="45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41" name=""/>
          <p:cNvCxnSpPr>
            <a:stCxn id="340" idx="4"/>
          </p:cNvCxnSpPr>
          <p:nvPr/>
        </p:nvCxnSpPr>
        <p:spPr>
          <a:xfrm flipH="1">
            <a:off x="6732000" y="4741560"/>
            <a:ext cx="43380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40" idx="4"/>
          </p:cNvCxnSpPr>
          <p:nvPr/>
        </p:nvCxnSpPr>
        <p:spPr>
          <a:xfrm>
            <a:off x="7165800" y="4741560"/>
            <a:ext cx="4327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5580000" y="511884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already hol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3DEE-9EC4-4FE0-B5D7-7FECACDABE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Courier New"/>
                <a:ea typeface="돋움"/>
              </a:rPr>
              <a:t>AX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47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6372360" y="2421000"/>
            <a:ext cx="2232000" cy="792000"/>
          </a:xfrm>
          <a:prstGeom prst="wedgeRoundRectCallout">
            <a:avLst>
              <a:gd name="adj1" fmla="val 9388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AF is changed to </a:t>
            </a:r>
            <a:r>
              <a:rPr b="1" lang="ko-KR" sz="2000" spc="-1" strike="noStrike">
                <a:solidFill>
                  <a:srgbClr val="cc0000"/>
                </a:solidFill>
                <a:latin typeface="Tahoma"/>
              </a:rPr>
              <a:t>AX</a:t>
            </a: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C45E-3EBF-4EFD-9026-2980CF2E2A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H="1" flipV="1">
            <a:off x="168876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19640" y="1952640"/>
            <a:ext cx="3648240" cy="37814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82560" y="2421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3706920" y="2421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~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4653000"/>
            <a:ext cx="1152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ad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706920" y="4653000"/>
            <a:ext cx="1152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2779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5011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690560" y="314172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1835280" y="5084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1835280" y="4940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21164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4354560" y="314172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285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2708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546200" y="3068640"/>
            <a:ext cx="2305080" cy="15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690200" y="306864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545840" y="3142800"/>
            <a:ext cx="2305080" cy="15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8" name=""/>
          <p:cNvCxnSpPr>
            <a:stCxn id="361" idx="1"/>
            <a:endCxn id="361" idx="0"/>
          </p:cNvCxnSpPr>
          <p:nvPr/>
        </p:nvCxnSpPr>
        <p:spPr>
          <a:xfrm flipH="1" flipV="1" rot="5400000">
            <a:off x="1002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2" idx="1"/>
            <a:endCxn id="362" idx="0"/>
          </p:cNvCxnSpPr>
          <p:nvPr/>
        </p:nvCxnSpPr>
        <p:spPr>
          <a:xfrm flipH="1" flipV="1" rot="5400000">
            <a:off x="4026240" y="2268720"/>
            <a:ext cx="105480" cy="408600"/>
          </a:xfrm>
          <a:prstGeom prst="curvedConnector5">
            <a:avLst>
              <a:gd name="adj1" fmla="val 318150"/>
              <a:gd name="adj2" fmla="val 50000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64" idx="5"/>
            <a:endCxn id="364" idx="4"/>
          </p:cNvCxnSpPr>
          <p:nvPr/>
        </p:nvCxnSpPr>
        <p:spPr>
          <a:xfrm rot="5400000">
            <a:off x="4434120" y="5117040"/>
            <a:ext cx="105480" cy="408960"/>
          </a:xfrm>
          <a:prstGeom prst="curvedConnector5">
            <a:avLst>
              <a:gd name="adj1" fmla="val 318150"/>
              <a:gd name="adj2" fmla="val 49955"/>
              <a:gd name="adj3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114560" y="151848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the property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681120" y="2421000"/>
            <a:ext cx="1152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1545840" y="3141720"/>
            <a:ext cx="2305080" cy="1582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3705120" y="4653000"/>
            <a:ext cx="11527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CB8C-8AC6-48AC-9C6B-372E4431A7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Three Bit Count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387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AF bit2.carry_o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5889-8CB3-428F-9793-44AEEEAF29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619280" y="299736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1187280" y="3067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411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2338560" y="291528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3502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1760400" y="2923200"/>
            <a:ext cx="5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5435640" y="1413000"/>
            <a:ext cx="79200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14835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6154560" y="1330920"/>
            <a:ext cx="5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191772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5437080" y="2995560"/>
            <a:ext cx="79236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5005440" y="3066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229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6156360" y="29138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5005440" y="35002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5437080" y="4581360"/>
            <a:ext cx="79236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4651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4499640"/>
            <a:ext cx="5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5005440" y="50864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833480" y="335592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5576760" y="133884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5649840" y="1771560"/>
            <a:ext cx="36216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5578560" y="292320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335592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5578560" y="4507560"/>
            <a:ext cx="5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940280"/>
            <a:ext cx="361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7" name=""/>
          <p:cNvCxnSpPr>
            <a:stCxn id="407" idx="0"/>
            <a:endCxn id="414" idx="0"/>
          </p:cNvCxnSpPr>
          <p:nvPr/>
        </p:nvCxnSpPr>
        <p:spPr>
          <a:xfrm rot="5400000">
            <a:off x="5049720" y="1881720"/>
            <a:ext cx="1564560" cy="165492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2" idx="0"/>
            <a:endCxn id="419" idx="0"/>
          </p:cNvCxnSpPr>
          <p:nvPr/>
        </p:nvCxnSpPr>
        <p:spPr>
          <a:xfrm rot="5400000">
            <a:off x="5049000" y="3465360"/>
            <a:ext cx="1567440" cy="1656360"/>
          </a:xfrm>
          <a:prstGeom prst="curvedConnector5">
            <a:avLst>
              <a:gd name="adj1" fmla="val 49942"/>
              <a:gd name="adj2" fmla="val 50000"/>
              <a:gd name="adj3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395280" y="220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declar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61992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module instanti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7093080" y="16628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7093080" y="32472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7093080" y="4831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4791-67CE-4601-9F33-4F0586ECBC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734160" y="220500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1044720" y="1340640"/>
            <a:ext cx="38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AF bit2.carry_ou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5020-24C8-4294-8A03-E371770924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81440" y="3717720"/>
            <a:ext cx="968760" cy="2087640"/>
            <a:chOff x="7381440" y="3717720"/>
            <a:chExt cx="968760" cy="2087640"/>
          </a:xfrm>
        </p:grpSpPr>
        <p:grpSp>
          <p:nvGrpSpPr>
            <p:cNvPr id="482" name=""/>
            <p:cNvGrpSpPr/>
            <p:nvPr/>
          </p:nvGrpSpPr>
          <p:grpSpPr>
            <a:xfrm>
              <a:off x="7381440" y="3877920"/>
              <a:ext cx="968760" cy="1927440"/>
              <a:chOff x="7381440" y="3877920"/>
              <a:chExt cx="968760" cy="192744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7661880" y="398556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913160" y="387792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710120" y="4437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484400" y="4454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7381440" y="5005800"/>
                <a:ext cx="424080" cy="78588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7786440" y="5004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7591680" y="3717720"/>
              <a:ext cx="174600" cy="236160"/>
              <a:chOff x="7591680" y="3717720"/>
              <a:chExt cx="174600" cy="23616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7591320" y="3717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722360" y="3909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>
            <a:off x="6659640" y="2781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0 : counter_cell(1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1 : counter_cell(bit0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bit2 : counter_cell(bit1.carry_o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SPEC  AG (!bit2.carry_o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MODULE counter_cell(carry_i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value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init(value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next(value) := value + carry_in mod 2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carry_out := value &amp; carry_i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1DE1-1174-4999-8F28-166C0DE696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169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41308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"/>
          <p:cNvSpPr/>
          <p:nvPr/>
        </p:nvSpPr>
        <p:spPr>
          <a:xfrm>
            <a:off x="18352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13380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85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57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529272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1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73416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7453440" y="2227320"/>
          <a:ext cx="360360" cy="368460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1330200" y="21952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1187280" y="2534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1116000" y="28936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540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"/>
          <p:cNvSpPr/>
          <p:nvPr/>
        </p:nvSpPr>
        <p:spPr>
          <a:xfrm>
            <a:off x="1117440" y="23115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1330200" y="35078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38476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116000" y="4206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468360" y="3853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1117440" y="362412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1330200" y="487656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1187280" y="52160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5574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468360" y="5222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bit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117440" y="49928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6762600" y="6024240"/>
            <a:ext cx="287280" cy="204840"/>
          </a:xfrm>
          <a:prstGeom prst="rightArrow">
            <a:avLst>
              <a:gd name="adj1" fmla="val 50000"/>
              <a:gd name="adj2" fmla="val 350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5580000" y="61189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bit2.carry_out is 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18352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255600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255600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99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399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471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471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543564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543564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615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615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687708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7708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7596360" y="3246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>
            <a:off x="7596360" y="461484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>
            <a:off x="755640" y="1340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돋움"/>
              </a:rPr>
              <a:t>AG (!bit2.carry_o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356000" y="130320"/>
            <a:ext cx="460872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AB2D-CC92-4A85-AF0B-FBBE32EEBD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525800" y="3141360"/>
            <a:ext cx="968760" cy="2087640"/>
            <a:chOff x="7525800" y="3141360"/>
            <a:chExt cx="968760" cy="2087640"/>
          </a:xfrm>
        </p:grpSpPr>
        <p:grpSp>
          <p:nvGrpSpPr>
            <p:cNvPr id="543" name=""/>
            <p:cNvGrpSpPr/>
            <p:nvPr/>
          </p:nvGrpSpPr>
          <p:grpSpPr>
            <a:xfrm>
              <a:off x="7525800" y="3301560"/>
              <a:ext cx="968760" cy="1927440"/>
              <a:chOff x="7525800" y="3301560"/>
              <a:chExt cx="968760" cy="1927440"/>
            </a:xfrm>
          </p:grpSpPr>
          <p:sp>
            <p:nvSpPr>
              <p:cNvPr id="544" name=""/>
              <p:cNvSpPr/>
              <p:nvPr/>
            </p:nvSpPr>
            <p:spPr>
              <a:xfrm flipH="1">
                <a:off x="780624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05752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85448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62876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752580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93080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736040" y="3141360"/>
              <a:ext cx="174600" cy="236160"/>
              <a:chOff x="7736040" y="3141360"/>
              <a:chExt cx="174600" cy="2361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773568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86672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>
            <a:off x="6804000" y="220500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77CA-AA0B-417F-8A80-8D9915E81D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1690560" y="827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In asynchronous composition, a step of the computation is a step by exactly one component. The process to execute is assumed to choose gate0, gate1, and gate2 repeatedly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52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1547640" y="573300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tru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13FD-D190-4EDE-BA8E-3464BD5116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troductory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89240" y="3573360"/>
            <a:ext cx="73656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2060640"/>
            <a:ext cx="1655640" cy="936720"/>
          </a:xfrm>
          <a:prstGeom prst="wedgeRoundRectCallout">
            <a:avLst>
              <a:gd name="adj1" fmla="val 18361"/>
              <a:gd name="adj2" fmla="val 954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E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AG q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03640" y="1268280"/>
            <a:ext cx="5866920" cy="4333680"/>
            <a:chOff x="3203640" y="1268280"/>
            <a:chExt cx="5866920" cy="4333680"/>
          </a:xfrm>
        </p:grpSpPr>
        <p:sp>
          <p:nvSpPr>
            <p:cNvPr id="89" name=""/>
            <p:cNvSpPr/>
            <p:nvPr/>
          </p:nvSpPr>
          <p:spPr>
            <a:xfrm>
              <a:off x="3608280" y="1930320"/>
              <a:ext cx="70776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60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58960" y="193032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92" name=""/>
            <p:cNvCxnSpPr>
              <a:stCxn id="89" idx="6"/>
              <a:endCxn id="90" idx="2"/>
            </p:cNvCxnSpPr>
            <p:nvPr/>
          </p:nvCxnSpPr>
          <p:spPr>
            <a:xfrm>
              <a:off x="4316040" y="2260440"/>
              <a:ext cx="16192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3608280" y="12682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3460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62440" y="12682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34600" y="3159360"/>
              <a:ext cx="708120" cy="66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34600" y="4483440"/>
              <a:ext cx="708120" cy="66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4215240" y="2497320"/>
              <a:ext cx="1719360" cy="104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642720" y="2591640"/>
              <a:ext cx="1617840" cy="9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00" name=""/>
            <p:cNvCxnSpPr>
              <a:stCxn id="90" idx="7"/>
              <a:endCxn id="91" idx="1"/>
            </p:cNvCxnSpPr>
            <p:nvPr/>
          </p:nvCxnSpPr>
          <p:spPr>
            <a:xfrm flipH="1" rot="16200000">
              <a:off x="7350120" y="1216080"/>
              <a:ext cx="2160" cy="1622880"/>
            </a:xfrm>
            <a:prstGeom prst="curvedConnector5">
              <a:avLst>
                <a:gd name="adj1" fmla="val -8200000"/>
                <a:gd name="adj2" fmla="val 49988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1" idx="3"/>
              <a:endCxn id="90" idx="5"/>
            </p:cNvCxnSpPr>
            <p:nvPr/>
          </p:nvCxnSpPr>
          <p:spPr>
            <a:xfrm rot="5400000">
              <a:off x="7349040" y="1685160"/>
              <a:ext cx="2880" cy="1622880"/>
            </a:xfrm>
            <a:prstGeom prst="curvedConnector5">
              <a:avLst>
                <a:gd name="adj1" fmla="val 10285714"/>
                <a:gd name="adj2" fmla="val 49988"/>
                <a:gd name="adj3" fmla="val 102857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" name=""/>
            <p:cNvSpPr/>
            <p:nvPr/>
          </p:nvSpPr>
          <p:spPr>
            <a:xfrm flipV="1">
              <a:off x="613692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39600" y="2592000"/>
              <a:ext cx="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8080" y="3821400"/>
              <a:ext cx="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12560" y="2592000"/>
              <a:ext cx="192204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642360" y="2592000"/>
              <a:ext cx="1820520" cy="208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9160" y="2686680"/>
              <a:ext cx="70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27640" y="448344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6120" y="5050800"/>
              <a:ext cx="775440" cy="55116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3640" y="2197800"/>
              <a:ext cx="4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B2D1-A4DD-493E-B674-35AC9B53B9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Inverter Ring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7381440" y="3141360"/>
            <a:ext cx="968760" cy="2087640"/>
            <a:chOff x="7381440" y="3141360"/>
            <a:chExt cx="968760" cy="2087640"/>
          </a:xfrm>
        </p:grpSpPr>
        <p:grpSp>
          <p:nvGrpSpPr>
            <p:cNvPr id="589" name=""/>
            <p:cNvGrpSpPr/>
            <p:nvPr/>
          </p:nvGrpSpPr>
          <p:grpSpPr>
            <a:xfrm>
              <a:off x="7381440" y="3301560"/>
              <a:ext cx="968760" cy="1927440"/>
              <a:chOff x="7381440" y="3301560"/>
              <a:chExt cx="968760" cy="192744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7661880" y="3409200"/>
                <a:ext cx="37944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913160" y="3301560"/>
                <a:ext cx="43668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710120" y="386100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484400" y="387828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381440" y="442980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786440" y="442800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591680" y="3141360"/>
              <a:ext cx="174600" cy="236160"/>
              <a:chOff x="7591680" y="3141360"/>
              <a:chExt cx="174600" cy="23616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7591320" y="314136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722360" y="333288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1 : process inverter(gate3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2 : process inverter(gate1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gate3 : process inverter(gate2.output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PEC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(AG AF gate1.output) &amp; (AG AF !gate1.out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MODULE inverter(inpu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output : boolean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init(output) := 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next(output) := !inpu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FAIR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Courier New"/>
                <a:ea typeface="굴림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"/>
          <p:cNvSpPr/>
          <p:nvPr/>
        </p:nvSpPr>
        <p:spPr>
          <a:xfrm>
            <a:off x="6516720" y="2060640"/>
            <a:ext cx="2376360" cy="792000"/>
          </a:xfrm>
          <a:prstGeom prst="wedgeRoundRectCallout">
            <a:avLst>
              <a:gd name="adj1" fmla="val 11856"/>
              <a:gd name="adj2" fmla="val 862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what if FAIRNESS is deleted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"/>
          <p:cNvSpPr/>
          <p:nvPr/>
        </p:nvSpPr>
        <p:spPr>
          <a:xfrm>
            <a:off x="324000" y="616572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324000" y="645336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27B1-B0B9-4BA2-A714-DDB07E53D8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549440" y="2603520"/>
          <a:ext cx="360360" cy="267984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50920" y="76428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no processes are chosen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93408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DE2A-1C49-41DC-942A-B70A7A331B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549440" y="260352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"/>
          <p:cNvSpPr/>
          <p:nvPr/>
        </p:nvSpPr>
        <p:spPr>
          <a:xfrm>
            <a:off x="1690560" y="3300480"/>
            <a:ext cx="0" cy="28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"/>
          <p:cNvSpPr/>
          <p:nvPr/>
        </p:nvSpPr>
        <p:spPr>
          <a:xfrm>
            <a:off x="1185840" y="2571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"/>
          <p:cNvSpPr/>
          <p:nvPr/>
        </p:nvSpPr>
        <p:spPr>
          <a:xfrm>
            <a:off x="971640" y="28922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"/>
          <p:cNvSpPr/>
          <p:nvPr/>
        </p:nvSpPr>
        <p:spPr>
          <a:xfrm>
            <a:off x="179280" y="2790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"/>
          <p:cNvSpPr/>
          <p:nvPr/>
        </p:nvSpPr>
        <p:spPr>
          <a:xfrm>
            <a:off x="973080" y="2687760"/>
            <a:ext cx="142920" cy="54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080"/>
              <a:gd name="textAreaBottom" fmla="*/ 527040 h 54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"/>
          <p:cNvSpPr/>
          <p:nvPr/>
        </p:nvSpPr>
        <p:spPr>
          <a:xfrm>
            <a:off x="1690560" y="4309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357948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973080" y="39002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1185840" y="459720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"/>
          <p:cNvSpPr/>
          <p:nvPr/>
        </p:nvSpPr>
        <p:spPr>
          <a:xfrm>
            <a:off x="971640" y="49176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"/>
          <p:cNvSpPr/>
          <p:nvPr/>
        </p:nvSpPr>
        <p:spPr>
          <a:xfrm>
            <a:off x="179280" y="3726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"/>
          <p:cNvSpPr/>
          <p:nvPr/>
        </p:nvSpPr>
        <p:spPr>
          <a:xfrm>
            <a:off x="973080" y="362412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"/>
          <p:cNvSpPr/>
          <p:nvPr/>
        </p:nvSpPr>
        <p:spPr>
          <a:xfrm>
            <a:off x="179280" y="4771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gate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"/>
          <p:cNvSpPr/>
          <p:nvPr/>
        </p:nvSpPr>
        <p:spPr>
          <a:xfrm>
            <a:off x="973080" y="4668840"/>
            <a:ext cx="142920" cy="5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14040 h 541440"/>
              <a:gd name="textAreaBottom" fmla="*/ 5274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"/>
          <p:cNvSpPr/>
          <p:nvPr/>
        </p:nvSpPr>
        <p:spPr>
          <a:xfrm>
            <a:off x="1693800" y="229392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"/>
          <p:cNvSpPr/>
          <p:nvPr/>
        </p:nvSpPr>
        <p:spPr>
          <a:xfrm>
            <a:off x="1693800" y="5316480"/>
            <a:ext cx="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"/>
          <p:cNvSpPr/>
          <p:nvPr/>
        </p:nvSpPr>
        <p:spPr>
          <a:xfrm>
            <a:off x="2125800" y="2292480"/>
            <a:ext cx="0" cy="3313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"/>
          <p:cNvSpPr/>
          <p:nvPr/>
        </p:nvSpPr>
        <p:spPr>
          <a:xfrm>
            <a:off x="1693800" y="560556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"/>
          <p:cNvSpPr/>
          <p:nvPr/>
        </p:nvSpPr>
        <p:spPr>
          <a:xfrm>
            <a:off x="1693800" y="2293920"/>
            <a:ext cx="432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248616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20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92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464508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536580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608652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"/>
          <p:cNvSpPr/>
          <p:nvPr/>
        </p:nvSpPr>
        <p:spPr>
          <a:xfrm>
            <a:off x="1474920" y="120384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hout fairness constraint, there is a possibility that the process gate0 is chosen forever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680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7526160" y="2637000"/>
          <a:ext cx="360720" cy="2679480"/>
        </p:xfrm>
        <a:graphic>
          <a:graphicData uri="http://schemas.openxmlformats.org/drawingml/2006/table">
            <a:tbl>
              <a:tblPr/>
              <a:tblGrid>
                <a:gridCol w="36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8245440" y="2637000"/>
          <a:ext cx="360360" cy="26794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ahoma"/>
                          <a:ea typeface="돋움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1547640" y="5580720"/>
            <a:ext cx="70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Courier New"/>
              </a:rPr>
              <a:t>(AG AF gate1.output) &amp; (AG AF !gate1.output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27A3-16C9-4D66-89F2-C7F0FBF227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2193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te : {s0, s1, s2, s3, s4}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1523880"/>
            <a:ext cx="4267080" cy="3124080"/>
            <a:chOff x="228600" y="1523880"/>
            <a:chExt cx="4267080" cy="3124080"/>
          </a:xfrm>
        </p:grpSpPr>
        <p:sp>
          <p:nvSpPr>
            <p:cNvPr id="114" name=""/>
            <p:cNvSpPr/>
            <p:nvPr/>
          </p:nvSpPr>
          <p:spPr>
            <a:xfrm>
              <a:off x="52236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4720" y="200160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0920" y="2001600"/>
              <a:ext cx="5140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17" name=""/>
            <p:cNvCxnSpPr>
              <a:stCxn id="114" idx="6"/>
              <a:endCxn id="115" idx="2"/>
            </p:cNvCxnSpPr>
            <p:nvPr/>
          </p:nvCxnSpPr>
          <p:spPr>
            <a:xfrm>
              <a:off x="1038240" y="2239200"/>
              <a:ext cx="11772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4720" y="3841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963360" y="2409480"/>
              <a:ext cx="125100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730600" y="2477880"/>
              <a:ext cx="117612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25" name=""/>
            <p:cNvCxnSpPr>
              <a:stCxn id="115" idx="7"/>
              <a:endCxn id="116" idx="1"/>
            </p:cNvCxnSpPr>
            <p:nvPr/>
          </p:nvCxnSpPr>
          <p:spPr>
            <a:xfrm flipH="1" rot="16200000">
              <a:off x="3243960" y="1479960"/>
              <a:ext cx="216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16" idx="3"/>
              <a:endCxn id="115" idx="5"/>
            </p:cNvCxnSpPr>
            <p:nvPr/>
          </p:nvCxnSpPr>
          <p:spPr>
            <a:xfrm rot="5400000">
              <a:off x="3243240" y="181800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 flipV="1">
              <a:off x="23623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9920" y="2477880"/>
              <a:ext cx="0" cy="4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5400" y="33638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7560" y="2477880"/>
              <a:ext cx="139716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730240" y="2477880"/>
              <a:ext cx="132372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788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3360" y="384156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2320" y="4251240"/>
              <a:ext cx="563400" cy="39672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8F12-CC1E-4B83-9C94-3C5698D82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523880"/>
            <a:ext cx="4267080" cy="3124440"/>
            <a:chOff x="228600" y="1523880"/>
            <a:chExt cx="4267080" cy="3124440"/>
          </a:xfrm>
        </p:grpSpPr>
        <p:sp>
          <p:nvSpPr>
            <p:cNvPr id="139" name=""/>
            <p:cNvSpPr/>
            <p:nvPr/>
          </p:nvSpPr>
          <p:spPr>
            <a:xfrm>
              <a:off x="52236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14720" y="20019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60920" y="2001960"/>
              <a:ext cx="5140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2" name=""/>
            <p:cNvCxnSpPr>
              <a:stCxn id="139" idx="6"/>
              <a:endCxn id="140" idx="2"/>
            </p:cNvCxnSpPr>
            <p:nvPr/>
          </p:nvCxnSpPr>
          <p:spPr>
            <a:xfrm>
              <a:off x="1038240" y="2239560"/>
              <a:ext cx="11772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52236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4720" y="152388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81600" y="15238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4720" y="2887560"/>
              <a:ext cx="515880" cy="47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14720" y="3841920"/>
              <a:ext cx="515880" cy="47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963360" y="2409840"/>
              <a:ext cx="1251000" cy="750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730600" y="2478240"/>
              <a:ext cx="1176120" cy="682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0" name=""/>
            <p:cNvCxnSpPr>
              <a:stCxn id="140" idx="7"/>
              <a:endCxn id="141" idx="1"/>
            </p:cNvCxnSpPr>
            <p:nvPr/>
          </p:nvCxnSpPr>
          <p:spPr>
            <a:xfrm flipH="1" rot="16200000">
              <a:off x="3243600" y="1479240"/>
              <a:ext cx="2520" cy="118188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1" idx="3"/>
              <a:endCxn id="140" idx="5"/>
            </p:cNvCxnSpPr>
            <p:nvPr/>
          </p:nvCxnSpPr>
          <p:spPr>
            <a:xfrm rot="5400000">
              <a:off x="3243240" y="1818360"/>
              <a:ext cx="2160" cy="118188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 flipV="1">
              <a:off x="2362320" y="247788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9920" y="2478240"/>
              <a:ext cx="0" cy="409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5400" y="3363840"/>
              <a:ext cx="0" cy="47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7560" y="2478240"/>
              <a:ext cx="139716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730240" y="2478240"/>
              <a:ext cx="1323720" cy="15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7200" y="2546280"/>
              <a:ext cx="51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73360" y="3841920"/>
              <a:ext cx="5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92320" y="4251240"/>
              <a:ext cx="563400" cy="39708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2193840"/>
              <a:ext cx="293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1EF0-F64D-4662-8327-4A6C5AB18A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q := (state = s0 | state = s4)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64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67" name=""/>
            <p:cNvCxnSpPr>
              <a:stCxn id="164" idx="6"/>
              <a:endCxn id="165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75" name=""/>
            <p:cNvCxnSpPr>
              <a:stCxn id="165" idx="7"/>
              <a:endCxn id="166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6" idx="3"/>
              <a:endCxn id="165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E678-AF64-4FED-93E4-C208D9508C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189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92" name=""/>
            <p:cNvCxnSpPr>
              <a:stCxn id="189" idx="6"/>
              <a:endCxn id="190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00" name=""/>
            <p:cNvCxnSpPr>
              <a:stCxn id="190" idx="7"/>
              <a:endCxn id="191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1" idx="3"/>
              <a:endCxn id="190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DEAC-AB66-44BB-853E-06AB98F8BB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12193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ODULE ma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V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: {s0, s1, s2, s3, s4};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SSIG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init (state) := s0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next(state) :=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0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1 : {s2, s3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2 : {s1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3 : {s0, s1, s2, s4}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tate = s4 : s4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esac;</a:t>
            </a:r>
            <a:r>
              <a:rPr b="0" lang="ko-KR" sz="1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DEFINE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p := (state = s3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q := (state = s0 | state = s4);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1523880"/>
            <a:ext cx="4266720" cy="3124440"/>
            <a:chOff x="228600" y="1523880"/>
            <a:chExt cx="4266720" cy="3124440"/>
          </a:xfrm>
        </p:grpSpPr>
        <p:sp>
          <p:nvSpPr>
            <p:cNvPr id="215" name=""/>
            <p:cNvSpPr/>
            <p:nvPr/>
          </p:nvSpPr>
          <p:spPr>
            <a:xfrm>
              <a:off x="522720" y="2000880"/>
              <a:ext cx="51444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1472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59840" y="200088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18" name=""/>
            <p:cNvCxnSpPr>
              <a:stCxn id="215" idx="6"/>
              <a:endCxn id="216" idx="2"/>
            </p:cNvCxnSpPr>
            <p:nvPr/>
          </p:nvCxnSpPr>
          <p:spPr>
            <a:xfrm>
              <a:off x="1037520" y="2238840"/>
              <a:ext cx="11775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522720" y="15238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47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80520" y="152388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14720" y="2887200"/>
              <a:ext cx="514800" cy="477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14720" y="3841560"/>
              <a:ext cx="514800" cy="47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굴림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963720" y="2410200"/>
              <a:ext cx="125028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729880" y="2477520"/>
              <a:ext cx="1176840" cy="6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6" name=""/>
            <p:cNvCxnSpPr>
              <a:stCxn id="216" idx="7"/>
              <a:endCxn id="217" idx="1"/>
            </p:cNvCxnSpPr>
            <p:nvPr/>
          </p:nvCxnSpPr>
          <p:spPr>
            <a:xfrm flipH="1" rot="16200000">
              <a:off x="3243600" y="1480320"/>
              <a:ext cx="1800" cy="118044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7" idx="3"/>
              <a:endCxn id="216" idx="5"/>
            </p:cNvCxnSpPr>
            <p:nvPr/>
          </p:nvCxnSpPr>
          <p:spPr>
            <a:xfrm rot="5400000">
              <a:off x="3242880" y="1819080"/>
              <a:ext cx="2160" cy="1180440"/>
            </a:xfrm>
            <a:prstGeom prst="curvedConnector5">
              <a:avLst>
                <a:gd name="adj1" fmla="val 10280000"/>
                <a:gd name="adj2" fmla="val 50000"/>
                <a:gd name="adj3" fmla="val 102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 flipV="1">
              <a:off x="236196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9200" y="2477880"/>
              <a:ext cx="0" cy="4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5400" y="336420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6840" y="2477880"/>
              <a:ext cx="13978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729880" y="2477880"/>
              <a:ext cx="1324080" cy="149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7160" y="2546280"/>
              <a:ext cx="514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73360" y="3841560"/>
              <a:ext cx="5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91960" y="4250880"/>
              <a:ext cx="563760" cy="39744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8600" y="2193840"/>
              <a:ext cx="2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76920" y="5445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E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SPEC   AG q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65300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1197000"/>
            <a:ext cx="4033800" cy="42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5443560"/>
            <a:ext cx="4033800" cy="6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46155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58972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5552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Property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C120-5A91-43AD-A787-1E21BFA2B2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341440" cy="4392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240804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08000" y="3699000"/>
            <a:ext cx="3239640" cy="2393640"/>
            <a:chOff x="108000" y="3699000"/>
            <a:chExt cx="3239640" cy="2393640"/>
          </a:xfrm>
        </p:grpSpPr>
        <p:sp>
          <p:nvSpPr>
            <p:cNvPr id="248" name=""/>
            <p:cNvSpPr/>
            <p:nvPr/>
          </p:nvSpPr>
          <p:spPr>
            <a:xfrm>
              <a:off x="331200" y="4064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604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89280" y="4064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1" name=""/>
            <p:cNvCxnSpPr>
              <a:stCxn id="248" idx="6"/>
              <a:endCxn id="249" idx="2"/>
            </p:cNvCxnSpPr>
            <p:nvPr/>
          </p:nvCxnSpPr>
          <p:spPr>
            <a:xfrm>
              <a:off x="721800" y="4246920"/>
              <a:ext cx="8946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31200" y="3699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6040" y="3699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56680" y="3699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6040" y="4743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16040" y="5474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666000" y="4377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007360" y="4429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9" name=""/>
            <p:cNvCxnSpPr>
              <a:stCxn id="249" idx="7"/>
              <a:endCxn id="250" idx="1"/>
            </p:cNvCxnSpPr>
            <p:nvPr/>
          </p:nvCxnSpPr>
          <p:spPr>
            <a:xfrm flipH="1" rot="16200000">
              <a:off x="2397600" y="3670200"/>
              <a:ext cx="1440" cy="896400"/>
            </a:xfrm>
            <a:prstGeom prst="curvedConnector5">
              <a:avLst>
                <a:gd name="adj1" fmla="val -8200000"/>
                <a:gd name="adj2" fmla="val 49979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0" idx="3"/>
              <a:endCxn id="249" idx="5"/>
            </p:cNvCxnSpPr>
            <p:nvPr/>
          </p:nvCxnSpPr>
          <p:spPr>
            <a:xfrm rot="5400000">
              <a:off x="2396880" y="3929400"/>
              <a:ext cx="1800" cy="896400"/>
            </a:xfrm>
            <a:prstGeom prst="curvedConnector5">
              <a:avLst>
                <a:gd name="adj1" fmla="val 10275000"/>
                <a:gd name="adj2" fmla="val 49979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 flipV="1">
              <a:off x="172764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39600" y="4430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83800" y="5109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760" y="4430160"/>
              <a:ext cx="1061280" cy="114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07000" y="4430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37040" y="4481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0880" y="5474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2800" y="5788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8000" y="421236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867280" y="3645000"/>
            <a:ext cx="3240000" cy="2393640"/>
            <a:chOff x="5867280" y="3645000"/>
            <a:chExt cx="3240000" cy="2393640"/>
          </a:xfrm>
        </p:grpSpPr>
        <p:sp>
          <p:nvSpPr>
            <p:cNvPr id="271" name=""/>
            <p:cNvSpPr/>
            <p:nvPr/>
          </p:nvSpPr>
          <p:spPr>
            <a:xfrm>
              <a:off x="6090840" y="4010400"/>
              <a:ext cx="39060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568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48920" y="401040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74" name=""/>
            <p:cNvCxnSpPr>
              <a:stCxn id="271" idx="6"/>
              <a:endCxn id="272" idx="2"/>
            </p:cNvCxnSpPr>
            <p:nvPr/>
          </p:nvCxnSpPr>
          <p:spPr>
            <a:xfrm>
              <a:off x="6481080" y="4192920"/>
              <a:ext cx="894600" cy="1080"/>
            </a:xfrm>
            <a:prstGeom prst="curved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090840" y="3645000"/>
              <a:ext cx="39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75680" y="364500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716320" y="364500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75680" y="468936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75680" y="5420880"/>
              <a:ext cx="39096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6425640" y="4323600"/>
              <a:ext cx="949320" cy="57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766640" y="4375800"/>
              <a:ext cx="89352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82" name=""/>
            <p:cNvCxnSpPr>
              <a:stCxn id="272" idx="7"/>
              <a:endCxn id="273" idx="1"/>
            </p:cNvCxnSpPr>
            <p:nvPr/>
          </p:nvCxnSpPr>
          <p:spPr>
            <a:xfrm flipH="1" rot="16200000">
              <a:off x="8157240" y="3616200"/>
              <a:ext cx="1440" cy="896760"/>
            </a:xfrm>
            <a:prstGeom prst="curvedConnector5">
              <a:avLst>
                <a:gd name="adj1" fmla="val -8200000"/>
                <a:gd name="adj2" fmla="val 50000"/>
                <a:gd name="adj3" fmla="val -8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73" idx="3"/>
              <a:endCxn id="272" idx="5"/>
            </p:cNvCxnSpPr>
            <p:nvPr/>
          </p:nvCxnSpPr>
          <p:spPr>
            <a:xfrm rot="5400000">
              <a:off x="8156520" y="3875040"/>
              <a:ext cx="1800" cy="896760"/>
            </a:xfrm>
            <a:prstGeom prst="curvedConnector5">
              <a:avLst>
                <a:gd name="adj1" fmla="val 10275000"/>
                <a:gd name="adj2" fmla="val 50000"/>
                <a:gd name="adj3" fmla="val 10275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 flipV="1">
              <a:off x="748728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9240" y="4376160"/>
              <a:ext cx="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3080" y="505512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4040" y="4376160"/>
              <a:ext cx="10612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66280" y="4376160"/>
              <a:ext cx="100548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96320" y="4427280"/>
              <a:ext cx="392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40160" y="5420880"/>
              <a:ext cx="39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굴림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82440" y="5734440"/>
              <a:ext cx="428040" cy="304200"/>
            </a:xfrm>
            <a:custGeom>
              <a:avLst/>
              <a:gdLst/>
              <a:ahLst/>
              <a:rect l="l" t="t" r="r" b="b"/>
              <a:pathLst>
                <a:path w="368" h="280">
                  <a:moveTo>
                    <a:pt x="128" y="0"/>
                  </a:moveTo>
                  <a:cubicBezTo>
                    <a:pt x="64" y="100"/>
                    <a:pt x="0" y="200"/>
                    <a:pt x="32" y="240"/>
                  </a:cubicBezTo>
                  <a:cubicBezTo>
                    <a:pt x="64" y="280"/>
                    <a:pt x="272" y="272"/>
                    <a:pt x="320" y="240"/>
                  </a:cubicBezTo>
                  <a:cubicBezTo>
                    <a:pt x="368" y="208"/>
                    <a:pt x="344" y="128"/>
                    <a:pt x="32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7280" y="415836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042920" y="6165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witnes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586560" y="5939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counterexampl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900000" y="11656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E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3706920" y="1170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AG q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900A-AA12-43A1-9D9A-62BFB38A95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3333cc"/>
                </a:solidFill>
                <a:latin typeface="Tahoma"/>
              </a:rPr>
              <a:t>A Simple Examp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447920"/>
            <a:ext cx="8381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MODULE 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request : boolean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 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ASSIG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init(state) := read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next(state) :=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tate = ready &amp; request : busy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1 : {ready,busy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esac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Courier New"/>
                <a:ea typeface="돋움"/>
              </a:rPr>
              <a:t>SPEC  AG(request -&gt; AF state = bus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093440" y="3501720"/>
            <a:ext cx="968760" cy="2087640"/>
            <a:chOff x="7093440" y="3501720"/>
            <a:chExt cx="968760" cy="2087640"/>
          </a:xfrm>
        </p:grpSpPr>
        <p:grpSp>
          <p:nvGrpSpPr>
            <p:cNvPr id="300" name=""/>
            <p:cNvGrpSpPr/>
            <p:nvPr/>
          </p:nvGrpSpPr>
          <p:grpSpPr>
            <a:xfrm>
              <a:off x="7093440" y="3661920"/>
              <a:ext cx="968760" cy="1927440"/>
              <a:chOff x="7093440" y="3661920"/>
              <a:chExt cx="968760" cy="19274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7374240" y="3769560"/>
                <a:ext cx="379080" cy="42084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7625880" y="3661920"/>
                <a:ext cx="436320" cy="67464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7422480" y="4221360"/>
                <a:ext cx="228240" cy="6332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196760" y="4238640"/>
                <a:ext cx="348480" cy="4863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093440" y="4790160"/>
                <a:ext cx="424080" cy="78624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498440" y="4788360"/>
                <a:ext cx="285480" cy="80100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04040" y="3501720"/>
              <a:ext cx="174600" cy="236160"/>
              <a:chOff x="7304040" y="3501720"/>
              <a:chExt cx="174600" cy="23616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7303680" y="3501720"/>
                <a:ext cx="140760" cy="16416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434720" y="3693240"/>
                <a:ext cx="43920" cy="446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>
            <a:off x="6372360" y="2565360"/>
            <a:ext cx="2016000" cy="647640"/>
          </a:xfrm>
          <a:prstGeom prst="wedgeRoundRectCallout">
            <a:avLst>
              <a:gd name="adj1" fmla="val 15749"/>
              <a:gd name="adj2" fmla="val 943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0000"/>
                </a:solidFill>
                <a:latin typeface="Tahoma"/>
              </a:rPr>
              <a:t>true or false 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C04A-B480-434E-B0A7-1723650E86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09:01:49Z</dcterms:created>
  <dc:creator>권기현</dc:creator>
  <dc:description/>
  <dc:language>en-US</dc:language>
  <cp:lastModifiedBy>권기현</cp:lastModifiedBy>
  <dcterms:modified xsi:type="dcterms:W3CDTF">2006-10-27T14:10:15Z</dcterms:modified>
  <cp:revision>781</cp:revision>
  <dc:subject/>
  <dc:title>Temporal Logic Model Checking</dc:title>
</cp:coreProperties>
</file>