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6DF-5E0D-4733-8FB3-A6D3683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5FB-4F38-42F5-A5DA-7351996D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FC3-2578-4368-9262-7A3A8D2B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E31-A62E-4A93-AC4C-1CC9E0D1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A55-1745-41C1-ABC3-DED732D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297-CCB3-4AB2-A3F2-0858686E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99D-5287-48FD-BBB5-D973F8EB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738-A8BC-4BAD-AA8B-836B458A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A87-7B38-4D07-9B31-A4F6B99C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B2F-6733-4224-8CA3-6D77688A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CE8-C05C-4AF1-8520-087AD336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EA9-75AD-46F9-A571-A1F11D2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76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6621-A4E1-41F4-8FC3-AAED2C21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Traffic Light Controller </a:t>
            </a:r>
            <a:br>
              <a:rPr sz="4800"/>
            </a:b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xamples in SMV</a:t>
            </a:r>
            <a:endParaRPr b="0" lang="en-US" sz="4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Himanshu J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ug catching (Fall 200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Let’s see how to model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all this in 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574-8012-41FE-B594-B83ED04ABB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182520"/>
            <a:ext cx="253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MV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69160" y="11574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-go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4480" y="497844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go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05080" y="4902120"/>
            <a:ext cx="14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-go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4826160"/>
            <a:ext cx="2819520" cy="431640"/>
          </a:xfrm>
          <a:custGeom>
            <a:avLst/>
            <a:gdLst/>
            <a:ahLst/>
            <a:rect l="l" t="t" r="r" b="b"/>
            <a:pathLst>
              <a:path w="1776" h="272">
                <a:moveTo>
                  <a:pt x="0" y="272"/>
                </a:moveTo>
                <a:cubicBezTo>
                  <a:pt x="332" y="168"/>
                  <a:pt x="664" y="64"/>
                  <a:pt x="960" y="32"/>
                </a:cubicBezTo>
                <a:cubicBezTo>
                  <a:pt x="1256" y="0"/>
                  <a:pt x="1648" y="72"/>
                  <a:pt x="1776" y="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1447920"/>
            <a:ext cx="2743200" cy="698400"/>
          </a:xfrm>
          <a:custGeom>
            <a:avLst/>
            <a:gdLst/>
            <a:ahLst/>
            <a:rect l="l" t="t" r="r" b="b"/>
            <a:pathLst>
              <a:path w="1728" h="440">
                <a:moveTo>
                  <a:pt x="1728" y="0"/>
                </a:moveTo>
                <a:cubicBezTo>
                  <a:pt x="1440" y="164"/>
                  <a:pt x="1152" y="328"/>
                  <a:pt x="864" y="384"/>
                </a:cubicBezTo>
                <a:cubicBezTo>
                  <a:pt x="576" y="440"/>
                  <a:pt x="288" y="38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403848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" y="1676520"/>
            <a:ext cx="26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ree 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bles track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tus of 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592-53AF-4242-83C8-7DFC12734D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76320" y="1825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V variab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1720" y="1219320"/>
            <a:ext cx="258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ree Bool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bles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raffic in 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8709600">
            <a:off x="3199680" y="5334120"/>
            <a:ext cx="1143000" cy="130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19149000">
            <a:off x="4952520" y="68544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56560" y="543564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-sense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84120" y="12952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-sense 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9680" y="342900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W-sense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82360" y="4848120"/>
            <a:ext cx="261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riables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, Sy,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I will show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555-4FCA-4EE9-A6BB-2D00200B9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Properties we would like to check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 AG !(W-Go &amp; (N-Go | S-Go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Liveness in North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 AG(N-sense &amp; !N-Go -&gt; AF N-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milar liveness properties for south and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E1D-7DAD-4BAD-8326-C892A4F26E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Properties we would like to check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o strict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don’t want the traffic lights to give turns to each other (if there is no need for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r example, if there is no traffic on west lane, we do not want W-go becoming 1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e can specify such properties atleast par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AG(W-Go -&gt; A[W-Go  U (!W-Go &amp; A[!W-Go U (N-Go | S-Go)])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 code other such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want these properties to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D8A-AEDB-4858-B37B-F8194F6C74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MV mod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00400" y="148608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640" y="186840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r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2361960"/>
            <a:ext cx="99036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8720" y="5105520"/>
            <a:ext cx="22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ou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743200" y="5257440"/>
            <a:ext cx="2286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1200" y="106668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est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wil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190512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27800" y="4800600"/>
            <a:ext cx="279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in 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north, sou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613-87FC-4C7B-8163-0E127888D3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142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north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lways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there is al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ffic in nor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200400" y="106668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 rot="8709600">
            <a:off x="3150720" y="579060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 rot="8709600">
            <a:off x="3200040" y="457128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8709600">
            <a:off x="3276000" y="3504960"/>
            <a:ext cx="936360" cy="1066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 rot="8709600">
            <a:off x="3352320" y="2361600"/>
            <a:ext cx="9367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186-1F3C-4208-9B3E-1FF601A76C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Fairness Constraint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north light is always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nd there is always traffic in nort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avoid such scenarios by means of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irnes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AIRNESS running &amp; !(N-Go &amp; N-s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On an infinite execution, there are infinite number of states where either north light is not green or there is no traffic in nort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ilar, fairness constraints for south and west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C98-5E11-42FB-A060-9295FCAABA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Now we look at some concrete implementations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7AF-F1FB-47DD-B15F-62989F146A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ome more variables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 ensure mutual ex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have two Boolea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S-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notes locking of north/south 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W-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notes locking of west 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To remember that there is traffic on a 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olean variables: N-Req, S-Req, W-R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N-sense becomes 1, then N-Req is set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ilarly, for other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DEB-0D63-4540-8065-0577F24073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Plan for today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raffic Light Control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to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different SMV models for traffic light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D00-24CB-4012-B593-A8AC99737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raffic1.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685800"/>
            <a:ext cx="9448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 boolean;       --senses traffic going along n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 : boolean;      --senses traffic going along s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: boolean;       --senses traffic going west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: boolean;   --rememebers that there is traffic along north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Req : boolean;   --rememebers that there is traffic along south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-Req : boolean;   --rememebers that there is traffic along west  that needs to 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-G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   --north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-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boolean;    --south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-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   --west direction green 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boolean; --north/south lan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W-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oolean; --east/west lan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 : process north1(NS-Lock, EW-Lock, N-Req, N-Go,N,S-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 : process south1(NS-Lock,EW-Lock,S-Req,S-Go,Sy,N-G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 : process west1(NS-Lock,EW-Lock,W-Req,W-Go,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NS-Lock) := 0; init(Sy) :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W) :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(W-Req) := 0; …………………..OTHER INITIALIZ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E21-F29F-4608-9126-DA0400FD2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"/>
            <a:ext cx="98298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DULE  north(NS-Lock, EW-Lock, N-Req, N-Go,N,S-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(state) :=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stat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xt(NS-Lock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 = entering &amp; !EW-Lock :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 = exiting &amp; !S-Go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 : NS-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10080" y="91440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N-Req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N-Req &amp; N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N-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 = critical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non-deterministically chos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(N) := {0,1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&amp; !(N-Go &amp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B79-2FB3-48F3-9523-21D877053E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Module south is similar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Module west1 is a little different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Everything seems ok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000" y="55767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Let us run a model check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7C7-2250-47F1-B79D-E84E9B05E9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02E-D720-4F0D-98D2-BFD1AACF6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4419720"/>
            <a:ext cx="3505320" cy="1676160"/>
          </a:xfrm>
          <a:prstGeom prst="wedgeRoundRectCallout">
            <a:avLst>
              <a:gd name="adj1" fmla="val -95472"/>
              <a:gd name="adj2" fmla="val -5378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north.state is critical the NS-lock i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614-A249-4C2F-B6B0-943BD056CB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utual exclusion fails (Counterexample)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l variable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N-sense=1 (Nor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-sense=1 (South module execu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S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ou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S-sense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S-Lock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ou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S-sense=1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south.state=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N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rth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rth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S-Req=0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-Go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S-Lock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uth.state=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-Req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west.state=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EW-lock=1,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est.state=cr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6. W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7. N-Go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31560" y="259092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modul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4800600"/>
            <a:ext cx="4038840" cy="1828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oblem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tep  dif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North.state=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-Go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3962520"/>
            <a:ext cx="1524240" cy="1371600"/>
          </a:xfrm>
          <a:custGeom>
            <a:avLst/>
            <a:gdLst/>
            <a:ahLst/>
            <a:rect l="l" t="t" r="r" b="b"/>
            <a:pathLst>
              <a:path w="960" h="864">
                <a:moveTo>
                  <a:pt x="960" y="864"/>
                </a:moveTo>
                <a:cubicBezTo>
                  <a:pt x="808" y="632"/>
                  <a:pt x="656" y="400"/>
                  <a:pt x="576" y="288"/>
                </a:cubicBezTo>
                <a:cubicBezTo>
                  <a:pt x="496" y="176"/>
                  <a:pt x="576" y="240"/>
                  <a:pt x="480" y="192"/>
                </a:cubicBezTo>
                <a:cubicBezTo>
                  <a:pt x="384" y="144"/>
                  <a:pt x="192" y="7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1980720" y="5866920"/>
            <a:ext cx="2971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0BF-FC82-4DE0-8C31-6DE30E9843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228600"/>
            <a:ext cx="98298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MODULE  north(NS-Lock, EW-Lock, N-Req, N-Go,N,S-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init(state) :=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S-Lock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ntering &amp; !EW-Lock :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xiting &amp; !S-Go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NS-Lo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91440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-Req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!N-Req &amp; N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1 : N-Re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critical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-- non-deterministically chose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xt(N) := {0,1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running &amp; !(N-Go &amp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6C2-6CAB-4851-9EEC-53CF0ACFC2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his problem is fixed in traffic2.smv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48895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N-Go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 = entering &amp; !EW-Lock : 1;    --change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N-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523880"/>
            <a:ext cx="7848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: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3FC-C646-42D3-BCF6-A2C81A4359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ing traffic2.smv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property i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ness property for North direction f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AG ((N &amp; !N-Go) -&gt; AF N-Go)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97B-5E6C-4A12-A475-D54C8C2475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Counterexample for liveness property contains a loop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514600"/>
            <a:ext cx="304812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.state=en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sense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sens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1600200"/>
            <a:ext cx="68580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5562720"/>
            <a:ext cx="1752840" cy="1218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2971800"/>
            <a:ext cx="1981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86728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0"/>
                </a:moveTo>
                <a:cubicBezTo>
                  <a:pt x="156" y="168"/>
                  <a:pt x="312" y="336"/>
                  <a:pt x="432" y="384"/>
                </a:cubicBezTo>
                <a:cubicBezTo>
                  <a:pt x="552" y="432"/>
                  <a:pt x="680" y="304"/>
                  <a:pt x="720" y="28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57800" y="5638320"/>
            <a:ext cx="45720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238880" y="4190760"/>
            <a:ext cx="7632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50532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2208" y="0"/>
                </a:moveTo>
                <a:cubicBezTo>
                  <a:pt x="1744" y="72"/>
                  <a:pt x="1280" y="144"/>
                  <a:pt x="912" y="288"/>
                </a:cubicBezTo>
                <a:cubicBezTo>
                  <a:pt x="544" y="432"/>
                  <a:pt x="272" y="648"/>
                  <a:pt x="0" y="86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218960" y="365760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916-B49A-4DBD-BD3C-71E006631D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7720" y="18252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cen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F0B-6000-4F0B-A127-C2B4287651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Counterexample for liveness property contains a loop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514600"/>
            <a:ext cx="304812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.state=en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sense=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sens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600200"/>
            <a:ext cx="68580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W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5562720"/>
            <a:ext cx="1752840" cy="1218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4724280"/>
            <a:ext cx="297180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-loc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.state =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2971800"/>
            <a:ext cx="1981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Go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5867280"/>
            <a:ext cx="114300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0"/>
                </a:moveTo>
                <a:cubicBezTo>
                  <a:pt x="156" y="168"/>
                  <a:pt x="312" y="336"/>
                  <a:pt x="432" y="384"/>
                </a:cubicBezTo>
                <a:cubicBezTo>
                  <a:pt x="552" y="432"/>
                  <a:pt x="680" y="304"/>
                  <a:pt x="720" y="28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5638320"/>
            <a:ext cx="45720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238880" y="4190760"/>
            <a:ext cx="7632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350532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2208" y="0"/>
                </a:moveTo>
                <a:cubicBezTo>
                  <a:pt x="1744" y="72"/>
                  <a:pt x="1280" y="144"/>
                  <a:pt x="912" y="288"/>
                </a:cubicBezTo>
                <a:cubicBezTo>
                  <a:pt x="544" y="432"/>
                  <a:pt x="272" y="648"/>
                  <a:pt x="0" y="86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18960" y="365760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93680" y="1905120"/>
            <a:ext cx="47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rth module given a chanc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cute here. But it is of no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047760" y="2666880"/>
            <a:ext cx="1600200" cy="3733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533-50AD-4803-B673-473E27E03F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Ensuring liveness requires more work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in traffic3.s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Boolean variable called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ive turn to others (if I have just exited the critical s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urn = {nst, ew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ADC-2475-4C63-96CF-74BF749A68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28600"/>
            <a:ext cx="8458200" cy="53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 north1(NS-Lock, EW-Lock, N-Req, N-Go,N,S-Go,S-Req,E-Req,tur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: {idle, entering , critical , exiting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(state) :=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idle &amp; N-Req = 1 : enter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ate = entering &amp; !EW-Lock &amp; (!E-Req | turn=nst): critic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(turn) 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tate=exiting &amp; turn=nst  &amp; !S-Req : ew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: 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43680" y="586728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de in south and wes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4E5-0AB9-4CA4-99D8-BDA177B0CA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 again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liveness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 dir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0DD-0BB6-461C-A565-E0CB800DE9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Model check again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liveness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st direction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ILS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668-CFAA-48AA-BE84-075BDB2CF0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raffic4.smv </a:t>
            </a:r>
            <a:r>
              <a:rPr b="0" lang="en-US" sz="4400" spc="-1" strike="noStrike">
                <a:solidFill>
                  <a:srgbClr val="99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ore variables to distinguish between north and south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done and s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rth module exits critical section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 for south module an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st module exits both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d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e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E8A-8100-400D-9ED4-E8C35839F7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31104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 north1(NS-Lock, EW-Lock, N-Req, N-Go,N,S-Go,S-Req,E-Req,turn,ndone,s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: {idle, entering , critical , exiting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stat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idle &amp; N-Req = 1 : enter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ntering &amp; !EW-Lock &amp; (!E-Req | turn=nst): critic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critical &amp; !N : exit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= exiting : id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st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(turn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tate=exiting &amp; turn=nst  &amp; (!S-Req | (sdone &amp; E-Req)): ew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: 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ext(ndone)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tate=exiting :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1 : nd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esa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8A4-F1C5-462D-AE44-E5FCE0A2EE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Hurray!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ness for all three directions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sequencing does not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what we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0E2-6CE9-43AF-B2EF-6004922562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ink about</a:t>
            </a:r>
            <a:endParaRPr b="0" lang="en-US" sz="4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llow north, south, east, west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odel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writing code for four modules have a generic mo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tate it with four times. Once for each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properties without changing fair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4520" y="6019920"/>
            <a:ext cx="67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make the SMV code and slid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B49-BA46-44DE-AAD9-C6E61AB540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QUESTIONS</a:t>
            </a:r>
            <a:endParaRPr b="0" lang="en-US" sz="6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C95-6756-49F1-8B7E-AD5F6CB0F8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666880"/>
            <a:ext cx="888840" cy="1067040"/>
          </a:xfrm>
          <a:custGeom>
            <a:avLst/>
            <a:gdLst/>
            <a:ahLst/>
            <a:rect l="l" t="t" r="r" b="b"/>
            <a:pathLst>
              <a:path w="560" h="672">
                <a:moveTo>
                  <a:pt x="0" y="576"/>
                </a:moveTo>
                <a:cubicBezTo>
                  <a:pt x="200" y="624"/>
                  <a:pt x="400" y="672"/>
                  <a:pt x="480" y="576"/>
                </a:cubicBezTo>
                <a:cubicBezTo>
                  <a:pt x="560" y="480"/>
                  <a:pt x="520" y="240"/>
                  <a:pt x="48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70400" y="2590920"/>
            <a:ext cx="1511280" cy="1168200"/>
          </a:xfrm>
          <a:custGeom>
            <a:avLst/>
            <a:gdLst/>
            <a:ahLst/>
            <a:rect l="l" t="t" r="r" b="b"/>
            <a:pathLst>
              <a:path w="952" h="736">
                <a:moveTo>
                  <a:pt x="136" y="0"/>
                </a:moveTo>
                <a:cubicBezTo>
                  <a:pt x="68" y="256"/>
                  <a:pt x="0" y="512"/>
                  <a:pt x="136" y="624"/>
                </a:cubicBezTo>
                <a:cubicBezTo>
                  <a:pt x="272" y="736"/>
                  <a:pt x="808" y="664"/>
                  <a:pt x="952" y="6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920" y="2754360"/>
            <a:ext cx="70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1120" y="2906640"/>
            <a:ext cx="70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Wingdings"/>
                <a:ea typeface="Wingdings"/>
              </a:rPr>
              <a:t>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" y="765000"/>
            <a:ext cx="22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 tu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BD8-F7B0-4CDA-9D4C-71C3E183C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82520"/>
            <a:ext cx="215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ina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ffi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00A-7D5B-4646-840B-5C386CA1A7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276720" y="1486080"/>
            <a:ext cx="99036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440" y="4749840"/>
            <a:ext cx="28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shoul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514600"/>
            <a:ext cx="236232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581-1667-4DA6-A8D8-991183A7E2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440" y="4749840"/>
            <a:ext cx="282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 shoul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3581280"/>
            <a:ext cx="609840" cy="99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26A-0A6B-4A07-A540-461264E24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43880" y="3086280"/>
            <a:ext cx="1218960" cy="99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 rot="8709600">
            <a:off x="3199680" y="471816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724280"/>
            <a:ext cx="2666880" cy="1905120"/>
          </a:xfrm>
          <a:prstGeom prst="cloudCallout">
            <a:avLst>
              <a:gd name="adj1" fmla="val 72680"/>
              <a:gd name="adj2" fmla="val 1091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the stupid light become green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99036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6DF-4CE0-429F-B9DD-59465076D7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99072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95480" y="0"/>
            <a:ext cx="342900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480" y="304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57200"/>
            <a:ext cx="685800" cy="1143000"/>
          </a:xfrm>
          <a:prstGeom prst="downArrow">
            <a:avLst>
              <a:gd name="adj1" fmla="val 50000"/>
              <a:gd name="adj2" fmla="val 41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9240" y="586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048120"/>
            <a:ext cx="91440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0"/>
            <a:ext cx="76320" cy="685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47600" y="327672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5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v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19840" y="31240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00400" y="1486080"/>
            <a:ext cx="990720" cy="121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 rot="8709600">
            <a:off x="3199680" y="3505320"/>
            <a:ext cx="1143000" cy="1301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4724280"/>
            <a:ext cx="2666880" cy="1905120"/>
          </a:xfrm>
          <a:prstGeom prst="cloudCallout">
            <a:avLst>
              <a:gd name="adj1" fmla="val 75537"/>
              <a:gd name="adj2" fmla="val -583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Go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562720"/>
            <a:ext cx="838080" cy="1066680"/>
          </a:xfrm>
          <a:prstGeom prst="upArrow">
            <a:avLst>
              <a:gd name="adj1" fmla="val 50000"/>
              <a:gd name="adj2" fmla="val 3181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54800" y="487692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raffic in each direction must be 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BE5-11F5-4ED1-81EB-C738B5C33D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manshu</cp:lastModifiedBy>
  <dcterms:modified xsi:type="dcterms:W3CDTF">2007-11-08T19:56:53Z</dcterms:modified>
  <cp:revision>2369</cp:revision>
  <dc:subject/>
  <dc:title>PowerPoint Presentation</dc:title>
</cp:coreProperties>
</file>