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9F6-828A-449B-ABA8-3E878281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E85-1CCE-4EAF-968D-42185A7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91C-D534-481C-BEBE-5001CCCD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CDB-065A-488B-BEA4-293C9CBD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938-12D9-4C51-8557-E36E1381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08E-1BE4-4650-ADFC-9AEA8B0C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F21-CC64-4FD9-A225-ADCDDE64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74D-B27E-4BA8-BAAA-DBA157A6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E19-C07E-424A-BE4F-5B6696F2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72F-091E-4D7A-8823-F40206C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D99-61D2-4C6F-9935-E11D0FB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830-D6D2-49BA-BA4B-A8990D7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76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778B-9B24-49A2-9563-FCAD5F616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Traffic Light Controller </a:t>
            </a:r>
            <a:br>
              <a:rPr sz="4800"/>
            </a:b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xamples in SMV</a:t>
            </a:r>
            <a:endParaRPr b="0" lang="en-US" sz="4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Himanshu J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ug catching (Fall 200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Let’s see how to model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all this in 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010-8982-43A1-A766-6CA0843E6B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182520"/>
            <a:ext cx="253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MV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69160" y="11574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-go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4480" y="497844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go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05080" y="490212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-go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26160"/>
            <a:ext cx="2819520" cy="431640"/>
          </a:xfrm>
          <a:custGeom>
            <a:avLst/>
            <a:gdLst/>
            <a:ahLst/>
            <a:rect l="l" t="t" r="r" b="b"/>
            <a:pathLst>
              <a:path w="1776" h="272">
                <a:moveTo>
                  <a:pt x="0" y="272"/>
                </a:moveTo>
                <a:cubicBezTo>
                  <a:pt x="332" y="168"/>
                  <a:pt x="664" y="64"/>
                  <a:pt x="960" y="32"/>
                </a:cubicBezTo>
                <a:cubicBezTo>
                  <a:pt x="1256" y="0"/>
                  <a:pt x="1648" y="72"/>
                  <a:pt x="177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1447920"/>
            <a:ext cx="2743200" cy="698400"/>
          </a:xfrm>
          <a:custGeom>
            <a:avLst/>
            <a:gdLst/>
            <a:ahLst/>
            <a:rect l="l" t="t" r="r" b="b"/>
            <a:pathLst>
              <a:path w="1728" h="440">
                <a:moveTo>
                  <a:pt x="1728" y="0"/>
                </a:moveTo>
                <a:cubicBezTo>
                  <a:pt x="1440" y="164"/>
                  <a:pt x="1152" y="328"/>
                  <a:pt x="864" y="384"/>
                </a:cubicBezTo>
                <a:cubicBezTo>
                  <a:pt x="576" y="440"/>
                  <a:pt x="288" y="38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403848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" y="1676520"/>
            <a:ext cx="26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ree 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bles track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tus of 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961-C1A9-4EDC-92FF-48EFD4063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76320" y="182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V variab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1720" y="1219320"/>
            <a:ext cx="258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ree 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bles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raffic in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8709600">
            <a:off x="3199680" y="5334120"/>
            <a:ext cx="1143000" cy="130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19149000">
            <a:off x="4952520" y="68544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56560" y="543564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-sense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84120" y="12952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sense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9680" y="342900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-sense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82360" y="4848120"/>
            <a:ext cx="261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riables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, Sy,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I will show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854-15C5-4FD0-83B9-66DB7F21D5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Properties we would like to check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 AG !(W-Go &amp; (N-Go | S-Go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Liveness in North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 AG(N-sense &amp; !N-Go -&gt; AF N-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milar liveness properties for south 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F04-304C-485C-AD9A-ACE842466C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Properties we would like to check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o strict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don’t want the traffic lights to give turns to each other (if there is no need for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 example, if there is no traffic on west lane, we do not want W-go becoming 1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e can specify such properties atleast par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AG(W-Go -&gt; A[W-Go  U (!W-Go &amp; A[!W-Go U (N-Go | S-Go)])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 code other suc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want these properties to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246-90AF-4B1F-8B30-BE5F89A26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MV mod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00400" y="148608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640" y="1868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r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2361960"/>
            <a:ext cx="9903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8720" y="5105520"/>
            <a:ext cx="22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ou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743200" y="5257440"/>
            <a:ext cx="2286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1200" y="106668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est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190512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27800" y="4800600"/>
            <a:ext cx="279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in 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north, sou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D4E-70D8-40DF-A828-179984DB83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142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north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lways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there is al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ffic in nor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200400" y="106668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 rot="8709600">
            <a:off x="3150720" y="579060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 rot="8709600">
            <a:off x="3200040" y="457128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8709600">
            <a:off x="3276000" y="3504960"/>
            <a:ext cx="936360" cy="1066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 rot="8709600">
            <a:off x="3352320" y="2361600"/>
            <a:ext cx="9367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759-AE32-4755-91BD-FAC8F89F1A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Fairness Constraint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north light is always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nd there is always traffic in nort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void such scenarios by means of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irnes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IRNESS running &amp; !(N-Go &amp; N-s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n an infinite execution, there are infinite number of states where either north light is not green or there is no traffic in nort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ilar, fairness constraints for south and wes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918-5650-40E8-A222-25D4D7062B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Now we look at some concrete implementations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D4B-05A2-4023-95D0-D2EA1D1647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ome more variable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 ensure mutual ex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have two Boolea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S-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notes locking of north/south 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W-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notes locking of west 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 remember that there is traffic on a 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olean variables: N-Req, S-Req, W-R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N-sense becomes 1, then N-Req is set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ilarly, for other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1DD-7D12-4C59-AA36-99FBF6F74E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Plan for today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raffic Light Control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to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different SMV models for traffic light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8AB-4878-42F6-B155-DEAB9D36F4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raffic1.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85800"/>
            <a:ext cx="9448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 boolean;       --senses traffic going along 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 : boolean;      --senses traffic going along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: boolean;       --senses traffic going west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: boolean;   --rememebers that there is traffic along north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Req : boolean;   --rememebers that there is traffic along south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-Req : boolean;   --rememebers that there is traffic along west 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-G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   --north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-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boolean;    --south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-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   --west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boolean; --north/south lan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W-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--east/west lan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 : process north1(NS-Lock, EW-Lock, N-Req, N-Go,N,S-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 : process south1(NS-Lock,EW-Lock,S-Req,S-Go,Sy,N-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 : process west1(NS-Lock,EW-Lock,W-Req,W-Go,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NS-Lock) := 0; init(Sy) :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W) :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W-Req) := 0; …………………..OTHER INITIALIZ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96F-6D0C-4291-9C77-AAE69DDE10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"/>
            <a:ext cx="98298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DULE  north(NS-Lock, EW-Lock, N-Req, N-Go,N,S-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(state) :=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stat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xt(NS-Lock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 = entering &amp; !EW-Lock :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 = exiting &amp; !S-Go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 : NS-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91440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N-Req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N-Req &amp; N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N-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 = critical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non-deterministically chos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N) := {0,1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&amp; !(N-Go &amp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113-2805-48F3-8C6C-E3352EEFFE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Module south is similar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Module west1 is a little different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verything seems ok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000" y="55767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Let us run a model che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9FA-31C3-406B-8FC3-F07EAD9A13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E86-51E8-4980-A860-AAB77CD98D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4419720"/>
            <a:ext cx="3505320" cy="1676160"/>
          </a:xfrm>
          <a:prstGeom prst="wedgeRoundRectCallout">
            <a:avLst>
              <a:gd name="adj1" fmla="val -95472"/>
              <a:gd name="adj2" fmla="val -5378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north.state is critical the NS-lock i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F8B-DA65-4ACA-909A-3763A1A78B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4800600"/>
            <a:ext cx="4038840" cy="1828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oblem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tep  dif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North.state=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-Go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3962520"/>
            <a:ext cx="1524240" cy="1371600"/>
          </a:xfrm>
          <a:custGeom>
            <a:avLst/>
            <a:gdLst/>
            <a:ahLst/>
            <a:rect l="l" t="t" r="r" b="b"/>
            <a:pathLst>
              <a:path w="960" h="864">
                <a:moveTo>
                  <a:pt x="960" y="864"/>
                </a:moveTo>
                <a:cubicBezTo>
                  <a:pt x="808" y="632"/>
                  <a:pt x="656" y="400"/>
                  <a:pt x="576" y="288"/>
                </a:cubicBezTo>
                <a:cubicBezTo>
                  <a:pt x="496" y="176"/>
                  <a:pt x="576" y="240"/>
                  <a:pt x="480" y="192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1980720" y="5866920"/>
            <a:ext cx="2971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691-694B-43C4-B64E-BCC4895BE1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228600"/>
            <a:ext cx="98298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MODULE  north(NS-Lock, EW-Lock, N-Req, N-Go,N,S-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init(state) :=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S-Lock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ntering &amp; !EW-Lock :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xiting &amp; !S-Go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NS-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91440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-Req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!N-Req &amp; N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N-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critical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-- non-deterministically chos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) := {0,1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running &amp; !(N-Go &amp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855-5A04-450F-B431-E9533AB8E3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his problem is fixed in traffic2.smv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8895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ntering &amp; !EW-Lock : 1;    --change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523880"/>
            <a:ext cx="7848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476-74A8-4A7D-B21F-B515A7BFE9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ing traffic2.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property i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ness property for North direction f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AG ((N &amp; !N-Go) -&gt; AF N-Go)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DFC-CC10-433C-8623-38F0263F2A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Counterexample for liveness property contains a loop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514600"/>
            <a:ext cx="304812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.state=en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sense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sens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600200"/>
            <a:ext cx="68580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5562720"/>
            <a:ext cx="1752840" cy="1218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2971800"/>
            <a:ext cx="1981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86728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0"/>
                </a:moveTo>
                <a:cubicBezTo>
                  <a:pt x="156" y="168"/>
                  <a:pt x="312" y="336"/>
                  <a:pt x="432" y="384"/>
                </a:cubicBezTo>
                <a:cubicBezTo>
                  <a:pt x="552" y="432"/>
                  <a:pt x="680" y="304"/>
                  <a:pt x="720" y="28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7800" y="5638320"/>
            <a:ext cx="45720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238880" y="4190760"/>
            <a:ext cx="7632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50532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2208" y="0"/>
                </a:moveTo>
                <a:cubicBezTo>
                  <a:pt x="1744" y="72"/>
                  <a:pt x="1280" y="144"/>
                  <a:pt x="912" y="288"/>
                </a:cubicBezTo>
                <a:cubicBezTo>
                  <a:pt x="544" y="432"/>
                  <a:pt x="272" y="648"/>
                  <a:pt x="0" y="86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218960" y="365760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6E1-33F3-4433-86FF-09D0973995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7720" y="18252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ce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365-690A-4D74-B70F-5E35B3E1B8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Counterexample for liveness property contains a loop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514600"/>
            <a:ext cx="304812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.state=en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sense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sens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600200"/>
            <a:ext cx="68580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5562720"/>
            <a:ext cx="1752840" cy="1218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2971800"/>
            <a:ext cx="1981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586728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0"/>
                </a:moveTo>
                <a:cubicBezTo>
                  <a:pt x="156" y="168"/>
                  <a:pt x="312" y="336"/>
                  <a:pt x="432" y="384"/>
                </a:cubicBezTo>
                <a:cubicBezTo>
                  <a:pt x="552" y="432"/>
                  <a:pt x="680" y="304"/>
                  <a:pt x="720" y="28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5638320"/>
            <a:ext cx="45720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238880" y="4190760"/>
            <a:ext cx="7632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50532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2208" y="0"/>
                </a:moveTo>
                <a:cubicBezTo>
                  <a:pt x="1744" y="72"/>
                  <a:pt x="1280" y="144"/>
                  <a:pt x="912" y="288"/>
                </a:cubicBezTo>
                <a:cubicBezTo>
                  <a:pt x="544" y="432"/>
                  <a:pt x="272" y="648"/>
                  <a:pt x="0" y="86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18960" y="365760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93680" y="1905120"/>
            <a:ext cx="47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rth module given a chanc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e here. But it is of no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047760" y="2666880"/>
            <a:ext cx="160020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432-1F99-4E8A-9930-E4F4E60B51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Ensuring liveness requires more work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in traffic3.s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Boolean variable called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ive turn to others (if I have just exited the critical s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urn = {nst, ew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3BF-39D0-43D6-A559-DEFD44AEC1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28600"/>
            <a:ext cx="845820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 north1(NS-Lock, EW-Lock, N-Req, N-Go,N,S-Go,S-Req,E-Req,tur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: {idle, entering , critical , exiting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(state) :=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idle &amp; N-Req = 1 : enter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ate = entering &amp; !EW-Lock &amp; (!E-Req | turn=nst): critic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(turn) 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ate=exiting &amp; turn=nst  &amp; !S-Req : ew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43680" y="586728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de in south and wes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0A8-B798-41EB-AA72-BFB53BA8AF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 again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liveness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8EE-200E-4142-99CD-68FC21C266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 again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liveness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IL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375-3B91-4F42-A134-E25953C818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raffic4.smv </a:t>
            </a:r>
            <a:r>
              <a:rPr b="0" lang="en-US" sz="4400" spc="-1" strike="noStrike">
                <a:solidFill>
                  <a:srgbClr val="99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re variables to distinguish between north and south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done and s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rth module exits critical section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 for south module an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st module exits both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e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478-868C-413D-B307-7BF13690DE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31104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 north1(NS-Lock, EW-Lock, N-Req, N-Go,N,S-Go,S-Req,E-Req,turn,ndone,s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&amp; 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&amp; (!E-Req | turn=nst)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turn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=exiting &amp; turn=nst  &amp; (!S-Req | (sdone &amp; E-Req)): ew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xt(ndon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=exiting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 : n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61C-D616-4FF4-B5FF-6E8DCC826D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Hurray!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ness for all three directions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sequencing does not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what we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8A8-5495-41B1-8963-4936966401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ink abou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llow north, south, east, west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odel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writing code for four modules have a generic mo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tate it with four times. Once for eac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properties without changing fair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4520" y="601992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make the SMV code and slid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0EC-BA24-492A-9843-3E5E831687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D47-AC0D-4398-8B57-482340D3F7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666880"/>
            <a:ext cx="888840" cy="1067040"/>
          </a:xfrm>
          <a:custGeom>
            <a:avLst/>
            <a:gdLst/>
            <a:ahLst/>
            <a:rect l="l" t="t" r="r" b="b"/>
            <a:pathLst>
              <a:path w="560" h="672">
                <a:moveTo>
                  <a:pt x="0" y="576"/>
                </a:moveTo>
                <a:cubicBezTo>
                  <a:pt x="200" y="624"/>
                  <a:pt x="400" y="672"/>
                  <a:pt x="480" y="576"/>
                </a:cubicBezTo>
                <a:cubicBezTo>
                  <a:pt x="560" y="480"/>
                  <a:pt x="520" y="240"/>
                  <a:pt x="48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70400" y="2590920"/>
            <a:ext cx="1511280" cy="1168200"/>
          </a:xfrm>
          <a:custGeom>
            <a:avLst/>
            <a:gdLst/>
            <a:ahLst/>
            <a:rect l="l" t="t" r="r" b="b"/>
            <a:pathLst>
              <a:path w="952" h="736">
                <a:moveTo>
                  <a:pt x="136" y="0"/>
                </a:moveTo>
                <a:cubicBezTo>
                  <a:pt x="68" y="256"/>
                  <a:pt x="0" y="512"/>
                  <a:pt x="136" y="624"/>
                </a:cubicBezTo>
                <a:cubicBezTo>
                  <a:pt x="272" y="736"/>
                  <a:pt x="808" y="664"/>
                  <a:pt x="952" y="6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920" y="2754360"/>
            <a:ext cx="70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1120" y="2906640"/>
            <a:ext cx="70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" y="765000"/>
            <a:ext cx="22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 tu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DA0-AFD2-4225-ABC8-9EC675063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520"/>
            <a:ext cx="215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n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ff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3D9-B501-40FE-969A-A6B09A01B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276720" y="1486080"/>
            <a:ext cx="99036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440" y="4749840"/>
            <a:ext cx="28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shoul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51460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C84-16E6-49FC-8FED-02F2C32402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440" y="4749840"/>
            <a:ext cx="28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shoul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3581280"/>
            <a:ext cx="60984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23D-BCA1-4A06-A8FB-64FA3AC35E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 rot="8709600">
            <a:off x="3199680" y="471816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724280"/>
            <a:ext cx="2666880" cy="1905120"/>
          </a:xfrm>
          <a:prstGeom prst="cloudCallout">
            <a:avLst>
              <a:gd name="adj1" fmla="val 72680"/>
              <a:gd name="adj2" fmla="val 1091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the stupid light become green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99036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B11-70D3-46EA-9368-C046F2F940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00400" y="148608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 rot="8709600">
            <a:off x="3199680" y="350532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724280"/>
            <a:ext cx="2666880" cy="1905120"/>
          </a:xfrm>
          <a:prstGeom prst="cloudCallout">
            <a:avLst>
              <a:gd name="adj1" fmla="val 75537"/>
              <a:gd name="adj2" fmla="val -583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Go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54800" y="487692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raffic in each direction must be 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980-2F86-4D59-B625-4AB4D69AA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manshu</cp:lastModifiedBy>
  <dcterms:modified xsi:type="dcterms:W3CDTF">2007-11-08T19:56:53Z</dcterms:modified>
  <cp:revision>2369</cp:revision>
  <dc:subject/>
  <dc:title>PowerPoint Presentation</dc:title>
</cp:coreProperties>
</file>