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1DB-8361-4551-8E34-68CF4CF5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718-44CE-4633-83F9-31388CC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AD4-82C6-4652-A5FD-E9E87C32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FE5-C279-4300-826A-729B5ED7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640-8CBE-4B72-AA35-9471814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F12-BD2E-48C3-A1C0-2B15ED2F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AA4-05E7-4065-8C51-37CDDA7F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DD2-F87C-43EE-B462-9E81CBE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623-E9B7-43CD-BA12-08107C3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6F5-66CF-43CC-B448-7E0D415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0A8-B076-41EF-A7C4-08C182D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077-B6C9-49AC-8361-E312CEA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C9CC-1A4C-4761-94FF-9190FF57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Traffic Light Controller </a:t>
            </a:r>
            <a:br>
              <a:rPr sz="4800"/>
            </a:b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xamples in SMV</a:t>
            </a:r>
            <a:endParaRPr b="0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imanshu J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ug catching (Fall 200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Let’s see how to model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all this in 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040-41D1-4A52-AD63-90ED6D7DBE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182520"/>
            <a:ext cx="253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MV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69160" y="1157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-go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4480" y="497844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go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05080" y="490212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-go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26160"/>
            <a:ext cx="2819520" cy="431640"/>
          </a:xfrm>
          <a:custGeom>
            <a:avLst/>
            <a:gdLst/>
            <a:ahLst/>
            <a:rect l="l" t="t" r="r" b="b"/>
            <a:pathLst>
              <a:path w="1776" h="272">
                <a:moveTo>
                  <a:pt x="0" y="272"/>
                </a:moveTo>
                <a:cubicBezTo>
                  <a:pt x="332" y="168"/>
                  <a:pt x="664" y="64"/>
                  <a:pt x="960" y="32"/>
                </a:cubicBezTo>
                <a:cubicBezTo>
                  <a:pt x="1256" y="0"/>
                  <a:pt x="1648" y="72"/>
                  <a:pt x="177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447920"/>
            <a:ext cx="2743200" cy="698400"/>
          </a:xfrm>
          <a:custGeom>
            <a:avLst/>
            <a:gdLst/>
            <a:ahLst/>
            <a:rect l="l" t="t" r="r" b="b"/>
            <a:pathLst>
              <a:path w="1728" h="440">
                <a:moveTo>
                  <a:pt x="1728" y="0"/>
                </a:moveTo>
                <a:cubicBezTo>
                  <a:pt x="1440" y="164"/>
                  <a:pt x="1152" y="328"/>
                  <a:pt x="864" y="384"/>
                </a:cubicBezTo>
                <a:cubicBezTo>
                  <a:pt x="576" y="440"/>
                  <a:pt x="288" y="38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403848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" y="1676520"/>
            <a:ext cx="26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bles track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tus of 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2C8-FC81-44A5-B1A4-AFE414AAF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76320" y="182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V variab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1720" y="1219320"/>
            <a:ext cx="258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bles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raffic in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8709600">
            <a:off x="3199680" y="5334120"/>
            <a:ext cx="114300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19149000">
            <a:off x="4952520" y="68544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6560" y="543564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-sense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84120" y="12952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sense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9680" y="342900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-sense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82360" y="4848120"/>
            <a:ext cx="26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riables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, Sy,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I will show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9DD-5B41-4918-BC9D-85563BC899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Properties we would like to check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 AG !(W-Go &amp; (N-Go | S-G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Liveness in North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 AG(N-sense &amp; !N-Go -&gt; AF N-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milar liveness properties for sou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D10-8A90-44ED-94D5-F81862BD56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Properties we would like to check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o strict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don’t want the traffic lights to give turns to each other (if there is no need for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example, if there is no traffic on west lane, we do not want W-go becoming 1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e can specify such properties atleast par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AG(W-Go -&gt; A[W-Go  U (!W-Go &amp; A[!W-Go U (N-Go | S-Go)])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 code other suc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want these properties to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480-F31F-4645-871F-60B85F294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MV mod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00400" y="14860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640" y="1868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r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2361960"/>
            <a:ext cx="9903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8720" y="510552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ou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43200" y="5257440"/>
            <a:ext cx="2286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1200" y="106668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es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190512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7800" y="4800600"/>
            <a:ext cx="279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in 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north, so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271-78FF-4149-97FC-F7F2F3709E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142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north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lway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there is al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ffic in no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200400" y="106668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 rot="8709600">
            <a:off x="3150720" y="579060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 rot="8709600">
            <a:off x="3200040" y="457128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8709600">
            <a:off x="3276000" y="3504960"/>
            <a:ext cx="936360" cy="106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 rot="8709600">
            <a:off x="3352320" y="2361600"/>
            <a:ext cx="9367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948-104A-4C15-B582-52414874B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Fairness Constraint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north light is alway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there is always traffic in nort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void such scenarios by means of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irnes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IRNESS running &amp; !(N-Go &amp; N-s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n an infinite execution, there are infinite number of states where either north light is not green or there is no traffic in nort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ilar, fairness constraints for south and wes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41A-F2A6-494A-B360-E4E2E02291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Now we look at some concrete implementations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921-E4E5-403D-8A08-5D8CB7E6C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ome more variable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 ensure mutual ex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have two Boolea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S-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notes locking of north/south 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W-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notes locking of west 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 remember that there is traffic on a 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olean variables: N-Req, S-Req, W-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N-sense becomes 1, then N-Req is set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ilarly, for other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D81-21BF-4ECF-8244-CCB5C7B72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Plan for today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raffic Light Contro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to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different SMV models for traffic light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15E-CB0C-472E-BB05-24D7A0B2A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raffic1.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85800"/>
            <a:ext cx="9448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 boolean;       --senses traffic going along 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 : boolean;      --senses traffic going along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: boolean;       --senses traffic going west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: boolean;   --rememebers that there is traffic along north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Req : boolean;   --rememebers that there is traffic along south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-Req : boolean;   --rememebers that there is traffic along west 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-G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   --north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-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boolean;    --south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-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   --west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boolean; --north/south lan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W-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--east/west lan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 : process north1(NS-Lock, EW-Lock, N-Req, N-Go,N,S-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 : process south1(NS-Lock,EW-Lock,S-Req,S-Go,Sy,N-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 : process west1(NS-Lock,EW-Lock,W-Req,W-Go,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NS-Lock) := 0; init(Sy) :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W) :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W-Req) := 0; …………………..OTHER INITIALIZ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CAD-B0F9-4461-ABB6-2FA6C3BD30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98298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ULE  north(NS-Lock, EW-Lock, N-Req, N-Go,N,S-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(state) :=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stat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xt(NS-Lock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 = entering &amp; !EW-Lock :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 = exiting &amp; !S-Go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 : NS-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9144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N-Req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N-Req &amp; N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N-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 = critical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non-deterministically chos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N) := {0,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&amp; !(N-Go &amp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89F-15BF-4323-A31C-0B3BD172C2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Module south is similar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Module west1 is a little different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erything seems ok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000" y="55767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Let us run a model che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456-63E9-40F6-9799-2308EE7D8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289-6399-4930-A4BC-2D1AF309CB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4419720"/>
            <a:ext cx="3505320" cy="1676160"/>
          </a:xfrm>
          <a:prstGeom prst="wedgeRoundRectCallout">
            <a:avLst>
              <a:gd name="adj1" fmla="val -95472"/>
              <a:gd name="adj2" fmla="val -5378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north.state is critical the NS-lock i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687-7F8D-4449-B2AB-A966148679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4800600"/>
            <a:ext cx="4038840" cy="1828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blem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tep  dif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North.state=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-Go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962520"/>
            <a:ext cx="1524240" cy="1371600"/>
          </a:xfrm>
          <a:custGeom>
            <a:avLst/>
            <a:gdLst/>
            <a:ahLst/>
            <a:rect l="l" t="t" r="r" b="b"/>
            <a:pathLst>
              <a:path w="960" h="864">
                <a:moveTo>
                  <a:pt x="960" y="864"/>
                </a:moveTo>
                <a:cubicBezTo>
                  <a:pt x="808" y="632"/>
                  <a:pt x="656" y="400"/>
                  <a:pt x="576" y="288"/>
                </a:cubicBezTo>
                <a:cubicBezTo>
                  <a:pt x="496" y="176"/>
                  <a:pt x="576" y="240"/>
                  <a:pt x="480" y="192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1980720" y="5866920"/>
            <a:ext cx="2971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8E9-738D-4C2D-9D5E-24442BAC83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28600"/>
            <a:ext cx="98298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MODULE  north(NS-Lock, EW-Lock, N-Req, N-Go,N,S-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init(state) :=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S-Lock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ntering &amp; !EW-Lock :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xiting &amp; !S-Go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NS-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9144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-Req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!N-Req &amp; N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N-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critical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-- non-deterministically chos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) := {0,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running &amp; !(N-Go &amp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F7B-0C12-43C0-BF7A-D359E316DF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his problem is fixed in traffic2.smv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8895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ntering &amp; !EW-Lock : 1;    --change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523880"/>
            <a:ext cx="7848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DD9-414F-48A1-8D6D-958290E658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ing traffic2.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property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ness property for North direction f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AG ((N &amp; !N-Go) -&gt; AF N-Go)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173-9F46-41C8-AFCF-A405D81AE9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Counterexample for liveness property contains a loop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514600"/>
            <a:ext cx="304812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.state=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sense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sens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6002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562720"/>
            <a:ext cx="175284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2971800"/>
            <a:ext cx="1981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86728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0"/>
                </a:moveTo>
                <a:cubicBezTo>
                  <a:pt x="156" y="168"/>
                  <a:pt x="312" y="336"/>
                  <a:pt x="432" y="384"/>
                </a:cubicBezTo>
                <a:cubicBezTo>
                  <a:pt x="552" y="432"/>
                  <a:pt x="680" y="304"/>
                  <a:pt x="72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7800" y="5638320"/>
            <a:ext cx="45720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238880" y="4190760"/>
            <a:ext cx="7632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50532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2208" y="0"/>
                </a:moveTo>
                <a:cubicBezTo>
                  <a:pt x="1744" y="72"/>
                  <a:pt x="1280" y="144"/>
                  <a:pt x="912" y="288"/>
                </a:cubicBezTo>
                <a:cubicBezTo>
                  <a:pt x="544" y="432"/>
                  <a:pt x="272" y="648"/>
                  <a:pt x="0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218960" y="365760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256-61EA-428D-9561-6954F255B1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7720" y="18252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ce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7D3-6401-4A4F-ACF9-C3F312C311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Counterexample for liveness property contains a loop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514600"/>
            <a:ext cx="304812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.state=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sense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sens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6002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5562720"/>
            <a:ext cx="175284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2971800"/>
            <a:ext cx="1981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86728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0"/>
                </a:moveTo>
                <a:cubicBezTo>
                  <a:pt x="156" y="168"/>
                  <a:pt x="312" y="336"/>
                  <a:pt x="432" y="384"/>
                </a:cubicBezTo>
                <a:cubicBezTo>
                  <a:pt x="552" y="432"/>
                  <a:pt x="680" y="304"/>
                  <a:pt x="72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5638320"/>
            <a:ext cx="45720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238880" y="4190760"/>
            <a:ext cx="7632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50532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2208" y="0"/>
                </a:moveTo>
                <a:cubicBezTo>
                  <a:pt x="1744" y="72"/>
                  <a:pt x="1280" y="144"/>
                  <a:pt x="912" y="288"/>
                </a:cubicBezTo>
                <a:cubicBezTo>
                  <a:pt x="544" y="432"/>
                  <a:pt x="272" y="648"/>
                  <a:pt x="0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18960" y="365760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3680" y="1905120"/>
            <a:ext cx="47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rth module given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e here. But it is of no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047760" y="2666880"/>
            <a:ext cx="160020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289-5673-4C0F-905F-87180E6D31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Ensuring liveness requires more work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n traffic3.s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Boolean variable called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ive turn to others (if I have just exited the critical s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urn = {nst, ew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6DA-7F89-4CA3-AA16-04370754B2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45820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 north1(NS-Lock, EW-Lock, N-Req, N-Go,N,S-Go,S-Req,E-Req,tur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: {idle, entering , critical , exiting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(state) :=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idle &amp; N-Req = 1 : enter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ate = entering &amp; !EW-Lock &amp; (!E-Req | turn=nst): critic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(turn) 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ate=exiting &amp; turn=nst  &amp; !S-Req : ew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43680" y="586728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de in south and wes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248-A69C-435F-A0C4-BDBDCEF8FD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 again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liveness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983-0C57-4610-A005-06FEC647B8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 again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liveness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IL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451-AD1A-4F0E-83A2-883274D3F3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raffic4.smv </a:t>
            </a:r>
            <a:r>
              <a:rPr b="0" lang="en-US" sz="4400" spc="-1" strike="noStrike">
                <a:solidFill>
                  <a:srgbClr val="99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re variables to distinguish between north and south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done and s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rth module exits critical section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 for south module an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st module exits both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e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343-4E31-43E8-B575-0059C5EAC3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1104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 north1(NS-Lock, EW-Lock, N-Req, N-Go,N,S-Go,S-Req,E-Req,turn,ndone,s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&amp; 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&amp; (!E-Req | turn=nst)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turn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=exiting &amp; turn=nst  &amp; (!S-Req | (sdone &amp; E-Req)): ew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xt(ndon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=exiting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 : n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070-4E33-4A63-8D5F-8085111FE3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Hurray!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ness for all three directions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sequencing does not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what we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E5B-DE5F-4138-BCE8-2CA5E6A505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ink abou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llow north, south, east, wes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odel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writing code for four modules have a generic mo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tate it with four times. Once for eac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properties without changing fair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4520" y="601992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make the SMV code and slid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EB5-5DBA-4FA4-9B53-9ABBB4E578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5ED-255B-47FB-B70D-C6E7F21019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666880"/>
            <a:ext cx="888840" cy="1067040"/>
          </a:xfrm>
          <a:custGeom>
            <a:avLst/>
            <a:gdLst/>
            <a:ahLst/>
            <a:rect l="l" t="t" r="r" b="b"/>
            <a:pathLst>
              <a:path w="560" h="672">
                <a:moveTo>
                  <a:pt x="0" y="576"/>
                </a:moveTo>
                <a:cubicBezTo>
                  <a:pt x="200" y="624"/>
                  <a:pt x="400" y="672"/>
                  <a:pt x="480" y="576"/>
                </a:cubicBezTo>
                <a:cubicBezTo>
                  <a:pt x="560" y="480"/>
                  <a:pt x="520" y="240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70400" y="2590920"/>
            <a:ext cx="1511280" cy="1168200"/>
          </a:xfrm>
          <a:custGeom>
            <a:avLst/>
            <a:gdLst/>
            <a:ahLst/>
            <a:rect l="l" t="t" r="r" b="b"/>
            <a:pathLst>
              <a:path w="952" h="736">
                <a:moveTo>
                  <a:pt x="136" y="0"/>
                </a:moveTo>
                <a:cubicBezTo>
                  <a:pt x="68" y="256"/>
                  <a:pt x="0" y="512"/>
                  <a:pt x="136" y="624"/>
                </a:cubicBezTo>
                <a:cubicBezTo>
                  <a:pt x="272" y="736"/>
                  <a:pt x="808" y="664"/>
                  <a:pt x="952" y="6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920" y="2754360"/>
            <a:ext cx="70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1120" y="2906640"/>
            <a:ext cx="70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" y="765000"/>
            <a:ext cx="22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 tu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60E-7DD7-4082-8A6E-A16D841FD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520"/>
            <a:ext cx="215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n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ff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802-F25C-4C1B-B397-F01331009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276720" y="1486080"/>
            <a:ext cx="99036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440" y="4749840"/>
            <a:ext cx="28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shoul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51460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FC1-4D8A-40D0-8777-600EE33DF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440" y="4749840"/>
            <a:ext cx="28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shoul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3581280"/>
            <a:ext cx="60984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969-032D-48F8-AC22-7A49B162E3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 rot="8709600">
            <a:off x="3199680" y="471816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724280"/>
            <a:ext cx="2666880" cy="1905120"/>
          </a:xfrm>
          <a:prstGeom prst="cloudCallout">
            <a:avLst>
              <a:gd name="adj1" fmla="val 72680"/>
              <a:gd name="adj2" fmla="val 1091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the stupid light become gre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013-2AB2-4FB1-A821-CF064AF83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00400" y="14860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 rot="8709600">
            <a:off x="3199680" y="350532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724280"/>
            <a:ext cx="2666880" cy="1905120"/>
          </a:xfrm>
          <a:prstGeom prst="cloudCallout">
            <a:avLst>
              <a:gd name="adj1" fmla="val 75537"/>
              <a:gd name="adj2" fmla="val -583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Go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54800" y="487692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raffic in each direction must be 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8CA-3FD4-4D4A-857A-0B99DF8561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manshu</cp:lastModifiedBy>
  <dcterms:modified xsi:type="dcterms:W3CDTF">2007-11-08T19:56:53Z</dcterms:modified>
  <cp:revision>2369</cp:revision>
  <dc:subject/>
  <dc:title>PowerPoint Presentation</dc:title>
</cp:coreProperties>
</file>