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B0CA-550A-4992-BA77-0198C0BDA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50D8D-41EF-470D-878D-1DA278DC6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E1AC-FE23-43E7-875D-EDF203ACB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216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90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6B636-265E-4E71-A13D-C21A8B4DA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16E98-5682-4C75-9EA8-C69CCB6D8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216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790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E13A-67CB-4EC7-9E39-1369A8416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C10B-96BD-472E-AF30-A269A461D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CC2F-DFE6-44C7-B4C8-059DFD30D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DA8A-3ED7-409B-8B61-5624AA375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BB891-921A-4F4D-9680-33F445A0B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90D1-7699-4A9A-B9C3-BABF609F9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B2E9-F590-4792-8524-F5B45E0E8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667400" y="5562720"/>
            <a:ext cx="32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5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333cc"/>
                </a:solidFill>
                <a:latin typeface="HY엽서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1759-21B3-4357-8BE3-C1971BF505FB}" type="slidenum"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2627-96D0-4763-B9C5-D3B63F608AC5}" type="slidenum"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400440" y="6552720"/>
            <a:ext cx="2725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333cc"/>
                </a:solidFill>
                <a:latin typeface="HY엽서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32448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428640" y="3505320"/>
            <a:ext cx="2438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914400" cy="807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3333cc"/>
                </a:solidFill>
                <a:latin typeface="Tahoma"/>
              </a:rPr>
              <a:t>SAT Encodings for Sudoku</a:t>
            </a:r>
            <a:endParaRPr b="1" lang="en-US" sz="3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4038480"/>
            <a:ext cx="6705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Bug Catching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n 2006 F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Sep. 26,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Gi-Hwon Kw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Motivation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Sudoku was regarded as SAT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W Weber,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A SAT-based Sudoku Solver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, Nov.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Lynce &amp; Ouaknine,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Sudoku as a SAT Problem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, Jan. 200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xtended encoding shows the best performance in our experi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Problems in previous 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oo many clauses are generated (e.g. 85,056,804 claus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us, large size puzzles are not sol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 extended encoding must b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optimized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for large size puzz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Our objec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o propose a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optimizatio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for the extended encod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16BC-43C2-4A35-9F46-D991BBA94E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gend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</a:rPr>
              <a:t>Background and Previous Enco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Optimized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B0EF-8E3C-42A7-AE89-7048457E45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468360" y="3789360"/>
          <a:ext cx="2519280" cy="2489040"/>
        </p:xfrm>
        <a:graphic>
          <a:graphicData uri="http://schemas.openxmlformats.org/drawingml/2006/table">
            <a:tbl>
              <a:tblPr/>
              <a:tblGrid>
                <a:gridCol w="281160"/>
                <a:gridCol w="279360"/>
                <a:gridCol w="279360"/>
                <a:gridCol w="280800"/>
                <a:gridCol w="277920"/>
                <a:gridCol w="281160"/>
                <a:gridCol w="279360"/>
                <a:gridCol w="27936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ncoding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Kowledge compilation into a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targe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Knowlede about Sudo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3203640" y="3716280"/>
            <a:ext cx="3457440" cy="360360"/>
          </a:xfrm>
          <a:prstGeom prst="wedgeRoundRectCallout">
            <a:avLst>
              <a:gd name="adj1" fmla="val -52893"/>
              <a:gd name="adj2" fmla="val -1475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400" spc="-1" strike="noStrike">
                <a:solidFill>
                  <a:srgbClr val="000000"/>
                </a:solidFill>
                <a:latin typeface="Tahoma"/>
              </a:rPr>
              <a:t>ce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2700360" y="3789360"/>
            <a:ext cx="28728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3203640" y="4292640"/>
            <a:ext cx="3457440" cy="360360"/>
          </a:xfrm>
          <a:prstGeom prst="wedgeRoundRectCallout">
            <a:avLst>
              <a:gd name="adj1" fmla="val -53120"/>
              <a:gd name="adj2" fmla="val -1695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400" spc="-1" strike="noStrike">
                <a:solidFill>
                  <a:srgbClr val="000000"/>
                </a:solidFill>
                <a:latin typeface="Tahoma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365720"/>
            <a:ext cx="251928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4869000"/>
            <a:ext cx="3456000" cy="360360"/>
          </a:xfrm>
          <a:prstGeom prst="wedgeRoundRectCallout">
            <a:avLst>
              <a:gd name="adj1" fmla="val -53125"/>
              <a:gd name="adj2" fmla="val -2048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400" spc="-1" strike="noStrike">
                <a:solidFill>
                  <a:srgbClr val="000000"/>
                </a:solidFill>
                <a:latin typeface="Tahoma"/>
              </a:rPr>
              <a:t>c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3789360"/>
            <a:ext cx="287640" cy="25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5445000"/>
            <a:ext cx="3457440" cy="360360"/>
          </a:xfrm>
          <a:prstGeom prst="wedgeRoundRectCallout">
            <a:avLst>
              <a:gd name="adj1" fmla="val -53305"/>
              <a:gd name="adj2" fmla="val -947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400" spc="-1" strike="noStrike">
                <a:solidFill>
                  <a:srgbClr val="000000"/>
                </a:solidFill>
                <a:latin typeface="Tahoma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445000"/>
            <a:ext cx="863640" cy="86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3203640" y="6021360"/>
            <a:ext cx="3457440" cy="360360"/>
          </a:xfrm>
          <a:prstGeom prst="wedgeRoundRectCallout">
            <a:avLst>
              <a:gd name="adj1" fmla="val -53351"/>
              <a:gd name="adj2" fmla="val -1872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A pre-assigned numb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7162920" y="4540320"/>
            <a:ext cx="863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5987880"/>
            <a:ext cx="863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fac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732720" y="3860640"/>
            <a:ext cx="431640" cy="1800360"/>
          </a:xfrm>
          <a:custGeom>
            <a:avLst/>
            <a:gdLst>
              <a:gd name="textAreaLeft" fmla="*/ 0 w 431640"/>
              <a:gd name="textAreaRight" fmla="*/ 155880 w 431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6093000"/>
            <a:ext cx="297000" cy="215640"/>
          </a:xfrm>
          <a:custGeom>
            <a:avLst/>
            <a:gdLst>
              <a:gd name="textAreaLeft" fmla="*/ 0 w 297000"/>
              <a:gd name="textAreaRight" fmla="*/ 107280 w 297000"/>
              <a:gd name="textAreaTop" fmla="*/ 5400 h 215640"/>
              <a:gd name="textAreaBottom" fmla="*/ 2102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8321040" y="45734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CNF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7997760" y="464652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8322480" y="6014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CNF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7999560" y="6087960"/>
            <a:ext cx="288720" cy="216000"/>
          </a:xfrm>
          <a:prstGeom prst="rightArrow">
            <a:avLst>
              <a:gd name="adj1" fmla="val 50000"/>
              <a:gd name="adj2" fmla="val 334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203832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1967040"/>
            <a:ext cx="93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CNF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1474920" y="1967040"/>
            <a:ext cx="288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problem knowleg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1044720" y="6021360"/>
            <a:ext cx="28728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F54D-D61F-40F2-A945-9F424B4ABB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Glance at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CNF represented by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boolean variable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Literal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s a variable or its n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Claus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s a disjunction of lit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CNF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s a conjunction of cla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200240" y="1781280"/>
                <a:ext cx="14824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201680" y="3090960"/>
                <a:ext cx="3301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003640" y="1947960"/>
            <a:ext cx="360360" cy="257040"/>
          </a:xfrm>
          <a:prstGeom prst="rightArrow">
            <a:avLst>
              <a:gd name="adj1" fmla="val 50000"/>
              <a:gd name="adj2" fmla="val 350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513400" y="1557360"/>
                <a:ext cx="1015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5003640" y="3243240"/>
            <a:ext cx="360360" cy="257040"/>
          </a:xfrm>
          <a:prstGeom prst="rightArrow">
            <a:avLst>
              <a:gd name="adj1" fmla="val 50000"/>
              <a:gd name="adj2" fmla="val 350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508720" y="3114720"/>
                <a:ext cx="7966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031760" y="4373640"/>
                <a:ext cx="1978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∨</m:t>
                    </m:r>
                    <m:r>
                      <m:t xml:space="preserve">¬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5003640" y="4467240"/>
            <a:ext cx="360360" cy="257040"/>
          </a:xfrm>
          <a:prstGeom prst="rightArrow">
            <a:avLst>
              <a:gd name="adj1" fmla="val 50000"/>
              <a:gd name="adj2" fmla="val 350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516640" y="4325760"/>
                <a:ext cx="35193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or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or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5003640" y="5764320"/>
            <a:ext cx="360360" cy="257040"/>
          </a:xfrm>
          <a:prstGeom prst="rightArrow">
            <a:avLst>
              <a:gd name="adj1" fmla="val 50000"/>
              <a:gd name="adj2" fmla="val 350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965160" y="5597640"/>
                <a:ext cx="3021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r>
                      <m:t xml:space="preserve">¬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456160" y="5403960"/>
                <a:ext cx="3076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or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or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8AF9-B179-41B0-9829-FFDE61E29B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Variabl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Each cell has one number from 1..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[1,1]=1  or  [1,1]=2 or …… or [1,1]=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cell needs N boolean variables to consider all c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Total number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ko-KR" sz="2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Boolean variable name as a tri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(r,c,v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ff   [r,c]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(r,c,v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ff   [r,c]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5506920" y="3575160"/>
            <a:ext cx="2521080" cy="2517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508720" y="3603600"/>
          <a:ext cx="2519280" cy="2489400"/>
        </p:xfrm>
        <a:graphic>
          <a:graphicData uri="http://schemas.openxmlformats.org/drawingml/2006/table">
            <a:tbl>
              <a:tblPr/>
              <a:tblGrid>
                <a:gridCol w="280800"/>
                <a:gridCol w="279720"/>
                <a:gridCol w="279360"/>
                <a:gridCol w="280800"/>
                <a:gridCol w="277920"/>
                <a:gridCol w="280800"/>
                <a:gridCol w="279360"/>
                <a:gridCol w="27972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 rot="2599800">
            <a:off x="8313480" y="2927520"/>
            <a:ext cx="288720" cy="934920"/>
          </a:xfrm>
          <a:custGeom>
            <a:avLst/>
            <a:gdLst>
              <a:gd name="textAreaLeft" fmla="*/ 0 w 288720"/>
              <a:gd name="textAreaRight" fmla="*/ 104040 w 2887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8531280" y="3359160"/>
            <a:ext cx="43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8AC8-4C9B-4EC3-834A-B83AB8D001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Set Notatio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Indexed generalized disjunction and union oper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Re-definitions of clause and CNF using the oper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476360" y="2482920"/>
                <a:ext cx="48546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34960" y="4486320"/>
                <a:ext cx="29131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495440" y="3162240"/>
                <a:ext cx="5381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476360" y="5133960"/>
                <a:ext cx="31622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465200" y="1844640"/>
                <a:ext cx="23860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AC37-EE23-4483-BA85-74A7DD4A29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ell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71640" y="1630440"/>
          <a:ext cx="280800" cy="2489040"/>
        </p:xfrm>
        <a:graphic>
          <a:graphicData uri="http://schemas.openxmlformats.org/drawingml/2006/table">
            <a:tbl>
              <a:tblPr/>
              <a:tblGrid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1474920" y="1557360"/>
            <a:ext cx="4321080" cy="503280"/>
          </a:xfrm>
          <a:prstGeom prst="wedgeRoundRectCallout">
            <a:avLst>
              <a:gd name="adj1" fmla="val -56574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1620720" y="2565360"/>
            <a:ext cx="5040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one number in each cel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266920" y="3182760"/>
                <a:ext cx="384984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sSubSup>
                          <m:e/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6589800" y="256536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1620720" y="3933720"/>
            <a:ext cx="5040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one number in each cel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6589800" y="389556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214720" y="4543560"/>
                <a:ext cx="65721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/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Sup>
                      <m:e/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1E33-4955-4E24-A191-0656A7AAFF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Row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2717640"/>
            <a:ext cx="5040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r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300720" y="274788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1332000" y="4086360"/>
            <a:ext cx="5256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r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300720" y="411624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979640" y="3327480"/>
                <a:ext cx="36813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sSubSup>
                          <m:e/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925640" y="4695840"/>
                <a:ext cx="650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/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Sup>
                      <m:e/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234" name=""/>
          <p:cNvGraphicFramePr/>
          <p:nvPr/>
        </p:nvGraphicFramePr>
        <p:xfrm>
          <a:off x="973080" y="1700280"/>
          <a:ext cx="2519280" cy="552240"/>
        </p:xfrm>
        <a:graphic>
          <a:graphicData uri="http://schemas.openxmlformats.org/drawingml/2006/table">
            <a:tbl>
              <a:tblPr/>
              <a:tblGrid>
                <a:gridCol w="281160"/>
                <a:gridCol w="279360"/>
                <a:gridCol w="279360"/>
                <a:gridCol w="280800"/>
                <a:gridCol w="277920"/>
                <a:gridCol w="281160"/>
                <a:gridCol w="279360"/>
                <a:gridCol w="27936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3635280" y="1628640"/>
            <a:ext cx="4753080" cy="503280"/>
          </a:xfrm>
          <a:prstGeom prst="wedgeRoundRectCallout">
            <a:avLst>
              <a:gd name="adj1" fmla="val -55976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ro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8DCB-F656-460A-A5DF-60CAE50A47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olumn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476360" y="2603520"/>
            <a:ext cx="5543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colum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6804000" y="260352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476360" y="3971880"/>
            <a:ext cx="5781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colum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6804000" y="397188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6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67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95640" y="3157560"/>
                <a:ext cx="36208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sSubSup>
                          <m:e/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190600" y="4621320"/>
                <a:ext cx="64389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/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Sup>
                      <m:e/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245" name=""/>
          <p:cNvGraphicFramePr/>
          <p:nvPr/>
        </p:nvGraphicFramePr>
        <p:xfrm>
          <a:off x="612720" y="1486080"/>
          <a:ext cx="561960" cy="2489040"/>
        </p:xfrm>
        <a:graphic>
          <a:graphicData uri="http://schemas.openxmlformats.org/drawingml/2006/table">
            <a:tbl>
              <a:tblPr/>
              <a:tblGrid>
                <a:gridCol w="28116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1330200" y="1484280"/>
            <a:ext cx="4681800" cy="503280"/>
          </a:xfrm>
          <a:prstGeom prst="wedgeRoundRectCallout">
            <a:avLst>
              <a:gd name="adj1" fmla="val -56069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colum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D5C0-57DA-4EE9-B091-09969B3733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Block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2781360"/>
            <a:ext cx="575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bloc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5724360" y="2781360"/>
            <a:ext cx="187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4149720"/>
            <a:ext cx="5781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bloc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4149720"/>
            <a:ext cx="187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-468360" y="36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-468360" y="367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-468360" y="36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360" y="1590840"/>
          <a:ext cx="1682640" cy="830160"/>
        </p:xfrm>
        <a:graphic>
          <a:graphicData uri="http://schemas.openxmlformats.org/drawingml/2006/table">
            <a:tbl>
              <a:tblPr/>
              <a:tblGrid>
                <a:gridCol w="279360"/>
                <a:gridCol w="279360"/>
                <a:gridCol w="281160"/>
                <a:gridCol w="280800"/>
                <a:gridCol w="28116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041480" y="3319560"/>
                <a:ext cx="77421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ubN</m:t>
                        </m:r>
                      </m:sup>
                    </m:sSubSup>
                    <m:sSubSup>
                      <m:e/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ubN</m:t>
                        </m:r>
                      </m:sup>
                    </m:sSubSup>
                    <m:sSubSup>
                      <m:e/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009800" y="4648320"/>
                <a:ext cx="7821360" cy="13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loc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/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</m:sup>
                        </m:sSubSup>
                        <m:sSubSup>
                          <m:e/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/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/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¬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mod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e>
                          <m:e/>
                          <m:e/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</m:t>
                            </m:r>
                            <m:r>
                              <m:t xml:space="preserve">∨</m:t>
                            </m:r>
                            <m:r>
                              <m:t xml:space="preserve">¬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mod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338560" y="1557360"/>
            <a:ext cx="4465440" cy="503280"/>
          </a:xfrm>
          <a:prstGeom prst="wedgeRoundRectCallout">
            <a:avLst>
              <a:gd name="adj1" fmla="val -56361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B922-351E-4893-ADD6-8EC3FE35CB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gend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Background and Previous Enco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Optimized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B3EF-B260-40A2-821A-5E90C0611E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Pre-Assigned Fact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758880" y="1619280"/>
          <a:ext cx="1004760" cy="1035000"/>
        </p:xfrm>
        <a:graphic>
          <a:graphicData uri="http://schemas.openxmlformats.org/drawingml/2006/table">
            <a:tbl>
              <a:tblPr/>
              <a:tblGrid>
                <a:gridCol w="334800"/>
                <a:gridCol w="333360"/>
                <a:gridCol w="3366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727360" y="4492800"/>
                <a:ext cx="55166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 is a number of pre-assigned number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2268360" y="2387520"/>
            <a:ext cx="5975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As a constant; the number is never change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2268360" y="2963880"/>
            <a:ext cx="5975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t can be represented as a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unit clau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668680" y="3735360"/>
                <a:ext cx="53593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igned</m:t>
                    </m:r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∃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a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1978200" y="1630440"/>
            <a:ext cx="3241440" cy="503280"/>
          </a:xfrm>
          <a:prstGeom prst="wedgeRoundRectCallout">
            <a:avLst>
              <a:gd name="adj1" fmla="val -58763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pre-assigned numb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3492360" y="486900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0CAA-C8F5-4B6F-91BF-77EA8C0FE2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Previous Encoding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395280" y="134136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Minimal encoding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[Lynce &amp; Ouaknine, 2006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900000" y="2386080"/>
            <a:ext cx="662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sufficient to characterize the puzz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971640" y="1916280"/>
                <a:ext cx="53006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Assigne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971640" y="3571920"/>
                <a:ext cx="54655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ll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l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w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w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l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∪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loc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loc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∪</m:t>
                        </m:r>
                        <m:r>
                          <m:rPr>
                            <m:lit/>
                            <m:nor/>
                          </m:rPr>
                          <m:t xml:space="preserve">Assign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971640" y="5597640"/>
                <a:ext cx="61675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Assigne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395280" y="3046320"/>
            <a:ext cx="698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Extended encoding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[Lynce &amp; Ouaknine, 2006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4402080"/>
            <a:ext cx="662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minimal encoding with redundant claus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5086440"/>
            <a:ext cx="698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Efficient encoding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[Weber, 2005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6059520"/>
            <a:ext cx="662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between minimal encoding and extended encod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51A5-8859-4273-AB83-9C5BBFDA17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nalysis (Recap)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95280" y="1484280"/>
          <a:ext cx="8353440" cy="4475160"/>
        </p:xfrm>
        <a:graphic>
          <a:graphicData uri="http://schemas.openxmlformats.org/drawingml/2006/table">
            <a:tbl>
              <a:tblPr/>
              <a:tblGrid>
                <a:gridCol w="1512720"/>
                <a:gridCol w="1584360"/>
                <a:gridCol w="5256360"/>
              </a:tblGrid>
              <a:tr h="78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nco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Number of Vari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Number of Clau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Min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xte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992400" y="2481120"/>
                <a:ext cx="41799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N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995640" y="4941720"/>
                <a:ext cx="41767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∗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992400" y="3705120"/>
                <a:ext cx="41799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N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∗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484360" y="2698920"/>
                <a:ext cx="39996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84360" y="3922560"/>
                <a:ext cx="3999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484360" y="5167440"/>
                <a:ext cx="3999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E396-A466-44E4-8DC3-BC22329B21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gend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Background and Previous Enco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</a:rPr>
              <a:t>Optimized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6ED0-9923-4974-8F93-7DB42BA83D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755640" y="1484280"/>
          <a:ext cx="1368360" cy="1352520"/>
        </p:xfrm>
        <a:graphic>
          <a:graphicData uri="http://schemas.openxmlformats.org/drawingml/2006/table">
            <a:tbl>
              <a:tblPr/>
              <a:tblGrid>
                <a:gridCol w="343080"/>
                <a:gridCol w="342720"/>
                <a:gridCol w="341280"/>
                <a:gridCol w="341280"/>
              </a:tblGrid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2627280" y="198756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3490920" y="2387520"/>
            <a:ext cx="4537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s represented using boolean variabl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>
            <a:off x="3492360" y="1895400"/>
            <a:ext cx="93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CNF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3573360"/>
            <a:ext cx="86868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돋움"/>
              </a:rPr>
              <a:t>For example, consider the cell [1,1]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돋움"/>
              </a:rPr>
              <a:t>Four cases are considered; thus, four variables are neede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187280" y="4475160"/>
            <a:ext cx="381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(1,1,1), (1,1,2), (1,1,3), (1,1,4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7A71-8F4C-4464-ABBB-972035C50F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Variabl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A pre-assigned cell reduces the cases to be consid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ecause the cell has a fixed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 pre-assigned cell does not need a variable at 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t affects other cells located at the same row, or column, or blo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For example , consider the cell [1,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 case [1,1]=1 is not allowed since [4,1]=1 are already assig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 case [1,1]=3 is not allowed since [1,4]=3 are already assig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 case [1,1]=4 is not allowed since [1,3]=4 are already assig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us, the only case to be cosidered is [1,1]=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867280" y="5245200"/>
          <a:ext cx="1368720" cy="1352520"/>
        </p:xfrm>
        <a:graphic>
          <a:graphicData uri="http://schemas.openxmlformats.org/drawingml/2006/table">
            <a:tbl>
              <a:tblPr/>
              <a:tblGrid>
                <a:gridCol w="343080"/>
                <a:gridCol w="342720"/>
                <a:gridCol w="341280"/>
                <a:gridCol w="341640"/>
              </a:tblGrid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 flipH="1">
            <a:off x="5147640" y="5267160"/>
            <a:ext cx="431640" cy="308160"/>
          </a:xfrm>
          <a:prstGeom prst="rightArrow">
            <a:avLst>
              <a:gd name="adj1" fmla="val 50000"/>
              <a:gd name="adj2" fmla="val 350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4067280" y="5194440"/>
            <a:ext cx="122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(1,1,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6202-7C5D-4F44-9AA9-342D1BEDF6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Variabl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ko-K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 be a set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00200" y="3002040"/>
                <a:ext cx="79372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ffected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ameRow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sameCol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sameBlock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84360" y="3589200"/>
                <a:ext cx="45734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meRow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∃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c</m:t>
                    </m:r>
                    <m:r>
                      <m:t xml:space="preserve">⇒</m:t>
                    </m:r>
                    <m:r>
                      <m:t xml:space="preserve">[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87240" y="4157640"/>
                <a:ext cx="44942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meCol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∃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r</m:t>
                    </m:r>
                    <m:r>
                      <m:t xml:space="preserve">⇒</m:t>
                    </m:r>
                    <m:r>
                      <m:t xml:space="preserve">[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08120" y="4734000"/>
                <a:ext cx="80740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meBlock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∃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originRow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ub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∃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originC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ub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r</m:t>
                    </m:r>
                    <m:r>
                      <m:t xml:space="preserve">∧</m:t>
                    </m:r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[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730080" y="2212920"/>
                <a:ext cx="78026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/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mpty</m:t>
                        </m:r>
                        <m:r>
                          <m:t xml:space="preserve">∧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affected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CDB6F-0B48-4F0E-A30C-A39738E2E0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203640" y="1628640"/>
          <a:ext cx="3600360" cy="3816360"/>
        </p:xfrm>
        <a:graphic>
          <a:graphicData uri="http://schemas.openxmlformats.org/drawingml/2006/table">
            <a:tbl>
              <a:tblPr/>
              <a:tblGrid>
                <a:gridCol w="901800"/>
                <a:gridCol w="903240"/>
                <a:gridCol w="897120"/>
                <a:gridCol w="898200"/>
              </a:tblGrid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3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826920" y="3068640"/>
                <a:ext cx="1189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2268360" y="1628640"/>
            <a:ext cx="503280" cy="3816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237440" y="1628640"/>
            <a:ext cx="503280" cy="3816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3203640" y="5950080"/>
            <a:ext cx="2736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these parts are exclud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570560" y="544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3350-AA5A-4455-89C7-455ED8E8E4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ell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971640" y="1486080"/>
          <a:ext cx="280800" cy="830160"/>
        </p:xfrm>
        <a:graphic>
          <a:graphicData uri="http://schemas.openxmlformats.org/drawingml/2006/table">
            <a:tbl>
              <a:tblPr/>
              <a:tblGrid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1474920" y="1413000"/>
            <a:ext cx="4321080" cy="503280"/>
          </a:xfrm>
          <a:prstGeom prst="wedgeRoundRectCallout">
            <a:avLst>
              <a:gd name="adj1" fmla="val -56574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1258920" y="2709720"/>
            <a:ext cx="5040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one number in each cel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755720" y="3327480"/>
                <a:ext cx="5421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sSubSup>
                          <m:e/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6227640" y="270972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4294080"/>
            <a:ext cx="5040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one number in each cel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6227640" y="425592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1332000" y="4938840"/>
                <a:ext cx="705960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l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=</m:t>
                        </m:r>
                        <m:sSubSup>
                          <m:e/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>
                            <m:r>
                              <m:t xml:space="preserve">∪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16FB-7056-4683-8078-4CC6E3138CB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39640" y="1917720"/>
          <a:ext cx="2952720" cy="3311640"/>
        </p:xfrm>
        <a:graphic>
          <a:graphicData uri="http://schemas.openxmlformats.org/drawingml/2006/table">
            <a:tbl>
              <a:tblPr/>
              <a:tblGrid>
                <a:gridCol w="739440"/>
                <a:gridCol w="740880"/>
                <a:gridCol w="735480"/>
                <a:gridCol w="736920"/>
              </a:tblGrid>
              <a:tr h="82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056120" y="1989000"/>
                <a:ext cx="10206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5573880" y="154476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5506200" y="981000"/>
            <a:ext cx="220788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1,1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1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3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4,3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4,4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041720" y="4724280"/>
                <a:ext cx="10224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5475240" y="3860640"/>
            <a:ext cx="182376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3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3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5162400" y="105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7812000" y="105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5162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826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5E61-B570-4DAA-8757-8F1FEA0C43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What is Sudoku 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130800" y="1663560"/>
          <a:ext cx="2689200" cy="2768760"/>
        </p:xfrm>
        <a:graphic>
          <a:graphicData uri="http://schemas.openxmlformats.org/drawingml/2006/table">
            <a:tbl>
              <a:tblPr/>
              <a:tblGrid>
                <a:gridCol w="298800"/>
                <a:gridCol w="298080"/>
                <a:gridCol w="299880"/>
                <a:gridCol w="299520"/>
                <a:gridCol w="296640"/>
                <a:gridCol w="298800"/>
                <a:gridCol w="300600"/>
                <a:gridCol w="297720"/>
                <a:gridCol w="2991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24000" y="1695600"/>
          <a:ext cx="2663640" cy="2728800"/>
        </p:xfrm>
        <a:graphic>
          <a:graphicData uri="http://schemas.openxmlformats.org/drawingml/2006/table">
            <a:tbl>
              <a:tblPr/>
              <a:tblGrid>
                <a:gridCol w="296640"/>
                <a:gridCol w="295560"/>
                <a:gridCol w="295200"/>
                <a:gridCol w="298440"/>
                <a:gridCol w="291960"/>
                <a:gridCol w="298440"/>
                <a:gridCol w="295200"/>
                <a:gridCol w="295560"/>
                <a:gridCol w="296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flipH="1">
            <a:off x="4571640" y="3032280"/>
            <a:ext cx="560520" cy="1368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03640" y="1665360"/>
            <a:ext cx="2663640" cy="1355760"/>
          </a:xfrm>
          <a:prstGeom prst="wedgeRoundRectCallout">
            <a:avLst>
              <a:gd name="adj1" fmla="val 13467"/>
              <a:gd name="adj2" fmla="val 7657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iven a problem, the objectvie is to find a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atisfying assignment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w.r.t. Sudoku rule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973080" y="12308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805440" y="11959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4833360" y="5302080"/>
            <a:ext cx="428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There is a number in each </a:t>
            </a:r>
            <a:r>
              <a:rPr b="1" lang="ko-KR" sz="1600" spc="-1" strike="noStrike">
                <a:solidFill>
                  <a:srgbClr val="000000"/>
                </a:solidFill>
                <a:latin typeface="Tahoma"/>
              </a:rPr>
              <a:t>cell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600" spc="-1" strike="noStrike">
                <a:solidFill>
                  <a:srgbClr val="000000"/>
                </a:solidFill>
                <a:latin typeface="Tahoma"/>
              </a:rPr>
              <a:t>row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600" spc="-1" strike="noStrike">
                <a:solidFill>
                  <a:srgbClr val="000000"/>
                </a:solidFill>
                <a:latin typeface="Tahoma"/>
              </a:rPr>
              <a:t>column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600" spc="-1" strike="noStrike">
                <a:solidFill>
                  <a:srgbClr val="000000"/>
                </a:solidFill>
                <a:latin typeface="Tahoma"/>
              </a:rPr>
              <a:t>block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915080" y="478836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Sodoku rul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BC0C-AC33-4E96-A622-E7210522D7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Row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1116000" y="2717640"/>
            <a:ext cx="5040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r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6084720" y="2747880"/>
            <a:ext cx="187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1116000" y="4302000"/>
            <a:ext cx="5256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r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6084720" y="4332240"/>
            <a:ext cx="187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619280" y="3327480"/>
                <a:ext cx="51386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sSubSup>
                          <m:e/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619280" y="4883040"/>
                <a:ext cx="71294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w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=</m:t>
                        </m:r>
                        <m:sSubSup>
                          <m:e/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>
                            <m:r>
                              <m:t xml:space="preserve">∪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40" name=""/>
          <p:cNvGraphicFramePr/>
          <p:nvPr/>
        </p:nvGraphicFramePr>
        <p:xfrm>
          <a:off x="973080" y="1555920"/>
          <a:ext cx="2519280" cy="552240"/>
        </p:xfrm>
        <a:graphic>
          <a:graphicData uri="http://schemas.openxmlformats.org/drawingml/2006/table">
            <a:tbl>
              <a:tblPr/>
              <a:tblGrid>
                <a:gridCol w="281160"/>
                <a:gridCol w="279360"/>
                <a:gridCol w="279360"/>
                <a:gridCol w="280800"/>
                <a:gridCol w="277920"/>
                <a:gridCol w="281160"/>
                <a:gridCol w="279360"/>
                <a:gridCol w="27936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3635280" y="1484280"/>
            <a:ext cx="4753080" cy="503280"/>
          </a:xfrm>
          <a:prstGeom prst="wedgeRoundRectCallout">
            <a:avLst>
              <a:gd name="adj1" fmla="val -55976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ro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CBED-047A-40B5-B368-EA9981BD5F4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39640" y="1917720"/>
          <a:ext cx="2952720" cy="3311640"/>
        </p:xfrm>
        <a:graphic>
          <a:graphicData uri="http://schemas.openxmlformats.org/drawingml/2006/table">
            <a:tbl>
              <a:tblPr/>
              <a:tblGrid>
                <a:gridCol w="739440"/>
                <a:gridCol w="740880"/>
                <a:gridCol w="735480"/>
                <a:gridCol w="736920"/>
              </a:tblGrid>
              <a:tr h="82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997440" y="1989000"/>
                <a:ext cx="10713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5573880" y="154476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550840" y="981000"/>
            <a:ext cx="285408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1,2,1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3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4,1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3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4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4,3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4,4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995640" y="4724280"/>
                <a:ext cx="10494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5475240" y="3860640"/>
            <a:ext cx="182376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3,1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4,1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3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4,1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3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5162400" y="105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547120" y="105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5162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826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E12E2-BA27-46C9-A3E5-F8E25B21169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olumn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1441440" y="2603520"/>
            <a:ext cx="5543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colum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6769080" y="260352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>
            <a:off x="1441440" y="4187880"/>
            <a:ext cx="5781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colum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6769080" y="418788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"/>
          <p:cNvSpPr/>
          <p:nvPr/>
        </p:nvSpPr>
        <p:spPr>
          <a:xfrm>
            <a:off x="-34920" y="36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932120" y="3228840"/>
                <a:ext cx="50958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sSubSup>
                          <m:e/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913040" y="4732200"/>
                <a:ext cx="70880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=</m:t>
                        </m:r>
                        <m:sSubSup>
                          <m:e/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>
                            <m:r>
                              <m:t xml:space="preserve">∪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61" name=""/>
          <p:cNvGraphicFramePr/>
          <p:nvPr/>
        </p:nvGraphicFramePr>
        <p:xfrm>
          <a:off x="612720" y="1414440"/>
          <a:ext cx="561960" cy="2489040"/>
        </p:xfrm>
        <a:graphic>
          <a:graphicData uri="http://schemas.openxmlformats.org/drawingml/2006/table">
            <a:tbl>
              <a:tblPr/>
              <a:tblGrid>
                <a:gridCol w="28116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1330200" y="1413000"/>
            <a:ext cx="4681800" cy="503280"/>
          </a:xfrm>
          <a:prstGeom prst="wedgeRoundRectCallout">
            <a:avLst>
              <a:gd name="adj1" fmla="val -56069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colum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D378-DAD2-46D8-89A5-5DF97A2383A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539640" y="1917720"/>
          <a:ext cx="2952720" cy="3311640"/>
        </p:xfrm>
        <a:graphic>
          <a:graphicData uri="http://schemas.openxmlformats.org/drawingml/2006/table">
            <a:tbl>
              <a:tblPr/>
              <a:tblGrid>
                <a:gridCol w="739440"/>
                <a:gridCol w="740880"/>
                <a:gridCol w="735480"/>
                <a:gridCol w="736920"/>
              </a:tblGrid>
              <a:tr h="82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095720" y="1989000"/>
                <a:ext cx="9669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5573880" y="154476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5506200" y="982800"/>
            <a:ext cx="220788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1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1,3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1,4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1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4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4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3,4,4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4094280" y="4724280"/>
                <a:ext cx="9428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5475240" y="3860640"/>
            <a:ext cx="182376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1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1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4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1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4,4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5162400" y="105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7812000" y="105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162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826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2997-1E30-4232-A063-C73435B8E3A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Block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611280" y="2424240"/>
            <a:ext cx="575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bloc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5724360" y="2424240"/>
            <a:ext cx="187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3933720"/>
            <a:ext cx="5781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bloc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5724360" y="3933720"/>
            <a:ext cx="187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-468360" y="36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-468360" y="367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-468360" y="36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757080" y="1301760"/>
          <a:ext cx="1682640" cy="830160"/>
        </p:xfrm>
        <a:graphic>
          <a:graphicData uri="http://schemas.openxmlformats.org/drawingml/2006/table">
            <a:tbl>
              <a:tblPr/>
              <a:tblGrid>
                <a:gridCol w="279360"/>
                <a:gridCol w="279360"/>
                <a:gridCol w="281160"/>
                <a:gridCol w="280800"/>
                <a:gridCol w="28116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973080" y="2855880"/>
                <a:ext cx="76312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loc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=</m:t>
                        </m:r>
                        <m:sSubSup>
                          <m:e/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</m:sup>
                        </m:sSubSup>
                        <m:sSubSup>
                          <m:e/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958680" y="4365720"/>
                <a:ext cx="8150400" cy="21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loc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=</m:t>
                        </m:r>
                        <m:sSubSup>
                          <m:e/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</m:sup>
                        </m:sSubSup>
                        <m:sSubSup>
                          <m:e/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/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/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¬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mod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e>
                          <m:e/>
                          <m:e/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</m:t>
                            </m:r>
                            <m:r>
                              <m:t xml:space="preserve">∨</m:t>
                            </m:r>
                            <m:r>
                              <m:t xml:space="preserve">¬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mod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e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</m:t>
                            </m:r>
                            <m:r>
                              <m:t xml:space="preserve">|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mod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V</m:t>
                            </m:r>
                          </m:e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</m:t>
                            </m:r>
                            <m:r>
                              <m:t xml:space="preserve">∧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mod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V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2627280" y="1268280"/>
            <a:ext cx="4465800" cy="503280"/>
          </a:xfrm>
          <a:prstGeom prst="wedgeRoundRectCallout">
            <a:avLst>
              <a:gd name="adj1" fmla="val -56361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16923-6DB4-4E73-909F-EE59AFE6119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539640" y="1917720"/>
          <a:ext cx="2952720" cy="3311640"/>
        </p:xfrm>
        <a:graphic>
          <a:graphicData uri="http://schemas.openxmlformats.org/drawingml/2006/table">
            <a:tbl>
              <a:tblPr/>
              <a:tblGrid>
                <a:gridCol w="739440"/>
                <a:gridCol w="740880"/>
                <a:gridCol w="735480"/>
                <a:gridCol w="736920"/>
              </a:tblGrid>
              <a:tr h="82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3914640" y="1989000"/>
                <a:ext cx="12542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5573880" y="154476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5550840" y="982800"/>
            <a:ext cx="285408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1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1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1,3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3,3,3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3,4,4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911760" y="4724280"/>
                <a:ext cx="12319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5475240" y="3860640"/>
            <a:ext cx="182376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1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4,4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>
            <a:off x="5162400" y="105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8603640" y="1052640"/>
            <a:ext cx="215640" cy="2305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>
            <a:off x="5162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826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07CE-B522-4655-AB6C-3C9DF516C34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Optimized Encoding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817560" y="2179800"/>
                <a:ext cx="78310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395280" y="1555920"/>
            <a:ext cx="482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The resulting CNF formul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395280" y="3213000"/>
            <a:ext cx="806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돋움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돋움"/>
              </a:rPr>
              <a:t>is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돋움"/>
              </a:rPr>
              <a:t>satisfi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돋움"/>
              </a:rPr>
              <a:t> iff Sudoku has a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돋움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395280" y="4270320"/>
            <a:ext cx="7993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Smaller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variables and clauses than previous encoding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>
            <a:off x="826920" y="4869000"/>
            <a:ext cx="7797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umber of variables are reduced 12 times on average in our experimen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>
            <a:off x="826920" y="5373720"/>
            <a:ext cx="7655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umber of clauses are reduced 79 times on average in our experimen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2B18-9432-4A7F-8ED1-C45C3E670BF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gend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Background and Previous Enco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Optimized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1798B-72CB-40BE-A5AE-98397A144E9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perimental Result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79280" y="1052640"/>
          <a:ext cx="8783640" cy="5543280"/>
        </p:xfrm>
        <a:graphic>
          <a:graphicData uri="http://schemas.openxmlformats.org/drawingml/2006/table">
            <a:tbl>
              <a:tblPr/>
              <a:tblGrid>
                <a:gridCol w="722520"/>
                <a:gridCol w="647640"/>
                <a:gridCol w="792000"/>
                <a:gridCol w="1008000"/>
                <a:gridCol w="648000"/>
                <a:gridCol w="792000"/>
                <a:gridCol w="936720"/>
                <a:gridCol w="647640"/>
                <a:gridCol w="646200"/>
                <a:gridCol w="647640"/>
                <a:gridCol w="647640"/>
                <a:gridCol w="647640"/>
              </a:tblGrid>
              <a:tr h="520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xtended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proposed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analysis of pre-assigned ce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x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76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x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07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4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4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59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0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4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9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5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5x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2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7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965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9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5x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2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9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13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7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x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717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1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759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4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x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717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7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53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6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9x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305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6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244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8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4x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2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30489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4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97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38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1x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607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779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60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9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244A-E424-48CD-BFB4-219217872DB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81x81 Puzz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547640" y="2967120"/>
          <a:ext cx="5546520" cy="426960"/>
        </p:xfrm>
        <a:graphic>
          <a:graphicData uri="http://schemas.openxmlformats.org/drawingml/2006/table">
            <a:tbl>
              <a:tblPr/>
              <a:tblGrid>
                <a:gridCol w="722160"/>
                <a:gridCol w="792360"/>
                <a:gridCol w="1008000"/>
                <a:gridCol w="647640"/>
                <a:gridCol w="792000"/>
                <a:gridCol w="936720"/>
                <a:gridCol w="6476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1x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607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779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60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2413080" y="2170080"/>
            <a:ext cx="3240000" cy="733320"/>
          </a:xfrm>
          <a:custGeom>
            <a:avLst/>
            <a:gdLst>
              <a:gd name="textAreaLeft" fmla="*/ 570240 w 3240000"/>
              <a:gd name="textAreaRight" fmla="*/ 2331360 w 324000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07" hR="21600" stAng="10800000" swAng="5400000"/>
                <a:lnTo>
                  <a:pt x="11739" y="0"/>
                </a:lnTo>
                <a:arcTo wR="7607" hR="21600" stAng="-5400000" swAng="2693290"/>
                <a:lnTo>
                  <a:pt x="21165" y="14400"/>
                </a:lnTo>
                <a:lnTo>
                  <a:pt x="17280" y="21600"/>
                </a:lnTo>
                <a:lnTo>
                  <a:pt x="12525" y="14400"/>
                </a:lnTo>
                <a:lnTo>
                  <a:pt x="14779" y="14400"/>
                </a:lnTo>
                <a:arcTo wR="7607" hR="21600" stAng="-2706710" swAng="-2352752"/>
                <a:lnTo>
                  <a:pt x="9673" y="812"/>
                </a:lnTo>
                <a:arcTo wR="7607" hR="21600" stAng="-5740538" swAng="-5059462"/>
                <a:close/>
              </a:path>
              <a:path fill="darkenLess" w="21600" h="21600">
                <a:moveTo>
                  <a:pt x="0" y="21600"/>
                </a:moveTo>
                <a:arcTo wR="7607" hR="21600" stAng="10800000" swAng="5400000"/>
                <a:lnTo>
                  <a:pt x="7607" y="0"/>
                </a:lnTo>
                <a:arcTo wR="7607" hR="21600" stAng="-5400000" swAng="340538"/>
                <a:lnTo>
                  <a:pt x="9673" y="812"/>
                </a:lnTo>
                <a:arcTo wR="7607" hR="21600" stAng="-5740538" swAng="-5059462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>
            <a:off x="3349800" y="3467160"/>
            <a:ext cx="3168360" cy="733320"/>
          </a:xfrm>
          <a:custGeom>
            <a:avLst/>
            <a:gdLst>
              <a:gd name="textAreaLeft" fmla="*/ 554400 w 3168360"/>
              <a:gd name="textAreaRight" fmla="*/ 2297160 w 316836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1908000" y="1716120"/>
            <a:ext cx="3743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riables are reduced 30 tim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>
            <a:off x="2919240" y="4259160"/>
            <a:ext cx="3668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Clauses are reduced 320 tim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6531120" y="2314440"/>
            <a:ext cx="56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BF4D-6588-4A09-9B78-C081CE893E7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Sudoku as SAT Problem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546200" y="2509920"/>
            <a:ext cx="1297080" cy="86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ncod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3625920" y="2532240"/>
            <a:ext cx="1297080" cy="83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AT Sol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6651720" y="2498760"/>
            <a:ext cx="1296720" cy="86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2885760" y="250020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CNF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2841480" y="292428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362560" y="2500200"/>
            <a:ext cx="863640" cy="8636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AT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203520" y="25002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336384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778360" y="328284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34920" y="27151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udoku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2914560" y="12675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ymbol tab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2266920" y="1525680"/>
            <a:ext cx="4537080" cy="973080"/>
          </a:xfrm>
          <a:custGeom>
            <a:avLst/>
            <a:gdLst/>
            <a:ahLst/>
            <a:rect l="l" t="t" r="r" b="b"/>
            <a:pathLst>
              <a:path w="3538" h="778">
                <a:moveTo>
                  <a:pt x="0" y="778"/>
                </a:moveTo>
                <a:cubicBezTo>
                  <a:pt x="117" y="540"/>
                  <a:pt x="234" y="302"/>
                  <a:pt x="680" y="189"/>
                </a:cubicBezTo>
                <a:cubicBezTo>
                  <a:pt x="1126" y="76"/>
                  <a:pt x="2200" y="0"/>
                  <a:pt x="2676" y="98"/>
                </a:cubicBezTo>
                <a:cubicBezTo>
                  <a:pt x="3152" y="196"/>
                  <a:pt x="3345" y="487"/>
                  <a:pt x="3538" y="77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4282920" y="2246400"/>
            <a:ext cx="2376720" cy="245880"/>
          </a:xfrm>
          <a:custGeom>
            <a:avLst/>
            <a:gdLst/>
            <a:ahLst/>
            <a:rect l="l" t="t" r="r" b="b"/>
            <a:pathLst>
              <a:path w="1134" h="159">
                <a:moveTo>
                  <a:pt x="0" y="159"/>
                </a:moveTo>
                <a:cubicBezTo>
                  <a:pt x="41" y="102"/>
                  <a:pt x="83" y="46"/>
                  <a:pt x="226" y="23"/>
                </a:cubicBezTo>
                <a:cubicBezTo>
                  <a:pt x="369" y="0"/>
                  <a:pt x="710" y="0"/>
                  <a:pt x="861" y="23"/>
                </a:cubicBezTo>
                <a:cubicBezTo>
                  <a:pt x="1012" y="46"/>
                  <a:pt x="1073" y="102"/>
                  <a:pt x="1134" y="15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19216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1114560" y="2924280"/>
            <a:ext cx="433080" cy="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4930920" y="29304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8317080" y="256392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5516640" y="364500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6227640" y="2924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7954920" y="2924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425340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No solution foun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7956720" y="3300840"/>
            <a:ext cx="11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olution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foun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F836E-3954-4C8D-ADCE-3B2DF32ACA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Variable Reductio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09680" y="965160"/>
            <a:ext cx="8123040" cy="584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4907-44E1-49EB-B01B-55DBF7BAE28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lause Reductio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632720" cy="555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8E18-FF05-4D85-9363-0FA6C841586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Time Reductio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819920" cy="56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4719A-87F2-4FCE-B295-5448C2F870B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Variable Reduction Ratio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6000" cy="561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DD6A-BE63-402A-B730-2265E75E145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lause Reduction Rati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7993080" cy="575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C65F-E2C8-449C-AEC5-D89FC72D240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gend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Background and Previous Enco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Optimized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0EB0-2443-4374-8E2E-4C732CA18D6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onclusion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900000" y="184464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J. Ouaknine, Sudoku as a SAT Problem, 200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900000" y="2349360"/>
            <a:ext cx="65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T. Weber, A SAT-based Sudoku Solver, 2005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395280" y="134136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Previous encoding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>
            <a:off x="900000" y="362268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+ Ideal encoding techniqu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>
            <a:off x="900000" y="4164120"/>
            <a:ext cx="65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+ Well used for small puzzl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>
            <a:off x="395280" y="311940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Props and c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>
            <a:off x="900000" y="4668840"/>
            <a:ext cx="65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Too many claus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900000" y="5207040"/>
            <a:ext cx="6985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Hard to handle large size puzzles such as 81x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282B-A3E4-4487-B6C7-B4EDAB3BDDF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onclusion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900000" y="1844640"/>
            <a:ext cx="6624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Optimized encoding used to reduce a formul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395280" y="134136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Proposed techniqu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900000" y="313992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+ All given puzzles are successfully solve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900000" y="3681360"/>
            <a:ext cx="65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+ Number of variables is greately reduce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395280" y="263700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Results from 11 different size puzzl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900000" y="4186080"/>
            <a:ext cx="65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+ Number of clauses is greately reduce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>
            <a:off x="900000" y="4724280"/>
            <a:ext cx="65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+ Execution time is greately reduce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900000" y="5265720"/>
            <a:ext cx="65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+ Finally, encoding time is greately reduce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940360" y="6021360"/>
            <a:ext cx="3132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ahoma"/>
              </a:rPr>
              <a:t>Thank You!!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7CF2-4E8F-40D9-8A67-7DC0C5F3764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Previous Encoding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546200" y="2509920"/>
            <a:ext cx="1297080" cy="86508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ncod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3625920" y="2532240"/>
            <a:ext cx="1297080" cy="83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AT Sol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6651720" y="2498760"/>
            <a:ext cx="1296720" cy="86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2885760" y="250020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CNF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2841480" y="292428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5362560" y="2500200"/>
            <a:ext cx="863640" cy="8636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AT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203520" y="25002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4920" y="27151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udoku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914560" y="12675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ymbol tab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2266920" y="1525680"/>
            <a:ext cx="4537080" cy="973080"/>
          </a:xfrm>
          <a:custGeom>
            <a:avLst/>
            <a:gdLst/>
            <a:ahLst/>
            <a:rect l="l" t="t" r="r" b="b"/>
            <a:pathLst>
              <a:path w="3538" h="778">
                <a:moveTo>
                  <a:pt x="0" y="778"/>
                </a:moveTo>
                <a:cubicBezTo>
                  <a:pt x="117" y="540"/>
                  <a:pt x="234" y="302"/>
                  <a:pt x="680" y="189"/>
                </a:cubicBezTo>
                <a:cubicBezTo>
                  <a:pt x="1126" y="76"/>
                  <a:pt x="2200" y="0"/>
                  <a:pt x="2676" y="98"/>
                </a:cubicBezTo>
                <a:cubicBezTo>
                  <a:pt x="3152" y="196"/>
                  <a:pt x="3345" y="487"/>
                  <a:pt x="3538" y="77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4282920" y="2246400"/>
            <a:ext cx="2376720" cy="245880"/>
          </a:xfrm>
          <a:custGeom>
            <a:avLst/>
            <a:gdLst/>
            <a:ahLst/>
            <a:rect l="l" t="t" r="r" b="b"/>
            <a:pathLst>
              <a:path w="1134" h="159">
                <a:moveTo>
                  <a:pt x="0" y="159"/>
                </a:moveTo>
                <a:cubicBezTo>
                  <a:pt x="41" y="102"/>
                  <a:pt x="83" y="46"/>
                  <a:pt x="226" y="23"/>
                </a:cubicBezTo>
                <a:cubicBezTo>
                  <a:pt x="369" y="0"/>
                  <a:pt x="710" y="0"/>
                  <a:pt x="861" y="23"/>
                </a:cubicBezTo>
                <a:cubicBezTo>
                  <a:pt x="1012" y="46"/>
                  <a:pt x="1073" y="102"/>
                  <a:pt x="1134" y="15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19216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1114560" y="2924280"/>
            <a:ext cx="433080" cy="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4930920" y="29304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8317080" y="256392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6227640" y="2924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7954920" y="2924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2268360" y="4259160"/>
            <a:ext cx="5616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Minimal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encoding  [Lynce &amp; Ouaknine, 2006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1908000" y="4835520"/>
            <a:ext cx="5616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Extended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encoding  [Lynce &amp; Ouaknine, 2006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5411880"/>
            <a:ext cx="576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Effici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encoding  [Weber, 2005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556000" y="3357360"/>
            <a:ext cx="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195640" y="3357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835280" y="3357720"/>
            <a:ext cx="0" cy="20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45FD-6735-4D97-9FFB-D1FD81DEA8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nalysis of Previous Encoding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95280" y="1484280"/>
          <a:ext cx="8353440" cy="4475160"/>
        </p:xfrm>
        <a:graphic>
          <a:graphicData uri="http://schemas.openxmlformats.org/drawingml/2006/table">
            <a:tbl>
              <a:tblPr/>
              <a:tblGrid>
                <a:gridCol w="1512720"/>
                <a:gridCol w="1584360"/>
                <a:gridCol w="5256360"/>
              </a:tblGrid>
              <a:tr h="78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nco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Number of Vari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Number of Clau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Min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xte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92400" y="2481120"/>
                <a:ext cx="41799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N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95640" y="4941720"/>
                <a:ext cx="41767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∗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92400" y="3705120"/>
                <a:ext cx="41799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N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∗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484360" y="2698920"/>
                <a:ext cx="39996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484360" y="3922560"/>
                <a:ext cx="3999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484360" y="5167440"/>
                <a:ext cx="3999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AA1D-E3C4-4781-AC0A-655608D6E8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ponential Growth in Claus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50920" y="1460520"/>
          <a:ext cx="3743280" cy="4178160"/>
        </p:xfrm>
        <a:graphic>
          <a:graphicData uri="http://schemas.openxmlformats.org/drawingml/2006/table">
            <a:tbl>
              <a:tblPr/>
              <a:tblGrid>
                <a:gridCol w="718920"/>
                <a:gridCol w="1008360"/>
                <a:gridCol w="1008000"/>
                <a:gridCol w="100800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mini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ffici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xten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x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24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3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39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5x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63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0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x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507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67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71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9x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473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2967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3039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4x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776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3034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30465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1x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37794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37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568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175280" y="1125360"/>
          <a:ext cx="5292720" cy="532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5280" y="1125360"/>
                    <a:ext cx="529272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B83B-B82E-48C5-BAE3-6320C2F57E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perimental Result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1120" y="1052640"/>
          <a:ext cx="8894880" cy="546732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830160"/>
                <a:gridCol w="1008360"/>
                <a:gridCol w="682560"/>
                <a:gridCol w="830160"/>
                <a:gridCol w="1008000"/>
                <a:gridCol w="647640"/>
                <a:gridCol w="792360"/>
                <a:gridCol w="1008000"/>
                <a:gridCol w="647640"/>
              </a:tblGrid>
              <a:tr h="391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minimal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fficient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xtended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x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85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x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85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25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3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4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25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3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4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5x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634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09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7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2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5x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6340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09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2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x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513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67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717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x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514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67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717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9x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4744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2979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305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4x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2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77908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2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30366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2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30489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1x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378346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41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607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559D-FD69-414C-9196-62EB98A9AB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perimental Result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1120" y="1052640"/>
          <a:ext cx="8894880" cy="545760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830160"/>
                <a:gridCol w="1008360"/>
                <a:gridCol w="682560"/>
                <a:gridCol w="830160"/>
                <a:gridCol w="1008000"/>
                <a:gridCol w="647640"/>
                <a:gridCol w="792360"/>
                <a:gridCol w="1008000"/>
                <a:gridCol w="647640"/>
              </a:tblGrid>
              <a:tr h="390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minimal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fficient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xtended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x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85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x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85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25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3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4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25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3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4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5x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634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09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7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2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5x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6340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09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2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x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513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67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717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x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514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67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717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9x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4744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2979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305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4x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2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77908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2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30366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2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30489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1x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378346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41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607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6084720" y="1989000"/>
            <a:ext cx="1008360" cy="1312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3421080" y="4365720"/>
            <a:ext cx="1079640" cy="1312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5575680"/>
            <a:ext cx="3024360" cy="947160"/>
          </a:xfrm>
          <a:prstGeom prst="rect">
            <a:avLst/>
          </a:prstGeom>
          <a:solidFill>
            <a:srgbClr val="eef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No solution fou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5292720" y="3056400"/>
            <a:ext cx="2592360" cy="947160"/>
          </a:xfrm>
          <a:prstGeom prst="rect">
            <a:avLst/>
          </a:prstGeom>
          <a:solidFill>
            <a:srgbClr val="eef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Solution fou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5C9E-EADA-48E2-84E9-AB80739250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2T09:01:49Z</dcterms:created>
  <dc:creator>권기현</dc:creator>
  <dc:description/>
  <dc:language>en-US</dc:language>
  <cp:lastModifiedBy>권기현</cp:lastModifiedBy>
  <dcterms:modified xsi:type="dcterms:W3CDTF">2006-09-27T20:14:15Z</dcterms:modified>
  <cp:revision>799</cp:revision>
  <dc:subject/>
  <dc:title>Temporal Logic Model Checking</dc:title>
</cp:coreProperties>
</file>