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C7EA4-0F91-4EC0-8CD5-332DDE6EC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7DEA5-F0A4-491A-A582-016CBDA07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1204-2A00-426C-B41F-09CB1619D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216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90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A852A-6AA4-4F50-91DC-4D98DBC47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A52E-2EF9-4AFD-A504-A5B0B20FF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216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790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E218-FFD7-4DFE-BAC2-8C653941B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F633-179B-4F74-A189-D7CE673D7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498D3-A984-47D8-A1CB-E8FB4E867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98344-CC1B-4932-B6E8-609079138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81F1D-2C3F-4DB5-B1BF-E6736AC2F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9B90A-FF32-4F14-8601-B53B9D13A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34F3C-F87B-4826-A718-4418F098F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667400" y="5562720"/>
            <a:ext cx="325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5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333cc"/>
                </a:solidFill>
                <a:latin typeface="HY엽서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F079-6B50-44A2-AE6D-E981495521A6}" type="slidenum"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639E-695B-488B-A348-E9D871B75A2C}" type="slidenum"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400440" y="6552720"/>
            <a:ext cx="2725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333cc"/>
                </a:solidFill>
                <a:latin typeface="HY엽서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32448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428640" y="3505320"/>
            <a:ext cx="2438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914400" cy="807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3333cc"/>
                </a:solidFill>
                <a:latin typeface="Tahoma"/>
              </a:rPr>
              <a:t>SAT Encodings for Sudoku</a:t>
            </a:r>
            <a:endParaRPr b="1" lang="en-US" sz="3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4038480"/>
            <a:ext cx="6705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Bug Catching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in 2006 F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Sep. 26,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Gi-Hwon Kw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Motivation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Sudoku was regarded as SAT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W Weber,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A SAT-based Sudoku Solver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, Nov. 200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Lynce &amp; Ouaknine,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Sudoku as a SAT Problem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, Jan. 200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xtended encoding shows the best performance in our experi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Problems in previous 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oo many clauses are generated (e.g. 85,056,804 claus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us, large size puzzles are not sol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 extended encoding must b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optimized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for large size puzz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Our objec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o propose a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optimizatio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for the extended encod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8300-A742-42D0-8666-A81D746E22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gend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</a:rPr>
              <a:t>Background and Previous Enco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Optimized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FD78-D3A0-4F89-B883-AEBE6463C3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468360" y="3789360"/>
          <a:ext cx="2519280" cy="2489040"/>
        </p:xfrm>
        <a:graphic>
          <a:graphicData uri="http://schemas.openxmlformats.org/drawingml/2006/table">
            <a:tbl>
              <a:tblPr/>
              <a:tblGrid>
                <a:gridCol w="281160"/>
                <a:gridCol w="279360"/>
                <a:gridCol w="279360"/>
                <a:gridCol w="280800"/>
                <a:gridCol w="277920"/>
                <a:gridCol w="281160"/>
                <a:gridCol w="279360"/>
                <a:gridCol w="279360"/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ncoding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Kowledge compilation into a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targe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Knowlede about Sudo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3203640" y="3716280"/>
            <a:ext cx="3457440" cy="360360"/>
          </a:xfrm>
          <a:prstGeom prst="wedgeRoundRectCallout">
            <a:avLst>
              <a:gd name="adj1" fmla="val -52893"/>
              <a:gd name="adj2" fmla="val -1475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400" spc="-1" strike="noStrike">
                <a:solidFill>
                  <a:srgbClr val="000000"/>
                </a:solidFill>
                <a:latin typeface="Tahoma"/>
              </a:rPr>
              <a:t>ce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2700360" y="3789360"/>
            <a:ext cx="28728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3203640" y="4292640"/>
            <a:ext cx="3457440" cy="360360"/>
          </a:xfrm>
          <a:prstGeom prst="wedgeRoundRectCallout">
            <a:avLst>
              <a:gd name="adj1" fmla="val -53120"/>
              <a:gd name="adj2" fmla="val -1695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400" spc="-1" strike="noStrike">
                <a:solidFill>
                  <a:srgbClr val="000000"/>
                </a:solidFill>
                <a:latin typeface="Tahoma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4365720"/>
            <a:ext cx="251928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4869000"/>
            <a:ext cx="3456000" cy="360360"/>
          </a:xfrm>
          <a:prstGeom prst="wedgeRoundRectCallout">
            <a:avLst>
              <a:gd name="adj1" fmla="val -53125"/>
              <a:gd name="adj2" fmla="val -2048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400" spc="-1" strike="noStrike">
                <a:solidFill>
                  <a:srgbClr val="000000"/>
                </a:solidFill>
                <a:latin typeface="Tahoma"/>
              </a:rPr>
              <a:t>c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3789360"/>
            <a:ext cx="287640" cy="25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3203640" y="5445000"/>
            <a:ext cx="3457440" cy="360360"/>
          </a:xfrm>
          <a:prstGeom prst="wedgeRoundRectCallout">
            <a:avLst>
              <a:gd name="adj1" fmla="val -53305"/>
              <a:gd name="adj2" fmla="val -947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400" spc="-1" strike="noStrike">
                <a:solidFill>
                  <a:srgbClr val="000000"/>
                </a:solidFill>
                <a:latin typeface="Tahoma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5445000"/>
            <a:ext cx="863640" cy="86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3203640" y="6021360"/>
            <a:ext cx="3457440" cy="360360"/>
          </a:xfrm>
          <a:prstGeom prst="wedgeRoundRectCallout">
            <a:avLst>
              <a:gd name="adj1" fmla="val -53351"/>
              <a:gd name="adj2" fmla="val -1872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A pre-assigned numbe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7162920" y="4540320"/>
            <a:ext cx="863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5987880"/>
            <a:ext cx="863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fac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732720" y="3860640"/>
            <a:ext cx="431640" cy="1800360"/>
          </a:xfrm>
          <a:custGeom>
            <a:avLst/>
            <a:gdLst>
              <a:gd name="textAreaLeft" fmla="*/ 0 w 431640"/>
              <a:gd name="textAreaRight" fmla="*/ 155880 w 431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804000" y="6093000"/>
            <a:ext cx="297000" cy="215640"/>
          </a:xfrm>
          <a:custGeom>
            <a:avLst/>
            <a:gdLst>
              <a:gd name="textAreaLeft" fmla="*/ 0 w 297000"/>
              <a:gd name="textAreaRight" fmla="*/ 107280 w 297000"/>
              <a:gd name="textAreaTop" fmla="*/ 5400 h 215640"/>
              <a:gd name="textAreaBottom" fmla="*/ 2102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8321040" y="45734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CNF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7997760" y="464652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8322480" y="6014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CNF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7999560" y="6087960"/>
            <a:ext cx="288720" cy="216000"/>
          </a:xfrm>
          <a:prstGeom prst="rightArrow">
            <a:avLst>
              <a:gd name="adj1" fmla="val 50000"/>
              <a:gd name="adj2" fmla="val 334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203832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1967040"/>
            <a:ext cx="93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CNF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1474920" y="1967040"/>
            <a:ext cx="2881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problem knowleg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1044720" y="6021360"/>
            <a:ext cx="28728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8B70-8E70-4A42-87C2-DCA42F598A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Glance at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CNF represented by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boolean variable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Literal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is a variable or its n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Claus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is a disjunction of liter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CNF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is a conjunction of cla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200240" y="1781280"/>
                <a:ext cx="14824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201680" y="3090960"/>
                <a:ext cx="3301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003640" y="1947960"/>
            <a:ext cx="360360" cy="257040"/>
          </a:xfrm>
          <a:prstGeom prst="rightArrow">
            <a:avLst>
              <a:gd name="adj1" fmla="val 50000"/>
              <a:gd name="adj2" fmla="val 350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513400" y="1557360"/>
                <a:ext cx="10159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5003640" y="3243240"/>
            <a:ext cx="360360" cy="257040"/>
          </a:xfrm>
          <a:prstGeom prst="rightArrow">
            <a:avLst>
              <a:gd name="adj1" fmla="val 50000"/>
              <a:gd name="adj2" fmla="val 350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508720" y="3114720"/>
                <a:ext cx="7966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031760" y="4373640"/>
                <a:ext cx="1978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∨</m:t>
                    </m:r>
                    <m:r>
                      <m:t xml:space="preserve">¬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5003640" y="4467240"/>
            <a:ext cx="360360" cy="257040"/>
          </a:xfrm>
          <a:prstGeom prst="rightArrow">
            <a:avLst>
              <a:gd name="adj1" fmla="val 50000"/>
              <a:gd name="adj2" fmla="val 350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516640" y="4325760"/>
                <a:ext cx="35193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or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or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5003640" y="5764320"/>
            <a:ext cx="360360" cy="257040"/>
          </a:xfrm>
          <a:prstGeom prst="rightArrow">
            <a:avLst>
              <a:gd name="adj1" fmla="val 50000"/>
              <a:gd name="adj2" fmla="val 350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965160" y="5597640"/>
                <a:ext cx="30211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r>
                      <m:t xml:space="preserve">¬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456160" y="5403960"/>
                <a:ext cx="3076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or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or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1F1B-3D6C-4D36-BA23-806A4E81C4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Variable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Each cell has one number from 1..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[1,1]=1  or  [1,1]=2 or …… or [1,1]=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cell needs N boolean variables to consider all c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Total number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ko-KR" sz="20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Boolean variable name as a tri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(r,c,v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ff   [r,c]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(r,c,v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ff   [r,c]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5506920" y="3575160"/>
            <a:ext cx="2521080" cy="2517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508720" y="3603600"/>
          <a:ext cx="2519280" cy="2489400"/>
        </p:xfrm>
        <a:graphic>
          <a:graphicData uri="http://schemas.openxmlformats.org/drawingml/2006/table">
            <a:tbl>
              <a:tblPr/>
              <a:tblGrid>
                <a:gridCol w="280800"/>
                <a:gridCol w="279720"/>
                <a:gridCol w="279360"/>
                <a:gridCol w="280800"/>
                <a:gridCol w="277920"/>
                <a:gridCol w="280800"/>
                <a:gridCol w="279360"/>
                <a:gridCol w="279720"/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 rot="2599800">
            <a:off x="8313480" y="2927520"/>
            <a:ext cx="288720" cy="934920"/>
          </a:xfrm>
          <a:custGeom>
            <a:avLst/>
            <a:gdLst>
              <a:gd name="textAreaLeft" fmla="*/ 0 w 288720"/>
              <a:gd name="textAreaRight" fmla="*/ 104040 w 2887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8531280" y="3359160"/>
            <a:ext cx="43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4248-C30A-47D7-9973-AE6244DDD7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Set Notatio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Indexed generalized disjunction and union oper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Re-definitions of clause and CNF using the oper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476360" y="2482920"/>
                <a:ext cx="48546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/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434960" y="4486320"/>
                <a:ext cx="29131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495440" y="3162240"/>
                <a:ext cx="5381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/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476360" y="5133960"/>
                <a:ext cx="31622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465200" y="1844640"/>
                <a:ext cx="23860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/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47D06-BB99-492F-B3B5-52DAD4DF26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Cell Rule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71640" y="1630440"/>
          <a:ext cx="280800" cy="2489040"/>
        </p:xfrm>
        <a:graphic>
          <a:graphicData uri="http://schemas.openxmlformats.org/drawingml/2006/table">
            <a:tbl>
              <a:tblPr/>
              <a:tblGrid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1474920" y="1557360"/>
            <a:ext cx="4321080" cy="503280"/>
          </a:xfrm>
          <a:prstGeom prst="wedgeRoundRectCallout">
            <a:avLst>
              <a:gd name="adj1" fmla="val -56574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1620720" y="2565360"/>
            <a:ext cx="5040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one number in each cel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266920" y="3182760"/>
                <a:ext cx="384984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d>
                      <m:dPr>
                        <m:begChr m:val="{"/>
                        <m:endChr m:val="}"/>
                      </m:dPr>
                      <m:e>
                        <m:sSubSup>
                          <m:e/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6589800" y="256536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defined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1620720" y="3933720"/>
            <a:ext cx="5040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mo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one number in each cel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6589800" y="389556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unique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214720" y="4543560"/>
                <a:ext cx="65721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/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Sup>
                      <m:e/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D733-9335-4092-8284-2737B7A2E0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Row Rule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2717640"/>
            <a:ext cx="5040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ro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300720" y="274788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defined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1332000" y="4086360"/>
            <a:ext cx="5256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mo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ro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300720" y="411624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unique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979640" y="3327480"/>
                <a:ext cx="36813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d>
                      <m:dPr>
                        <m:begChr m:val="{"/>
                        <m:endChr m:val="}"/>
                      </m:dPr>
                      <m:e>
                        <m:sSubSup>
                          <m:e/>
                          <m:sub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925640" y="4695840"/>
                <a:ext cx="650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/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Sup>
                      <m:e/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234" name=""/>
          <p:cNvGraphicFramePr/>
          <p:nvPr/>
        </p:nvGraphicFramePr>
        <p:xfrm>
          <a:off x="973080" y="1700280"/>
          <a:ext cx="2519280" cy="552240"/>
        </p:xfrm>
        <a:graphic>
          <a:graphicData uri="http://schemas.openxmlformats.org/drawingml/2006/table">
            <a:tbl>
              <a:tblPr/>
              <a:tblGrid>
                <a:gridCol w="281160"/>
                <a:gridCol w="279360"/>
                <a:gridCol w="279360"/>
                <a:gridCol w="280800"/>
                <a:gridCol w="277920"/>
                <a:gridCol w="281160"/>
                <a:gridCol w="279360"/>
                <a:gridCol w="279360"/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3635280" y="1628640"/>
            <a:ext cx="4753080" cy="503280"/>
          </a:xfrm>
          <a:prstGeom prst="wedgeRoundRectCallout">
            <a:avLst>
              <a:gd name="adj1" fmla="val -55976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ro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B735-1F71-4A70-864C-0C2006A0B2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Column Rule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476360" y="2603520"/>
            <a:ext cx="5543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colum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6804000" y="260352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defined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476360" y="3971880"/>
            <a:ext cx="5781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mo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colum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6804000" y="397188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unique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6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67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95640" y="3157560"/>
                <a:ext cx="36208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d>
                      <m:dPr>
                        <m:begChr m:val="{"/>
                        <m:endChr m:val="}"/>
                      </m:dPr>
                      <m:e>
                        <m:sSubSup>
                          <m:e/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190600" y="4621320"/>
                <a:ext cx="64389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/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Sup>
                      <m:e/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245" name=""/>
          <p:cNvGraphicFramePr/>
          <p:nvPr/>
        </p:nvGraphicFramePr>
        <p:xfrm>
          <a:off x="612720" y="1486080"/>
          <a:ext cx="561960" cy="2489040"/>
        </p:xfrm>
        <a:graphic>
          <a:graphicData uri="http://schemas.openxmlformats.org/drawingml/2006/table">
            <a:tbl>
              <a:tblPr/>
              <a:tblGrid>
                <a:gridCol w="281160"/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1330200" y="1484280"/>
            <a:ext cx="4681800" cy="503280"/>
          </a:xfrm>
          <a:prstGeom prst="wedgeRoundRectCallout">
            <a:avLst>
              <a:gd name="adj1" fmla="val -56069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colum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265F-DBDD-4516-B8CA-285ACF97EA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Block Rule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2781360"/>
            <a:ext cx="575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bloc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5724360" y="2781360"/>
            <a:ext cx="187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defined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4149720"/>
            <a:ext cx="5781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mo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bloc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5724360" y="4149720"/>
            <a:ext cx="187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unique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-468360" y="36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-468360" y="367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-468360" y="36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360" y="1590840"/>
          <a:ext cx="1682640" cy="830160"/>
        </p:xfrm>
        <a:graphic>
          <a:graphicData uri="http://schemas.openxmlformats.org/drawingml/2006/table">
            <a:tbl>
              <a:tblPr/>
              <a:tblGrid>
                <a:gridCol w="279360"/>
                <a:gridCol w="279360"/>
                <a:gridCol w="281160"/>
                <a:gridCol w="280800"/>
                <a:gridCol w="281160"/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041480" y="3319560"/>
                <a:ext cx="77421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loc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Sup>
                      <m:e/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ubN</m:t>
                        </m:r>
                      </m:sup>
                    </m:sSubSup>
                    <m:sSubSup>
                      <m:e/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ubN</m:t>
                        </m:r>
                      </m:sup>
                    </m:sSubSup>
                    <m:sSubSup>
                      <m:e/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009800" y="4648320"/>
                <a:ext cx="7821360" cy="13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loc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/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</m:sup>
                        </m:sSubSup>
                        <m:sSubSup>
                          <m:e/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/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/>
                          <m:sub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¬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mod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e>
                          <m:e/>
                          <m:e/>
                          <m:e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</m:t>
                            </m:r>
                            <m:r>
                              <m:t xml:space="preserve">∨</m:t>
                            </m:r>
                            <m:r>
                              <m:t xml:space="preserve">¬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mod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338560" y="1557360"/>
            <a:ext cx="4465440" cy="503280"/>
          </a:xfrm>
          <a:prstGeom prst="wedgeRoundRectCallout">
            <a:avLst>
              <a:gd name="adj1" fmla="val -56361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6AE1-FB3D-4B1F-8DC4-130F787891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gend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Background and Previous Enco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Optimized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B128-15BC-4F6D-8E7F-0CDCE42D5F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Pre-Assigned Fact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758880" y="1619280"/>
          <a:ext cx="1004760" cy="1035000"/>
        </p:xfrm>
        <a:graphic>
          <a:graphicData uri="http://schemas.openxmlformats.org/drawingml/2006/table">
            <a:tbl>
              <a:tblPr/>
              <a:tblGrid>
                <a:gridCol w="334800"/>
                <a:gridCol w="333360"/>
                <a:gridCol w="3366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727360" y="4492800"/>
                <a:ext cx="551664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 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 is a number of pre-assigned number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2268360" y="2387520"/>
            <a:ext cx="5975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As a constant; the number is never change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2268360" y="2963880"/>
            <a:ext cx="5975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t can be represented as a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unit clau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668680" y="3735360"/>
                <a:ext cx="53593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igned</m:t>
                    </m:r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∃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a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1978200" y="1630440"/>
            <a:ext cx="3241440" cy="503280"/>
          </a:xfrm>
          <a:prstGeom prst="wedgeRoundRectCallout">
            <a:avLst>
              <a:gd name="adj1" fmla="val -58763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pre-assigned numb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3492360" y="486900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C498-0249-43CB-A4CB-AB24498E32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Previous Encoding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395280" y="1341360"/>
            <a:ext cx="66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Minimal encoding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[Lynce &amp; Ouaknine, 2006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900000" y="2386080"/>
            <a:ext cx="662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sufficient to characterize the puzzl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971640" y="1916280"/>
                <a:ext cx="53006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loc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Assigne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971640" y="3571920"/>
                <a:ext cx="54655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ll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l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w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w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l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∪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loc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loc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∪</m:t>
                        </m:r>
                        <m:r>
                          <m:rPr>
                            <m:lit/>
                            <m:nor/>
                          </m:rPr>
                          <m:t xml:space="preserve">Assign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971640" y="5597640"/>
                <a:ext cx="61675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loc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Assigne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395280" y="3046320"/>
            <a:ext cx="698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Extended encoding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[Lynce &amp; Ouaknine, 2006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4402080"/>
            <a:ext cx="662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minimal encoding with redundant claus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5086440"/>
            <a:ext cx="698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Efficient encoding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[Weber, 2005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6059520"/>
            <a:ext cx="662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between minimal encoding and extended encod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2A353-A656-40F5-9A29-6109D59FBE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nalysis (Recap)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95280" y="1484280"/>
          <a:ext cx="8353440" cy="4475160"/>
        </p:xfrm>
        <a:graphic>
          <a:graphicData uri="http://schemas.openxmlformats.org/drawingml/2006/table">
            <a:tbl>
              <a:tblPr/>
              <a:tblGrid>
                <a:gridCol w="1512720"/>
                <a:gridCol w="1584360"/>
                <a:gridCol w="5256360"/>
              </a:tblGrid>
              <a:tr h="78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nco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Number of Vari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Number of Clau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Min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xte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992400" y="2481120"/>
                <a:ext cx="41799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∗</m:t>
                    </m:r>
                    <m:r>
                      <m:t xml:space="preserve">N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995640" y="4941720"/>
                <a:ext cx="41767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∗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992400" y="3705120"/>
                <a:ext cx="41799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∗</m:t>
                    </m:r>
                    <m:r>
                      <m:t xml:space="preserve">N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∗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484360" y="2698920"/>
                <a:ext cx="39996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84360" y="3922560"/>
                <a:ext cx="3999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484360" y="5167440"/>
                <a:ext cx="3999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434C-D705-4516-809E-CC3F85E304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gend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Background and Previous Enco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</a:rPr>
              <a:t>Optimized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AE1E-61EE-4920-AEA1-2AD3BE0595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755640" y="1484280"/>
          <a:ext cx="1368360" cy="1352520"/>
        </p:xfrm>
        <a:graphic>
          <a:graphicData uri="http://schemas.openxmlformats.org/drawingml/2006/table">
            <a:tbl>
              <a:tblPr/>
              <a:tblGrid>
                <a:gridCol w="343080"/>
                <a:gridCol w="342720"/>
                <a:gridCol w="341280"/>
                <a:gridCol w="341280"/>
              </a:tblGrid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2627280" y="198756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3490920" y="2387520"/>
            <a:ext cx="4537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s represented using boolean variabl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>
            <a:off x="3492360" y="1895400"/>
            <a:ext cx="93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CNF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3573360"/>
            <a:ext cx="86868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돋움"/>
              </a:rPr>
              <a:t>For example, consider the cell [1,1]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돋움"/>
              </a:rPr>
              <a:t>Four cases are considered; thus, four variables are neede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187280" y="4475160"/>
            <a:ext cx="381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(1,1,1), (1,1,2), (1,1,3), (1,1,4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5670-7528-4B9F-BA03-CF5FD04B1D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Variable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A pre-assigned cell reduces the cases to be consid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ecause the cell has a fixed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 pre-assigned cell does not need a variable at 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t affects other cells located at the same row, or column, or blo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For example , consider the cell [1,1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 case [1,1]=1 is not allowed since [4,1]=1 are already assig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 case [1,1]=3 is not allowed since [1,4]=3 are already assig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 case [1,1]=4 is not allowed since [1,3]=4 are already assig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us, the only case to be cosidered is [1,1]=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867280" y="5245200"/>
          <a:ext cx="1368720" cy="1352520"/>
        </p:xfrm>
        <a:graphic>
          <a:graphicData uri="http://schemas.openxmlformats.org/drawingml/2006/table">
            <a:tbl>
              <a:tblPr/>
              <a:tblGrid>
                <a:gridCol w="343080"/>
                <a:gridCol w="342720"/>
                <a:gridCol w="341280"/>
                <a:gridCol w="341640"/>
              </a:tblGrid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 flipH="1">
            <a:off x="5147640" y="5267160"/>
            <a:ext cx="431640" cy="308160"/>
          </a:xfrm>
          <a:prstGeom prst="rightArrow">
            <a:avLst>
              <a:gd name="adj1" fmla="val 50000"/>
              <a:gd name="adj2" fmla="val 350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4067280" y="5194440"/>
            <a:ext cx="122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(1,1,2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E191B-5352-49EB-8BBA-4756B27B52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Variable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ko-K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 be a set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700200" y="3002040"/>
                <a:ext cx="79372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ffected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ameRow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sameCol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sameBlock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84360" y="3589200"/>
                <a:ext cx="45734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meRow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∃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: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c</m:t>
                    </m:r>
                    <m:r>
                      <m:t xml:space="preserve">⇒</m:t>
                    </m:r>
                    <m:r>
                      <m:t xml:space="preserve">[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87240" y="4157640"/>
                <a:ext cx="44942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meCol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∃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: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r</m:t>
                    </m:r>
                    <m:r>
                      <m:t xml:space="preserve">⇒</m:t>
                    </m:r>
                    <m:r>
                      <m:t xml:space="preserve">[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08120" y="4734000"/>
                <a:ext cx="80740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meBlock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∃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originRow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ub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∃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originC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ub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r</m:t>
                    </m:r>
                    <m:r>
                      <m:t xml:space="preserve">∧</m:t>
                    </m:r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[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730080" y="2212920"/>
                <a:ext cx="78026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/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mpty</m:t>
                        </m:r>
                        <m:r>
                          <m:t xml:space="preserve">∧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affected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11E4-BAE7-455F-BE50-4EE394018A2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203640" y="1628640"/>
          <a:ext cx="3600360" cy="3816360"/>
        </p:xfrm>
        <a:graphic>
          <a:graphicData uri="http://schemas.openxmlformats.org/drawingml/2006/table">
            <a:tbl>
              <a:tblPr/>
              <a:tblGrid>
                <a:gridCol w="901800"/>
                <a:gridCol w="903240"/>
                <a:gridCol w="897120"/>
                <a:gridCol w="898200"/>
              </a:tblGrid>
              <a:tr h="95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3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826920" y="3068640"/>
                <a:ext cx="1189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2268360" y="1628640"/>
            <a:ext cx="503280" cy="3816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237440" y="1628640"/>
            <a:ext cx="503280" cy="3816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3203640" y="5950080"/>
            <a:ext cx="2736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these parts are exclud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570560" y="544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5165-2FC1-405F-9C0E-0BDE838BBA8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Cell Rule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971640" y="1486080"/>
          <a:ext cx="280800" cy="830160"/>
        </p:xfrm>
        <a:graphic>
          <a:graphicData uri="http://schemas.openxmlformats.org/drawingml/2006/table">
            <a:tbl>
              <a:tblPr/>
              <a:tblGrid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1474920" y="1413000"/>
            <a:ext cx="4321080" cy="503280"/>
          </a:xfrm>
          <a:prstGeom prst="wedgeRoundRectCallout">
            <a:avLst>
              <a:gd name="adj1" fmla="val -56574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1258920" y="2709720"/>
            <a:ext cx="5040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one number in each cel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755720" y="3327480"/>
                <a:ext cx="5421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d>
                      <m:dPr>
                        <m:begChr m:val="{"/>
                        <m:endChr m:val="}"/>
                      </m:dPr>
                      <m:e>
                        <m:sSubSup>
                          <m:e/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6227640" y="270972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defined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4294080"/>
            <a:ext cx="5040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mo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one number in each cel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6227640" y="425592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unique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1332000" y="4938840"/>
                <a:ext cx="705960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l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=</m:t>
                        </m:r>
                        <m:sSubSup>
                          <m:e/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>
                            <m:r>
                              <m:t xml:space="preserve">∪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69833-0C1B-45A0-B28A-5EB93AFBBE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39640" y="1917720"/>
          <a:ext cx="2952720" cy="3311640"/>
        </p:xfrm>
        <a:graphic>
          <a:graphicData uri="http://schemas.openxmlformats.org/drawingml/2006/table">
            <a:tbl>
              <a:tblPr/>
              <a:tblGrid>
                <a:gridCol w="739440"/>
                <a:gridCol w="740880"/>
                <a:gridCol w="735480"/>
                <a:gridCol w="736920"/>
              </a:tblGrid>
              <a:tr h="82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056120" y="1989000"/>
                <a:ext cx="10206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5573880" y="154476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5506200" y="981000"/>
            <a:ext cx="220788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1,1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1,2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2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2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3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2,2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4,3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4,4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041720" y="4724280"/>
                <a:ext cx="10224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5475240" y="3860640"/>
            <a:ext cx="182376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2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2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3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3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5162400" y="105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7812000" y="105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5162400" y="378792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826400" y="378792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23CF4-59F9-491D-B5F7-F03328A9FA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What is Sudoku 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130800" y="1663560"/>
          <a:ext cx="2689200" cy="2768760"/>
        </p:xfrm>
        <a:graphic>
          <a:graphicData uri="http://schemas.openxmlformats.org/drawingml/2006/table">
            <a:tbl>
              <a:tblPr/>
              <a:tblGrid>
                <a:gridCol w="298800"/>
                <a:gridCol w="298080"/>
                <a:gridCol w="299880"/>
                <a:gridCol w="299520"/>
                <a:gridCol w="296640"/>
                <a:gridCol w="298800"/>
                <a:gridCol w="300600"/>
                <a:gridCol w="297720"/>
                <a:gridCol w="2991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24000" y="1695600"/>
          <a:ext cx="2663640" cy="2728800"/>
        </p:xfrm>
        <a:graphic>
          <a:graphicData uri="http://schemas.openxmlformats.org/drawingml/2006/table">
            <a:tbl>
              <a:tblPr/>
              <a:tblGrid>
                <a:gridCol w="296640"/>
                <a:gridCol w="295560"/>
                <a:gridCol w="295200"/>
                <a:gridCol w="298440"/>
                <a:gridCol w="291960"/>
                <a:gridCol w="298440"/>
                <a:gridCol w="295200"/>
                <a:gridCol w="295560"/>
                <a:gridCol w="296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flipH="1">
            <a:off x="4571640" y="3032280"/>
            <a:ext cx="560520" cy="1368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03640" y="1665360"/>
            <a:ext cx="2663640" cy="1355760"/>
          </a:xfrm>
          <a:prstGeom prst="wedgeRoundRectCallout">
            <a:avLst>
              <a:gd name="adj1" fmla="val 13467"/>
              <a:gd name="adj2" fmla="val 7657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iven a problem, the objectvie is to find a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atisfying assignment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w.r.t. Sudoku rule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973080" y="12308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805440" y="11959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4833360" y="5302080"/>
            <a:ext cx="428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There is a number in each </a:t>
            </a:r>
            <a:r>
              <a:rPr b="1" lang="ko-KR" sz="1600" spc="-1" strike="noStrike">
                <a:solidFill>
                  <a:srgbClr val="000000"/>
                </a:solidFill>
                <a:latin typeface="Tahoma"/>
              </a:rPr>
              <a:t>cell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600" spc="-1" strike="noStrike">
                <a:solidFill>
                  <a:srgbClr val="000000"/>
                </a:solidFill>
                <a:latin typeface="Tahoma"/>
              </a:rPr>
              <a:t>row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600" spc="-1" strike="noStrike">
                <a:solidFill>
                  <a:srgbClr val="000000"/>
                </a:solidFill>
                <a:latin typeface="Tahoma"/>
              </a:rPr>
              <a:t>column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600" spc="-1" strike="noStrike">
                <a:solidFill>
                  <a:srgbClr val="000000"/>
                </a:solidFill>
                <a:latin typeface="Tahoma"/>
              </a:rPr>
              <a:t>block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915080" y="478836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Sodoku rul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AB6D-1F7C-4EA2-A5A9-5AEB83230C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Row Rule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1116000" y="2717640"/>
            <a:ext cx="5040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ro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6084720" y="2747880"/>
            <a:ext cx="187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defined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1116000" y="4302000"/>
            <a:ext cx="5256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mo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ro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6084720" y="4332240"/>
            <a:ext cx="187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unique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619280" y="3327480"/>
                <a:ext cx="51386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d>
                      <m:dPr>
                        <m:begChr m:val="{"/>
                        <m:endChr m:val="}"/>
                      </m:dPr>
                      <m:e>
                        <m:sSubSup>
                          <m:e/>
                          <m:sub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619280" y="4883040"/>
                <a:ext cx="71294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w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=</m:t>
                        </m:r>
                        <m:sSubSup>
                          <m:e/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>
                            <m:r>
                              <m:t xml:space="preserve">∪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40" name=""/>
          <p:cNvGraphicFramePr/>
          <p:nvPr/>
        </p:nvGraphicFramePr>
        <p:xfrm>
          <a:off x="973080" y="1555920"/>
          <a:ext cx="2519280" cy="552240"/>
        </p:xfrm>
        <a:graphic>
          <a:graphicData uri="http://schemas.openxmlformats.org/drawingml/2006/table">
            <a:tbl>
              <a:tblPr/>
              <a:tblGrid>
                <a:gridCol w="281160"/>
                <a:gridCol w="279360"/>
                <a:gridCol w="279360"/>
                <a:gridCol w="280800"/>
                <a:gridCol w="277920"/>
                <a:gridCol w="281160"/>
                <a:gridCol w="279360"/>
                <a:gridCol w="279360"/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3635280" y="1484280"/>
            <a:ext cx="4753080" cy="503280"/>
          </a:xfrm>
          <a:prstGeom prst="wedgeRoundRectCallout">
            <a:avLst>
              <a:gd name="adj1" fmla="val -55976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ro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A450-66A5-4AA7-88E1-CA483D98F4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39640" y="1917720"/>
          <a:ext cx="2952720" cy="3311640"/>
        </p:xfrm>
        <a:graphic>
          <a:graphicData uri="http://schemas.openxmlformats.org/drawingml/2006/table">
            <a:tbl>
              <a:tblPr/>
              <a:tblGrid>
                <a:gridCol w="739440"/>
                <a:gridCol w="740880"/>
                <a:gridCol w="735480"/>
                <a:gridCol w="736920"/>
              </a:tblGrid>
              <a:tr h="82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997440" y="1989000"/>
                <a:ext cx="10713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5573880" y="154476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550840" y="981000"/>
            <a:ext cx="285408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1,2,1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2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2,2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3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4,1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2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3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4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4,3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4,4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995640" y="4724280"/>
                <a:ext cx="10494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5475240" y="3860640"/>
            <a:ext cx="182376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2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3,1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4,1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3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4,1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3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5162400" y="105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8547120" y="105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5162400" y="378792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826400" y="378792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5BC2-E603-44AC-81BF-E2753FFD17B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Column Rule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1441440" y="2603520"/>
            <a:ext cx="5543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colum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6769080" y="260352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defined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>
            <a:off x="1441440" y="4187880"/>
            <a:ext cx="5781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mo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colum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6769080" y="418788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unique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"/>
          <p:cNvSpPr/>
          <p:nvPr/>
        </p:nvSpPr>
        <p:spPr>
          <a:xfrm>
            <a:off x="-34920" y="36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932120" y="3228840"/>
                <a:ext cx="50958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d>
                      <m:dPr>
                        <m:begChr m:val="{"/>
                        <m:endChr m:val="}"/>
                      </m:dPr>
                      <m:e>
                        <m:sSubSup>
                          <m:e/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913040" y="4732200"/>
                <a:ext cx="70880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=</m:t>
                        </m:r>
                        <m:sSubSup>
                          <m:e/>
                          <m:sub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>
                            <m:r>
                              <m:t xml:space="preserve">∪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61" name=""/>
          <p:cNvGraphicFramePr/>
          <p:nvPr/>
        </p:nvGraphicFramePr>
        <p:xfrm>
          <a:off x="612720" y="1414440"/>
          <a:ext cx="561960" cy="2489040"/>
        </p:xfrm>
        <a:graphic>
          <a:graphicData uri="http://schemas.openxmlformats.org/drawingml/2006/table">
            <a:tbl>
              <a:tblPr/>
              <a:tblGrid>
                <a:gridCol w="281160"/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1330200" y="1413000"/>
            <a:ext cx="4681800" cy="503280"/>
          </a:xfrm>
          <a:prstGeom prst="wedgeRoundRectCallout">
            <a:avLst>
              <a:gd name="adj1" fmla="val -56069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colum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2987E-8F58-4BD6-B7DB-3AFFC96C90B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539640" y="1917720"/>
          <a:ext cx="2952720" cy="3311640"/>
        </p:xfrm>
        <a:graphic>
          <a:graphicData uri="http://schemas.openxmlformats.org/drawingml/2006/table">
            <a:tbl>
              <a:tblPr/>
              <a:tblGrid>
                <a:gridCol w="739440"/>
                <a:gridCol w="740880"/>
                <a:gridCol w="735480"/>
                <a:gridCol w="736920"/>
              </a:tblGrid>
              <a:tr h="82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095720" y="1989000"/>
                <a:ext cx="9669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5573880" y="154476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5506200" y="982800"/>
            <a:ext cx="220788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3,1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2,1,3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2,1,4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3,1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2,4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3,4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3,4,4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4094280" y="4724280"/>
                <a:ext cx="9428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5475240" y="3860640"/>
            <a:ext cx="182376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3,1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3,1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4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3,1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3,4,4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5162400" y="105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7812000" y="105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162400" y="378792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826400" y="378792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4594F-3051-446B-B2CA-BCA69F875C6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Block Rule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611280" y="2424240"/>
            <a:ext cx="575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bloc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5724360" y="2424240"/>
            <a:ext cx="187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defined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3933720"/>
            <a:ext cx="5781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mo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bloc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5724360" y="3933720"/>
            <a:ext cx="187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unique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-468360" y="36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-468360" y="367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-468360" y="36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757080" y="1301760"/>
          <a:ext cx="1682640" cy="830160"/>
        </p:xfrm>
        <a:graphic>
          <a:graphicData uri="http://schemas.openxmlformats.org/drawingml/2006/table">
            <a:tbl>
              <a:tblPr/>
              <a:tblGrid>
                <a:gridCol w="279360"/>
                <a:gridCol w="279360"/>
                <a:gridCol w="281160"/>
                <a:gridCol w="280800"/>
                <a:gridCol w="281160"/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973080" y="2855880"/>
                <a:ext cx="76312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loc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=</m:t>
                        </m:r>
                        <m:sSubSup>
                          <m:e/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</m:sup>
                        </m:sSubSup>
                        <m:sSubSup>
                          <m:e/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958680" y="4365720"/>
                <a:ext cx="8150400" cy="21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loc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=</m:t>
                        </m:r>
                        <m:sSubSup>
                          <m:e/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</m:sup>
                        </m:sSubSup>
                        <m:sSubSup>
                          <m:e/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/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/>
                          <m:sub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¬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mod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e>
                          <m:e/>
                          <m:e/>
                          <m:e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</m:t>
                            </m:r>
                            <m:r>
                              <m:t xml:space="preserve">∨</m:t>
                            </m:r>
                            <m:r>
                              <m:t xml:space="preserve">¬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mod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e>
                          <m:e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</m:t>
                            </m:r>
                            <m:r>
                              <m:t xml:space="preserve">|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mod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V</m:t>
                            </m:r>
                          </m:e>
                          <m:e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</m:t>
                            </m:r>
                            <m:r>
                              <m:t xml:space="preserve">∧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mod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V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2627280" y="1268280"/>
            <a:ext cx="4465800" cy="503280"/>
          </a:xfrm>
          <a:prstGeom prst="wedgeRoundRectCallout">
            <a:avLst>
              <a:gd name="adj1" fmla="val -56361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33E2-940E-4061-BE57-181C6CA25B0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539640" y="1917720"/>
          <a:ext cx="2952720" cy="3311640"/>
        </p:xfrm>
        <a:graphic>
          <a:graphicData uri="http://schemas.openxmlformats.org/drawingml/2006/table">
            <a:tbl>
              <a:tblPr/>
              <a:tblGrid>
                <a:gridCol w="739440"/>
                <a:gridCol w="740880"/>
                <a:gridCol w="735480"/>
                <a:gridCol w="736920"/>
              </a:tblGrid>
              <a:tr h="82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3914640" y="1989000"/>
                <a:ext cx="12542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loc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5573880" y="154476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5550840" y="982800"/>
            <a:ext cx="285408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1,2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1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2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2,1,3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3,3,3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3,4,4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911760" y="4724280"/>
                <a:ext cx="12319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loc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5475240" y="3860640"/>
            <a:ext cx="182376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2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1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2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3,4,4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>
            <a:off x="5162400" y="105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8603640" y="1052640"/>
            <a:ext cx="215640" cy="2305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>
            <a:off x="5162400" y="378792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7826400" y="378792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7C98-88D5-4180-9A8F-688F5B7E9ED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Optimized Encoding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817560" y="2179800"/>
                <a:ext cx="78310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loc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loc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395280" y="1555920"/>
            <a:ext cx="482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The resulting CNF formul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395280" y="3213000"/>
            <a:ext cx="806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돋움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돋움"/>
              </a:rPr>
              <a:t>is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돋움"/>
              </a:rPr>
              <a:t>satisfi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돋움"/>
              </a:rPr>
              <a:t> iff Sudoku has a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돋움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395280" y="4270320"/>
            <a:ext cx="7993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Smaller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variables and clauses than previous encoding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>
            <a:off x="826920" y="4869000"/>
            <a:ext cx="7797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umber of variables are reduced 12 times on average in our experimen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>
            <a:off x="826920" y="5373720"/>
            <a:ext cx="7655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umber of clauses are reduced 79 times on average in our experimen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92D6-52C7-4642-B53A-0885578F856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gend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Background and Previous Enco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Optimized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B6D2-3282-45E8-9D86-723071ECA3C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perimental Result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79280" y="1052640"/>
          <a:ext cx="8783640" cy="5543280"/>
        </p:xfrm>
        <a:graphic>
          <a:graphicData uri="http://schemas.openxmlformats.org/drawingml/2006/table">
            <a:tbl>
              <a:tblPr/>
              <a:tblGrid>
                <a:gridCol w="722520"/>
                <a:gridCol w="647640"/>
                <a:gridCol w="792000"/>
                <a:gridCol w="1008000"/>
                <a:gridCol w="648000"/>
                <a:gridCol w="792000"/>
                <a:gridCol w="936720"/>
                <a:gridCol w="647640"/>
                <a:gridCol w="646200"/>
                <a:gridCol w="647640"/>
                <a:gridCol w="647640"/>
                <a:gridCol w="647640"/>
              </a:tblGrid>
              <a:tr h="520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xtended en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proposed en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analysis of pre-assigned ce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x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76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x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07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4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4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59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0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4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9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5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5x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27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76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965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9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5x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2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9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13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7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6x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717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18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759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4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6x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717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67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53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6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9x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305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6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244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8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4x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2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30489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44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97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38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1x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1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0607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779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60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9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877A-B4F1-49AB-9DE0-D55D19AB2FC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81x81 Puzz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547640" y="2967120"/>
          <a:ext cx="5546520" cy="426960"/>
        </p:xfrm>
        <a:graphic>
          <a:graphicData uri="http://schemas.openxmlformats.org/drawingml/2006/table">
            <a:tbl>
              <a:tblPr/>
              <a:tblGrid>
                <a:gridCol w="722160"/>
                <a:gridCol w="792360"/>
                <a:gridCol w="1008000"/>
                <a:gridCol w="647640"/>
                <a:gridCol w="792000"/>
                <a:gridCol w="936720"/>
                <a:gridCol w="6476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1x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1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0607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779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60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"/>
          <p:cNvSpPr/>
          <p:nvPr/>
        </p:nvSpPr>
        <p:spPr>
          <a:xfrm>
            <a:off x="2413080" y="2170080"/>
            <a:ext cx="3240000" cy="733320"/>
          </a:xfrm>
          <a:custGeom>
            <a:avLst/>
            <a:gdLst>
              <a:gd name="textAreaLeft" fmla="*/ 570240 w 3240000"/>
              <a:gd name="textAreaRight" fmla="*/ 2331360 w 324000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07" hR="21600" stAng="10800000" swAng="5400000"/>
                <a:lnTo>
                  <a:pt x="11739" y="0"/>
                </a:lnTo>
                <a:arcTo wR="7607" hR="21600" stAng="-5400000" swAng="2693290"/>
                <a:lnTo>
                  <a:pt x="21165" y="14400"/>
                </a:lnTo>
                <a:lnTo>
                  <a:pt x="17280" y="21600"/>
                </a:lnTo>
                <a:lnTo>
                  <a:pt x="12525" y="14400"/>
                </a:lnTo>
                <a:lnTo>
                  <a:pt x="14779" y="14400"/>
                </a:lnTo>
                <a:arcTo wR="7607" hR="21600" stAng="-2706710" swAng="-2352752"/>
                <a:lnTo>
                  <a:pt x="9673" y="812"/>
                </a:lnTo>
                <a:arcTo wR="7607" hR="21600" stAng="-5740538" swAng="-5059462"/>
                <a:close/>
              </a:path>
              <a:path fill="darkenLess" w="21600" h="21600">
                <a:moveTo>
                  <a:pt x="0" y="21600"/>
                </a:moveTo>
                <a:arcTo wR="7607" hR="21600" stAng="10800000" swAng="5400000"/>
                <a:lnTo>
                  <a:pt x="7607" y="0"/>
                </a:lnTo>
                <a:arcTo wR="7607" hR="21600" stAng="-5400000" swAng="340538"/>
                <a:lnTo>
                  <a:pt x="9673" y="812"/>
                </a:lnTo>
                <a:arcTo wR="7607" hR="21600" stAng="-5740538" swAng="-5059462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>
            <a:off x="3349800" y="3467160"/>
            <a:ext cx="3168360" cy="733320"/>
          </a:xfrm>
          <a:custGeom>
            <a:avLst/>
            <a:gdLst>
              <a:gd name="textAreaLeft" fmla="*/ 554400 w 3168360"/>
              <a:gd name="textAreaRight" fmla="*/ 2297160 w 316836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1908000" y="1716120"/>
            <a:ext cx="3743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riables are reduced 30 tim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>
            <a:off x="2919240" y="4259160"/>
            <a:ext cx="3668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Clauses are reduced 320 tim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6531120" y="2314440"/>
            <a:ext cx="56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3901-7B2C-4CD2-9104-3EFC7574AA3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Sudoku as SAT Problem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546200" y="2509920"/>
            <a:ext cx="1297080" cy="86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ncod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3625920" y="2532240"/>
            <a:ext cx="1297080" cy="83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AT Sol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6651720" y="2498760"/>
            <a:ext cx="1296720" cy="86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2885760" y="250020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CNF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2841480" y="292428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362560" y="2500200"/>
            <a:ext cx="863640" cy="8636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AT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203520" y="25002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336384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778360" y="328284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34920" y="27151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udoku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2914560" y="12675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ymbol tab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2266920" y="1525680"/>
            <a:ext cx="4537080" cy="973080"/>
          </a:xfrm>
          <a:custGeom>
            <a:avLst/>
            <a:gdLst/>
            <a:ahLst/>
            <a:rect l="l" t="t" r="r" b="b"/>
            <a:pathLst>
              <a:path w="3538" h="778">
                <a:moveTo>
                  <a:pt x="0" y="778"/>
                </a:moveTo>
                <a:cubicBezTo>
                  <a:pt x="117" y="540"/>
                  <a:pt x="234" y="302"/>
                  <a:pt x="680" y="189"/>
                </a:cubicBezTo>
                <a:cubicBezTo>
                  <a:pt x="1126" y="76"/>
                  <a:pt x="2200" y="0"/>
                  <a:pt x="2676" y="98"/>
                </a:cubicBezTo>
                <a:cubicBezTo>
                  <a:pt x="3152" y="196"/>
                  <a:pt x="3345" y="487"/>
                  <a:pt x="3538" y="77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4282920" y="2246400"/>
            <a:ext cx="2376720" cy="245880"/>
          </a:xfrm>
          <a:custGeom>
            <a:avLst/>
            <a:gdLst/>
            <a:ahLst/>
            <a:rect l="l" t="t" r="r" b="b"/>
            <a:pathLst>
              <a:path w="1134" h="159">
                <a:moveTo>
                  <a:pt x="0" y="159"/>
                </a:moveTo>
                <a:cubicBezTo>
                  <a:pt x="41" y="102"/>
                  <a:pt x="83" y="46"/>
                  <a:pt x="226" y="23"/>
                </a:cubicBezTo>
                <a:cubicBezTo>
                  <a:pt x="369" y="0"/>
                  <a:pt x="710" y="0"/>
                  <a:pt x="861" y="23"/>
                </a:cubicBezTo>
                <a:cubicBezTo>
                  <a:pt x="1012" y="46"/>
                  <a:pt x="1073" y="102"/>
                  <a:pt x="1134" y="15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19216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1114560" y="2924280"/>
            <a:ext cx="433080" cy="6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4930920" y="29304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8317080" y="256392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5516640" y="364500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6227640" y="2924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7954920" y="2924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425340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No solution foun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7956720" y="3300840"/>
            <a:ext cx="118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olution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foun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D37B-A919-417C-9C4C-F5E6682EA4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Variable Reductio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09680" y="965160"/>
            <a:ext cx="8123040" cy="584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84F7-96B3-44AF-B0B5-736F29A86C8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Clause Reductio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632720" cy="555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3254C-7762-4097-9A42-30E129EF096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Time Reductio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819920" cy="564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DC597-100B-42FB-AD3B-E01FA1627DE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Variable Reduction Ratio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6000" cy="561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B394-E8F5-4FBA-99AE-54913094D0B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Clause Reduction Rati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7993080" cy="575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086A-596D-4D4A-8C27-B11BFC76CCB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gend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Background and Previous Enco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Optimized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E084C-DEE9-4474-B16A-A67D26DA3D7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Conclusion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900000" y="1844640"/>
            <a:ext cx="66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J. Ouaknine, Sudoku as a SAT Problem, 200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900000" y="2349360"/>
            <a:ext cx="65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T. Weber, A SAT-based Sudoku Solver, 2005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395280" y="1341360"/>
            <a:ext cx="66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Previous encoding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>
            <a:off x="900000" y="3622680"/>
            <a:ext cx="66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+ Ideal encoding techniqu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>
            <a:off x="900000" y="4164120"/>
            <a:ext cx="65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+ Well used for small puzzl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>
            <a:off x="395280" y="3119400"/>
            <a:ext cx="66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Props and c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>
            <a:off x="900000" y="4668840"/>
            <a:ext cx="65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Too many claus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900000" y="5207040"/>
            <a:ext cx="6985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Hard to handle large size puzzles such as 81x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9A50-58C4-4FE4-9DF3-7FD98B9D0BB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Conclusion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900000" y="1844640"/>
            <a:ext cx="6624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Optimized encoding used to reduce a formul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395280" y="1341360"/>
            <a:ext cx="66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Proposed techniqu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900000" y="3139920"/>
            <a:ext cx="66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+ All given puzzles are successfully solve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900000" y="3681360"/>
            <a:ext cx="65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+ Number of variables is greately reduce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395280" y="2637000"/>
            <a:ext cx="66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Results from 11 different size puzzl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900000" y="4186080"/>
            <a:ext cx="65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+ Number of clauses is greately reduce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>
            <a:off x="900000" y="4724280"/>
            <a:ext cx="65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+ Execution time is greately reduce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900000" y="5265720"/>
            <a:ext cx="65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+ Finally, encoding time is greately reduce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940360" y="6021360"/>
            <a:ext cx="3132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ahoma"/>
              </a:rPr>
              <a:t>Thank You!!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9C34-ACDB-4E53-9D47-F26D1B3D4C7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Previous Encoding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546200" y="2509920"/>
            <a:ext cx="1297080" cy="86508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ncod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3625920" y="2532240"/>
            <a:ext cx="1297080" cy="83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AT Sol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6651720" y="2498760"/>
            <a:ext cx="1296720" cy="86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2885760" y="250020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CNF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2841480" y="292428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5362560" y="2500200"/>
            <a:ext cx="863640" cy="8636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AT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203520" y="25002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4920" y="27151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udoku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914560" y="12675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ymbol tab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2266920" y="1525680"/>
            <a:ext cx="4537080" cy="973080"/>
          </a:xfrm>
          <a:custGeom>
            <a:avLst/>
            <a:gdLst/>
            <a:ahLst/>
            <a:rect l="l" t="t" r="r" b="b"/>
            <a:pathLst>
              <a:path w="3538" h="778">
                <a:moveTo>
                  <a:pt x="0" y="778"/>
                </a:moveTo>
                <a:cubicBezTo>
                  <a:pt x="117" y="540"/>
                  <a:pt x="234" y="302"/>
                  <a:pt x="680" y="189"/>
                </a:cubicBezTo>
                <a:cubicBezTo>
                  <a:pt x="1126" y="76"/>
                  <a:pt x="2200" y="0"/>
                  <a:pt x="2676" y="98"/>
                </a:cubicBezTo>
                <a:cubicBezTo>
                  <a:pt x="3152" y="196"/>
                  <a:pt x="3345" y="487"/>
                  <a:pt x="3538" y="77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4282920" y="2246400"/>
            <a:ext cx="2376720" cy="245880"/>
          </a:xfrm>
          <a:custGeom>
            <a:avLst/>
            <a:gdLst/>
            <a:ahLst/>
            <a:rect l="l" t="t" r="r" b="b"/>
            <a:pathLst>
              <a:path w="1134" h="159">
                <a:moveTo>
                  <a:pt x="0" y="159"/>
                </a:moveTo>
                <a:cubicBezTo>
                  <a:pt x="41" y="102"/>
                  <a:pt x="83" y="46"/>
                  <a:pt x="226" y="23"/>
                </a:cubicBezTo>
                <a:cubicBezTo>
                  <a:pt x="369" y="0"/>
                  <a:pt x="710" y="0"/>
                  <a:pt x="861" y="23"/>
                </a:cubicBezTo>
                <a:cubicBezTo>
                  <a:pt x="1012" y="46"/>
                  <a:pt x="1073" y="102"/>
                  <a:pt x="1134" y="15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19216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1114560" y="2924280"/>
            <a:ext cx="433080" cy="6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4930920" y="29304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8317080" y="256392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6227640" y="2924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7954920" y="2924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2268360" y="4259160"/>
            <a:ext cx="5616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Minimal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encoding  [Lynce &amp; Ouaknine, 2006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1908000" y="4835520"/>
            <a:ext cx="5616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Extended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encoding  [Lynce &amp; Ouaknine, 2006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1547640" y="5411880"/>
            <a:ext cx="576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Effici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encoding  [Weber, 2005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556000" y="3357360"/>
            <a:ext cx="0" cy="93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195640" y="3357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835280" y="3357720"/>
            <a:ext cx="0" cy="20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31DD-513E-418E-96D8-C5454493BD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nalysis of Previous Encoding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95280" y="1484280"/>
          <a:ext cx="8353440" cy="4475160"/>
        </p:xfrm>
        <a:graphic>
          <a:graphicData uri="http://schemas.openxmlformats.org/drawingml/2006/table">
            <a:tbl>
              <a:tblPr/>
              <a:tblGrid>
                <a:gridCol w="1512720"/>
                <a:gridCol w="1584360"/>
                <a:gridCol w="5256360"/>
              </a:tblGrid>
              <a:tr h="78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nco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Number of Vari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Number of Clau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Min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xte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92400" y="2481120"/>
                <a:ext cx="41799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∗</m:t>
                    </m:r>
                    <m:r>
                      <m:t xml:space="preserve">N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995640" y="4941720"/>
                <a:ext cx="41767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∗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992400" y="3705120"/>
                <a:ext cx="41799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∗</m:t>
                    </m:r>
                    <m:r>
                      <m:t xml:space="preserve">N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∗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484360" y="2698920"/>
                <a:ext cx="39996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484360" y="3922560"/>
                <a:ext cx="3999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484360" y="5167440"/>
                <a:ext cx="3999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024F-9785-4A9C-8DDA-5A24F03FC7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ponential Growth in Clause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50920" y="1460520"/>
          <a:ext cx="3743280" cy="4178160"/>
        </p:xfrm>
        <a:graphic>
          <a:graphicData uri="http://schemas.openxmlformats.org/drawingml/2006/table">
            <a:tbl>
              <a:tblPr/>
              <a:tblGrid>
                <a:gridCol w="718920"/>
                <a:gridCol w="1008360"/>
                <a:gridCol w="1008000"/>
                <a:gridCol w="100800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mini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ffici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xten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x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9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24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3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39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5x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63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0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2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6x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507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67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71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9x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473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2967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3039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4x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776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3034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30465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1x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37794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037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0568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175280" y="1125360"/>
          <a:ext cx="5292720" cy="532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5280" y="1125360"/>
                    <a:ext cx="529272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ABE29-9366-4C1C-BE7C-009E2BD32E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perimental Result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1120" y="1052640"/>
          <a:ext cx="8894880" cy="546732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  <a:gridCol w="830160"/>
                <a:gridCol w="1008360"/>
                <a:gridCol w="682560"/>
                <a:gridCol w="830160"/>
                <a:gridCol w="1008000"/>
                <a:gridCol w="647640"/>
                <a:gridCol w="792360"/>
                <a:gridCol w="1008000"/>
                <a:gridCol w="647640"/>
              </a:tblGrid>
              <a:tr h="391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minimal en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fficient en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xtended en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x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85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x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85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25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3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4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25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3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4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5x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634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09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7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27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5x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6340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09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2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6x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513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67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717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6x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514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678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717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9x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4744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2979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305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4x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2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77908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2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30366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2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30489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1x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1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378346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1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041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1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0607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C707-71BD-4E35-9251-1608DA4642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perimental Result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1120" y="1052640"/>
          <a:ext cx="8894880" cy="545760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  <a:gridCol w="830160"/>
                <a:gridCol w="1008360"/>
                <a:gridCol w="682560"/>
                <a:gridCol w="830160"/>
                <a:gridCol w="1008000"/>
                <a:gridCol w="647640"/>
                <a:gridCol w="792360"/>
                <a:gridCol w="1008000"/>
                <a:gridCol w="647640"/>
              </a:tblGrid>
              <a:tr h="390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minimal en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fficient en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xtended en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x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85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x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85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25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3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4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25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3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4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5x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634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09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7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27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5x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6340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09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2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6x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513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67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717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6x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514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678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717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9x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4744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2979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305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4x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2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77908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2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30366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2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30489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1x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1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378346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1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041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1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0607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6084720" y="1989000"/>
            <a:ext cx="1008360" cy="1312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3421080" y="4365720"/>
            <a:ext cx="1079640" cy="1312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5575680"/>
            <a:ext cx="3024360" cy="947160"/>
          </a:xfrm>
          <a:prstGeom prst="rect">
            <a:avLst/>
          </a:prstGeom>
          <a:solidFill>
            <a:srgbClr val="eef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No solution fou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5292720" y="3056400"/>
            <a:ext cx="2592360" cy="947160"/>
          </a:xfrm>
          <a:prstGeom prst="rect">
            <a:avLst/>
          </a:prstGeom>
          <a:solidFill>
            <a:srgbClr val="eef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Solution fou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C7267-5548-4D0E-B450-1AA08BA393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2T09:01:49Z</dcterms:created>
  <dc:creator>권기현</dc:creator>
  <dc:description/>
  <dc:language>en-US</dc:language>
  <cp:lastModifiedBy>권기현</cp:lastModifiedBy>
  <dcterms:modified xsi:type="dcterms:W3CDTF">2006-09-27T20:14:15Z</dcterms:modified>
  <cp:revision>799</cp:revision>
  <dc:subject/>
  <dc:title>Temporal Logic Model Checking</dc:title>
</cp:coreProperties>
</file>