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520-FA6B-4E27-AFAB-5A628891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99A-E94D-4EDC-BE2C-C6EDC98F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A03-8C59-49F7-AD83-EE901D35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7EB-8291-4EFA-BFB7-641B5152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6F1E-A718-4B1A-95AD-19D4F5D2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3BF4-67FC-4A04-A491-67E865F0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3043-8B10-407E-B0EB-5C6F19EA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72D1-8FAB-4731-9036-6D160C71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C38E-CEAC-4671-B6FB-05D1F54B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38CF-ECE5-4430-ABC6-4ED4BD36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8CD0-23D0-4050-BC76-B1ACFDBA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E07-74D7-46ED-BA36-3E9D9920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3A47-5F07-46AA-B3BD-9BBC8A63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7341-37BE-46AB-8080-F64F86A1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2429-005A-4073-B7C1-A7191C72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1A0E-C365-4D2E-BD8B-64C2480D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77BA-5AEF-4EEE-95AF-D9E5A256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B8E-62B2-4FC3-B293-9BC6FB3F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3A4-F573-45EC-8382-CE53D0E0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59A-19F9-41C0-9CF0-C66AAE18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CC4-CAED-4678-8FD6-705D2F86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A4D-FFE4-4401-8ED1-4C6E8819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DB9-9BE8-4DCB-9183-58FB0DD8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820-9171-4F60-854D-F412B7CE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4E9C-C7F8-4902-B5E0-75FE7F969C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769C-F4A0-4E8A-9DED-62634B4B02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iSAT: World fastest SAT solver (2005 and 200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klas Sorensson, Niklas Een and Armin Bi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ing: Tamir Heyma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slides are from Niklas Sorensson pres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69280" y="450864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89080" y="4941720"/>
            <a:ext cx="20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89080" y="4941720"/>
            <a:ext cx="20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 Minimiz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 Conflict Analysis is minimal in the number of deri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lance between time spent and usefulness of the conflict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shorter clause always bet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Basic Conflict Minimiz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from an ordinary conflict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resolution greed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 because there are no cyclic depend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uses antecedent clauses from other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y cheap, almost for 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62080" y="49417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13840" y="534816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62080" y="49417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TimeLin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611360" y="4616280"/>
            <a:ext cx="7137360" cy="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8112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4956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4389480"/>
            <a:ext cx="19044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51640" y="4389480"/>
            <a:ext cx="18864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4364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6228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3640" y="4389480"/>
            <a:ext cx="189000" cy="453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8360" y="4437000"/>
            <a:ext cx="190440" cy="452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71600" y="5032440"/>
            <a:ext cx="130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96320" y="5032440"/>
            <a:ext cx="130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22640" y="4879800"/>
            <a:ext cx="144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ålmar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88680" y="2205000"/>
            <a:ext cx="107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4320" y="2295360"/>
            <a:ext cx="10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84360" y="2297160"/>
            <a:ext cx="179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C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97080" y="2276640"/>
            <a:ext cx="118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nni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06400" y="5032440"/>
            <a:ext cx="116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29080" y="5032440"/>
            <a:ext cx="122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79960" y="3286080"/>
            <a:ext cx="107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96080" y="4416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068640"/>
            <a:ext cx="129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ni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DPLL SAT Solving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Learning in SAT Solver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nflict happens when one clause is falsified by uni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the conflict to infer a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clause is a logical consequence of th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ferred clause is a new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 Claus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erred by conflict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prune future parts of the search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ly drives back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lict Clause Requir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quence of the clause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lsified by current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s exactly one literal implied by last assum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 Analysis Algorithm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 with conflicting clau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lve on the most recently propagated lit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the antecedent as side cl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eat until the clause contains exactly one literal from the last assum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8280" y="35672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20:14:24Z</dcterms:created>
  <dc:creator>tamirh heyman</dc:creator>
  <dc:description/>
  <dc:language>en-US</dc:language>
  <cp:lastModifiedBy>tamirh heyman</cp:lastModifiedBy>
  <dcterms:modified xsi:type="dcterms:W3CDTF">2006-10-03T18:25:35Z</dcterms:modified>
  <cp:revision>20</cp:revision>
  <dc:subject/>
  <dc:title>Chaff: Engineering an Efficient SAT Solver</dc:title>
</cp:coreProperties>
</file>