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EF7-12B7-4A09-A591-45AC8E93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BB5-87DF-481A-AB56-BE980685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928-600B-46EA-899E-3310BEA5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E45-0C5C-4D8E-A600-DA296DA1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015B-2363-44D4-83FE-AF4DA67E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AE39-4A26-4157-BF59-261C0203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931C-7A3E-4639-A28B-4B450E6B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6D9D-B47D-4F09-91BB-141D1BE4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907F-154E-4BDC-9392-37BBADDE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D427-F38E-4B04-939E-3797DA7C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5AFE-2092-465A-9D26-BB630B0B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0BF-D9ED-4C6E-B2DD-3FE330A2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A837-79AF-4BCA-A1FD-02972580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F7B5-3C43-4274-A48B-555F63A0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6A72-33F5-4A8C-AFBA-AC72AD75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DD1D-C15A-4C30-A104-F2B78AAF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1945-2400-4828-802A-4A61A170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B67-113B-4DCF-AD9A-F0039ABC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D71-CDB3-406B-B58E-BC236E27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40F-0171-4C10-A651-1D1F8320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65D-F735-47F9-A477-1CCF457E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AC9-93C7-40C5-849D-8692BE1B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04B-A8F5-4C60-BAC1-94FC3213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1C1-8651-4E28-88C6-9876B4C5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5424-47D3-489D-B748-1E254C9485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FDEF-63F4-46A5-B1C9-387C1EF808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iSAT: World fastest SAT solver (2005 and 200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klas Sorensson, Niklas Een and Armin Bi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ing: Tamir Heyma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slides are from Niklas Sorensson pres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69280" y="450864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89080" y="4941720"/>
            <a:ext cx="20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89080" y="4941720"/>
            <a:ext cx="20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 Minimiz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 Conflict Analysis is minimal in the number of deri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lance between time spent and usefulness of the conflict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shorter clause always bet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Basic Conflict Minimiz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from an ordinary conflict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resolution greed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 because there are no cyclic depend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uses antecedent clauses from other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y cheap, almost for 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62080" y="49417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96760" y="3213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13840" y="534816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62080" y="494172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TimeLin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611360" y="4616280"/>
            <a:ext cx="7137360" cy="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8112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4956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4389480"/>
            <a:ext cx="19044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51640" y="4389480"/>
            <a:ext cx="18864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4364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6228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3640" y="4389480"/>
            <a:ext cx="189000" cy="453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4389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8360" y="4437000"/>
            <a:ext cx="190440" cy="452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71600" y="5032440"/>
            <a:ext cx="130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96320" y="5032440"/>
            <a:ext cx="130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22640" y="4879800"/>
            <a:ext cx="144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ålmar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88680" y="2205000"/>
            <a:ext cx="107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4320" y="2295360"/>
            <a:ext cx="109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84360" y="2297160"/>
            <a:ext cx="179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C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97080" y="2276640"/>
            <a:ext cx="118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nni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06400" y="5032440"/>
            <a:ext cx="116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29080" y="5032440"/>
            <a:ext cx="122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79960" y="3286080"/>
            <a:ext cx="107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96080" y="4416480"/>
            <a:ext cx="189000" cy="452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068640"/>
            <a:ext cx="129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ni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k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DPLL SAT Solving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Learning in SAT Solver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nflict happens when one clause is falsified by uni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the conflict to infer a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clause is a logical consequence of th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ferred clause is a new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 Claus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erred by conflict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lps prune future parts of the search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ly drives back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lict Clause Requir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quence of the clause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lsified by current assig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s exactly one literal implied by last assum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flict Analysis Algorithm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 with conflicting clau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lve on the most recently propagated lit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the antecedent as side cl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eat until the clause contains exactly one literal from the last assum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8280" y="35672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0000" y="2011320"/>
          <a:ext cx="4127760" cy="4657680"/>
        </p:xfrm>
        <a:graphic>
          <a:graphicData uri="http://schemas.openxmlformats.org/drawingml/2006/table">
            <a:tbl>
              <a:tblPr/>
              <a:tblGrid>
                <a:gridCol w="2152800"/>
                <a:gridCol w="1974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ign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tece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f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¬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=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¬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_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 flipH="1">
            <a:off x="6877080" y="22050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2852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95800" y="2144880"/>
            <a:ext cx="6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1360" y="320976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05640" y="4060800"/>
            <a:ext cx="16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69280" y="450864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20:14:24Z</dcterms:created>
  <dc:creator>tamirh heyman</dc:creator>
  <dc:description/>
  <dc:language>en-US</dc:language>
  <cp:lastModifiedBy>tamirh heyman</cp:lastModifiedBy>
  <dcterms:modified xsi:type="dcterms:W3CDTF">2006-10-03T18:25:35Z</dcterms:modified>
  <cp:revision>20</cp:revision>
  <dc:subject/>
  <dc:title>Chaff: Engineering an Efficient SAT Solver</dc:title>
</cp:coreProperties>
</file>