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C35-A950-45A8-9F39-833B3B92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5AB-5FD8-4AC4-987E-3478ACF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EC2-2076-404C-B3CA-2CF90649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FF0-1D89-4ABF-8C7C-AF02FE1A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B98C-8FB5-4F21-85A1-F795405C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2AC4-C1D9-46B4-A250-C75B7DFE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296-9093-426A-AD42-DD55AC86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C85-83FD-42C4-BADA-2D483BFE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7EC-587A-4224-BF09-AC48CEFE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D8F8-A377-4446-823A-B0B0002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8657-61AC-42CD-A413-7B33844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0B3-BDFF-46A3-ACDC-06A1CA3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96CD-C7F8-4C4F-A2ED-53A83A3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7439-036A-4917-837F-A6AB4A7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2670-8C12-48D3-BD14-C906E761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3063-ECC6-4E70-BB99-57AC0FEB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3EF1-3ED3-44F1-9069-892D7899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9E9-C883-43E3-B35F-57526AF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DA0-4DC6-4DC3-8B23-7F580DC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7BF-7774-426E-970B-A34B4D67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E0E-414C-42FF-BAC7-379091A7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E59-FEB9-4557-A69F-28DDCA13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A26-4F70-4DDC-9EDD-0C0723F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2FC-5738-443D-AB9E-43E61EE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D506-3B06-4777-9502-4CCC464DE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D6B6-D308-4FA2-9D6D-A08FAEAC73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SAT: World fastest SAT solver (2005 and 200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las Sorensson, Niklas Een and Armin B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ing: Tamir Heym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lides are from Niklas Sorensson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9280" y="450864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Conflict Analysis is minimal in the number of der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between time spent and usefulness of the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horter clause always be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Basic 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from an ordinary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resolution greed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because there are no cyclic depend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s antecedent clauses from other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cheap, almost for 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6208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13840" y="534816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6208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ime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11360" y="4616280"/>
            <a:ext cx="713736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112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4956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389480"/>
            <a:ext cx="1904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4389480"/>
            <a:ext cx="1886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6228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4389480"/>
            <a:ext cx="189000" cy="453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4437000"/>
            <a:ext cx="190440" cy="452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7160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632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22640" y="4879800"/>
            <a:ext cx="144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ålmar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8680" y="220500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4320" y="229536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29716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97080" y="227664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nn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06400" y="5032440"/>
            <a:ext cx="11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29080" y="503244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79960" y="328608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96080" y="4416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068640"/>
            <a:ext cx="12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PLL SAT Solving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arning in SAT Solve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flict happens when one clause is falsified by 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the conflict to infer a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lause is a logical consequence of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ferred clause is a new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Clau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red by conflic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prune future parts of the search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drives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 of the claus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sified by curren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exactly one literal implied by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Analysis Algorith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with conflicting cla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on the most recently propagated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antecedent as side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until the clause contains exactly one literal from the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8280" y="3567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0:14:24Z</dcterms:created>
  <dc:creator>tamirh heyman</dc:creator>
  <dc:description/>
  <dc:language>en-US</dc:language>
  <cp:lastModifiedBy>tamirh heyman</cp:lastModifiedBy>
  <dcterms:modified xsi:type="dcterms:W3CDTF">2006-10-03T18:25:35Z</dcterms:modified>
  <cp:revision>20</cp:revision>
  <dc:subject/>
  <dc:title>Chaff: Engineering an Efficient SAT Solver</dc:title>
</cp:coreProperties>
</file>