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CD7-11C8-4C97-801C-D7660E82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235-F2E8-4061-9074-A60D3F9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A8E-973E-4A90-B9A4-DB970B8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ACB-53F4-4AF0-B7F0-3BABE0CC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1E7-88D0-4F3D-A821-450C7624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9E8-1C20-4DD5-801A-4862E2E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465D-FD55-4873-9BE9-3855286B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13E-50A8-4537-854A-59DC72F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532-C5EB-4C8F-84EF-C25C11B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D9F9-77FA-431A-9CA1-2CE1013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F588-CB62-42D3-A274-AB60197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797-35E1-4614-B2CE-D5A5438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4A5A-B426-417D-AC12-B43DB177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FAC-1142-49D4-BF6C-490D09E6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7FA-DE3E-4AF6-858C-18F8C67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18A-3B6D-45FE-989D-09D34422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EDCB-CE05-463B-8912-8BE0CFD6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8C3-51F9-4D56-A44B-63E26D27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5FA-9CE8-4311-BBBE-331CDB2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6EA-C6C5-468D-AFE8-7BD05F35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FA0-DC74-4C4C-A77E-867FC595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94C-106B-4C3D-B6AB-C47C0A0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3C0-A53B-40C3-B829-1B3379B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102-A06B-40C6-AA89-3AE7961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27F-4DCF-42A8-92BB-B99B0830EB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756D-82E5-4EF6-B7C7-DF2B348355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: Tamir Heyman (2006), Himanshu Jain (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61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64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76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79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92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95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solu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407664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50800" y="328464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41400" y="3284640"/>
            <a:ext cx="13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0" y="42926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00" y="55864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, B ar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18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21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3481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35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38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minimization Imp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 there is 25-50% reduction in the size of learned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reduce Boolean constraint propagation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6200" y="333360"/>
            <a:ext cx="8713800" cy="6120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59800" y="649116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lk and paper on pre-processing available onl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w feature: Conflict clause min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-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flicting cla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infer a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/Learned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rting 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2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2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3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36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47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5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hjain</cp:lastModifiedBy>
  <dcterms:modified xsi:type="dcterms:W3CDTF">2007-09-27T20:40:14Z</dcterms:modified>
  <cp:revision>37</cp:revision>
  <dc:subject/>
  <dc:title>Chaff: Engineering an Efficient SAT Solver</dc:title>
</cp:coreProperties>
</file>