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A8FC-3501-4B7A-94A7-88502957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DB5A-99A3-4C4C-BF59-508014D3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7AB5-C681-430A-A955-C5C909BE0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06CB-FBDA-41DB-B988-EF74D6EE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17DD-ABF6-4F66-80BB-EC0C05F25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5963-DAE6-4CF6-8631-7DEA50AD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AD0A-CA83-4E43-88C7-0B11491F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70A0-079C-45D0-B951-739629E7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ED6E-B505-4F8E-BC78-F7DE4A8D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9389-D8A6-4333-9446-3FE5287B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AEB0-4599-415B-9E37-15940169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6FAE-DFEB-4124-9FC7-23C8F97D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314E-5D43-4682-AD5C-D55B718C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A160-F7EC-4492-A884-EE432639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FBF0-C444-4F5E-9E1B-D4EEFFFA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24D2-2790-42F1-B3B8-DAEF142CE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C974-5679-4CDE-87FF-C00471B36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E5E6-19B3-475A-82E4-689BE35F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4896-17C7-423B-ABDC-524AD272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8164-7CF0-46F1-9C2C-6D2E44FF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8382-8769-40FC-879B-21896C6B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D26E-B70C-4173-9506-87DD2653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248B-C3B3-4AFA-8B1C-0288E615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E438-C11F-4A40-815B-E7E7E0B3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D9F5-F871-43CD-A30C-BB6A0845F2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D2C7-3150-4C02-A66D-886C90EB95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niSAT: World fastest SAT solver (2005 and 200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55280" y="3886200"/>
            <a:ext cx="7016760" cy="27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klas Sorensson, Niklas Een and Armin Bi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 slides are from Niklas Sorensson presen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sented by: Tamir Heyman (2006), Himanshu Jain (200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669280" y="4508640"/>
            <a:ext cx="15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692360" y="2565360"/>
            <a:ext cx="1445040" cy="1800000"/>
            <a:chOff x="1692360" y="2565360"/>
            <a:chExt cx="1445040" cy="1800000"/>
          </a:xfrm>
        </p:grpSpPr>
        <p:sp>
          <p:nvSpPr>
            <p:cNvPr id="161" name=""/>
            <p:cNvSpPr/>
            <p:nvPr/>
          </p:nvSpPr>
          <p:spPr>
            <a:xfrm>
              <a:off x="1972080" y="324324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92360" y="2565360"/>
              <a:ext cx="288720" cy="1800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619280" y="4940280"/>
            <a:ext cx="1440000" cy="1657080"/>
            <a:chOff x="1619280" y="4940280"/>
            <a:chExt cx="1440000" cy="1657080"/>
          </a:xfrm>
        </p:grpSpPr>
        <p:sp>
          <p:nvSpPr>
            <p:cNvPr id="164" name=""/>
            <p:cNvSpPr/>
            <p:nvPr/>
          </p:nvSpPr>
          <p:spPr>
            <a:xfrm>
              <a:off x="1905120" y="5564160"/>
              <a:ext cx="115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19280" y="4940280"/>
              <a:ext cx="289080" cy="16570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43200 h 1657080"/>
                <a:gd name="textAreaBottom" fmla="*/ 161388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89080" y="4941720"/>
            <a:ext cx="20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69280" y="450864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692360" y="2565360"/>
            <a:ext cx="1445040" cy="1800000"/>
            <a:chOff x="1692360" y="2565360"/>
            <a:chExt cx="1445040" cy="1800000"/>
          </a:xfrm>
        </p:grpSpPr>
        <p:sp>
          <p:nvSpPr>
            <p:cNvPr id="176" name=""/>
            <p:cNvSpPr/>
            <p:nvPr/>
          </p:nvSpPr>
          <p:spPr>
            <a:xfrm>
              <a:off x="1972080" y="324324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92360" y="2565360"/>
              <a:ext cx="288720" cy="1800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619280" y="4940280"/>
            <a:ext cx="1440000" cy="1657080"/>
            <a:chOff x="1619280" y="4940280"/>
            <a:chExt cx="1440000" cy="1657080"/>
          </a:xfrm>
        </p:grpSpPr>
        <p:sp>
          <p:nvSpPr>
            <p:cNvPr id="179" name=""/>
            <p:cNvSpPr/>
            <p:nvPr/>
          </p:nvSpPr>
          <p:spPr>
            <a:xfrm>
              <a:off x="1905120" y="5564160"/>
              <a:ext cx="115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19280" y="4940280"/>
              <a:ext cx="289080" cy="16570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43200 h 1657080"/>
                <a:gd name="textAreaBottom" fmla="*/ 161388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69280" y="450864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096760" y="3213000"/>
            <a:ext cx="7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689080" y="4941720"/>
            <a:ext cx="20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1" name=""/>
          <p:cNvGrpSpPr/>
          <p:nvPr/>
        </p:nvGrpSpPr>
        <p:grpSpPr>
          <a:xfrm>
            <a:off x="1692360" y="2565360"/>
            <a:ext cx="1445040" cy="1800000"/>
            <a:chOff x="1692360" y="2565360"/>
            <a:chExt cx="1445040" cy="1800000"/>
          </a:xfrm>
        </p:grpSpPr>
        <p:sp>
          <p:nvSpPr>
            <p:cNvPr id="192" name=""/>
            <p:cNvSpPr/>
            <p:nvPr/>
          </p:nvSpPr>
          <p:spPr>
            <a:xfrm>
              <a:off x="1972080" y="324324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92360" y="2565360"/>
              <a:ext cx="288720" cy="1800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619280" y="4940280"/>
            <a:ext cx="1440000" cy="1657080"/>
            <a:chOff x="1619280" y="4940280"/>
            <a:chExt cx="1440000" cy="1657080"/>
          </a:xfrm>
        </p:grpSpPr>
        <p:sp>
          <p:nvSpPr>
            <p:cNvPr id="195" name=""/>
            <p:cNvSpPr/>
            <p:nvPr/>
          </p:nvSpPr>
          <p:spPr>
            <a:xfrm>
              <a:off x="1905120" y="5564160"/>
              <a:ext cx="115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19280" y="4940280"/>
              <a:ext cx="289080" cy="16570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43200 h 1657080"/>
                <a:gd name="textAreaBottom" fmla="*/ 161388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flict Minimizing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 Conflict Analysis is minimal in the number of deriv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lance between time spent and usefulness of the conflict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a shorter clause always bett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Basic Conflict Minimizing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n ordinary conflict cla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y resolution greed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because there are no cyclic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uses antecedent clauses from ot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Resolut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2195640" y="4076640"/>
            <a:ext cx="4105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50800" y="328464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41400" y="3284640"/>
            <a:ext cx="134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x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603600" y="4292640"/>
            <a:ext cx="120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53200" y="5586480"/>
            <a:ext cx="24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, B are cl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a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688720" y="4941720"/>
            <a:ext cx="19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669280" y="450864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096760" y="3213000"/>
            <a:ext cx="7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692360" y="2565360"/>
            <a:ext cx="1445040" cy="1800000"/>
            <a:chOff x="1692360" y="2565360"/>
            <a:chExt cx="1445040" cy="1800000"/>
          </a:xfrm>
        </p:grpSpPr>
        <p:sp>
          <p:nvSpPr>
            <p:cNvPr id="218" name=""/>
            <p:cNvSpPr/>
            <p:nvPr/>
          </p:nvSpPr>
          <p:spPr>
            <a:xfrm>
              <a:off x="1972080" y="324324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92360" y="2565360"/>
              <a:ext cx="288720" cy="1800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1619280" y="4940280"/>
            <a:ext cx="1440000" cy="1657080"/>
            <a:chOff x="1619280" y="4940280"/>
            <a:chExt cx="1440000" cy="1657080"/>
          </a:xfrm>
        </p:grpSpPr>
        <p:sp>
          <p:nvSpPr>
            <p:cNvPr id="221" name=""/>
            <p:cNvSpPr/>
            <p:nvPr/>
          </p:nvSpPr>
          <p:spPr>
            <a:xfrm>
              <a:off x="1905120" y="5564160"/>
              <a:ext cx="115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19280" y="4940280"/>
              <a:ext cx="289080" cy="16570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43200 h 1657080"/>
                <a:gd name="textAreaBottom" fmla="*/ 161388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669280" y="450864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96760" y="3213000"/>
            <a:ext cx="7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640480" y="53481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688720" y="4941720"/>
            <a:ext cx="19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692360" y="2565360"/>
            <a:ext cx="1445040" cy="1800000"/>
            <a:chOff x="1692360" y="2565360"/>
            <a:chExt cx="1445040" cy="1800000"/>
          </a:xfrm>
        </p:grpSpPr>
        <p:sp>
          <p:nvSpPr>
            <p:cNvPr id="235" name=""/>
            <p:cNvSpPr/>
            <p:nvPr/>
          </p:nvSpPr>
          <p:spPr>
            <a:xfrm>
              <a:off x="1972080" y="324324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92360" y="2565360"/>
              <a:ext cx="288720" cy="1800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619280" y="4940280"/>
            <a:ext cx="1440000" cy="1657080"/>
            <a:chOff x="1619280" y="4940280"/>
            <a:chExt cx="1440000" cy="1657080"/>
          </a:xfrm>
        </p:grpSpPr>
        <p:sp>
          <p:nvSpPr>
            <p:cNvPr id="238" name=""/>
            <p:cNvSpPr/>
            <p:nvPr/>
          </p:nvSpPr>
          <p:spPr>
            <a:xfrm>
              <a:off x="1905120" y="5564160"/>
              <a:ext cx="115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19280" y="4940280"/>
              <a:ext cx="289080" cy="16570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43200 h 1657080"/>
                <a:gd name="textAreaBottom" fmla="*/ 161388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lict clause minimization Impa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average there is 25-50% reduction in the size of learned clau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lps reduce Boolean constraint propagation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06200" y="333360"/>
            <a:ext cx="8713800" cy="6120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459800" y="6491160"/>
            <a:ext cx="57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lk and paper on pre-processing available onlin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DPLL SAT Solving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64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an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t propa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ktrac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ew feature: Conflict clause minim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re-proces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TimeLin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1611360" y="4616280"/>
            <a:ext cx="7137360" cy="3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81120" y="4389480"/>
            <a:ext cx="18900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149560" y="4389480"/>
            <a:ext cx="18900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27640" y="4389480"/>
            <a:ext cx="19044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651640" y="4389480"/>
            <a:ext cx="18864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443640" y="4389480"/>
            <a:ext cx="18900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662280" y="4389480"/>
            <a:ext cx="18900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03640" y="4389480"/>
            <a:ext cx="189000" cy="453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59640" y="4389480"/>
            <a:ext cx="18900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388360" y="4437000"/>
            <a:ext cx="190440" cy="452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71600" y="5032440"/>
            <a:ext cx="130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0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96320" y="5032440"/>
            <a:ext cx="130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0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822640" y="4879800"/>
            <a:ext cx="1445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ålmar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00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88680" y="2205000"/>
            <a:ext cx="107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RA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k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084320" y="2295360"/>
            <a:ext cx="109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4360" y="2297160"/>
            <a:ext cx="179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OC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k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97080" y="2276640"/>
            <a:ext cx="118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anni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k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06400" y="5032440"/>
            <a:ext cx="1162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29080" y="5032440"/>
            <a:ext cx="1220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h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k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979960" y="3286080"/>
            <a:ext cx="107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k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696080" y="4416480"/>
            <a:ext cx="18900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846920" y="3068640"/>
            <a:ext cx="129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0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ini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0k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Learning in SAT Solver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flict happens when one clause is falsified by unit propa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e th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nflicting cla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infer a cla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lause is a logical consequence of the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ferred clause is a new 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flict/Learned Claus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erred by conflict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lps prune future parts of the search sp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ually drives backtrac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33336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lict Clause Requir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equence of the clause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lsified by current assig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ins exactly one literal implied by last assumption (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sserting clau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flict Analysis Algorithm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gin with conflicting clau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olve on the most recently propagated lite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the antecedent as side cla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eat until the clause contains exactly one literal from the last assum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08280" y="356724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fl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619280" y="4940280"/>
            <a:ext cx="1440000" cy="1657080"/>
            <a:chOff x="1619280" y="4940280"/>
            <a:chExt cx="1440000" cy="1657080"/>
          </a:xfrm>
        </p:grpSpPr>
        <p:sp>
          <p:nvSpPr>
            <p:cNvPr id="120" name=""/>
            <p:cNvSpPr/>
            <p:nvPr/>
          </p:nvSpPr>
          <p:spPr>
            <a:xfrm>
              <a:off x="1905120" y="5564160"/>
              <a:ext cx="115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19280" y="4940280"/>
              <a:ext cx="289080" cy="16570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43200 h 1657080"/>
                <a:gd name="textAreaBottom" fmla="*/ 161388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692360" y="2565360"/>
            <a:ext cx="1445040" cy="1800000"/>
            <a:chOff x="1692360" y="2565360"/>
            <a:chExt cx="1445040" cy="1800000"/>
          </a:xfrm>
        </p:grpSpPr>
        <p:sp>
          <p:nvSpPr>
            <p:cNvPr id="123" name=""/>
            <p:cNvSpPr/>
            <p:nvPr/>
          </p:nvSpPr>
          <p:spPr>
            <a:xfrm>
              <a:off x="1972080" y="324324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92360" y="2565360"/>
              <a:ext cx="288720" cy="1800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692360" y="2565360"/>
            <a:ext cx="1445040" cy="1800000"/>
            <a:chOff x="1692360" y="2565360"/>
            <a:chExt cx="1445040" cy="1800000"/>
          </a:xfrm>
        </p:grpSpPr>
        <p:sp>
          <p:nvSpPr>
            <p:cNvPr id="133" name=""/>
            <p:cNvSpPr/>
            <p:nvPr/>
          </p:nvSpPr>
          <p:spPr>
            <a:xfrm>
              <a:off x="1972080" y="324324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92360" y="2565360"/>
              <a:ext cx="288720" cy="1800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619280" y="4940280"/>
            <a:ext cx="1440000" cy="1657080"/>
            <a:chOff x="1619280" y="4940280"/>
            <a:chExt cx="1440000" cy="1657080"/>
          </a:xfrm>
        </p:grpSpPr>
        <p:sp>
          <p:nvSpPr>
            <p:cNvPr id="136" name=""/>
            <p:cNvSpPr/>
            <p:nvPr/>
          </p:nvSpPr>
          <p:spPr>
            <a:xfrm>
              <a:off x="1905120" y="5564160"/>
              <a:ext cx="115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19280" y="4940280"/>
              <a:ext cx="289080" cy="16570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43200 h 1657080"/>
                <a:gd name="textAreaBottom" fmla="*/ 161388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69280" y="450864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692360" y="2565360"/>
            <a:ext cx="1445040" cy="1800000"/>
            <a:chOff x="1692360" y="2565360"/>
            <a:chExt cx="1445040" cy="1800000"/>
          </a:xfrm>
        </p:grpSpPr>
        <p:sp>
          <p:nvSpPr>
            <p:cNvPr id="147" name=""/>
            <p:cNvSpPr/>
            <p:nvPr/>
          </p:nvSpPr>
          <p:spPr>
            <a:xfrm>
              <a:off x="1972080" y="324324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92360" y="2565360"/>
              <a:ext cx="288720" cy="1800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619280" y="4940280"/>
            <a:ext cx="1440000" cy="1657080"/>
            <a:chOff x="1619280" y="4940280"/>
            <a:chExt cx="1440000" cy="1657080"/>
          </a:xfrm>
        </p:grpSpPr>
        <p:sp>
          <p:nvSpPr>
            <p:cNvPr id="150" name=""/>
            <p:cNvSpPr/>
            <p:nvPr/>
          </p:nvSpPr>
          <p:spPr>
            <a:xfrm>
              <a:off x="1905120" y="5564160"/>
              <a:ext cx="115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19280" y="4940280"/>
              <a:ext cx="289080" cy="16570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43200 h 1657080"/>
                <a:gd name="textAreaBottom" fmla="*/ 161388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4T20:14:24Z</dcterms:created>
  <dc:creator>tamirh heyman</dc:creator>
  <dc:description/>
  <dc:language>en-US</dc:language>
  <cp:lastModifiedBy>hjain</cp:lastModifiedBy>
  <dcterms:modified xsi:type="dcterms:W3CDTF">2007-09-27T20:40:14Z</dcterms:modified>
  <cp:revision>37</cp:revision>
  <dc:subject/>
  <dc:title>Chaff: Engineering an Efficient SAT Solver</dc:title>
</cp:coreProperties>
</file>