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4681-34EF-4718-AA64-8FBA6FD394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which step is whi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: simple one, choose the one with most # of sat. cl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duce: do B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: do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ase: erase assignment at current decision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tree is maintained implicitly in procedure cal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hem it is assigned to each node in the search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ly write down the examples of all types of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unsat, same as A but 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4E1-5C82-40FA-8785-650FEABA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CB3-EB90-4E05-BC4E-BED682AE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4EA-44C6-4376-9703-2A2E6702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279-8CB7-4663-A2CF-A60596AD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E70B-FFA6-4474-88DC-F15E279F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4D38-5B00-4A85-9B70-10036D40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F49A-7267-4E8C-AAC6-45A611F3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6310-4CBF-4706-B176-0A336E7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704E-3B10-4200-968B-84EF8CE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C355-5194-439A-8CC5-E86C6171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5653-CFAE-4CFC-B095-77BBDAF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545-FB82-4E4B-B296-E78A50F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BC4-106C-46CD-A79B-32184F54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5FD-9641-4257-8516-33AD4C5D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51EB-8282-4631-82AC-1496E992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ED6D-43FA-41C3-94E9-984BA44E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0111-141C-4974-A8B9-15F15075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357-3446-4590-B8C5-E400390A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E6B-64AC-4C24-A351-0E8F49D7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DE3-35A7-433C-AC20-73191CD9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EDA-E948-489E-B744-50B5B271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6AB-7ED3-4933-9A42-F6F1CA77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D44-5E98-41A8-8145-3BE84E5C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F08-19E7-4545-9DE2-1D49726A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4987-E7A5-4700-95A6-903960BF435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2F8B-A09F-41D0-AC35-5371409C9F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D544-F1C5-4EF7-9741-1332BC61DD6F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7EB1-4F11-492D-B91D-F0BC6BE349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-an efficient SAT sol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kaj Chau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 in 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2057400"/>
            <a:ext cx="2438640" cy="17233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2286000"/>
            <a:ext cx="2286000" cy="1510200"/>
            <a:chOff x="1523880" y="2286000"/>
            <a:chExt cx="2286000" cy="1510200"/>
          </a:xfrm>
        </p:grpSpPr>
        <p:sp>
          <p:nvSpPr>
            <p:cNvPr id="133" name=""/>
            <p:cNvSpPr/>
            <p:nvPr/>
          </p:nvSpPr>
          <p:spPr>
            <a:xfrm>
              <a:off x="3200400" y="2286000"/>
              <a:ext cx="60948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3"/>
              <a:endCxn id="135" idx="0"/>
            </p:cNvCxnSpPr>
            <p:nvPr/>
          </p:nvCxnSpPr>
          <p:spPr>
            <a:xfrm flipH="1">
              <a:off x="2590560" y="2820960"/>
              <a:ext cx="699120" cy="975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1523880" y="2971800"/>
              <a:ext cx="1524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38080" y="5181480"/>
            <a:ext cx="22860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3809880"/>
            <a:ext cx="2438280" cy="1371600"/>
            <a:chOff x="457200" y="3809880"/>
            <a:chExt cx="2438280" cy="1371600"/>
          </a:xfrm>
        </p:grpSpPr>
        <p:sp>
          <p:nvSpPr>
            <p:cNvPr id="135" name=""/>
            <p:cNvSpPr/>
            <p:nvPr/>
          </p:nvSpPr>
          <p:spPr>
            <a:xfrm>
              <a:off x="2286000" y="3809880"/>
              <a:ext cx="609480" cy="60984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4114800"/>
              <a:ext cx="1523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905120" y="434340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4952880"/>
            <a:ext cx="29718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 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3" idx="5"/>
            <a:endCxn id="141" idx="0"/>
          </p:cNvCxnSpPr>
          <p:nvPr/>
        </p:nvCxnSpPr>
        <p:spPr>
          <a:xfrm>
            <a:off x="3720960" y="2820600"/>
            <a:ext cx="1270800" cy="211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4800600" y="3886200"/>
            <a:ext cx="12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5720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38862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38862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acktrack in this exam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5DB-BBAB-481C-9E69-691EE3634E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A6DC2-0515-4EAF-837F-AA4F939F5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 in 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057400"/>
            <a:ext cx="3124080" cy="23299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19440" y="1981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3526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98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2670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572000"/>
            <a:ext cx="1295640" cy="10666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5334120"/>
            <a:ext cx="22860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880" y="3429000"/>
            <a:ext cx="2590920" cy="1905120"/>
            <a:chOff x="3809880" y="3429000"/>
            <a:chExt cx="2590920" cy="1905120"/>
          </a:xfrm>
        </p:grpSpPr>
        <p:sp>
          <p:nvSpPr>
            <p:cNvPr id="158" name=""/>
            <p:cNvSpPr/>
            <p:nvPr/>
          </p:nvSpPr>
          <p:spPr>
            <a:xfrm>
              <a:off x="3809880" y="3429000"/>
              <a:ext cx="60984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4495680"/>
              <a:ext cx="1523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3962520"/>
              <a:ext cx="99036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19920" y="44956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63760" y="2743200"/>
            <a:ext cx="1613160" cy="760320"/>
            <a:chOff x="3263760" y="2743200"/>
            <a:chExt cx="1613160" cy="760320"/>
          </a:xfrm>
        </p:grpSpPr>
        <p:sp>
          <p:nvSpPr>
            <p:cNvPr id="163" name=""/>
            <p:cNvSpPr/>
            <p:nvPr/>
          </p:nvSpPr>
          <p:spPr>
            <a:xfrm>
              <a:off x="3581280" y="2743200"/>
              <a:ext cx="12956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65" idx="5"/>
              <a:endCxn id="158" idx="1"/>
            </p:cNvCxnSpPr>
            <p:nvPr/>
          </p:nvCxnSpPr>
          <p:spPr>
            <a:xfrm>
              <a:off x="3263760" y="2820960"/>
              <a:ext cx="635760" cy="68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990720" y="2286000"/>
            <a:ext cx="2361960" cy="2590920"/>
            <a:chOff x="990720" y="2286000"/>
            <a:chExt cx="2361960" cy="2590920"/>
          </a:xfrm>
        </p:grpSpPr>
        <p:sp>
          <p:nvSpPr>
            <p:cNvPr id="165" name=""/>
            <p:cNvSpPr/>
            <p:nvPr/>
          </p:nvSpPr>
          <p:spPr>
            <a:xfrm>
              <a:off x="2743200" y="2286000"/>
              <a:ext cx="60948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5" idx="3"/>
            </p:cNvCxnSpPr>
            <p:nvPr/>
          </p:nvCxnSpPr>
          <p:spPr>
            <a:xfrm flipH="1">
              <a:off x="1751760" y="2820600"/>
              <a:ext cx="1080360" cy="2056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990720" y="2971800"/>
              <a:ext cx="1295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1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2E8-18A6-4B8C-B846-11149358171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EC8E4-E799-4B59-8D88-B943289005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pnew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998720" y="1981080"/>
            <a:ext cx="6688080" cy="418968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vis-Putnam revisi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276720"/>
            <a:ext cx="685800" cy="1371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4876920"/>
            <a:ext cx="762120" cy="76176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3733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7146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D3F-B0E0-4B0E-8671-C8DACB16E6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1C8F1-507F-4317-BF05-F4849138F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A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alized se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gorithm for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isfiability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lem (Silva, Sakallah, ’9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cation gra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BCP and conflic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new cla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n-chronologic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track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677-9575-4964-BA5F-F2368B0729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19507-5B46-4951-8C68-C92894D4F0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search templ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grasp_template" descr=""/>
          <p:cNvPicPr/>
          <p:nvPr/>
        </p:nvPicPr>
        <p:blipFill>
          <a:blip r:embed="rId1"/>
          <a:stretch/>
        </p:blipFill>
        <p:spPr>
          <a:xfrm>
            <a:off x="2057400" y="1892160"/>
            <a:ext cx="4800600" cy="450864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845-968F-4191-AC55-17E80DFD4E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FF7AC-16E8-47BD-80A5-C051C4A27F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cision Heuristic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cide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the variable that satisfies the most #clauses == max occurences as unit clauses at current decis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ossibilities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344-41F7-40D0-9FC0-67640E4D34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100F4-E6DA-4D4B-919C-D4F6803870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ean Constraint Propagation us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cation gra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he clause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=1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ust hav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variabl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ing in a claus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0 to all other literals is calle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tecedent assignmen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for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y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z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(x) = {(y,0), (z,1)}, A(y) = {(x,0),(z,1)}, A(z) = {(x,0), (y,0)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 directly responsible for forcing the value o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ecedent assignment of a decision variable is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802-8AB1-4273-930F-A1F297DD69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EBDF2-7647-4CE5-A388-11FE41015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14600" y="5410080"/>
            <a:ext cx="472428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 Gra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variable assignment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=v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decision or impli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ecessor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antecedent assignment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edecessors for decision assignment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nflict vertices hav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assignments to vars in the unsatisfied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level for an implied assignmen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x) = max{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y)|(y,v(y))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ACC-6028-4AF0-A5DA-46F7E7295E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3C4C4-9EB2-4FDF-B70E-40C2E9C0A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mplication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743200"/>
            <a:ext cx="2286000" cy="360216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98108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truth assignment: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{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 ,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decision assignment: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{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759720" y="3429000"/>
            <a:ext cx="1622160" cy="1190520"/>
            <a:chOff x="6759720" y="3429000"/>
            <a:chExt cx="1622160" cy="1190520"/>
          </a:xfrm>
        </p:grpSpPr>
        <p:cxnSp>
          <p:nvCxnSpPr>
            <p:cNvPr id="192" name=""/>
            <p:cNvCxnSpPr/>
            <p:nvPr/>
          </p:nvCxnSpPr>
          <p:spPr>
            <a:xfrm flipV="1">
              <a:off x="6759720" y="396180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6781680" y="3429000"/>
              <a:ext cx="9151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6918480" y="35053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38545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3733920"/>
              <a:ext cx="9903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confl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6576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50734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377820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251460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507348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769000" y="2895480"/>
            <a:ext cx="1851120" cy="1013040"/>
            <a:chOff x="5769000" y="2895480"/>
            <a:chExt cx="1851120" cy="1013040"/>
          </a:xfrm>
        </p:grpSpPr>
        <p:sp>
          <p:nvSpPr>
            <p:cNvPr id="207" name=""/>
            <p:cNvSpPr/>
            <p:nvPr/>
          </p:nvSpPr>
          <p:spPr>
            <a:xfrm>
              <a:off x="6705720" y="30481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67280" y="2940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/>
            <p:nvPr/>
          </p:nvCxnSpPr>
          <p:spPr>
            <a:xfrm>
              <a:off x="5791320" y="289548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/>
            <p:nvPr/>
          </p:nvCxnSpPr>
          <p:spPr>
            <a:xfrm flipV="1">
              <a:off x="5769000" y="342864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5867280" y="33526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791320" y="3962160"/>
            <a:ext cx="1600200" cy="1013040"/>
            <a:chOff x="5791320" y="3962160"/>
            <a:chExt cx="1600200" cy="1013040"/>
          </a:xfrm>
        </p:grpSpPr>
        <p:sp>
          <p:nvSpPr>
            <p:cNvPr id="214" name=""/>
            <p:cNvSpPr/>
            <p:nvPr/>
          </p:nvSpPr>
          <p:spPr>
            <a:xfrm>
              <a:off x="662940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>
              <a:off x="5791320" y="396216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V="1">
              <a:off x="5845320" y="449532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5927760" y="4083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3600" y="44197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45403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87920" y="4016160"/>
            <a:ext cx="1393560" cy="959040"/>
            <a:chOff x="3787920" y="4016160"/>
            <a:chExt cx="1393560" cy="959040"/>
          </a:xfrm>
        </p:grpSpPr>
        <p:sp>
          <p:nvSpPr>
            <p:cNvPr id="221" name=""/>
            <p:cNvSpPr/>
            <p:nvPr/>
          </p:nvSpPr>
          <p:spPr>
            <a:xfrm>
              <a:off x="46483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/>
            <p:nvPr/>
          </p:nvCxnSpPr>
          <p:spPr>
            <a:xfrm flipV="1">
              <a:off x="3787920" y="449532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3809880" y="401616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3886200" y="44197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70360" y="4083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7080" y="45720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787920" y="3048120"/>
            <a:ext cx="1393560" cy="860400"/>
            <a:chOff x="3787920" y="3048120"/>
            <a:chExt cx="1393560" cy="860400"/>
          </a:xfrm>
        </p:grpSpPr>
        <p:sp>
          <p:nvSpPr>
            <p:cNvPr id="228" name="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/>
            <p:nvPr/>
          </p:nvCxnSpPr>
          <p:spPr>
            <a:xfrm flipV="1">
              <a:off x="3787920" y="342864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0" name=""/>
            <p:cNvSpPr/>
            <p:nvPr/>
          </p:nvSpPr>
          <p:spPr>
            <a:xfrm>
              <a:off x="3886200" y="33526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080" y="30481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00600" y="3429000"/>
            <a:ext cx="1905120" cy="1012320"/>
            <a:chOff x="4800600" y="3429000"/>
            <a:chExt cx="1905120" cy="1012320"/>
          </a:xfrm>
        </p:grpSpPr>
        <p:sp>
          <p:nvSpPr>
            <p:cNvPr id="233" name=""/>
            <p:cNvSpPr/>
            <p:nvPr/>
          </p:nvSpPr>
          <p:spPr>
            <a:xfrm>
              <a:off x="5638680" y="3886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 flipV="1">
              <a:off x="4800600" y="396180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28" idx="6"/>
              <a:endCxn id="233" idx="1"/>
            </p:cNvCxnSpPr>
            <p:nvPr/>
          </p:nvCxnSpPr>
          <p:spPr>
            <a:xfrm>
              <a:off x="4800600" y="342900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4861080" y="35053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6920" y="39304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91320" y="37339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A10-3217-492C-BFEA-54B938D6E5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F9A52-749D-4E96-BB85-B0FA306942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du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grasp_deduce" descr=""/>
          <p:cNvPicPr/>
          <p:nvPr/>
        </p:nvPicPr>
        <p:blipFill>
          <a:blip r:embed="rId1"/>
          <a:stretch/>
        </p:blipFill>
        <p:spPr>
          <a:xfrm>
            <a:off x="1549440" y="1905120"/>
            <a:ext cx="6375240" cy="441936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925-7735-4AD4-BA1A-7F345300BD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31AFD-B8F3-4987-BB4B-214C6254EF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propositional formula in CNF, find an assignment to boolean variables that makes the formula tru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3962520" cy="23299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 = {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0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=0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}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4495680"/>
            <a:ext cx="198108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3847"/>
              <a:gd name="adj5" fmla="val 132916"/>
              <a:gd name="adj6" fmla="val -3020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Tisfying assignm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98D-9FBC-46B6-9184-D154A249F8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C1650-1B63-4A90-A139-1AE725C8DD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Conflict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a conflict arises, analyze the implication graph at current decisio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new clauses that would prevent the occurrence of the same conflict in the futu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decision level to backtrack to, might not be the immediate o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143-3170-4A98-BF80-B4EF14CD20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5A672-2366-49E3-8625-F17F85E1FD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he assignment that caused the conflict, negation of this assignment is called conflict induced clause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junct of this assignment is necessary condition for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adding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prevent the occurrence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558-D3D5-4BFE-BA80-AF072BE990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6E6AA-CCCC-406A-8877-18226A76EA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a backward traversal of the IG, find the roots of the IG in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ansitive fan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our example I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C90-7A7C-4DF1-BC73-A7365E2134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2E82C-AAD0-4204-B967-B6CAF4647B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895480" y="2590920"/>
            <a:ext cx="426744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4343400"/>
            <a:ext cx="701028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144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node of an I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partiti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 = {(y,v(y))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(x)|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y)&lt;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 = {(y,v(y))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(x)|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y)=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ing assign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= causesof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(some mat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371600" y="4343400"/>
            <a:ext cx="7010280" cy="1618200"/>
            <a:chOff x="1371600" y="4343400"/>
            <a:chExt cx="7010280" cy="1618200"/>
          </a:xfrm>
        </p:grpSpPr>
        <p:grpSp>
          <p:nvGrpSpPr>
            <p:cNvPr id="252" name=""/>
            <p:cNvGrpSpPr/>
            <p:nvPr/>
          </p:nvGrpSpPr>
          <p:grpSpPr>
            <a:xfrm>
              <a:off x="3276720" y="4343400"/>
              <a:ext cx="5105160" cy="1618200"/>
              <a:chOff x="3276720" y="4343400"/>
              <a:chExt cx="5105160" cy="1618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581280" y="4343400"/>
                <a:ext cx="480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(x,v(x)) 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if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A(x) = 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43480" y="5105520"/>
                <a:ext cx="4686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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(x) 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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4800" spc="-1" strike="noStrike">
                    <a:solidFill>
                      <a:srgbClr val="3333cc"/>
                    </a:solidFill>
                    <a:latin typeface="Times New Roman"/>
                  </a:rPr>
                  <a:t>[  </a:t>
                </a:r>
                <a:r>
                  <a:rPr b="1" lang="en-US" sz="4400" spc="-1" strike="noStrike" baseline="30000">
                    <a:solidFill>
                      <a:srgbClr val="3333cc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4400" spc="-1" strike="noStrike" baseline="30000">
                    <a:solidFill>
                      <a:srgbClr val="3333cc"/>
                    </a:solidFill>
                    <a:latin typeface="Times New Roman"/>
                  </a:rPr>
                  <a:t>       </a:t>
                </a:r>
                <a:r>
                  <a:rPr b="0" i="1" lang="en-US" sz="3200" spc="-1" strike="noStrike" baseline="30000">
                    <a:solidFill>
                      <a:srgbClr val="3333cc"/>
                    </a:solidFill>
                    <a:latin typeface="Times New Roman"/>
                  </a:rPr>
                  <a:t>causesof(y)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4800" spc="-1" strike="noStrike">
                    <a:solidFill>
                      <a:srgbClr val="3333cc"/>
                    </a:solidFill>
                    <a:latin typeface="Times New Roman"/>
                  </a:rPr>
                  <a:t>]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o/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48320" y="5562720"/>
                <a:ext cx="16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(y,v(y)) 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76720" y="4419720"/>
                <a:ext cx="228600" cy="14475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7160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causesof(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AC3-84FB-4E8B-A3C8-FE4E9742E4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26E4F-0ADC-445D-9AEB-46FB82DE60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743200" y="3657600"/>
            <a:ext cx="350532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(some mat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ing conflicting clause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the conflicting assign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straight for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ur IG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743200" y="3657600"/>
            <a:ext cx="3505320" cy="999360"/>
            <a:chOff x="2743200" y="3657600"/>
            <a:chExt cx="3505320" cy="999360"/>
          </a:xfrm>
        </p:grpSpPr>
        <p:sp>
          <p:nvSpPr>
            <p:cNvPr id="262" name=""/>
            <p:cNvSpPr/>
            <p:nvPr/>
          </p:nvSpPr>
          <p:spPr>
            <a:xfrm>
              <a:off x="2743200" y="3657600"/>
              <a:ext cx="350532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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) =     </a:t>
              </a:r>
              <a:r>
                <a:rPr b="0" i="1" lang="en-US" sz="4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0" i="1" lang="en-US" sz="4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  x</a:t>
              </a:r>
              <a:r>
                <a:rPr b="0" i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v(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6200" y="4114800"/>
              <a:ext cx="19051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(x,v(x))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A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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5562720"/>
            <a:ext cx="67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= {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@6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0@1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0@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555-00A9-4CF7-B1F0-23FC1E8900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975C5-B690-41CD-BF36-24600E006B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que implication points (UIPs) of an IG also provide conflict cla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f new clauses increases clause databas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uristically delete clauses based on a user para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ze of learned clause &gt; parameter, don’t includ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F8B-302E-4815-B7E6-F0461971AC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83A8B-C34E-496F-8294-C210BD3A50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ailure driven asser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FDA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 current decision variable, then after addition, it becomes unit clause, so different assignment for the current variable is immediately tr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ur IG, after erasing the assignment at level 6,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es a unit clause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mmediately impli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C9A-742C-4799-B5E1-959FE42A5B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EE259-ECBF-4F8C-870F-22920FA1A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ed 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/>
          <p:nvPr/>
        </p:nvCxnSpPr>
        <p:spPr>
          <a:xfrm flipV="1">
            <a:off x="3352680" y="3961800"/>
            <a:ext cx="86112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endCxn id="270" idx="1"/>
          </p:cNvCxnSpPr>
          <p:nvPr/>
        </p:nvCxnSpPr>
        <p:spPr>
          <a:xfrm>
            <a:off x="3352680" y="342900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3413160" y="350532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39304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3886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/>
          <p:nvPr/>
        </p:nvCxnSpPr>
        <p:spPr>
          <a:xfrm>
            <a:off x="1371600" y="342900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/>
          <p:nvPr/>
        </p:nvCxnSpPr>
        <p:spPr>
          <a:xfrm flipV="1">
            <a:off x="1425600" y="3961800"/>
            <a:ext cx="86112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 flipV="1">
            <a:off x="2340000" y="342864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/>
          <p:nvPr/>
        </p:nvCxnSpPr>
        <p:spPr>
          <a:xfrm>
            <a:off x="2362320" y="403848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7"/>
            <a:endCxn id="276" idx="3"/>
          </p:cNvCxnSpPr>
          <p:nvPr/>
        </p:nvCxnSpPr>
        <p:spPr>
          <a:xfrm flipV="1">
            <a:off x="2797200" y="4548960"/>
            <a:ext cx="42624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1" idx="6"/>
            <a:endCxn id="279" idx="2"/>
          </p:cNvCxnSpPr>
          <p:nvPr/>
        </p:nvCxnSpPr>
        <p:spPr>
          <a:xfrm>
            <a:off x="914400" y="396216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2362320" y="5181480"/>
            <a:ext cx="114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4956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297180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7339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4464000"/>
            <a:ext cx="106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35496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0160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1040" y="457200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41590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33526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1590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38862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3352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358128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2" idx="2"/>
            <a:endCxn id="270" idx="6"/>
          </p:cNvCxnSpPr>
          <p:nvPr/>
        </p:nvCxnSpPr>
        <p:spPr>
          <a:xfrm flipH="1">
            <a:off x="4342680" y="396216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4479840" y="39304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971800"/>
            <a:ext cx="190512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0" y="336"/>
                </a:moveTo>
                <a:lnTo>
                  <a:pt x="432" y="0"/>
                </a:lnTo>
                <a:lnTo>
                  <a:pt x="912" y="240"/>
                </a:lnTo>
                <a:lnTo>
                  <a:pt x="1200" y="672"/>
                </a:lnTo>
                <a:lnTo>
                  <a:pt x="1008" y="1056"/>
                </a:lnTo>
                <a:lnTo>
                  <a:pt x="432" y="1296"/>
                </a:lnTo>
                <a:lnTo>
                  <a:pt x="0" y="1104"/>
                </a:lnTo>
                <a:lnTo>
                  <a:pt x="0" y="3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5334120"/>
            <a:ext cx="1523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85800" y="48765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2362320"/>
            <a:ext cx="609840" cy="6094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400440" y="2895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429000"/>
            <a:ext cx="609840" cy="6094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4495680"/>
            <a:ext cx="609840" cy="609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5486400"/>
            <a:ext cx="609480" cy="6094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5486400"/>
            <a:ext cx="609480" cy="6094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19560" y="396252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562360" y="502920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50292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2971800"/>
            <a:ext cx="1396800" cy="2743200"/>
          </a:xfrm>
          <a:custGeom>
            <a:avLst/>
            <a:gdLst/>
            <a:ahLst/>
            <a:rect l="l" t="t" r="r" b="b"/>
            <a:pathLst>
              <a:path w="880" h="1728">
                <a:moveTo>
                  <a:pt x="0" y="1728"/>
                </a:moveTo>
                <a:cubicBezTo>
                  <a:pt x="64" y="1668"/>
                  <a:pt x="128" y="1608"/>
                  <a:pt x="192" y="1584"/>
                </a:cubicBezTo>
                <a:cubicBezTo>
                  <a:pt x="256" y="1560"/>
                  <a:pt x="280" y="1648"/>
                  <a:pt x="384" y="1584"/>
                </a:cubicBezTo>
                <a:cubicBezTo>
                  <a:pt x="488" y="1520"/>
                  <a:pt x="752" y="1464"/>
                  <a:pt x="816" y="1200"/>
                </a:cubicBezTo>
                <a:cubicBezTo>
                  <a:pt x="880" y="936"/>
                  <a:pt x="824" y="468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1905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sion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2590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0120" y="3549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4616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5486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2E7-20B2-431C-86ED-D91CBFE6D7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A8EBF-6BDB-43AC-BE55-1C888D2C0E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flict Directed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deriving a new IG after sett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FDA, we get another conflict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 backtr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ecision level 3, because backtracking to any level 5, 4 would generate the same conflict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6DB-C4CF-48C3-ACB9-6AAD02A3B7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D5C84-AD3C-40AB-BD80-18C087B6D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lict Directed Backtracking cont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track level is given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 d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ronolog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&lt; d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622600"/>
            <a:ext cx="69339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’) = {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0@1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@2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@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289548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4191120"/>
            <a:ext cx="3962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max{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|(x,v(x))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92F-B365-4E83-80DC-4A0C7CB2E0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D2D6A-5874-4740-A257-61ACDC4FE2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olution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through all assignment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ariabl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ssible assignments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plos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 is a classic NP-Complete problem, solve SAT and P=NP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2C1-292E-4465-A319-647748A077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0444F-FD94-4CB9-84D3-6071B81554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 </a:t>
            </a:r>
            <a:r>
              <a:rPr b="0" lang="en-US" sz="4400" spc="-1" strike="noStrike">
                <a:solidFill>
                  <a:srgbClr val="333399"/>
                </a:solidFill>
                <a:latin typeface="Courier New"/>
              </a:rPr>
              <a:t>Diagnose(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3" name="grasp_diagnose" descr=""/>
          <p:cNvPicPr/>
          <p:nvPr/>
        </p:nvPicPr>
        <p:blipFill>
          <a:blip r:embed="rId1"/>
          <a:stretch/>
        </p:blipFill>
        <p:spPr>
          <a:xfrm>
            <a:off x="1357200" y="2039760"/>
            <a:ext cx="6338880" cy="4125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3F1-D8EA-45E8-99A8-791BF9F0002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69250-A45F-448B-B13B-F4948D7B1C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at al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ge overhead for constrain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ecision heu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learning, problem speci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tter engineering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h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FEC-CAFD-411B-B446-A19F7E947C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DD6B2-7227-44E1-86D1-5167B2F51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amental problem from theoretical point of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erou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, VL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Checking and other type of formal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, planning, automated d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CA7-A640-4E65-B109-5731AD50C1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0F829-CD0F-40CB-B765-C93FBFC074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Backtrack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 to future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ease interrupt me if anything is not cl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A5E-8D10-4251-93EE-DA15E6DBB0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D7B04-775E-4683-A6D9-AF0C6BFF3C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 formula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,v(x)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A| &lt; 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rt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A| = 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nsatisfying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atisfy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2209680"/>
            <a:ext cx="3352680" cy="20394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 = {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0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, </a:t>
            </a:r>
            <a:r>
              <a:rPr b="0" i="1" lang="en-US" sz="20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9900"/>
                </a:solidFill>
                <a:latin typeface="Times New Roman"/>
              </a:rPr>
              <a:t>=0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}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36232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86200" y="2895480"/>
            <a:ext cx="1371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E85-A1C0-43CB-A49F-20BE439EF3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052B2-629B-4A3D-A325-FF8AAA2D2F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contd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solve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ssignment partitions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use databas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three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isfied, unsatisfied, unresol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ree litera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unassigned literals of a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#free literals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17C-0C9D-4733-822D-51D0F486BB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F7BE5-B2C6-4B15-8A3D-77333A7D35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 the search in the form of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cision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ode is an assignment, calle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ision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th of the node in the decision tr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ision level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=v@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ssigned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decision 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58F-7E0B-4294-9909-4BF6782FE3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90ADD-B299-4A18-A127-37FB2E4ECF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 throug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new decision assignments to explore new regions of search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ed assign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duction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May lead to unsatisfied clauses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nflict!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ssignment is called conflicting ass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ing assignments leads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cktr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iscard the search sub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AE7-82E1-4C95-AF4B-DC8CCD331D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FB5F3-8E9B-4EA2-88D0-4448F285D0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2:55:36Z</dcterms:created>
  <dc:creator>Vishal</dc:creator>
  <dc:description/>
  <dc:language>en-US</dc:language>
  <cp:lastModifiedBy>pchauhan</cp:lastModifiedBy>
  <dcterms:modified xsi:type="dcterms:W3CDTF">2001-09-20T15:19:20Z</dcterms:modified>
  <cp:revision>253</cp:revision>
  <dc:subject/>
  <dc:title>15-398: GRASP and Chaff</dc:title>
</cp:coreProperties>
</file>