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8609-BFED-4EDB-9184-1735BC858E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 which step is whi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: simple one, choose the one with most # of sat. cl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duce: do B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nose: do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ase: erase assignment at current decision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tree is maintained implicitly in procedure cal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them it is assigned to each node in the search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ally write down the examples of all types of assig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unsat, same as A but 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6D1-71FF-41BE-82D8-E897C056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71AC-1613-45A8-9AB4-CB97BF88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913D-5A69-46A3-A914-7EB2BCCB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2088-C297-4D0B-8F0D-8ED5A5C8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B286-075A-4E9F-9B4F-AEF310F0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6949-9780-4936-BC55-628F28C1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49C9-CC2E-40A8-8B16-3CF7B44B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32A2-BC46-4E9C-A69A-3FC0AABB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8E31-9DF0-48AB-9079-C32AC541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1501-3229-4EBB-AEDB-BEEC7266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DC2E-8E05-4036-8062-0DDC07DB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DD6-CFEE-484A-A0B5-127FE802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79F7-3D08-41F6-ADC0-0DA17493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8283-2C2E-445D-A0D8-6A00E9D8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0DBD-CD47-417F-8113-E2F24A96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6E49-E0EF-4A13-BF47-CDBCEE2E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892D-22EA-4B43-972E-55E731E4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FDE-4148-490A-812B-D31DBE50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F16-CB12-40A2-A4DE-515895A2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EE5-143E-4C11-B37B-DC996B21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119-810E-4513-9F13-A51C349D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EB7-2368-4C48-AF61-0EAC2113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3F4D-EA2A-405C-AE0C-B7EA64DA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D06-CD4D-47A7-8AB4-367EF3A5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F6F3-63C3-4115-9323-FCA6928B32B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D8BF-832E-46CE-B046-8EA5512897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FF1C-149E-4F98-B92C-78C424DA7AE2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E8B1-0D38-4FA2-8996-D861FDD55C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-an efficient SAT sol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nkaj Chau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Search in 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2057400"/>
            <a:ext cx="2438640" cy="17233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523880" y="2286000"/>
            <a:ext cx="2286000" cy="1510200"/>
            <a:chOff x="1523880" y="2286000"/>
            <a:chExt cx="2286000" cy="1510200"/>
          </a:xfrm>
        </p:grpSpPr>
        <p:sp>
          <p:nvSpPr>
            <p:cNvPr id="133" name=""/>
            <p:cNvSpPr/>
            <p:nvPr/>
          </p:nvSpPr>
          <p:spPr>
            <a:xfrm>
              <a:off x="3200400" y="2286000"/>
              <a:ext cx="609480" cy="60948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33" idx="3"/>
              <a:endCxn id="135" idx="0"/>
            </p:cNvCxnSpPr>
            <p:nvPr/>
          </p:nvCxnSpPr>
          <p:spPr>
            <a:xfrm flipH="1">
              <a:off x="2590560" y="2820960"/>
              <a:ext cx="699120" cy="975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6" name=""/>
            <p:cNvSpPr/>
            <p:nvPr/>
          </p:nvSpPr>
          <p:spPr>
            <a:xfrm>
              <a:off x="1523880" y="2971800"/>
              <a:ext cx="1524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= 0@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38080" y="5181480"/>
            <a:ext cx="2286000" cy="4572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200" y="3809880"/>
            <a:ext cx="2438280" cy="1371600"/>
            <a:chOff x="457200" y="3809880"/>
            <a:chExt cx="2438280" cy="1371600"/>
          </a:xfrm>
        </p:grpSpPr>
        <p:sp>
          <p:nvSpPr>
            <p:cNvPr id="135" name=""/>
            <p:cNvSpPr/>
            <p:nvPr/>
          </p:nvSpPr>
          <p:spPr>
            <a:xfrm>
              <a:off x="2286000" y="3809880"/>
              <a:ext cx="609480" cy="60984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4114800"/>
              <a:ext cx="15238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= 0@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905120" y="434340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505320" y="4952880"/>
            <a:ext cx="2971800" cy="4572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 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3" idx="5"/>
            <a:endCxn id="141" idx="0"/>
          </p:cNvCxnSpPr>
          <p:nvPr/>
        </p:nvCxnSpPr>
        <p:spPr>
          <a:xfrm>
            <a:off x="3720960" y="2820600"/>
            <a:ext cx="1270800" cy="211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4800600" y="3886200"/>
            <a:ext cx="12952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1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57200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1@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388620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0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388620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0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434340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1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57913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backtrack in this examp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2E0-F5CD-4969-904E-1BE0036DFC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E594C-E89E-4535-AEC7-F9080EF258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Search in 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2057400"/>
            <a:ext cx="3124080" cy="23299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19440" y="1981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33526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0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8098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0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42670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1@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4572000"/>
            <a:ext cx="1295640" cy="10666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5334120"/>
            <a:ext cx="2286000" cy="4572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9880" y="3429000"/>
            <a:ext cx="2590920" cy="1905120"/>
            <a:chOff x="3809880" y="3429000"/>
            <a:chExt cx="2590920" cy="1905120"/>
          </a:xfrm>
        </p:grpSpPr>
        <p:sp>
          <p:nvSpPr>
            <p:cNvPr id="158" name=""/>
            <p:cNvSpPr/>
            <p:nvPr/>
          </p:nvSpPr>
          <p:spPr>
            <a:xfrm>
              <a:off x="3809880" y="3429000"/>
              <a:ext cx="609840" cy="60948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6920" y="4495680"/>
              <a:ext cx="15238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= 0@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91120" y="3962520"/>
              <a:ext cx="99036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019920" y="4495680"/>
            <a:ext cx="15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1@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63760" y="2743200"/>
            <a:ext cx="1613160" cy="760320"/>
            <a:chOff x="3263760" y="2743200"/>
            <a:chExt cx="1613160" cy="760320"/>
          </a:xfrm>
        </p:grpSpPr>
        <p:sp>
          <p:nvSpPr>
            <p:cNvPr id="163" name=""/>
            <p:cNvSpPr/>
            <p:nvPr/>
          </p:nvSpPr>
          <p:spPr>
            <a:xfrm>
              <a:off x="3581280" y="2743200"/>
              <a:ext cx="12956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= 0@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4" name=""/>
            <p:cNvCxnSpPr>
              <a:stCxn id="165" idx="5"/>
              <a:endCxn id="158" idx="1"/>
            </p:cNvCxnSpPr>
            <p:nvPr/>
          </p:nvCxnSpPr>
          <p:spPr>
            <a:xfrm>
              <a:off x="3263760" y="2820960"/>
              <a:ext cx="635760" cy="682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166" name=""/>
          <p:cNvGrpSpPr/>
          <p:nvPr/>
        </p:nvGrpSpPr>
        <p:grpSpPr>
          <a:xfrm>
            <a:off x="990720" y="2286000"/>
            <a:ext cx="2361960" cy="2590920"/>
            <a:chOff x="990720" y="2286000"/>
            <a:chExt cx="2361960" cy="2590920"/>
          </a:xfrm>
        </p:grpSpPr>
        <p:sp>
          <p:nvSpPr>
            <p:cNvPr id="165" name=""/>
            <p:cNvSpPr/>
            <p:nvPr/>
          </p:nvSpPr>
          <p:spPr>
            <a:xfrm>
              <a:off x="2743200" y="2286000"/>
              <a:ext cx="609480" cy="60948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65" idx="3"/>
            </p:cNvCxnSpPr>
            <p:nvPr/>
          </p:nvCxnSpPr>
          <p:spPr>
            <a:xfrm flipH="1">
              <a:off x="1751760" y="2820600"/>
              <a:ext cx="1080360" cy="2056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8" name=""/>
            <p:cNvSpPr/>
            <p:nvPr/>
          </p:nvSpPr>
          <p:spPr>
            <a:xfrm>
              <a:off x="990720" y="2971800"/>
              <a:ext cx="12952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= 1@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843-BA40-4955-8704-89C2BF63100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F1E57-BAAD-4F99-B182-5FF43FC513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dpnew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998720" y="1981080"/>
            <a:ext cx="6688080" cy="4189680"/>
          </a:xfrm>
          <a:prstGeom prst="rect">
            <a:avLst/>
          </a:prstGeom>
          <a:ln w="2844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vis-Putnam revisi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3276720"/>
            <a:ext cx="685800" cy="1371600"/>
          </a:xfrm>
          <a:custGeom>
            <a:avLst/>
            <a:gdLst>
              <a:gd name="textAreaLeft" fmla="*/ 438120 w 685800"/>
              <a:gd name="textAreaRight" fmla="*/ 686160 w 6858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4876920"/>
            <a:ext cx="762120" cy="761760"/>
          </a:xfrm>
          <a:custGeom>
            <a:avLst/>
            <a:gdLst>
              <a:gd name="textAreaLeft" fmla="*/ 487080 w 762120"/>
              <a:gd name="textAreaRight" fmla="*/ 762480 w 7621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37339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952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5867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76520" y="571464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176-AA66-4A5B-90A4-4CE7B03F592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692CE-4EA6-44E4-BAA1-2E1656A104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RAS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alized sea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gorithm for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isfiability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lem (Silva, Sakallah, ’9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mplication gra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BCP and conflic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earn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new cla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on-chronologica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trackin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668-4D23-4937-90F8-2C9636DAA5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908DE-5482-4087-B7C6-AE4B795907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 search templ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grasp_template" descr=""/>
          <p:cNvPicPr/>
          <p:nvPr/>
        </p:nvPicPr>
        <p:blipFill>
          <a:blip r:embed="rId1"/>
          <a:stretch/>
        </p:blipFill>
        <p:spPr>
          <a:xfrm>
            <a:off x="2057400" y="1892160"/>
            <a:ext cx="4800600" cy="4508640"/>
          </a:xfrm>
          <a:prstGeom prst="rect">
            <a:avLst/>
          </a:prstGeom>
          <a:ln w="2844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9C35-D288-4B1A-9830-9153A49B69D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F7FC4-044C-4067-881F-066DA95CB0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 Decision Heuristic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du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cide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the variable that satisfies the most #clauses == max occurences as unit clauses at current decis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possibilities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246-8F77-4606-8DFE-143B64F0532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7FE7B-12D1-4467-931C-5E31EAFC94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 De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olean Constraint Propagation us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mplication gra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he clause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)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y=1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must have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variabl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curing in a claus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0 to all other literals is calle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tecedent assignment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for 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y 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z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(x) = {(y,0), (z,1)}, A(y) = {(x,0),(z,1)}, A(z) = {(x,0), (y,0)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s directly responsible for forcing the value of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ecedent assignment of a decision variable is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F43-47EB-4FE5-B124-4F6D1B08763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E0B4B-A77C-403C-A8C0-BA7494ACE7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514600" y="5410080"/>
            <a:ext cx="472428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ication Gra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variable assignment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=v(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decision or impli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ecessors of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antecedent assignment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edecessors for decision assignment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nflict vertices hav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(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assignments to vars in the unsatisfied cl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 level for an implied assignment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x) = max{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y)|(y,v(y))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(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FF1-429F-4D33-A843-ED2F885232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FBF9C-8F88-44A5-B712-FF24429B05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mplication Grap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2743200"/>
            <a:ext cx="2286000" cy="360216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3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4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4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6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5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6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7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8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8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7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8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3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98108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truth assignment: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{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1 ,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3,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3,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2, 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3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2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decision assignment: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{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6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759720" y="3429000"/>
            <a:ext cx="1622160" cy="1190520"/>
            <a:chOff x="6759720" y="3429000"/>
            <a:chExt cx="1622160" cy="1190520"/>
          </a:xfrm>
        </p:grpSpPr>
        <p:cxnSp>
          <p:nvCxnSpPr>
            <p:cNvPr id="192" name=""/>
            <p:cNvCxnSpPr/>
            <p:nvPr/>
          </p:nvCxnSpPr>
          <p:spPr>
            <a:xfrm flipV="1">
              <a:off x="6759720" y="3961800"/>
              <a:ext cx="861120" cy="47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6781680" y="3429000"/>
              <a:ext cx="9151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" name=""/>
            <p:cNvSpPr/>
            <p:nvPr/>
          </p:nvSpPr>
          <p:spPr>
            <a:xfrm>
              <a:off x="6918480" y="35053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34320" y="38545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91520" y="3733920"/>
              <a:ext cx="99036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confli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0120" y="3886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65760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4952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2819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507348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377820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2514600"/>
            <a:ext cx="99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5073480"/>
            <a:ext cx="99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769000" y="2895480"/>
            <a:ext cx="1851120" cy="1013040"/>
            <a:chOff x="5769000" y="2895480"/>
            <a:chExt cx="1851120" cy="1013040"/>
          </a:xfrm>
        </p:grpSpPr>
        <p:sp>
          <p:nvSpPr>
            <p:cNvPr id="207" name=""/>
            <p:cNvSpPr/>
            <p:nvPr/>
          </p:nvSpPr>
          <p:spPr>
            <a:xfrm>
              <a:off x="6705720" y="304812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=1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67280" y="29401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/>
            <p:nvPr/>
          </p:nvCxnSpPr>
          <p:spPr>
            <a:xfrm>
              <a:off x="5791320" y="2895480"/>
              <a:ext cx="86112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/>
            <p:nvPr/>
          </p:nvCxnSpPr>
          <p:spPr>
            <a:xfrm flipV="1">
              <a:off x="5769000" y="3428640"/>
              <a:ext cx="86112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2" name=""/>
            <p:cNvSpPr/>
            <p:nvPr/>
          </p:nvSpPr>
          <p:spPr>
            <a:xfrm>
              <a:off x="5867280" y="335268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791320" y="3962160"/>
            <a:ext cx="1600200" cy="1013040"/>
            <a:chOff x="5791320" y="3962160"/>
            <a:chExt cx="1600200" cy="1013040"/>
          </a:xfrm>
        </p:grpSpPr>
        <p:sp>
          <p:nvSpPr>
            <p:cNvPr id="214" name=""/>
            <p:cNvSpPr/>
            <p:nvPr/>
          </p:nvSpPr>
          <p:spPr>
            <a:xfrm>
              <a:off x="662940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/>
            <p:nvPr/>
          </p:nvCxnSpPr>
          <p:spPr>
            <a:xfrm>
              <a:off x="5791320" y="3962160"/>
              <a:ext cx="861120" cy="47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/>
            <p:nvPr/>
          </p:nvCxnSpPr>
          <p:spPr>
            <a:xfrm flipV="1">
              <a:off x="5845320" y="4495320"/>
              <a:ext cx="86112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5927760" y="40831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3600" y="44197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77120" y="454032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6</a:t>
              </a: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=1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787920" y="4016160"/>
            <a:ext cx="1393560" cy="959040"/>
            <a:chOff x="3787920" y="4016160"/>
            <a:chExt cx="1393560" cy="959040"/>
          </a:xfrm>
        </p:grpSpPr>
        <p:sp>
          <p:nvSpPr>
            <p:cNvPr id="221" name=""/>
            <p:cNvSpPr/>
            <p:nvPr/>
          </p:nvSpPr>
          <p:spPr>
            <a:xfrm>
              <a:off x="4648320" y="4419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/>
            <p:nvPr/>
          </p:nvCxnSpPr>
          <p:spPr>
            <a:xfrm flipV="1">
              <a:off x="3787920" y="4495320"/>
              <a:ext cx="86112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/>
            <p:nvPr/>
          </p:nvCxnSpPr>
          <p:spPr>
            <a:xfrm>
              <a:off x="3809880" y="4016160"/>
              <a:ext cx="861120" cy="47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4" name=""/>
            <p:cNvSpPr/>
            <p:nvPr/>
          </p:nvSpPr>
          <p:spPr>
            <a:xfrm>
              <a:off x="3886200" y="44197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70360" y="40831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67080" y="457200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=1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787920" y="3048120"/>
            <a:ext cx="1393560" cy="860400"/>
            <a:chOff x="3787920" y="3048120"/>
            <a:chExt cx="1393560" cy="860400"/>
          </a:xfrm>
        </p:grpSpPr>
        <p:sp>
          <p:nvSpPr>
            <p:cNvPr id="228" name="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9" name=""/>
            <p:cNvCxnSpPr/>
            <p:nvPr/>
          </p:nvCxnSpPr>
          <p:spPr>
            <a:xfrm flipV="1">
              <a:off x="3787920" y="3428640"/>
              <a:ext cx="86112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0" name=""/>
            <p:cNvSpPr/>
            <p:nvPr/>
          </p:nvSpPr>
          <p:spPr>
            <a:xfrm>
              <a:off x="3886200" y="335268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67080" y="304812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=1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800600" y="3429000"/>
            <a:ext cx="1905120" cy="1012320"/>
            <a:chOff x="4800600" y="3429000"/>
            <a:chExt cx="1905120" cy="1012320"/>
          </a:xfrm>
        </p:grpSpPr>
        <p:sp>
          <p:nvSpPr>
            <p:cNvPr id="233" name=""/>
            <p:cNvSpPr/>
            <p:nvPr/>
          </p:nvSpPr>
          <p:spPr>
            <a:xfrm>
              <a:off x="5638680" y="3886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4" name=""/>
            <p:cNvCxnSpPr/>
            <p:nvPr/>
          </p:nvCxnSpPr>
          <p:spPr>
            <a:xfrm flipV="1">
              <a:off x="4800600" y="3961800"/>
              <a:ext cx="861120" cy="47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28" idx="6"/>
              <a:endCxn id="233" idx="1"/>
            </p:cNvCxnSpPr>
            <p:nvPr/>
          </p:nvCxnSpPr>
          <p:spPr>
            <a:xfrm>
              <a:off x="4800600" y="3429000"/>
              <a:ext cx="861120" cy="48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" name=""/>
            <p:cNvSpPr/>
            <p:nvPr/>
          </p:nvSpPr>
          <p:spPr>
            <a:xfrm>
              <a:off x="4861080" y="350532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76920" y="3930480"/>
              <a:ext cx="473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91320" y="373392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16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i="1" lang="en-US" sz="1600" spc="-1" strike="noStrike">
                  <a:solidFill>
                    <a:srgbClr val="3333cc"/>
                  </a:solidFill>
                  <a:latin typeface="Times New Roman"/>
                </a:rPr>
                <a:t>=1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5E4-ADEF-40B2-A5EB-B9F454CC2CA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2A0C9-4F4A-4F1B-9223-3A154A132B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 Deductio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0" name="grasp_deduce" descr=""/>
          <p:cNvPicPr/>
          <p:nvPr/>
        </p:nvPicPr>
        <p:blipFill>
          <a:blip r:embed="rId1"/>
          <a:stretch/>
        </p:blipFill>
        <p:spPr>
          <a:xfrm>
            <a:off x="1549440" y="1905120"/>
            <a:ext cx="6375240" cy="4419360"/>
          </a:xfrm>
          <a:prstGeom prst="rect">
            <a:avLst/>
          </a:prstGeom>
          <a:ln w="2844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194-1A0C-4E55-AEB5-E55B7D34725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ED5F6-D03B-417A-96EC-6E813026EA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propositional formula in CNF, find an assignment to boolean variables that makes the formula tru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657600"/>
            <a:ext cx="3962520" cy="23299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 = {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0,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1,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=0,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1}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4495680"/>
            <a:ext cx="198108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3847"/>
              <a:gd name="adj5" fmla="val 132916"/>
              <a:gd name="adj6" fmla="val -3020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Tisfying assignme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992-0A72-4F8C-8552-A0897F6B36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8A927-737C-4AE1-AF30-25FE9650B2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SP Conflict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a conflict arises, analyze the implication graph at current decisio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new clauses that would prevent the occurrence of the same conflict in the futu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decision level to backtrack to, might not be the immediate on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n-chronological backtr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0CB-DB62-4D48-8B65-2D57030B257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EEFC1-9DAB-4CC7-9023-518F0E6480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the assignment that caused the conflict, negation of this assignment is called conflict induced clause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junct of this assignment is necessary condition for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adding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prevent the occurrence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6EA-16AB-4134-BDB5-03731BB1093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0929A-CEE9-42D7-AEA1-D0AA51FCA7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a backward traversal of the IG, find the roots of the IG in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ransitive fan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our example IG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 = 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 x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9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 x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10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 x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29A-8B4B-49C3-8154-1501158E713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6BF0C-ABC8-408F-AA69-162CE95E50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895480" y="2590920"/>
            <a:ext cx="426744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4343400"/>
            <a:ext cx="7010280" cy="160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9144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node of an IG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partition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(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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x) = {(y,v(y))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(x)|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y)&lt;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x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x) = {(y,v(y))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(x)|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y)=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x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ing assignmen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) = causesof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(some math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371600" y="4343400"/>
            <a:ext cx="7010280" cy="1618200"/>
            <a:chOff x="1371600" y="4343400"/>
            <a:chExt cx="7010280" cy="1618200"/>
          </a:xfrm>
        </p:grpSpPr>
        <p:grpSp>
          <p:nvGrpSpPr>
            <p:cNvPr id="252" name=""/>
            <p:cNvGrpSpPr/>
            <p:nvPr/>
          </p:nvGrpSpPr>
          <p:grpSpPr>
            <a:xfrm>
              <a:off x="3276720" y="4343400"/>
              <a:ext cx="5105160" cy="1618200"/>
              <a:chOff x="3276720" y="4343400"/>
              <a:chExt cx="5105160" cy="1618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581280" y="4343400"/>
                <a:ext cx="480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(x,v(x))  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if</a:t>
                </a:r>
                <a:r>
                  <a:rPr b="0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A(x) = </a:t>
                </a:r>
                <a:r>
                  <a:rPr b="0" i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43480" y="5105520"/>
                <a:ext cx="4686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</a:t>
                </a:r>
                <a:r>
                  <a:rPr b="0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(x) </a:t>
                </a:r>
                <a:r>
                  <a:rPr b="0" i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</a:t>
                </a:r>
                <a:r>
                  <a:rPr b="0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4800" spc="-1" strike="noStrike">
                    <a:solidFill>
                      <a:srgbClr val="3333cc"/>
                    </a:solidFill>
                    <a:latin typeface="Times New Roman"/>
                  </a:rPr>
                  <a:t>[  </a:t>
                </a:r>
                <a:r>
                  <a:rPr b="1" lang="en-US" sz="4400" spc="-1" strike="noStrike" baseline="30000">
                    <a:solidFill>
                      <a:srgbClr val="3333cc"/>
                    </a:solidFill>
                    <a:latin typeface="Symbol"/>
                    <a:ea typeface="Symbol"/>
                  </a:rPr>
                  <a:t></a:t>
                </a:r>
                <a:r>
                  <a:rPr b="1" lang="en-US" sz="4400" spc="-1" strike="noStrike" baseline="30000">
                    <a:solidFill>
                      <a:srgbClr val="3333cc"/>
                    </a:solidFill>
                    <a:latin typeface="Times New Roman"/>
                  </a:rPr>
                  <a:t>       </a:t>
                </a:r>
                <a:r>
                  <a:rPr b="0" i="1" lang="en-US" sz="3200" spc="-1" strike="noStrike" baseline="30000">
                    <a:solidFill>
                      <a:srgbClr val="3333cc"/>
                    </a:solidFill>
                    <a:latin typeface="Times New Roman"/>
                  </a:rPr>
                  <a:t>causesof(y)</a:t>
                </a:r>
                <a:r>
                  <a:rPr b="0" i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lang="en-US" sz="4800" spc="-1" strike="noStrike">
                    <a:solidFill>
                      <a:srgbClr val="3333cc"/>
                    </a:solidFill>
                    <a:latin typeface="Times New Roman"/>
                  </a:rPr>
                  <a:t>]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o/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48320" y="5562720"/>
                <a:ext cx="167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(y,v(y)) </a:t>
                </a:r>
                <a:r>
                  <a:rPr b="0" i="1" lang="en-US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</a:t>
                </a:r>
                <a:r>
                  <a:rPr b="0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0" i="1" lang="en-US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</a:t>
                </a:r>
                <a:r>
                  <a:rPr b="0" i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(x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76720" y="4419720"/>
                <a:ext cx="228600" cy="14475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7440 h 1447560"/>
                  <a:gd name="textAreaBottom" fmla="*/ 1410120 h 14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37160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causesof(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63B-12E8-4805-9648-5B7F8BBAEE7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E0AF5-A027-446B-8B18-E6E6E52A5F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743200" y="3657600"/>
            <a:ext cx="3505320" cy="99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(some math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ing conflicting clause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om the conflicting assignment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straight forw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our IG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743200" y="3657600"/>
            <a:ext cx="3505320" cy="999360"/>
            <a:chOff x="2743200" y="3657600"/>
            <a:chExt cx="3505320" cy="999360"/>
          </a:xfrm>
        </p:grpSpPr>
        <p:sp>
          <p:nvSpPr>
            <p:cNvPr id="262" name=""/>
            <p:cNvSpPr/>
            <p:nvPr/>
          </p:nvSpPr>
          <p:spPr>
            <a:xfrm>
              <a:off x="2743200" y="3657600"/>
              <a:ext cx="3505320" cy="8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</a:t>
              </a:r>
              <a:r>
                <a:rPr b="0" i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i="1" lang="en-US" sz="32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</a:t>
              </a:r>
              <a:r>
                <a:rPr b="0" i="1" lang="en-US" sz="3200" spc="-1" strike="noStrike">
                  <a:solidFill>
                    <a:srgbClr val="3333cc"/>
                  </a:solidFill>
                  <a:latin typeface="Times New Roman"/>
                </a:rPr>
                <a:t>) =     </a:t>
              </a:r>
              <a:r>
                <a:rPr b="0" i="1" lang="en-US" sz="4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</a:t>
              </a:r>
              <a:r>
                <a:rPr b="0" i="1" lang="en-US" sz="4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3333cc"/>
                  </a:solidFill>
                  <a:latin typeface="Times New Roman"/>
                </a:rPr>
                <a:t>  x</a:t>
              </a:r>
              <a:r>
                <a:rPr b="0" i="1" lang="en-US" sz="3200" spc="-1" strike="noStrike" baseline="30000">
                  <a:solidFill>
                    <a:srgbClr val="3333cc"/>
                  </a:solidFill>
                  <a:latin typeface="Times New Roman"/>
                </a:rPr>
                <a:t>v(x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86200" y="4114800"/>
              <a:ext cx="190512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(x,v(x))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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 A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C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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05120" y="5562720"/>
            <a:ext cx="670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 = {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1@6,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9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0@1,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0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 0@3,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1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 0@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2FC1-0DD1-438E-A77B-55D07D4ED28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7FB1D-72B8-480A-9FEE-6D759AF8BC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que implication points (UIPs) of an IG also provide conflict cla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of new clauses increases clause database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uristically delete clauses based on a user parame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ze of learned clause &gt; parameter, don’t includ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A5E-E85C-4427-85C8-18FB3820445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C5BF8-C739-4C8A-ABAA-9A52709ED9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ailure driven asser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FDA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lves current decision variable, then after addition, it becomes unit clause, so different assignment for the current variable is immediately tri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ur IG, after erasing the assignment at level 6,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omes a unit clause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mmediately implie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6062-9EEE-49FC-AF3A-FE60B7405E1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C81E6-CB56-4CDB-9233-2F20ED58E9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inued I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/>
          <p:nvPr/>
        </p:nvCxnSpPr>
        <p:spPr>
          <a:xfrm flipV="1">
            <a:off x="3352680" y="3961800"/>
            <a:ext cx="861120" cy="47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endCxn id="270" idx="1"/>
          </p:cNvCxnSpPr>
          <p:nvPr/>
        </p:nvCxnSpPr>
        <p:spPr>
          <a:xfrm>
            <a:off x="3352680" y="3429000"/>
            <a:ext cx="8611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3413160" y="3505320"/>
            <a:ext cx="47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3930480"/>
            <a:ext cx="47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148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3352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5105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3886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3352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4343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/>
          <p:nvPr/>
        </p:nvCxnSpPr>
        <p:spPr>
          <a:xfrm>
            <a:off x="1371600" y="3429000"/>
            <a:ext cx="8611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/>
          <p:nvPr/>
        </p:nvCxnSpPr>
        <p:spPr>
          <a:xfrm flipV="1">
            <a:off x="1425600" y="3961800"/>
            <a:ext cx="861120" cy="47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/>
          <p:nvPr/>
        </p:nvCxnSpPr>
        <p:spPr>
          <a:xfrm flipV="1">
            <a:off x="2340000" y="3428640"/>
            <a:ext cx="8611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/>
          <p:nvPr/>
        </p:nvCxnSpPr>
        <p:spPr>
          <a:xfrm>
            <a:off x="2362320" y="4038480"/>
            <a:ext cx="8611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7"/>
            <a:endCxn id="276" idx="3"/>
          </p:cNvCxnSpPr>
          <p:nvPr/>
        </p:nvCxnSpPr>
        <p:spPr>
          <a:xfrm flipV="1">
            <a:off x="2797200" y="4548960"/>
            <a:ext cx="42624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1" idx="6"/>
            <a:endCxn id="279" idx="2"/>
          </p:cNvCxnSpPr>
          <p:nvPr/>
        </p:nvCxnSpPr>
        <p:spPr>
          <a:xfrm>
            <a:off x="914400" y="396216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2362320" y="5181480"/>
            <a:ext cx="114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449568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297180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8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373392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4464000"/>
            <a:ext cx="106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280" y="35496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301608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0@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51040" y="4572000"/>
            <a:ext cx="47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4159080"/>
            <a:ext cx="47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38280" y="3352680"/>
            <a:ext cx="47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41590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38862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3352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358128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13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=1@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302" idx="2"/>
            <a:endCxn id="270" idx="6"/>
          </p:cNvCxnSpPr>
          <p:nvPr/>
        </p:nvCxnSpPr>
        <p:spPr>
          <a:xfrm flipH="1">
            <a:off x="4342680" y="396216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4479840" y="3930480"/>
            <a:ext cx="47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2971800"/>
            <a:ext cx="1905120" cy="2057400"/>
          </a:xfrm>
          <a:custGeom>
            <a:avLst/>
            <a:gdLst/>
            <a:ahLst/>
            <a:rect l="l" t="t" r="r" b="b"/>
            <a:pathLst>
              <a:path w="1200" h="1296">
                <a:moveTo>
                  <a:pt x="0" y="336"/>
                </a:moveTo>
                <a:lnTo>
                  <a:pt x="432" y="0"/>
                </a:lnTo>
                <a:lnTo>
                  <a:pt x="912" y="240"/>
                </a:lnTo>
                <a:lnTo>
                  <a:pt x="1200" y="672"/>
                </a:lnTo>
                <a:lnTo>
                  <a:pt x="1008" y="1056"/>
                </a:lnTo>
                <a:lnTo>
                  <a:pt x="432" y="1296"/>
                </a:lnTo>
                <a:lnTo>
                  <a:pt x="0" y="1104"/>
                </a:lnTo>
                <a:lnTo>
                  <a:pt x="0" y="33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5334120"/>
            <a:ext cx="1523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e to 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85800" y="48765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2362320"/>
            <a:ext cx="609840" cy="6094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400440" y="2895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3429000"/>
            <a:ext cx="609840" cy="6094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38680" y="4495680"/>
            <a:ext cx="609840" cy="6098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5486400"/>
            <a:ext cx="609480" cy="6094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5486400"/>
            <a:ext cx="609480" cy="6094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019560" y="3962520"/>
            <a:ext cx="22860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562360" y="502920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2200" y="502920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1320" y="2971800"/>
            <a:ext cx="1396800" cy="2743200"/>
          </a:xfrm>
          <a:custGeom>
            <a:avLst/>
            <a:gdLst/>
            <a:ahLst/>
            <a:rect l="l" t="t" r="r" b="b"/>
            <a:pathLst>
              <a:path w="880" h="1728">
                <a:moveTo>
                  <a:pt x="0" y="1728"/>
                </a:moveTo>
                <a:cubicBezTo>
                  <a:pt x="64" y="1668"/>
                  <a:pt x="128" y="1608"/>
                  <a:pt x="192" y="1584"/>
                </a:cubicBezTo>
                <a:cubicBezTo>
                  <a:pt x="256" y="1560"/>
                  <a:pt x="280" y="1648"/>
                  <a:pt x="384" y="1584"/>
                </a:cubicBezTo>
                <a:cubicBezTo>
                  <a:pt x="488" y="1520"/>
                  <a:pt x="752" y="1464"/>
                  <a:pt x="816" y="1200"/>
                </a:cubicBezTo>
                <a:cubicBezTo>
                  <a:pt x="880" y="936"/>
                  <a:pt x="824" y="468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86600" y="19051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sion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2590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20120" y="3549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0120" y="4616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5486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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62D-7E04-4602-8988-E9D43210DE5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B0E28-0A04-4BAF-8DCD-25308B8916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nflict Directed Backtra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deriving a new IG after setting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FDA, we get another conflict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n-chronological backtr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decision level 3, because backtracking to any level 5, 4 would generate the same conflict </a:t>
            </a:r>
            <a:r>
              <a:rPr b="0" i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A98-6481-4DE0-89A6-A4277C3FDFF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71782-E63A-4012-A1DF-C05F6C8F84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lict Directed Backtracking cont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track level is given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= d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hronologic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acktr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&lt; d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n-chronologic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acktr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2622600"/>
            <a:ext cx="693396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’) = {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9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0@1,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0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0@3,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1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0@3,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1@2,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1@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 = (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9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0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1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2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13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2895480"/>
            <a:ext cx="46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4191120"/>
            <a:ext cx="3962160" cy="510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= max{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x)|(x,v(x))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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’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74F-31BE-456E-B4A8-95421A951B5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35A72-B158-4A13-90F1-6FE2A597EB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olution 1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arch through all assignment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ariabl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ssible assignments,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xplosio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 is a classic NP-Complete problem, solve SAT and P=NP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80F-9D8E-4574-AB39-DFEB98CEA3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45549-7490-406F-82CB-54EC81DB9B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 </a:t>
            </a:r>
            <a:r>
              <a:rPr b="0" lang="en-US" sz="4400" spc="-1" strike="noStrike">
                <a:solidFill>
                  <a:srgbClr val="333399"/>
                </a:solidFill>
                <a:latin typeface="Courier New"/>
              </a:rPr>
              <a:t>Diagnose(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3" name="grasp_diagnose" descr=""/>
          <p:cNvPicPr/>
          <p:nvPr/>
        </p:nvPicPr>
        <p:blipFill>
          <a:blip r:embed="rId1"/>
          <a:stretch/>
        </p:blipFill>
        <p:spPr>
          <a:xfrm>
            <a:off x="1357200" y="2039760"/>
            <a:ext cx="6338880" cy="41259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34F-82F4-41A3-AF11-3CF21E60C22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E6412-E814-413C-8FF7-562425F30B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 that al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ge overhead for constrain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ecision heur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learning, problem specif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etter engineering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ha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239-B34F-4D4E-85F1-EF579EEF785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543AC-4B41-443A-95D0-0068F6CCEB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S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damental problem from theoretical point of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erous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D, VL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 Checking and other type of formal ver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, planning, automated de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7BA-9A71-4FB3-8888-9E4B4438B9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606EA-3D4B-421E-A71A-996B3F292A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i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Backtracking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ers to future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5334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ease interrupt me if anything is not cle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D2E-6E83-4438-9AE5-E90DF4626D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2D75B-6F28-4078-A463-B4BA57EC8E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36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NF formula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,v(x)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A| &lt; 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rt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signmen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}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A| = 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mple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signment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}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 0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unsatisfying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men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atisfy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signmen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,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1)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2209680"/>
            <a:ext cx="3352680" cy="203940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(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 = {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0,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1, </a:t>
            </a:r>
            <a:r>
              <a:rPr b="0" i="1" lang="en-US" sz="20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9900"/>
                </a:solidFill>
                <a:latin typeface="Times New Roman"/>
              </a:rPr>
              <a:t>=0,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1}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236232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886200" y="2895480"/>
            <a:ext cx="1371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91A-D30D-49DB-AE7D-8BCE0BB3A9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E2643-A943-4331-A970-E92089BC7E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ignme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contd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X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solved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{(x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,0), (x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,1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ssignment partitions th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use database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o three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isfied, unsatisfied, unresol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ree litera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unassigned literals of a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ni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#free literals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7953-C699-4AAF-B3BC-A27890B4DA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3E4CF-7888-4CFB-93CE-AE682C8BF3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Backtracking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 the search in the form of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cision 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ode is an assignment, calle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cision assig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th of the node in the decision tre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cision level </a:t>
            </a:r>
            <a:r>
              <a:rPr b="0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x=v@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ssigned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decision lev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F61-8868-483A-9183-5A5CEEE93A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EB0C6-D9CF-4752-88D3-88A89BFCC1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Backtracking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 throug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new decision assignments to explore new regions of search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r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mplied assignm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eduction 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May lead to unsatisfied clauses,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onflict!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ssignment is called conflicting assig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ing assignments leads t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acktr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discard the search sub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-398: GRASP and Chaf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28D-AAB7-4903-96C9-02783BD54B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901B5-CFDF-4BAE-B7A7-AE33BBB898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2:55:36Z</dcterms:created>
  <dc:creator>Vishal</dc:creator>
  <dc:description/>
  <dc:language>en-US</dc:language>
  <cp:lastModifiedBy>pchauhan</cp:lastModifiedBy>
  <dcterms:modified xsi:type="dcterms:W3CDTF">2001-09-20T15:19:20Z</dcterms:modified>
  <cp:revision>253</cp:revision>
  <dc:subject/>
  <dc:title>15-398: GRASP and Chaff</dc:title>
</cp:coreProperties>
</file>