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1D9E-3F1C-4CD0-B955-BD4F45520A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 which step is whi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: simple one, choose the one with most # of sat. cl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duce: do B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nose: do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ase: erase assignment at current decision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tree is maintained implicitly in procedure cal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them it is assigned to each node in the search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ally write down the examples of all types of assig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unsat, same as A but 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7B7-A5E0-4188-B4D5-D931D68E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28F-C2E4-4EC8-ABA8-F2C24FCD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EC5-1320-432F-B330-30EE432B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162-1D5D-43AD-83CD-F003763C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8017-C09C-48C8-93F2-EB167ABB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B84A-46AD-4704-8ADC-A7D5ABB3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2A74-F79C-411B-AE16-664FE2F4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09A1-DECD-45D3-8C14-92FC72B4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CBC3-6CCD-4C4D-956D-25A6EF00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7357-5B6D-4D30-B439-548DB9F3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1A89-24DB-410A-8705-7C939B32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659-7A3F-4C32-8224-727C69D3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181E-4F7A-4E1F-B759-33E92010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310D-7402-412B-A203-D21D1B44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359F-BDA3-4DC3-BA0F-AADFBD63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AC40-1E13-47E0-BA70-A0B49CED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656E-53F3-4C12-9E7D-A4883198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16E4-1AEF-4C52-A0A1-BC94B3CE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D0C-53E2-498E-93CA-FEEC608F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6AF3-9410-44AC-B454-06A30E40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4EC-D598-4C7B-8532-48234DDC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829-112E-4BB2-8495-65F1C182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205B-D1CE-4A99-A942-DB176F75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2B0-4F22-41B7-930E-B2951586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F353-CB98-481A-BF0E-3BADF7F9D06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7B6D-C0E3-480D-92EE-9EFA73B05B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E30E-F86F-4559-A0FA-CA122A2E0045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F4B3-09AB-4C3A-B41F-7751CFA610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-an efficient SAT sol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nkaj Chau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Search in 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2057400"/>
            <a:ext cx="2438640" cy="17233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523880" y="2286000"/>
            <a:ext cx="2286000" cy="1510200"/>
            <a:chOff x="1523880" y="2286000"/>
            <a:chExt cx="2286000" cy="1510200"/>
          </a:xfrm>
        </p:grpSpPr>
        <p:sp>
          <p:nvSpPr>
            <p:cNvPr id="133" name=""/>
            <p:cNvSpPr/>
            <p:nvPr/>
          </p:nvSpPr>
          <p:spPr>
            <a:xfrm>
              <a:off x="3200400" y="2286000"/>
              <a:ext cx="609480" cy="60948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33" idx="3"/>
              <a:endCxn id="135" idx="0"/>
            </p:cNvCxnSpPr>
            <p:nvPr/>
          </p:nvCxnSpPr>
          <p:spPr>
            <a:xfrm flipH="1">
              <a:off x="2590560" y="2820960"/>
              <a:ext cx="699120" cy="975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6" name=""/>
            <p:cNvSpPr/>
            <p:nvPr/>
          </p:nvSpPr>
          <p:spPr>
            <a:xfrm>
              <a:off x="1523880" y="2971800"/>
              <a:ext cx="1524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= 0@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38080" y="5181480"/>
            <a:ext cx="2286000" cy="4572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200" y="3809880"/>
            <a:ext cx="2438280" cy="1371600"/>
            <a:chOff x="457200" y="3809880"/>
            <a:chExt cx="2438280" cy="1371600"/>
          </a:xfrm>
        </p:grpSpPr>
        <p:sp>
          <p:nvSpPr>
            <p:cNvPr id="135" name=""/>
            <p:cNvSpPr/>
            <p:nvPr/>
          </p:nvSpPr>
          <p:spPr>
            <a:xfrm>
              <a:off x="2286000" y="3809880"/>
              <a:ext cx="609480" cy="60984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4114800"/>
              <a:ext cx="15238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= 0@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905120" y="434340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505320" y="4952880"/>
            <a:ext cx="2971800" cy="4572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 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3" idx="5"/>
            <a:endCxn id="141" idx="0"/>
          </p:cNvCxnSpPr>
          <p:nvPr/>
        </p:nvCxnSpPr>
        <p:spPr>
          <a:xfrm>
            <a:off x="3720960" y="2820600"/>
            <a:ext cx="1270800" cy="211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4800600" y="3886200"/>
            <a:ext cx="12952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1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57200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1@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388620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0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388620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0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434340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1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57913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backtrack in this examp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53A1-C33F-40B5-BA05-78C74CFBF83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ED107-7BEE-4904-A46E-B7C4693BD3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Search in 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2057400"/>
            <a:ext cx="3124080" cy="23299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19440" y="1981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33526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0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8098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0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42670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1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4572000"/>
            <a:ext cx="1295640" cy="10666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5334120"/>
            <a:ext cx="2286000" cy="4572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9880" y="3429000"/>
            <a:ext cx="2590920" cy="1905120"/>
            <a:chOff x="3809880" y="3429000"/>
            <a:chExt cx="2590920" cy="1905120"/>
          </a:xfrm>
        </p:grpSpPr>
        <p:sp>
          <p:nvSpPr>
            <p:cNvPr id="158" name=""/>
            <p:cNvSpPr/>
            <p:nvPr/>
          </p:nvSpPr>
          <p:spPr>
            <a:xfrm>
              <a:off x="3809880" y="3429000"/>
              <a:ext cx="609840" cy="60948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6920" y="4495680"/>
              <a:ext cx="15238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= 0@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91120" y="3962520"/>
              <a:ext cx="99036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019920" y="44956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1@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63760" y="2743200"/>
            <a:ext cx="1613160" cy="760320"/>
            <a:chOff x="3263760" y="2743200"/>
            <a:chExt cx="1613160" cy="760320"/>
          </a:xfrm>
        </p:grpSpPr>
        <p:sp>
          <p:nvSpPr>
            <p:cNvPr id="163" name=""/>
            <p:cNvSpPr/>
            <p:nvPr/>
          </p:nvSpPr>
          <p:spPr>
            <a:xfrm>
              <a:off x="3581280" y="2743200"/>
              <a:ext cx="12956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= 0@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4" name=""/>
            <p:cNvCxnSpPr>
              <a:stCxn id="165" idx="5"/>
              <a:endCxn id="158" idx="1"/>
            </p:cNvCxnSpPr>
            <p:nvPr/>
          </p:nvCxnSpPr>
          <p:spPr>
            <a:xfrm>
              <a:off x="3263760" y="2820960"/>
              <a:ext cx="635760" cy="682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166" name=""/>
          <p:cNvGrpSpPr/>
          <p:nvPr/>
        </p:nvGrpSpPr>
        <p:grpSpPr>
          <a:xfrm>
            <a:off x="990720" y="2286000"/>
            <a:ext cx="2361960" cy="2590920"/>
            <a:chOff x="990720" y="2286000"/>
            <a:chExt cx="2361960" cy="2590920"/>
          </a:xfrm>
        </p:grpSpPr>
        <p:sp>
          <p:nvSpPr>
            <p:cNvPr id="165" name=""/>
            <p:cNvSpPr/>
            <p:nvPr/>
          </p:nvSpPr>
          <p:spPr>
            <a:xfrm>
              <a:off x="2743200" y="2286000"/>
              <a:ext cx="609480" cy="60948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65" idx="3"/>
            </p:cNvCxnSpPr>
            <p:nvPr/>
          </p:nvCxnSpPr>
          <p:spPr>
            <a:xfrm flipH="1">
              <a:off x="1751760" y="2820600"/>
              <a:ext cx="1080360" cy="2056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8" name=""/>
            <p:cNvSpPr/>
            <p:nvPr/>
          </p:nvSpPr>
          <p:spPr>
            <a:xfrm>
              <a:off x="990720" y="2971800"/>
              <a:ext cx="12952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= 1@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751-61E7-4C85-8557-E887AC6AE1A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CC47B-DC4E-4BB0-92E0-647CF8809E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dpnew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998720" y="1981080"/>
            <a:ext cx="6688080" cy="4189680"/>
          </a:xfrm>
          <a:prstGeom prst="rect">
            <a:avLst/>
          </a:prstGeom>
          <a:ln w="2844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vis-Putnam revisi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3276720"/>
            <a:ext cx="685800" cy="1371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4876920"/>
            <a:ext cx="762120" cy="76176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37339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952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76520" y="57146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BB8-912A-4C27-B1EB-41D3BBEDC36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09304-9DE5-4B46-8053-CAA8164B4E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RAS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alized sea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gorithm for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isfiability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lem (Silva, Sakallah, ’9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mplication gra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BCP and conflic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earn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new cla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on-chronologica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trackin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EE8-FD59-4AEA-911F-1C525D02E1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69582-96CB-4F08-85E6-EA7AD6906C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 search templ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grasp_template" descr=""/>
          <p:cNvPicPr/>
          <p:nvPr/>
        </p:nvPicPr>
        <p:blipFill>
          <a:blip r:embed="rId1"/>
          <a:stretch/>
        </p:blipFill>
        <p:spPr>
          <a:xfrm>
            <a:off x="2057400" y="1892160"/>
            <a:ext cx="4800600" cy="4508640"/>
          </a:xfrm>
          <a:prstGeom prst="rect">
            <a:avLst/>
          </a:prstGeom>
          <a:ln w="2844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E2D-EE2E-447D-8C29-7082B348A4E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53334-0906-42A5-85B4-68E66C62C9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 Decision Heuristic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du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cide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the variable that satisfies the most #clauses == max occurences as unit clauses at current decis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possibilities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45B-5200-4CF8-92BC-B8F688FDAB5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06878-1984-4EBB-96D8-5962B2539D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 De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olean Constraint Propagation us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mplication gra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he clause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)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=1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must have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variabl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curing in a claus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0 to all other literals is calle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tecedent assignment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for 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y 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z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(x) = {(y,0), (z,1)}, A(y) = {(x,0),(z,1)}, A(z) = {(x,0), (y,0)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s directly responsible for forcing the value of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ecedent assignment of a decision variable is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00A-C5FA-4F6F-9888-E45399BB9C6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B8932-8636-40AA-B701-F0D8E644EE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514600" y="5410080"/>
            <a:ext cx="472428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ication Gra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variable assignment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=v(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decision or impli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ecessors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antecedent assignment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edecessors for decision assignment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nflict vertices hav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(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assignments to vars in the unsatisfied cl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 level for an implied assignment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x) = max{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y)|(y,v(y))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(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965-9AD3-4BF5-90BB-0D467BFBBF8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A7731-BCE3-4CE4-806F-C41681C973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mplication Grap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2743200"/>
            <a:ext cx="2286000" cy="360216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4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4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6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7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8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8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7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8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3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98108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truth assignment: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{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1 ,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3,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3,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2,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3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decision assignment: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{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6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759720" y="3429000"/>
            <a:ext cx="1622160" cy="1190520"/>
            <a:chOff x="6759720" y="3429000"/>
            <a:chExt cx="1622160" cy="1190520"/>
          </a:xfrm>
        </p:grpSpPr>
        <p:cxnSp>
          <p:nvCxnSpPr>
            <p:cNvPr id="192" name=""/>
            <p:cNvCxnSpPr/>
            <p:nvPr/>
          </p:nvCxnSpPr>
          <p:spPr>
            <a:xfrm flipV="1">
              <a:off x="6759720" y="3961800"/>
              <a:ext cx="861120" cy="47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6781680" y="3429000"/>
              <a:ext cx="9151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" name=""/>
            <p:cNvSpPr/>
            <p:nvPr/>
          </p:nvSpPr>
          <p:spPr>
            <a:xfrm>
              <a:off x="6918480" y="35053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34320" y="38545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91520" y="3733920"/>
              <a:ext cx="99036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confli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0120" y="3886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65760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2819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507348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377820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2514600"/>
            <a:ext cx="99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5073480"/>
            <a:ext cx="99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769000" y="2895480"/>
            <a:ext cx="1851120" cy="1013040"/>
            <a:chOff x="5769000" y="2895480"/>
            <a:chExt cx="1851120" cy="1013040"/>
          </a:xfrm>
        </p:grpSpPr>
        <p:sp>
          <p:nvSpPr>
            <p:cNvPr id="207" name=""/>
            <p:cNvSpPr/>
            <p:nvPr/>
          </p:nvSpPr>
          <p:spPr>
            <a:xfrm>
              <a:off x="6705720" y="304812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=1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67280" y="29401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/>
            <p:nvPr/>
          </p:nvCxnSpPr>
          <p:spPr>
            <a:xfrm>
              <a:off x="5791320" y="2895480"/>
              <a:ext cx="86112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/>
            <p:nvPr/>
          </p:nvCxnSpPr>
          <p:spPr>
            <a:xfrm flipV="1">
              <a:off x="5769000" y="3428640"/>
              <a:ext cx="86112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2" name=""/>
            <p:cNvSpPr/>
            <p:nvPr/>
          </p:nvSpPr>
          <p:spPr>
            <a:xfrm>
              <a:off x="5867280" y="335268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791320" y="3962160"/>
            <a:ext cx="1600200" cy="1013040"/>
            <a:chOff x="5791320" y="3962160"/>
            <a:chExt cx="1600200" cy="1013040"/>
          </a:xfrm>
        </p:grpSpPr>
        <p:sp>
          <p:nvSpPr>
            <p:cNvPr id="214" name=""/>
            <p:cNvSpPr/>
            <p:nvPr/>
          </p:nvSpPr>
          <p:spPr>
            <a:xfrm>
              <a:off x="662940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/>
            <p:nvPr/>
          </p:nvCxnSpPr>
          <p:spPr>
            <a:xfrm>
              <a:off x="5791320" y="3962160"/>
              <a:ext cx="861120" cy="47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/>
            <p:nvPr/>
          </p:nvCxnSpPr>
          <p:spPr>
            <a:xfrm flipV="1">
              <a:off x="5845320" y="4495320"/>
              <a:ext cx="86112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5927760" y="40831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3600" y="44197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77120" y="454032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=1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787920" y="4016160"/>
            <a:ext cx="1393560" cy="959040"/>
            <a:chOff x="3787920" y="4016160"/>
            <a:chExt cx="1393560" cy="959040"/>
          </a:xfrm>
        </p:grpSpPr>
        <p:sp>
          <p:nvSpPr>
            <p:cNvPr id="221" name=""/>
            <p:cNvSpPr/>
            <p:nvPr/>
          </p:nvSpPr>
          <p:spPr>
            <a:xfrm>
              <a:off x="46483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/>
            <p:nvPr/>
          </p:nvCxnSpPr>
          <p:spPr>
            <a:xfrm flipV="1">
              <a:off x="3787920" y="4495320"/>
              <a:ext cx="86112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/>
            <p:nvPr/>
          </p:nvCxnSpPr>
          <p:spPr>
            <a:xfrm>
              <a:off x="3809880" y="4016160"/>
              <a:ext cx="861120" cy="47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4" name=""/>
            <p:cNvSpPr/>
            <p:nvPr/>
          </p:nvSpPr>
          <p:spPr>
            <a:xfrm>
              <a:off x="3886200" y="44197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70360" y="40831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67080" y="457200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=1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787920" y="3048120"/>
            <a:ext cx="1393560" cy="860400"/>
            <a:chOff x="3787920" y="3048120"/>
            <a:chExt cx="1393560" cy="860400"/>
          </a:xfrm>
        </p:grpSpPr>
        <p:sp>
          <p:nvSpPr>
            <p:cNvPr id="228" name="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9" name=""/>
            <p:cNvCxnSpPr/>
            <p:nvPr/>
          </p:nvCxnSpPr>
          <p:spPr>
            <a:xfrm flipV="1">
              <a:off x="3787920" y="3428640"/>
              <a:ext cx="86112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0" name=""/>
            <p:cNvSpPr/>
            <p:nvPr/>
          </p:nvSpPr>
          <p:spPr>
            <a:xfrm>
              <a:off x="3886200" y="335268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67080" y="304812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=1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800600" y="3429000"/>
            <a:ext cx="1905120" cy="1012320"/>
            <a:chOff x="4800600" y="3429000"/>
            <a:chExt cx="1905120" cy="1012320"/>
          </a:xfrm>
        </p:grpSpPr>
        <p:sp>
          <p:nvSpPr>
            <p:cNvPr id="233" name=""/>
            <p:cNvSpPr/>
            <p:nvPr/>
          </p:nvSpPr>
          <p:spPr>
            <a:xfrm>
              <a:off x="5638680" y="3886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4" name=""/>
            <p:cNvCxnSpPr/>
            <p:nvPr/>
          </p:nvCxnSpPr>
          <p:spPr>
            <a:xfrm flipV="1">
              <a:off x="4800600" y="3961800"/>
              <a:ext cx="861120" cy="47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28" idx="6"/>
              <a:endCxn id="233" idx="1"/>
            </p:cNvCxnSpPr>
            <p:nvPr/>
          </p:nvCxnSpPr>
          <p:spPr>
            <a:xfrm>
              <a:off x="4800600" y="3429000"/>
              <a:ext cx="86112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" name=""/>
            <p:cNvSpPr/>
            <p:nvPr/>
          </p:nvSpPr>
          <p:spPr>
            <a:xfrm>
              <a:off x="4861080" y="35053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76920" y="393048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91320" y="373392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=1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6F0-D37E-43C5-914D-74B40E3B7FF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B2235-488F-4667-991D-0030D47FB5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 Deductio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0" name="grasp_deduce" descr=""/>
          <p:cNvPicPr/>
          <p:nvPr/>
        </p:nvPicPr>
        <p:blipFill>
          <a:blip r:embed="rId1"/>
          <a:stretch/>
        </p:blipFill>
        <p:spPr>
          <a:xfrm>
            <a:off x="1549440" y="1905120"/>
            <a:ext cx="6375240" cy="4419360"/>
          </a:xfrm>
          <a:prstGeom prst="rect">
            <a:avLst/>
          </a:prstGeom>
          <a:ln w="2844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979-FF13-44F2-9FE5-EE28F5E3D15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A97AA-1DFF-44BC-9D07-352F5AAA89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propositional formula in CNF, find an assignment to boolean variables that makes the formula tru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657600"/>
            <a:ext cx="3962520" cy="23299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 = {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0,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1,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=0,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1}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4495680"/>
            <a:ext cx="198108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3847"/>
              <a:gd name="adj5" fmla="val 132916"/>
              <a:gd name="adj6" fmla="val -3020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Tisfying assignme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CBAD-03D4-41DA-ACBF-91DED6453B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32FBF-A0AB-41B8-A824-E878A1DE34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 Conflict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a conflict arises, analyze the implication graph at current decisio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new clauses that would prevent the occurrence of the same conflict in the futu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decision level to backtrack to, might not be the immediate o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n-chronological backtr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1F0-27F4-4B0E-8C9D-D53B3211180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24432-5BDC-420E-BD3C-ECAFA46106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the assignment that caused the conflict, negation of this assignment is called conflict induced clause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junct of this assignment is necessary condition for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adding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prevent the occurrence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D17-0742-494B-83F3-0FC8346485D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F5817-F629-401D-8E54-59F0DFC8F4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a backward traversal of the IG, find the roots of the IG in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ransitive fan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our example IG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 = 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 x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9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 x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10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 x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7F3D-D903-402F-A39A-1A5CBAAA757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E04FB-45ED-4F08-9B14-E27E45D744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895480" y="2590920"/>
            <a:ext cx="426744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4343400"/>
            <a:ext cx="7010280" cy="160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9144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node of an IG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partitio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(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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x) = {(y,v(y))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(x)|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y)&lt;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x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x) = {(y,v(y))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(x)|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y)=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x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ing assignmen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) = causesof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(some math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371600" y="4343400"/>
            <a:ext cx="7010280" cy="1618200"/>
            <a:chOff x="1371600" y="4343400"/>
            <a:chExt cx="7010280" cy="1618200"/>
          </a:xfrm>
        </p:grpSpPr>
        <p:grpSp>
          <p:nvGrpSpPr>
            <p:cNvPr id="252" name=""/>
            <p:cNvGrpSpPr/>
            <p:nvPr/>
          </p:nvGrpSpPr>
          <p:grpSpPr>
            <a:xfrm>
              <a:off x="3276720" y="4343400"/>
              <a:ext cx="5105160" cy="1618200"/>
              <a:chOff x="3276720" y="4343400"/>
              <a:chExt cx="5105160" cy="1618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581280" y="4343400"/>
                <a:ext cx="480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(x,v(x)) 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if</a:t>
                </a:r>
                <a:r>
                  <a:rPr b="0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A(x) = </a:t>
                </a:r>
                <a:r>
                  <a:rPr b="0" i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43480" y="5105520"/>
                <a:ext cx="4686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</a:t>
                </a:r>
                <a:r>
                  <a:rPr b="0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(x) </a:t>
                </a:r>
                <a:r>
                  <a:rPr b="0" i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</a:t>
                </a:r>
                <a:r>
                  <a:rPr b="0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4800" spc="-1" strike="noStrike">
                    <a:solidFill>
                      <a:srgbClr val="3333cc"/>
                    </a:solidFill>
                    <a:latin typeface="Times New Roman"/>
                  </a:rPr>
                  <a:t>[  </a:t>
                </a:r>
                <a:r>
                  <a:rPr b="1" lang="en-US" sz="4400" spc="-1" strike="noStrike" baseline="30000">
                    <a:solidFill>
                      <a:srgbClr val="3333cc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4400" spc="-1" strike="noStrike" baseline="30000">
                    <a:solidFill>
                      <a:srgbClr val="3333cc"/>
                    </a:solidFill>
                    <a:latin typeface="Times New Roman"/>
                  </a:rPr>
                  <a:t>       </a:t>
                </a:r>
                <a:r>
                  <a:rPr b="0" i="1" lang="en-US" sz="3200" spc="-1" strike="noStrike" baseline="30000">
                    <a:solidFill>
                      <a:srgbClr val="3333cc"/>
                    </a:solidFill>
                    <a:latin typeface="Times New Roman"/>
                  </a:rPr>
                  <a:t>causesof(y)</a:t>
                </a:r>
                <a:r>
                  <a:rPr b="0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4800" spc="-1" strike="noStrike">
                    <a:solidFill>
                      <a:srgbClr val="3333cc"/>
                    </a:solidFill>
                    <a:latin typeface="Times New Roman"/>
                  </a:rPr>
                  <a:t>]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o/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48320" y="5562720"/>
                <a:ext cx="167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(y,v(y)) </a:t>
                </a:r>
                <a:r>
                  <a:rPr b="0" i="1" lang="en-US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i="1" lang="en-US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(x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76720" y="4419720"/>
                <a:ext cx="228600" cy="14475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7440 h 1447560"/>
                  <a:gd name="textAreaBottom" fmla="*/ 1410120 h 14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37160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causesof(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097-437D-427A-AD51-D77D5A6C12B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A0DDC-857C-4733-823C-0957B11477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743200" y="3657600"/>
            <a:ext cx="3505320" cy="99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(some math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ing conflicting clause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om the conflicting assignmen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straight forw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our IG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743200" y="3657600"/>
            <a:ext cx="3505320" cy="999360"/>
            <a:chOff x="2743200" y="3657600"/>
            <a:chExt cx="3505320" cy="999360"/>
          </a:xfrm>
        </p:grpSpPr>
        <p:sp>
          <p:nvSpPr>
            <p:cNvPr id="262" name=""/>
            <p:cNvSpPr/>
            <p:nvPr/>
          </p:nvSpPr>
          <p:spPr>
            <a:xfrm>
              <a:off x="2743200" y="3657600"/>
              <a:ext cx="3505320" cy="8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i="1" lang="en-US" sz="32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</a:t>
              </a:r>
              <a:r>
                <a:rPr b="0" i="1" lang="en-US" sz="3200" spc="-1" strike="noStrike">
                  <a:solidFill>
                    <a:srgbClr val="3333cc"/>
                  </a:solidFill>
                  <a:latin typeface="Times New Roman"/>
                </a:rPr>
                <a:t>) =     </a:t>
              </a:r>
              <a:r>
                <a:rPr b="0" i="1" lang="en-US" sz="4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</a:t>
              </a:r>
              <a:r>
                <a:rPr b="0" i="1" lang="en-US" sz="4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3333cc"/>
                  </a:solidFill>
                  <a:latin typeface="Times New Roman"/>
                </a:rPr>
                <a:t>  x</a:t>
              </a:r>
              <a:r>
                <a:rPr b="0" i="1" lang="en-US" sz="3200" spc="-1" strike="noStrike" baseline="30000">
                  <a:solidFill>
                    <a:srgbClr val="3333cc"/>
                  </a:solidFill>
                  <a:latin typeface="Times New Roman"/>
                </a:rPr>
                <a:t>v(x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86200" y="4114800"/>
              <a:ext cx="190512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(x,v(x))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A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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05120" y="5562720"/>
            <a:ext cx="670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 = {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1@6,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9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0@1,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0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 0@3,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1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 0@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325D-2B23-4FB7-A133-F409331B2F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295ED-5764-4FB3-A59E-614031AF6E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que implication points (UIPs) of an IG also provide conflict cla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of new clauses increases clause database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uristically delete clauses based on a user parame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ze of learned clause &gt; parameter, don’t includ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7BEB-AD35-45EE-A230-61F5BE1B616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05A70-257D-4058-B6ED-1360FB1A4B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ailure driven asser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FDA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lves current decision variable, then after addition, it becomes unit clause, so different assignment for the current variable is immediately tri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ur IG, after erasing the assignment at level 6,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omes a unit clause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mmediately implie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969-3DF5-414A-BA77-CF4F6555E05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D8CBA-953B-4507-B515-6E6DF66EB1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inued I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/>
          <p:nvPr/>
        </p:nvCxnSpPr>
        <p:spPr>
          <a:xfrm flipV="1">
            <a:off x="3352680" y="3961800"/>
            <a:ext cx="861120" cy="47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endCxn id="270" idx="1"/>
          </p:cNvCxnSpPr>
          <p:nvPr/>
        </p:nvCxnSpPr>
        <p:spPr>
          <a:xfrm>
            <a:off x="3352680" y="3429000"/>
            <a:ext cx="8611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3413160" y="3505320"/>
            <a:ext cx="47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3930480"/>
            <a:ext cx="47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148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3352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5105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3886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3352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4343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/>
          <p:nvPr/>
        </p:nvCxnSpPr>
        <p:spPr>
          <a:xfrm>
            <a:off x="1371600" y="3429000"/>
            <a:ext cx="8611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/>
          <p:nvPr/>
        </p:nvCxnSpPr>
        <p:spPr>
          <a:xfrm flipV="1">
            <a:off x="1425600" y="3961800"/>
            <a:ext cx="861120" cy="47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/>
          <p:nvPr/>
        </p:nvCxnSpPr>
        <p:spPr>
          <a:xfrm flipV="1">
            <a:off x="2340000" y="3428640"/>
            <a:ext cx="8611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/>
          <p:nvPr/>
        </p:nvCxnSpPr>
        <p:spPr>
          <a:xfrm>
            <a:off x="2362320" y="4038480"/>
            <a:ext cx="8611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7"/>
            <a:endCxn id="276" idx="3"/>
          </p:cNvCxnSpPr>
          <p:nvPr/>
        </p:nvCxnSpPr>
        <p:spPr>
          <a:xfrm flipV="1">
            <a:off x="2797200" y="4548960"/>
            <a:ext cx="42624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1" idx="6"/>
            <a:endCxn id="279" idx="2"/>
          </p:cNvCxnSpPr>
          <p:nvPr/>
        </p:nvCxnSpPr>
        <p:spPr>
          <a:xfrm>
            <a:off x="914400" y="396216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2362320" y="5181480"/>
            <a:ext cx="114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449568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297180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8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373392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4464000"/>
            <a:ext cx="106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280" y="35496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301608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51040" y="4572000"/>
            <a:ext cx="47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4159080"/>
            <a:ext cx="47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38280" y="3352680"/>
            <a:ext cx="47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41590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38862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3352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358128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3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302" idx="2"/>
            <a:endCxn id="270" idx="6"/>
          </p:cNvCxnSpPr>
          <p:nvPr/>
        </p:nvCxnSpPr>
        <p:spPr>
          <a:xfrm flipH="1">
            <a:off x="4342680" y="396216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4479840" y="3930480"/>
            <a:ext cx="47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2971800"/>
            <a:ext cx="1905120" cy="2057400"/>
          </a:xfrm>
          <a:custGeom>
            <a:avLst/>
            <a:gdLst/>
            <a:ahLst/>
            <a:rect l="l" t="t" r="r" b="b"/>
            <a:pathLst>
              <a:path w="1200" h="1296">
                <a:moveTo>
                  <a:pt x="0" y="336"/>
                </a:moveTo>
                <a:lnTo>
                  <a:pt x="432" y="0"/>
                </a:lnTo>
                <a:lnTo>
                  <a:pt x="912" y="240"/>
                </a:lnTo>
                <a:lnTo>
                  <a:pt x="1200" y="672"/>
                </a:lnTo>
                <a:lnTo>
                  <a:pt x="1008" y="1056"/>
                </a:lnTo>
                <a:lnTo>
                  <a:pt x="432" y="1296"/>
                </a:lnTo>
                <a:lnTo>
                  <a:pt x="0" y="1104"/>
                </a:lnTo>
                <a:lnTo>
                  <a:pt x="0" y="33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5334120"/>
            <a:ext cx="1523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e to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85800" y="48765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2362320"/>
            <a:ext cx="609840" cy="6094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400440" y="2895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3429000"/>
            <a:ext cx="609840" cy="6094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38680" y="4495680"/>
            <a:ext cx="609840" cy="6098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5486400"/>
            <a:ext cx="609480" cy="6094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5486400"/>
            <a:ext cx="609480" cy="6094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019560" y="3962520"/>
            <a:ext cx="22860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562360" y="502920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2200" y="50292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1320" y="2971800"/>
            <a:ext cx="1396800" cy="2743200"/>
          </a:xfrm>
          <a:custGeom>
            <a:avLst/>
            <a:gdLst/>
            <a:ahLst/>
            <a:rect l="l" t="t" r="r" b="b"/>
            <a:pathLst>
              <a:path w="880" h="1728">
                <a:moveTo>
                  <a:pt x="0" y="1728"/>
                </a:moveTo>
                <a:cubicBezTo>
                  <a:pt x="64" y="1668"/>
                  <a:pt x="128" y="1608"/>
                  <a:pt x="192" y="1584"/>
                </a:cubicBezTo>
                <a:cubicBezTo>
                  <a:pt x="256" y="1560"/>
                  <a:pt x="280" y="1648"/>
                  <a:pt x="384" y="1584"/>
                </a:cubicBezTo>
                <a:cubicBezTo>
                  <a:pt x="488" y="1520"/>
                  <a:pt x="752" y="1464"/>
                  <a:pt x="816" y="1200"/>
                </a:cubicBezTo>
                <a:cubicBezTo>
                  <a:pt x="880" y="936"/>
                  <a:pt x="824" y="468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86600" y="19051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sion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2590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20120" y="3549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0120" y="4616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5486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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C73-7F0F-477E-95CD-B155E34EFE1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734EB-9CE6-4808-8C62-7F3414FDCA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nflict Directed Backtra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deriving a new IG after setting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FDA, we get another conflict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n-chronological backtr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decision level 3, because backtracking to any level 5, 4 would generate the same conflict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8DF2-AF69-4E19-B7A7-7FC7A99D034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22336-C12C-4C31-8F5F-19969B2DF4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lict Directed Backtracking cont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track level is given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= d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hronologic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acktr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&lt; d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n-chronologic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acktr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2622600"/>
            <a:ext cx="693396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’) = {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9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0@1,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0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0@3,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1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0@3,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1@2,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1@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 = (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9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0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1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2895480"/>
            <a:ext cx="46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4191120"/>
            <a:ext cx="3962160" cy="510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 max{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x)|(x,v(x))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’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501-12EF-44EC-BC19-659CD40E4FE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3F90B-B485-40FA-8839-E7C58C293E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olution 1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arch through all assignment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ariabl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ssible assignments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xplosio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 is a classic NP-Complete problem, solve SAT and P=NP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E6A-4259-437E-8ED5-1C86C58CCA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D6788-1ED4-4BFA-8D8D-5C6351C093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 </a:t>
            </a:r>
            <a:r>
              <a:rPr b="0" lang="en-US" sz="4400" spc="-1" strike="noStrike">
                <a:solidFill>
                  <a:srgbClr val="333399"/>
                </a:solidFill>
                <a:latin typeface="Courier New"/>
              </a:rPr>
              <a:t>Diagnose(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3" name="grasp_diagnose" descr=""/>
          <p:cNvPicPr/>
          <p:nvPr/>
        </p:nvPicPr>
        <p:blipFill>
          <a:blip r:embed="rId1"/>
          <a:stretch/>
        </p:blipFill>
        <p:spPr>
          <a:xfrm>
            <a:off x="1357200" y="2039760"/>
            <a:ext cx="6338880" cy="41259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0EB-194A-41C7-8155-56CD53A3F24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E1A75-763A-45AE-A935-2FEFA0C643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 that al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ge overhead for constrain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ecision heur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learning, problem specif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etter engineering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ha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E01-7F06-4423-9BFB-3BD25C7ADF3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35B7C-8FA0-4B77-810E-0C248D0BD7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S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damental problem from theoretical point of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erous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D, VL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 Checking and other type of formal ver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, planning, automated de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192-9D96-438F-AB99-14F5239102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A81BD-84C4-4CF0-9D15-7259109743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i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Backtracking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ers to future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5334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ease interrupt me if anything is not cle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1B7-7F5D-47B4-AC35-95BD3179A9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E26B7-1FC7-4A69-953C-028EBB65F0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36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NF formula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,v(x)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A| &lt; 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rt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signmen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}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A| = 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mple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signment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}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 0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unsatisfying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men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atisfy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signmen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2209680"/>
            <a:ext cx="3352680" cy="203940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 = {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0,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1, </a:t>
            </a:r>
            <a:r>
              <a:rPr b="0" i="1" lang="en-US" sz="20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9900"/>
                </a:solidFill>
                <a:latin typeface="Times New Roman"/>
              </a:rPr>
              <a:t>=0,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1}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236232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886200" y="2895480"/>
            <a:ext cx="1371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78F-55C0-41AD-BDB3-0A94D4A227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58FBF-E805-4231-9EAB-566544D087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ignm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contd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X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solved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,1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ssignment partitions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use database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o three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isfied, unsatisfied, unresol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ree litera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unassigned literals of a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ni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#free literals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842-2072-4A36-8413-C226FEFE9E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F9C5B-2244-4E93-BF82-3F1052509D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Backtracking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 the search in the form of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cision 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ode is an assignment, calle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cision assig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th of the node in the decision tre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cision level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=v@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ssigned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decision lev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1908-8B3E-4485-ADA8-F4389DF814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29914-7413-49D2-8E86-D481203257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Backtracking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 throug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new decision assignments to explore new regions of search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r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mplied assignm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duction 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May lead to unsatisfied clauses,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onflict!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ssignment is called conflicting assig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ing assignments leads t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acktr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discard the search sub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3BA2-5C47-44C8-8D3E-1262A886B8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BE193-9D6B-4CA3-8FFD-C8074695E4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2:55:36Z</dcterms:created>
  <dc:creator>Vishal</dc:creator>
  <dc:description/>
  <dc:language>en-US</dc:language>
  <cp:lastModifiedBy>pchauhan</cp:lastModifiedBy>
  <dcterms:modified xsi:type="dcterms:W3CDTF">2001-09-20T15:19:20Z</dcterms:modified>
  <cp:revision>253</cp:revision>
  <dc:subject/>
  <dc:title>15-398: GRASP and Chaff</dc:title>
</cp:coreProperties>
</file>