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4106880" y="8720280"/>
            <a:ext cx="2154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6 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0560" y="8861400"/>
            <a:ext cx="789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6BD0DC1-5152-4BDB-8951-CD3FF1EEE7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hdr"/>
          </p:nvPr>
        </p:nvSpPr>
        <p:spPr>
          <a:xfrm>
            <a:off x="577800" y="298080"/>
            <a:ext cx="272880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4"/>
          </p:nvPr>
        </p:nvSpPr>
        <p:spPr>
          <a:xfrm>
            <a:off x="3768840" y="298080"/>
            <a:ext cx="27273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EB84BB-52E3-4390-AC5C-A461B1A424B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30040" y="8747280"/>
            <a:ext cx="6537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3520" y="8842320"/>
            <a:ext cx="376092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250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250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250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0811-BD86-4B20-A779-661DA39D8D50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9880" y="1143000"/>
            <a:ext cx="85014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54640" y="6248880"/>
            <a:ext cx="23558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urfinkel, Chaki, Oct 2,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000" y="23760"/>
            <a:ext cx="4059360" cy="6094440"/>
            <a:chOff x="27000" y="23760"/>
            <a:chExt cx="4059360" cy="6094440"/>
          </a:xfrm>
        </p:grpSpPr>
        <p:sp>
          <p:nvSpPr>
            <p:cNvPr id="50" name=""/>
            <p:cNvSpPr/>
            <p:nvPr/>
          </p:nvSpPr>
          <p:spPr>
            <a:xfrm>
              <a:off x="27000" y="345924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00" y="1604880"/>
              <a:ext cx="60840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00" y="4405320"/>
              <a:ext cx="62172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00" y="252576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0" y="1930320"/>
              <a:ext cx="3371400" cy="45252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000" y="3782880"/>
              <a:ext cx="3385080" cy="45252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00" y="2851200"/>
              <a:ext cx="4059360" cy="45252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000" y="4729320"/>
              <a:ext cx="2486520" cy="4521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000" y="5667480"/>
              <a:ext cx="1586160" cy="4507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00" y="23760"/>
              <a:ext cx="1612800" cy="45252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00" y="969840"/>
              <a:ext cx="2499480" cy="45252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914400" algn="ctr"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3" marL="1371600" algn="ctr">
              <a:spcAft>
                <a:spcPts val="1125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4" marL="1828800" algn="ctr">
              <a:spcAft>
                <a:spcPts val="1125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cs.umich.edu/~faloul/Tools/pb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cmu.edu/~modelcheck/cbmc/" TargetMode="External"/><Relationship Id="rId2" Type="http://schemas.openxmlformats.org/officeDocument/2006/relationships/hyperlink" Target="http://www.cs.cmu.edu/~modelcheck/cbmc/" TargetMode="External"/><Relationship Id="rId3" Type="http://schemas.openxmlformats.org/officeDocument/2006/relationships/hyperlink" Target="http://www.cs.cmu.edu/~modelcheck/cbmc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CBMC from Command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the list 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show-claims -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eck a single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unwind n --claim x –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bmc --help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2" idx="3"/>
            <a:endCxn id="174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3"/>
            <a:endCxn id="174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3"/>
            <a:endCxn id="175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5" idx="2"/>
            <a:endCxn id="177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2"/>
            <a:endCxn id="176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3"/>
            <a:endCxn id="174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it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a programs into a set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control f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all of the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Single Static Assignment (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with a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SAT assignment into a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Flow Simpl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1371600"/>
            <a:ext cx="8307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ide effect are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e.g., j=i++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becomes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j=i;i=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s made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sz="2000" spc="-1" strike="noStrike">
                <a:solidFill>
                  <a:srgbClr val="3f5367"/>
                </a:solidFill>
                <a:latin typeface="Courier Ne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simplified into on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do whil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unw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can use different unwinding bounds for different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to check whether unwinding is sufficient special “unwinding assertion” claims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gram satisfies all of its claims and all unwinding assertions then it is cor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backwar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mps and recursiv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 Catching with SAT-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iven a program and a claim use a SAT-solver to find whether there exists an execution that violates the cla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9720" y="4267080"/>
            <a:ext cx="3225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3" idx="3"/>
            <a:endCxn id="115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4" idx="3"/>
            <a:endCxn id="115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5" idx="3"/>
            <a:endCxn id="116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6" idx="2"/>
            <a:endCxn id="118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2"/>
            <a:endCxn id="117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rrectness resu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724280"/>
            <a:ext cx="2514600" cy="1067040"/>
          </a:xfrm>
          <a:prstGeom prst="wedgeEllipseCallout">
            <a:avLst>
              <a:gd name="adj1" fmla="val -34912"/>
              <a:gd name="adj2" fmla="val -95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windi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2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In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10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transform when every variable is only assigned o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7040" y="3505320"/>
            <a:ext cx="17056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41320" y="29638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6680" y="29638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18080" y="3497400"/>
            <a:ext cx="15670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 +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y –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114800"/>
            <a:ext cx="718920" cy="574560"/>
          </a:xfrm>
          <a:prstGeom prst="rightArrow">
            <a:avLst>
              <a:gd name="adj1" fmla="val 50000"/>
              <a:gd name="adj2" fmla="val 3128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variable is assigned multiple ti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new variable for the RHS of each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000" y="22860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27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4942440" y="2286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2743200"/>
            <a:ext cx="1714320" cy="1455480"/>
            <a:chOff x="1447920" y="2743200"/>
            <a:chExt cx="1714320" cy="1455480"/>
          </a:xfrm>
        </p:grpSpPr>
        <p:sp>
          <p:nvSpPr>
            <p:cNvPr id="231" name=""/>
            <p:cNvSpPr/>
            <p:nvPr/>
          </p:nvSpPr>
          <p:spPr>
            <a:xfrm>
              <a:off x="1447920" y="2743200"/>
              <a:ext cx="1714320" cy="1455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600200" y="2895480"/>
              <a:ext cx="129708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4952880" y="2743200"/>
            <a:ext cx="1714320" cy="1455840"/>
            <a:chOff x="4952880" y="2743200"/>
            <a:chExt cx="1714320" cy="1455840"/>
          </a:xfrm>
        </p:grpSpPr>
        <p:sp>
          <p:nvSpPr>
            <p:cNvPr id="234" name=""/>
            <p:cNvSpPr/>
            <p:nvPr/>
          </p:nvSpPr>
          <p:spPr>
            <a:xfrm>
              <a:off x="4952880" y="2743200"/>
              <a:ext cx="1714320" cy="1455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5028840" y="2895840"/>
              <a:ext cx="1584360" cy="105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19560" y="1981080"/>
            <a:ext cx="1495800" cy="326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?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3276720"/>
            <a:ext cx="2057400" cy="761760"/>
          </a:xfrm>
          <a:prstGeom prst="wedgeRectCallout">
            <a:avLst>
              <a:gd name="adj1" fmla="val -72685"/>
              <a:gd name="adj2" fmla="val 12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‘x’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44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56383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join point, add new variables with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29640" y="1981080"/>
            <a:ext cx="2669040" cy="3308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?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53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Unbounde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5320" y="2286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are updated “whole array”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5480" y="1546200"/>
            <a:ext cx="1224000" cy="27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4871880" cy="757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209680" y="1371600"/>
            <a:ext cx="718920" cy="574560"/>
            <a:chOff x="2209680" y="1371600"/>
            <a:chExt cx="718920" cy="574560"/>
          </a:xfrm>
        </p:grpSpPr>
        <p:sp>
          <p:nvSpPr>
            <p:cNvPr id="260" name=""/>
            <p:cNvSpPr/>
            <p:nvPr/>
          </p:nvSpPr>
          <p:spPr>
            <a:xfrm>
              <a:off x="2209680" y="137160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352600" y="156204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609480" y="2895480"/>
            <a:ext cx="127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1]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2]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k]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000" y="2895480"/>
            <a:ext cx="29077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: i == 1 ? 5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2 ? 1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k ? 2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2640" y="4419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42720" y="4556160"/>
            <a:ext cx="5344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==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=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(k==2 ? 20 :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1080" y="556272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only as much space as there are uses of the arr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2360" y="1413000"/>
            <a:ext cx="2089080" cy="4465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0520" y="1371600"/>
            <a:ext cx="867420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9080" y="1413000"/>
            <a:ext cx="24494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411280" y="3403440"/>
            <a:ext cx="223920" cy="287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221440" y="1413000"/>
            <a:ext cx="36716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440" y="1679400"/>
            <a:ext cx="1695240" cy="391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844720" y="1662120"/>
            <a:ext cx="1903320" cy="3917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573880" y="2330280"/>
            <a:ext cx="27064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an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ry ANSI-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With bitvector arithmetic, dynamic memory, pointers, …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afety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ray bound checks (i.e., buffer overflow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ivision by zero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ointer checks (i.e., NULL pointer dereferenc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ithmetic overflow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r supplied assertions (i.e.,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assert (i &gt; j)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unwinding, record right hand side of assignments to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very precise points-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pointer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instance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each program loca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ing operations are expanded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-split on pointer object (not: off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Generate assertions on offset and on 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data type assumed to be part of bit-vecto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onsists of pair &lt;object, offset&gt;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 Typeca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1371600"/>
            <a:ext cx="5981760" cy="464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*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 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put1, intput2,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input1 ? (void*)&amp;i : (void*) &amp;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pu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int*)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char*)p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malloc</a:t>
            </a:r>
            <a:r>
              <a:rPr b="0" sz="18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fre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Local variables of function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iliary variables for each dynamically allocated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ze (number of elements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ctive bit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s size (from parameter) and sets activ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erts that active bit is set and clears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local variables: active bit is cleared upon leaving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ing Bit-Vector Logic with S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: all operators modeled with their precise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operators are flattened into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Not efficient for multiplication, divis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Fixed-point for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 uninterpreted functions to reduce to equality logi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milar implementation in UCLI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ut: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Contents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array are interprete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SAT solver happy with first satisfying assignment that is found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ght not look 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484280"/>
            <a:ext cx="3816360" cy="15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349360"/>
            <a:ext cx="3816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1341360"/>
            <a:ext cx="266400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206064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42100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350028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860640"/>
            <a:ext cx="12240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558972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357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3213000"/>
            <a:ext cx="381636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79640" y="386064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3860640"/>
            <a:ext cx="115236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4005360"/>
            <a:ext cx="3816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4797360"/>
            <a:ext cx="381636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-8193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1111111111111111110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SAT solver performs DPLL backtracking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irst satisfying assignment that is found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 values artifact from bit-level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nic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get shortest counterexa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statements that are in the formula actually get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variable for each statement that decides if it is executed or not (conjunc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u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 trace only contains assignments that are actually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T solver picks 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981000"/>
            <a:ext cx="3384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1989000"/>
            <a:ext cx="4681440" cy="3384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88000" y="227664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29973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71628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4797360"/>
            <a:ext cx="86544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68720" y="1989000"/>
            <a:ext cx="42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1}  b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b_1#1:b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2}  a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a_1#1:a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3}  b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4}  a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5}  \guard#1 == a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6}  \guard#0 =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|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1}  c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93080" y="3933720"/>
            <a:ext cx="2050920" cy="865440"/>
          </a:xfrm>
          <a:prstGeom prst="wedgeEllipseCallout">
            <a:avLst>
              <a:gd name="adj1" fmla="val -76083"/>
              <a:gd name="adj2" fmla="val -1004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-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1640" y="1268280"/>
            <a:ext cx="1224000" cy="865440"/>
          </a:xfrm>
          <a:prstGeom prst="wedgeEllipseCallout">
            <a:avLst>
              <a:gd name="adj1" fmla="val -43773"/>
              <a:gd name="adj2" fmla="val 79907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00720" y="1052640"/>
            <a:ext cx="424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4 file length.c lin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5 file length.c lin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ailed assertion: as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ile length.c lin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90520" y="1407960"/>
            <a:ext cx="8307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length typically considered to be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.g., SPIN iteratively searches for shorter counterexamp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one: Minimiz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uth value (0/1) of guar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ight = number of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two: Minimiz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13372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use a SAT Solv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s are ver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completely 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s good as the underlying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upport for many features of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itwise operations, pointer arithmetic, dynamic memory, type cas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eudo Boolean Solver (PB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NF constraints 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constrain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2x + 3y + 6z &lt;= 7, where x, y, z are Boolean variab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objective func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ecision (SAT/UNSAT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Optimizatioin (Minimize/Maximize an objective function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lem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B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umich.edu/~faloul/Tools/pb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MiniSat+ (from MiniSat web pag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95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11280" y="3483000"/>
            <a:ext cx="59760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02040" y="4243320"/>
            <a:ext cx="1213200" cy="655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MC provides 2 modeling (not in ANSI-C)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 nondet_xxx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 non-deterministic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 char nondet_char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odeling external input, unknown environmen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fun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nondet for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spe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 is given non-deterministically, but is taken until return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BC st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6960" y="2808360"/>
            <a:ext cx="52106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s_foo_tak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rab_foo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is_foo_ta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foo_taken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_foo_taken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67040" y="2808360"/>
            <a:ext cx="3382200" cy="971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turn_foo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is_foo_taken =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modeling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ex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sle abort the program, otherwise contin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&gt;0 &amp;&amp; y &lt;= 10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5680" y="1371600"/>
            <a:ext cx="2768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28600" y="1371600"/>
            <a:ext cx="353448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362320"/>
            <a:ext cx="276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2000"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y splitting on the argumen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6273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 assum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NU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305560" cy="44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__CPROVER_assume(p!=NULL);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2743200"/>
            <a:ext cx="883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uaranteed to be called with a non-NULL arg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214800"/>
            <a:ext cx="4800600" cy="3417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x!=NULL);// foo(x)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y!=NULL); //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gers of unrestricted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680" y="1371240"/>
            <a:ext cx="512136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can lead to vacuous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7720" y="2057400"/>
            <a:ext cx="429660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0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5040" y="304812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gram is passed by CMBM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8120" y="396252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must either be checked with assert or used as an idi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7520" y="4572000"/>
            <a:ext cx="399132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user-specifie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, assume, and non-determinism + Programming can be used to specify many interesting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52280" y="2514600"/>
            <a:ext cx="39920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r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x = x + 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gt;10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lt;5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8400" y="3429000"/>
            <a:ext cx="4341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CBMC to check wh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finite exec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53740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7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3800" y="2209680"/>
            <a:ext cx="2815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 always hol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5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209680"/>
            <a:ext cx="27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fou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720" y="3507480"/>
            <a:ext cx="289512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 x = 1, w = 0, z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4" idx="3"/>
            <a:endCxn id="146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2"/>
            <a:endCxn id="149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2"/>
            <a:endCxn id="148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46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C Bounded Model Che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t CMU by Daniel Kroening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s.cmu.edu/~modelcheck/cbmc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platafoms: Windows (requires VisualStudio’s` CL),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mmand line and Eclipse-bas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 scale to programs with over 30K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used to find previously unknown bugs in MS Windows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Supported Language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-C is a low level language, not meant for verification but fo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language feature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Bit vector operators (shifting, and, or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Pointers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er 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memory allocation: malloc/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data types: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har s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de-DE" sz="20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Non-determ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58:48Z</dcterms:created>
  <dc:creator>Arie Gurfinkel</dc:creator>
  <dc:description/>
  <dc:language>en-US</dc:language>
  <cp:lastModifiedBy>arie</cp:lastModifiedBy>
  <cp:lastPrinted>2006-06-21T20:45:34Z</cp:lastPrinted>
  <dcterms:modified xsi:type="dcterms:W3CDTF">2007-10-04T21:34:03Z</dcterms:modified>
  <cp:revision>105</cp:revision>
  <dc:subject/>
  <dc:title>SEI Presentation (Full Color): Preformatted Design and Template Items </dc:title>
</cp:coreProperties>
</file>