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4106880" y="8720280"/>
            <a:ext cx="215424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9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6 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9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0560" y="8861400"/>
            <a:ext cx="7898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BE566B4-93CF-4AF1-8426-8BE93792A1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hdr"/>
          </p:nvPr>
        </p:nvSpPr>
        <p:spPr>
          <a:xfrm>
            <a:off x="577800" y="298080"/>
            <a:ext cx="272880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4"/>
          </p:nvPr>
        </p:nvSpPr>
        <p:spPr>
          <a:xfrm>
            <a:off x="3768840" y="298080"/>
            <a:ext cx="272736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DA9E294-713C-4F4D-A123-F731025C4BB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30040" y="8747280"/>
            <a:ext cx="6537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63520" y="8842320"/>
            <a:ext cx="3760920" cy="2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607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6120" y="137124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553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607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6120" y="3688200"/>
            <a:ext cx="257616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37680" y="304560"/>
            <a:ext cx="80312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55000" y="368820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55000" y="1371240"/>
            <a:ext cx="39042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688200"/>
            <a:ext cx="8001000" cy="21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250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250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250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SzPct val="7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7EA7-08D8-47C6-A55E-76C5315081C7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9880" y="1143000"/>
            <a:ext cx="85014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54640" y="6248880"/>
            <a:ext cx="23558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urfinkel, Chaki, Oct 2,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51680"/>
            <a:ext cx="9144000" cy="70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6321600"/>
            <a:ext cx="5657760" cy="35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© 2006 Carnegie Mellon Univers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000" y="23760"/>
            <a:ext cx="4059360" cy="6094440"/>
            <a:chOff x="27000" y="23760"/>
            <a:chExt cx="4059360" cy="6094440"/>
          </a:xfrm>
        </p:grpSpPr>
        <p:sp>
          <p:nvSpPr>
            <p:cNvPr id="50" name=""/>
            <p:cNvSpPr/>
            <p:nvPr/>
          </p:nvSpPr>
          <p:spPr>
            <a:xfrm>
              <a:off x="27000" y="345924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000" y="1604880"/>
              <a:ext cx="60840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00" y="4405320"/>
              <a:ext cx="62172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00" y="2525760"/>
              <a:ext cx="14936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0" y="1930320"/>
              <a:ext cx="3371400" cy="45252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000" y="3782880"/>
              <a:ext cx="3385080" cy="45252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00" y="2851200"/>
              <a:ext cx="4059360" cy="45252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000" y="4729320"/>
              <a:ext cx="2486520" cy="4521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000" y="5667480"/>
              <a:ext cx="1586160" cy="4507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00" y="23760"/>
              <a:ext cx="1612800" cy="45252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00" y="969840"/>
              <a:ext cx="2499480" cy="45252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506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914400" algn="ctr"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3" marL="1371600" algn="ctr">
              <a:spcAft>
                <a:spcPts val="1125"/>
              </a:spcAft>
              <a:buClr>
                <a:srgbClr val="727272"/>
              </a:buClr>
              <a:buSzPct val="70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4" marL="1828800" algn="ctr">
              <a:spcAft>
                <a:spcPts val="1125"/>
              </a:spcAft>
              <a:buClr>
                <a:srgbClr val="727272"/>
              </a:buClr>
              <a:buSzPct val="70000"/>
              <a:buFont typeface="Time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727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cs.umich.edu/~faloul/Tools/pb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cmu.edu/~modelcheck/cbmc/" TargetMode="External"/><Relationship Id="rId2" Type="http://schemas.openxmlformats.org/officeDocument/2006/relationships/hyperlink" Target="http://www.cs.cmu.edu/~modelcheck/cbmc/" TargetMode="External"/><Relationship Id="rId3" Type="http://schemas.openxmlformats.org/officeDocument/2006/relationships/hyperlink" Target="http://www.cs.cmu.edu/~modelcheck/cbmc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CBMC from Command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e the list 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show-claims -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heck a single 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bmc --unwind n --claim x –I include file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bmc --help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4f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81400" y="572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67080" y="22935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 to CBMC: Part 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67080" y="3352320"/>
            <a:ext cx="4267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ie Gurfinkel, Sagar Cha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tober 2,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52578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slides are courtes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iel Kro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2" idx="3"/>
            <a:endCxn id="174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3"/>
            <a:endCxn id="174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3"/>
            <a:endCxn id="175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5" idx="2"/>
            <a:endCxn id="177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2"/>
            <a:endCxn id="176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3"/>
            <a:endCxn id="174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it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a programs into a set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control f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all of the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Single Static Assignment (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into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with a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SAT assignment into a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Flow Simpl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1371600"/>
            <a:ext cx="8307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ide effect are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e.g., j=i++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becomes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j=i;i=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s made 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sz="2000" spc="-1" strike="noStrike">
                <a:solidFill>
                  <a:srgbClr val="3f5367"/>
                </a:solidFill>
                <a:latin typeface="Courier New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2720" indent="-34272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simplified into on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1428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do while</a:t>
            </a: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 replaced by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oops are unw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can use different unwinding bounds for different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419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to check whether unwinding is sufficient special “unwinding assertion” claims are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gram satisfies all of its claims and all unwinding assertions then it is cor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or backwar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mps and recursiv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 Catching with SAT-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Id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iven a program and a claim use a SAT-solver to find whether there exists an execution that violates the cla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9720" y="4267080"/>
            <a:ext cx="3225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3" idx="3"/>
            <a:endCxn id="115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4" idx="3"/>
            <a:endCxn id="115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5" idx="3"/>
            <a:endCxn id="116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6" idx="2"/>
            <a:endCxn id="118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2"/>
            <a:endCxn id="117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winding asser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1371600"/>
            <a:ext cx="33130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) loops are unwound iter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/ continue replaced by 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rtion inserted after last iteration: violated if program runs longer than bound per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rrectness resul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41300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Bo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sz="1800" spc="-1" strike="noStrike">
                <a:solidFill>
                  <a:srgbClr val="009999"/>
                </a:solidFill>
                <a:latin typeface="Courier New"/>
              </a:rPr>
              <a:t>cond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4724280"/>
            <a:ext cx="2514600" cy="1067040"/>
          </a:xfrm>
          <a:prstGeom prst="wedgeEllipseCallout">
            <a:avLst>
              <a:gd name="adj1" fmla="val -34912"/>
              <a:gd name="adj2" fmla="val -95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windi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2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Insufficient Loop Unwi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1447920"/>
            <a:ext cx="4824360" cy="50403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</a:t>
            </a:r>
            <a:r>
              <a:rPr b="0" sz="1800" spc="-1" strike="noStrike">
                <a:solidFill>
                  <a:srgbClr val="33cc33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assert(!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(j &lt;= 10)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47920"/>
            <a:ext cx="2514600" cy="1904760"/>
          </a:xfrm>
          <a:prstGeom prst="foldedCorner">
            <a:avLst>
              <a:gd name="adj" fmla="val 6157"/>
            </a:avLst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void f(...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0" lang="en-US" sz="1800" spc="-1" strike="noStrike">
                <a:solidFill>
                  <a:srgbClr val="009999"/>
                </a:solidFill>
                <a:latin typeface="Courier New"/>
              </a:rPr>
              <a:t>j &lt;= 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j = j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ain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8862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win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transform when every variable is only assigned o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17040" y="3505320"/>
            <a:ext cx="17056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41320" y="29638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66680" y="296388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18080" y="3497400"/>
            <a:ext cx="156708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x +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y – 1 &amp;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114800"/>
            <a:ext cx="718920" cy="574560"/>
          </a:xfrm>
          <a:prstGeom prst="rightArrow">
            <a:avLst>
              <a:gd name="adj1" fmla="val 50000"/>
              <a:gd name="adj2" fmla="val 3128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ing Loop-Free Programs Into Equation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variable is assigned multiple tim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new variable for the RHS of each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000" y="22860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27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4942440" y="2286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47920" y="2743200"/>
            <a:ext cx="1714320" cy="1455480"/>
            <a:chOff x="1447920" y="2743200"/>
            <a:chExt cx="1714320" cy="1455480"/>
          </a:xfrm>
        </p:grpSpPr>
        <p:sp>
          <p:nvSpPr>
            <p:cNvPr id="231" name=""/>
            <p:cNvSpPr/>
            <p:nvPr/>
          </p:nvSpPr>
          <p:spPr>
            <a:xfrm>
              <a:off x="1447920" y="2743200"/>
              <a:ext cx="1714320" cy="1455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1600200" y="2895480"/>
              <a:ext cx="1297080" cy="10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4952880" y="2743200"/>
            <a:ext cx="1714320" cy="1455840"/>
            <a:chOff x="4952880" y="2743200"/>
            <a:chExt cx="1714320" cy="1455840"/>
          </a:xfrm>
        </p:grpSpPr>
        <p:sp>
          <p:nvSpPr>
            <p:cNvPr id="234" name=""/>
            <p:cNvSpPr/>
            <p:nvPr/>
          </p:nvSpPr>
          <p:spPr>
            <a:xfrm>
              <a:off x="4952880" y="2743200"/>
              <a:ext cx="1714320" cy="1455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5028840" y="2895840"/>
              <a:ext cx="1584360" cy="1054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19560" y="1981080"/>
            <a:ext cx="1495800" cy="3261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?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3276720"/>
            <a:ext cx="2057400" cy="761760"/>
          </a:xfrm>
          <a:prstGeom prst="wedgeRectCallout">
            <a:avLst>
              <a:gd name="adj1" fmla="val -72685"/>
              <a:gd name="adj2" fmla="val 12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‘x’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44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conditional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56383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join point, add new variables with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46000" y="1295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42440" y="12952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0840" y="1981080"/>
            <a:ext cx="140112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29640" y="1981080"/>
            <a:ext cx="2669040" cy="33087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?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581280" y="3124080"/>
            <a:ext cx="718920" cy="574560"/>
            <a:chOff x="3581280" y="3124080"/>
            <a:chExt cx="718920" cy="574560"/>
          </a:xfrm>
        </p:grpSpPr>
        <p:sp>
          <p:nvSpPr>
            <p:cNvPr id="253" name=""/>
            <p:cNvSpPr/>
            <p:nvPr/>
          </p:nvSpPr>
          <p:spPr>
            <a:xfrm>
              <a:off x="3581280" y="312408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724200" y="331452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Unbounde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5320" y="22860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are updated “whole array”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5480" y="1546200"/>
            <a:ext cx="1224000" cy="27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4871880" cy="757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2209680" y="1371600"/>
            <a:ext cx="718920" cy="574560"/>
            <a:chOff x="2209680" y="1371600"/>
            <a:chExt cx="718920" cy="574560"/>
          </a:xfrm>
        </p:grpSpPr>
        <p:sp>
          <p:nvSpPr>
            <p:cNvPr id="260" name=""/>
            <p:cNvSpPr/>
            <p:nvPr/>
          </p:nvSpPr>
          <p:spPr>
            <a:xfrm>
              <a:off x="2209680" y="1371600"/>
              <a:ext cx="718920" cy="574560"/>
            </a:xfrm>
            <a:prstGeom prst="rightArrow">
              <a:avLst>
                <a:gd name="adj1" fmla="val 50000"/>
                <a:gd name="adj2" fmla="val 31281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352600" y="1562040"/>
              <a:ext cx="22356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609480" y="2895480"/>
            <a:ext cx="127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1] = 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2]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k] =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000" y="2895480"/>
            <a:ext cx="29077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: i == 1 ? 5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2 ? 1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: i == k ? 20 :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2640" y="4419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42720" y="4556160"/>
            <a:ext cx="5344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1]==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 =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2] == (k==2 ? 20 :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1080" y="5562720"/>
            <a:ext cx="65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only as much space as there are uses of the arr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2360" y="1413000"/>
            <a:ext cx="2089080" cy="4465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0520" y="1371600"/>
            <a:ext cx="867420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9080" y="1413000"/>
            <a:ext cx="24494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411280" y="3403440"/>
            <a:ext cx="223920" cy="287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221440" y="1413000"/>
            <a:ext cx="3671640" cy="4464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3213000"/>
            <a:ext cx="719280" cy="574920"/>
          </a:xfrm>
          <a:prstGeom prst="rightArrow">
            <a:avLst>
              <a:gd name="adj1" fmla="val 50000"/>
              <a:gd name="adj2" fmla="val 3127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440" y="1679400"/>
            <a:ext cx="1695240" cy="391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844720" y="1662120"/>
            <a:ext cx="1903320" cy="3917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573880" y="2330280"/>
            <a:ext cx="27064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an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ry ANSI-C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With bitvector arithmetic, dynamic memory, pointers, …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afety Clai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ray bound checks (i.e., buffer overflow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ivision by zero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ointer checks (i.e., NULL pointer dereferenc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rithmetic overflow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r supplied assertions (i.e.,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assert (i &gt; j)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t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unwinding, record right hand side of assignments to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sults in very precise points-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pointer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eparate for each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instance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each program loca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eferencing operations are expanded in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-split on pointer object (not: off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Generate assertions on offset and on 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data type assumed to be part of bit-vecto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onsists of pair &lt;object, offset&gt;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inter Typecas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1371600"/>
            <a:ext cx="5981760" cy="4648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*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 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put1, intput2, 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input1 ? (void*)&amp;i : (void*) &amp;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pu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int*)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*(char*)p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bj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malloc</a:t>
            </a:r>
            <a:r>
              <a:rPr b="0" sz="18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sz="1800" spc="-1" strike="noStrike">
                <a:solidFill>
                  <a:srgbClr val="3f5367"/>
                </a:solidFill>
                <a:latin typeface="Courier New"/>
              </a:rPr>
              <a:t>fre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Local variables of function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iliary variables for each dynamically allocated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ze (number of elements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Active bit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s size (from parameter) and sets activ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erts that active bit is set and clears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or local variables: active bit is cleared upon leaving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ing Bit-Vector Logic with S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: all operators modeled with their precise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operators are flattened into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Not efficient for multiplication, divis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Fixed-point for 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Use uninterpreted functions to reduce to equality logic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Similar implementation in UCLI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ut: </a:t>
            </a:r>
            <a:r>
              <a:rPr b="0" lang="en-US" sz="1800" spc="-1" strike="noStrike" u="sng">
                <a:solidFill>
                  <a:srgbClr val="3f5367"/>
                </a:solidFill>
                <a:uFillTx/>
                <a:latin typeface="Arial"/>
              </a:rPr>
              <a:t>Contents</a:t>
            </a: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 of array are interpreted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SAT solver happy with first satisfying assignment that is found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ght not look 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1484280"/>
            <a:ext cx="3816360" cy="151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2349360"/>
            <a:ext cx="3816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1341360"/>
            <a:ext cx="266400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206064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42100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350028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860640"/>
            <a:ext cx="12240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5589720"/>
            <a:ext cx="360072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5640" y="3357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3213000"/>
            <a:ext cx="381636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79640" y="386064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3280" y="3860640"/>
            <a:ext cx="115236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4005360"/>
            <a:ext cx="3816360" cy="57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4797360"/>
            <a:ext cx="3816360" cy="13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-8193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1111111111111111110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208038080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000001111111111111010001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402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0011011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SAT solver performs DPLL backtracking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irst satisfying assignment that is found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nge values artifact from bit-level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nic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1407600"/>
            <a:ext cx="8307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get shortest counterexam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statements that are in the formula actually get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variable for each statement that decides if it is executed or not (conjunct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u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 trace only contains assignments that are actually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T solver picks so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981000"/>
            <a:ext cx="3384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1989000"/>
            <a:ext cx="4681440" cy="3384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7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88000" y="227664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29973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371628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35290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4797360"/>
            <a:ext cx="86544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68720" y="1989000"/>
            <a:ext cx="4248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1}  b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b_1#1:b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2}  a_1#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(a_1#0?a_1#1:a_1#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3}  b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4}  a_1#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5}  \guard#1 == a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-6}  \guard#0 ==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|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1}  c_1#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93080" y="3933720"/>
            <a:ext cx="2050920" cy="865440"/>
          </a:xfrm>
          <a:prstGeom prst="wedgeEllipseCallout">
            <a:avLst>
              <a:gd name="adj1" fmla="val -76083"/>
              <a:gd name="adj2" fmla="val -100458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-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51640" y="1268280"/>
            <a:ext cx="1224000" cy="865440"/>
          </a:xfrm>
          <a:prstGeom prst="wedgeEllipseCallout">
            <a:avLst>
              <a:gd name="adj1" fmla="val -43773"/>
              <a:gd name="adj2" fmla="val 79907"/>
            </a:avLst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125360"/>
            <a:ext cx="316872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void f (int a, int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b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sser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00720" y="1052640"/>
            <a:ext cx="4248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4 file length.c line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=0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tate 5 file length.c line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b=1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ailed assertion: as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ile length.c line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90520" y="1407960"/>
            <a:ext cx="83073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length typically considered to be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e.g., SPIN iteratively searches for shorter counterexamp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one: Minimiz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uth value (0/1) of guar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eight = number of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two: Minimiz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13372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use a SAT Solv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s are ver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completely 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as good as the underlying SAT 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upport for many features of a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bitwise operations, pointer arithmetic, dynamic memory, type cas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eudo Boolean Solver (PB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CNF constraints 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constraint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70000"/>
              <a:buFont typeface="Time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2x + 3y + 6z &lt;= 7, where x, y, z are Boolean variable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seudo Boolean objective function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Decision (SAT/UNSAT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Optimizatioin (Minimize/Maximize an objective function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plem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PB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umich.edu/~faloul/Tools/pbs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5367"/>
                </a:solidFill>
                <a:latin typeface="Arial"/>
              </a:rPr>
              <a:t>MiniSat+ (from MiniSat web page)</a:t>
            </a:r>
            <a:endParaRPr b="0" lang="en-US" sz="1800" spc="-1" strike="noStrike">
              <a:solidFill>
                <a:srgbClr val="3f5367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981000"/>
            <a:ext cx="4248360" cy="554508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545080"/>
              <a:gd name="textAreaBottom" fmla="*/ 5337720 h 5545080"/>
            </a:gdLst>
            <a:ahLst/>
            <a:rect l="textAreaLeft" t="textAreaTop" r="textAreaRight" b="textAreaBottom"/>
            <a:pathLst>
              <a:path w="21600" h="28192">
                <a:moveTo>
                  <a:pt x="3600" y="0"/>
                </a:moveTo>
                <a:arcTo wR="3600" hR="3600" stAng="16200000" swAng="-5400000"/>
                <a:lnTo>
                  <a:pt x="0" y="24592"/>
                </a:lnTo>
                <a:arcTo wR="3600" hR="3600" stAng="10800000" swAng="-5400000"/>
                <a:lnTo>
                  <a:pt x="18000" y="28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125360"/>
            <a:ext cx="4319640" cy="5328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981000"/>
            <a:ext cx="4319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void f (int a, int b, int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nt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b &gt; c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b; b = c; c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 (a &lt;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temp = a; a = b; b = te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assert (a&lt;=b &amp;&amp; b&lt;=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3640" y="1052640"/>
            <a:ext cx="42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a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(00000000000000000000000000000000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0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temp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b=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111111111111111111111111111111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t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file sort.c lin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900" spc="-1" strike="noStrike">
                <a:solidFill>
                  <a:srgbClr val="000000"/>
                </a:solidFill>
                <a:latin typeface="Courier New"/>
              </a:rPr>
              <a:t>(000000000000000000000000000000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Failed assertion: asser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sort.c lin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95640" y="3141720"/>
            <a:ext cx="1008000" cy="718920"/>
          </a:xfrm>
          <a:prstGeom prst="rightArrow">
            <a:avLst>
              <a:gd name="adj1" fmla="val 50000"/>
              <a:gd name="adj2" fmla="val 35053"/>
            </a:avLst>
          </a:prstGeom>
          <a:gradFill rotWithShape="0">
            <a:gsLst>
              <a:gs pos="0">
                <a:srgbClr val="6600ff"/>
              </a:gs>
              <a:gs pos="100000">
                <a:srgbClr val="c8d6fe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777f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BM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11280" y="3483000"/>
            <a:ext cx="59760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cc0066"/>
                </a:solidFill>
                <a:latin typeface="Arial"/>
              </a:rPr>
              <a:t>+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02040" y="4243320"/>
            <a:ext cx="1213200" cy="65556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MC provides 2 modeling (not in ANSI-C)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 nondet_xxx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 non-deterministic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 char nondet_char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modeling external input, unknown environment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fun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nondet for mode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spe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 is given non-deterministically, but is taken until return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BC stu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6960" y="2808360"/>
            <a:ext cx="52106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s_foo_tak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grab_foo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!is_foo_ta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foo_taken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_foo_taken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67040" y="2808360"/>
            <a:ext cx="3382200" cy="971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turn_foo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is_foo_taken =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with CBMC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modeling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ex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sle abort the program, otherwise contin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&gt;0 &amp;&amp; y &lt;= 10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5680" y="1371600"/>
            <a:ext cx="2768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28600" y="1371600"/>
            <a:ext cx="353448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362320"/>
            <a:ext cx="2768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2000"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y splitting on the argumen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-Guarantee Reasoning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6273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ct assum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t NU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981080"/>
            <a:ext cx="8305560" cy="44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oo (int* p) { __CPROVER_assume(p!=NULL); 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2743200"/>
            <a:ext cx="8839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uaranteed to be called with a non-NULL arg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214800"/>
            <a:ext cx="4800600" cy="3417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x!=NULL);// foo(x);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y!=NULL); //foo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gers of unrestricted assum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680" y="1371240"/>
            <a:ext cx="512136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can lead to vacuous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47720" y="2057400"/>
            <a:ext cx="429660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0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5040" y="3048120"/>
            <a:ext cx="427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gram is passed by CMBM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8120" y="3962520"/>
            <a:ext cx="74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must either be checked with assert or used as an idi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47520" y="4572000"/>
            <a:ext cx="3991320" cy="1496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nondet_int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_CPROVER_assume (x &lt;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user-specified cla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, assume, and non-determinism + Programming can be used to specify many interesting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52280" y="2514600"/>
            <a:ext cx="3992040" cy="30722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r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x = x + 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gt;10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&lt;5) dir = -1*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8400" y="3429000"/>
            <a:ext cx="4341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CBMC to check wh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finite exec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53740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7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3800" y="2209680"/>
            <a:ext cx="2815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unter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 always hol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(very) simple exampl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8120" y="1981080"/>
            <a:ext cx="2781360" cy="412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=8,z=0,w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 = y –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 y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 (z == 5 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 ==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981080"/>
            <a:ext cx="1982880" cy="2547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x ? y – 1 :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x ? 0 :y + 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!= 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!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9200" y="11541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7960" y="11541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209680"/>
            <a:ext cx="27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example fou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720" y="3507480"/>
            <a:ext cx="289512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8, x = 1, w = 0, z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bout loops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5320" y="1371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 Solver can only explore finite length execu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 must be bounded (i.e., the analysis is incomp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560" y="25909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560" y="32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6280" y="2742120"/>
            <a:ext cx="113004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742120"/>
            <a:ext cx="1058760" cy="862560"/>
          </a:xfrm>
          <a:prstGeom prst="rect">
            <a:avLst/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44960" y="4267080"/>
            <a:ext cx="2715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counter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n is f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1680" y="4267080"/>
            <a:ext cx="2887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unterexample exi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4" idx="3"/>
            <a:endCxn id="146" idx="1"/>
          </p:cNvCxnSpPr>
          <p:nvPr/>
        </p:nvCxnSpPr>
        <p:spPr>
          <a:xfrm>
            <a:off x="1461600" y="2788920"/>
            <a:ext cx="901080" cy="384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1"/>
          </p:cNvCxnSpPr>
          <p:nvPr/>
        </p:nvCxnSpPr>
        <p:spPr>
          <a:xfrm flipV="1">
            <a:off x="1461600" y="3173040"/>
            <a:ext cx="901080" cy="3024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>
            <a:off x="3499920" y="3173040"/>
            <a:ext cx="16059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2"/>
            <a:endCxn id="149" idx="0"/>
          </p:cNvCxnSpPr>
          <p:nvPr/>
        </p:nvCxnSpPr>
        <p:spPr>
          <a:xfrm flipH="1">
            <a:off x="3725280" y="3603240"/>
            <a:ext cx="191052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2"/>
            <a:endCxn id="148" idx="0"/>
          </p:cNvCxnSpPr>
          <p:nvPr/>
        </p:nvCxnSpPr>
        <p:spPr>
          <a:xfrm>
            <a:off x="5635800" y="3603240"/>
            <a:ext cx="1567440" cy="664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560" y="38862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46" idx="2"/>
          </p:cNvCxnSpPr>
          <p:nvPr/>
        </p:nvCxnSpPr>
        <p:spPr>
          <a:xfrm flipV="1">
            <a:off x="1603080" y="3603240"/>
            <a:ext cx="1329480" cy="481680"/>
          </a:xfrm>
          <a:prstGeom prst="bentConnector2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C Bounded Model Che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0010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at CMU by Daniel Kroening et 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s.cmu.edu/~modelcheck/cbmc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platafoms: Windows (requires VisualStudio’s` CL),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command line and Eclipse-based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to scale to programs with over 30K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used to find previously unknown bugs in MS Windows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304560"/>
            <a:ext cx="8031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MC: Supported Language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520" y="1371600"/>
            <a:ext cx="8307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-C is a low level language, not meant for verification but fo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language features,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Bit vector operators (shifting, and, or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Pointers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er arithm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memory allocation: malloc/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Dynamic data types: </a:t>
            </a:r>
            <a:r>
              <a:rPr b="0" lang="en-US" sz="2000" spc="-1" strike="noStrike">
                <a:solidFill>
                  <a:srgbClr val="3f5367"/>
                </a:solidFill>
                <a:latin typeface="Courier New"/>
              </a:rPr>
              <a:t>char s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lnSpc>
                <a:spcPct val="100000"/>
              </a:lnSpc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float</a:t>
            </a:r>
            <a:r>
              <a:rPr b="0" lang="de-DE" sz="2000" spc="-1" strike="noStrike">
                <a:solidFill>
                  <a:srgbClr val="3f5367"/>
                </a:solidFill>
                <a:latin typeface="Arial"/>
              </a:rPr>
              <a:t> / </a:t>
            </a:r>
            <a:r>
              <a:rPr b="0" lang="de-DE" sz="2000" spc="-1" strike="noStrike">
                <a:solidFill>
                  <a:srgbClr val="3f5367"/>
                </a:solidFill>
                <a:latin typeface="Courier New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65040">
              <a:spcAft>
                <a:spcPts val="1250"/>
              </a:spcAft>
              <a:buClr>
                <a:srgbClr val="3f5367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5367"/>
                </a:solidFill>
                <a:latin typeface="Arial"/>
              </a:rPr>
              <a:t>Non-determ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58:48Z</dcterms:created>
  <dc:creator>Arie Gurfinkel</dc:creator>
  <dc:description/>
  <dc:language>en-US</dc:language>
  <cp:lastModifiedBy>arie</cp:lastModifiedBy>
  <cp:lastPrinted>2006-06-21T20:45:34Z</cp:lastPrinted>
  <dcterms:modified xsi:type="dcterms:W3CDTF">2007-10-04T21:34:03Z</dcterms:modified>
  <cp:revision>105</cp:revision>
  <dc:subject/>
  <dc:title>SEI Presentation (Full Color): Preformatted Design and Template Items </dc:title>
</cp:coreProperties>
</file>