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3"/>
          </p:nvPr>
        </p:nvSpPr>
        <p:spPr>
          <a:xfrm>
            <a:off x="4106880" y="8720280"/>
            <a:ext cx="2154240" cy="468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6 Carnegie Mellon Univers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9000"/>
              </a:lnSpc>
              <a:spcBef>
                <a:spcPts val="4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80560" y="8861400"/>
            <a:ext cx="7898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401C683-A5D6-4886-8C5F-AD4957F7D8A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hdr"/>
          </p:nvPr>
        </p:nvSpPr>
        <p:spPr>
          <a:xfrm>
            <a:off x="577800" y="298080"/>
            <a:ext cx="272880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dt" idx="4"/>
          </p:nvPr>
        </p:nvSpPr>
        <p:spPr>
          <a:xfrm>
            <a:off x="3768840" y="298080"/>
            <a:ext cx="27273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C55265C-C69B-4316-9A7A-122A967E38E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30040" y="8747280"/>
            <a:ext cx="6537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63520" y="8842320"/>
            <a:ext cx="3760920" cy="2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tle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tle and Subtitle text blocks should not be moved from their position if at all possi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tle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tle and Subtitle text blocks should not be moved from their position if at all possi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5320" y="3688200"/>
            <a:ext cx="80010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532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5500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60720" y="137124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66120" y="137124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5320" y="368820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60720" y="368820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66120" y="368820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37680" y="304560"/>
            <a:ext cx="80312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5532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5500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55320" y="3688200"/>
            <a:ext cx="80010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5320" y="3688200"/>
            <a:ext cx="80010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5532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5500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60720" y="137124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6120" y="137124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55320" y="368820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060720" y="368820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6120" y="368820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37680" y="304560"/>
            <a:ext cx="80312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532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5500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5320" y="3688200"/>
            <a:ext cx="80010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151680"/>
            <a:ext cx="9144000" cy="70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250"/>
              </a:spcAft>
              <a:buClr>
                <a:srgbClr val="3f5367"/>
              </a:buClr>
              <a:buSzPct val="70000"/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250"/>
              </a:spcAft>
              <a:buClr>
                <a:srgbClr val="727272"/>
              </a:buClr>
              <a:buSzPct val="70000"/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250"/>
              </a:spcAft>
              <a:buClr>
                <a:srgbClr val="727272"/>
              </a:buClr>
              <a:buSzPct val="70000"/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SzPct val="70000"/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SzPct val="70000"/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153280" y="6405480"/>
            <a:ext cx="8384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94B5-E820-4407-A786-8A90F7A330A6}" type="slidenum">
              <a:rPr b="1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9880" y="1143000"/>
            <a:ext cx="85014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28600" y="6321600"/>
            <a:ext cx="5657760" cy="350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254640" y="6248880"/>
            <a:ext cx="235584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troduction to CBMC: Part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Gurfinkel, Chaki, Oct 2, 20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© 2006 Carnegie Mellon Univers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4f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51680"/>
            <a:ext cx="9144000" cy="70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6321600"/>
            <a:ext cx="5657760" cy="350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267080" y="22935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78640" y="6410160"/>
            <a:ext cx="1665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© 2006 Carnegie Mellon Univers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000" y="23760"/>
            <a:ext cx="4059360" cy="6094440"/>
            <a:chOff x="27000" y="23760"/>
            <a:chExt cx="4059360" cy="6094440"/>
          </a:xfrm>
        </p:grpSpPr>
        <p:sp>
          <p:nvSpPr>
            <p:cNvPr id="50" name=""/>
            <p:cNvSpPr/>
            <p:nvPr/>
          </p:nvSpPr>
          <p:spPr>
            <a:xfrm>
              <a:off x="27000" y="3459240"/>
              <a:ext cx="14936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1004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906" y="98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000" y="1604880"/>
              <a:ext cx="608400" cy="155520"/>
            </a:xfrm>
            <a:custGeom>
              <a:avLst/>
              <a:gdLst/>
              <a:ahLst/>
              <a:rect l="l" t="t" r="r" b="b"/>
              <a:pathLst>
                <a:path w="409" h="98">
                  <a:moveTo>
                    <a:pt x="311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409" y="98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000" y="4405320"/>
              <a:ext cx="621720" cy="169920"/>
            </a:xfrm>
            <a:custGeom>
              <a:avLst/>
              <a:gdLst/>
              <a:ahLst/>
              <a:rect l="l" t="t" r="r" b="b"/>
              <a:pathLst>
                <a:path w="418" h="107">
                  <a:moveTo>
                    <a:pt x="418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311" y="107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000" y="2525760"/>
              <a:ext cx="14936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906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1004" y="98"/>
                  </a:lnTo>
                  <a:lnTo>
                    <a:pt x="906" y="0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000" y="1930320"/>
              <a:ext cx="3371400" cy="452520"/>
            </a:xfrm>
            <a:custGeom>
              <a:avLst/>
              <a:gdLst/>
              <a:ahLst/>
              <a:rect l="l" t="t" r="r" b="b"/>
              <a:pathLst>
                <a:path w="2266" h="285">
                  <a:moveTo>
                    <a:pt x="0" y="285"/>
                  </a:moveTo>
                  <a:lnTo>
                    <a:pt x="2266" y="285"/>
                  </a:lnTo>
                  <a:lnTo>
                    <a:pt x="1982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000" y="3782880"/>
              <a:ext cx="3385080" cy="452520"/>
            </a:xfrm>
            <a:custGeom>
              <a:avLst/>
              <a:gdLst/>
              <a:ahLst/>
              <a:rect l="l" t="t" r="r" b="b"/>
              <a:pathLst>
                <a:path w="2275" h="285">
                  <a:moveTo>
                    <a:pt x="0" y="285"/>
                  </a:moveTo>
                  <a:lnTo>
                    <a:pt x="1991" y="285"/>
                  </a:lnTo>
                  <a:lnTo>
                    <a:pt x="227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000" y="2851200"/>
              <a:ext cx="4059360" cy="452520"/>
            </a:xfrm>
            <a:custGeom>
              <a:avLst/>
              <a:gdLst/>
              <a:ahLst/>
              <a:rect l="l" t="t" r="r" b="b"/>
              <a:pathLst>
                <a:path w="2728" h="285">
                  <a:moveTo>
                    <a:pt x="2586" y="0"/>
                  </a:moveTo>
                  <a:lnTo>
                    <a:pt x="0" y="0"/>
                  </a:lnTo>
                  <a:lnTo>
                    <a:pt x="0" y="285"/>
                  </a:lnTo>
                  <a:lnTo>
                    <a:pt x="2586" y="285"/>
                  </a:lnTo>
                  <a:lnTo>
                    <a:pt x="2728" y="142"/>
                  </a:lnTo>
                  <a:lnTo>
                    <a:pt x="2586" y="0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000" y="4729320"/>
              <a:ext cx="2486520" cy="452160"/>
            </a:xfrm>
            <a:custGeom>
              <a:avLst/>
              <a:gdLst/>
              <a:ahLst/>
              <a:rect l="l" t="t" r="r" b="b"/>
              <a:pathLst>
                <a:path w="1671" h="285">
                  <a:moveTo>
                    <a:pt x="0" y="285"/>
                  </a:moveTo>
                  <a:lnTo>
                    <a:pt x="1386" y="285"/>
                  </a:lnTo>
                  <a:lnTo>
                    <a:pt x="1671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000" y="5667480"/>
              <a:ext cx="1586160" cy="450720"/>
            </a:xfrm>
            <a:custGeom>
              <a:avLst/>
              <a:gdLst/>
              <a:ahLst/>
              <a:rect l="l" t="t" r="r" b="b"/>
              <a:pathLst>
                <a:path w="1066" h="284">
                  <a:moveTo>
                    <a:pt x="0" y="284"/>
                  </a:moveTo>
                  <a:lnTo>
                    <a:pt x="782" y="284"/>
                  </a:lnTo>
                  <a:lnTo>
                    <a:pt x="1066" y="0"/>
                  </a:lnTo>
                  <a:lnTo>
                    <a:pt x="0" y="0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000" y="23760"/>
              <a:ext cx="1612800" cy="452520"/>
            </a:xfrm>
            <a:custGeom>
              <a:avLst/>
              <a:gdLst/>
              <a:ahLst/>
              <a:rect l="l" t="t" r="r" b="b"/>
              <a:pathLst>
                <a:path w="1084" h="285">
                  <a:moveTo>
                    <a:pt x="0" y="285"/>
                  </a:moveTo>
                  <a:lnTo>
                    <a:pt x="1084" y="285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000" y="969840"/>
              <a:ext cx="2499480" cy="452520"/>
            </a:xfrm>
            <a:custGeom>
              <a:avLst/>
              <a:gdLst/>
              <a:ahLst/>
              <a:rect l="l" t="t" r="r" b="b"/>
              <a:pathLst>
                <a:path w="1680" h="285">
                  <a:moveTo>
                    <a:pt x="0" y="285"/>
                  </a:moveTo>
                  <a:lnTo>
                    <a:pt x="1680" y="285"/>
                  </a:lnTo>
                  <a:lnTo>
                    <a:pt x="139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2" marL="914400" algn="ctr">
              <a:spcAft>
                <a:spcPts val="1125"/>
              </a:spcAft>
              <a:buClr>
                <a:srgbClr val="3f5367"/>
              </a:buClr>
              <a:buSzPct val="70000"/>
              <a:buFont typeface="Times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3" marL="1371600" algn="ctr">
              <a:spcAft>
                <a:spcPts val="1125"/>
              </a:spcAft>
              <a:buClr>
                <a:srgbClr val="727272"/>
              </a:buClr>
              <a:buSzPct val="70000"/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727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727272"/>
              </a:solidFill>
              <a:latin typeface="Arial"/>
            </a:endParaRPr>
          </a:p>
          <a:p>
            <a:pPr lvl="4" marL="1828800" algn="ctr">
              <a:spcAft>
                <a:spcPts val="1125"/>
              </a:spcAft>
              <a:buClr>
                <a:srgbClr val="727272"/>
              </a:buClr>
              <a:buSzPct val="70000"/>
              <a:buFont typeface="Time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727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727272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727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727272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727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7272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eecs.umich.edu/~faloul/Tools/pbs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cmu.edu/~modelcheck/cbmc/" TargetMode="External"/><Relationship Id="rId2" Type="http://schemas.openxmlformats.org/officeDocument/2006/relationships/hyperlink" Target="http://www.cs.cmu.edu/~modelcheck/cbmc/" TargetMode="External"/><Relationship Id="rId3" Type="http://schemas.openxmlformats.org/officeDocument/2006/relationships/hyperlink" Target="http://www.cs.cmu.edu/~modelcheck/cbmc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4f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181400" y="5726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67080" y="22935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 to CBMC: Part 1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267080" y="3352320"/>
            <a:ext cx="4267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ttsburgh, PA  152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ie Gurfinkel, Sagar Cha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tober 2,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525780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slides are courtes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iel Kro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4f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67080" y="22935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267080" y="3894120"/>
            <a:ext cx="426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CBMC from Command 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e the list of cl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bmc --show-claims -I include file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eck a single cl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bmc --unwind n --claim x –I include file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cbmc --help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4f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181400" y="5726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67080" y="22935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 to CBMC: Part 2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267080" y="3352320"/>
            <a:ext cx="4267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ttsburgh, PA  152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ie Gurfinkel, Sagar Cha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tober 2,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525780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slides are courtes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iel Kro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bout loops?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5320" y="1371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 Solver can only explore finite length execut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s must be bounded (i.e., the analysis is incomple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560" y="25909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8560" y="32767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6280" y="2742120"/>
            <a:ext cx="1130040" cy="862560"/>
          </a:xfrm>
          <a:prstGeom prst="rect">
            <a:avLst/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2742120"/>
            <a:ext cx="1058760" cy="862560"/>
          </a:xfrm>
          <a:prstGeom prst="rect">
            <a:avLst/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44960" y="4267080"/>
            <a:ext cx="2715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 counterexampl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n is f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1680" y="4267080"/>
            <a:ext cx="2887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unterexample exi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7640" y="27432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2" idx="3"/>
            <a:endCxn id="174" idx="1"/>
          </p:cNvCxnSpPr>
          <p:nvPr/>
        </p:nvCxnSpPr>
        <p:spPr>
          <a:xfrm>
            <a:off x="1461600" y="2788920"/>
            <a:ext cx="901080" cy="384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3" idx="3"/>
            <a:endCxn id="174" idx="1"/>
          </p:cNvCxnSpPr>
          <p:nvPr/>
        </p:nvCxnSpPr>
        <p:spPr>
          <a:xfrm flipV="1">
            <a:off x="1461600" y="3173040"/>
            <a:ext cx="901080" cy="3024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4" idx="3"/>
            <a:endCxn id="175" idx="1"/>
          </p:cNvCxnSpPr>
          <p:nvPr/>
        </p:nvCxnSpPr>
        <p:spPr>
          <a:xfrm>
            <a:off x="3499920" y="3173040"/>
            <a:ext cx="16059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5" idx="2"/>
            <a:endCxn id="177" idx="0"/>
          </p:cNvCxnSpPr>
          <p:nvPr/>
        </p:nvCxnSpPr>
        <p:spPr>
          <a:xfrm flipH="1">
            <a:off x="3725280" y="3603240"/>
            <a:ext cx="1910520" cy="664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5" idx="2"/>
            <a:endCxn id="176" idx="0"/>
          </p:cNvCxnSpPr>
          <p:nvPr/>
        </p:nvCxnSpPr>
        <p:spPr>
          <a:xfrm>
            <a:off x="5635800" y="3603240"/>
            <a:ext cx="1567440" cy="664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04560" y="38862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3"/>
            <a:endCxn id="174" idx="2"/>
          </p:cNvCxnSpPr>
          <p:nvPr/>
        </p:nvCxnSpPr>
        <p:spPr>
          <a:xfrm flipV="1">
            <a:off x="1603080" y="3603240"/>
            <a:ext cx="1329480" cy="481680"/>
          </a:xfrm>
          <a:prstGeom prst="bentConnector2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es it 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 a programs into a set of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 control fl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wind all of the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into Single Static Assignment (S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into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with a SAT 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SAT assignment into a counter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Flow Simplif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0520" y="1371600"/>
            <a:ext cx="83073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5000"/>
          </a:bodyPr>
          <a:p>
            <a:pPr marL="342720" indent="-342720">
              <a:spcAft>
                <a:spcPts val="1500"/>
              </a:spcAft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ide effect are rem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920" indent="-314280">
              <a:lnSpc>
                <a:spcPct val="100000"/>
              </a:lnSpc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Courier New"/>
              </a:rPr>
              <a:t>e.g., j=i++</a:t>
            </a: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 becomes </a:t>
            </a:r>
            <a:r>
              <a:rPr b="0" lang="en-US" sz="2000" spc="-1" strike="noStrike">
                <a:solidFill>
                  <a:srgbClr val="3f5367"/>
                </a:solidFill>
                <a:latin typeface="Courier New"/>
              </a:rPr>
              <a:t>j=i;i=i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Flow is made ex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920" indent="-314280">
              <a:lnSpc>
                <a:spcPct val="100000"/>
              </a:lnSpc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Courier New"/>
              </a:rPr>
              <a:t>continue</a:t>
            </a: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3f5367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 replaced by </a:t>
            </a:r>
            <a:r>
              <a:rPr b="0" sz="2000" spc="-1" strike="noStrike">
                <a:solidFill>
                  <a:srgbClr val="3f5367"/>
                </a:solidFill>
                <a:latin typeface="Courier New"/>
              </a:rPr>
              <a:t>g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loops are simplified into on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920" indent="-314280">
              <a:lnSpc>
                <a:spcPct val="100000"/>
              </a:lnSpc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f5367"/>
                </a:solidFill>
                <a:latin typeface="Courier New"/>
              </a:rPr>
              <a:t>do while</a:t>
            </a: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 replaced by </a:t>
            </a:r>
            <a:r>
              <a:rPr b="0" lang="en-US" sz="2000" spc="-1" strike="noStrike">
                <a:solidFill>
                  <a:srgbClr val="3f5367"/>
                </a:solidFill>
                <a:latin typeface="Courier New"/>
              </a:rPr>
              <a:t>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p Unwi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0520" y="1371600"/>
            <a:ext cx="830736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loops are unw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419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can use different unwinding bounds for different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419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to check whether unwinding is sufficient special “unwinding assertion” claims are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program satisfies all of its claims and all unwinding assertions then it is corr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for backward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umps and recursiv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p Unwind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80000" y="1371600"/>
            <a:ext cx="33130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) loops are unwound iter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/ continue replaced by g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1413000"/>
            <a:ext cx="4824360" cy="50403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p Unwi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80000" y="1371600"/>
            <a:ext cx="33130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) loops are unwound iter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/ continue replaced by g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413000"/>
            <a:ext cx="4824360" cy="50403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p Unwi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80000" y="1371600"/>
            <a:ext cx="33130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) loops are unwound iter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/ continue replaced by g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413000"/>
            <a:ext cx="4824360" cy="50403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g Catching with SAT-Sol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5320" y="1371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 Id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iven a program and a claim use a SAT-solver to find whether there exists an execution that violates the cla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560" y="25909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8560" y="32767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66280" y="2742120"/>
            <a:ext cx="1130040" cy="862560"/>
          </a:xfrm>
          <a:prstGeom prst="rect">
            <a:avLst/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2742120"/>
            <a:ext cx="1058760" cy="862560"/>
          </a:xfrm>
          <a:prstGeom prst="rect">
            <a:avLst/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9720" y="4267080"/>
            <a:ext cx="3225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 counterexample f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1680" y="4267080"/>
            <a:ext cx="2887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unterexample exi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7640" y="27432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3" idx="3"/>
            <a:endCxn id="115" idx="1"/>
          </p:cNvCxnSpPr>
          <p:nvPr/>
        </p:nvCxnSpPr>
        <p:spPr>
          <a:xfrm>
            <a:off x="1461600" y="2788920"/>
            <a:ext cx="901080" cy="384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4" idx="3"/>
            <a:endCxn id="115" idx="1"/>
          </p:cNvCxnSpPr>
          <p:nvPr/>
        </p:nvCxnSpPr>
        <p:spPr>
          <a:xfrm flipV="1">
            <a:off x="1461600" y="3173040"/>
            <a:ext cx="901080" cy="3024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5" idx="3"/>
            <a:endCxn id="116" idx="1"/>
          </p:cNvCxnSpPr>
          <p:nvPr/>
        </p:nvCxnSpPr>
        <p:spPr>
          <a:xfrm>
            <a:off x="3499920" y="3173040"/>
            <a:ext cx="16059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6" idx="2"/>
            <a:endCxn id="118" idx="0"/>
          </p:cNvCxnSpPr>
          <p:nvPr/>
        </p:nvCxnSpPr>
        <p:spPr>
          <a:xfrm flipH="1">
            <a:off x="3725280" y="3603240"/>
            <a:ext cx="1910520" cy="664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2"/>
            <a:endCxn id="117" idx="0"/>
          </p:cNvCxnSpPr>
          <p:nvPr/>
        </p:nvCxnSpPr>
        <p:spPr>
          <a:xfrm>
            <a:off x="5635800" y="3603240"/>
            <a:ext cx="1567440" cy="664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winding asser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80000" y="1371600"/>
            <a:ext cx="33130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) loops are unwound iter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/ continue replaced by g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rtion inserted after last iteration: violated if program runs longer than bound per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1413000"/>
            <a:ext cx="4824360" cy="50403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    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winding asser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0" y="1371600"/>
            <a:ext cx="33130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) loops are unwound iter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/ continue replaced by g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rtion inserted after last iteration: violated if program runs longer than bound per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correctness resul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1413000"/>
            <a:ext cx="4824360" cy="50403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assert(!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4724280"/>
            <a:ext cx="2514600" cy="1067040"/>
          </a:xfrm>
          <a:prstGeom prst="wedgeEllipseCallout">
            <a:avLst>
              <a:gd name="adj1" fmla="val -34912"/>
              <a:gd name="adj2" fmla="val -95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windin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er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Sufficient Loop Unwi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1447920"/>
            <a:ext cx="4824360" cy="50403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2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2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2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assert(!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(j &lt;= 2)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1447920"/>
            <a:ext cx="2514600" cy="19047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388620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wind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Insufficient Loop Unwi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1447920"/>
            <a:ext cx="4824360" cy="50403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10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10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10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assert(!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(j &lt;= 10)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447920"/>
            <a:ext cx="2514600" cy="19047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388620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wind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orming Loop-Free Programs Into Equations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55320" y="13716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transform when every variable is only assigned on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17040" y="3505320"/>
            <a:ext cx="1705680" cy="1496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x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 = y –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41320" y="29638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66680" y="296388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18080" y="3497400"/>
            <a:ext cx="1567080" cy="1496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a &amp;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x + 1 &amp;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y – 1 &amp;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114800"/>
            <a:ext cx="718920" cy="574560"/>
          </a:xfrm>
          <a:prstGeom prst="rightArrow">
            <a:avLst>
              <a:gd name="adj1" fmla="val 50000"/>
              <a:gd name="adj2" fmla="val 3128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orming Loop-Free Programs Into Equations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532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variable is assigned multiple tim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new variable for the RHS of each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46000" y="22860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581280" y="3124080"/>
            <a:ext cx="718920" cy="574560"/>
            <a:chOff x="3581280" y="3124080"/>
            <a:chExt cx="718920" cy="574560"/>
          </a:xfrm>
        </p:grpSpPr>
        <p:sp>
          <p:nvSpPr>
            <p:cNvPr id="227" name=""/>
            <p:cNvSpPr/>
            <p:nvPr/>
          </p:nvSpPr>
          <p:spPr>
            <a:xfrm>
              <a:off x="3581280" y="3124080"/>
              <a:ext cx="718920" cy="574560"/>
            </a:xfrm>
            <a:prstGeom prst="rightArrow">
              <a:avLst>
                <a:gd name="adj1" fmla="val 50000"/>
                <a:gd name="adj2" fmla="val 31281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3724200" y="3314520"/>
              <a:ext cx="22356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"/>
          <p:cNvSpPr/>
          <p:nvPr/>
        </p:nvSpPr>
        <p:spPr>
          <a:xfrm>
            <a:off x="4942440" y="228600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A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47920" y="2743200"/>
            <a:ext cx="1714320" cy="1455480"/>
            <a:chOff x="1447920" y="2743200"/>
            <a:chExt cx="1714320" cy="1455480"/>
          </a:xfrm>
        </p:grpSpPr>
        <p:sp>
          <p:nvSpPr>
            <p:cNvPr id="231" name=""/>
            <p:cNvSpPr/>
            <p:nvPr/>
          </p:nvSpPr>
          <p:spPr>
            <a:xfrm>
              <a:off x="1447920" y="2743200"/>
              <a:ext cx="1714320" cy="14554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1600200" y="2895480"/>
              <a:ext cx="1297080" cy="104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"/>
          <p:cNvGrpSpPr/>
          <p:nvPr/>
        </p:nvGrpSpPr>
        <p:grpSpPr>
          <a:xfrm>
            <a:off x="4952880" y="2743200"/>
            <a:ext cx="1714320" cy="1455840"/>
            <a:chOff x="4952880" y="2743200"/>
            <a:chExt cx="1714320" cy="1455840"/>
          </a:xfrm>
        </p:grpSpPr>
        <p:sp>
          <p:nvSpPr>
            <p:cNvPr id="234" name=""/>
            <p:cNvSpPr/>
            <p:nvPr/>
          </p:nvSpPr>
          <p:spPr>
            <a:xfrm>
              <a:off x="4952880" y="2743200"/>
              <a:ext cx="1714320" cy="14558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3"/>
            <a:stretch/>
          </p:blipFill>
          <p:spPr>
            <a:xfrm>
              <a:off x="5028840" y="2895840"/>
              <a:ext cx="1584360" cy="1054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bout conditional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46000" y="1295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42440" y="129528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A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0840" y="1981080"/>
            <a:ext cx="1401120" cy="30722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 =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19560" y="1981080"/>
            <a:ext cx="1495800" cy="32612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x?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3276720"/>
            <a:ext cx="2057400" cy="761760"/>
          </a:xfrm>
          <a:prstGeom prst="wedgeRectCallout">
            <a:avLst>
              <a:gd name="adj1" fmla="val -72685"/>
              <a:gd name="adj2" fmla="val 120000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hould ‘x’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581280" y="3124080"/>
            <a:ext cx="718920" cy="574560"/>
            <a:chOff x="3581280" y="3124080"/>
            <a:chExt cx="718920" cy="574560"/>
          </a:xfrm>
        </p:grpSpPr>
        <p:sp>
          <p:nvSpPr>
            <p:cNvPr id="244" name=""/>
            <p:cNvSpPr/>
            <p:nvPr/>
          </p:nvSpPr>
          <p:spPr>
            <a:xfrm>
              <a:off x="3581280" y="3124080"/>
              <a:ext cx="718920" cy="574560"/>
            </a:xfrm>
            <a:prstGeom prst="rightArrow">
              <a:avLst>
                <a:gd name="adj1" fmla="val 50000"/>
                <a:gd name="adj2" fmla="val 31281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3724200" y="3314520"/>
              <a:ext cx="22356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bout conditional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5638320"/>
            <a:ext cx="8001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join point, add new variables with sel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46000" y="1295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42440" y="129528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A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80840" y="1981080"/>
            <a:ext cx="1401120" cy="30722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 =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29640" y="1981080"/>
            <a:ext cx="2669040" cy="33087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?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: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581280" y="3124080"/>
            <a:ext cx="718920" cy="574560"/>
            <a:chOff x="3581280" y="3124080"/>
            <a:chExt cx="718920" cy="574560"/>
          </a:xfrm>
        </p:grpSpPr>
        <p:sp>
          <p:nvSpPr>
            <p:cNvPr id="253" name=""/>
            <p:cNvSpPr/>
            <p:nvPr/>
          </p:nvSpPr>
          <p:spPr>
            <a:xfrm>
              <a:off x="3581280" y="3124080"/>
              <a:ext cx="718920" cy="574560"/>
            </a:xfrm>
            <a:prstGeom prst="rightArrow">
              <a:avLst>
                <a:gd name="adj1" fmla="val 50000"/>
                <a:gd name="adj2" fmla="val 31281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3724200" y="3314520"/>
              <a:ext cx="22356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ng Unbounded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55320" y="22860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ys are updated “whole array”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55480" y="1546200"/>
            <a:ext cx="1224000" cy="277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505320" y="1295280"/>
            <a:ext cx="4871880" cy="75744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2209680" y="1371600"/>
            <a:ext cx="718920" cy="574560"/>
            <a:chOff x="2209680" y="1371600"/>
            <a:chExt cx="718920" cy="574560"/>
          </a:xfrm>
        </p:grpSpPr>
        <p:sp>
          <p:nvSpPr>
            <p:cNvPr id="260" name=""/>
            <p:cNvSpPr/>
            <p:nvPr/>
          </p:nvSpPr>
          <p:spPr>
            <a:xfrm>
              <a:off x="2209680" y="1371600"/>
              <a:ext cx="718920" cy="574560"/>
            </a:xfrm>
            <a:prstGeom prst="rightArrow">
              <a:avLst>
                <a:gd name="adj1" fmla="val 50000"/>
                <a:gd name="adj2" fmla="val 31281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2352600" y="1562040"/>
              <a:ext cx="22356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/>
          <p:nvPr/>
        </p:nvSpPr>
        <p:spPr>
          <a:xfrm>
            <a:off x="609480" y="2895480"/>
            <a:ext cx="1275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[1]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[2] =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[k] = 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60000" y="2895480"/>
            <a:ext cx="290772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 : i == 1 ? 5 :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: i == 2 ? 10 :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: i == k ? 20 :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2640" y="44197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42720" y="4556160"/>
            <a:ext cx="5344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2] ==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]==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3] ==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2] == (k==2 ? 20 :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01080" y="5562720"/>
            <a:ext cx="65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only as much space as there are uses of the arr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52360" y="1413000"/>
            <a:ext cx="2089080" cy="44654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0520" y="1371600"/>
            <a:ext cx="867420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29080" y="1413000"/>
            <a:ext cx="2449440" cy="4464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68360" y="3213000"/>
            <a:ext cx="719280" cy="574920"/>
          </a:xfrm>
          <a:prstGeom prst="rightArrow">
            <a:avLst>
              <a:gd name="adj1" fmla="val 50000"/>
              <a:gd name="adj2" fmla="val 3127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411280" y="3403440"/>
            <a:ext cx="223920" cy="2876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5221440" y="1413000"/>
            <a:ext cx="3671640" cy="4464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16360" y="3213000"/>
            <a:ext cx="719280" cy="574920"/>
          </a:xfrm>
          <a:prstGeom prst="rightArrow">
            <a:avLst>
              <a:gd name="adj1" fmla="val 50000"/>
              <a:gd name="adj2" fmla="val 3127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06440" y="1679400"/>
            <a:ext cx="1695240" cy="39103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2844720" y="1662120"/>
            <a:ext cx="1903320" cy="39178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5573880" y="2330280"/>
            <a:ext cx="270648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s and Clai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itrary ANSI-C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With bitvector arithmetic, dynamic memory, pointers, …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Safety Clai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Array bound checks (i.e., buffer overflow)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Division by zero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Pointer checks (i.e., NULL pointer dereference)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Arithmetic overflow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User supplied assertions (i.e., </a:t>
            </a:r>
            <a:r>
              <a:rPr b="0" lang="en-US" sz="1800" spc="-1" strike="noStrike">
                <a:solidFill>
                  <a:srgbClr val="3f5367"/>
                </a:solidFill>
                <a:latin typeface="Courier New"/>
              </a:rPr>
              <a:t>assert (i &gt; j)</a:t>
            </a: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etc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0520" y="1407600"/>
            <a:ext cx="8307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unwinding, record right hand side of assignments to po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sults in very precise points-to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Separate for each pointer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Separate for each </a:t>
            </a:r>
            <a:r>
              <a:rPr b="0" lang="en-US" sz="1800" spc="-1" strike="noStrike" u="sng">
                <a:solidFill>
                  <a:srgbClr val="3f5367"/>
                </a:solidFill>
                <a:uFillTx/>
                <a:latin typeface="Arial"/>
              </a:rPr>
              <a:t>instance</a:t>
            </a: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 of each program location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ferencing operations are expanded in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-split on pointer object (not: off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Generate assertions on offset and on type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 data type assumed to be part of bit-vecto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Consists of pair &lt;object, offset&gt;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er Typecast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1371600"/>
            <a:ext cx="5981760" cy="4648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*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 (voi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put1, intput2, 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input1 ? (void*)&amp;i : (void*) &amp;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pu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 = *(int*)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 = *(char*)p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90520" y="1407600"/>
            <a:ext cx="8307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Obje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f5367"/>
                </a:solidFill>
                <a:latin typeface="Courier New"/>
              </a:rPr>
              <a:t>malloc</a:t>
            </a:r>
            <a:r>
              <a:rPr b="0" sz="1800" spc="-1" strike="noStrike">
                <a:solidFill>
                  <a:srgbClr val="3f5367"/>
                </a:solidFill>
                <a:latin typeface="Arial"/>
              </a:rPr>
              <a:t> / </a:t>
            </a:r>
            <a:r>
              <a:rPr b="0" sz="1800" spc="-1" strike="noStrike">
                <a:solidFill>
                  <a:srgbClr val="3f5367"/>
                </a:solidFill>
                <a:latin typeface="Courier New"/>
              </a:rPr>
              <a:t>free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Local variables of functions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xiliary variables for each dynamically allocated o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Size (number of elements)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Active bit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ts size (from parameter) and sets active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serts that active bit is set and clears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for local variables: active bit is cleared upon leaving th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ding Bit-Vector Logic with S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90520" y="1407600"/>
            <a:ext cx="8307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: all operators modeled with their precise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 operators are flattened into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Not efficient for multiplication, division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Fixed-point for </a:t>
            </a:r>
            <a:r>
              <a:rPr b="0" lang="en-US" sz="1800" spc="-1" strike="noStrike">
                <a:solidFill>
                  <a:srgbClr val="3f5367"/>
                </a:solidFill>
                <a:latin typeface="Courier New"/>
              </a:rPr>
              <a:t>float</a:t>
            </a: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3f5367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bounded 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Use uninterpreted functions to reduce to equality logic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Similar implementation in UCLID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But: </a:t>
            </a:r>
            <a:r>
              <a:rPr b="0" lang="en-US" sz="1800" spc="-1" strike="noStrike" u="sng">
                <a:solidFill>
                  <a:srgbClr val="3f5367"/>
                </a:solidFill>
                <a:uFillTx/>
                <a:latin typeface="Arial"/>
              </a:rPr>
              <a:t>Contents</a:t>
            </a: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 of array are interpreted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SAT solver happy with first satisfying assignment that is found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ght not look 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16360" y="981000"/>
            <a:ext cx="4248360" cy="5545080"/>
          </a:xfrm>
          <a:custGeom>
            <a:avLst/>
            <a:gdLst>
              <a:gd name="textAreaLeft" fmla="*/ 207360 w 4248360"/>
              <a:gd name="textAreaRight" fmla="*/ 4041000 w 4248360"/>
              <a:gd name="textAreaTop" fmla="*/ 207360 h 5545080"/>
              <a:gd name="textAreaBottom" fmla="*/ 5337720 h 5545080"/>
            </a:gdLst>
            <a:ahLst/>
            <a:rect l="textAreaLeft" t="textAreaTop" r="textAreaRight" b="textAreaBottom"/>
            <a:pathLst>
              <a:path w="21600" h="28192">
                <a:moveTo>
                  <a:pt x="3600" y="0"/>
                </a:moveTo>
                <a:arcTo wR="3600" hR="3600" stAng="16200000" swAng="-5400000"/>
                <a:lnTo>
                  <a:pt x="0" y="24592"/>
                </a:lnTo>
                <a:arcTo wR="3600" hR="3600" stAng="10800000" swAng="-5400000"/>
                <a:lnTo>
                  <a:pt x="18000" y="281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1484280"/>
            <a:ext cx="3816360" cy="1513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2349360"/>
            <a:ext cx="3816360" cy="8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1125360"/>
            <a:ext cx="4319640" cy="5328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87280" y="1341360"/>
            <a:ext cx="2664000" cy="4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9640" y="2060640"/>
            <a:ext cx="3600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9640" y="2421000"/>
            <a:ext cx="3600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9640" y="3500280"/>
            <a:ext cx="3600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860640"/>
            <a:ext cx="122400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9640" y="5589720"/>
            <a:ext cx="3600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95640" y="3357720"/>
            <a:ext cx="1008000" cy="718920"/>
          </a:xfrm>
          <a:prstGeom prst="rightArrow">
            <a:avLst>
              <a:gd name="adj1" fmla="val 50000"/>
              <a:gd name="adj2" fmla="val 35053"/>
            </a:avLst>
          </a:prstGeom>
          <a:gradFill rotWithShape="0">
            <a:gsLst>
              <a:gs pos="0">
                <a:srgbClr val="6600ff"/>
              </a:gs>
              <a:gs pos="100000">
                <a:srgbClr val="c8d6fe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777f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BM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03640" y="3213000"/>
            <a:ext cx="3816360" cy="576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79640" y="3860640"/>
            <a:ext cx="86364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43280" y="3860640"/>
            <a:ext cx="115236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981000"/>
            <a:ext cx="43196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void f (int a, int b, int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nt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temp = a; a = b; b 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 (b &gt; c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temp = b; b = c; c 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 (a &lt; b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temp = a; a = b; b 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assert (a&lt;=b &amp;&amp; b&lt;=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03640" y="4005360"/>
            <a:ext cx="3816360" cy="57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03640" y="4797360"/>
            <a:ext cx="3816360" cy="136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03640" y="1052640"/>
            <a:ext cx="4248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a=-8193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111111111111111111011111111111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b=-402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1111111111111111111111100110111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c=-2080380800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1000001111111111111010001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temp=0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file sort.c line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temp=-402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1111111111111111111111100110111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file sort.c line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b=-2080380800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1000001111111111111010001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file sort.c lin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c=-402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1111111111111111111111100110111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Failed assertion: assertion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ort.c line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 (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90520" y="1407600"/>
            <a:ext cx="8307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: SAT solver performs DPLL backtracking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irst satisfying assignment that is found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nge values artifact from bit-level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like nice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 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90520" y="1407600"/>
            <a:ext cx="8307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not get shortest counterexamp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statements that are in the formula actually get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variable for each statement that decides if it is executed or not (conjunct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ua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example trace only contains assignments that are actually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T solver picks so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0920" y="1125360"/>
            <a:ext cx="3168720" cy="5328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981000"/>
            <a:ext cx="33843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void f (int a, int 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int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if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=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b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ssert(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80000" y="1989000"/>
            <a:ext cx="4681440" cy="3384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87640" y="3141720"/>
            <a:ext cx="1008000" cy="718920"/>
          </a:xfrm>
          <a:prstGeom prst="rightArrow">
            <a:avLst>
              <a:gd name="adj1" fmla="val 50000"/>
              <a:gd name="adj2" fmla="val 35053"/>
            </a:avLst>
          </a:prstGeom>
          <a:gradFill rotWithShape="0">
            <a:gsLst>
              <a:gs pos="0">
                <a:srgbClr val="6600ff"/>
              </a:gs>
              <a:gs pos="100000">
                <a:srgbClr val="c8d6fe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777f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BM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788000" y="2276640"/>
            <a:ext cx="352908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88000" y="2997360"/>
            <a:ext cx="352908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88000" y="3716280"/>
            <a:ext cx="352908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88000" y="4076640"/>
            <a:ext cx="352908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4797360"/>
            <a:ext cx="86544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068720" y="1989000"/>
            <a:ext cx="42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-1}  b_1#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(a_1#0?b_1#1:b_1#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-2}  a_1#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(a_1#0?a_1#1:a_1#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-3}  b_1#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-4}  a_1#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-5}  \guard#1 == a_1#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-6}  \guard#0 ==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|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1}  c_1#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093080" y="3933720"/>
            <a:ext cx="2050920" cy="865440"/>
          </a:xfrm>
          <a:prstGeom prst="wedgeEllipseCallout">
            <a:avLst>
              <a:gd name="adj1" fmla="val -76083"/>
              <a:gd name="adj2" fmla="val -100458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ign-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51640" y="1268280"/>
            <a:ext cx="1224000" cy="865440"/>
          </a:xfrm>
          <a:prstGeom prst="wedgeEllipseCallout">
            <a:avLst>
              <a:gd name="adj1" fmla="val -43773"/>
              <a:gd name="adj2" fmla="val 79907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981000"/>
            <a:ext cx="4248360" cy="5545080"/>
          </a:xfrm>
          <a:custGeom>
            <a:avLst/>
            <a:gdLst>
              <a:gd name="textAreaLeft" fmla="*/ 207360 w 4248360"/>
              <a:gd name="textAreaRight" fmla="*/ 4041000 w 4248360"/>
              <a:gd name="textAreaTop" fmla="*/ 207360 h 5545080"/>
              <a:gd name="textAreaBottom" fmla="*/ 5337720 h 5545080"/>
            </a:gdLst>
            <a:ahLst/>
            <a:rect l="textAreaLeft" t="textAreaTop" r="textAreaRight" b="textAreaBottom"/>
            <a:pathLst>
              <a:path w="21600" h="28192">
                <a:moveTo>
                  <a:pt x="3600" y="0"/>
                </a:moveTo>
                <a:arcTo wR="3600" hR="3600" stAng="16200000" swAng="-5400000"/>
                <a:lnTo>
                  <a:pt x="0" y="24592"/>
                </a:lnTo>
                <a:arcTo wR="3600" hR="3600" stAng="10800000" swAng="-5400000"/>
                <a:lnTo>
                  <a:pt x="18000" y="281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1125360"/>
            <a:ext cx="3168720" cy="5328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981000"/>
            <a:ext cx="43196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void f (int a, int 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int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if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=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b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ssert(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00720" y="1052640"/>
            <a:ext cx="4248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tate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a=1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(0000000000000000000000000000000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b=0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=0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tate 4 file length.c line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a=0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tate 5 file length.c line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b=1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(0000000000000000000000000000000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Failed assertion: asse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file length.c line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48000" y="3141720"/>
            <a:ext cx="1008000" cy="718920"/>
          </a:xfrm>
          <a:prstGeom prst="rightArrow">
            <a:avLst>
              <a:gd name="adj1" fmla="val 50000"/>
              <a:gd name="adj2" fmla="val 35053"/>
            </a:avLst>
          </a:prstGeom>
          <a:gradFill rotWithShape="0">
            <a:gsLst>
              <a:gs pos="0">
                <a:srgbClr val="6600ff"/>
              </a:gs>
              <a:gs pos="100000">
                <a:srgbClr val="c8d6fe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777f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BM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90520" y="1407960"/>
            <a:ext cx="83073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example length typically considered to be most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e.g., SPIN iteratively searches for shorter counterexamples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one: Minimize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ruth value (0/1) of guard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Weight = number of ass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two: Minimiz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2133720" cy="72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use a SAT Solv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 Solvers are very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is completely auto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as good as the underlying SAT 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support for many features of a programming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bitwise operations, pointer arithmetic, dynamic memory, type casts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eudo Boolean Solver (PB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CNF constraints 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Pseudo Boolean constraints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70000"/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2x + 3y + 6z &lt;= 7, where x, y, z are Boolean variables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Pseudo Boolean objective function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Decision (SAT/UNSAT)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Optimizatioin (Minimize/Maximize an objective function)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implement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PBS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cs.umich.edu/~faloul/Tools/pbs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MiniSat+ (from MiniSat web page)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16360" y="981000"/>
            <a:ext cx="4248360" cy="5545080"/>
          </a:xfrm>
          <a:custGeom>
            <a:avLst/>
            <a:gdLst>
              <a:gd name="textAreaLeft" fmla="*/ 207360 w 4248360"/>
              <a:gd name="textAreaRight" fmla="*/ 4041000 w 4248360"/>
              <a:gd name="textAreaTop" fmla="*/ 207360 h 5545080"/>
              <a:gd name="textAreaBottom" fmla="*/ 5337720 h 5545080"/>
            </a:gdLst>
            <a:ahLst/>
            <a:rect l="textAreaLeft" t="textAreaTop" r="textAreaRight" b="textAreaBottom"/>
            <a:pathLst>
              <a:path w="21600" h="28192">
                <a:moveTo>
                  <a:pt x="3600" y="0"/>
                </a:moveTo>
                <a:arcTo wR="3600" hR="3600" stAng="16200000" swAng="-5400000"/>
                <a:lnTo>
                  <a:pt x="0" y="24592"/>
                </a:lnTo>
                <a:arcTo wR="3600" hR="3600" stAng="10800000" swAng="-5400000"/>
                <a:lnTo>
                  <a:pt x="18000" y="281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1125360"/>
            <a:ext cx="4319640" cy="5328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981000"/>
            <a:ext cx="43196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void f (int a, int b, int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nt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temp = a; a = b; b 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 (b &gt; c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temp = b; b = c; c 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 (a &lt; b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temp = a; a = b; b 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assert (a&lt;=b &amp;&amp; b&lt;=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1052640"/>
            <a:ext cx="4248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a=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(00000000000000000000000000000000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b=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c=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111111111111111111111111111111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temp=0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file sort.c line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temp=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file sort.c line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b=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111111111111111111111111111111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file sort.c lin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c=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Failed assertion: assertion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ort.c line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95640" y="3141720"/>
            <a:ext cx="1008000" cy="718920"/>
          </a:xfrm>
          <a:prstGeom prst="rightArrow">
            <a:avLst>
              <a:gd name="adj1" fmla="val 50000"/>
              <a:gd name="adj2" fmla="val 35053"/>
            </a:avLst>
          </a:prstGeom>
          <a:gradFill rotWithShape="0">
            <a:gsLst>
              <a:gs pos="0">
                <a:srgbClr val="6600ff"/>
              </a:gs>
              <a:gs pos="100000">
                <a:srgbClr val="c8d6fe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777f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BM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11280" y="3483000"/>
            <a:ext cx="597600" cy="88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3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02040" y="4243320"/>
            <a:ext cx="1213200" cy="65556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53753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with CBMC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MC provides 2 modeling (not in ANSI-C)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xx nondet_xxx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s a non-deterministic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ondet_int (); char nondet_char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modeling external input, unknown environment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func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nondet for mode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55320" y="13716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spe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 is given non-deterministically, but is taken until return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BC stu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6960" y="2808360"/>
            <a:ext cx="5210640" cy="30722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ondet_int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s_foo_taken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grab_foo 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!is_foo_tak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foo_taken = nondet_int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s_foo_taken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67040" y="2808360"/>
            <a:ext cx="3382200" cy="971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eturn_foo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is_foo_taken = 0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with CBMC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modeling prim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_CPROVER_assume (ex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asle abort the program, otherwise contin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_CPROVER_assume (x&gt;0 &amp;&amp; y &lt;= 10)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-Guarantee Reasoning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55680" y="1371600"/>
            <a:ext cx="2768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28600" y="1371600"/>
            <a:ext cx="3534480" cy="4122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oo (int* p) { …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main(voi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(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(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362320"/>
            <a:ext cx="2768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2000"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by splitting on the argumen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-Guarantee Reasoning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6273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ct assum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ot NU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1981080"/>
            <a:ext cx="8305560" cy="44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oo (int* p) { __CPROVER_assume(p!=NULL); …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2743200"/>
            <a:ext cx="8839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uaranteed to be called with a non-NULL argu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3214800"/>
            <a:ext cx="4800600" cy="3417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main(voi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ert (x!=NULL);// foo(x);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ert (y!=NULL); //foo(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gers of unrestricted assum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55680" y="1371240"/>
            <a:ext cx="512136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 can lead to vacuous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347720" y="2057400"/>
            <a:ext cx="4296600" cy="1496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&gt; 0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_CPROVER_assume (x &lt;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ert (0)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-5040" y="3048120"/>
            <a:ext cx="427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gram is passed by CMBMC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8120" y="3962520"/>
            <a:ext cx="745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must either be checked with assert or used as an idi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747520" y="4572000"/>
            <a:ext cx="3991320" cy="1496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nondet_int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nondet_int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_CPROVER_assume (x &lt;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ing user-specified clai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, assume, and non-determinism + Programming can be used to specify many interesting cl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652280" y="2514600"/>
            <a:ext cx="3992040" cy="30722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r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x&gt;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x = x + di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&gt;10) dir = -1*di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&lt;5) dir = -1*di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8400" y="3429000"/>
            <a:ext cx="43412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use CBMC to check whe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n infinite execu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8537400" cy="5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(very) simple example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8120" y="1981080"/>
            <a:ext cx="2781360" cy="4122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=8,z=0,w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 = y –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 = y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ert (z == 7 |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 ==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981080"/>
            <a:ext cx="1982880" cy="2547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x ? y – 1 :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x ? 0 :y + 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!= 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!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49200" y="11541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37960" y="115416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13800" y="2209680"/>
            <a:ext cx="28155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unter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 always hol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(very) simple example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8120" y="1981080"/>
            <a:ext cx="2781360" cy="4122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=8,z=0,w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 = y –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 = y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ert (z == 5 |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 ==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1981080"/>
            <a:ext cx="1982880" cy="2547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x ? y – 1 :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x ? 0 :y + 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!= 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!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49200" y="11541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37960" y="115416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209680"/>
            <a:ext cx="277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example foun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0720" y="3507480"/>
            <a:ext cx="2895120" cy="3988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8, x = 1, w = 0, z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bout loops?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5320" y="1371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 Solver can only explore finite length execut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s must be bounded (i.e., the analysis is incomple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560" y="25909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8560" y="32767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6280" y="2742120"/>
            <a:ext cx="1130040" cy="862560"/>
          </a:xfrm>
          <a:prstGeom prst="rect">
            <a:avLst/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742120"/>
            <a:ext cx="1058760" cy="862560"/>
          </a:xfrm>
          <a:prstGeom prst="rect">
            <a:avLst/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44960" y="4267080"/>
            <a:ext cx="2715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 counterexampl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n is f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1680" y="4267080"/>
            <a:ext cx="2887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unterexample exi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27432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4" idx="3"/>
            <a:endCxn id="146" idx="1"/>
          </p:cNvCxnSpPr>
          <p:nvPr/>
        </p:nvCxnSpPr>
        <p:spPr>
          <a:xfrm>
            <a:off x="1461600" y="2788920"/>
            <a:ext cx="901080" cy="384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5" idx="3"/>
            <a:endCxn id="146" idx="1"/>
          </p:cNvCxnSpPr>
          <p:nvPr/>
        </p:nvCxnSpPr>
        <p:spPr>
          <a:xfrm flipV="1">
            <a:off x="1461600" y="3173040"/>
            <a:ext cx="901080" cy="3024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6" idx="3"/>
            <a:endCxn id="147" idx="1"/>
          </p:cNvCxnSpPr>
          <p:nvPr/>
        </p:nvCxnSpPr>
        <p:spPr>
          <a:xfrm>
            <a:off x="3499920" y="3173040"/>
            <a:ext cx="16059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7" idx="2"/>
            <a:endCxn id="149" idx="0"/>
          </p:cNvCxnSpPr>
          <p:nvPr/>
        </p:nvCxnSpPr>
        <p:spPr>
          <a:xfrm flipH="1">
            <a:off x="3725280" y="3603240"/>
            <a:ext cx="1910520" cy="664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7" idx="2"/>
            <a:endCxn id="148" idx="0"/>
          </p:cNvCxnSpPr>
          <p:nvPr/>
        </p:nvCxnSpPr>
        <p:spPr>
          <a:xfrm>
            <a:off x="5635800" y="3603240"/>
            <a:ext cx="1567440" cy="664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304560" y="38862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46" idx="2"/>
          </p:cNvCxnSpPr>
          <p:nvPr/>
        </p:nvCxnSpPr>
        <p:spPr>
          <a:xfrm flipV="1">
            <a:off x="1603080" y="3603240"/>
            <a:ext cx="1329480" cy="481680"/>
          </a:xfrm>
          <a:prstGeom prst="bentConnector2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MC: C Bounded Model Check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at CMU by Daniel Kroening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at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s.cmu.edu/~modelcheck/cbmc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platafoms: Windows (requires VisualStudio’s` CL),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command line and Eclipse-based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n to scale to programs with over 30K L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used to find previously unknown bugs in MS Windows device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MC: Supported Language 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0520" y="1371600"/>
            <a:ext cx="830736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4600" indent="-44460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I-C is a low level language, not meant for verification but for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language features, such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65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Bit vector operators (shifting, and, or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65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Pointers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er arithm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65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Dynamic memory allocation: malloc/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65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Dynamic data types: </a:t>
            </a:r>
            <a:r>
              <a:rPr b="0" lang="en-US" sz="2000" spc="-1" strike="noStrike">
                <a:solidFill>
                  <a:srgbClr val="3f5367"/>
                </a:solidFill>
                <a:latin typeface="Courier New"/>
              </a:rPr>
              <a:t>char s[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65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Sid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65040">
              <a:lnSpc>
                <a:spcPct val="100000"/>
              </a:lnSpc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f5367"/>
                </a:solidFill>
                <a:latin typeface="Courier New"/>
              </a:rPr>
              <a:t>float</a:t>
            </a:r>
            <a:r>
              <a:rPr b="0" lang="de-DE" sz="2000" spc="-1" strike="noStrike">
                <a:solidFill>
                  <a:srgbClr val="3f5367"/>
                </a:solidFill>
                <a:latin typeface="Arial"/>
              </a:rPr>
              <a:t> / </a:t>
            </a:r>
            <a:r>
              <a:rPr b="0" lang="de-DE" sz="2000" spc="-1" strike="noStrike">
                <a:solidFill>
                  <a:srgbClr val="3f5367"/>
                </a:solidFill>
                <a:latin typeface="Courier New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65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Non-determi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9:58:48Z</dcterms:created>
  <dc:creator>Arie Gurfinkel</dc:creator>
  <dc:description/>
  <dc:language>en-US</dc:language>
  <cp:lastModifiedBy>arie</cp:lastModifiedBy>
  <cp:lastPrinted>2006-06-21T20:45:34Z</cp:lastPrinted>
  <dcterms:modified xsi:type="dcterms:W3CDTF">2007-10-04T21:34:03Z</dcterms:modified>
  <cp:revision>105</cp:revision>
  <dc:subject/>
  <dc:title>SEI Presentation (Full Color): Preformatted Design and Template Items </dc:title>
</cp:coreProperties>
</file>