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E2C-82DA-4BDB-BAE0-A1F7F730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130-3E0D-4E0A-A35C-C7FF7C6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874-8AF5-4091-835A-362D1288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8E9-5DAF-4390-B581-19C9B7FB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E748-3B13-44CD-8703-C7CD024C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60B5-33B1-4419-BDB7-33F92DC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FD60-246F-4BC8-8988-C68B0ED3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E537-041F-43A7-BB01-1682141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2B9-A21D-4EA4-AFA5-4E0C504E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1F6-D457-46C8-9CB9-CC98F092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2405-D399-4508-BA24-52D9D82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A47-AF71-4610-8276-383C56AF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1344-9956-4FDA-86B9-880C488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02F0-F711-4E83-85B1-893D543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BF78-C6A5-4098-8111-496D2973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9C8B-7DD4-4CC7-9E58-37403748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E34B-A683-44CE-B7B5-9F03E06A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0FA-6061-496D-89B7-CCB19067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33A-4112-4144-88D0-325EB74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E87-5CD4-4DA2-9C72-D72EECCF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575-33D4-499A-870B-EA08EB44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554-4FA1-437F-8EDD-6C645DA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F56-EAC2-470B-BA1F-4EE6CAA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598-E0BC-4205-8B4E-B9C1A30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F4E1-0439-4B16-8620-C9AA4763364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D68B-69DF-49BC-89BD-6968A9F586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4B9F-20C4-4D2E-8449-8027AA6491E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68E-F3B5-4C1A-8F00-910CBF0327A6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31800"/>
            <a:ext cx="868680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Optimized SAT Encodi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For Sudoku Puzzl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Will Klieber and Gi-Hwon K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pt 27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rev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1371600" y="4952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from v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a new slide after “A Better Encoding (1)” to explain how we deal with clauses that would contain skipped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“Implementation” slides, use different code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±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stead of -1 and -2) to reduce confusion that resulted from another possible interpretation of the old co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with Previous Enco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tal variabl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w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tal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quire that the digit “1” appear exactly once in the first row, we need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each digit and each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3453-12E7-4F78-9B6B-3AC3155CFF9F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755-5CC2-49B8-9CB9-51B7BFFEBC48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6840" y="674640"/>
            <a:ext cx="89488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etter Encoding (1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dea: Don’t emit variables for prefilled cel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grids have larger percentage pref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if we know that a given variable must be false (e.g., to avoid the same digit appearing twice in a row), don’t emi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kes encoding and decoding more com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713B-0224-47F7-AA64-F19B1E0D4128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etter Encoding (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nsider the CN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 &amp;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&amp; (c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eset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lause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is automatically true, so we skip th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the literal ~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alse, so we leave it out from the 3rd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sult: 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 &amp; (c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3951-F480-41AA-94BD-7C019FDD2869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coding: 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AT solvers use an input format wherein vars are identified by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3D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Nums[r]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each possible SAT variable to an actual variabl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on’t give a variable number if the value is known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ru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0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als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assumes less than 16 million va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F16-3E98-4D1A-8979-2E114EBE469F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coding: Implement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Nums[r]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efilled cell, store the appropriate cod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±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to the array elems for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for every other cell in the same row, column, or blo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eset_false) to the var that would put the same digit in this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assign a real var number to each array element that is still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0624-2360-44DE-8A48-720BF4215E54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245280" cy="559260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969-BF09-4514-B5E5-FF43BF188F0B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m for Another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5146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523880"/>
            <a:ext cx="533520" cy="6098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840"/>
              <a:gd name="textAreaBottom" fmla="*/ 583920 h 609840"/>
            </a:gdLst>
            <a:ahLst/>
            <a:rect l="textAreaLeft" t="textAreaTop" r="textAreaRight" b="textAreaBottom"/>
            <a:pathLst>
              <a:path w="21600" h="24688">
                <a:moveTo>
                  <a:pt x="3600" y="0"/>
                </a:moveTo>
                <a:arcTo wR="3600" hR="3600" stAng="16200000" swAng="-5400000"/>
                <a:lnTo>
                  <a:pt x="0" y="21088"/>
                </a:lnTo>
                <a:arcTo wR="3600" hR="3600" stAng="10800000" swAng="-5400000"/>
                <a:lnTo>
                  <a:pt x="18000" y="24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0292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1148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153280" y="25146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933600" y="1523880"/>
            <a:ext cx="533160" cy="60984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609840"/>
              <a:gd name="textAreaBottom" fmla="*/ 583920 h 609840"/>
            </a:gdLst>
            <a:ahLst/>
            <a:rect l="textAreaLeft" t="textAreaTop" r="textAreaRight" b="textAreaBottom"/>
            <a:pathLst>
              <a:path w="21600" h="24704">
                <a:moveTo>
                  <a:pt x="3600" y="0"/>
                </a:moveTo>
                <a:arcTo wR="3600" hR="3600" stAng="16200000" swAng="-5400000"/>
                <a:lnTo>
                  <a:pt x="0" y="21104"/>
                </a:lnTo>
                <a:arcTo wR="3600" hR="3600" stAng="10800000" swAng="-5400000"/>
                <a:lnTo>
                  <a:pt x="18000" y="247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933600" y="5029200"/>
            <a:ext cx="533160" cy="6094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153280" y="41148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91320" y="2133720"/>
            <a:ext cx="1371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292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2133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133720"/>
            <a:ext cx="9903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00600" y="2133720"/>
            <a:ext cx="23623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00600" y="2133720"/>
            <a:ext cx="2362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791320" y="213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53280" y="2819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2560" y="2819520"/>
            <a:ext cx="9903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790960" y="2819520"/>
            <a:ext cx="23619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00240" y="2819520"/>
            <a:ext cx="3352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00240" y="28195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714640" y="213336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162560" y="44197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790960" y="441972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00240" y="4419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800240" y="2819160"/>
            <a:ext cx="3352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14640" y="21337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7913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800600" y="44193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800600" y="2819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00600" y="21333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800600" y="441936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800600" y="2819520"/>
            <a:ext cx="2362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715000" y="2133360"/>
            <a:ext cx="14479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800600" y="2819520"/>
            <a:ext cx="990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715000" y="2133360"/>
            <a:ext cx="763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990720"/>
            <a:ext cx="3962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ill takes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lauses to encode an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e of these vars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SAT solver examines clauses that contains the newly true 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llows the SAT solver to quickly realize that none of the other vars in the “at most” set can be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requires (n)(n-1)/2 cla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: Use ‘intermediary’ nodes (next sl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00600" y="213372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0FD-E56F-4D2E-ABE2-9B072E499BC3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ry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27320" y="222552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137160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4392720"/>
            <a:ext cx="405000" cy="52524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240"/>
              <a:gd name="textAreaBottom" fmla="*/ 505800 h 525240"/>
            </a:gdLst>
            <a:ahLst/>
            <a:rect l="textAreaLeft" t="textAreaTop" r="textAreaRight" b="textAreaBottom"/>
            <a:pathLst>
              <a:path w="21600" h="28007">
                <a:moveTo>
                  <a:pt x="3600" y="0"/>
                </a:moveTo>
                <a:arcTo wR="3600" hR="3600" stAng="16200000" swAng="-5400000"/>
                <a:lnTo>
                  <a:pt x="0" y="24407"/>
                </a:lnTo>
                <a:arcTo wR="3600" hR="3600" stAng="10800000" swAng="-5400000"/>
                <a:lnTo>
                  <a:pt x="18000" y="28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7320" y="360504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545680" y="222552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20120" y="137160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620120" y="4392720"/>
            <a:ext cx="404640" cy="52524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240"/>
              <a:gd name="textAreaBottom" fmla="*/ 505800 h 525240"/>
            </a:gdLst>
            <a:ahLst/>
            <a:rect l="textAreaLeft" t="textAreaTop" r="textAreaRight" b="textAreaBottom"/>
            <a:pathLst>
              <a:path w="21600" h="28032">
                <a:moveTo>
                  <a:pt x="3600" y="0"/>
                </a:moveTo>
                <a:arcTo wR="3600" hR="3600" stAng="16200000" swAng="-5400000"/>
                <a:lnTo>
                  <a:pt x="0" y="24432"/>
                </a:lnTo>
                <a:arcTo wR="3600" hR="3600" stAng="10800000" swAng="-5400000"/>
                <a:lnTo>
                  <a:pt x="18000" y="28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545680" y="360504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94720" y="1897200"/>
            <a:ext cx="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94720" y="1897200"/>
            <a:ext cx="75096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94720" y="1897200"/>
            <a:ext cx="750960" cy="19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45680" y="24876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794720" y="2487600"/>
            <a:ext cx="750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794720" y="3867120"/>
            <a:ext cx="7509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408560" y="3886200"/>
            <a:ext cx="7509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32320" y="24876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32320" y="1897200"/>
            <a:ext cx="69372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432320" y="2487600"/>
            <a:ext cx="750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125680" y="1897200"/>
            <a:ext cx="572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0820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2743200"/>
            <a:ext cx="762120" cy="6858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12000">
                <a:solidFill>
                  <a:srgbClr val="000000"/>
                </a:solidFill>
                <a:latin typeface="Verdana"/>
              </a:rPr>
              <a:t>5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2743200"/>
            <a:ext cx="761760" cy="6858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12000">
                <a:solidFill>
                  <a:srgbClr val="000000"/>
                </a:solidFill>
                <a:latin typeface="Verdana"/>
              </a:rPr>
              <a:t>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181480" y="312372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19720" y="31237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5146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9051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46712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467480" y="25146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4674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7467120" y="304812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990720"/>
            <a:ext cx="3809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riables into groups containing only a handful of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ry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ach group of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mediary variable is to be true iff one of the (original) vars in its group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constraint to ensure that at most one intermediary variabl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too many intermediary varibles, then they themselves may be grouped, forming a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E062-502A-4E4C-A321-BE4649F7CC7C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18788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5080" y="4788000"/>
            <a:ext cx="4093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97200" y="418788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59040" y="4187880"/>
            <a:ext cx="4096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51160" y="478800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40040" y="418788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5120" y="4187880"/>
            <a:ext cx="40824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4788000"/>
            <a:ext cx="4114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54680" y="4187880"/>
            <a:ext cx="4096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23960" y="2697120"/>
            <a:ext cx="77940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2697120"/>
            <a:ext cx="76032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4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7400" y="418788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78800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16960" y="4187880"/>
            <a:ext cx="4093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697120"/>
            <a:ext cx="77796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15000" y="2697120"/>
            <a:ext cx="76068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0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14680" y="1143000"/>
            <a:ext cx="77796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8520" y="1143000"/>
            <a:ext cx="75888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7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1120320" y="4578120"/>
            <a:ext cx="2890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19440" y="457812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43718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97504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7344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74840" y="43768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084280" y="4582800"/>
            <a:ext cx="2876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8340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84800" y="4376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948000" y="4582800"/>
            <a:ext cx="2876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64712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48520" y="4376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31840" y="3144600"/>
            <a:ext cx="820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5228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23960" y="3144960"/>
            <a:ext cx="328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3832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103560" y="3144600"/>
            <a:ext cx="820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103200" y="3144960"/>
            <a:ext cx="328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75280" y="3144600"/>
            <a:ext cx="739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814720" y="3144600"/>
            <a:ext cx="24588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567400" y="3144960"/>
            <a:ext cx="247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8176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046640" y="3144600"/>
            <a:ext cx="903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046640" y="3144960"/>
            <a:ext cx="4093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05160" y="292248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61120" y="29145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035080" y="1584360"/>
            <a:ext cx="180828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93920" y="1584360"/>
            <a:ext cx="649440" cy="11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57720" y="1584360"/>
            <a:ext cx="72072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57720" y="1584360"/>
            <a:ext cx="183852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76800" y="13716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B44F-9E0B-4C55-87AD-2079A88C4BA2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udok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57600" y="121932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o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×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number from 1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put in each cell;  some cells are pre-f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is subdivided in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×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umber must appear exactly once in each row, column, and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600200"/>
          <a:ext cx="3124440" cy="3218040"/>
        </p:xfrm>
        <a:graphic>
          <a:graphicData uri="http://schemas.openxmlformats.org/drawingml/2006/table">
            <a:tbl>
              <a:tblPr/>
              <a:tblGrid>
                <a:gridCol w="347760"/>
                <a:gridCol w="345960"/>
                <a:gridCol w="347760"/>
                <a:gridCol w="349200"/>
                <a:gridCol w="343080"/>
                <a:gridCol w="349200"/>
                <a:gridCol w="347760"/>
                <a:gridCol w="345960"/>
                <a:gridCol w="347760"/>
              </a:tblGrid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32D5-E10C-425D-B0BE-47E8177C9383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lauses for an “at most one” clause reduced from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 the larger puzzles, most of the cells are prefilled, so this only offered a 10%-20% performance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91520" cy="297648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0739-DEE9-4F04-8701-25C336D6B8A8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zzle-Solv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505320" y="380988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of SAT variables to Sudoku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76520" y="2362320"/>
            <a:ext cx="134784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59200" y="2362320"/>
            <a:ext cx="134928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043680" y="2362320"/>
            <a:ext cx="134784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8"/>
          <p:cNvCxnSpPr/>
          <p:nvPr/>
        </p:nvCxnSpPr>
        <p:spPr>
          <a:xfrm>
            <a:off x="3152520" y="2743200"/>
            <a:ext cx="5785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Straight Arrow Connector 9"/>
          <p:cNvCxnSpPr/>
          <p:nvPr/>
        </p:nvCxnSpPr>
        <p:spPr>
          <a:xfrm>
            <a:off x="5337000" y="2743200"/>
            <a:ext cx="5788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TextBox 10"/>
          <p:cNvSpPr/>
          <p:nvPr/>
        </p:nvSpPr>
        <p:spPr>
          <a:xfrm>
            <a:off x="3048120" y="2286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5272200" y="198108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Sol'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2671920" y="3228840"/>
            <a:ext cx="3627360" cy="51768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53352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8"/>
          <p:cNvCxnSpPr/>
          <p:nvPr/>
        </p:nvCxnSpPr>
        <p:spPr>
          <a:xfrm>
            <a:off x="533160" y="2743200"/>
            <a:ext cx="10357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20"/>
          <p:cNvCxnSpPr/>
          <p:nvPr/>
        </p:nvCxnSpPr>
        <p:spPr>
          <a:xfrm>
            <a:off x="7543440" y="2743200"/>
            <a:ext cx="10357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TextBox 21"/>
          <p:cNvSpPr/>
          <p:nvPr/>
        </p:nvSpPr>
        <p:spPr>
          <a:xfrm>
            <a:off x="7543800" y="1981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zzle Sol'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EE3F-BD09-4AB2-B6F7-C15595CE57CB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ine of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ous SAT Encodings for Sud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the Encoding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the Encoding of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nce &amp; Ouaknine (2006) and Weber (2005) proposed various SAT encodings for Sudo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 per cell: one for each possibl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re label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Arial"/>
              </a:rPr>
              <a:t>r,c,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w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umn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git.  The variable is true iff the digit occurs in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ncode the constraint that each digit occu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ctly on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row/col/block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2130-559D-4219-AA74-4B2EBF8CE5F1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5181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re label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Arial"/>
              </a:rPr>
              <a:t>r,c,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w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umn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581280" y="152280"/>
          <a:ext cx="2133360" cy="213372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457200"/>
                <a:gridCol w="5331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3520" y="2438280"/>
          <a:ext cx="83055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305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itle 1"/>
          <p:cNvSpPr/>
          <p:nvPr/>
        </p:nvSpPr>
        <p:spPr>
          <a:xfrm>
            <a:off x="304920" y="152280"/>
            <a:ext cx="2971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Variable En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EA42-0014-4DA0-BD4B-CC88611BA105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112400"/>
            <a:ext cx="7467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encode (in CNF) that each digit occur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ly onc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row/col/b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ncod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the conjunction of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easy: simply take the logical OR of all the proposition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harder in CNF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 method: “no two variables are both true”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enumerate every possible pair of variables and require that one variable in the pair is fal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kes O(n^2) cl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BC41-35FE-4527-A40F-DDE16D8B502D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for 3 variab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is tru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most one is true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one is tru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amp; 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49E1-CAB3-434B-8FB7-7FBF9A44CBFA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constraints are enco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e digit appears in each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lled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C42-4FA9-4182-89B3-0F5CC5ABE691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7:27:10Z</dcterms:created>
  <dc:creator>School of Computer Science</dc:creator>
  <dc:description/>
  <dc:language>en-US</dc:language>
  <cp:lastModifiedBy> wek</cp:lastModifiedBy>
  <dcterms:modified xsi:type="dcterms:W3CDTF">2007-09-29T17:46:54Z</dcterms:modified>
  <cp:revision>39</cp:revision>
  <dc:subject/>
  <dc:title>Optimized SAT Encoding For Sudoku Puzzles</dc:title>
</cp:coreProperties>
</file>