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DBB-FDA3-4582-A5D4-478DCBF8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2278-9245-432A-88B3-FC59DE62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BB6-6F50-4A69-B1B8-6055E0A3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BBE-5A29-437E-AA1A-E8584DDF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E2C8-CA52-415B-8A70-5862BFFF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54B6-BAA9-4D7E-8106-A87AD52B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DAFF-2A94-4F79-9421-3A6060E2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D2BF-9B10-42CF-9C3A-DCB610A3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2D37-DE83-4CB7-BF54-530E90E0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715F-5CD4-4018-ABB9-FB673B01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9ABE-90E6-444D-BE86-B5EB4061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054-706A-4C97-8352-9F2B621E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CB11-D0CF-4C40-9F5A-2336F272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8B3F-755B-4FFE-BA2F-AA0F3AD7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5112-CD01-49C7-9A0D-75EFB8FE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4417-AFE8-4E75-A7C9-C926E240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0B29-D4BB-45CE-ADCB-32074BA2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494-2579-492A-98FA-36A2269D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6C3-068E-486C-8575-B8E2E49A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415-0EF8-4352-9A36-38558D8E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5331-B00C-4811-A683-9C113F3C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7AE-95E0-4239-9989-9B0E0C2C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F778-FF9B-4DB7-841B-C9637C6F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E77C-2998-476B-96A0-17940D98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BF63-EA61-420F-99D5-7E7557A374B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EF0C-8C1D-4F4D-9B6E-E7D08EADD3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649F-E38F-4FCB-956F-E31EDE36E93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3FE0-0A09-44FA-8724-DEB68AEBB026}" type="slidenum">
              <a:rPr b="0" lang="en-US" sz="2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631800"/>
            <a:ext cx="8686800" cy="18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Calibri"/>
              </a:rPr>
              <a:t>Optimized SAT Encoding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Calibri"/>
              </a:rPr>
              <a:t>For Sudoku Puzzl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Will Klieber and Gi-Hwon Kw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pt 27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rev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ubtitle 2"/>
          <p:cNvSpPr/>
          <p:nvPr/>
        </p:nvSpPr>
        <p:spPr>
          <a:xfrm>
            <a:off x="1371600" y="4952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-90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from v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d a new slide after “A Better Encoding (1)” to explain how we deal with clauses that would contain skipped vari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“Implementation” slides, use different codes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±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FFFFF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stead of -1 and -2) to reduce confusion that resulted from another possible interpretation of the old co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with Previous Enco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otal variabl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w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l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gi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otal cla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quire that the digit “1” appear exactly once in the first row, we need O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la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for each digit and each 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rg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is is a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91CB-26D7-46CA-A2B1-B941A2DEAF3F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0E15-E92D-4CE7-B6C2-1ED2B513997C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6840" y="674640"/>
            <a:ext cx="894888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etter Encoding (1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idea: Don’t emit variables for prefilled cell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grids have larger percentage prefil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if we know that a given variable must be false (e.g., to avoid the same digit appearing twice in a row), don’t emi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kes encoding and decoding more compli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0227-94E6-4D65-A90C-DDD3E11EDD82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etter Encoding (1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Consider the CN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) &amp; (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) &amp; (c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~b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he variab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reset t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 clause (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) is automatically true, so we skip the cl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the literal ~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false, so we leave it out from the 3rd cl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result:  (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) &amp; (c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D957-34B2-4422-92BB-80689ED1A2A5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Encoding: 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467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AT solvers use an input format wherein vars are identified by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 3D arra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rNums[r][c][d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each possible SAT variable to an actual variabl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don’t give a variable number if the value is known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0xFFFF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rue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0xFFFF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false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is assumes less than 16 million var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D208-D750-4129-B96C-ECC562A09317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Encoding: Implement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rNums[r][c][d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z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efilled cell, store the appropriate code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±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FFFF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nto the array elems for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for every other cell in the same row, column, or bloc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-0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FFFF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reset_false) to the var that would put the same digit in this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ly, assign a real var number to each array element that is still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1516-CC45-4802-A3D9-91D0A02B014C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245280" cy="5592600"/>
          </a:xfrm>
          <a:prstGeom prst="rect">
            <a:avLst/>
          </a:prstGeom>
          <a:ln w="0">
            <a:noFill/>
          </a:ln>
        </p:spPr>
      </p:pic>
      <p:sp>
        <p:nvSpPr>
          <p:cNvPr id="1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4EAA-FDFC-4465-9DE5-51627B04139E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m for Another Impr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2514600"/>
            <a:ext cx="533520" cy="6094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609480"/>
              <a:gd name="textAreaBottom" fmla="*/ 583560 h 609480"/>
            </a:gdLst>
            <a:ahLst/>
            <a:rect l="textAreaLeft" t="textAreaTop" r="textAreaRight" b="textAreaBottom"/>
            <a:pathLst>
              <a:path w="21600" h="24673">
                <a:moveTo>
                  <a:pt x="3600" y="0"/>
                </a:moveTo>
                <a:arcTo wR="3600" hR="3600" stAng="16200000" swAng="-5400000"/>
                <a:lnTo>
                  <a:pt x="0" y="21073"/>
                </a:lnTo>
                <a:arcTo wR="3600" hR="3600" stAng="10800000" swAng="-5400000"/>
                <a:lnTo>
                  <a:pt x="18000" y="246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1523880"/>
            <a:ext cx="533520" cy="60984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609840"/>
              <a:gd name="textAreaBottom" fmla="*/ 583920 h 609840"/>
            </a:gdLst>
            <a:ahLst/>
            <a:rect l="textAreaLeft" t="textAreaTop" r="textAreaRight" b="textAreaBottom"/>
            <a:pathLst>
              <a:path w="21600" h="24688">
                <a:moveTo>
                  <a:pt x="3600" y="0"/>
                </a:moveTo>
                <a:arcTo wR="3600" hR="3600" stAng="16200000" swAng="-5400000"/>
                <a:lnTo>
                  <a:pt x="0" y="21088"/>
                </a:lnTo>
                <a:arcTo wR="3600" hR="3600" stAng="10800000" swAng="-5400000"/>
                <a:lnTo>
                  <a:pt x="18000" y="246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5029200"/>
            <a:ext cx="533520" cy="6094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609480"/>
              <a:gd name="textAreaBottom" fmla="*/ 583560 h 609480"/>
            </a:gdLst>
            <a:ahLst/>
            <a:rect l="textAreaLeft" t="textAreaTop" r="textAreaRight" b="textAreaBottom"/>
            <a:pathLst>
              <a:path w="21600" h="24673">
                <a:moveTo>
                  <a:pt x="3600" y="0"/>
                </a:moveTo>
                <a:arcTo wR="3600" hR="3600" stAng="16200000" swAng="-5400000"/>
                <a:lnTo>
                  <a:pt x="0" y="21073"/>
                </a:lnTo>
                <a:arcTo wR="3600" hR="3600" stAng="10800000" swAng="-5400000"/>
                <a:lnTo>
                  <a:pt x="18000" y="246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4114800"/>
            <a:ext cx="533520" cy="6094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609480"/>
              <a:gd name="textAreaBottom" fmla="*/ 583560 h 609480"/>
            </a:gdLst>
            <a:ahLst/>
            <a:rect l="textAreaLeft" t="textAreaTop" r="textAreaRight" b="textAreaBottom"/>
            <a:pathLst>
              <a:path w="21600" h="24673">
                <a:moveTo>
                  <a:pt x="3600" y="0"/>
                </a:moveTo>
                <a:arcTo wR="3600" hR="3600" stAng="16200000" swAng="-5400000"/>
                <a:lnTo>
                  <a:pt x="0" y="21073"/>
                </a:lnTo>
                <a:arcTo wR="3600" hR="3600" stAng="10800000" swAng="-5400000"/>
                <a:lnTo>
                  <a:pt x="18000" y="246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8153280" y="2514600"/>
            <a:ext cx="533520" cy="6094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609480"/>
              <a:gd name="textAreaBottom" fmla="*/ 583560 h 609480"/>
            </a:gdLst>
            <a:ahLst/>
            <a:rect l="textAreaLeft" t="textAreaTop" r="textAreaRight" b="textAreaBottom"/>
            <a:pathLst>
              <a:path w="21600" h="24673">
                <a:moveTo>
                  <a:pt x="3600" y="0"/>
                </a:moveTo>
                <a:arcTo wR="3600" hR="3600" stAng="16200000" swAng="-5400000"/>
                <a:lnTo>
                  <a:pt x="0" y="21073"/>
                </a:lnTo>
                <a:arcTo wR="3600" hR="3600" stAng="10800000" swAng="-5400000"/>
                <a:lnTo>
                  <a:pt x="18000" y="246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933600" y="1523880"/>
            <a:ext cx="533160" cy="60984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609840"/>
              <a:gd name="textAreaBottom" fmla="*/ 583920 h 609840"/>
            </a:gdLst>
            <a:ahLst/>
            <a:rect l="textAreaLeft" t="textAreaTop" r="textAreaRight" b="textAreaBottom"/>
            <a:pathLst>
              <a:path w="21600" h="24704">
                <a:moveTo>
                  <a:pt x="3600" y="0"/>
                </a:moveTo>
                <a:arcTo wR="3600" hR="3600" stAng="16200000" swAng="-5400000"/>
                <a:lnTo>
                  <a:pt x="0" y="21104"/>
                </a:lnTo>
                <a:arcTo wR="3600" hR="3600" stAng="10800000" swAng="-5400000"/>
                <a:lnTo>
                  <a:pt x="18000" y="247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933600" y="5029200"/>
            <a:ext cx="533160" cy="60948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609480"/>
              <a:gd name="textAreaBottom" fmla="*/ 583560 h 609480"/>
            </a:gdLst>
            <a:ahLst/>
            <a:rect l="textAreaLeft" t="textAreaTop" r="textAreaRight" b="textAreaBottom"/>
            <a:pathLst>
              <a:path w="21600" h="24690">
                <a:moveTo>
                  <a:pt x="3600" y="0"/>
                </a:moveTo>
                <a:arcTo wR="3600" hR="3600" stAng="16200000" swAng="-5400000"/>
                <a:lnTo>
                  <a:pt x="0" y="21090"/>
                </a:lnTo>
                <a:arcTo wR="3600" hR="3600" stAng="10800000" swAng="-5400000"/>
                <a:lnTo>
                  <a:pt x="18000" y="246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8153280" y="4114800"/>
            <a:ext cx="533520" cy="6094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609480"/>
              <a:gd name="textAreaBottom" fmla="*/ 583560 h 609480"/>
            </a:gdLst>
            <a:ahLst/>
            <a:rect l="textAreaLeft" t="textAreaTop" r="textAreaRight" b="textAreaBottom"/>
            <a:pathLst>
              <a:path w="21600" h="24673">
                <a:moveTo>
                  <a:pt x="3600" y="0"/>
                </a:moveTo>
                <a:arcTo wR="3600" hR="3600" stAng="16200000" swAng="-5400000"/>
                <a:lnTo>
                  <a:pt x="0" y="21073"/>
                </a:lnTo>
                <a:arcTo wR="3600" hR="3600" stAng="10800000" swAng="-5400000"/>
                <a:lnTo>
                  <a:pt x="18000" y="246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791320" y="2133720"/>
            <a:ext cx="13716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2920" y="21337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2920" y="21337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133720"/>
            <a:ext cx="9903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800600" y="2133720"/>
            <a:ext cx="23623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800600" y="2133720"/>
            <a:ext cx="2362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791320" y="213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53280" y="28195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162560" y="2819520"/>
            <a:ext cx="99036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790960" y="2819520"/>
            <a:ext cx="236196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800240" y="2819520"/>
            <a:ext cx="33526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800240" y="28195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714640" y="213336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162560" y="441972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790960" y="4419720"/>
            <a:ext cx="2361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800240" y="4419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4800240" y="2819160"/>
            <a:ext cx="33526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714640" y="2133720"/>
            <a:ext cx="24382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791320" y="5029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4800600" y="44193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800600" y="28191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800600" y="213336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800600" y="4419360"/>
            <a:ext cx="2362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4800600" y="2819520"/>
            <a:ext cx="23623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715000" y="2133360"/>
            <a:ext cx="144792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4800600" y="2819520"/>
            <a:ext cx="9907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5715000" y="2133360"/>
            <a:ext cx="7632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990720"/>
            <a:ext cx="3962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till takes 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lauses to encode an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most 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constra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ne of these vars becom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SAT solver examines clauses that contains the newly true v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llows the SAT solver to quickly realize that none of the other vars in the “at most” set can be tr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requires (n)(n-1)/2 clau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ment: Use ‘intermediary’ nodes (next sli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800600" y="2133720"/>
            <a:ext cx="9144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FD5F-2340-48BB-BD89-E9F493683E88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mediary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27320" y="2225520"/>
            <a:ext cx="405000" cy="525600"/>
          </a:xfrm>
          <a:custGeom>
            <a:avLst/>
            <a:gdLst>
              <a:gd name="textAreaLeft" fmla="*/ 19440 w 405000"/>
              <a:gd name="textAreaRight" fmla="*/ 385560 w 405000"/>
              <a:gd name="textAreaTop" fmla="*/ 19440 h 525600"/>
              <a:gd name="textAreaBottom" fmla="*/ 506160 h 525600"/>
            </a:gdLst>
            <a:ahLst/>
            <a:rect l="textAreaLeft" t="textAreaTop" r="textAreaRight" b="textAreaBottom"/>
            <a:pathLst>
              <a:path w="21600" h="28026">
                <a:moveTo>
                  <a:pt x="3600" y="0"/>
                </a:moveTo>
                <a:arcTo wR="3600" hR="3600" stAng="16200000" swAng="-5400000"/>
                <a:lnTo>
                  <a:pt x="0" y="24426"/>
                </a:lnTo>
                <a:arcTo wR="3600" hR="3600" stAng="10800000" swAng="-5400000"/>
                <a:lnTo>
                  <a:pt x="18000" y="280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1371600"/>
            <a:ext cx="405000" cy="525600"/>
          </a:xfrm>
          <a:custGeom>
            <a:avLst/>
            <a:gdLst>
              <a:gd name="textAreaLeft" fmla="*/ 19440 w 405000"/>
              <a:gd name="textAreaRight" fmla="*/ 385560 w 405000"/>
              <a:gd name="textAreaTop" fmla="*/ 19440 h 525600"/>
              <a:gd name="textAreaBottom" fmla="*/ 506160 h 525600"/>
            </a:gdLst>
            <a:ahLst/>
            <a:rect l="textAreaLeft" t="textAreaTop" r="textAreaRight" b="textAreaBottom"/>
            <a:pathLst>
              <a:path w="21600" h="28026">
                <a:moveTo>
                  <a:pt x="3600" y="0"/>
                </a:moveTo>
                <a:arcTo wR="3600" hR="3600" stAng="16200000" swAng="-5400000"/>
                <a:lnTo>
                  <a:pt x="0" y="24426"/>
                </a:lnTo>
                <a:arcTo wR="3600" hR="3600" stAng="10800000" swAng="-5400000"/>
                <a:lnTo>
                  <a:pt x="18000" y="280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52880" y="4392720"/>
            <a:ext cx="405000" cy="525240"/>
          </a:xfrm>
          <a:custGeom>
            <a:avLst/>
            <a:gdLst>
              <a:gd name="textAreaLeft" fmla="*/ 19440 w 405000"/>
              <a:gd name="textAreaRight" fmla="*/ 385560 w 405000"/>
              <a:gd name="textAreaTop" fmla="*/ 19440 h 525240"/>
              <a:gd name="textAreaBottom" fmla="*/ 505800 h 525240"/>
            </a:gdLst>
            <a:ahLst/>
            <a:rect l="textAreaLeft" t="textAreaTop" r="textAreaRight" b="textAreaBottom"/>
            <a:pathLst>
              <a:path w="21600" h="28007">
                <a:moveTo>
                  <a:pt x="3600" y="0"/>
                </a:moveTo>
                <a:arcTo wR="3600" hR="3600" stAng="16200000" swAng="-5400000"/>
                <a:lnTo>
                  <a:pt x="0" y="24407"/>
                </a:lnTo>
                <a:arcTo wR="3600" hR="3600" stAng="10800000" swAng="-5400000"/>
                <a:lnTo>
                  <a:pt x="18000" y="28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27320" y="3605040"/>
            <a:ext cx="405000" cy="525600"/>
          </a:xfrm>
          <a:custGeom>
            <a:avLst/>
            <a:gdLst>
              <a:gd name="textAreaLeft" fmla="*/ 19440 w 405000"/>
              <a:gd name="textAreaRight" fmla="*/ 385560 w 405000"/>
              <a:gd name="textAreaTop" fmla="*/ 19440 h 525600"/>
              <a:gd name="textAreaBottom" fmla="*/ 506160 h 525600"/>
            </a:gdLst>
            <a:ahLst/>
            <a:rect l="textAreaLeft" t="textAreaTop" r="textAreaRight" b="textAreaBottom"/>
            <a:pathLst>
              <a:path w="21600" h="28026">
                <a:moveTo>
                  <a:pt x="3600" y="0"/>
                </a:moveTo>
                <a:arcTo wR="3600" hR="3600" stAng="16200000" swAng="-5400000"/>
                <a:lnTo>
                  <a:pt x="0" y="24426"/>
                </a:lnTo>
                <a:arcTo wR="3600" hR="3600" stAng="10800000" swAng="-5400000"/>
                <a:lnTo>
                  <a:pt x="18000" y="280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8545680" y="2225520"/>
            <a:ext cx="404640" cy="525600"/>
          </a:xfrm>
          <a:custGeom>
            <a:avLst/>
            <a:gdLst>
              <a:gd name="textAreaLeft" fmla="*/ 19440 w 404640"/>
              <a:gd name="textAreaRight" fmla="*/ 385200 w 404640"/>
              <a:gd name="textAreaTop" fmla="*/ 19440 h 525600"/>
              <a:gd name="textAreaBottom" fmla="*/ 506160 h 525600"/>
            </a:gdLst>
            <a:ahLst/>
            <a:rect l="textAreaLeft" t="textAreaTop" r="textAreaRight" b="textAreaBottom"/>
            <a:pathLst>
              <a:path w="21600" h="28051">
                <a:moveTo>
                  <a:pt x="3600" y="0"/>
                </a:moveTo>
                <a:arcTo wR="3600" hR="3600" stAng="16200000" swAng="-5400000"/>
                <a:lnTo>
                  <a:pt x="0" y="24451"/>
                </a:lnTo>
                <a:arcTo wR="3600" hR="3600" stAng="10800000" swAng="-5400000"/>
                <a:lnTo>
                  <a:pt x="18000" y="28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620120" y="1371600"/>
            <a:ext cx="404640" cy="525600"/>
          </a:xfrm>
          <a:custGeom>
            <a:avLst/>
            <a:gdLst>
              <a:gd name="textAreaLeft" fmla="*/ 19440 w 404640"/>
              <a:gd name="textAreaRight" fmla="*/ 385200 w 404640"/>
              <a:gd name="textAreaTop" fmla="*/ 19440 h 525600"/>
              <a:gd name="textAreaBottom" fmla="*/ 506160 h 525600"/>
            </a:gdLst>
            <a:ahLst/>
            <a:rect l="textAreaLeft" t="textAreaTop" r="textAreaRight" b="textAreaBottom"/>
            <a:pathLst>
              <a:path w="21600" h="28051">
                <a:moveTo>
                  <a:pt x="3600" y="0"/>
                </a:moveTo>
                <a:arcTo wR="3600" hR="3600" stAng="16200000" swAng="-5400000"/>
                <a:lnTo>
                  <a:pt x="0" y="24451"/>
                </a:lnTo>
                <a:arcTo wR="3600" hR="3600" stAng="10800000" swAng="-5400000"/>
                <a:lnTo>
                  <a:pt x="18000" y="28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620120" y="4392720"/>
            <a:ext cx="404640" cy="525240"/>
          </a:xfrm>
          <a:custGeom>
            <a:avLst/>
            <a:gdLst>
              <a:gd name="textAreaLeft" fmla="*/ 19440 w 404640"/>
              <a:gd name="textAreaRight" fmla="*/ 385200 w 404640"/>
              <a:gd name="textAreaTop" fmla="*/ 19440 h 525240"/>
              <a:gd name="textAreaBottom" fmla="*/ 505800 h 525240"/>
            </a:gdLst>
            <a:ahLst/>
            <a:rect l="textAreaLeft" t="textAreaTop" r="textAreaRight" b="textAreaBottom"/>
            <a:pathLst>
              <a:path w="21600" h="28032">
                <a:moveTo>
                  <a:pt x="3600" y="0"/>
                </a:moveTo>
                <a:arcTo wR="3600" hR="3600" stAng="16200000" swAng="-5400000"/>
                <a:lnTo>
                  <a:pt x="0" y="24432"/>
                </a:lnTo>
                <a:arcTo wR="3600" hR="3600" stAng="10800000" swAng="-5400000"/>
                <a:lnTo>
                  <a:pt x="18000" y="280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8545680" y="3605040"/>
            <a:ext cx="404640" cy="525600"/>
          </a:xfrm>
          <a:custGeom>
            <a:avLst/>
            <a:gdLst>
              <a:gd name="textAreaLeft" fmla="*/ 19440 w 404640"/>
              <a:gd name="textAreaRight" fmla="*/ 385200 w 404640"/>
              <a:gd name="textAreaTop" fmla="*/ 19440 h 525600"/>
              <a:gd name="textAreaBottom" fmla="*/ 506160 h 525600"/>
            </a:gdLst>
            <a:ahLst/>
            <a:rect l="textAreaLeft" t="textAreaTop" r="textAreaRight" b="textAreaBottom"/>
            <a:pathLst>
              <a:path w="21600" h="28051">
                <a:moveTo>
                  <a:pt x="3600" y="0"/>
                </a:moveTo>
                <a:arcTo wR="3600" hR="3600" stAng="16200000" swAng="-5400000"/>
                <a:lnTo>
                  <a:pt x="0" y="24451"/>
                </a:lnTo>
                <a:arcTo wR="3600" hR="3600" stAng="10800000" swAng="-5400000"/>
                <a:lnTo>
                  <a:pt x="18000" y="28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94720" y="1897200"/>
            <a:ext cx="0" cy="24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794720" y="1897200"/>
            <a:ext cx="750960" cy="59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94720" y="1897200"/>
            <a:ext cx="750960" cy="19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545680" y="2487600"/>
            <a:ext cx="0" cy="13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794720" y="2487600"/>
            <a:ext cx="75096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794720" y="3867120"/>
            <a:ext cx="750960" cy="5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4408560" y="3886200"/>
            <a:ext cx="750960" cy="5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32320" y="2487600"/>
            <a:ext cx="0" cy="13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32320" y="1897200"/>
            <a:ext cx="693720" cy="59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4432320" y="2487600"/>
            <a:ext cx="75096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5125680" y="1897200"/>
            <a:ext cx="57240" cy="24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08200" y="1905120"/>
            <a:ext cx="6858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2743200"/>
            <a:ext cx="762120" cy="6858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-12000">
                <a:solidFill>
                  <a:srgbClr val="000000"/>
                </a:solidFill>
                <a:latin typeface="Verdana"/>
              </a:rPr>
              <a:t>5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05720" y="2743200"/>
            <a:ext cx="761760" cy="6858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9080">
            <a:solidFill>
              <a:srgbClr val="1f3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-12000">
                <a:solidFill>
                  <a:srgbClr val="000000"/>
                </a:solidFill>
                <a:latin typeface="Verdana"/>
              </a:rPr>
              <a:t>1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181480" y="3123720"/>
            <a:ext cx="3049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419720" y="312372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51460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19051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7467120" y="190512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7467480" y="25146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74674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7467120" y="3048120"/>
            <a:ext cx="3049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990720"/>
            <a:ext cx="3809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riables into groups containing only a handful of v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mediary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each group of v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mediary variable is to be true iff one of the (original) vars in its group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constraint to ensure that at most one intermediary variable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re are too many intermediary varibles, then they themselves may be grouped, forming a hierar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BECF-1847-4927-A33F-B81A690B33AA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archical Grou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187880"/>
            <a:ext cx="41112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05080" y="4788000"/>
            <a:ext cx="40932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97200" y="4187880"/>
            <a:ext cx="40788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59040" y="4187880"/>
            <a:ext cx="40968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51160" y="4788000"/>
            <a:ext cx="40788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40040" y="4187880"/>
            <a:ext cx="41112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75120" y="4187880"/>
            <a:ext cx="40824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64000" y="4788000"/>
            <a:ext cx="41148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54680" y="4187880"/>
            <a:ext cx="40968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23960" y="2697120"/>
            <a:ext cx="779400" cy="46836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haris SIL"/>
              </a:rPr>
              <a:t>i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54360" y="2697120"/>
            <a:ext cx="760320" cy="46836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haris SIL"/>
              </a:rPr>
              <a:t>i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4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37400" y="4187880"/>
            <a:ext cx="40788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26280" y="4788000"/>
            <a:ext cx="41112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716960" y="4187880"/>
            <a:ext cx="409320" cy="39060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haris SI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2697120"/>
            <a:ext cx="777960" cy="46836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haris SIL"/>
              </a:rPr>
              <a:t>i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7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15000" y="2697120"/>
            <a:ext cx="760680" cy="46836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haris SIL"/>
              </a:rPr>
              <a:t>i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10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14680" y="1143000"/>
            <a:ext cx="777960" cy="46836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haris SIL"/>
              </a:rPr>
              <a:t>i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1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08520" y="1143000"/>
            <a:ext cx="758880" cy="468360"/>
          </a:xfrm>
          <a:prstGeom prst="roundRect">
            <a:avLst>
              <a:gd name="adj" fmla="val 16667"/>
            </a:avLst>
          </a:prstGeom>
          <a:solidFill>
            <a:srgbClr val="a0bb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haris SIL"/>
              </a:rPr>
              <a:t>i</a:t>
            </a:r>
            <a:r>
              <a:rPr b="0" lang="en-US" sz="2800" spc="-1" strike="noStrike" baseline="-18000">
                <a:solidFill>
                  <a:srgbClr val="000000"/>
                </a:solidFill>
                <a:latin typeface="Tahoma"/>
              </a:rPr>
              <a:t>7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1120320" y="4578120"/>
            <a:ext cx="2890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819440" y="4578120"/>
            <a:ext cx="2872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22280" y="437184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2975040" y="4582800"/>
            <a:ext cx="2872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673440" y="4582800"/>
            <a:ext cx="2872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74840" y="437688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5084280" y="4582800"/>
            <a:ext cx="28764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783400" y="4582800"/>
            <a:ext cx="2872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84800" y="43768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6948000" y="4582800"/>
            <a:ext cx="28764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647120" y="4582800"/>
            <a:ext cx="2872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148520" y="43768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131840" y="3144600"/>
            <a:ext cx="82080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1952280" y="3144600"/>
            <a:ext cx="16524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623960" y="3144960"/>
            <a:ext cx="32868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938320" y="3144600"/>
            <a:ext cx="16524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103560" y="3144600"/>
            <a:ext cx="82080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103200" y="3144960"/>
            <a:ext cx="32868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075280" y="3144600"/>
            <a:ext cx="73980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814720" y="3144600"/>
            <a:ext cx="24588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567400" y="3144960"/>
            <a:ext cx="24768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881760" y="3144600"/>
            <a:ext cx="16524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046640" y="3144600"/>
            <a:ext cx="903240" cy="10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7046640" y="3144960"/>
            <a:ext cx="40932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05160" y="2922480"/>
            <a:ext cx="34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61120" y="29145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035080" y="1584360"/>
            <a:ext cx="180828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193920" y="1584360"/>
            <a:ext cx="649440" cy="11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57720" y="1584360"/>
            <a:ext cx="720720" cy="11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57720" y="1584360"/>
            <a:ext cx="1838520" cy="11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76800" y="137160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7101-B7F5-4438-B895-7865350905DD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udok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657600" y="121932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d o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×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ngle number from 1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put in each cell;  some cells are pre-fil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 is subdivided in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×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bl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umber must appear exactly once in each row, column, and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1600200"/>
          <a:ext cx="3124440" cy="3218040"/>
        </p:xfrm>
        <a:graphic>
          <a:graphicData uri="http://schemas.openxmlformats.org/drawingml/2006/table">
            <a:tbl>
              <a:tblPr/>
              <a:tblGrid>
                <a:gridCol w="347760"/>
                <a:gridCol w="345960"/>
                <a:gridCol w="347760"/>
                <a:gridCol w="349200"/>
                <a:gridCol w="343080"/>
                <a:gridCol w="349200"/>
                <a:gridCol w="347760"/>
                <a:gridCol w="345960"/>
                <a:gridCol w="347760"/>
              </a:tblGrid>
              <a:tr h="35712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7280" rIns="107280" tIns="53640" bIns="53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7280" marR="107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7CA2-5F49-4ACF-BD36-A91DF1B605F7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clauses for an “at most one” clause reduced from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o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n the larger puzzles, most of the cells are prefilled, so this only offered a 10%-20% performance bene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391520" cy="2976480"/>
          </a:xfrm>
          <a:prstGeom prst="rect">
            <a:avLst/>
          </a:prstGeom>
          <a:ln w="0">
            <a:noFill/>
          </a:ln>
        </p:spPr>
      </p:pic>
      <p:sp>
        <p:nvSpPr>
          <p:cNvPr id="2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58A4-386D-4ABE-BAF9-8627E78E97D2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zzle-Solv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505320" y="380988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of SAT variables to Sudoku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676520" y="2362320"/>
            <a:ext cx="1347840" cy="7617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859200" y="2362320"/>
            <a:ext cx="1349280" cy="7617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6043680" y="2362320"/>
            <a:ext cx="1347840" cy="7617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Straight Arrow Connector 8"/>
          <p:cNvCxnSpPr/>
          <p:nvPr/>
        </p:nvCxnSpPr>
        <p:spPr>
          <a:xfrm>
            <a:off x="3152520" y="2743200"/>
            <a:ext cx="57852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Straight Arrow Connector 9"/>
          <p:cNvCxnSpPr/>
          <p:nvPr/>
        </p:nvCxnSpPr>
        <p:spPr>
          <a:xfrm>
            <a:off x="5337000" y="2743200"/>
            <a:ext cx="57888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6" name="TextBox 10"/>
          <p:cNvSpPr/>
          <p:nvPr/>
        </p:nvSpPr>
        <p:spPr>
          <a:xfrm>
            <a:off x="3048120" y="228600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5272200" y="1981080"/>
            <a:ext cx="7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 Sol'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3"/>
          <p:cNvSpPr/>
          <p:nvPr/>
        </p:nvSpPr>
        <p:spPr>
          <a:xfrm>
            <a:off x="2671920" y="3228840"/>
            <a:ext cx="3627360" cy="517680"/>
          </a:xfrm>
          <a:prstGeom prst="pie">
            <a:avLst/>
          </a:prstGeom>
          <a:noFill/>
          <a:ln w="38160">
            <a:solidFill>
              <a:srgbClr val="4a7ebb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7"/>
          <p:cNvSpPr/>
          <p:nvPr/>
        </p:nvSpPr>
        <p:spPr>
          <a:xfrm>
            <a:off x="533520" y="2286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zz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Arrow Connector 18"/>
          <p:cNvCxnSpPr/>
          <p:nvPr/>
        </p:nvCxnSpPr>
        <p:spPr>
          <a:xfrm>
            <a:off x="533160" y="2743200"/>
            <a:ext cx="103572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Straight Arrow Connector 20"/>
          <p:cNvCxnSpPr/>
          <p:nvPr/>
        </p:nvCxnSpPr>
        <p:spPr>
          <a:xfrm>
            <a:off x="7543440" y="2743200"/>
            <a:ext cx="103572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TextBox 21"/>
          <p:cNvSpPr/>
          <p:nvPr/>
        </p:nvSpPr>
        <p:spPr>
          <a:xfrm>
            <a:off x="7543800" y="19810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zzle Sol'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25C0-BD30-4676-B2E2-BDEABEF81905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tline of Thi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ious SAT Encodings for Sud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izing the Encoding of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izing the Encoding of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ous Encoding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nce &amp; Ouaknine (2006) and Weber (2005) proposed various SAT encodings for Sudo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s per cell: one for each possibl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are labelled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14000">
                <a:solidFill>
                  <a:srgbClr val="000000"/>
                </a:solidFill>
                <a:latin typeface="Arial"/>
              </a:rPr>
              <a:t>r,c,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,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row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column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digit.  The variable is true iff the digit occurs in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encode the constraint that each digit occur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ctly onc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ch row/col/block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1423-9889-4223-B05A-43323A3CAB1F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440" y="51814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are labelled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14000">
                <a:solidFill>
                  <a:srgbClr val="000000"/>
                </a:solidFill>
                <a:latin typeface="Arial"/>
              </a:rPr>
              <a:t>r,c,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,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row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column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dig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581280" y="152280"/>
          <a:ext cx="2133360" cy="2133720"/>
        </p:xfrm>
        <a:graphic>
          <a:graphicData uri="http://schemas.openxmlformats.org/drawingml/2006/table">
            <a:tbl>
              <a:tblPr/>
              <a:tblGrid>
                <a:gridCol w="533160"/>
                <a:gridCol w="609840"/>
                <a:gridCol w="457200"/>
                <a:gridCol w="5331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33520" y="2438280"/>
          <a:ext cx="830556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83055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itle 1"/>
          <p:cNvSpPr/>
          <p:nvPr/>
        </p:nvSpPr>
        <p:spPr>
          <a:xfrm>
            <a:off x="304920" y="152280"/>
            <a:ext cx="2971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Variable En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7470-393C-474D-83FD-D1266DCA5845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ous Encoding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1112400"/>
            <a:ext cx="7467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encode (in CNF) that each digit occurs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actly onc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ach row/col/blo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encod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ctly 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s the conjunction of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least 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most 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least 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is easy: simply take the logical OR of all the proposition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most 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is harder in CNF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d method: “no two variables are both true”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enumerate every possible pair of variables and require that one variable in the pair is fals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akes O(n^2) cla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F5A6-CAA3-4D34-A317-BAC191C41F42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ous Encoding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for 3 variable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least one is tru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most one is true”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~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 &amp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~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 &amp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~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ctly one is tru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amp; (~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&amp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~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&amp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~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67E0-F020-4176-879A-2A61BD131524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ous Encoding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constraints are enco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ly one digit appears in each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igit appears exactly once in each 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igit appears exactly once in each colum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igit appears exactly once in each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illed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A999-6356-4CFF-897C-00AD752D0FB8}" type="slidenum">
              <a:rPr b="0" lang="en-US" sz="1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7:27:10Z</dcterms:created>
  <dc:creator>School of Computer Science</dc:creator>
  <dc:description/>
  <dc:language>en-US</dc:language>
  <cp:lastModifiedBy> wek</cp:lastModifiedBy>
  <dcterms:modified xsi:type="dcterms:W3CDTF">2007-09-29T17:46:54Z</dcterms:modified>
  <cp:revision>39</cp:revision>
  <dc:subject/>
  <dc:title>Optimized SAT Encoding For Sudoku Puzzles</dc:title>
</cp:coreProperties>
</file>