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8A32-7C2E-48AF-9496-326C41CFA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39EC-C63F-4009-A5B2-114D96067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B88D-354F-41FB-897F-4E638564B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5199-9073-446B-888A-61FEC4413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442C-4E7E-468C-9211-3104385B9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2ED6-2C40-4E79-B8CD-C1A63B06F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1041-7B62-4532-9B16-292E8D7D3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D3E0-0935-45DE-BC82-488574A2B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592C-82FF-4CC9-AEF2-1245541A7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D429-8B13-4F40-8C28-B6D1A0DB3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3815-C479-48A7-8EEE-5270F01FE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EEB6-3177-4221-9649-C2D8A8496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667400" y="55627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761B-A556-4DBD-93C6-E5CC8F0D3AA0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FB2-1A93-41B7-B332-132199E77371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440" y="65527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428640" y="35053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91440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3333cc"/>
                </a:solidFill>
                <a:latin typeface="Tahoma"/>
              </a:rPr>
              <a:t>SMV Examples</a:t>
            </a:r>
            <a:endParaRPr b="1" lang="en-US" sz="4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Bug Catching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 2006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ct. 24,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8287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85272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8287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385272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32544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544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3672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13334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3578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692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836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69200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29" name=""/>
          <p:cNvCxnSpPr>
            <a:stCxn id="312" idx="1"/>
            <a:endCxn id="312" idx="0"/>
          </p:cNvCxnSpPr>
          <p:nvPr/>
        </p:nvCxnSpPr>
        <p:spPr>
          <a:xfrm flipH="1" flipV="1" rot="5400000">
            <a:off x="1148400" y="226872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3" idx="1"/>
            <a:endCxn id="313" idx="0"/>
          </p:cNvCxnSpPr>
          <p:nvPr/>
        </p:nvCxnSpPr>
        <p:spPr>
          <a:xfrm flipH="1" flipV="1" rot="5400000">
            <a:off x="417240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5" idx="5"/>
            <a:endCxn id="315" idx="4"/>
          </p:cNvCxnSpPr>
          <p:nvPr/>
        </p:nvCxnSpPr>
        <p:spPr>
          <a:xfrm rot="5400000">
            <a:off x="4579920" y="511704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24000" y="14832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Kripke stru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5364000" y="148320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omputation tre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804000" y="227664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370560" y="304812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7236000" y="304956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37" name=""/>
          <p:cNvCxnSpPr>
            <a:stCxn id="334" idx="4"/>
            <a:endCxn id="335" idx="0"/>
          </p:cNvCxnSpPr>
          <p:nvPr/>
        </p:nvCxnSpPr>
        <p:spPr>
          <a:xfrm flipH="1">
            <a:off x="6730560" y="2727000"/>
            <a:ext cx="4341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4" idx="4"/>
            <a:endCxn id="336" idx="0"/>
          </p:cNvCxnSpPr>
          <p:nvPr/>
        </p:nvCxnSpPr>
        <p:spPr>
          <a:xfrm>
            <a:off x="7164360" y="272700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578560" y="34995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805440" y="4290840"/>
            <a:ext cx="720720" cy="45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41" name=""/>
          <p:cNvCxnSpPr>
            <a:stCxn id="340" idx="4"/>
          </p:cNvCxnSpPr>
          <p:nvPr/>
        </p:nvCxnSpPr>
        <p:spPr>
          <a:xfrm flipH="1">
            <a:off x="6732000" y="4741560"/>
            <a:ext cx="43380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40" idx="4"/>
          </p:cNvCxnSpPr>
          <p:nvPr/>
        </p:nvCxnSpPr>
        <p:spPr>
          <a:xfrm>
            <a:off x="7165800" y="474156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5580000" y="511884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alread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5830-2CF8-42AE-ABC9-258C9F7971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Courier New"/>
                <a:ea typeface="돋움"/>
              </a:rPr>
              <a:t>AX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47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6372360" y="2421000"/>
            <a:ext cx="2232000" cy="792000"/>
          </a:xfrm>
          <a:prstGeom prst="wedgeRoundRectCallout">
            <a:avLst>
              <a:gd name="adj1" fmla="val 9388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AF is changed to </a:t>
            </a:r>
            <a:r>
              <a:rPr b="1" lang="ko-KR" sz="2000" spc="-1" strike="noStrike">
                <a:solidFill>
                  <a:srgbClr val="cc0000"/>
                </a:solidFill>
                <a:latin typeface="Tahoma"/>
              </a:rPr>
              <a:t>AX</a:t>
            </a: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42A0-3569-43C3-B42C-68C2D5DE79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H="1" flipV="1">
            <a:off x="16887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19640" y="1952640"/>
            <a:ext cx="3648240" cy="3781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8256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37069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7069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69056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18352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18352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2116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435456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54620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690200" y="306864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54584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8" name=""/>
          <p:cNvCxnSpPr>
            <a:stCxn id="361" idx="1"/>
            <a:endCxn id="361" idx="0"/>
          </p:cNvCxnSpPr>
          <p:nvPr/>
        </p:nvCxnSpPr>
        <p:spPr>
          <a:xfrm flipH="1" flipV="1" rot="5400000">
            <a:off x="1002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2" idx="1"/>
            <a:endCxn id="362" idx="0"/>
          </p:cNvCxnSpPr>
          <p:nvPr/>
        </p:nvCxnSpPr>
        <p:spPr>
          <a:xfrm flipH="1" flipV="1" rot="5400000">
            <a:off x="4026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64" idx="5"/>
            <a:endCxn id="364" idx="4"/>
          </p:cNvCxnSpPr>
          <p:nvPr/>
        </p:nvCxnSpPr>
        <p:spPr>
          <a:xfrm rot="5400000">
            <a:off x="4434120" y="511704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114560" y="151848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property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681120" y="2421000"/>
            <a:ext cx="1152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1545840" y="314172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3705120" y="4653000"/>
            <a:ext cx="1152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0F99-6E71-4C3A-A237-635140B970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Three Bit Count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387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AF bit2.carry_o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39BB-A23F-4AC4-A76B-8FAC90AA70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619280" y="299736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3067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411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2338560" y="291528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1760400" y="292320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5435640" y="141300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1483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6154560" y="1330920"/>
            <a:ext cx="5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5437080" y="2995560"/>
            <a:ext cx="79236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5005440" y="3066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229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6156360" y="29138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5005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5437080" y="4581360"/>
            <a:ext cx="79236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4651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44996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5005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833480" y="335592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5576760" y="1338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5649840" y="177156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5578560" y="292320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335592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5578560" y="45075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94028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7" name=""/>
          <p:cNvCxnSpPr>
            <a:stCxn id="407" idx="0"/>
            <a:endCxn id="414" idx="0"/>
          </p:cNvCxnSpPr>
          <p:nvPr/>
        </p:nvCxnSpPr>
        <p:spPr>
          <a:xfrm rot="5400000">
            <a:off x="5049720" y="1881720"/>
            <a:ext cx="1564560" cy="165492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2" idx="0"/>
            <a:endCxn id="419" idx="0"/>
          </p:cNvCxnSpPr>
          <p:nvPr/>
        </p:nvCxnSpPr>
        <p:spPr>
          <a:xfrm rot="5400000">
            <a:off x="5049000" y="3465360"/>
            <a:ext cx="1567440" cy="165636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395280" y="220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decla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61992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instanti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7093080" y="16628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7093080" y="32472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7093080" y="4831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BD1A-3417-4F6C-BEE5-AC89A32BD7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734160" y="220500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1044720" y="1340640"/>
            <a:ext cx="38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AF bit2.carry_ou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FEFD-BC8F-4F3B-AE15-A2B017A32A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482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(!bit2.carry_o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6675-1BE5-4224-9B87-0DC418734C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73416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>
            <a:off x="755640" y="1340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(!bit2.carry_o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356000" y="130320"/>
            <a:ext cx="460872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0981-98C0-4CB4-9EDA-9D37F1FDD0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525800" y="3141360"/>
            <a:ext cx="968760" cy="2087640"/>
            <a:chOff x="7525800" y="3141360"/>
            <a:chExt cx="968760" cy="2087640"/>
          </a:xfrm>
        </p:grpSpPr>
        <p:grpSp>
          <p:nvGrpSpPr>
            <p:cNvPr id="543" name=""/>
            <p:cNvGrpSpPr/>
            <p:nvPr/>
          </p:nvGrpSpPr>
          <p:grpSpPr>
            <a:xfrm>
              <a:off x="7525800" y="3301560"/>
              <a:ext cx="968760" cy="1927440"/>
              <a:chOff x="7525800" y="3301560"/>
              <a:chExt cx="968760" cy="192744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780624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05752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85448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62876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52580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93080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736040" y="3141360"/>
              <a:ext cx="174600" cy="236160"/>
              <a:chOff x="7736040" y="3141360"/>
              <a:chExt cx="174600" cy="2361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773568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86672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>
            <a:off x="6804000" y="220500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8346-1D86-4BFA-B0AF-BECB0F41C8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1690560" y="827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 asynchronous composition, a step of the computation is a step by exactly one component. The process to execute is assumed to choose gate0, gate1, and gate2 repeatedly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52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1547640" y="5733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05BD-97FB-46E8-B7CE-F7FD482FCB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troductory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89240" y="3573360"/>
            <a:ext cx="73656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2060640"/>
            <a:ext cx="1655640" cy="936720"/>
          </a:xfrm>
          <a:prstGeom prst="wedgeRoundRectCallout">
            <a:avLst>
              <a:gd name="adj1" fmla="val 18361"/>
              <a:gd name="adj2" fmla="val 954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E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A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03640" y="1268280"/>
            <a:ext cx="5866920" cy="4333680"/>
            <a:chOff x="3203640" y="1268280"/>
            <a:chExt cx="5866920" cy="4333680"/>
          </a:xfrm>
        </p:grpSpPr>
        <p:sp>
          <p:nvSpPr>
            <p:cNvPr id="89" name=""/>
            <p:cNvSpPr/>
            <p:nvPr/>
          </p:nvSpPr>
          <p:spPr>
            <a:xfrm>
              <a:off x="3608280" y="1930320"/>
              <a:ext cx="70776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60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5896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92" name=""/>
            <p:cNvCxnSpPr>
              <a:stCxn id="89" idx="6"/>
              <a:endCxn id="90" idx="2"/>
            </p:cNvCxnSpPr>
            <p:nvPr/>
          </p:nvCxnSpPr>
          <p:spPr>
            <a:xfrm>
              <a:off x="4316040" y="2260440"/>
              <a:ext cx="16192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3608280" y="12682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460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6244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34600" y="3159360"/>
              <a:ext cx="70812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34600" y="448344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215240" y="2497320"/>
              <a:ext cx="1719360" cy="10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642720" y="2591640"/>
              <a:ext cx="1617840" cy="9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00" name=""/>
            <p:cNvCxnSpPr>
              <a:stCxn id="90" idx="7"/>
              <a:endCxn id="91" idx="1"/>
            </p:cNvCxnSpPr>
            <p:nvPr/>
          </p:nvCxnSpPr>
          <p:spPr>
            <a:xfrm flipH="1" rot="16200000">
              <a:off x="7350120" y="1216080"/>
              <a:ext cx="2160" cy="1622880"/>
            </a:xfrm>
            <a:prstGeom prst="curvedConnector5">
              <a:avLst>
                <a:gd name="adj1" fmla="val -8200000"/>
                <a:gd name="adj2" fmla="val 49988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1" idx="3"/>
              <a:endCxn id="90" idx="5"/>
            </p:cNvCxnSpPr>
            <p:nvPr/>
          </p:nvCxnSpPr>
          <p:spPr>
            <a:xfrm rot="5400000">
              <a:off x="7349040" y="1685160"/>
              <a:ext cx="2880" cy="1622880"/>
            </a:xfrm>
            <a:prstGeom prst="curvedConnector5">
              <a:avLst>
                <a:gd name="adj1" fmla="val 10285714"/>
                <a:gd name="adj2" fmla="val 49988"/>
                <a:gd name="adj3" fmla="val 102857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"/>
            <p:cNvSpPr/>
            <p:nvPr/>
          </p:nvSpPr>
          <p:spPr>
            <a:xfrm flipV="1">
              <a:off x="613692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3960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8080" y="382140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12560" y="2592000"/>
              <a:ext cx="192204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42360" y="2592000"/>
              <a:ext cx="182052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9160" y="26866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48344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6120" y="5050800"/>
              <a:ext cx="775440" cy="55116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3640" y="219780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9A8D-B18D-4F75-8DC9-C463526EE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381440" y="3141360"/>
            <a:ext cx="968760" cy="2087640"/>
            <a:chOff x="7381440" y="3141360"/>
            <a:chExt cx="968760" cy="2087640"/>
          </a:xfrm>
        </p:grpSpPr>
        <p:grpSp>
          <p:nvGrpSpPr>
            <p:cNvPr id="589" name=""/>
            <p:cNvGrpSpPr/>
            <p:nvPr/>
          </p:nvGrpSpPr>
          <p:grpSpPr>
            <a:xfrm>
              <a:off x="7381440" y="3301560"/>
              <a:ext cx="968760" cy="1927440"/>
              <a:chOff x="7381440" y="3301560"/>
              <a:chExt cx="968760" cy="192744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766188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91316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71012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48440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38144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78644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591680" y="3141360"/>
              <a:ext cx="174600" cy="236160"/>
              <a:chOff x="7591680" y="3141360"/>
              <a:chExt cx="174600" cy="23616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759132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72236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"/>
          <p:cNvSpPr/>
          <p:nvPr/>
        </p:nvSpPr>
        <p:spPr>
          <a:xfrm>
            <a:off x="6516720" y="2060640"/>
            <a:ext cx="2376360" cy="792000"/>
          </a:xfrm>
          <a:prstGeom prst="wedgeRoundRectCallout">
            <a:avLst>
              <a:gd name="adj1" fmla="val 11856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FAIRNESS is deleted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616572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645336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AB6D-1D8B-4CF4-89B7-A9EEA29B81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549440" y="2603520"/>
          <a:ext cx="360360" cy="267984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50920" y="76428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no processes are chosen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93408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71F4-A915-43CC-A6DB-5921D4A7DB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1474920" y="120384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the process gate0 is chosen forever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9B65-EB32-4766-B49A-523FA52EBA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2193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te : {s0, s1, s2, s3, s4}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1523880"/>
            <a:ext cx="4267080" cy="3124080"/>
            <a:chOff x="228600" y="1523880"/>
            <a:chExt cx="4267080" cy="3124080"/>
          </a:xfrm>
        </p:grpSpPr>
        <p:sp>
          <p:nvSpPr>
            <p:cNvPr id="114" name=""/>
            <p:cNvSpPr/>
            <p:nvPr/>
          </p:nvSpPr>
          <p:spPr>
            <a:xfrm>
              <a:off x="52236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472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0920" y="2001600"/>
              <a:ext cx="5140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17" name=""/>
            <p:cNvCxnSpPr>
              <a:stCxn id="114" idx="6"/>
              <a:endCxn id="115" idx="2"/>
            </p:cNvCxnSpPr>
            <p:nvPr/>
          </p:nvCxnSpPr>
          <p:spPr>
            <a:xfrm>
              <a:off x="1038240" y="2239200"/>
              <a:ext cx="11772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4720" y="3841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963360" y="2409480"/>
              <a:ext cx="125100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730600" y="2477880"/>
              <a:ext cx="11761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25" name=""/>
            <p:cNvCxnSpPr>
              <a:stCxn id="115" idx="7"/>
              <a:endCxn id="116" idx="1"/>
            </p:cNvCxnSpPr>
            <p:nvPr/>
          </p:nvCxnSpPr>
          <p:spPr>
            <a:xfrm flipH="1" rot="16200000">
              <a:off x="3243960" y="1479960"/>
              <a:ext cx="216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16" idx="3"/>
              <a:endCxn id="115" idx="5"/>
            </p:cNvCxnSpPr>
            <p:nvPr/>
          </p:nvCxnSpPr>
          <p:spPr>
            <a:xfrm rot="5400000">
              <a:off x="3243240" y="181800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 flipV="1">
              <a:off x="23623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99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5400" y="33638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7560" y="2477880"/>
              <a:ext cx="139716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730240" y="2477880"/>
              <a:ext cx="132372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788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3360" y="384156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2320" y="4251240"/>
              <a:ext cx="563400" cy="39672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C400-4A3D-4E4D-8662-8DAE6FB29F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523880"/>
            <a:ext cx="4267080" cy="3124440"/>
            <a:chOff x="228600" y="1523880"/>
            <a:chExt cx="4267080" cy="3124440"/>
          </a:xfrm>
        </p:grpSpPr>
        <p:sp>
          <p:nvSpPr>
            <p:cNvPr id="139" name=""/>
            <p:cNvSpPr/>
            <p:nvPr/>
          </p:nvSpPr>
          <p:spPr>
            <a:xfrm>
              <a:off x="52236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1472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60920" y="2001960"/>
              <a:ext cx="5140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2" name=""/>
            <p:cNvCxnSpPr>
              <a:stCxn id="139" idx="6"/>
              <a:endCxn id="140" idx="2"/>
            </p:cNvCxnSpPr>
            <p:nvPr/>
          </p:nvCxnSpPr>
          <p:spPr>
            <a:xfrm>
              <a:off x="1038240" y="2239560"/>
              <a:ext cx="11772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14720" y="3841920"/>
              <a:ext cx="51588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963360" y="2409840"/>
              <a:ext cx="1251000" cy="750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30600" y="2478240"/>
              <a:ext cx="1176120" cy="68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0" name=""/>
            <p:cNvCxnSpPr>
              <a:stCxn id="140" idx="7"/>
              <a:endCxn id="141" idx="1"/>
            </p:cNvCxnSpPr>
            <p:nvPr/>
          </p:nvCxnSpPr>
          <p:spPr>
            <a:xfrm flipH="1" rot="16200000">
              <a:off x="3243600" y="1479240"/>
              <a:ext cx="252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1" idx="3"/>
              <a:endCxn id="140" idx="5"/>
            </p:cNvCxnSpPr>
            <p:nvPr/>
          </p:nvCxnSpPr>
          <p:spPr>
            <a:xfrm rot="5400000">
              <a:off x="3243240" y="181836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 flipV="1">
              <a:off x="2362320" y="247788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9920" y="247824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5400" y="3363840"/>
              <a:ext cx="0" cy="47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7560" y="2478240"/>
              <a:ext cx="139716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730240" y="2478240"/>
              <a:ext cx="132372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7200" y="25462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73360" y="384192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2320" y="4251240"/>
              <a:ext cx="563400" cy="39708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E44E-3E7E-44D0-AB55-232C810C81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q := (state = s0 | state = s4)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64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67" name=""/>
            <p:cNvCxnSpPr>
              <a:stCxn id="164" idx="6"/>
              <a:endCxn id="165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75" name=""/>
            <p:cNvCxnSpPr>
              <a:stCxn id="165" idx="7"/>
              <a:endCxn id="166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6" idx="3"/>
              <a:endCxn id="165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937E-9AAE-4F7E-B77C-B9C8D4C975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89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2" name=""/>
            <p:cNvCxnSpPr>
              <a:stCxn id="189" idx="6"/>
              <a:endCxn id="190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0" name=""/>
            <p:cNvCxnSpPr>
              <a:stCxn id="190" idx="7"/>
              <a:endCxn id="191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1" idx="3"/>
              <a:endCxn id="190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C477-92BD-4859-BA13-3AFC1DD7AA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215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8" name=""/>
            <p:cNvCxnSpPr>
              <a:stCxn id="215" idx="6"/>
              <a:endCxn id="216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6" name=""/>
            <p:cNvCxnSpPr>
              <a:stCxn id="216" idx="7"/>
              <a:endCxn id="217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7" idx="3"/>
              <a:endCxn id="216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6530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1197000"/>
            <a:ext cx="4033800" cy="42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5443560"/>
            <a:ext cx="4033800" cy="6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46155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58972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5552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3329-692F-4B7E-953B-3F4CE82A9F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341440" cy="439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4080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3699000"/>
            <a:ext cx="3239640" cy="2393640"/>
            <a:chOff x="108000" y="3699000"/>
            <a:chExt cx="3239640" cy="2393640"/>
          </a:xfrm>
        </p:grpSpPr>
        <p:sp>
          <p:nvSpPr>
            <p:cNvPr id="248" name=""/>
            <p:cNvSpPr/>
            <p:nvPr/>
          </p:nvSpPr>
          <p:spPr>
            <a:xfrm>
              <a:off x="331200" y="4064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604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8928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1" name=""/>
            <p:cNvCxnSpPr>
              <a:stCxn id="248" idx="6"/>
              <a:endCxn id="249" idx="2"/>
            </p:cNvCxnSpPr>
            <p:nvPr/>
          </p:nvCxnSpPr>
          <p:spPr>
            <a:xfrm>
              <a:off x="721800" y="4246920"/>
              <a:ext cx="8946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31200" y="3699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6040" y="3699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56680" y="3699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6040" y="4743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16040" y="5474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666000" y="4377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007360" y="4429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9" name=""/>
            <p:cNvCxnSpPr>
              <a:stCxn id="249" idx="7"/>
              <a:endCxn id="250" idx="1"/>
            </p:cNvCxnSpPr>
            <p:nvPr/>
          </p:nvCxnSpPr>
          <p:spPr>
            <a:xfrm flipH="1" rot="16200000">
              <a:off x="2397600" y="3670200"/>
              <a:ext cx="1440" cy="896400"/>
            </a:xfrm>
            <a:prstGeom prst="curvedConnector5">
              <a:avLst>
                <a:gd name="adj1" fmla="val -8200000"/>
                <a:gd name="adj2" fmla="val 49979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0" idx="3"/>
              <a:endCxn id="249" idx="5"/>
            </p:cNvCxnSpPr>
            <p:nvPr/>
          </p:nvCxnSpPr>
          <p:spPr>
            <a:xfrm rot="5400000">
              <a:off x="2396880" y="3929400"/>
              <a:ext cx="1800" cy="896400"/>
            </a:xfrm>
            <a:prstGeom prst="curvedConnector5">
              <a:avLst>
                <a:gd name="adj1" fmla="val 10275000"/>
                <a:gd name="adj2" fmla="val 49979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 flipV="1">
              <a:off x="172764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3960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3800" y="5109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760" y="4430160"/>
              <a:ext cx="1061280" cy="114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07000" y="4430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37040" y="4481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0880" y="5474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2800" y="5788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8000" y="421236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867280" y="3645000"/>
            <a:ext cx="3240000" cy="2393640"/>
            <a:chOff x="5867280" y="3645000"/>
            <a:chExt cx="3240000" cy="2393640"/>
          </a:xfrm>
        </p:grpSpPr>
        <p:sp>
          <p:nvSpPr>
            <p:cNvPr id="271" name=""/>
            <p:cNvSpPr/>
            <p:nvPr/>
          </p:nvSpPr>
          <p:spPr>
            <a:xfrm>
              <a:off x="6090840" y="4010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568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92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74" name=""/>
            <p:cNvCxnSpPr>
              <a:stCxn id="271" idx="6"/>
              <a:endCxn id="272" idx="2"/>
            </p:cNvCxnSpPr>
            <p:nvPr/>
          </p:nvCxnSpPr>
          <p:spPr>
            <a:xfrm>
              <a:off x="6481080" y="4192920"/>
              <a:ext cx="8946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090840" y="3645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3645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16320" y="3645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75680" y="4689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75680" y="5420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6425640" y="4323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766640" y="4375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82" name=""/>
            <p:cNvCxnSpPr>
              <a:stCxn id="272" idx="7"/>
              <a:endCxn id="273" idx="1"/>
            </p:cNvCxnSpPr>
            <p:nvPr/>
          </p:nvCxnSpPr>
          <p:spPr>
            <a:xfrm flipH="1" rot="16200000">
              <a:off x="8157240" y="3616200"/>
              <a:ext cx="1440" cy="89676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73" idx="3"/>
              <a:endCxn id="272" idx="5"/>
            </p:cNvCxnSpPr>
            <p:nvPr/>
          </p:nvCxnSpPr>
          <p:spPr>
            <a:xfrm rot="5400000">
              <a:off x="8156520" y="3875040"/>
              <a:ext cx="1800" cy="896760"/>
            </a:xfrm>
            <a:prstGeom prst="curvedConnector5">
              <a:avLst>
                <a:gd name="adj1" fmla="val 10275000"/>
                <a:gd name="adj2" fmla="val 50000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 flipV="1">
              <a:off x="748728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924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3080" y="5055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4040" y="4376160"/>
              <a:ext cx="10612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66280" y="4376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96320" y="4427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40160" y="5420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82440" y="5734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7280" y="415836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042920" y="61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nes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586560" y="5939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ounterexampl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1656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3706920" y="1170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A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3850-F69B-47C5-8A87-2BB2484795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Simple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 AF 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00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6372360" y="2565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9A03-27B5-4B76-964D-8677FFCA4E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9:01:49Z</dcterms:created>
  <dc:creator>권기현</dc:creator>
  <dc:description/>
  <dc:language>en-US</dc:language>
  <cp:lastModifiedBy>권기현</cp:lastModifiedBy>
  <dcterms:modified xsi:type="dcterms:W3CDTF">2006-10-27T14:10:15Z</dcterms:modified>
  <cp:revision>781</cp:revision>
  <dc:subject/>
  <dc:title>Temporal Logic Model Checking</dc:title>
</cp:coreProperties>
</file>