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D2E5-5245-4487-ACDB-3A326EEB8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BB14-3876-4CBD-8CD0-F1732199D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B5B4-5A12-46C3-A6D5-7D265327D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29C9-39A4-45B0-94E4-70A273166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8A86-9978-43B3-9DA7-0DA9C9B06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CE9D-7620-4463-B2FC-0D73DCD0B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1B7D-A586-4A4B-B980-2BDCF77E9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D48F-32FC-4322-8538-B608B327F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9EAB-C4F0-4DAA-B441-234320598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56A5-985D-4761-9A0F-DC6A19926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AF58-C755-427B-8639-B933799B8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1AFD-737B-400B-95F6-020AC5085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667400" y="556272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5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0626-6D45-4834-9F25-AB733ED1320C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60E9-41DF-48D5-8330-121CDA1DD764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400440" y="6552720"/>
            <a:ext cx="272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244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428640" y="3505320"/>
            <a:ext cx="2438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914400" cy="80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3333cc"/>
                </a:solidFill>
                <a:latin typeface="Tahoma"/>
              </a:rPr>
              <a:t>SMV Examples</a:t>
            </a:r>
            <a:endParaRPr b="1" lang="en-US" sz="4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4038480"/>
            <a:ext cx="6705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Bug Catching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in 2006 F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ct. 24,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828720" y="2421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852720" y="2421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828720" y="4653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3852720" y="4653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325440" y="2779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5440" y="5011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836720" y="3141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5084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940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133344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35780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450072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85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2708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6923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18363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692000" y="3142800"/>
            <a:ext cx="2305080" cy="158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29" name=""/>
          <p:cNvCxnSpPr>
            <a:stCxn id="312" idx="1"/>
            <a:endCxn id="312" idx="0"/>
          </p:cNvCxnSpPr>
          <p:nvPr/>
        </p:nvCxnSpPr>
        <p:spPr>
          <a:xfrm flipH="1" flipV="1" rot="5400000">
            <a:off x="1148400" y="2268720"/>
            <a:ext cx="105480" cy="408960"/>
          </a:xfrm>
          <a:prstGeom prst="curvedConnector5">
            <a:avLst>
              <a:gd name="adj1" fmla="val 318150"/>
              <a:gd name="adj2" fmla="val 49955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13" idx="1"/>
            <a:endCxn id="313" idx="0"/>
          </p:cNvCxnSpPr>
          <p:nvPr/>
        </p:nvCxnSpPr>
        <p:spPr>
          <a:xfrm flipH="1" flipV="1" rot="5400000">
            <a:off x="417240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15" idx="5"/>
            <a:endCxn id="315" idx="4"/>
          </p:cNvCxnSpPr>
          <p:nvPr/>
        </p:nvCxnSpPr>
        <p:spPr>
          <a:xfrm rot="5400000">
            <a:off x="4579920" y="511704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324000" y="14832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Kripke struc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5364000" y="148320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Computation tre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6804000" y="227664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6370560" y="304812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7236000" y="304956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37" name=""/>
          <p:cNvCxnSpPr>
            <a:stCxn id="334" idx="4"/>
            <a:endCxn id="335" idx="0"/>
          </p:cNvCxnSpPr>
          <p:nvPr/>
        </p:nvCxnSpPr>
        <p:spPr>
          <a:xfrm flipH="1">
            <a:off x="6730560" y="2727000"/>
            <a:ext cx="4341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4" idx="4"/>
            <a:endCxn id="336" idx="0"/>
          </p:cNvCxnSpPr>
          <p:nvPr/>
        </p:nvCxnSpPr>
        <p:spPr>
          <a:xfrm>
            <a:off x="7164360" y="2727000"/>
            <a:ext cx="4327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5578560" y="34995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hol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6805440" y="4290840"/>
            <a:ext cx="720720" cy="45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41" name=""/>
          <p:cNvCxnSpPr>
            <a:stCxn id="340" idx="4"/>
          </p:cNvCxnSpPr>
          <p:nvPr/>
        </p:nvCxnSpPr>
        <p:spPr>
          <a:xfrm flipH="1">
            <a:off x="6732000" y="4741560"/>
            <a:ext cx="43380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40" idx="4"/>
          </p:cNvCxnSpPr>
          <p:nvPr/>
        </p:nvCxnSpPr>
        <p:spPr>
          <a:xfrm>
            <a:off x="7165800" y="4741560"/>
            <a:ext cx="4327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5580000" y="511884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already hol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F744-8123-471C-A46D-D680560140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request : boolean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 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init(state) := read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next(state) := ca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ready &amp; request : bus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1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esac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PEC  AG(request -&gt;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Courier New"/>
                <a:ea typeface="돋움"/>
              </a:rPr>
              <a:t>AX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busy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093440" y="3501720"/>
            <a:ext cx="968760" cy="2087640"/>
            <a:chOff x="7093440" y="3501720"/>
            <a:chExt cx="968760" cy="2087640"/>
          </a:xfrm>
        </p:grpSpPr>
        <p:grpSp>
          <p:nvGrpSpPr>
            <p:cNvPr id="347" name=""/>
            <p:cNvGrpSpPr/>
            <p:nvPr/>
          </p:nvGrpSpPr>
          <p:grpSpPr>
            <a:xfrm>
              <a:off x="7093440" y="3661920"/>
              <a:ext cx="968760" cy="1927440"/>
              <a:chOff x="7093440" y="3661920"/>
              <a:chExt cx="968760" cy="192744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7374240" y="3769560"/>
                <a:ext cx="37908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7625880" y="3661920"/>
                <a:ext cx="43632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7422480" y="4221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7196760" y="4238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7093440" y="479016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7498440" y="4788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7304040" y="3501720"/>
              <a:ext cx="174600" cy="236160"/>
              <a:chOff x="7304040" y="3501720"/>
              <a:chExt cx="174600" cy="23616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7303680" y="3501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7434720" y="3693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6372360" y="2421000"/>
            <a:ext cx="2232000" cy="792000"/>
          </a:xfrm>
          <a:prstGeom prst="wedgeRoundRectCallout">
            <a:avLst>
              <a:gd name="adj1" fmla="val 9388"/>
              <a:gd name="adj2" fmla="val 862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what if AF is changed to </a:t>
            </a:r>
            <a:r>
              <a:rPr b="1" lang="ko-KR" sz="2000" spc="-1" strike="noStrike">
                <a:solidFill>
                  <a:srgbClr val="cc0000"/>
                </a:solidFill>
                <a:latin typeface="Tahoma"/>
              </a:rPr>
              <a:t>AX</a:t>
            </a: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CDB8-8402-4B30-9C44-EA511BDC72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 flipH="1" flipV="1">
            <a:off x="16887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219640" y="1952640"/>
            <a:ext cx="3648240" cy="37814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82560" y="2421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3706920" y="2421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4653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3706920" y="4653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2779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179280" y="5011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690560" y="3141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1835280" y="5084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1835280" y="4940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21164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435456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1835280" y="285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1835280" y="2708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54620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690200" y="3068640"/>
            <a:ext cx="2305080" cy="1582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545840" y="3142800"/>
            <a:ext cx="2305080" cy="158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78" name=""/>
          <p:cNvCxnSpPr>
            <a:stCxn id="361" idx="1"/>
            <a:endCxn id="361" idx="0"/>
          </p:cNvCxnSpPr>
          <p:nvPr/>
        </p:nvCxnSpPr>
        <p:spPr>
          <a:xfrm flipH="1" flipV="1" rot="5400000">
            <a:off x="100224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62" idx="1"/>
            <a:endCxn id="362" idx="0"/>
          </p:cNvCxnSpPr>
          <p:nvPr/>
        </p:nvCxnSpPr>
        <p:spPr>
          <a:xfrm flipH="1" flipV="1" rot="5400000">
            <a:off x="402624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64" idx="5"/>
            <a:endCxn id="364" idx="4"/>
          </p:cNvCxnSpPr>
          <p:nvPr/>
        </p:nvCxnSpPr>
        <p:spPr>
          <a:xfrm rot="5400000">
            <a:off x="4434120" y="5117040"/>
            <a:ext cx="105480" cy="408960"/>
          </a:xfrm>
          <a:prstGeom prst="curvedConnector5">
            <a:avLst>
              <a:gd name="adj1" fmla="val 318150"/>
              <a:gd name="adj2" fmla="val 49955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114560" y="151848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property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681120" y="2421000"/>
            <a:ext cx="115236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1545840" y="3141720"/>
            <a:ext cx="2305080" cy="1582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3705120" y="4653000"/>
            <a:ext cx="11527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EACD-4D3A-4A8F-9A39-C547A89F52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 Three Bit Count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381440" y="3717720"/>
            <a:ext cx="968760" cy="2087640"/>
            <a:chOff x="7381440" y="3717720"/>
            <a:chExt cx="968760" cy="2087640"/>
          </a:xfrm>
        </p:grpSpPr>
        <p:grpSp>
          <p:nvGrpSpPr>
            <p:cNvPr id="387" name=""/>
            <p:cNvGrpSpPr/>
            <p:nvPr/>
          </p:nvGrpSpPr>
          <p:grpSpPr>
            <a:xfrm>
              <a:off x="7381440" y="3877920"/>
              <a:ext cx="968760" cy="1927440"/>
              <a:chOff x="7381440" y="3877920"/>
              <a:chExt cx="968760" cy="192744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7661880" y="398556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7913160" y="387792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710120" y="4437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484400" y="4454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381440" y="5005800"/>
                <a:ext cx="424080" cy="78588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786440" y="5004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591680" y="3717720"/>
              <a:ext cx="174600" cy="236160"/>
              <a:chOff x="7591680" y="3717720"/>
              <a:chExt cx="174600" cy="23616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7591320" y="3717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7722360" y="3909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97" name=""/>
          <p:cNvSpPr/>
          <p:nvPr/>
        </p:nvSpPr>
        <p:spPr>
          <a:xfrm>
            <a:off x="6659640" y="2781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0 : counter_cell(1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1 : counter_cell(bit0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2 : counter_cell(bit1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SPEC  AG AF bit2.carry_ou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counter_cell(carry_i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lue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init(value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next(value) := value + carry_in mod 2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carry_out := value &amp; carry_i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5FD8-8C9E-4413-BE35-D03270382A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619280" y="2997360"/>
            <a:ext cx="79200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1187280" y="30675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411280" y="3502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2338560" y="291528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3502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>
            <a:off x="1760400" y="2923200"/>
            <a:ext cx="5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>
            <a:off x="5435640" y="1413000"/>
            <a:ext cx="79200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5003640" y="14835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19177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6154560" y="1330920"/>
            <a:ext cx="5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19177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5437080" y="2995560"/>
            <a:ext cx="79236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5005440" y="30661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229440" y="3500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6156360" y="291384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5005440" y="3500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>
            <a:off x="5437080" y="4581360"/>
            <a:ext cx="79236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"/>
          <p:cNvSpPr/>
          <p:nvPr/>
        </p:nvSpPr>
        <p:spPr>
          <a:xfrm>
            <a:off x="5005440" y="46519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6229440" y="50864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449964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5005440" y="50864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833480" y="3355920"/>
            <a:ext cx="3621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5576760" y="133884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5649840" y="1771560"/>
            <a:ext cx="3621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5578560" y="292320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5651640" y="3355920"/>
            <a:ext cx="361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5578560" y="450756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5651640" y="4940280"/>
            <a:ext cx="361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27" name=""/>
          <p:cNvCxnSpPr>
            <a:stCxn id="407" idx="0"/>
            <a:endCxn id="414" idx="0"/>
          </p:cNvCxnSpPr>
          <p:nvPr/>
        </p:nvCxnSpPr>
        <p:spPr>
          <a:xfrm rot="5400000">
            <a:off x="5049720" y="1881720"/>
            <a:ext cx="1564560" cy="1654920"/>
          </a:xfrm>
          <a:prstGeom prst="curvedConnector5">
            <a:avLst>
              <a:gd name="adj1" fmla="val 49942"/>
              <a:gd name="adj2" fmla="val 50000"/>
              <a:gd name="adj3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12" idx="0"/>
            <a:endCxn id="419" idx="0"/>
          </p:cNvCxnSpPr>
          <p:nvPr/>
        </p:nvCxnSpPr>
        <p:spPr>
          <a:xfrm rot="5400000">
            <a:off x="5049000" y="3465360"/>
            <a:ext cx="1567440" cy="1656360"/>
          </a:xfrm>
          <a:prstGeom prst="curvedConnector5">
            <a:avLst>
              <a:gd name="adj1" fmla="val 49942"/>
              <a:gd name="adj2" fmla="val 50000"/>
              <a:gd name="adj3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395280" y="2204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module decla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4140360" y="61992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module instantia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>
            <a:off x="7093080" y="16628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>
            <a:off x="7093080" y="32472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>
            <a:off x="7093080" y="4831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C952-398A-460E-ADA2-E1A91CBDE0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69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41308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18352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13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385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457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529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601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6734160" y="220500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45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330200" y="21952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1187280" y="2534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28936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468360" y="2540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1117440" y="231156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>
            <a:off x="1330200" y="35078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1187280" y="38476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1116000" y="4206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468360" y="3853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1117440" y="362412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"/>
          <p:cNvSpPr/>
          <p:nvPr/>
        </p:nvSpPr>
        <p:spPr>
          <a:xfrm>
            <a:off x="1330200" y="487656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1187280" y="52160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116000" y="5574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468360" y="5222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1117440" y="49928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6762600" y="6024240"/>
            <a:ext cx="287280" cy="204840"/>
          </a:xfrm>
          <a:prstGeom prst="rightArrow">
            <a:avLst>
              <a:gd name="adj1" fmla="val 50000"/>
              <a:gd name="adj2" fmla="val 350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5580000" y="61189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.carry_out is 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18352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55600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327672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399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399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471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471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543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543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615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15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68770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68770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>
            <a:off x="759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>
            <a:off x="759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1044720" y="1340640"/>
            <a:ext cx="38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G AF bit2.carry_ou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 is tru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FFAF-ECB8-4624-80F0-2772B41F22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81440" y="3717720"/>
            <a:ext cx="968760" cy="2087640"/>
            <a:chOff x="7381440" y="3717720"/>
            <a:chExt cx="968760" cy="2087640"/>
          </a:xfrm>
        </p:grpSpPr>
        <p:grpSp>
          <p:nvGrpSpPr>
            <p:cNvPr id="482" name=""/>
            <p:cNvGrpSpPr/>
            <p:nvPr/>
          </p:nvGrpSpPr>
          <p:grpSpPr>
            <a:xfrm>
              <a:off x="7381440" y="3877920"/>
              <a:ext cx="968760" cy="1927440"/>
              <a:chOff x="7381440" y="3877920"/>
              <a:chExt cx="968760" cy="1927440"/>
            </a:xfrm>
          </p:grpSpPr>
          <p:sp>
            <p:nvSpPr>
              <p:cNvPr id="483" name=""/>
              <p:cNvSpPr/>
              <p:nvPr/>
            </p:nvSpPr>
            <p:spPr>
              <a:xfrm flipH="1">
                <a:off x="7661880" y="398556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7913160" y="387792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7710120" y="4437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7484400" y="4454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7381440" y="5005800"/>
                <a:ext cx="424080" cy="78588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7786440" y="5004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7591680" y="3717720"/>
              <a:ext cx="174600" cy="236160"/>
              <a:chOff x="7591680" y="3717720"/>
              <a:chExt cx="174600" cy="236160"/>
            </a:xfrm>
          </p:grpSpPr>
          <p:sp>
            <p:nvSpPr>
              <p:cNvPr id="490" name=""/>
              <p:cNvSpPr/>
              <p:nvPr/>
            </p:nvSpPr>
            <p:spPr>
              <a:xfrm flipH="1">
                <a:off x="7591320" y="3717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7722360" y="3909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492" name=""/>
          <p:cNvSpPr/>
          <p:nvPr/>
        </p:nvSpPr>
        <p:spPr>
          <a:xfrm>
            <a:off x="6659640" y="2781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0 : counter_cell(1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1 : counter_cell(bit0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2 : counter_cell(bit1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SPEC  AG (!bit2.carry_o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counter_cell(carry_i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lue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init(value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next(value) := value + carry_in mod 2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carry_out := value &amp; carry_i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C819-9AC5-433C-9457-DFCD18C5E8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69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41308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"/>
          <p:cNvSpPr/>
          <p:nvPr/>
        </p:nvSpPr>
        <p:spPr>
          <a:xfrm>
            <a:off x="18352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13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385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457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529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01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673416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745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330200" y="21952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1187280" y="2534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1116000" y="28936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68360" y="2540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"/>
          <p:cNvSpPr/>
          <p:nvPr/>
        </p:nvSpPr>
        <p:spPr>
          <a:xfrm>
            <a:off x="1117440" y="231156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1330200" y="35078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187280" y="38476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116000" y="4206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468360" y="3853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1117440" y="362412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1330200" y="487656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1187280" y="52160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1116000" y="5574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468360" y="5222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117440" y="49928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6762600" y="6024240"/>
            <a:ext cx="287280" cy="204840"/>
          </a:xfrm>
          <a:prstGeom prst="rightArrow">
            <a:avLst>
              <a:gd name="adj1" fmla="val 50000"/>
              <a:gd name="adj2" fmla="val 350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5580000" y="61189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.carry_out is 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18352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255600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255600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>
            <a:off x="327672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99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399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471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471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543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543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615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615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68770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770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759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>
            <a:off x="759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>
            <a:off x="755640" y="134064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G (!bit2.carry_o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4356000" y="130320"/>
            <a:ext cx="4608720" cy="42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76B8-8442-4178-A951-56AA7827AD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verter R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525800" y="3141360"/>
            <a:ext cx="968760" cy="2087640"/>
            <a:chOff x="7525800" y="3141360"/>
            <a:chExt cx="968760" cy="2087640"/>
          </a:xfrm>
        </p:grpSpPr>
        <p:grpSp>
          <p:nvGrpSpPr>
            <p:cNvPr id="543" name=""/>
            <p:cNvGrpSpPr/>
            <p:nvPr/>
          </p:nvGrpSpPr>
          <p:grpSpPr>
            <a:xfrm>
              <a:off x="7525800" y="3301560"/>
              <a:ext cx="968760" cy="1927440"/>
              <a:chOff x="7525800" y="3301560"/>
              <a:chExt cx="968760" cy="1927440"/>
            </a:xfrm>
          </p:grpSpPr>
          <p:sp>
            <p:nvSpPr>
              <p:cNvPr id="544" name=""/>
              <p:cNvSpPr/>
              <p:nvPr/>
            </p:nvSpPr>
            <p:spPr>
              <a:xfrm flipH="1">
                <a:off x="7806240" y="340920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8057520" y="330156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854480" y="386100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7628760" y="387828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7525800" y="442980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7930800" y="442800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7736040" y="3141360"/>
              <a:ext cx="174600" cy="236160"/>
              <a:chOff x="7736040" y="3141360"/>
              <a:chExt cx="174600" cy="236160"/>
            </a:xfrm>
          </p:grpSpPr>
          <p:sp>
            <p:nvSpPr>
              <p:cNvPr id="551" name=""/>
              <p:cNvSpPr/>
              <p:nvPr/>
            </p:nvSpPr>
            <p:spPr>
              <a:xfrm flipH="1">
                <a:off x="7735680" y="314136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7866720" y="333288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53" name=""/>
          <p:cNvSpPr/>
          <p:nvPr/>
        </p:nvSpPr>
        <p:spPr>
          <a:xfrm>
            <a:off x="6804000" y="220500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1 : process inverter(gate3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2 : process inverter(gate1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3 : process inverter(gate2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PEC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(AG AF gate1.output) &amp; (AG AF !gate1.out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inverter(in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output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init(output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next(output) := !inpu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B164-CB5A-4CA6-892F-79C7408029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549440" y="260352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1690560" y="827640"/>
            <a:ext cx="67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 asynchronous composition, a step of the computation is a step by exactly one component. The process to execute is assumed to choose gate0, gate1, and gate2 repeatedly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752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1547640" y="573300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tru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47F17-E9AD-45D4-8254-7454B091EA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troductory 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89240" y="3573360"/>
            <a:ext cx="736560" cy="1584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360" y="2060640"/>
            <a:ext cx="1655640" cy="936720"/>
          </a:xfrm>
          <a:prstGeom prst="wedgeRoundRectCallout">
            <a:avLst>
              <a:gd name="adj1" fmla="val 18361"/>
              <a:gd name="adj2" fmla="val 954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EG q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AG q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03640" y="1268280"/>
            <a:ext cx="5866920" cy="4333680"/>
            <a:chOff x="3203640" y="1268280"/>
            <a:chExt cx="5866920" cy="4333680"/>
          </a:xfrm>
        </p:grpSpPr>
        <p:sp>
          <p:nvSpPr>
            <p:cNvPr id="89" name=""/>
            <p:cNvSpPr/>
            <p:nvPr/>
          </p:nvSpPr>
          <p:spPr>
            <a:xfrm>
              <a:off x="3608280" y="1930320"/>
              <a:ext cx="70776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4600" y="193032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58960" y="193032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92" name=""/>
            <p:cNvCxnSpPr>
              <a:stCxn id="89" idx="6"/>
              <a:endCxn id="90" idx="2"/>
            </p:cNvCxnSpPr>
            <p:nvPr/>
          </p:nvCxnSpPr>
          <p:spPr>
            <a:xfrm>
              <a:off x="4316040" y="2260440"/>
              <a:ext cx="16192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3608280" y="1268280"/>
              <a:ext cx="70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34600" y="12682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62440" y="12682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34600" y="3159360"/>
              <a:ext cx="70812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34600" y="448344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4215240" y="2497320"/>
              <a:ext cx="1719360" cy="104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642720" y="2591640"/>
              <a:ext cx="1617840" cy="9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00" name=""/>
            <p:cNvCxnSpPr>
              <a:stCxn id="90" idx="7"/>
              <a:endCxn id="91" idx="1"/>
            </p:cNvCxnSpPr>
            <p:nvPr/>
          </p:nvCxnSpPr>
          <p:spPr>
            <a:xfrm flipH="1" rot="16200000">
              <a:off x="7350120" y="1216080"/>
              <a:ext cx="2160" cy="1622880"/>
            </a:xfrm>
            <a:prstGeom prst="curvedConnector5">
              <a:avLst>
                <a:gd name="adj1" fmla="val -8200000"/>
                <a:gd name="adj2" fmla="val 49988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>
              <a:stCxn id="91" idx="3"/>
              <a:endCxn id="90" idx="5"/>
            </p:cNvCxnSpPr>
            <p:nvPr/>
          </p:nvCxnSpPr>
          <p:spPr>
            <a:xfrm rot="5400000">
              <a:off x="7349040" y="1685160"/>
              <a:ext cx="2880" cy="1622880"/>
            </a:xfrm>
            <a:prstGeom prst="curvedConnector5">
              <a:avLst>
                <a:gd name="adj1" fmla="val 10285714"/>
                <a:gd name="adj2" fmla="val 49988"/>
                <a:gd name="adj3" fmla="val 102857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" name=""/>
            <p:cNvSpPr/>
            <p:nvPr/>
          </p:nvSpPr>
          <p:spPr>
            <a:xfrm flipV="1">
              <a:off x="6136920" y="2592000"/>
              <a:ext cx="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39600" y="2592000"/>
              <a:ext cx="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8080" y="382140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12560" y="2592000"/>
              <a:ext cx="1922040" cy="20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642360" y="2592000"/>
              <a:ext cx="1820520" cy="20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9160" y="2686680"/>
              <a:ext cx="70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27640" y="448344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6120" y="5050800"/>
              <a:ext cx="775440" cy="55116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3640" y="2197800"/>
              <a:ext cx="40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D320-1CC7-4BF4-9AE6-6ADCE7AC02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verter R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7381440" y="3141360"/>
            <a:ext cx="968760" cy="2087640"/>
            <a:chOff x="7381440" y="3141360"/>
            <a:chExt cx="968760" cy="2087640"/>
          </a:xfrm>
        </p:grpSpPr>
        <p:grpSp>
          <p:nvGrpSpPr>
            <p:cNvPr id="589" name=""/>
            <p:cNvGrpSpPr/>
            <p:nvPr/>
          </p:nvGrpSpPr>
          <p:grpSpPr>
            <a:xfrm>
              <a:off x="7381440" y="3301560"/>
              <a:ext cx="968760" cy="1927440"/>
              <a:chOff x="7381440" y="3301560"/>
              <a:chExt cx="968760" cy="192744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7661880" y="340920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7913160" y="330156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710120" y="386100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7484400" y="387828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7381440" y="442980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786440" y="442800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7591680" y="3141360"/>
              <a:ext cx="174600" cy="236160"/>
              <a:chOff x="7591680" y="3141360"/>
              <a:chExt cx="174600" cy="236160"/>
            </a:xfrm>
          </p:grpSpPr>
          <p:sp>
            <p:nvSpPr>
              <p:cNvPr id="597" name=""/>
              <p:cNvSpPr/>
              <p:nvPr/>
            </p:nvSpPr>
            <p:spPr>
              <a:xfrm flipH="1">
                <a:off x="7591320" y="314136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7722360" y="333288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1 : process inverter(gate3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2 : process inverter(gate1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3 : process inverter(gate2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PEC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(AG AF gate1.output) &amp; (AG AF !gate1.out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inverter(in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output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init(output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next(output) := !inpu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"/>
          <p:cNvSpPr/>
          <p:nvPr/>
        </p:nvSpPr>
        <p:spPr>
          <a:xfrm>
            <a:off x="6516720" y="2060640"/>
            <a:ext cx="2376360" cy="792000"/>
          </a:xfrm>
          <a:prstGeom prst="wedgeRoundRectCallout">
            <a:avLst>
              <a:gd name="adj1" fmla="val 11856"/>
              <a:gd name="adj2" fmla="val 862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what if FAIRNESS is deleted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"/>
          <p:cNvSpPr/>
          <p:nvPr/>
        </p:nvSpPr>
        <p:spPr>
          <a:xfrm>
            <a:off x="324000" y="616572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324000" y="645336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0E03-484D-4F4F-A215-971CA2BA5F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1549440" y="2603520"/>
          <a:ext cx="360360" cy="267984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2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5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9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0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50920" y="76428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hout fairness constraint, there is a possibility that no processes are chosen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7526160" y="2637000"/>
          <a:ext cx="360720" cy="2679480"/>
        </p:xfrm>
        <a:graphic>
          <a:graphicData uri="http://schemas.openxmlformats.org/drawingml/2006/table">
            <a:tbl>
              <a:tblPr/>
              <a:tblGrid>
                <a:gridCol w="360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4" name=""/>
          <p:cNvSpPr/>
          <p:nvPr/>
        </p:nvSpPr>
        <p:spPr>
          <a:xfrm>
            <a:off x="1547640" y="558072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3934080" cy="48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23E6-3E9C-4A18-8EB5-6B75D83715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549440" y="260352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1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3" name=""/>
          <p:cNvSpPr/>
          <p:nvPr/>
        </p:nvSpPr>
        <p:spPr>
          <a:xfrm>
            <a:off x="1474920" y="120384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hout fairness constraint, there is a possibility that the process gate0 is chosen forever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7526160" y="2637000"/>
          <a:ext cx="360720" cy="2679480"/>
        </p:xfrm>
        <a:graphic>
          <a:graphicData uri="http://schemas.openxmlformats.org/drawingml/2006/table">
            <a:tbl>
              <a:tblPr/>
              <a:tblGrid>
                <a:gridCol w="360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"/>
          <p:cNvSpPr/>
          <p:nvPr/>
        </p:nvSpPr>
        <p:spPr>
          <a:xfrm>
            <a:off x="1547640" y="558072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E38D-C494-4782-8381-FA8C8BBCE5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12193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ate : {s0, s1, s2, s3, s4}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" y="1523880"/>
            <a:ext cx="4267080" cy="3124080"/>
            <a:chOff x="228600" y="1523880"/>
            <a:chExt cx="4267080" cy="3124080"/>
          </a:xfrm>
        </p:grpSpPr>
        <p:sp>
          <p:nvSpPr>
            <p:cNvPr id="114" name=""/>
            <p:cNvSpPr/>
            <p:nvPr/>
          </p:nvSpPr>
          <p:spPr>
            <a:xfrm>
              <a:off x="522360" y="200160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14720" y="200160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0920" y="2001600"/>
              <a:ext cx="5140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17" name=""/>
            <p:cNvCxnSpPr>
              <a:stCxn id="114" idx="6"/>
              <a:endCxn id="115" idx="2"/>
            </p:cNvCxnSpPr>
            <p:nvPr/>
          </p:nvCxnSpPr>
          <p:spPr>
            <a:xfrm>
              <a:off x="1038240" y="2239200"/>
              <a:ext cx="11772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" name=""/>
            <p:cNvSpPr/>
            <p:nvPr/>
          </p:nvSpPr>
          <p:spPr>
            <a:xfrm>
              <a:off x="52236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1472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81600" y="15238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4720" y="2887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14720" y="3841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963360" y="2409480"/>
              <a:ext cx="125100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730600" y="2477880"/>
              <a:ext cx="117612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25" name=""/>
            <p:cNvCxnSpPr>
              <a:stCxn id="115" idx="7"/>
              <a:endCxn id="116" idx="1"/>
            </p:cNvCxnSpPr>
            <p:nvPr/>
          </p:nvCxnSpPr>
          <p:spPr>
            <a:xfrm flipH="1" rot="16200000">
              <a:off x="3243960" y="1479960"/>
              <a:ext cx="2160" cy="118188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16" idx="3"/>
              <a:endCxn id="115" idx="5"/>
            </p:cNvCxnSpPr>
            <p:nvPr/>
          </p:nvCxnSpPr>
          <p:spPr>
            <a:xfrm rot="5400000">
              <a:off x="3243240" y="1818000"/>
              <a:ext cx="2160" cy="118188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7" name=""/>
            <p:cNvSpPr/>
            <p:nvPr/>
          </p:nvSpPr>
          <p:spPr>
            <a:xfrm flipV="1">
              <a:off x="2362320" y="2477880"/>
              <a:ext cx="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09920" y="2477880"/>
              <a:ext cx="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5400" y="336384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7560" y="2477880"/>
              <a:ext cx="139716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730240" y="2477880"/>
              <a:ext cx="132372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788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73360" y="384156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2320" y="4251240"/>
              <a:ext cx="563400" cy="39672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" y="2193840"/>
              <a:ext cx="2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2FBA-829A-4E4B-999D-BAF9FC8454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121932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1523880"/>
            <a:ext cx="4267080" cy="3124440"/>
            <a:chOff x="228600" y="1523880"/>
            <a:chExt cx="4267080" cy="3124440"/>
          </a:xfrm>
        </p:grpSpPr>
        <p:sp>
          <p:nvSpPr>
            <p:cNvPr id="139" name=""/>
            <p:cNvSpPr/>
            <p:nvPr/>
          </p:nvSpPr>
          <p:spPr>
            <a:xfrm>
              <a:off x="522360" y="20019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14720" y="20019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60920" y="2001960"/>
              <a:ext cx="5140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42" name=""/>
            <p:cNvCxnSpPr>
              <a:stCxn id="139" idx="6"/>
              <a:endCxn id="140" idx="2"/>
            </p:cNvCxnSpPr>
            <p:nvPr/>
          </p:nvCxnSpPr>
          <p:spPr>
            <a:xfrm>
              <a:off x="1038240" y="2239560"/>
              <a:ext cx="1177200" cy="108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>
              <a:off x="52236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1472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81600" y="15238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4720" y="2887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14720" y="3841920"/>
              <a:ext cx="51588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963360" y="2409840"/>
              <a:ext cx="1251000" cy="750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730600" y="2478240"/>
              <a:ext cx="1176120" cy="68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50" name=""/>
            <p:cNvCxnSpPr>
              <a:stCxn id="140" idx="7"/>
              <a:endCxn id="141" idx="1"/>
            </p:cNvCxnSpPr>
            <p:nvPr/>
          </p:nvCxnSpPr>
          <p:spPr>
            <a:xfrm flipH="1" rot="16200000">
              <a:off x="3243600" y="1479240"/>
              <a:ext cx="2520" cy="118188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1" idx="3"/>
              <a:endCxn id="140" idx="5"/>
            </p:cNvCxnSpPr>
            <p:nvPr/>
          </p:nvCxnSpPr>
          <p:spPr>
            <a:xfrm rot="5400000">
              <a:off x="3243240" y="1818360"/>
              <a:ext cx="2160" cy="118188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52" name=""/>
            <p:cNvSpPr/>
            <p:nvPr/>
          </p:nvSpPr>
          <p:spPr>
            <a:xfrm flipV="1">
              <a:off x="2362320" y="2477880"/>
              <a:ext cx="0" cy="40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9920" y="2478240"/>
              <a:ext cx="0" cy="40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5400" y="3363840"/>
              <a:ext cx="0" cy="47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7560" y="2478240"/>
              <a:ext cx="1397160" cy="150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730240" y="2478240"/>
              <a:ext cx="1323720" cy="150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97200" y="25462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73360" y="384192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92320" y="4251240"/>
              <a:ext cx="563400" cy="39708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600" y="2193840"/>
              <a:ext cx="293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11B9-08A0-411D-9F07-FC3C714711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q := (state = s0 | state = s4)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164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67" name=""/>
            <p:cNvCxnSpPr>
              <a:stCxn id="164" idx="6"/>
              <a:endCxn id="165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8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75" name=""/>
            <p:cNvCxnSpPr>
              <a:stCxn id="165" idx="7"/>
              <a:endCxn id="166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66" idx="3"/>
              <a:endCxn id="165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A5FD-429B-43CE-980F-1FB4C615F2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q := (state = s0 | state = s4);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189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92" name=""/>
            <p:cNvCxnSpPr>
              <a:stCxn id="189" idx="6"/>
              <a:endCxn id="190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3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00" name=""/>
            <p:cNvCxnSpPr>
              <a:stCxn id="190" idx="7"/>
              <a:endCxn id="191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>
              <a:stCxn id="191" idx="3"/>
              <a:endCxn id="190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2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876920" y="5445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PEC   E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PEC   A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1AD4-68F1-446D-BA96-05A95F4B22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q := (state = s0 | state = s4);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215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18" name=""/>
            <p:cNvCxnSpPr>
              <a:stCxn id="215" idx="6"/>
              <a:endCxn id="216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26" name=""/>
            <p:cNvCxnSpPr>
              <a:stCxn id="216" idx="7"/>
              <a:endCxn id="217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7" idx="3"/>
              <a:endCxn id="216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876920" y="5445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PEC   E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PEC   A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465300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1197000"/>
            <a:ext cx="4033800" cy="42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5443560"/>
            <a:ext cx="4033800" cy="6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059280" y="46155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558972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2916360" y="5552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0684-853A-496A-8335-C89493B098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419640" y="1700280"/>
            <a:ext cx="2341440" cy="4392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240804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108000" y="3699000"/>
            <a:ext cx="3239640" cy="2393640"/>
            <a:chOff x="108000" y="3699000"/>
            <a:chExt cx="3239640" cy="2393640"/>
          </a:xfrm>
        </p:grpSpPr>
        <p:sp>
          <p:nvSpPr>
            <p:cNvPr id="248" name=""/>
            <p:cNvSpPr/>
            <p:nvPr/>
          </p:nvSpPr>
          <p:spPr>
            <a:xfrm>
              <a:off x="331200" y="4064400"/>
              <a:ext cx="39060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16040" y="4064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89280" y="4064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51" name=""/>
            <p:cNvCxnSpPr>
              <a:stCxn id="248" idx="6"/>
              <a:endCxn id="249" idx="2"/>
            </p:cNvCxnSpPr>
            <p:nvPr/>
          </p:nvCxnSpPr>
          <p:spPr>
            <a:xfrm>
              <a:off x="721800" y="4246920"/>
              <a:ext cx="8946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331200" y="3699000"/>
              <a:ext cx="39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6040" y="369900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56680" y="369900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16040" y="474336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16040" y="5474880"/>
              <a:ext cx="39096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666000" y="4377600"/>
              <a:ext cx="949320" cy="57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007360" y="4429800"/>
              <a:ext cx="89352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59" name=""/>
            <p:cNvCxnSpPr>
              <a:stCxn id="249" idx="7"/>
              <a:endCxn id="250" idx="1"/>
            </p:cNvCxnSpPr>
            <p:nvPr/>
          </p:nvCxnSpPr>
          <p:spPr>
            <a:xfrm flipH="1" rot="16200000">
              <a:off x="2397600" y="3670200"/>
              <a:ext cx="1440" cy="896400"/>
            </a:xfrm>
            <a:prstGeom prst="curvedConnector5">
              <a:avLst>
                <a:gd name="adj1" fmla="val -8200000"/>
                <a:gd name="adj2" fmla="val 49979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0" idx="3"/>
              <a:endCxn id="249" idx="5"/>
            </p:cNvCxnSpPr>
            <p:nvPr/>
          </p:nvCxnSpPr>
          <p:spPr>
            <a:xfrm rot="5400000">
              <a:off x="2396880" y="3929400"/>
              <a:ext cx="1800" cy="896400"/>
            </a:xfrm>
            <a:prstGeom prst="curvedConnector5">
              <a:avLst>
                <a:gd name="adj1" fmla="val 10275000"/>
                <a:gd name="adj2" fmla="val 49979"/>
                <a:gd name="adj3" fmla="val 10275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1" name=""/>
            <p:cNvSpPr/>
            <p:nvPr/>
          </p:nvSpPr>
          <p:spPr>
            <a:xfrm flipV="1">
              <a:off x="1727640" y="4430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39600" y="4430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3800" y="510912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4760" y="4430160"/>
              <a:ext cx="1061280" cy="1149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07000" y="4430160"/>
              <a:ext cx="10054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37040" y="4481280"/>
              <a:ext cx="392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0880" y="547488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22800" y="5788440"/>
              <a:ext cx="428040" cy="30420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8000" y="421236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867280" y="3645000"/>
            <a:ext cx="3240000" cy="2393640"/>
            <a:chOff x="5867280" y="3645000"/>
            <a:chExt cx="3240000" cy="2393640"/>
          </a:xfrm>
        </p:grpSpPr>
        <p:sp>
          <p:nvSpPr>
            <p:cNvPr id="271" name=""/>
            <p:cNvSpPr/>
            <p:nvPr/>
          </p:nvSpPr>
          <p:spPr>
            <a:xfrm>
              <a:off x="6090840" y="4010400"/>
              <a:ext cx="39060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75680" y="4010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48920" y="4010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74" name=""/>
            <p:cNvCxnSpPr>
              <a:stCxn id="271" idx="6"/>
              <a:endCxn id="272" idx="2"/>
            </p:cNvCxnSpPr>
            <p:nvPr/>
          </p:nvCxnSpPr>
          <p:spPr>
            <a:xfrm>
              <a:off x="6481080" y="4192920"/>
              <a:ext cx="894600" cy="108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090840" y="3645000"/>
              <a:ext cx="39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75680" y="364500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716320" y="364500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75680" y="468936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75680" y="542088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6425640" y="4323600"/>
              <a:ext cx="949320" cy="57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766640" y="4375800"/>
              <a:ext cx="89352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82" name=""/>
            <p:cNvCxnSpPr>
              <a:stCxn id="272" idx="7"/>
              <a:endCxn id="273" idx="1"/>
            </p:cNvCxnSpPr>
            <p:nvPr/>
          </p:nvCxnSpPr>
          <p:spPr>
            <a:xfrm flipH="1" rot="16200000">
              <a:off x="8157240" y="3616200"/>
              <a:ext cx="1440" cy="89676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" name=""/>
            <p:cNvCxnSpPr>
              <a:stCxn id="273" idx="3"/>
              <a:endCxn id="272" idx="5"/>
            </p:cNvCxnSpPr>
            <p:nvPr/>
          </p:nvCxnSpPr>
          <p:spPr>
            <a:xfrm rot="5400000">
              <a:off x="8156520" y="3875040"/>
              <a:ext cx="1800" cy="896760"/>
            </a:xfrm>
            <a:prstGeom prst="curvedConnector5">
              <a:avLst>
                <a:gd name="adj1" fmla="val 10275000"/>
                <a:gd name="adj2" fmla="val 50000"/>
                <a:gd name="adj3" fmla="val 10275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4" name=""/>
            <p:cNvSpPr/>
            <p:nvPr/>
          </p:nvSpPr>
          <p:spPr>
            <a:xfrm flipV="1">
              <a:off x="7487280" y="4376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99240" y="4376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43080" y="505512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14040" y="4376160"/>
              <a:ext cx="10612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66280" y="4376160"/>
              <a:ext cx="10054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96320" y="4427280"/>
              <a:ext cx="392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40160" y="542088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82440" y="5734440"/>
              <a:ext cx="428040" cy="30420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7280" y="415836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042920" y="6165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nes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6586560" y="593964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ounterexampl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11656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EG q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3706920" y="1170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AG q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6D1A-7DA6-44FA-863F-1D6989DD39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 Simple 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request : boolean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 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init(state) := read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next(state) := ca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ready &amp; request : bus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1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esac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PEC  AG(request -&gt; AF state = busy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093440" y="3501720"/>
            <a:ext cx="968760" cy="2087640"/>
            <a:chOff x="7093440" y="3501720"/>
            <a:chExt cx="968760" cy="2087640"/>
          </a:xfrm>
        </p:grpSpPr>
        <p:grpSp>
          <p:nvGrpSpPr>
            <p:cNvPr id="300" name=""/>
            <p:cNvGrpSpPr/>
            <p:nvPr/>
          </p:nvGrpSpPr>
          <p:grpSpPr>
            <a:xfrm>
              <a:off x="7093440" y="3661920"/>
              <a:ext cx="968760" cy="1927440"/>
              <a:chOff x="7093440" y="3661920"/>
              <a:chExt cx="968760" cy="192744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7374240" y="3769560"/>
                <a:ext cx="37908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7625880" y="3661920"/>
                <a:ext cx="43632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7422480" y="4221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7196760" y="4238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093440" y="479016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7498440" y="4788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04040" y="3501720"/>
              <a:ext cx="174600" cy="236160"/>
              <a:chOff x="7304040" y="3501720"/>
              <a:chExt cx="174600" cy="236160"/>
            </a:xfrm>
          </p:grpSpPr>
          <p:sp>
            <p:nvSpPr>
              <p:cNvPr id="308" name=""/>
              <p:cNvSpPr/>
              <p:nvPr/>
            </p:nvSpPr>
            <p:spPr>
              <a:xfrm flipH="1">
                <a:off x="7303680" y="3501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434720" y="3693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10" name=""/>
          <p:cNvSpPr/>
          <p:nvPr/>
        </p:nvSpPr>
        <p:spPr>
          <a:xfrm>
            <a:off x="6372360" y="2565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D48F-50ED-4FA4-A4BE-8EF9EEA49F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09:01:49Z</dcterms:created>
  <dc:creator>권기현</dc:creator>
  <dc:description/>
  <dc:language>en-US</dc:language>
  <cp:lastModifiedBy>권기현</cp:lastModifiedBy>
  <dcterms:modified xsi:type="dcterms:W3CDTF">2006-10-27T14:10:15Z</dcterms:modified>
  <cp:revision>781</cp:revision>
  <dc:subject/>
  <dc:title>Temporal Logic Model Checking</dc:title>
</cp:coreProperties>
</file>