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36F-989B-44D6-AA44-F897AFE4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C8D-23E2-4946-BDEC-66F3591A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04A-E992-4CE1-8426-7A785041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F54-F26B-4D49-9A1A-D2255B7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F57-4791-4AF7-9EA0-D2C08026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2EA-7FBB-476C-9887-574F2312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075-C0BC-4BFC-A0C5-B188D7B6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20B-C43B-4AA4-970A-4562EDE8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CC5-7C3A-4AFF-92E3-71E37EDF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C89-3D72-4EED-A8D1-924DDDE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265-BBA8-4EB8-A99C-76A8B40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BC5-2234-4C03-A577-9D32357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A56B-69BE-4E81-BFC6-5AAA2EEC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67080" y="456840"/>
            <a:ext cx="609840" cy="5638680"/>
            <a:chOff x="4267080" y="456840"/>
            <a:chExt cx="609840" cy="5638680"/>
          </a:xfrm>
        </p:grpSpPr>
        <p:sp>
          <p:nvSpPr>
            <p:cNvPr id="42" name=""/>
            <p:cNvSpPr/>
            <p:nvPr/>
          </p:nvSpPr>
          <p:spPr>
            <a:xfrm flipV="1">
              <a:off x="4267080" y="45684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572000" y="45684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4572000" y="45684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4876920" y="45684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752480" y="2971440"/>
            <a:ext cx="5639040" cy="609480"/>
            <a:chOff x="1752480" y="2971440"/>
            <a:chExt cx="5639040" cy="609480"/>
          </a:xfrm>
        </p:grpSpPr>
        <p:sp>
          <p:nvSpPr>
            <p:cNvPr id="47" name=""/>
            <p:cNvSpPr/>
            <p:nvPr/>
          </p:nvSpPr>
          <p:spPr>
            <a:xfrm flipH="1">
              <a:off x="1752480" y="35809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752480" y="327636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752480" y="327636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752480" y="297144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76720" y="1981080"/>
            <a:ext cx="259056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4771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242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76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971800"/>
            <a:ext cx="60984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971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276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11680" y="2438280"/>
            <a:ext cx="918720" cy="990720"/>
            <a:chOff x="3811680" y="2438280"/>
            <a:chExt cx="918720" cy="990720"/>
          </a:xfrm>
        </p:grpSpPr>
        <p:sp>
          <p:nvSpPr>
            <p:cNvPr id="61" name=""/>
            <p:cNvSpPr/>
            <p:nvPr/>
          </p:nvSpPr>
          <p:spPr>
            <a:xfrm>
              <a:off x="4120920" y="2819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20920" y="28191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75000" y="243828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11680" y="290988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35268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3440" y="19810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ping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914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3440" y="13716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ffic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0666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8840" y="7621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sectio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762120"/>
            <a:ext cx="2590560" cy="1676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2680" y="457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57200"/>
            <a:ext cx="1218960" cy="304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187880" y="682560"/>
            <a:ext cx="609480" cy="5639040"/>
            <a:chOff x="4187880" y="682560"/>
            <a:chExt cx="609480" cy="5639040"/>
          </a:xfrm>
        </p:grpSpPr>
        <p:sp>
          <p:nvSpPr>
            <p:cNvPr id="87" name=""/>
            <p:cNvSpPr/>
            <p:nvPr/>
          </p:nvSpPr>
          <p:spPr>
            <a:xfrm flipV="1">
              <a:off x="418788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49244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9244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9736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72920" y="3197160"/>
            <a:ext cx="5638680" cy="609840"/>
            <a:chOff x="1672920" y="3197160"/>
            <a:chExt cx="5638680" cy="609840"/>
          </a:xfrm>
        </p:grpSpPr>
        <p:sp>
          <p:nvSpPr>
            <p:cNvPr id="92" name=""/>
            <p:cNvSpPr/>
            <p:nvPr/>
          </p:nvSpPr>
          <p:spPr>
            <a:xfrm flipH="1">
              <a:off x="1672920" y="38070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72920" y="35020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672920" y="35020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72920" y="319716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197160" y="220680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87880" y="319716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280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7880" y="3502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87880" y="3349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87880" y="3654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016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96960" y="606600"/>
            <a:ext cx="5794560" cy="579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4880" y="1901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0" y="30168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-of-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360" y="2819520"/>
            <a:ext cx="1492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sectio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187880" y="682560"/>
            <a:ext cx="609480" cy="5639040"/>
            <a:chOff x="4187880" y="682560"/>
            <a:chExt cx="609480" cy="5639040"/>
          </a:xfrm>
        </p:grpSpPr>
        <p:sp>
          <p:nvSpPr>
            <p:cNvPr id="109" name=""/>
            <p:cNvSpPr/>
            <p:nvPr/>
          </p:nvSpPr>
          <p:spPr>
            <a:xfrm flipV="1">
              <a:off x="418788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49244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49244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797360" y="682560"/>
              <a:ext cx="0" cy="56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72920" y="3197160"/>
            <a:ext cx="5638680" cy="609840"/>
            <a:chOff x="1672920" y="3197160"/>
            <a:chExt cx="5638680" cy="609840"/>
          </a:xfrm>
        </p:grpSpPr>
        <p:sp>
          <p:nvSpPr>
            <p:cNvPr id="114" name=""/>
            <p:cNvSpPr/>
            <p:nvPr/>
          </p:nvSpPr>
          <p:spPr>
            <a:xfrm flipH="1">
              <a:off x="1672920" y="38070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672920" y="35020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672920" y="35020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672920" y="319716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197160" y="220680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7880" y="319716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280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87880" y="3502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508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87880" y="3349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87880" y="3654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0160" y="319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96960" y="606600"/>
            <a:ext cx="5794560" cy="579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1905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3600" y="30168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-of-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2819520"/>
            <a:ext cx="1492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sectio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1828800"/>
            <a:ext cx="3276360" cy="3276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ual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19720" y="2362320"/>
            <a:ext cx="24382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895480"/>
            <a:ext cx="990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048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81952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jector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371600" y="3657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7040" y="27939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42680" y="36464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505320"/>
            <a:ext cx="12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accept,deny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7800" y="1676160"/>
            <a:ext cx="1217160" cy="1207080"/>
            <a:chOff x="2287800" y="1676160"/>
            <a:chExt cx="1217160" cy="1207080"/>
          </a:xfrm>
        </p:grpSpPr>
        <p:sp>
          <p:nvSpPr>
            <p:cNvPr id="141" name=""/>
            <p:cNvSpPr/>
            <p:nvPr/>
          </p:nvSpPr>
          <p:spPr>
            <a:xfrm>
              <a:off x="2590560" y="23623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221004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05776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7760" y="175284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5480" y="190512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7760" y="19051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590560" y="1676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2514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7800" y="19051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03400" y="2514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057400" y="167652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324480" y="2362320"/>
            <a:ext cx="243864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895480"/>
            <a:ext cx="9907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133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190512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ation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4080" y="2819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9520" y="18795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95160" y="2808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6668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accept,deny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040280" y="761760"/>
            <a:ext cx="1217160" cy="1207080"/>
            <a:chOff x="4040280" y="761760"/>
            <a:chExt cx="1217160" cy="1207080"/>
          </a:xfrm>
        </p:grpSpPr>
        <p:sp>
          <p:nvSpPr>
            <p:cNvPr id="161" name=""/>
            <p:cNvSpPr/>
            <p:nvPr/>
          </p:nvSpPr>
          <p:spPr>
            <a:xfrm>
              <a:off x="4343040" y="14479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129564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47960" y="114336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83844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7960" y="99072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240" y="9907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343040" y="761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3040" y="160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40280" y="9907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55880" y="1600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76212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791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562720"/>
            <a:ext cx="1676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e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124080" y="3962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3360" y="55371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51840" y="39513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3809880"/>
            <a:ext cx="1752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ion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16600" y="4419360"/>
            <a:ext cx="1217160" cy="1207080"/>
            <a:chOff x="4116600" y="4419360"/>
            <a:chExt cx="1217160" cy="1207080"/>
          </a:xfrm>
        </p:grpSpPr>
        <p:sp>
          <p:nvSpPr>
            <p:cNvPr id="179" name=""/>
            <p:cNvSpPr/>
            <p:nvPr/>
          </p:nvSpPr>
          <p:spPr>
            <a:xfrm>
              <a:off x="4419360" y="51055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0" y="495324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480096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449604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4280" y="464832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464832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41936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360" y="5258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6600" y="46483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2200" y="525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962520" y="4419720"/>
            <a:ext cx="1676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33520"/>
            <a:ext cx="3124080" cy="2819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429000"/>
            <a:ext cx="3124080" cy="2819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6248520"/>
            <a:ext cx="1752480" cy="304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"/>
            <a:ext cx="2209680" cy="304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ation 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7:04:42Z</dcterms:created>
  <dc:creator>Nick Armstrong</dc:creator>
  <dc:description/>
  <dc:language>en-US</dc:language>
  <cp:lastModifiedBy>School of Computer Science</cp:lastModifiedBy>
  <dcterms:modified xsi:type="dcterms:W3CDTF">2008-11-10T20:13:53Z</dcterms:modified>
  <cp:revision>5</cp:revision>
  <dc:subject/>
  <dc:title>Slide 1</dc:title>
</cp:coreProperties>
</file>