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260800" cy="36576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5434-5EF7-4384-930B-E57D1564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263332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63760" y="21141720"/>
            <a:ext cx="263332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F88-ADA2-4A47-AA8C-93858AEA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63760" y="2114172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957280" y="2114172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333-ED15-428D-83BC-EF177103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367280" y="853416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270440" y="853416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63760" y="2114172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367280" y="2114172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270440" y="2114172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687-AA49-4385-8CD7-F06BEF6A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63760" y="8534160"/>
            <a:ext cx="26333280" cy="241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3D2-6606-4372-832E-0E8243DE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2633328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403-4DD5-4DC3-883C-1A86C429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1DA-2ABC-4FE0-A54F-281CBE7D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B65-5F37-487B-B0A3-8F486110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63760" y="1465200"/>
            <a:ext cx="26333280" cy="28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D9C-7560-42DB-9C03-2A5CED67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63760" y="2114172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616-2C7F-4ACA-B8B1-F40E3C05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957280" y="2114172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916-E399-427B-9B19-C31E77C2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63760" y="21141720"/>
            <a:ext cx="263332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77E-5F11-4AAE-AAD1-D0312B5D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63760" y="8534160"/>
            <a:ext cx="2633328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11200" indent="-141120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63760" y="33307200"/>
            <a:ext cx="6826320" cy="2540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997920" y="33307200"/>
            <a:ext cx="9264960" cy="2540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970720" y="33307200"/>
            <a:ext cx="6826320" cy="2540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0280-59B9-4483-B02B-C4279632A9CE}" type="slidenum">
              <a:rPr b="0" lang="en-US" sz="5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nsf_Logo4c"/>
          <p:cNvPicPr/>
          <p:nvPr/>
        </p:nvPicPr>
        <p:blipFill>
          <a:blip r:embed="rId1"/>
          <a:stretch/>
        </p:blipFill>
        <p:spPr>
          <a:xfrm>
            <a:off x="11582280" y="350521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1523880" y="685800"/>
            <a:ext cx="2613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  <a:ea typeface="Tahoma"/>
              </a:rPr>
              <a:t>QoLT Mine Port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inda Hartma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ssy Harvey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bbie Murphy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oye Werner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obert Ke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QoLTlogo"/>
          <p:cNvPicPr/>
          <p:nvPr/>
        </p:nvPicPr>
        <p:blipFill>
          <a:blip r:embed="rId2"/>
          <a:stretch/>
        </p:blipFill>
        <p:spPr>
          <a:xfrm>
            <a:off x="533520" y="35223480"/>
            <a:ext cx="10056600" cy="1200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6"/>
          <p:cNvSpPr/>
          <p:nvPr/>
        </p:nvSpPr>
        <p:spPr>
          <a:xfrm>
            <a:off x="2362320" y="19348560"/>
            <a:ext cx="10744200" cy="7080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685800" algn="ctr">
              <a:lnSpc>
                <a:spcPct val="100000"/>
              </a:lnSpc>
              <a:tabLst>
                <a:tab algn="l" pos="0"/>
                <a:tab algn="l" pos="3762360"/>
                <a:tab algn="l" pos="75247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 algn="ctr">
              <a:tabLst>
                <a:tab algn="l" pos="0"/>
                <a:tab algn="l" pos="3762360"/>
                <a:tab algn="l" pos="7524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ntified resources of greatest value to the QoLT community based on peer review, quality and acces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tured these resources into a por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vided directions on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luded a feedback mechanism for the QoLT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049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7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2286000" y="10744200"/>
            <a:ext cx="10972800" cy="7303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64764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 algn="ctr">
              <a:spcBef>
                <a:spcPts val="624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come the challenge researchers face due to the current disarray of their knowledge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courage researchers to interact with librarians to benefit from their    expertise at searching and nav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aden the exposure of researchers to resources in unfamiliar discip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>
              <a:spcBef>
                <a:spcPts val="15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2362320" y="27584280"/>
            <a:ext cx="11048760" cy="6931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57132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 algn="ctr">
              <a:spcBef>
                <a:spcPts val="624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orporate feedback and sugg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more subject area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plify greatly the search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hance expert t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 user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QoLT-generate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049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7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14478120" y="17830800"/>
            <a:ext cx="1272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26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18516600" y="108205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5773400" y="24536520"/>
            <a:ext cx="10591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26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3"/>
          <a:stretch/>
        </p:blipFill>
        <p:spPr>
          <a:xfrm>
            <a:off x="15392520" y="26746200"/>
            <a:ext cx="12344400" cy="6419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"/>
          <p:cNvPicPr/>
          <p:nvPr/>
        </p:nvPicPr>
        <p:blipFill>
          <a:blip r:embed="rId4"/>
          <a:stretch/>
        </p:blipFill>
        <p:spPr>
          <a:xfrm>
            <a:off x="14630400" y="12573000"/>
            <a:ext cx="8381880" cy="7432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286000" y="3276720"/>
            <a:ext cx="25222320" cy="6781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5760" rIns="365760" tIns="228600" bIns="32004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Abstra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rpo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ther together in one easily accessible place a variety of in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ources in the numerous subject areas of interest to QoLT researchers 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vide guidance in their us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etho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uct a gateway to articles, books, market research, companies, products, patents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reports, organizations, government resources, social networking tools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efully selected by librarians to support QoLT research and entrepreneurial endeavor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sul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ster communities of practice by providing researchers’ quick access to informatio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thei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reas of expertis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nfamiliar subject are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1" descr=""/>
          <p:cNvPicPr/>
          <p:nvPr/>
        </p:nvPicPr>
        <p:blipFill>
          <a:blip r:embed="rId5"/>
          <a:stretch/>
        </p:blipFill>
        <p:spPr>
          <a:xfrm>
            <a:off x="19964520" y="18668880"/>
            <a:ext cx="8281800" cy="7439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020920" y="10744200"/>
            <a:ext cx="0" cy="2331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9:10:46Z</dcterms:created>
  <dc:creator>Carnegie Mellon University</dc:creator>
  <dc:description/>
  <dc:language>en-US</dc:language>
  <cp:lastModifiedBy>harvey</cp:lastModifiedBy>
  <dcterms:modified xsi:type="dcterms:W3CDTF">2009-03-16T13:21:34Z</dcterms:modified>
  <cp:revision>28</cp:revision>
  <dc:subject/>
  <dc:title>Slide 1</dc:title>
</cp:coreProperties>
</file>