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260800" cy="36576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41FB-237F-4B55-AC87-BC0C786E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63760" y="8534160"/>
            <a:ext cx="2633328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63760" y="21141720"/>
            <a:ext cx="2633328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C436-AC70-4789-B43F-681C4816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63760" y="8534160"/>
            <a:ext cx="1285056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957280" y="8534160"/>
            <a:ext cx="1285056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63760" y="21141720"/>
            <a:ext cx="1285056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957280" y="21141720"/>
            <a:ext cx="1285056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D4A3-6BBC-48BE-A349-CA75A209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63760" y="8534160"/>
            <a:ext cx="847908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367280" y="8534160"/>
            <a:ext cx="847908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270440" y="8534160"/>
            <a:ext cx="847908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63760" y="21141720"/>
            <a:ext cx="847908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367280" y="21141720"/>
            <a:ext cx="847908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270440" y="21141720"/>
            <a:ext cx="847908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A5F-7626-4494-B07B-076B8D61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63760" y="8534160"/>
            <a:ext cx="26333280" cy="241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21C7-2BC9-4236-BBE6-665C8A9D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63760" y="8534160"/>
            <a:ext cx="26333280" cy="241376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BC3C-D6A0-423B-ABDE-0BF1350A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63760" y="8534160"/>
            <a:ext cx="12850560" cy="241376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957280" y="8534160"/>
            <a:ext cx="12850560" cy="241376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5BAD-09DF-4AEF-A874-54DC9609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910A-3031-4E25-ADBA-B8EA90FC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63760" y="1465200"/>
            <a:ext cx="26333280" cy="282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300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805F-BC80-413D-817C-8B3BED4E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63760" y="8534160"/>
            <a:ext cx="1285056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957280" y="8534160"/>
            <a:ext cx="12850560" cy="241376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63760" y="21141720"/>
            <a:ext cx="1285056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4DBD-3F31-4E33-AF6D-2B98E74E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63760" y="8534160"/>
            <a:ext cx="12850560" cy="241376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957280" y="8534160"/>
            <a:ext cx="1285056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957280" y="21141720"/>
            <a:ext cx="1285056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673D-5564-4554-9CF4-18DA8403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63760" y="8534160"/>
            <a:ext cx="1285056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957280" y="8534160"/>
            <a:ext cx="1285056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63760" y="21141720"/>
            <a:ext cx="26333280" cy="115135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E0C7-42CE-435C-ADF1-006F79CE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63760" y="1465200"/>
            <a:ext cx="26333280" cy="6096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r>
              <a:rPr b="0" lang="en-US" sz="18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63760" y="8534160"/>
            <a:ext cx="26333280" cy="241376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marL="1411200" indent="-141120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1" marL="3056040" indent="-117468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2" marL="4702320" indent="-9399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3" marL="6583320" indent="-93960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4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5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6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63760" y="33307200"/>
            <a:ext cx="6826320" cy="25401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997920" y="33307200"/>
            <a:ext cx="9264960" cy="25401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0970720" y="33307200"/>
            <a:ext cx="6826320" cy="25401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DA1D-3D61-469B-A060-81FA9D89268D}" type="slidenum">
              <a:rPr b="0" lang="en-US" sz="5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nsf_Logo4c"/>
          <p:cNvPicPr/>
          <p:nvPr/>
        </p:nvPicPr>
        <p:blipFill>
          <a:blip r:embed="rId1"/>
          <a:stretch/>
        </p:blipFill>
        <p:spPr>
          <a:xfrm>
            <a:off x="11582280" y="350521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1523880" y="685800"/>
            <a:ext cx="26136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ahoma"/>
                <a:ea typeface="Tahoma"/>
              </a:rPr>
              <a:t>QoLT Mine Port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inda Hartma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issy Harvey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bbie Murphy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oye Werner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obert Ke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QoLTlogo"/>
          <p:cNvPicPr/>
          <p:nvPr/>
        </p:nvPicPr>
        <p:blipFill>
          <a:blip r:embed="rId2"/>
          <a:stretch/>
        </p:blipFill>
        <p:spPr>
          <a:xfrm>
            <a:off x="533520" y="35223480"/>
            <a:ext cx="10056600" cy="12002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6"/>
          <p:cNvSpPr/>
          <p:nvPr/>
        </p:nvSpPr>
        <p:spPr>
          <a:xfrm>
            <a:off x="2362320" y="19348560"/>
            <a:ext cx="10744200" cy="7080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685800" algn="ctr">
              <a:lnSpc>
                <a:spcPct val="100000"/>
              </a:lnSpc>
              <a:tabLst>
                <a:tab algn="l" pos="0"/>
                <a:tab algn="l" pos="3762360"/>
                <a:tab algn="l" pos="752472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Method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685800" algn="ctr">
              <a:tabLst>
                <a:tab algn="l" pos="0"/>
                <a:tab algn="l" pos="3762360"/>
                <a:tab algn="l" pos="7524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68580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ntified resources of greatest value to the QoLT community based on peer review, quality and accessi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68580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tured these resources into a por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68580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vided directions on 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68580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cluded a feedback mechanism for the QoLT commun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685800">
              <a:spcBef>
                <a:spcPts val="1049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685800">
              <a:spcBef>
                <a:spcPts val="700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8"/>
          <p:cNvSpPr/>
          <p:nvPr/>
        </p:nvSpPr>
        <p:spPr>
          <a:xfrm>
            <a:off x="2286000" y="10744200"/>
            <a:ext cx="10972800" cy="7303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6240" indent="-64764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876240" indent="-647640" algn="ctr">
              <a:spcBef>
                <a:spcPts val="624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76240" indent="-6476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come the challenge researchers face due to the current disarray of their knowledge 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6240" indent="-6476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courage researchers to interact with librarians to benefit from their    expertise at searching and navig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6240" indent="-6476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oaden the exposure of researchers to resources in unfamiliar discip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6240" indent="-647640">
              <a:spcBef>
                <a:spcPts val="1500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9"/>
          <p:cNvSpPr/>
          <p:nvPr/>
        </p:nvSpPr>
        <p:spPr>
          <a:xfrm>
            <a:off x="2362320" y="27584280"/>
            <a:ext cx="11048760" cy="69314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6240" indent="-57132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Next Ste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876240" indent="-571320" algn="ctr">
              <a:spcBef>
                <a:spcPts val="624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76240" indent="-57132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corporate feedback and sugg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6240" indent="-57132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 more subject areas and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6240" indent="-57132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plify greatly the search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6240" indent="-57132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hance expert t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6240" indent="-57132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pand user 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6240" indent="-57132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62360"/>
                <a:tab algn="l" pos="75247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 QoLT-generated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76240" indent="-571320">
              <a:spcBef>
                <a:spcPts val="1049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76240" indent="-571320">
              <a:spcBef>
                <a:spcPts val="700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14478120" y="17830800"/>
            <a:ext cx="12725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626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2"/>
          <p:cNvSpPr/>
          <p:nvPr/>
        </p:nvSpPr>
        <p:spPr>
          <a:xfrm>
            <a:off x="18516600" y="108205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5773400" y="24536520"/>
            <a:ext cx="10591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626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4" descr=""/>
          <p:cNvPicPr/>
          <p:nvPr/>
        </p:nvPicPr>
        <p:blipFill>
          <a:blip r:embed="rId3"/>
          <a:stretch/>
        </p:blipFill>
        <p:spPr>
          <a:xfrm>
            <a:off x="15392520" y="26746200"/>
            <a:ext cx="12344400" cy="6419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6" descr=""/>
          <p:cNvPicPr/>
          <p:nvPr/>
        </p:nvPicPr>
        <p:blipFill>
          <a:blip r:embed="rId4"/>
          <a:stretch/>
        </p:blipFill>
        <p:spPr>
          <a:xfrm>
            <a:off x="14630400" y="12573000"/>
            <a:ext cx="8381880" cy="74325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2286000" y="3276720"/>
            <a:ext cx="25222320" cy="67816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5760" rIns="365760" tIns="228600" bIns="32004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705040"/>
                <a:tab algn="l" pos="5410080"/>
                <a:tab algn="l" pos="8115480"/>
                <a:tab algn="l" pos="1082052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  <a:ea typeface="Tahoma"/>
              </a:rPr>
              <a:t>Abstra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5040"/>
                <a:tab algn="l" pos="5410080"/>
                <a:tab algn="l" pos="8115480"/>
                <a:tab algn="l" pos="1082052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urpos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ather together in one easily accessible place a variety of inform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5040"/>
                <a:tab algn="l" pos="5410080"/>
                <a:tab algn="l" pos="8115480"/>
                <a:tab algn="l" pos="10820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ources in the numerous subject areas of interest to QoLT researchers 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5040"/>
                <a:tab algn="l" pos="5410080"/>
                <a:tab algn="l" pos="8115480"/>
                <a:tab algn="l" pos="10820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vide guidance in their use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2705040"/>
                <a:tab algn="l" pos="5410080"/>
                <a:tab algn="l" pos="8115480"/>
                <a:tab algn="l" pos="1082052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etho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truct a gateway to articles, books, market research, companies, products, patents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chnical reports, organizations, government resources, social networking tools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refully selected by librarians to support QoLT research and entrepreneurial endeavors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2705040"/>
                <a:tab algn="l" pos="5410080"/>
                <a:tab algn="l" pos="8115480"/>
                <a:tab algn="l" pos="1082052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esult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ster communities of practice by providing researchers’ quick access to information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om their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ow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reas of expertise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unfamiliar subject are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1" descr=""/>
          <p:cNvPicPr/>
          <p:nvPr/>
        </p:nvPicPr>
        <p:blipFill>
          <a:blip r:embed="rId5"/>
          <a:stretch/>
        </p:blipFill>
        <p:spPr>
          <a:xfrm>
            <a:off x="19964520" y="18668880"/>
            <a:ext cx="8281800" cy="7439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020920" y="10744200"/>
            <a:ext cx="0" cy="2331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9:10:46Z</dcterms:created>
  <dc:creator>Carnegie Mellon University</dc:creator>
  <dc:description/>
  <dc:language>en-US</dc:language>
  <cp:lastModifiedBy>harvey</cp:lastModifiedBy>
  <dcterms:modified xsi:type="dcterms:W3CDTF">2009-03-16T13:21:34Z</dcterms:modified>
  <cp:revision>28</cp:revision>
  <dc:subject/>
  <dc:title>Slide 1</dc:title>
</cp:coreProperties>
</file>