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6576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C39-0045-4306-8C15-E0BF9A99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049-5057-490C-980A-3A612AA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A7C-3C82-4F9C-B467-E81BB344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728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044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376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728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044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39F-65C1-456C-9596-6827B442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381-9BE2-430D-B3BF-4F033BC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2E5-7D70-4CFD-911D-A866EAB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521-0D79-471E-AC3D-43F4DB9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567-6A71-442A-9370-E8F5275F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3760" y="1465200"/>
            <a:ext cx="26333280" cy="28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DC4-D9F4-471C-8404-AA6156BA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81D-5A99-4207-A3D1-4DA29C0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11F-559B-440E-8527-0BA9BB1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E26-D626-4511-B20E-EC2A7B9A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376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7920" y="33307200"/>
            <a:ext cx="926496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7072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48AF-7D0A-4701-BAA8-F3214B62DDB5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sf_Logo4c"/>
          <p:cNvPicPr/>
          <p:nvPr/>
        </p:nvPicPr>
        <p:blipFill>
          <a:blip r:embed="rId1"/>
          <a:stretch/>
        </p:blipFill>
        <p:spPr>
          <a:xfrm>
            <a:off x="11582280" y="35052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523880" y="685800"/>
            <a:ext cx="2613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Port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nda Hartma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ssy Harve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bbie Murph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ye Werne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bert Ke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QoLTlogo"/>
          <p:cNvPicPr/>
          <p:nvPr/>
        </p:nvPicPr>
        <p:blipFill>
          <a:blip r:embed="rId2"/>
          <a:stretch/>
        </p:blipFill>
        <p:spPr>
          <a:xfrm>
            <a:off x="533520" y="352234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2362320" y="19348560"/>
            <a:ext cx="10744200" cy="7080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685800"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 algn="ctr"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ied resources of greatest value to the QoLT community based on peer review, quality and acces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tured these resources into a po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d directions on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luded a feedback mechanism for the QoLT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2286000" y="10744200"/>
            <a:ext cx="10972800" cy="7303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6476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come the challenge researchers face due to the current disarray of their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courage researchers to interact with librarians to benefit from their    expertise at searching and nav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en the exposure of researchers to resources in unfamiliar discip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2362320" y="27584280"/>
            <a:ext cx="11048760" cy="6931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571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orporate feedback and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more subject area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ify greatly the search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hance expert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 user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QoLT-generate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478120" y="17830800"/>
            <a:ext cx="1272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18516600" y="108205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5773400" y="24536520"/>
            <a:ext cx="10591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3"/>
          <a:stretch/>
        </p:blipFill>
        <p:spPr>
          <a:xfrm>
            <a:off x="15392520" y="26746200"/>
            <a:ext cx="12344400" cy="641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4"/>
          <a:stretch/>
        </p:blipFill>
        <p:spPr>
          <a:xfrm>
            <a:off x="14630400" y="12573000"/>
            <a:ext cx="8381880" cy="7432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286000" y="3276720"/>
            <a:ext cx="25222320" cy="67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228600" bIns="32004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Abstr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rp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ther together in one easily accessible place a variety of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urces in the numerous subject areas of interest to QoLT researchers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 guidance in their us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etho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 a gateway to articles, books, market research, companies, products, patent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reports, organizations, government resources, social networking tool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fully selected by librarians to support QoLT research and entrepreneurial endeavo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sul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ster communities of practice by providing researchers’ quick access to inform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i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reas of expertis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familiar subject ar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"/>
          <p:cNvPicPr/>
          <p:nvPr/>
        </p:nvPicPr>
        <p:blipFill>
          <a:blip r:embed="rId5"/>
          <a:stretch/>
        </p:blipFill>
        <p:spPr>
          <a:xfrm>
            <a:off x="19964520" y="18668880"/>
            <a:ext cx="8281800" cy="743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20920" y="10744200"/>
            <a:ext cx="0" cy="2331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10:46Z</dcterms:created>
  <dc:creator>Carnegie Mellon University</dc:creator>
  <dc:description/>
  <dc:language>en-US</dc:language>
  <cp:lastModifiedBy>harvey</cp:lastModifiedBy>
  <dcterms:modified xsi:type="dcterms:W3CDTF">2009-03-16T13:21:34Z</dcterms:modified>
  <cp:revision>28</cp:revision>
  <dc:subject/>
  <dc:title>Slide 1</dc:title>
</cp:coreProperties>
</file>