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7432000" cy="34747200"/>
  <p:notesSz cx="6919913" cy="9205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A47B-516A-4972-ACB1-5D5D0C1EC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1390320"/>
            <a:ext cx="24688800" cy="579132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ctr">
            <a:noAutofit/>
          </a:bodyPr>
          <a:p>
            <a:pPr indent="0" algn="ctr">
              <a:buNone/>
              <a:tabLst>
                <a:tab algn="l" pos="0"/>
                <a:tab algn="l" pos="3552840"/>
                <a:tab algn="l" pos="7105680"/>
                <a:tab algn="l" pos="10658520"/>
              </a:tabLst>
            </a:pPr>
            <a:endParaRPr b="0" lang="en-US" sz="1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8106840"/>
            <a:ext cx="24688800" cy="1093896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20085480"/>
            <a:ext cx="24688800" cy="1093896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67FA-7CD6-4546-9D34-8F038245B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600" y="1390320"/>
            <a:ext cx="24688800" cy="579132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ctr">
            <a:noAutofit/>
          </a:bodyPr>
          <a:p>
            <a:pPr indent="0" algn="ctr">
              <a:buNone/>
              <a:tabLst>
                <a:tab algn="l" pos="0"/>
                <a:tab algn="l" pos="3552840"/>
                <a:tab algn="l" pos="7105680"/>
                <a:tab algn="l" pos="10658520"/>
              </a:tabLst>
            </a:pPr>
            <a:endParaRPr b="0" lang="en-US" sz="1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8106840"/>
            <a:ext cx="12048120" cy="1093896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022360" y="8106840"/>
            <a:ext cx="12048120" cy="1093896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20085480"/>
            <a:ext cx="12048120" cy="1093896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4022360" y="20085480"/>
            <a:ext cx="12048120" cy="1093896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44F7-1604-4227-BFF9-EFDFBD5C4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600" y="1390320"/>
            <a:ext cx="24688800" cy="579132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ctr">
            <a:noAutofit/>
          </a:bodyPr>
          <a:p>
            <a:pPr indent="0" algn="ctr">
              <a:buNone/>
              <a:tabLst>
                <a:tab algn="l" pos="0"/>
                <a:tab algn="l" pos="3552840"/>
                <a:tab algn="l" pos="7105680"/>
                <a:tab algn="l" pos="10658520"/>
              </a:tabLst>
            </a:pPr>
            <a:endParaRPr b="0" lang="en-US" sz="1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8106840"/>
            <a:ext cx="7949520" cy="1093896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718920" y="8106840"/>
            <a:ext cx="7949520" cy="1093896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8066240" y="8106840"/>
            <a:ext cx="7949520" cy="1093896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20085480"/>
            <a:ext cx="7949520" cy="1093896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9718920" y="20085480"/>
            <a:ext cx="7949520" cy="1093896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8066240" y="20085480"/>
            <a:ext cx="7949520" cy="1093896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FC7E-5331-4984-BAF6-8E297A578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600" y="1390320"/>
            <a:ext cx="24688800" cy="579132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ctr">
            <a:noAutofit/>
          </a:bodyPr>
          <a:p>
            <a:pPr indent="0" algn="ctr">
              <a:buNone/>
              <a:tabLst>
                <a:tab algn="l" pos="0"/>
                <a:tab algn="l" pos="3552840"/>
                <a:tab algn="l" pos="7105680"/>
                <a:tab algn="l" pos="10658520"/>
              </a:tabLst>
            </a:pPr>
            <a:endParaRPr b="0" lang="en-US" sz="1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8106840"/>
            <a:ext cx="24688800" cy="2293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124"/>
              </a:spcBef>
              <a:buNone/>
              <a:tabLst>
                <a:tab algn="l" pos="0"/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058A-08BE-433D-8B1F-4ED5DF670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600" y="1390320"/>
            <a:ext cx="24688800" cy="579132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ctr">
            <a:noAutofit/>
          </a:bodyPr>
          <a:p>
            <a:pPr indent="0" algn="ctr">
              <a:buNone/>
              <a:tabLst>
                <a:tab algn="l" pos="0"/>
                <a:tab algn="l" pos="3552840"/>
                <a:tab algn="l" pos="7105680"/>
                <a:tab algn="l" pos="10658520"/>
              </a:tabLst>
            </a:pPr>
            <a:endParaRPr b="0" lang="en-US" sz="1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8106840"/>
            <a:ext cx="24688800" cy="2293308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6B61-64D9-449E-87E6-0645C45A9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600" y="1390320"/>
            <a:ext cx="24688800" cy="579132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ctr">
            <a:noAutofit/>
          </a:bodyPr>
          <a:p>
            <a:pPr indent="0" algn="ctr">
              <a:buNone/>
              <a:tabLst>
                <a:tab algn="l" pos="0"/>
                <a:tab algn="l" pos="3552840"/>
                <a:tab algn="l" pos="7105680"/>
                <a:tab algn="l" pos="10658520"/>
              </a:tabLst>
            </a:pPr>
            <a:endParaRPr b="0" lang="en-US" sz="1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8106840"/>
            <a:ext cx="12048120" cy="2293308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4022360" y="8106840"/>
            <a:ext cx="12048120" cy="2293308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71EA-C80C-4254-BA8D-AA4576E01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600" y="1390320"/>
            <a:ext cx="24688800" cy="579132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ctr">
            <a:noAutofit/>
          </a:bodyPr>
          <a:p>
            <a:pPr indent="0" algn="ctr">
              <a:buNone/>
              <a:tabLst>
                <a:tab algn="l" pos="0"/>
                <a:tab algn="l" pos="3552840"/>
                <a:tab algn="l" pos="7105680"/>
                <a:tab algn="l" pos="10658520"/>
              </a:tabLst>
            </a:pPr>
            <a:endParaRPr b="0" lang="en-US" sz="1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0233-E0B5-431F-8F55-E97DF0DBB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600" y="1390320"/>
            <a:ext cx="24688800" cy="268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124"/>
              </a:spcBef>
              <a:tabLst>
                <a:tab algn="l" pos="0"/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04FF-6059-4713-AD7B-054E62D9D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600" y="1390320"/>
            <a:ext cx="24688800" cy="579132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ctr">
            <a:noAutofit/>
          </a:bodyPr>
          <a:p>
            <a:pPr indent="0" algn="ctr">
              <a:buNone/>
              <a:tabLst>
                <a:tab algn="l" pos="0"/>
                <a:tab algn="l" pos="3552840"/>
                <a:tab algn="l" pos="7105680"/>
                <a:tab algn="l" pos="10658520"/>
              </a:tabLst>
            </a:pPr>
            <a:endParaRPr b="0" lang="en-US" sz="1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8106840"/>
            <a:ext cx="12048120" cy="1093896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4022360" y="8106840"/>
            <a:ext cx="12048120" cy="2293308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20085480"/>
            <a:ext cx="12048120" cy="1093896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BB7E-4E9E-41F8-8A6F-DAD806BA8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600" y="1390320"/>
            <a:ext cx="24688800" cy="579132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ctr">
            <a:noAutofit/>
          </a:bodyPr>
          <a:p>
            <a:pPr indent="0" algn="ctr">
              <a:buNone/>
              <a:tabLst>
                <a:tab algn="l" pos="0"/>
                <a:tab algn="l" pos="3552840"/>
                <a:tab algn="l" pos="7105680"/>
                <a:tab algn="l" pos="10658520"/>
              </a:tabLst>
            </a:pPr>
            <a:endParaRPr b="0" lang="en-US" sz="1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8106840"/>
            <a:ext cx="12048120" cy="2293308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4022360" y="8106840"/>
            <a:ext cx="12048120" cy="1093896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022360" y="20085480"/>
            <a:ext cx="12048120" cy="1093896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CFC8-D55E-4209-B93D-8C5714CC6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600" y="1390320"/>
            <a:ext cx="24688800" cy="579132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ctr">
            <a:noAutofit/>
          </a:bodyPr>
          <a:p>
            <a:pPr indent="0" algn="ctr">
              <a:buNone/>
              <a:tabLst>
                <a:tab algn="l" pos="0"/>
                <a:tab algn="l" pos="3552840"/>
                <a:tab algn="l" pos="7105680"/>
                <a:tab algn="l" pos="10658520"/>
              </a:tabLst>
            </a:pPr>
            <a:endParaRPr b="0" lang="en-US" sz="1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8106840"/>
            <a:ext cx="12048120" cy="1093896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4022360" y="8106840"/>
            <a:ext cx="12048120" cy="1093896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20085480"/>
            <a:ext cx="24688800" cy="1093896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A4F0-8BED-4838-84A8-636CBC42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600" y="1390320"/>
            <a:ext cx="24688800" cy="579132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ctr">
            <a:noAutofit/>
          </a:bodyPr>
          <a:p>
            <a:pPr indent="0" algn="ctr">
              <a:buNone/>
              <a:tabLst>
                <a:tab algn="l" pos="0"/>
                <a:tab algn="l" pos="3552840"/>
                <a:tab algn="l" pos="7105680"/>
                <a:tab algn="l" pos="10658520"/>
              </a:tabLst>
            </a:pPr>
            <a:r>
              <a:rPr b="0" lang="en-US" sz="17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8106840"/>
            <a:ext cx="24688800" cy="2293308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marL="1332000" indent="-1332000">
              <a:spcBef>
                <a:spcPts val="3124"/>
              </a:spcBef>
              <a:buClr>
                <a:srgbClr val="000000"/>
              </a:buClr>
              <a:buFont typeface="Arial"/>
              <a:buChar char="•"/>
              <a:tabLst>
                <a:tab algn="l" pos="3552840"/>
                <a:tab algn="l" pos="7105680"/>
                <a:tab algn="l" pos="1065852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  <a:p>
            <a:pPr lvl="1" marL="2886120" indent="-1109880">
              <a:spcBef>
                <a:spcPts val="3124"/>
              </a:spcBef>
              <a:buClr>
                <a:srgbClr val="000000"/>
              </a:buClr>
              <a:buFont typeface="Arial"/>
              <a:buChar char="–"/>
              <a:tabLst>
                <a:tab algn="l" pos="3552840"/>
                <a:tab algn="l" pos="7105680"/>
                <a:tab algn="l" pos="1065852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  <a:p>
            <a:pPr lvl="2" marL="4441680" indent="-888840">
              <a:spcBef>
                <a:spcPts val="3124"/>
              </a:spcBef>
              <a:buClr>
                <a:srgbClr val="000000"/>
              </a:buClr>
              <a:buFont typeface="Arial"/>
              <a:buChar char="•"/>
              <a:tabLst>
                <a:tab algn="l" pos="3552840"/>
                <a:tab algn="l" pos="7105680"/>
                <a:tab algn="l" pos="1065852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  <a:p>
            <a:pPr lvl="3" marL="6216480" indent="-887400">
              <a:spcBef>
                <a:spcPts val="3124"/>
              </a:spcBef>
              <a:buClr>
                <a:srgbClr val="000000"/>
              </a:buClr>
              <a:buFont typeface="Arial"/>
              <a:buChar char="–"/>
              <a:tabLst>
                <a:tab algn="l" pos="3552840"/>
                <a:tab algn="l" pos="7105680"/>
                <a:tab algn="l" pos="1065852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  <a:p>
            <a:pPr lvl="4" marL="7994520" indent="-887400">
              <a:spcBef>
                <a:spcPts val="3124"/>
              </a:spcBef>
              <a:buClr>
                <a:srgbClr val="000000"/>
              </a:buClr>
              <a:buFont typeface="Arial"/>
              <a:buChar char="»"/>
              <a:tabLst>
                <a:tab algn="l" pos="3552840"/>
                <a:tab algn="l" pos="7105680"/>
                <a:tab algn="l" pos="1065852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  <a:p>
            <a:pPr lvl="5" marL="7994520" indent="-887400">
              <a:spcBef>
                <a:spcPts val="3124"/>
              </a:spcBef>
              <a:buClr>
                <a:srgbClr val="000000"/>
              </a:buClr>
              <a:buFont typeface="Arial"/>
              <a:buChar char="»"/>
              <a:tabLst>
                <a:tab algn="l" pos="3552840"/>
                <a:tab algn="l" pos="7105680"/>
                <a:tab algn="l" pos="1065852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  <a:p>
            <a:pPr lvl="6" marL="7994520" indent="-887400">
              <a:spcBef>
                <a:spcPts val="3124"/>
              </a:spcBef>
              <a:buClr>
                <a:srgbClr val="000000"/>
              </a:buClr>
              <a:buFont typeface="Arial"/>
              <a:buChar char="»"/>
              <a:tabLst>
                <a:tab algn="l" pos="3552840"/>
                <a:tab algn="l" pos="7105680"/>
                <a:tab algn="l" pos="1065852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371600" y="31643280"/>
            <a:ext cx="6400800" cy="241308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Autofit/>
          </a:bodyPr>
          <a:lstStyle>
            <a:lvl1pPr indent="0">
              <a:buNone/>
              <a:tabLst>
                <a:tab algn="l" pos="0"/>
                <a:tab algn="l" pos="3552840"/>
                <a:tab algn="l" pos="7105680"/>
                <a:tab algn="l" pos="10658520"/>
              </a:tabLst>
              <a:defRPr b="0" lang="en-US" sz="5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552840"/>
                <a:tab algn="l" pos="7105680"/>
                <a:tab algn="l" pos="1065852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9372600" y="31643280"/>
            <a:ext cx="8686800" cy="241308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Autofit/>
          </a:bodyPr>
          <a:lstStyle>
            <a:lvl1pPr indent="0" algn="ctr">
              <a:buNone/>
              <a:tabLst>
                <a:tab algn="l" pos="0"/>
                <a:tab algn="l" pos="3552840"/>
                <a:tab algn="l" pos="7105680"/>
                <a:tab algn="l" pos="10658520"/>
              </a:tabLst>
              <a:defRPr b="0" lang="en-US" sz="5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552840"/>
                <a:tab algn="l" pos="7105680"/>
                <a:tab algn="l" pos="1065852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9659600" y="31643280"/>
            <a:ext cx="6400800" cy="241308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Autofit/>
          </a:bodyPr>
          <a:lstStyle>
            <a:lvl1pPr indent="0" algn="r">
              <a:buNone/>
              <a:tabLst>
                <a:tab algn="l" pos="0"/>
                <a:tab algn="l" pos="3552840"/>
                <a:tab algn="l" pos="7105680"/>
                <a:tab algn="l" pos="10658520"/>
              </a:tabLst>
              <a:defRPr b="0" lang="en-US" sz="5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552840"/>
                <a:tab algn="l" pos="7105680"/>
                <a:tab algn="l" pos="10658520"/>
              </a:tabLst>
            </a:pPr>
            <a:fld id="{81EE9756-629D-4D8E-8705-1128D15BC381}" type="slidenum">
              <a:rPr b="0" lang="en-US" sz="5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582280" y="332233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62120" y="685800"/>
            <a:ext cx="2613636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552840"/>
                <a:tab algn="l" pos="7105680"/>
                <a:tab algn="l" pos="1065852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ahoma"/>
                <a:ea typeface="Tahoma"/>
              </a:rPr>
              <a:t>QoLT Mine – Creating a Knowledge Bas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552840"/>
                <a:tab algn="l" pos="7105680"/>
                <a:tab algn="l" pos="1065852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  <a:ea typeface="Tahoma"/>
              </a:rPr>
              <a:t>Linda Hartman, Missy Harvey, Roye Werner, and Debbie Mur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552840"/>
                <a:tab algn="l" pos="7105680"/>
                <a:tab algn="l" pos="106585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33520" y="33394680"/>
            <a:ext cx="10056600" cy="12002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598760" y="3505320"/>
            <a:ext cx="24223680" cy="452736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74320" rIns="274320" tIns="320040" bIns="320040" anchor="t">
            <a:noAutofit/>
          </a:bodyPr>
          <a:p>
            <a:pPr algn="ctr">
              <a:spcBef>
                <a:spcPts val="4374"/>
              </a:spcBef>
              <a:tabLst>
                <a:tab algn="l" pos="0"/>
                <a:tab algn="l" pos="3552840"/>
                <a:tab algn="l" pos="7105680"/>
                <a:tab algn="l" pos="10658520"/>
              </a:tabLst>
            </a:pP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500"/>
              </a:spcBef>
              <a:tabLst>
                <a:tab algn="l" pos="0"/>
                <a:tab algn="l" pos="3552840"/>
                <a:tab algn="l" pos="7105680"/>
                <a:tab algn="l" pos="106585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oLT Mine captures, documents, combines and analyzes relevant research and published literature on all aspects of the QoLT initiative.  We are creating a unique knowledge repository for researchers to use, and identifying a universe of associated terminology for this new interdisciplinary research are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605440" y="13411080"/>
            <a:ext cx="8226360" cy="70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noAutofit/>
          </a:bodyPr>
          <a:p>
            <a:pPr marL="457200" indent="-457200">
              <a:spcBef>
                <a:spcPts val="1001"/>
              </a:spcBef>
              <a:buClr>
                <a:srgbClr val="99cc00"/>
              </a:buClr>
              <a:buFont typeface="Wingdings" charset="2"/>
              <a:buChar char=""/>
              <a:tabLst>
                <a:tab algn="l" pos="3552840"/>
                <a:tab algn="l" pos="7105680"/>
                <a:tab algn="l" pos="106585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 data mining and text analysis tools to evaluate resul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1090440" indent="-631800">
              <a:lnSpc>
                <a:spcPct val="100000"/>
              </a:lnSpc>
              <a:spcBef>
                <a:spcPts val="901"/>
              </a:spcBef>
              <a:buClr>
                <a:srgbClr val="99cc00"/>
              </a:buClr>
              <a:buFont typeface="Wingdings" charset="2"/>
              <a:buChar char=""/>
              <a:tabLst>
                <a:tab algn="l" pos="3552840"/>
                <a:tab algn="l" pos="7105680"/>
                <a:tab algn="l" pos="106585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ere is the knowledge being  publish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90440" indent="-631800">
              <a:lnSpc>
                <a:spcPct val="100000"/>
              </a:lnSpc>
              <a:spcBef>
                <a:spcPts val="901"/>
              </a:spcBef>
              <a:buClr>
                <a:srgbClr val="99cc00"/>
              </a:buClr>
              <a:buFont typeface="Wingdings" charset="2"/>
              <a:buChar char=""/>
              <a:tabLst>
                <a:tab algn="l" pos="3552840"/>
                <a:tab algn="l" pos="7105680"/>
                <a:tab algn="l" pos="106585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is it organiz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90440" indent="-631800">
              <a:lnSpc>
                <a:spcPct val="100000"/>
              </a:lnSpc>
              <a:spcBef>
                <a:spcPts val="901"/>
              </a:spcBef>
              <a:buClr>
                <a:srgbClr val="99cc00"/>
              </a:buClr>
              <a:buFont typeface="Wingdings" charset="2"/>
              <a:buChar char=""/>
              <a:tabLst>
                <a:tab algn="l" pos="3552840"/>
                <a:tab algn="l" pos="7105680"/>
                <a:tab algn="l" pos="106585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ntify top journals, authors, organizations, and industry lead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90440" indent="-631800">
              <a:lnSpc>
                <a:spcPct val="100000"/>
              </a:lnSpc>
              <a:spcBef>
                <a:spcPts val="901"/>
              </a:spcBef>
              <a:buClr>
                <a:srgbClr val="99cc00"/>
              </a:buClr>
              <a:buFont typeface="Wingdings" charset="2"/>
              <a:buChar char=""/>
              <a:tabLst>
                <a:tab algn="l" pos="3552840"/>
                <a:tab algn="l" pos="7105680"/>
                <a:tab algn="l" pos="106585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termine the “vocabulary universe” that defines Qo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76520" y="13411080"/>
            <a:ext cx="8226360" cy="55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noAutofit/>
          </a:bodyPr>
          <a:p>
            <a:pPr marL="457200" indent="-457200">
              <a:spcBef>
                <a:spcPts val="1001"/>
              </a:spcBef>
              <a:buClr>
                <a:srgbClr val="99cc00"/>
              </a:buClr>
              <a:buFont typeface="Wingdings" charset="2"/>
              <a:buChar char=""/>
              <a:tabLst>
                <a:tab algn="l" pos="3552840"/>
                <a:tab algn="l" pos="7105680"/>
                <a:tab algn="l" pos="106585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arch and retrieve liter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99cc00"/>
              </a:buClr>
              <a:buFont typeface="Wingdings" charset="2"/>
              <a:buChar char=""/>
              <a:tabLst>
                <a:tab algn="l" pos="3552840"/>
                <a:tab algn="l" pos="7105680"/>
                <a:tab algn="l" pos="106585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urvey/interview information us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1090440" indent="-631800">
              <a:lnSpc>
                <a:spcPct val="100000"/>
              </a:lnSpc>
              <a:spcBef>
                <a:spcPts val="901"/>
              </a:spcBef>
              <a:buClr>
                <a:srgbClr val="99cc00"/>
              </a:buClr>
              <a:buFont typeface="Wingdings" charset="2"/>
              <a:buChar char=""/>
              <a:tabLst>
                <a:tab algn="l" pos="3552840"/>
                <a:tab algn="l" pos="7105680"/>
                <a:tab algn="l" pos="106585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cient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90440" indent="-631800">
              <a:lnSpc>
                <a:spcPct val="100000"/>
              </a:lnSpc>
              <a:spcBef>
                <a:spcPts val="901"/>
              </a:spcBef>
              <a:buClr>
                <a:srgbClr val="99cc00"/>
              </a:buClr>
              <a:buFont typeface="Wingdings" charset="2"/>
              <a:buChar char=""/>
              <a:tabLst>
                <a:tab algn="l" pos="3552840"/>
                <a:tab algn="l" pos="7105680"/>
                <a:tab algn="l" pos="106585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ngine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90440" indent="-631800">
              <a:lnSpc>
                <a:spcPct val="100000"/>
              </a:lnSpc>
              <a:spcBef>
                <a:spcPts val="901"/>
              </a:spcBef>
              <a:buClr>
                <a:srgbClr val="99cc00"/>
              </a:buClr>
              <a:buFont typeface="Wingdings" charset="2"/>
              <a:buChar char=""/>
              <a:tabLst>
                <a:tab algn="l" pos="3552840"/>
                <a:tab algn="l" pos="7105680"/>
                <a:tab algn="l" pos="106585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ud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90440" indent="-631800">
              <a:lnSpc>
                <a:spcPct val="100000"/>
              </a:lnSpc>
              <a:spcBef>
                <a:spcPts val="901"/>
              </a:spcBef>
              <a:buClr>
                <a:srgbClr val="99cc00"/>
              </a:buClr>
              <a:buFont typeface="Wingdings" charset="2"/>
              <a:buChar char=""/>
              <a:tabLst>
                <a:tab algn="l" pos="3552840"/>
                <a:tab algn="l" pos="7105680"/>
                <a:tab algn="l" pos="106585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ntrepren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90440" indent="-631800">
              <a:lnSpc>
                <a:spcPct val="100000"/>
              </a:lnSpc>
              <a:spcBef>
                <a:spcPts val="901"/>
              </a:spcBef>
              <a:buClr>
                <a:srgbClr val="99cc00"/>
              </a:buClr>
              <a:buFont typeface="Wingdings" charset="2"/>
              <a:buChar char=""/>
              <a:tabLst>
                <a:tab algn="l" pos="3552840"/>
                <a:tab algn="l" pos="7105680"/>
                <a:tab algn="l" pos="106585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sum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90440" indent="-631800">
              <a:lnSpc>
                <a:spcPct val="100000"/>
              </a:lnSpc>
              <a:spcBef>
                <a:spcPts val="901"/>
              </a:spcBef>
              <a:buClr>
                <a:srgbClr val="99cc00"/>
              </a:buClr>
              <a:buFont typeface="Wingdings" charset="2"/>
              <a:buChar char=""/>
              <a:tabLst>
                <a:tab algn="l" pos="3552840"/>
                <a:tab algn="l" pos="7105680"/>
                <a:tab algn="l" pos="106585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nici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90440" indent="-631800">
              <a:lnSpc>
                <a:spcPct val="100000"/>
              </a:lnSpc>
              <a:spcBef>
                <a:spcPts val="901"/>
              </a:spcBef>
              <a:buClr>
                <a:srgbClr val="99cc00"/>
              </a:buClr>
              <a:buFont typeface="Wingdings" charset="2"/>
              <a:buChar char=""/>
              <a:tabLst>
                <a:tab algn="l" pos="3552840"/>
                <a:tab algn="l" pos="7105680"/>
                <a:tab algn="l" pos="106585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overnment (regulators, research agenci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604440" y="13411080"/>
            <a:ext cx="8226360" cy="48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noAutofit/>
          </a:bodyPr>
          <a:p>
            <a:pPr marL="685800" indent="-685800">
              <a:spcBef>
                <a:spcPts val="1001"/>
              </a:spcBef>
              <a:buClr>
                <a:srgbClr val="99cc00"/>
              </a:buClr>
              <a:buFont typeface="Wingdings" charset="2"/>
              <a:buChar char=""/>
              <a:tabLst>
                <a:tab algn="l" pos="3552840"/>
                <a:tab algn="l" pos="7105680"/>
                <a:tab algn="l" pos="106585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ne resulting documentation to capture termin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99cc00"/>
              </a:buClr>
              <a:buFont typeface="Wingdings" charset="2"/>
              <a:buChar char=""/>
              <a:tabLst>
                <a:tab algn="l" pos="3552840"/>
                <a:tab algn="l" pos="7105680"/>
                <a:tab algn="l" pos="106585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 bibliographic tools to document and combine search resul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971800" y="12217320"/>
            <a:ext cx="5715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4"/>
              </a:spcBef>
              <a:tabLst>
                <a:tab algn="l" pos="0"/>
                <a:tab algn="l" pos="3552840"/>
                <a:tab algn="l" pos="7105680"/>
                <a:tab algn="l" pos="10658520"/>
              </a:tabLst>
            </a:pP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Discover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201400" y="12217320"/>
            <a:ext cx="50292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4"/>
              </a:spcBef>
              <a:tabLst>
                <a:tab algn="l" pos="0"/>
                <a:tab algn="l" pos="3552840"/>
                <a:tab algn="l" pos="7105680"/>
                <a:tab algn="l" pos="10658520"/>
              </a:tabLst>
            </a:pP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211760" y="12201480"/>
            <a:ext cx="52578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4"/>
              </a:spcBef>
              <a:tabLst>
                <a:tab algn="l" pos="0"/>
                <a:tab algn="l" pos="3552840"/>
                <a:tab algn="l" pos="7105680"/>
                <a:tab algn="l" pos="10658520"/>
              </a:tabLst>
            </a:pP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Refin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98760" y="21336120"/>
            <a:ext cx="9678960" cy="109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228600" bIns="228600" anchor="t">
            <a:noAutofit/>
          </a:bodyPr>
          <a:p>
            <a:pPr marL="457200" indent="-457200">
              <a:spcBef>
                <a:spcPts val="1001"/>
              </a:spcBef>
              <a:tabLst>
                <a:tab algn="l" pos="0"/>
                <a:tab algn="l" pos="3552840"/>
                <a:tab algn="l" pos="7105680"/>
                <a:tab algn="l" pos="106585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99cc00"/>
              </a:buClr>
              <a:buFont typeface="Wingdings" charset="2"/>
              <a:buChar char=""/>
              <a:tabLst>
                <a:tab algn="l" pos="3552840"/>
                <a:tab algn="l" pos="7105680"/>
                <a:tab algn="l" pos="106585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99cc00"/>
              </a:buClr>
              <a:buFont typeface="Wingdings" charset="2"/>
              <a:buChar char=""/>
              <a:tabLst>
                <a:tab algn="l" pos="3552840"/>
                <a:tab algn="l" pos="7105680"/>
                <a:tab algn="l" pos="106585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arch numerous databases using relevant ter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99cc00"/>
              </a:buClr>
              <a:buFont typeface="Wingdings" charset="2"/>
              <a:buChar char=""/>
              <a:tabLst>
                <a:tab algn="l" pos="3552840"/>
                <a:tab algn="l" pos="7105680"/>
                <a:tab algn="l" pos="106585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reate growing knowledge b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99cc00"/>
              </a:buClr>
              <a:buFont typeface="Wingdings" charset="2"/>
              <a:buChar char=""/>
              <a:tabLst>
                <a:tab algn="l" pos="3552840"/>
                <a:tab algn="l" pos="7105680"/>
                <a:tab algn="l" pos="106585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hare preliminary results to obtain feedba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99cc00"/>
              </a:buClr>
              <a:buFont typeface="Wingdings" charset="2"/>
              <a:buChar char=""/>
              <a:tabLst>
                <a:tab algn="l" pos="3552840"/>
                <a:tab algn="l" pos="7105680"/>
                <a:tab algn="l" pos="106585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ocument search strategies and controlled vocabul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76320" indent="-517680">
              <a:lnSpc>
                <a:spcPct val="100000"/>
              </a:lnSpc>
              <a:spcBef>
                <a:spcPts val="901"/>
              </a:spcBef>
              <a:buClr>
                <a:srgbClr val="99cc00"/>
              </a:buClr>
              <a:buFont typeface="Wingdings" charset="2"/>
              <a:buChar char=""/>
              <a:tabLst>
                <a:tab algn="l" pos="3552840"/>
                <a:tab algn="l" pos="7105680"/>
                <a:tab algn="l" pos="106585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periment with what search strategies work b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76320" indent="-517680">
              <a:lnSpc>
                <a:spcPct val="100000"/>
              </a:lnSpc>
              <a:spcBef>
                <a:spcPts val="901"/>
              </a:spcBef>
              <a:buClr>
                <a:srgbClr val="99cc00"/>
              </a:buClr>
              <a:buFont typeface="Wingdings" charset="2"/>
              <a:buChar char=""/>
              <a:tabLst>
                <a:tab algn="l" pos="3552840"/>
                <a:tab algn="l" pos="7105680"/>
                <a:tab algn="l" pos="106585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rategies vary from database to datab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99cc00"/>
              </a:buClr>
              <a:buFont typeface="Wingdings" charset="2"/>
              <a:buChar char=""/>
              <a:tabLst>
                <a:tab algn="l" pos="3552840"/>
                <a:tab algn="l" pos="7105680"/>
                <a:tab algn="l" pos="106585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ile competitive intelligence dat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76720" y="21640680"/>
            <a:ext cx="5715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4"/>
              </a:spcBef>
              <a:tabLst>
                <a:tab algn="l" pos="0"/>
                <a:tab algn="l" pos="3552840"/>
                <a:tab algn="l" pos="7105680"/>
                <a:tab algn="l" pos="10658520"/>
              </a:tabLst>
            </a:pP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Progress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17525880" y="27068400"/>
            <a:ext cx="7696440" cy="53229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12115800" y="21793320"/>
            <a:ext cx="7696080" cy="48178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2115800" y="27601920"/>
            <a:ext cx="487980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ctr">
              <a:tabLst>
                <a:tab algn="l" pos="0"/>
                <a:tab algn="l" pos="3552840"/>
                <a:tab algn="l" pos="7105680"/>
                <a:tab algn="l" pos="106585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fVi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3552840"/>
                <a:tab algn="l" pos="7105680"/>
                <a:tab algn="l" pos="10658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99cc00"/>
              </a:buClr>
              <a:buFont typeface="Wingdings" charset="2"/>
              <a:buChar char=""/>
              <a:tabLst>
                <a:tab algn="l" pos="3552840"/>
                <a:tab algn="l" pos="7105680"/>
                <a:tab algn="l" pos="10658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ables you to search multiple data sources simultaneous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3552840"/>
                <a:tab algn="l" pos="7105680"/>
                <a:tab algn="l" pos="106585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99cc00"/>
              </a:buClr>
              <a:buFont typeface="Wingdings" charset="2"/>
              <a:buChar char=""/>
              <a:tabLst>
                <a:tab algn="l" pos="3552840"/>
                <a:tab algn="l" pos="7105680"/>
                <a:tab algn="l" pos="10658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es overviews of literature search results from EndN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3552840"/>
                <a:tab algn="l" pos="7105680"/>
                <a:tab algn="l" pos="106585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99cc00"/>
              </a:buClr>
              <a:buFont typeface="Wingdings" charset="2"/>
              <a:buChar char=""/>
              <a:tabLst>
                <a:tab algn="l" pos="3552840"/>
                <a:tab algn="l" pos="7105680"/>
                <a:tab algn="l" pos="10658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s an additional level of analysis to existing reference collections and enables you to find the most relevant c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99cc00"/>
              </a:buClr>
              <a:buFont typeface="Wingdings" charset="2"/>
              <a:buChar char=""/>
              <a:tabLst>
                <a:tab algn="l" pos="3552840"/>
                <a:tab algn="l" pos="7105680"/>
                <a:tab algn="l" pos="10658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193120" y="22267800"/>
            <a:ext cx="487980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ctr">
              <a:tabLst>
                <a:tab algn="l" pos="0"/>
                <a:tab algn="l" pos="3552840"/>
                <a:tab algn="l" pos="7105680"/>
                <a:tab algn="l" pos="106585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ndNo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3552840"/>
                <a:tab algn="l" pos="7105680"/>
                <a:tab algn="l" pos="10658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99cc00"/>
              </a:buClr>
              <a:buFont typeface="Wingdings" charset="2"/>
              <a:buChar char=""/>
              <a:tabLst>
                <a:tab algn="l" pos="3552840"/>
                <a:tab algn="l" pos="7105680"/>
                <a:tab algn="l" pos="10658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es bibliographies of search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3552840"/>
                <a:tab algn="l" pos="7105680"/>
                <a:tab algn="l" pos="106585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99cc00"/>
              </a:buClr>
              <a:buFont typeface="Wingdings" charset="2"/>
              <a:buChar char=""/>
              <a:tabLst>
                <a:tab algn="l" pos="3552840"/>
                <a:tab algn="l" pos="7105680"/>
                <a:tab algn="l" pos="10658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s with most databases, allowing for export of abstr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3552840"/>
                <a:tab algn="l" pos="7105680"/>
                <a:tab algn="l" pos="106585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99cc00"/>
              </a:buClr>
              <a:buFont typeface="Wingdings" charset="2"/>
              <a:buChar char=""/>
              <a:tabLst>
                <a:tab algn="l" pos="3552840"/>
                <a:tab algn="l" pos="7105680"/>
                <a:tab algn="l" pos="10658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orts into RefViz for further analysis of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00200" y="8305920"/>
            <a:ext cx="24223680" cy="1257300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00200" y="21183480"/>
            <a:ext cx="24223680" cy="1158264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4191120" y="8610480"/>
            <a:ext cx="3282840" cy="3581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11430000" y="8705880"/>
            <a:ext cx="4343400" cy="32576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7"/>
          <a:srcRect l="0" t="0" r="6000" b="-3987"/>
          <a:stretch/>
        </p:blipFill>
        <p:spPr>
          <a:xfrm>
            <a:off x="19507320" y="9144000"/>
            <a:ext cx="4724280" cy="26128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8229600" y="10067760"/>
            <a:ext cx="2133720" cy="990720"/>
          </a:xfrm>
          <a:prstGeom prst="rightArrow">
            <a:avLst>
              <a:gd name="adj1" fmla="val 50000"/>
              <a:gd name="adj2" fmla="val 53843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687800" y="10134720"/>
            <a:ext cx="2133720" cy="990360"/>
          </a:xfrm>
          <a:prstGeom prst="rightArrow">
            <a:avLst>
              <a:gd name="adj1" fmla="val 50000"/>
              <a:gd name="adj2" fmla="val 538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vey</cp:lastModifiedBy>
  <dcterms:modified xsi:type="dcterms:W3CDTF">2008-03-17T17:26:46Z</dcterms:modified>
  <cp:revision>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