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7432000" cy="347472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4A6-1909-485A-9941-090F1D1A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2468880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20085480"/>
            <a:ext cx="2468880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452-6350-4A04-B4B7-BB37C170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02236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C0A1-7233-4313-8065-62328399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8920" y="810684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066240" y="810684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2008548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718920" y="2008548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8066240" y="2008548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293-E4F9-4919-A257-06936A62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8106840"/>
            <a:ext cx="24688800" cy="229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124"/>
              </a:spcBef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9D3-31C7-44C0-A764-FD22BD57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2468880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322-3DBD-493F-A1EB-F4E0D3D3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A66-6BDE-4105-8C5E-6AA8375D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ECB-9033-432C-943C-9DAAB5A0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1390320"/>
            <a:ext cx="24688800" cy="268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12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645-4423-4826-83C7-41387EDD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909-8BEB-4A71-967C-39533586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2236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CE6-ADD3-4660-87A7-F7CF7420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20085480"/>
            <a:ext cx="2468880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34F-ADD8-42B1-BAFB-E84E35E0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8106840"/>
            <a:ext cx="2468880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marL="1332000" indent="-1332000">
              <a:spcBef>
                <a:spcPts val="3124"/>
              </a:spcBef>
              <a:buClr>
                <a:srgbClr val="000000"/>
              </a:buClr>
              <a:buFont typeface="Arial"/>
              <a:buChar char="•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1" marL="2886120" indent="-1109880">
              <a:spcBef>
                <a:spcPts val="3124"/>
              </a:spcBef>
              <a:buClr>
                <a:srgbClr val="000000"/>
              </a:buClr>
              <a:buFont typeface="Arial"/>
              <a:buChar char="–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2" marL="4441680" indent="-888840">
              <a:spcBef>
                <a:spcPts val="3124"/>
              </a:spcBef>
              <a:buClr>
                <a:srgbClr val="000000"/>
              </a:buClr>
              <a:buFont typeface="Arial"/>
              <a:buChar char="•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3" marL="6216480" indent="-887400">
              <a:spcBef>
                <a:spcPts val="3124"/>
              </a:spcBef>
              <a:buClr>
                <a:srgbClr val="000000"/>
              </a:buClr>
              <a:buFont typeface="Arial"/>
              <a:buChar char="–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4" marL="7994520" indent="-88740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5" marL="7994520" indent="-88740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6" marL="7994520" indent="-88740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600" y="31643280"/>
            <a:ext cx="6400800" cy="241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Autofit/>
          </a:bodyPr>
          <a:lstStyle>
            <a:lvl1pPr indent="0">
              <a:buNone/>
              <a:tabLst>
                <a:tab algn="l" pos="0"/>
                <a:tab algn="l" pos="3552840"/>
                <a:tab algn="l" pos="7105680"/>
                <a:tab algn="l" pos="10658520"/>
              </a:tabLst>
              <a:defRPr b="0" lang="en-US" sz="5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372600" y="31643280"/>
            <a:ext cx="8686800" cy="241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Autofit/>
          </a:bodyPr>
          <a:lstStyle>
            <a:lvl1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  <a:defRPr b="0" lang="en-US" sz="5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659600" y="31643280"/>
            <a:ext cx="6400800" cy="241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Autofit/>
          </a:bodyPr>
          <a:lstStyle>
            <a:lvl1pPr indent="0" algn="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  <a:defRPr b="0" lang="en-US" sz="5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fld id="{A352A8EF-5A4B-4AA1-8902-00D3D7550425}" type="slidenum">
              <a:rPr b="0" lang="en-US" sz="5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582280" y="33223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685800"/>
            <a:ext cx="26136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ahoma"/>
                <a:ea typeface="Tahoma"/>
              </a:rPr>
              <a:t>QoLT Mine – Creating a Knowledge Ba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Linda Hartman, Missy Harvey, Roye Werner, and Debbie Mur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33394680"/>
            <a:ext cx="10056600" cy="1200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98760" y="3505320"/>
            <a:ext cx="24223680" cy="45273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320040" bIns="320040" anchor="t">
            <a:noAutofit/>
          </a:bodyPr>
          <a:p>
            <a:pPr algn="ctr">
              <a:spcBef>
                <a:spcPts val="437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oLT Mine captures, documents, combines and analyzes relevant research and published literature on all aspects of the QoLT initiative.  We are creating a unique knowledge repository for researchers to use, and identifying a universe of associated terminology for this new interdisciplinary research are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05440" y="13411080"/>
            <a:ext cx="8226360" cy="70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noAutofit/>
          </a:bodyPr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data mining and text analysis tools to evaluat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knowledge being  publish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s it organiz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top journals, authors, organizations, and industry l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e the “vocabulary universe” that defines Q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13411080"/>
            <a:ext cx="8226360" cy="55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noAutofit/>
          </a:bodyPr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arch and retrieve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rvey/interview information u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ient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gin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trepren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nic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ment (regulators, research agenc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604440" y="13411080"/>
            <a:ext cx="8226360" cy="48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noAutofit/>
          </a:bodyPr>
          <a:p>
            <a:pPr marL="685800" indent="-6858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e resulting documentation to capture termi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bibliographic tools to document and combine search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12217320"/>
            <a:ext cx="5715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Discove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201400" y="12217320"/>
            <a:ext cx="5029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211760" y="12201480"/>
            <a:ext cx="5257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Refin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98760" y="21336120"/>
            <a:ext cx="9678960" cy="10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t">
            <a:no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arch numerous databases using relevant 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ate growing knowledge 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are preliminary results to obtain feed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cument search strategies and controlled 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51768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eriment with what search strategies work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51768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es vary from database to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ile competitive intelligence da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21640680"/>
            <a:ext cx="5715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7525880" y="27068400"/>
            <a:ext cx="7696440" cy="5322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2115800" y="21793320"/>
            <a:ext cx="7696080" cy="4817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15800" y="27601920"/>
            <a:ext cx="48798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V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you to search multiple data sources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s overviews of literature search results from End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an additional level of analysis to existing reference collections and enables you to find the most relevan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193120" y="22267800"/>
            <a:ext cx="4879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N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s bibliographies of 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with most databases, allowing for export of abs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rts into RefViz for further analysis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8305920"/>
            <a:ext cx="24223680" cy="12573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21183480"/>
            <a:ext cx="24223680" cy="115826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191120" y="8610480"/>
            <a:ext cx="3282840" cy="3581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1430000" y="87058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rcRect l="0" t="0" r="6000" b="-3987"/>
          <a:stretch/>
        </p:blipFill>
        <p:spPr>
          <a:xfrm>
            <a:off x="19507320" y="9144000"/>
            <a:ext cx="4724280" cy="261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229600" y="10067760"/>
            <a:ext cx="2133720" cy="990720"/>
          </a:xfrm>
          <a:prstGeom prst="rightArrow">
            <a:avLst>
              <a:gd name="adj1" fmla="val 50000"/>
              <a:gd name="adj2" fmla="val 5384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687800" y="10134720"/>
            <a:ext cx="2133720" cy="990360"/>
          </a:xfrm>
          <a:prstGeom prst="rightArrow">
            <a:avLst>
              <a:gd name="adj1" fmla="val 50000"/>
              <a:gd name="adj2" fmla="val 538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vey</cp:lastModifiedBy>
  <dcterms:modified xsi:type="dcterms:W3CDTF">2008-03-17T17:26:46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