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432000" cy="347472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1ED-2E28-4004-920F-1B0B1ADD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2008548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276-EF45-480F-876A-61627B20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2236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7D4-0464-4EC5-BAD5-90E4AA2D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892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066240" y="810684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71892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066240" y="20085480"/>
            <a:ext cx="79495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E0F-1ACF-496B-B820-293B6114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73C-4ECF-4EB4-A488-F807BBE5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6F1-E70C-4608-943D-6B265E9C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E5D-AD66-4E25-8AEE-C13ABE7D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93D-DD8E-49FD-A79C-D8A94BAC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390320"/>
            <a:ext cx="24688800" cy="268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24D-BB7B-49AD-803B-ABE40CA6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320-8679-4A5F-94E4-9001AEE4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22360" y="2008548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ABE-181E-4630-9829-4347E07C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22360" y="8106840"/>
            <a:ext cx="1204812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20085480"/>
            <a:ext cx="24688800" cy="1093896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52840"/>
                <a:tab algn="l" pos="7105680"/>
                <a:tab algn="l" pos="1065852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A7D-F4C5-4842-B748-F8EB706D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390320"/>
            <a:ext cx="24688800" cy="579132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ctr">
            <a:noAutofit/>
          </a:bodyPr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8106840"/>
            <a:ext cx="24688800" cy="2293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rmAutofit/>
          </a:bodyPr>
          <a:p>
            <a:pPr marL="1332000" indent="-133200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1" marL="2886120" indent="-110988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2" marL="4441680" indent="-88884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3" marL="6216480" indent="-88740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4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5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6" marL="7994520" indent="-88740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52840"/>
                <a:tab algn="l" pos="7105680"/>
                <a:tab algn="l" pos="1065852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31643280"/>
            <a:ext cx="6400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lstStyle>
            <a:lvl1pPr indent="0">
              <a:buNone/>
              <a:tabLst>
                <a:tab algn="l" pos="0"/>
                <a:tab algn="l" pos="3552840"/>
                <a:tab algn="l" pos="7105680"/>
                <a:tab algn="l" pos="10658520"/>
              </a:tabLst>
              <a:defRPr b="0" lang="en-US" sz="5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31643280"/>
            <a:ext cx="8686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lstStyle>
            <a:lvl1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  <a:defRPr b="0" lang="en-US" sz="5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600" y="31643280"/>
            <a:ext cx="6400800" cy="2413080"/>
          </a:xfrm>
          <a:prstGeom prst="rect">
            <a:avLst/>
          </a:prstGeom>
          <a:noFill/>
          <a:ln w="0">
            <a:noFill/>
          </a:ln>
        </p:spPr>
        <p:txBody>
          <a:bodyPr lIns="355320" rIns="355320" tIns="177480" bIns="177480" anchor="t">
            <a:noAutofit/>
          </a:bodyPr>
          <a:lstStyle>
            <a:lvl1pPr indent="0" algn="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  <a:defRPr b="0" lang="en-US" sz="5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552840"/>
                <a:tab algn="l" pos="7105680"/>
                <a:tab algn="l" pos="10658520"/>
              </a:tabLst>
            </a:pPr>
            <a:fld id="{C65A11D0-203D-40CC-90C1-3D2C520A837D}" type="slidenum">
              <a:rPr b="0" lang="en-US" sz="5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582280" y="33223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685800"/>
            <a:ext cx="26136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  <a:ea typeface="Tahoma"/>
              </a:rPr>
              <a:t>QoLT Mine – Creating a Knowledge Ba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Linda Hartman, Missy Harvey, Roye Werner, and Debbie Mur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3394680"/>
            <a:ext cx="10056600" cy="1200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98760" y="3505320"/>
            <a:ext cx="24223680" cy="4527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320040" bIns="320040" anchor="t">
            <a:no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oLT Mine captures, documents, combines and analyzes relevant research and published literature on all aspects of the QoLT initiative.  We are creating a unique knowledge repository for researchers to use, and identifying a universe of associated terminology for this new interdisciplinary research are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05440" y="13411080"/>
            <a:ext cx="822636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noAutofit/>
          </a:bodyPr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data mining and text analysis tools to evaluat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knowledge being  publish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 it organiz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top journals, authors, organizations, and industry 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the “vocabulary universe” that defines Q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13411080"/>
            <a:ext cx="822636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noAutofit/>
          </a:bodyPr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arch and retrieve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rvey/interview information u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in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trepren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nic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63180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(regulators, research agen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604440" y="13411080"/>
            <a:ext cx="822636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noAutofit/>
          </a:bodyPr>
          <a:p>
            <a:pPr marL="685800" indent="-6858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e resulting documentation to capture termi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bibliographic tools to document and combine search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12217320"/>
            <a:ext cx="5715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Discove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201400" y="12217320"/>
            <a:ext cx="5029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211760" y="12201480"/>
            <a:ext cx="5257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Refi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98760" y="21336120"/>
            <a:ext cx="9678960" cy="10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t">
            <a:no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arch numerous databases using relevant 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ate growing knowledge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re preliminary results to obtain feed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cument search strategies and controlled 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5176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eriment with what search strategies work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5176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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es vary from database to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ile competitive intelligence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1640680"/>
            <a:ext cx="5715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7525880" y="27068400"/>
            <a:ext cx="7696440" cy="532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2115800" y="21793320"/>
            <a:ext cx="7696080" cy="4817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15800" y="27601920"/>
            <a:ext cx="4879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V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you to search multiple data source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s overviews of literature search results from End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an additional level of analysis to existing reference collections and enables you to find the most relevan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93120" y="22267800"/>
            <a:ext cx="4879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tabLst>
                <a:tab algn="l" pos="0"/>
                <a:tab algn="l" pos="3552840"/>
                <a:tab algn="l" pos="7105680"/>
                <a:tab algn="l" pos="10658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N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s bibliographies of 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with most databases, allowing for export of abs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3552840"/>
                <a:tab algn="l" pos="7105680"/>
                <a:tab algn="l" pos="10658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cc00"/>
              </a:buClr>
              <a:buFont typeface="Wingdings" charset="2"/>
              <a:buChar char=""/>
              <a:tabLst>
                <a:tab algn="l" pos="3552840"/>
                <a:tab algn="l" pos="7105680"/>
                <a:tab algn="l" pos="10658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rts into RefViz for further analysis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8305920"/>
            <a:ext cx="24223680" cy="12573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1183480"/>
            <a:ext cx="24223680" cy="115826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191120" y="8610480"/>
            <a:ext cx="3282840" cy="3581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430000" y="87058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rcRect l="0" t="0" r="6000" b="-3987"/>
          <a:stretch/>
        </p:blipFill>
        <p:spPr>
          <a:xfrm>
            <a:off x="19507320" y="9144000"/>
            <a:ext cx="4724280" cy="261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29600" y="10067760"/>
            <a:ext cx="2133720" cy="990720"/>
          </a:xfrm>
          <a:prstGeom prst="rightArrow">
            <a:avLst>
              <a:gd name="adj1" fmla="val 50000"/>
              <a:gd name="adj2" fmla="val 5384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687800" y="10134720"/>
            <a:ext cx="2133720" cy="990360"/>
          </a:xfrm>
          <a:prstGeom prst="rightArrow">
            <a:avLst>
              <a:gd name="adj1" fmla="val 50000"/>
              <a:gd name="adj2" fmla="val 538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vey</cp:lastModifiedBy>
  <dcterms:modified xsi:type="dcterms:W3CDTF">2008-03-17T17:26:4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