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8738-73C5-49C1-8198-0A1BE046D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5B10-50F0-47AA-8B08-A76CEB294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594-E2AA-46BF-8FC5-B5151C84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FA1-1133-4BE2-AABC-059E828A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3D5-4C97-4074-AF45-CDA72BF8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B13-64AB-495E-B84A-6A7E83C4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8C8C-C203-4D9D-8396-AB6A75E6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474C-728F-4F4E-80DE-079A4CDD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371F-3940-410A-A49C-EDA4BAF1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E0FF-F439-4814-9886-65C7B959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B531-56F9-47B4-8590-C8E6138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40EA-4C75-4EB7-9605-F0A09126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47C2-9D95-4628-88F7-50734AE8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102-A707-4BF0-8BE6-D064488B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3AFA-A5B5-40DD-B549-716CBB6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D642-1CF6-4197-B2A6-C51664FB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8195-394E-491B-A056-8FA794A4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58FA-48F6-474F-9A15-2EC16821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30D-8358-4B29-9E82-236296E9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39F-C59D-4A33-8022-4063EDC6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8CB-FCAA-42CE-97D8-43A2FDC3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F78-EA92-43DD-BBEF-3C71C321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AB6-1C37-4E80-961B-9E01C510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FC9-C9D1-429F-B249-A1D0193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845-EDC8-4523-9542-B0798852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59B-FE11-4A2C-80C5-5EE7FFEB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96A3-4AD6-4E36-84A8-8CA5D72268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074C-04D8-4EE8-A795-8386F37644C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Effective Search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issy Ha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omputer Science Libr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harvey@andrew.cm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oning Our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let’s redo our search using some of those synony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ve highlighted how to correctly link the words in our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838080" y="3429000"/>
            <a:ext cx="7620120" cy="2590920"/>
            <a:chOff x="838080" y="3429000"/>
            <a:chExt cx="7620120" cy="2590920"/>
          </a:xfrm>
        </p:grpSpPr>
        <p:pic>
          <p:nvPicPr>
            <p:cNvPr id="119" name="Picture 5" descr="test"/>
            <p:cNvPicPr/>
            <p:nvPr/>
          </p:nvPicPr>
          <p:blipFill>
            <a:blip r:embed="rId1"/>
            <a:stretch/>
          </p:blipFill>
          <p:spPr>
            <a:xfrm>
              <a:off x="914400" y="3429000"/>
              <a:ext cx="75438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Oval 6"/>
            <p:cNvSpPr/>
            <p:nvPr/>
          </p:nvSpPr>
          <p:spPr>
            <a:xfrm>
              <a:off x="838080" y="4572000"/>
              <a:ext cx="1028880" cy="914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6553080" y="3886200"/>
              <a:ext cx="914400" cy="1600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fining Our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left side, WoS provides a wide variety of ways to refine our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cument Typ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e see that the most hits are Articles and Proceedings Papers (from conferenc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hat it we only want a review, we could choose that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5514840" y="4514760"/>
            <a:ext cx="2181240" cy="1581120"/>
            <a:chOff x="5514840" y="4514760"/>
            <a:chExt cx="2181240" cy="1581120"/>
          </a:xfrm>
        </p:grpSpPr>
        <p:pic>
          <p:nvPicPr>
            <p:cNvPr id="125" name="Picture 5" descr="test2"/>
            <p:cNvPicPr/>
            <p:nvPr/>
          </p:nvPicPr>
          <p:blipFill>
            <a:blip r:embed="rId1"/>
            <a:stretch/>
          </p:blipFill>
          <p:spPr>
            <a:xfrm>
              <a:off x="5514840" y="4514760"/>
              <a:ext cx="218124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6"/>
            <p:cNvSpPr/>
            <p:nvPr/>
          </p:nvSpPr>
          <p:spPr>
            <a:xfrm>
              <a:off x="5638680" y="5181480"/>
              <a:ext cx="106704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fining Our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see whic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h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wha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.e., journals, conferences, and book series have publish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this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are all ways to refine our search to better target what precisely we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test3"/>
          <p:cNvPicPr/>
          <p:nvPr/>
        </p:nvPicPr>
        <p:blipFill>
          <a:blip r:embed="rId1"/>
          <a:stretch/>
        </p:blipFill>
        <p:spPr>
          <a:xfrm>
            <a:off x="1143000" y="3962520"/>
            <a:ext cx="2743200" cy="180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test4"/>
          <p:cNvPicPr/>
          <p:nvPr/>
        </p:nvPicPr>
        <p:blipFill>
          <a:blip r:embed="rId2"/>
          <a:stretch/>
        </p:blipFill>
        <p:spPr>
          <a:xfrm>
            <a:off x="5029200" y="3809880"/>
            <a:ext cx="24955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dditional To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de of the window, near the bottom are two important tools to help us fi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 the bibliography the author listed at the end of their arti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way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ok at these references because they will lead you to more hits on this topic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the bibliographies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o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ticles a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otnote Ch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ed Record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also help conn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to additional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9a"/>
          <p:cNvPicPr/>
          <p:nvPr/>
        </p:nvPicPr>
        <p:blipFill>
          <a:blip r:embed="rId1"/>
          <a:stretch/>
        </p:blipFill>
        <p:spPr>
          <a:xfrm>
            <a:off x="6286680" y="3581280"/>
            <a:ext cx="23238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verse Cit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f the most powerful tools of WoS is its ability to show us how frequently an article has been cited b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right side we see the quantity of citations, as well as the individual articles tit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click on any of them to go directly to those ci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8"/>
          <p:cNvGrpSpPr/>
          <p:nvPr/>
        </p:nvGrpSpPr>
        <p:grpSpPr>
          <a:xfrm>
            <a:off x="533520" y="380880"/>
            <a:ext cx="8076960" cy="5562720"/>
            <a:chOff x="533520" y="380880"/>
            <a:chExt cx="8076960" cy="5562720"/>
          </a:xfrm>
        </p:grpSpPr>
        <p:pic>
          <p:nvPicPr>
            <p:cNvPr id="137" name="Picture 5" descr="test5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807696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Oval 6"/>
            <p:cNvSpPr/>
            <p:nvPr/>
          </p:nvSpPr>
          <p:spPr>
            <a:xfrm>
              <a:off x="2286000" y="1905120"/>
              <a:ext cx="13716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6400800" y="457200"/>
              <a:ext cx="13716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ew Visual T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S is offering a fascinating new tool that is still in b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shows us visually a citation map, i.e., a trail of who has cited whom on this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view citations going forwards and back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an extremely powerful tool that we’re just beginning to learn how to use 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10"/>
          <p:cNvPicPr/>
          <p:nvPr/>
        </p:nvPicPr>
        <p:blipFill>
          <a:blip r:embed="rId1"/>
          <a:stretch/>
        </p:blipFill>
        <p:spPr>
          <a:xfrm>
            <a:off x="76320" y="304920"/>
            <a:ext cx="883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test6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26088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57200" y="0"/>
            <a:ext cx="8229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’s an example of a 1-generation citation map for an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ve Onto Other Re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what we’ve covered here are tools available in Web of S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cour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 to search the other databases mentioned earl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need to ensure you do not miss anything of importance in y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hould We Just Use Googl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of us jump immediately onto Google or Google Sch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’ll fi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lpful h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may have to spend hours weeding through the h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 is not exhaustive so we potentially miss a great deal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what’s the alternati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or Additional Hel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 that at any time, feel free to contact me for additional hel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sy Ha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cience Librari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vey@andrew.cmu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g: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cslibrarian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cs.cmu.edu/~missy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Alternativ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 help you ensure that you’re finding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what is available on your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begin with the University Libraries website:  http://search.library.cmu.e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-Start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57200" y="0"/>
            <a:ext cx="8229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cles &amp; Data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s A-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hoosing the Best To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braries have hundreds of databases with a significant amount of researc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und in Google and Google Sch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rying to be exhaustive in your research, then for computer science topics, sear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M Digital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Xpl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P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y Not Just One Tool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should search all four of those databases rather than jus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e of them cover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’s published (just like Goog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ver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need to searc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m to ensure we don’t miss any important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eb of Science Sear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experiment with Web of Science (WoS) to see how we can target 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when performing a search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atabase, experiment using a variety of synony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we’re not always quite sure what those synonyms may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ampl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search on: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ystroke dynam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we’re searching on a topic that uses various words to describ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to target our research, try to pin down the various words and phrases to 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slide is an example h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highlighted in red synonyms we should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4"/>
          <p:cNvGrpSpPr/>
          <p:nvPr/>
        </p:nvGrpSpPr>
        <p:grpSpPr>
          <a:xfrm>
            <a:off x="609480" y="457200"/>
            <a:ext cx="7925040" cy="5486400"/>
            <a:chOff x="609480" y="457200"/>
            <a:chExt cx="7925040" cy="5486400"/>
          </a:xfrm>
        </p:grpSpPr>
        <p:graphicFrame>
          <p:nvGraphicFramePr>
            <p:cNvPr id="112" name="Object 12"/>
            <p:cNvGraphicFramePr/>
            <p:nvPr/>
          </p:nvGraphicFramePr>
          <p:xfrm>
            <a:off x="609480" y="457200"/>
            <a:ext cx="7925040" cy="548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7925040" cy="548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Oval 11"/>
            <p:cNvSpPr/>
            <p:nvPr/>
          </p:nvSpPr>
          <p:spPr>
            <a:xfrm>
              <a:off x="1257480" y="3809880"/>
              <a:ext cx="6134040" cy="685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8:51:26Z</dcterms:created>
  <dc:creator>Mike and Missy</dc:creator>
  <dc:description/>
  <dc:language>en-US</dc:language>
  <cp:lastModifiedBy>harvey</cp:lastModifiedBy>
  <dcterms:modified xsi:type="dcterms:W3CDTF">2011-06-23T14:32:02Z</dcterms:modified>
  <cp:revision>40</cp:revision>
  <dc:subject/>
  <dc:title>Slide 1</dc:title>
</cp:coreProperties>
</file>