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354B-D7C2-47DC-86DF-74C975EB0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5CAB-9683-49CB-90AB-80354F767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4FE-30FD-4AEB-BEEC-C96AF835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DD0-0E06-4F92-89EB-6C85ED76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5666-CEAA-4102-9A7D-6063B551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582-0556-4B74-882F-512DFB82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D8CF-745F-4CA5-9B3A-482B6FD9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DDDD-A4FD-4D3A-A773-8AF6F60F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AA7D-F5D9-4512-8A0E-AF647F4A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0A04-F32E-4B4B-811A-7BB6C2D4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4305-0DB0-4203-AE40-95B0D9AE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EDEE-FEC1-44EB-A338-D57676EB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992A-8625-4EC4-AB5F-B914CC34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DBF-0977-488F-AE65-996D86B7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276D-1524-4575-8011-17DA9915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485D-BEA9-4ED3-BC46-044EDB7D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D7F0-F9E5-46F8-8833-089F9318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C1A0-8225-4A4E-B6B1-CF15D8D2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E54B-384A-4F16-90E9-EACF7BB5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DF95-2CD0-4E19-A57B-45620C32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6A9-2CCE-451B-977E-1E1A44F0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CF6-50CB-4175-BCB0-971C73DA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DCA-7283-4DF5-BAB9-C2D177DE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3CF-51C5-455C-B75A-A9843D30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CDB-EFCA-4B4F-87FF-EA168F87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367-A113-4628-9DCC-DDED1FB9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D1D1-9910-4F6C-B36D-A4534D1C946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81F8-48ED-4E49-B1CF-BFCD1AC873C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Effective Search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41911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Missy Ha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Computer Science Libra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harvey@andrew.cmu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Honing Our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let’s redo our search using some of those synony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’ve highlighted how to correctly link the words in our 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8"/>
          <p:cNvGrpSpPr/>
          <p:nvPr/>
        </p:nvGrpSpPr>
        <p:grpSpPr>
          <a:xfrm>
            <a:off x="838080" y="3429000"/>
            <a:ext cx="7620120" cy="2590920"/>
            <a:chOff x="838080" y="3429000"/>
            <a:chExt cx="7620120" cy="2590920"/>
          </a:xfrm>
        </p:grpSpPr>
        <p:pic>
          <p:nvPicPr>
            <p:cNvPr id="119" name="Picture 5" descr="test"/>
            <p:cNvPicPr/>
            <p:nvPr/>
          </p:nvPicPr>
          <p:blipFill>
            <a:blip r:embed="rId1"/>
            <a:stretch/>
          </p:blipFill>
          <p:spPr>
            <a:xfrm>
              <a:off x="914400" y="3429000"/>
              <a:ext cx="75438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Oval 6"/>
            <p:cNvSpPr/>
            <p:nvPr/>
          </p:nvSpPr>
          <p:spPr>
            <a:xfrm>
              <a:off x="838080" y="4572000"/>
              <a:ext cx="1028880" cy="914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6553080" y="3886200"/>
              <a:ext cx="914400" cy="1600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efining Our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left side, WoS provides a wide variety of ways to refine our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cument Typ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e see that the most hits are Articles and Proceedings Papers (from conferenc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what it we only want a review, we could choose that o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5514840" y="4514760"/>
            <a:ext cx="2181240" cy="1581120"/>
            <a:chOff x="5514840" y="4514760"/>
            <a:chExt cx="2181240" cy="1581120"/>
          </a:xfrm>
        </p:grpSpPr>
        <p:pic>
          <p:nvPicPr>
            <p:cNvPr id="125" name="Picture 5" descr="test2"/>
            <p:cNvPicPr/>
            <p:nvPr/>
          </p:nvPicPr>
          <p:blipFill>
            <a:blip r:embed="rId1"/>
            <a:stretch/>
          </p:blipFill>
          <p:spPr>
            <a:xfrm>
              <a:off x="5514840" y="4514760"/>
              <a:ext cx="218124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Oval 6"/>
            <p:cNvSpPr/>
            <p:nvPr/>
          </p:nvSpPr>
          <p:spPr>
            <a:xfrm>
              <a:off x="5638680" y="5181480"/>
              <a:ext cx="106704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efining Our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see whic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uth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wha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urc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.e., journals, conferences, and book series have published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n this top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are all ways to refine our search to better target what precisely we n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test3"/>
          <p:cNvPicPr/>
          <p:nvPr/>
        </p:nvPicPr>
        <p:blipFill>
          <a:blip r:embed="rId1"/>
          <a:stretch/>
        </p:blipFill>
        <p:spPr>
          <a:xfrm>
            <a:off x="1143000" y="3962520"/>
            <a:ext cx="2743200" cy="1803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test4"/>
          <p:cNvPicPr/>
          <p:nvPr/>
        </p:nvPicPr>
        <p:blipFill>
          <a:blip r:embed="rId2"/>
          <a:stretch/>
        </p:blipFill>
        <p:spPr>
          <a:xfrm>
            <a:off x="5029200" y="3809880"/>
            <a:ext cx="24955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dditional Too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ide of the window, near the bottom are two important tools to help us fi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 the bibliography the author listed at the end of their arti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lway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ok at these references because they will lead you to more hits on this topic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 at the bibliographies i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o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rticles as 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process is calle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otnote Ch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ed Record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also help conn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to additional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9a"/>
          <p:cNvPicPr/>
          <p:nvPr/>
        </p:nvPicPr>
        <p:blipFill>
          <a:blip r:embed="rId1"/>
          <a:stretch/>
        </p:blipFill>
        <p:spPr>
          <a:xfrm>
            <a:off x="6286680" y="3581280"/>
            <a:ext cx="23238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everse Cit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f the most powerful tools of WoS is its ability to show us how frequently an article has been cited b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th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right side we see the quantity of citations, as well as the individual articles tit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 click on any of them to go directly to those ci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8"/>
          <p:cNvGrpSpPr/>
          <p:nvPr/>
        </p:nvGrpSpPr>
        <p:grpSpPr>
          <a:xfrm>
            <a:off x="533520" y="380880"/>
            <a:ext cx="8076960" cy="5562720"/>
            <a:chOff x="533520" y="380880"/>
            <a:chExt cx="8076960" cy="5562720"/>
          </a:xfrm>
        </p:grpSpPr>
        <p:pic>
          <p:nvPicPr>
            <p:cNvPr id="137" name="Picture 5" descr="test5"/>
            <p:cNvPicPr/>
            <p:nvPr/>
          </p:nvPicPr>
          <p:blipFill>
            <a:blip r:embed="rId1"/>
            <a:stretch/>
          </p:blipFill>
          <p:spPr>
            <a:xfrm>
              <a:off x="533520" y="380880"/>
              <a:ext cx="8076960" cy="55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Oval 6"/>
            <p:cNvSpPr/>
            <p:nvPr/>
          </p:nvSpPr>
          <p:spPr>
            <a:xfrm>
              <a:off x="2286000" y="1905120"/>
              <a:ext cx="1371600" cy="457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>
              <a:off x="6400800" y="457200"/>
              <a:ext cx="1371600" cy="457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ew Visual To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S is offering a fascinating new tool that is still in b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shows us visually a citation map, i.e., a trail of who has cited whom on this top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view citations going forwards and backw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’s an extremely powerful tool that we’re just beginning to learn how to use 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10"/>
          <p:cNvPicPr/>
          <p:nvPr/>
        </p:nvPicPr>
        <p:blipFill>
          <a:blip r:embed="rId1"/>
          <a:stretch/>
        </p:blipFill>
        <p:spPr>
          <a:xfrm>
            <a:off x="76320" y="304920"/>
            <a:ext cx="8839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test6"/>
          <p:cNvPicPr/>
          <p:nvPr/>
        </p:nvPicPr>
        <p:blipFill>
          <a:blip r:embed="rId1"/>
          <a:stretch/>
        </p:blipFill>
        <p:spPr>
          <a:xfrm>
            <a:off x="533520" y="762120"/>
            <a:ext cx="8001000" cy="5333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3260880" y="189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457200" y="0"/>
            <a:ext cx="82296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’s an example of a 1-generation citation map for an art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ove Onto Other Re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of what we’ve covered here are tools available in Web of Sc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cour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you to search the other databases mentioned earl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need to ensure you do not miss anything of importance in your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hould We Just Use Google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of us jump immediately onto Google or Google Scho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’ll fi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elpful h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we may have to spend hours weeding through the h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 is not exhaustive so we potentially miss a great deal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what’s the alternati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or Additional Hel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ember that at any time, feel free to contact me for additional hel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ssy Harv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Science Librari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vey@andrew.cmu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g: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cslibrarian.net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ite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cs.cmu.edu/~missy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Alternativ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your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 help you ensure that you’re finding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jor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what is available on your top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’s begin with the University Libraries website:  http://search.library.cmu.e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3-Start"/>
          <p:cNvPicPr/>
          <p:nvPr/>
        </p:nvPicPr>
        <p:blipFill>
          <a:blip r:embed="rId1"/>
          <a:stretch/>
        </p:blipFill>
        <p:spPr>
          <a:xfrm>
            <a:off x="533520" y="838080"/>
            <a:ext cx="7924680" cy="52578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457200" y="0"/>
            <a:ext cx="82296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icles &amp; Datab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bases A-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hoosing the Best Too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ibraries have hundreds of databases with a significant amount of researc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und in Google and Google Scho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rying to be exhaustive in your research, then for computer science topics, searc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M Digital Libr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Xpl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P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of Sc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Why Not Just One Tool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should search all four of those databases rather than jus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e of them cover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’s published (just like Goog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hav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verl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we need to searc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m to ensure we don’t miss any important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Web of Science Searc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’s experiment with Web of Science (WoS) to see how we can target our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when performing a search 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atabase, experiment using a variety of synony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times we’re not always quite sure what those synonyms may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ample 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’s search on: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ystroke dynamic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times we’re searching on a topic that uses various words to describe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to target our research, try to pin down the various words and phrases to u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xt slide is an example h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highlighted in red synonyms we should 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4"/>
          <p:cNvGrpSpPr/>
          <p:nvPr/>
        </p:nvGrpSpPr>
        <p:grpSpPr>
          <a:xfrm>
            <a:off x="609480" y="457200"/>
            <a:ext cx="7925040" cy="5486400"/>
            <a:chOff x="609480" y="457200"/>
            <a:chExt cx="7925040" cy="5486400"/>
          </a:xfrm>
        </p:grpSpPr>
        <p:graphicFrame>
          <p:nvGraphicFramePr>
            <p:cNvPr id="112" name="Object 12"/>
            <p:cNvGraphicFramePr/>
            <p:nvPr/>
          </p:nvGraphicFramePr>
          <p:xfrm>
            <a:off x="609480" y="457200"/>
            <a:ext cx="7925040" cy="5486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57200"/>
                      <a:ext cx="7925040" cy="548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Oval 11"/>
            <p:cNvSpPr/>
            <p:nvPr/>
          </p:nvSpPr>
          <p:spPr>
            <a:xfrm>
              <a:off x="1257480" y="3809880"/>
              <a:ext cx="6134040" cy="6858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13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8:51:26Z</dcterms:created>
  <dc:creator>Mike and Missy</dc:creator>
  <dc:description/>
  <dc:language>en-US</dc:language>
  <cp:lastModifiedBy>harvey</cp:lastModifiedBy>
  <dcterms:modified xsi:type="dcterms:W3CDTF">2011-06-23T14:32:02Z</dcterms:modified>
  <cp:revision>40</cp:revision>
  <dc:subject/>
  <dc:title>Slide 1</dc:title>
</cp:coreProperties>
</file>