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FC41-EBB8-4FD4-82CF-C47A3633F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E847-5398-42C8-BFA1-75702310D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424-CC08-42A8-80D5-FB3090BA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E69-098B-418E-9DC9-F5B126F1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8A4-DB3C-41A0-8528-9A93B25A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A6F-CFDA-41AC-9CAC-F9889F1E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C7E8-373E-4683-8960-7A7B2E80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AB46-1F37-4442-B936-E0B3FFD3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B395-8B0C-4790-B818-9705666E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B751-65AF-40C9-A3B1-8AAAB351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457B-7646-422E-8B18-27F4CB9B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6DA9-421E-4940-8EDA-DE998486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E744-E383-4EA2-B4AB-3C657D83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B98-8F81-4FC8-9508-8E997211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BC3C-4031-4823-BEA8-12317EEC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0A79-FF16-4855-A42A-7BF57443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1FB9-86C3-4F9E-8DE3-2CB49B1D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6224-2556-46F7-95D1-B481927E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8DD0-0850-45AB-8B90-C76E23A6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05E-79A9-497B-8C58-6D754CFC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D8D-9B44-4139-B81D-207F137B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E59-C5FD-404A-8DA8-53D56E77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F02-F435-45EA-8134-D69BF99A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BDE-2D57-453B-83F0-74EAB55E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9FE-EBB7-4E25-853B-786AA6A6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34D-5840-47C4-B455-DB528242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A962-F102-4DC4-A946-33839A6E32B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6004-A19D-4247-975E-D0404255F3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Effective Search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41911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Missy Ha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Computer Science Libra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harvey@andrew.cmu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Honing Our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let’s redo our search using some of those synony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’ve highlighted how to correctly link the words in our 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838080" y="3429000"/>
            <a:ext cx="7620120" cy="2590920"/>
            <a:chOff x="838080" y="3429000"/>
            <a:chExt cx="7620120" cy="2590920"/>
          </a:xfrm>
        </p:grpSpPr>
        <p:pic>
          <p:nvPicPr>
            <p:cNvPr id="119" name="Picture 5" descr="test"/>
            <p:cNvPicPr/>
            <p:nvPr/>
          </p:nvPicPr>
          <p:blipFill>
            <a:blip r:embed="rId1"/>
            <a:stretch/>
          </p:blipFill>
          <p:spPr>
            <a:xfrm>
              <a:off x="914400" y="3429000"/>
              <a:ext cx="75438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Oval 6"/>
            <p:cNvSpPr/>
            <p:nvPr/>
          </p:nvSpPr>
          <p:spPr>
            <a:xfrm>
              <a:off x="838080" y="4572000"/>
              <a:ext cx="1028880" cy="914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6553080" y="3886200"/>
              <a:ext cx="914400" cy="1600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fining Our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left side, WoS provides a wide variety of ways to refine our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cument Typ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e see that the most hits are Articles and Proceedings Papers (from conferenc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hat it we only want a review, we could choose that 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5514840" y="4514760"/>
            <a:ext cx="2181240" cy="1581120"/>
            <a:chOff x="5514840" y="4514760"/>
            <a:chExt cx="2181240" cy="1581120"/>
          </a:xfrm>
        </p:grpSpPr>
        <p:pic>
          <p:nvPicPr>
            <p:cNvPr id="125" name="Picture 5" descr="test2"/>
            <p:cNvPicPr/>
            <p:nvPr/>
          </p:nvPicPr>
          <p:blipFill>
            <a:blip r:embed="rId1"/>
            <a:stretch/>
          </p:blipFill>
          <p:spPr>
            <a:xfrm>
              <a:off x="5514840" y="4514760"/>
              <a:ext cx="218124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val 6"/>
            <p:cNvSpPr/>
            <p:nvPr/>
          </p:nvSpPr>
          <p:spPr>
            <a:xfrm>
              <a:off x="5638680" y="5181480"/>
              <a:ext cx="106704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fining Our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see whic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th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wha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urc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.e., journals, conferences, and book series have published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n this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are all ways to refine our search to better target what precisely we n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test3"/>
          <p:cNvPicPr/>
          <p:nvPr/>
        </p:nvPicPr>
        <p:blipFill>
          <a:blip r:embed="rId1"/>
          <a:stretch/>
        </p:blipFill>
        <p:spPr>
          <a:xfrm>
            <a:off x="1143000" y="3962520"/>
            <a:ext cx="2743200" cy="1803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test4"/>
          <p:cNvPicPr/>
          <p:nvPr/>
        </p:nvPicPr>
        <p:blipFill>
          <a:blip r:embed="rId2"/>
          <a:stretch/>
        </p:blipFill>
        <p:spPr>
          <a:xfrm>
            <a:off x="5029200" y="3809880"/>
            <a:ext cx="24955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dditional Too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ide of the window, near the bottom are two important tools to help us fi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 the bibliography the author listed at the end of their arti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way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ok at these references because they will lead you to more hits on this topic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 at the bibliographies 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o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ticles as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process is call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otnote Ch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ed Record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also help conn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to additional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9a"/>
          <p:cNvPicPr/>
          <p:nvPr/>
        </p:nvPicPr>
        <p:blipFill>
          <a:blip r:embed="rId1"/>
          <a:stretch/>
        </p:blipFill>
        <p:spPr>
          <a:xfrm>
            <a:off x="6286680" y="3581280"/>
            <a:ext cx="23238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verse Cit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f the most powerful tools of WoS is its ability to show us how frequently an article has been cited b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th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right side we see the quantity of citations, as well as the individual articles tit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click on any of them to go directly to those ci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8"/>
          <p:cNvGrpSpPr/>
          <p:nvPr/>
        </p:nvGrpSpPr>
        <p:grpSpPr>
          <a:xfrm>
            <a:off x="533520" y="380880"/>
            <a:ext cx="8076960" cy="5562720"/>
            <a:chOff x="533520" y="380880"/>
            <a:chExt cx="8076960" cy="5562720"/>
          </a:xfrm>
        </p:grpSpPr>
        <p:pic>
          <p:nvPicPr>
            <p:cNvPr id="137" name="Picture 5" descr="test5"/>
            <p:cNvPicPr/>
            <p:nvPr/>
          </p:nvPicPr>
          <p:blipFill>
            <a:blip r:embed="rId1"/>
            <a:stretch/>
          </p:blipFill>
          <p:spPr>
            <a:xfrm>
              <a:off x="533520" y="380880"/>
              <a:ext cx="8076960" cy="55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Oval 6"/>
            <p:cNvSpPr/>
            <p:nvPr/>
          </p:nvSpPr>
          <p:spPr>
            <a:xfrm>
              <a:off x="2286000" y="1905120"/>
              <a:ext cx="1371600" cy="457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6400800" y="457200"/>
              <a:ext cx="1371600" cy="457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ew Visual To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S is offering a fascinating new tool that is still in b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shows us visually a citation map, i.e., a trail of who has cited whom on this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view citations going forwards and backw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’s an extremely powerful tool that we’re just beginning to learn how to use 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10"/>
          <p:cNvPicPr/>
          <p:nvPr/>
        </p:nvPicPr>
        <p:blipFill>
          <a:blip r:embed="rId1"/>
          <a:stretch/>
        </p:blipFill>
        <p:spPr>
          <a:xfrm>
            <a:off x="76320" y="304920"/>
            <a:ext cx="883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test6"/>
          <p:cNvPicPr/>
          <p:nvPr/>
        </p:nvPicPr>
        <p:blipFill>
          <a:blip r:embed="rId1"/>
          <a:stretch/>
        </p:blipFill>
        <p:spPr>
          <a:xfrm>
            <a:off x="533520" y="762120"/>
            <a:ext cx="8001000" cy="5333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3260880" y="18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57200" y="0"/>
            <a:ext cx="8229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’s an example of a 1-generation citation map for an 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ove Onto Other Re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of what we’ve covered here are tools available in Web of Sc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cour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ou to search the other databases mentioned earl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need to ensure you do not miss anything of importance in your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hould We Just Use Googl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of us jump immediately onto Google or Google Scho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’ll fi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elpful h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e may have to spend hours weeding through the h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 is not exhaustive so we potentially miss a great deal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what’s the alternati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or Additional Hel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mber that at any time, feel free to contact me for additional hel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sy Harv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Science Librari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vey@andrew.cmu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g: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cslibrarian.net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cs.cmu.edu/~missy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Alternativ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our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 help you ensure that you’re finding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jo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what is available on your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begin with the University Libraries website:  http://search.library.cmu.e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3-Start"/>
          <p:cNvPicPr/>
          <p:nvPr/>
        </p:nvPicPr>
        <p:blipFill>
          <a:blip r:embed="rId1"/>
          <a:stretch/>
        </p:blipFill>
        <p:spPr>
          <a:xfrm>
            <a:off x="533520" y="83808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457200" y="0"/>
            <a:ext cx="8229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icles &amp; Datab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s A-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hoosing the Best Too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ibraries have hundreds of databases with a significant amount of researc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und in Google and Google Scho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rying to be exhaustive in your research, then for computer science topics, sear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M Digital Libr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Xpl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P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y Not Just One Tool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should search all four of those databases rather than jus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e of them cover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’s published (just like Goog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v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verl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e need to searc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m to ensure we don’t miss any important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eb of Science Searc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experiment with Web of Science (WoS) to see how we can target our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when performing a search 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atabase, experiment using a variety of synony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times we’re not always quite sure what those synonyms may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ample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search on: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ystroke dynamic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times we’re searching on a topic that uses various words to describe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to target our research, try to pin down the various words and phrases to u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xt slide is an example h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highlighted in red synonyms we should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4"/>
          <p:cNvGrpSpPr/>
          <p:nvPr/>
        </p:nvGrpSpPr>
        <p:grpSpPr>
          <a:xfrm>
            <a:off x="609480" y="457200"/>
            <a:ext cx="7925040" cy="5486400"/>
            <a:chOff x="609480" y="457200"/>
            <a:chExt cx="7925040" cy="5486400"/>
          </a:xfrm>
        </p:grpSpPr>
        <p:graphicFrame>
          <p:nvGraphicFramePr>
            <p:cNvPr id="112" name="Object 12"/>
            <p:cNvGraphicFramePr/>
            <p:nvPr/>
          </p:nvGraphicFramePr>
          <p:xfrm>
            <a:off x="609480" y="457200"/>
            <a:ext cx="7925040" cy="548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7925040" cy="548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Oval 11"/>
            <p:cNvSpPr/>
            <p:nvPr/>
          </p:nvSpPr>
          <p:spPr>
            <a:xfrm>
              <a:off x="1257480" y="3809880"/>
              <a:ext cx="6134040" cy="685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13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8:51:26Z</dcterms:created>
  <dc:creator>Mike and Missy</dc:creator>
  <dc:description/>
  <dc:language>en-US</dc:language>
  <cp:lastModifiedBy>harvey</cp:lastModifiedBy>
  <dcterms:modified xsi:type="dcterms:W3CDTF">2011-06-23T14:32:02Z</dcterms:modified>
  <cp:revision>40</cp:revision>
  <dc:subject/>
  <dc:title>Slide 1</dc:title>
</cp:coreProperties>
</file>