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8E1-FFB4-45B7-8C53-C9EA3CB8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9CAD-1119-4D2E-AFD5-DDE3F9A0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706-F80A-41B7-9CB2-F6AC94CC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7E0-4954-4BFE-B48E-FBD3E7D4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22AB-E4C8-407E-A6A3-94E30E42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61DA-EE93-4CD3-9ED7-4639E51B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CEC9-9B8A-4B41-B700-8FBA09DB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470A-55EC-4F81-A8EF-15332196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3BE7-BFAA-40A8-98D7-5510DABE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5AD-59F9-445F-AF14-944099A4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F369-9B54-42BF-B74A-DCD1A031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8F2-39C6-4FE0-9864-476694F7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315B-5ED2-4A86-B745-8A5D938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4B83-C8AA-46C2-8067-CA45FC53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ABB-C486-4793-AA44-EA08DE8B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ED5-1A71-4874-B85C-EEA7AB20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EFE4-38FD-4A7B-B0A5-5467FA8B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08EB-9D8B-4720-B39C-8E06DFB1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D60D-6B75-401D-93CC-9F8893B1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D2EE-BEF0-4B91-8B3B-68E2B99C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9EF-4D7F-41A6-AF54-E30DF091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490-5F76-4DAB-A2F6-74DFB59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83B8-A7AC-437A-B7EE-47DD3AF3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DBE-6E61-4013-AF53-A8F6A42A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17F6-DCB4-4E3F-A09A-67E6F29A1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A652-3717-44FF-BBDA-798317EF04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6 (April 25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520"/>
            <a:ext cx="402588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part 2 &amp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 evalu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 due this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review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ex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5:30-8: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C Mc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ion of threaded “hello, world”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944800" y="1154880"/>
            <a:ext cx="1476000" cy="3975840"/>
            <a:chOff x="2944800" y="1154880"/>
            <a:chExt cx="1476000" cy="3975840"/>
          </a:xfrm>
        </p:grpSpPr>
        <p:sp>
          <p:nvSpPr>
            <p:cNvPr id="188" name=""/>
            <p:cNvSpPr/>
            <p:nvPr/>
          </p:nvSpPr>
          <p:spPr>
            <a:xfrm>
              <a:off x="2944800" y="115488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63720" y="171756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236600" y="303804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7400" y="468936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86280" y="1870200"/>
            <a:ext cx="6397920" cy="1098000"/>
            <a:chOff x="1286280" y="1870200"/>
            <a:chExt cx="6397920" cy="1098000"/>
          </a:xfrm>
        </p:grpSpPr>
        <p:sp>
          <p:nvSpPr>
            <p:cNvPr id="193" name=""/>
            <p:cNvSpPr/>
            <p:nvPr/>
          </p:nvSpPr>
          <p:spPr>
            <a:xfrm>
              <a:off x="6260040" y="23101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4360" y="2089080"/>
              <a:ext cx="3257280" cy="8791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86280" y="187020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566360" y="263196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73160" y="3578400"/>
            <a:ext cx="5838480" cy="870120"/>
            <a:chOff x="1073160" y="3578400"/>
            <a:chExt cx="5838480" cy="870120"/>
          </a:xfrm>
        </p:grpSpPr>
        <p:sp>
          <p:nvSpPr>
            <p:cNvPr id="198" name=""/>
            <p:cNvSpPr/>
            <p:nvPr/>
          </p:nvSpPr>
          <p:spPr>
            <a:xfrm flipH="1">
              <a:off x="3701880" y="357840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73160" y="408024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968520" y="2907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202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17640" y="2174760"/>
            <a:ext cx="5994000" cy="1403280"/>
            <a:chOff x="917640" y="2174760"/>
            <a:chExt cx="5994000" cy="1403280"/>
          </a:xfrm>
        </p:grpSpPr>
        <p:sp>
          <p:nvSpPr>
            <p:cNvPr id="205" name=""/>
            <p:cNvSpPr/>
            <p:nvPr/>
          </p:nvSpPr>
          <p:spPr>
            <a:xfrm>
              <a:off x="6911640" y="296856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17640" y="217476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5320" y="9907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73240" y="47149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8534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based concurrent server 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066680"/>
            <a:ext cx="7924680" cy="33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echo_r(connfd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/* thread-safe version of echo(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143160" y="1949400"/>
            <a:ext cx="3305160" cy="642600"/>
            <a:chOff x="3143160" y="1949400"/>
            <a:chExt cx="3305160" cy="642600"/>
          </a:xfrm>
        </p:grpSpPr>
        <p:sp>
          <p:nvSpPr>
            <p:cNvPr id="213" name=""/>
            <p:cNvSpPr/>
            <p:nvPr/>
          </p:nvSpPr>
          <p:spPr>
            <a:xfrm flipH="1">
              <a:off x="3143160" y="230184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0200" y="19494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861120" y="493704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thread_detach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commended in the proxy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1: detached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hread is either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det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Join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ead can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be reaped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to free resour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Detach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 can’t be reaped or killed by other th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s are automatically reaped on term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state is join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(pthread_self()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make detac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 should we use detached threa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pthread_join(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locks the calling th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6628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2: avoid unintended shar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0320" y="228600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we pass the address of connfd to the thread routine as in the following co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8077320" cy="916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4880" y="3362400"/>
            <a:ext cx="807732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ssue 3: thread-saf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share data structures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need to do this correctl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shell la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b data stru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d between main process and signal hand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 multiple contro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nchronizing with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aphores are counters for resources shared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negative integer synchronization vari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perations: P(s) &amp; V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c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while (s == 0) wait(); s--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(s):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en-US" sz="2500" spc="-1" strike="noStrike">
                <a:solidFill>
                  <a:srgbClr val="000000"/>
                </a:solidFill>
                <a:latin typeface="Courier New"/>
              </a:rPr>
              <a:t>s++;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5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itial value of s =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5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 mutual exclusive 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aring with POSIX semaphor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838080"/>
            <a:ext cx="4573440" cy="4699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28440" y="93348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280" y="590400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use pthread_mutex for the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safety of library func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unctions in the Standard C Library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e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nix system calls are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a few excep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29268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a ptr to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Rewrite code so caller passes pointe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changes in caller and call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14560" y="5015880"/>
            <a:ext cx="5057640" cy="610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hostbyname_r(name, hostp, 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38760" y="1571040"/>
            <a:ext cx="4158360" cy="192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ve servers can only serve one client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servers handle multiple request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by L7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523880" y="2666880"/>
            <a:ext cx="6117840" cy="2939760"/>
            <a:chOff x="1523880" y="2666880"/>
            <a:chExt cx="6117840" cy="2939760"/>
          </a:xfrm>
        </p:grpSpPr>
        <p:sp>
          <p:nvSpPr>
            <p:cNvPr id="100" name=""/>
            <p:cNvSpPr/>
            <p:nvPr/>
          </p:nvSpPr>
          <p:spPr>
            <a:xfrm>
              <a:off x="1523880" y="270828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87400" y="26668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33240" y="370584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471168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87400" y="366444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7400" y="471168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12760" y="314748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2922120" y="431964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931480" y="413640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5760" y="369720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9880" y="228600"/>
            <a:ext cx="7340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-unsafe functions: fix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4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sue: Requires only simple changes in ca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5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caller must fre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38280" y="2348640"/>
            <a:ext cx="5362560" cy="30495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7 hints for part 2 &amp; part 3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a thread to handle each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fer to the code of the current echo serv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not thread-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ata structure for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nchronize the operations on th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pthread_mutex (how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tion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mmar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ing is a clean and efficient way to implement concurrent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synchronize multiple threads for concurrent accesses to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aphore is one way to do th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d-safety is the difficult part of thread program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A evaluation for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n both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comments are highly apprecia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e ways to create concurrent serv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k a child process for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share data among chil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thread to handle every incoming client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focu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/O multiplexing with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lect(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otice pending socket a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ly interleave the processing of multiple open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implement your own app-specific thread pack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8560" y="2438280"/>
            <a:ext cx="8210520" cy="1524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ditional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process context + code, data, &amp;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08040" y="263628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ternate view of a proces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= thread + code, data, &amp; kerne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1600" y="2362320"/>
            <a:ext cx="2230560" cy="3189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81600" y="2681280"/>
            <a:ext cx="2230560" cy="25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1600" y="2935440"/>
            <a:ext cx="2230560" cy="2887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54080" y="4002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81600" y="322416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89280" y="329220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51520" y="182808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81600" y="3544920"/>
            <a:ext cx="2232000" cy="3207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81600" y="3849840"/>
            <a:ext cx="2232000" cy="32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6880" y="2666880"/>
            <a:ext cx="2230200" cy="3193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7320" y="27871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7960" y="29718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63680" y="3516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36972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6760" y="2766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23040" y="293544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0400" y="18280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62320" y="449316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236232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 process with multiple threa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305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threads can be associated with a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shares the same code, data, and kerne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hread has its own thread ID (T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79920" y="3254400"/>
            <a:ext cx="1974600" cy="289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79920" y="3543480"/>
            <a:ext cx="1974600" cy="230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79920" y="3773520"/>
            <a:ext cx="1974600" cy="26208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76160" y="4738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79920" y="4035600"/>
            <a:ext cx="1976400" cy="29016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37560" y="27932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79920" y="4325760"/>
            <a:ext cx="1976400" cy="290520"/>
          </a:xfrm>
          <a:prstGeom prst="rect">
            <a:avLst/>
          </a:prstGeom>
          <a:solidFill>
            <a:srgbClr val="ffffe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460044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157400" y="2980440"/>
            <a:ext cx="2085840" cy="2718360"/>
            <a:chOff x="1157400" y="2980440"/>
            <a:chExt cx="2085840" cy="2718360"/>
          </a:xfrm>
        </p:grpSpPr>
        <p:sp>
          <p:nvSpPr>
            <p:cNvPr id="165" name=""/>
            <p:cNvSpPr/>
            <p:nvPr/>
          </p:nvSpPr>
          <p:spPr>
            <a:xfrm>
              <a:off x="115740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73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319400" y="298044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681360" y="51058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66520" y="2980440"/>
            <a:ext cx="2085840" cy="2718360"/>
            <a:chOff x="6266520" y="2980440"/>
            <a:chExt cx="2085840" cy="2718360"/>
          </a:xfrm>
        </p:grpSpPr>
        <p:sp>
          <p:nvSpPr>
            <p:cNvPr id="170" name=""/>
            <p:cNvSpPr/>
            <p:nvPr/>
          </p:nvSpPr>
          <p:spPr>
            <a:xfrm>
              <a:off x="6266520" y="435708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40320" y="385416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55160" y="298044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reads vs.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934560"/>
            <a:ext cx="81532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its own logical control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an run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s context swi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8720" indent="0">
              <a:spcBef>
                <a:spcPts val="42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reads and processes are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share code and data, processes (typically) do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s are less expensive than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cess control (creating and reaping) is twice as expensive as thread contro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832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inux/Pentium III numbe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20K cycles to create and reap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0K cycles to create and reap a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628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osix threads (pthreads)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520" y="914040"/>
            <a:ext cx="826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and reaping threa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re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j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det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ing your thread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sel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minating thre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an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ex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7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xi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all thread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rminates current thread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5920" indent="-385920">
              <a:lnSpc>
                <a:spcPct val="8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izing access to shared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mutex_[un]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i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thread_cond_[timed]wa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pthreads "hello, world"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25T13:21:01Z</dcterms:modified>
  <cp:revision>1069</cp:revision>
  <dc:subject/>
  <dc:title>Recitation 5</dc:title>
</cp:coreProperties>
</file>