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3C5-97F8-42A1-9FBE-A880FD55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43B-6DC5-4440-8186-44EAF4A0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6C6-E131-4552-8580-32D68D7E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D1F-700F-4D1A-B553-8F418E21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604E-BEEC-4344-A2DE-C14FB98B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7F78-2770-439E-91C8-653C201A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1172-C9F8-4611-93CE-5FD9957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18CE-CA4C-4B3C-8A9E-E9392961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49C3-9D76-468D-A2C5-40CE173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052E-3F5F-4647-8461-62FBB79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900D-DF91-42E0-A9C3-811B8B26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E9B-1C5F-4301-863C-1E3015CF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3C40-5043-4546-9520-951E1042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D9F1-BE4A-4C93-BB46-98790904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A991-E966-4E5E-94FD-2AFE19DA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C9B2-34CE-4319-97AE-45239252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25DF-52B5-42BA-9308-89F22224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6E8-887C-4659-87CE-1AEAAE2E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232-6AD5-4F9A-9E29-D014544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637-AA68-4CC7-B510-26A261B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2F3-0BCA-42FA-A63C-71DCA523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4E4-DB71-44DF-815E-19428D80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CF1-1281-4943-8CF7-540E9B90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731-425F-493B-82D1-691A821C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4676-835C-43B5-A0D3-EE94388223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7DC6-6852-47C8-BE75-7C1953FA11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16 (April 25</a:t>
            </a:r>
            <a:r>
              <a:rPr b="0" lang="en-US" sz="3800" spc="-1" strike="noStrike" baseline="30000">
                <a:solidFill>
                  <a:srgbClr val="330033"/>
                </a:solidFill>
                <a:latin typeface="Times New Roman"/>
              </a:rPr>
              <a:t>t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44520"/>
            <a:ext cx="402588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 part 2 &amp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 evalu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 due this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view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x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:30-8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 Mc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a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1-2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s 2-3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herty 43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ion of threaded “hello, world”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44800" y="1154880"/>
            <a:ext cx="1476000" cy="3975840"/>
            <a:chOff x="2944800" y="1154880"/>
            <a:chExt cx="1476000" cy="3975840"/>
          </a:xfrm>
        </p:grpSpPr>
        <p:sp>
          <p:nvSpPr>
            <p:cNvPr id="188" name=""/>
            <p:cNvSpPr/>
            <p:nvPr/>
          </p:nvSpPr>
          <p:spPr>
            <a:xfrm>
              <a:off x="2944800" y="115488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63720" y="171756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236600" y="303804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7400" y="468936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86280" y="1870200"/>
            <a:ext cx="6397920" cy="1098000"/>
            <a:chOff x="1286280" y="1870200"/>
            <a:chExt cx="6397920" cy="1098000"/>
          </a:xfrm>
        </p:grpSpPr>
        <p:sp>
          <p:nvSpPr>
            <p:cNvPr id="193" name=""/>
            <p:cNvSpPr/>
            <p:nvPr/>
          </p:nvSpPr>
          <p:spPr>
            <a:xfrm>
              <a:off x="6260040" y="23101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4360" y="2089080"/>
              <a:ext cx="3257280" cy="8791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6280" y="187020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566360" y="26319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73160" y="3578400"/>
            <a:ext cx="5838480" cy="870120"/>
            <a:chOff x="1073160" y="3578400"/>
            <a:chExt cx="5838480" cy="870120"/>
          </a:xfrm>
        </p:grpSpPr>
        <p:sp>
          <p:nvSpPr>
            <p:cNvPr id="198" name=""/>
            <p:cNvSpPr/>
            <p:nvPr/>
          </p:nvSpPr>
          <p:spPr>
            <a:xfrm flipH="1">
              <a:off x="3701880" y="357840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73160" y="40802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968520" y="2907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202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17640" y="2174760"/>
            <a:ext cx="5994000" cy="1403280"/>
            <a:chOff x="917640" y="2174760"/>
            <a:chExt cx="5994000" cy="1403280"/>
          </a:xfrm>
        </p:grpSpPr>
        <p:sp>
          <p:nvSpPr>
            <p:cNvPr id="205" name=""/>
            <p:cNvSpPr/>
            <p:nvPr/>
          </p:nvSpPr>
          <p:spPr>
            <a:xfrm>
              <a:off x="6911640" y="296856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7640" y="217476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based concurrent echo serv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5320" y="9907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73240" y="47149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5345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based concurrent server 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066680"/>
            <a:ext cx="7924680" cy="33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cho_r(connfd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/* thread-safe version of echo(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143160" y="1949400"/>
            <a:ext cx="3305160" cy="642600"/>
            <a:chOff x="3143160" y="1949400"/>
            <a:chExt cx="3305160" cy="642600"/>
          </a:xfrm>
        </p:grpSpPr>
        <p:sp>
          <p:nvSpPr>
            <p:cNvPr id="213" name=""/>
            <p:cNvSpPr/>
            <p:nvPr/>
          </p:nvSpPr>
          <p:spPr>
            <a:xfrm flipH="1">
              <a:off x="3143160" y="230184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0200" y="19494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61120" y="493704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detach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commended in the proxy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1: detached threa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is eithe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jo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Jo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ead can be reaped or killed by other th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reaped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to free re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etach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can’t be reaped or killed by other th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 are automatically reaped on term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state is jo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detach(pthread_self()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make detac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7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should we use detached threa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thread_join(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locks the calling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2: avoid unintended shar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0320" y="228600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we pass the address of connfd to the thread routine as in the following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8077320" cy="916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3362400"/>
            <a:ext cx="807732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3: thread-sa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hare data structures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need to do this correct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shell la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b data stru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d between main process and signal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 multiple control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ynchronizing with semapho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phores are counters for resources shared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negative integer synchronization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erations: P(s) &amp; V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c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s)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while (s == 0) wait(); s--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(s)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s++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itial value of s =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 mutual exclusive 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haring with POSIX semapho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838080"/>
            <a:ext cx="4573440" cy="4699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28440" y="93348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280" y="590400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pthread_mutex for the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safety of library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unctions in the Standard C Library are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nix system calls are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few excep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29268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9880" y="228600"/>
            <a:ext cx="7340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unsafe functions: fix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ptr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Rewrite code so caller passes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: Requires changes in caller and call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14560" y="5015880"/>
            <a:ext cx="5057640" cy="610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hostbyname_r(name, hostp, 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8760" y="1571040"/>
            <a:ext cx="4158360" cy="19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oncurrent serv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e servers can only serve one clien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servers handle multiple request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by L7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6117840" cy="2939760"/>
            <a:chOff x="1523880" y="2666880"/>
            <a:chExt cx="6117840" cy="2939760"/>
          </a:xfrm>
        </p:grpSpPr>
        <p:sp>
          <p:nvSpPr>
            <p:cNvPr id="100" name=""/>
            <p:cNvSpPr/>
            <p:nvPr/>
          </p:nvSpPr>
          <p:spPr>
            <a:xfrm>
              <a:off x="1523880" y="270828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87400" y="26668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33240" y="370584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471168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87400" y="366444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87400" y="471168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2760" y="314748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922120" y="431964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931480" y="413640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5760" y="369720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9880" y="228600"/>
            <a:ext cx="7340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unsafe functions: fix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: Requires only simple changes in ca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caller must fre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38280" y="2348640"/>
            <a:ext cx="5362560" cy="30495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7 hints for part 2 &amp; part 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thread to handle each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fer to the code of the current echo serv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ot thread-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ata structure for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nchronize the operations on th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pthread_mutex (how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ing is a clean and efficient way to implement concurrent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synchronize multiple threads for concurrent accesses to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aphore is one way to do th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d-safety is the difficult part of thread program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A evaluation for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n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mments are highly appreci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e ways to create concurrent serv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k a child process for every incoming clien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share data among chil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hread to handle every incoming clien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focu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/O multiplexing with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otice pending socket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ly interleave the processing of multiple ope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implement your own app-specific thread pack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8560" y="2438280"/>
            <a:ext cx="821052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aditional view of a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= process context + code, data, &amp;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08040" y="263628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ternate view of a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= thread + code, data, &amp; kerne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1600" y="2362320"/>
            <a:ext cx="2230560" cy="3189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81600" y="2681280"/>
            <a:ext cx="2230560" cy="25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1600" y="2935440"/>
            <a:ext cx="2230560" cy="2887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54080" y="4002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81600" y="322416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9280" y="329220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182808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81600" y="354492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81600" y="3849840"/>
            <a:ext cx="2232000" cy="32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6880" y="2666880"/>
            <a:ext cx="2230200" cy="3193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7320" y="27871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7960" y="29718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63680" y="3516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36972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46760" y="2766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23040" y="293544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0400" y="18280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62320" y="449316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36232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 process with multiple threa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305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hreads can be associated with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shares the same code, data, and kerne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own thread ID (T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9920" y="3254400"/>
            <a:ext cx="1974600" cy="289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9920" y="3543480"/>
            <a:ext cx="1974600" cy="230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79920" y="3773520"/>
            <a:ext cx="1974600" cy="262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7616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79920" y="4035600"/>
            <a:ext cx="1976400" cy="2901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7560" y="27932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79920" y="4325760"/>
            <a:ext cx="1976400" cy="2905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460044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57400" y="2980440"/>
            <a:ext cx="2085840" cy="2718360"/>
            <a:chOff x="1157400" y="2980440"/>
            <a:chExt cx="2085840" cy="2718360"/>
          </a:xfrm>
        </p:grpSpPr>
        <p:sp>
          <p:nvSpPr>
            <p:cNvPr id="165" name=""/>
            <p:cNvSpPr/>
            <p:nvPr/>
          </p:nvSpPr>
          <p:spPr>
            <a:xfrm>
              <a:off x="1157400" y="435708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73320" y="385416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9400" y="298044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681360" y="51058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66520" y="2980440"/>
            <a:ext cx="2085840" cy="2718360"/>
            <a:chOff x="6266520" y="2980440"/>
            <a:chExt cx="2085840" cy="2718360"/>
          </a:xfrm>
        </p:grpSpPr>
        <p:sp>
          <p:nvSpPr>
            <p:cNvPr id="170" name=""/>
            <p:cNvSpPr/>
            <p:nvPr/>
          </p:nvSpPr>
          <p:spPr>
            <a:xfrm>
              <a:off x="6266520" y="435708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40320" y="385416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55160" y="298044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s vs.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34560"/>
            <a:ext cx="81532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reads and processes are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its own logical control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n run concurr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s context swit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0">
              <a:spcBef>
                <a:spcPts val="4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reads and processes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share code and data, processes (typically)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are less expensive than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 control (creating and reaping) is twice as expensive as thread contro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ux/Pentium III numbe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K cycles to create and reap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0K cycles to create and reap a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628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ix threads (pthreads) interfa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520" y="914040"/>
            <a:ext cx="826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and reaping threa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det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ing your thread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ating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an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ex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rminates all thread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rminates current threa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ing access to shared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mutex_[un]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ond_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ond_[timed]w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pthreads "hello, world"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4-25T13:21:01Z</dcterms:modified>
  <cp:revision>1069</cp:revision>
  <dc:subject/>
  <dc:title>Recitation 5</dc:title>
</cp:coreProperties>
</file>