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6776-055B-4A43-8D86-97FBBFC61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F8E3-BFE4-48DF-9B8C-6F4DBD98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D77F-E383-4275-B522-BE854439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824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068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7AAD-277C-4510-8BFF-BE8FBD28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326E-451B-41F8-80E2-CBB6C4C6A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5CBA-AC06-4D6C-8D6F-23DC34C0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BD81-6A60-4AD3-9523-B082B141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BA27-4FDD-4FE5-A241-B4DC4916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FCBC-2EF4-43C1-AAC7-7F795AA8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136E-2AF5-4C45-9CA0-17CCBD91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D16B-1C3F-4F3E-A52F-75041CD3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2708-AD74-4519-A8CF-9B058D9E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363C-00D8-46C3-ADB1-BA1EBD20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0DF2-2BB1-488A-914C-D799D236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C4FD-6415-4B0A-87EC-1D15F8C4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6B8E-2901-4A66-89DD-9E31E659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6824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5068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2EC5-E26A-4B5F-8B1F-B5E5D944B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F5C2-AC34-45DF-B54D-F9C7B09C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990B-867D-4A31-B0C1-48DFDB4F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57F9-222E-45D8-993D-0EF8A822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90B6-320D-40E5-87EB-0F898794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1121-DE8B-40CC-B011-86BB2AA1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CF9B-2E27-4B75-87BC-3D666FC8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3047-A6EA-4BF6-987D-4643DC40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4197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857160"/>
            <a:ext cx="8583840" cy="0"/>
          </a:xfrm>
          <a:prstGeom prst="line">
            <a:avLst/>
          </a:prstGeom>
          <a:ln w="190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A3BC-ABA7-4998-AD55-EB21681329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44197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9121-C814-49BE-8DA9-D550C8B86F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citation 15 (April 18</a:t>
            </a:r>
            <a:r>
              <a:rPr b="0" lang="en-US" sz="3800" spc="-1" strike="noStrike" baseline="30000">
                <a:solidFill>
                  <a:srgbClr val="330033"/>
                </a:solidFill>
                <a:latin typeface="Times New Roman"/>
              </a:rPr>
              <a:t>th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244160"/>
            <a:ext cx="40258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ke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emi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e next Thurs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74760" y="1368360"/>
            <a:ext cx="404028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un G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gao@cs.cmu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 hou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dnesdays 1-2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rsdays 2-3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herty 430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1371600"/>
            <a:ext cx="0" cy="44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cho server: </a:t>
            </a:r>
            <a:r>
              <a:rPr b="1" lang="en-US" sz="3800" spc="-1" strike="noStrike">
                <a:solidFill>
                  <a:srgbClr val="330033"/>
                </a:solidFill>
                <a:latin typeface="Courier New"/>
              </a:rPr>
              <a:t>open_listenfd</a:t>
            </a:r>
            <a:r>
              <a:rPr b="0" lang="en-US" sz="3800" spc="-1" strike="noStrike">
                <a:solidFill>
                  <a:srgbClr val="330033"/>
                </a:solidFill>
                <a:latin typeface="Courier New"/>
              </a:rPr>
              <a:t>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(cont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80120" y="1066680"/>
            <a:ext cx="7861680" cy="4474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Listenfd will be an endpoint for all requests to 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n any IP address for this host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zero((char *) &amp;serveraddr, sizeof(serveraddr)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family = AF_INET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addr.s_addr = htonl(INADDR_ANY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port = htons((unsigned short)port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bind(listenfd,(SA *)&amp;serveraddr,sizeof(serveraddr))&lt;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Make it a listening socket ready to accep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ection requests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listen(listenfd, LISTENQ) &lt; 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istenf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76240" y="1523880"/>
            <a:ext cx="7572600" cy="2105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66880" y="3724200"/>
            <a:ext cx="7572240" cy="1162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1920" y="236520"/>
            <a:ext cx="65466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cho server: </a:t>
            </a:r>
            <a:r>
              <a:rPr b="1" lang="en-US" sz="3800" spc="-1" strike="noStrike">
                <a:solidFill>
                  <a:srgbClr val="330033"/>
                </a:solidFill>
                <a:latin typeface="Courier New"/>
              </a:rPr>
              <a:t>ech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1066680"/>
            <a:ext cx="7277400" cy="3014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echo(int connfd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ze_t n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buf[MAXLINE]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t rio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readinitb(&amp;rio, connfd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(n = Rio_readlineb(&amp;rio, buf, MAXLINE)) != 0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server received %d bytes\n", n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writen(connfd, buf, n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rox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41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x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 intermediary between a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cl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rea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the client, the proxy acts like a serv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the server, the proxy acts like a cli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066680" y="3330720"/>
            <a:ext cx="7299000" cy="1231560"/>
            <a:chOff x="1066680" y="3330720"/>
            <a:chExt cx="7299000" cy="1231560"/>
          </a:xfrm>
        </p:grpSpPr>
        <p:sp>
          <p:nvSpPr>
            <p:cNvPr id="194" name=""/>
            <p:cNvSpPr/>
            <p:nvPr/>
          </p:nvSpPr>
          <p:spPr>
            <a:xfrm>
              <a:off x="1066680" y="3387600"/>
              <a:ext cx="1718640" cy="117468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ch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2691720" y="3656520"/>
              <a:ext cx="4125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03920" y="3330720"/>
              <a:ext cx="1661760" cy="123156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ch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2673000" y="4293360"/>
              <a:ext cx="4114800" cy="11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34560" bIns="-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747960" y="3340080"/>
            <a:ext cx="1662120" cy="12319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Change </a:t>
            </a:r>
            <a:r>
              <a:rPr b="1" lang="en-US" sz="3400" spc="-1" strike="noStrike">
                <a:solidFill>
                  <a:srgbClr val="330033"/>
                </a:solidFill>
                <a:latin typeface="Courier New"/>
              </a:rPr>
              <a:t>”echo”</a:t>
            </a: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 procedure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229600" cy="5715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echo_forward(int connfd, char *server, int server_por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forwardf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t rio_conn, rio_forwar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size_t n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buf[MAXLINE]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onnect to the server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wardfd = Open_clientfd(server, server_por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readinitb(&amp;rio_forward, forwardf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readinitb(&amp;rio_conn, connf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n = Rio_readlineb(&amp;rio_conn, buf, MAXLINE)) =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writen(forwardfd, buf, 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n = Rio_readlineb(&amp;rio_forward, buf, MAXLINE)) =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writen(connfd, buf, 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forwardf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19320" y="2666880"/>
            <a:ext cx="7315200" cy="838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19320" y="4172040"/>
            <a:ext cx="7315200" cy="857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5097600"/>
            <a:ext cx="7315200" cy="838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hange </a:t>
            </a:r>
            <a:r>
              <a:rPr b="1" lang="en-US" sz="3800" spc="-1" strike="noStrike">
                <a:solidFill>
                  <a:srgbClr val="330033"/>
                </a:solidFill>
                <a:latin typeface="Courier New"/>
              </a:rPr>
              <a:t>mai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8076960" cy="5715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 **argv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listenfd, connfd, port, clientlen, server_por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*h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*haddrp, *serv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= atoi(argv[1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erver = argv[2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erver_port = atoi(argv[3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 = Open_listenfd(por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len = sizeof(clientadd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 = Accept(listenfd, (SA *)&amp;clientaddr, &amp;clientle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echo_forward(connfd, server, server_por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connf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L7 proxy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9745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request and response (HTT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urrency (next recit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-by-ste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 sequential web proxy fir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066680" y="3260880"/>
            <a:ext cx="7321320" cy="1234440"/>
            <a:chOff x="1066680" y="3260880"/>
            <a:chExt cx="7321320" cy="1234440"/>
          </a:xfrm>
        </p:grpSpPr>
        <p:sp>
          <p:nvSpPr>
            <p:cNvPr id="209" name=""/>
            <p:cNvSpPr/>
            <p:nvPr/>
          </p:nvSpPr>
          <p:spPr>
            <a:xfrm>
              <a:off x="1066680" y="3317760"/>
              <a:ext cx="1724040" cy="117720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2697120" y="3587760"/>
              <a:ext cx="41385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21200" y="3260880"/>
              <a:ext cx="1666800" cy="123444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2677680" y="4225680"/>
              <a:ext cx="4127400" cy="11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34560" bIns="-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886200" y="3270240"/>
            <a:ext cx="1666800" cy="123516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04840" y="4822920"/>
            <a:ext cx="1724040" cy="11779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719440" y="5095800"/>
            <a:ext cx="4138560" cy="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91400" y="4775040"/>
            <a:ext cx="1666800" cy="123516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2742840" y="5695560"/>
            <a:ext cx="4127400" cy="11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4560" bIns="-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4784760"/>
            <a:ext cx="1666800" cy="123516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HTTP request and respons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ample of HTTP request and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details in Tuesday’s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HTTP request and respons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kgao@bass.cmcl ~]telnet www.cs.cmu.edu 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ying 128.2.203.179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ected to SUPERMAN.WEB.cmu.ed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scape character is '^]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 / HTTP/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: www.cs.cmu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TTP/1.1 200 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e: Mon, 29 Nov 2004 00:29:22 G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Apache/1.3.31 (Unix) PHP/4.3.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ansfer-Encoding: chunk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ent-Type: text/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&lt;title&gt; SCHOOL OF COMPUTER SCIENCE/Carnegie Mellon University &lt;/titl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 . . 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04880" y="1981080"/>
            <a:ext cx="8134200" cy="619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1640" y="2666880"/>
            <a:ext cx="8137440" cy="3429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51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HTTP reques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71440" y="1433520"/>
            <a:ext cx="7296120" cy="838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52720" y="914400"/>
            <a:ext cx="52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imes New Roman"/>
              </a:rPr>
              <a:t>Request line: &lt;method&gt; &lt;uri&gt; &lt;vers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57520" y="2438280"/>
            <a:ext cx="50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imes New Roman"/>
              </a:rPr>
              <a:t>Request headers: &lt;header name&gt;: &lt;header dat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962440" y="1204920"/>
            <a:ext cx="9237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2514240" y="1955880"/>
            <a:ext cx="1066680" cy="69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1352520" y="2161800"/>
            <a:ext cx="1085760" cy="94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06600" y="2871720"/>
            <a:ext cx="56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imes New Roman"/>
              </a:rPr>
              <a:t>‘</a:t>
            </a:r>
            <a:r>
              <a:rPr b="1" lang="en-US" sz="1800" spc="-1" strike="noStrike">
                <a:solidFill>
                  <a:srgbClr val="330033"/>
                </a:solidFill>
                <a:latin typeface="Times New Roman"/>
              </a:rPr>
              <a:t>\r\n’ to mark the end of the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43080" y="1487520"/>
            <a:ext cx="6605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 / HTTP/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: www.cs.cmu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28120" y="3429000"/>
            <a:ext cx="8593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url&gt;: Uniform Resource Lo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.g. http://hostname:8080/path/to/the/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uri&gt;: Uniform Resource Identifier: suffix of u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.g. /path/to/the/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URL is used if sending request to pro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85960" y="2090880"/>
            <a:ext cx="81532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TTP/1.1 200 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e: Mon, 29 Nov 2004 00:29:22 G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Apache/1.3.31 (Unix) PHP/4.3.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ansfer-Encoding: chunk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ent-Type: text/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&lt;title&gt; SCHOOL OF COMPUTER SCIENCE/Carnegie Mellon University &lt;/titl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 . . 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HTTP respons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1967040"/>
            <a:ext cx="8229600" cy="3429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28880" y="914400"/>
            <a:ext cx="67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imes New Roman"/>
              </a:rPr>
              <a:t>Response line: &lt;version&gt; &lt;status code&gt; &lt;status ms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1914120" y="1357200"/>
            <a:ext cx="14292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33800" y="1523880"/>
            <a:ext cx="56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imes New Roman"/>
              </a:rPr>
              <a:t>Response headers: &lt;header name&gt;: &lt;header dat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076280" y="1881360"/>
            <a:ext cx="638280" cy="47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52840" y="3233880"/>
            <a:ext cx="8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imes New Roman"/>
              </a:rPr>
              <a:t>‘</a:t>
            </a:r>
            <a:r>
              <a:rPr b="1" lang="en-US" sz="1800" spc="-1" strike="noStrike">
                <a:solidFill>
                  <a:srgbClr val="330033"/>
                </a:solidFill>
                <a:latin typeface="Times New Roman"/>
              </a:rPr>
              <a:t>\r\n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14400" y="34624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486400" y="46054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imes New Roman"/>
              </a:rPr>
              <a:t>Response  body: Web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3583080"/>
            <a:ext cx="8077320" cy="1600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tending echo server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p the echo client and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 the echo server to build an echo pro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Web proxy in Lab 7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968480"/>
            <a:ext cx="1724040" cy="11779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188120" y="1969920"/>
            <a:ext cx="1727280" cy="11797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87720" y="1969920"/>
            <a:ext cx="1727280" cy="11797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2280" y="1066680"/>
            <a:ext cx="7038720" cy="767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GET http://www.cmu.edu:80/index.html HTTP/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&lt;other inform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"/>
          <p:cNvCxnSpPr>
            <a:stCxn id="247" idx="7"/>
            <a:endCxn id="249" idx="1"/>
          </p:cNvCxnSpPr>
          <p:nvPr/>
        </p:nvCxnSpPr>
        <p:spPr>
          <a:xfrm>
            <a:off x="2157120" y="2141640"/>
            <a:ext cx="2083320" cy="2160"/>
          </a:xfrm>
          <a:prstGeom prst="straightConnector1">
            <a:avLst/>
          </a:prstGeom>
          <a:ln w="255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9" idx="7"/>
            <a:endCxn id="248" idx="1"/>
          </p:cNvCxnSpPr>
          <p:nvPr/>
        </p:nvCxnSpPr>
        <p:spPr>
          <a:xfrm>
            <a:off x="5462640" y="2142720"/>
            <a:ext cx="1978560" cy="1080"/>
          </a:xfrm>
          <a:prstGeom prst="straightConnector1">
            <a:avLst/>
          </a:prstGeom>
          <a:ln w="2556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48" idx="3"/>
            <a:endCxn id="249" idx="5"/>
          </p:cNvCxnSpPr>
          <p:nvPr/>
        </p:nvCxnSpPr>
        <p:spPr>
          <a:xfrm flipH="1">
            <a:off x="5462280" y="2976120"/>
            <a:ext cx="1978560" cy="1080"/>
          </a:xfrm>
          <a:prstGeom prst="straightConnector1">
            <a:avLst/>
          </a:prstGeom>
          <a:ln w="25560">
            <a:solidFill>
              <a:srgbClr val="9933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49" idx="3"/>
            <a:endCxn id="247" idx="5"/>
          </p:cNvCxnSpPr>
          <p:nvPr/>
        </p:nvCxnSpPr>
        <p:spPr>
          <a:xfrm flipH="1" flipV="1">
            <a:off x="2156760" y="2972520"/>
            <a:ext cx="2083320" cy="3960"/>
          </a:xfrm>
          <a:prstGeom prst="straightConnector1">
            <a:avLst/>
          </a:prstGeom>
          <a:ln w="25560">
            <a:solidFill>
              <a:srgbClr val="993300"/>
            </a:solidFill>
            <a:miter/>
            <a:tailEnd len="med" type="triangle" w="med"/>
          </a:ln>
        </p:spPr>
      </p:cxnSp>
      <p:sp>
        <p:nvSpPr>
          <p:cNvPr id="255" name=""/>
          <p:cNvSpPr/>
          <p:nvPr/>
        </p:nvSpPr>
        <p:spPr>
          <a:xfrm>
            <a:off x="2971800" y="1886040"/>
            <a:ext cx="152280" cy="23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14400" y="3254400"/>
            <a:ext cx="7696080" cy="2545200"/>
          </a:xfrm>
          <a:prstGeom prst="rect">
            <a:avLst/>
          </a:prstGeom>
          <a:noFill/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Connects to the target web server, sends request looking like th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Courier New"/>
              </a:rPr>
              <a:t>GET /index.html HTTP/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Courier New"/>
              </a:rPr>
              <a:t>&lt;other information in the original requ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Lab 7 things to-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parse HTTP request (1st line): extract hostname &amp; port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port is not necessarily specified in the request if the default number is used (8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943600" y="219672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14400" y="5873760"/>
            <a:ext cx="7696080" cy="82548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The web proxy simply forwards the response from the server to the 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Broken pipe error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riting to a socket whose connection has been closed prematurely at the other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 click “stop” on web brow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first write, return norm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ubsequent wr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d SIGPIPE signal, which terminates process by defa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SIGPIPE is blocked or caught, return -1 &amp; set EPIP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on’t want to terminate the web pro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this error gracefully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How to deal with broken pipe?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 or ignore SIGPIPE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gnal(SIGPIPE, SIG_IG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ore EPIPE error in Rio wrappers in csapp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of how we handle broken pipe in echo pro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server main(), we block SIGPIPE sig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csapp.c, we ignore EPIPE error in Rio wrapp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ome other hint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./port_for_user.pl &lt;your andrew i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nitial debu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telnet; use lots of print stat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with real Internet browser: set proxy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RIO package for all I/O on so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lot of helper functions and wrappers in csapp.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0480" y="264960"/>
            <a:ext cx="715824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n echo client-server transactio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600200"/>
            <a:ext cx="2154240" cy="14716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11760" y="1598760"/>
            <a:ext cx="2157480" cy="14713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44440" y="1418400"/>
            <a:ext cx="354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. Client sends an input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66640" y="2925000"/>
            <a:ext cx="48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 Server sends the same text as it rece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240" y="2972520"/>
            <a:ext cx="182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3. Cli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splays the text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t rece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100" idx="7"/>
            <a:endCxn id="101" idx="1"/>
          </p:cNvCxnSpPr>
          <p:nvPr/>
        </p:nvCxnSpPr>
        <p:spPr>
          <a:xfrm flipV="1">
            <a:off x="2676240" y="1813680"/>
            <a:ext cx="4251960" cy="252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6" name=""/>
          <p:cNvCxnSpPr>
            <a:stCxn id="101" idx="3"/>
            <a:endCxn id="100" idx="5"/>
          </p:cNvCxnSpPr>
          <p:nvPr/>
        </p:nvCxnSpPr>
        <p:spPr>
          <a:xfrm flipH="1">
            <a:off x="2675880" y="2854440"/>
            <a:ext cx="4251960" cy="216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5310360" y="4835520"/>
            <a:ext cx="1347480" cy="1238400"/>
            <a:chOff x="5310360" y="4835520"/>
            <a:chExt cx="1347480" cy="1238400"/>
          </a:xfrm>
        </p:grpSpPr>
        <p:sp>
          <p:nvSpPr>
            <p:cNvPr id="108" name=""/>
            <p:cNvSpPr/>
            <p:nvPr/>
          </p:nvSpPr>
          <p:spPr>
            <a:xfrm>
              <a:off x="6019920" y="48355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5310360" y="5119560"/>
              <a:ext cx="1347480" cy="954360"/>
              <a:chOff x="5310360" y="5119560"/>
              <a:chExt cx="1347480" cy="954360"/>
            </a:xfrm>
          </p:grpSpPr>
          <p:sp>
            <p:nvSpPr>
              <p:cNvPr id="110" name=""/>
              <p:cNvSpPr/>
              <p:nvPr/>
            </p:nvSpPr>
            <p:spPr>
              <a:xfrm>
                <a:off x="6019920" y="5454720"/>
                <a:ext cx="0" cy="27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310360" y="5119560"/>
                <a:ext cx="1347480" cy="34308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rio_readline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310360" y="5729400"/>
                <a:ext cx="1347480" cy="3445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clo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2685960" y="4835520"/>
            <a:ext cx="2624400" cy="628560"/>
            <a:chOff x="2685960" y="4835520"/>
            <a:chExt cx="2624400" cy="628560"/>
          </a:xfrm>
        </p:grpSpPr>
        <p:sp>
          <p:nvSpPr>
            <p:cNvPr id="114" name=""/>
            <p:cNvSpPr/>
            <p:nvPr/>
          </p:nvSpPr>
          <p:spPr>
            <a:xfrm>
              <a:off x="3395520" y="48355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32440" y="5302080"/>
              <a:ext cx="11779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85960" y="5121360"/>
              <a:ext cx="1419480" cy="3427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l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41680" y="49932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O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685960" y="3597120"/>
            <a:ext cx="3971880" cy="1257480"/>
            <a:chOff x="2685960" y="3597120"/>
            <a:chExt cx="3971880" cy="1257480"/>
          </a:xfrm>
        </p:grpSpPr>
        <p:sp>
          <p:nvSpPr>
            <p:cNvPr id="119" name=""/>
            <p:cNvSpPr/>
            <p:nvPr/>
          </p:nvSpPr>
          <p:spPr>
            <a:xfrm>
              <a:off x="3395520" y="35971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95520" y="42163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19920" y="35971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19920" y="42163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05440" y="4064040"/>
              <a:ext cx="12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4105080" y="4683240"/>
              <a:ext cx="12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10360" y="3902040"/>
              <a:ext cx="1347480" cy="3430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readline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10360" y="4510080"/>
              <a:ext cx="1347480" cy="344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writ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85960" y="4510080"/>
              <a:ext cx="1419480" cy="344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readline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85960" y="3902040"/>
              <a:ext cx="1419480" cy="3430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writ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310360" y="2378160"/>
            <a:ext cx="1347480" cy="619200"/>
            <a:chOff x="5310360" y="2378160"/>
            <a:chExt cx="1347480" cy="619200"/>
          </a:xfrm>
        </p:grpSpPr>
        <p:sp>
          <p:nvSpPr>
            <p:cNvPr id="130" name=""/>
            <p:cNvSpPr/>
            <p:nvPr/>
          </p:nvSpPr>
          <p:spPr>
            <a:xfrm>
              <a:off x="6019920" y="2378160"/>
              <a:ext cx="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10360" y="2652840"/>
              <a:ext cx="1347480" cy="344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310360" y="1768320"/>
            <a:ext cx="1347480" cy="619200"/>
            <a:chOff x="5310360" y="1768320"/>
            <a:chExt cx="1347480" cy="619200"/>
          </a:xfrm>
        </p:grpSpPr>
        <p:sp>
          <p:nvSpPr>
            <p:cNvPr id="133" name=""/>
            <p:cNvSpPr/>
            <p:nvPr/>
          </p:nvSpPr>
          <p:spPr>
            <a:xfrm>
              <a:off x="6019920" y="1768320"/>
              <a:ext cx="0" cy="27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10360" y="2044800"/>
              <a:ext cx="1347480" cy="3427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bi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view of the sockets interfac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17520" y="10220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37240" y="103644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85960" y="1434960"/>
            <a:ext cx="14194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10360" y="1434960"/>
            <a:ext cx="13474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310360" y="3006720"/>
            <a:ext cx="1347480" cy="630360"/>
            <a:chOff x="5310360" y="3006720"/>
            <a:chExt cx="1347480" cy="630360"/>
          </a:xfrm>
        </p:grpSpPr>
        <p:sp>
          <p:nvSpPr>
            <p:cNvPr id="141" name=""/>
            <p:cNvSpPr/>
            <p:nvPr/>
          </p:nvSpPr>
          <p:spPr>
            <a:xfrm>
              <a:off x="6019920" y="30067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10360" y="3292560"/>
              <a:ext cx="1347480" cy="344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cce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685960" y="1776240"/>
            <a:ext cx="1419480" cy="1860840"/>
            <a:chOff x="2685960" y="1776240"/>
            <a:chExt cx="1419480" cy="1860840"/>
          </a:xfrm>
        </p:grpSpPr>
        <p:sp>
          <p:nvSpPr>
            <p:cNvPr id="144" name=""/>
            <p:cNvSpPr/>
            <p:nvPr/>
          </p:nvSpPr>
          <p:spPr>
            <a:xfrm>
              <a:off x="3395520" y="1776240"/>
              <a:ext cx="0" cy="151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85960" y="3292560"/>
              <a:ext cx="1419480" cy="344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onne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000680" y="2865600"/>
            <a:ext cx="1309680" cy="580680"/>
            <a:chOff x="4000680" y="2865600"/>
            <a:chExt cx="1309680" cy="580680"/>
          </a:xfrm>
        </p:grpSpPr>
        <p:sp>
          <p:nvSpPr>
            <p:cNvPr id="147" name=""/>
            <p:cNvSpPr/>
            <p:nvPr/>
          </p:nvSpPr>
          <p:spPr>
            <a:xfrm>
              <a:off x="4094280" y="3444840"/>
              <a:ext cx="1216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00680" y="2865600"/>
              <a:ext cx="1293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ne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657840" y="3444480"/>
            <a:ext cx="2320920" cy="2476800"/>
            <a:chOff x="6657840" y="3444480"/>
            <a:chExt cx="2320920" cy="2476800"/>
          </a:xfrm>
        </p:grpSpPr>
        <p:sp>
          <p:nvSpPr>
            <p:cNvPr id="150" name=""/>
            <p:cNvSpPr/>
            <p:nvPr/>
          </p:nvSpPr>
          <p:spPr>
            <a:xfrm>
              <a:off x="6657840" y="5921280"/>
              <a:ext cx="42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083360" y="3444480"/>
              <a:ext cx="0" cy="247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657840" y="3444840"/>
              <a:ext cx="42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23320" y="4106160"/>
              <a:ext cx="1855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wait conne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quest fr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xt cli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799320" y="1450800"/>
            <a:ext cx="142920" cy="1581480"/>
          </a:xfrm>
          <a:custGeom>
            <a:avLst/>
            <a:gdLst>
              <a:gd name="textAreaLeft" fmla="*/ 0 w 142920"/>
              <a:gd name="textAreaRight" fmla="*/ 51480 w 142920"/>
              <a:gd name="textAreaTop" fmla="*/ 41040 h 1581480"/>
              <a:gd name="textAreaBottom" fmla="*/ 1540440 h 15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83920" y="205380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n_listenf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03360" y="1450800"/>
            <a:ext cx="141480" cy="2200320"/>
          </a:xfrm>
          <a:custGeom>
            <a:avLst/>
            <a:gdLst>
              <a:gd name="textAreaLeft" fmla="*/ 90360 w 141480"/>
              <a:gd name="textAreaRight" fmla="*/ 141840 w 141480"/>
              <a:gd name="textAreaTop" fmla="*/ 57240 h 2200320"/>
              <a:gd name="textAreaBottom" fmla="*/ 2143080 h 220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3160" y="237780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n_clientf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249120"/>
            <a:ext cx="4653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Key data structur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usr/include/netinet/in.h /usr/include/bits/socket.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cast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ockaddr_in 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o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ockaddr 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n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i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43040" y="1963800"/>
            <a:ext cx="8305560" cy="3660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* generic socket addres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ruc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ckadd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unsigned shor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_family;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* protocol family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ha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_data[14]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* address data */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* internet specific socket addres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ruc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ckaddr_in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unsigned shor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n_family;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* address family: AF_INET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unsigned shor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n_por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* port number (big-endian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ruc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_addr sin_addr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* IP address (big-endian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unsigned cha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n_zero[8];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* padding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6496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cho client main routin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63480" y="938160"/>
            <a:ext cx="6154920" cy="569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"csapp.h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usage: ./echoclient host port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 **arg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lientfd, por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*host, buf[MAXLINE]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t rio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 = argv[1]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= atoi(argv[2]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fd =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Open_clientf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host, por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readinitb(&amp;rio, clientfd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Fgets(buf, MAXLINE, stdin) != NULL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writen(clientfd, buf, strlen(buf)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readlineb(&amp;rio, buf, MAXLINE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puts(buf, stdout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clientfd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66800" y="3071880"/>
            <a:ext cx="5981760" cy="714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66800" y="3862440"/>
            <a:ext cx="5981760" cy="404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66800" y="4343400"/>
            <a:ext cx="5981760" cy="1519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57440" y="5862600"/>
            <a:ext cx="5981760" cy="295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53452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cho client: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330033"/>
                </a:solidFill>
                <a:latin typeface="Courier New"/>
              </a:rPr>
              <a:t>open_clientfd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3560" y="914400"/>
            <a:ext cx="8178840" cy="569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open_clientfd(char *hostname, int por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lientf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*h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serveradd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clientfd = socket(AF_INET, SOCK_STREAM, 0)) &lt; 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/* check errno for cause of error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Fill in the server's IP address and port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hp = gethostbyname(hostname)) == NUL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2; /* check h_errno for cause of error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zero((char *) &amp;serveraddr, sizeof(serveraddr)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family = AF_INE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copy((char *)hp-&gt;h_addr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char *)&amp;serveraddr.sin_addr.s_addr, hp-&gt;h_length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port = htons(port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Establish a connection with the server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connect(clientfd, (SA *)&amp;serveraddr, sizeof(serveraddr))&lt;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clientf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76840" y="1219320"/>
            <a:ext cx="3276720" cy="8240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function opens a connection from the client to the server a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hostname: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05040" y="2314440"/>
            <a:ext cx="7858080" cy="714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05040" y="3105000"/>
            <a:ext cx="7858080" cy="2057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5343480"/>
            <a:ext cx="7896240" cy="762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cho server: main routin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5720" y="990720"/>
            <a:ext cx="8349480" cy="5204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 **argv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listenfd, connfd, port, clientle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*h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*haddr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= atoi(argv[1]); /* the server listens on a port pass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n the command lin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 = open_listenfd(port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len = sizeof(clientaddr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 = Accept(listenfd, (SA *)&amp;clientaddr, &amp;clientle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p = Gethostbyaddr((const char *)&amp;clientaddr.sin_addr.s_add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zeof(clientaddr.sin_addr.s_addr), AF_INE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ddrp = inet_ntoa(clientaddr.sin_add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server connected to %s (%s)\n", hp-&gt;h_name, haddrp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cho(connf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connf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5040" y="2467080"/>
            <a:ext cx="8048520" cy="504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05040" y="2971800"/>
            <a:ext cx="8048520" cy="343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05040" y="3695760"/>
            <a:ext cx="8048520" cy="514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5040" y="4210200"/>
            <a:ext cx="8048520" cy="1000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05040" y="5210280"/>
            <a:ext cx="8048520" cy="247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5040" y="5457960"/>
            <a:ext cx="8048520" cy="247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cho server: </a:t>
            </a:r>
            <a:r>
              <a:rPr b="1" lang="en-US" sz="3800" spc="-1" strike="noStrike">
                <a:solidFill>
                  <a:srgbClr val="330033"/>
                </a:solidFill>
                <a:latin typeface="Courier New"/>
              </a:rPr>
              <a:t>open_listenfd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80120" y="1066680"/>
            <a:ext cx="7861680" cy="3744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open_listenfd(int port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listenfd, optval=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serveradd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reate a socket descriptor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listenfd = socket(AF_INET, SOCK_STREAM, 0)) &lt; 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Eliminates "Address already in use" error from bind.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tsockopt(listenfd, SOL_SOCKET, SO_REUSEADDR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const void *)&amp;optval , sizeof(int)) &lt; 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 (more)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95320" y="2311560"/>
            <a:ext cx="7572240" cy="771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95320" y="3197160"/>
            <a:ext cx="7572240" cy="1209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7:54:32Z</dcterms:created>
  <dc:creator>Minglong Shao</dc:creator>
  <dc:description/>
  <dc:language>en-US</dc:language>
  <cp:lastModifiedBy>Kun Gao</cp:lastModifiedBy>
  <dcterms:modified xsi:type="dcterms:W3CDTF">2005-04-18T13:48:45Z</dcterms:modified>
  <cp:revision>902</cp:revision>
  <dc:subject/>
  <dc:title>Recitation 5</dc:title>
</cp:coreProperties>
</file>