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20C4-52EE-4B25-A90C-D848FDCB9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CC3C-0F9D-4392-9934-48C95CA1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BB0-54D9-4E0A-8F1F-83991D78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FFB-46A6-4F2D-A0CA-A477B455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2E47-B1C7-4FEB-9A49-6CFF8298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E190-E70F-49CE-AE61-148D6227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BD55-3684-43E0-BCAD-6C995B1C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87EC-8EBE-4C96-BDA5-F24671E7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78A8-E032-463E-8E02-87112119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9478-108C-4366-B80E-905B7753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C400-1F1D-4C8D-A8A2-44C7C86F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ECD-66F5-446C-B31C-DA90496B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E1EA-B530-4E27-9D4C-56663897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409C-709D-46E5-9CE8-208DBB21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F196-48DD-4DE7-A548-05ACC800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2457-A90D-430C-A24E-36CC7B7F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AEBC-6A6B-49C9-A5A5-28E420C1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45F-DB35-4F3F-9399-C32BF8D0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097-F5D2-45B7-93C5-C5570D74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326-CC66-4369-858C-6EE338DE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F56-BA6B-4C77-9869-1E2789B9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A59-38FA-4090-AB44-71D6901B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3CD-2EBA-479D-8223-EFE350A1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C8B-4713-44DC-BB9C-C014D0A3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5428-6A74-4AE9-849E-C788576866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01AE-E480-41A2-A7CB-71F7EC31E0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itation 15 (April 18</a:t>
            </a:r>
            <a:r>
              <a:rPr b="0" lang="en-US" sz="3800" spc="-1" strike="noStrike" baseline="30000">
                <a:solidFill>
                  <a:srgbClr val="330033"/>
                </a:solidFill>
                <a:latin typeface="Times New Roman"/>
              </a:rPr>
              <a:t>th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244160"/>
            <a:ext cx="4025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ke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next Thur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476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gao@cs.cmu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hou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s 1-2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s 2-3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herty 4302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server: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open_listenfd</a:t>
            </a:r>
            <a:r>
              <a:rPr b="0" lang="en-US" sz="3800" spc="-1" strike="noStrike">
                <a:solidFill>
                  <a:srgbClr val="330033"/>
                </a:solidFill>
                <a:latin typeface="Courier New"/>
              </a:rPr>
              <a:t> 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(cont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0120" y="1066680"/>
            <a:ext cx="78616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bind(listenfd,(SA *)&amp;serveraddr,sizeof(serveraddr))&lt;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76240" y="1523880"/>
            <a:ext cx="7572600" cy="210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6880" y="3724200"/>
            <a:ext cx="7572240" cy="116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1920" y="236520"/>
            <a:ext cx="65466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server: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echo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066680"/>
            <a:ext cx="727740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x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n intermediary between 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cl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e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he client, the proxy acts like a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458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he server, the proxy acts like a cli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066680" y="3330720"/>
            <a:ext cx="7299000" cy="1231560"/>
            <a:chOff x="1066680" y="3330720"/>
            <a:chExt cx="7299000" cy="1231560"/>
          </a:xfrm>
        </p:grpSpPr>
        <p:sp>
          <p:nvSpPr>
            <p:cNvPr id="194" name=""/>
            <p:cNvSpPr/>
            <p:nvPr/>
          </p:nvSpPr>
          <p:spPr>
            <a:xfrm>
              <a:off x="1066680" y="3387600"/>
              <a:ext cx="1718640" cy="11746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2691720" y="3656520"/>
              <a:ext cx="4125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03920" y="3330720"/>
              <a:ext cx="1661760" cy="12315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2673000" y="4293360"/>
              <a:ext cx="4114800" cy="11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747960" y="3340080"/>
            <a:ext cx="1662120" cy="12319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hange </a:t>
            </a:r>
            <a:r>
              <a:rPr b="1" lang="en-US" sz="3400" spc="-1" strike="noStrike">
                <a:solidFill>
                  <a:srgbClr val="330033"/>
                </a:solidFill>
                <a:latin typeface="Courier New"/>
              </a:rPr>
              <a:t>”echo”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procedure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_forward(int connfd, char *server, int server_por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 forwardf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_conn, rio_forwar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ize_t 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LINE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onnect to the serve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wardfd = Open_clientfd(server, server_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_forward, forward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_conn, conn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 = Rio_readlineb(&amp;rio_conn, buf, MAXLINE)) =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forwardfd, buf, 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n = Rio_readlineb(&amp;rio_forward, buf, MAXLINE)) ==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forward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2666880"/>
            <a:ext cx="7315200" cy="838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172040"/>
            <a:ext cx="7315200" cy="857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5097600"/>
            <a:ext cx="731520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hange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mai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76960" cy="571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, port, clientlen, server_por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addrp, *serv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erver = argv[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erver_port = atoi(argv[3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echo_forward(connfd, server, server_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L7 proxy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974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equest and response (HTT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cy (next reci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-by-ste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 sequential web proxy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66680" y="3260880"/>
            <a:ext cx="7321320" cy="1234440"/>
            <a:chOff x="1066680" y="3260880"/>
            <a:chExt cx="7321320" cy="1234440"/>
          </a:xfrm>
        </p:grpSpPr>
        <p:sp>
          <p:nvSpPr>
            <p:cNvPr id="209" name=""/>
            <p:cNvSpPr/>
            <p:nvPr/>
          </p:nvSpPr>
          <p:spPr>
            <a:xfrm>
              <a:off x="1066680" y="3317760"/>
              <a:ext cx="1724040" cy="117720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2697120" y="3587760"/>
              <a:ext cx="4138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21200" y="3260880"/>
              <a:ext cx="1666800" cy="123444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2677680" y="4225680"/>
              <a:ext cx="4127400" cy="111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4560" bIns="-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886200" y="3270240"/>
            <a:ext cx="1666800" cy="123516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04840" y="4822920"/>
            <a:ext cx="1724040" cy="1177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719440" y="5095800"/>
            <a:ext cx="413856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91400" y="4775040"/>
            <a:ext cx="1666800" cy="12351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2742840" y="5695560"/>
            <a:ext cx="4127400" cy="11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4560" bIns="-34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4784760"/>
            <a:ext cx="1666800" cy="12351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TTP request and respon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of HTTP request and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etails in Tuesday’s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TTP request and respon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kgao@bass.cmcl ~]telnet www.cs.cmu.edu 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ing 128.2.203.179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ed to SUPERMAN.WEB.cmu.ed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 HTTP/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www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Mon, 29 Nov 2004 00:29:22 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Apache/1.3.31 (Unix) PHP/4.3.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ansfer-Encoding: chun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&lt;title&gt; SCHOOL OF COMPUTER SCIENCE/Carnegie Mellon University &lt;/titl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4880" y="1981080"/>
            <a:ext cx="813420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1640" y="2666880"/>
            <a:ext cx="813744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1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TTP reque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1440" y="1433520"/>
            <a:ext cx="729612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52720" y="91440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quest line: &lt;method&gt; &lt;uri&gt; &lt;version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57520" y="2438280"/>
            <a:ext cx="50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quest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962440" y="1204920"/>
            <a:ext cx="923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514240" y="1955880"/>
            <a:ext cx="1066680" cy="69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352520" y="2161800"/>
            <a:ext cx="1085760" cy="9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06600" y="287172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\r\n’ to mark the end of th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43080" y="1487520"/>
            <a:ext cx="6605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 HTTP/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www.cs.cmu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8120" y="3429000"/>
            <a:ext cx="8593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url&gt;: Uniform Resource Lo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.g. http://hostname:8080/path/to/the/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uri&gt;: Uniform Resource Identifier: suffix of u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.g. /path/to/the/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URL is used if sending request to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85960" y="2090880"/>
            <a:ext cx="8153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1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Mon, 29 Nov 2004 00:29:22 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Apache/1.3.31 (Unix) PHP/4.3.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ansfer-Encoding: chunk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&lt;title&gt; SCHOOL OF COMPUTER SCIENCE/Carnegie Mellon University &lt;/titl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TTP respon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967040"/>
            <a:ext cx="822960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28880" y="914400"/>
            <a:ext cx="67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sponse line: &lt;version&gt; &lt;status code&gt; &lt;status ms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914120" y="1357200"/>
            <a:ext cx="14292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3800" y="152388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sponse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076280" y="1881360"/>
            <a:ext cx="638280" cy="47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52840" y="323388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\r\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14400" y="34624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4605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Response  body: Web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3583080"/>
            <a:ext cx="8077320" cy="1600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tending echo server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p the echo client and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he echo server to build an echo 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eb proxy in Lab 7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68480"/>
            <a:ext cx="1724040" cy="11779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188120" y="1969920"/>
            <a:ext cx="1727280" cy="1179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87720" y="1969920"/>
            <a:ext cx="1727280" cy="11797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2280" y="1066680"/>
            <a:ext cx="7038720" cy="767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GET http://www.cmu.edu:80/index.html HTTP/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&lt;other inform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47" idx="7"/>
            <a:endCxn id="249" idx="1"/>
          </p:cNvCxnSpPr>
          <p:nvPr/>
        </p:nvCxnSpPr>
        <p:spPr>
          <a:xfrm>
            <a:off x="2157120" y="2141640"/>
            <a:ext cx="2083320" cy="2160"/>
          </a:xfrm>
          <a:prstGeom prst="straightConnector1">
            <a:avLst/>
          </a:prstGeom>
          <a:ln w="2556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9" idx="7"/>
            <a:endCxn id="248" idx="1"/>
          </p:cNvCxnSpPr>
          <p:nvPr/>
        </p:nvCxnSpPr>
        <p:spPr>
          <a:xfrm>
            <a:off x="5462640" y="2142720"/>
            <a:ext cx="1978560" cy="1080"/>
          </a:xfrm>
          <a:prstGeom prst="straightConnector1">
            <a:avLst/>
          </a:prstGeom>
          <a:ln w="2556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8" idx="3"/>
            <a:endCxn id="249" idx="5"/>
          </p:cNvCxnSpPr>
          <p:nvPr/>
        </p:nvCxnSpPr>
        <p:spPr>
          <a:xfrm flipH="1">
            <a:off x="5462280" y="2976120"/>
            <a:ext cx="1978560" cy="108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49" idx="3"/>
            <a:endCxn id="247" idx="5"/>
          </p:cNvCxnSpPr>
          <p:nvPr/>
        </p:nvCxnSpPr>
        <p:spPr>
          <a:xfrm flipH="1" flipV="1">
            <a:off x="2156760" y="2972520"/>
            <a:ext cx="2083320" cy="3960"/>
          </a:xfrm>
          <a:prstGeom prst="straightConnector1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2971800" y="1886040"/>
            <a:ext cx="152280" cy="23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3254400"/>
            <a:ext cx="7696080" cy="254520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Connects to the target web server, sends request looking like th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Courier New"/>
              </a:rPr>
              <a:t>GET /index.html HTTP/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Courier New"/>
              </a:rPr>
              <a:t>&lt;other information in the original requ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Lab 7 things to-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parse HTTP request (1st line): extract hostname &amp; por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port is not necessarily specified in the request if the default number is used (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943600" y="219672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14400" y="5873760"/>
            <a:ext cx="7696080" cy="8254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The web proxy simply forwards the response from the server to the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Broken pipe error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riting to a socket whose connection has been closed prematurely at the other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.g. click “stop” on web brows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first write, return norm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ubsequent wr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d SIGPIPE signal, which terminates process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IGPIPE is blocked or caught, return -1 &amp; set EPIP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on’t want to terminate the web 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his error gracefull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How to deal with broken pipe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or ignore SIGPIP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gnal(SIGPIPE, SIG_IG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 EPIPE error in Rio wrappers in csapp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how we handle broken pipe in echo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erver main(), we block SIGPIPE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csapp.c, we ignore EPIPE error in Rio wrapp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me other hi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/port_for_user.pl &lt;your andrew i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itial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telnet; use lots of print stat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with real Internet browser: set proxy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IO package for all I/O on s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lot of helper functions and wrappers in csapp.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90480" y="264960"/>
            <a:ext cx="71582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n echo client-server transac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600200"/>
            <a:ext cx="2154240" cy="1471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11760" y="1598760"/>
            <a:ext cx="2157480" cy="14713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44440" y="1418400"/>
            <a:ext cx="354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Client sends an inpu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6640" y="292500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. Server sends the same text as it rece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240" y="2972520"/>
            <a:ext cx="182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Cli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splays the text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 rece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0" idx="7"/>
            <a:endCxn id="101" idx="1"/>
          </p:cNvCxnSpPr>
          <p:nvPr/>
        </p:nvCxnSpPr>
        <p:spPr>
          <a:xfrm flipV="1">
            <a:off x="2676240" y="1813680"/>
            <a:ext cx="4251960" cy="25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6" name=""/>
          <p:cNvCxnSpPr>
            <a:stCxn id="101" idx="3"/>
            <a:endCxn id="100" idx="5"/>
          </p:cNvCxnSpPr>
          <p:nvPr/>
        </p:nvCxnSpPr>
        <p:spPr>
          <a:xfrm flipH="1">
            <a:off x="2675880" y="2854440"/>
            <a:ext cx="4251960" cy="21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310360" y="4835520"/>
            <a:ext cx="1347480" cy="1238400"/>
            <a:chOff x="5310360" y="4835520"/>
            <a:chExt cx="1347480" cy="1238400"/>
          </a:xfrm>
        </p:grpSpPr>
        <p:sp>
          <p:nvSpPr>
            <p:cNvPr id="108" name=""/>
            <p:cNvSpPr/>
            <p:nvPr/>
          </p:nvSpPr>
          <p:spPr>
            <a:xfrm>
              <a:off x="60199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5310360" y="5119560"/>
              <a:ext cx="1347480" cy="954360"/>
              <a:chOff x="5310360" y="5119560"/>
              <a:chExt cx="1347480" cy="954360"/>
            </a:xfrm>
          </p:grpSpPr>
          <p:sp>
            <p:nvSpPr>
              <p:cNvPr id="110" name=""/>
              <p:cNvSpPr/>
              <p:nvPr/>
            </p:nvSpPr>
            <p:spPr>
              <a:xfrm>
                <a:off x="6019920" y="5454720"/>
                <a:ext cx="0" cy="27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10360" y="5119560"/>
                <a:ext cx="1347480" cy="3430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rio_readline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10360" y="5729400"/>
                <a:ext cx="1347480" cy="344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2685960" y="4835520"/>
            <a:ext cx="2624400" cy="628560"/>
            <a:chOff x="2685960" y="4835520"/>
            <a:chExt cx="2624400" cy="628560"/>
          </a:xfrm>
        </p:grpSpPr>
        <p:sp>
          <p:nvSpPr>
            <p:cNvPr id="114" name=""/>
            <p:cNvSpPr/>
            <p:nvPr/>
          </p:nvSpPr>
          <p:spPr>
            <a:xfrm>
              <a:off x="33955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32440" y="530208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85960" y="5121360"/>
              <a:ext cx="1419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41680" y="499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685960" y="3597120"/>
            <a:ext cx="3971880" cy="1257480"/>
            <a:chOff x="2685960" y="3597120"/>
            <a:chExt cx="3971880" cy="1257480"/>
          </a:xfrm>
        </p:grpSpPr>
        <p:sp>
          <p:nvSpPr>
            <p:cNvPr id="119" name=""/>
            <p:cNvSpPr/>
            <p:nvPr/>
          </p:nvSpPr>
          <p:spPr>
            <a:xfrm>
              <a:off x="33955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955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199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99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5440" y="40640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4105080" y="46832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10360" y="3902040"/>
              <a:ext cx="1347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10360" y="451008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85960" y="451008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85960" y="3902040"/>
              <a:ext cx="1419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10360" y="2378160"/>
            <a:ext cx="1347480" cy="619200"/>
            <a:chOff x="5310360" y="2378160"/>
            <a:chExt cx="1347480" cy="619200"/>
          </a:xfrm>
        </p:grpSpPr>
        <p:sp>
          <p:nvSpPr>
            <p:cNvPr id="130" name=""/>
            <p:cNvSpPr/>
            <p:nvPr/>
          </p:nvSpPr>
          <p:spPr>
            <a:xfrm>
              <a:off x="6019920" y="23781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10360" y="265284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310360" y="1768320"/>
            <a:ext cx="1347480" cy="619200"/>
            <a:chOff x="5310360" y="1768320"/>
            <a:chExt cx="1347480" cy="619200"/>
          </a:xfrm>
        </p:grpSpPr>
        <p:sp>
          <p:nvSpPr>
            <p:cNvPr id="133" name=""/>
            <p:cNvSpPr/>
            <p:nvPr/>
          </p:nvSpPr>
          <p:spPr>
            <a:xfrm>
              <a:off x="6019920" y="176832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10360" y="2044800"/>
              <a:ext cx="1347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i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view of the sockets interfac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17520" y="10220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37240" y="1036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85960" y="1434960"/>
            <a:ext cx="1419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10360" y="1434960"/>
            <a:ext cx="1347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10360" y="3006720"/>
            <a:ext cx="1347480" cy="630360"/>
            <a:chOff x="5310360" y="3006720"/>
            <a:chExt cx="1347480" cy="630360"/>
          </a:xfrm>
        </p:grpSpPr>
        <p:sp>
          <p:nvSpPr>
            <p:cNvPr id="141" name=""/>
            <p:cNvSpPr/>
            <p:nvPr/>
          </p:nvSpPr>
          <p:spPr>
            <a:xfrm>
              <a:off x="6019920" y="30067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10360" y="329256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cep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685960" y="1776240"/>
            <a:ext cx="1419480" cy="1860840"/>
            <a:chOff x="2685960" y="1776240"/>
            <a:chExt cx="1419480" cy="1860840"/>
          </a:xfrm>
        </p:grpSpPr>
        <p:sp>
          <p:nvSpPr>
            <p:cNvPr id="144" name=""/>
            <p:cNvSpPr/>
            <p:nvPr/>
          </p:nvSpPr>
          <p:spPr>
            <a:xfrm>
              <a:off x="3395520" y="1776240"/>
              <a:ext cx="0" cy="151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85960" y="329256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000680" y="2865600"/>
            <a:ext cx="1309680" cy="580680"/>
            <a:chOff x="4000680" y="2865600"/>
            <a:chExt cx="1309680" cy="580680"/>
          </a:xfrm>
        </p:grpSpPr>
        <p:sp>
          <p:nvSpPr>
            <p:cNvPr id="147" name=""/>
            <p:cNvSpPr/>
            <p:nvPr/>
          </p:nvSpPr>
          <p:spPr>
            <a:xfrm>
              <a:off x="4094280" y="3444840"/>
              <a:ext cx="1216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00680" y="28656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657840" y="3444480"/>
            <a:ext cx="2320920" cy="2476800"/>
            <a:chOff x="6657840" y="3444480"/>
            <a:chExt cx="2320920" cy="2476800"/>
          </a:xfrm>
        </p:grpSpPr>
        <p:sp>
          <p:nvSpPr>
            <p:cNvPr id="150" name=""/>
            <p:cNvSpPr/>
            <p:nvPr/>
          </p:nvSpPr>
          <p:spPr>
            <a:xfrm>
              <a:off x="6657840" y="592128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083360" y="3444480"/>
              <a:ext cx="0" cy="247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657840" y="344484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23320" y="4106160"/>
              <a:ext cx="185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it conne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 fr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xt c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799320" y="1450800"/>
            <a:ext cx="142920" cy="1581480"/>
          </a:xfrm>
          <a:custGeom>
            <a:avLst/>
            <a:gdLst>
              <a:gd name="textAreaLeft" fmla="*/ 0 w 142920"/>
              <a:gd name="textAreaRight" fmla="*/ 51480 w 142920"/>
              <a:gd name="textAreaTop" fmla="*/ 41040 h 1581480"/>
              <a:gd name="textAreaBottom" fmla="*/ 1540440 h 15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83920" y="2053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03360" y="1450800"/>
            <a:ext cx="141480" cy="2200320"/>
          </a:xfrm>
          <a:custGeom>
            <a:avLst/>
            <a:gdLst>
              <a:gd name="textAreaLeft" fmla="*/ 90360 w 141480"/>
              <a:gd name="textAreaRight" fmla="*/ 141840 w 141480"/>
              <a:gd name="textAreaTop" fmla="*/ 57240 h 2200320"/>
              <a:gd name="textAreaBottom" fmla="*/ 2143080 h 22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3160" y="2377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49120"/>
            <a:ext cx="4653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ey data structur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usr/include/netinet/in.h /usr/include/bits/socket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ast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ockaddr_in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ockaddr 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3040" y="1963800"/>
            <a:ext cx="8305560" cy="3660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generic socket addr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ckadd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unsigned sho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_family;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protocol famil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h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_data[14]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address data */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internet specific socket addr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ckaddr_in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unsigned sho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_family;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address family: AF_INET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unsigned shor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_por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port number (big-endian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ruc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_addr sin_addr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IP address (big-endian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unsigned ch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_zero[8];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 padding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6496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client main routin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63480" y="93816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 =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pen_clientf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host, por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66800" y="3071880"/>
            <a:ext cx="598176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66800" y="3862440"/>
            <a:ext cx="5981760" cy="404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66800" y="4343400"/>
            <a:ext cx="5981760" cy="15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57440" y="5862600"/>
            <a:ext cx="5981760" cy="295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client: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open_clientf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560" y="914400"/>
            <a:ext cx="817884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onnect(clientfd, (SA *)&amp;serveraddr, sizeof(serveraddr))&lt;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76840" y="121932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5040" y="2314440"/>
            <a:ext cx="7858080" cy="714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5040" y="3105000"/>
            <a:ext cx="785808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5343480"/>
            <a:ext cx="789624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server: main routin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5720" y="990720"/>
            <a:ext cx="83494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5040" y="2467080"/>
            <a:ext cx="804852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05040" y="2971800"/>
            <a:ext cx="8048520" cy="3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05040" y="3695760"/>
            <a:ext cx="8048520" cy="5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5040" y="4210200"/>
            <a:ext cx="804852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5040" y="521028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5040" y="545796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cho server: </a:t>
            </a: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open_listenf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0120" y="106668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95320" y="2311560"/>
            <a:ext cx="757224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95320" y="3197160"/>
            <a:ext cx="757224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4-18T13:48:45Z</dcterms:modified>
  <cp:revision>902</cp:revision>
  <dc:subject/>
  <dc:title>Recitation 5</dc:title>
</cp:coreProperties>
</file>