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820-F32F-4ABC-B87D-814B381D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D14-926E-480C-B54F-D45BDD8B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FCB-0443-4686-A37C-B757FA09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562-C4CD-4108-A05C-5FD14FAD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6AA9-1E99-49FE-AA13-EE0D9570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2DCC-344D-44C4-AA90-074A2D9E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3CFD-8BE3-46AA-ADBC-C6F3D314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F21C-EA3B-4D30-AE76-B7BE3A1F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0D0D-1950-486C-AD9A-04B3175A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F56E-D717-4FAA-886C-A5F25BBA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AC0B-1A9B-47AE-A06A-20A8AFAA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281-EDDA-4FCB-A0DB-4809302E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7117-8350-4EE8-B8A1-0A8739E6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04B2-8141-4A89-A46D-8A9C7A73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2B67-3760-4DB3-A081-E6245552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09E9-BA17-453A-95E5-2AB5CD25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44C6-A41C-4BF7-BB99-D6697F4A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524-2102-404A-B4F1-850A7AE3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EF2-C1E3-4988-A93A-7C6E72F9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0B6-7419-478D-96E7-09C8FFEA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BF1-77AE-4D77-AD23-EC54ECF0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239-E2AA-40D7-B2C4-CF63F1C8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B0C-53CF-4E00-BC8F-3591A9D9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6A5-5E91-4026-B6D8-667E29FD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94D7-3073-4D52-A45D-78C7F8C93A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B999-B714-4D59-A5C8-BE48A8F67B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citation 15 (April 18</a:t>
            </a:r>
            <a:r>
              <a:rPr b="0" lang="en-US" sz="3800" spc="-1" strike="noStrike" baseline="30000">
                <a:solidFill>
                  <a:srgbClr val="330033"/>
                </a:solidFill>
                <a:latin typeface="Times New Roman"/>
              </a:rPr>
              <a:t>th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244160"/>
            <a:ext cx="4025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ke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next Thurs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4760" y="1368360"/>
            <a:ext cx="40402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n G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gao@cs.cm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hou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s 1-2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s 2-3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herty 430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server: </a:t>
            </a: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open_listenfd</a:t>
            </a:r>
            <a:r>
              <a:rPr b="0" lang="en-US" sz="3800" spc="-1" strike="noStrike">
                <a:solidFill>
                  <a:srgbClr val="330033"/>
                </a:solidFill>
                <a:latin typeface="Courier New"/>
              </a:rPr>
              <a:t>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cont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0120" y="1066680"/>
            <a:ext cx="786168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bind(listenfd,(SA *)&amp;serveraddr,sizeof(serveraddr))&lt;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76240" y="1523880"/>
            <a:ext cx="7572600" cy="210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66880" y="3724200"/>
            <a:ext cx="7572240" cy="1162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1920" y="236520"/>
            <a:ext cx="65466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server: </a:t>
            </a: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ech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066680"/>
            <a:ext cx="7277400" cy="301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(int connf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MAXLINE]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n = Rio_readlineb(&amp;rio, buf, MAXLINE)) != 0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x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ntermediary between 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l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e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the client, the proxy acts like a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the server, the proxy acts like a cli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066680" y="3330720"/>
            <a:ext cx="7299000" cy="1231560"/>
            <a:chOff x="1066680" y="3330720"/>
            <a:chExt cx="7299000" cy="1231560"/>
          </a:xfrm>
        </p:grpSpPr>
        <p:sp>
          <p:nvSpPr>
            <p:cNvPr id="194" name=""/>
            <p:cNvSpPr/>
            <p:nvPr/>
          </p:nvSpPr>
          <p:spPr>
            <a:xfrm>
              <a:off x="1066680" y="3387600"/>
              <a:ext cx="1718640" cy="117468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691720" y="3656520"/>
              <a:ext cx="4125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03920" y="3330720"/>
              <a:ext cx="1661760" cy="12315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2673000" y="4293360"/>
              <a:ext cx="4114800" cy="11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747960" y="3340080"/>
            <a:ext cx="1662120" cy="12319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Change </a:t>
            </a:r>
            <a:r>
              <a:rPr b="1" lang="en-US" sz="3400" spc="-1" strike="noStrike">
                <a:solidFill>
                  <a:srgbClr val="330033"/>
                </a:solidFill>
                <a:latin typeface="Courier New"/>
              </a:rPr>
              <a:t>”echo”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procedure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71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_forward(int connfd, char *server, int server_por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forwardf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_conn, rio_forwar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MAXLINE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onnect to the serve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fd = Open_clientfd(server, server_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_forward, forward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_conn, conn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 = Rio_readlineb(&amp;rio_conn, buf, MAXLINE)) =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forwardfd, buf, 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 = Rio_readlineb(&amp;rio_forward, buf, MAXLINE)) =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onnfd, buf, 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forward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2666880"/>
            <a:ext cx="731520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172040"/>
            <a:ext cx="7315200" cy="857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5097600"/>
            <a:ext cx="731520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hange </a:t>
            </a: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mai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076960" cy="571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, port, clientlen, server_po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addrp, *serv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erver = argv[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erver_port = atoi(argv[3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echo_forward(connfd, server, server_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L7 proxy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974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request and response (HT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cy (next reci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-by-ste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 sequential web proxy 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66680" y="3260880"/>
            <a:ext cx="7321320" cy="1234440"/>
            <a:chOff x="1066680" y="3260880"/>
            <a:chExt cx="7321320" cy="1234440"/>
          </a:xfrm>
        </p:grpSpPr>
        <p:sp>
          <p:nvSpPr>
            <p:cNvPr id="209" name=""/>
            <p:cNvSpPr/>
            <p:nvPr/>
          </p:nvSpPr>
          <p:spPr>
            <a:xfrm>
              <a:off x="1066680" y="3317760"/>
              <a:ext cx="1724040" cy="117720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697120" y="3587760"/>
              <a:ext cx="4138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21200" y="3260880"/>
              <a:ext cx="1666800" cy="123444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2677680" y="4225680"/>
              <a:ext cx="4127400" cy="11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886200" y="3270240"/>
            <a:ext cx="1666800" cy="123516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04840" y="4822920"/>
            <a:ext cx="1724040" cy="1177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719440" y="5095800"/>
            <a:ext cx="413856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91400" y="4775040"/>
            <a:ext cx="1666800" cy="12351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742840" y="5695560"/>
            <a:ext cx="4127400" cy="11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4560" bIns="-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4784760"/>
            <a:ext cx="1666800" cy="12351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TTP request and respon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HTTP request and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etails in Tuesday’s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TTP request and respon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kgao@bass.cmcl ~]telnet www.cs.cmu.edu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ing 128.2.203.179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ed to SUPERMAN.WEB.cmu.ed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 / HTTP/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: www.cs.c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: Mon, 29 Nov 2004 00:29:22 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Apache/1.3.31 (Unix) PHP/4.3.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ansfer-Encoding: chun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&lt;title&gt; SCHOOL OF COMPUTER SCIENCE/Carnegie Mellon University &lt;/titl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4880" y="1981080"/>
            <a:ext cx="813420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1640" y="2666880"/>
            <a:ext cx="813744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1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TTP reque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1440" y="1433520"/>
            <a:ext cx="729612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52720" y="914400"/>
            <a:ext cx="52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Request line: &lt;method&gt; &lt;uri&gt; &lt;vers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57520" y="2438280"/>
            <a:ext cx="50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Request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962440" y="1204920"/>
            <a:ext cx="923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514240" y="1955880"/>
            <a:ext cx="1066680" cy="69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352520" y="2161800"/>
            <a:ext cx="1085760" cy="9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06600" y="287172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\r\n’ to mark the end of th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43080" y="1487520"/>
            <a:ext cx="6605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 / HTTP/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: www.cs.c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8120" y="3429000"/>
            <a:ext cx="8593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url&gt;: Uniform Resource Lo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.g. http://hostname:8080/path/to/the/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uri&gt;: Uniform Resource Identifier: suffix of 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.g. /path/to/the/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URL is used if sending request to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85960" y="2090880"/>
            <a:ext cx="8153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: Mon, 29 Nov 2004 00:29:22 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Apache/1.3.31 (Unix) PHP/4.3.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ansfer-Encoding: chun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&lt;title&gt; SCHOOL OF COMPUTER SCIENCE/Carnegie Mellon University &lt;/titl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TTP respon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967040"/>
            <a:ext cx="822960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28880" y="914400"/>
            <a:ext cx="67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Response line: &lt;version&gt; &lt;status code&gt; &lt;status ms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914120" y="1357200"/>
            <a:ext cx="14292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3800" y="152388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Response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076280" y="1881360"/>
            <a:ext cx="638280" cy="47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52840" y="323388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\r\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14400" y="3462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4605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Response  body: Web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3583080"/>
            <a:ext cx="8077320" cy="1600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tending echo serve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p the echo client and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he echo server to build an echo 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eb proxy in Lab 7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68480"/>
            <a:ext cx="1724040" cy="1177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88120" y="1969920"/>
            <a:ext cx="1727280" cy="1179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87720" y="1969920"/>
            <a:ext cx="1727280" cy="1179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2280" y="1066680"/>
            <a:ext cx="7038720" cy="767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GET http://www.cmu.edu:80/index.html HTTP/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&lt;other inform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47" idx="7"/>
            <a:endCxn id="249" idx="1"/>
          </p:cNvCxnSpPr>
          <p:nvPr/>
        </p:nvCxnSpPr>
        <p:spPr>
          <a:xfrm>
            <a:off x="2157120" y="2141640"/>
            <a:ext cx="2083320" cy="2160"/>
          </a:xfrm>
          <a:prstGeom prst="straightConnector1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9" idx="7"/>
            <a:endCxn id="248" idx="1"/>
          </p:cNvCxnSpPr>
          <p:nvPr/>
        </p:nvCxnSpPr>
        <p:spPr>
          <a:xfrm>
            <a:off x="5462640" y="2142720"/>
            <a:ext cx="1978560" cy="1080"/>
          </a:xfrm>
          <a:prstGeom prst="straightConnector1">
            <a:avLst/>
          </a:prstGeom>
          <a:ln w="2556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8" idx="3"/>
            <a:endCxn id="249" idx="5"/>
          </p:cNvCxnSpPr>
          <p:nvPr/>
        </p:nvCxnSpPr>
        <p:spPr>
          <a:xfrm flipH="1">
            <a:off x="5462280" y="2976120"/>
            <a:ext cx="1978560" cy="108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3"/>
            <a:endCxn id="247" idx="5"/>
          </p:cNvCxnSpPr>
          <p:nvPr/>
        </p:nvCxnSpPr>
        <p:spPr>
          <a:xfrm flipH="1" flipV="1">
            <a:off x="2156760" y="2972520"/>
            <a:ext cx="2083320" cy="396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2971800" y="1886040"/>
            <a:ext cx="152280" cy="23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3254400"/>
            <a:ext cx="7696080" cy="254520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Connects to the target web server, sends request looking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Courier New"/>
              </a:rPr>
              <a:t>GET /index.html HTTP/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Courier New"/>
              </a:rPr>
              <a:t>&lt;other information in the original requ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Lab 7 things to-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parse HTTP request (1st line): extract hostname &amp; por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port is not necessarily specified in the request if the default number is used (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943600" y="219672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5873760"/>
            <a:ext cx="7696080" cy="8254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he web proxy simply forwards the response from the server to the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Broken pipe error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riting to a socket whose connection has been closed prematurely at the other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 click “stop” on web brow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first write, return norm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ubsequent w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 SIGPIPE signal, which terminates process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SIGPIPE is blocked or caught, return -1 &amp; set EPIP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n’t want to terminate the web 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this error gracefull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How to deal with broken pipe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or ignore SIGPIP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gnal(SIGPIPE, SIG_IG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 EPIPE error in Rio wrappers in csapp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how we handle broken pipe in echo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erver main(), we block SIGPIPE sig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csapp.c, we ignore EPIPE error in Rio wrap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me other hi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/port_for_user.pl &lt;your andrew i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itial 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elnet; use lots of print stat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with real Internet browser: set proxy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IO package for all I/O on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lot of helper functions and wrappers in csapp.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0480" y="264960"/>
            <a:ext cx="71582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n echo client-server transac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600200"/>
            <a:ext cx="2154240" cy="1471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11760" y="1598760"/>
            <a:ext cx="2157480" cy="14713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44440" y="141840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Client sends an inpu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6640" y="292500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Server sends the same text as it rece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240" y="2972520"/>
            <a:ext cx="182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Cli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splays the text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t rece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0" idx="7"/>
            <a:endCxn id="101" idx="1"/>
          </p:cNvCxnSpPr>
          <p:nvPr/>
        </p:nvCxnSpPr>
        <p:spPr>
          <a:xfrm flipV="1">
            <a:off x="2676240" y="1813680"/>
            <a:ext cx="4251960" cy="25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6" name=""/>
          <p:cNvCxnSpPr>
            <a:stCxn id="101" idx="3"/>
            <a:endCxn id="100" idx="5"/>
          </p:cNvCxnSpPr>
          <p:nvPr/>
        </p:nvCxnSpPr>
        <p:spPr>
          <a:xfrm flipH="1">
            <a:off x="2675880" y="2854440"/>
            <a:ext cx="4251960" cy="21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310360" y="4835520"/>
            <a:ext cx="1347480" cy="1238400"/>
            <a:chOff x="5310360" y="4835520"/>
            <a:chExt cx="1347480" cy="1238400"/>
          </a:xfrm>
        </p:grpSpPr>
        <p:sp>
          <p:nvSpPr>
            <p:cNvPr id="108" name=""/>
            <p:cNvSpPr/>
            <p:nvPr/>
          </p:nvSpPr>
          <p:spPr>
            <a:xfrm>
              <a:off x="60199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310360" y="5119560"/>
              <a:ext cx="1347480" cy="954360"/>
              <a:chOff x="5310360" y="5119560"/>
              <a:chExt cx="1347480" cy="954360"/>
            </a:xfrm>
          </p:grpSpPr>
          <p:sp>
            <p:nvSpPr>
              <p:cNvPr id="110" name=""/>
              <p:cNvSpPr/>
              <p:nvPr/>
            </p:nvSpPr>
            <p:spPr>
              <a:xfrm>
                <a:off x="6019920" y="5454720"/>
                <a:ext cx="0" cy="27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10360" y="5119560"/>
                <a:ext cx="1347480" cy="3430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rio_readline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10360" y="5729400"/>
                <a:ext cx="1347480" cy="344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2685960" y="4835520"/>
            <a:ext cx="2624400" cy="628560"/>
            <a:chOff x="2685960" y="4835520"/>
            <a:chExt cx="2624400" cy="628560"/>
          </a:xfrm>
        </p:grpSpPr>
        <p:sp>
          <p:nvSpPr>
            <p:cNvPr id="114" name=""/>
            <p:cNvSpPr/>
            <p:nvPr/>
          </p:nvSpPr>
          <p:spPr>
            <a:xfrm>
              <a:off x="33955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32440" y="5302080"/>
              <a:ext cx="1177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85960" y="5121360"/>
              <a:ext cx="1419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41680" y="499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685960" y="3597120"/>
            <a:ext cx="3971880" cy="1257480"/>
            <a:chOff x="2685960" y="3597120"/>
            <a:chExt cx="3971880" cy="1257480"/>
          </a:xfrm>
        </p:grpSpPr>
        <p:sp>
          <p:nvSpPr>
            <p:cNvPr id="119" name=""/>
            <p:cNvSpPr/>
            <p:nvPr/>
          </p:nvSpPr>
          <p:spPr>
            <a:xfrm>
              <a:off x="33955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955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199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5440" y="40640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105080" y="46832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10360" y="3902040"/>
              <a:ext cx="1347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10360" y="451008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85960" y="451008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85960" y="3902040"/>
              <a:ext cx="1419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10360" y="2378160"/>
            <a:ext cx="1347480" cy="619200"/>
            <a:chOff x="5310360" y="2378160"/>
            <a:chExt cx="1347480" cy="619200"/>
          </a:xfrm>
        </p:grpSpPr>
        <p:sp>
          <p:nvSpPr>
            <p:cNvPr id="130" name=""/>
            <p:cNvSpPr/>
            <p:nvPr/>
          </p:nvSpPr>
          <p:spPr>
            <a:xfrm>
              <a:off x="6019920" y="23781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10360" y="265284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10360" y="1768320"/>
            <a:ext cx="1347480" cy="619200"/>
            <a:chOff x="5310360" y="1768320"/>
            <a:chExt cx="1347480" cy="619200"/>
          </a:xfrm>
        </p:grpSpPr>
        <p:sp>
          <p:nvSpPr>
            <p:cNvPr id="133" name=""/>
            <p:cNvSpPr/>
            <p:nvPr/>
          </p:nvSpPr>
          <p:spPr>
            <a:xfrm>
              <a:off x="6019920" y="1768320"/>
              <a:ext cx="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10360" y="2044800"/>
              <a:ext cx="1347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i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view of the sockets interfa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17520" y="10220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7240" y="1036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85960" y="1434960"/>
            <a:ext cx="1419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10360" y="1434960"/>
            <a:ext cx="1347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10360" y="3006720"/>
            <a:ext cx="1347480" cy="630360"/>
            <a:chOff x="5310360" y="3006720"/>
            <a:chExt cx="1347480" cy="630360"/>
          </a:xfrm>
        </p:grpSpPr>
        <p:sp>
          <p:nvSpPr>
            <p:cNvPr id="141" name=""/>
            <p:cNvSpPr/>
            <p:nvPr/>
          </p:nvSpPr>
          <p:spPr>
            <a:xfrm>
              <a:off x="6019920" y="30067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10360" y="329256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ce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685960" y="1776240"/>
            <a:ext cx="1419480" cy="1860840"/>
            <a:chOff x="2685960" y="1776240"/>
            <a:chExt cx="1419480" cy="1860840"/>
          </a:xfrm>
        </p:grpSpPr>
        <p:sp>
          <p:nvSpPr>
            <p:cNvPr id="144" name=""/>
            <p:cNvSpPr/>
            <p:nvPr/>
          </p:nvSpPr>
          <p:spPr>
            <a:xfrm>
              <a:off x="3395520" y="1776240"/>
              <a:ext cx="0" cy="151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85960" y="329256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000680" y="2865600"/>
            <a:ext cx="1309680" cy="580680"/>
            <a:chOff x="4000680" y="2865600"/>
            <a:chExt cx="1309680" cy="580680"/>
          </a:xfrm>
        </p:grpSpPr>
        <p:sp>
          <p:nvSpPr>
            <p:cNvPr id="147" name=""/>
            <p:cNvSpPr/>
            <p:nvPr/>
          </p:nvSpPr>
          <p:spPr>
            <a:xfrm>
              <a:off x="4094280" y="3444840"/>
              <a:ext cx="1216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00680" y="2865600"/>
              <a:ext cx="129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657840" y="3444480"/>
            <a:ext cx="2320920" cy="2476800"/>
            <a:chOff x="6657840" y="3444480"/>
            <a:chExt cx="2320920" cy="2476800"/>
          </a:xfrm>
        </p:grpSpPr>
        <p:sp>
          <p:nvSpPr>
            <p:cNvPr id="150" name=""/>
            <p:cNvSpPr/>
            <p:nvPr/>
          </p:nvSpPr>
          <p:spPr>
            <a:xfrm>
              <a:off x="6657840" y="592128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083360" y="3444480"/>
              <a:ext cx="0" cy="247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657840" y="344484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23320" y="4106160"/>
              <a:ext cx="185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ait conn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 fr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xt 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799320" y="1450800"/>
            <a:ext cx="142920" cy="1581480"/>
          </a:xfrm>
          <a:custGeom>
            <a:avLst/>
            <a:gdLst>
              <a:gd name="textAreaLeft" fmla="*/ 0 w 142920"/>
              <a:gd name="textAreaRight" fmla="*/ 51480 w 142920"/>
              <a:gd name="textAreaTop" fmla="*/ 41040 h 1581480"/>
              <a:gd name="textAreaBottom" fmla="*/ 1540440 h 15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83920" y="2053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03360" y="1450800"/>
            <a:ext cx="141480" cy="2200320"/>
          </a:xfrm>
          <a:custGeom>
            <a:avLst/>
            <a:gdLst>
              <a:gd name="textAreaLeft" fmla="*/ 90360 w 141480"/>
              <a:gd name="textAreaRight" fmla="*/ 141840 w 141480"/>
              <a:gd name="textAreaTop" fmla="*/ 57240 h 2200320"/>
              <a:gd name="textAreaBottom" fmla="*/ 2143080 h 22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3160" y="2377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49120"/>
            <a:ext cx="4653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ey data structur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usr/include/netinet/in.h /usr/include/bits/socket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ast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ockaddr_in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ockaddr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n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3040" y="1963800"/>
            <a:ext cx="8305560" cy="3660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generic socket addr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u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ckadd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unsigned shor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_family;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protocol family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ha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_data[14]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address data *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internet specific socket addr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u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ckaddr_in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unsigned shor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n_family;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address family: AF_INET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unsigned shor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n_por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port number (big-endian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u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_addr sin_addr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IP address (big-endian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unsigned cha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n_zero[8];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padding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6496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client main routin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63480" y="938160"/>
            <a:ext cx="615492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, por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ost, buf[MAXLINE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 = argv[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2]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 =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Open_clientf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host, 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lientf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Fgets(buf, MAXLINE, stdin) != NULL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66800" y="3071880"/>
            <a:ext cx="5981760" cy="714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66800" y="3862440"/>
            <a:ext cx="5981760" cy="404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66800" y="4343400"/>
            <a:ext cx="5981760" cy="15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57440" y="5862600"/>
            <a:ext cx="5981760" cy="295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client: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open_clientf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560" y="914400"/>
            <a:ext cx="817884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clientfd(char *hostname, int por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onnect(clientfd, (SA *)&amp;serveraddr, sizeof(serveraddr))&lt;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lientf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76840" y="1219320"/>
            <a:ext cx="327672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unction opens a connection from the client to the server a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hostname: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5040" y="2314440"/>
            <a:ext cx="7858080" cy="714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5040" y="3105000"/>
            <a:ext cx="7858080" cy="2057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5343480"/>
            <a:ext cx="789624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server: main routin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5720" y="990720"/>
            <a:ext cx="834948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, port, clientl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addr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 /* the server listens on a port pas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5040" y="2467080"/>
            <a:ext cx="804852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5040" y="2971800"/>
            <a:ext cx="8048520" cy="34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5040" y="3695760"/>
            <a:ext cx="8048520" cy="5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5040" y="4210200"/>
            <a:ext cx="8048520" cy="1000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5040" y="521028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5040" y="545796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server: </a:t>
            </a: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open_listenf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0120" y="106668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listenfd(int port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optval=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95320" y="2311560"/>
            <a:ext cx="7572240" cy="771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95320" y="3197160"/>
            <a:ext cx="757224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Kun Gao</cp:lastModifiedBy>
  <dcterms:modified xsi:type="dcterms:W3CDTF">2005-04-18T13:48:45Z</dcterms:modified>
  <cp:revision>902</cp:revision>
  <dc:subject/>
  <dc:title>Recitation 5</dc:title>
</cp:coreProperties>
</file>