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E82-171E-4D4D-B69A-6EECD882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DC8-8B16-4604-970C-3B1916E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DE6-C60E-444C-87AE-54EE1096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626-1ACB-4CF5-962E-E08E7858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19D-4A69-4041-90EF-BAFF6699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E92-723F-499E-841C-3C9F9F2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C08-4E3A-47C7-BBC6-92ECFEA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106-CBA5-4E5F-9B1A-67CE00EC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2EE-2AB8-4D7E-B177-91E39C6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6307-D859-473E-865C-4CC6661D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44DF-0CE6-439C-B566-6A83896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420-F443-44F5-991C-53654027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705F-B619-4CBA-BECD-E6284D2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407-98C0-4669-9DE0-51D7502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7F97-DBEA-4FBB-B067-A976CE4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5F7-AF20-4DF7-A070-76DC976E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44C-3952-4E70-A941-8ACE9EF6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717-0332-4636-9498-32F1E0E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8B7-7006-41C1-9FF6-B8A3F66E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60A-BCB4-4C1A-9311-06F81DF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484-C96D-437F-A761-3E5F8D6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10A-ED43-44F4-AECD-CE5F967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AD7-B46C-44CD-B277-F3A3CEF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FF6-3FC7-4159-BBD5-DA877BB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31A-F2BD-49E8-9B78-E5579E5E82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4C4E-0706-4879-8B1D-DC8E10E2F1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app.cs.cmu.edu/public/ics/code/vm/malloc.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2 (March 28th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h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Early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der/footer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ize only 29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3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= 1: allocated, or a = 0: f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 size and allocated bits into a singl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= 24 (0x18). Block is allo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= 0 x18 | 0x1 = 0x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95280" y="1143000"/>
            <a:ext cx="7089840" cy="1371600"/>
            <a:chOff x="1295280" y="1143000"/>
            <a:chExt cx="7089840" cy="1371600"/>
          </a:xfrm>
        </p:grpSpPr>
        <p:sp>
          <p:nvSpPr>
            <p:cNvPr id="134" name=""/>
            <p:cNvSpPr/>
            <p:nvPr/>
          </p:nvSpPr>
          <p:spPr>
            <a:xfrm>
              <a:off x="1295280" y="1676520"/>
              <a:ext cx="708984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6120" y="16765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8840" y="1828800"/>
              <a:ext cx="15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0   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6480" y="18288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2320" y="1143000"/>
              <a:ext cx="21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2     1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7440" y="1219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p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57560"/>
            <a:ext cx="653760" cy="761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2257560"/>
            <a:ext cx="6559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71800" y="2257560"/>
            <a:ext cx="65376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2257560"/>
            <a:ext cx="550548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32840" y="2257560"/>
            <a:ext cx="6541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9435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0960" y="52084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180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38720" y="304812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176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60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7140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480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9280" y="1295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5560" y="2257560"/>
            <a:ext cx="65916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5240" y="2257560"/>
            <a:ext cx="65880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708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43400" y="1600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400440" y="1599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62880" y="302904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968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initial 4-byte padding, no prologue, both header and foot, and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or starts at 0xA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1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2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WSIZ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DSIZE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double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CHUNKSIZE (1&lt;&lt;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size of heap (for expand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OVERHEA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 bytes used by header and foo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ACK(size, al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(size) | (alloc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UT(p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 = (val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SIZE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~0x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ALLOC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0x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HDRP(bp)) - D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D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sing the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ze of the next block in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_t size = GET_SIZE(HDRP(NEXT_BLKP(bp)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itializ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360" y="106632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(words % 2) ? (words+1)*WSIZE : words*W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10160" y="380988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mory Allocation Overview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heap as a collection of various size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block contiguous chunk of virtual m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inding first fi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find_fit(size_t asize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bp = heap_list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_SIZE(HDRP(bp)) &gt;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GET_ALLOC(HDR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&amp; (asize &lt;= GET_SIZE(HDRP(b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409572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ing a block in a free bloc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place(void *bp, size_t asiz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c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csize - asize) &gt;= (DSIZE + OVERHEAD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asize, 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a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-asize, 0)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-a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m_free(void *bp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_t size = GET_SIZE(HDRP(bp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alesce(b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oalesce: called by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mm_free()</a:t>
            </a: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tend_heap(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coalesce(void *bp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prev_alloc = GET_ALLOC(FT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next_alloc = GET_ALLOC(HDRP(NEXT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prev_alloc &amp;&amp; next_alloc) { return bp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prev_alloc &amp;&amp; !next_alloc)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!prev_alloc &amp;&amp; next_alloc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+= GET_SIZE(HD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PREV_BLKP(bp)), PACK(size, 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PREV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sign o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regate lists/search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fit/Next fit/Be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sorted by address with fir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init, malloc, free, realloc, c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heapcheck sanity che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ra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ness (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+ Space (60 ma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sition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cy Checker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arbage Coll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and Sw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ynamic Memory Allo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memory requirements before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allo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standard library ‘malloc’ and ‘free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allocators (garbage col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p, ML,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 ‘Malloc’ and ‘Free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c allocates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ap, mun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*sbrk(int inc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word aligned (8-by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free(void *pt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ptr must be a valid pointer returned by m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ocator Requirements and Go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arbitrary request 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immediate responses to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nly the he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odifying allocated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uti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ement Poli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lacement policy is perf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you know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st Fit not always ‘Best’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523880"/>
            <a:ext cx="65530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523880"/>
            <a:ext cx="2438280" cy="30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7040" y="18651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3640" y="18288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18288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" y="2932200"/>
            <a:ext cx="70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accesses (not counting header siz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440" y="460836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t will be able to allocate memory for all three. Best fit will n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 implementation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9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very line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free list + immediate boundary tag coalescing +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is availabl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csapp.cs.cmu.edu/public/ics/code/vm/malloc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as a star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lock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3640" y="1219320"/>
            <a:ext cx="3162240" cy="4190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2720" y="1219320"/>
            <a:ext cx="3143160" cy="76176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9810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1000" y="203184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3120" y="137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3120" y="4803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48440" y="3011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219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981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648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410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4648320"/>
            <a:ext cx="3143160" cy="761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3360" y="1981080"/>
            <a:ext cx="3143160" cy="2657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8T18:59:20Z</dcterms:modified>
  <cp:revision>636</cp:revision>
  <dc:subject/>
  <dc:title>Recitation 5</dc:title>
</cp:coreProperties>
</file>