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8C1F-F4A4-43CB-91CE-610BF731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00D4-BFD5-4D85-9E55-E16B4076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2466-039F-4334-8D00-53BD48CB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3AE7-0A22-4739-A6C7-AEF3FA38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7B5F-2978-4C5D-A4B9-E2DBF195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AB40-4713-4500-A9F1-755DA12F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FCB0-FBBC-407E-A21B-C8AE5128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0419-2938-4300-8E2A-D37DF4A9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031E-2A2B-43F5-946E-6E33341A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BDAC-D3D1-4B74-B20F-9C86C18B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0A5D-EC06-4AE4-AC41-38DCF74A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FBEB-8A83-4ECB-A397-077E0843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C815-F228-400E-867F-552CE602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FB3C-5320-4C51-B14E-7E11AB3C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5907-55AB-4B17-9674-7FDE619A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5170-DAAF-4C63-BCE9-45CCB4DF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6CDF-B593-4338-8573-AAD38056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5BE2-5943-4BAC-9826-4F8665F5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AA57-2D91-470C-8688-BABC9EE2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7634-E670-4DE4-BB7F-71D54144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EEB9-4B31-41C6-B6C9-30A29D9E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3927-B01C-4E3F-934D-A37C9EBF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45B7-86F1-4A18-950F-63A43D6B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3E68-E20D-4B34-A686-25077330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419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57160"/>
            <a:ext cx="8583840" cy="0"/>
          </a:xfrm>
          <a:prstGeom prst="line">
            <a:avLst/>
          </a:prstGeom>
          <a:ln w="190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2CFB-31C1-488A-B150-2B726A5AB3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4197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A5D3-9589-451E-8147-12C4FAAD7E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sapp.cs.cmu.edu/public/ics/code/vm/malloc.c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eek 12 (March 28th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560" y="1244160"/>
            <a:ext cx="379584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il 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next Thu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 Early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il 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Next Tu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74760" y="1368360"/>
            <a:ext cx="40402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: Kun G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3716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eader/footer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word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size only 29 bi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wer 3 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72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= 1: allocated, or a = 0: fre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 size and allocated bits into a single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= 24 (0x18). Block is alloc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 = 0 x18 | 0x1 = 0x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95280" y="1143000"/>
            <a:ext cx="7089840" cy="1371600"/>
            <a:chOff x="1295280" y="1143000"/>
            <a:chExt cx="7089840" cy="1371600"/>
          </a:xfrm>
        </p:grpSpPr>
        <p:sp>
          <p:nvSpPr>
            <p:cNvPr id="134" name=""/>
            <p:cNvSpPr/>
            <p:nvPr/>
          </p:nvSpPr>
          <p:spPr>
            <a:xfrm>
              <a:off x="1295280" y="1676520"/>
              <a:ext cx="708984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66120" y="16765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38840" y="1828800"/>
              <a:ext cx="156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    0    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6480" y="1828800"/>
              <a:ext cx="90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iz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32320" y="1143000"/>
              <a:ext cx="21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    2     1     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7440" y="12193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eap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257560"/>
            <a:ext cx="653760" cy="7617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15880" y="2257560"/>
            <a:ext cx="655920" cy="761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|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71800" y="2257560"/>
            <a:ext cx="653760" cy="761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|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24120" y="2257560"/>
            <a:ext cx="550548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32840" y="2257560"/>
            <a:ext cx="654120" cy="761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|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4943520"/>
            <a:ext cx="0" cy="9907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40960" y="5208480"/>
            <a:ext cx="25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Word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8 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3019320"/>
            <a:ext cx="0" cy="9907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71800" y="3019320"/>
            <a:ext cx="0" cy="9907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38720" y="3048120"/>
            <a:ext cx="0" cy="9903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71760" y="3019320"/>
            <a:ext cx="0" cy="9907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2600" y="1657440"/>
            <a:ext cx="11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bytes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71400" y="18763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74800" y="187632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i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99280" y="129528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d and Free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25560" y="2257560"/>
            <a:ext cx="659160" cy="76176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H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27600" y="2257560"/>
            <a:ext cx="65880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75240" y="2257560"/>
            <a:ext cx="658800" cy="76176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H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70800" y="2257560"/>
            <a:ext cx="65880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343400" y="160020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6400440" y="1599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62880" y="3029040"/>
            <a:ext cx="0" cy="9903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19680" y="3019320"/>
            <a:ext cx="0" cy="9907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amp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initial 4-byte padding, no prologue, both header and foot, and first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or starts at 0xA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loc(1) =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loc(2) =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Very useful macr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WSIZ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ze of w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DSIZE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ze of double w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CHUNKSIZE (1&lt;&lt;1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 size of heap (for expand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OVERHEA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ra bytes used by header and foo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Very useful macr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PACK(size, allo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(size) | (alloc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GET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*(</a:t>
            </a:r>
            <a:r>
              <a:rPr b="0" lang="en-US" sz="2600" spc="-1" strike="noStrike">
                <a:solidFill>
                  <a:srgbClr val="990033"/>
                </a:solidFill>
                <a:latin typeface="Arial"/>
              </a:rPr>
              <a:t>size_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0033"/>
                </a:solidFill>
                <a:latin typeface="Arial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(p)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PUT(p, v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*(</a:t>
            </a:r>
            <a:r>
              <a:rPr b="0" lang="en-US" sz="2600" spc="-1" strike="noStrike">
                <a:solidFill>
                  <a:srgbClr val="990033"/>
                </a:solidFill>
                <a:latin typeface="Arial"/>
              </a:rPr>
              <a:t>size_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0033"/>
                </a:solidFill>
                <a:latin typeface="Arial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(p) = (val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GET_SIZE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GET(p) &amp; ~0x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GET_ALLOC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GET(p) &amp; 0x1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Very useful macr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define HDRP(b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 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bp) - WSIZ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define FTRP(b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 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bp) + GET_SIZE(HDRP(bp)) - DSIZ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define NEXT_BLKP(b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 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bp) + GET_SIZE(((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 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bp) - WSIZE)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define PREV_BLKP(b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 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bp) - GET_SIZE(((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 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bp) - DSIZE)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Using the Macr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ize of the next block in mem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ze_t size = GET_SIZE(HDRP(NEXT_BLKP(bp))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nitializing the heap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360" y="1066320"/>
            <a:ext cx="7629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m_init(voi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(heap_listp = mem_sbrk(4*WSIZE)) == NULL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eap_listp, 0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eap_listp+WSIZE, PACK(OVERHEAD, 1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eap_listp+DSIZE, PACK(OVERHEAD, 1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eap_listp+WSIZE+DSIZE, PACK(0, 1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p_listp += D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extend_heap(CHUNKSIZE/WSIZE) == NUL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tending the heap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void *extend_heap(size_t words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b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_t siz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= (words % 2) ? (words+1)*WSIZE : words*W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(int)(bp = mem_sbrk(size)) &lt; 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ULL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DRP(bp), PACK(size, 0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FTRP(bp), PACK(size, 0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DRP(NEXT_BLKP(bp)), PACK(0, 1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alesce(b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Malloc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*mm_malloc(size_t siz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_t asize, extendsize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b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ize &lt;= 0) return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ize &lt;= D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ize = DSIZE+OVERHEA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ize = DSIZE*((size+(OVERHEAD)+(DSIZE-1))/DSIZ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bp = find_fit(asize)) != NULL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ce(bp, asiz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b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ize = MAX(asize,CHUNKSIZ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bp = extend_heap(extendsize/WSIZE)) == NULL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ce(bp, asiz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b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10160" y="3809880"/>
            <a:ext cx="8956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Memory Allocation Overview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s heap as a collection of various sized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block contiguous chunk of virtual m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ng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ing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inding first fi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void *find_fit(size_t asize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*b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bp = heap_list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_SIZE(HDRP(bp)) &gt;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 = NEXT_BLKP(bp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!GET_ALLOC(HDRP(bp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&amp; (asize &lt;= GET_SIZE(HDRP(bp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b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Malloc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*mm_malloc(size_t siz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_t asize, extendsize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b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ize &lt;= 0) return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ize &lt;= D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ize = DSIZE+OVERHEA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ize = DSIZE*((size+(OVERHEAD)+(DSIZE-1))/DSIZ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bp = find_fit(asize)) != NULL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ce(bp, asiz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b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ize = MAX(asize,CHUNKSIZ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bp = extend_heap(extendsize/WSIZE)) == NULL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ce(bp, asiz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b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14800" y="4095720"/>
            <a:ext cx="8953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lacing a block in a free block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void place(void *bp, size_t asiz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_t csize = GET_SIZE(HDRP(bp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(csize - asize) &gt;= (DSIZE + OVERHEAD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DRP(bp), PACK(asize, 1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FTRP(bp), PACK(asize, 1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 = NEXT_BLKP(bp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DRP(bp), PACK(csize-asize, 0)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FTRP(bp), PACK(csize-asize, 0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DRP(bp), PACK(csize, 1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FTRP(bp), PACK(csize, 1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re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mm_free(void *bp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ze_t size = GET_SIZE(HDRP(bp)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(HDRP(bp), PACK(size, 0)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(FTRP(bp), PACK(size, 0)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alesce(bp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Coalesce: called by </a:t>
            </a: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mm_free()</a:t>
            </a: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 &amp; </a:t>
            </a: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tend_heap(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void *coalesce(void *bp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_t prev_alloc = GET_ALLOC(FTRP(PREV_BLKP(bp)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_t next_alloc = GET_ALLOC(HDRP(NEXT_BLKP(bp)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_t size = GET_SIZE(HDRP(bp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prev_alloc &amp;&amp; next_alloc) { return bp;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(prev_alloc &amp;&amp; !next_alloc) { ……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(!prev_alloc &amp;&amp; next_alloc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+= GET_SIZE(HDRP(PREV_BLKP(bp)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FTRP(bp), PACK(size, 0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DRP(PREV_BLKP(bp)), PACK(size, 0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 = PREV_BLKP(bp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{ ……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b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Design op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free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icit free 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icit free 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gregate lists/search tr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free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fit/Next fit/Best F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cks sorted by address with first f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b 6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m_init, malloc, free, realloc, callo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m_heapcheck sanity che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be grad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ctness (2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ance + Space (60 ma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position (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stency Checker (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e (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b 6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Garbage Collec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and Sw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Col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Dynamic Memory Alloc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know memory requirements before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allo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 standard library ‘malloc’ and ‘free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 allocators (garbage coll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p, ML, J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 ‘Malloc’ and ‘Free’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loc allocates u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map, mun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id *sbrk(int inc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uble word aligned (8-byt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id free(void *pt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ptr must be a valid pointer returned by mallo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llocator Requirements and Goal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 arbitrary request sequ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ing immediate responses to reque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only the he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gning bl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modifying allocated bl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ximize through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ximize uti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lacement Polic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-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-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lacement policy is perfec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less you know the fu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Best Fit not always ‘Best’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1523880"/>
            <a:ext cx="655308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1523880"/>
            <a:ext cx="2438280" cy="304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67040" y="186516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bytes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93640" y="182880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i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2600" y="182880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bytes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5320" y="2932200"/>
            <a:ext cx="70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following accesses (not counting header siz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loc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loc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loc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54440" y="460836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Fit will be able to allocate memory for all three. Best fit will no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ample implementation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10.9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every line of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 free list + immediate boundary tag coalescing + first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is availabl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csapp.cs.cmu.edu/public/ics/code/vm/malloc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t as a starting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Block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3640" y="1219320"/>
            <a:ext cx="3162240" cy="4190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52720" y="1219320"/>
            <a:ext cx="3143160" cy="76176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1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198108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1000" y="2031840"/>
            <a:ext cx="237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er retu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mall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lock Pointer (b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83120" y="137484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b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83120" y="480384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b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48440" y="3011400"/>
            <a:ext cx="284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= what user as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 mal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12193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19810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46483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54100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43360" y="4648320"/>
            <a:ext cx="3143160" cy="761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43360" y="1981080"/>
            <a:ext cx="3143160" cy="2657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7:54:32Z</dcterms:created>
  <dc:creator>Minglong Shao</dc:creator>
  <dc:description/>
  <dc:language>en-US</dc:language>
  <cp:lastModifiedBy>Kun Gao</cp:lastModifiedBy>
  <dcterms:modified xsi:type="dcterms:W3CDTF">2005-03-28T18:59:20Z</dcterms:modified>
  <cp:revision>636</cp:revision>
  <dc:subject/>
  <dc:title>Recitation 5</dc:title>
</cp:coreProperties>
</file>