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E20D-9550-4C6F-A425-206F16A1B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A7B9-5616-4623-A905-F50FA813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0E06-94FD-4D9A-B90B-62E7BD3DC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824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068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2D52-60C8-4C85-B644-EE4F1B835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9098-4007-4753-B64A-112D78C44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DA8B-C6AC-46C9-AB58-C884EFDF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F05C-0482-4269-A031-91121879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88E3-22DD-46CD-B4CE-715FDFFF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5676-798E-4C61-AB1C-DCD532C4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930D3-4F0A-43FB-9331-76DFCC65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84B2-3C45-4F5F-B0DA-33B539E2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49B6-10DF-4408-9909-EC2C0FC7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7918-1BED-4C70-B224-670B7AC4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09BC-B052-493E-A1A1-968D37D2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7DFB-6DA2-4AA8-B12C-6A939331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7EEE-BB0C-419D-BC51-BDC3302B0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6824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5068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1F5D-C1AE-4D00-B50A-C2C45C6A8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76C9-8142-403B-BC7C-3ADA0999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DBF5-3898-4EE0-B0FE-24E61D59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4CA8-8198-4550-8558-DD2AFBA9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C57D-22DB-4491-9946-998E6DD3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B0DD-0A66-4369-B758-2EF23AF4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06C9-6E17-41E4-BC70-8579BD63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BADF-5DB9-4701-91EC-0B25791D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4197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857160"/>
            <a:ext cx="8583840" cy="0"/>
          </a:xfrm>
          <a:prstGeom prst="line">
            <a:avLst/>
          </a:prstGeom>
          <a:ln w="190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5344-A9E9-4573-B2B5-BCC14BFD3CD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44197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4846-F4DF-4AB7-85A6-A2692021E4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sapp.cs.cmu.edu/public/ics/code/vm/malloc.c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Week 12 (March 28th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3560" y="1244160"/>
            <a:ext cx="379584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emi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ril 7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next Thu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 Early!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ril 5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Next Tu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74760" y="1368360"/>
            <a:ext cx="404028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: Kun G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1371600"/>
            <a:ext cx="0" cy="449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Header/footer forma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3047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word al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size only 29 bi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wer 3 b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72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 = 1: allocated, or a = 0: fre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 size and allocated bits into a single 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= 24 (0x18). Block is alloc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er = 0 x18 | 0x1 = 0x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95280" y="1143000"/>
            <a:ext cx="7089840" cy="1371600"/>
            <a:chOff x="1295280" y="1143000"/>
            <a:chExt cx="7089840" cy="1371600"/>
          </a:xfrm>
        </p:grpSpPr>
        <p:sp>
          <p:nvSpPr>
            <p:cNvPr id="134" name=""/>
            <p:cNvSpPr/>
            <p:nvPr/>
          </p:nvSpPr>
          <p:spPr>
            <a:xfrm>
              <a:off x="1295280" y="1676520"/>
              <a:ext cx="7089840" cy="8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666120" y="167652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738840" y="1828800"/>
              <a:ext cx="156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    0    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16480" y="1828800"/>
              <a:ext cx="90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iz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32320" y="1143000"/>
              <a:ext cx="21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    2     1     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7440" y="12193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Heap forma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2257560"/>
            <a:ext cx="653760" cy="7617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15880" y="2257560"/>
            <a:ext cx="655920" cy="761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|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71800" y="2257560"/>
            <a:ext cx="653760" cy="761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|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24120" y="2257560"/>
            <a:ext cx="5505480" cy="7617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232840" y="2257560"/>
            <a:ext cx="654120" cy="761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|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4943520"/>
            <a:ext cx="0" cy="99072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40960" y="5208480"/>
            <a:ext cx="258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Word Al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8 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3019320"/>
            <a:ext cx="0" cy="99072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71800" y="3019320"/>
            <a:ext cx="0" cy="99072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38720" y="3048120"/>
            <a:ext cx="0" cy="99036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71760" y="3019320"/>
            <a:ext cx="0" cy="99072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2600" y="1657440"/>
            <a:ext cx="11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bytes 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71400" y="187632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lo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74800" y="187632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ilo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99280" y="1295280"/>
            <a:ext cx="28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ed and Free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25560" y="2257560"/>
            <a:ext cx="659160" cy="76176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1"/>
                </a:solidFill>
                <a:latin typeface="Arial"/>
              </a:rPr>
              <a:t>H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27600" y="2257560"/>
            <a:ext cx="65880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75240" y="2257560"/>
            <a:ext cx="658800" cy="76176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1"/>
                </a:solidFill>
                <a:latin typeface="Arial"/>
              </a:rPr>
              <a:t>H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70800" y="2257560"/>
            <a:ext cx="65880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343400" y="160020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6400440" y="15998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62880" y="3029040"/>
            <a:ext cx="0" cy="99036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19680" y="3019320"/>
            <a:ext cx="0" cy="99072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ampl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initial 4-byte padding, no prologue, both header and foot, and first 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cator starts at 0xA0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lloc(1) =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lloc(2) =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Very useful macro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define WSIZE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ze of wo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define DSIZE 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ze of double wo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define CHUNKSIZE (1&lt;&lt;1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 size of heap (for expandin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define OVERHEA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ra bytes used by header and foo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Very useful macro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1840" indent="-411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define PACK(size, allo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(size) | (alloc)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1840" indent="-411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define GET(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*(</a:t>
            </a:r>
            <a:r>
              <a:rPr b="0" lang="en-US" sz="2600" spc="-1" strike="noStrike">
                <a:solidFill>
                  <a:srgbClr val="990033"/>
                </a:solidFill>
                <a:latin typeface="Arial"/>
              </a:rPr>
              <a:t>size_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990033"/>
                </a:solidFill>
                <a:latin typeface="Arial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(p)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1840" indent="-411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define PUT(p, v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*(</a:t>
            </a:r>
            <a:r>
              <a:rPr b="0" lang="en-US" sz="2600" spc="-1" strike="noStrike">
                <a:solidFill>
                  <a:srgbClr val="990033"/>
                </a:solidFill>
                <a:latin typeface="Arial"/>
              </a:rPr>
              <a:t>size_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990033"/>
                </a:solidFill>
                <a:latin typeface="Arial"/>
              </a:rPr>
              <a:t>*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(p) = (val)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1840" indent="-411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define GET_SIZE(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GET(p) &amp; ~0x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1840" indent="-411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define GET_ALLOC(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GET(p) &amp; 0x1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Very useful macro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define HDRP(bp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har 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bp) - WSIZ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define FTRP(bp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har 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bp) + GET_SIZE(HDRP(bp)) - DSIZ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define NEXT_BLKP(bp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har 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bp) + GET_SIZE(((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har 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bp) - WSIZE))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define PREV_BLKP(bp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har 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bp) - GET_SIZE(((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har 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bp) - DSIZE))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Using the Macro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ize of the next block in mem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ze_t size = GET_SIZE(HDRP(NEXT_BLKP(bp))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Initializing the heap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8360" y="1066320"/>
            <a:ext cx="7629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m_init(void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(heap_listp = mem_sbrk(4*WSIZE)) == NULL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(heap_listp, 0)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(heap_listp+WSIZE, PACK(OVERHEAD, 1)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(heap_listp+DSIZE, PACK(OVERHEAD, 1)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(heap_listp+WSIZE+DSIZE, PACK(0, 1)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ap_listp += DSIZ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extend_heap(CHUNKSIZE/WSIZE) == NUL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tending the heap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 void *extend_heap(size_t words)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b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_t siz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 = (words % 2) ? (words+1)*WSIZE : words*WSIZ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(int)(bp = mem_sbrk(size)) &lt; 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NULL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(HDRP(bp), PACK(size, 0)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(FTRP(bp), PACK(size, 0)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(HDRP(NEXT_BLKP(bp)), PACK(0, 1)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coalesce(bp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Malloc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*mm_malloc(size_t size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_t asize, extendsize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b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size &lt;= 0) return NUL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size &lt;= DSI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ize = DSIZE+OVERHEA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ize = DSIZE*((size+(OVERHEAD)+(DSIZE-1))/DSIZ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(bp = find_fit(asize)) != NULL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ace(bp, asiz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b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endsize = MAX(asize,CHUNKSIZ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(bp = extend_heap(extendsize/WSIZE)) == NULL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NUL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ace(bp, asiz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b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10160" y="3809880"/>
            <a:ext cx="89568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Memory Allocation Overview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s heap as a collection of various sized b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block contiguous chunk of virtual me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cating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ing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Finding first fi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 void *find_fit(size_t asize)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*b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bp = heap_list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_SIZE(HDRP(bp)) &gt; 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p = NEXT_BLKP(bp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!GET_ALLOC(HDRP(bp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&amp; (asize &lt;= GET_SIZE(HDRP(bp)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b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Malloc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*mm_malloc(size_t size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_t asize, extendsize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b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size &lt;= 0) return NUL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size &lt;= DSI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ize = DSIZE+OVERHEA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ize = DSIZE*((size+(OVERHEAD)+(DSIZE-1))/DSIZ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(bp = find_fit(asize)) != NULL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ace(bp, asiz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b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endsize = MAX(asize,CHUNKSIZ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(bp = extend_heap(extendsize/WSIZE)) == NULL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NUL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ace(bp, asize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b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14800" y="4095720"/>
            <a:ext cx="89532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lacing a block in a free block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 void place(void *bp, size_t asize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_t csize = GET_SIZE(HDRP(bp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(csize - asize) &gt;= (DSIZE + OVERHEAD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(HDRP(bp), PACK(asize, 1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(FTRP(bp), PACK(asize, 1)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p = NEXT_BLKP(bp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(HDRP(bp), PACK(csize-asize, 0))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(FTRP(bp), PACK(csize-asize, 0)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(HDRP(bp), PACK(csize, 1)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(FTRP(bp), PACK(csize, 1)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Fre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mm_free(void *bp)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ize_t size = GET_SIZE(HDRP(bp)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T(HDRP(bp), PACK(size, 0)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T(FTRP(bp), PACK(size, 0)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alesce(bp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33"/>
                </a:solidFill>
                <a:latin typeface="Times New Roman"/>
              </a:rPr>
              <a:t>Coalesce: called by </a:t>
            </a: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mm_free()</a:t>
            </a:r>
            <a:r>
              <a:rPr b="0" lang="en-US" sz="3000" spc="-1" strike="noStrike">
                <a:solidFill>
                  <a:srgbClr val="330033"/>
                </a:solidFill>
                <a:latin typeface="Times New Roman"/>
              </a:rPr>
              <a:t> &amp; </a:t>
            </a:r>
            <a:r>
              <a:rPr b="1" lang="en-US" sz="2400" spc="-1" strike="noStrike">
                <a:solidFill>
                  <a:srgbClr val="330033"/>
                </a:solidFill>
                <a:latin typeface="Courier New"/>
              </a:rPr>
              <a:t>extend_heap(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 void *coalesce(void *bp)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_t prev_alloc = GET_ALLOC(FTRP(PREV_BLKP(bp))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_t next_alloc = GET_ALLOC(HDRP(NEXT_BLKP(bp))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_t size = GET_SIZE(HDRP(bp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prev_alloc &amp;&amp; next_alloc) { return bp;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if (prev_alloc &amp;&amp; !next_alloc) { ……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if (!prev_alloc &amp;&amp; next_alloc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 += GET_SIZE(HDRP(PREV_BLKP(bp))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(FTRP(bp), PACK(size, 0)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(HDRP(PREV_BLKP(bp)), PACK(size, 0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p = PREV_BLKP(bp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{ ……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b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Design option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free b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icit free l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icit free l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gregate lists/search tr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free b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rst fit/Next fit/Best F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cks sorted by address with first f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Lab 6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m_init, malloc, free, realloc, callo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m_heapcheck sanity che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be graded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rectness (2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formance + Space (60 ma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position (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istency Checker (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yle (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Lab 6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Garbage Collectio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 and Sw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 Col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Dynamic Memory Allocatio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know memory requirements beforeh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icit allo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 standard library ‘malloc’ and ‘free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icit allocators (garbage coll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sp, ML, Ja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 ‘Malloc’ and ‘Free’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loc allocates u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map, munm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oid *sbrk(int inc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uble word aligned (8-byt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oid free(void *pt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ptr must be a valid pointer returned by mallo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llocator Requirements and Goal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 arbitrary request sequ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ing immediate responses to reque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only the he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igning blo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modifying allocated blo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ximize throughp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ximize uti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lacement Polic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-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-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-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lacement policy is perfec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less you know the fu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Best Fit not always ‘Best’!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1523880"/>
            <a:ext cx="655308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1523880"/>
            <a:ext cx="2438280" cy="3049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67040" y="186516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bytes 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93640" y="182880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in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02600" y="182880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bytes 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15320" y="2932200"/>
            <a:ext cx="700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the following accesses (not counting header size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loc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loc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loc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54440" y="4608360"/>
            <a:ext cx="69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Fit will be able to allocate memory for all three. Best fit will no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ample implementation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10.9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every line of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icit free list + immediate boundary tag coalescing + first 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is available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http://csapp.cs.cmu.edu/public/ics/code/vm/malloc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t as a starting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Block forma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33640" y="1219320"/>
            <a:ext cx="3162240" cy="4190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52720" y="1219320"/>
            <a:ext cx="3143160" cy="761760"/>
          </a:xfrm>
          <a:prstGeom prst="rect">
            <a:avLst/>
          </a:prstGeom>
          <a:solidFill>
            <a:srgbClr val="99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1"/>
                </a:solidFill>
                <a:latin typeface="Arial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1981080"/>
            <a:ext cx="990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1000" y="2031840"/>
            <a:ext cx="237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er retur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mallo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lock Pointer (bp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83120" y="137484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 bi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83120" y="480384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 bi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48440" y="3011400"/>
            <a:ext cx="284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= what user as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n mal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72200" y="12193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72200" y="19810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72200" y="46483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72200" y="54100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43360" y="4648320"/>
            <a:ext cx="3143160" cy="761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43360" y="1981080"/>
            <a:ext cx="3143160" cy="2657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7:54:32Z</dcterms:created>
  <dc:creator>Minglong Shao</dc:creator>
  <dc:description/>
  <dc:language>en-US</dc:language>
  <cp:lastModifiedBy>Kun Gao</cp:lastModifiedBy>
  <dcterms:modified xsi:type="dcterms:W3CDTF">2005-03-28T18:59:20Z</dcterms:modified>
  <cp:revision>636</cp:revision>
  <dc:subject/>
  <dc:title>Recitation 5</dc:title>
</cp:coreProperties>
</file>