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CA8-9402-49C7-9B69-8D6D7763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B3C-DFDB-4ED6-86CE-95A96B99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E31-14FC-4B43-B0DE-1D63B75E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9F2-8B12-488E-BB1E-C2E13750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822E-BB16-4B96-B7AC-DB64F1F1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9439-82A1-47FD-9A2D-24CFD5A2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35AE-31DB-43C1-8086-64AB8A63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AFD2-EA75-4B63-AACF-3FE30F24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0155-9448-48E4-9581-3B1A8970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F61C-4F59-407F-942C-DD03C879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2337-C2E3-4637-9989-0CCA6BA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317-1722-480A-A1A4-C5358FF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CE5A-5F34-4F3C-A086-38431F45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27AD-5273-406F-A070-7BC17D46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55B3-B002-44D2-B8B9-89746BEA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966A-B15A-4348-B730-09F95B91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04B0-27DC-4A9F-92F5-16D665AF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A93-156A-477E-88C9-01A96B64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C39-62E0-4212-BB3D-70ECABDE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525-0154-4FD9-A5A1-65CD2C39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ACE-2757-46BB-8BEE-D4387104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3EC-1B5F-4C8C-B18E-D8AD4AA3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97B-D44F-4A47-99FD-2A4CE673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AB9-DAED-4D8A-9E98-0040B9D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B2EF-5E66-4E7E-9E00-B8D2B4347E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EB5D-7225-46CB-AF30-FF0A26C413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8 (Nov. 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5 h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HIS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512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glong Sha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tation, Fal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lee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ork() != 0) 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(pid = waitpid(…)) &gt; 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okay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09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75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498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701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51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896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524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643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72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66680" y="17146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 problematic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4600" y="122868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1240" y="121932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3920" y="121932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4200" y="179064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08840" y="224784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94200" y="329724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2478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2479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2292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63836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6765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9080" y="12193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7146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22557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2385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3840" y="430524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47624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292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760" y="51055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dded to job lis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ignal handler tried to delet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4305240"/>
            <a:ext cx="609480" cy="685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our block se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S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/O redir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before call execve() in chil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I/O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redirect_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urier New"/>
              </a:rPr>
              <a:t>dup2(…);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STDI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redirect_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urier New"/>
              </a:rPr>
              <a:t>dup2(…);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STDOU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dup2(int oldfd, int newfd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in Chap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ld file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f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w file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2 makes newfd be a copy of the oldfd (i.e. operations on newfd is done on oldfd inst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put from in_fd instead of standar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in_fd, STDIN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put to out_fd instead of standar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out_fd, STDOUT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mind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mportant system c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k(), execve(), waitpid(), sigprocmask(), setpgid(), kill()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man  pages for details about system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 2 ki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turn values of all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EP by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your shell by typing commands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race worth the same (work on easy ones first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rt 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6720" y="990720"/>
            <a:ext cx="8400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ny shell (tsh) with job control &amp; I/O re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proces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ng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p all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SIGCHLD, SIGTSTP, 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race haz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important concepts in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virtual memory (V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AM as a cache for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emory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“partial swapp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memory effici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685960"/>
            <a:ext cx="1218960" cy="1143000"/>
            <a:chOff x="914400" y="2685960"/>
            <a:chExt cx="1218960" cy="1143000"/>
          </a:xfrm>
        </p:grpSpPr>
        <p:sp>
          <p:nvSpPr>
            <p:cNvPr id="226" name=""/>
            <p:cNvSpPr/>
            <p:nvPr/>
          </p:nvSpPr>
          <p:spPr>
            <a:xfrm>
              <a:off x="990360" y="27622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68596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cc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3000" y="299088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019920" y="1314360"/>
            <a:ext cx="1752480" cy="3353040"/>
            <a:chOff x="6019920" y="1314360"/>
            <a:chExt cx="1752480" cy="3353040"/>
          </a:xfrm>
        </p:grpSpPr>
        <p:sp>
          <p:nvSpPr>
            <p:cNvPr id="230" name=""/>
            <p:cNvSpPr/>
            <p:nvPr/>
          </p:nvSpPr>
          <p:spPr>
            <a:xfrm>
              <a:off x="6096240" y="1390680"/>
              <a:ext cx="1676160" cy="3276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9920" y="1314360"/>
              <a:ext cx="1676520" cy="3276720"/>
            </a:xfrm>
            <a:prstGeom prst="rect">
              <a:avLst/>
            </a:prstGeom>
            <a:solidFill>
              <a:srgbClr val="cc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553440" y="1467000"/>
              <a:ext cx="914400" cy="2971800"/>
              <a:chOff x="6553440" y="1467000"/>
              <a:chExt cx="914400" cy="2971800"/>
            </a:xfrm>
          </p:grpSpPr>
          <p:sp>
            <p:nvSpPr>
              <p:cNvPr id="233" name=""/>
              <p:cNvSpPr/>
              <p:nvPr/>
            </p:nvSpPr>
            <p:spPr>
              <a:xfrm>
                <a:off x="6553440" y="1467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53440" y="1695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53440" y="1924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53440" y="2152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553440" y="2381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53440" y="2838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53440" y="2610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53440" y="3067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53440" y="3295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53440" y="3524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53440" y="3753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53440" y="4210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53440" y="3981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6248520" y="13906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16192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19920" y="413388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324840" y="93348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152800"/>
            <a:ext cx="1218960" cy="2361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2076480"/>
            <a:ext cx="1219320" cy="2362320"/>
          </a:xfrm>
          <a:prstGeom prst="rect">
            <a:avLst/>
          </a:prstGeom>
          <a:solidFill>
            <a:srgbClr val="cc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733920" y="2228760"/>
            <a:ext cx="533160" cy="2057400"/>
            <a:chOff x="3733920" y="2228760"/>
            <a:chExt cx="533160" cy="2057400"/>
          </a:xfrm>
        </p:grpSpPr>
        <p:sp>
          <p:nvSpPr>
            <p:cNvPr id="253" name=""/>
            <p:cNvSpPr/>
            <p:nvPr/>
          </p:nvSpPr>
          <p:spPr>
            <a:xfrm>
              <a:off x="3733920" y="2228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33920" y="2457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33920" y="2685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3920" y="2914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920" y="31431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33920" y="3600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3920" y="3371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33920" y="3828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4057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9000" y="215280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238140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398160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84200" y="166356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057400" y="283824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43440" y="27147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0" y="3638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280044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38480" y="253332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057040" y="337140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733560" y="3828600"/>
            <a:ext cx="533520" cy="228600"/>
            <a:chOff x="3733560" y="3828600"/>
            <a:chExt cx="533520" cy="228600"/>
          </a:xfrm>
        </p:grpSpPr>
        <p:sp>
          <p:nvSpPr>
            <p:cNvPr id="273" name=""/>
            <p:cNvSpPr/>
            <p:nvPr/>
          </p:nvSpPr>
          <p:spPr>
            <a:xfrm flipV="1">
              <a:off x="373392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73356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733560" y="3142800"/>
            <a:ext cx="533520" cy="228600"/>
            <a:chOff x="3733560" y="3142800"/>
            <a:chExt cx="533520" cy="228600"/>
          </a:xfrm>
        </p:grpSpPr>
        <p:sp>
          <p:nvSpPr>
            <p:cNvPr id="276" name=""/>
            <p:cNvSpPr/>
            <p:nvPr/>
          </p:nvSpPr>
          <p:spPr>
            <a:xfrm flipV="1">
              <a:off x="373392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373356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572000" y="4591080"/>
            <a:ext cx="1295280" cy="666720"/>
            <a:chOff x="4572000" y="4591080"/>
            <a:chExt cx="1295280" cy="666720"/>
          </a:xfrm>
        </p:grpSpPr>
        <p:sp>
          <p:nvSpPr>
            <p:cNvPr id="279" name=""/>
            <p:cNvSpPr/>
            <p:nvPr/>
          </p:nvSpPr>
          <p:spPr>
            <a:xfrm>
              <a:off x="4572000" y="4743720"/>
              <a:ext cx="1295280" cy="380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72000" y="4591080"/>
              <a:ext cx="1295280" cy="666720"/>
              <a:chOff x="4572000" y="4591080"/>
              <a:chExt cx="1295280" cy="666720"/>
            </a:xfrm>
          </p:grpSpPr>
          <p:sp>
            <p:nvSpPr>
              <p:cNvPr id="281" name=""/>
              <p:cNvSpPr/>
              <p:nvPr/>
            </p:nvSpPr>
            <p:spPr>
              <a:xfrm>
                <a:off x="4572000" y="4591080"/>
                <a:ext cx="1295280" cy="304920"/>
              </a:xfrm>
              <a:prstGeom prst="ellipse">
                <a:avLst/>
              </a:prstGeom>
              <a:solidFill>
                <a:srgbClr val="cc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728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72000" y="512460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c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4876920" y="489600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10040" y="326700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00680" y="394344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7240" y="192420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720" y="200016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449568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hits,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Demand 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066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nceptual address translatio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bits of address (page number) mapped from virtual addr. to physical add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its (page offset) stay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2771640"/>
            <a:ext cx="3286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77164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1280" y="274320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981680"/>
            <a:ext cx="28288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41680" y="498168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28040" y="498168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54520" y="321300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78560" y="46483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1520" y="46483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51120" y="3857760"/>
            <a:ext cx="2425680" cy="36828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16240" y="46483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37000" y="46483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7040" y="24670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35640" y="243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24382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40280" y="243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3960" y="3152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3960" y="428004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56386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ddress translation through page tabl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(set of) page table(s) per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N forms index into page table (points to a page table ent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38080" y="2217600"/>
            <a:ext cx="7359840" cy="4411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178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ress translation with TL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1295280"/>
            <a:ext cx="216540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87680" y="1295280"/>
            <a:ext cx="117504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860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288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0716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97400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ches are physicall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ddress translation before cache lookup, could potentially go to memory =*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5105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15000" y="373392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29000" y="63500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416400" y="45716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74284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397480" y="45464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97480" y="455292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7144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5252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47052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7242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495680" y="4698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1280" y="472428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14800" y="64008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339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 (TLB hi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ches are physicall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ddress translation before cache lookup, could potentially go to memory =*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5105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373392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429000" y="63500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416400" y="45716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74284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397480" y="45464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97480" y="455292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7144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252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47052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05320" y="47242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495680" y="4698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1280" y="472428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64008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76520" y="37339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 (TLB miss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but page table is in cache/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41911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00800" y="27432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3048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30481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429000" y="5435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416400" y="36572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74284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410080" y="4495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44956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71440" y="27432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1080" y="2438280"/>
            <a:ext cx="252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P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2819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3400" y="3790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38098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495680" y="37843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4864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76520" y="28195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572000" y="3962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04800" y="365760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80024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3352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440" y="335268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What is the worst case mem read 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(most delay)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page fault on page table, then page fault on memory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180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22860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1480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590920" y="49784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577960" y="3200040"/>
            <a:ext cx="1296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904760" y="320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572000" y="4038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33360" y="22860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113000" y="1981080"/>
            <a:ext cx="252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P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23623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3333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3352680"/>
            <a:ext cx="99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657600" y="3327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76720" y="50292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2362320"/>
            <a:ext cx="107964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7339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66360" y="320040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9621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2895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19360" y="289548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15000" y="5105520"/>
            <a:ext cx="1752480" cy="457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5000" y="6095880"/>
            <a:ext cx="1752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674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095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238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4495680"/>
            <a:ext cx="129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9400" y="4495680"/>
            <a:ext cx="129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nd-to-end addr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-bit virtual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-bit physical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 size is 1024 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LB is 2-way associative with 16 total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shel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51240" y="12812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06240" y="13539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51604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1520" y="5210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3064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61000" y="3595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70600" y="360216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6560" y="26971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6032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2752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42440" y="4552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5440" y="45626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9040" y="4937040"/>
            <a:ext cx="55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job has a unique process group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tpgid(pid_t pid, pid_t pg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Virtu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hysic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71480" y="2209680"/>
            <a:ext cx="7734240" cy="609480"/>
            <a:chOff x="771480" y="2209680"/>
            <a:chExt cx="7734240" cy="609480"/>
          </a:xfrm>
        </p:grpSpPr>
        <p:grpSp>
          <p:nvGrpSpPr>
            <p:cNvPr id="518" name=""/>
            <p:cNvGrpSpPr/>
            <p:nvPr/>
          </p:nvGrpSpPr>
          <p:grpSpPr>
            <a:xfrm>
              <a:off x="1933560" y="2209680"/>
              <a:ext cx="387360" cy="609480"/>
              <a:chOff x="1933560" y="2209680"/>
              <a:chExt cx="387360" cy="609480"/>
            </a:xfrm>
          </p:grpSpPr>
          <p:sp>
            <p:nvSpPr>
              <p:cNvPr id="519" name=""/>
              <p:cNvSpPr/>
              <p:nvPr/>
            </p:nvSpPr>
            <p:spPr>
              <a:xfrm>
                <a:off x="1933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33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320920" y="2209680"/>
              <a:ext cx="385920" cy="609480"/>
              <a:chOff x="2320920" y="2209680"/>
              <a:chExt cx="3859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2320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20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706840" y="2209680"/>
              <a:ext cx="387360" cy="609480"/>
              <a:chOff x="2706840" y="2209680"/>
              <a:chExt cx="387360" cy="609480"/>
            </a:xfrm>
          </p:grpSpPr>
          <p:sp>
            <p:nvSpPr>
              <p:cNvPr id="525" name=""/>
              <p:cNvSpPr/>
              <p:nvPr/>
            </p:nvSpPr>
            <p:spPr>
              <a:xfrm>
                <a:off x="270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0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3094200" y="2209680"/>
              <a:ext cx="387360" cy="609480"/>
              <a:chOff x="3094200" y="2209680"/>
              <a:chExt cx="387360" cy="609480"/>
            </a:xfrm>
          </p:grpSpPr>
          <p:sp>
            <p:nvSpPr>
              <p:cNvPr id="528" name=""/>
              <p:cNvSpPr/>
              <p:nvPr/>
            </p:nvSpPr>
            <p:spPr>
              <a:xfrm>
                <a:off x="309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9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3481560" y="2209680"/>
              <a:ext cx="387000" cy="609480"/>
              <a:chOff x="3481560" y="2209680"/>
              <a:chExt cx="387000" cy="609480"/>
            </a:xfrm>
          </p:grpSpPr>
          <p:sp>
            <p:nvSpPr>
              <p:cNvPr id="531" name=""/>
              <p:cNvSpPr/>
              <p:nvPr/>
            </p:nvSpPr>
            <p:spPr>
              <a:xfrm>
                <a:off x="3481560" y="25142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481560" y="22096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868560" y="2209680"/>
              <a:ext cx="387360" cy="609480"/>
              <a:chOff x="3868560" y="2209680"/>
              <a:chExt cx="387360" cy="609480"/>
            </a:xfrm>
          </p:grpSpPr>
          <p:sp>
            <p:nvSpPr>
              <p:cNvPr id="534" name=""/>
              <p:cNvSpPr/>
              <p:nvPr/>
            </p:nvSpPr>
            <p:spPr>
              <a:xfrm>
                <a:off x="3868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68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255920" y="2209680"/>
              <a:ext cx="385920" cy="609480"/>
              <a:chOff x="4255920" y="2209680"/>
              <a:chExt cx="385920" cy="60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4255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55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4641840" y="2209680"/>
              <a:ext cx="387360" cy="609480"/>
              <a:chOff x="4641840" y="2209680"/>
              <a:chExt cx="387360" cy="609480"/>
            </a:xfrm>
          </p:grpSpPr>
          <p:sp>
            <p:nvSpPr>
              <p:cNvPr id="540" name=""/>
              <p:cNvSpPr/>
              <p:nvPr/>
            </p:nvSpPr>
            <p:spPr>
              <a:xfrm>
                <a:off x="4641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641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029200" y="2209680"/>
              <a:ext cx="387360" cy="609480"/>
              <a:chOff x="5029200" y="2209680"/>
              <a:chExt cx="387360" cy="60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5029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029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416560" y="2209680"/>
              <a:ext cx="387360" cy="609480"/>
              <a:chOff x="5416560" y="2209680"/>
              <a:chExt cx="387360" cy="609480"/>
            </a:xfrm>
          </p:grpSpPr>
          <p:sp>
            <p:nvSpPr>
              <p:cNvPr id="546" name=""/>
              <p:cNvSpPr/>
              <p:nvPr/>
            </p:nvSpPr>
            <p:spPr>
              <a:xfrm>
                <a:off x="5416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16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803920" y="2209680"/>
              <a:ext cx="387360" cy="609480"/>
              <a:chOff x="5803920" y="2209680"/>
              <a:chExt cx="387360" cy="609480"/>
            </a:xfrm>
          </p:grpSpPr>
          <p:sp>
            <p:nvSpPr>
              <p:cNvPr id="549" name=""/>
              <p:cNvSpPr/>
              <p:nvPr/>
            </p:nvSpPr>
            <p:spPr>
              <a:xfrm>
                <a:off x="580392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0392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6191280" y="2209680"/>
              <a:ext cx="385560" cy="609480"/>
              <a:chOff x="6191280" y="2209680"/>
              <a:chExt cx="385560" cy="609480"/>
            </a:xfrm>
          </p:grpSpPr>
          <p:sp>
            <p:nvSpPr>
              <p:cNvPr id="552" name=""/>
              <p:cNvSpPr/>
              <p:nvPr/>
            </p:nvSpPr>
            <p:spPr>
              <a:xfrm>
                <a:off x="6191280" y="25142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91280" y="22096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576840" y="2209680"/>
              <a:ext cx="387360" cy="609480"/>
              <a:chOff x="6576840" y="2209680"/>
              <a:chExt cx="387360" cy="609480"/>
            </a:xfrm>
          </p:grpSpPr>
          <p:sp>
            <p:nvSpPr>
              <p:cNvPr id="555" name=""/>
              <p:cNvSpPr/>
              <p:nvPr/>
            </p:nvSpPr>
            <p:spPr>
              <a:xfrm>
                <a:off x="657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57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964200" y="2209680"/>
              <a:ext cx="387360" cy="609480"/>
              <a:chOff x="6964200" y="2209680"/>
              <a:chExt cx="387360" cy="609480"/>
            </a:xfrm>
          </p:grpSpPr>
          <p:sp>
            <p:nvSpPr>
              <p:cNvPr id="558" name=""/>
              <p:cNvSpPr/>
              <p:nvPr/>
            </p:nvSpPr>
            <p:spPr>
              <a:xfrm>
                <a:off x="696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96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549440" y="2209680"/>
              <a:ext cx="387360" cy="609480"/>
              <a:chOff x="1549440" y="2209680"/>
              <a:chExt cx="387360" cy="609480"/>
            </a:xfrm>
          </p:grpSpPr>
          <p:sp>
            <p:nvSpPr>
              <p:cNvPr id="561" name=""/>
              <p:cNvSpPr/>
              <p:nvPr/>
            </p:nvSpPr>
            <p:spPr>
              <a:xfrm>
                <a:off x="15494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494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155600" y="2209680"/>
              <a:ext cx="387360" cy="609480"/>
              <a:chOff x="1155600" y="2209680"/>
              <a:chExt cx="387360" cy="609480"/>
            </a:xfrm>
          </p:grpSpPr>
          <p:sp>
            <p:nvSpPr>
              <p:cNvPr id="564" name=""/>
              <p:cNvSpPr/>
              <p:nvPr/>
            </p:nvSpPr>
            <p:spPr>
              <a:xfrm>
                <a:off x="11556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556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7348680" y="2209680"/>
              <a:ext cx="387360" cy="609480"/>
              <a:chOff x="7348680" y="2209680"/>
              <a:chExt cx="387360" cy="609480"/>
            </a:xfrm>
          </p:grpSpPr>
          <p:sp>
            <p:nvSpPr>
              <p:cNvPr id="567" name=""/>
              <p:cNvSpPr/>
              <p:nvPr/>
            </p:nvSpPr>
            <p:spPr>
              <a:xfrm>
                <a:off x="73486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486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7732800" y="2209680"/>
              <a:ext cx="387360" cy="609480"/>
              <a:chOff x="7732800" y="2209680"/>
              <a:chExt cx="387360" cy="609480"/>
            </a:xfrm>
          </p:grpSpPr>
          <p:sp>
            <p:nvSpPr>
              <p:cNvPr id="570" name=""/>
              <p:cNvSpPr/>
              <p:nvPr/>
            </p:nvSpPr>
            <p:spPr>
              <a:xfrm>
                <a:off x="77328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328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8118360" y="2209680"/>
              <a:ext cx="387360" cy="609480"/>
              <a:chOff x="8118360" y="2209680"/>
              <a:chExt cx="387360" cy="609480"/>
            </a:xfrm>
          </p:grpSpPr>
          <p:sp>
            <p:nvSpPr>
              <p:cNvPr id="573" name=""/>
              <p:cNvSpPr/>
              <p:nvPr/>
            </p:nvSpPr>
            <p:spPr>
              <a:xfrm>
                <a:off x="81183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183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71480" y="2209680"/>
              <a:ext cx="387360" cy="609480"/>
              <a:chOff x="771480" y="2209680"/>
              <a:chExt cx="387360" cy="609480"/>
            </a:xfrm>
          </p:grpSpPr>
          <p:sp>
            <p:nvSpPr>
              <p:cNvPr id="576" name=""/>
              <p:cNvSpPr/>
              <p:nvPr/>
            </p:nvSpPr>
            <p:spPr>
              <a:xfrm>
                <a:off x="7714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14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 rot="5400000">
            <a:off x="6438600" y="110448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2590560" y="1066320"/>
            <a:ext cx="228600" cy="3886200"/>
          </a:xfrm>
          <a:custGeom>
            <a:avLst/>
            <a:gdLst>
              <a:gd name="textAreaLeft" fmla="*/ 0 w 228600"/>
              <a:gd name="textAreaRight" fmla="*/ 82440 w 2286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24240" y="31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1640" y="3143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1981080" y="70452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924360" y="14284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53920" y="1600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78120" y="1600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539720" y="4724280"/>
            <a:ext cx="6956640" cy="609480"/>
            <a:chOff x="1539720" y="4724280"/>
            <a:chExt cx="6956640" cy="609480"/>
          </a:xfrm>
        </p:grpSpPr>
        <p:grpSp>
          <p:nvGrpSpPr>
            <p:cNvPr id="587" name=""/>
            <p:cNvGrpSpPr/>
            <p:nvPr/>
          </p:nvGrpSpPr>
          <p:grpSpPr>
            <a:xfrm>
              <a:off x="1924200" y="4724280"/>
              <a:ext cx="387360" cy="609480"/>
              <a:chOff x="1924200" y="4724280"/>
              <a:chExt cx="387360" cy="609480"/>
            </a:xfrm>
          </p:grpSpPr>
          <p:sp>
            <p:nvSpPr>
              <p:cNvPr id="588" name=""/>
              <p:cNvSpPr/>
              <p:nvPr/>
            </p:nvSpPr>
            <p:spPr>
              <a:xfrm>
                <a:off x="192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2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311560" y="4724280"/>
              <a:ext cx="385560" cy="609480"/>
              <a:chOff x="2311560" y="4724280"/>
              <a:chExt cx="385560" cy="609480"/>
            </a:xfrm>
          </p:grpSpPr>
          <p:sp>
            <p:nvSpPr>
              <p:cNvPr id="591" name=""/>
              <p:cNvSpPr/>
              <p:nvPr/>
            </p:nvSpPr>
            <p:spPr>
              <a:xfrm>
                <a:off x="2311560" y="50288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11560" y="47242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97120" y="4724280"/>
              <a:ext cx="387360" cy="609480"/>
              <a:chOff x="2697120" y="4724280"/>
              <a:chExt cx="387360" cy="60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26971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971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084480" y="4724280"/>
              <a:ext cx="387360" cy="609480"/>
              <a:chOff x="3084480" y="4724280"/>
              <a:chExt cx="387360" cy="609480"/>
            </a:xfrm>
          </p:grpSpPr>
          <p:sp>
            <p:nvSpPr>
              <p:cNvPr id="597" name=""/>
              <p:cNvSpPr/>
              <p:nvPr/>
            </p:nvSpPr>
            <p:spPr>
              <a:xfrm>
                <a:off x="3084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84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471840" y="4724280"/>
              <a:ext cx="387360" cy="609480"/>
              <a:chOff x="3471840" y="4724280"/>
              <a:chExt cx="387360" cy="609480"/>
            </a:xfrm>
          </p:grpSpPr>
          <p:sp>
            <p:nvSpPr>
              <p:cNvPr id="600" name=""/>
              <p:cNvSpPr/>
              <p:nvPr/>
            </p:nvSpPr>
            <p:spPr>
              <a:xfrm>
                <a:off x="3471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71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859200" y="4724280"/>
              <a:ext cx="387360" cy="609480"/>
              <a:chOff x="3859200" y="4724280"/>
              <a:chExt cx="387360" cy="609480"/>
            </a:xfrm>
          </p:grpSpPr>
          <p:sp>
            <p:nvSpPr>
              <p:cNvPr id="603" name=""/>
              <p:cNvSpPr/>
              <p:nvPr/>
            </p:nvSpPr>
            <p:spPr>
              <a:xfrm>
                <a:off x="3859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59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246560" y="4724280"/>
              <a:ext cx="385920" cy="609480"/>
              <a:chOff x="4246560" y="4724280"/>
              <a:chExt cx="385920" cy="609480"/>
            </a:xfrm>
          </p:grpSpPr>
          <p:sp>
            <p:nvSpPr>
              <p:cNvPr id="606" name=""/>
              <p:cNvSpPr/>
              <p:nvPr/>
            </p:nvSpPr>
            <p:spPr>
              <a:xfrm>
                <a:off x="4246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46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632480" y="4724280"/>
              <a:ext cx="387360" cy="609480"/>
              <a:chOff x="4632480" y="4724280"/>
              <a:chExt cx="387360" cy="609480"/>
            </a:xfrm>
          </p:grpSpPr>
          <p:sp>
            <p:nvSpPr>
              <p:cNvPr id="609" name=""/>
              <p:cNvSpPr/>
              <p:nvPr/>
            </p:nvSpPr>
            <p:spPr>
              <a:xfrm>
                <a:off x="4632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32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019840" y="4724280"/>
              <a:ext cx="387360" cy="609480"/>
              <a:chOff x="5019840" y="4724280"/>
              <a:chExt cx="387360" cy="609480"/>
            </a:xfrm>
          </p:grpSpPr>
          <p:sp>
            <p:nvSpPr>
              <p:cNvPr id="612" name=""/>
              <p:cNvSpPr/>
              <p:nvPr/>
            </p:nvSpPr>
            <p:spPr>
              <a:xfrm>
                <a:off x="5019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19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407200" y="4724280"/>
              <a:ext cx="387000" cy="609480"/>
              <a:chOff x="5407200" y="4724280"/>
              <a:chExt cx="38700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5407200" y="50288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07200" y="47242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794200" y="4724280"/>
              <a:ext cx="387360" cy="609480"/>
              <a:chOff x="5794200" y="4724280"/>
              <a:chExt cx="387360" cy="609480"/>
            </a:xfrm>
          </p:grpSpPr>
          <p:sp>
            <p:nvSpPr>
              <p:cNvPr id="618" name=""/>
              <p:cNvSpPr/>
              <p:nvPr/>
            </p:nvSpPr>
            <p:spPr>
              <a:xfrm>
                <a:off x="579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79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181560" y="4724280"/>
              <a:ext cx="385920" cy="609480"/>
              <a:chOff x="6181560" y="4724280"/>
              <a:chExt cx="385920" cy="609480"/>
            </a:xfrm>
          </p:grpSpPr>
          <p:sp>
            <p:nvSpPr>
              <p:cNvPr id="621" name=""/>
              <p:cNvSpPr/>
              <p:nvPr/>
            </p:nvSpPr>
            <p:spPr>
              <a:xfrm>
                <a:off x="6181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181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567480" y="4724280"/>
              <a:ext cx="387360" cy="609480"/>
              <a:chOff x="6567480" y="4724280"/>
              <a:chExt cx="387360" cy="609480"/>
            </a:xfrm>
          </p:grpSpPr>
          <p:sp>
            <p:nvSpPr>
              <p:cNvPr id="624" name=""/>
              <p:cNvSpPr/>
              <p:nvPr/>
            </p:nvSpPr>
            <p:spPr>
              <a:xfrm>
                <a:off x="6567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67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954840" y="4724280"/>
              <a:ext cx="387360" cy="609480"/>
              <a:chOff x="6954840" y="4724280"/>
              <a:chExt cx="387360" cy="609480"/>
            </a:xfrm>
          </p:grpSpPr>
          <p:sp>
            <p:nvSpPr>
              <p:cNvPr id="627" name=""/>
              <p:cNvSpPr/>
              <p:nvPr/>
            </p:nvSpPr>
            <p:spPr>
              <a:xfrm>
                <a:off x="6954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54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1539720" y="4724280"/>
              <a:ext cx="387360" cy="609480"/>
              <a:chOff x="1539720" y="4724280"/>
              <a:chExt cx="387360" cy="609480"/>
            </a:xfrm>
          </p:grpSpPr>
          <p:sp>
            <p:nvSpPr>
              <p:cNvPr id="630" name=""/>
              <p:cNvSpPr/>
              <p:nvPr/>
            </p:nvSpPr>
            <p:spPr>
              <a:xfrm>
                <a:off x="15397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5397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7338960" y="4724280"/>
              <a:ext cx="387360" cy="609480"/>
              <a:chOff x="7338960" y="4724280"/>
              <a:chExt cx="387360" cy="609480"/>
            </a:xfrm>
          </p:grpSpPr>
          <p:sp>
            <p:nvSpPr>
              <p:cNvPr id="633" name=""/>
              <p:cNvSpPr/>
              <p:nvPr/>
            </p:nvSpPr>
            <p:spPr>
              <a:xfrm>
                <a:off x="733896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3896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7723080" y="4724280"/>
              <a:ext cx="387360" cy="609480"/>
              <a:chOff x="7723080" y="4724280"/>
              <a:chExt cx="387360" cy="609480"/>
            </a:xfrm>
          </p:grpSpPr>
          <p:sp>
            <p:nvSpPr>
              <p:cNvPr id="636" name=""/>
              <p:cNvSpPr/>
              <p:nvPr/>
            </p:nvSpPr>
            <p:spPr>
              <a:xfrm>
                <a:off x="77230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7230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8109000" y="4724280"/>
              <a:ext cx="387360" cy="609480"/>
              <a:chOff x="8109000" y="4724280"/>
              <a:chExt cx="387360" cy="609480"/>
            </a:xfrm>
          </p:grpSpPr>
          <p:sp>
            <p:nvSpPr>
              <p:cNvPr id="639" name=""/>
              <p:cNvSpPr/>
              <p:nvPr/>
            </p:nvSpPr>
            <p:spPr>
              <a:xfrm>
                <a:off x="81090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1090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"/>
          <p:cNvSpPr/>
          <p:nvPr/>
        </p:nvSpPr>
        <p:spPr>
          <a:xfrm rot="5400000">
            <a:off x="6438600" y="361476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2971440" y="3957480"/>
            <a:ext cx="228600" cy="312444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76680" y="5648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281640" y="5653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: TLB and page tab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1200240" y="1019160"/>
            <a:ext cx="7029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04A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4AA4 =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00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1010 00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78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78E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3" name=""/>
          <p:cNvSpPr/>
          <p:nvPr/>
        </p:nvSpPr>
        <p:spPr>
          <a:xfrm>
            <a:off x="2768400" y="14320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11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034280" y="495936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0101 11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nd-to-end address transl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6.4: a concret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arefully and solve practice problem 1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shell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5924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6560" y="345924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45924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1240" y="21337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9220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1792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58840" y="4281480"/>
            <a:ext cx="18288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8600" y="427824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46600" y="29131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21040" y="282096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21360" y="278136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9240" y="198108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35268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1520" y="60469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3064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61000" y="44323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70600" y="44388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9748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6560" y="35337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6032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2752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42440" y="53895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5440" y="5398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3040" y="94284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5200" y="10159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28" idx="0"/>
          </p:cNvCxnSpPr>
          <p:nvPr/>
        </p:nvCxnSpPr>
        <p:spPr>
          <a:xfrm flipH="1">
            <a:off x="4742640" y="1719000"/>
            <a:ext cx="252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 rot="20220600">
            <a:off x="5180040" y="2209680"/>
            <a:ext cx="619200" cy="133560"/>
          </a:xfrm>
          <a:prstGeom prst="leftArrow">
            <a:avLst>
              <a:gd name="adj1" fmla="val 50000"/>
              <a:gd name="adj2" fmla="val 1159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1735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eground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receives SIGINT, SIGTSTP, when you type ctrl-c, ctrl-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047760" y="2895480"/>
            <a:ext cx="9903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782000">
            <a:off x="2594520" y="28188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ward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79800" y="5159520"/>
            <a:ext cx="5007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kill(pid_t pid, int s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&gt; 0: send sig to specifi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0: send sig to all processes in sa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id &lt; -1: send sig to group -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e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execve(const char *fna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const argv[]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const envp[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“/bin/ls”, NULL, 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“./mytest”, argv, env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aitpid(pid_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for child process with pid (process id or group 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ait for any chil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u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why child ter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NOHANG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immediately if no children zomb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UNTRACE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status of terminated or stopp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Lab 5,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aitpid(-1, &amp;status, WNOHANG|WUNTRAC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(c_pid = waitpid(…)) &gt; 0) { … 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WNOHANG|WUNTRA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check in sigchld_hand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EXITED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exited normally (the child finished, and quit normally on its 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EXITSTATUS(status)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s code when child ex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IGNALED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exited because a signal is not caught (SIGINT, or typing CTRL-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TERMSIG(status):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s the terminating signal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TOPPED(status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is stopped by the receipt of a signal (SIGSTOP, or typing CTRL-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STOPSIG(status)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s the stop signal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(part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p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 should still wait for fg job to complete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usy wait for foreground jo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ork() != 0) 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21T15:01:46Z</dcterms:modified>
  <cp:revision>473</cp:revision>
  <dc:subject/>
  <dc:title>Recitation 5</dc:title>
</cp:coreProperties>
</file>