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44AB-84D1-41AD-BE8A-402CC3822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566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0686-7E08-4A36-803F-936E3DF29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0284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5859-9BF6-4094-80EA-50693CA0D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8240" y="9907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50680" y="9907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566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8240" y="38566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50680" y="38566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E2C8-7707-49EC-9C57-4350878FA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05133-524B-46B3-B251-3BF8B3F8D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183E8-361D-47B9-8BCE-D452C1D34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B9BC0-3B37-4478-B10C-3A01D860F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E5AEC-79A4-4D26-A499-A148CA00A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E3C31-E6F6-4BD5-A7B6-CC63F0A25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33F89-EF08-482D-B45A-39455AE5B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C6341-9ED3-41B2-A75D-2A474C5BB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EC3A-0110-4A86-87F0-66171D71B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0284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5256C-947A-4208-87EA-6781DCFA5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92105-CA97-4742-A9B1-8E7096F6B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5800" y="38566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EF51A-CAB3-411B-83AD-9C482E2F7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0284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AD092-E6EF-44BD-AD20-59F201493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68240" y="9907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250680" y="9907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5800" y="38566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468240" y="38566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250680" y="38566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CD03F-DEF8-43E3-83AF-CE6E99632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FA51-2FDA-41E2-A340-20227BD80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1CCA-07AB-48EC-8D9C-05907A673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9C35-2970-4114-8D16-72405C3E3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B377-4C2E-4DBB-BAB2-C10972D3E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74E1-3BBF-4962-8EFA-24235E7D1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0284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64AD-DD8D-416B-A8E8-3517CCC01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5230-A5C7-4179-BE59-57D00ADD9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4197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380880" y="857160"/>
            <a:ext cx="8583840" cy="0"/>
          </a:xfrm>
          <a:prstGeom prst="line">
            <a:avLst/>
          </a:prstGeom>
          <a:ln w="190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7EA49-AB47-47E7-80D9-4079F821EAD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44197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7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1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ECCF0-FF4D-42B0-81EC-B6806EE9A63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Section A (March 14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3560" y="1244160"/>
            <a:ext cx="3795840" cy="451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local ju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Remin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4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e Next Thursd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874760" y="1368360"/>
            <a:ext cx="404028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: Kun Ga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meless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ied fr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glong Shao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itation, Fall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0" y="1371600"/>
            <a:ext cx="0" cy="449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Important signals (Fig 8.23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rupt signal from terminal  (ctrl-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TS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op signal from terminal (ctrl-z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CH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child process has stopped or termina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How to Send Signal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 kill(pid_t pid, int sig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 kill(pid_t gid, int sig), where gid is negat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can also send a signal to it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 alarm(unsigned int secs) to send a SIGALRM sign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we use signals to count ev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Why? Signals not queued!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Signals: sending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23760" y="3038400"/>
            <a:ext cx="7372440" cy="281952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7120" y="5257800"/>
            <a:ext cx="172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4438800" y="1333440"/>
            <a:ext cx="2190600" cy="1219320"/>
            <a:chOff x="4438800" y="1333440"/>
            <a:chExt cx="2190600" cy="1219320"/>
          </a:xfrm>
        </p:grpSpPr>
        <p:sp>
          <p:nvSpPr>
            <p:cNvPr id="122" name=""/>
            <p:cNvSpPr/>
            <p:nvPr/>
          </p:nvSpPr>
          <p:spPr>
            <a:xfrm>
              <a:off x="4438800" y="1333440"/>
              <a:ext cx="2190600" cy="12193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4647960" y="2209680"/>
              <a:ext cx="1828440" cy="233640"/>
              <a:chOff x="4647960" y="2209680"/>
              <a:chExt cx="1828440" cy="233640"/>
            </a:xfrm>
          </p:grpSpPr>
          <p:sp>
            <p:nvSpPr>
              <p:cNvPr id="124" name=""/>
              <p:cNvSpPr/>
              <p:nvPr/>
            </p:nvSpPr>
            <p:spPr>
              <a:xfrm>
                <a:off x="4647960" y="2209680"/>
                <a:ext cx="1828440" cy="228600"/>
              </a:xfrm>
              <a:prstGeom prst="rect">
                <a:avLst/>
              </a:prstGeom>
              <a:solidFill>
                <a:srgbClr val="fff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00240" y="2209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952520" y="2209680"/>
                <a:ext cx="0" cy="23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104800" y="2209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257440" y="2209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409720" y="2209680"/>
                <a:ext cx="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562000" y="2209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714640" y="2209680"/>
                <a:ext cx="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866920" y="2209680"/>
                <a:ext cx="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019200" y="2209680"/>
                <a:ext cx="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171840" y="2209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324120" y="2209680"/>
                <a:ext cx="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4647960" y="1905120"/>
              <a:ext cx="1828440" cy="233280"/>
              <a:chOff x="4647960" y="1905120"/>
              <a:chExt cx="1828440" cy="233280"/>
            </a:xfrm>
          </p:grpSpPr>
          <p:sp>
            <p:nvSpPr>
              <p:cNvPr id="137" name=""/>
              <p:cNvSpPr/>
              <p:nvPr/>
            </p:nvSpPr>
            <p:spPr>
              <a:xfrm>
                <a:off x="4647960" y="1905120"/>
                <a:ext cx="1828440" cy="228240"/>
              </a:xfrm>
              <a:prstGeom prst="rect">
                <a:avLst/>
              </a:prstGeom>
              <a:solidFill>
                <a:srgbClr val="fff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00240" y="190512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952520" y="1905120"/>
                <a:ext cx="0" cy="23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04800" y="190512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257440" y="190512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09720" y="1905120"/>
                <a:ext cx="0" cy="22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562000" y="190512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14640" y="1905120"/>
                <a:ext cx="0" cy="22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866920" y="1905120"/>
                <a:ext cx="0" cy="22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19200" y="1905120"/>
                <a:ext cx="0" cy="22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171840" y="190512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24120" y="1905120"/>
                <a:ext cx="0" cy="22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9" name=""/>
          <p:cNvGrpSpPr/>
          <p:nvPr/>
        </p:nvGrpSpPr>
        <p:grpSpPr>
          <a:xfrm>
            <a:off x="6477120" y="1714680"/>
            <a:ext cx="1504800" cy="459720"/>
            <a:chOff x="6477120" y="1714680"/>
            <a:chExt cx="1504800" cy="459720"/>
          </a:xfrm>
        </p:grpSpPr>
        <p:sp>
          <p:nvSpPr>
            <p:cNvPr id="150" name=""/>
            <p:cNvSpPr/>
            <p:nvPr/>
          </p:nvSpPr>
          <p:spPr>
            <a:xfrm>
              <a:off x="6477120" y="19810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762600" y="171468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Times New Roman"/>
                </a:rPr>
                <a:t>block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477120" y="2114640"/>
            <a:ext cx="1504800" cy="459720"/>
            <a:chOff x="6477120" y="2114640"/>
            <a:chExt cx="1504800" cy="459720"/>
          </a:xfrm>
        </p:grpSpPr>
        <p:sp>
          <p:nvSpPr>
            <p:cNvPr id="153" name=""/>
            <p:cNvSpPr/>
            <p:nvPr/>
          </p:nvSpPr>
          <p:spPr>
            <a:xfrm>
              <a:off x="6477120" y="23810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62600" y="211464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Times New Roman"/>
                </a:rPr>
                <a:t>pend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5343480" y="217188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171440" y="1285920"/>
            <a:ext cx="2238480" cy="1266840"/>
            <a:chOff x="1171440" y="1285920"/>
            <a:chExt cx="2238480" cy="1266840"/>
          </a:xfrm>
        </p:grpSpPr>
        <p:sp>
          <p:nvSpPr>
            <p:cNvPr id="157" name=""/>
            <p:cNvSpPr/>
            <p:nvPr/>
          </p:nvSpPr>
          <p:spPr>
            <a:xfrm>
              <a:off x="1219320" y="1333440"/>
              <a:ext cx="2190600" cy="12193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171440" y="1285920"/>
              <a:ext cx="118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Process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4410000" y="1276200"/>
            <a:ext cx="118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Process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3457440" y="3943080"/>
            <a:ext cx="2266920" cy="1600560"/>
            <a:chOff x="3457440" y="3943080"/>
            <a:chExt cx="2266920" cy="1600560"/>
          </a:xfrm>
        </p:grpSpPr>
        <p:grpSp>
          <p:nvGrpSpPr>
            <p:cNvPr id="161" name=""/>
            <p:cNvGrpSpPr/>
            <p:nvPr/>
          </p:nvGrpSpPr>
          <p:grpSpPr>
            <a:xfrm>
              <a:off x="3457440" y="4667400"/>
              <a:ext cx="2266920" cy="876240"/>
              <a:chOff x="3457440" y="4667400"/>
              <a:chExt cx="2266920" cy="876240"/>
            </a:xfrm>
          </p:grpSpPr>
          <p:sp>
            <p:nvSpPr>
              <p:cNvPr id="162" name=""/>
              <p:cNvSpPr/>
              <p:nvPr/>
            </p:nvSpPr>
            <p:spPr>
              <a:xfrm>
                <a:off x="3457440" y="4667400"/>
                <a:ext cx="2200320" cy="876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476520" y="4800600"/>
                <a:ext cx="2247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3399"/>
                    </a:solidFill>
                    <a:latin typeface="Times New Roman"/>
                  </a:rPr>
                  <a:t>other events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 flipV="1">
              <a:off x="4600440" y="3943080"/>
              <a:ext cx="0" cy="723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3514680" y="3352680"/>
            <a:ext cx="2200320" cy="58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381480" y="340992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OS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143000" y="1819440"/>
            <a:ext cx="2438280" cy="1724040"/>
            <a:chOff x="1143000" y="1819440"/>
            <a:chExt cx="2438280" cy="1724040"/>
          </a:xfrm>
        </p:grpSpPr>
        <p:sp>
          <p:nvSpPr>
            <p:cNvPr id="168" name=""/>
            <p:cNvSpPr/>
            <p:nvPr/>
          </p:nvSpPr>
          <p:spPr>
            <a:xfrm>
              <a:off x="1143000" y="1819440"/>
              <a:ext cx="243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99"/>
                  </a:solidFill>
                  <a:latin typeface="Courier New"/>
                </a:rPr>
                <a:t>kill(pid, SIGIN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162160" y="2104920"/>
              <a:ext cx="1352520" cy="1438560"/>
            </a:xfrm>
            <a:custGeom>
              <a:avLst/>
              <a:gdLst/>
              <a:ahLst/>
              <a:rect l="l" t="t" r="r" b="b"/>
              <a:pathLst>
                <a:path w="846" h="624">
                  <a:moveTo>
                    <a:pt x="6" y="0"/>
                  </a:moveTo>
                  <a:lnTo>
                    <a:pt x="0" y="624"/>
                  </a:lnTo>
                  <a:lnTo>
                    <a:pt x="846" y="62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"/>
          <p:cNvSpPr/>
          <p:nvPr/>
        </p:nvSpPr>
        <p:spPr>
          <a:xfrm flipV="1">
            <a:off x="4867200" y="2448000"/>
            <a:ext cx="6001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162080" y="4000680"/>
            <a:ext cx="2209680" cy="178200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divide by zero: SIGF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ctrl-c: SIG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child process exit: SIGCH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Signals: receiving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23760" y="3038400"/>
            <a:ext cx="7372440" cy="281952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477120" y="5257800"/>
            <a:ext cx="172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4438800" y="1333440"/>
            <a:ext cx="2190600" cy="1219320"/>
            <a:chOff x="4438800" y="1333440"/>
            <a:chExt cx="2190600" cy="1219320"/>
          </a:xfrm>
        </p:grpSpPr>
        <p:sp>
          <p:nvSpPr>
            <p:cNvPr id="176" name=""/>
            <p:cNvSpPr/>
            <p:nvPr/>
          </p:nvSpPr>
          <p:spPr>
            <a:xfrm>
              <a:off x="4438800" y="1333440"/>
              <a:ext cx="2190600" cy="12193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" name=""/>
            <p:cNvGrpSpPr/>
            <p:nvPr/>
          </p:nvGrpSpPr>
          <p:grpSpPr>
            <a:xfrm>
              <a:off x="4647960" y="2209680"/>
              <a:ext cx="1828440" cy="233640"/>
              <a:chOff x="4647960" y="2209680"/>
              <a:chExt cx="1828440" cy="233640"/>
            </a:xfrm>
          </p:grpSpPr>
          <p:sp>
            <p:nvSpPr>
              <p:cNvPr id="178" name=""/>
              <p:cNvSpPr/>
              <p:nvPr/>
            </p:nvSpPr>
            <p:spPr>
              <a:xfrm>
                <a:off x="4647960" y="2209680"/>
                <a:ext cx="1828440" cy="228600"/>
              </a:xfrm>
              <a:prstGeom prst="rect">
                <a:avLst/>
              </a:prstGeom>
              <a:solidFill>
                <a:srgbClr val="fff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800240" y="2209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952520" y="2209680"/>
                <a:ext cx="0" cy="23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104800" y="2209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257440" y="2209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409720" y="2209680"/>
                <a:ext cx="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562000" y="2209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714640" y="2209680"/>
                <a:ext cx="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866920" y="2209680"/>
                <a:ext cx="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019200" y="2209680"/>
                <a:ext cx="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171840" y="2209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324120" y="2209680"/>
                <a:ext cx="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4647960" y="1905120"/>
              <a:ext cx="1828440" cy="233280"/>
              <a:chOff x="4647960" y="1905120"/>
              <a:chExt cx="1828440" cy="233280"/>
            </a:xfrm>
          </p:grpSpPr>
          <p:sp>
            <p:nvSpPr>
              <p:cNvPr id="191" name=""/>
              <p:cNvSpPr/>
              <p:nvPr/>
            </p:nvSpPr>
            <p:spPr>
              <a:xfrm>
                <a:off x="4647960" y="1905120"/>
                <a:ext cx="1828440" cy="228240"/>
              </a:xfrm>
              <a:prstGeom prst="rect">
                <a:avLst/>
              </a:prstGeom>
              <a:solidFill>
                <a:srgbClr val="fff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800240" y="190512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952520" y="1905120"/>
                <a:ext cx="0" cy="23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104800" y="190512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257440" y="190512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409720" y="1905120"/>
                <a:ext cx="0" cy="22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562000" y="190512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714640" y="1905120"/>
                <a:ext cx="0" cy="22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866920" y="1905120"/>
                <a:ext cx="0" cy="22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019200" y="1905120"/>
                <a:ext cx="0" cy="22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171840" y="190512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324120" y="1905120"/>
                <a:ext cx="0" cy="22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3" name=""/>
          <p:cNvGrpSpPr/>
          <p:nvPr/>
        </p:nvGrpSpPr>
        <p:grpSpPr>
          <a:xfrm>
            <a:off x="6477120" y="1714680"/>
            <a:ext cx="1504800" cy="459720"/>
            <a:chOff x="6477120" y="1714680"/>
            <a:chExt cx="1504800" cy="459720"/>
          </a:xfrm>
        </p:grpSpPr>
        <p:sp>
          <p:nvSpPr>
            <p:cNvPr id="204" name=""/>
            <p:cNvSpPr/>
            <p:nvPr/>
          </p:nvSpPr>
          <p:spPr>
            <a:xfrm>
              <a:off x="6477120" y="19810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762600" y="171468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Times New Roman"/>
                </a:rPr>
                <a:t>block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6477120" y="2114640"/>
            <a:ext cx="1504800" cy="459720"/>
            <a:chOff x="6477120" y="2114640"/>
            <a:chExt cx="1504800" cy="459720"/>
          </a:xfrm>
        </p:grpSpPr>
        <p:sp>
          <p:nvSpPr>
            <p:cNvPr id="207" name=""/>
            <p:cNvSpPr/>
            <p:nvPr/>
          </p:nvSpPr>
          <p:spPr>
            <a:xfrm>
              <a:off x="6477120" y="23810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762600" y="211464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Times New Roman"/>
                </a:rPr>
                <a:t>pend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5343480" y="217188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10000" y="1276200"/>
            <a:ext cx="118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Process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514680" y="3352680"/>
            <a:ext cx="2200320" cy="58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381480" y="340992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OS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4867200" y="2448000"/>
            <a:ext cx="6001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343480" y="188604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209600" y="1305000"/>
            <a:ext cx="3029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heck when schedule the process to r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Receiving a signal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ault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rocess terminates [and dumps core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rocess stops until restarted by a SIGCONT signal (ctrl-z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rocess ignore the sign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modify (additional a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 the signal” -- install signal handl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void sigint_handler(int sig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signal(SIGINT, sigint_handler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 example: problem 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Problem 3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62120" y="911160"/>
            <a:ext cx="8153280" cy="558036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handler(int sig)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tic int beeps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YO\n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++beeps &lt; 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larm(1); /* next SIGALRM will be delivered in 1s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se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MA\n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ill(getpid(), SIGKIL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main()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gnal(SIGALRM, handler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larm(1); /* next SIGALRM will be delivered in 1s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 is Great!\n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48320" y="5105520"/>
            <a:ext cx="4343400" cy="1465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. Out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. The program will 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Signals not queued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2120" y="895320"/>
            <a:ext cx="6019560" cy="569124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counter 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handler(int si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unter++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leep(1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ignal(SIGUSER2, handle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fork() == 0)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(i = 0; i &lt; 5; i++)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kill(getppid(), SIGUSR2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“sent SIGUSR2 to parent\n”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ait(NULL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“counter = %d\n”, counte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793840" y="1066680"/>
            <a:ext cx="3198240" cy="2014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ut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nt SIGUSR2 to pa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nt SIGUSR2 to pa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nt SIGUSR2 to pa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nt SIGUSR2 to pa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nt SIGUSR2 to pa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unter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Race hazard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ata structure is shared by two pieces of code that can run concurr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behaviors of program depending upon how the schedule interleaves the execution of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An example of race hazard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igchld_handler(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id = waitpid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letejob(pid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val(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id = fork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pid ==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 </a:t>
            </a: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/* child 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ecve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/* parent 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/* signal handler may run BEFORE addjob()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ddjob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143000" y="2133720"/>
            <a:ext cx="75438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An okay schedul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420920" y="1647720"/>
            <a:ext cx="86868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427560" y="1638360"/>
            <a:ext cx="228456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ignal Hand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049880" y="1638360"/>
            <a:ext cx="90828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370160" y="2209680"/>
            <a:ext cx="16444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Courier New"/>
              </a:rPr>
              <a:t>fork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Courier New"/>
              </a:rPr>
              <a:t>addjob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815160" y="3116160"/>
            <a:ext cx="16444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Courier New"/>
              </a:rPr>
              <a:t>execv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Courier New"/>
              </a:rPr>
              <a:t>exit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189600" y="4173480"/>
            <a:ext cx="3290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Courier New"/>
              </a:rPr>
              <a:t>sigchld_handler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Courier New"/>
              </a:rPr>
              <a:t>deletejobs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143000" y="3124080"/>
            <a:ext cx="75438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114800"/>
            <a:ext cx="75438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5105520"/>
            <a:ext cx="75438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85800" y="2057400"/>
            <a:ext cx="0" cy="304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5640" y="2133720"/>
            <a:ext cx="0" cy="3047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45240" y="1639800"/>
            <a:ext cx="82764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95280" y="2133720"/>
            <a:ext cx="0" cy="99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664320" y="3124080"/>
            <a:ext cx="0" cy="99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067200" y="4114800"/>
            <a:ext cx="0" cy="99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Exceptional control flow (ECF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rupt changes in the control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act to changes in system state that are not captured by internal program variables and are not necessarily related to the execution of the progra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ppens at all levels of a computer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current proce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gnal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local jum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066680" y="1714680"/>
            <a:ext cx="75438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A problematic schedul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344600" y="1228680"/>
            <a:ext cx="86868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351240" y="1219320"/>
            <a:ext cx="228456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ignal Hand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973920" y="1219320"/>
            <a:ext cx="90828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294200" y="1790640"/>
            <a:ext cx="127872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Courier New"/>
              </a:rPr>
              <a:t>fork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008840" y="2247840"/>
            <a:ext cx="16444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Courier New"/>
              </a:rPr>
              <a:t>execv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Courier New"/>
              </a:rPr>
              <a:t>exit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094200" y="3297240"/>
            <a:ext cx="3290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Courier New"/>
              </a:rPr>
              <a:t>sigchld_handler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Courier New"/>
              </a:rPr>
              <a:t>deletejobs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66680" y="2247840"/>
            <a:ext cx="75438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066680" y="3247920"/>
            <a:ext cx="75438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066680" y="4229280"/>
            <a:ext cx="75438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80880" y="1638360"/>
            <a:ext cx="0" cy="304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85800" y="1676520"/>
            <a:ext cx="0" cy="3047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99080" y="1219320"/>
            <a:ext cx="82764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219320" y="1714680"/>
            <a:ext cx="0" cy="533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858000" y="2255760"/>
            <a:ext cx="0" cy="99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971800" y="3238560"/>
            <a:ext cx="0" cy="99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293840" y="4305240"/>
            <a:ext cx="164448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Courier New"/>
              </a:rPr>
              <a:t>addjob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066680" y="4762440"/>
            <a:ext cx="75438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219320" y="4229280"/>
            <a:ext cx="0" cy="533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36760" y="5105520"/>
            <a:ext cx="833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b added to job list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af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signal handler tried to delete i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819520" y="4305240"/>
            <a:ext cx="609480" cy="685800"/>
          </a:xfrm>
          <a:prstGeom prst="lightningBol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Solution: blocking signal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gchld_handler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id = waitpid(…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eletejob(pi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val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igprocmask(SIG_BLOCK, 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pid == 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/* child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igprocmask(SIG_UNBLOCK, …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/* child inherits parents block set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ve(…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/* parent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/* signal handler might run BEFORE addjob()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job(…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igprocmask(SIG_UNBLOCK, 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193640" y="5956200"/>
            <a:ext cx="483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details 8.5.6 (page 63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2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2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2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Non-local jump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nt setjmp(jmp_buf en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called before long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s current register context, stack pointer, and PC in the jump buffer en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called, return 0 if no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oid longjmp(jmp_buf env, int 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ores register context from jump buffer en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mps back to where previous setjmp is called, behaves like setjmp just completes. But this time it returns i, not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an only jump to an active 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 function that has been called but not yet comple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Non-local jump (cont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nt sigsetjmp(jmp_buf en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saves blocked sign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oid siglongjmp(jmp_buf env, int 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ores blocked signals besides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810720" y="3962520"/>
            <a:ext cx="60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see an example: problem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Problem 4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09480" y="895320"/>
            <a:ext cx="4343400" cy="283716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mp_buf stuff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foo()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c = getc(stdi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c == 'x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ngjmp(stuff, 42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-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334120" y="895320"/>
            <a:ext cx="3429000" cy="256284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 = setjmp(stuff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((n+=foo())&lt;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leep(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%d\n", 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055560" y="3809880"/>
            <a:ext cx="1827000" cy="916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sw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. 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Summary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fork(), waitpid(), execve(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ping child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signal(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install handler, signals not queu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local ju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man page to understand the system calls be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man waitpid (fork, signal, …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text book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Exception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 (asynchronous exce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/O interrupt, hardware reset, software reset,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ystem calls, breakpoint traps,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ge fault, protection fault,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ity error, machine check,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Process concept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instance of running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processes run “concurrently” by time sli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ext switch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ntrol flow passes from one process to anoth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emptive scheduler of 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vs Threads (a favorite interview ques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reads are logical flows that run in the context of a single pro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Process IDs &amp; process group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rocess has its own, unique process 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pid_t getpid(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rocess belongs to exactly one process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pid_t getpgrp(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new process belongs to which process grou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s parent’s process grou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rocess can make a process group for itself and its child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setpgid(0, 0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Create a new proces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nt fork(voi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eate a new process that is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identica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o the parent pro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turn 0 to child pro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turn child’s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pi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o the parent pro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ll once, return tw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your understanding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blem 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Problem 1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2120" y="911160"/>
            <a:ext cx="6019560" cy="448308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include &lt;unistd.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include &lt;stdio.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cnt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main(vo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fork() == 0)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nt ++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nt++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nt ++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%d", cn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8720" y="4648320"/>
            <a:ext cx="2375280" cy="1191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ssible out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Reaping child proces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822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process becomes zombie when termin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ill consume system resour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ent performs reaping on terminated chi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id_t wait(int *statu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id_t waitpid(pid_t pid, int *status, int options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ightforward for reaping a single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cky for Shell implementa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ltiple child proce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th foreground and backg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Signal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tion 8.5 in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ad at least twice … really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ignal tells our program that some event has occur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0T17:54:32Z</dcterms:created>
  <dc:creator>Minglong Shao</dc:creator>
  <dc:description/>
  <dc:language>en-US</dc:language>
  <cp:lastModifiedBy>Kun Gao</cp:lastModifiedBy>
  <dcterms:modified xsi:type="dcterms:W3CDTF">2005-03-14T14:19:43Z</dcterms:modified>
  <cp:revision>288</cp:revision>
  <dc:subject/>
  <dc:title>Recitation 5</dc:title>
</cp:coreProperties>
</file>