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FFF-902A-440C-9727-1B319572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2396-7B80-4323-8108-7C0D0E32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2DF3-D097-42D2-A347-93BE0915A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70F-FF1E-4B4B-98F4-13594173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1F75-34A7-491A-BA10-7E0A5A4A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1F9B-549F-4A93-9538-FB61AAD9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0745-BFDD-4319-AFCE-996DC987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EA6E-FB57-47A1-97DE-338D6A77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50A1-9F34-4D61-9040-27DE35C4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B9AC-278C-4F18-A6BC-36D97569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7565-4032-41F4-B925-992ADC68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A060-A641-47B2-A3FF-04BA90B5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6914-8F5A-4B05-805A-CDAA6C6E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D17C-F9C6-46F4-B6A0-75D980CE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2198-2F29-483E-8613-77D82CCF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7BB6-29A8-4ACC-886A-4E5A054D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0FC6-3776-4F3D-A3C4-D23135F2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E40-135A-41D0-85DE-5B74FFC6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F83-7120-4329-8D3A-3FB21DE7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FBE-0A17-4F76-977F-BB1F4FF9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AAD1-9414-4DAC-9B1D-1AC17014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1EB-924F-48BD-86B6-5F1C4EBF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D20-3268-4506-951E-69B777EA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8CC-7339-41EA-94AD-7EB830EE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A245-62E0-404E-BB79-8D4CA85889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2686-FB00-4169-BA29-455114DCA3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ection A (March 14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244160"/>
            <a:ext cx="379584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local j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Next Thurs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4760" y="1368360"/>
            <a:ext cx="40402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: Kun G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meless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glong Shao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tation, Fall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mportant signals (Fig 8.2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rupt signal from terminal  (ctrl-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TS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p signal from terminal (ctrl-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CH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hild process has stopped or termin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ow to Send 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ill(pid_t pid, int si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ill(pid_t gid, int sig), where gid is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can also send a signal to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alarm(unsigned int secs) to send a SIGALRM sig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use signals to count ev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hy? Signals not queued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: send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22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24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150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153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43480" y="21718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71440" y="1285920"/>
            <a:ext cx="2238480" cy="1266840"/>
            <a:chOff x="1171440" y="1285920"/>
            <a:chExt cx="2238480" cy="1266840"/>
          </a:xfrm>
        </p:grpSpPr>
        <p:sp>
          <p:nvSpPr>
            <p:cNvPr id="157" name=""/>
            <p:cNvSpPr/>
            <p:nvPr/>
          </p:nvSpPr>
          <p:spPr>
            <a:xfrm>
              <a:off x="121932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71440" y="1285920"/>
              <a:ext cx="118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Process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457440" y="3943080"/>
            <a:ext cx="2266920" cy="1600560"/>
            <a:chOff x="3457440" y="3943080"/>
            <a:chExt cx="2266920" cy="1600560"/>
          </a:xfrm>
        </p:grpSpPr>
        <p:grpSp>
          <p:nvGrpSpPr>
            <p:cNvPr id="161" name=""/>
            <p:cNvGrpSpPr/>
            <p:nvPr/>
          </p:nvGrpSpPr>
          <p:grpSpPr>
            <a:xfrm>
              <a:off x="3457440" y="4667400"/>
              <a:ext cx="2266920" cy="876240"/>
              <a:chOff x="3457440" y="4667400"/>
              <a:chExt cx="2266920" cy="876240"/>
            </a:xfrm>
          </p:grpSpPr>
          <p:sp>
            <p:nvSpPr>
              <p:cNvPr id="162" name=""/>
              <p:cNvSpPr/>
              <p:nvPr/>
            </p:nvSpPr>
            <p:spPr>
              <a:xfrm>
                <a:off x="3457440" y="4667400"/>
                <a:ext cx="2200320" cy="876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76520" y="4800600"/>
                <a:ext cx="224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other event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V="1">
              <a:off x="4600440" y="3943080"/>
              <a:ext cx="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514680" y="3352680"/>
            <a:ext cx="220032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81480" y="3409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43000" y="1819440"/>
            <a:ext cx="2438280" cy="1724040"/>
            <a:chOff x="1143000" y="1819440"/>
            <a:chExt cx="2438280" cy="1724040"/>
          </a:xfrm>
        </p:grpSpPr>
        <p:sp>
          <p:nvSpPr>
            <p:cNvPr id="168" name=""/>
            <p:cNvSpPr/>
            <p:nvPr/>
          </p:nvSpPr>
          <p:spPr>
            <a:xfrm>
              <a:off x="1143000" y="181944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Courier New"/>
                </a:rPr>
                <a:t>kill(pid, SIGIN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62160" y="2104920"/>
              <a:ext cx="1352520" cy="1438560"/>
            </a:xfrm>
            <a:custGeom>
              <a:avLst/>
              <a:gdLst/>
              <a:ahLst/>
              <a:rect l="l" t="t" r="r" b="b"/>
              <a:pathLst>
                <a:path w="846" h="624">
                  <a:moveTo>
                    <a:pt x="6" y="0"/>
                  </a:moveTo>
                  <a:lnTo>
                    <a:pt x="0" y="624"/>
                  </a:lnTo>
                  <a:lnTo>
                    <a:pt x="846" y="6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V="1">
            <a:off x="4867200" y="2448000"/>
            <a:ext cx="600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62080" y="4000680"/>
            <a:ext cx="2209680" cy="1782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divide by zero: SIGF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trl-c: SIG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hild process exit: SIGCH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: receiv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76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78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91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204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207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343480" y="21718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14680" y="3352680"/>
            <a:ext cx="220032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81480" y="3409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867200" y="2448000"/>
            <a:ext cx="600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43480" y="188604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09600" y="1305000"/>
            <a:ext cx="302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eck when schedule the process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ceiving a sign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terminates [and dumps core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stops until restarted by a SIGCONT signal (ctrl-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 ignore the sig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odify (additional a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 the signal” -- install signal hand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void sigint_handler(int sig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ignal(SIGINT, sigint_handler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example: problem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blem 3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911160"/>
            <a:ext cx="8153280" cy="55803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handler(int sig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int beeps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YO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++beeps &lt;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arm(1); /* next SIGALRM will be delivered in 1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MA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ill(getpid(), SIGKI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al(SIGALRM, handl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arm(1); /* next SIGALRM will be delivered in 1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 is Great!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5105520"/>
            <a:ext cx="4343400" cy="1465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 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 The program will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 not queue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895320"/>
            <a:ext cx="6019560" cy="56912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ounter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handler(int si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unter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al(SIGUSER2, handl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fork() == 0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 = 0; i &lt; 5; i++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ill(getppid(), SIGUSR2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sent SIGUSR2 to parent\n”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(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counter = %d\n”, count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93840" y="1066680"/>
            <a:ext cx="3198240" cy="2014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 SIGUSR2 to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 SIGUSR2 to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 SIGUSR2 to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 SIGUSR2 to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nt SIGUSR2 to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er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ace hazar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structure is shared by two pieces of code that can run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ehaviors of program depending upon how the schedule interleaves the execution of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n example of race hazard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/* signal handler may run BEFORE addjob()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n okay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209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75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498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0160" y="22096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15160" y="311616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89600" y="41734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11480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51055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524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1337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64320" y="31240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67200" y="411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ceptional control flow (ECF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rupt changes in the control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ct to changes in system state that are not captured by internal program variables and are not necessarily related to the execution of the prog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s at all levels of a comput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urrent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a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local jum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066680" y="17146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 problematic schedu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44600" y="122868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51240" y="121932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73920" y="121932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4200" y="1790640"/>
            <a:ext cx="1278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08840" y="224784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94200" y="329724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224784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32479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42292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63836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16765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9080" y="121932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171468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0" y="22557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32385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3840" y="4305240"/>
            <a:ext cx="1644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6680" y="476244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422928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6760" y="5105520"/>
            <a:ext cx="83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added to job list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signal handler tried to delete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4305240"/>
            <a:ext cx="609480" cy="6858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lution: blocking 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igprocmask(SIG_BLOCK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igprocmask(SIG_UNBLOCK, 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child inherits parents block se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193640" y="5956200"/>
            <a:ext cx="48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etails 8.5.6 (page 6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on-local jump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setjmp(jmp_buf en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called before long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s current register context, stack pointer, and PC in the jump buffer 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called, return 0 if no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id longjmp(jmp_buf env, int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es register context from jump buffer 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mps back to where previous setjmp is called, behaves like setjmp just completes. But this time it returns i, no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n only jump to an activ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unction that has been called but not yet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on-local jump (cont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sigsetjmp(jmp_buf en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aves blocked 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oid siglongjmp(jmp_buf env, int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s blocked signals besides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10720" y="3962520"/>
            <a:ext cx="60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see an example: problem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blem 4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895320"/>
            <a:ext cx="4343400" cy="28371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_buf stuf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oo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c = getc(std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c == 'x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ngjmp(stuff, 4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895320"/>
            <a:ext cx="3429000" cy="2562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= setjmp(stuff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(n+=foo())&lt;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%d\n", 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55560" y="3809880"/>
            <a:ext cx="182700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.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fork(), waitpid(), execve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ping child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ignal(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nstall handler, signals not que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ocal j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man page to understand the system calls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man waitpid (fork, signal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ext book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cep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 (asynchronous excep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interrupt, hardware reset, software reset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calls, breakpoint trap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ge fault, protection fault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ity error, machine check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concep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stance of run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rocesses run “concurrently” by time sl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switc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rol flow passes from one process to anoth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emptive scheduler of 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vs Threads (a favorite interview ques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ads are logical flows that run in the context of a single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IDs &amp; process group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has its own, unique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_t getpid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belongs to exactly one proces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_t getpgrp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process belongs to which process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parent’s process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can make a process group for itself and its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setpgid(0, 0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reate a new proces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fork(vo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a new process that i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denti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the paren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 0 to child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 child’s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the paren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l once, return tw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your understand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blem 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911160"/>
            <a:ext cx="6019560" cy="44830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unistd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 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 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%d", c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8720" y="4648320"/>
            <a:ext cx="237528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sible 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child proces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process becomes zombie when ter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 consume system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performs reaping on terminated chi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id_t wait(int *stat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id_t waitpid(pid_t pid, int *status, int options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ightforward for reaping a single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y for Shell implement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e child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foreground and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8.5 in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at least twice … reall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gnal tells our program that some event has oc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Kun Gao</cp:lastModifiedBy>
  <dcterms:modified xsi:type="dcterms:W3CDTF">2005-03-14T14:19:43Z</dcterms:modified>
  <cp:revision>288</cp:revision>
  <dc:subject/>
  <dc:title>Recitation 5</dc:title>
</cp:coreProperties>
</file>