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C1AD-545C-4DC0-86DE-587A2B7E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806-266D-412A-B918-84CFB74F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3B5-BDB2-4148-8214-E1E8EF45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0444-D8E5-4D2A-8829-BC7478DA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ED70-C4EB-4161-BB8E-B427BE86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3D81-2F9B-4471-B166-EB814CFA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2B86-7BFC-4152-9FA2-5545EE31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C85E-640C-44B0-A9DE-F8B33FC3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ABF5-628D-4548-9E28-F41E140C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EFB6-4CBD-4CBB-8280-B4072E6F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CF87-5F2E-4C8F-87D5-BBA11F07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78A-C7FB-47EF-B66C-EC5FCE78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025D-2C86-4A2F-99CE-43F210C5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FAC5-1411-4D78-AB46-E551FEAB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3E2A-10DE-46B8-B58D-8BF289EB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0277-D933-4323-B72D-CA082BFB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F1C3-BE39-4154-9D83-823AC451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F07-74B3-4C9B-82E4-A9EDE8D7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83B8-78DF-49D0-A35B-706D1523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8FD1-5F80-44AE-B800-C9554478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69F0-1B0F-4FB2-A8F7-88D86DC0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7DEB-60EC-45DE-B1F8-3BCB0C67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301D-E7B3-4839-A7BF-DB23C131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E220-8DC0-4AAD-BB1E-18CB2869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419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57160"/>
            <a:ext cx="8583840" cy="0"/>
          </a:xfrm>
          <a:prstGeom prst="line">
            <a:avLst/>
          </a:prstGeom>
          <a:ln w="190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3491-5943-4B0C-A6C2-FAC71191BD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4197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6AA8-495F-4527-B2AF-4B00B68D00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ection A (March 14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560" y="1244160"/>
            <a:ext cx="379584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local j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Next Thurs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74760" y="1368360"/>
            <a:ext cx="40402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: Kun G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meless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glong Shao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tation, Fall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3716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mportant signals (Fig 8.2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rupt signal from terminal  (ctrl-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TS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p signal from terminal (ctrl-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CH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hild process has stopped or termin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ow to Send Signal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 kill(pid_t pid, int si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 kill(pid_t gid, int sig), where gid is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can also send a signal to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 alarm(unsigned int secs) to send a SIGALRM sig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use signals to count ev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Why? Signals not queued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gnals: send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3760" y="3038400"/>
            <a:ext cx="7372440" cy="28195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5257800"/>
            <a:ext cx="17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438800" y="1333440"/>
            <a:ext cx="2190600" cy="1219320"/>
            <a:chOff x="4438800" y="1333440"/>
            <a:chExt cx="2190600" cy="1219320"/>
          </a:xfrm>
        </p:grpSpPr>
        <p:sp>
          <p:nvSpPr>
            <p:cNvPr id="122" name=""/>
            <p:cNvSpPr/>
            <p:nvPr/>
          </p:nvSpPr>
          <p:spPr>
            <a:xfrm>
              <a:off x="443880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647960" y="2209680"/>
              <a:ext cx="1828440" cy="233640"/>
              <a:chOff x="4647960" y="2209680"/>
              <a:chExt cx="1828440" cy="233640"/>
            </a:xfrm>
          </p:grpSpPr>
          <p:sp>
            <p:nvSpPr>
              <p:cNvPr id="124" name=""/>
              <p:cNvSpPr/>
              <p:nvPr/>
            </p:nvSpPr>
            <p:spPr>
              <a:xfrm>
                <a:off x="4647960" y="2209680"/>
                <a:ext cx="1828440" cy="22860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002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52520" y="2209680"/>
                <a:ext cx="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1048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574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097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5620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1464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8669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1920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1718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3241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647960" y="1905120"/>
              <a:ext cx="1828440" cy="233280"/>
              <a:chOff x="4647960" y="1905120"/>
              <a:chExt cx="1828440" cy="233280"/>
            </a:xfrm>
          </p:grpSpPr>
          <p:sp>
            <p:nvSpPr>
              <p:cNvPr id="137" name=""/>
              <p:cNvSpPr/>
              <p:nvPr/>
            </p:nvSpPr>
            <p:spPr>
              <a:xfrm>
                <a:off x="4647960" y="1905120"/>
                <a:ext cx="1828440" cy="22824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002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952520" y="190512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048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2574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097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620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1464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8669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1920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1718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241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6477120" y="1714680"/>
            <a:ext cx="1504800" cy="459720"/>
            <a:chOff x="6477120" y="1714680"/>
            <a:chExt cx="1504800" cy="459720"/>
          </a:xfrm>
        </p:grpSpPr>
        <p:sp>
          <p:nvSpPr>
            <p:cNvPr id="150" name=""/>
            <p:cNvSpPr/>
            <p:nvPr/>
          </p:nvSpPr>
          <p:spPr>
            <a:xfrm>
              <a:off x="647712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62600" y="1714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block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477120" y="2114640"/>
            <a:ext cx="1504800" cy="459720"/>
            <a:chOff x="6477120" y="2114640"/>
            <a:chExt cx="1504800" cy="459720"/>
          </a:xfrm>
        </p:grpSpPr>
        <p:sp>
          <p:nvSpPr>
            <p:cNvPr id="153" name=""/>
            <p:cNvSpPr/>
            <p:nvPr/>
          </p:nvSpPr>
          <p:spPr>
            <a:xfrm>
              <a:off x="6477120" y="238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62600" y="21146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pen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43480" y="217188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71440" y="1285920"/>
            <a:ext cx="2238480" cy="1266840"/>
            <a:chOff x="1171440" y="1285920"/>
            <a:chExt cx="2238480" cy="1266840"/>
          </a:xfrm>
        </p:grpSpPr>
        <p:sp>
          <p:nvSpPr>
            <p:cNvPr id="157" name=""/>
            <p:cNvSpPr/>
            <p:nvPr/>
          </p:nvSpPr>
          <p:spPr>
            <a:xfrm>
              <a:off x="121932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71440" y="1285920"/>
              <a:ext cx="118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Process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410000" y="127620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ce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457440" y="3943080"/>
            <a:ext cx="2266920" cy="1600560"/>
            <a:chOff x="3457440" y="3943080"/>
            <a:chExt cx="2266920" cy="1600560"/>
          </a:xfrm>
        </p:grpSpPr>
        <p:grpSp>
          <p:nvGrpSpPr>
            <p:cNvPr id="161" name=""/>
            <p:cNvGrpSpPr/>
            <p:nvPr/>
          </p:nvGrpSpPr>
          <p:grpSpPr>
            <a:xfrm>
              <a:off x="3457440" y="4667400"/>
              <a:ext cx="2266920" cy="876240"/>
              <a:chOff x="3457440" y="4667400"/>
              <a:chExt cx="2266920" cy="876240"/>
            </a:xfrm>
          </p:grpSpPr>
          <p:sp>
            <p:nvSpPr>
              <p:cNvPr id="162" name=""/>
              <p:cNvSpPr/>
              <p:nvPr/>
            </p:nvSpPr>
            <p:spPr>
              <a:xfrm>
                <a:off x="3457440" y="4667400"/>
                <a:ext cx="2200320" cy="876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476520" y="4800600"/>
                <a:ext cx="224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Times New Roman"/>
                  </a:rPr>
                  <a:t>other event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flipV="1">
              <a:off x="4600440" y="3943080"/>
              <a:ext cx="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514680" y="3352680"/>
            <a:ext cx="220032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81480" y="3409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S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143000" y="1819440"/>
            <a:ext cx="2438280" cy="1724040"/>
            <a:chOff x="1143000" y="1819440"/>
            <a:chExt cx="2438280" cy="1724040"/>
          </a:xfrm>
        </p:grpSpPr>
        <p:sp>
          <p:nvSpPr>
            <p:cNvPr id="168" name=""/>
            <p:cNvSpPr/>
            <p:nvPr/>
          </p:nvSpPr>
          <p:spPr>
            <a:xfrm>
              <a:off x="1143000" y="1819440"/>
              <a:ext cx="24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Courier New"/>
                </a:rPr>
                <a:t>kill(pid, SIGIN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62160" y="2104920"/>
              <a:ext cx="1352520" cy="1438560"/>
            </a:xfrm>
            <a:custGeom>
              <a:avLst/>
              <a:gdLst/>
              <a:ahLst/>
              <a:rect l="l" t="t" r="r" b="b"/>
              <a:pathLst>
                <a:path w="846" h="624">
                  <a:moveTo>
                    <a:pt x="6" y="0"/>
                  </a:moveTo>
                  <a:lnTo>
                    <a:pt x="0" y="624"/>
                  </a:lnTo>
                  <a:lnTo>
                    <a:pt x="846" y="6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V="1">
            <a:off x="4867200" y="2448000"/>
            <a:ext cx="600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62080" y="4000680"/>
            <a:ext cx="2209680" cy="1782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divide by zero: SIGF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trl-c: SIG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hild process exit: SIGCH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gnals: receiv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23760" y="3038400"/>
            <a:ext cx="7372440" cy="28195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77120" y="5257800"/>
            <a:ext cx="17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438800" y="1333440"/>
            <a:ext cx="2190600" cy="1219320"/>
            <a:chOff x="4438800" y="1333440"/>
            <a:chExt cx="2190600" cy="1219320"/>
          </a:xfrm>
        </p:grpSpPr>
        <p:sp>
          <p:nvSpPr>
            <p:cNvPr id="176" name=""/>
            <p:cNvSpPr/>
            <p:nvPr/>
          </p:nvSpPr>
          <p:spPr>
            <a:xfrm>
              <a:off x="443880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4647960" y="2209680"/>
              <a:ext cx="1828440" cy="233640"/>
              <a:chOff x="4647960" y="2209680"/>
              <a:chExt cx="1828440" cy="233640"/>
            </a:xfrm>
          </p:grpSpPr>
          <p:sp>
            <p:nvSpPr>
              <p:cNvPr id="178" name=""/>
              <p:cNvSpPr/>
              <p:nvPr/>
            </p:nvSpPr>
            <p:spPr>
              <a:xfrm>
                <a:off x="4647960" y="2209680"/>
                <a:ext cx="1828440" cy="22860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002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952520" y="2209680"/>
                <a:ext cx="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1048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2574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097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620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1464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669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1920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1718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3241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647960" y="1905120"/>
              <a:ext cx="1828440" cy="233280"/>
              <a:chOff x="4647960" y="1905120"/>
              <a:chExt cx="1828440" cy="233280"/>
            </a:xfrm>
          </p:grpSpPr>
          <p:sp>
            <p:nvSpPr>
              <p:cNvPr id="191" name=""/>
              <p:cNvSpPr/>
              <p:nvPr/>
            </p:nvSpPr>
            <p:spPr>
              <a:xfrm>
                <a:off x="4647960" y="1905120"/>
                <a:ext cx="1828440" cy="22824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002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952520" y="190512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048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2574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097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5620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1464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8669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01920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1718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241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477120" y="1714680"/>
            <a:ext cx="1504800" cy="459720"/>
            <a:chOff x="6477120" y="1714680"/>
            <a:chExt cx="1504800" cy="459720"/>
          </a:xfrm>
        </p:grpSpPr>
        <p:sp>
          <p:nvSpPr>
            <p:cNvPr id="204" name=""/>
            <p:cNvSpPr/>
            <p:nvPr/>
          </p:nvSpPr>
          <p:spPr>
            <a:xfrm>
              <a:off x="647712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62600" y="1714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block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477120" y="2114640"/>
            <a:ext cx="1504800" cy="459720"/>
            <a:chOff x="6477120" y="2114640"/>
            <a:chExt cx="1504800" cy="459720"/>
          </a:xfrm>
        </p:grpSpPr>
        <p:sp>
          <p:nvSpPr>
            <p:cNvPr id="207" name=""/>
            <p:cNvSpPr/>
            <p:nvPr/>
          </p:nvSpPr>
          <p:spPr>
            <a:xfrm>
              <a:off x="6477120" y="238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62600" y="21146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pen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343480" y="217188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0000" y="127620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ce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14680" y="3352680"/>
            <a:ext cx="220032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81480" y="3409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S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867200" y="2448000"/>
            <a:ext cx="600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43480" y="188604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09600" y="1305000"/>
            <a:ext cx="302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eck when schedule the process to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ceiving a signa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cess terminates [and dumps core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cess stops until restarted by a SIGCONT signal (ctrl-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cess ignore the sig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odify (additional a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 the signal” -- install signal hand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void sigint_handler(int sig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ignal(SIGINT, sigint_handler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xample: problem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blem 3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911160"/>
            <a:ext cx="8153280" cy="55803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handler(int sig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int beeps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YO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++beeps &lt;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arm(1); /* next SIGALRM will be delivered in 1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MA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ill(getpid(), SIGKIL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(SIGALRM, handl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arm(1); /* next SIGALRM will be delivered in 1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 is Great!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5105520"/>
            <a:ext cx="4343400" cy="1465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 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. The program will 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gnals not queue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895320"/>
            <a:ext cx="6019560" cy="56912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ounter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handler(int si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er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eep(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(SIGUSER2, handl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fork() == 0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5; i++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ill(getppid(), SIGUSR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sent SIGUSR2 to parent\n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(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counter = %d\n”, count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93840" y="1066680"/>
            <a:ext cx="3198240" cy="2014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nt SIGUSR2 to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nt SIGUSR2 to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nt SIGUSR2 to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nt SIGUSR2 to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nt SIGUSR2 to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er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ace hazar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 structure is shared by two pieces of code that can run concur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behaviors of program depending upon how the schedule interleaves the execution of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An example of race hazard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signal handler may run BEFORE addjob()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3000" y="2133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An okay schedu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20920" y="164772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27560" y="163836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49880" y="163836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0160" y="220968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15160" y="311616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89600" y="417348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31240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11480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51055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057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5240" y="163980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21337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64320" y="31240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67200" y="4114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ceptional control flow (ECF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rupt changes in the control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ct to changes in system state that are not captured by internal program variables and are not necessarily related to the execution of the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ens at all levels of a comput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urrent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al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local jum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066680" y="17146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A problematic schedu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44600" y="122868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51240" y="121932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73920" y="121932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94200" y="1790640"/>
            <a:ext cx="12787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08840" y="224784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94200" y="329724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224784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32479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42292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63836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16765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9080" y="121932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171468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0" y="225576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71800" y="323856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93840" y="4305240"/>
            <a:ext cx="1644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476244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422928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6760" y="5105520"/>
            <a:ext cx="83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added to job list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ignal handler tried to delet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4305240"/>
            <a:ext cx="609480" cy="6858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olution: blocking signal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igprocmask(SIG_BLOCK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igprocmask(SIG_UNBLOCK, 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child inherits parents block set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93640" y="5956200"/>
            <a:ext cx="48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etails 8.5.6 (page 6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on-local jump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setjmp(jmp_buf en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called before long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s current register context, stack pointer, and PC in the jump buffer 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called, return 0 if no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id longjmp(jmp_buf env, int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es register context from jump buffer 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mps back to where previous setjmp is called, behaves like setjmp just completes. But this time it returns i, no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n only jump to an activ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function that has been called but not yet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on-local jump (cont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sigsetjmp(jmp_buf en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aves blocked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id siglongjmp(jmp_buf env, int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s blocked signals besides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10720" y="3962520"/>
            <a:ext cx="60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ee an example: problem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blem 4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895320"/>
            <a:ext cx="4343400" cy="28371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_buf stu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oo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 = getc(std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c == 'x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jmp(stuff, 4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4120" y="895320"/>
            <a:ext cx="3429000" cy="2562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setjmp(stuff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(n+=foo())&lt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eep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%d\n", 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55560" y="3809880"/>
            <a:ext cx="182700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.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ummary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fork(), waitpid(), execve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ping chil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ignal(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install handler, signals not que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local j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man page to understand the system calls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man waitpid (fork, signal,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ext book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cep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 (asynchronous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/O interrupt, hardware reset, software reset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calls, breakpoint trap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ge fault, protection fault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ity error, machine check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cess concep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stance of run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processes run “concurrently” by time sl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switc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rol flow passes from one process to anoth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emptive scheduler of 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vs Threads (a favorite interview ques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ads are logical flows that run in the context of a single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cess IDs &amp; process group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has its own, unique process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id_t getpid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belongs to exactly one proces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id_t getpgrp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process belongs to which process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s parent’s process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can make a process group for itself and its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setpgid(0, 0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reate a new proces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fork(vo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a new process that is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denti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the parent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urn 0 to child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urn child’s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i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the parent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l once, return tw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your understand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blem 1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911160"/>
            <a:ext cx="6019560" cy="44830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unistd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n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 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 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%d", c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8720" y="4648320"/>
            <a:ext cx="237528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ssible 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aping child proces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process becomes zombie when ter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ll consume system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 performs reaping on terminated chi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id_t wait(int *stat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id_t waitpid(pid_t pid, int *status, int options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ghtforward for reaping a single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cky for Shell implemen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e child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foreground and backg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gnal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8.5 in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 at least twice … reall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gnal tells our program that some event has occu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7:54:32Z</dcterms:created>
  <dc:creator>Minglong Shao</dc:creator>
  <dc:description/>
  <dc:language>en-US</dc:language>
  <cp:lastModifiedBy>Kun Gao</cp:lastModifiedBy>
  <dcterms:modified xsi:type="dcterms:W3CDTF">2005-03-14T14:19:43Z</dcterms:modified>
  <cp:revision>288</cp:revision>
  <dc:subject/>
  <dc:title>Recitation 5</dc:title>
</cp:coreProperties>
</file>