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567-3653-4B4F-9997-A4B10928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062-9B28-4FC6-A8BA-6BA9ABBD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345-F737-4AF9-86D0-5728466E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5EC-F57F-47A6-9054-0935C5FB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07C-5A63-493B-97D9-1DD5B6B6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F06E-D76D-4B9A-A392-26F274A5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902-17D2-4E91-A372-58AA12B7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CAC-4EE6-4FA9-9376-68E14CCC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CDC-93A9-48D4-BC9E-279B9501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252-7ED7-471D-8510-E32D82B2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234-5B0A-4210-8575-FA90088B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210-1757-4952-8388-E2090D8B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AB55-578F-4878-9790-0756540AE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1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3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17.png"/><Relationship Id="rId23" Type="http://schemas.openxmlformats.org/officeDocument/2006/relationships/image" Target="../media/image12.png"/><Relationship Id="rId24" Type="http://schemas.openxmlformats.org/officeDocument/2006/relationships/image" Target="../media/image17.png"/><Relationship Id="rId25" Type="http://schemas.openxmlformats.org/officeDocument/2006/relationships/image" Target="../media/image20.png"/><Relationship Id="rId2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ghtfield 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forward tesse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0400" y="1752120"/>
            <a:ext cx="2742840" cy="2133360"/>
            <a:chOff x="3200400" y="1752120"/>
            <a:chExt cx="2742840" cy="2133360"/>
          </a:xfrm>
        </p:grpSpPr>
        <p:grpSp>
          <p:nvGrpSpPr>
            <p:cNvPr id="44" name=""/>
            <p:cNvGrpSpPr/>
            <p:nvPr/>
          </p:nvGrpSpPr>
          <p:grpSpPr>
            <a:xfrm>
              <a:off x="3200400" y="1752120"/>
              <a:ext cx="1371240" cy="1066680"/>
              <a:chOff x="3200400" y="1752120"/>
              <a:chExt cx="1371240" cy="106668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3200400" y="1752120"/>
                <a:ext cx="342720" cy="355680"/>
                <a:chOff x="3200400" y="1752120"/>
                <a:chExt cx="342720" cy="35568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320040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flipV="1">
                  <a:off x="320040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3200400" y="2107440"/>
                <a:ext cx="342720" cy="355680"/>
                <a:chOff x="3200400" y="2107440"/>
                <a:chExt cx="342720" cy="3556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20040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V="1">
                  <a:off x="320040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3543120" y="1752120"/>
                <a:ext cx="342720" cy="355680"/>
                <a:chOff x="3543120" y="1752120"/>
                <a:chExt cx="342720" cy="35568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354312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V="1">
                  <a:off x="354312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3543120" y="2107440"/>
                <a:ext cx="342720" cy="355680"/>
                <a:chOff x="3543120" y="2107440"/>
                <a:chExt cx="342720" cy="3556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354312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354312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3886200" y="1752120"/>
                <a:ext cx="342720" cy="355680"/>
                <a:chOff x="3886200" y="1752120"/>
                <a:chExt cx="342720" cy="3556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388620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388620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3886200" y="2107440"/>
                <a:ext cx="342720" cy="355680"/>
                <a:chOff x="3886200" y="2107440"/>
                <a:chExt cx="342720" cy="3556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88620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V="1">
                  <a:off x="388620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3543120" y="2463120"/>
                <a:ext cx="342720" cy="355680"/>
                <a:chOff x="3543120" y="2463120"/>
                <a:chExt cx="342720" cy="3556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4312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V="1">
                  <a:off x="354312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886200" y="2463120"/>
                <a:ext cx="342720" cy="355680"/>
                <a:chOff x="3886200" y="2463120"/>
                <a:chExt cx="342720" cy="35568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88620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388620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200400" y="2463120"/>
                <a:ext cx="342720" cy="355680"/>
                <a:chOff x="3200400" y="2463120"/>
                <a:chExt cx="342720" cy="3556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20040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320040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228920" y="1752120"/>
                <a:ext cx="342720" cy="355680"/>
                <a:chOff x="4228920" y="1752120"/>
                <a:chExt cx="342720" cy="3556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22892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>
                  <a:off x="422892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228920" y="2107440"/>
                <a:ext cx="342720" cy="355680"/>
                <a:chOff x="4228920" y="2107440"/>
                <a:chExt cx="342720" cy="3556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22892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422892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228920" y="2463120"/>
                <a:ext cx="342720" cy="355680"/>
                <a:chOff x="4228920" y="2463120"/>
                <a:chExt cx="342720" cy="3556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22892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422892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" name=""/>
            <p:cNvGrpSpPr/>
            <p:nvPr/>
          </p:nvGrpSpPr>
          <p:grpSpPr>
            <a:xfrm>
              <a:off x="4572000" y="1752120"/>
              <a:ext cx="1371240" cy="1066680"/>
              <a:chOff x="4572000" y="1752120"/>
              <a:chExt cx="1371240" cy="106668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4572000" y="1752120"/>
                <a:ext cx="342720" cy="355680"/>
                <a:chOff x="4572000" y="1752120"/>
                <a:chExt cx="342720" cy="3556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57200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V="1">
                  <a:off x="457200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572000" y="2107440"/>
                <a:ext cx="342720" cy="355680"/>
                <a:chOff x="4572000" y="2107440"/>
                <a:chExt cx="342720" cy="3556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7200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457200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4914720" y="1752120"/>
                <a:ext cx="342720" cy="355680"/>
                <a:chOff x="4914720" y="1752120"/>
                <a:chExt cx="342720" cy="3556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91472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V="1">
                  <a:off x="491472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914720" y="2107440"/>
                <a:ext cx="342720" cy="355680"/>
                <a:chOff x="4914720" y="2107440"/>
                <a:chExt cx="342720" cy="3556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491472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491472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257800" y="1752120"/>
                <a:ext cx="342720" cy="355680"/>
                <a:chOff x="5257800" y="1752120"/>
                <a:chExt cx="342720" cy="355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25780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525780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5257800" y="2107440"/>
                <a:ext cx="342720" cy="355680"/>
                <a:chOff x="5257800" y="2107440"/>
                <a:chExt cx="342720" cy="3556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25780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V="1">
                  <a:off x="525780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914720" y="2463120"/>
                <a:ext cx="342720" cy="355680"/>
                <a:chOff x="4914720" y="2463120"/>
                <a:chExt cx="342720" cy="355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91472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>
                  <a:off x="491472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257800" y="2463120"/>
                <a:ext cx="342720" cy="355680"/>
                <a:chOff x="5257800" y="2463120"/>
                <a:chExt cx="342720" cy="3556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25780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>
                  <a:off x="525780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572000" y="2463120"/>
                <a:ext cx="342720" cy="355680"/>
                <a:chOff x="4572000" y="2463120"/>
                <a:chExt cx="342720" cy="3556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57200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457200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600520" y="1752120"/>
                <a:ext cx="342720" cy="355680"/>
                <a:chOff x="5600520" y="1752120"/>
                <a:chExt cx="342720" cy="3556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60052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560052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600520" y="2107440"/>
                <a:ext cx="342720" cy="355680"/>
                <a:chOff x="5600520" y="2107440"/>
                <a:chExt cx="342720" cy="3556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60052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560052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00520" y="2463120"/>
                <a:ext cx="342720" cy="355680"/>
                <a:chOff x="5600520" y="2463120"/>
                <a:chExt cx="342720" cy="3556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60052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560052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3200400" y="2818800"/>
              <a:ext cx="1371240" cy="1066680"/>
              <a:chOff x="3200400" y="2818800"/>
              <a:chExt cx="1371240" cy="106668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3200400" y="2818800"/>
                <a:ext cx="342720" cy="355680"/>
                <a:chOff x="3200400" y="2818800"/>
                <a:chExt cx="342720" cy="3556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20040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320040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200400" y="3174120"/>
                <a:ext cx="342720" cy="355680"/>
                <a:chOff x="3200400" y="3174120"/>
                <a:chExt cx="342720" cy="3556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20040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320040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543120" y="2818800"/>
                <a:ext cx="342720" cy="355680"/>
                <a:chOff x="3543120" y="2818800"/>
                <a:chExt cx="342720" cy="355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54312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354312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543120" y="3174120"/>
                <a:ext cx="342720" cy="355680"/>
                <a:chOff x="3543120" y="3174120"/>
                <a:chExt cx="342720" cy="3556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54312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354312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886200" y="2818800"/>
                <a:ext cx="342720" cy="355680"/>
                <a:chOff x="3886200" y="2818800"/>
                <a:chExt cx="342720" cy="3556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88620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388620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886200" y="3174120"/>
                <a:ext cx="342720" cy="355680"/>
                <a:chOff x="3886200" y="3174120"/>
                <a:chExt cx="342720" cy="3556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88620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388620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543120" y="3529800"/>
                <a:ext cx="342720" cy="355680"/>
                <a:chOff x="3543120" y="3529800"/>
                <a:chExt cx="342720" cy="3556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54312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54312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886200" y="3529800"/>
                <a:ext cx="342720" cy="355680"/>
                <a:chOff x="3886200" y="3529800"/>
                <a:chExt cx="342720" cy="3556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88620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388620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200400" y="3529800"/>
                <a:ext cx="342720" cy="355680"/>
                <a:chOff x="3200400" y="3529800"/>
                <a:chExt cx="342720" cy="3556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20040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320040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228920" y="2818800"/>
                <a:ext cx="342720" cy="355680"/>
                <a:chOff x="4228920" y="2818800"/>
                <a:chExt cx="342720" cy="3556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422892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22892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228920" y="3174120"/>
                <a:ext cx="342720" cy="355680"/>
                <a:chOff x="4228920" y="3174120"/>
                <a:chExt cx="342720" cy="3556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22892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22892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228920" y="3529800"/>
                <a:ext cx="342720" cy="355680"/>
                <a:chOff x="4228920" y="3529800"/>
                <a:chExt cx="342720" cy="3556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22892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422892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"/>
            <p:cNvGrpSpPr/>
            <p:nvPr/>
          </p:nvGrpSpPr>
          <p:grpSpPr>
            <a:xfrm>
              <a:off x="4572000" y="2818800"/>
              <a:ext cx="1371240" cy="1066680"/>
              <a:chOff x="4572000" y="2818800"/>
              <a:chExt cx="1371240" cy="10666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4572000" y="2818800"/>
                <a:ext cx="342720" cy="355680"/>
                <a:chOff x="4572000" y="2818800"/>
                <a:chExt cx="342720" cy="3556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57200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457200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572000" y="3174120"/>
                <a:ext cx="342720" cy="355680"/>
                <a:chOff x="4572000" y="3174120"/>
                <a:chExt cx="342720" cy="3556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57200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457200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914720" y="2818800"/>
                <a:ext cx="342720" cy="355680"/>
                <a:chOff x="4914720" y="2818800"/>
                <a:chExt cx="342720" cy="3556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91472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491472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4914720" y="3174120"/>
                <a:ext cx="342720" cy="355680"/>
                <a:chOff x="4914720" y="3174120"/>
                <a:chExt cx="342720" cy="355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91472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491472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257800" y="2818800"/>
                <a:ext cx="342720" cy="355680"/>
                <a:chOff x="5257800" y="2818800"/>
                <a:chExt cx="342720" cy="3556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25780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525780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257800" y="3174120"/>
                <a:ext cx="342720" cy="355680"/>
                <a:chOff x="5257800" y="3174120"/>
                <a:chExt cx="342720" cy="355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25780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525780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914720" y="3529800"/>
                <a:ext cx="342720" cy="355680"/>
                <a:chOff x="4914720" y="3529800"/>
                <a:chExt cx="342720" cy="355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1472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491472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257800" y="3529800"/>
                <a:ext cx="342720" cy="355680"/>
                <a:chOff x="5257800" y="3529800"/>
                <a:chExt cx="342720" cy="355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25780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525780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572000" y="3529800"/>
                <a:ext cx="342720" cy="355680"/>
                <a:chOff x="4572000" y="3529800"/>
                <a:chExt cx="342720" cy="355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57200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457200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600520" y="2818800"/>
                <a:ext cx="342720" cy="355680"/>
                <a:chOff x="5600520" y="2818800"/>
                <a:chExt cx="342720" cy="355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60052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560052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5600520" y="3174120"/>
                <a:ext cx="342720" cy="355680"/>
                <a:chOff x="5600520" y="3174120"/>
                <a:chExt cx="342720" cy="355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560052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560052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600520" y="3529800"/>
                <a:ext cx="342720" cy="355680"/>
                <a:chOff x="5600520" y="3529800"/>
                <a:chExt cx="342720" cy="3556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60052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560052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2" name=""/>
          <p:cNvSpPr/>
          <p:nvPr/>
        </p:nvSpPr>
        <p:spPr>
          <a:xfrm>
            <a:off x="533520" y="3962520"/>
            <a:ext cx="8229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resolution: 1 fo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can see a long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math: too many verti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ROAM: basically just RO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trivial metric: “distance from play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t radii correctly, no forced spl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vastly simplified data structur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D bit-array indicating where vertices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me show you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4x4 cell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RightTriangle(Upper left half of cel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RightTriangle(Lower right half of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RenderRightTriangle(apex, vert1, vert2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hyp = (vert1+vert2)/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itarray[midhyp] is se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RightTriangle(midhyp, vert1, ape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RightTriangle(midhyp, vert2, ape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Vertex(ape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Vertex(vert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Vertex(vert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 for rea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ccess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t without the 2D bit-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do it with triangle f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*not* homework. 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algorithm walking dead to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question: will CPU ever take over vertex transform respons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co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PU reabsorbs vertex transform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is algorithm may live, otherwise 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y Challenging 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 5, Horiz 5000, Vert 1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push 100,000 pol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makes sense for Drakan-lik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afford to do per-triangle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process larger chu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utilize vertex buffer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ipmapp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ip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heightfield into large p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atch, store multiple re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41972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32448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172200" y="43434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43000" y="4648320"/>
            <a:ext cx="4876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edge vertices are never elimin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selation might look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voids t-junctions with adjacent p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ore 1 vertex array, 4 index 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ip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16x16 pat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1: 64 edge + 225 interior = 289 vertices (10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: 64 edge + 113 interior = 177 vertices (6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3: 64 edge + 036 interior = 100 vertices (3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4: 64 edge + 025 interior = 089 vertices (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5: 64 edge + 009 interior = 073 vertices (2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any edge vertices. Try bigger patche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ing the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el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 1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: 5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: 625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halleng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 5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: 1 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: 1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 8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: ½ 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: 1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 8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: 500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: 4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ip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64x64 pat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1: 256 edge + 3969 interior = 4225 vertices (10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: 256 edge + 1985 interior = 2241 vertices (5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3: 256 edge + 0961 interior = 1217 vertices (2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4: 256 edge + 0481 interior = 0737 vertices (1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5: 256 edge + 0225 interior = 0481 vertices (1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s well on large terr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Geomip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regular grid, like in prev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use edge-collaps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4114800"/>
            <a:ext cx="77724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simpler than it loo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a vertex V1 to elimin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an adjacent vertex V2 to collapse it in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riangle lists, replace all occurrences of V1 with V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 triangles that contain V2 tw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V1 from vertex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choose which vertex to elimin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209680" y="2362320"/>
            <a:ext cx="1524240" cy="1600200"/>
            <a:chOff x="2209680" y="2362320"/>
            <a:chExt cx="1524240" cy="1600200"/>
          </a:xfrm>
        </p:grpSpPr>
        <p:sp>
          <p:nvSpPr>
            <p:cNvPr id="307" name=""/>
            <p:cNvSpPr/>
            <p:nvPr/>
          </p:nvSpPr>
          <p:spPr>
            <a:xfrm>
              <a:off x="2209680" y="2362320"/>
              <a:ext cx="838440" cy="1067040"/>
            </a:xfrm>
            <a:custGeom>
              <a:avLst/>
              <a:gdLst/>
              <a:ahLst/>
              <a:rect l="l" t="t" r="r" b="b"/>
              <a:pathLst>
                <a:path w="528" h="672">
                  <a:moveTo>
                    <a:pt x="528" y="384"/>
                  </a:moveTo>
                  <a:lnTo>
                    <a:pt x="0" y="672"/>
                  </a:lnTo>
                  <a:lnTo>
                    <a:pt x="96" y="0"/>
                  </a:lnTo>
                  <a:lnTo>
                    <a:pt x="528" y="384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62320" y="2362320"/>
              <a:ext cx="1218960" cy="609840"/>
            </a:xfrm>
            <a:custGeom>
              <a:avLst/>
              <a:gdLst/>
              <a:ahLst/>
              <a:rect l="l" t="t" r="r" b="b"/>
              <a:pathLst>
                <a:path w="768" h="384">
                  <a:moveTo>
                    <a:pt x="0" y="0"/>
                  </a:moveTo>
                  <a:lnTo>
                    <a:pt x="768" y="0"/>
                  </a:lnTo>
                  <a:lnTo>
                    <a:pt x="432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8120" y="2362320"/>
              <a:ext cx="685800" cy="914400"/>
            </a:xfrm>
            <a:custGeom>
              <a:avLst/>
              <a:gdLst/>
              <a:ahLst/>
              <a:rect l="l" t="t" r="r" b="b"/>
              <a:pathLst>
                <a:path w="432" h="576">
                  <a:moveTo>
                    <a:pt x="336" y="0"/>
                  </a:moveTo>
                  <a:lnTo>
                    <a:pt x="432" y="576"/>
                  </a:lnTo>
                  <a:lnTo>
                    <a:pt x="0" y="384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09680" y="2972160"/>
              <a:ext cx="838440" cy="990360"/>
            </a:xfrm>
            <a:custGeom>
              <a:avLst/>
              <a:gdLst/>
              <a:ahLst/>
              <a:rect l="l" t="t" r="r" b="b"/>
              <a:pathLst>
                <a:path w="528" h="624">
                  <a:moveTo>
                    <a:pt x="528" y="0"/>
                  </a:moveTo>
                  <a:lnTo>
                    <a:pt x="480" y="624"/>
                  </a:lnTo>
                  <a:lnTo>
                    <a:pt x="0" y="288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71800" y="2972160"/>
              <a:ext cx="762120" cy="990360"/>
            </a:xfrm>
            <a:custGeom>
              <a:avLst/>
              <a:gdLst/>
              <a:ahLst/>
              <a:rect l="l" t="t" r="r" b="b"/>
              <a:pathLst>
                <a:path w="480" h="624">
                  <a:moveTo>
                    <a:pt x="48" y="0"/>
                  </a:moveTo>
                  <a:lnTo>
                    <a:pt x="480" y="192"/>
                  </a:lnTo>
                  <a:lnTo>
                    <a:pt x="0" y="62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105520" y="2438280"/>
            <a:ext cx="1371600" cy="1067040"/>
          </a:xfrm>
          <a:custGeom>
            <a:avLst/>
            <a:gdLst/>
            <a:ahLst/>
            <a:rect l="l" t="t" r="r" b="b"/>
            <a:pathLst>
              <a:path w="864" h="672">
                <a:moveTo>
                  <a:pt x="96" y="0"/>
                </a:moveTo>
                <a:lnTo>
                  <a:pt x="864" y="0"/>
                </a:lnTo>
                <a:lnTo>
                  <a:pt x="0" y="672"/>
                </a:lnTo>
                <a:lnTo>
                  <a:pt x="96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2438280"/>
            <a:ext cx="762120" cy="1600200"/>
          </a:xfrm>
          <a:custGeom>
            <a:avLst/>
            <a:gdLst/>
            <a:ahLst/>
            <a:rect l="l" t="t" r="r" b="b"/>
            <a:pathLst>
              <a:path w="480" h="1008">
                <a:moveTo>
                  <a:pt x="384" y="0"/>
                </a:moveTo>
                <a:lnTo>
                  <a:pt x="480" y="576"/>
                </a:lnTo>
                <a:lnTo>
                  <a:pt x="0" y="1008"/>
                </a:lnTo>
                <a:lnTo>
                  <a:pt x="384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2438280"/>
            <a:ext cx="1371600" cy="1600200"/>
          </a:xfrm>
          <a:custGeom>
            <a:avLst/>
            <a:gdLst/>
            <a:ahLst/>
            <a:rect l="l" t="t" r="r" b="b"/>
            <a:pathLst>
              <a:path w="864" h="1008">
                <a:moveTo>
                  <a:pt x="864" y="0"/>
                </a:moveTo>
                <a:lnTo>
                  <a:pt x="480" y="1008"/>
                </a:lnTo>
                <a:lnTo>
                  <a:pt x="0" y="672"/>
                </a:lnTo>
                <a:lnTo>
                  <a:pt x="86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0" y="28195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01520" y="2209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6040" y="21337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Frequ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tileable “dirt” texture (photo of di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entire terrain, t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look good up 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look like a grid from a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hotoshop high pass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t looks like solid color from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ultiple frequencies (high, med, 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Frequ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tileable texture: “dirt”,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entire terrain, t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entire terrain, tiled, scaled 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entire terrain, tiled, scaled 2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ften do this with multitex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with different textures at 5x, 2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ooks very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Tint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texture un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 texture, t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 texture, tiled, scaled 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 texture, tiled, scaled 2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tint ma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t map is large texture (2048x2048) stretched over entire terrain (not tiled at 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t map is used to “colorize” the di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 dirt looks kinda like grass, suprising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Multiple P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, scaled 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, scaled 2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nt-map for di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s texture, t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, scaled 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, scaled 2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nt-and-transparency map for g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texture boundaries are blu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small number of terrain tex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ypass this limit with sufficient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Fragment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s te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int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dirt texture, tiled, scaled 1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grass texture, tiled, scaled 1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dirt texture, tiled, scaled 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dirt texture, tiled, scaled 2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two tint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it all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yourself a rendering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performanc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texture boundaries are blu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small number of terrain tex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2743200" y="1295280"/>
            <a:ext cx="2895480" cy="3886200"/>
            <a:chOff x="2743200" y="1295280"/>
            <a:chExt cx="2895480" cy="388620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373356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3"/>
            <a:stretch/>
          </p:blipFill>
          <p:spPr>
            <a:xfrm>
              <a:off x="472428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4"/>
            <a:stretch/>
          </p:blipFill>
          <p:spPr>
            <a:xfrm>
              <a:off x="274320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5"/>
            <a:stretch/>
          </p:blipFill>
          <p:spPr>
            <a:xfrm>
              <a:off x="373356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6"/>
            <a:stretch/>
          </p:blipFill>
          <p:spPr>
            <a:xfrm>
              <a:off x="274320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7"/>
            <a:stretch/>
          </p:blipFill>
          <p:spPr>
            <a:xfrm>
              <a:off x="373356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8"/>
            <a:stretch/>
          </p:blipFill>
          <p:spPr>
            <a:xfrm>
              <a:off x="37335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9"/>
            <a:stretch/>
          </p:blipFill>
          <p:spPr>
            <a:xfrm>
              <a:off x="472428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472428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472428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274320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3"/>
            <a:stretch/>
          </p:blipFill>
          <p:spPr>
            <a:xfrm>
              <a:off x="274320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"/>
          <p:cNvGrpSpPr/>
          <p:nvPr/>
        </p:nvGrpSpPr>
        <p:grpSpPr>
          <a:xfrm>
            <a:off x="6019920" y="1295280"/>
            <a:ext cx="2895480" cy="3886200"/>
            <a:chOff x="6019920" y="1295280"/>
            <a:chExt cx="2895480" cy="3886200"/>
          </a:xfrm>
        </p:grpSpPr>
        <p:pic>
          <p:nvPicPr>
            <p:cNvPr id="344" name="" descr=""/>
            <p:cNvPicPr/>
            <p:nvPr/>
          </p:nvPicPr>
          <p:blipFill>
            <a:blip r:embed="rId14"/>
            <a:stretch/>
          </p:blipFill>
          <p:spPr>
            <a:xfrm>
              <a:off x="701064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5"/>
            <a:stretch/>
          </p:blipFill>
          <p:spPr>
            <a:xfrm>
              <a:off x="601992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6"/>
            <a:stretch/>
          </p:blipFill>
          <p:spPr>
            <a:xfrm>
              <a:off x="601992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7"/>
            <a:stretch/>
          </p:blipFill>
          <p:spPr>
            <a:xfrm>
              <a:off x="701064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18"/>
            <a:stretch/>
          </p:blipFill>
          <p:spPr>
            <a:xfrm>
              <a:off x="701064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19"/>
            <a:stretch/>
          </p:blipFill>
          <p:spPr>
            <a:xfrm>
              <a:off x="800100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20"/>
            <a:stretch/>
          </p:blipFill>
          <p:spPr>
            <a:xfrm>
              <a:off x="800100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1"/>
            <a:stretch/>
          </p:blipFill>
          <p:spPr>
            <a:xfrm>
              <a:off x="701064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22"/>
            <a:stretch/>
          </p:blipFill>
          <p:spPr>
            <a:xfrm>
              <a:off x="800100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3"/>
            <a:stretch/>
          </p:blipFill>
          <p:spPr>
            <a:xfrm>
              <a:off x="800100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24"/>
            <a:stretch/>
          </p:blipFill>
          <p:spPr>
            <a:xfrm>
              <a:off x="601992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5"/>
            <a:stretch/>
          </p:blipFill>
          <p:spPr>
            <a:xfrm>
              <a:off x="601992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380880" y="4191120"/>
            <a:ext cx="6019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control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y mid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: texture boundaries can be sh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: can use many terrain types, if done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get combinatorics und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 Combinato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les grows rapi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2 terrain types, 2^4 tile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3 terrain types, 3^4 tile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4 terrain types, 4^4 tile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, this is not 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 limit adja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multi-pass re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s with Transpar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3733920" y="14479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867280" y="144792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276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35053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take up to four passes to render a 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actice, 99% only take 1 or 2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mited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ixteen textures per terrai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still a lot of big textures, if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 8, Horiz 500, Vert 4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roblem: hide that short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way to measure horizon: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leys and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ht – black f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ed backd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Tiles with 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6934320" y="152388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2743200" y="152388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4876920" y="152388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685800" y="152388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819520" y="3962520"/>
            <a:ext cx="5790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at ATITD 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tileable textures are hard to mak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able, tileable are very hard to m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s: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supports high-frequenc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atible with ROAM/Geomip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orporate medium and low-freq no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parate texture and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 can be sum of 1x+5x+2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another texture unit (already quite f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o tiles and ROAM at same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o it with hairy pixel sh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try it, really. It’s not a good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it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errain thus far looks somewhat f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bump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other with simple bump-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T-scan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ufts-of-grass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ing 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 8, Horiz 2500, Vert 100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roblem: too many polyg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 to store 100k ver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easible to rende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me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400800" y="167652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3047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esh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400800" y="167616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3124080"/>
            <a:ext cx="10666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40080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3657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9560" y="19414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60480" y="27432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– because of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66640" y="3505320"/>
            <a:ext cx="38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finished yet – danger – t-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45720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400800" y="457164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51055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71200" y="419112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d split to eliminate t-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4572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69960" y="49528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167652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167652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3124080"/>
            <a:ext cx="106704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31240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457200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67480" y="457200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79132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is out-of-fa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391520" y="556272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24480" y="121932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324480" y="121896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1752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1219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91520" y="121932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91520" y="121932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2666880"/>
            <a:ext cx="106704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324480" y="26668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3200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26668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91520" y="2666880"/>
            <a:ext cx="10666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91520" y="26668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411480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324480" y="411444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4648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4114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41148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411480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391520" y="464796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924680" y="4114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91520" y="6095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556272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324480" y="556236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60958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55627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556272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0" y="6095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391520" y="60958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924680" y="55623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03120" y="1523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08200" y="22860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– because of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6800" y="37339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d 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61560" y="30481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ow have t-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7680" y="441972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getting rid of t-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1000" y="51814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orced 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17680" y="59436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M – choose your metr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reasonable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of midpoint of hypotenuse from height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idpoint, project true point, calc distance in screen-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 c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ttention to camera (or pla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ttention to height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ttention to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old you basic ideas, but I didn’t show the actual data stru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algorithm is in ROAM paper: http://www.llnl.gov/graphics/ROA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: don’t implemen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is now out-of-favor, because of evolution of hard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ware and 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OAM was inven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et: 100,000 v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can process 5,000/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U can handle 5,000/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et: 500,000 v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can process 10,000/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U can handle 50,000/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on toward ever-simpler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7:18:07Z</dcterms:created>
  <dc:creator>Julio Gonzales</dc:creator>
  <dc:description/>
  <dc:language>en-US</dc:language>
  <cp:lastModifiedBy>Josh Yelon</cp:lastModifiedBy>
  <dcterms:modified xsi:type="dcterms:W3CDTF">2005-02-21T19:26:03Z</dcterms:modified>
  <cp:revision>10</cp:revision>
  <dc:subject/>
  <dc:title>Heightfield Terrain</dc:title>
</cp:coreProperties>
</file>