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DDE-CE7E-41A6-B9D5-266095B1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D3C-657B-49AE-9AF1-8C2D13A2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70C-BF73-4C11-B74A-E4FE5CFA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926-E019-4E25-ACC4-9DC062AB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E83-3F78-4524-987E-617D604C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E9A-A7B2-4940-B6AA-6ABD3823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013-8BBE-4B2B-BD7E-6FBC4D1C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2AE-0D1A-446C-A350-B7B7FD35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29D-2AB1-4B9B-B78A-F1577F3B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93A-D45F-4C40-AED1-2F7E52E3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010-CCF3-46B9-9C4A-99B02144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902-BBD0-4FC7-B289-264C7F3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8E2C-EF7A-4D2E-BDB9-C640F3BE2AF0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Networking for Gam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and Band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hiding Mech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Is fo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ing with Che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read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hreads (event-driv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ds (one per cli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preemptive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reads to minimize la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that usefu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reads as a programming constr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expression of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Latency Hid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ways to deal with Laten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al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conceal 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 Reck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 it in the Game’s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ead Reckon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send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player se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3276720"/>
            <a:ext cx="594360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3800" y="6019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33880" y="4379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56386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029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8769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4724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4419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48769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ead Reckon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sends position and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 maintains pos based on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player se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276720"/>
            <a:ext cx="594360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3800" y="6019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33880" y="4379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81080" y="5181480"/>
            <a:ext cx="9907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5029200"/>
            <a:ext cx="9144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962520" y="4495320"/>
            <a:ext cx="99036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952880" y="457164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441972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4876920"/>
            <a:ext cx="9903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ead Reckon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 maintains pos based on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update gradually (interpol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client believes / player se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276720"/>
            <a:ext cx="594360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3800" y="6019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33880" y="4379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981080" y="5181480"/>
            <a:ext cx="9907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5029200"/>
            <a:ext cx="9907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962520" y="4495320"/>
            <a:ext cx="99036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457164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441972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4876920"/>
            <a:ext cx="9903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71800" y="5105160"/>
            <a:ext cx="990720" cy="75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62520" y="4495680"/>
            <a:ext cx="990360" cy="609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495680"/>
            <a:ext cx="990720" cy="76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572000"/>
            <a:ext cx="990720" cy="76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648320"/>
            <a:ext cx="990360" cy="533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ore Dead Reckon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wo data se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ious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 two extrapolated po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based on recent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based on previous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olate from one to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continuity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ODSIM / Time Warp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MODS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ypical use: battlefield si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he simulation clock /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he challenge of parallel MODS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he solution: Time Wa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Method invocations timestam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Object executes methods in chron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n case of out-of-order delivery, roll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eed GMT cal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rediction </a:t>
            </a:r>
            <a:r>
              <a:rPr b="0" lang="en-US" sz="4000" spc="-1" strike="noStrike">
                <a:solidFill>
                  <a:srgbClr val="dfd293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Fewer Packe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Dead Reckoning to limi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5105520" cy="1589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3429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Prediction in ATI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our world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ot-yet-ack’d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Rollback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ot b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1752480"/>
            <a:ext cx="259056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ollis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 question… did I hit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259056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1752480"/>
            <a:ext cx="259056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602000" y="2590920"/>
            <a:ext cx="607680" cy="749160"/>
            <a:chOff x="1602000" y="2590920"/>
            <a:chExt cx="607680" cy="749160"/>
          </a:xfrm>
        </p:grpSpPr>
        <p:grpSp>
          <p:nvGrpSpPr>
            <p:cNvPr id="118" name=""/>
            <p:cNvGrpSpPr/>
            <p:nvPr/>
          </p:nvGrpSpPr>
          <p:grpSpPr>
            <a:xfrm>
              <a:off x="1676520" y="2590920"/>
              <a:ext cx="304560" cy="457200"/>
              <a:chOff x="1676520" y="2590920"/>
              <a:chExt cx="3045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1828440" y="274356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28440" y="289584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1752480" y="2895840"/>
                <a:ext cx="756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76520" y="274356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52480" y="2590920"/>
                <a:ext cx="15192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602000" y="2971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28954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88160" y="1828800"/>
            <a:ext cx="683640" cy="749160"/>
            <a:chOff x="2288160" y="1828800"/>
            <a:chExt cx="683640" cy="749160"/>
          </a:xfrm>
        </p:grpSpPr>
        <p:grpSp>
          <p:nvGrpSpPr>
            <p:cNvPr id="127" name=""/>
            <p:cNvGrpSpPr/>
            <p:nvPr/>
          </p:nvGrpSpPr>
          <p:grpSpPr>
            <a:xfrm>
              <a:off x="2438280" y="1828800"/>
              <a:ext cx="304920" cy="457200"/>
              <a:chOff x="2438280" y="1828800"/>
              <a:chExt cx="304920" cy="457200"/>
            </a:xfrm>
          </p:grpSpPr>
          <p:sp>
            <p:nvSpPr>
              <p:cNvPr id="128" name=""/>
              <p:cNvSpPr/>
              <p:nvPr/>
            </p:nvSpPr>
            <p:spPr>
              <a:xfrm>
                <a:off x="2590560" y="19814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90560" y="2133720"/>
                <a:ext cx="763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514240" y="21337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38280" y="1981440"/>
                <a:ext cx="30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14600" y="1828800"/>
                <a:ext cx="15228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288160" y="22096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2133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97680" y="2514600"/>
            <a:ext cx="607680" cy="749160"/>
            <a:chOff x="6097680" y="2514600"/>
            <a:chExt cx="607680" cy="749160"/>
          </a:xfrm>
        </p:grpSpPr>
        <p:grpSp>
          <p:nvGrpSpPr>
            <p:cNvPr id="136" name=""/>
            <p:cNvGrpSpPr/>
            <p:nvPr/>
          </p:nvGrpSpPr>
          <p:grpSpPr>
            <a:xfrm>
              <a:off x="6172200" y="2514600"/>
              <a:ext cx="304560" cy="457200"/>
              <a:chOff x="6172200" y="2514600"/>
              <a:chExt cx="304560" cy="457200"/>
            </a:xfrm>
          </p:grpSpPr>
          <p:sp>
            <p:nvSpPr>
              <p:cNvPr id="137" name=""/>
              <p:cNvSpPr/>
              <p:nvPr/>
            </p:nvSpPr>
            <p:spPr>
              <a:xfrm>
                <a:off x="6324120" y="26672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24120" y="28195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6248160" y="2819520"/>
                <a:ext cx="756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72200" y="266724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48160" y="2514600"/>
                <a:ext cx="15192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6097680" y="2895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76760" y="281916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345200" y="2514600"/>
            <a:ext cx="607680" cy="749160"/>
            <a:chOff x="4345200" y="2514600"/>
            <a:chExt cx="607680" cy="749160"/>
          </a:xfrm>
        </p:grpSpPr>
        <p:grpSp>
          <p:nvGrpSpPr>
            <p:cNvPr id="145" name=""/>
            <p:cNvGrpSpPr/>
            <p:nvPr/>
          </p:nvGrpSpPr>
          <p:grpSpPr>
            <a:xfrm>
              <a:off x="4419720" y="2514600"/>
              <a:ext cx="304560" cy="457200"/>
              <a:chOff x="4419720" y="2514600"/>
              <a:chExt cx="304560" cy="457200"/>
            </a:xfrm>
          </p:grpSpPr>
          <p:sp>
            <p:nvSpPr>
              <p:cNvPr id="146" name=""/>
              <p:cNvSpPr/>
              <p:nvPr/>
            </p:nvSpPr>
            <p:spPr>
              <a:xfrm>
                <a:off x="4571640" y="26672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71640" y="28195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4495680" y="2819520"/>
                <a:ext cx="756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19720" y="266724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95680" y="2514600"/>
                <a:ext cx="15192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4345200" y="2895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4280" y="281916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774560" y="1828800"/>
            <a:ext cx="683640" cy="749160"/>
            <a:chOff x="7774560" y="1828800"/>
            <a:chExt cx="683640" cy="749160"/>
          </a:xfrm>
        </p:grpSpPr>
        <p:grpSp>
          <p:nvGrpSpPr>
            <p:cNvPr id="154" name=""/>
            <p:cNvGrpSpPr/>
            <p:nvPr/>
          </p:nvGrpSpPr>
          <p:grpSpPr>
            <a:xfrm>
              <a:off x="7924680" y="1828800"/>
              <a:ext cx="304920" cy="457200"/>
              <a:chOff x="7924680" y="1828800"/>
              <a:chExt cx="304920" cy="457200"/>
            </a:xfrm>
          </p:grpSpPr>
          <p:sp>
            <p:nvSpPr>
              <p:cNvPr id="155" name=""/>
              <p:cNvSpPr/>
              <p:nvPr/>
            </p:nvSpPr>
            <p:spPr>
              <a:xfrm>
                <a:off x="8076960" y="19814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76960" y="2133720"/>
                <a:ext cx="763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8000640" y="21337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4680" y="1981440"/>
                <a:ext cx="30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01000" y="1828800"/>
                <a:ext cx="15228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7774560" y="22096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29600" y="2133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269240" y="1828800"/>
            <a:ext cx="683640" cy="749160"/>
            <a:chOff x="4269240" y="1828800"/>
            <a:chExt cx="683640" cy="749160"/>
          </a:xfrm>
        </p:grpSpPr>
        <p:grpSp>
          <p:nvGrpSpPr>
            <p:cNvPr id="163" name=""/>
            <p:cNvGrpSpPr/>
            <p:nvPr/>
          </p:nvGrpSpPr>
          <p:grpSpPr>
            <a:xfrm>
              <a:off x="4419360" y="1828800"/>
              <a:ext cx="304920" cy="457200"/>
              <a:chOff x="4419360" y="1828800"/>
              <a:chExt cx="304920" cy="45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4571640" y="19814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71640" y="2133720"/>
                <a:ext cx="763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495320" y="21337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19360" y="1981440"/>
                <a:ext cx="30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95680" y="1828800"/>
                <a:ext cx="15228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269240" y="22096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4280" y="2133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525680" y="3276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32767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 S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31560" y="327672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you S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191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Also: Rubberb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Game Rules can Hide Latency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it o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have la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 reckoning can’t always mask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game’s rules to hide la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still, give immediat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 it in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discrete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Bandwidth Limi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ms: 28k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-Server: use it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-to-All, 5 players: 7 kbps per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server as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costs $1.00/G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kbps * 80 hours / Month = 1 GB /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igher-Level Communication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PI style mess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Procedur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Procedure S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Method S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Objects with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BA 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-Expr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-Expressions +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ompress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Z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he obvious thing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y us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Huffman with fixed tables (nonadap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Multi-Session compress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Custom compression (ie, Van Jacobs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heat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ypes of Che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Authoritative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nformation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Automation / B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Core anti-cheating prin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Decide early – open play or closed pl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ever Trust Client… so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ever Xmit more than Client can see… so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s obscurity secur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aking it harder to Che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command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xt-sensitive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rypting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-Upd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uristic cheat det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ed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 issues – open source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Latency Limi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 Latency: 100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Laten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m: 120 ms x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disconnects: 1 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La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I/O on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bage collection on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ds to eliminate processing latenc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CP: Sliding Window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At any given moment, transmitting a “wind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In other words, a range of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Range is typically 10 packets (ie, packets 33-4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f one is ack’d, stop retransmitting that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f first one is ack’d, move up th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Design Heu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fast to s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long to wait to retrans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many to ack at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big to make th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Optimize for bandwidth or latenc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rotocol Option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Standard T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Stream ori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Optimized for bandwidth, not lat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Homebrewed Sliding Windows over UD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Like TCP, only optimized for lat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Doesn’t have umpteen years of experience behind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Dang routers tend to throw out UDP packets</a:t>
            </a:r>
            <a:br>
              <a:rPr sz="1800"/>
            </a:b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Tweaked T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Use OS calls to adjust algorithm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Turn off the Na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djust window siz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DP, but not sliding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Can use multic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ransmitting Full Stat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xample: XPi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rver – multicasts UDP pa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Each packet contains entire state of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Client – sends UDP packets to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Each packet contains state of key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ransmitting State Updat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xample: Quake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ransmit Diffs inst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286000"/>
            <a:ext cx="3733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1=T0+diff1,diff2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2=T1+diff3,diff4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3=T2+diff5,diff6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4=T2+diff5,diff6,diff7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5=T2+diff5,diff6,diff7,diff8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6=T5+diff9,diff10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7=T6+diff11,diff12… (packet lo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8=T6+diff11,diff12,diff13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2286000"/>
            <a:ext cx="38862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1 O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2 O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3 OK (packet lo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4 OK (packet lo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5 O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6 OK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8 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181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Data structures needed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What if diffs too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ransmitting Command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Age of Emp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lients send commands to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lients simulate effects of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ordering must be consis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deterministic 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numbers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ating points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low bandwidth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Network Topology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-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 a price in La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 in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er to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-to-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La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needs good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brid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4:57:53Z</dcterms:created>
  <dc:creator> </dc:creator>
  <dc:description/>
  <dc:language>en-US</dc:language>
  <cp:lastModifiedBy> </cp:lastModifiedBy>
  <dcterms:modified xsi:type="dcterms:W3CDTF">2005-02-02T22:47:20Z</dcterms:modified>
  <cp:revision>10</cp:revision>
  <dc:subject/>
  <dc:title>Networking for (small) Games</dc:title>
</cp:coreProperties>
</file>