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D994-CBFA-409D-9ED7-BC9DF9D5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9B77-6C33-4BBA-98A0-D15D67EE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4B1C-A068-40FB-99E0-5CE67725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09BA-2E1A-407C-9E6F-7AD11292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FD5D-5E75-4BAB-A35C-2C32A3C2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7DA1-4AF6-40A4-8E98-DE1D7415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4793-CB7D-45F8-ABAB-76E4DFEF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AA7B-BED7-4BE0-AD1B-2E4E1A9A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D164-490A-436A-8600-4F5A0DC3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D9C4-E78C-4EE1-A618-7601795C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F90C-2136-4808-B209-28F4739C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024A-E9CD-46FD-A3B5-063BA118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669F-A7A1-4C27-B077-2589EDF2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98D6-9D97-4D27-85BA-14906A76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1643-4F6F-475F-8315-C97ADFF0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E90D-E4C7-4736-8BAE-AE4B8613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E8F0-B177-47B3-B82C-2E4DACFE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51DE-92D5-4682-8588-B0F6BDBA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0ABD-68E4-4ED1-A0F6-963895D2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4399-DBAB-4F70-9659-665DD16F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DC77-4009-4BC3-B0D5-2C1A21AC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D141-B5EC-478F-BE11-FCBD20D4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3F3CD-97F1-463F-97BD-C1023625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247F-DCFE-4837-ACFE-0274D87F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E49D-16AF-420F-AFFD-98275360D9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F3AE-A984-4D26-B897-1117C62C11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ump Mapp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5181480" y="1904760"/>
            <a:ext cx="3733920" cy="457560"/>
            <a:chOff x="5181480" y="1904760"/>
            <a:chExt cx="3733920" cy="457560"/>
          </a:xfrm>
        </p:grpSpPr>
        <p:sp>
          <p:nvSpPr>
            <p:cNvPr id="515" name=""/>
            <p:cNvSpPr/>
            <p:nvPr/>
          </p:nvSpPr>
          <p:spPr>
            <a:xfrm>
              <a:off x="5181480" y="2362320"/>
              <a:ext cx="144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6629400" y="1942920"/>
              <a:ext cx="419040" cy="41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48440" y="1942920"/>
              <a:ext cx="419040" cy="41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67480" y="2362320"/>
              <a:ext cx="144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53719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4864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56005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57150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58291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59436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60577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61722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62863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64008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5149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2578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29400" y="220968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05360" y="213372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81680" y="2057400"/>
              <a:ext cx="7632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8000" y="198108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33960" y="190512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6960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8102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9246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80388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81532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82674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83818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84960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86104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7246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88390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5816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391160" y="220932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315200" y="213336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238880" y="2057400"/>
              <a:ext cx="7632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7162560" y="198072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086600" y="190476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105520" y="3885840"/>
            <a:ext cx="3733200" cy="152640"/>
            <a:chOff x="5105520" y="3885840"/>
            <a:chExt cx="3733200" cy="152640"/>
          </a:xfrm>
        </p:grpSpPr>
        <p:sp>
          <p:nvSpPr>
            <p:cNvPr id="554" name=""/>
            <p:cNvSpPr/>
            <p:nvPr/>
          </p:nvSpPr>
          <p:spPr>
            <a:xfrm>
              <a:off x="5105520" y="40384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53080" y="4038480"/>
              <a:ext cx="418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72120" y="4038480"/>
              <a:ext cx="418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91160" y="40384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52959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54100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5245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6386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7531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8672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9817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0958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2103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3244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4389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51814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55308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2940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0536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8168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5800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6197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7342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8483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628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769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1914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3055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4200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5341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6486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87627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5056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31520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23888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16256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708660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01028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5181480" y="2666880"/>
            <a:ext cx="3733560" cy="380880"/>
            <a:chOff x="5181480" y="2666880"/>
            <a:chExt cx="3733560" cy="380880"/>
          </a:xfrm>
        </p:grpSpPr>
        <p:sp>
          <p:nvSpPr>
            <p:cNvPr id="593" name=""/>
            <p:cNvSpPr/>
            <p:nvPr/>
          </p:nvSpPr>
          <p:spPr>
            <a:xfrm>
              <a:off x="5181480" y="2666880"/>
              <a:ext cx="147744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58920" y="2666880"/>
              <a:ext cx="389160" cy="380880"/>
            </a:xfrm>
            <a:prstGeom prst="rect">
              <a:avLst/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48080" y="2666880"/>
              <a:ext cx="388800" cy="3808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437240" y="2666880"/>
              <a:ext cx="147780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1219320" y="3809880"/>
            <a:ext cx="38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t polygon, fake normals appl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5105520" y="4343400"/>
            <a:ext cx="3733200" cy="380880"/>
            <a:chOff x="5105520" y="4343400"/>
            <a:chExt cx="3733200" cy="380880"/>
          </a:xfrm>
        </p:grpSpPr>
        <p:sp>
          <p:nvSpPr>
            <p:cNvPr id="599" name=""/>
            <p:cNvSpPr/>
            <p:nvPr/>
          </p:nvSpPr>
          <p:spPr>
            <a:xfrm>
              <a:off x="5105520" y="4343400"/>
              <a:ext cx="147744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82960" y="4343400"/>
              <a:ext cx="388800" cy="380880"/>
            </a:xfrm>
            <a:prstGeom prst="rect">
              <a:avLst/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72120" y="4343400"/>
              <a:ext cx="388440" cy="3808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60920" y="4343400"/>
              <a:ext cx="147780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819520" y="4343400"/>
            <a:ext cx="22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 with fake norm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52480" y="2133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 with bump, normals sh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76720" y="2666880"/>
            <a:ext cx="18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dinary ligh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407000" y="1295280"/>
            <a:ext cx="5173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98960" y="1447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 l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523880" y="55627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“normal map” is a texture containing these fake norm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772400" y="762120"/>
            <a:ext cx="609480" cy="6094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Vec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28600" y="1295280"/>
            <a:ext cx="464832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 vertex h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position (the usual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- texcoords (the usual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- normal (the usual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- tangent (pointing in +S direction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- binormal (pointing in +T direc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338440" y="1600200"/>
            <a:ext cx="3477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, Tangent, Binorma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form orthonormal ba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Loader has to comput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ngent and binormal fro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ure coordinates and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0" y="3902040"/>
            <a:ext cx="69724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Vec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724640" cy="20019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304920" y="114300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, it is well-defined wh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ngent (+S) and binormal (+T) should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3886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, not well defin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ximations look f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3581280" y="4572000"/>
            <a:ext cx="51818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4953240" cy="2062080"/>
          </a:xfrm>
          <a:prstGeom prst="rect">
            <a:avLst/>
          </a:prstGeom>
          <a:ln w="0">
            <a:noFill/>
          </a:ln>
        </p:spPr>
      </p:pic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Vec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419720" cy="183024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762120" y="160020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case of mirroring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approxim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64640" y="4191120"/>
            <a:ext cx="323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nter vertex has no ide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ich way tangent (+S) should 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5029200" y="4800600"/>
            <a:ext cx="10666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720240" y="6095880"/>
            <a:ext cx="234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vertex think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ngent (+S) points 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6400440" y="4800600"/>
            <a:ext cx="10666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66040" y="6095880"/>
            <a:ext cx="19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vertex think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ngent (+S) is w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48320" y="320040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uch cases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ing mesh solves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lculating Tangent Vec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82320" y="4495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685800" y="3048120"/>
            <a:ext cx="1752480" cy="1523880"/>
            <a:chOff x="685800" y="3048120"/>
            <a:chExt cx="1752480" cy="1523880"/>
          </a:xfrm>
        </p:grpSpPr>
        <p:sp>
          <p:nvSpPr>
            <p:cNvPr id="808" name=""/>
            <p:cNvSpPr/>
            <p:nvPr/>
          </p:nvSpPr>
          <p:spPr>
            <a:xfrm>
              <a:off x="685800" y="3048120"/>
              <a:ext cx="1752480" cy="152388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0" y="960"/>
                  </a:moveTo>
                  <a:lnTo>
                    <a:pt x="576" y="0"/>
                  </a:lnTo>
                  <a:lnTo>
                    <a:pt x="1104" y="576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449000" y="373392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1372680" y="274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363400" y="38098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33520" y="1143000"/>
            <a:ext cx="80769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to calculate tangent at vertex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ine a single triangle attached to vertex V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k: “which way increases S texcoord, not T texcoord?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200400" y="2773440"/>
            <a:ext cx="5257800" cy="19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(ds1,dt1) be change in texcoords from V to V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(ds2,dt2) be change in texcoords from V to V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: x*(ds1,dt1)+y*(ds2,dt2) = (1,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(dx1,dy1,dz1) be change in position from V to V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(dx2,dy2,dz2) be change in position from V to V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gent = x*(dx1,dy1,dz1) + y*(dx2,dy2,dz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143000" y="5334120"/>
            <a:ext cx="739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binormal, ask “which way increases T texcoord, not S texcoord” instea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y triangle attached to V will give you a different tangent. Average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ulting average is an approximation. Not quite orthonormal. Orthonormaliz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Space and Anim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" y="1600200"/>
            <a:ext cx="807732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n animation package rotates a limb, it rotates the normals too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, it also needs to rotate the tangents and binormal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 uses same rotation matrix as was used for the nor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the (tangent, binormal, normal) vectors formed an orthonormal basis before, they’re still an orthonormal basis after rot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e of T,B,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57200" y="1371600"/>
            <a:ext cx="8077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our three vectors: (tangent, binormal, norm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gether, (T,B,N) form “tangent-space to world-space rotation matrix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is what pixel shader needs to d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tangent-space fake norm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onvert these to world-space using the (T,B,N) matr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WorldSpace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RNING: pixel shader missing an important step. See next sl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polating T,B,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" y="1371600"/>
            <a:ext cx="80773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: (T,B,N) are stored per-verte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: Video chip always interpolates vertex attribu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: Matrices interpolate bad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is what pixel shader really needs to d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normalize (T,B,N)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his is n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tangent-space 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onvert these to world-space using the (T,B,N) matr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Rotated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pixel shader is very long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low Tangent-Space Bumpma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7200" y="1371600"/>
            <a:ext cx="822960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nlensq, N, 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renormalize norm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Q rsqnlensq, nlensq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 N, N, rsqnlensq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tlensq, T,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renormalize tangen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Q rsqtlensq, tlensq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 T, T, rsqtlens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PD B, N,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calculate binormal using cross-produc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 B, B, handednes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 fakenormal,texcoord0,texture[0]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look up fake normal from normal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wsfake.x, fakenormal,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transform fake normal into world-spa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wsfake.y, fakenormal, B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wsfake.z, fakenormal, 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finalcolor, wsfake, wsligh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do the lighting dot-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Space Speedha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09480" y="12193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 this speedhack I told you to forget?  Unforget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286000" y="22096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363760" y="205740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ght 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286000" y="3352320"/>
            <a:ext cx="1371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659400" y="31240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71960" y="2666880"/>
            <a:ext cx="182808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898720" y="266688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ta = 80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136600" y="3657600"/>
            <a:ext cx="260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ke can rotated 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C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regular 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337000" y="3657600"/>
            <a:ext cx="260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ke can rotated 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C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cheap 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5486400" y="220968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716440" y="205740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ght 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48640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936120" y="33526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76920" y="2666880"/>
            <a:ext cx="15235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251760" y="274320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ta = 80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4648320"/>
            <a:ext cx="7391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hack works just as well with tangent-space bump mapp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, it’s even more useful, because tangent-space bump mapping without it is so expens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st Tangent-Space Bumpma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09480" y="1143000"/>
            <a:ext cx="7848720" cy="55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*with* the speedhack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O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otate normal from tangent-space into world-spa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otate light from world-space into tangent-spa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vertex shader, calculate tangent-space light vector (TS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puts are (T,B,N) and world-space light vector (WSLigh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Light = (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 WSLight, B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· WSLight, N · WSLigh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ixel shader, do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normalize TSLight – this is just a vector – quick and eas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tangent-space 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pixel shader is nice and short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oring Normals in Textu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33520" y="1905120"/>
            <a:ext cx="79246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wo different formats for Normal m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 space normal m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ngent space normal m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body uses model space normal ma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ever, tangent space is more comple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work up to it increment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st Tangent-Space Bumpma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57200" y="1371600"/>
            <a:ext cx="8229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lensq, TSLight, TSLigh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renormalize TSLigh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Q rsqlensq, lensq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 TSLight, TSLight, rsqlensq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 fakenormal,texcoord0,texture[0]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look up fake normal from normal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finalcolor, fakenormal, tsligh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do the lighting dot-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33520" y="3657600"/>
            <a:ext cx="8001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ALU instructions instead of Twelve – Big improv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think that somebody out there has a 2-instruction renormaliz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dding Specular Highligh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57200" y="1371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remember your OpenG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733920" y="3733920"/>
            <a:ext cx="2514600" cy="647640"/>
          </a:xfrm>
          <a:custGeom>
            <a:avLst/>
            <a:gdLst/>
            <a:ahLst/>
            <a:rect l="l" t="t" r="r" b="b"/>
            <a:pathLst>
              <a:path w="1592" h="968">
                <a:moveTo>
                  <a:pt x="240" y="312"/>
                </a:moveTo>
                <a:cubicBezTo>
                  <a:pt x="312" y="208"/>
                  <a:pt x="432" y="48"/>
                  <a:pt x="624" y="24"/>
                </a:cubicBezTo>
                <a:cubicBezTo>
                  <a:pt x="816" y="0"/>
                  <a:pt x="1264" y="24"/>
                  <a:pt x="1392" y="168"/>
                </a:cubicBezTo>
                <a:cubicBezTo>
                  <a:pt x="1520" y="312"/>
                  <a:pt x="1592" y="808"/>
                  <a:pt x="1392" y="888"/>
                </a:cubicBezTo>
                <a:cubicBezTo>
                  <a:pt x="1192" y="968"/>
                  <a:pt x="384" y="744"/>
                  <a:pt x="192" y="648"/>
                </a:cubicBezTo>
                <a:cubicBezTo>
                  <a:pt x="0" y="552"/>
                  <a:pt x="168" y="416"/>
                  <a:pt x="240" y="312"/>
                </a:cubicBez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029200" y="2666880"/>
            <a:ext cx="14479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2895480" y="2209680"/>
            <a:ext cx="761760" cy="761760"/>
            <a:chOff x="2895480" y="2209680"/>
            <a:chExt cx="761760" cy="761760"/>
          </a:xfrm>
        </p:grpSpPr>
        <p:sp>
          <p:nvSpPr>
            <p:cNvPr id="850" name=""/>
            <p:cNvSpPr/>
            <p:nvPr/>
          </p:nvSpPr>
          <p:spPr>
            <a:xfrm>
              <a:off x="2895480" y="2209680"/>
              <a:ext cx="76176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200040" y="2514240"/>
              <a:ext cx="381240" cy="381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52680" y="2666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3" name=""/>
          <p:cNvSpPr/>
          <p:nvPr/>
        </p:nvSpPr>
        <p:spPr>
          <a:xfrm flipH="1" flipV="1">
            <a:off x="3657600" y="289512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98000" y="3048120"/>
            <a:ext cx="110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vecto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the ey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793120" y="3124080"/>
            <a:ext cx="111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 = vecto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the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4952880" y="2286000"/>
            <a:ext cx="763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313160" y="1676520"/>
            <a:ext cx="13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angle =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verage(E,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453560" y="380988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y 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400800" y="2133720"/>
            <a:ext cx="838080" cy="838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33520" y="4800600"/>
            <a:ext cx="77724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 OpenGL rul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ular = (Halfang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 Normal)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pecPow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here SpecPow is a magic constant under your control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penGL does this calculation at every vertex.  If you want, you can calculate it at every pixel instead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n your bumps will have specular highlights on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dding Specular Highligh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09480" y="1143000"/>
            <a:ext cx="784872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vertex shader, calculate tangent-space halfangle (TSHal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puts are (T,B,N) and world-space light vector (WSLigh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Half = (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 WSHalf, B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· WSHalf, N · WSHal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ixel shader, do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normalize TSHalf – this is just a vector – quick and eas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tangent-space 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(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SHalf)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SpecPo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Add this to the total inten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vironment-Mapped Bum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09480" y="1523880"/>
            <a:ext cx="7848720" cy="46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rn video chips have special hardware for cube m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“cube map” is essentially a sky bo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ven a cube map (six textures forming a cube, viewed from ins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ven an eye vector originating in center of cu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s up a texel in 1 instr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BM: shiny bumpy surface which reflects sky 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ic example: ripply wa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ensive. Can’t optimize it the way we optimized this other stuff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lementation on the next sli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vironment-Mapped Bum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09480" y="1219320"/>
            <a:ext cx="784872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tex data needs to inclu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T, B, N) vectors – explicit, not the speedh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ye Vector – a vector pointing from the vertex toward the cam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xel Shad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normalize Eye, T, B, 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tangent-space 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onvert fake normal to world-space using the (T,B,N) matr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reflection of eye vector using world-space 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I’ll go into this more on the next sli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look up reflected eye vector in the cube-map sky bo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s like bumpy chrome unless you mix it with something els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371600" y="1981080"/>
            <a:ext cx="6553080" cy="41911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Reflection Vect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pixel shader needs to reflect the eye ve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he world-space fake nor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2362320" y="3200400"/>
            <a:ext cx="761760" cy="761760"/>
            <a:chOff x="2362320" y="3200400"/>
            <a:chExt cx="761760" cy="761760"/>
          </a:xfrm>
        </p:grpSpPr>
        <p:sp>
          <p:nvSpPr>
            <p:cNvPr id="871" name=""/>
            <p:cNvSpPr/>
            <p:nvPr/>
          </p:nvSpPr>
          <p:spPr>
            <a:xfrm>
              <a:off x="2362320" y="3200400"/>
              <a:ext cx="76176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666880" y="3504960"/>
              <a:ext cx="381240" cy="381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195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3048120" y="388620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4343040" y="3048120"/>
            <a:ext cx="6858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202560" y="44197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y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45960" y="62485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inued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497840" y="3276720"/>
            <a:ext cx="16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world-spa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029200" y="4876920"/>
            <a:ext cx="7632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106240" y="480060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ix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1371600" y="1981080"/>
            <a:ext cx="6553080" cy="41911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Reflection Vect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3520" y="12193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pixel shader needs to reflect the eye ve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he world-space fake nor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362320" y="3200400"/>
            <a:ext cx="761760" cy="761760"/>
            <a:chOff x="2362320" y="3200400"/>
            <a:chExt cx="761760" cy="761760"/>
          </a:xfrm>
        </p:grpSpPr>
        <p:sp>
          <p:nvSpPr>
            <p:cNvPr id="885" name=""/>
            <p:cNvSpPr/>
            <p:nvPr/>
          </p:nvSpPr>
          <p:spPr>
            <a:xfrm>
              <a:off x="2362320" y="3200400"/>
              <a:ext cx="76176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666880" y="3504960"/>
              <a:ext cx="381240" cy="381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8195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048120" y="388620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4343040" y="3048120"/>
            <a:ext cx="6858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202560" y="44197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y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5029200" y="419076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3200400" y="48762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rot="20437200">
            <a:off x="3582720" y="4953240"/>
            <a:ext cx="314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normal implies the existen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f a mirror, right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5029200" y="1981080"/>
            <a:ext cx="9144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490720" y="3276720"/>
            <a:ext cx="240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reflected eye vecto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ould go this way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0160" y="1981080"/>
            <a:ext cx="160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hit the sk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x he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371600" y="1981080"/>
            <a:ext cx="6553080" cy="41911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Reflection Vect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33520" y="12193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pixel shader needs to reflect the eye ve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he world-space fake nor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2362320" y="3200400"/>
            <a:ext cx="761760" cy="761760"/>
            <a:chOff x="2362320" y="3200400"/>
            <a:chExt cx="761760" cy="761760"/>
          </a:xfrm>
        </p:grpSpPr>
        <p:sp>
          <p:nvSpPr>
            <p:cNvPr id="901" name=""/>
            <p:cNvSpPr/>
            <p:nvPr/>
          </p:nvSpPr>
          <p:spPr>
            <a:xfrm>
              <a:off x="2362320" y="3200400"/>
              <a:ext cx="76176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666880" y="3504960"/>
              <a:ext cx="381240" cy="381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195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3048120" y="388620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 flipV="1">
            <a:off x="4343040" y="3048120"/>
            <a:ext cx="6858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202560" y="44197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y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5029200" y="419076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200400" y="48762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5029200" y="1981080"/>
            <a:ext cx="9144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352680" y="5791320"/>
            <a:ext cx="5181840" cy="707760"/>
          </a:xfrm>
          <a:prstGeom prst="rect">
            <a:avLst/>
          </a:prstGeom>
          <a:solidFill>
            <a:srgbClr val="df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component = WSFakeNorm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lection = eye + WSFakeNormal * ncomponent * 2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del Space Normal Ma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3520" y="1143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head view of dented coke can, showing norma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2133720"/>
            <a:ext cx="1371600" cy="13716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905120" y="1981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754280" y="1600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438280" y="2133360"/>
            <a:ext cx="15264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16400" y="18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4500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1219320" y="33526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05120" y="3505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54280" y="3657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34290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3760" y="35053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7240" y="34290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066680" y="2819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87240" y="25909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219320" y="213372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920" y="18288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85800" y="5334120"/>
            <a:ext cx="7772400" cy="759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33526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lindrically map a texture onto can,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y normals from can to tex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ffline processing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6934320" y="434340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3532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345200" y="5029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440080" y="5029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325920" y="50292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23140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37340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354480" y="50292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259240" y="50292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317000" y="50292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438280" y="3048120"/>
            <a:ext cx="228600" cy="152280"/>
          </a:xfrm>
          <a:custGeom>
            <a:avLst/>
            <a:gdLst/>
            <a:ahLst/>
            <a:rect l="l" t="t" r="r" b="b"/>
            <a:pathLst>
              <a:path w="144" h="96">
                <a:moveTo>
                  <a:pt x="48" y="0"/>
                </a:moveTo>
                <a:lnTo>
                  <a:pt x="144" y="96"/>
                </a:lnTo>
                <a:lnTo>
                  <a:pt x="0" y="96"/>
                </a:lnTo>
                <a:lnTo>
                  <a:pt x="48" y="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19320" y="2133720"/>
            <a:ext cx="1371600" cy="1371600"/>
          </a:xfrm>
          <a:prstGeom prst="ellips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832120" y="5029200"/>
            <a:ext cx="32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54240" y="5029200"/>
            <a:ext cx="24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2590920" y="304776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603520" y="2819520"/>
            <a:ext cx="32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590920" y="3200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20720" y="3200400"/>
            <a:ext cx="24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514600" y="556272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40960" y="58672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 the 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221720" y="601992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now have a model space normal m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ing the Normal Map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1143000"/>
            <a:ext cx="815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low-poly version of the can: I left out the d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, I apply the model space normal map from the previous sli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125520" y="2057400"/>
            <a:ext cx="2390760" cy="2425680"/>
            <a:chOff x="3125520" y="2057400"/>
            <a:chExt cx="2390760" cy="2425680"/>
          </a:xfrm>
        </p:grpSpPr>
        <p:sp>
          <p:nvSpPr>
            <p:cNvPr id="657" name=""/>
            <p:cNvSpPr/>
            <p:nvPr/>
          </p:nvSpPr>
          <p:spPr>
            <a:xfrm>
              <a:off x="3657600" y="2590920"/>
              <a:ext cx="1371600" cy="137160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k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43400" y="2438280"/>
              <a:ext cx="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92920" y="20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4876920" y="259056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54680" y="22860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29200" y="32767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83280" y="3048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3657600" y="3809880"/>
              <a:ext cx="15228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92920" y="4114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24280" y="3886200"/>
              <a:ext cx="15264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02040" y="3962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5520" y="388620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05320" y="32767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25520" y="304812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57600" y="259092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02200" y="22860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029200" y="3429000"/>
              <a:ext cx="7632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41800" y="3276720"/>
              <a:ext cx="32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52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59360" y="3581280"/>
              <a:ext cx="247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09480" y="4648320"/>
            <a:ext cx="7925040" cy="19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a pixel shader, accepts normal map and world-space light as inpu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xel shader reads the texture containing the fake norm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xel shader calculates 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all lighting now done by pixel unit, not by vertex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: illusion of dent, without the polyg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otating the Ca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7200" y="12193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ay some guy picks up the can and rotates it 45 degrees clockwi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05520" y="2590920"/>
            <a:ext cx="3429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any OpenGL guru knows, when you rotate an object, you have to rotate normals to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stored, fake normals also need to be rot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3885840" y="3124080"/>
            <a:ext cx="12193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" y="4724280"/>
            <a:ext cx="77724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rotate the normals in the pixel shad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ad texture containing fake norm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form the fake normal using coke can’s rotation matr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w compute Rotated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quite a few extra pixel shader instructions: sl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446120" y="1906560"/>
            <a:ext cx="2425320" cy="2390760"/>
            <a:chOff x="1446120" y="1906560"/>
            <a:chExt cx="2425320" cy="2390760"/>
          </a:xfrm>
        </p:grpSpPr>
        <p:sp>
          <p:nvSpPr>
            <p:cNvPr id="685" name=""/>
            <p:cNvSpPr/>
            <p:nvPr/>
          </p:nvSpPr>
          <p:spPr>
            <a:xfrm rot="5400000">
              <a:off x="1966680" y="2438640"/>
              <a:ext cx="1371600" cy="137124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k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338640" y="3124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14680" y="2962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186360" y="3657960"/>
              <a:ext cx="1519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5400000">
              <a:off x="3210120" y="3800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52480" y="38102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5400000">
              <a:off x="2530440" y="39466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67400" y="243864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1814760" y="312444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5400000">
              <a:off x="1463760" y="2956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1891080" y="3505320"/>
              <a:ext cx="1519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5400000">
              <a:off x="1539720" y="36417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5400000">
              <a:off x="1584000" y="19969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652480" y="228636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2498400" y="19209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3186360" y="2438640"/>
              <a:ext cx="1519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5400000">
              <a:off x="3178080" y="207972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424600" y="3810240"/>
              <a:ext cx="7596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5400000">
              <a:off x="2286000" y="3783240"/>
              <a:ext cx="32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2119680" y="373392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5400000">
              <a:off x="2021040" y="3661200"/>
              <a:ext cx="247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heap Way to Rotate Normal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doing lighting calculations, it’s the angle, theta, that matte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33520" y="16765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10920" y="14479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ght 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33520" y="30481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82880" y="2819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-380520" y="21337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146240" y="213372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ta = 90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895480" y="1600200"/>
            <a:ext cx="57913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coke can has been rotated 10 degrees CCW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s need to be rotated 10 degrees CC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rotate light vector 10 degrees *clockwise* inste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ing angle theta will be the sam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rotation per coke can, instead of one per pix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60080" y="312408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ke can unrota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3048120" y="38862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125520" y="37339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ght 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048120" y="5028840"/>
            <a:ext cx="1371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421520" y="48006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134080" y="4343400"/>
            <a:ext cx="182808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660840" y="434340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ta = 80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98360" y="5334120"/>
            <a:ext cx="260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ke can rotated 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C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regular 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98760" y="5334120"/>
            <a:ext cx="260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ke can rotated 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C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cheap 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248520" y="38862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478560" y="37339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ght 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248520" y="52578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97880" y="50292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639040" y="4343400"/>
            <a:ext cx="15235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013520" y="441972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ta = 80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212200" y="6248520"/>
            <a:ext cx="65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at I told you that, forget about it. It’s just an optimiz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hat if Model is not Rigid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33520" y="1371600"/>
            <a:ext cx="80010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t one “global object rotation.” There are lots of local ro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e local rotation as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rtex attrib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 rotation will be interpolated across polyg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Quaternions interpolate nicely. Maybe use quaternion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But matrices are cheaper. Maybe use rotation matrix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xel shader now needs t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normalize the local ro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fake norm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otate the fake normals using the local ro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Rotated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odel Space Normal Maps: Ba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lem with this method, illustra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905120" y="182880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 poly model of brick wal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4724280" y="175212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29200" y="1752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248520" y="175248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6553080" y="175212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0" y="1752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077320" y="175248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724280" y="266688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36400" y="23623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py normals into model-space normal map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649760" y="2362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18328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48784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79276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096960" y="2362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554520" y="2362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08804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39296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69788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002080" y="2362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33526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ap this normal map around a b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86000" y="3809880"/>
            <a:ext cx="2545920" cy="2546280"/>
            <a:chOff x="2286000" y="3809880"/>
            <a:chExt cx="2545920" cy="2546280"/>
          </a:xfrm>
        </p:grpSpPr>
        <p:sp>
          <p:nvSpPr>
            <p:cNvPr id="756" name=""/>
            <p:cNvSpPr/>
            <p:nvPr/>
          </p:nvSpPr>
          <p:spPr>
            <a:xfrm>
              <a:off x="2590560" y="4114800"/>
              <a:ext cx="1904760" cy="19051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2592000" y="3809880"/>
              <a:ext cx="1909800" cy="337320"/>
              <a:chOff x="2592000" y="3809880"/>
              <a:chExt cx="1909800" cy="337320"/>
            </a:xfrm>
          </p:grpSpPr>
          <p:sp>
            <p:nvSpPr>
              <p:cNvPr id="758" name=""/>
              <p:cNvSpPr/>
              <p:nvPr/>
            </p:nvSpPr>
            <p:spPr>
              <a:xfrm>
                <a:off x="2592000" y="380988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W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125160" y="38098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430080" y="38098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734640" y="38098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039200" y="380988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4494600" y="4116240"/>
              <a:ext cx="337320" cy="1910160"/>
              <a:chOff x="4494600" y="4116240"/>
              <a:chExt cx="337320" cy="1910160"/>
            </a:xfrm>
          </p:grpSpPr>
          <p:sp>
            <p:nvSpPr>
              <p:cNvPr id="764" name=""/>
              <p:cNvSpPr/>
              <p:nvPr/>
            </p:nvSpPr>
            <p:spPr>
              <a:xfrm rot="5400000">
                <a:off x="4403520" y="42069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W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5400000">
                <a:off x="4499640" y="464436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5400000">
                <a:off x="4499640" y="49492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5400000">
                <a:off x="4499640" y="52542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5400000">
                <a:off x="4431960" y="562644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2591640" y="6018840"/>
              <a:ext cx="1909800" cy="337320"/>
              <a:chOff x="2591640" y="6018840"/>
              <a:chExt cx="1909800" cy="337320"/>
            </a:xfrm>
          </p:grpSpPr>
          <p:sp>
            <p:nvSpPr>
              <p:cNvPr id="770" name=""/>
              <p:cNvSpPr/>
              <p:nvPr/>
            </p:nvSpPr>
            <p:spPr>
              <a:xfrm rot="10800000">
                <a:off x="3982320" y="60188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W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0800000">
                <a:off x="3641400" y="60188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0800000">
                <a:off x="3336480" y="60188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0800000">
                <a:off x="3031920" y="60188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0800000">
                <a:off x="2591640" y="601884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2286000" y="4116240"/>
              <a:ext cx="337320" cy="1910160"/>
              <a:chOff x="2286000" y="4116240"/>
              <a:chExt cx="337320" cy="1910160"/>
            </a:xfrm>
          </p:grpSpPr>
          <p:sp>
            <p:nvSpPr>
              <p:cNvPr id="776" name=""/>
              <p:cNvSpPr/>
              <p:nvPr/>
            </p:nvSpPr>
            <p:spPr>
              <a:xfrm rot="16200000">
                <a:off x="2194920" y="55980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W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200000">
                <a:off x="2291040" y="51606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6200000">
                <a:off x="2291040" y="48556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6200000">
                <a:off x="2291040" y="455076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6200000">
                <a:off x="2223360" y="417888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1" name=""/>
          <p:cNvSpPr/>
          <p:nvPr/>
        </p:nvSpPr>
        <p:spPr>
          <a:xfrm>
            <a:off x="5257800" y="4343400"/>
            <a:ext cx="33526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’s not right, obvious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el space normal maps work only if the polygon they are applied to is facing same way as polygon used to generate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ed new method that compensates for wall facin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Spa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457520" cy="45720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380880" y="3809880"/>
            <a:ext cx="36576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 actual tangent space normal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ormals (X,Y,Z) in the map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relative to a special coordinate system called “tangent space”: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X direction defined by +S vecto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Y direction defined by +T vecto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Z direction defined by surfac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01:15:46Z</dcterms:created>
  <dc:creator>Julio Gonzales</dc:creator>
  <dc:description/>
  <dc:language>en-US</dc:language>
  <cp:lastModifiedBy>Josh Yelon</cp:lastModifiedBy>
  <dcterms:modified xsi:type="dcterms:W3CDTF">2005-03-23T21:42:03Z</dcterms:modified>
  <cp:revision>12</cp:revision>
  <dc:subject/>
  <dc:title>Bump Mapping</dc:title>
</cp:coreProperties>
</file>